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8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19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20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6A14-E0C3-4692-8DFF-8F30DAD930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0A21-804D-4A2C-87D5-EF529E291E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7921-5D10-41F4-876A-21FC27738F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32AF-08E3-4F16-B2A7-50A603C7F7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5E54-0D8A-4CA0-B686-1909BE0142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7B0C-4D24-49AC-968E-E5D24433CE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F81812-B31B-4B6D-91C5-CDB4458F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1210FA-BB47-454C-B116-5C1D46F2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2B35E4-7BD6-435B-BF29-7D2AF1F3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8A3C6E-D6ED-4772-A8E7-2E6558B6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952074-DD62-430C-BD7B-FDFE4CF8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E56615-24BD-4571-8A0D-CCA29E68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C7A3BB-1F8F-4EFE-89C9-333B3B94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0A0B50-0666-461E-B63D-E77B909C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54BE95-7E3C-45AB-99F4-B057091A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3F9E18-EA6E-4516-9C4F-F1B2584F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2EE36D-35F5-4F6F-B72A-0A331A13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B35AA7-A908-4135-A923-29B91104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25F475-D9BB-4138-99F0-45288356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947489-4271-45B3-B04C-02016E4C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22918E-C786-422F-9A32-835D8788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5D0673-A985-4EFB-8774-E2D34874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F7070C-83A0-48A2-8750-07714AFE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202764-D447-4E5E-966D-811F7353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0CEDD6-CC2F-401D-97DD-3B79EAE2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42D6FD-FE0C-4670-9521-E30399D7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0B182C-EF81-4843-9E64-CC4D7F07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88DC-829E-4103-873C-3C67901F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D4B0-6BD4-49A9-8AB6-72EDACF0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B48B-F21F-4916-BD7A-B330E592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8525-920B-4209-906A-BD03FFE6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D45E-7DAD-405F-AE3F-FABD1330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4C35-C18D-43A0-A460-AE64F8D6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20B4-98DD-47DE-801C-BE885F38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9BAF-4E1C-4817-BD78-BECDF7B7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4B0A-0DAA-4F2F-92B6-2DC0B54A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6FF9-A17C-4876-9DF6-9A4903A9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DF1D-AD9F-4A53-93FA-F9BEE4970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A8A7-294C-41FC-A0E9-29208D63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77C548-9E01-49AC-97DB-53E39793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FF1288-FF83-470D-82E4-1ED7926F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32AE5B-A505-4D25-A2CC-E788B398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9C72AD-83AC-4B43-A8DA-C6EE3B20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44ADAD-1435-4AD8-BB5B-A5556737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D9A97C-A4FB-47AE-AA27-C1B3C59E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E37F6B-711C-4214-B491-ED0C895E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E27EBC-C67F-45B5-8D94-B86C4194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3916AB-BCDA-4990-99FF-5C997B9E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FADE06-1E3A-4D8B-BFBF-51DBDE67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832AD3-25DA-4DAF-8025-3E4E7655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4A401B-510E-4F98-8273-A6DBDB2D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5C12BA-71B2-4D42-B27B-1B27B7AB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DA6CA3-8FC1-47B1-A53A-A4153FF2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B7C6AD-07A1-41FE-9E20-FEC1F9EA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CD5F-E9EA-4A3D-9861-5E80E09C55D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923000" y="2474640"/>
            <a:ext cx="3598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908240" y="3511440"/>
            <a:ext cx="35989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14" descr="Logo Powerpoint 2"/>
          <p:cNvPicPr/>
          <p:nvPr/>
        </p:nvPicPr>
        <p:blipFill>
          <a:blip r:embed="rId2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5"/>
          </p:nvPr>
        </p:nvSpPr>
        <p:spPr>
          <a:xfrm>
            <a:off x="7696080" y="5936760"/>
            <a:ext cx="106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7E91-0B97-44D8-AD3D-240D40E4466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6"/>
          </p:nvPr>
        </p:nvSpPr>
        <p:spPr>
          <a:xfrm>
            <a:off x="1727280" y="5936760"/>
            <a:ext cx="3635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Projectdirectie Voortijdig Schoolverla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7"/>
          </p:nvPr>
        </p:nvSpPr>
        <p:spPr>
          <a:xfrm>
            <a:off x="685800" y="5936760"/>
            <a:ext cx="914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690C-B3BC-4EA2-B189-674B9F539BC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2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DA33-D942-4E95-9CD4-E309325C4AD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929120" y="2500200"/>
            <a:ext cx="35020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943520" y="3155760"/>
            <a:ext cx="34876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18520" indent="-218520">
              <a:buClr>
                <a:srgbClr val="0000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55920" indent="-2811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74960" indent="-28080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03360" indent="-28080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2" descr="Logo Powerpoint 2"/>
          <p:cNvPicPr/>
          <p:nvPr/>
        </p:nvPicPr>
        <p:blipFill>
          <a:blip r:embed="rId6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dt" idx="3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54BE-BA3F-4B70-84E6-F933BC918D9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929120" y="2500200"/>
            <a:ext cx="35020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4943520" y="3155760"/>
            <a:ext cx="34876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16000" indent="-21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6040" indent="-2775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9040" indent="-27756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62040" indent="-27756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2" descr="Logo Powerpoint 2"/>
          <p:cNvPicPr/>
          <p:nvPr/>
        </p:nvPicPr>
        <p:blipFill>
          <a:blip r:embed="rId6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E39A-D88D-42FD-8ADD-410027169B7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D4A1-665B-414D-81FB-BCE7DA5FE3D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shpFoto" descr="Afb 1.png"/>
          <p:cNvPicPr/>
          <p:nvPr/>
        </p:nvPicPr>
        <p:blipFill>
          <a:blip r:embed="rId2"/>
          <a:stretch/>
        </p:blipFill>
        <p:spPr>
          <a:xfrm>
            <a:off x="0" y="0"/>
            <a:ext cx="4573440" cy="6862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shpFoto" descr="Afb 2.png"/>
          <p:cNvPicPr/>
          <p:nvPr/>
        </p:nvPicPr>
        <p:blipFill>
          <a:blip r:embed="rId2"/>
          <a:stretch/>
        </p:blipFill>
        <p:spPr>
          <a:xfrm>
            <a:off x="0" y="0"/>
            <a:ext cx="4573440" cy="6862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08D5-695C-471E-9F11-6B35BF7D1FE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8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3FF3-B57A-438C-958A-58B89180955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hpKleurvlakOnder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shpTekst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shpDatum" descr="RO__vervolgpagina~LPPT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9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9BBD-21E0-44A0-BD76-B0D5F41327B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0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1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C0C1-43D9-4BCD-951B-DB590A0D373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2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6B6B-81F4-45B2-B582-E268AA1A1435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3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Projectdirectie Voortijdig Schoolverla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4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FCF2-FE2F-4662-8324-51A23DD37D5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ijdelijke aanduiding voor voettekst 1"/>
          <p:cNvSpPr/>
          <p:nvPr/>
        </p:nvSpPr>
        <p:spPr>
          <a:xfrm>
            <a:off x="1727280" y="5937120"/>
            <a:ext cx="36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OCWTalent"/>
              </a:rPr>
              <a:t>Projectdirectie Voortijdig Schoolverlate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OCWTalent"/>
              </a:rPr>
              <a:t>www.aanvalopschooluitval.n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ijdelijke aanduiding voor dianummer 2"/>
          <p:cNvSpPr/>
          <p:nvPr/>
        </p:nvSpPr>
        <p:spPr>
          <a:xfrm>
            <a:off x="685800" y="5937120"/>
            <a:ext cx="914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E4A4-1517-4BD4-93B4-4F4248A6560B}" type="slidenum">
              <a:rPr b="0" lang="en-US" sz="1200" spc="-1" strike="noStrike">
                <a:solidFill>
                  <a:srgbClr val="000000"/>
                </a:solidFill>
                <a:latin typeface="OCWTale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Afbeelding 4" descr="suzan.jpg"/>
          <p:cNvPicPr/>
          <p:nvPr/>
        </p:nvPicPr>
        <p:blipFill>
          <a:blip r:embed="rId1"/>
          <a:stretch/>
        </p:blipFill>
        <p:spPr>
          <a:xfrm>
            <a:off x="0" y="3344760"/>
            <a:ext cx="4576680" cy="351324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8"/>
          <p:cNvSpPr/>
          <p:nvPr/>
        </p:nvSpPr>
        <p:spPr>
          <a:xfrm>
            <a:off x="4594320" y="1757520"/>
            <a:ext cx="4549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Blitz on dropouts</a:t>
            </a:r>
            <a:br>
              <a:rPr sz="19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Marja van Bijsterveldt-Vliegenthart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State Secretary</a:t>
            </a: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700" spc="-1" strike="noStrike">
                <a:solidFill>
                  <a:srgbClr val="000000"/>
                </a:solidFill>
                <a:latin typeface="Verdana"/>
              </a:rPr>
              <a:t>of Education, Culture and Scienc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Brussels, 9 July 2010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100" spc="-1" strike="noStrike">
                <a:solidFill>
                  <a:srgbClr val="900079"/>
                </a:solidFill>
                <a:latin typeface="Verdana"/>
              </a:rPr>
              <a:t>The Golden Triangle</a:t>
            </a:r>
            <a:r>
              <a:rPr b="1" lang="nl-NL" sz="20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69360" y="2073240"/>
            <a:ext cx="785844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gover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municipa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sch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All working toge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Agreements with schools and local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In 39 regions for the period 2008-2011 (convenants)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39CD-F0C0-424B-A493-9A6B446E4F9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A300D9-0D50-42E0-9A59-E225645832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Oval 2"/>
          <p:cNvSpPr/>
          <p:nvPr/>
        </p:nvSpPr>
        <p:spPr>
          <a:xfrm>
            <a:off x="3635280" y="1125360"/>
            <a:ext cx="2016360" cy="1802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Oval 3"/>
          <p:cNvSpPr/>
          <p:nvPr/>
        </p:nvSpPr>
        <p:spPr>
          <a:xfrm>
            <a:off x="6145200" y="4089240"/>
            <a:ext cx="1689120" cy="16066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Oval 4"/>
          <p:cNvSpPr/>
          <p:nvPr/>
        </p:nvSpPr>
        <p:spPr>
          <a:xfrm>
            <a:off x="1187280" y="4203720"/>
            <a:ext cx="1776600" cy="153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3911760" y="1701720"/>
            <a:ext cx="1511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inistry of Edu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Text Box 6"/>
          <p:cNvSpPr/>
          <p:nvPr/>
        </p:nvSpPr>
        <p:spPr>
          <a:xfrm rot="10800000">
            <a:off x="6411960" y="469188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1162080" y="48625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unicipa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Line 16"/>
          <p:cNvSpPr/>
          <p:nvPr/>
        </p:nvSpPr>
        <p:spPr>
          <a:xfrm>
            <a:off x="5495760" y="2719440"/>
            <a:ext cx="103356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Line 17"/>
          <p:cNvSpPr/>
          <p:nvPr/>
        </p:nvSpPr>
        <p:spPr>
          <a:xfrm flipH="1">
            <a:off x="2563920" y="2708280"/>
            <a:ext cx="1287360" cy="130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Line 28"/>
          <p:cNvSpPr/>
          <p:nvPr/>
        </p:nvSpPr>
        <p:spPr>
          <a:xfrm>
            <a:off x="3171960" y="4941720"/>
            <a:ext cx="2678040" cy="1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Golden triangle: </a:t>
            </a: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Regional arrangements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70C529-80BD-47E0-A8BF-2D8345E8A9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Oval 2"/>
          <p:cNvSpPr/>
          <p:nvPr/>
        </p:nvSpPr>
        <p:spPr>
          <a:xfrm>
            <a:off x="3635280" y="1125360"/>
            <a:ext cx="2016360" cy="1802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Oval 3"/>
          <p:cNvSpPr/>
          <p:nvPr/>
        </p:nvSpPr>
        <p:spPr>
          <a:xfrm>
            <a:off x="6372360" y="4365720"/>
            <a:ext cx="151272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Oval 4"/>
          <p:cNvSpPr/>
          <p:nvPr/>
        </p:nvSpPr>
        <p:spPr>
          <a:xfrm>
            <a:off x="1187280" y="4365720"/>
            <a:ext cx="151308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3924360" y="1413000"/>
            <a:ext cx="15112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inistry of Edu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Directs the ‘Drive to reduce school drop-out rates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 Box 6"/>
          <p:cNvSpPr/>
          <p:nvPr/>
        </p:nvSpPr>
        <p:spPr>
          <a:xfrm rot="10800000">
            <a:off x="6300360" y="4652280"/>
            <a:ext cx="1660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ary/pre- vocational secondary schoo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1187280" y="47242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unicipa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2916360" y="81288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ocial Affairs &amp; Employment</a:t>
            </a: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580000" y="1268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alth, Welfare &amp; Sport/ Youth &amp; Famil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5724360" y="1844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5651640" y="2349360"/>
            <a:ext cx="29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griculture, Nature &amp; Food Qua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3780000" y="292428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826920" y="1268280"/>
            <a:ext cx="28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ousing, Communities &amp; Integration</a:t>
            </a: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1619280" y="184464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Economic aff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1258920" y="2349360"/>
            <a:ext cx="23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Interior &amp; Kingdom Rel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Line 16"/>
          <p:cNvSpPr/>
          <p:nvPr/>
        </p:nvSpPr>
        <p:spPr>
          <a:xfrm>
            <a:off x="5508720" y="2708280"/>
            <a:ext cx="129528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Line 17"/>
          <p:cNvSpPr/>
          <p:nvPr/>
        </p:nvSpPr>
        <p:spPr>
          <a:xfrm flipH="1">
            <a:off x="2340000" y="2708280"/>
            <a:ext cx="151128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6300720" y="3213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Text Box 19"/>
          <p:cNvSpPr/>
          <p:nvPr/>
        </p:nvSpPr>
        <p:spPr>
          <a:xfrm>
            <a:off x="826920" y="3068640"/>
            <a:ext cx="25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Education Ministry mandates responsibilities (covenan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20"/>
          <p:cNvSpPr/>
          <p:nvPr/>
        </p:nvSpPr>
        <p:spPr>
          <a:xfrm>
            <a:off x="179280" y="3716280"/>
            <a:ext cx="8785440" cy="25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Rectangle 21"/>
          <p:cNvSpPr/>
          <p:nvPr/>
        </p:nvSpPr>
        <p:spPr>
          <a:xfrm>
            <a:off x="179280" y="3716280"/>
            <a:ext cx="87854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22"/>
          <p:cNvSpPr/>
          <p:nvPr/>
        </p:nvSpPr>
        <p:spPr>
          <a:xfrm>
            <a:off x="684360" y="3789360"/>
            <a:ext cx="81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unicipal Executive Councillors for education/youth policy/RMC municipalities (administrative coordination)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23"/>
          <p:cNvSpPr/>
          <p:nvPr/>
        </p:nvSpPr>
        <p:spPr>
          <a:xfrm>
            <a:off x="108000" y="4149720"/>
            <a:ext cx="252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chool Drop-out Registration and Coordination Centre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250920" y="400536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324000" y="4797360"/>
            <a:ext cx="8650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entre for Work and Income/Employment and Assistance Act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324000" y="595008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Probation servic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2268360" y="5589720"/>
            <a:ext cx="172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Debt restructuring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Line 28"/>
          <p:cNvSpPr/>
          <p:nvPr/>
        </p:nvSpPr>
        <p:spPr>
          <a:xfrm>
            <a:off x="2771640" y="494172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 Box 29"/>
          <p:cNvSpPr/>
          <p:nvPr/>
        </p:nvSpPr>
        <p:spPr>
          <a:xfrm>
            <a:off x="2700360" y="5084640"/>
            <a:ext cx="11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Housing corporation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2484360" y="4149720"/>
            <a:ext cx="136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chool Attendance officer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 Box 31"/>
          <p:cNvSpPr/>
          <p:nvPr/>
        </p:nvSpPr>
        <p:spPr>
          <a:xfrm>
            <a:off x="3924360" y="429264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Urban Policy/Accres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 Box 32"/>
          <p:cNvSpPr/>
          <p:nvPr/>
        </p:nvSpPr>
        <p:spPr>
          <a:xfrm>
            <a:off x="3492360" y="458136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Municipalities Fund/own resource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 Box 33"/>
          <p:cNvSpPr/>
          <p:nvPr/>
        </p:nvSpPr>
        <p:spPr>
          <a:xfrm>
            <a:off x="4716360" y="5157720"/>
            <a:ext cx="165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Regional Institute for Mental Health/Area Health Authority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34"/>
          <p:cNvSpPr/>
          <p:nvPr/>
        </p:nvSpPr>
        <p:spPr>
          <a:xfrm>
            <a:off x="5580000" y="4292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Juvenile ca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Text Box 35"/>
          <p:cNvSpPr/>
          <p:nvPr/>
        </p:nvSpPr>
        <p:spPr>
          <a:xfrm>
            <a:off x="7451640" y="56610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olice/Courts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Text Box 36"/>
          <p:cNvSpPr/>
          <p:nvPr/>
        </p:nvSpPr>
        <p:spPr>
          <a:xfrm>
            <a:off x="7093080" y="4149720"/>
            <a:ext cx="187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entre for Youth and Family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7956720" y="486900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Line 38"/>
          <p:cNvSpPr/>
          <p:nvPr/>
        </p:nvSpPr>
        <p:spPr>
          <a:xfrm>
            <a:off x="2556000" y="5950080"/>
            <a:ext cx="71892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Line 39"/>
          <p:cNvSpPr/>
          <p:nvPr/>
        </p:nvSpPr>
        <p:spPr>
          <a:xfrm flipH="1">
            <a:off x="5651640" y="5950080"/>
            <a:ext cx="72072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2987640" y="638172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ployers/Employees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Golden triangle: </a:t>
            </a: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Regional arrangements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0B76A9-396C-4CAF-9955-E9AF00429E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494c5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69360" y="1798200"/>
            <a:ext cx="78584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AFDB-DDF0-48E4-897A-BB8C068F019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5E5589-F354-4E6E-9974-66DCC2B1D7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900079"/>
                </a:solidFill>
                <a:latin typeface="Arial"/>
              </a:rPr>
              <a:t>Agreements/Convenants</a:t>
            </a:r>
            <a:endParaRPr b="0" lang="en-US" sz="24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406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duce dropout rate with 10% every year until 2012’ (40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wn choice in methods to achieve objectives (menu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operation between municipality and school and other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ure, no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ole of the gover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ure, no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ilitating, monitoring and evalu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e results in good practices and implement these in order to improve national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151F0F-B78D-482A-B93F-92344CDE3D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900079"/>
                </a:solidFill>
                <a:latin typeface="Arial"/>
              </a:rPr>
              <a:t>What are we going to do in the future?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thin 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New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tinuing current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thin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haring goo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ECD: contribution researc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Overcoming School Failure”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ecommendation on Early School Leavers, by the Europea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D4AB27-48B4-4334-87F5-D435734EF3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061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2800" spc="-1" strike="noStrike">
                <a:solidFill>
                  <a:srgbClr val="900079"/>
                </a:solidFill>
                <a:latin typeface="Verdana"/>
              </a:rPr>
              <a:t>Introduction Early school leavers: objectives and key figures</a:t>
            </a:r>
            <a:r>
              <a:rPr b="0" lang="nl-NL" sz="22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12840" y="2111400"/>
            <a:ext cx="80611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Lisbon objective: reducing the number of early school-leavers between the ages of 18 and 24 from 15.5% in 2002 to approx. 10% in 2010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ational objective: reducing the number of early school-leavers : from 71.000 in 2002 (5,7%) to 35.000 in 2012 (2,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B5AAC4-BCE4-4DFC-BC95-5091E0809E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34A7-6170-4F66-B63C-D1C1794E0FF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7DED-8E7A-47DD-BBCC-BC64AC52CB8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9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900079"/>
                </a:solidFill>
                <a:latin typeface="Verdana"/>
              </a:rPr>
              <a:t>The results (national objective)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graphicFrame>
        <p:nvGraphicFramePr>
          <p:cNvPr id="433" name="Object 3"/>
          <p:cNvGraphicFramePr/>
          <p:nvPr/>
        </p:nvGraphicFramePr>
        <p:xfrm>
          <a:off x="617400" y="2260440"/>
          <a:ext cx="7790040" cy="350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2260440"/>
                    <a:ext cx="7790040" cy="35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Text Box 9"/>
          <p:cNvSpPr/>
          <p:nvPr/>
        </p:nvSpPr>
        <p:spPr>
          <a:xfrm>
            <a:off x="3594240" y="518328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5232240" y="51991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chiev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70810F-21AC-421D-8D2E-7F801A0C1A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900079"/>
                </a:solidFill>
                <a:latin typeface="Arial"/>
              </a:rPr>
              <a:t>Results in international </a:t>
            </a:r>
            <a:br>
              <a:rPr sz="2300"/>
            </a:br>
            <a:r>
              <a:rPr b="1" lang="en-US" sz="2300" spc="-1" strike="noStrike">
                <a:solidFill>
                  <a:srgbClr val="900079"/>
                </a:solidFill>
                <a:latin typeface="Arial"/>
              </a:rPr>
              <a:t>perspectiv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opout rate in 2008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: 15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L: 11.4 %</a:t>
            </a:r>
            <a:br>
              <a:rPr sz="1800"/>
            </a:br>
            <a:br>
              <a:rPr sz="18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source: Eurostat, 2009)</a:t>
            </a:r>
            <a:br>
              <a:rPr sz="1800"/>
            </a:br>
            <a:br>
              <a:rPr sz="1800"/>
            </a:br>
            <a:endParaRPr b="0" lang="en-US" sz="13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400824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F4C0-551F-496E-8660-366C17A8C54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0" name="shpPagina" descr=""/>
          <p:cNvPicPr/>
          <p:nvPr/>
        </p:nvPicPr>
        <p:blipFill>
          <a:blip r:embed="rId1"/>
          <a:stretch/>
        </p:blipFill>
        <p:spPr>
          <a:xfrm>
            <a:off x="4307040" y="-222120"/>
            <a:ext cx="4662360" cy="73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6624CE-A988-42C4-A5FD-D6B5053BEC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71440" y="985680"/>
            <a:ext cx="816912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900079"/>
                </a:solidFill>
                <a:latin typeface="Verdana"/>
              </a:rPr>
              <a:t>Know the Numbers </a:t>
            </a:r>
            <a:endParaRPr b="0" lang="en-US" sz="28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153828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Better registration, better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Introduction of ‘Education Number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roduction of ‘Digital Count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148B10-AF65-4563-B4B3-67126191EC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68A4-B32E-44A9-84E5-165BB22C227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66480" y="1233360"/>
            <a:ext cx="85611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00079"/>
                </a:solidFill>
                <a:latin typeface="Verdana"/>
              </a:rPr>
              <a:t>Policies and Programs</a:t>
            </a:r>
            <a:endParaRPr b="0" lang="en-US" sz="28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2240" y="1716120"/>
            <a:ext cx="857556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etter transition from pre-vocational to vocational education (VMBO – M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ore scope for ‘practical-oriented student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etter career orientation and gui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re appealing education, with sports and cul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.000 APL-programmes and agreement with large employ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re and better care at school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530FD4-16AD-4400-A352-EAB7651D8B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ooter Placeholder 4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66840" y="1233000"/>
            <a:ext cx="3681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900079"/>
                </a:solidFill>
                <a:latin typeface="Verdana"/>
              </a:rPr>
              <a:t>Focus on municipalities </a:t>
            </a:r>
            <a:br>
              <a:rPr sz="2400"/>
            </a:br>
            <a:r>
              <a:rPr b="1" lang="en-GB" sz="2400" spc="-1" strike="noStrike">
                <a:solidFill>
                  <a:srgbClr val="900079"/>
                </a:solidFill>
                <a:latin typeface="Verdana"/>
              </a:rPr>
              <a:t>in the Netherlands</a:t>
            </a:r>
            <a:endParaRPr b="0" lang="en-US" sz="2400" spc="-1" strike="noStrike">
              <a:solidFill>
                <a:srgbClr val="900079"/>
              </a:solidFill>
              <a:latin typeface="Arial"/>
            </a:endParaRPr>
          </a:p>
        </p:txBody>
      </p:sp>
      <p:pic>
        <p:nvPicPr>
          <p:cNvPr id="448" name="Picture 7" descr="C:\Users\Loesje\Desktop\vsv0809_gem1Eng.jpg"/>
          <p:cNvPicPr/>
          <p:nvPr/>
        </p:nvPicPr>
        <p:blipFill>
          <a:blip r:embed="rId1"/>
          <a:stretch/>
        </p:blipFill>
        <p:spPr>
          <a:xfrm>
            <a:off x="4289400" y="0"/>
            <a:ext cx="4854600" cy="687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472352-0FC3-4F77-8223-D7DAC7C845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4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6520" y="1245960"/>
            <a:ext cx="4016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900079"/>
                </a:solidFill>
                <a:latin typeface="Verdana"/>
              </a:rPr>
              <a:t>Focus on the </a:t>
            </a:r>
            <a:br>
              <a:rPr sz="2300"/>
            </a:br>
            <a:r>
              <a:rPr b="1" lang="en-GB" sz="2300" spc="-1" strike="noStrike">
                <a:solidFill>
                  <a:srgbClr val="900079"/>
                </a:solidFill>
                <a:latin typeface="Verdana"/>
              </a:rPr>
              <a:t>municipality of Amsterdam</a:t>
            </a:r>
            <a:r>
              <a:rPr b="0" lang="nl-NL" sz="23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900079"/>
              </a:solidFill>
              <a:latin typeface="Arial"/>
            </a:endParaRPr>
          </a:p>
        </p:txBody>
      </p:sp>
      <p:pic>
        <p:nvPicPr>
          <p:cNvPr id="451" name="Picture 7" descr="C:\Users\Loesje\Desktop\vsv0809_Amsterdam[1].jpg"/>
          <p:cNvPicPr/>
          <p:nvPr/>
        </p:nvPicPr>
        <p:blipFill>
          <a:blip r:embed="rId1"/>
          <a:stretch/>
        </p:blipFill>
        <p:spPr>
          <a:xfrm>
            <a:off x="2482920" y="1968480"/>
            <a:ext cx="6661080" cy="488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A7554D-5B4A-411B-AF76-05FBDEA345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0079"/>
                </a:solidFill>
                <a:latin typeface="Verdana"/>
              </a:rPr>
              <a:t>Monitoring and evaluation arrangements</a:t>
            </a:r>
            <a:r>
              <a:rPr b="0" lang="en-US" sz="2200" spc="-1" strike="noStrike">
                <a:solidFill>
                  <a:srgbClr val="2494c5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69360" y="1798200"/>
            <a:ext cx="78584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 effects with facts and figures: naming, shaming and f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idence based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verall design to measure the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F412-CBE3-40AC-83C6-E83BA8BD0D7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A065AB-59FC-47DB-8ED1-DAD3190EE2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8:56:33Z</dcterms:created>
  <dc:creator>Liselore Verschuren</dc:creator>
  <dc:description/>
  <dc:language>en-US</dc:language>
  <cp:lastModifiedBy>o011hou</cp:lastModifiedBy>
  <dcterms:modified xsi:type="dcterms:W3CDTF">2010-07-07T16:31:16Z</dcterms:modified>
  <cp:revision>129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37471163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présentation</vt:lpwstr>
  </property>
  <property fmtid="{D5CDD505-2E9C-101B-9397-08002B2CF9AE}" pid="6" name="_NewReviewCycle">
    <vt:lpwstr/>
  </property>
</Properties>
</file>