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0E77-4284-456D-A363-3B67BACBF8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AA1D-D39E-491A-A047-EA0D0E3EB5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EED7-19DF-4025-B210-87BEB4784B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B10B-A3D1-4356-A8BB-EF82E5FB08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F3F2-1A0D-40FA-A283-151B978129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A0F9-3A0E-484B-9A02-3F67E44E6F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4AC6-79CD-4467-9230-91BE58BD99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6640-125A-4145-AC23-56EA7403FF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B91A-1B8C-4016-B1F0-F11DA048D2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2DBB-99A0-4E47-98E7-39480FFE96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A46F-0561-4997-B236-4D500DB70B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5C50-9690-44D8-A775-CCC9FA01DE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EFF3-8A45-40FE-8A89-81236CD59D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1F0A-97A6-4B09-A58B-B08F1E8EAE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39A9-AEC7-4742-8541-E0FA9F6EE9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00AF-83C7-4131-A83A-8B89EF25FA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C939-7716-43BD-9131-E8EBBE03C9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34E6-439B-439D-B551-B073C16841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59C8-4913-4290-9D4F-96AA21C768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1FDC-B580-49AA-92FA-074BEB45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32B2-6092-4417-B0FA-BE58B5CC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B7A-C0D6-4350-840A-8A3DDCFA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3D67-251F-4BE1-9035-8DD82044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FB1-19CC-4CFD-908A-726E2298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9FD1-061E-487C-90FB-018C0A04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1090-31E8-4736-9286-DE600944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BF46-C964-4D2D-9A8C-28B83080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BC89-D166-4A1F-BDEB-D565AAF2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26CF-39AF-427E-B5F7-D94D19C6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C164-C7CE-4D48-B609-D68A03D8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F692-5B21-4B87-8191-2666B745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218A-217D-446A-A19D-E11663083AD5}" type="slidenum">
              <a:rPr b="0" lang="fr-FR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21416400">
            <a:off x="1294920" y="99000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a logique de la compétence en éducation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urquoi? Comment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051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elques considérations en marge de l’évaluation des compé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52120" y="350496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 concept impor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 utilisé en psychologie cogn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ptima ExtraBlack"/>
                <a:ea typeface="ＭＳ Ｐゴシック"/>
              </a:rPr>
              <a:t>Un concept pertinen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Définition de la compéte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Une compétence est la capacité de mobiliser des ressources (internes </a:t>
            </a: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et</a:t>
            </a: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 externes)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implique l’intégration (ou la mise en relation) de diverses connaissance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s’applique à une famille de situation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Les situations sont complexes (et inédites)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809880"/>
            <a:ext cx="8153280" cy="1828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iter les savoirs morts, les connaissances iner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160" y="1828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800" spc="-1" strike="noStrike">
                <a:solidFill>
                  <a:srgbClr val="898989"/>
                </a:solidFill>
                <a:latin typeface="Calibri"/>
              </a:rPr>
              <a:t>Un vrai problème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1294920"/>
            <a:ext cx="6248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notion de compétence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=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solutio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ourquoi ce concep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gag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p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onckart et Dolz (1999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18960" y="22856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82680" indent="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ns verser dans le purisme conceptuel, il nous paraît évident qu’on ne peut raisonnablement « penser » la problématique de la formation en usant d’un terme qui finit par désigner tous les aspects de ce que l’on appelait autrefois les « fonctions psychologiques supérieures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étence = Intelligenc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En résum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19320" y="1294920"/>
            <a:ext cx="7162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problématique de la mobilisation en situation des ressources cognitives du sujet pose 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un vrai problèm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à la recherche psychopédagogique, mais il n’est pas sûr que la notion de compétence lui apporte une solution posi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vrai problème, car il faut lutter contre les savoirs morts, les connaissances inert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is ne risque-t-on pas de précipiter le monde pédagogique dans une illusion simplificatrice dont il risque d’être difficile de le sorti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A la recherche d’équilib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Quelle conception de l’experti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extes politico-pédagog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aire face à des situations inéd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réativ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ansf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sychologie cog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’expertise suppose la mobilisation à bon escient d’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automatis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et de connaissances disciplin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contrôle métacognitif de l’exéc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ux catégories de situation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ergnaud, 199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les plus fréquentes) pour lesquelles le sujet dispose, à un moment donné de son développement et sous certaines circonstances, des ressources cognitives nécessaires au traitement relativement immédiat de la situ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= situation de crise) pour lesquelles le sujet ne dispose pas de toutes les ressources nécessaires ; cela oblige à un temps d’exploration, de réflexion, d’hésitations ainsi qu’à des tentatives avortées et le conduit parfois à la réussite, parfois à l’éch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5410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m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120" y="12949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urquoi l’approche par compétences aujourd’hu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jeux pédagogiques de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a recherche d’équilib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et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formative et résolutions de problèmes comple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évaluation sommative des compét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 rot="21236400">
            <a:off x="457200" y="2057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L’évaluation scolaire doit-elle juger la capacité des élèves à « réussir » dans des situations </a:t>
            </a:r>
            <a:r>
              <a:rPr b="0" lang="fr-FR" sz="4800" spc="-1" strike="noStrike" u="sng">
                <a:solidFill>
                  <a:srgbClr val="000000"/>
                </a:solidFill>
                <a:uFillTx/>
                <a:latin typeface="Chalkboard Bold"/>
                <a:ea typeface="ＭＳ Ｐゴシック"/>
              </a:rPr>
              <a:t>inédites</a:t>
            </a: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Situations inédites = situations exceptionnel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240" y="320040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faire de l’exceptionnel la norme de la vraie compétence 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évaluer les élèves dans des situations qui ne se reproduiront pas nécessairement 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isques de dér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ns l’approche par compétence,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es savoirs deviennent des moyens à mobiliser pour ag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dans des situations inéd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Espace réservé du contenu 3" descr=""/>
          <p:cNvPicPr/>
          <p:nvPr/>
        </p:nvPicPr>
        <p:blipFill>
          <a:blip r:embed="rId1"/>
          <a:stretch/>
        </p:blipFill>
        <p:spPr>
          <a:xfrm>
            <a:off x="4645080" y="1596960"/>
            <a:ext cx="4048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21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ÉUSSIR ET COMPREND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dosag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équilibr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complexe et l’iné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Deux problématiques pédagogiques différ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inédit =&gt; un problème de flexibilité cog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520" y="3809520"/>
            <a:ext cx="6705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montage cognitif complexe n’est pas nécessairement iné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solution inédite ne requiert pas toujours un montage cognitif complex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520" y="1371240"/>
            <a:ext cx="5943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’action pédagogique ==&gt; des questions d’équili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2514600"/>
          <a:ext cx="81532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81532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et « compétences 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formative et résolution de problèmes comple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échec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peut résulter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incompréhension du problème posé (représentation du problè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non maîtrise des connaissances, stratégies et/ou automatismes requi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vailability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« incapacité » à mobiliser des connaissances, stratégies et/ou automatismes maîtrisé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production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 manque de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fluency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des automatis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surcharge cogn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évaluation sommative des compét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solutions inédi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montages cognitifs complex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questions ciblant les automatism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 questions portant sur la compréhension des procédures/stratégies mises en œuv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Pourquoi l’approche par compétences, aujourd’hu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182880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e mise en perspective sociol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usgrove (196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out curriculum est une construction soci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est le produit de transactions sociales, souvent conflictuelles, entre groupes professionnels et/ou groupes de pression, souvent oppos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ux-ci usent d’argumentation scientifique pour résoudre leurs rapports de fo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Bourque &amp; Frénette (1970), Dandurand (1990), Mellouki (1989), Lenoir (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95280" y="22096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ransformation de l’école s’oriente dans une direction polarisée par la productivité et le développement économ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 mouvement culmine dans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lle-ci imprime une orientation pragmatique et instrumentale aux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savoir doit êtr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UTIL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 influence de l’utilitarisme anglo-saxon &gt;&lt; humanisme européen (Lenoir, 2005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u niveau de la Commission Europée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2, Traite de Maastric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3, Livre blanc sur la compétitivité des entre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5, Livre blanc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nseigner &amp; apprendre: vers la société cognitiv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» (sous la direction de Jean-Louis Reiff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« </a:t>
            </a: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Enseigner &amp; apprendre: vers la société cognitive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 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21333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 connaissances de base constituent le socle sur lequel se construit l’aptitude individuelle à l’emplo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» (p. 1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ns l’éducation de base, il convient de trouver un bon équilibre entre l’acquisition des savoirs et </a:t>
            </a:r>
            <a:r>
              <a:rPr b="0" i="1" lang="en-US" sz="4400" spc="-1" strike="noStrike">
                <a:solidFill>
                  <a:srgbClr val="1f497d"/>
                </a:solidFill>
                <a:latin typeface="Calibri"/>
              </a:rPr>
              <a:t>les compétence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méthodologiques qui permettent d’apprendre soi-même. Ce sont celles-ci qu’il convient aujourd’hui de développer »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. 16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1447920"/>
            <a:ext cx="6248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livre blanc de 1995 redéfinit les rapports entre l’entreprise et l’éc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43000" y="3359160"/>
            <a:ext cx="73152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tique de l’école (= facteur d’exclusion par l’échec scolai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arition de notions nouvel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réditation/validation des acquis: les entreprises pourront reconnaître les compét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ompét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es enjeux pédagogiques de l’approche par compét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notion de compétences institue un nouveau rapport de l’école aux savo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curriculums ne sont plus construits sur une base disciplina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savoirs n’ont plus de valeur en soi; il leur faut être utilitaire; ces sont des moyens pour agir efficac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uprématie de l’utilitarisme nord-américain par à l’humanisme européen (Lenoir,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monde pédagogique est divisé en croyants et non-croy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7:20:10Z</dcterms:created>
  <dc:creator>Marcel Crahay</dc:creator>
  <dc:description/>
  <dc:language>en-US</dc:language>
  <cp:lastModifiedBy>Admin</cp:lastModifiedBy>
  <dcterms:modified xsi:type="dcterms:W3CDTF">2010-07-08T06:21:49Z</dcterms:modified>
  <cp:revision>34</cp:revision>
  <dc:subject/>
  <dc:title>Les compétences professionnelles et le curriculum: des réalités conciliable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850825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