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18176-74E5-46CE-9D24-199B414C2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11DCC-3293-4841-AC0B-12063F086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0F2AE-0324-47CB-8BD2-3C3AE4EFC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91729-21AE-490B-A699-9371B4759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5589D-E00F-4811-8A40-EF17D68D7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1B3EDEC-A32C-4970-9D94-4A78D0FBC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98C454D-C06A-49D1-86B1-1AD9491FA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62384B5-B833-40A5-8A6A-C5503BCBA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8D3C5B-E542-4F48-8767-BE9A026BE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2C6D03D-A6BF-446E-9159-BF940ED88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17564-2572-4B17-A145-1BCEDAF43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6ABC462-9B79-437F-895B-673551988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F81CB0D-CFFF-4DFD-A6C2-D276D0D89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01E3821-EDBD-4AEE-A858-E06E4A4BC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9FCB9A4-83F7-4FB7-94B8-999CF4EFB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54A1442-958E-4467-984A-3EF52D6DB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A7F1B66-6711-4F47-A58D-420243D96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4E2EF71-1692-400C-AF76-233EDB023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D183E-61A5-4113-B804-237AC39E3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4049F-C9CF-4542-9DBD-E480159E0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119E2-C5C0-4707-AE42-F5955ABD2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35624-E0EB-4B82-8C7C-14717B662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FD960-9195-4760-B2C2-B967DC523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C1CE7-30F1-4F5E-91D9-2DC010294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bg_1.jpg"/>
          <p:cNvPicPr/>
          <p:nvPr/>
        </p:nvPicPr>
        <p:blipFill>
          <a:blip r:embed="rId2"/>
          <a:stretch/>
        </p:blipFill>
        <p:spPr>
          <a:xfrm>
            <a:off x="1440" y="14400"/>
            <a:ext cx="9141120" cy="68292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24800" y="61437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99AF6-07A4-434C-B3E7-807750C108E9}" type="slidenum">
              <a:rPr b="0" lang="hu-H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bg_2_beloldal.jpg"/>
          <p:cNvPicPr/>
          <p:nvPr/>
        </p:nvPicPr>
        <p:blipFill>
          <a:blip r:embed="rId2"/>
          <a:stretch/>
        </p:blipFill>
        <p:spPr>
          <a:xfrm>
            <a:off x="1440" y="14400"/>
            <a:ext cx="9141120" cy="68292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Slide Number Placeholder 5"/>
          <p:cNvSpPr/>
          <p:nvPr/>
        </p:nvSpPr>
        <p:spPr>
          <a:xfrm>
            <a:off x="6740640" y="642132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C7936-0964-402B-A839-4D6252ECFB00}" type="slidenum">
              <a:rPr b="0" lang="hu-HU" sz="1000" spc="-1" strike="noStrike">
                <a:solidFill>
                  <a:srgbClr val="a69765"/>
                </a:solidFill>
                <a:latin typeface="Times New Roman"/>
                <a:ea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6" descr="bg_1.jpg"/>
          <p:cNvPicPr/>
          <p:nvPr/>
        </p:nvPicPr>
        <p:blipFill>
          <a:blip r:embed="rId2"/>
          <a:stretch/>
        </p:blipFill>
        <p:spPr>
          <a:xfrm>
            <a:off x="1440" y="14400"/>
            <a:ext cx="9141120" cy="6829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8"/>
          </p:nvPr>
        </p:nvSpPr>
        <p:spPr>
          <a:xfrm>
            <a:off x="6740640" y="60897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a69765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18D12-CD59-42D1-AF11-735695442671}" type="slidenum">
              <a:rPr b="0" lang="hu-HU" sz="1000" spc="-1" strike="noStrike">
                <a:solidFill>
                  <a:srgbClr val="a69765"/>
                </a:solidFill>
                <a:latin typeface="Times New Roman"/>
                <a:ea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3178080"/>
            <a:ext cx="7772400" cy="89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L’abandon scolaire précoce en Hongri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4076640"/>
            <a:ext cx="6400800" cy="20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Times New Roman"/>
              </a:rPr>
              <a:t>Séminaire des Ministres de l’Enseignement obligatoi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Times New Roman"/>
              </a:rPr>
              <a:t>Bruxelles, 9 Juillet 20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Times New Roman"/>
              </a:rPr>
              <a:t>Rózsa Hoffmann Ph.D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Times New Roman"/>
              </a:rPr>
              <a:t>Secrétaire d’État chargée de</a:t>
            </a:r>
            <a:r>
              <a:rPr b="1" lang="hu-H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’Éducation Nationa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360" y="1483920"/>
            <a:ext cx="82296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L’importance de la réduction du taux d’abandon scolaire précoc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49228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L’expansion de l’éduc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Le probl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ème des analphabètes fonctionne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2. 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L’importance de la réduction du taux d’abandon scolaire </a:t>
            </a:r>
            <a:r>
              <a:rPr b="1" lang="hu-H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préco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fr-FR" sz="20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-  du point de vue économique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: un moyen important de la lutte contre la crise économique e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t le développement du capital humain, l’obtention d’un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e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qualification co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forme au marché du travail, l’amélioration de l’empolyabilit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- </a:t>
            </a:r>
            <a:r>
              <a:rPr b="0" lang="hu-HU" sz="20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du point de vue social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: 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la réussite personnelle des individus, l’amélioration de la qualité de la vie humain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95280" y="1341000"/>
            <a:ext cx="8291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000" spc="-1" strike="noStrike">
                <a:solidFill>
                  <a:srgbClr val="0000ff"/>
                </a:solidFill>
                <a:latin typeface="Times New Roman"/>
              </a:rPr>
              <a:t>Les causes de l’abandon scolaire précoce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2421000"/>
            <a:ext cx="8229600" cy="37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la pauvreté, la situation défavorisée et le milieu socioculturel bas qui en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décou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le fait de désavantager la culture et le savoir par rapport aux biens matériel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la  nécessité de gagner de l’argent plus tô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le manque de motivation à l’étu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le chômage de longue durée des pare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les insuffisances structurelles, territoriales du système scolai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le caractère inintéressant des contenus 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transmis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par l’éco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- l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e caractère inadapté des méthodes d’enseigne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la perte du prestige des pédagogu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les problèmes de santé, mentaux ou d’autres problèmes des enfant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le fait de choisir trop tôt un compagnon/une compagne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4000" y="1280880"/>
            <a:ext cx="7810200" cy="99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ff"/>
                </a:solidFill>
                <a:latin typeface="Times New Roman"/>
              </a:rPr>
              <a:t>Données statistiques</a:t>
            </a:r>
            <a:br>
              <a:rPr sz="2800"/>
            </a:br>
            <a:br>
              <a:rPr sz="2800"/>
            </a:br>
            <a:r>
              <a:rPr b="1" lang="hu-HU" sz="2000" spc="-1" strike="noStrike">
                <a:solidFill>
                  <a:srgbClr val="0000ff"/>
                </a:solidFill>
                <a:latin typeface="Times New Roman"/>
              </a:rPr>
              <a:t>Le taux d’abandon scolaire préco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1042920" y="2637000"/>
          <a:ext cx="7201080" cy="1295280"/>
        </p:xfrm>
        <a:graphic>
          <a:graphicData uri="http://schemas.openxmlformats.org/drawingml/2006/table">
            <a:tbl>
              <a:tblPr/>
              <a:tblGrid>
                <a:gridCol w="1657440"/>
                <a:gridCol w="3095640"/>
                <a:gridCol w="2448000"/>
              </a:tblGrid>
              <a:tr h="497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nion européen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ngri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,5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,3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,9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,7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042920" y="4797360"/>
          <a:ext cx="7315200" cy="1457280"/>
        </p:xfrm>
        <a:graphic>
          <a:graphicData uri="http://schemas.openxmlformats.org/drawingml/2006/table">
            <a:tbl>
              <a:tblPr/>
              <a:tblGrid>
                <a:gridCol w="1657440"/>
                <a:gridCol w="2016000"/>
                <a:gridCol w="1824120"/>
                <a:gridCol w="18176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Él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è</a:t>
                      </a: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es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â</a:t>
                      </a: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és de </a:t>
                      </a: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 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Él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è</a:t>
                      </a: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es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â</a:t>
                      </a: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és de </a:t>
                      </a: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 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Él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è</a:t>
                      </a: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es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â</a:t>
                      </a: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és de </a:t>
                      </a: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 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9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8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1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6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6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2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5" name=""/>
          <p:cNvSpPr/>
          <p:nvPr/>
        </p:nvSpPr>
        <p:spPr>
          <a:xfrm>
            <a:off x="2484360" y="4292640"/>
            <a:ext cx="439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ff"/>
                </a:solidFill>
                <a:latin typeface="Times New Roman"/>
              </a:rPr>
              <a:t>Participation scola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3410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ff"/>
                </a:solidFill>
                <a:latin typeface="Times New Roman"/>
              </a:rPr>
              <a:t>Mesures prises pour réduire le taux d’abandon scolaire précoce en Hongrie - 1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49000"/>
            <a:ext cx="8229600" cy="37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Times New Roman"/>
              </a:rPr>
              <a:t>Écoles maternell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L’admission obligatoire des enfants défavorisés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Times New Roman"/>
              </a:rPr>
              <a:t>L’a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ugmentation du nombre de places dans les écoles maternelles, aide à la scolarisation à l’école maternelle, repas gratuits à l’école maternelle, possibilité d’organiser une école maternelle/crèche intégrée</a:t>
            </a:r>
            <a:r>
              <a:rPr b="1" lang="hu-H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Times New Roman"/>
              </a:rPr>
              <a:t>Écol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hu-HU" sz="1600" spc="-1" strike="noStrike">
                <a:solidFill>
                  <a:srgbClr val="000000"/>
                </a:solidFill>
                <a:latin typeface="Times New Roman"/>
              </a:rPr>
              <a:t>Cours individuels pour assurer le rattrapage des él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è</a:t>
            </a:r>
            <a:r>
              <a:rPr b="0" lang="hu-H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s en retar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éveloppement et introduction des méthodes d’enseignement intégré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Élaboration des programmes de formation et d’enseignement et des méthodologies d’enseignement, diffusion des bonnes pratiqu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éation d’un réseau de soutien professionnel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rogrammes ciblés – Programme « Arany János » : programme de collège et d’école d’apprentissage pour les élèves</a:t>
            </a:r>
            <a:r>
              <a:rPr b="0" lang="hu-HU" sz="1600" spc="-1" strike="noStrike">
                <a:solidFill>
                  <a:srgbClr val="000000"/>
                </a:solidFill>
                <a:latin typeface="Times New Roman"/>
              </a:rPr>
              <a:t> souffrant de désavantages multiples, 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rogrammes de type « seconde chance », aides au repas et à l’achat de livres scolair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341360"/>
            <a:ext cx="822960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ff"/>
                </a:solidFill>
                <a:latin typeface="Times New Roman"/>
              </a:rPr>
              <a:t>Mesures prises pour réduire le taux d’abandon scolaire précoce en Hongrie – 2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49228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Dans le cas des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enfants ayant des besoins pédagogiques spécifiques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 développement du contenu, aides ciblé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e nouveau gouvernement envisage d’élaborer et mettre en place dans l’ensemble du système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un modèle complexe de contrôle et d’appréciation professionnel</a:t>
            </a:r>
            <a:r>
              <a:rPr b="1" lang="hu-HU" sz="1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 extérieur</a:t>
            </a:r>
            <a:r>
              <a:rPr b="1" lang="hu-HU" sz="1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dans l’enseignement 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pour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l’amélioration du niveau et de l’efficacité de l’apprentissag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Times New Roman"/>
              </a:rPr>
              <a:t>Écoles professionnell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ossibilité de participer dans l’éducation de rattrapage pour ceux qui n’ont pas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 achevé l’école primai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41300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ff"/>
                </a:solidFill>
                <a:latin typeface="Times New Roman"/>
              </a:rPr>
              <a:t>Programmes et bonnes pratiques </a:t>
            </a:r>
            <a:br>
              <a:rPr sz="2400"/>
            </a:br>
            <a:r>
              <a:rPr b="1" lang="hu-HU" sz="2400" spc="-1" strike="noStrike">
                <a:solidFill>
                  <a:srgbClr val="0000ff"/>
                </a:solidFill>
                <a:latin typeface="Times New Roman"/>
              </a:rPr>
              <a:t>visant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à</a:t>
            </a:r>
            <a:r>
              <a:rPr b="1" lang="hu-H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réduire l’abandon scolaire préco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2421000"/>
            <a:ext cx="8229600" cy="37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Programme Internats – Écoles Professionnelles Arany János pour élèves </a:t>
            </a:r>
            <a:r>
              <a:rPr b="1" lang="hu-HU" sz="2000" spc="-1" strike="noStrike">
                <a:solidFill>
                  <a:srgbClr val="000000"/>
                </a:solidFill>
                <a:latin typeface="Times New Roman"/>
              </a:rPr>
              <a:t>souffrant de désavantages multiples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: prog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è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 soutenu par une orientation professionnelle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, coopération entre enseignants et parents et l’institution éducative, un environnement d’enseignement inclusi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Times New Roman"/>
              </a:rPr>
              <a:t>Programme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« </a:t>
            </a:r>
            <a:r>
              <a:rPr b="1" lang="hu-HU" sz="2000" spc="-1" strike="noStrike">
                <a:solidFill>
                  <a:srgbClr val="000000"/>
                </a:solidFill>
                <a:latin typeface="Times New Roman"/>
              </a:rPr>
              <a:t>Tanoda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»</a:t>
            </a:r>
            <a:r>
              <a:rPr b="1" lang="hu-HU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 services extrascolaires aux é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è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s 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souffrant de désavantages et de désavantages multiples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dans les classes supérieures de l’école primaire, au collège et au lycé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Times New Roman"/>
              </a:rPr>
              <a:t>Programme de développement des écoles professionnelles: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A: Renouvellement de l’enseignement du savoir général et professionn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B: Méthodolgie de l’enseignement professionn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C: Réintégration des é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è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s désavantagé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(+ enseignement de langues, mesure et évaluation des écoles professionnelles, orientation professionnelle, informatiqu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400" spc="-1" strike="noStrike">
                <a:solidFill>
                  <a:srgbClr val="0000ff"/>
                </a:solidFill>
                <a:latin typeface="Times New Roman"/>
              </a:rPr>
              <a:t>Merci pour votre attention!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5T13:49:13Z</dcterms:created>
  <dc:creator>Kori</dc:creator>
  <dc:description/>
  <dc:language>en-US</dc:language>
  <cp:lastModifiedBy>demeterd</cp:lastModifiedBy>
  <dcterms:modified xsi:type="dcterms:W3CDTF">2010-07-07T09:25:01Z</dcterms:modified>
  <cp:revision>20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320732215</vt:r8>
  </property>
  <property fmtid="{D5CDD505-2E9C-101B-9397-08002B2CF9AE}" pid="3" name="_AuthorEmail">
    <vt:lpwstr>education@mci-group.com</vt:lpwstr>
  </property>
  <property fmtid="{D5CDD505-2E9C-101B-9397-08002B2CF9AE}" pid="4" name="_AuthorEmailDisplayName">
    <vt:lpwstr>MCI Education</vt:lpwstr>
  </property>
  <property fmtid="{D5CDD505-2E9C-101B-9397-08002B2CF9AE}" pid="5" name="_EmailSubject">
    <vt:lpwstr>présentation</vt:lpwstr>
  </property>
  <property fmtid="{D5CDD505-2E9C-101B-9397-08002B2CF9AE}" pid="6" name="_NewReviewCycle">
    <vt:lpwstr/>
  </property>
</Properties>
</file>