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15138" cy="99536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6028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8720" y="74592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5324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60280" y="945324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8BD7D-7F32-4E26-BF71-EAF6910D50A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9C922-609A-463A-AAF1-8F1FB60EFB0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20E84A-CDFA-447A-B83C-690D82CCF1B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9360" y="4727520"/>
            <a:ext cx="49957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ymbol zastępczy numeru slajdu 3"/>
          <p:cNvSpPr/>
          <p:nvPr/>
        </p:nvSpPr>
        <p:spPr>
          <a:xfrm>
            <a:off x="3860640" y="945360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860D8B-044C-4D0D-B71C-51EC354EE00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50C-7084-4696-9972-6FFD4677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808-37B6-4745-8F7B-E67E12E9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3AB-F0E0-4B1B-B9B6-950B2D48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492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74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290-1331-4858-9860-E998BF9E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900-5F36-4462-8FCA-A22DB389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18E0-7419-4DA5-84DF-48E1A6DF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568-697B-4C74-80CA-E21CF43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531-A62E-4DEC-B437-D95DC15D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8FC-7F36-4A57-99BF-60C2F596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27B-2E62-452E-8BA3-02C1F78B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74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0C1-60E0-4D2D-A478-17000A0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492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74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229-470C-43D3-91FA-5171992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REZENTACJA_SLAJDY"/>
          <p:cNvPicPr/>
          <p:nvPr/>
        </p:nvPicPr>
        <p:blipFill>
          <a:blip r:embed="rId2"/>
          <a:stretch/>
        </p:blipFill>
        <p:spPr>
          <a:xfrm>
            <a:off x="0" y="0"/>
            <a:ext cx="9144000" cy="106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343080" indent="-343080" algn="ctr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73737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4218-C8E4-41F3-89EC-53A5D161AB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1C6F-198F-410C-997A-678DAA33D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KIW_MEN"/>
          <p:cNvPicPr/>
          <p:nvPr/>
        </p:nvPicPr>
        <p:blipFill>
          <a:blip r:embed="rId4"/>
          <a:stretch/>
        </p:blipFill>
        <p:spPr>
          <a:xfrm>
            <a:off x="2486160" y="6205680"/>
            <a:ext cx="419076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glowna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3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nar of the Ministers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ulsory Educ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ussels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9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505320" y="56386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33577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lopment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f stud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competences in Po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periences &amp;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DF9-45A9-4D27-A288-BC769E1C3D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6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year-old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literacy in 2006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67280" y="1268280"/>
            <a:ext cx="417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evel ISCED 3 (for 1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lder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constantly large differences of stud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between schools (it concerns competences examined under PISA)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8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around 60% of them were included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ncentration of the low achiever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basic vocational schools and hig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chiev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upper secondary general school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 can be observe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1989000"/>
          <a:ext cx="4680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4680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1413000"/>
            <a:ext cx="41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of reading competences PISA 2006 national </a:t>
            </a:r>
            <a:br>
              <a:rPr sz="1200"/>
            </a:b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(16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nd 17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-year-old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E8E-CEAA-4285-8443-DFF85DF01E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oblems of key competence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development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in vocational education</a:t>
            </a:r>
            <a:r>
              <a:rPr b="0" lang="pl-PL" sz="24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owadays 16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nd 17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year-old stud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tte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imilar type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chool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level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CED 3 as it was before the reform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re are still large differences between schools at the level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 in the structure of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ntrast to ISCED 2 level w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e this disproportion has been effectively reduced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videnc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how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he lack of good development of key competences in some types of schools at the leve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SCED 3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articularly in vocational school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179-496A-43CD-9F6F-B5619CA67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on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tinuation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of the education system refor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Works on comprehensive and coherent LLL strategy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plan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solidation of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all national strategies was adopted by the Polish government in November 2009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nter-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departament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ask-force for LLL strateg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cluding NQF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 w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stablished by Prime Minister’s decree in February 2010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ol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s been ver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ucc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sfu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the field of formal educatio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videnc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y results of PISA research and Poland’s nation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hievements as regards EU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nchmar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under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„Education an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aining 2010”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Programme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t the same ti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 has low achievements beyon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traditional period of school education, i.e. in pre-school education and adults learning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e aim of the LLL strategy will be to balance the Polish achievements in the whole area of LL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D6B-1A35-490B-AC96-757724605D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form revision 10 years later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tinuat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mprehensive reform of education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concerning pre-school and general education, implemented since 2009, based on learning outcomes, i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 line with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pproach recommended in the European Qualifications Framework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lowering the age of starting the compulsory pre-school prepar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5) which is connected with dissemination of pre-school education and lowering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ag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ing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ompulsory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to the age of 6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the vocational education and training modernization based 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approach to professional qualifications which is consistent with European Credit System for Vocational Educa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nd Training (ECVET)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paration of changes in schools and in their surrounding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which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upport the process of individual work with students, especially those with learning difficulties as well as the talented on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00B-E506-48B7-A039-33912055FE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implementation of the new curricula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2009-2016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1170000"/>
          <a:ext cx="8291520" cy="4091040"/>
        </p:xfrm>
        <a:graphic>
          <a:graphicData uri="http://schemas.openxmlformats.org/drawingml/2006/table">
            <a:tbl>
              <a:tblPr/>
              <a:tblGrid>
                <a:gridCol w="2882880"/>
                <a:gridCol w="1508040"/>
                <a:gridCol w="1571760"/>
                <a:gridCol w="806400"/>
                <a:gridCol w="152244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ormed teaching in classrooms</a:t>
                      </a:r>
                      <a:r>
                        <a:rPr b="0" lang="en-US" sz="18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77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0/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1/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OWER SECOND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examination adapted to the new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en-US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2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3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 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2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4/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VI SP 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L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secondary school certificate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adapted to the new</a:t>
                      </a:r>
                      <a:r>
                        <a:rPr b="1" lang="pl-PL" sz="12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re curriculum</a:t>
                      </a:r>
                      <a:r>
                        <a:rPr b="0" lang="pl-PL" sz="12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gradFill rotWithShape="0">
                      <a:gsLst>
                        <a:gs pos="0">
                          <a:srgbClr val="ffae84"/>
                        </a:gs>
                        <a:gs pos="100000">
                          <a:srgbClr val="ffe5db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II Z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2015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05c"/>
                          </a:solidFill>
                          <a:latin typeface="Arial"/>
                          <a:ea typeface="Times New Roman"/>
                        </a:rPr>
                        <a:t>IV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56"/>
          <p:cNvSpPr/>
          <p:nvPr/>
        </p:nvSpPr>
        <p:spPr>
          <a:xfrm>
            <a:off x="395280" y="5634000"/>
            <a:ext cx="8353440" cy="559080"/>
          </a:xfrm>
          <a:prstGeom prst="rect">
            <a:avLst/>
          </a:prstGeom>
          <a:solidFill>
            <a:srgbClr val="003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 – primary school, L – upper secondary general, T – upper secondary vocation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SZ – basic vocational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682-3B98-429C-929F-E0C39405D7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81EC-BDDD-41E4-8D9D-C166A8B52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Agenda of modification of examinations confirming vocational qualification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1371600"/>
          <a:ext cx="8713800" cy="45054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00360"/>
              </a:tblGrid>
              <a:tr h="47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aminations confirming vocational qualif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e17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1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2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3/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4/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5/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ations </a:t>
                      </a: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d 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isting ru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73737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00305c"/>
                    </a:solidFill>
                  </a:tcPr>
                </a:tc>
              </a:tr>
              <a:tr h="5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6/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r>
                        <a:rPr b="0" lang="en-US" sz="1600" spc="-1" strike="noStrike">
                          <a:solidFill>
                            <a:srgbClr val="737373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2017/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05c"/>
                          </a:solidFill>
                          <a:latin typeface="Arial"/>
                        </a:rPr>
                        <a:t>Confirmation of partial qual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737373"/>
                      </a:solidFill>
                    </a:lnL>
                    <a:lnR w="5760">
                      <a:solidFill>
                        <a:srgbClr val="737373"/>
                      </a:solidFill>
                    </a:lnR>
                    <a:lnT w="5760">
                      <a:solidFill>
                        <a:srgbClr val="737373"/>
                      </a:solidFill>
                    </a:lnT>
                    <a:lnB w="5760">
                      <a:solidFill>
                        <a:srgbClr val="73737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938-ADB7-4909-8189-4E4AEDEB1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be drawn from the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lish experience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br>
              <a:rPr sz="2600"/>
            </a:b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Comprehensive approach to planned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ne of the most extensive reform of education in UE and OECD countri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art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1999 in Poland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lthough nowadays this reform requir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few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orrections,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i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ved effective thanks to comprehensive approach to change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ter use of hidden capabilities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ignificant improvement of weakest students’ competences (revealed in PISA research in 2000-2003) that results from disclosure of these students’ capabilities i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type of school (lower secondary school)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obably the capabilities of the weak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ufficient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eveloped in th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it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ig percen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low achieve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e need a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and progra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vi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o be planned for many years ahead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sults of different international researches (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like PISA, TIMSS/PIRLS, TALIS, TEDS-M, PIAA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have been and will b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helpful to pla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urt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hang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the educ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373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any different systemic modifications accompani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urricula, which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was initiated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eptember 200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ir results will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noticeabl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nly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fter many year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634-B26F-4E59-9ADE-768C784ABA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What conclusions can Poland draw from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its 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own experience as regards competences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 development of young people?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Present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ogram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hange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re aim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ensure the better results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 general education in upper secondary schools, without making any structural changes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is accepted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at there is a need for extend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bligatory perio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ssibly identic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eneral education but it should be realized </a:t>
            </a:r>
            <a:br>
              <a:rPr sz="2000"/>
            </a:b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ore indivi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ze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y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 Poland there is a v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ry strong tradition of making a choice between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ducation in upper secondary general school and vocational preparation in upper secondary vocational school or basic vocational school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re is a plan for 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evolutionary, structural chang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la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odification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in vocational education. The fundamental purpose i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gradual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ly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isseminat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vocational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qualification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qui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rough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flexible courses forms instead of different types of schools     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513-3F93-4E92-8079-2341FCB044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Preliminary invi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49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ring the Polish Presidency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uncil of the European Union,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ternational conference is planned in November 2011: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effectiveness of education policy </a:t>
            </a:r>
            <a:br>
              <a:rPr sz="2000"/>
            </a:b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for development 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competence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t will be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opportunity to debate on this subject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would like to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invite you to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conference.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fficial invitations will be sent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is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utumn.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23F-8A88-4D36-9A6A-9E013BC3E4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utline of the presentation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ain findings of PISA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ogramme regarding competences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Poland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rovement of competences – especially in reading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roblems of competences development of 16- and 17-year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policy which contributed to achievements revealed in PISA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reform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r.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Jerzy Buzek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continuation of the reform of the educational system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and works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 LLL strategy 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7373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What conclusions can be drawn from the Polish experience as regards competences’ development of young people?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DCB5-A113-4D7D-AF92-0BF0A3D72D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58" name="Rectangle 3"/>
          <p:cNvGraphicFramePr/>
          <p:nvPr/>
        </p:nvGraphicFramePr>
        <p:xfrm>
          <a:off x="250920" y="1989000"/>
          <a:ext cx="4151160" cy="43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415116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the largest EU in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reading achievements of 15-year-ol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 2000-2006 in Poland (in OECD only South Korea reported slightly higher increase)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3 there was a remarkable improvement of competences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it can b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lated to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crease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between-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ools differ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 2003-2006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high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crease of good and t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competenc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an be observe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05264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reading literacy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achievements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f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 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average results 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to 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PISA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8A9-D62D-4CF0-9123-CF1398AF7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The competences improvement of Polish </a:t>
            </a:r>
            <a:br>
              <a:rPr sz="2800"/>
            </a:b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years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old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(PISA)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64" name="Rectangle 3"/>
          <p:cNvGraphicFramePr/>
          <p:nvPr/>
        </p:nvGraphicFramePr>
        <p:xfrm>
          <a:off x="611280" y="2276640"/>
          <a:ext cx="3819600" cy="40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819600" cy="40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381024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re was a significant decrease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 numbe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ith low achievements in reading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n 2000-2006 in Poland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is change also concerns mathematics and science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05264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The achievements in reading literacy of Polish 15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year-old 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students versus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EU</a:t>
            </a:r>
            <a:r>
              <a:rPr b="1" lang="pl-PL" sz="2000" spc="-1" strike="noStrike">
                <a:solidFill>
                  <a:srgbClr val="e17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17000"/>
                </a:solidFill>
                <a:latin typeface="Arial"/>
              </a:rPr>
              <a:t>in 2000-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ercent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of</a:t>
            </a:r>
            <a:r>
              <a:rPr b="0" lang="pl-PL" sz="1800" spc="-1" strike="noStrike">
                <a:solidFill>
                  <a:srgbClr val="616365"/>
                </a:solidFill>
                <a:latin typeface="Arial"/>
              </a:rPr>
              <a:t> students</a:t>
            </a: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616365"/>
                </a:solidFill>
                <a:latin typeface="Arial"/>
              </a:rPr>
              <a:t>the lowest achie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C7FD-21CE-41B7-B2F9-7D1E9F058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reforms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of</a:t>
            </a:r>
            <a:r>
              <a:rPr b="0" lang="en-US" sz="27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700" spc="-1" strike="noStrike">
                <a:solidFill>
                  <a:srgbClr val="737373"/>
                </a:solidFill>
                <a:latin typeface="Arial"/>
              </a:rPr>
              <a:t>Mr. Jerzy Buzek’s government</a:t>
            </a:r>
            <a:endParaRPr b="0" lang="en-US" sz="27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ducational system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reform (which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started in 1999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as one of fou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ic change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which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contributed t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repar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Poland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’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ccession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to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EU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other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structural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covered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public administration, health care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social security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 systems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as the result of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reforms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local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government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have 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bec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me responsible for vast majority of educational tasks </a:t>
            </a: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as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real partner </a:t>
            </a:r>
            <a:br>
              <a:rPr sz="2000"/>
            </a:br>
            <a:r>
              <a:rPr b="0" lang="pl-PL" sz="2000" spc="-1" strike="noStrike">
                <a:solidFill>
                  <a:srgbClr val="737373"/>
                </a:solidFill>
                <a:latin typeface="Arial"/>
              </a:rPr>
              <a:t>to the</a:t>
            </a:r>
            <a:r>
              <a:rPr b="0" lang="en-US" sz="2000" spc="-1" strike="noStrike">
                <a:solidFill>
                  <a:srgbClr val="737373"/>
                </a:solidFill>
                <a:latin typeface="Arial"/>
              </a:rPr>
              <a:t> government administration </a:t>
            </a: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06B-FFB0-47E9-A1DD-E0A29F5F8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Comprehensive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 reform of the educational system </a:t>
            </a:r>
            <a:br>
              <a:rPr sz="2800"/>
            </a:b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of Mr. Jerzy Buzek’s government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353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ructural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s of educational syste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luded the following actions (taking place at the same time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ransfer of schools to loc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governmen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ogether with financial resourc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heir manageme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ed on the number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change of the structure of school system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form of core curricula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form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ystem of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assessment, including introduction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external examinations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ationalization of school network, especially in rural areas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modernization of school equipment, particularly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regarding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CT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mplementation of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ystem of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career promot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o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</a:t>
            </a:r>
            <a:br>
              <a:rPr sz="1800"/>
            </a:b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w remuneration system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1428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centives for broad participation 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teacher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rofessional training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BCF-7EDD-4E75-AD33-1AE0D7A214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A204-3C31-492C-B09A-46B426CAE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Change of the structure of school system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5940360" y="2206800"/>
            <a:ext cx="216000" cy="4033800"/>
          </a:xfrm>
          <a:prstGeom prst="rect">
            <a:avLst/>
          </a:prstGeom>
          <a:solidFill>
            <a:srgbClr val="c0c0c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900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neral education extended by one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8360" y="1989000"/>
            <a:ext cx="8520120" cy="4089240"/>
            <a:chOff x="468360" y="1989000"/>
            <a:chExt cx="8520120" cy="4089240"/>
          </a:xfrm>
        </p:grpSpPr>
        <p:sp>
          <p:nvSpPr>
            <p:cNvPr id="77" name="Text Box 20"/>
            <p:cNvSpPr/>
            <p:nvPr/>
          </p:nvSpPr>
          <p:spPr>
            <a:xfrm>
              <a:off x="539640" y="4078440"/>
              <a:ext cx="84488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       ISCED 1                                 ISCED 2                         ISCED 3</a:t>
              </a:r>
              <a:r>
                <a:rPr b="0" i="1" lang="en-US" sz="1800" spc="-1" strike="noStrike">
                  <a:solidFill>
                    <a:srgbClr val="616365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8       9       10       11       12       13       14       15      16       17       18 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"/>
            <p:cNvSpPr/>
            <p:nvPr/>
          </p:nvSpPr>
          <p:spPr>
            <a:xfrm>
              <a:off x="541440" y="2270160"/>
              <a:ext cx="8385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ISCED 0                                  ISCED 1-2                                                        ISCED 3                         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</a:rPr>
                <a:t>ISCED 4-6</a:t>
              </a:r>
              <a:r>
                <a:rPr b="0" i="1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16365"/>
                  </a:solidFill>
                  <a:latin typeface="Arial"/>
                  <a:ea typeface="Arial"/>
                </a:rPr>
                <a:t>3        4        5        6        7        8        9       10       11       12       13      14      15      16       17       18      1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6"/>
            <p:cNvSpPr/>
            <p:nvPr/>
          </p:nvSpPr>
          <p:spPr>
            <a:xfrm>
              <a:off x="612720" y="4654440"/>
              <a:ext cx="1738440" cy="38412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7"/>
            <p:cNvSpPr/>
            <p:nvPr/>
          </p:nvSpPr>
          <p:spPr>
            <a:xfrm>
              <a:off x="2351160" y="4654440"/>
              <a:ext cx="2403360" cy="384120"/>
            </a:xfrm>
            <a:prstGeom prst="rect">
              <a:avLst/>
            </a:prstGeom>
            <a:solidFill>
              <a:srgbClr val="00305c"/>
            </a:solidFill>
            <a:ln w="9360">
              <a:solidFill>
                <a:srgbClr val="0030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8"/>
            <p:cNvSpPr/>
            <p:nvPr/>
          </p:nvSpPr>
          <p:spPr>
            <a:xfrm>
              <a:off x="4730760" y="4654440"/>
              <a:ext cx="1504800" cy="384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6227640" y="5045040"/>
              <a:ext cx="1800360" cy="433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6227640" y="5478480"/>
              <a:ext cx="1436760" cy="576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3"/>
            <p:cNvSpPr/>
            <p:nvPr/>
          </p:nvSpPr>
          <p:spPr>
            <a:xfrm>
              <a:off x="2341440" y="4703760"/>
              <a:ext cx="2497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14"/>
            <p:cNvSpPr/>
            <p:nvPr/>
          </p:nvSpPr>
          <p:spPr>
            <a:xfrm>
              <a:off x="4716360" y="4654440"/>
              <a:ext cx="1641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WER  SECONDAR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839880" y="465444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17"/>
            <p:cNvSpPr/>
            <p:nvPr/>
          </p:nvSpPr>
          <p:spPr>
            <a:xfrm>
              <a:off x="6127920" y="5024520"/>
              <a:ext cx="182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2266920" y="2828880"/>
              <a:ext cx="3762360" cy="382680"/>
            </a:xfrm>
            <a:prstGeom prst="rect">
              <a:avLst/>
            </a:prstGeom>
            <a:solidFill>
              <a:srgbClr val="003f7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5824440" y="2828880"/>
              <a:ext cx="18669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5829480" y="3213000"/>
              <a:ext cx="2217600" cy="382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5"/>
            <p:cNvSpPr/>
            <p:nvPr/>
          </p:nvSpPr>
          <p:spPr>
            <a:xfrm>
              <a:off x="5829480" y="3594240"/>
              <a:ext cx="158904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27"/>
            <p:cNvSpPr/>
            <p:nvPr/>
          </p:nvSpPr>
          <p:spPr>
            <a:xfrm>
              <a:off x="6156360" y="2828880"/>
              <a:ext cx="1871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PER SECONDARY 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28"/>
            <p:cNvSpPr/>
            <p:nvPr/>
          </p:nvSpPr>
          <p:spPr>
            <a:xfrm>
              <a:off x="6099120" y="3213000"/>
              <a:ext cx="1816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29"/>
            <p:cNvSpPr/>
            <p:nvPr/>
          </p:nvSpPr>
          <p:spPr>
            <a:xfrm>
              <a:off x="6084720" y="3646440"/>
              <a:ext cx="1440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30"/>
            <p:cNvSpPr/>
            <p:nvPr/>
          </p:nvSpPr>
          <p:spPr>
            <a:xfrm>
              <a:off x="611280" y="2828880"/>
              <a:ext cx="1752480" cy="382680"/>
            </a:xfrm>
            <a:prstGeom prst="rect">
              <a:avLst/>
            </a:prstGeom>
            <a:solidFill>
              <a:srgbClr val="e17000"/>
            </a:solidFill>
            <a:ln w="9360">
              <a:solidFill>
                <a:srgbClr val="e1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838080" y="2828880"/>
              <a:ext cx="1579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-PRIMARY EDU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468360" y="1989000"/>
              <a:ext cx="518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Previous structure of school system (PISA 2000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468360" y="3789360"/>
              <a:ext cx="511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17000"/>
                  </a:solidFill>
                  <a:latin typeface="Arial"/>
                  <a:ea typeface="Arial"/>
                </a:rPr>
                <a:t>New structure of school system (PISA 2003, 2006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2259000" y="2870280"/>
              <a:ext cx="3249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IMARY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28"/>
            <p:cNvSpPr/>
            <p:nvPr/>
          </p:nvSpPr>
          <p:spPr>
            <a:xfrm>
              <a:off x="6227640" y="5045040"/>
              <a:ext cx="18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PPER SECONDARY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29"/>
            <p:cNvSpPr/>
            <p:nvPr/>
          </p:nvSpPr>
          <p:spPr>
            <a:xfrm>
              <a:off x="6227640" y="5518080"/>
              <a:ext cx="14940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ASIC VOCATIONAL SCHOO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3"/>
            <p:cNvSpPr/>
            <p:nvPr/>
          </p:nvSpPr>
          <p:spPr>
            <a:xfrm>
              <a:off x="6227640" y="4654440"/>
              <a:ext cx="1436760" cy="3826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UPPER SECONDARY </a:t>
              </a:r>
              <a:br>
                <a:rPr sz="1100"/>
              </a:br>
              <a:r>
                <a:rPr b="1" lang="pl-PL" sz="1100" spc="-1" strike="noStrike">
                  <a:solidFill>
                    <a:srgbClr val="ffffff"/>
                  </a:solidFill>
                  <a:latin typeface="Arial"/>
                </a:rPr>
                <a:t>GENE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-252360" y="981000"/>
            <a:ext cx="9396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ange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troduced since 1999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introduction of the new school typ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- ISCED 2 and extensio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(comprehensive)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y one year (related to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953-D697-40AD-95F9-6ED163D0F1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Reduction of </a:t>
            </a:r>
            <a:r>
              <a:rPr b="0" lang="pl-PL" sz="2800" spc="-1" strike="noStrike">
                <a:solidFill>
                  <a:srgbClr val="737373"/>
                </a:solidFill>
                <a:latin typeface="Arial"/>
              </a:rPr>
              <a:t>between-school </a:t>
            </a:r>
            <a:r>
              <a:rPr b="0" lang="en-US" sz="2800" spc="-1" strike="noStrike">
                <a:solidFill>
                  <a:srgbClr val="737373"/>
                </a:solidFill>
                <a:latin typeface="Arial"/>
              </a:rPr>
              <a:t>differences</a:t>
            </a:r>
            <a:endParaRPr b="0" lang="en-US" sz="28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250920" y="1989000"/>
          <a:ext cx="3598920" cy="40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89000"/>
                    <a:ext cx="3598920" cy="40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24360" y="2060280"/>
            <a:ext cx="5076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0-2003 revealed that the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variabilit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of 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’ achievements between schools was reduce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(this decrease wa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e most significan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nd OECD countrie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It concern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’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achievements in al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etences measured by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PISA (reading, mathematics, science). 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Reduction of differences between schools can be related to the comprehensive reform of the educational system, implement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1999.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h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reform was implemented gradually and </a:t>
            </a:r>
            <a:br>
              <a:rPr sz="1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15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-year-old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tudents wer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 covered in 2000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(PISA 2000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xamined the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revious system of education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;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PISA 2003 and 2006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–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new one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9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Di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fference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between schools in Poland in 2000-2006 </a:t>
            </a:r>
            <a:r>
              <a:rPr b="1" lang="pl-PL" sz="2000" spc="-1" strike="noStrike">
                <a:solidFill>
                  <a:srgbClr val="d97300"/>
                </a:solidFill>
                <a:latin typeface="Arial"/>
              </a:rPr>
              <a:t>versus</a:t>
            </a:r>
            <a:r>
              <a:rPr b="1" lang="en-US" sz="2000" spc="-1" strike="noStrike">
                <a:solidFill>
                  <a:srgbClr val="d97300"/>
                </a:solidFill>
                <a:latin typeface="Arial"/>
              </a:rPr>
              <a:t> OE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FD4-7625-4E4C-817F-863FDD842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Differences between schools concerning 15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year-old </a:t>
            </a:r>
            <a:br>
              <a:rPr sz="2600"/>
            </a:b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Polish </a:t>
            </a:r>
            <a:r>
              <a:rPr b="0" lang="pl-PL" sz="26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2600" spc="-1" strike="noStrike">
                <a:solidFill>
                  <a:srgbClr val="737373"/>
                </a:solidFill>
                <a:latin typeface="Arial"/>
              </a:rPr>
              <a:t>’ achievements in reading in 2000</a:t>
            </a:r>
            <a:endParaRPr b="0" lang="en-US" sz="2600" spc="-1" strike="noStrike">
              <a:solidFill>
                <a:srgbClr val="737373"/>
              </a:solidFill>
              <a:latin typeface="Arial"/>
            </a:endParaRPr>
          </a:p>
        </p:txBody>
      </p:sp>
      <p:graphicFrame>
        <p:nvGraphicFramePr>
          <p:cNvPr id="110" name="Rectangle 3"/>
          <p:cNvGraphicFramePr/>
          <p:nvPr/>
        </p:nvGraphicFramePr>
        <p:xfrm>
          <a:off x="1440" y="1803240"/>
          <a:ext cx="5100840" cy="44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1803240"/>
                    <a:ext cx="510084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9211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In 2000 Poland noted o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ne of the largest differences in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achievements of students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etween schools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compared to th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EU and OECD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countrie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Differences can be referred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mainly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to the division into general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ducation 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schools and vocational education schools, including basic vocational schools. 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737373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737373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Basic vocational schools 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were attended by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6% of </a:t>
            </a:r>
            <a:r>
              <a:rPr b="0" lang="pl-PL" sz="1800" spc="-1" strike="noStrike">
                <a:solidFill>
                  <a:srgbClr val="e17000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e17000"/>
                </a:solidFill>
                <a:latin typeface="Arial"/>
              </a:rPr>
              <a:t>, over 73% of them belonged to the category of low achiever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he best 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students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w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ere</a:t>
            </a:r>
            <a:r>
              <a:rPr b="0" lang="en-US" sz="1800" spc="-1" strike="noStrike">
                <a:solidFill>
                  <a:srgbClr val="737373"/>
                </a:solidFill>
                <a:latin typeface="Arial"/>
              </a:rPr>
              <a:t> scarce in these schools</a:t>
            </a:r>
            <a:r>
              <a:rPr b="0" lang="pl-PL" sz="1800" spc="-1" strike="noStrike">
                <a:solidFill>
                  <a:srgbClr val="73737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73737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41300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Percent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ag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of 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students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according to</a:t>
            </a:r>
            <a:r>
              <a:rPr b="1" lang="pl-PL" sz="1200" spc="-1" strike="noStrike">
                <a:solidFill>
                  <a:srgbClr val="616365"/>
                </a:solidFill>
                <a:latin typeface="Arial"/>
              </a:rPr>
              <a:t> the</a:t>
            </a:r>
            <a:r>
              <a:rPr b="1" lang="en-US" sz="1200" spc="-1" strike="noStrike">
                <a:solidFill>
                  <a:srgbClr val="616365"/>
                </a:solidFill>
                <a:latin typeface="Arial"/>
              </a:rPr>
              <a:t> level of reading competence PIS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020-2AA4-4C0E-809F-01EFBD0EB3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0:26:15Z</dcterms:created>
  <dc:creator>w.filipkowski</dc:creator>
  <dc:description/>
  <dc:language>en-US</dc:language>
  <cp:lastModifiedBy>Katarzyna Hall</cp:lastModifiedBy>
  <dcterms:modified xsi:type="dcterms:W3CDTF">2010-07-08T12:58:10Z</dcterms:modified>
  <cp:revision>196</cp:revision>
  <dc:subject/>
  <dc:title>Prezentacj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1381331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