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8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19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20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864A-B044-4467-B430-F4908FEE3F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BFA8-9844-4188-8359-0E6BB72892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6894-7201-4E0D-8DF0-A7132EB0F1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342C-DE89-42E4-9573-F7715D70AD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55EA-8AAD-44A3-8AAC-FE4974381B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DCD2-935D-4CFF-8787-4E211ECD74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706324-2A94-4B84-B715-30FE9296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A5FA6-5760-4081-9FAC-F471854F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CF9055-EE19-46DD-8E0D-A5D573C8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6625E0-A355-4838-A7DF-6BC70669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1A2CA0-6D42-4373-A340-90B9E7B0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F6546B-A1DE-4C2E-B479-FA13DA7E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450E65-044A-4099-9F82-FC33D41E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AC55D-14EA-4D0D-98A0-180CB502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2C54B2-D09C-4C2E-B885-F0A62AF2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B1083-9508-465D-B4C8-432DDA4D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352C98-F3D0-41FF-A70C-EE84C8CE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F57798-0B4A-4AAC-B639-3C5E73A6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3F21D3-A1DA-4CE8-8B9D-75C7DD33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03013A-C30E-45FD-9E83-9799BDD2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A9AC4F-E962-42F3-865E-E2F8153F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757772-7142-463E-9E4C-F959E60E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961622-548C-4407-B9AB-0B1BD3AE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33F56-9985-4095-9852-6D29FD0E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A48CB5-17B9-4756-BBC1-CAC2B721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10998D-2262-423E-8220-7E26818C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7894E7-25C6-40FA-AF42-7778766A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257F-26CB-407B-AC36-8B8EC7BB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F22E-656E-4BD7-AC1C-81C85FFA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3741-F538-49E0-9F74-DC67514C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2E37-00C1-47ED-8E5A-CFE739ED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B754-4B84-4F0D-9917-580B1F8B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1FAF-9276-42BC-95D8-4227E473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A19A-172E-4CAE-8935-1EBC6DC1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C982-9BDE-4690-8BBA-B2F045E8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6D1A-3B13-4456-A0A4-A6EAF47D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D808-58BA-4792-9766-81AD29D4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15B2-06A5-4049-A8DD-A9ACE789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E252-81D7-4AB1-8BD9-1839159D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9EB52-14E4-40F0-A29C-F7571285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64D9DA-CF11-465F-9035-A37AAE71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7FD2DB-1782-43CE-A7B8-08539EEC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774AE-FB07-4574-A9A2-A3644040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DB9EC7-B370-4F26-AD92-A22B158E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66840" y="1233360"/>
            <a:ext cx="816912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A02EC8-BE33-4684-94F3-FD4BC16C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4C6842-1BC3-4276-9909-2E4C7BBD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F90FFB-59D7-4C1E-A5AD-9A188F91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3132D3-7A9C-4622-B5E5-D55E9DDD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66840" y="4073760"/>
            <a:ext cx="816912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38E04D-BE0F-485F-82EB-E792AE76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52920" y="17985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6684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52920" y="4073760"/>
            <a:ext cx="398628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4C1BE8-DFF3-4513-9B3E-9B03F5DC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2876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91040" y="17985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668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2876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91040" y="4073760"/>
            <a:ext cx="2630160" cy="20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9CE456-8F65-49FC-BA36-55C8D81D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D3F56-E7D9-4005-94A5-656EB8CB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1459D3-B084-4076-A590-E4A66CF5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B71FEE-1A7A-45E7-B05D-6CBD4CAE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5244-9B15-45B1-80B4-483E60D2EC8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923000" y="2474640"/>
            <a:ext cx="359856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908240" y="3511440"/>
            <a:ext cx="359892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94840" indent="-293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14" descr="Logo Powerpoint 2"/>
          <p:cNvPicPr/>
          <p:nvPr/>
        </p:nvPicPr>
        <p:blipFill>
          <a:blip r:embed="rId2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5"/>
          </p:nvPr>
        </p:nvSpPr>
        <p:spPr>
          <a:xfrm>
            <a:off x="7696080" y="5936760"/>
            <a:ext cx="106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447D-BE00-4C97-8B11-882A670E906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6"/>
          </p:nvPr>
        </p:nvSpPr>
        <p:spPr>
          <a:xfrm>
            <a:off x="1727280" y="5936760"/>
            <a:ext cx="3635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7"/>
          </p:nvPr>
        </p:nvSpPr>
        <p:spPr>
          <a:xfrm>
            <a:off x="685800" y="5936760"/>
            <a:ext cx="914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B66E-3CB2-4158-8AA4-25BDF329C97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5152-E0C6-4ABA-8E49-CA6401724B1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18520" indent="-218520">
              <a:buClr>
                <a:srgbClr val="0000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55920" indent="-2811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74960" indent="-28080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03360" indent="-28080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31760" indent="-2808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3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4906-976A-491B-9CEE-A488DDA3599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929120" y="2500200"/>
            <a:ext cx="35020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943520" y="3155760"/>
            <a:ext cx="348768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16000" indent="-21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775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9040" indent="-2775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7756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985400" indent="-27756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2" descr="Logo Powerpoint 2"/>
          <p:cNvPicPr/>
          <p:nvPr/>
        </p:nvPicPr>
        <p:blipFill>
          <a:blip r:embed="rId6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9148-CCE8-468A-98C8-F2C0B107A92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D5F7-3F3B-4F8A-9FF3-EB0BDBBB565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shpFoto" descr="Afb 1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shpFoto" descr="Afb 2.png"/>
          <p:cNvPicPr/>
          <p:nvPr/>
        </p:nvPicPr>
        <p:blipFill>
          <a:blip r:embed="rId2"/>
          <a:stretch/>
        </p:blipFill>
        <p:spPr>
          <a:xfrm>
            <a:off x="0" y="0"/>
            <a:ext cx="4573440" cy="6862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237B-F585-4ED5-A6A7-93BC5FEA035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hpKleurvlak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shpFoto" descr="Afb_inhoud.png"/>
          <p:cNvPicPr/>
          <p:nvPr/>
        </p:nvPicPr>
        <p:blipFill>
          <a:blip r:embed="rId2"/>
          <a:stretch/>
        </p:blipFill>
        <p:spPr>
          <a:xfrm>
            <a:off x="0" y="0"/>
            <a:ext cx="4572000" cy="6873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Logo Powerpoint 2"/>
          <p:cNvPicPr/>
          <p:nvPr/>
        </p:nvPicPr>
        <p:blipFill>
          <a:blip r:embed="rId3"/>
          <a:stretch/>
        </p:blipFill>
        <p:spPr>
          <a:xfrm>
            <a:off x="0" y="0"/>
            <a:ext cx="9144000" cy="20034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8"/>
          </p:nvPr>
        </p:nvSpPr>
        <p:spPr>
          <a:xfrm>
            <a:off x="4928760" y="6380280"/>
            <a:ext cx="37148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B923-36CB-40A3-9531-1CC84AE5891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hpKleurvlakOnder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shpTekst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9a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shpDatum" descr="RO__vervolgpagina~LPPT.png"/>
          <p:cNvPicPr/>
          <p:nvPr/>
        </p:nvPicPr>
        <p:blipFill>
          <a:blip r:embed="rId2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9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8C32-6EF2-430B-9801-2D088743B7D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0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1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3E93-A630-4B41-BD2D-872B751FE0C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00079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2"/>
          </p:nvPr>
        </p:nvSpPr>
        <p:spPr>
          <a:xfrm>
            <a:off x="4482720" y="6538680"/>
            <a:ext cx="4156200" cy="3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84A8-593B-4028-9EC7-F49FA013335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3"/>
          </p:nvPr>
        </p:nvSpPr>
        <p:spPr>
          <a:xfrm>
            <a:off x="4476240" y="6368760"/>
            <a:ext cx="41641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rojectdirectie Voortijdig Schoolverlate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4"/>
          </p:nvPr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4889-B94F-477F-B1C2-E5B8F4089C3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ijdelijke aanduiding voor voettekst 1"/>
          <p:cNvSpPr/>
          <p:nvPr/>
        </p:nvSpPr>
        <p:spPr>
          <a:xfrm>
            <a:off x="1727280" y="5937120"/>
            <a:ext cx="36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Projectdirectie Voortijdig Schoolverlate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OCWTalent"/>
              </a:rPr>
              <a:t>www.aanvalopschooluitval.n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ijdelijke aanduiding voor dianummer 2"/>
          <p:cNvSpPr/>
          <p:nvPr/>
        </p:nvSpPr>
        <p:spPr>
          <a:xfrm>
            <a:off x="685800" y="5937120"/>
            <a:ext cx="914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0715-AB93-492C-8199-B30D65E16A3A}" type="slidenum">
              <a:rPr b="0" lang="en-US" sz="1200" spc="-1" strike="noStrike">
                <a:solidFill>
                  <a:srgbClr val="000000"/>
                </a:solidFill>
                <a:latin typeface="OCWTale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Afbeelding 4" descr="suzan.jpg"/>
          <p:cNvPicPr/>
          <p:nvPr/>
        </p:nvPicPr>
        <p:blipFill>
          <a:blip r:embed="rId1"/>
          <a:stretch/>
        </p:blipFill>
        <p:spPr>
          <a:xfrm>
            <a:off x="0" y="3344760"/>
            <a:ext cx="4576680" cy="351324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8"/>
          <p:cNvSpPr/>
          <p:nvPr/>
        </p:nvSpPr>
        <p:spPr>
          <a:xfrm>
            <a:off x="4594320" y="1757520"/>
            <a:ext cx="454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Blitz on dropouts</a:t>
            </a:r>
            <a:br>
              <a:rPr sz="19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Marja van Bijsterveldt-Vliegenthart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State Secretary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of Education, Culture and Scienc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Brussels, 9 July 2010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100" spc="-1" strike="noStrike">
                <a:solidFill>
                  <a:srgbClr val="900079"/>
                </a:solidFill>
                <a:latin typeface="Verdana"/>
              </a:rPr>
              <a:t>The Golden Triangle</a:t>
            </a:r>
            <a:r>
              <a:rPr b="1" lang="nl-NL" sz="20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69360" y="2073240"/>
            <a:ext cx="78584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gover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municip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sch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All working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Agreements with schools and local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In 39 regions for the period 2008-2011 (convenants)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86DB-5F89-48E9-9D3C-BCA4C2D93C5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FECFBE-40DA-47B2-BBF8-0BB8D20BA3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Oval 3"/>
          <p:cNvSpPr/>
          <p:nvPr/>
        </p:nvSpPr>
        <p:spPr>
          <a:xfrm>
            <a:off x="6145200" y="4089240"/>
            <a:ext cx="1689120" cy="16066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Oval 4"/>
          <p:cNvSpPr/>
          <p:nvPr/>
        </p:nvSpPr>
        <p:spPr>
          <a:xfrm>
            <a:off x="1187280" y="4203720"/>
            <a:ext cx="1776600" cy="153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3911760" y="1701720"/>
            <a:ext cx="1511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Text Box 6"/>
          <p:cNvSpPr/>
          <p:nvPr/>
        </p:nvSpPr>
        <p:spPr>
          <a:xfrm rot="10800000">
            <a:off x="6411960" y="4691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162080" y="48625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16"/>
          <p:cNvSpPr/>
          <p:nvPr/>
        </p:nvSpPr>
        <p:spPr>
          <a:xfrm>
            <a:off x="5495760" y="2719440"/>
            <a:ext cx="103356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17"/>
          <p:cNvSpPr/>
          <p:nvPr/>
        </p:nvSpPr>
        <p:spPr>
          <a:xfrm flipH="1">
            <a:off x="2563920" y="2708280"/>
            <a:ext cx="1287360" cy="130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28"/>
          <p:cNvSpPr/>
          <p:nvPr/>
        </p:nvSpPr>
        <p:spPr>
          <a:xfrm>
            <a:off x="3171960" y="4941720"/>
            <a:ext cx="2678040" cy="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0B9991-7927-490B-9536-9C39BB3685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2"/>
          <p:cNvSpPr/>
          <p:nvPr/>
        </p:nvSpPr>
        <p:spPr>
          <a:xfrm>
            <a:off x="3635280" y="1125360"/>
            <a:ext cx="2016360" cy="1802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Oval 3"/>
          <p:cNvSpPr/>
          <p:nvPr/>
        </p:nvSpPr>
        <p:spPr>
          <a:xfrm>
            <a:off x="6372360" y="4365720"/>
            <a:ext cx="151272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Oval 4"/>
          <p:cNvSpPr/>
          <p:nvPr/>
        </p:nvSpPr>
        <p:spPr>
          <a:xfrm>
            <a:off x="1187280" y="4365720"/>
            <a:ext cx="1513080" cy="1368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3924360" y="1413000"/>
            <a:ext cx="15112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inistry of Edu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Directs the ‘Drive to reduce school drop-out rates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6"/>
          <p:cNvSpPr/>
          <p:nvPr/>
        </p:nvSpPr>
        <p:spPr>
          <a:xfrm rot="10800000">
            <a:off x="6300360" y="4652280"/>
            <a:ext cx="166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ary/pre- vocational secondary schoo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1187280" y="472428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unicipal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2916360" y="81288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ocial Affairs &amp; Employment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580000" y="1268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alth, Welfare &amp; Sport/ Youth &amp; Fami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724360" y="18446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651640" y="2349360"/>
            <a:ext cx="29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griculture, Nature &amp; Food Qua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3780000" y="29242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826920" y="1268280"/>
            <a:ext cx="28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ousing, Communities &amp; Integration</a:t>
            </a: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1619280" y="184464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Economic aff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1258920" y="2349360"/>
            <a:ext cx="23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Interior &amp; Kingdom Rel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16"/>
          <p:cNvSpPr/>
          <p:nvPr/>
        </p:nvSpPr>
        <p:spPr>
          <a:xfrm>
            <a:off x="5508720" y="2708280"/>
            <a:ext cx="1295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17"/>
          <p:cNvSpPr/>
          <p:nvPr/>
        </p:nvSpPr>
        <p:spPr>
          <a:xfrm flipH="1">
            <a:off x="2340000" y="2708280"/>
            <a:ext cx="151128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 Box 18"/>
          <p:cNvSpPr/>
          <p:nvPr/>
        </p:nvSpPr>
        <p:spPr>
          <a:xfrm>
            <a:off x="6300720" y="3213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 Box 19"/>
          <p:cNvSpPr/>
          <p:nvPr/>
        </p:nvSpPr>
        <p:spPr>
          <a:xfrm>
            <a:off x="826920" y="30686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000000"/>
                </a:solidFill>
                <a:latin typeface="Arial"/>
              </a:rPr>
              <a:t>Education Ministry mandates responsibilities (covenan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20"/>
          <p:cNvSpPr/>
          <p:nvPr/>
        </p:nvSpPr>
        <p:spPr>
          <a:xfrm>
            <a:off x="179280" y="3716280"/>
            <a:ext cx="8785440" cy="25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21"/>
          <p:cNvSpPr/>
          <p:nvPr/>
        </p:nvSpPr>
        <p:spPr>
          <a:xfrm>
            <a:off x="179280" y="3716280"/>
            <a:ext cx="87854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22"/>
          <p:cNvSpPr/>
          <p:nvPr/>
        </p:nvSpPr>
        <p:spPr>
          <a:xfrm>
            <a:off x="684360" y="3789360"/>
            <a:ext cx="81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unicipal Executive Councillors for education/youth policy/RMC municipalities (administrative coordination)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108000" y="4149720"/>
            <a:ext cx="252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Drop-out Registration and Coordination Centre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250920" y="400536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324000" y="4797360"/>
            <a:ext cx="8650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Work and Income/Employment and Assistance Act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324000" y="5950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Probation servic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2268360" y="5589720"/>
            <a:ext cx="17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Debt restructuring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28"/>
          <p:cNvSpPr/>
          <p:nvPr/>
        </p:nvSpPr>
        <p:spPr>
          <a:xfrm>
            <a:off x="2771640" y="4941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29"/>
          <p:cNvSpPr/>
          <p:nvPr/>
        </p:nvSpPr>
        <p:spPr>
          <a:xfrm>
            <a:off x="2700360" y="5084640"/>
            <a:ext cx="11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Housing corporat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2484360" y="4149720"/>
            <a:ext cx="13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School Attendance officer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3924360" y="429264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Urban Policy/Accre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3492360" y="458136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unicipalities Fund/own resourc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4716360" y="5157720"/>
            <a:ext cx="16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Regional Institute for Mental Health/Area Health Authority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5580000" y="429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Juvenile ca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7451640" y="566100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olice/Courts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7093080" y="414972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entre for Youth and Family</a:t>
            </a: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7956720" y="486900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38"/>
          <p:cNvSpPr/>
          <p:nvPr/>
        </p:nvSpPr>
        <p:spPr>
          <a:xfrm>
            <a:off x="2556000" y="5950080"/>
            <a:ext cx="71892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39"/>
          <p:cNvSpPr/>
          <p:nvPr/>
        </p:nvSpPr>
        <p:spPr>
          <a:xfrm flipH="1">
            <a:off x="5651640" y="5950080"/>
            <a:ext cx="720720" cy="57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2987640" y="638172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mployers/Employees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Golden triangle: </a:t>
            </a:r>
            <a:br>
              <a:rPr sz="2200"/>
            </a:br>
            <a:r>
              <a:rPr b="0" lang="en-US" sz="2200" spc="-1" strike="noStrike">
                <a:solidFill>
                  <a:srgbClr val="900079"/>
                </a:solidFill>
                <a:latin typeface="Verdana"/>
              </a:rPr>
              <a:t>Regional arrangements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919307-C409-452F-999E-AF5E76868B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494c5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ww.aanvalopschooluitval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2F09-58F5-463D-9D16-3BCDD5E518B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F0AD20-3B7D-4BC7-BCA7-D7DB2405A2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900079"/>
                </a:solidFill>
                <a:latin typeface="Arial"/>
              </a:rPr>
              <a:t>Agreements/Convenant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406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duce dropout rate with 10% every year until 2012’ (40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wn choice in methods to achieve objectives (menu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operation between municipality and school and other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ole of the gover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ure, no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ating, monitoring and evalu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33240" indent="-2253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e results in good practices and implement these in order to improve national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D3449D-FD07-4E37-8544-32F447A86F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Arial"/>
              </a:rPr>
              <a:t>What are we going to do in the future?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New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inuing current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thin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haring goo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ECD: contribution researc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Overcoming School Failure”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commendation on Early School Leavers, by the European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3A2CFC-0F45-4B60-AE38-515F485548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061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Introduction Early school leavers: objectives and key figures</a:t>
            </a:r>
            <a:r>
              <a:rPr b="0" lang="nl-NL" sz="22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12840" y="2111400"/>
            <a:ext cx="8061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isbon objective: reducing the number of early school-leavers between the ages of 18 and 24 from 15.5% in 2002 to approx. 10% in 2010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ional objective: reducing the number of early school-leavers : from 71.000 in 2002 (5,7%) to 35.000 in 2012 (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A36455-6582-400D-8662-4C02A56969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4ABD-5988-4DB0-AE3D-3F54B8BC7C6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1F98-A4DC-4FD8-AE9F-2E7C021B4D5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9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900079"/>
                </a:solidFill>
                <a:latin typeface="Verdana"/>
              </a:rPr>
              <a:t>The results (national objective)</a:t>
            </a:r>
            <a:endParaRPr b="0" lang="en-US" sz="2600" spc="-1" strike="noStrike">
              <a:solidFill>
                <a:srgbClr val="900079"/>
              </a:solidFill>
              <a:latin typeface="Arial"/>
            </a:endParaRPr>
          </a:p>
        </p:txBody>
      </p:sp>
      <p:graphicFrame>
        <p:nvGraphicFramePr>
          <p:cNvPr id="433" name="Object 3"/>
          <p:cNvGraphicFramePr/>
          <p:nvPr/>
        </p:nvGraphicFramePr>
        <p:xfrm>
          <a:off x="617400" y="2260440"/>
          <a:ext cx="7790040" cy="350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260440"/>
                    <a:ext cx="7790040" cy="35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9"/>
          <p:cNvSpPr/>
          <p:nvPr/>
        </p:nvSpPr>
        <p:spPr>
          <a:xfrm>
            <a:off x="3594240" y="51832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5232240" y="5199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F921A4-F413-433F-87E4-BCB9C377DB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6840" y="1233360"/>
            <a:ext cx="81691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Results in international </a:t>
            </a:r>
            <a:br>
              <a:rPr sz="2300"/>
            </a:br>
            <a:r>
              <a:rPr b="1" lang="en-US" sz="2300" spc="-1" strike="noStrike">
                <a:solidFill>
                  <a:srgbClr val="900079"/>
                </a:solidFill>
                <a:latin typeface="Arial"/>
              </a:rPr>
              <a:t>perspectiv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pout rate in 2008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: 15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L: 11.4 %</a:t>
            </a:r>
            <a:br>
              <a:rPr sz="1800"/>
            </a:br>
            <a:br>
              <a:rPr sz="18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source: Eurostat, 2009)</a:t>
            </a:r>
            <a:br>
              <a:rPr sz="1800"/>
            </a:br>
            <a:br>
              <a:rPr sz="1800"/>
            </a:br>
            <a:endParaRPr b="0" lang="en-US" sz="13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6840" y="1798560"/>
            <a:ext cx="400824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1D33-5DBE-4E4F-8649-5C4BBAEF25D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shpPagina" descr=""/>
          <p:cNvPicPr/>
          <p:nvPr/>
        </p:nvPicPr>
        <p:blipFill>
          <a:blip r:embed="rId1"/>
          <a:stretch/>
        </p:blipFill>
        <p:spPr>
          <a:xfrm>
            <a:off x="4307040" y="-222120"/>
            <a:ext cx="4662360" cy="73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9D0163-CAB9-45AD-9F11-9B57595C0F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71440" y="985680"/>
            <a:ext cx="816912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900079"/>
                </a:solidFill>
                <a:latin typeface="Verdana"/>
              </a:rPr>
              <a:t>Know the Numbers 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538280"/>
            <a:ext cx="81691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tter registration, better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Introduction of ‘Education Number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-25236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roduction of ‘Digital Count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046576-14F6-4F9D-8208-09975ED425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hpBeeldmerk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DA88-6A54-44DA-A46A-0309257571E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66480" y="1233360"/>
            <a:ext cx="85611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00079"/>
                </a:solidFill>
                <a:latin typeface="Verdana"/>
              </a:rPr>
              <a:t>Policies and Programs</a:t>
            </a:r>
            <a:endParaRPr b="0" lang="en-US" sz="28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2240" y="1716120"/>
            <a:ext cx="857556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transition from pre-vocational to vocational education (VMBO – M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More scope for ‘practical-oriented student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Better career orientation and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ppealing education, with sports and cul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.000 APL-programmes and agreement with large emplo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re and better care at school</a:t>
            </a: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E32704-EB78-4D32-B453-16B8E36383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66840" y="1233000"/>
            <a:ext cx="3681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Focus on municipalities </a:t>
            </a:r>
            <a:br>
              <a:rPr sz="2400"/>
            </a:br>
            <a:r>
              <a:rPr b="1" lang="en-GB" sz="2400" spc="-1" strike="noStrike">
                <a:solidFill>
                  <a:srgbClr val="900079"/>
                </a:solidFill>
                <a:latin typeface="Verdana"/>
              </a:rPr>
              <a:t>in the Netherlands</a:t>
            </a:r>
            <a:endParaRPr b="0" lang="en-US" sz="24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48" name="Picture 7" descr="C:\Users\Loesje\Desktop\vsv0809_gem1Eng.jpg"/>
          <p:cNvPicPr/>
          <p:nvPr/>
        </p:nvPicPr>
        <p:blipFill>
          <a:blip r:embed="rId1"/>
          <a:stretch/>
        </p:blipFill>
        <p:spPr>
          <a:xfrm>
            <a:off x="4289400" y="0"/>
            <a:ext cx="4854600" cy="687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A0A61E-8FE1-4052-BC6B-8C6A095477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4"/>
          <p:cNvSpPr/>
          <p:nvPr/>
        </p:nvSpPr>
        <p:spPr>
          <a:xfrm>
            <a:off x="4476600" y="6369120"/>
            <a:ext cx="41641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26520" y="1245960"/>
            <a:ext cx="4016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Focus on the </a:t>
            </a:r>
            <a:br>
              <a:rPr sz="2300"/>
            </a:br>
            <a:r>
              <a:rPr b="1" lang="en-GB" sz="2300" spc="-1" strike="noStrike">
                <a:solidFill>
                  <a:srgbClr val="900079"/>
                </a:solidFill>
                <a:latin typeface="Verdana"/>
              </a:rPr>
              <a:t>municipality of Amsterdam</a:t>
            </a:r>
            <a:r>
              <a:rPr b="0" lang="nl-NL" sz="2300" spc="-1" strike="noStrike">
                <a:solidFill>
                  <a:srgbClr val="900079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900079"/>
              </a:solidFill>
              <a:latin typeface="Arial"/>
            </a:endParaRPr>
          </a:p>
        </p:txBody>
      </p:sp>
      <p:pic>
        <p:nvPicPr>
          <p:cNvPr id="451" name="Picture 7" descr="C:\Users\Loesje\Desktop\vsv0809_Amsterdam[1].jpg"/>
          <p:cNvPicPr/>
          <p:nvPr/>
        </p:nvPicPr>
        <p:blipFill>
          <a:blip r:embed="rId1"/>
          <a:stretch/>
        </p:blipFill>
        <p:spPr>
          <a:xfrm>
            <a:off x="2482920" y="1968480"/>
            <a:ext cx="6661080" cy="488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EF2B98-E12E-41B4-B3C3-04C6BAF805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67920" y="1233360"/>
            <a:ext cx="7846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00079"/>
                </a:solidFill>
                <a:latin typeface="Verdana"/>
              </a:rPr>
              <a:t>Monitoring and evaluation arrangements</a:t>
            </a:r>
            <a:r>
              <a:rPr b="0" lang="en-US" sz="2200" spc="-1" strike="noStrike">
                <a:solidFill>
                  <a:srgbClr val="2494c5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900079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69360" y="1798200"/>
            <a:ext cx="78584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 effects with facts and figures: naming, shaming and f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idence based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verall design to measure th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7360" y="6362640"/>
            <a:ext cx="712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2594-ADFA-4A26-9808-516E3E5C630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AF4398-1CE4-4425-9258-B7639EE337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8:56:33Z</dcterms:created>
  <dc:creator>Liselore Verschuren</dc:creator>
  <dc:description/>
  <dc:language>en-US</dc:language>
  <cp:lastModifiedBy>o011hou</cp:lastModifiedBy>
  <dcterms:modified xsi:type="dcterms:W3CDTF">2010-07-07T16:31:16Z</dcterms:modified>
  <cp:revision>129</cp:revision>
  <dc:subject/>
  <dc:title>Di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37471163</vt:r8>
  </property>
  <property fmtid="{D5CDD505-2E9C-101B-9397-08002B2CF9AE}" pid="3" name="_AuthorEmail">
    <vt:lpwstr>education@mci-group.com</vt:lpwstr>
  </property>
  <property fmtid="{D5CDD505-2E9C-101B-9397-08002B2CF9AE}" pid="4" name="_AuthorEmailDisplayName">
    <vt:lpwstr>MCI Education</vt:lpwstr>
  </property>
  <property fmtid="{D5CDD505-2E9C-101B-9397-08002B2CF9AE}" pid="5" name="_EmailSubject">
    <vt:lpwstr>présentation</vt:lpwstr>
  </property>
  <property fmtid="{D5CDD505-2E9C-101B-9397-08002B2CF9AE}" pid="6" name="_NewReviewCycle">
    <vt:lpwstr/>
  </property>
</Properties>
</file>