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2497-2995-4D39-88AF-A658F596E8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1582-EBCD-43E8-939A-D2E0D495C0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AFE8-1FF9-404B-B4FD-7156365E3E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8CA-CAB2-4B36-9FE9-9C8E87C2EA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CEDC-51FB-4D05-AD43-1D1E8A0B25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126F-AA3D-404D-9C87-5396C3BC54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64D-6EAB-4578-AF52-56317F4DD3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64CC-A139-4BC8-B480-8D59C69286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2C9D-1B5C-4ED0-BC4B-72032CAE0C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6FB-E1A8-4C89-82B7-1F94CC5841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2EE9-1BA8-4706-B91B-2444C86FB4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69E-59CD-4759-B112-6929BD9D85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46B-F872-493D-9A5B-2502401257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55A-2C5C-42E6-B551-8DD950D1A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AA01-0DF9-4232-B3CD-E37FADC98A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BD3D-1CCD-47CF-9264-5606C75068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8DF8-0F4C-4B1B-95A9-22EE23CD3C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FF08-46E7-4E69-AE26-B3FB321A4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3031-663A-4C97-9B9E-D412FFA574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46C-D2C7-484A-B714-2C05FCA7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303-BBBE-483D-B6F3-E560E5FB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314-CEC5-4A2E-8D1C-53827B15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881-9B7D-4F12-9552-C4AD24E4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D0C-EA93-4C10-92CB-69AE9692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4A1-FEFD-4865-9F80-49EC99F6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C59-2743-4A48-9E6A-CD9AA7B6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5EC-5BF3-453D-8CB2-F4A11B7B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5BB-3391-47F6-B8EA-16DA889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8B2-1A87-4A20-BFAF-5AAD0D0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9EC-1951-42AE-A28B-80FFBFA0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647-0FA8-4273-AA4D-9CEE6B4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AAA-FF1C-4580-B0D7-5034B917BFF3}" type="slidenum">
              <a:rPr b="0" lang="fr-FR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21416400">
            <a:off x="1294920" y="99000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a logique de la compétence en éducation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urquoi? Comment?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elques considérations en marge de l’évaluation des compé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52120" y="35049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 concept impor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 utilisé en psychologie cog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Optima ExtraBlack"/>
                <a:ea typeface="ＭＳ Ｐゴシック"/>
              </a:rPr>
              <a:t>Un concept pertinen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Définition de la compét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Une compétence est la capacité de mobiliser des ressources (internes </a:t>
            </a:r>
            <a:r>
              <a:rPr b="0" i="1" lang="en-US" sz="32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et</a:t>
            </a: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 externes)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implique l’intégration (ou la mise en relation) de diverses connaissance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Elle s’applique à une famille de situations.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Les situations sont complexes (et inédites)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80988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iter les savoirs morts, les connaissances iner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800" spc="-1" strike="noStrike">
                <a:solidFill>
                  <a:srgbClr val="898989"/>
                </a:solidFill>
                <a:latin typeface="Calibri"/>
              </a:rPr>
              <a:t>Un vrai problème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1294920"/>
            <a:ext cx="6248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notion de compétence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= </a:t>
            </a:r>
            <a:br>
              <a:rPr sz="6600"/>
            </a:b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LA solutio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urquoi ce concep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gag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Qu’est-ce qu’on p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nckart et Dolz (19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8960" y="22856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82680" indent="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ns verser dans le purisme conceptuel, il nous paraît évident qu’on ne peut raisonnablement « penser » la problématique de la formation en usant d’un terme qui finit par désigner tous les aspects de ce que l’on appelait autrefois les « fonctions psychologiques supérieures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82680" indent="144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étence = Intelligenc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En résum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294920"/>
            <a:ext cx="7162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problématique de la mobilisation en situation des ressources cognitives du sujet pose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un vrai problè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à la recherche psychopédagogique, mais il n’est pas sûr que la notion de compétence lui apporte une solution posit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vrai problème, car il faut lutter contre les savoirs morts, les connaissances inert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is ne risque-t-on pas de précipiter le monde pédagogique dans une illusion simplificatrice dont il risque d’être difficile de le sorti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A la recherche d’équilib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Quelle conception de l’expert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extes politico-pédag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aire face à des situations inéd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éativ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ransf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sychologie 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’expertise suppose la mobilisation à bon escient d’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automatis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t de connaissances discipli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 contrôle métacognitif de l’exéc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ux catégories de situation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ergnaud, 199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les plus fréquentes) pour lesquelles le sujet dispose, à un moment donné de son développement et sous certaines circonstances, des ressources cognitives nécessaires au traitement relativement immédiat de la situ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lles (= situation de crise) pour lesquelles le sujet ne dispose pas de toutes les ressources nécessaires ; cela oblige à un temps d’exploration, de réflexion, d’hésitations ainsi qu’à des tentatives avortées et le conduit parfois à la réussite, parfois à l’éch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mmai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urquoi l’approche par compétences aujourd’hu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jeux pédagogiques de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concept de compétences : un statut scientifique ambi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a recherche d’équilib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et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formative et résolutions de problèmes complex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évaluation sommative des compét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236400">
            <a:off x="457200" y="20574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L’évaluation scolaire doit-elle juger la capacité des élèves à « réussir » dans des situations </a:t>
            </a:r>
            <a:r>
              <a:rPr b="0" lang="fr-FR" sz="4800" spc="-1" strike="noStrike" u="sng">
                <a:solidFill>
                  <a:srgbClr val="000000"/>
                </a:solidFill>
                <a:uFillTx/>
                <a:latin typeface="Chalkboard Bold"/>
                <a:ea typeface="ＭＳ Ｐゴシック"/>
              </a:rPr>
              <a:t>inédites</a:t>
            </a:r>
            <a:r>
              <a:rPr b="0" lang="fr-FR" sz="4800" spc="-1" strike="noStrike">
                <a:solidFill>
                  <a:srgbClr val="000000"/>
                </a:solidFill>
                <a:latin typeface="Chalkboard Bold"/>
                <a:ea typeface="ＭＳ Ｐゴシック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alibri"/>
              </a:rPr>
              <a:t>Situations inédites = situations exceptionnel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20040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faire de l’exceptionnel la norme de la vraie compétence 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Times New Roman"/>
              </a:rPr>
              <a:t>Pourquoi évaluer les élèves dans des situations qui ne se reproduiront pas nécessairement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isques de dér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s l’approche par compétence,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es savoirs deviennent des moyens à mobiliser pour ag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dans des situations inéd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Espace réservé du contenu 3" descr=""/>
          <p:cNvPicPr/>
          <p:nvPr/>
        </p:nvPicPr>
        <p:blipFill>
          <a:blip r:embed="rId1"/>
          <a:stretch/>
        </p:blipFill>
        <p:spPr>
          <a:xfrm>
            <a:off x="4645080" y="1596960"/>
            <a:ext cx="4048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ÉUSSIR ET COMPREND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dosa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Quel équilib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 complexe et l’iné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Deux problématiques pédagogiques différ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inédit =&gt; un problème de flexibilité cog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520" y="38095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montage cognitif complexe n’est pas nécessairement iné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solution inédite ne requiert pas toujours un montage cognitif comple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520" y="137124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’action pédagogique ==&gt; des questions d’équilib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514600"/>
          <a:ext cx="815328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815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et « compétences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formative et résolution de problèmes complex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échec »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peut résult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incompréhension du problème posé (représentation du problè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non maîtrise des connaissances, stratégies et/ou automatismes requi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availability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« incapacité » à mobiliser des connaissances, stratégies et/ou automatismes maîtrisés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roduction deficiencie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 manque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uenc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es automati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’une surcharge cogn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évaluation sommative des compé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solutions inédi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« situations » exigeant des montages cognitifs complex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en de questions ciblant les automatism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 questions portant sur la compréhension des procédures/stratégies mises en œuv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77724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Pourquoi l’approche par compétences, aujourd’hu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333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ne mise en perspective soc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usgrove (196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ut curriculum est une construction soci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e produit de transactions sociales, souvent conflictuelles, entre groupes professionnels et/ou groupes de pression, souvent oppos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ux-ci usent d’argumentation scientifique pour résoudre leurs rapports de fo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Bourque &amp; Frénette (1970), Dandurand (1990), Mellouki (1989), Lenoir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22096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nsformation de l’école s’oriente dans une direction polarisée par la productivité et le développement économ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 mouvement culmine dans l’approche par compé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lle-ci imprime une orientation pragmatique et instrumentale aux program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avoir doit êtr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UT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 influence de l’utilitarisme anglo-saxon &gt;&lt; humanisme européen (Lenoir, 2005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u niveau de la Commission Européen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2, Traite de Maastric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3, Livre blanc sur la compétitivité des entre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995, Livre blanc « 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Enseigner &amp; apprendre: vers la société cognitiv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 (sous la direction de Jean-Louis Reif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« </a:t>
            </a: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Enseigner &amp; apprendre: vers la société cognitive</a:t>
            </a:r>
            <a:r>
              <a:rPr b="1" lang="en-US" sz="4000" spc="-1" strike="noStrike">
                <a:solidFill>
                  <a:srgbClr val="008000"/>
                </a:solidFill>
                <a:latin typeface="Calibri"/>
              </a:rPr>
              <a:t> 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 connaissances de base constituent le socle sur lequel se construit l’aptitude individuelle à l’emplo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» (p. 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ans l’éducation de base, il convient de trouver un bon équilibre entre l’acquisition des savoirs et </a:t>
            </a:r>
            <a:r>
              <a:rPr b="0" i="1" lang="en-US" sz="4400" spc="-1" strike="noStrike">
                <a:solidFill>
                  <a:srgbClr val="1f497d"/>
                </a:solidFill>
                <a:latin typeface="Calibri"/>
              </a:rPr>
              <a:t>les compétence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méthodologiques qui permettent d’apprendre soi-même. Ce sont celles-ci qu’il convient aujourd’hui de développer »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p. 16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44792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 livre blanc de 1995 redéfinit les rapports entre l’entreprise et l’éc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43000" y="3359160"/>
            <a:ext cx="7315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que de l’école (= facteur d’exclusion par l’échec scolai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arition de notions nouvel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réditation/validation des acquis: les entreprises pourront reconnaître les compéte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Compét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abil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es enjeux pédagogiques de l’approche par compé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 notion de compétences institue un nouveau rapport de l’école aux sa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curriculums ne sont plus construits sur une base disciplina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savoirs n’ont plus de valeur en soi; il leur faut être utilitaire; ces sont des moyens pour agir efficac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uprématie de l’utilitarisme nord-américain par à l’humanisme européen (Lenoir,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 monde pédagogique est divisé en croyants et non-croy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7:20:10Z</dcterms:created>
  <dc:creator>Marcel Crahay</dc:creator>
  <dc:description/>
  <dc:language>en-US</dc:language>
  <cp:lastModifiedBy>Admin</cp:lastModifiedBy>
  <dcterms:modified xsi:type="dcterms:W3CDTF">2010-07-08T06:21:49Z</dcterms:modified>
  <cp:revision>34</cp:revision>
  <dc:subject/>
  <dc:title>Les compétences professionnelles et le curriculum: des réalités conciliable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7850825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