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8BD5C-29A1-4E60-BEF9-0946EFCC4C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E3177E-6EA7-408F-BC76-D4B457BC0E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D9C2681-285F-42F4-9A20-662C50780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33FFE28-8EE2-431C-A568-344F1138AA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FF225-0001-4B80-A67A-BBF4328BB2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75D02-6029-474E-92AA-ACB95BF9E3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B39A23-9BD3-4D0E-9A53-09C7F33CC0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CD5333-4E74-48AA-AA7D-C18FD384C4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7385001-6D31-4422-9CCA-F137D65ED7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5A3A99-E8F3-4A9E-93F9-D0405B1EAB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ED5A6C-B34F-4537-9C92-DE70A18B5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5CBF1A-7677-4633-80B8-18A9452D7E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3B2D-1F04-4FF9-A841-7C022FB0ED91}"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207A4-0A23-4E12-B176-9675555E69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5C077C0-7BE5-492E-B375-DCDF250702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7F931-5B0F-441D-9F56-DDF64B83087F}"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A032D0FF-6A25-4FCB-9C44-2F5F6FCF65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88242-3172-47EE-BCC0-2797FA1163C3}"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3C833-A002-4F26-B820-56E436C65E53}"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959B7F-7A05-48AB-B75C-6FDFEE446EE3}"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30D0A-8B92-4322-8CF0-0F4E54114A04}"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6DD5D55-E418-4B4C-A496-8871CA680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C12BD1-A9AE-4452-92A5-5DE4DE26510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7F310-8695-41EB-9F27-6CF49F60F13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F900B3-89D3-43A5-99C4-731281CA14BC}"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BD3A7-8D6F-4F1D-AAD3-9D821B8772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B6D76972-6A4E-40D6-95EF-6C594CC3FB0D}"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6BE59-3A8D-4F3D-BDA1-247277D272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384C9-52BE-427F-88A3-2CD566B9DD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827466C4-B289-4331-9635-97AE040DC9C1}"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E22373D9-C5CA-475C-89F6-2954BBB551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9371073</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présentation</vt:lpwstr>
  </property>
  <property fmtid="{D5CDD505-2E9C-101B-9397-08002B2CF9AE}" pid="6" name="_NewReviewCycle">
    <vt:lpwstr/>
  </property>
</Properties>
</file>