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7E33C-0DB8-41BF-9D0F-9045C89B7D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35C004-97EA-4952-9C0D-FB4B39A597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EEF2A7-D577-463F-B19D-41C125F767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6C5C0E-736D-422D-A1B7-DCCE8DDFE7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193DA-3738-46B0-8B1C-752D80276A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E702F-23CA-41A9-A677-5E2EE12A11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7C866F-6DF7-445B-BBFD-CBBFAE12CF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635CA9-DDA9-4854-BE85-1889AA762D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487F2CF-D356-4805-B58B-2A8A1EC57D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462C0E-0237-4A6E-91A8-B495BBCE0C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B513B9-321F-41AA-9A12-5BF10BF157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CF53B7-7534-46A9-97EC-73D801698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20F2-BEF6-4910-A567-7D70CBC1CF2A}"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AB331-C4FF-4C9B-A98E-630F15136F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9EA125E-7C7C-42EE-82B1-1C15711873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C9823-9959-48A5-AC00-434826786CB6}"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75818BE4-F091-4B83-B52F-725B556448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A5235-3FBD-46AE-BF4B-6AABF628F561}"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B5E05-6D6B-4A2B-8866-2DEBE7ED611C}"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637A405-CF98-4D70-B8FB-36C8850E46A7}"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B5504-292F-42D7-954A-D5D6C772DB50}"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F0FB085-BAD3-47F7-9E27-FD94D7BB8C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C4B4AF-C8CE-4091-8B49-2B7270B8DD24}"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141DD-7785-467B-9817-C61D8A34725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0668E36-55C3-4331-B9D8-AA3340464F49}"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92C85-C6F5-49F2-9F54-347F1E6A60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322AFD14-0907-4533-97E1-38587B953BB6}"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0BF25-F964-4998-8125-B24E60906D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B19BB-AE2B-4FBD-8998-6BDD6A90F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28DFC2B7-87FF-4DBB-8F41-683E09D2B9BC}"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20B07E9F-1741-411B-9FA5-4E6BE12E2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9371073</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présentation</vt:lpwstr>
  </property>
  <property fmtid="{D5CDD505-2E9C-101B-9397-08002B2CF9AE}" pid="6" name="_NewReviewCycle">
    <vt:lpwstr/>
  </property>
</Properties>
</file>