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FCC-2172-491D-9D6F-FA5BB548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180-6036-4081-8BF6-A93776CC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535-54A4-418B-8867-00154894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C57-022D-4A37-AF5C-8EFBCB0B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039-87B7-4E60-BEE1-7320994D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19E51-3E1C-4883-AA05-352D7456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DFAA1-4304-494F-B221-853A6F23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6FB00-A026-4528-85C1-86296FE9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6A5D6-8F90-4B1B-8A17-A1CBA785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7A582-E267-4634-B35D-2DCB1CD6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E10-CAD4-462B-BFF9-680551A9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C44A3-DC84-4D05-8DC1-A41B4689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81212-372E-4EE2-A3D9-3A50DC9F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33C2E-2A89-428A-AACB-F26C02FC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CF960-598D-4FB4-8583-C3200FD7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37DEA-E2DE-4AA8-A88E-02086C52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21BE6-2531-4C15-941A-1D72A232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14B4A-8009-4231-8547-393D13F1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F060-415B-4BAA-8A65-B074671F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A48-23FF-44D0-A88D-DD9FFB64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9C7-A58E-4FC4-8976-2960B811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159-0F0A-485A-951D-12BD7FFF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2FE-59AC-4C13-80F7-1AE26620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239-4309-4839-ADF2-A9A84674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4800" y="6143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0D5E-B3B3-42FD-A7EC-646781F7FAC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57BC-4CB0-4044-A4AC-322428ADC3C2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740640" y="6089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EE7B-13FA-4B3C-ABFB-14C6E96C764B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1780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abandon scolaire précoce en Hongr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éminaire des Ministres de l’Enseignement obliga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ruxelles, 9 Juillet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ózsa Hoffmann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ecrétaire d’État chargée de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Éducation Nat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importance de la réduction du taux d’abandon scolaire préco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expansion de l’é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probl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me des analphabètes fonc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importance de la réduction du taux d’abandon scolaire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-  du point de vue économiq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un moyen important de la lutte contre la crise économique 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 le développement du capital humain, l’obtention d’u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qualification co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rme au marché du travail, l’amélioration de l’empol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u point de vue socia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réussite personnelle des individus, l’amélioration de la qualité de la vie huma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</a:rPr>
              <a:t>Les causes de l’abandon scolaire préco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auvreté, la situation défavorisée et le milieu socioculturel bas qui en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o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désavantager la culture et le savoir par rapport aux biens matéri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 nécessité de gagner de l’argent plus tô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manque de motivation à l’é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hômage de longue durée des 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insuffisances structurelles, territoriales du système scol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aractère inintéressant des contenus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ransmi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par l’éc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caractère inadapté des méthodes d’enseign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erte du prestige des pédagog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problèmes de santé, mentaux ou d’autres problèmes des enfa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choisir trop tôt un compagnon/une compag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1280880"/>
            <a:ext cx="78102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Données statistiques</a:t>
            </a:r>
            <a:br>
              <a:rPr sz="2800"/>
            </a:br>
            <a:br>
              <a:rPr sz="2800"/>
            </a:b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Le taux d’abandon scolaire 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2920" y="2637000"/>
          <a:ext cx="7201080" cy="1295280"/>
        </p:xfrm>
        <a:graphic>
          <a:graphicData uri="http://schemas.openxmlformats.org/drawingml/2006/table">
            <a:tbl>
              <a:tblPr/>
              <a:tblGrid>
                <a:gridCol w="1657440"/>
                <a:gridCol w="3095640"/>
                <a:gridCol w="244800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 européen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42920" y="4797360"/>
          <a:ext cx="7315200" cy="1457280"/>
        </p:xfrm>
        <a:graphic>
          <a:graphicData uri="http://schemas.openxmlformats.org/drawingml/2006/table">
            <a:tbl>
              <a:tblPr/>
              <a:tblGrid>
                <a:gridCol w="1657440"/>
                <a:gridCol w="2016000"/>
                <a:gridCol w="1824120"/>
                <a:gridCol w="181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84360" y="4292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Particip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-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mater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’admission obligatoire des enfants défavorisé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L’a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gmentation du nombre de places dans les écoles maternelles, aide à la scolarisation à l’école maternelle, repas gratuits à l’école maternelle, possibilité d’organiser une école maternelle/crèche intégrée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Cours individuels pour assurer le rattrapage des é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en ret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et introduction des méthodes d’enseignement intégr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aboration des programmes de formation et d’enseignement et des méthodologies d’enseignement, diffusion des bonnes pra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éation d’un réseau de soutien professionn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ciblés – Programme « Arany János » : programme de collège et d’école d’apprentissage pour les élèves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souffrant de désavantages multiples,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de type « seconde chance », aides au repas et à l’achat de livres scol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–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ns le cas d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fants ayant des besoins pédagogiques spécifique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développement du contenu, aides cibl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nouveau gouvernement envisage d’élaborer et mettre en place dans l’ensemble du systèm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un modèle complexe de contrôle et d’appréciation professionnel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extérieur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ans l’enseignement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mélioration du niveau et de l’efficacité de l’apprenti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profession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ssibilité de participer dans l’éducation de rattrapage pour ceux qui n’ont pa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achevé l’école prim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Programmes et bonnes pratiques </a:t>
            </a:r>
            <a:br>
              <a:rPr sz="2400"/>
            </a:b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visa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à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éduire l’abandon scolaire préc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gramme Internats – Écoles Professionnelles Arany János pour élèves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multipl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prog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outenu par une orientation professionnell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coopération entre enseignants et parents et l’institution éducative, un environnement d’enseignement inclus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anod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ervices extrascolaires aux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et de désavantages multiple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les classes supérieures de l’école primaire, au collège et au lyc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de développement des écoles professionnelles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: Renouvellement de l’enseignement du savoir général e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: Méthodolgie de l’enseignemen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: Réintégration des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désavantag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+ enseignement de langues, mesure et évaluation des écoles professionnelles, orientation professionnelle, informatiq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ff"/>
                </a:solidFill>
                <a:latin typeface="Times New Roman"/>
              </a:rPr>
              <a:t>Merci pour votre attention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3:49:13Z</dcterms:created>
  <dc:creator>Kori</dc:creator>
  <dc:description/>
  <dc:language>en-US</dc:language>
  <cp:lastModifiedBy>demeterd</cp:lastModifiedBy>
  <dcterms:modified xsi:type="dcterms:W3CDTF">2010-07-07T09:25:01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0732215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