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65D-93B2-41B0-8517-800A15EE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7C7-C9D8-40A6-9C2C-27FDDA54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47D-94B5-4331-A901-D08E7531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C70-579C-4259-96D7-CA5E27D1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E053-AA0D-4E32-A7B4-E8520C71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E0E56-A03D-468C-877E-ADEB194A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F78D6-D43F-4265-B80F-D31BC580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5CE0D-0109-468D-B59F-1EBD1C82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F009D-66A9-4D96-A898-AC3D0022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AD3BB-8DA0-4AE5-9055-EBDC24F7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4AE-2DD0-4379-AB1C-2A2D39B5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AEF16-3FFD-4774-AFC9-2ABD29FB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4D689-AAA9-4488-A4A6-2CCD424A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D4A7D-8799-4073-A8B9-8918CAEF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F3090-C1D1-46F7-9F01-8347669F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970E8-0A1C-4DBD-94B1-EFBCADCE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989C5-0BCF-4729-B180-3E6C5EA0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4A839-7834-48FC-9BD2-48B5DD06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1F2-45EA-43CE-BB99-05F601CF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87E-8881-4C27-BF5B-8351FA71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9D0-6804-4504-AF7F-077186F1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499-9BA2-48FA-A4F8-E7854B8F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29E-837B-42DC-BDD5-515309E3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A42-164D-4448-8DBA-79D79FFF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24800" y="6143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E77E-D570-4F68-AF18-B85AC2C1305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8728-27F5-434C-856D-8420E92B0FC6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6740640" y="6089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8BAF-96B5-4B70-8E29-0A6825D998F3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1780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abandon scolaire précoce en Hongr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076640"/>
            <a:ext cx="6400800" cy="20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éminaire des Ministres de l’Enseignement obliga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ruxelles, 9 Juillet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Rózsa Hoffmann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ecrétaire d’État chargée de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Éducation Natio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importance de la réduction du taux d’abandon scolaire préco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expansion de l’é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e probl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me des analphabètes fonctionn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importance de la réduction du taux d’abandon scolaire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-  du point de vue économiq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un moyen important de la lutte contre la crise économique 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 le développement du capital humain, l’obtention d’u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qualification co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rme au marché du travail, l’amélioration de l’empol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u point de vue socia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 réussite personnelle des individus, l’amélioration de la qualité de la vie huma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</a:rPr>
              <a:t>Les causes de l’abandon scolaire préco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auvreté, la situation défavorisée et le milieu socioculturel bas qui en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o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désavantager la culture et le savoir par rapport aux biens matéri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 nécessité de gagner de l’argent plus tô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manque de motivation à l’é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hômage de longue durée des pa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insuffisances structurelles, territoriales du système scol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aractère inintéressant des contenus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ransmi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par l’éc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caractère inadapté des méthodes d’enseign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erte du prestige des pédagog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problèmes de santé, mentaux ou d’autres problèmes des enfa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choisir trop tôt un compagnon/une compagn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1280880"/>
            <a:ext cx="78102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ff"/>
                </a:solidFill>
                <a:latin typeface="Times New Roman"/>
              </a:rPr>
              <a:t>Données statistiques</a:t>
            </a:r>
            <a:br>
              <a:rPr sz="2800"/>
            </a:br>
            <a:br>
              <a:rPr sz="2800"/>
            </a:b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Le taux d’abandon scolaire 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2920" y="2637000"/>
          <a:ext cx="7201080" cy="1295280"/>
        </p:xfrm>
        <a:graphic>
          <a:graphicData uri="http://schemas.openxmlformats.org/drawingml/2006/table">
            <a:tbl>
              <a:tblPr/>
              <a:tblGrid>
                <a:gridCol w="1657440"/>
                <a:gridCol w="3095640"/>
                <a:gridCol w="244800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 européen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g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042920" y="4797360"/>
          <a:ext cx="7315200" cy="1457280"/>
        </p:xfrm>
        <a:graphic>
          <a:graphicData uri="http://schemas.openxmlformats.org/drawingml/2006/table">
            <a:tbl>
              <a:tblPr/>
              <a:tblGrid>
                <a:gridCol w="1657440"/>
                <a:gridCol w="2016000"/>
                <a:gridCol w="1824120"/>
                <a:gridCol w="181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84360" y="4292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Particip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-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mater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’admission obligatoire des enfants défavorisé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L’a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gmentation du nombre de places dans les écoles maternelles, aide à la scolarisation à l’école maternelle, repas gratuits à l’école maternelle, possibilité d’organiser une école maternelle/crèche intégrée</a:t>
            </a: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Cours individuels pour assurer le rattrapage des é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en ret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et introduction des méthodes d’enseignement intégr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aboration des programmes de formation et d’enseignement et des méthodologies d’enseignement, diffusion des bonnes pra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éation d’un réseau de soutien professionn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ciblés – Programme « Arany János » : programme de collège et d’école d’apprentissage pour les élèves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souffrant de désavantages multiples,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de type « seconde chance », aides au repas et à l’achat de livres scolai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–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ans le cas des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fants ayant des besoins pédagogiques spécifique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développement du contenu, aides ciblé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nouveau gouvernement envisage d’élaborer et mettre en place dans l’ensemble du systèm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un modèle complexe de contrôle et d’appréciation professionnel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extérieur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ans l’enseignement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mélioration du niveau et de l’efficacité de l’apprenti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profession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ssibilité de participer dans l’éducation de rattrapage pour ceux qui n’ont pa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achevé l’école prim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Programmes et bonnes pratiques </a:t>
            </a:r>
            <a:br>
              <a:rPr sz="2400"/>
            </a:b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visan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à</a:t>
            </a:r>
            <a:r>
              <a:rPr b="1" lang="hu-H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éduire l’abandon scolaire préco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rogramme Internats – Écoles Professionnelles Arany János pour élèves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multipl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prog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soutenu par une orientation professionnell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coopération entre enseignants et parents et l’institution éducative, un environnement d’enseignement inclus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anod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services extrascolaires aux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et de désavantages multiple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ns les classes supérieures de l’école primaire, au collège et au lyc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de développement des écoles professionnelles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: Renouvellement de l’enseignement du savoir général e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: Méthodolgie de l’enseignemen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: Réintégration des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désavantag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+ enseignement de langues, mesure et évaluation des écoles professionnelles, orientation professionnelle, informatiq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ff"/>
                </a:solidFill>
                <a:latin typeface="Times New Roman"/>
              </a:rPr>
              <a:t>Merci pour votre attention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3:49:13Z</dcterms:created>
  <dc:creator>Kori</dc:creator>
  <dc:description/>
  <dc:language>en-US</dc:language>
  <cp:lastModifiedBy>demeterd</cp:lastModifiedBy>
  <dcterms:modified xsi:type="dcterms:W3CDTF">2010-07-07T09:25:01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0732215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