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5D25-FE65-4712-BFDF-989E6E558F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676D-F689-448C-88D1-D95702ECA40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A8D8-5DAC-4FD8-A53F-C1A9D0E87AE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41C3-5BF7-4731-9D9D-2C5E534FE7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2672-9978-41CD-BD2C-1FC29515B5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797B-B345-4617-BECF-EFDFB442B4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5D22-AFD1-46D0-9627-445E0FB281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ECEC-2C8D-4BBF-A3A3-00FB393AC1B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00F9-2690-4489-97D5-1053FBDCEBE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B7E7-6171-4D29-A810-0885BBFF8D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34D0-F9D9-479E-92E9-2550ABAF99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7386-0B57-43B8-A8F3-8353E9A9B4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0369-C4B0-49CC-9283-645D28C462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C277-5B89-4A52-9A4B-96B4E24D93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A882-45B5-441F-8B26-1A86D50EFF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2BF9-6E7F-4177-AF34-B0758E7875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9D7D-01F5-4F7B-921A-C7077B7479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124C-5D8D-42C0-9AA4-19E8348140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FBB7-43C5-42D1-8D76-5B2C005C3C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997-7F66-4692-89CD-1BFF2444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3EE8-F2F5-4D74-97AC-A99DA37D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CA33-4129-4352-AA23-FB7F8B1D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D831-0953-41DD-8983-DB2DB1B4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4C4B-1354-4F63-BA3E-C0DE6BDE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1D4E-0F5A-49B0-BC28-F7E7C1F5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2FCC-CD3C-473A-9276-A43B9E91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1378-B0DD-46DB-964E-F994CB09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56DD-E816-460F-8A46-704EC324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7092-A2F6-4E66-BA2B-0AA08928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A473-DE4E-4E79-BC85-392C8A96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626B-9B4A-4011-930E-176C9130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1BDC-3295-4C71-8629-605B92049F9C}" type="slidenum">
              <a:rPr b="0" lang="fr-FR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21416400">
            <a:off x="1294920" y="99000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a logique de la compétence en éducation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urquoi? Comment?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051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elques considérations en marge de l’évaluation des compé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440" y="12949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e concept de compétences : un statut scientifique ambig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52120" y="350496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 concept impor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s utilisé en psychologie cogn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ptima ExtraBlack"/>
                <a:ea typeface="ＭＳ Ｐゴシック"/>
              </a:rPr>
              <a:t>Un concept pertinent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Définition de la compéten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Une compétence est la capacité de mobiliser des ressources (internes </a:t>
            </a:r>
            <a:r>
              <a:rPr b="0" i="1" lang="en-US" sz="32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</a:rPr>
              <a:t>et</a:t>
            </a: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 externes)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Elle implique l’intégration (ou la mise en relation) de diverses connaissances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Elle s’applique à une famille de situations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Les situations sont complexes (et inédites)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809880"/>
            <a:ext cx="8153280" cy="1828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iter les savoirs morts, les connaissances iner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76160" y="1828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800" spc="-1" strike="noStrike">
                <a:solidFill>
                  <a:srgbClr val="898989"/>
                </a:solidFill>
                <a:latin typeface="Calibri"/>
              </a:rPr>
              <a:t>Un vrai problème 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520" y="1294920"/>
            <a:ext cx="6248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La notion de compétence </a:t>
            </a:r>
            <a:br>
              <a:rPr sz="6600"/>
            </a:b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= </a:t>
            </a:r>
            <a:br>
              <a:rPr sz="6600"/>
            </a:b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LA solution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ourquoi ce concep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’est-ce qu’on gag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’est-ce qu’on pe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onckart et Dolz (1999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18960" y="22856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82680" indent="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ns verser dans le purisme conceptuel, il nous paraît évident qu’on ne peut raisonnablement « penser » la problématique de la formation en usant d’un terme qui finit par désigner tous les aspects de ce que l’on appelait autrefois les « fonctions psychologiques supérieures 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mpétence = Intelligenc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En résum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219320" y="1294920"/>
            <a:ext cx="71625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 problématique de la mobilisation en situation des ressources cognitives du sujet pose 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un vrai problèm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à la recherche psychopédagogique, mais il n’est pas sûr que la notion de compétence lui apporte une solution posit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 vrai problème, car il faut lutter contre les savoirs morts, les connaissances inert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is ne risque-t-on pas de précipiter le monde pédagogique dans une illusion simplificatrice dont il risque d’être difficile de le sorti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A la recherche d’équilib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Quelle conception de l’experti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Textes politico-pédagog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aire face à des situations inéd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réativit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ransf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sychologie cog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’expertise suppose la mobilisation à bon escient d’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automatis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et de connaissances disciplin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 contrôle métacognitif de l’exéc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ux catégories de situations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ergnaud, 199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lles (les plus fréquentes) pour lesquelles le sujet dispose, à un moment donné de son développement et sous certaines circonstances, des ressources cognitives nécessaires au traitement relativement immédiat de la situ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lles (= situation de crise) pour lesquelles le sujet ne dispose pas de toutes les ressources nécessaires ; cela oblige à un temps d’exploration, de réflexion, d’hésitations ainsi qu’à des tentatives avortées et le conduit parfois à la réussite, parfois à l’éche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09320" y="380520"/>
            <a:ext cx="5410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ma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120" y="129492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urquoi l’approche par compétences aujourd’hu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jeux pédagogiques de l’approche par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concept de compétences : un statut scientifique ambig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a recherche d’équilib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et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formative et résolutions de problèmes comple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’évaluation sommative des compéten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 rot="21236400">
            <a:off x="457200" y="20574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halkboard Bold"/>
                <a:ea typeface="ＭＳ Ｐゴシック"/>
              </a:rPr>
              <a:t>L’évaluation scolaire doit-elle juger la capacité des élèves à « réussir » dans des situations </a:t>
            </a:r>
            <a:r>
              <a:rPr b="0" lang="fr-FR" sz="4800" spc="-1" strike="noStrike" u="sng">
                <a:solidFill>
                  <a:srgbClr val="000000"/>
                </a:solidFill>
                <a:uFillTx/>
                <a:latin typeface="Chalkboard Bold"/>
                <a:ea typeface="ＭＳ Ｐゴシック"/>
              </a:rPr>
              <a:t>inédites</a:t>
            </a:r>
            <a:r>
              <a:rPr b="0" lang="fr-FR" sz="4800" spc="-1" strike="noStrike">
                <a:solidFill>
                  <a:srgbClr val="000000"/>
                </a:solidFill>
                <a:latin typeface="Chalkboard Bold"/>
                <a:ea typeface="ＭＳ Ｐゴシック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Situations inédites = situations exceptionnel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240" y="320040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Times New Roman"/>
              </a:rPr>
              <a:t>Pourquoi faire de l’exceptionnel la norme de la vraie compétence 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Times New Roman"/>
              </a:rPr>
              <a:t>Pourquoi évaluer les élèves dans des situations qui ne se reproduiront pas nécessairement 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isques de dér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ns l’approche par compétence,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les savoirs deviennent des moyens à mobiliser pour ag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dans des situations inéd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Espace réservé du contenu 3" descr=""/>
          <p:cNvPicPr/>
          <p:nvPr/>
        </p:nvPicPr>
        <p:blipFill>
          <a:blip r:embed="rId1"/>
          <a:stretch/>
        </p:blipFill>
        <p:spPr>
          <a:xfrm>
            <a:off x="4645080" y="1596960"/>
            <a:ext cx="40482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21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ÉUSSIR ET COMPREND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Quel dosag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Quel équilibr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 complexe et l’iné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Deux problématiques pédagogiques différ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’inédit =&gt; un problème de flexibilité cogni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520" y="3809520"/>
            <a:ext cx="6705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montage cognitif complexe n’est pas nécessairement iné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 solution inédite ne requiert pas toujours un montage cognitif complex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520" y="1371240"/>
            <a:ext cx="5943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’action pédagogique ==&gt; des questions d’équili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" y="2514600"/>
          <a:ext cx="81532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81532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 et « compétences 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 formative et résolution de problèmes comple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échec »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peut résulter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incompréhension du problème posé (représentation du problèm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non maîtrise des connaissances, stratégies et/ou automatismes requis (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availability deficienci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« incapacité » à mobiliser des connaissances, stratégies et/ou automatismes maîtrisés (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production deficienci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 manque de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fluency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des automatis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surcharge cogn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’évaluation sommative des compét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« situations » exigeant des solutions inédi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« situations » exigeant des montages cognitifs complex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questions ciblant les automatism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 questions portant sur la compréhension des procédures/stratégies mises en œuv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7724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Pourquoi l’approche par compétences, aujourd’hu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182880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e mise en perspective sociolog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usgrove (196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out curriculum est une construction soci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est le produit de transactions sociales, souvent conflictuelles, entre groupes professionnels et/ou groupes de pression, souvent oppos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ux-ci usent d’argumentation scientifique pour résoudre leurs rapports de fo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 Bourque &amp; Frénette (1970), Dandurand (1990), Mellouki (1989), Lenoir (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95280" y="22096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ransformation de l’école s’oriente dans une direction polarisée par la productivité et le développement économ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 mouvement culmine dans l’approche par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lle-ci imprime une orientation pragmatique et instrumentale aux program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savoir doit être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</a:rPr>
              <a:t>UTIL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: influence de l’utilitarisme anglo-saxon &gt;&lt; humanisme européen (Lenoir, 2005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u niveau de la Commission Europée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2, Traite de Maastrich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3, Livre blanc sur la compétitivité des entrepr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5, Livre blanc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nseigner &amp; apprendre: vers la société cognitiv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» (sous la direction de Jean-Louis Reiff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« </a:t>
            </a:r>
            <a:r>
              <a:rPr b="1" i="1" lang="en-US" sz="4000" spc="-1" strike="noStrike">
                <a:solidFill>
                  <a:srgbClr val="008000"/>
                </a:solidFill>
                <a:latin typeface="Calibri"/>
              </a:rPr>
              <a:t>Enseigner &amp; apprendre: vers la société cognitive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 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21333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es connaissances de base constituent le socle sur lequel se construit l’aptitude individuelle à l’emplo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» (p. 1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ans l’éducation de base, il convient de trouver un bon équilibre entre l’acquisition des savoirs et </a:t>
            </a:r>
            <a:r>
              <a:rPr b="0" i="1" lang="en-US" sz="4400" spc="-1" strike="noStrike">
                <a:solidFill>
                  <a:srgbClr val="1f497d"/>
                </a:solidFill>
                <a:latin typeface="Calibri"/>
              </a:rPr>
              <a:t>les compétence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méthodologiques qui permettent d’apprendre soi-même. Ce sont celles-ci qu’il convient aujourd’hui de développer »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. 16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1447920"/>
            <a:ext cx="6248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livre blanc de 1995 redéfinit les rapports entre l’entreprise et l’éc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43000" y="3359160"/>
            <a:ext cx="73152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tique de l’école (= facteur d’exclusion par l’échec scolai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arition de notions nouvel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réditation/validation des acquis: les entreprises pourront reconnaître les compéte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Compét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loyabi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es enjeux pédagogiques de l’approche par compét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notion de compétences institue un nouveau rapport de l’école aux savo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curriculums ne sont plus construits sur une base disciplina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savoirs n’ont plus de valeur en soi; il leur faut être utilitaire; ces sont des moyens pour agir efficace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uprématie de l’utilitarisme nord-américain par à l’humanisme européen (Lenoir, 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monde pédagogique est divisé en croyants et non-croy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7:20:10Z</dcterms:created>
  <dc:creator>Marcel Crahay</dc:creator>
  <dc:description/>
  <dc:language>en-US</dc:language>
  <cp:lastModifiedBy>Admin</cp:lastModifiedBy>
  <dcterms:modified xsi:type="dcterms:W3CDTF">2010-07-08T06:21:49Z</dcterms:modified>
  <cp:revision>34</cp:revision>
  <dc:subject/>
  <dc:title>Les compétences professionnelles et le curriculum: des réalités conciliable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78508253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présentation</vt:lpwstr>
  </property>
  <property fmtid="{D5CDD505-2E9C-101B-9397-08002B2CF9AE}" pid="6" name="_NewReviewCycle">
    <vt:lpwstr/>
  </property>
</Properties>
</file>