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8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19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20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F4B9-C473-4A64-B065-09CE6377CB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C752-E262-4EDB-BC79-006EFF142E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EE76-6EDA-4BF0-9FEF-E93FEF372F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8A59-1860-482E-90CD-2C11CCCCC3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2CF5-85F0-450C-A0BA-5DA3B3C804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559F-7559-4D16-8577-85A41C4876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B19C8-12AE-40E2-A52D-0ECA1EAC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2BC63-84CB-4F0F-9F81-345E0950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6B965-80CA-45A0-8E0F-E518F835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B8C5B-74DA-4A24-9C4D-98D2FD30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62DA87-3972-4D8A-9205-99EB4F49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44361A-E61D-4440-A2B7-2A35A6C0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605F34-895D-4160-A2B8-00EFFCF9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A8296A-8FFA-438A-A423-52C44B91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4ADE7F-4852-44B3-8365-AC46FF70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49A5F4-9EFC-4ACC-BA2D-C12B0707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91E7BB-67C1-4C66-8A7F-0332CD0D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29C8FB-1D88-47E6-BF15-45ADC06A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656EA6-D18C-4A3E-B76D-3484F1B1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B0BA11-B036-47F9-8ED9-DBE4CC2B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0DBADD-8455-4E3F-B178-1F441788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19EF07-84FD-4C13-BD66-2761960D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14A9E3-9AF7-4569-BB14-B8DA1241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A41DF9-D23F-4949-B590-45E61CBB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B389D8-FB4A-4984-8828-27CB2D0A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089EF1-B1B0-499F-9ADB-E6761A93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677415-8CB4-4A11-9F77-316116F4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7F99-B357-4602-A12D-126FB599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79BC-F920-4E18-ABEC-F6786422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38BB-24B1-4197-B0FC-8686FD7F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EBF6-F928-410F-A2E3-FE6324A3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C379-66D7-4342-AF1D-2964959C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7731-677A-4846-B3C1-5204503E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EFF8-AFF1-4C80-8DFB-F62D2BA7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5AF3-E19E-4A91-B211-92153BBD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A66B-DD4F-4FF2-974D-60A662B4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FE4D-F087-4D1F-97C8-E9E40A72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E8D5-E23A-4B05-9912-109567A2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C2C6-7235-4AA6-9BAE-938F009D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4AA10F-E899-4111-B793-F01AE3A1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2AEA89-1FCD-48E6-804A-FB0A8CA2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A65D14-EEF2-4F24-AE9B-5F9B853E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E44071-3462-4D21-B825-81D07CBE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8CDDE-D8FC-410D-871B-2F22F7DA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CBBD3D-EC57-4147-BDFA-9337BB23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33E12D-5CD3-495F-959E-E942D1A8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88DF6A-ED7A-4A31-B74D-FC7EADE0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24BE17-E5E0-4484-9D39-B01CADDA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F85A10-4D8B-409B-A85C-640B58B8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CFE31A-EE18-497D-A9BB-37AAF967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0D1A37-945C-4A3D-BD3A-A0BF632E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457844-014F-4F40-9252-7B94D5CB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77D6B-0388-4CAF-94A5-B634B8F7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FB6CF9-7019-4430-ADB8-6EA09D4C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8013-E074-4FAE-A464-DAE3C829D56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923000" y="2474640"/>
            <a:ext cx="3598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908240" y="3511440"/>
            <a:ext cx="35989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14" descr="Logo Powerpoint 2"/>
          <p:cNvPicPr/>
          <p:nvPr/>
        </p:nvPicPr>
        <p:blipFill>
          <a:blip r:embed="rId2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5"/>
          </p:nvPr>
        </p:nvSpPr>
        <p:spPr>
          <a:xfrm>
            <a:off x="7696080" y="5936760"/>
            <a:ext cx="106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A545-18EB-44FA-A91D-E5DDFDDCAB5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6"/>
          </p:nvPr>
        </p:nvSpPr>
        <p:spPr>
          <a:xfrm>
            <a:off x="1727280" y="5936760"/>
            <a:ext cx="3635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7"/>
          </p:nvPr>
        </p:nvSpPr>
        <p:spPr>
          <a:xfrm>
            <a:off x="685800" y="5936760"/>
            <a:ext cx="914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9EFE-5D5F-4A41-9872-73282D20D51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329B-E34F-4799-B263-7D547F369BD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18520" indent="-218520"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5920" indent="-2811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74960" indent="-28080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03360" indent="-28080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3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8A0A-D706-4BA1-B500-CC87ED72914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16000" indent="-21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775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9040" indent="-2775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7756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2C36-6550-4C32-90CC-9A9AA06195D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5768-4F85-4A42-8601-FF63710A05B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shpFoto" descr="Afb 1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shpFoto" descr="Afb 2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5ED7-EDB5-4ABE-8BAF-2C4D777CE5C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8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09CE-FF25-4445-A1C5-3FF7051D4C8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hpKleurvlakOnder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shpTekst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shpDatum" descr="RO__vervolgpagina~LPP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9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30C7-89C8-43BA-976D-0B85DE93E5D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0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1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2C34-F4BD-4B17-94B8-540A0A447CC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2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7107-A8FE-4707-A3CA-486B3BB68B1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3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4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8CE0-D14B-434D-A720-A736E5B88B9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ijdelijke aanduiding voor voettekst 1"/>
          <p:cNvSpPr/>
          <p:nvPr/>
        </p:nvSpPr>
        <p:spPr>
          <a:xfrm>
            <a:off x="1727280" y="5937120"/>
            <a:ext cx="36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Projectdirectie Voortijdig Schoolverlate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www.aanvalopschooluitval.n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ijdelijke aanduiding voor dianummer 2"/>
          <p:cNvSpPr/>
          <p:nvPr/>
        </p:nvSpPr>
        <p:spPr>
          <a:xfrm>
            <a:off x="685800" y="5937120"/>
            <a:ext cx="914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D682-4D58-4365-A982-8CA1DF664ACD}" type="slidenum">
              <a:rPr b="0" lang="en-US" sz="1200" spc="-1" strike="noStrike">
                <a:solidFill>
                  <a:srgbClr val="000000"/>
                </a:solidFill>
                <a:latin typeface="OCWTale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Afbeelding 4" descr="suzan.jpg"/>
          <p:cNvPicPr/>
          <p:nvPr/>
        </p:nvPicPr>
        <p:blipFill>
          <a:blip r:embed="rId1"/>
          <a:stretch/>
        </p:blipFill>
        <p:spPr>
          <a:xfrm>
            <a:off x="0" y="3344760"/>
            <a:ext cx="4576680" cy="351324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8"/>
          <p:cNvSpPr/>
          <p:nvPr/>
        </p:nvSpPr>
        <p:spPr>
          <a:xfrm>
            <a:off x="4594320" y="1757520"/>
            <a:ext cx="454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Blitz on dropouts</a:t>
            </a:r>
            <a:br>
              <a:rPr sz="19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Marja van Bijsterveldt-Vliegenthart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State Secretary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of Education, Culture and Scienc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Brussels, 9 July 201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900079"/>
                </a:solidFill>
                <a:latin typeface="Verdana"/>
              </a:rPr>
              <a:t>The Golden Triangle</a:t>
            </a:r>
            <a:r>
              <a:rPr b="1" lang="nl-NL" sz="20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69360" y="2073240"/>
            <a:ext cx="78584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gover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municip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ch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All working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Agreements with schools and local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In 39 regions for the period 2008-2011 (convenants)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073D-A5E1-4E26-A52B-BB8F7993BC3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52CFBB-B562-4DEA-98AD-7924613ECA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Oval 3"/>
          <p:cNvSpPr/>
          <p:nvPr/>
        </p:nvSpPr>
        <p:spPr>
          <a:xfrm>
            <a:off x="6145200" y="4089240"/>
            <a:ext cx="1689120" cy="16066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Oval 4"/>
          <p:cNvSpPr/>
          <p:nvPr/>
        </p:nvSpPr>
        <p:spPr>
          <a:xfrm>
            <a:off x="1187280" y="4203720"/>
            <a:ext cx="1776600" cy="153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3911760" y="1701720"/>
            <a:ext cx="1511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Text Box 6"/>
          <p:cNvSpPr/>
          <p:nvPr/>
        </p:nvSpPr>
        <p:spPr>
          <a:xfrm rot="10800000">
            <a:off x="6411960" y="4691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162080" y="48625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16"/>
          <p:cNvSpPr/>
          <p:nvPr/>
        </p:nvSpPr>
        <p:spPr>
          <a:xfrm>
            <a:off x="5495760" y="2719440"/>
            <a:ext cx="103356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17"/>
          <p:cNvSpPr/>
          <p:nvPr/>
        </p:nvSpPr>
        <p:spPr>
          <a:xfrm flipH="1">
            <a:off x="2563920" y="2708280"/>
            <a:ext cx="1287360" cy="13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28"/>
          <p:cNvSpPr/>
          <p:nvPr/>
        </p:nvSpPr>
        <p:spPr>
          <a:xfrm>
            <a:off x="3171960" y="4941720"/>
            <a:ext cx="2678040" cy="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EF1ADD-C719-4939-91EA-A35DCE0DD5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Oval 3"/>
          <p:cNvSpPr/>
          <p:nvPr/>
        </p:nvSpPr>
        <p:spPr>
          <a:xfrm>
            <a:off x="6372360" y="4365720"/>
            <a:ext cx="151272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Oval 4"/>
          <p:cNvSpPr/>
          <p:nvPr/>
        </p:nvSpPr>
        <p:spPr>
          <a:xfrm>
            <a:off x="1187280" y="4365720"/>
            <a:ext cx="151308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3924360" y="1413000"/>
            <a:ext cx="15112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Directs the ‘Drive to reduce school drop-out rates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6"/>
          <p:cNvSpPr/>
          <p:nvPr/>
        </p:nvSpPr>
        <p:spPr>
          <a:xfrm rot="10800000">
            <a:off x="6300360" y="4652280"/>
            <a:ext cx="166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ary/pre- vocational secondary schoo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1187280" y="47242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2916360" y="81288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ocial Affairs &amp; Employment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580000" y="1268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alth, Welfare &amp; Sport/ Youth &amp; Fami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724360" y="1844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651640" y="2349360"/>
            <a:ext cx="29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griculture, Nature &amp; Food Qua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3780000" y="29242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826920" y="1268280"/>
            <a:ext cx="28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ousing, Communities &amp; Integration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1619280" y="184464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Economic aff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1258920" y="2349360"/>
            <a:ext cx="23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nterior &amp; Kingdom Rel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16"/>
          <p:cNvSpPr/>
          <p:nvPr/>
        </p:nvSpPr>
        <p:spPr>
          <a:xfrm>
            <a:off x="5508720" y="2708280"/>
            <a:ext cx="1295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17"/>
          <p:cNvSpPr/>
          <p:nvPr/>
        </p:nvSpPr>
        <p:spPr>
          <a:xfrm flipH="1">
            <a:off x="2340000" y="2708280"/>
            <a:ext cx="1511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6300720" y="3213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 Box 19"/>
          <p:cNvSpPr/>
          <p:nvPr/>
        </p:nvSpPr>
        <p:spPr>
          <a:xfrm>
            <a:off x="826920" y="30686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Education Ministry mandates responsibilities (covenan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20"/>
          <p:cNvSpPr/>
          <p:nvPr/>
        </p:nvSpPr>
        <p:spPr>
          <a:xfrm>
            <a:off x="179280" y="3716280"/>
            <a:ext cx="8785440" cy="25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21"/>
          <p:cNvSpPr/>
          <p:nvPr/>
        </p:nvSpPr>
        <p:spPr>
          <a:xfrm>
            <a:off x="179280" y="3716280"/>
            <a:ext cx="87854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22"/>
          <p:cNvSpPr/>
          <p:nvPr/>
        </p:nvSpPr>
        <p:spPr>
          <a:xfrm>
            <a:off x="684360" y="378936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unicipal Executive Councillors for education/youth policy/RMC municipalities (administrative coordination)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108000" y="4149720"/>
            <a:ext cx="252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Drop-out Registration and Coordination Centre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250920" y="400536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324000" y="4797360"/>
            <a:ext cx="8650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Work and Income/Employment and Assistance Act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324000" y="5950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Probation servic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2268360" y="5589720"/>
            <a:ext cx="17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ebt restructuring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28"/>
          <p:cNvSpPr/>
          <p:nvPr/>
        </p:nvSpPr>
        <p:spPr>
          <a:xfrm>
            <a:off x="2771640" y="4941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29"/>
          <p:cNvSpPr/>
          <p:nvPr/>
        </p:nvSpPr>
        <p:spPr>
          <a:xfrm>
            <a:off x="2700360" y="508464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Housing corporat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2484360" y="4149720"/>
            <a:ext cx="13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Attendance officer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3924360" y="42926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Urban Policy/Accre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3492360" y="458136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unicipalities Fund/own resourc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4716360" y="5157720"/>
            <a:ext cx="16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Regional Institute for Mental Health/Area Health Authority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5580000" y="429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Juvenile c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7451640" y="566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olice/Court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7093080" y="414972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Youth and Family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7956720" y="486900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38"/>
          <p:cNvSpPr/>
          <p:nvPr/>
        </p:nvSpPr>
        <p:spPr>
          <a:xfrm>
            <a:off x="2556000" y="595008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39"/>
          <p:cNvSpPr/>
          <p:nvPr/>
        </p:nvSpPr>
        <p:spPr>
          <a:xfrm flipH="1">
            <a:off x="5651640" y="5950080"/>
            <a:ext cx="72072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2987640" y="638172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loyers/Employees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C38C50-3342-40A4-9093-5374202978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494c5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C7DA-CFD8-4CF4-8E0A-E2CDD9834AD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FDBEBD-C2FF-4053-8414-B9D87CC154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900079"/>
                </a:solidFill>
                <a:latin typeface="Arial"/>
              </a:rPr>
              <a:t>Agreements/Convenant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406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duce dropout rate with 10% every year until 2012’ (40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wn choice in methods to achieve objectives (menu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operation between municipality and school and other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ole of the gover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ating, monitoring and evalu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e results in good practices and implement these in order to improve national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A2476B-CEFC-4BF1-8FEA-074AD18C58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Arial"/>
              </a:rPr>
              <a:t>What are we going to do in the future?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New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inuing current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haring goo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ECD: contribution researc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Overcoming School Failure”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commendation on Early School Leavers, by the Europea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4F8D02-BF72-4F53-9E1E-4168E7F5B4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061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Introduction Early school leavers: objectives and key figures</a:t>
            </a:r>
            <a:r>
              <a:rPr b="0" lang="nl-NL" sz="22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12840" y="2111400"/>
            <a:ext cx="8061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isbon objective: reducing the number of early school-leavers between the ages of 18 and 24 from 15.5% in 2002 to approx. 10% in 2010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ional objective: reducing the number of early school-leavers : from 71.000 in 2002 (5,7%) to 35.000 in 2012 (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965297-364A-4F67-90A1-9B536E19E8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237E-0F77-4093-9F63-49B8579FB97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E7A5-1907-4240-9370-FB96BD96155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9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Verdana"/>
              </a:rPr>
              <a:t>The results (national objective)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graphicFrame>
        <p:nvGraphicFramePr>
          <p:cNvPr id="433" name="Object 3"/>
          <p:cNvGraphicFramePr/>
          <p:nvPr/>
        </p:nvGraphicFramePr>
        <p:xfrm>
          <a:off x="617400" y="2260440"/>
          <a:ext cx="7790040" cy="350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260440"/>
                    <a:ext cx="7790040" cy="35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9"/>
          <p:cNvSpPr/>
          <p:nvPr/>
        </p:nvSpPr>
        <p:spPr>
          <a:xfrm>
            <a:off x="3594240" y="51832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5232240" y="5199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35569F-4B8A-44AC-8DB5-4CD90D9AF3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Results in international </a:t>
            </a: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perspectiv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pout rate in 2008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: 15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L: 11.4 %</a:t>
            </a:r>
            <a:br>
              <a:rPr sz="1800"/>
            </a:br>
            <a:br>
              <a:rPr sz="18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source: Eurostat, 2009)</a:t>
            </a:r>
            <a:br>
              <a:rPr sz="1800"/>
            </a:br>
            <a:br>
              <a:rPr sz="1800"/>
            </a:br>
            <a:endParaRPr b="0" lang="en-US" sz="13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400824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5B9A-A87B-4E59-99A0-0C530E9C7B8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shpPagina" descr=""/>
          <p:cNvPicPr/>
          <p:nvPr/>
        </p:nvPicPr>
        <p:blipFill>
          <a:blip r:embed="rId1"/>
          <a:stretch/>
        </p:blipFill>
        <p:spPr>
          <a:xfrm>
            <a:off x="4307040" y="-222120"/>
            <a:ext cx="4662360" cy="73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3EF586-7B28-439E-A4B7-A17BD015BE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71440" y="985680"/>
            <a:ext cx="816912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900079"/>
                </a:solidFill>
                <a:latin typeface="Verdana"/>
              </a:rPr>
              <a:t>Know the Numbers 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53828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tter registration, better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Introduction of ‘Education Number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roduction of ‘Digital Count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882FBC-EF31-4F50-AFD4-A71C55ED26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50F2-A780-41E2-926D-19380B63BF6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66480" y="1233360"/>
            <a:ext cx="85611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Policies and Programs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2240" y="1716120"/>
            <a:ext cx="85755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transition from pre-vocational to vocational education (VMBO – M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ore scope for ‘practical-oriented student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career orientation and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ppealing education, with sports and cul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.000 APL-programmes and agreement with large emplo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nd better care at school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BC390C-7992-4D6E-AB2C-563BCD1A2D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66840" y="1233000"/>
            <a:ext cx="3681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Focus on municipalities </a:t>
            </a: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in the Netherland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48" name="Picture 7" descr="C:\Users\Loesje\Desktop\vsv0809_gem1Eng.jpg"/>
          <p:cNvPicPr/>
          <p:nvPr/>
        </p:nvPicPr>
        <p:blipFill>
          <a:blip r:embed="rId1"/>
          <a:stretch/>
        </p:blipFill>
        <p:spPr>
          <a:xfrm>
            <a:off x="4289400" y="0"/>
            <a:ext cx="4854600" cy="687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799A2B-C6F1-4173-878F-EEA224488F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6520" y="1245960"/>
            <a:ext cx="4016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Focus on the </a:t>
            </a:r>
            <a:br>
              <a:rPr sz="2300"/>
            </a:b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municipality of Amsterdam</a:t>
            </a:r>
            <a:r>
              <a:rPr b="0" lang="nl-NL" sz="23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51" name="Picture 7" descr="C:\Users\Loesje\Desktop\vsv0809_Amsterdam[1].jpg"/>
          <p:cNvPicPr/>
          <p:nvPr/>
        </p:nvPicPr>
        <p:blipFill>
          <a:blip r:embed="rId1"/>
          <a:stretch/>
        </p:blipFill>
        <p:spPr>
          <a:xfrm>
            <a:off x="2482920" y="1968480"/>
            <a:ext cx="6661080" cy="488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3E3EA3-8BEF-4BB1-96D9-A433C55EA4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0079"/>
                </a:solidFill>
                <a:latin typeface="Verdana"/>
              </a:rPr>
              <a:t>Monitoring and evaluation arrangements</a:t>
            </a:r>
            <a:r>
              <a:rPr b="0" lang="en-US" sz="2200" spc="-1" strike="noStrike">
                <a:solidFill>
                  <a:srgbClr val="2494c5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 effects with facts and figures: naming, shaming and f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idence based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verall design to measure th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2191-B534-47EB-9BA9-8DF8E1BF2EE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666931-9957-4BD7-A873-569D6C320C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8:56:33Z</dcterms:created>
  <dc:creator>Liselore Verschuren</dc:creator>
  <dc:description/>
  <dc:language>en-US</dc:language>
  <cp:lastModifiedBy>o011hou</cp:lastModifiedBy>
  <dcterms:modified xsi:type="dcterms:W3CDTF">2010-07-07T16:31:16Z</dcterms:modified>
  <cp:revision>129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3747116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