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15138" cy="99536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14800" cy="9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60280" y="-36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8720" y="74592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5324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60280" y="945324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649062-1E26-4372-AA58-5C2393518CB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ymbol zastępczy numeru slajdu 3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324311-F8D0-46C3-9BB5-DCD0E97CE93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33062D-7242-411A-A58D-64B9111961A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ymbol zastępczy numeru slajdu 3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EE9F13-A397-43F0-AFA5-4084A4A438E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7949-DA58-4A24-AE19-68B1B1BDC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A8D7-54A5-4847-B800-06BE9184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693E-B7C6-40B2-9563-7FFC21218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2A07-B7EE-4496-AE30-F6D63DC2D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F6DF-AB51-43FD-8183-2BCD2945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8332-8F40-472F-990D-AD06C7B2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7503-9A25-428E-8CD1-D91845E3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70DF-500F-49B8-BD87-670AAF21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D6F7-2DA3-456F-AB68-AF887481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B1BB-272F-4EBC-B5DD-7B0D1CEF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CBB7-EA27-40CF-AC02-871D5899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CC1B-AC2D-4FAC-A75B-36909985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REZENTACJA_SLAJDY"/>
          <p:cNvPicPr/>
          <p:nvPr/>
        </p:nvPicPr>
        <p:blipFill>
          <a:blip r:embed="rId2"/>
          <a:stretch/>
        </p:blipFill>
        <p:spPr>
          <a:xfrm>
            <a:off x="0" y="0"/>
            <a:ext cx="9144000" cy="1068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2FBB-FE6B-40D5-9A5F-284EEAE5812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61B4-20CA-44D2-80E3-1924153A4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KIW_MEN"/>
          <p:cNvPicPr/>
          <p:nvPr/>
        </p:nvPicPr>
        <p:blipFill>
          <a:blip r:embed="rId4"/>
          <a:stretch/>
        </p:blipFill>
        <p:spPr>
          <a:xfrm>
            <a:off x="2486160" y="6205680"/>
            <a:ext cx="419076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glowna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5157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nar of the Ministers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mpulsory Educatio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ussels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, 9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ly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2010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505320" y="56386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33577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lopment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of stud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 competences in Po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- 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periences &amp;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sp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5E72-124C-4774-9F4E-D3A02AE6A6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Differences between schools concerning 16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and 17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-year-old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Polish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’ achievements in reading literacy in 2006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67280" y="1268280"/>
            <a:ext cx="4176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Level ISCED 3 (for 16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older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- constantly large differences of student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chievements between schools (it concerns competences examined under PISA)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ic vocational schools 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were attended by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8% of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, around 60% of them were included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 the category of low achiever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oncentration of the low achiever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basic vocational schools and hig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chiev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upper secondary general school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 can be observed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16" name="Rectangle 3"/>
          <p:cNvGraphicFramePr/>
          <p:nvPr/>
        </p:nvGraphicFramePr>
        <p:xfrm>
          <a:off x="179280" y="1989000"/>
          <a:ext cx="4680000" cy="44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46800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0" y="1413000"/>
            <a:ext cx="414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Percent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of 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student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ccording to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th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level </a:t>
            </a:r>
            <a:br>
              <a:rPr sz="1200"/>
            </a:b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of reading competences PISA 2006 national </a:t>
            </a:r>
            <a:br>
              <a:rPr sz="1200"/>
            </a:b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(16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nd 17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-year-old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407C-CE53-47B3-81FB-CB5FF76C51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roblems of key competence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development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in vocational education</a:t>
            </a:r>
            <a:r>
              <a:rPr b="0" lang="pl-PL" sz="24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Nowadays 16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nd 17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year-old stud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tte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imilar type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chool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t the level of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SCED 3 as it was before the reform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1999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re are still large differences between schools at the level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SCED 3 in the structure of educatio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ontrast to ISCED 2 level w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re this disproportion has been effectively reduced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videnc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how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the lack of good development of key competences in some types of schools at the leve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SCED 3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articularly in vocational school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2DA9-3BB3-47FB-8033-259E3E80FA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on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tinuation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of the education system reform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Works on comprehensive and coherent LLL strategy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plan of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consolidation of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ll national strategies was adopted by the Polish government in November 2009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nter-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departamental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ask-force for LLL strategy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cluding NQF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) wa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established by Prime Minister’s decree in February 2010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ola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as been very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ucc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sful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n the field of formal educatio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a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videnced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y results of PISA research and Poland’s nationa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chievements as regards EU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enchmark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under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„Education a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aining 2010”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Programme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t the same tim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land has low achievements beyond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traditional period of school education, i.e. in pre-school education and adults learning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aim of the LLL strategy will be to balance the Polish achievements in the whole area of LL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AA64-0C95-4A84-BBC8-C9CB965F44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eform revision 10 years later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ntinuat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the 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mprehensive reform of education syste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1999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 concerning pre-school and general education, implemented since 2009, based on learning outcomes, i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n line with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pproach recommended in the European Qualifications Framework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lowering the age of starting the compulsory pre-school prepar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to the age of 5) which is connected with dissemination of pre-school education and lowering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ag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arting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ompulsory educ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to the age of 6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paration of the vocational education and training modernization based 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w approach to professional qualifications which is consistent with European Credit System for Vocational Educ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nd Training (ECVET)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paration of changes in schools and in their surrounding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which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upport the process of individual work with students, especially those with learning difficulties as well as the talented one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B164-F09C-466B-BD0E-CD4649F3B9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Agenda of implementation of the new curricula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2009-2016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1170000"/>
          <a:ext cx="8291520" cy="4091040"/>
        </p:xfrm>
        <a:graphic>
          <a:graphicData uri="http://schemas.openxmlformats.org/drawingml/2006/table">
            <a:tbl>
              <a:tblPr/>
              <a:tblGrid>
                <a:gridCol w="2882880"/>
                <a:gridCol w="1508040"/>
                <a:gridCol w="1571760"/>
                <a:gridCol w="806400"/>
                <a:gridCol w="1522440"/>
              </a:tblGrid>
              <a:tr h="455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choo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ormed teaching in classrooms</a:t>
                      </a:r>
                      <a:r>
                        <a:rPr b="0" lang="en-US" sz="18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09/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0/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1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examination adapted to the new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en-US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3/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2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4/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I SP 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adapted to the new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pl-PL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L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secondary school certificate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adapted to the new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pl-PL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5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56"/>
          <p:cNvSpPr/>
          <p:nvPr/>
        </p:nvSpPr>
        <p:spPr>
          <a:xfrm>
            <a:off x="395280" y="5634000"/>
            <a:ext cx="8353440" cy="559080"/>
          </a:xfrm>
          <a:prstGeom prst="rect">
            <a:avLst/>
          </a:prstGeom>
          <a:solidFill>
            <a:srgbClr val="0030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 – primary school, L – upper secondary general, T – upper secondary vocationa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SZ – basic vocational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7A05-373F-4CD5-A6EE-748E068BBB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C4E2-024B-4FC9-A34E-D9B478C96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Agenda of modification of examinations confirming vocational qualification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9280" y="1371600"/>
          <a:ext cx="8713800" cy="4505400"/>
        </p:xfrm>
        <a:graphic>
          <a:graphicData uri="http://schemas.openxmlformats.org/drawingml/2006/table">
            <a:tbl>
              <a:tblPr/>
              <a:tblGrid>
                <a:gridCol w="1728720"/>
                <a:gridCol w="3384720"/>
                <a:gridCol w="3600360"/>
              </a:tblGrid>
              <a:tr h="47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minations confirming vocational qualific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1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3/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4/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5/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6/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nfirmation of partial qualifications</a:t>
                      </a:r>
                      <a:r>
                        <a:rPr b="0" lang="en-US" sz="16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7/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B89A-D587-452E-80AC-231BCF94D2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What conclusions can be drawn from the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olish experience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as regards competences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development of young people?</a:t>
            </a:r>
            <a:br>
              <a:rPr sz="2600"/>
            </a:b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omprehensive approach to planned changes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ne of the most extensive reform of education in UE and OECD countri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arte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1999 in Poland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lthough nowadays this reform requir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few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orrections,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i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roved effective thanks to comprehensive approach to change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etter use of hidden capabilities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ignificant improvement of weakest students’ competences (revealed in PISA research in 2000-2003) that results from disclosure of these students’ capabilities i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new type of school (lower secondary school)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obably the capabilities of the weak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er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ufficiently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developed in the school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ith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ig percent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g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f low achiever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e need a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ystem and program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vis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o be planned for many years ahead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sults of different international researches (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like PISA, TIMSS/PIRLS, TALIS, TEDS-M, PIAA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have been and will b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helpful to pla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furth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hange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the education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many different systemic modifications accompani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ang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urricula, which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as initiated 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eptember 2009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 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eir results will b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noticeabl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nly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fter many year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E27B-04B7-4E26-BECA-20E42115B8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What conclusions can Poland draw from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its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own experience as regards competences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development of young people?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Presen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rogram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hange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re aim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ensure the better results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f general education in upper secondary schools, without making any structural changes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t is accepte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at there is a need for extending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obligatory period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ssibly identic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general education but it should be realized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more individu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zed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ay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n Poland there is a v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ry strong tradition of making a choice between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ducation in upper secondary general school and vocational preparation in upper secondary vocational school or basic vocational schoo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re is a plan for an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volutionary, structural chang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lat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odification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n vocational education. The fundamental purpose i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gradu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ly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isseminat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vocational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qualification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quir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rough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flexible courses forms instead of different types of schools     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C54E-8CCD-443F-A061-C50C013D6A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reliminary invitation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uring the Polish Presidency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th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ouncil of the European Union,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n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ternational conference is planned in November 2011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effectiveness of education policy </a:t>
            </a:r>
            <a:br>
              <a:rPr sz="2000"/>
            </a:b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for development of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key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competences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t will b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n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opportunity to debate on this subject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would like to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vite you to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onference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fficial invitations will be sent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is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autumn.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CD17-C4EE-4C7B-99A8-3829AA4FE7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utline of the presentation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280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main findings of PISA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ogramme regarding competence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year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l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Poland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mprovement of competences – especially in reading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duction of differences between schools i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achievement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problems of competences development of 16- and 17-year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policy which contributed to achievements revealed in PISA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reforms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r.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Jerzy Buzek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government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rehensiv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 of the educational system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continuation of the reform of the educational system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and works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he LLL strategy 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hat conclusions can be drawn from the Polish experience as regards competences’ development of young people?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65BF-E939-4CFE-856D-A28C3E47DA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The competences improvement of Polis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year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58" name="Rectangle 3"/>
          <p:cNvGraphicFramePr/>
          <p:nvPr/>
        </p:nvGraphicFramePr>
        <p:xfrm>
          <a:off x="250920" y="1989000"/>
          <a:ext cx="4151160" cy="43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4151160" cy="43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0" y="1773360"/>
            <a:ext cx="45720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re was the largest EU increase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reading achievements of 15-year-ol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2000-2006 in Poland (in OECD only South Korea reported slightly higher increase).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2000-2003 there was a remarkable improvement of competences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ith low achievement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it can b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elated to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crease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between-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ools differenc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 2003-2006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high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crease of good and the b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competenc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can be observe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05264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reading literacy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achievements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f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lish 15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year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ld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versus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EU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in 2000-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7733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 average results 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to 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 PISA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740D-D05A-45F7-A45D-4D7B965353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The competences improvement of Polis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year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64" name="Rectangle 3"/>
          <p:cNvGraphicFramePr/>
          <p:nvPr/>
        </p:nvGraphicFramePr>
        <p:xfrm>
          <a:off x="611280" y="2276640"/>
          <a:ext cx="3819600" cy="40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76640"/>
                    <a:ext cx="3819600" cy="40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3280" y="1915920"/>
            <a:ext cx="381024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re was a significant decrease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numb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ith low achievements in reading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2000-2006 in Poland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is change also concerns mathematics and science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05264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achievements in reading literacy of Polish 15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year-old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students versus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EU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in 2000-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19162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ercent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of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 students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with </a:t>
            </a:r>
            <a:br>
              <a:rPr sz="1800"/>
            </a:b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 lowest achiev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009C-8E67-492F-B7B9-20C076A11F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737373"/>
                </a:solidFill>
                <a:latin typeface="Arial"/>
              </a:rPr>
              <a:t>Structural</a:t>
            </a:r>
            <a:r>
              <a:rPr b="0" lang="en-US" sz="2700" spc="-1" strike="noStrike">
                <a:solidFill>
                  <a:srgbClr val="737373"/>
                </a:solidFill>
                <a:latin typeface="Arial"/>
              </a:rPr>
              <a:t> reforms </a:t>
            </a:r>
            <a:r>
              <a:rPr b="0" lang="pl-PL" sz="27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en-US" sz="27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700" spc="-1" strike="noStrike">
                <a:solidFill>
                  <a:srgbClr val="737373"/>
                </a:solidFill>
                <a:latin typeface="Arial"/>
              </a:rPr>
              <a:t>Mr. Jerzy Buzek’s government</a:t>
            </a:r>
            <a:endParaRPr b="0" lang="en-US" sz="27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42508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ucational system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form (which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tarted in 1999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as one of four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systemic change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hich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contribut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repar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land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’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ccession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to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 EU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ther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tructural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covered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ublic administration, health car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and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social security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systems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as the result of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loca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governm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ave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ec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me responsible for vast majority of educational task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real partner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o th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government administration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32D5-29F4-450E-957D-B4D4BBF393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Comprehensive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reform of the educational system </a:t>
            </a:r>
            <a:br>
              <a:rPr sz="2800"/>
            </a:b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of Mr. Jerzy Buzek’s governmen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ructural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s of educational syste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cluded the following actions (taking place at the same time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ransfer of schools to loc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governmen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ogether with financial resourc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heir managemen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ed on the number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ange of the structure of school system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form of core curricula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ystem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’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ssessment, including introduc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external examinations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ationalization of school network, especially in rural area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modernization of school equipment, particularly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egarding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CT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mplementation of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ystem of teach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areer promot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o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w remuneration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centives for broad participation 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each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rofessional training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2E8D-6F3E-4CE3-996C-7369EDAB25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F685-C0DE-4D45-B71A-86CE131AA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hange of the structure of school system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5" name="Rectangle 34"/>
          <p:cNvSpPr/>
          <p:nvPr/>
        </p:nvSpPr>
        <p:spPr>
          <a:xfrm>
            <a:off x="5940360" y="2206800"/>
            <a:ext cx="216000" cy="403380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900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neral education extended by one 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68360" y="1989000"/>
            <a:ext cx="8520120" cy="4089240"/>
            <a:chOff x="468360" y="1989000"/>
            <a:chExt cx="8520120" cy="4089240"/>
          </a:xfrm>
        </p:grpSpPr>
        <p:sp>
          <p:nvSpPr>
            <p:cNvPr id="77" name="Text Box 20"/>
            <p:cNvSpPr/>
            <p:nvPr/>
          </p:nvSpPr>
          <p:spPr>
            <a:xfrm>
              <a:off x="539640" y="4078440"/>
              <a:ext cx="8448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ISCED 0                                         ISCED 1                                 ISCED 2                         ISCED 3</a:t>
              </a:r>
              <a:r>
                <a:rPr b="0" i="1" lang="en-US" sz="1800" spc="-1" strike="noStrike">
                  <a:solidFill>
                    <a:srgbClr val="616365"/>
                  </a:solidFill>
                  <a:latin typeface="Arial"/>
                  <a:ea typeface="Arial"/>
                </a:rPr>
                <a:t>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</a:rPr>
                <a:t>ISCED 4-6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3        4        5        6        7       8       9       10       11       12       13       14       15      16       17       18       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4"/>
            <p:cNvSpPr/>
            <p:nvPr/>
          </p:nvSpPr>
          <p:spPr>
            <a:xfrm>
              <a:off x="541440" y="2270160"/>
              <a:ext cx="8385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ISCED 0                                  ISCED 1-2                                                        ISCED 3            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</a:rPr>
                <a:t>ISCED 4-6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3        4        5        6        7        8        9       10       11       12       13      14      15      16       17       18      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6"/>
            <p:cNvSpPr/>
            <p:nvPr/>
          </p:nvSpPr>
          <p:spPr>
            <a:xfrm>
              <a:off x="612720" y="4654440"/>
              <a:ext cx="1738440" cy="384120"/>
            </a:xfrm>
            <a:prstGeom prst="rect">
              <a:avLst/>
            </a:prstGeom>
            <a:solidFill>
              <a:srgbClr val="e17000"/>
            </a:solidFill>
            <a:ln w="9360">
              <a:solidFill>
                <a:srgbClr val="e1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7"/>
            <p:cNvSpPr/>
            <p:nvPr/>
          </p:nvSpPr>
          <p:spPr>
            <a:xfrm>
              <a:off x="2351160" y="4654440"/>
              <a:ext cx="2403360" cy="384120"/>
            </a:xfrm>
            <a:prstGeom prst="rect">
              <a:avLst/>
            </a:prstGeom>
            <a:solidFill>
              <a:srgbClr val="00305c"/>
            </a:solidFill>
            <a:ln w="9360">
              <a:solidFill>
                <a:srgbClr val="0030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8"/>
            <p:cNvSpPr/>
            <p:nvPr/>
          </p:nvSpPr>
          <p:spPr>
            <a:xfrm>
              <a:off x="4730760" y="4654440"/>
              <a:ext cx="1504800" cy="384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0"/>
            <p:cNvSpPr/>
            <p:nvPr/>
          </p:nvSpPr>
          <p:spPr>
            <a:xfrm>
              <a:off x="6227640" y="5045040"/>
              <a:ext cx="1800360" cy="4334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12"/>
            <p:cNvSpPr/>
            <p:nvPr/>
          </p:nvSpPr>
          <p:spPr>
            <a:xfrm>
              <a:off x="6227640" y="5478480"/>
              <a:ext cx="1436760" cy="576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3"/>
            <p:cNvSpPr/>
            <p:nvPr/>
          </p:nvSpPr>
          <p:spPr>
            <a:xfrm>
              <a:off x="2341440" y="4703760"/>
              <a:ext cx="2497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PRIMARY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4716360" y="4654440"/>
              <a:ext cx="1641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WER  SECONDARY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16"/>
            <p:cNvSpPr/>
            <p:nvPr/>
          </p:nvSpPr>
          <p:spPr>
            <a:xfrm>
              <a:off x="839880" y="465444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PRE-PRIMARY EDU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17"/>
            <p:cNvSpPr/>
            <p:nvPr/>
          </p:nvSpPr>
          <p:spPr>
            <a:xfrm>
              <a:off x="6127920" y="5024520"/>
              <a:ext cx="1827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22"/>
            <p:cNvSpPr/>
            <p:nvPr/>
          </p:nvSpPr>
          <p:spPr>
            <a:xfrm>
              <a:off x="2266920" y="2828880"/>
              <a:ext cx="3762360" cy="382680"/>
            </a:xfrm>
            <a:prstGeom prst="rect">
              <a:avLst/>
            </a:prstGeom>
            <a:solidFill>
              <a:srgbClr val="003f7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23"/>
            <p:cNvSpPr/>
            <p:nvPr/>
          </p:nvSpPr>
          <p:spPr>
            <a:xfrm>
              <a:off x="5824440" y="2828880"/>
              <a:ext cx="1866960" cy="382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24"/>
            <p:cNvSpPr/>
            <p:nvPr/>
          </p:nvSpPr>
          <p:spPr>
            <a:xfrm>
              <a:off x="5829480" y="3213000"/>
              <a:ext cx="2217600" cy="3826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25"/>
            <p:cNvSpPr/>
            <p:nvPr/>
          </p:nvSpPr>
          <p:spPr>
            <a:xfrm>
              <a:off x="5829480" y="3594240"/>
              <a:ext cx="1589040" cy="576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27"/>
            <p:cNvSpPr/>
            <p:nvPr/>
          </p:nvSpPr>
          <p:spPr>
            <a:xfrm>
              <a:off x="6156360" y="2828880"/>
              <a:ext cx="1871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UPPER SECONDARY GENER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28"/>
            <p:cNvSpPr/>
            <p:nvPr/>
          </p:nvSpPr>
          <p:spPr>
            <a:xfrm>
              <a:off x="6099120" y="3213000"/>
              <a:ext cx="18162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PPER SECONDARY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29"/>
            <p:cNvSpPr/>
            <p:nvPr/>
          </p:nvSpPr>
          <p:spPr>
            <a:xfrm>
              <a:off x="6084720" y="3646440"/>
              <a:ext cx="14400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</a:rPr>
                <a:t>BASIC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30"/>
            <p:cNvSpPr/>
            <p:nvPr/>
          </p:nvSpPr>
          <p:spPr>
            <a:xfrm>
              <a:off x="611280" y="2828880"/>
              <a:ext cx="1752480" cy="382680"/>
            </a:xfrm>
            <a:prstGeom prst="rect">
              <a:avLst/>
            </a:prstGeom>
            <a:solidFill>
              <a:srgbClr val="e17000"/>
            </a:solidFill>
            <a:ln w="9360">
              <a:solidFill>
                <a:srgbClr val="e1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31"/>
            <p:cNvSpPr/>
            <p:nvPr/>
          </p:nvSpPr>
          <p:spPr>
            <a:xfrm>
              <a:off x="838080" y="2828880"/>
              <a:ext cx="15796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-PRIMARY EDU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32"/>
            <p:cNvSpPr/>
            <p:nvPr/>
          </p:nvSpPr>
          <p:spPr>
            <a:xfrm>
              <a:off x="468360" y="1989000"/>
              <a:ext cx="518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17000"/>
                  </a:solidFill>
                  <a:latin typeface="Arial"/>
                  <a:ea typeface="Arial"/>
                </a:rPr>
                <a:t>Previous structure of school system (PISA 2000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33"/>
            <p:cNvSpPr/>
            <p:nvPr/>
          </p:nvSpPr>
          <p:spPr>
            <a:xfrm>
              <a:off x="468360" y="3789360"/>
              <a:ext cx="511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17000"/>
                  </a:solidFill>
                  <a:latin typeface="Arial"/>
                  <a:ea typeface="Arial"/>
                </a:rPr>
                <a:t>New structure of school system (PISA 2003, 2006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13"/>
            <p:cNvSpPr/>
            <p:nvPr/>
          </p:nvSpPr>
          <p:spPr>
            <a:xfrm>
              <a:off x="2259000" y="2870280"/>
              <a:ext cx="3249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IMARY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28"/>
            <p:cNvSpPr/>
            <p:nvPr/>
          </p:nvSpPr>
          <p:spPr>
            <a:xfrm>
              <a:off x="6227640" y="5045040"/>
              <a:ext cx="1873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PPER SECONDARY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29"/>
            <p:cNvSpPr/>
            <p:nvPr/>
          </p:nvSpPr>
          <p:spPr>
            <a:xfrm>
              <a:off x="6227640" y="5518080"/>
              <a:ext cx="14940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BASIC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23"/>
            <p:cNvSpPr/>
            <p:nvPr/>
          </p:nvSpPr>
          <p:spPr>
            <a:xfrm>
              <a:off x="6227640" y="4654440"/>
              <a:ext cx="1436760" cy="382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UPPER SECONDARY </a:t>
              </a:r>
              <a:br>
                <a:rPr sz="1100"/>
              </a:b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GENER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-252360" y="981000"/>
            <a:ext cx="9396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ang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troduced since 1999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troduction of the new school typ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- ISCED 2 and extens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gener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(comprehensive)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ducatio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y one year (related to 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CE01-8A2A-498B-84FA-10AE8C3DD3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eduction of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between-school 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differences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05" name="Rectangle 3"/>
          <p:cNvGraphicFramePr/>
          <p:nvPr/>
        </p:nvGraphicFramePr>
        <p:xfrm>
          <a:off x="250920" y="1989000"/>
          <a:ext cx="3598920" cy="40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3598920" cy="40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24360" y="2060280"/>
            <a:ext cx="5076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ISA 2000-2003 revealed that th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variability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achievements between schools was reduce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(this decrease was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most significan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OECD countri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t concern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chievements in al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etences measured by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ISA (reading, mathematics, science). </a:t>
            </a:r>
            <a:br>
              <a:rPr sz="1800"/>
            </a:br>
            <a:br>
              <a:rPr sz="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duction of differences between schools can be related to the comprehensive reform of the educational system, implement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1999.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 was implemented gradually and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tudents wer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 covered in 2000.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PISA 2000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xamined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vious system of educatio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ISA 2003 and 2006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new on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197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Di</a:t>
            </a:r>
            <a:r>
              <a:rPr b="1" lang="pl-PL" sz="2000" spc="-1" strike="noStrike">
                <a:solidFill>
                  <a:srgbClr val="d97300"/>
                </a:solidFill>
                <a:latin typeface="Arial"/>
              </a:rPr>
              <a:t>fferences</a:t>
            </a: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 between schools in Poland in 2000-2006 </a:t>
            </a:r>
            <a:r>
              <a:rPr b="1" lang="pl-PL" sz="2000" spc="-1" strike="noStrike">
                <a:solidFill>
                  <a:srgbClr val="d97300"/>
                </a:solidFill>
                <a:latin typeface="Arial"/>
              </a:rPr>
              <a:t>versus</a:t>
            </a: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 OE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9225-15EF-4F8A-A64A-EA06213083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Differences between schools concerning 15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year-old </a:t>
            </a:r>
            <a:br>
              <a:rPr sz="2600"/>
            </a:b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Polish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’ achievements in reading in 2000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10" name="Rectangle 3"/>
          <p:cNvGraphicFramePr/>
          <p:nvPr/>
        </p:nvGraphicFramePr>
        <p:xfrm>
          <a:off x="1440" y="1803240"/>
          <a:ext cx="5100840" cy="44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803240"/>
                    <a:ext cx="5100840" cy="44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76720" y="1341000"/>
            <a:ext cx="39211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 2000 Poland noted 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 of the largest differences i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chievements of students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etween school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ared to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EU and OEC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countrie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Differences can be referr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ainly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o the division into gener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ducation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chools and vocational education schools, including basic vocational schools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ic vocational schools 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were attended by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6% of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, over 73% of them belonged to the category of low achiever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e b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r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carce in these school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141300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Percent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of 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student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ccording to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th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level of reading competence PISA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F3A8-55E5-4FE8-B478-7745F77747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0:26:15Z</dcterms:created>
  <dc:creator>w.filipkowski</dc:creator>
  <dc:description/>
  <dc:language>en-US</dc:language>
  <cp:lastModifiedBy>Katarzyna Hall</cp:lastModifiedBy>
  <dcterms:modified xsi:type="dcterms:W3CDTF">2010-07-08T12:58:10Z</dcterms:modified>
  <cp:revision>196</cp:revision>
  <dc:subject/>
  <dc:title>Prezentacja programu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21381331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présentation</vt:lpwstr>
  </property>
  <property fmtid="{D5CDD505-2E9C-101B-9397-08002B2CF9AE}" pid="6" name="_NewReviewCycle">
    <vt:lpwstr/>
  </property>
</Properties>
</file>