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C22A-05D1-4244-9649-0CD4527CF8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6528-07C2-44F0-A650-71B46D69B3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6415-DF70-4D07-A326-50A7FDE742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002F-561B-45E7-9CA8-E935283D66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420A-BA18-4BA7-B892-1C3DF9F71A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EF42-68D3-4F7E-AF55-241B5B071B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0590-E479-4F65-A93A-103EDC82A1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C75C-06FC-41D8-B25C-EBDDA09AC9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F670-47E0-4094-87F9-7F07290BFF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8610-734B-4926-B864-C800FFA08B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4C7F-109F-4C40-9A8B-905CFF0832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089A-EF2F-4C20-860B-8C1D8A705C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911C-D959-4B72-BEDF-8ED67A7000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BB46-173F-4874-9BBF-0B99A1A8C9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9598-8BC0-4CF6-81A0-5ED9283CD3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61E8-3CBA-4517-8570-28A7266458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E52F-7B34-4031-9771-F16243CA72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4909-BD36-44FA-B454-92ECB493BD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FA16-7E75-4D7F-8176-C2839ECCE7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D4D-4CC3-4382-BD1B-A6F5AF9E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9D9-8CFE-4C60-A32A-0A740230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195-40E8-4D3F-A5DB-D084D88D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3E29-13A5-48E9-86FA-4B3EFB0F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BA9-BF24-45BB-956C-C0576EE7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AC3-E5C3-4FA2-9226-5E51B36F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F9C-7C08-49FB-AF16-0D27FB77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838-E203-48ED-ABE1-6398943F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E57-BA1B-46B3-B5E9-C46CC4D2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2FFC-D959-4508-9FD1-60B7BAB1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5A2-94D4-44F7-ABC9-A94DD79A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58E-A39C-4487-B059-41815D47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1A6C-A8A5-4C02-8854-99244A794725}" type="slidenum">
              <a:rPr b="0" lang="fr-FR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21416400">
            <a:off x="1294920" y="9900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a logique de la compétence en éducation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urquoi? Comment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elques considérations en marge de l’évaluation des compé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52120" y="35049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oncept impor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 utilisé en psychologie cog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ptima ExtraBlack"/>
                <a:ea typeface="ＭＳ Ｐゴシック"/>
              </a:rPr>
              <a:t>Un concept pertinen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Définition de la compét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Une compétence est la capacité de mobiliser des ressources (internes </a:t>
            </a: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et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 externes)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implique l’intégration (ou la mise en relation) de diverses connaissance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s’applique à une famille de situation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Les situations sont complexes (et inédites)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809880"/>
            <a:ext cx="8153280" cy="1828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ter les savoirs morts, les connaissances iner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160" y="1828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898989"/>
                </a:solidFill>
                <a:latin typeface="Calibri"/>
              </a:rPr>
              <a:t>Un vrai problème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6248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notion de compétence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=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solutio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urquoi ce concep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gag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p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nckart et Dolz (199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8960" y="22856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2680" indent="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ns verser dans le purisme conceptuel, il nous paraît évident qu’on ne peut raisonnablement « penser » la problématique de la formation en usant d’un terme qui finit par désigner tous les aspects de ce que l’on appelait autrefois les « fonctions psychologiques supérieures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étence = Intellige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En résum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19320" y="12949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problématique de la mobilisation en situation des ressources cognitives du sujet pose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un vrai problèm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à la recherche psychopédagogique, mais il n’est pas sûr que la notion de compétence lui apporte une solution posi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vrai problème, car il faut lutter contre les savoirs morts, les connaissances inert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is ne risque-t-on pas de précipiter le monde pédagogique dans une illusion simplificatrice dont il risque d’être difficile de le sort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 la recherche d’équilib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Quelle conception de l’expert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extes politico-pédagog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ire face à des situations inéd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éativ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ansf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sychologie 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’expertise suppose la mobilisation à bon escient d’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automatis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t de connaissances discipli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contrôle métacognitif de l’exé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ux catégories de situa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ergnaud, 199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les plus fréquentes) pour lesquelles le sujet dispose, à un moment donné de son développement et sous certaines circonstances, des ressources cognitives nécessaires au traitement relativement immédiat de la sit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= situation de crise) pour lesquelles le sujet ne dispose pas de toutes les ressources nécessaires ; cela oblige à un temps d’exploration, de réflexion, d’hésitations ainsi qu’à des tentatives avortées et le conduit parfois à la réussite, parfois à l’éch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m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urquoi l’approche par compétences aujourd’hu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jeux pédagogiques de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 recherche d’équilib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et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formative et résolutions de problèmes compl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évaluation sommative des compét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21236400">
            <a:off x="457200" y="2057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L’évaluation scolaire doit-elle juger la capacité des élèves à « réussir » dans des situations 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halkboard Bold"/>
                <a:ea typeface="ＭＳ Ｐゴシック"/>
              </a:rPr>
              <a:t>inédites</a:t>
            </a: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Situations inédites = situations exceptionnel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320040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faire de l’exceptionnel la norme de la vraie compétence 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évaluer les élèves dans des situations qui ne se reproduiront pas nécessairement 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isques de dér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ns l’approche par compétence,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es savoirs deviennent des moyens à mobiliser pour ag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dans des situations inéd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Espace réservé du contenu 3" descr=""/>
          <p:cNvPicPr/>
          <p:nvPr/>
        </p:nvPicPr>
        <p:blipFill>
          <a:blip r:embed="rId1"/>
          <a:stretch/>
        </p:blipFill>
        <p:spPr>
          <a:xfrm>
            <a:off x="4645080" y="1596960"/>
            <a:ext cx="4048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ÉUSSIR ET COMPREND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dosa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équilib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complexe et l’iné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Deux problématiques pédagogiques diffé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inédit =&gt; un problème de flexibilité cog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520" y="3809520"/>
            <a:ext cx="6705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montage cognitif complexe n’est pas nécessairement iné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solution inédite ne requiert pas toujours un montage cognitif comple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1371240"/>
            <a:ext cx="5943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action pédagogique ==&gt; des questions d’équili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2514600"/>
          <a:ext cx="81532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81532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et « compétences 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formative et résolution de problèmes comple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échec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peut résult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incompréhension du problème posé (représentation du problè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non maîtrise des connaissances, stratégies et/ou automatismes requi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vailability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« incapacité » à mobiliser des connaissances, stratégies et/ou automatismes maîtrisé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production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 manque d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fluency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es automatis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surcharge cog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évaluation sommative des compé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solutions inédi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montages cognitifs complex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questions ciblant les automatism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 questions portant sur la compréhension des procédures/stratégies mises en œuv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Pourquoi l’approche par compétences, aujourd’hu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e mise en perspective soci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usgrove (196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out curriculum est une construction soci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e produit de transactions sociales, souvent conflictuelles, entre groupes professionnels et/ou groupes de pression, souvent oppos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ux-ci usent d’argumentation scientifique pour résoudre leurs rapports de fo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Bourque &amp; Frénette (1970), Dandurand (1990), Mellouki (1989), Lenoir (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22096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ansformation de l’école s’oriente dans une direction polarisée par la productivité et le développement économ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 mouvement culmine dans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lle-ci imprime une orientation pragmatique et instrumentale aux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avoir doit êtr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UTIL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influence de l’utilitarisme anglo-saxon &gt;&lt; humanisme européen (Lenoir, 2005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u niveau de la Commission Europé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2, Traite de Maastric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3, Livre blanc sur la compétitivité des entre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5, Livre blanc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nseigner &amp; apprendre: vers la société cognitiv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 (sous la direction de Jean-Louis Reiff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« </a:t>
            </a: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Enseigner &amp; apprendre: vers la société cognitive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 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133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 connaissances de base constituent le socle sur lequel se construit l’aptitude individuelle à l’emplo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» (p. 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ns l’éducation de base, il convient de trouver un bon équilibre entre l’acquisition des savoirs et </a:t>
            </a:r>
            <a:r>
              <a:rPr b="0" i="1" lang="en-US" sz="4400" spc="-1" strike="noStrike">
                <a:solidFill>
                  <a:srgbClr val="1f497d"/>
                </a:solidFill>
                <a:latin typeface="Calibri"/>
              </a:rPr>
              <a:t>les compétence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méthodologiques qui permettent d’apprendre soi-même. Ce sont celles-ci qu’il convient aujourd’hui de développer 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. 16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447920"/>
            <a:ext cx="6248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livre blanc de 1995 redéfinit les rapports entre l’entreprise et l’éc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43000" y="3359160"/>
            <a:ext cx="73152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que de l’école (= facteur d’exclusion par l’échec scol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arition de notions nouvel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réditation/validation des acquis: les entreprises pourront reconnaître les compét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ompét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es enjeux pédagogiques de l’approche par compé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notion de compétences institue un nouveau rapport de l’école aux savo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curriculums ne sont plus construits sur une base disciplin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savoirs n’ont plus de valeur en soi; il leur faut être utilitaire; ces sont des moyens pour agir efficac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uprématie de l’utilitarisme nord-américain par à l’humanisme européen (Lenoir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monde pédagogique est divisé en croyants et non-croy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7:20:10Z</dcterms:created>
  <dc:creator>Marcel Crahay</dc:creator>
  <dc:description/>
  <dc:language>en-US</dc:language>
  <cp:lastModifiedBy>Admin</cp:lastModifiedBy>
  <dcterms:modified xsi:type="dcterms:W3CDTF">2010-07-08T06:21:49Z</dcterms:modified>
  <cp:revision>34</cp:revision>
  <dc:subject/>
  <dc:title>Les compétences professionnelles et le curriculum: des réalités conciliable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850825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