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9C2C-88BF-49AC-89EF-8A78E7ED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0B6D-BCC4-4865-9DA6-BC32348A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DCED-AF98-4878-B82C-D25D84476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FEBE-BE66-485D-BB6D-58C05F85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37F2-005C-48B1-88E0-5525E120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D2788F-BD80-4844-A014-859F822DC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6A353A-A6E3-4C04-AAD5-BDA246AC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037BBD-6C86-4023-ADA1-6DB88766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AA6B1D-106F-4519-B069-253716F0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D6C61-8F43-414E-9848-D4B73477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502E-6435-4165-BDC1-3329B6B5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CC9D50-0A2D-4B03-9B08-801618DA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B1DA78-CBA2-4580-AC0E-1C7F0154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85D85B-DC78-4E6E-BD02-1CA32E8C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37D2A-76A1-49D2-95CA-9C424918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2A66F2-3A32-438C-98EA-65804AAA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DD2762-AE02-4F52-84B2-A8DAE02D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28ACC6-A1E1-4479-BA08-6418CC186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B341-C51B-4403-83E7-483DE566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0296-422B-4E53-8FFB-1BD0189F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0BBD-51B0-4E12-B222-7E182A45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B431-5B3F-4E50-89DE-B67F2CF0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094A-71FF-4A60-86D7-19CA4515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56B7-BCBC-4A3C-B173-B08861DC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g_1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24800" y="61437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7668-80C7-432E-99CB-50AF6BF67BA8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g_2_beloldal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6740640" y="6421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65D3-D3E0-4932-9342-FE793A1A7941}" type="slidenum">
              <a: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bg_1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8"/>
          </p:nvPr>
        </p:nvSpPr>
        <p:spPr>
          <a:xfrm>
            <a:off x="6740640" y="60897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DF57-5950-4AAC-A3E1-972149C3EF19}" type="slidenum">
              <a: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17808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’abandon scolaire précoce en Hongr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076640"/>
            <a:ext cx="6400800" cy="20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Séminaire des Ministres de l’Enseignement obligato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Bruxelles, 9 Juillet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Rózsa Hoffmann Ph.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Secrétaire d’État chargée de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’Éducation Nation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’importance de la réduction du taux d’abandon scolaire préco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’expansion de l’édu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e probl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me des analphabètes fonctionn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2.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’importance de la réduction du taux d’abandon scolaire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réco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-  du point de vue économiqu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: un moyen important de la lutte contre la crise économique 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 le développement du capital humain, l’obtention d’un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qualification co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forme au marché du travail, l’amélioration de l’empolyabi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- 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u point de vue social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a réussite personnelle des individus, l’amélioration de la qualité de la vie humai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91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ff"/>
                </a:solidFill>
                <a:latin typeface="Times New Roman"/>
              </a:rPr>
              <a:t>Les causes de l’abandon scolaire précoc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pauvreté, la situation défavorisée et le milieu socioculturel bas qui en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co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fait de désavantager la culture et le savoir par rapport aux biens matéri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 nécessité de gagner de l’argent plus tô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manque de motivation à l’étu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chômage de longue durée des par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insuffisances structurelles, territoriales du système scol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caractère inintéressant des contenus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transmi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par l’éco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l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 caractère inadapté des méthodes d’enseign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perte du prestige des pédagog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problèmes de santé, mentaux ou d’autres problèmes des enfan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fait de choisir trop tôt un compagnon/une compagn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1280880"/>
            <a:ext cx="78102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ff"/>
                </a:solidFill>
                <a:latin typeface="Times New Roman"/>
              </a:rPr>
              <a:t>Données statistiques</a:t>
            </a:r>
            <a:br>
              <a:rPr sz="2800"/>
            </a:br>
            <a:br>
              <a:rPr sz="2800"/>
            </a:b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Le taux d’abandon scolaire préco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42920" y="2637000"/>
          <a:ext cx="7201080" cy="1295280"/>
        </p:xfrm>
        <a:graphic>
          <a:graphicData uri="http://schemas.openxmlformats.org/drawingml/2006/table">
            <a:tbl>
              <a:tblPr/>
              <a:tblGrid>
                <a:gridCol w="1657440"/>
                <a:gridCol w="3095640"/>
                <a:gridCol w="2448000"/>
              </a:tblGrid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on européen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ngr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3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9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7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042920" y="4797360"/>
          <a:ext cx="7315200" cy="1457280"/>
        </p:xfrm>
        <a:graphic>
          <a:graphicData uri="http://schemas.openxmlformats.org/drawingml/2006/table">
            <a:tbl>
              <a:tblPr/>
              <a:tblGrid>
                <a:gridCol w="1657440"/>
                <a:gridCol w="2016000"/>
                <a:gridCol w="1824120"/>
                <a:gridCol w="1817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â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és de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â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és de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â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és de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484360" y="429264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Participation sc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Mesures prises pour réduire le taux d’abandon scolaire précoce en Hongrie - 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Écoles materne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’admission obligatoire des enfants défavorisé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L’a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ugmentation du nombre de places dans les écoles maternelles, aide à la scolarisation à l’école maternelle, repas gratuits à l’école maternelle, possibilité d’organiser une école maternelle/crèche intégrée</a:t>
            </a:r>
            <a:r>
              <a:rPr b="1" lang="hu-H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Éco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Cours individuels pour assurer le rattrapage des é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 en reta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veloppement et introduction des méthodes d’enseignement intégr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aboration des programmes de formation et d’enseignement et des méthodologies d’enseignement, diffusion des bonnes pra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éation d’un réseau de soutien professionne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rogrammes ciblés – Programme « Arany János » : programme de collège et d’école d’apprentissage pour les élèves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 souffrant de désavantages multiples,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rogrammes de type « seconde chance », aides au repas et à l’achat de livres scolai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Mesures prises pour réduire le taux d’abandon scolaire précoce en Hongrie – 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Dans le cas des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nfants ayant des besoins pédagogiques spécifiques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développement du contenu, aides ciblé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 nouveau gouvernement envisage d’élaborer et mettre en place dans l’ensemble du système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un modèle complexe de contrôle et d’appréciation professionnel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extérieur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dans l’enseignement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pour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’amélioration du niveau et de l’efficacité de l’apprentiss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Écoles professionne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ssibilité de participer dans l’éducation de rattrapage pour ceux qui n’ont pas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achevé l’école prim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13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Programmes et bonnes pratiques </a:t>
            </a:r>
            <a:br>
              <a:rPr sz="2400"/>
            </a:b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visan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à</a:t>
            </a:r>
            <a:r>
              <a:rPr b="1" lang="hu-H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réduire l’abandon scolaire préco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Programme Internats – Écoles Professionnelles Arany János pour élèves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souffrant de désavantages multiple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: prog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soutenu par une orientation professionnell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, coopération entre enseignants et parents et l’institution éducative, un environnement d’enseignement inclus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Programm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« 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Tanoda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services extrascolaires aux é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ouffrant de désavantages et de désavantages multiples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ans les classes supérieures de l’école primaire, au collège et au lycé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Programme de développement des écoles professionnelles: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: Renouvellement de l’enseignement du savoir général et professi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: Méthodolgie de l’enseignement professi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: Réintégration des é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 désavantag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+ enseignement de langues, mesure et évaluation des écoles professionnelles, orientation professionnelle, informatiqu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0000ff"/>
                </a:solidFill>
                <a:latin typeface="Times New Roman"/>
              </a:rPr>
              <a:t>Merci pour votre attention!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13:49:13Z</dcterms:created>
  <dc:creator>Kori</dc:creator>
  <dc:description/>
  <dc:language>en-US</dc:language>
  <cp:lastModifiedBy>demeterd</cp:lastModifiedBy>
  <dcterms:modified xsi:type="dcterms:W3CDTF">2010-07-07T09:25:01Z</dcterms:modified>
  <cp:revision>2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0732215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présentation</vt:lpwstr>
  </property>
  <property fmtid="{D5CDD505-2E9C-101B-9397-08002B2CF9AE}" pid="6" name="_NewReviewCycle">
    <vt:lpwstr/>
  </property>
</Properties>
</file>