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82C-7417-4FFE-A868-514F7232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6FC-8446-4213-A4C4-6AA4A1FC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7100-33E5-4CC5-8E75-D4D99461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C70D-574A-4EFE-A34E-B3F4F12E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C31-4BEA-4085-9D34-D6914CCF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1B33B-9712-4FC2-BB0F-5D960222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DDB18-5125-4E57-897B-DB5FF065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0EF6C-DC24-4C8D-B3E9-710E9E18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CADCC-4BCC-445D-8F1C-88A0605E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75CA9-DCFA-4041-8A66-95CC034C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E133-4775-4257-8E72-59A4C12D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33752-0393-4AA7-AEEF-BF0C1E0A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846ED-CD18-4A21-B69C-0E80A71A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85CDE-1CDB-47EB-ACD5-A9734222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54360-42C6-4BA3-B8AB-55950F63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2EA3D-44C1-4544-9D30-BB6B81AB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6737A-B8E0-4AA6-9A3E-6062F835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D0B54-83B7-4BC7-9BED-666DDAFE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3BDD-7369-4D2B-8807-2FF01815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36D-8B0A-457E-A404-E4E36C54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9E4-606E-482C-8351-7A6D7FB9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F82-5758-474F-9488-14AA5A9A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508-22F8-4BC8-BCAA-60BA1AB0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848-775B-4F2D-A28C-C65672E3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24800" y="6143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03B8-EC5B-43E0-BFAD-0BB07A3D0D0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97CB-C9DE-45A6-A7FF-298593DA0F4B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6740640" y="6089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8E38-0D5E-4C7B-92BD-A346A41257A4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1780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abandon scolaire précoce en Hongr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076640"/>
            <a:ext cx="6400800" cy="20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éminaire des Ministres de l’Enseignement obliga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Bruxelles, 9 Juillet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Rózsa Hoffmann Ph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ecrétaire d’État chargée de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’Éducation Nation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importance de la réduction du taux d’abandon scolaire préco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expansion de l’é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e probl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me des analphabètes fonctionn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importance de la réduction du taux d’abandon scolaire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-  du point de vue économiqu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un moyen important de la lutte contre la crise économique 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 le développement du capital humain, l’obtention d’u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qualification co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rme au marché du travail, l’amélioration de l’empol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u point de vue socia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a réussite personnelle des individus, l’amélioration de la qualité de la vie huma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</a:rPr>
              <a:t>Les causes de l’abandon scolaire préco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auvreté, la situation défavorisée et le milieu socioculturel bas qui en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o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désavantager la culture et le savoir par rapport aux biens matéri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 nécessité de gagner de l’argent plus tô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manque de motivation à l’é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hômage de longue durée des par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insuffisances structurelles, territoriales du système scol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aractère inintéressant des contenus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ransmi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par l’éc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caractère inadapté des méthodes d’enseign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erte du prestige des pédagog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problèmes de santé, mentaux ou d’autres problèmes des enfa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choisir trop tôt un compagnon/une compagn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1280880"/>
            <a:ext cx="78102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ff"/>
                </a:solidFill>
                <a:latin typeface="Times New Roman"/>
              </a:rPr>
              <a:t>Données statistiques</a:t>
            </a:r>
            <a:br>
              <a:rPr sz="2800"/>
            </a:br>
            <a:br>
              <a:rPr sz="2800"/>
            </a:b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Le taux d’abandon scolaire 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42920" y="2637000"/>
          <a:ext cx="7201080" cy="1295280"/>
        </p:xfrm>
        <a:graphic>
          <a:graphicData uri="http://schemas.openxmlformats.org/drawingml/2006/table">
            <a:tbl>
              <a:tblPr/>
              <a:tblGrid>
                <a:gridCol w="1657440"/>
                <a:gridCol w="3095640"/>
                <a:gridCol w="2448000"/>
              </a:tblGrid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on européen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gr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042920" y="4797360"/>
          <a:ext cx="7315200" cy="1457280"/>
        </p:xfrm>
        <a:graphic>
          <a:graphicData uri="http://schemas.openxmlformats.org/drawingml/2006/table">
            <a:tbl>
              <a:tblPr/>
              <a:tblGrid>
                <a:gridCol w="1657440"/>
                <a:gridCol w="2016000"/>
                <a:gridCol w="1824120"/>
                <a:gridCol w="181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84360" y="4292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Participation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-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mater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’admission obligatoire des enfants défavorisé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L’a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gmentation du nombre de places dans les écoles maternelles, aide à la scolarisation à l’école maternelle, repas gratuits à l’école maternelle, possibilité d’organiser une école maternelle/crèche intégrée</a:t>
            </a: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Cours individuels pour assurer le rattrapage des é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en ret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et introduction des méthodes d’enseignement intégr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aboration des programmes de formation et d’enseignement et des méthodologies d’enseignement, diffusion des bonnes pra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éation d’un réseau de soutien professionn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ciblés – Programme « Arany János » : programme de collège et d’école d’apprentissage pour les élèves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souffrant de désavantages multiples,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de type « seconde chance », aides au repas et à l’achat de livres scolai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–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Dans le cas des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fants ayant des besoins pédagogiques spécifique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développement du contenu, aides ciblé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nouveau gouvernement envisage d’élaborer et mettre en place dans l’ensemble du système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un modèle complexe de contrôle et d’appréciation professionnel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extérieur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ans l’enseignement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mélioration du niveau et de l’efficacité de l’apprenti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profession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ssibilité de participer dans l’éducation de rattrapage pour ceux qui n’ont pa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achevé l’école prim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Programmes et bonnes pratiques </a:t>
            </a:r>
            <a:br>
              <a:rPr sz="2400"/>
            </a:b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visan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à</a:t>
            </a:r>
            <a:r>
              <a:rPr b="1" lang="hu-H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éduire l’abandon scolaire préco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rogramme Internats – Écoles Professionnelles Arany János pour élèves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multipl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prog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soutenu par une orientation professionnell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coopération entre enseignants et parents et l’institution éducative, un environnement d’enseignement inclus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« 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anoda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services extrascolaires aux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et de désavantages multiple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ans les classes supérieures de l’école primaire, au collège et au lycé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de développement des écoles professionnelles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: Renouvellement de l’enseignement du savoir général e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: Méthodolgie de l’enseignemen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: Réintégration des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désavantag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+ enseignement de langues, mesure et évaluation des écoles professionnelles, orientation professionnelle, informatiqu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ff"/>
                </a:solidFill>
                <a:latin typeface="Times New Roman"/>
              </a:rPr>
              <a:t>Merci pour votre attention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3:49:13Z</dcterms:created>
  <dc:creator>Kori</dc:creator>
  <dc:description/>
  <dc:language>en-US</dc:language>
  <cp:lastModifiedBy>demeterd</cp:lastModifiedBy>
  <dcterms:modified xsi:type="dcterms:W3CDTF">2010-07-07T09:25:01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0732215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