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18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19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20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350A-A76A-45A2-95AE-E3F56F9CBE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EA6F-33CF-48C3-9F25-4EC88A49B6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11A8-E4C5-4023-8E5C-6253065927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1B91-7FD7-4183-A0A8-F50B8CAB10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A24F-FC93-43D1-9502-694B005634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F121-416B-446C-BC14-F99A5B8290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62FB5B-785A-4E12-A273-CAF323F6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2712FB-E29C-404F-AD6E-A9B8F107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5BFDBB-C88C-4A43-86B7-5CAF275E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726804-E403-4A39-84B4-E3986027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AD8C59-E364-41B8-A88A-3A684108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1D0582-B0E1-4468-A0B2-3C469CC8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DE1FF7-273B-4626-90D3-999A8035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D38703-F67B-4C99-8285-62F2BE3C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E295B6-523B-437A-8A4E-D29B6B820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5A1CF5-791A-40CC-96C3-A29589192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9FC9B5-D94F-42AD-9195-B8769C0F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016A2C-7307-4A6D-92F2-C7594667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DFA1F5-38E1-4E9F-A1DD-36741626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08298F-960C-4C6D-AE81-46FB4869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08FA4A-F715-4094-9422-7732656E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41BB24-1611-4CC0-9F18-15EC6626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1425B3-7B81-43FE-BE36-AA992431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7144BF-CA02-411F-A0C7-7DC9BD86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297924-B366-4B19-A0A5-CE1C53A1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13861B-4E6E-4CA7-B97E-FED01DB2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00D059-AA22-4392-98B8-D6625A483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CCFB-E603-41A3-B113-066522D3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3CB5-638A-43CA-87E5-741CC6B2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0D24-2DB5-4612-9644-9FB0FFF0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FFB0-3CA7-4F10-A29C-DE856DA5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EA97-CD15-4296-987A-8804C216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085C-6C15-4F71-8B01-445B52B8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1FD5-872F-4DB7-AF4E-AFE88EF9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CDC0-4C9F-422C-A9C1-A4DA8DFC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344B-E035-4968-8485-2500B783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3BAF-BB28-42E7-953D-5BE7BF24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E3CF-025D-4C58-961E-6A53AC186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5F57-80FE-41E1-9D3B-B0009A00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9585C8-A353-4B41-BA2E-25A7ABF66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ABC87C-FEA1-4FC1-81BE-A6BD0F7F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368CC3-D2BA-42B5-BFDB-23FF0417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9647FF-FEB9-46EF-A7E1-AC7C17C1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EAA933-E931-4646-870C-34E52B03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E5F50C-297B-464B-A5F8-849D8E71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819946-D13F-43DB-B6BB-B0856EEA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EBE695-10C1-4D85-9677-93DC9400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BACF8D-1574-4195-A8BB-D2E62722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ADE3E5-93F3-4629-841D-188FDCD7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C4F4FA-90B3-4F88-816C-1346E741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FC9ABE-02E5-4EA3-8877-1EF7734A1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00CB74-07B6-4CF8-AF96-E82B08D6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892BF2-C11D-4065-A49C-828C696B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3ADCB2-F8C2-4570-A57C-FEB80580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8941-ADB1-4B4E-A86C-97991C5F9BB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923000" y="2474640"/>
            <a:ext cx="35985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908240" y="3511440"/>
            <a:ext cx="35989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14" descr="Logo Powerpoint 2"/>
          <p:cNvPicPr/>
          <p:nvPr/>
        </p:nvPicPr>
        <p:blipFill>
          <a:blip r:embed="rId2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5"/>
          </p:nvPr>
        </p:nvSpPr>
        <p:spPr>
          <a:xfrm>
            <a:off x="7696080" y="5936760"/>
            <a:ext cx="106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CCB9-868B-48B4-9573-45BADDDA529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6"/>
          </p:nvPr>
        </p:nvSpPr>
        <p:spPr>
          <a:xfrm>
            <a:off x="1727280" y="5936760"/>
            <a:ext cx="3635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Projectdirectie Voortijdig Schoolverla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www.aanvalopschooluitval.n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7"/>
          </p:nvPr>
        </p:nvSpPr>
        <p:spPr>
          <a:xfrm>
            <a:off x="685800" y="5936760"/>
            <a:ext cx="914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E216-1033-4D70-BD43-E3F5256C717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shpFoto" descr="Afb_inhoud.png"/>
          <p:cNvPicPr/>
          <p:nvPr/>
        </p:nvPicPr>
        <p:blipFill>
          <a:blip r:embed="rId2"/>
          <a:stretch/>
        </p:blipFill>
        <p:spPr>
          <a:xfrm>
            <a:off x="0" y="0"/>
            <a:ext cx="4572000" cy="6873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2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A896-7BBF-4183-83E2-3D07A1B1E841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929120" y="2500200"/>
            <a:ext cx="35020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943520" y="3155760"/>
            <a:ext cx="34876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18520" indent="-218520">
              <a:buClr>
                <a:srgbClr val="0000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55920" indent="-2811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74960" indent="-28080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03360" indent="-28080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931760" indent="-2808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931760" indent="-2808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931760" indent="-2808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12" descr="Logo Powerpoint 2"/>
          <p:cNvPicPr/>
          <p:nvPr/>
        </p:nvPicPr>
        <p:blipFill>
          <a:blip r:embed="rId6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shpFoto" descr="Afb_inhoud.png"/>
          <p:cNvPicPr/>
          <p:nvPr/>
        </p:nvPicPr>
        <p:blipFill>
          <a:blip r:embed="rId2"/>
          <a:stretch/>
        </p:blipFill>
        <p:spPr>
          <a:xfrm>
            <a:off x="0" y="0"/>
            <a:ext cx="4572000" cy="68738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dt" idx="3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A89C-8CA8-43A8-A282-07A9E81FCA03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929120" y="2500200"/>
            <a:ext cx="35020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4943520" y="3155760"/>
            <a:ext cx="34876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16000" indent="-21600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6040" indent="-2775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9040" indent="-27756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62040" indent="-27756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985400" indent="-2775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985400" indent="-2775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985400" indent="-2775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12" descr="Logo Powerpoint 2"/>
          <p:cNvPicPr/>
          <p:nvPr/>
        </p:nvPicPr>
        <p:blipFill>
          <a:blip r:embed="rId6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4482720" y="6538680"/>
            <a:ext cx="41562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3057-AC9D-48AB-B846-0C728CD5488B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4476240" y="6368760"/>
            <a:ext cx="4164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3AF7-74A1-4F65-8724-3642669E105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shpFoto" descr="Afb 1.png"/>
          <p:cNvPicPr/>
          <p:nvPr/>
        </p:nvPicPr>
        <p:blipFill>
          <a:blip r:embed="rId2"/>
          <a:stretch/>
        </p:blipFill>
        <p:spPr>
          <a:xfrm>
            <a:off x="0" y="0"/>
            <a:ext cx="4573440" cy="6862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8" descr="Logo Powerpoint 2"/>
          <p:cNvPicPr/>
          <p:nvPr/>
        </p:nvPicPr>
        <p:blipFill>
          <a:blip r:embed="rId3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shpFoto" descr="Afb 2.png"/>
          <p:cNvPicPr/>
          <p:nvPr/>
        </p:nvPicPr>
        <p:blipFill>
          <a:blip r:embed="rId2"/>
          <a:stretch/>
        </p:blipFill>
        <p:spPr>
          <a:xfrm>
            <a:off x="0" y="0"/>
            <a:ext cx="4573440" cy="6862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" descr="Logo Powerpoint 2"/>
          <p:cNvPicPr/>
          <p:nvPr/>
        </p:nvPicPr>
        <p:blipFill>
          <a:blip r:embed="rId3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C239-987B-4DCF-BF05-D850AF63AAAF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shpFoto" descr="Afb_inhoud.png"/>
          <p:cNvPicPr/>
          <p:nvPr/>
        </p:nvPicPr>
        <p:blipFill>
          <a:blip r:embed="rId2"/>
          <a:stretch/>
        </p:blipFill>
        <p:spPr>
          <a:xfrm>
            <a:off x="0" y="0"/>
            <a:ext cx="4572000" cy="68738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Logo Powerpoint 2"/>
          <p:cNvPicPr/>
          <p:nvPr/>
        </p:nvPicPr>
        <p:blipFill>
          <a:blip r:embed="rId3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8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5D13-36B2-41A8-AE2A-E9830AF99716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hpKleurvlakOnder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shpTekst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shpDatum" descr="RO__vervolgpagina~LPPT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9"/>
          </p:nvPr>
        </p:nvSpPr>
        <p:spPr>
          <a:xfrm>
            <a:off x="4482720" y="6538680"/>
            <a:ext cx="41562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0A13-DE0F-4C31-90FA-04EAA12183CA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0"/>
          </p:nvPr>
        </p:nvSpPr>
        <p:spPr>
          <a:xfrm>
            <a:off x="4476240" y="6368760"/>
            <a:ext cx="4164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1"/>
          </p:nvPr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C4EC-9446-40D2-A8BF-CF009AC77EE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2"/>
          </p:nvPr>
        </p:nvSpPr>
        <p:spPr>
          <a:xfrm>
            <a:off x="4482720" y="6538680"/>
            <a:ext cx="41562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C184-678C-4046-9122-BEE479504EF6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13"/>
          </p:nvPr>
        </p:nvSpPr>
        <p:spPr>
          <a:xfrm>
            <a:off x="4476240" y="6368760"/>
            <a:ext cx="4164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Projectdirectie Voortijdig Schoolverla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www.aanvalopschooluitval.n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14"/>
          </p:nvPr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25E4-4AA3-48E2-BF59-D29D3313E05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ijdelijke aanduiding voor voettekst 1"/>
          <p:cNvSpPr/>
          <p:nvPr/>
        </p:nvSpPr>
        <p:spPr>
          <a:xfrm>
            <a:off x="1727280" y="5937120"/>
            <a:ext cx="363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OCWTalent"/>
              </a:rPr>
              <a:t>Projectdirectie Voortijdig Schoolverlate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OCWTalent"/>
              </a:rPr>
              <a:t>www.aanvalopschooluitval.n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ijdelijke aanduiding voor dianummer 2"/>
          <p:cNvSpPr/>
          <p:nvPr/>
        </p:nvSpPr>
        <p:spPr>
          <a:xfrm>
            <a:off x="685800" y="5937120"/>
            <a:ext cx="914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C63F-F637-41D0-8CCA-A6AB2AC78632}" type="slidenum">
              <a:rPr b="0" lang="en-US" sz="1200" spc="-1" strike="noStrike">
                <a:solidFill>
                  <a:srgbClr val="000000"/>
                </a:solidFill>
                <a:latin typeface="OCWTale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Afbeelding 4" descr="suzan.jpg"/>
          <p:cNvPicPr/>
          <p:nvPr/>
        </p:nvPicPr>
        <p:blipFill>
          <a:blip r:embed="rId1"/>
          <a:stretch/>
        </p:blipFill>
        <p:spPr>
          <a:xfrm>
            <a:off x="0" y="3344760"/>
            <a:ext cx="4576680" cy="351324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8"/>
          <p:cNvSpPr/>
          <p:nvPr/>
        </p:nvSpPr>
        <p:spPr>
          <a:xfrm>
            <a:off x="4594320" y="1757520"/>
            <a:ext cx="4549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Blitz on dropouts</a:t>
            </a:r>
            <a:br>
              <a:rPr sz="19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000000"/>
                </a:solidFill>
                <a:latin typeface="Verdana"/>
              </a:rPr>
              <a:t>Marja van Bijsterveldt-Vliegenthart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State Secretary</a:t>
            </a:r>
            <a:r>
              <a:rPr b="1" i="1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1700" spc="-1" strike="noStrike">
                <a:solidFill>
                  <a:srgbClr val="000000"/>
                </a:solidFill>
                <a:latin typeface="Verdana"/>
              </a:rPr>
              <a:t>of Education, Culture and Science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Brussels, 9 July 2010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67920" y="1233360"/>
            <a:ext cx="7846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100" spc="-1" strike="noStrike">
                <a:solidFill>
                  <a:srgbClr val="900079"/>
                </a:solidFill>
                <a:latin typeface="Verdana"/>
              </a:rPr>
              <a:t>The Golden Triangle</a:t>
            </a:r>
            <a:r>
              <a:rPr b="1" lang="nl-NL" sz="2000" spc="-1" strike="noStrike">
                <a:solidFill>
                  <a:srgbClr val="90007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69360" y="2073240"/>
            <a:ext cx="785844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gover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municipa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sch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All working toge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Agreements with schools and local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In 39 regions for the period 2008-2011 (convenants)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1A01-49B9-4617-A97F-CFBC0FD183F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A1FC39-B6D7-472F-AB73-43565398A2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Oval 2"/>
          <p:cNvSpPr/>
          <p:nvPr/>
        </p:nvSpPr>
        <p:spPr>
          <a:xfrm>
            <a:off x="3635280" y="1125360"/>
            <a:ext cx="2016360" cy="1802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Oval 3"/>
          <p:cNvSpPr/>
          <p:nvPr/>
        </p:nvSpPr>
        <p:spPr>
          <a:xfrm>
            <a:off x="6145200" y="4089240"/>
            <a:ext cx="1689120" cy="16066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Oval 4"/>
          <p:cNvSpPr/>
          <p:nvPr/>
        </p:nvSpPr>
        <p:spPr>
          <a:xfrm>
            <a:off x="1187280" y="4203720"/>
            <a:ext cx="1776600" cy="153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3911760" y="1701720"/>
            <a:ext cx="15112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inistry of Edu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Text Box 6"/>
          <p:cNvSpPr/>
          <p:nvPr/>
        </p:nvSpPr>
        <p:spPr>
          <a:xfrm rot="10800000">
            <a:off x="6411960" y="469188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1162080" y="48625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unicipal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Line 16"/>
          <p:cNvSpPr/>
          <p:nvPr/>
        </p:nvSpPr>
        <p:spPr>
          <a:xfrm>
            <a:off x="5495760" y="2719440"/>
            <a:ext cx="103356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Line 17"/>
          <p:cNvSpPr/>
          <p:nvPr/>
        </p:nvSpPr>
        <p:spPr>
          <a:xfrm flipH="1">
            <a:off x="2563920" y="2708280"/>
            <a:ext cx="1287360" cy="130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Line 28"/>
          <p:cNvSpPr/>
          <p:nvPr/>
        </p:nvSpPr>
        <p:spPr>
          <a:xfrm>
            <a:off x="3171960" y="4941720"/>
            <a:ext cx="2678040" cy="1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08080" y="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Golden triangle: </a:t>
            </a: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Regional arrangements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718996-C1B4-4AD6-9D71-F8919096EA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Oval 2"/>
          <p:cNvSpPr/>
          <p:nvPr/>
        </p:nvSpPr>
        <p:spPr>
          <a:xfrm>
            <a:off x="3635280" y="1125360"/>
            <a:ext cx="2016360" cy="1802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Oval 3"/>
          <p:cNvSpPr/>
          <p:nvPr/>
        </p:nvSpPr>
        <p:spPr>
          <a:xfrm>
            <a:off x="6372360" y="4365720"/>
            <a:ext cx="151272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Oval 4"/>
          <p:cNvSpPr/>
          <p:nvPr/>
        </p:nvSpPr>
        <p:spPr>
          <a:xfrm>
            <a:off x="1187280" y="4365720"/>
            <a:ext cx="151308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3924360" y="1413000"/>
            <a:ext cx="15112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inistry of Edu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Directs the ‘Drive to reduce school drop-out rates’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Text Box 6"/>
          <p:cNvSpPr/>
          <p:nvPr/>
        </p:nvSpPr>
        <p:spPr>
          <a:xfrm rot="10800000">
            <a:off x="6300360" y="4652280"/>
            <a:ext cx="1660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ary/pre- vocational secondary schoo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1187280" y="47242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unicipal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2916360" y="81288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ocial Affairs &amp; Employment</a:t>
            </a: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5580000" y="1268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alth, Welfare &amp; Sport/ Youth &amp; Famil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5724360" y="18446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fen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5651640" y="2349360"/>
            <a:ext cx="29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griculture, Nature &amp; Food Qua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3780000" y="292428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826920" y="1268280"/>
            <a:ext cx="28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ousing, Communities &amp; Integration</a:t>
            </a: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1619280" y="184464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Economic aff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Text Box 15"/>
          <p:cNvSpPr/>
          <p:nvPr/>
        </p:nvSpPr>
        <p:spPr>
          <a:xfrm>
            <a:off x="1258920" y="2349360"/>
            <a:ext cx="23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Interior &amp; Kingdom Rel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Line 16"/>
          <p:cNvSpPr/>
          <p:nvPr/>
        </p:nvSpPr>
        <p:spPr>
          <a:xfrm>
            <a:off x="5508720" y="2708280"/>
            <a:ext cx="129528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Line 17"/>
          <p:cNvSpPr/>
          <p:nvPr/>
        </p:nvSpPr>
        <p:spPr>
          <a:xfrm flipH="1">
            <a:off x="2340000" y="2708280"/>
            <a:ext cx="151128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Text Box 18"/>
          <p:cNvSpPr/>
          <p:nvPr/>
        </p:nvSpPr>
        <p:spPr>
          <a:xfrm>
            <a:off x="6300720" y="321300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Text Box 19"/>
          <p:cNvSpPr/>
          <p:nvPr/>
        </p:nvSpPr>
        <p:spPr>
          <a:xfrm>
            <a:off x="826920" y="3068640"/>
            <a:ext cx="251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Education Ministry mandates responsibilities (covenant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20"/>
          <p:cNvSpPr/>
          <p:nvPr/>
        </p:nvSpPr>
        <p:spPr>
          <a:xfrm>
            <a:off x="179280" y="3716280"/>
            <a:ext cx="8785440" cy="25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Rectangle 21"/>
          <p:cNvSpPr/>
          <p:nvPr/>
        </p:nvSpPr>
        <p:spPr>
          <a:xfrm>
            <a:off x="179280" y="3716280"/>
            <a:ext cx="87854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22"/>
          <p:cNvSpPr/>
          <p:nvPr/>
        </p:nvSpPr>
        <p:spPr>
          <a:xfrm>
            <a:off x="684360" y="3789360"/>
            <a:ext cx="81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unicipal Executive Councillors for education/youth policy/RMC municipalities (administrative coordination)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23"/>
          <p:cNvSpPr/>
          <p:nvPr/>
        </p:nvSpPr>
        <p:spPr>
          <a:xfrm>
            <a:off x="108000" y="4149720"/>
            <a:ext cx="252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School Drop-out Registration and Coordination Centre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250920" y="400536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324000" y="4797360"/>
            <a:ext cx="8650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entre for Work and Income/Employment and Assistance Act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324000" y="5950080"/>
            <a:ext cx="14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Probation servic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Text Box 27"/>
          <p:cNvSpPr/>
          <p:nvPr/>
        </p:nvSpPr>
        <p:spPr>
          <a:xfrm>
            <a:off x="2268360" y="5589720"/>
            <a:ext cx="172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Debt restructuring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Line 28"/>
          <p:cNvSpPr/>
          <p:nvPr/>
        </p:nvSpPr>
        <p:spPr>
          <a:xfrm>
            <a:off x="2771640" y="494172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 Box 29"/>
          <p:cNvSpPr/>
          <p:nvPr/>
        </p:nvSpPr>
        <p:spPr>
          <a:xfrm>
            <a:off x="2700360" y="5084640"/>
            <a:ext cx="115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Housing corporation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 Box 30"/>
          <p:cNvSpPr/>
          <p:nvPr/>
        </p:nvSpPr>
        <p:spPr>
          <a:xfrm>
            <a:off x="2484360" y="4149720"/>
            <a:ext cx="136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School Attendance officer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 Box 31"/>
          <p:cNvSpPr/>
          <p:nvPr/>
        </p:nvSpPr>
        <p:spPr>
          <a:xfrm>
            <a:off x="3924360" y="429264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Urban Policy/Accres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 Box 32"/>
          <p:cNvSpPr/>
          <p:nvPr/>
        </p:nvSpPr>
        <p:spPr>
          <a:xfrm>
            <a:off x="3492360" y="458136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Municipalities Fund/own resource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 Box 33"/>
          <p:cNvSpPr/>
          <p:nvPr/>
        </p:nvSpPr>
        <p:spPr>
          <a:xfrm>
            <a:off x="4716360" y="5157720"/>
            <a:ext cx="165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Regional Institute for Mental Health/Area Health Authority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 Box 34"/>
          <p:cNvSpPr/>
          <p:nvPr/>
        </p:nvSpPr>
        <p:spPr>
          <a:xfrm>
            <a:off x="5580000" y="42926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Juvenile car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Text Box 35"/>
          <p:cNvSpPr/>
          <p:nvPr/>
        </p:nvSpPr>
        <p:spPr>
          <a:xfrm>
            <a:off x="7451640" y="5661000"/>
            <a:ext cx="11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olice/Courts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Text Box 36"/>
          <p:cNvSpPr/>
          <p:nvPr/>
        </p:nvSpPr>
        <p:spPr>
          <a:xfrm>
            <a:off x="7093080" y="4149720"/>
            <a:ext cx="187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entre for Youth and Family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Text Box 37"/>
          <p:cNvSpPr/>
          <p:nvPr/>
        </p:nvSpPr>
        <p:spPr>
          <a:xfrm>
            <a:off x="7956720" y="486900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Line 38"/>
          <p:cNvSpPr/>
          <p:nvPr/>
        </p:nvSpPr>
        <p:spPr>
          <a:xfrm>
            <a:off x="2556000" y="5950080"/>
            <a:ext cx="71892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Line 39"/>
          <p:cNvSpPr/>
          <p:nvPr/>
        </p:nvSpPr>
        <p:spPr>
          <a:xfrm flipH="1">
            <a:off x="5651640" y="5950080"/>
            <a:ext cx="72072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Text Box 40"/>
          <p:cNvSpPr/>
          <p:nvPr/>
        </p:nvSpPr>
        <p:spPr>
          <a:xfrm>
            <a:off x="2987640" y="6381720"/>
            <a:ext cx="30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mployers/Employees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08080" y="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Golden triangle: </a:t>
            </a: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Regional arrangements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BCFC9F-A697-4AC4-8077-C95BDD70E5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67920" y="1233360"/>
            <a:ext cx="7846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494c5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69360" y="1798200"/>
            <a:ext cx="78584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ww.aanvalopschooluitval.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7DC7-09A0-4CFB-B19D-8BEFCF6A818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F3FE65-2930-4389-A6CB-4402F9818C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900079"/>
                </a:solidFill>
                <a:latin typeface="Arial"/>
              </a:rPr>
              <a:t>Agreements/Convenants</a:t>
            </a:r>
            <a:endParaRPr b="0" lang="en-US" sz="24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406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educe dropout rate with 10% every year until 2012’ (40%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wn choice in methods to achieve objectives (menu l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operation between municipality and school and other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cure, no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ole of the gover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cure, no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ilitating, monitoring and evalu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e results in good practices and implement these in order to improve national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7111BC-1FBF-4250-9BA1-66C1BEDABA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900079"/>
                </a:solidFill>
                <a:latin typeface="Arial"/>
              </a:rPr>
              <a:t>What are we going to do in the future?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thin The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New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ontinuing current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thin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haring good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OECD: contribution researc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“Overcoming School Failure”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ecommendation on Early School Leavers, by the Europea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E9CA52-02BB-4FB8-875C-3749748533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061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2800" spc="-1" strike="noStrike">
                <a:solidFill>
                  <a:srgbClr val="900079"/>
                </a:solidFill>
                <a:latin typeface="Verdana"/>
              </a:rPr>
              <a:t>Introduction Early school leavers: objectives and key figures</a:t>
            </a:r>
            <a:r>
              <a:rPr b="0" lang="nl-NL" sz="2200" spc="-1" strike="noStrike">
                <a:solidFill>
                  <a:srgbClr val="900079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12840" y="2111400"/>
            <a:ext cx="80611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Lisbon objective: reducing the number of early school-leavers between the ages of 18 and 24 from 15.5% in 2002 to approx. 10% in 2010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National objective: reducing the number of early school-leavers : from 71.000 in 2002 (5,7%) to 35.000 in 2012 (2,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594C2A-6B19-4CE1-8630-3F87158FF1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B051-7899-409D-9087-B713366BFD7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4997-8A53-4627-91DC-04B92461BC0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9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900079"/>
                </a:solidFill>
                <a:latin typeface="Verdana"/>
              </a:rPr>
              <a:t>The results (national objective)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graphicFrame>
        <p:nvGraphicFramePr>
          <p:cNvPr id="433" name="Object 3"/>
          <p:cNvGraphicFramePr/>
          <p:nvPr/>
        </p:nvGraphicFramePr>
        <p:xfrm>
          <a:off x="617400" y="2260440"/>
          <a:ext cx="7790040" cy="350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2260440"/>
                    <a:ext cx="7790040" cy="35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Text Box 9"/>
          <p:cNvSpPr/>
          <p:nvPr/>
        </p:nvSpPr>
        <p:spPr>
          <a:xfrm>
            <a:off x="3594240" y="518328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5232240" y="51991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chiev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5B1D3E-EE74-4812-82E5-04BAFA8196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900079"/>
                </a:solidFill>
                <a:latin typeface="Arial"/>
              </a:rPr>
              <a:t>Results in international </a:t>
            </a:r>
            <a:br>
              <a:rPr sz="2300"/>
            </a:br>
            <a:r>
              <a:rPr b="1" lang="en-US" sz="2300" spc="-1" strike="noStrike">
                <a:solidFill>
                  <a:srgbClr val="900079"/>
                </a:solidFill>
                <a:latin typeface="Arial"/>
              </a:rPr>
              <a:t>perspective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opout rate in 2008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: 15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L: 11.4 %</a:t>
            </a:r>
            <a:br>
              <a:rPr sz="1800"/>
            </a:br>
            <a:br>
              <a:rPr sz="18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source: Eurostat, 2009)</a:t>
            </a:r>
            <a:br>
              <a:rPr sz="1800"/>
            </a:br>
            <a:br>
              <a:rPr sz="1800"/>
            </a:br>
            <a:endParaRPr b="0" lang="en-US" sz="13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400824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8E99-AD85-439F-B47B-4EF6D4446A3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0" name="shpPagina" descr=""/>
          <p:cNvPicPr/>
          <p:nvPr/>
        </p:nvPicPr>
        <p:blipFill>
          <a:blip r:embed="rId1"/>
          <a:stretch/>
        </p:blipFill>
        <p:spPr>
          <a:xfrm>
            <a:off x="4307040" y="-222120"/>
            <a:ext cx="4662360" cy="73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C2C564-A780-4DEE-BCBE-68962A55A6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71440" y="985680"/>
            <a:ext cx="816912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900079"/>
                </a:solidFill>
                <a:latin typeface="Verdana"/>
              </a:rPr>
              <a:t>Know the Numbers </a:t>
            </a:r>
            <a:endParaRPr b="0" lang="en-US" sz="28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600" y="153828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Better registration, better analy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Introduction of ‘Education Number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roduction of ‘Digital Count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78E213-371B-46FC-B99B-D0F4F0EBFE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2443-6349-4194-8105-DA8CEAB86E4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66480" y="1233360"/>
            <a:ext cx="85611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00079"/>
                </a:solidFill>
                <a:latin typeface="Verdana"/>
              </a:rPr>
              <a:t>Policies and Programs</a:t>
            </a:r>
            <a:endParaRPr b="0" lang="en-US" sz="28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2240" y="1716120"/>
            <a:ext cx="857556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etter transition from pre-vocational to vocational education (VMBO – MB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ore scope for ‘practical-oriented student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etter career orientation and gui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re appealing education, with sports and cul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0.000 APL-programmes and agreement with large employ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re and better care at school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B5B126-24A4-41D4-A441-6CA53CF6FC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Footer Placeholder 4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66840" y="1233000"/>
            <a:ext cx="3681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900079"/>
                </a:solidFill>
                <a:latin typeface="Verdana"/>
              </a:rPr>
              <a:t>Focus on municipalities </a:t>
            </a:r>
            <a:br>
              <a:rPr sz="2400"/>
            </a:br>
            <a:r>
              <a:rPr b="1" lang="en-GB" sz="2400" spc="-1" strike="noStrike">
                <a:solidFill>
                  <a:srgbClr val="900079"/>
                </a:solidFill>
                <a:latin typeface="Verdana"/>
              </a:rPr>
              <a:t>in the Netherlands</a:t>
            </a:r>
            <a:endParaRPr b="0" lang="en-US" sz="2400" spc="-1" strike="noStrike">
              <a:solidFill>
                <a:srgbClr val="900079"/>
              </a:solidFill>
              <a:latin typeface="Arial"/>
            </a:endParaRPr>
          </a:p>
        </p:txBody>
      </p:sp>
      <p:pic>
        <p:nvPicPr>
          <p:cNvPr id="448" name="Picture 7" descr="C:\Users\Loesje\Desktop\vsv0809_gem1Eng.jpg"/>
          <p:cNvPicPr/>
          <p:nvPr/>
        </p:nvPicPr>
        <p:blipFill>
          <a:blip r:embed="rId1"/>
          <a:stretch/>
        </p:blipFill>
        <p:spPr>
          <a:xfrm>
            <a:off x="4289400" y="0"/>
            <a:ext cx="4854600" cy="687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0F11D8-BD50-4C6B-86F1-4677B84171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4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26520" y="1245960"/>
            <a:ext cx="4016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900079"/>
                </a:solidFill>
                <a:latin typeface="Verdana"/>
              </a:rPr>
              <a:t>Focus on the </a:t>
            </a:r>
            <a:br>
              <a:rPr sz="2300"/>
            </a:br>
            <a:r>
              <a:rPr b="1" lang="en-GB" sz="2300" spc="-1" strike="noStrike">
                <a:solidFill>
                  <a:srgbClr val="900079"/>
                </a:solidFill>
                <a:latin typeface="Verdana"/>
              </a:rPr>
              <a:t>municipality of Amsterdam</a:t>
            </a:r>
            <a:r>
              <a:rPr b="0" lang="nl-NL" sz="2300" spc="-1" strike="noStrike">
                <a:solidFill>
                  <a:srgbClr val="900079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900079"/>
              </a:solidFill>
              <a:latin typeface="Arial"/>
            </a:endParaRPr>
          </a:p>
        </p:txBody>
      </p:sp>
      <p:pic>
        <p:nvPicPr>
          <p:cNvPr id="451" name="Picture 7" descr="C:\Users\Loesje\Desktop\vsv0809_Amsterdam[1].jpg"/>
          <p:cNvPicPr/>
          <p:nvPr/>
        </p:nvPicPr>
        <p:blipFill>
          <a:blip r:embed="rId1"/>
          <a:stretch/>
        </p:blipFill>
        <p:spPr>
          <a:xfrm>
            <a:off x="2482920" y="1968480"/>
            <a:ext cx="6661080" cy="488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3F3835-8435-4CF4-941D-87BAE6B4B1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67920" y="1233360"/>
            <a:ext cx="7846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00079"/>
                </a:solidFill>
                <a:latin typeface="Verdana"/>
              </a:rPr>
              <a:t>Monitoring and evaluation arrangements</a:t>
            </a:r>
            <a:r>
              <a:rPr b="0" lang="en-US" sz="2200" spc="-1" strike="noStrike">
                <a:solidFill>
                  <a:srgbClr val="2494c5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69360" y="1798200"/>
            <a:ext cx="78584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 effects with facts and figures: naming, shaming and f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idence based 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verall design to measure the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E42B-BE4E-4548-AFD6-33C3CDD1851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3A2732-D376-4BAF-84C7-AF970E215C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8:56:33Z</dcterms:created>
  <dc:creator>Liselore Verschuren</dc:creator>
  <dc:description/>
  <dc:language>en-US</dc:language>
  <cp:lastModifiedBy>o011hou</cp:lastModifiedBy>
  <dcterms:modified xsi:type="dcterms:W3CDTF">2010-07-07T16:31:16Z</dcterms:modified>
  <cp:revision>129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37471163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présentation</vt:lpwstr>
  </property>
  <property fmtid="{D5CDD505-2E9C-101B-9397-08002B2CF9AE}" pid="6" name="_NewReviewCycle">
    <vt:lpwstr/>
  </property>
</Properties>
</file>