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E9953-3EEE-4031-91B4-0205E9AF37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28A5CE-38DF-4431-AE19-8CD8500AB9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D0A0B6-B54C-4E4C-828D-4786DE5A3F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881E81-6A0F-4059-A157-A5919E885A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C49DD-CE04-4877-863D-45A5D8C6F7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65361-5968-465F-8EFF-9BD0C85E74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D5EF4C-A0FD-4E1D-BC51-B875F2CCC9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AB3768-4501-482D-A118-7FAC3376DB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6F9C844-AFE9-40B7-AD07-01DCF55778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24DFA1-7127-462E-854C-59A0E52C4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E74CF7-A229-4201-B046-F13B8F7443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3F1453-776F-4BCA-B648-DAB66382A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935A-EEFF-4451-A16A-BBE5E24A9274}"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11346-C0E0-4789-BA90-99BC19F599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A0C0D82-474F-411B-B772-9C8925352E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3646B-B22E-4B6F-8BDC-7137373A8A1B}"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84E09B67-6216-4C20-929C-5D8B98526E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42E85-86C6-45F9-B6A7-6A3A18EA300C}"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4D71C-452F-420B-BB99-075D72E9BE9E}"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A9F779-E9B7-4379-951E-AEB4F99B720F}"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486C5-6E6A-452A-9426-F3A9920BE5CB}"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8EDCA6D-B023-4778-B159-4F6728344F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864475D-B7D9-49C0-992C-18F778B3E411}"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1A31C-C847-49E1-A615-A6153F1A2CA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B0F581-6471-4CBF-87BC-C47D1114DFA7}"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EC89E-47B6-4AE2-BFED-4563CB4668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B7B04310-FC31-4745-A49C-F7F739739923}"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C7462-CEC0-414B-A527-CDF34117C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9C3DA-1E73-4688-9E74-D58841D8E3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C8558096-1BA4-4BC1-A207-CA2419895079}"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810C9B2B-0201-4AEB-A358-3B7F11ECA9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9371073</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présentation</vt:lpwstr>
  </property>
  <property fmtid="{D5CDD505-2E9C-101B-9397-08002B2CF9AE}" pid="6" name="_NewReviewCycle">
    <vt:lpwstr/>
  </property>
</Properties>
</file>