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780D-CE96-4D7F-BA36-85292420C8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A5A5-D197-4DA5-A978-832316A977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90FC-0FAA-454D-847A-D5959A71A5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DA47-DDC2-4857-860F-76C2061D31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F7C5-432A-496D-94C2-5B8F3B83C8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2827-A7EA-4E4E-B78D-95A61D20D2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091E-4674-4DC6-B88B-0DB476A127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8085-FA1A-4CB7-842D-BD7F385692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C482-6FDF-40C3-82D3-842D7959BC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B422-EC4F-4758-A4FF-1C425D9FA5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CE9C-1795-467B-BE91-51C13C5FA2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2E59-E14E-4F9E-8F9D-F6CD873B59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6FC6-310B-4A7B-8A3F-E6BBFDAA72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5B4F-1046-4B41-974E-6B3AADBAE1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3A2C-5F73-4A62-ADD8-C259DE7AA8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947A-A55E-497D-A806-9CA75FB27C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E8D2-251B-4A32-A3B6-45D8FBBF81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42BE-79A2-441E-9101-809510EBAA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1AE3-DE13-4F1A-B217-8255751D24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03B6-6BB3-4180-85EA-8FC3FE68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CC1-4FFD-47A8-B455-D84DB266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1733-9DB5-4943-8ED9-F04D7E20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5876-604D-4A06-B4E3-CB8C4441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EDAB-F3F8-476D-B3AD-71E35250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EB1-5946-425E-BE15-21704D71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EB90-EA4D-42D9-947B-6359C55A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798C-41E5-4CF4-91E9-C6D4BD85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183-758F-4A64-9637-7AD5CB90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DBD-1FBB-44ED-B907-283A7DDB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DD0-7B1E-4657-B311-3135BAC1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F076-995A-49C1-89E7-4CB34D20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34EC-4FDC-47D9-AF72-00478264BE8A}" type="slidenum">
              <a:rPr b="0" lang="fr-FR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21416400">
            <a:off x="1294920" y="99000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a logique de la compétence en éducation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urquoi? Comment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51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elques considérations en marge de l’évaluation des compé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52120" y="350496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 concept impor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 utilisé en psychologie cogn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ptima ExtraBlack"/>
                <a:ea typeface="ＭＳ Ｐゴシック"/>
              </a:rPr>
              <a:t>Un concept pertinen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Définition de la compét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Une compétence est la capacité de mobiliser des ressources (internes </a:t>
            </a: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et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 externes)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implique l’intégration (ou la mise en relation) de diverses connaissance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s’applique à une famille de situation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Les situations sont complexes (et inédites)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809880"/>
            <a:ext cx="8153280" cy="1828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ter les savoirs morts, les connaissances iner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160" y="1828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800" spc="-1" strike="noStrike">
                <a:solidFill>
                  <a:srgbClr val="898989"/>
                </a:solidFill>
                <a:latin typeface="Calibri"/>
              </a:rPr>
              <a:t>Un vrai problème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1294920"/>
            <a:ext cx="6248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notion de compétence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=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solutio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ourquoi ce concep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gag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p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onckart et Dolz (1999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18960" y="22856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2680" indent="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ns verser dans le purisme conceptuel, il nous paraît évident qu’on ne peut raisonnablement « penser » la problématique de la formation en usant d’un terme qui finit par désigner tous les aspects de ce que l’on appelait autrefois les « fonctions psychologiques supérieures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étence = Intelligen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En résum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19320" y="129492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problématique de la mobilisation en situation des ressources cognitives du sujet pose 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un vrai problèm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à la recherche psychopédagogique, mais il n’est pas sûr que la notion de compétence lui apporte une solution posi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vrai problème, car il faut lutter contre les savoirs morts, les connaissances inert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is ne risque-t-on pas de précipiter le monde pédagogique dans une illusion simplificatrice dont il risque d’être difficile de le sorti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A la recherche d’équilib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Quelle conception de l’expert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extes politico-pédagog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ire face à des situations inéd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éativ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ansf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sychologie cog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’expertise suppose la mobilisation à bon escient d’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automatis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t de connaissances discipli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contrôle métacognitif de l’exé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ux catégories de situation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ergnaud, 199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les plus fréquentes) pour lesquelles le sujet dispose, à un moment donné de son développement et sous certaines circonstances, des ressources cognitives nécessaires au traitement relativement immédiat de la sit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= situation de crise) pour lesquelles le sujet ne dispose pas de toutes les ressources nécessaires ; cela oblige à un temps d’exploration, de réflexion, d’hésitations ainsi qu’à des tentatives avortées et le conduit parfois à la réussite, parfois à l’éch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541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m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120" y="12949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urquoi l’approche par compétences aujourd’hu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jeux pédagogiques de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 recherche d’équilib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et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formative et résolutions de problèmes comple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évaluation sommative des compét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21236400">
            <a:off x="457200" y="2057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L’évaluation scolaire doit-elle juger la capacité des élèves à « réussir » dans des situations 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halkboard Bold"/>
                <a:ea typeface="ＭＳ Ｐゴシック"/>
              </a:rPr>
              <a:t>inédites</a:t>
            </a: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Situations inédites = situations exceptionnel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320040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faire de l’exceptionnel la norme de la vraie compétence 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évaluer les élèves dans des situations qui ne se reproduiront pas nécessairement 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isques de dér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ns l’approche par compétence,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es savoirs deviennent des moyens à mobiliser pour ag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dans des situations inéd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Espace réservé du contenu 3" descr=""/>
          <p:cNvPicPr/>
          <p:nvPr/>
        </p:nvPicPr>
        <p:blipFill>
          <a:blip r:embed="rId1"/>
          <a:stretch/>
        </p:blipFill>
        <p:spPr>
          <a:xfrm>
            <a:off x="4645080" y="1596960"/>
            <a:ext cx="4048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ÉUSSIR ET COMPREND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dosag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équilib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complexe et l’iné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Deux problématiques pédagogiques diffé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inédit =&gt; un problème de flexibilité cog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520" y="3809520"/>
            <a:ext cx="6705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montage cognitif complexe n’est pas nécessairement iné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solution inédite ne requiert pas toujours un montage cognitif comple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1371240"/>
            <a:ext cx="5943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action pédagogique ==&gt; des questions d’équili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2514600"/>
          <a:ext cx="81532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81532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et « compétences 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formative et résolution de problèmes comple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échec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peut résulter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incompréhension du problème posé (représentation du problè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non maîtrise des connaissances, stratégies et/ou automatismes requi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vailability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« incapacité » à mobiliser des connaissances, stratégies et/ou automatismes maîtrisé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production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 manque d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fluency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es automatis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surcharge cog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évaluation sommative des compét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solutions inédi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montages cognitifs complex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questions ciblant les automatism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 questions portant sur la compréhension des procédures/stratégies mises en œuv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Pourquoi l’approche par compétences, aujourd’hu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182880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e mise en perspective soci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usgrove (196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out curriculum est une construction soci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e produit de transactions sociales, souvent conflictuelles, entre groupes professionnels et/ou groupes de pression, souvent oppos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ux-ci usent d’argumentation scientifique pour résoudre leurs rapports de fo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Bourque &amp; Frénette (1970), Dandurand (1990), Mellouki (1989), Lenoir (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95280" y="22096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ransformation de l’école s’oriente dans une direction polarisée par la productivité et le développement économ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 mouvement culmine dans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lle-ci imprime une orientation pragmatique et instrumentale aux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savoir doit êtr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UTIL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influence de l’utilitarisme anglo-saxon &gt;&lt; humanisme européen (Lenoir, 2005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u niveau de la Commission Europé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2, Traite de Maastric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3, Livre blanc sur la compétitivité des entre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5, Livre blanc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nseigner &amp; apprendre: vers la société cognitiv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 (sous la direction de Jean-Louis Reiff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« </a:t>
            </a: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Enseigner &amp; apprendre: vers la société cognitive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 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133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 connaissances de base constituent le socle sur lequel se construit l’aptitude individuelle à l’emplo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» (p. 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ns l’éducation de base, il convient de trouver un bon équilibre entre l’acquisition des savoirs et </a:t>
            </a:r>
            <a:r>
              <a:rPr b="0" i="1" lang="en-US" sz="4400" spc="-1" strike="noStrike">
                <a:solidFill>
                  <a:srgbClr val="1f497d"/>
                </a:solidFill>
                <a:latin typeface="Calibri"/>
              </a:rPr>
              <a:t>les compétence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méthodologiques qui permettent d’apprendre soi-même. Ce sont celles-ci qu’il convient aujourd’hui de développer »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. 16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1447920"/>
            <a:ext cx="6248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livre blanc de 1995 redéfinit les rapports entre l’entreprise et l’éc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43000" y="3359160"/>
            <a:ext cx="73152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que de l’école (= facteur d’exclusion par l’échec scol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arition de notions nouvel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réditation/validation des acquis: les entreprises pourront reconnaître les compét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ompét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es enjeux pédagogiques de l’approche par compét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notion de compétences institue un nouveau rapport de l’école aux savo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curriculums ne sont plus construits sur une base disciplina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savoirs n’ont plus de valeur en soi; il leur faut être utilitaire; ces sont des moyens pour agir efficac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uprématie de l’utilitarisme nord-américain par à l’humanisme européen (Lenoir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monde pédagogique est divisé en croyants et non-croy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7:20:10Z</dcterms:created>
  <dc:creator>Marcel Crahay</dc:creator>
  <dc:description/>
  <dc:language>en-US</dc:language>
  <cp:lastModifiedBy>Admin</cp:lastModifiedBy>
  <dcterms:modified xsi:type="dcterms:W3CDTF">2010-07-08T06:21:49Z</dcterms:modified>
  <cp:revision>34</cp:revision>
  <dc:subject/>
  <dc:title>Les compétences professionnelles et le curriculum: des réalités conciliable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3866849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Seminar for Compulsory Education</vt:lpwstr>
  </property>
  <property fmtid="{D5CDD505-2E9C-101B-9397-08002B2CF9AE}" pid="6" name="_NewReviewCycle">
    <vt:lpwstr/>
  </property>
  <property fmtid="{D5CDD505-2E9C-101B-9397-08002B2CF9AE}" pid="7" name="_PreviousAdHocReviewCycleID">
    <vt:r8>1978508253</vt:r8>
  </property>
</Properties>
</file>