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27E5FC-5965-43E3-AAF8-5E008659735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0CA45F-FA1C-42DC-87F9-EA9CC91FB19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C3D4E9-3E5D-4726-A006-45D312555CD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98608F-DF4D-4EE7-A5B9-5CA5596AAEE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ACD-6D7C-4866-A380-8695715F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17E-9E7D-4868-8CC0-FA633C24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F5C-3499-4D91-AC48-EA4AEAFB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9D5-E17C-4F7A-81C5-EE63D244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022-D730-411F-A6B2-970FA27C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B51-B0A3-4AED-BA51-95304675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EA4-31AA-42B2-8DE4-2C8B8A25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EC7-E02C-44B5-8A7D-00D70668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F8A-C1E7-418B-A5C2-6D4178E9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2B1-872F-4B2F-87CA-416FA2B2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75B-FEE8-49D4-AE4E-469EBCC2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ED4-1201-4846-BED8-20F3B8CE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8A37-A365-49B9-98BE-B09F90CF26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3D67-4D8A-4421-9D37-9D7C3A941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BB1-AB1F-4331-B22E-6EF9CFF979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Variance in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16- and 17-year-olds’ performance in reading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between schools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between schools (it concern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l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national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6DB-4754-40EF-87F0-FA971855BB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til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lar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student performanc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tween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development of key competence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54C-DAE3-444C-9158-9C78454194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963-9161-4654-8B66-9E5FA75995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20F-57E0-48AB-9499-0ECDA81FF3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98B-D815-4D40-B414-F449E0731E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5C9E-438E-4DAA-B496-AF0872ABC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052-9F37-4B66-A695-8EE5E5FA71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rehensive approach to planned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orly perform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tudents (revealed in PISA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) that results from disclosure of these students’ capabiliti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orly performing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rogramm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29A-101E-41D8-A693-3729F15D2D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comprehensiv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ducation but it should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arried ou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BED-932B-4669-95F7-E0BBE71373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BDF-3F09-4D82-953E-91813D03DC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 between school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148-92C9-4288-BACF-AD239090E9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 mean perform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highes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student performance between 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n UE and OECD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’ performance in reading                          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 and OECD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Mean performanc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on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9E6-5FBD-4E63-88B4-2567C4308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reading 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ow achievers i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’ performance in reading                           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and OECD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low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achie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163-D2AC-49D2-A101-EE7BA5CEFB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3CB-F93D-46BE-AA8C-AFEB512827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-servi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3A1-4703-4FF2-A049-915937E8FA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A81B-AF36-448D-BBFD-E183FD2DD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comprehensive compulsor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67D-6392-46C9-BC8B-053EE48978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in variance in student performanc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      between schools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51280" y="1915920"/>
            <a:ext cx="5113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 in student performance between school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variance in stud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ariance in student performance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51C5-DCBC-4550-9FC0-C07469D199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Variance in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15-year-olds’ performance in reading         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between schools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 performan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is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15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A70-3661-4C47-AF2C-7856DC4621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stanislaw.drzazdzews</cp:lastModifiedBy>
  <dcterms:modified xsi:type="dcterms:W3CDTF">2010-07-14T10:39:35Z</dcterms:modified>
  <cp:revision>226</cp:revision>
  <dc:subject/>
  <dc:title>Prezentacja programu PowerPoint</dc:title>
</cp:coreProperties>
</file>