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3871-0847-4F4C-B5DD-C957C30E835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C6D7-81FD-4C05-B94F-A4F6A405531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40F4-733D-450C-9172-06B756EA9F6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1A23-2668-4666-947A-48321C991A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628-FEF5-42E1-B8BA-C37A0751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745-E2DC-45CE-9C41-6BD9D01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A09-CCB0-4CB9-9A36-36342572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D7C-BCF1-400C-A246-4F2D8254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B56-C5F8-4059-9ACF-AAF14A1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745-BE4D-4DBF-B120-DC0D72D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992-FE07-4E70-9378-64994D2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343-E854-4F73-95EB-86F34A5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0B3-A624-45F2-AD1C-C3BE3F70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B22-DCE5-4F5B-84F8-5839E00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0DB-435B-48C5-95E4-7EC23EBE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FE0-4FF0-406E-BC3D-72C20A9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6A52-83C2-4928-AAC7-70F0A7494C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103-AF23-45AE-A94D-852BB72A9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um ministrów edukacji na temat obowiązkowego kształceni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ksela, 9 lipca 2010 r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janie kompetencji młodzieży w Pols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doświadczenia i perspektyw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815-6B54-4D08-A1EF-A34CC227A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6- i 17-latków w czytaniu w roku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kich szkołach na poziomie ISCED 3 (dla uczniów 16-letnich i starszych) nadal utrzymują się duże różnice osiągnięć uczniów między szkołami (dotyczy to wszystkich kompetencji badanych w PISA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18% uczniów,  około 60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stępuje koncentracja najsłabszych uczniów w szkołach zasadniczych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 najlepszych – w licea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0" y="1892160"/>
          <a:ext cx="4356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2160"/>
                    <a:ext cx="4356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71280" y="1413000"/>
            <a:ext cx="45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37373"/>
                </a:solidFill>
                <a:latin typeface="Arial"/>
              </a:rPr>
              <a:t>Procent uczniów według poziomów kompetencji czytania PISA 2006 opcja krajowa (badanie 16- i 17-latkó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6392-03FA-4207-8F03-1613BC49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y rozwoju kluczowych kompeten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szkolnictwie zawodowy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becnie 16- i 17-latki nadal uczęszczają do podobnego rodzaju szkół na poziomie ISCED-3 jak przed reformą z 1999 roku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strukturze szkolnictwa na poziomie ISCED 3 między szkołami nadal zachowane są duże różnice, które udało się skutecznie ograniczyć na poziomie ISCED 2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nadto widoczny jest brak dobrego rozwoju kompetencji kluczowych w niektórych typach szkół na poziomie ISCED 3        – szczególnie w szkołach zawod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5A13-D88F-42F8-89BF-D9A8C8F77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ntynuacja reformy systemu eduk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ace nad kompleksową i spójną strategią LLL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ząd RP przyjął w listopadzie 2009 r. plan uporządkowania wszystkich strategii kraj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rządzeniem premiera w lutym 2010 r. utworzony został międzyresortowy zespół do spraw LLL, w tym KRK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ska odnosi istotne sukcesy w zakresie edukacji formalnej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– dowodem są między innymi wyniki badań PISA oraz osiągnięcia Polski w zakresie 4 z 5 wskaźników programu „Edukacja i szkolenie 2010”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jednocześnie Polska ma słabe osiągnięcia poza tradycyjnym okresem kształcenia szkolnego, tj. w upowszechnieniu wychowania przedszkolnego i w uczeniu się dorosł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daniem strategii LLL będzie zrównoważenie osiągnięć Polski w całym obszarze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C08-57B6-41AB-8FF3-D75B890D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rekta programowa dziesięć lat później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kompleksowej reformy systemu edukacji z roku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a programowa wychowania przedszkolnego i kształcenia ogólnego wdrażana od 2009 r., oparta na efektach kształcenia,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j. podejściu promowanym w europejskich ramach kwalifikacji (EQF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bniżenie wieku obowiązkowego przygotowania przedszkolneg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od 5. roku życia) połączone z upowszechnieniem wychowania przedszkolnego i obniżeniem wieku rozpoczynania obowiązku szkolnego (od 6. roku życia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modernizacji kształcenia i szkolenia zawodowego opartej na nowym podejściu do kwalifikacji zawodowych. zgodnym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 europejskim systemem transferu osiągnięć w kształceniu i szkoleniu zawodowym (ECVET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zmian w szkołach i ich otoczeniu, wspierających proces indywidualizacji pracy z uczniami, zwłaszcza z uczniami mającymi trudności w nauce oraz z uczniami zdolnym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B540-374E-409A-997A-CDABAEC2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lan zmian rozpisany na lata szkoln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281240"/>
          <a:ext cx="8291520" cy="3878280"/>
        </p:xfrm>
        <a:graphic>
          <a:graphicData uri="http://schemas.openxmlformats.org/drawingml/2006/table">
            <a:tbl>
              <a:tblPr/>
              <a:tblGrid>
                <a:gridCol w="2016000"/>
                <a:gridCol w="2089440"/>
                <a:gridCol w="1800000"/>
                <a:gridCol w="1150920"/>
                <a:gridCol w="1235160"/>
              </a:tblGrid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reformowane nauczanie w klasac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Gimnazjum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gzamin gimnazjalny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</a:t>
                      </a:r>
                      <a:r>
                        <a:rPr b="0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sprawdzian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matura dostosowana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6"/>
          <p:cNvSpPr/>
          <p:nvPr/>
        </p:nvSpPr>
        <p:spPr>
          <a:xfrm>
            <a:off x="1187280" y="5445000"/>
            <a:ext cx="6769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szkoła podstawowa, L – liceum, T – technikum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zasadnicza szkoła zawodow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D2A0-577B-469A-A565-2DE2A1D6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30D-87B3-4714-A214-B9C56A84A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alendarium zmian w systemie egzaminów potwierdzających kwalifikacje zawodow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71600"/>
          <a:ext cx="8713800" cy="46116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potwierdzające kwalifikacje zawodow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A83-B62B-4A6B-9977-8F5D4D342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można wyciągnąć z doświadczeń Polsk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Kompleksowe podejście do planowanych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ce wdrożona została w roku 1999 jedna z najszerzej zakrojonych reform edukacyjnych w państwach UE i OEC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imo, że obecnie wymaga ona korekt, okazała się skuteczna dzięki kompleksowemu podejściu do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epsze wykorzystanie ukrytych potencjał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nacząca poprawa kompetencji najsłabszych uczniów w Polsce, odkryta w badaniach PISA w latach 2000-2003, wynika z ujawnienia potencjału tych uczniów w nowym typie szkół (gimnazjum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jest prawdopodobne, że potencjał najsłabszych uczniów nie był wystarczająco rozwijany w szkołach, które grupowały niemal wyłącznie słaby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trzebna korekta programowa i systemowa – rozpisana na wiele kolejnych la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niki różnych badań międzynarodowych (jak PISA, TIMSS/PIRLS, TALIS, TEDS-M, PIAAC) były, są lub będą wykorzystywane w planowaniu kolejnych zmian w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mianie programowej rozpoczętej od września 2009 roku towarzyszy wiele innych zmian systemowych, których efekty będzie można również dostrzec dopiero po wielu latach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C94B-69E2-4484-A2BA-352D8ECCF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320"/>
            <a:ext cx="878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wyciąga Polska ze swoich doświadczeń 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becnie wprowadzane zmiany programowe mają zapewnić lepsze efekty kształcenia ogólnego w szkołach ponadgimnazjalnych, bez wprowadzenia jednak istotnych zmian strukturalnych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zyjmuje się, że istnieje potrzeba wydłużenia okresu obowiązkowego – możliwie jednakowego – kształcenia ogólnego,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le prowadzonego w sposób bardziej zindywidualizowany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 Polsce istnieje bardzo silna tradycja dokonywania wyboru między kształceniem w liceum ogólnokształcącym a przygotowaniem zawodowym w technikum lub szkole zasadnicz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Zakładana jest ewolucyjna zmiana strukturalna związana ze zmianami w kształceniu zawodowym mającymi na celu stopniowe upowszechnianie nabywania kwalifikacji zawodowych w elastycznych formach kursowych zamiast w szkołach różnych typ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EDC-AC6B-4455-B445-817FF2EE7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stępne zaproszeni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listopadzie 2011 r., podczas polskiej Prezydencji w Radzie UE, planowana jest międzynarodowa konferencja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d roboczą nazwą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Skuteczność polityki edukacyjnej na rzecz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rozwoju kompetencji klucz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ędzie to okazja do szerszej debaty na ten tema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stępnie zapraszam Państwa na tę konferencję.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icjalne zaproszenia zostaną wysłane jesienią bieżącego roku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374-4383-4247-BE61-844B5694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rządek prezent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łówne odkrycia programu PISA w Polsce dotyczące kompetencji  młodzieży (15-latków)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prawa kompetencji – zwłaszcza w zakresie czytani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w osiągnięcia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lemy rozwoju kompetencji starszych uczniów (16- i 17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lityka, która przyczyniła się do osiągnięć ujawnionych w Polsc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rogramie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y rządu Jerzego Buzk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mpleksowa reforma systemu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reformy systemu edukacji i prace nad strategią LLL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akie wnioski można wyciągnąć z polskich doświadczeń w zakresie rozwoju kompetencji młodzieży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64BE-8F93-4D17-ADE1-34F7C3E6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177840" y="1844640"/>
          <a:ext cx="426708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44640"/>
                    <a:ext cx="426708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3280" y="1773000"/>
            <a:ext cx="41054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 największy w UE wzrost osiągnięć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-latków w czytaniu (w OECD jedynie w Korei Płd. odnotowano wzrost nieco większy).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0-2003 wzrosły przede wszystkim kompetencje uczniów słabych i najsłabszych (co można łączyć z największym w UE i OECD spadkiem różnic między szkołami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osiągnięciach uczniów)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3-2006 wzrosł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większym stopniu kompetencje uczniów dobrych i najlepszych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177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Średnie wyniki w skali PI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9322-4B65-4676-B18E-77479DC5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19600" cy="401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844640"/>
            <a:ext cx="3809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o bardzo znaczące zmniejszenie liczby słabych uczniów w czytaniu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tego rodzaju zmiana dotyczy nie tylko czytania, ale także matematyki i nauk przyrodnic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79280" y="119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26920" y="1773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rocent najsłabszych uczniów</a:t>
            </a:r>
            <a:br>
              <a:rPr sz="1800"/>
            </a:br>
            <a:r>
              <a:rPr b="0" lang="pl-PL" sz="1400" spc="-1" strike="noStrike">
                <a:solidFill>
                  <a:srgbClr val="616365"/>
                </a:solidFill>
                <a:latin typeface="Arial"/>
              </a:rPr>
              <a:t>(low achiever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9905-A038-4B09-9B62-E318F475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e reformy 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a systemu edukacji rozpoczęta w roku 1999 była jedną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 czterech reform prowadzonych przez rząd Jerzego Buzka, które sprzyjały przygotowaniu Polski do wejścia do U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zostałe reformy dotyczyły systemów: administracji publicznej, ochrony zdrowia, zabezpieczeń społec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efekcie reform władze samorządowe stały się odpowiedzialne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 zdecydowaną większość zadań edukacyjnych i są w tym obszarze realnym partnerem administracji rządow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BDB-951B-4D9E-855B-C0B7D5EB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a reforma systemu eduka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Kompleksowa reforma systemu edukacji objęła jednocześni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zekazanie władzom lokalnym szkół wraz ze środkami finansowymi na ich prowadzenie, powiązanymi z liczbą uczni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mianę struktury szkolnictw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programową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systemu oceny osiągnięć uczniów, w tym wprowadzenie systemu egzaminów zewnętr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cjonalizację sieci szkolnej, zwłaszcza na obszarach wiejski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dernizację wyposażenia szkół, szczególnie w zakresie nowych technologii informacyjnych i komunikacyj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drożenie systemu awansu zawodowego nauczycieli i nowego systemu ich wynagradzani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upowszechnienie doskonalenia zawodowego nauczycieli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8994-D4BA-4E95-B890-61E45885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iana struktury szkolnictw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iany wprowadzane od roku 1999 – utworzenie szkoły na poziomie ISCED 2 oraz przedłużenie o rok obowiązkowego kształcenia ogólnego (dotyczy to 15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39640" y="400536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       ISCED 1                                 ISCED 2                         ISCED 3</a:t>
            </a:r>
            <a:r>
              <a:rPr b="0" i="1" lang="en-US" sz="1800" spc="-1" strike="noStrike">
                <a:solidFill>
                  <a:srgbClr val="616365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8       9       10       11       12       13       14       15      16       17       18 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440" y="2197080"/>
            <a:ext cx="838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ISCED 1-2                                                        ISCED 3            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 8        9       10       11       12       13      14      15      16       17       18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12720" y="4581360"/>
            <a:ext cx="1738440" cy="3844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51160" y="4581360"/>
            <a:ext cx="2403360" cy="384480"/>
          </a:xfrm>
          <a:prstGeom prst="rect">
            <a:avLst/>
          </a:prstGeom>
          <a:solidFill>
            <a:srgbClr val="00305c"/>
          </a:solidFill>
          <a:ln w="9360">
            <a:solidFill>
              <a:srgbClr val="003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30760" y="4581360"/>
            <a:ext cx="1504800" cy="384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257880" y="4581360"/>
            <a:ext cx="1435320" cy="384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27640" y="4971960"/>
            <a:ext cx="1800360" cy="433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227640" y="5405400"/>
            <a:ext cx="14367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341440" y="4630680"/>
            <a:ext cx="249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16360" y="4581360"/>
            <a:ext cx="1641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GIMNAZJUM  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lower second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839880" y="4581360"/>
            <a:ext cx="1355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PRZEDSZKOLE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127920" y="4951440"/>
            <a:ext cx="18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911760" y="5259240"/>
            <a:ext cx="16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2266920" y="2755800"/>
            <a:ext cx="3762360" cy="382680"/>
          </a:xfrm>
          <a:prstGeom prst="rect">
            <a:avLst/>
          </a:prstGeom>
          <a:solidFill>
            <a:srgbClr val="003f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24440" y="2755800"/>
            <a:ext cx="1866960" cy="3826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29480" y="3139920"/>
            <a:ext cx="221760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29480" y="3521160"/>
            <a:ext cx="1589040" cy="48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253200" y="2755800"/>
            <a:ext cx="141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upper   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6229440" y="3139920"/>
            <a:ext cx="1671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229440" y="3500280"/>
            <a:ext cx="1495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1280" y="2755800"/>
            <a:ext cx="1752480" cy="3826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38080" y="275580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PRZEDSZKOLE  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68360" y="191628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Stara struktura szkolnictwa (PISA 2000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468360" y="371628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Nowa struktura szkolnictwa (PISA 2003, 2006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59000" y="2797200"/>
            <a:ext cx="324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6035760" y="2131920"/>
            <a:ext cx="21564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dłużenie o rok kształcenia ogólne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227640" y="4971960"/>
            <a:ext cx="1498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00720" y="5405400"/>
            <a:ext cx="1494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17FE-4880-433C-80C0-238B4A3BA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niejszenie różnic między szkołam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osiągnięciach 15-latków w czytaniu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98560" cy="408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679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badaniach PISA 2000-2003 odkryt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zmniejszenie zróżnicowania osiągnięć 15-latków między szkołami, najbardziej istotne spośród krajów U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OECD. Dotyczyło ono osiągnięć uczniów we wszystkich zakresach badań PISA (czytanie, matematyka, nauka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można łączyć z kompleksową reformą systemu edukacji wdrażaną od 1999 roku. Reforma ta była wdrażana stopniow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w roku 2000 nie objęła jeszcze 15-latków (PISA 2000 badała stary system edukacji, PISA 2003 i 2006 – nowy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197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7300"/>
                </a:solidFill>
                <a:latin typeface="Arial"/>
              </a:rPr>
              <a:t>zróżnicowanie między szkołami w latach 2000-2006 w Polsce na tle OECD jako procent średniego zróżnicowania osiągnięć uczniów w OECD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37F-B895-4897-82A0-221D47FF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5-latków w czytaniu w roku 2000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917720"/>
            <a:ext cx="4699080" cy="428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27600" y="1557000"/>
            <a:ext cx="4316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roku 2000 zanotowano w Polsce jedne z największych w UE i OECD różnic między szkołami w osiągnięciach uczniów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óżnice dotyczyły głównie podziału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a szkoły ogólnokształcące i zawodowe, w tym zasadnicze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26% uczniów, ponad 73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 Jednocześnie w szkołach tych było bardzo mało uczniów najleps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5736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rocent uczniów według poziomów kompetencji czytania PISA 20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6T15:39:49Z</dcterms:modified>
  <cp:revision>115</cp:revision>
  <dc:subject/>
  <dc:title>Prezentacja programu PowerPoint</dc:title>
</cp:coreProperties>
</file>