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2AE44-BD8C-413E-959C-A272CD7E8F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1411CE-E85D-4E90-A4FE-603211D8AF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AF1159-DAA4-4A83-B565-A868D62FEF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F4DFC1-FA7C-436E-BACE-8C890F2D86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B6982-2440-400C-9D65-3F5540868F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5A976-DF3F-4407-AFD0-478EBCF04C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121C23-10E7-49A2-A040-264570ADA6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940E9DC-534C-48F4-977E-35C8CE246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7E4398DF-21B8-458D-A836-A471AB3613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22C0B3-86D5-4131-8D7E-46C9A3735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289D3E-8BB9-45EE-9DBA-86D91F87E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972396-6649-4CAC-9152-561C847FDC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F039-C8ED-4A4E-8EEA-24A9A5BDACB6}"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8BE25-10B4-418F-B4AF-B0B96AD141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169F020-B18A-4AFD-8B17-2F7597875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A5087-80F0-434C-81F8-9C52F97DBBC6}"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FA6C3175-EE66-4DB1-9E35-65DF5FF64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54B69-0F0A-4120-A925-0ACE3AEC5B05}"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B6F5B-4291-43A6-85AC-E1A3627342F1}"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88738D-F572-4C74-8475-DA495DC673A8}"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80316-74E5-4280-AAA3-16915E369A64}"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99B2DD81-03BB-44D6-A5E7-01DC5AE64E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41CA4A9-635B-4046-B6AF-22FE181ACB3F}"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D1861-D613-42C9-A82A-47FD9ED5173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06853E-6A44-4B5F-BEB7-8858486B33AA}"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DD7B3-4F4A-4860-81E2-7783EF49B0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12439855-E70B-4948-908A-DF9E0BE97866}"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8DF68-157C-4051-9C73-7D78A49168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04F70-E9FF-474F-B49F-43ED936FFA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2B9E32E4-0055-4D9B-9FDD-697B2173D432}"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BE1D275F-19CE-4C9F-975C-82EE38AC75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1329107</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Seminar for Compulsory Education</vt:lpwstr>
  </property>
  <property fmtid="{D5CDD505-2E9C-101B-9397-08002B2CF9AE}" pid="6" name="_NewReviewCycle">
    <vt:lpwstr/>
  </property>
  <property fmtid="{D5CDD505-2E9C-101B-9397-08002B2CF9AE}" pid="7" name="_PreviousAdHocReviewCycleID">
    <vt:r8>1479371073</vt:r8>
  </property>
</Properties>
</file>