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F6AB93-DA76-4B3B-B9ED-43A2E130FBA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122F6-2BE0-4E91-94D3-313BF53D579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B43157-A3E0-4E2E-9C76-D9BA50A641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49F3EB-F483-490C-9F51-A1A862A11DC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A38-1C58-48CF-933E-2857A5F7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00B-F09C-4F72-92D5-6C60470A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332-4042-4A79-8C66-7ABFBAAC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1F0-45A4-495E-A8F3-185477F6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B05-B57C-4628-918F-2C4E63E7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1F0-30ED-4327-91FA-E73F2EF3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AC4-1A0F-4C44-88E7-549ECEF4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E7F-9BF7-4847-8A72-966D76C6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06EC-1A82-4497-9A4D-364A209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C36-86FF-4B41-90F1-17E58EB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FBF-65A2-47F3-93F4-BD6A9D37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9AC-D03E-4F58-8A31-A992BA31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421-F4F3-49CF-8414-9A53425D3C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A20-2232-4D2E-B8FD-0413AD8F9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BFB-0A9B-4C79-857B-259CF9D4CA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6- and 17-year-olds’ performance in reading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between schools (it concern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l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           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national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179-121B-4A5B-B9B7-6400E71DF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til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lar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student performanc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tween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development of key competence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774D-9B6A-4DA0-A724-4209BA510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B44-B0EC-4685-A718-1EFE4275EA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7B0-474A-4F5F-8294-5A1E28B9B6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368-9592-4446-A424-BC02911043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1090-4FED-456F-AD61-3A8714DEA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AA0-657F-4BA3-8E0C-4F29F209E1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rehensive approach to planned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tudents (revealed in PISA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) that results from disclosure of these students’ capabiliti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orly performing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rogramm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34C-CB4A-4AE7-BCBF-BDF0770B42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comprehensiv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ducation but it should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arried ou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AF3-9EE7-42FF-8653-997D0C4D0D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4EA-0BCC-4F9E-AD05-99D8C6BA36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between school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2B-CAFE-4CE4-A8DA-58CFF430B8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mean perform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highes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student performance between 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n UE and OECD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 and OECD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Mean performanc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on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6AD-6570-459D-A8A5-0D33FB9674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reading 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ow achievers i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’ performance in reading                           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and OECD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low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achie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3006-17DD-4A75-AAD2-AE70F2E5C0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C5D-C762-417B-92A7-15D9640D9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-servi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FFA-684C-43CA-8C47-78E81D449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28A-7394-49C3-B7EA-2503B0326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comprehensive compulsor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8FB-73AC-47A8-B396-EB96211E43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in variance in student performanc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      between schools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51280" y="1915920"/>
            <a:ext cx="5113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ce in student performance between school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variance in stud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ariance in student performance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58E-183D-47DF-94E2-0C07CA28F0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Variance in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15-year-olds’ performance in reading         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between schools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 performanc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is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15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C2C-C904-47CB-9A11-794736B916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stanislaw.drzazdzews</cp:lastModifiedBy>
  <dcterms:modified xsi:type="dcterms:W3CDTF">2010-07-14T10:39:35Z</dcterms:modified>
  <cp:revision>226</cp:revision>
  <dc:subject/>
  <dc:title>Prezentacja programu PowerPoint</dc:title>
</cp:coreProperties>
</file>