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8B5-F357-43CA-AF4D-6F670D4C0BF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C040-E215-48CE-8620-C4B49478C61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8BE4-B917-4384-AB21-C42AE7DEB9D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89EE-A229-455F-A873-B8AF545A0DF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847-13E9-491E-88A2-5BFC61FA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4F1-5068-41C2-B226-D4083E4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DED-E10C-492C-A583-DA5923A7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15F-531B-4499-A772-53E2197A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E93-EE90-4DAD-8021-1C7D42E0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07D-1F52-455F-B49B-6A355F3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3CF-DB2B-4DD5-9FB2-71AA5A4A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F19-84A3-4D6F-A2B4-5C630715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F53-3F70-4C64-A50C-70769CDF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348-EB90-4EED-ABA0-96EB5A88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878-E5CE-49F0-8195-3C9677DB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806E-9ACA-4808-8ABC-1613489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47D9-E879-483C-A70F-F6C8BBBEA02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B07E-9D71-409D-9B0F-EEBB6595C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ium ministrów edukacji na temat obowiązkowego kształceni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ksela, 9 lipca 2010 r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wijanie kompetencji młodzieży w Polsc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doświadczenia i perspektyw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8D3-DF70-4F9B-A964-CD841B3D1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6- i 17-latków w czytaniu w roku 200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kich szkołach na poziomie ISCED 3 (dla uczniów 16-letnich i starszych) nadal utrzymują się duże różnice osiągnięć uczniów między szkołami (dotyczy to wszystkich kompetencji badanych w PISA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18% uczniów,  około 60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stępuje koncentracja najsłabszych uczniów w szkołach zasadniczych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 najlepszych – w licea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1" name="Rectangle 3"/>
          <p:cNvGraphicFramePr/>
          <p:nvPr/>
        </p:nvGraphicFramePr>
        <p:xfrm>
          <a:off x="0" y="1892160"/>
          <a:ext cx="435600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2160"/>
                    <a:ext cx="4356000" cy="41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71280" y="1413000"/>
            <a:ext cx="45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37373"/>
                </a:solidFill>
                <a:latin typeface="Arial"/>
              </a:rPr>
              <a:t>Procent uczniów według poziomów kompetencji czytania PISA 2006 opcja krajowa (badanie 16- i 17-latków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51C5-F90B-43EF-8B63-4FEE86B88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y rozwoju kluczowych kompeten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szkolnictwie zawodowy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becnie 16- i 17-latki nadal uczęszczają do podobnego rodzaju szkół na poziomie ISCED-3 jak przed reformą z 1999 roku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strukturze szkolnictwa na poziomie ISCED 3 między szkołami nadal zachowane są duże różnice, które udało się skutecznie ograniczyć na poziomie ISCED 2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nadto widoczny jest brak dobrego rozwoju kompetencji kluczowych w niektórych typach szkół na poziomie ISCED 3        – szczególnie w szkołach zawod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6B15-1137-4A7C-934B-ECFEBB4E9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ntynuacja reformy systemu eduk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ace nad kompleksową i spójną strategią LLL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ząd RP przyjął w listopadzie 2009 r. plan uporządkowania wszystkich strategii kraj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rządzeniem premiera w lutym 2010 r. utworzony został międzyresortowy zespół do spraw LLL, w tym KRK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ska odnosi istotne sukcesy w zakresie edukacji formalnej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– dowodem są między innymi wyniki badań PISA oraz osiągnięcia Polski w zakresie 4 z 5 wskaźników programu „Edukacja i szkolenie 2010”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jednocześnie Polska ma słabe osiągnięcia poza tradycyjnym okresem kształcenia szkolnego, tj. w upowszechnieniu wychowania przedszkolnego i w uczeniu się dorosł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daniem strategii LLL będzie zrównoważenie osiągnięć Polski w całym obszarze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FB9A-08BB-4B39-B442-42CF9353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rekta programowa dziesięć lat później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kompleksowej reformy systemu edukacji z roku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a programowa wychowania przedszkolnego i kształcenia ogólnego wdrażana od 2009 r., oparta na efektach kształcenia,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j. podejściu promowanym w europejskich ramach kwalifikacji (EQF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bniżenie wieku obowiązkowego przygotowania przedszkolneg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od 5. roku życia) połączone z upowszechnieniem wychowania przedszkolnego i obniżeniem wieku rozpoczynania obowiązku szkolnego (od 6. roku życia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modernizacji kształcenia i szkolenia zawodowego opartej na nowym podejściu do kwalifikacji zawodowych. zgodnym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 europejskim systemem transferu osiągnięć w kształceniu i szkoleniu zawodowym (ECVET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zygotowywanie zmian w szkołach i ich otoczeniu, wspierających proces indywidualizacji pracy z uczniami, zwłaszcza z uczniami mającymi trudności w nauce oraz z uczniami zdolnym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9628-51F4-4EBF-899F-D4CF09EAC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lan zmian rozpisany na lata szkoln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5280" y="1281240"/>
          <a:ext cx="8291520" cy="3878280"/>
        </p:xfrm>
        <a:graphic>
          <a:graphicData uri="http://schemas.openxmlformats.org/drawingml/2006/table">
            <a:tbl>
              <a:tblPr/>
              <a:tblGrid>
                <a:gridCol w="2016000"/>
                <a:gridCol w="2089440"/>
                <a:gridCol w="1800000"/>
                <a:gridCol w="1150920"/>
                <a:gridCol w="1235160"/>
              </a:tblGrid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reformowane nauczanie w klasach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Gimnazj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Gimnazjum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gzamin gimnazjalny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</a:t>
                      </a:r>
                      <a:r>
                        <a:rPr b="0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sprawdzian dostosowany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</a:t>
                      </a: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matura dostosowana do nowej podstawy programowej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56"/>
          <p:cNvSpPr/>
          <p:nvPr/>
        </p:nvSpPr>
        <p:spPr>
          <a:xfrm>
            <a:off x="1187280" y="5445000"/>
            <a:ext cx="6769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szkoła podstawowa, L – liceum, T – technikum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zasadnicza szkoła zawodow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4FD1-8AA3-446F-9AC7-FF35A5AED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67A8-5D66-4166-B5E3-AD56443BA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alendarium zmian w systemie egzaminów potwierdzających kwalifikacje zawodow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1371600"/>
          <a:ext cx="8713800" cy="46116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k szkoln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potwierdzające kwalifikacje zawodow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zaminy na dotychczasowych zasadach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Potwierdzanie wyodrębnionych kwalifikacji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F92-87E3-42B0-AD6A-DA5BF1027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można wyciągnąć z doświadczeń Polsk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Kompleksowe podejście do planowanych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Polsce wdrożona została w roku 1999 jedna z najszerzej zakrojonych reform edukacyjnych w państwach UE i OEC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imo, że obecnie wymaga ona korekt, okazała się skuteczna dzięki kompleksowemu podejściu do zmian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epsze wykorzystanie ukrytych potencjał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nacząca poprawa kompetencji najsłabszych uczniów w Polsce, odkryta w badaniach PISA w latach 2000-2003, wynika z ujawnienia potencjału tych uczniów w nowym typie szkół (gimnazjum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jest prawdopodobne, że potencjał najsłabszych uczniów nie był wystarczająco rozwijany w szkołach, które grupowały niemal wyłącznie słaby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otrzebna korekta programowa i systemowa – rozpisana na wiele kolejnych la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yniki różnych badań międzynarodowych (jak PISA, TIMSS/PIRLS, TALIS, TEDS-M, PIAAC) były, są lub będą wykorzystywane w planowaniu kolejnych zmian w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zmianie programowej rozpoczętej od września 2009 roku towarzyszy wiele innych zmian systemowych, których efekty będzie można również dostrzec dopiero po wielu latach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86AE-8061-4D59-B01D-8C922A87F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76320"/>
            <a:ext cx="878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Jakie wnioski wyciąga Polska ze swoich doświadczeń w zakresie rozwoju kompetencji młodzieży?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becnie wprowadzane zmiany programowe mają zapewnić lepsze efekty kształcenia ogólnego w szkołach ponadgimnazjalnych, bez wprowadzenia jednak istotnych zmian strukturalnych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zyjmuje się, że istnieje potrzeba wydłużenia okresu obowiązkowego – możliwie jednakowego – kształcenia ogólnego,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le prowadzonego w sposób bardziej zindywidualizowany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 Polsce istnieje bardzo silna tradycja dokonywania wyboru między kształceniem w liceum ogólnokształcącym a przygotowaniem zawodowym w technikum lub szkole zasadnicz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Zakładana jest ewolucyjna zmiana strukturalna związana ze zmianami w kształceniu zawodowym mającymi na celu stopniowe upowszechnianie nabywania kwalifikacji zawodowych w elastycznych formach kursowych zamiast w szkołach różnych typ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8E34-6171-4DFA-B6B2-0DBCAAC65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stępne zaproszeni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listopadzie 2011 r., podczas polskiej Prezydencji w Radzie UE, planowana jest międzynarodowa konferencja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d roboczą nazwą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Skuteczność polityki edukacyjnej na rzecz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rozwoju kompetencji kluczow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ędzie to okazja do szerszej debaty na ten tema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stępnie zapraszam Państwa na tę konferencję.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icjalne zaproszenia zostaną wysłane jesienią bieżącego roku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69BC-F669-4673-A5EC-003C88E9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rządek prezentacji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łówne odkrycia programu PISA w Polsce dotyczące kompetencji  młodzieży (15-latków)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prawa kompetencji – zwłaszcza w zakresie czytani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w osiągnięciach uczniów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lemy rozwoju kompetencji starszych uczniów (16- i 17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olityka, która przyczyniła się do osiągnięć ujawnionych w Polsc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rogramie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y rządu Jerzego Buzk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mpleksowa reforma systemu edukacji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Kontynuacja reformy systemu edukacji i prace nad strategią LLL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akie wnioski można wyciągnąć z polskich doświadczeń w zakresie rozwoju kompetencji młodzieży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405-065F-4677-96E1-E952B6189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0" name="Rectangle 3"/>
          <p:cNvGraphicFramePr/>
          <p:nvPr/>
        </p:nvGraphicFramePr>
        <p:xfrm>
          <a:off x="177840" y="1844640"/>
          <a:ext cx="4267080" cy="444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844640"/>
                    <a:ext cx="426708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3280" y="1773000"/>
            <a:ext cx="410544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 największy w UE wzrost osiągnięć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-latków w czytaniu (w OECD jedynie w Korei Płd. odnotowano wzrost nieco większy).</a:t>
            </a:r>
            <a:br>
              <a:rPr sz="1800"/>
            </a:b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0-2003 wzrosły przede wszystkim kompetencje uczniów słabych i najsłabszych (co można łączyć z największym w UE i OECD spadkiem różnic między szkołami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osiągnięciach uczniów)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latach 2003-2006 wzrosł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większym stopniu kompetencje uczniów dobrych i najlepszych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119700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826920" y="177336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Średnie wyniki w skali PIS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3E00-01AC-452A-A102-CD62E3209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prawa kompetencji polskich 15-latków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67" name="Rectangl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819600" cy="4012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844640"/>
            <a:ext cx="38098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w latach 2000-2006 nastąpiło bardzo znaczące zmniejszenie liczby słabych uczniów w czytaniu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tego rodzaju zmiana dotyczy nie tylko czytania, ale także matematyki i nauk przyrodnic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79280" y="1197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siągnięcia polskich 15-latków w czytaniu na tle UE w latach 2000-200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826920" y="1773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rocent najsłabszych uczniów</a:t>
            </a:r>
            <a:br>
              <a:rPr sz="1800"/>
            </a:br>
            <a:r>
              <a:rPr b="0" lang="pl-PL" sz="1400" spc="-1" strike="noStrike">
                <a:solidFill>
                  <a:srgbClr val="616365"/>
                </a:solidFill>
                <a:latin typeface="Arial"/>
              </a:rPr>
              <a:t>(low achiever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5ECD-1C3B-4E5D-BE88-3B8236921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e reformy 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28036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a systemu edukacji rozpoczęta w roku 1999 była jedną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 czterech reform prowadzonych przez rząd Jerzego Buzka, które sprzyjały przygotowaniu Polski do wejścia do U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zostałe reformy dotyczyły systemów: administracji publicznej, ochrony zdrowia, zabezpieczeń społec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 efekcie reform władze samorządowe stały się odpowiedzialne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a zdecydowaną większość zadań edukacyjnych i są w tym obszarze realnym partnerem administracji rządowej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9A98-189E-4548-AE66-B4D30BDB8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Kompleksowa reforma systemu edukacj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ządu Jerzego Buzk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Kompleksowa reforma systemu edukacji objęła jednocześnie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rzekazanie władzom lokalnym szkół wraz ze środkami finansowymi na ich prowadzenie, powiązanymi z liczbą uczniów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zmianę struktury szkolnictw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programową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ę systemu oceny osiągnięć uczniów, w tym wprowadzenie systemu egzaminów zewnętrz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cjonalizację sieci szkolnej, zwłaszcza na obszarach wiejski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dernizację wyposażenia szkół, szczególnie w zakresie nowych technologii informacyjnych i komunikacyjnych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drożenie systemu awansu zawodowego nauczycieli i nowego systemu ich wynagradzania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upowszechnienie doskonalenia zawodowego nauczycieli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CECE-7C55-4907-9541-18B30F20F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iana struktury szkolnictwa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iany wprowadzane od roku 1999 – utworzenie szkoły na poziomie ISCED 2 oraz przedłużenie o rok obowiązkowego kształcenia ogólnego (dotyczy to 15-latków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39640" y="4005360"/>
            <a:ext cx="84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       ISCED 1                                 ISCED 2                         ISCED 3</a:t>
            </a:r>
            <a:r>
              <a:rPr b="0" i="1" lang="en-US" sz="1800" spc="-1" strike="noStrike">
                <a:solidFill>
                  <a:srgbClr val="616365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8       9       10       11       12       13       14       15      16       17       18 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41440" y="2197080"/>
            <a:ext cx="8385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ISCED 0                                  ISCED 1-2                                                        ISCED 3                         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</a:rPr>
              <a:t>ISCED 4-6</a:t>
            </a:r>
            <a:r>
              <a:rPr b="0" i="1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6365"/>
                </a:solidFill>
                <a:latin typeface="Arial"/>
                <a:ea typeface="Arial"/>
              </a:rPr>
              <a:t>3        4        5        6        7        8        9       10       11       12       13      14      15      16       17       18      19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612720" y="4581360"/>
            <a:ext cx="1738440" cy="3844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351160" y="4581360"/>
            <a:ext cx="2403360" cy="384480"/>
          </a:xfrm>
          <a:prstGeom prst="rect">
            <a:avLst/>
          </a:prstGeom>
          <a:solidFill>
            <a:srgbClr val="00305c"/>
          </a:solidFill>
          <a:ln w="9360">
            <a:solidFill>
              <a:srgbClr val="003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730760" y="4581360"/>
            <a:ext cx="1504800" cy="384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6257880" y="4581360"/>
            <a:ext cx="1435320" cy="384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6227640" y="4971960"/>
            <a:ext cx="1800360" cy="4334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227640" y="5405400"/>
            <a:ext cx="14367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341440" y="4630680"/>
            <a:ext cx="2497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716360" y="4581360"/>
            <a:ext cx="1641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GIMNAZJUM  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lower second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839880" y="4581360"/>
            <a:ext cx="1355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PRZEDSZKOLE</a:t>
            </a: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6127920" y="4951440"/>
            <a:ext cx="18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3911760" y="5259240"/>
            <a:ext cx="16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2266920" y="2755800"/>
            <a:ext cx="3762360" cy="382680"/>
          </a:xfrm>
          <a:prstGeom prst="rect">
            <a:avLst/>
          </a:prstGeom>
          <a:solidFill>
            <a:srgbClr val="003f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5824440" y="2755800"/>
            <a:ext cx="1866960" cy="3826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829480" y="3139920"/>
            <a:ext cx="2217600" cy="3826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5829480" y="3521160"/>
            <a:ext cx="1589040" cy="48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6253200" y="2755800"/>
            <a:ext cx="1415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LICEUM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upper    secondary gener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6229440" y="3139920"/>
            <a:ext cx="1671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6229440" y="3500280"/>
            <a:ext cx="149544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611280" y="2755800"/>
            <a:ext cx="1752480" cy="382680"/>
          </a:xfrm>
          <a:prstGeom prst="rect">
            <a:avLst/>
          </a:prstGeom>
          <a:solidFill>
            <a:srgbClr val="e17000"/>
          </a:solidFill>
          <a:ln w="9360">
            <a:solidFill>
              <a:srgbClr val="e1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838080" y="2755800"/>
            <a:ext cx="157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PRZEDSZKOLE   </a:t>
            </a:r>
            <a:r>
              <a:rPr b="1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e-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468360" y="1916280"/>
            <a:ext cx="49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Stara struktura szkolnictwa (PISA 2000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468360" y="3716280"/>
            <a:ext cx="491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17000"/>
                </a:solidFill>
                <a:latin typeface="Arial"/>
                <a:ea typeface="Arial"/>
              </a:rPr>
              <a:t>Nowa struktura szkolnictwa (PISA 2003, 2006):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259000" y="2797200"/>
            <a:ext cx="324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  <a:ea typeface="Arial"/>
              </a:rPr>
              <a:t>SZKOŁA PODSTAWOWA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  <a:ea typeface="Arial"/>
              </a:rPr>
              <a:t>(prima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4"/>
          <p:cNvSpPr/>
          <p:nvPr/>
        </p:nvSpPr>
        <p:spPr>
          <a:xfrm>
            <a:off x="6035760" y="2131920"/>
            <a:ext cx="21564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zedłużenie o rok kształcenia ogólne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8"/>
          <p:cNvSpPr/>
          <p:nvPr/>
        </p:nvSpPr>
        <p:spPr>
          <a:xfrm>
            <a:off x="6227640" y="4971960"/>
            <a:ext cx="14986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TECHNIKUM</a:t>
            </a: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upper                  secondary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300720" y="5405400"/>
            <a:ext cx="1494000" cy="5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Arial"/>
              </a:rPr>
              <a:t>SZKOŁA ZASADNICZA</a:t>
            </a: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(basic vocational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77D-ED88-4132-8076-9C315418A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Zmniejszenie różnic między szkołami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w osiągnięciach 15-latków w czytaniu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598560" cy="408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40000" y="1989000"/>
            <a:ext cx="467964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badaniach PISA 2000-2003 odkryt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 Polsce zmniejszenie zróżnicowania osiągnięć 15-latków między szkołami, najbardziej istotne spośród krajów U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OECD. Dotyczyło ono osiągnięć uczniów we wszystkich zakresach badań PISA (czytanie, matematyka, nauka)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Zmniejszenie różnic między szkołami można łączyć z kompleksową reformą systemu edukacji wdrażaną od 1999 roku. Reforma ta była wdrażana stopniowo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 w roku 2000 nie objęła jeszcze 15-latków (PISA 2000 badała stary system edukacji, PISA 2003 i 2006 – nowy)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1197000"/>
            <a:ext cx="87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7300"/>
                </a:solidFill>
                <a:latin typeface="Arial"/>
              </a:rPr>
              <a:t>zróżnicowanie między szkołami w latach 2000-2006 w Polsce na tle OECD jako procent średniego zróżnicowania osiągnięć uczniów w OECD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ymbol zastępczy numeru slajdu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582-2912-428A-AAF5-47424348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óżnice między szkołami w osiągnięciac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olskich 15-latków w czytaniu w roku 2000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0" y="1917720"/>
            <a:ext cx="4699080" cy="4280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27600" y="1557000"/>
            <a:ext cx="4316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roku 2000 zanotowano w Polsce jedne z największych w UE i OECD różnic między szkołami w osiągnięciach uczniów.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óżnice dotyczyły głównie podziału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a szkoły ogólnokształcące i zawodowe, w tym zasadnicze.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 zasadniczych szkołach zawodowych, do których </a:t>
            </a:r>
            <a:r>
              <a:rPr b="0" lang="pl-PL" sz="1800" spc="-1" strike="noStrike">
                <a:solidFill>
                  <a:srgbClr val="d97300"/>
                </a:solidFill>
                <a:latin typeface="Arial"/>
              </a:rPr>
              <a:t>przyjmowano 26% uczniów, ponad 73% z nich należało do kategorii najsłabszyc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uczniów (low achievers). Jednocześnie w szkołach tych było bardzo mało uczniów najlepszych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1557360"/>
            <a:ext cx="39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rocent uczniów według poziomów kompetencji czytania PISA 200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6T15:39:49Z</dcterms:modified>
  <cp:revision>115</cp:revision>
  <dc:subject/>
  <dc:title>Prezentacja programu PowerPoint</dc:title>
</cp:coreProperties>
</file>