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ACB5A-8BE4-4446-8F3D-29CCFC4513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0C634-5C4E-4283-B17E-386B8BA21B4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C24F5-5204-4BFF-9F7D-5C309C91E2A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15970-1D21-4B94-8081-451746ED35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DD2-4460-44C0-893A-88832988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31E-A96B-4862-8BBB-0BA261FD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6AC-A298-4BBF-B930-55734B4F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32E-182B-4E47-AC05-5D5C243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975-74D6-4AAF-9094-2714ACC0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0F3-93EF-4CAB-A234-E31346A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B1A-BA9A-42BE-88D0-4EB31F8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3B4-5233-44BD-8620-3D39DBD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A52-0CE9-49F8-A722-D28C851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155-5D35-4ABE-A9D8-A922E6D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98D-C0DA-4B8D-9435-83C86E01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7A8-A5A2-4C7D-AEF4-0C22415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E3C-A38A-448D-9397-3D516A98DC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C45-F1CF-48C8-98F3-E4171785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5FE-1EDA-4A3B-A7A7-4C48B1ABF8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6- and 17-year-olds’ performance in reading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between schools (it concern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l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nationa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190-06B6-491B-BFD3-0A993A2896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til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lar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student performanc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tween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development of key competence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A32-B5E8-47EC-918A-E120E8A8E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0CA-92D5-417C-9E47-55EF215A5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F92-AF58-4B60-B803-E039B206E0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8D9-B857-4473-A2D4-7B0321853B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91E-221E-4DF1-9E64-9C65C1F5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9CD-EB5D-4746-9310-C32A101509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rehensive approach to planned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tudents (revealed in PISA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) that results from disclosure of these students’ capabiliti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rogramm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C4D-DD3B-47D0-BB2C-43B73FCB34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comprehensiv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ducation but it should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arried ou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C6D-07F9-4D02-9BB5-680FBA1F4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7F7-8B8C-4DE5-9090-0E82F8218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between school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132-11CB-4B8D-8650-2A795B5C6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mean 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highes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student performance between 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n UE and OECD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 and OECD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Mean performanc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E1C-0C2B-497E-A4B5-DD4B1EFE2D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reading 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 i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 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and OECD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ach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20A-80CD-4108-B3D3-9D2762642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64B-83F5-4A95-9E44-6E8CB1A75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-servi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B4B-C83D-4D1D-80D6-44FC23034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70B-9923-4990-9B2D-441323C1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comprehensive compulsor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5A9-DB66-4A16-B740-E9086778B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in variance in student performanc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      between schools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113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 in student performance between school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 in 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ariance in student performance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0AB-6215-4100-A05E-03BBD6CF2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5-year-olds’ performance in reading         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is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15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3E9-89C7-4210-B344-D718F9527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tanislaw.drzazdzews</cp:lastModifiedBy>
  <dcterms:modified xsi:type="dcterms:W3CDTF">2010-07-14T10:39:35Z</dcterms:modified>
  <cp:revision>226</cp:revision>
  <dc:subject/>
  <dc:title>Prezentacja programu PowerPoint</dc:title>
</cp:coreProperties>
</file>