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14800" cy="9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592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5324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60280" y="945324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7E2FF1-D8C4-4FBE-A0E9-3B1FF72872A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0A4F91-59B9-49D8-A881-DB32D526606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0449D9-8AA7-4167-B90D-900F56CC4A8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DDCDB7-0A00-4C25-9811-6324A012188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5E3-FC4B-4103-BCA9-448E87F8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E7ED-E197-4D70-9DED-BCAD6DDD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13E-E8AC-47CA-AB25-299B3EE6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A61-C172-4557-9E50-3FC210E1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653-1D47-4535-BF6A-AAABF35D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75F-2536-4E62-BD65-B30E01AC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2782-2C93-4DE5-9342-5E9DDD8E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76C-9AAC-41FA-9F9B-635011CD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CF7-06D4-4E43-95C9-71BCC87E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0A8-A43A-4577-B51E-6992CF45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4C5-E473-4059-A4DB-DBB43A09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585F-FA20-4552-B9D0-585E32FC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F768-6C04-4114-A4D8-271B14E3F1E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1A5E-51A6-441A-88DB-EA8CAC83B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 of the Ministers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ulsory Educ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9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lopment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f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competences in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periences &amp;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975-344C-486D-9881-016F088F86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6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year-old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literacy in 2006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67280" y="126828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evel ISCED 3 (for 1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lder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constantly large differences of stud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between schools (it concerns competences examined under PISA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8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around 60% of them were included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ncentration of the low achiever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basic vocational schools and hig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chiev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upper secondary general school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 can be observe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1989000"/>
          <a:ext cx="46800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4680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1413000"/>
            <a:ext cx="41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of reading competences PISA 2006 nationa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(16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nd 17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year-old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EFF-C76B-47FE-A435-5BD0A2071E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s of key competence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development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in vocational education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owadays 16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year-old stud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tte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imilar type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chool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level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CED 3 as it was before the reform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re are still large differences between schools at the level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 in the structure of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ntrast to ISCED 2 level w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e this disproportion has been effectively reduced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videnc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how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he lack of good development of key competences in some types of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articularly in vocational school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35B-DFDF-4AE2-98EE-4869138CFC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on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tinuation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of the education system refor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orks on comprehensive and coherent LLL strategy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plan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solidation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ll national strategies was adopted by the Polish government in November 2009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ter-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departament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ask-force for LLL strateg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cluding NQF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 w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stablished by Prime Minister’s decree in February 2010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s been ver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ucc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sfu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the field of formal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videnc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y results of PISA research and Poland’s nation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hievements as regards EU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nchmar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„Education 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ining 2010”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Programme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same ti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 has low achievements beyon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traditional period of school education, i.e. in pre-school education and adults learning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aim of the LLL strategy will be to balance the Polish achievements in the whole area of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011-BB82-4AF9-89B4-70F2BD7AA9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form revision 10 years later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tinua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mprehensive reform of education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concerning pre-school and general education, implemented since 2009, based on learning outcomes, i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 line with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pproach recommended in the European Qualifications Framework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owering the age of starting the compulsory pre-school prepar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5) which is connected with dissemination of pre-school education and lowering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ag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ing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ulsory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6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the vocational education and training modernization based 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approach to professional qualifications which is consistent with European Credit System for Vocational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d Training (ECVET)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changes in schools and in their surrounding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which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upport the process of individual work with students, especially those with learning difficulties as well as the talented on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685-F679-46BB-9D72-44D7F91BBD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implementation of the new curricula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2009-201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70000"/>
          <a:ext cx="8291520" cy="4091040"/>
        </p:xfrm>
        <a:graphic>
          <a:graphicData uri="http://schemas.openxmlformats.org/drawingml/2006/table">
            <a:tbl>
              <a:tblPr/>
              <a:tblGrid>
                <a:gridCol w="2882880"/>
                <a:gridCol w="1508040"/>
                <a:gridCol w="1571760"/>
                <a:gridCol w="806400"/>
                <a:gridCol w="1522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ormed teaching in classrooms</a:t>
                      </a:r>
                      <a:r>
                        <a:rPr b="0" lang="en-US" sz="18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xamination adapted to the new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en-US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 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secondary school certificate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56"/>
          <p:cNvSpPr/>
          <p:nvPr/>
        </p:nvSpPr>
        <p:spPr>
          <a:xfrm>
            <a:off x="395280" y="5634000"/>
            <a:ext cx="8353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primary school, L – upper secondary general, T – upper secondary vocatio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basic vocation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9BF-57DE-4B7D-8E51-237A0DC536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D5B4-1B9C-467C-A052-F11026A61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modification of examinations confirming vocational qualification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71600"/>
          <a:ext cx="8713800" cy="45054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minations confirming vocational qual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r>
                        <a:rPr b="0" lang="en-US" sz="16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CCA-63AE-4F1B-AA18-0277F8DBE4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be drawn from the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lish experience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br>
              <a:rPr sz="2600"/>
            </a:b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mprehensive approach to planned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e of the most extensive reform of education in UE and OECD countri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1999 in Polan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lthough nowadays this reform requir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few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rrections,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ved effective thanks to comprehensive approach to chang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ter use of hidden capabilities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ignificant improvement of weakest students’ competences (revealed in PISA research in 2000-2003) that results from disclosure of these students’ capabilities i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type of school (lower secondary school)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ably the capabilities of the weak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ufficient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eveloped in th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it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ig percen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low achieve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e need 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and progra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vi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o be planned for many years ahead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sults of different international researches (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ike PISA, TIMSS/PIRLS, TALIS, TEDS-M, PIAA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have been and will b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helpful to pla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urt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hang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the educ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ny different systemic modifications accompani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urricula, whic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as initiated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eptember 200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ir results will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oticeabl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nl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fter many yea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B5A-2B66-4A96-9A6E-D60F2CF240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Poland draw from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its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wn experience 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esen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ogram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hange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re aim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nsure the better result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 general education in upper secondary schools, without making any structural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is accepte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 there is a need for extend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bligatory perio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ssibly identic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eneral education but it should be realize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re indivi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ze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y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Poland there is a v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y strong tradition of making a choice betwee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ducation in upper secondary general school and vocational preparation in upper secondary vocational school or basic vocational schoo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re is a plan for 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volutionary, structural chan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la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odification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vocational education. The fundamental purpose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ra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l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isseminat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ocationa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qualification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qui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flexible courses forms instead of different types of schools    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AE0-284A-4DA4-9420-0346AAA981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eliminary invi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ring the Polish Presidency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uncil of the European Union,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ternational conference is planned in November 2011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effectiveness of education policy </a:t>
            </a:r>
            <a:br>
              <a:rPr sz="2000"/>
            </a:b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for development 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competence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will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pportunity to debate on this subjec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ould like 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vite you to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nference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ficial invitations will be sent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utumn.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D29-8788-4DA1-99BD-73AB4C8CE9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utline of the presen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ain findings of PISA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ogramme regarding competenc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Poland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rovement of competences – especially in reading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roblems of competences development of 16- and 17-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olicy which contributed to achievements revealed in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reform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r.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erzy Buzek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continuation of the reform of the educational syste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nd works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LLL strategy 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hat conclusions can be drawn from the Polish experience as regards competences’ development of young people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1B6-4D97-4D3F-930A-655755D358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58" name="Rectangle 3"/>
          <p:cNvGraphicFramePr/>
          <p:nvPr/>
        </p:nvGraphicFramePr>
        <p:xfrm>
          <a:off x="250920" y="1989000"/>
          <a:ext cx="415116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15116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the largest EU in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reading achievements of 15-year-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2000-2006 in Poland (in OECD only South Korea reported slightly higher increase)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 there was a remarkable improvement of competenc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it can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lated to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crease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between-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ools differ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2003-2006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hig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crease of good and t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compet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an be observ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reading literacy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achievements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7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average results 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to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PISA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256-EF53-41CA-BAFD-D36601D612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4" name="Rectangle 3"/>
          <p:cNvGraphicFramePr/>
          <p:nvPr/>
        </p:nvGraphicFramePr>
        <p:xfrm>
          <a:off x="611280" y="2276640"/>
          <a:ext cx="3819600" cy="40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9600" cy="40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381024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a significant de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numb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 in reading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6 in Polan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is change also concerns mathematics and science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achievements in reading literacy of P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-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 versus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ercent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of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lowest achie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526-B6CF-418A-B90D-25045F0378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reforms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Mr. Jerzy Buzek’s government</a:t>
            </a:r>
            <a:endParaRPr b="0" lang="en-US" sz="27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cational system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form (which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tarted in 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s one of fou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ic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hich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tribu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epa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cessio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o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EU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ther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tructur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cover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ublic administration, health ca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ocial securit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s the result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loc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govern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v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c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e responsible for vast majority of educational tas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real partner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government administration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909-0DDB-4CAC-87EB-69CA8CE637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br>
              <a:rPr sz="2800"/>
            </a:b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 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s of educational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luded the following actions (taking place at the same time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nsfer of schools to loc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ogether with financial resourc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ir managem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ed on the number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of the structure of schoo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form of core curricul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ssessment, including introduc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external examinations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ationalization of school network, especially in rural area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odernization of school equipment, particularly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gard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lementation 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ystem of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areer promo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remuner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entives for broad participation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fessional training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56F-0A47-47EA-B2FB-7A4C6A51B9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02C2-7ACD-43E4-BB66-42A4676F2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hange of the structure of school syste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5940360" y="2206800"/>
            <a:ext cx="21600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education extended by one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8360" y="1989000"/>
            <a:ext cx="8520120" cy="4089240"/>
            <a:chOff x="468360" y="1989000"/>
            <a:chExt cx="8520120" cy="4089240"/>
          </a:xfrm>
        </p:grpSpPr>
        <p:sp>
          <p:nvSpPr>
            <p:cNvPr id="77" name="Text Box 20"/>
            <p:cNvSpPr/>
            <p:nvPr/>
          </p:nvSpPr>
          <p:spPr>
            <a:xfrm>
              <a:off x="539640" y="4078440"/>
              <a:ext cx="8448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       ISCED 1                                 ISCED 2                         ISCED 3</a:t>
              </a:r>
              <a:r>
                <a:rPr b="0" i="1" lang="en-US" sz="1800" spc="-1" strike="noStrike">
                  <a:solidFill>
                    <a:srgbClr val="616365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8       9       10       11       12       13       14       15      16       17       18 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541440" y="2270160"/>
              <a:ext cx="8385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ISCED 1-2                                                        ISCED 3            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 8        9       10       11       12       13      14      15      16       17       18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612720" y="4654440"/>
              <a:ext cx="1738440" cy="38412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2351160" y="4654440"/>
              <a:ext cx="2403360" cy="384120"/>
            </a:xfrm>
            <a:prstGeom prst="rect">
              <a:avLst/>
            </a:prstGeom>
            <a:solidFill>
              <a:srgbClr val="00305c"/>
            </a:solidFill>
            <a:ln w="9360">
              <a:solidFill>
                <a:srgbClr val="003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4730760" y="4654440"/>
              <a:ext cx="1504800" cy="384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6227640" y="5045040"/>
              <a:ext cx="1800360" cy="433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227640" y="5478480"/>
              <a:ext cx="1436760" cy="57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2341440" y="4703760"/>
              <a:ext cx="2497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716360" y="4654440"/>
              <a:ext cx="164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ER  SECONDAR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839880" y="465444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7"/>
            <p:cNvSpPr/>
            <p:nvPr/>
          </p:nvSpPr>
          <p:spPr>
            <a:xfrm>
              <a:off x="6127920" y="5024520"/>
              <a:ext cx="182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2266920" y="2828880"/>
              <a:ext cx="3762360" cy="382680"/>
            </a:xfrm>
            <a:prstGeom prst="rect">
              <a:avLst/>
            </a:prstGeom>
            <a:solidFill>
              <a:srgbClr val="003f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5824440" y="2828880"/>
              <a:ext cx="18669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5829480" y="3213000"/>
              <a:ext cx="2217600" cy="382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829480" y="3594240"/>
              <a:ext cx="158904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7"/>
            <p:cNvSpPr/>
            <p:nvPr/>
          </p:nvSpPr>
          <p:spPr>
            <a:xfrm>
              <a:off x="6156360" y="2828880"/>
              <a:ext cx="1871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PER SECONDARY 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8"/>
            <p:cNvSpPr/>
            <p:nvPr/>
          </p:nvSpPr>
          <p:spPr>
            <a:xfrm>
              <a:off x="6099120" y="3213000"/>
              <a:ext cx="1816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084720" y="3646440"/>
              <a:ext cx="1440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611280" y="2828880"/>
              <a:ext cx="1752480" cy="38268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838080" y="2828880"/>
              <a:ext cx="1579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468360" y="1989000"/>
              <a:ext cx="51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Previous structure of school system (PISA 2000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468360" y="3789360"/>
              <a:ext cx="511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New structure of school system (PISA 2003, 2006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2259000" y="2870280"/>
              <a:ext cx="32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227640" y="5045040"/>
              <a:ext cx="18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9"/>
            <p:cNvSpPr/>
            <p:nvPr/>
          </p:nvSpPr>
          <p:spPr>
            <a:xfrm>
              <a:off x="6227640" y="5518080"/>
              <a:ext cx="1494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6227640" y="4654440"/>
              <a:ext cx="14367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UPPER SECONDARY </a:t>
              </a:r>
              <a:br>
                <a:rPr sz="1100"/>
              </a:b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-252360" y="981000"/>
            <a:ext cx="939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ang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troduced since 199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troduction of the new school typ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ISCED 2 and exten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comprehensive)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y one year (related to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F86-DD80-4C30-90E5-AAB0E7D7CD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duction of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between-school 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differences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250920" y="1989000"/>
          <a:ext cx="359892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359892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360" y="2060280"/>
            <a:ext cx="5076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0-2003 revealed that 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bilit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 between schools was reduce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(this decrease wa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ost significa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ECD countri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t concern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in al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etences measured 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ISA (reading, mathematics, science). 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can be related to the comprehensive reform of the educational system, implement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was implemented gradually and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s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covered in 2000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PISA 2000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xamined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vious system of 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3 and 200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on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97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Di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fference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between schools in Poland in 2000-2006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C31-C927-4C4E-9097-C9DBD94469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5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year-old </a:t>
            </a:r>
            <a:br>
              <a:rPr sz="2600"/>
            </a:b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in 2000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0" name="Rectangle 3"/>
          <p:cNvGraphicFramePr/>
          <p:nvPr/>
        </p:nvGraphicFramePr>
        <p:xfrm>
          <a:off x="1440" y="1803240"/>
          <a:ext cx="5100840" cy="44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03240"/>
                    <a:ext cx="51008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921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2000 Poland noted 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 of the largest difference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chievements of student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ared to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U and OEC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ountri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ifferences can be referr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ain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o the division into 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ducatio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chools and vocational education schools, including basic vocational schools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6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over 73% of them belonged to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r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carce in thes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41300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of reading competence PIS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BE3-784C-47A3-9D5C-9ABF9E6801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Katarzyna Hall</cp:lastModifiedBy>
  <dcterms:modified xsi:type="dcterms:W3CDTF">2010-07-08T12:58:10Z</dcterms:modified>
  <cp:revision>196</cp:revision>
  <dc:subject/>
  <dc:title>Prezentacj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85341322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952462772</vt:r8>
  </property>
</Properties>
</file>