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F818A-7A39-4800-8B22-9E4ED7E154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B1166-0879-4715-A6B2-9FED83FE4A8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16E11-B55F-490E-AEDE-F1B0921278F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404BD-2AC7-4ACF-9E51-37B96AF89C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FE4-65D1-4B9E-86BA-A723F62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6D1-BE0D-4004-9B43-B2A2C30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097-B68C-4D51-8F59-2E4F2C5E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84F-0B88-4F8F-ADAC-F761371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87C-FF12-47B7-9DC3-90ED3FF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6F6-81A8-498E-808B-FB1A281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F91-94A2-4651-B896-6518D68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917-E732-47ED-848E-84D569B0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EF1-65C8-49C3-A4DB-678BB80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DA8-7F7C-4983-8833-9C0F7FB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E04-D902-434C-90AA-8DA5A0A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B24-B68F-4558-A36B-B8CF2A8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56C-A110-4AA2-B38D-DF961FEEED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00D-511A-44BE-A089-9DBDE0DB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649-8116-4295-92FA-8F3441C7E7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6- and 17-year-olds’ performance in reading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between schools (it concern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l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nationa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831-88AA-475B-AB63-7A7D0E7E6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til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lar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student performanc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tween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development of key competence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61F-B94F-4DE8-B7D1-CBB6439B4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5B8-A2BA-41A1-AB65-BC3E732C57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024-67B7-4B6E-ADCE-53A5A128E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A4E-29FD-475B-B97F-1BEDD4D842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1054-3E8F-460A-B2C0-98363F548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526-DDC5-4C76-B9E5-3976DFFDA9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rehensive approach to planned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tudents (revealed in PISA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) that results from disclosure of these students’ capabiliti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rogramm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895-6E0C-4FCD-B154-A289264D0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comprehensiv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ducation but it should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arried ou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625-CAB6-463B-8C49-5BFE251113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BD2-3112-4631-B8E7-D066D4051A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between school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BF2-9A3D-4624-87A7-F345C0BD6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mean 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highes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student performance between 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n UE and OECD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 and OECD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Mean performanc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E4D-2A86-437B-AA32-98406525B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reading 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 i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 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and OECD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ach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4E3-6ECC-4433-AA92-DF1F1931E8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FCC-DBAD-497B-A06D-A0C508ECA2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-servi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0CA-31FD-4372-B98B-AED83BF0D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ECB-6103-4BD1-9816-78094356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comprehensive compulsor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2BF-6AE8-482D-BE20-E3EF962EAE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in variance in student performanc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      between schools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113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 in student performance between school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 in 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ariance in student performance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75D-08C0-48A7-AEDE-648EDA9C28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5-year-olds’ performance in reading         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is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15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949-560F-473C-A167-7EE456C9C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tanislaw.drzazdzews</cp:lastModifiedBy>
  <dcterms:modified xsi:type="dcterms:W3CDTF">2010-07-14T10:39:35Z</dcterms:modified>
  <cp:revision>226</cp:revision>
  <dc:subject/>
  <dc:title>Prezentacja programu PowerPoint</dc:title>
</cp:coreProperties>
</file>