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9F0E-AAD9-4F47-AC60-FFA5B4C7489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9B0C-3DBB-4411-9363-131FF04E2DE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238D-5362-4412-9763-255BE526FF4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720-C64D-48B0-963D-63F42CB8DCE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37F-CB6A-4B86-85C9-7B02E745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447-1361-4BED-8638-4A67B202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C48-8A05-4AA0-B127-3D3646E6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51C-7CFD-4088-9E38-CB552F07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DF0-6C4D-402E-A3A6-33187B1F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5EC-1254-4E9A-BE20-9EC6405F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040-6B4B-4872-A854-D0FD436C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247-A87E-426C-843D-8F9BBE9E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908-EA01-4526-9968-556C924A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ABB-76D4-429A-B31A-30B52FFE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90A-D557-4F77-B525-19649DCB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D27-A1FC-4A37-9F39-8AB2A3A6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9F7C-F7F5-4CC2-800C-58FDEA602B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FBB1-10A1-451C-80AF-F6C31FC0A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ium ministrów edukacji na temat obowiązkowego kształceni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ksela, 9 lipca 2010 r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wijanie kompetencji młodzieży w Polsc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doświadczenia i perspektyw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FC94-9F45-4850-959C-50669AF59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óżnice między szkołami w osiągnięciac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lskich 16- i 17-latków w czytaniu w roku 200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polskich szkołach na poziomie ISCED 3 (dla uczniów 16-letnich i starszych) nadal utrzymują się duże różnice osiągnięć uczniów między szkołami (dotyczy to wszystkich kompetencji badanych w PISA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zasadniczych szkołach zawodowych, do których </a:t>
            </a:r>
            <a:r>
              <a:rPr b="0" lang="pl-PL" sz="1800" spc="-1" strike="noStrike">
                <a:solidFill>
                  <a:srgbClr val="d97300"/>
                </a:solidFill>
                <a:latin typeface="Arial"/>
              </a:rPr>
              <a:t>przyjmowano 18% uczniów,  około 60% z nich należało do kategorii najsłabszyc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uczniów (low achievers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ystępuje koncentracja najsłabszych uczniów w szkołach zasadniczych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 najlepszych – w licea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1" name="Rectangle 3"/>
          <p:cNvGraphicFramePr/>
          <p:nvPr/>
        </p:nvGraphicFramePr>
        <p:xfrm>
          <a:off x="0" y="1892160"/>
          <a:ext cx="4356000" cy="41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2160"/>
                    <a:ext cx="435600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5"/>
          <p:cNvSpPr/>
          <p:nvPr/>
        </p:nvSpPr>
        <p:spPr>
          <a:xfrm>
            <a:off x="71280" y="1413000"/>
            <a:ext cx="45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37373"/>
                </a:solidFill>
                <a:latin typeface="Arial"/>
              </a:rPr>
              <a:t>Procent uczniów według poziomów kompetencji czytania PISA 2006 opcja krajowa (badanie 16- i 17-latków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F178-5925-44B1-B803-BC2D4C624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y rozwoju kluczowych kompetencj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szkolnictwie zawodowy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becnie 16- i 17-latki nadal uczęszczają do podobnego rodzaju szkół na poziomie ISCED-3 jak przed reformą z 1999 roku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strukturze szkolnictwa na poziomie ISCED 3 między szkołami nadal zachowane są duże różnice, które udało się skutecznie ograniczyć na poziomie ISCED 2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nadto widoczny jest brak dobrego rozwoju kompetencji kluczowych w niektórych typach szkół na poziomie ISCED 3        – szczególnie w szkołach zawod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EDF6-EC00-49B2-8F0E-8F8DEDA00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ntynuacja reformy systemu edukacji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race nad kompleksową i spójną strategią LLL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ząd RP przyjął w listopadzie 2009 r. plan uporządkowania wszystkich strategii kraj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rządzeniem premiera w lutym 2010 r. utworzony został międzyresortowy zespół do spraw LLL, w tym KRK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ska odnosi istotne sukcesy w zakresie edukacji formalnej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– dowodem są między innymi wyniki badań PISA oraz osiągnięcia Polski w zakresie 4 z 5 wskaźników programu „Edukacja i szkolenie 2010”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jednocześnie Polska ma słabe osiągnięcia poza tradycyjnym okresem kształcenia szkolnego, tj. w upowszechnieniu wychowania przedszkolnego i w uczeniu się dorosł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daniem strategii LLL będzie zrównoważenie osiągnięć Polski w całym obszarze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E37D-0CBB-4A37-A5D9-1867794FF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rekta programowa dziesięć lat później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ntynuacja kompleksowej reformy systemu edukacji z roku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a programowa wychowania przedszkolnego i kształcenia ogólnego wdrażana od 2009 r., oparta na efektach kształcenia,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j. podejściu promowanym w europejskich ramach kwalifikacji (EQF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bniżenie wieku obowiązkowego przygotowania przedszkolneg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od 5. roku życia) połączone z upowszechnieniem wychowania przedszkolnego i obniżeniem wieku rozpoczynania obowiązku szkolnego (od 6. roku życia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zygotowywanie modernizacji kształcenia i szkolenia zawodowego opartej na nowym podejściu do kwalifikacji zawodowych. zgodnym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 europejskim systemem transferu osiągnięć w kształceniu i szkoleniu zawodowym (ECVET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zygotowywanie zmian w szkołach i ich otoczeniu, wspierających proces indywidualizacji pracy z uczniami, zwłaszcza z uczniami mającymi trudności w nauce oraz z uczniami zdolnym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39AD-8FCD-49D5-9A43-0598D3CF4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lan zmian rozpisany na lata szkoln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1281240"/>
          <a:ext cx="8291520" cy="3878280"/>
        </p:xfrm>
        <a:graphic>
          <a:graphicData uri="http://schemas.openxmlformats.org/drawingml/2006/table">
            <a:tbl>
              <a:tblPr/>
              <a:tblGrid>
                <a:gridCol w="2016000"/>
                <a:gridCol w="2089440"/>
                <a:gridCol w="1800000"/>
                <a:gridCol w="1150920"/>
                <a:gridCol w="1235160"/>
              </a:tblGrid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k szkoln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reformowane nauczanie w klasach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Gimnazj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Gimnazj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Gimnazjum</a:t>
                      </a: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gzamin gimnazjalny dostosowany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</a:t>
                      </a:r>
                      <a:r>
                        <a:rPr b="0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sprawdzian dostosowany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</a:t>
                      </a: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matura dostosowana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56"/>
          <p:cNvSpPr/>
          <p:nvPr/>
        </p:nvSpPr>
        <p:spPr>
          <a:xfrm>
            <a:off x="1187280" y="5445000"/>
            <a:ext cx="6769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szkoła podstawowa, L – liceum, T – technikum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zasadnicza szkoła zawodow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9472-A74A-40D9-8E37-8DC9B7BA5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3148-2200-4175-9CD4-489EBAC0A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alendarium zmian w systemie egzaminów potwierdzających kwalifikacje zawodow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371600"/>
          <a:ext cx="8713800" cy="46116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 szkoln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potwierdzające kwalifikacje zawodow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543E-5354-497D-A581-885F5F1D3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Jakie wnioski można wyciągnąć z doświadczeń Polsk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zakresie rozwoju kompetencji młodzieży?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Kompleksowe podejście do planowanych zmian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Polsce wdrożona została w roku 1999 jedna z najszerzej zakrojonych reform edukacyjnych w państwach UE i OEC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imo, że obecnie wymaga ona korekt, okazała się skuteczna dzięki kompleksowemu podejściu do zmian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epsze wykorzystanie ukrytych potencjał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znacząca poprawa kompetencji najsłabszych uczniów w Polsce, odkryta w badaniach PISA w latach 2000-2003, wynika z ujawnienia potencjału tych uczniów w nowym typie szkół (gimnazjum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jest prawdopodobne, że potencjał najsłabszych uczniów nie był wystarczająco rozwijany w szkołach, które grupowały niemal wyłącznie słabych uczni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trzebna korekta programowa i systemowa – rozpisana na wiele kolejnych la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yniki różnych badań międzynarodowych (jak PISA, TIMSS/PIRLS, TALIS, TEDS-M, PIAAC) były, są lub będą wykorzystywane w planowaniu kolejnych zmian w edukacj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zmianie programowej rozpoczętej od września 2009 roku towarzyszy wiele innych zmian systemowych, których efekty będzie można również dostrzec dopiero po wielu latach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0B49-EC74-4D83-B4CD-85BEFEBA5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76320"/>
            <a:ext cx="8785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Jakie wnioski wyciąga Polska ze swoich doświadczeń w zakresie rozwoju kompetencji młodzieży?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becnie wprowadzane zmiany programowe mają zapewnić lepsze efekty kształcenia ogólnego w szkołach ponadgimnazjalnych, bez wprowadzenia jednak istotnych zmian strukturalnych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zyjmuje się, że istnieje potrzeba wydłużenia okresu obowiązkowego – możliwie jednakowego – kształcenia ogólnego,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le prowadzonego w sposób bardziej zindywidualizowany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 Polsce istnieje bardzo silna tradycja dokonywania wyboru między kształceniem w liceum ogólnokształcącym a przygotowaniem zawodowym w technikum lub szkole zasadniczej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Zakładana jest ewolucyjna zmiana strukturalna związana ze zmianami w kształceniu zawodowym mającymi na celu stopniowe upowszechnianie nabywania kwalifikacji zawodowych w elastycznych formach kursowych zamiast w szkołach różnych typów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07BE-4D8E-45D4-9C2C-39B36DCC3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stępne zaproszeni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listopadzie 2011 r., podczas polskiej Prezydencji w Radzie UE, planowana jest międzynarodowa konferencja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d roboczą nazwą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Skuteczność polityki edukacyjnej na rzecz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rozwoju kompetencji klucz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ędzie to okazja do szerszej debaty na ten tema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stępnie zapraszam Państwa na tę konferencję.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icjalne zaproszenia zostaną wysłane jesienią bieżącego roku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399D-64FD-4586-9459-36C979781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rządek prezentacji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łówne odkrycia programu PISA w Polsce dotyczące kompetencji  młodzieży (15-latków)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oprawa kompetencji – zwłaszcza w zakresie czytani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niejszenie różnic między szkołami w osiągnięciach uczni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lemy rozwoju kompetencji starszych uczniów (16- i 17-latków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olityka, która przyczyniła się do osiągnięć ujawnionych w Polsc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rogramie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y rządu Jerzego Buzk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mpleksowa reforma systemu edukacj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ntynuacja reformy systemu edukacji i prace nad strategią LLL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akie wnioski można wyciągnąć z polskich doświadczeń w zakresie rozwoju kompetencji młodzieży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2C22-BBDE-4E91-B1B6-1669DED91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prawa kompetencji polskich 15-latków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0" name="Rectangle 3"/>
          <p:cNvGraphicFramePr/>
          <p:nvPr/>
        </p:nvGraphicFramePr>
        <p:xfrm>
          <a:off x="177840" y="1844640"/>
          <a:ext cx="4267080" cy="444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844640"/>
                    <a:ext cx="426708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3280" y="1773000"/>
            <a:ext cx="410544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w latach 2000-2006 nastąpił największy w UE wzrost osiągnięć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-latków w czytaniu (w OECD jedynie w Korei Płd. odnotowano wzrost nieco większy).</a:t>
            </a:r>
            <a:br>
              <a:rPr sz="1800"/>
            </a:b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latach 2000-2003 wzrosły przede wszystkim kompetencje uczniów słabych i najsłabszych (co można łączyć z największym w UE i OECD spadkiem różnic między szkołami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osiągnięciach uczniów)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latach 2003-2006 wzrosł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większym stopniu kompetencje uczniów dobrych i najlepszych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119700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siągnięcia polskich 15-latków w czytaniu na tle UE w latach 2000-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26920" y="17733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Średnie wyniki w skali PIS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A117-468A-4C84-A8AB-D8D374061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prawa kompetencji polskich 15-latków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819600" cy="4012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844640"/>
            <a:ext cx="3809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w latach 2000-2006 nastąpiło bardzo znaczące zmniejszenie liczby słabych uczniów w czytaniu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tego rodzaju zmiana dotyczy nie tylko czytania, ale także matematyki i nauk przyrodniczy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79280" y="1197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siągnięcia polskich 15-latków w czytaniu na tle UE w latach 2000-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826920" y="177336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rocent najsłabszych uczniów</a:t>
            </a:r>
            <a:br>
              <a:rPr sz="1800"/>
            </a:br>
            <a:r>
              <a:rPr b="0" lang="pl-PL" sz="1400" spc="-1" strike="noStrike">
                <a:solidFill>
                  <a:srgbClr val="616365"/>
                </a:solidFill>
                <a:latin typeface="Arial"/>
              </a:rPr>
              <a:t>(low achiever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2B10-F3DF-43D3-B82A-035C926C8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mpleksowe reformy rządu Jerzego Buzk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8036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a systemu edukacji rozpoczęta w roku 1999 była jedną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 czterech reform prowadzonych przez rząd Jerzego Buzka, które sprzyjały przygotowaniu Polski do wejścia do UE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zostałe reformy dotyczyły systemów: administracji publicznej, ochrony zdrowia, zabezpieczeń społecz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efekcie reform władze samorządowe stały się odpowiedzialne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 zdecydowaną większość zadań edukacyjnych i są w tym obszarze realnym partnerem administracji rządowej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D8D5-C713-45BA-96F8-5C0D9BBF9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mpleksowa reforma systemu edukacj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ządu Jerzego Buzk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989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Kompleksowa reforma systemu edukacji objęła jednocześnie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rzekazanie władzom lokalnym szkół wraz ze środkami finansowymi na ich prowadzenie, powiązanymi z liczbą uczniów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mianę struktury szkolnictwa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ę programową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ę systemu oceny osiągnięć uczniów, w tym wprowadzenie systemu egzaminów zewnętrz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cjonalizację sieci szkolnej, zwłaszcza na obszarach wiejski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dernizację wyposażenia szkół, szczególnie w zakresie nowych technologii informacyjnych i komunikacyj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drożenie systemu awansu zawodowego nauczycieli i nowego systemu ich wynagradzania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upowszechnienie doskonalenia zawodowego nauczycieli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D006-EBE7-4C4E-A4EB-FA5D64C19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Zmiana struktury szkolnictw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iany wprowadzane od roku 1999 – utworzenie szkoły na poziomie ISCED 2 oraz przedłużenie o rok obowiązkowego kształcenia ogólnego (dotyczy to 15-latków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539640" y="4005360"/>
            <a:ext cx="84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ISCED 0                                         ISCED 1                                 ISCED 2                         ISCED 3</a:t>
            </a:r>
            <a:r>
              <a:rPr b="0" i="1" lang="en-US" sz="1800" spc="-1" strike="noStrike">
                <a:solidFill>
                  <a:srgbClr val="616365"/>
                </a:solidFill>
                <a:latin typeface="Arial"/>
                <a:ea typeface="Arial"/>
              </a:rPr>
              <a:t>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</a:rPr>
              <a:t>ISCED 4-6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3        4        5        6        7       8       9       10       11       12       13       14       15      16       17       18       1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41440" y="2197080"/>
            <a:ext cx="838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ISCED 0                                  ISCED 1-2                                                        ISCED 3            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</a:rPr>
              <a:t>ISCED 4-6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3        4        5        6        7        8        9       10       11       12       13      14      15      16       17       18      1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12720" y="4581360"/>
            <a:ext cx="1738440" cy="384480"/>
          </a:xfrm>
          <a:prstGeom prst="rect">
            <a:avLst/>
          </a:prstGeom>
          <a:solidFill>
            <a:srgbClr val="e17000"/>
          </a:solidFill>
          <a:ln w="9360">
            <a:solidFill>
              <a:srgbClr val="e1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351160" y="4581360"/>
            <a:ext cx="2403360" cy="384480"/>
          </a:xfrm>
          <a:prstGeom prst="rect">
            <a:avLst/>
          </a:prstGeom>
          <a:solidFill>
            <a:srgbClr val="00305c"/>
          </a:solidFill>
          <a:ln w="9360">
            <a:solidFill>
              <a:srgbClr val="003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730760" y="4581360"/>
            <a:ext cx="1504800" cy="384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257880" y="4581360"/>
            <a:ext cx="1435320" cy="384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LICEUM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secondary gener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6227640" y="4971960"/>
            <a:ext cx="1800360" cy="4334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227640" y="5405400"/>
            <a:ext cx="143676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341440" y="4630680"/>
            <a:ext cx="249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SZKOŁA PODSTAWOWA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716360" y="4581360"/>
            <a:ext cx="1641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GIMNAZJUM  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lower second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839880" y="4581360"/>
            <a:ext cx="1355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PRZEDSZKOLE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pre-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6127920" y="4951440"/>
            <a:ext cx="182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3911760" y="5259240"/>
            <a:ext cx="16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2266920" y="2755800"/>
            <a:ext cx="3762360" cy="382680"/>
          </a:xfrm>
          <a:prstGeom prst="rect">
            <a:avLst/>
          </a:prstGeom>
          <a:solidFill>
            <a:srgbClr val="003f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5824440" y="2755800"/>
            <a:ext cx="1866960" cy="3826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5829480" y="3139920"/>
            <a:ext cx="2217600" cy="3826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5829480" y="3521160"/>
            <a:ext cx="1589040" cy="488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6253200" y="2755800"/>
            <a:ext cx="141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LICEUM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upper    secondary gener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6229440" y="3139920"/>
            <a:ext cx="1671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TECHNIKUM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                 secondary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6229440" y="3500280"/>
            <a:ext cx="14954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SZKOŁA ZASADNICZA</a:t>
            </a: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basic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611280" y="2755800"/>
            <a:ext cx="1752480" cy="382680"/>
          </a:xfrm>
          <a:prstGeom prst="rect">
            <a:avLst/>
          </a:prstGeom>
          <a:solidFill>
            <a:srgbClr val="e17000"/>
          </a:solidFill>
          <a:ln w="9360">
            <a:solidFill>
              <a:srgbClr val="e1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838080" y="2755800"/>
            <a:ext cx="15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PRZEDSZKOLE   </a:t>
            </a:r>
            <a:r>
              <a:rPr b="1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e-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468360" y="1916280"/>
            <a:ext cx="49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17000"/>
                </a:solidFill>
                <a:latin typeface="Arial"/>
                <a:ea typeface="Arial"/>
              </a:rPr>
              <a:t>Stara struktura szkolnictwa (PISA 2000)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468360" y="3716280"/>
            <a:ext cx="491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17000"/>
                </a:solidFill>
                <a:latin typeface="Arial"/>
                <a:ea typeface="Arial"/>
              </a:rPr>
              <a:t>Nowa struktura szkolnictwa (PISA 2003, 2006)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259000" y="2797200"/>
            <a:ext cx="324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SZKOŁA PODSTAWOWA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6035760" y="2131920"/>
            <a:ext cx="21564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zedłużenie o rok kształcenia ogólneg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6227640" y="4971960"/>
            <a:ext cx="14986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TECHNIKUM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                 secondary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300720" y="5405400"/>
            <a:ext cx="149400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SZKOŁA ZASADNICZA</a:t>
            </a: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basic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43DF-F0D4-4F25-AE96-166B77357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Zmniejszenie różnic między szkołam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osiągnięciach 15-latków w czytaniu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598560" cy="408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40000" y="1989000"/>
            <a:ext cx="46796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badaniach PISA 2000-2003 odkryt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zmniejszenie zróżnicowania osiągnięć 15-latków między szkołami, najbardziej istotne spośród krajów U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 OECD. Dotyczyło ono osiągnięć uczniów we wszystkich zakresach badań PISA (czytanie, matematyka, nauka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niejszenie różnic między szkołami można łączyć z kompleksową reformą systemu edukacji wdrażaną od 1999 roku. Reforma ta była wdrażana stopniow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 w roku 2000 nie objęła jeszcze 15-latków (PISA 2000 badała stary system edukacji, PISA 2003 i 2006 – nowy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119700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7300"/>
                </a:solidFill>
                <a:latin typeface="Arial"/>
              </a:rPr>
              <a:t>zróżnicowanie między szkołami w latach 2000-2006 w Polsce na tle OECD jako procent średniego zróżnicowania osiągnięć uczniów w OECD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0D17-689B-4460-A47D-0AA60C592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óżnice między szkołami w osiągnięciac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lskich 15-latków w czytaniu w roku 2000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0" y="1917720"/>
            <a:ext cx="4699080" cy="4280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27600" y="1557000"/>
            <a:ext cx="4316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roku 2000 zanotowano w Polsce jedne z największych w UE i OECD różnic między szkołami w osiągnięciach uczniów.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óżnice dotyczyły głównie podziału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a szkoły ogólnokształcące i zawodowe, w tym zasadnicze.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zasadniczych szkołach zawodowych, do których </a:t>
            </a:r>
            <a:r>
              <a:rPr b="0" lang="pl-PL" sz="1800" spc="-1" strike="noStrike">
                <a:solidFill>
                  <a:srgbClr val="d97300"/>
                </a:solidFill>
                <a:latin typeface="Arial"/>
              </a:rPr>
              <a:t>przyjmowano 26% uczniów, ponad 73% z nich należało do kategorii najsłabszyc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uczniów (low achievers). Jednocześnie w szkołach tych było bardzo mało uczniów najlepszy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4000" y="1557360"/>
            <a:ext cx="39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rocent uczniów według poziomów kompetencji czytania PISA 200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6T15:39:49Z</dcterms:modified>
  <cp:revision>115</cp:revision>
  <dc:subject/>
  <dc:title>Prezentacja programu PowerPoint</dc:title>
</cp:coreProperties>
</file>