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18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19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20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0333-756D-404F-B195-29F74A8870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E8EE-807C-4E2B-B8AE-227CC1D3E1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E8D7-03F7-46FA-964B-C6F74BDD5D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8230-7093-4D6E-92A0-4EF4B2A35B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78EB-3C37-4C06-82E0-D2D82E5E85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89A0-019F-427E-B18B-8F38F33987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BA26ED-8429-446A-9A5E-B5B0A25A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80F2ED-C903-4059-8F6C-98D675C8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AA6B86-18B0-4D36-93DE-EFB2CB0D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D5229C-381E-450C-B338-E4A72A06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971D0D-B472-41D5-9A95-708FB412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1E1632-80E9-451E-BDB5-2C0B209C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B8E26B-6AFC-49B5-9998-BDAA115C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D688C5-D4DB-421A-8BD8-362C8B2CB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747634-6B0C-46D3-801A-BB58AA99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BCD3DB-9E85-4DF5-89B7-A3C011FB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90FDFE-F22C-4742-804E-00B42A76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EDFECB-CE13-44C8-AC46-684F5D24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5F282E-6EB2-4702-9228-A7667528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21BB3E-55B0-4100-960D-757C548A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1D63F5-F6CF-482F-87E5-36E55E67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841549-5D2C-43EF-B9E2-14FE0102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9BC46A-8D8F-4078-A34D-A32B6B2B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9F9BBF-4558-46D1-91F6-9EF6C30A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B5C4D8-BAE9-449E-8FF8-6BAD702F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6CB481-49F4-4A0D-9118-621718A04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E612FF-C2FA-4428-93F8-E816DE89D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AFB0-1E0D-432D-A77F-2F029F495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1A3A-A3D2-4EE8-93F3-49ADCBF1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37FC-9FF7-473C-A734-1887C016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E128-A98C-4338-A99E-7E50B7F5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55AA-E356-4AB5-94E3-68BB63F5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DE23-C87A-4C15-BEAF-911A9E08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10B9-6986-49A8-BE87-5F036986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9BD6-3FEB-4E19-80F2-92786B71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EE34-D7D7-4FA6-8BCB-D030A5F3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E6A2-1188-4825-95CF-4B27BB97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C58F-D614-427D-9564-39A15377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0254-FC03-418C-AD8C-444514472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76D993-2315-49C9-891A-F33EE25C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FC2BB9-4F34-4A25-A38D-DA6334C5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5CFBE6-FCD6-48C2-A4E3-10D6DEF9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A42DAD-E17E-4165-9EE5-4A84D59F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C50771-BECB-479D-93DE-ABDC8252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423410-3ED9-49DD-AA9D-E8ADA408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4D7925-5967-42A8-93DF-9B89DA75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76852E-0D01-4089-8733-52E2735F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417564-5DEC-44C2-A412-290E288D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9B7B86-6830-4852-8B61-D03406CF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D01B52-95CF-4C96-8F27-1290BA589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22348D-E93C-41F7-AFDA-6BC8219F3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BFA8BE-B643-4262-99B1-4A33DBF0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851A89-1D31-4BEC-8F63-E77EE83F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054B2A-BE4D-427B-9BCD-8839D083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8BC4-9715-4215-8E8A-E83B21F84A17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923000" y="2474640"/>
            <a:ext cx="35985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908240" y="3511440"/>
            <a:ext cx="35989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14" descr="Logo Powerpoint 2"/>
          <p:cNvPicPr/>
          <p:nvPr/>
        </p:nvPicPr>
        <p:blipFill>
          <a:blip r:embed="rId2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5"/>
          </p:nvPr>
        </p:nvSpPr>
        <p:spPr>
          <a:xfrm>
            <a:off x="7696080" y="5936760"/>
            <a:ext cx="106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09DE-0783-4B2F-8C3E-C1F7364BECB3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6"/>
          </p:nvPr>
        </p:nvSpPr>
        <p:spPr>
          <a:xfrm>
            <a:off x="1727280" y="5936760"/>
            <a:ext cx="3635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Projectdirectie Voortijdig Schoolverla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www.aanvalopschooluitval.n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7"/>
          </p:nvPr>
        </p:nvSpPr>
        <p:spPr>
          <a:xfrm>
            <a:off x="685800" y="5936760"/>
            <a:ext cx="914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0D98-158D-4D1F-91DA-F14764D8427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shpFoto" descr="Afb_inhoud.png"/>
          <p:cNvPicPr/>
          <p:nvPr/>
        </p:nvPicPr>
        <p:blipFill>
          <a:blip r:embed="rId2"/>
          <a:stretch/>
        </p:blipFill>
        <p:spPr>
          <a:xfrm>
            <a:off x="0" y="0"/>
            <a:ext cx="4572000" cy="6873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2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7E4D-6221-4E28-A28D-C559044530D2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929120" y="2500200"/>
            <a:ext cx="35020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943520" y="3155760"/>
            <a:ext cx="34876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18520" indent="-218520">
              <a:buClr>
                <a:srgbClr val="0000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55920" indent="-2811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74960" indent="-28080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03360" indent="-28080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931760" indent="-2808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931760" indent="-2808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931760" indent="-2808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12" descr="Logo Powerpoint 2"/>
          <p:cNvPicPr/>
          <p:nvPr/>
        </p:nvPicPr>
        <p:blipFill>
          <a:blip r:embed="rId6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shpFoto" descr="Afb_inhoud.png"/>
          <p:cNvPicPr/>
          <p:nvPr/>
        </p:nvPicPr>
        <p:blipFill>
          <a:blip r:embed="rId2"/>
          <a:stretch/>
        </p:blipFill>
        <p:spPr>
          <a:xfrm>
            <a:off x="0" y="0"/>
            <a:ext cx="4572000" cy="68738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dt" idx="3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BC1D-652B-42D4-9CC3-74F91BE02F6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929120" y="2500200"/>
            <a:ext cx="35020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4943520" y="3155760"/>
            <a:ext cx="34876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16000" indent="-21600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6040" indent="-2775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9040" indent="-27756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62040" indent="-27756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985400" indent="-2775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985400" indent="-2775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985400" indent="-2775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12" descr="Logo Powerpoint 2"/>
          <p:cNvPicPr/>
          <p:nvPr/>
        </p:nvPicPr>
        <p:blipFill>
          <a:blip r:embed="rId6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4482720" y="6538680"/>
            <a:ext cx="41562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9169-4933-4411-B598-AF90CDA8A5F7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4476240" y="6368760"/>
            <a:ext cx="4164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97A4-CEAC-41F5-881B-B8B38B7AF67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shpFoto" descr="Afb 1.png"/>
          <p:cNvPicPr/>
          <p:nvPr/>
        </p:nvPicPr>
        <p:blipFill>
          <a:blip r:embed="rId2"/>
          <a:stretch/>
        </p:blipFill>
        <p:spPr>
          <a:xfrm>
            <a:off x="0" y="0"/>
            <a:ext cx="4573440" cy="6862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8" descr="Logo Powerpoint 2"/>
          <p:cNvPicPr/>
          <p:nvPr/>
        </p:nvPicPr>
        <p:blipFill>
          <a:blip r:embed="rId3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shpFoto" descr="Afb 2.png"/>
          <p:cNvPicPr/>
          <p:nvPr/>
        </p:nvPicPr>
        <p:blipFill>
          <a:blip r:embed="rId2"/>
          <a:stretch/>
        </p:blipFill>
        <p:spPr>
          <a:xfrm>
            <a:off x="0" y="0"/>
            <a:ext cx="4573440" cy="6862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" descr="Logo Powerpoint 2"/>
          <p:cNvPicPr/>
          <p:nvPr/>
        </p:nvPicPr>
        <p:blipFill>
          <a:blip r:embed="rId3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A4BE-A26D-4CE9-904E-95F0BD284F1B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shpFoto" descr="Afb_inhoud.png"/>
          <p:cNvPicPr/>
          <p:nvPr/>
        </p:nvPicPr>
        <p:blipFill>
          <a:blip r:embed="rId2"/>
          <a:stretch/>
        </p:blipFill>
        <p:spPr>
          <a:xfrm>
            <a:off x="0" y="0"/>
            <a:ext cx="4572000" cy="68738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Logo Powerpoint 2"/>
          <p:cNvPicPr/>
          <p:nvPr/>
        </p:nvPicPr>
        <p:blipFill>
          <a:blip r:embed="rId3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8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39B3-C845-4ADD-804B-8DBE449A2F4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hpKleurvlakOnder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shpTekst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shpDatum" descr="RO__vervolgpagina~LPPT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9"/>
          </p:nvPr>
        </p:nvSpPr>
        <p:spPr>
          <a:xfrm>
            <a:off x="4482720" y="6538680"/>
            <a:ext cx="41562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A532-7F31-4976-BE1C-422E621923CB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0"/>
          </p:nvPr>
        </p:nvSpPr>
        <p:spPr>
          <a:xfrm>
            <a:off x="4476240" y="6368760"/>
            <a:ext cx="4164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1"/>
          </p:nvPr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FF75-E35E-48FD-9C58-76A1492566D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2"/>
          </p:nvPr>
        </p:nvSpPr>
        <p:spPr>
          <a:xfrm>
            <a:off x="4482720" y="6538680"/>
            <a:ext cx="41562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93BB-0CC8-44F4-8CE6-7F02B1D5B3B8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13"/>
          </p:nvPr>
        </p:nvSpPr>
        <p:spPr>
          <a:xfrm>
            <a:off x="4476240" y="6368760"/>
            <a:ext cx="4164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Projectdirectie Voortijdig Schoolverla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www.aanvalopschooluitval.n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14"/>
          </p:nvPr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4986-1613-4DF0-97F7-F6747479D1A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ijdelijke aanduiding voor voettekst 1"/>
          <p:cNvSpPr/>
          <p:nvPr/>
        </p:nvSpPr>
        <p:spPr>
          <a:xfrm>
            <a:off x="1727280" y="5937120"/>
            <a:ext cx="363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OCWTalent"/>
              </a:rPr>
              <a:t>Projectdirectie Voortijdig Schoolverlate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OCWTalent"/>
              </a:rPr>
              <a:t>www.aanvalopschooluitval.n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ijdelijke aanduiding voor dianummer 2"/>
          <p:cNvSpPr/>
          <p:nvPr/>
        </p:nvSpPr>
        <p:spPr>
          <a:xfrm>
            <a:off x="685800" y="5937120"/>
            <a:ext cx="914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22ED-8703-473E-9B8D-962FD220373B}" type="slidenum">
              <a:rPr b="0" lang="en-US" sz="1200" spc="-1" strike="noStrike">
                <a:solidFill>
                  <a:srgbClr val="000000"/>
                </a:solidFill>
                <a:latin typeface="OCWTale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Afbeelding 4" descr="suzan.jpg"/>
          <p:cNvPicPr/>
          <p:nvPr/>
        </p:nvPicPr>
        <p:blipFill>
          <a:blip r:embed="rId1"/>
          <a:stretch/>
        </p:blipFill>
        <p:spPr>
          <a:xfrm>
            <a:off x="0" y="3344760"/>
            <a:ext cx="4576680" cy="351324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8"/>
          <p:cNvSpPr/>
          <p:nvPr/>
        </p:nvSpPr>
        <p:spPr>
          <a:xfrm>
            <a:off x="4594320" y="1757520"/>
            <a:ext cx="4549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Blitz on dropouts</a:t>
            </a:r>
            <a:br>
              <a:rPr sz="19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000000"/>
                </a:solidFill>
                <a:latin typeface="Verdana"/>
              </a:rPr>
              <a:t>Marja van Bijsterveldt-Vliegenthart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State Secretary</a:t>
            </a:r>
            <a:r>
              <a:rPr b="1" i="1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1700" spc="-1" strike="noStrike">
                <a:solidFill>
                  <a:srgbClr val="000000"/>
                </a:solidFill>
                <a:latin typeface="Verdana"/>
              </a:rPr>
              <a:t>of Education, Culture and Science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Brussels, 9 July 2010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67920" y="1233360"/>
            <a:ext cx="7846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100" spc="-1" strike="noStrike">
                <a:solidFill>
                  <a:srgbClr val="900079"/>
                </a:solidFill>
                <a:latin typeface="Verdana"/>
              </a:rPr>
              <a:t>The Golden Triangle</a:t>
            </a:r>
            <a:r>
              <a:rPr b="1" lang="nl-NL" sz="2000" spc="-1" strike="noStrike">
                <a:solidFill>
                  <a:srgbClr val="90007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69360" y="2073240"/>
            <a:ext cx="785844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gover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municipa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sch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All working toge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Agreements with schools and local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In 39 regions for the period 2008-2011 (convenants)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3C5E-65D0-4E08-9917-0540BF96CC2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BF8B44-F5F7-44C9-8ECE-6411F43CF1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Oval 2"/>
          <p:cNvSpPr/>
          <p:nvPr/>
        </p:nvSpPr>
        <p:spPr>
          <a:xfrm>
            <a:off x="3635280" y="1125360"/>
            <a:ext cx="2016360" cy="1802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Oval 3"/>
          <p:cNvSpPr/>
          <p:nvPr/>
        </p:nvSpPr>
        <p:spPr>
          <a:xfrm>
            <a:off x="6145200" y="4089240"/>
            <a:ext cx="1689120" cy="16066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Oval 4"/>
          <p:cNvSpPr/>
          <p:nvPr/>
        </p:nvSpPr>
        <p:spPr>
          <a:xfrm>
            <a:off x="1187280" y="4203720"/>
            <a:ext cx="1776600" cy="153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3911760" y="1701720"/>
            <a:ext cx="15112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inistry of Edu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Text Box 6"/>
          <p:cNvSpPr/>
          <p:nvPr/>
        </p:nvSpPr>
        <p:spPr>
          <a:xfrm rot="10800000">
            <a:off x="6411960" y="469188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1162080" y="48625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unicipal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Line 16"/>
          <p:cNvSpPr/>
          <p:nvPr/>
        </p:nvSpPr>
        <p:spPr>
          <a:xfrm>
            <a:off x="5495760" y="2719440"/>
            <a:ext cx="103356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Line 17"/>
          <p:cNvSpPr/>
          <p:nvPr/>
        </p:nvSpPr>
        <p:spPr>
          <a:xfrm flipH="1">
            <a:off x="2563920" y="2708280"/>
            <a:ext cx="1287360" cy="130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Line 28"/>
          <p:cNvSpPr/>
          <p:nvPr/>
        </p:nvSpPr>
        <p:spPr>
          <a:xfrm>
            <a:off x="3171960" y="4941720"/>
            <a:ext cx="2678040" cy="1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08080" y="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Golden triangle: </a:t>
            </a: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Regional arrangements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DF8478-9855-465A-B7D8-C3AA69E535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Oval 2"/>
          <p:cNvSpPr/>
          <p:nvPr/>
        </p:nvSpPr>
        <p:spPr>
          <a:xfrm>
            <a:off x="3635280" y="1125360"/>
            <a:ext cx="2016360" cy="1802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Oval 3"/>
          <p:cNvSpPr/>
          <p:nvPr/>
        </p:nvSpPr>
        <p:spPr>
          <a:xfrm>
            <a:off x="6372360" y="4365720"/>
            <a:ext cx="151272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Oval 4"/>
          <p:cNvSpPr/>
          <p:nvPr/>
        </p:nvSpPr>
        <p:spPr>
          <a:xfrm>
            <a:off x="1187280" y="4365720"/>
            <a:ext cx="151308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3924360" y="1413000"/>
            <a:ext cx="15112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inistry of Edu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Directs the ‘Drive to reduce school drop-out rates’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Text Box 6"/>
          <p:cNvSpPr/>
          <p:nvPr/>
        </p:nvSpPr>
        <p:spPr>
          <a:xfrm rot="10800000">
            <a:off x="6300360" y="4652280"/>
            <a:ext cx="1660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ary/pre- vocational secondary schoo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1187280" y="47242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unicipal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2916360" y="81288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ocial Affairs &amp; Employment</a:t>
            </a: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5580000" y="1268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alth, Welfare &amp; Sport/ Youth &amp; Famil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5724360" y="18446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fen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5651640" y="2349360"/>
            <a:ext cx="29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griculture, Nature &amp; Food Qua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3780000" y="292428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826920" y="1268280"/>
            <a:ext cx="28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ousing, Communities &amp; Integration</a:t>
            </a: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1619280" y="184464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Economic aff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Text Box 15"/>
          <p:cNvSpPr/>
          <p:nvPr/>
        </p:nvSpPr>
        <p:spPr>
          <a:xfrm>
            <a:off x="1258920" y="2349360"/>
            <a:ext cx="23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Interior &amp; Kingdom Rel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Line 16"/>
          <p:cNvSpPr/>
          <p:nvPr/>
        </p:nvSpPr>
        <p:spPr>
          <a:xfrm>
            <a:off x="5508720" y="2708280"/>
            <a:ext cx="129528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Line 17"/>
          <p:cNvSpPr/>
          <p:nvPr/>
        </p:nvSpPr>
        <p:spPr>
          <a:xfrm flipH="1">
            <a:off x="2340000" y="2708280"/>
            <a:ext cx="151128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Text Box 18"/>
          <p:cNvSpPr/>
          <p:nvPr/>
        </p:nvSpPr>
        <p:spPr>
          <a:xfrm>
            <a:off x="6300720" y="321300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Text Box 19"/>
          <p:cNvSpPr/>
          <p:nvPr/>
        </p:nvSpPr>
        <p:spPr>
          <a:xfrm>
            <a:off x="826920" y="3068640"/>
            <a:ext cx="251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Education Ministry mandates responsibilities (covenant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20"/>
          <p:cNvSpPr/>
          <p:nvPr/>
        </p:nvSpPr>
        <p:spPr>
          <a:xfrm>
            <a:off x="179280" y="3716280"/>
            <a:ext cx="8785440" cy="25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Rectangle 21"/>
          <p:cNvSpPr/>
          <p:nvPr/>
        </p:nvSpPr>
        <p:spPr>
          <a:xfrm>
            <a:off x="179280" y="3716280"/>
            <a:ext cx="87854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22"/>
          <p:cNvSpPr/>
          <p:nvPr/>
        </p:nvSpPr>
        <p:spPr>
          <a:xfrm>
            <a:off x="684360" y="3789360"/>
            <a:ext cx="81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unicipal Executive Councillors for education/youth policy/RMC municipalities (administrative coordination)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23"/>
          <p:cNvSpPr/>
          <p:nvPr/>
        </p:nvSpPr>
        <p:spPr>
          <a:xfrm>
            <a:off x="108000" y="4149720"/>
            <a:ext cx="252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School Drop-out Registration and Coordination Centre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250920" y="400536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324000" y="4797360"/>
            <a:ext cx="8650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entre for Work and Income/Employment and Assistance Act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324000" y="5950080"/>
            <a:ext cx="14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Probation servic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Text Box 27"/>
          <p:cNvSpPr/>
          <p:nvPr/>
        </p:nvSpPr>
        <p:spPr>
          <a:xfrm>
            <a:off x="2268360" y="5589720"/>
            <a:ext cx="172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Debt restructuring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Line 28"/>
          <p:cNvSpPr/>
          <p:nvPr/>
        </p:nvSpPr>
        <p:spPr>
          <a:xfrm>
            <a:off x="2771640" y="494172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 Box 29"/>
          <p:cNvSpPr/>
          <p:nvPr/>
        </p:nvSpPr>
        <p:spPr>
          <a:xfrm>
            <a:off x="2700360" y="5084640"/>
            <a:ext cx="115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Housing corporation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 Box 30"/>
          <p:cNvSpPr/>
          <p:nvPr/>
        </p:nvSpPr>
        <p:spPr>
          <a:xfrm>
            <a:off x="2484360" y="4149720"/>
            <a:ext cx="136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School Attendance officer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 Box 31"/>
          <p:cNvSpPr/>
          <p:nvPr/>
        </p:nvSpPr>
        <p:spPr>
          <a:xfrm>
            <a:off x="3924360" y="429264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Urban Policy/Accres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 Box 32"/>
          <p:cNvSpPr/>
          <p:nvPr/>
        </p:nvSpPr>
        <p:spPr>
          <a:xfrm>
            <a:off x="3492360" y="458136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Municipalities Fund/own resource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 Box 33"/>
          <p:cNvSpPr/>
          <p:nvPr/>
        </p:nvSpPr>
        <p:spPr>
          <a:xfrm>
            <a:off x="4716360" y="5157720"/>
            <a:ext cx="165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Regional Institute for Mental Health/Area Health Authority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 Box 34"/>
          <p:cNvSpPr/>
          <p:nvPr/>
        </p:nvSpPr>
        <p:spPr>
          <a:xfrm>
            <a:off x="5580000" y="42926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Juvenile car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Text Box 35"/>
          <p:cNvSpPr/>
          <p:nvPr/>
        </p:nvSpPr>
        <p:spPr>
          <a:xfrm>
            <a:off x="7451640" y="5661000"/>
            <a:ext cx="11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olice/Courts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Text Box 36"/>
          <p:cNvSpPr/>
          <p:nvPr/>
        </p:nvSpPr>
        <p:spPr>
          <a:xfrm>
            <a:off x="7093080" y="4149720"/>
            <a:ext cx="187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entre for Youth and Family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Text Box 37"/>
          <p:cNvSpPr/>
          <p:nvPr/>
        </p:nvSpPr>
        <p:spPr>
          <a:xfrm>
            <a:off x="7956720" y="486900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Line 38"/>
          <p:cNvSpPr/>
          <p:nvPr/>
        </p:nvSpPr>
        <p:spPr>
          <a:xfrm>
            <a:off x="2556000" y="5950080"/>
            <a:ext cx="71892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Line 39"/>
          <p:cNvSpPr/>
          <p:nvPr/>
        </p:nvSpPr>
        <p:spPr>
          <a:xfrm flipH="1">
            <a:off x="5651640" y="5950080"/>
            <a:ext cx="72072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Text Box 40"/>
          <p:cNvSpPr/>
          <p:nvPr/>
        </p:nvSpPr>
        <p:spPr>
          <a:xfrm>
            <a:off x="2987640" y="6381720"/>
            <a:ext cx="30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mployers/Employees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08080" y="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Golden triangle: </a:t>
            </a: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Regional arrangements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8177D7-9C49-4742-87F3-A286C69FAA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67920" y="1233360"/>
            <a:ext cx="7846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494c5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69360" y="1798200"/>
            <a:ext cx="78584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ww.aanvalopschooluitval.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39BE-7D2F-42A3-9175-C50E4A51D7C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9AC6DA-11FC-41A8-B060-B7825179E1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900079"/>
                </a:solidFill>
                <a:latin typeface="Arial"/>
              </a:rPr>
              <a:t>Agreements/Convenants</a:t>
            </a:r>
            <a:endParaRPr b="0" lang="en-US" sz="24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406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educe dropout rate with 10% every year until 2012’ (40%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wn choice in methods to achieve objectives (menu l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operation between municipality and school and other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cure, no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ole of the gover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cure, no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ilitating, monitoring and evalu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e results in good practices and implement these in order to improve national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80C1A9-C8F6-40B8-86F8-0B07F7836B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900079"/>
                </a:solidFill>
                <a:latin typeface="Arial"/>
              </a:rPr>
              <a:t>What are we going to do in the future?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thin The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New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ontinuing current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thin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haring good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OECD: contribution researc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“Overcoming School Failure”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ecommendation on Early School Leavers, by the Europea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E52E01-B264-4046-9895-D2FDA67EC5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061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2800" spc="-1" strike="noStrike">
                <a:solidFill>
                  <a:srgbClr val="900079"/>
                </a:solidFill>
                <a:latin typeface="Verdana"/>
              </a:rPr>
              <a:t>Introduction Early school leavers: objectives and key figures</a:t>
            </a:r>
            <a:r>
              <a:rPr b="0" lang="nl-NL" sz="2200" spc="-1" strike="noStrike">
                <a:solidFill>
                  <a:srgbClr val="900079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12840" y="2111400"/>
            <a:ext cx="80611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Lisbon objective: reducing the number of early school-leavers between the ages of 18 and 24 from 15.5% in 2002 to approx. 10% in 2010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National objective: reducing the number of early school-leavers : from 71.000 in 2002 (5,7%) to 35.000 in 2012 (2,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519771-3628-498B-BE54-DA169C9E59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6219-9EE1-4D36-B0BC-8143437B67E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AB31-00E4-4F87-AEA3-EE053B23B66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9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900079"/>
                </a:solidFill>
                <a:latin typeface="Verdana"/>
              </a:rPr>
              <a:t>The results (national objective)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graphicFrame>
        <p:nvGraphicFramePr>
          <p:cNvPr id="433" name="Object 3"/>
          <p:cNvGraphicFramePr/>
          <p:nvPr/>
        </p:nvGraphicFramePr>
        <p:xfrm>
          <a:off x="617400" y="2260440"/>
          <a:ext cx="7790040" cy="350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2260440"/>
                    <a:ext cx="7790040" cy="35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Text Box 9"/>
          <p:cNvSpPr/>
          <p:nvPr/>
        </p:nvSpPr>
        <p:spPr>
          <a:xfrm>
            <a:off x="3594240" y="518328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5232240" y="51991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chiev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7D6393-0F0C-4B9E-ABA0-BCE4BB2440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900079"/>
                </a:solidFill>
                <a:latin typeface="Arial"/>
              </a:rPr>
              <a:t>Results in international </a:t>
            </a:r>
            <a:br>
              <a:rPr sz="2300"/>
            </a:br>
            <a:r>
              <a:rPr b="1" lang="en-US" sz="2300" spc="-1" strike="noStrike">
                <a:solidFill>
                  <a:srgbClr val="900079"/>
                </a:solidFill>
                <a:latin typeface="Arial"/>
              </a:rPr>
              <a:t>perspective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opout rate in 2008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: 15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L: 11.4 %</a:t>
            </a:r>
            <a:br>
              <a:rPr sz="1800"/>
            </a:br>
            <a:br>
              <a:rPr sz="18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source: Eurostat, 2009)</a:t>
            </a:r>
            <a:br>
              <a:rPr sz="1800"/>
            </a:br>
            <a:br>
              <a:rPr sz="1800"/>
            </a:br>
            <a:endParaRPr b="0" lang="en-US" sz="13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400824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DEC0-38D7-43AA-825F-0EA52414342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0" name="shpPagina" descr=""/>
          <p:cNvPicPr/>
          <p:nvPr/>
        </p:nvPicPr>
        <p:blipFill>
          <a:blip r:embed="rId1"/>
          <a:stretch/>
        </p:blipFill>
        <p:spPr>
          <a:xfrm>
            <a:off x="4307040" y="-222120"/>
            <a:ext cx="4662360" cy="73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1AF211-2E3F-4BC4-A787-5478A29363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71440" y="985680"/>
            <a:ext cx="816912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900079"/>
                </a:solidFill>
                <a:latin typeface="Verdana"/>
              </a:rPr>
              <a:t>Know the Numbers </a:t>
            </a:r>
            <a:endParaRPr b="0" lang="en-US" sz="28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600" y="153828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Better registration, better analy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Introduction of ‘Education Number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roduction of ‘Digital Count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D9D598-EE90-4410-9AF2-9B3055358B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CBAF-F5E3-471F-A701-9E45BE9F862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66480" y="1233360"/>
            <a:ext cx="85611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00079"/>
                </a:solidFill>
                <a:latin typeface="Verdana"/>
              </a:rPr>
              <a:t>Policies and Programs</a:t>
            </a:r>
            <a:endParaRPr b="0" lang="en-US" sz="28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2240" y="1716120"/>
            <a:ext cx="857556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etter transition from pre-vocational to vocational education (VMBO – MB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ore scope for ‘practical-oriented student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etter career orientation and gui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re appealing education, with sports and cul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0.000 APL-programmes and agreement with large employ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re and better care at school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0E6EDB-60A0-43DF-B79E-75BC51FCBB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Footer Placeholder 4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66840" y="1233000"/>
            <a:ext cx="3681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900079"/>
                </a:solidFill>
                <a:latin typeface="Verdana"/>
              </a:rPr>
              <a:t>Focus on municipalities </a:t>
            </a:r>
            <a:br>
              <a:rPr sz="2400"/>
            </a:br>
            <a:r>
              <a:rPr b="1" lang="en-GB" sz="2400" spc="-1" strike="noStrike">
                <a:solidFill>
                  <a:srgbClr val="900079"/>
                </a:solidFill>
                <a:latin typeface="Verdana"/>
              </a:rPr>
              <a:t>in the Netherlands</a:t>
            </a:r>
            <a:endParaRPr b="0" lang="en-US" sz="2400" spc="-1" strike="noStrike">
              <a:solidFill>
                <a:srgbClr val="900079"/>
              </a:solidFill>
              <a:latin typeface="Arial"/>
            </a:endParaRPr>
          </a:p>
        </p:txBody>
      </p:sp>
      <p:pic>
        <p:nvPicPr>
          <p:cNvPr id="448" name="Picture 7" descr="C:\Users\Loesje\Desktop\vsv0809_gem1Eng.jpg"/>
          <p:cNvPicPr/>
          <p:nvPr/>
        </p:nvPicPr>
        <p:blipFill>
          <a:blip r:embed="rId1"/>
          <a:stretch/>
        </p:blipFill>
        <p:spPr>
          <a:xfrm>
            <a:off x="4289400" y="0"/>
            <a:ext cx="4854600" cy="687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4ABBF3-E04D-43B4-A81E-515B81473C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4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26520" y="1245960"/>
            <a:ext cx="4016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900079"/>
                </a:solidFill>
                <a:latin typeface="Verdana"/>
              </a:rPr>
              <a:t>Focus on the </a:t>
            </a:r>
            <a:br>
              <a:rPr sz="2300"/>
            </a:br>
            <a:r>
              <a:rPr b="1" lang="en-GB" sz="2300" spc="-1" strike="noStrike">
                <a:solidFill>
                  <a:srgbClr val="900079"/>
                </a:solidFill>
                <a:latin typeface="Verdana"/>
              </a:rPr>
              <a:t>municipality of Amsterdam</a:t>
            </a:r>
            <a:r>
              <a:rPr b="0" lang="nl-NL" sz="2300" spc="-1" strike="noStrike">
                <a:solidFill>
                  <a:srgbClr val="900079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900079"/>
              </a:solidFill>
              <a:latin typeface="Arial"/>
            </a:endParaRPr>
          </a:p>
        </p:txBody>
      </p:sp>
      <p:pic>
        <p:nvPicPr>
          <p:cNvPr id="451" name="Picture 7" descr="C:\Users\Loesje\Desktop\vsv0809_Amsterdam[1].jpg"/>
          <p:cNvPicPr/>
          <p:nvPr/>
        </p:nvPicPr>
        <p:blipFill>
          <a:blip r:embed="rId1"/>
          <a:stretch/>
        </p:blipFill>
        <p:spPr>
          <a:xfrm>
            <a:off x="2482920" y="1968480"/>
            <a:ext cx="6661080" cy="488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519C34-7A60-481A-8E54-EC94987F32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67920" y="1233360"/>
            <a:ext cx="7846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00079"/>
                </a:solidFill>
                <a:latin typeface="Verdana"/>
              </a:rPr>
              <a:t>Monitoring and evaluation arrangements</a:t>
            </a:r>
            <a:r>
              <a:rPr b="0" lang="en-US" sz="2200" spc="-1" strike="noStrike">
                <a:solidFill>
                  <a:srgbClr val="2494c5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69360" y="1798200"/>
            <a:ext cx="78584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 effects with facts and figures: naming, shaming and f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idence based 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verall design to measure the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F1BC-E046-4A6F-90B9-884808009C9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97FDE5-14F0-447E-A275-3F810D40C6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8:56:33Z</dcterms:created>
  <dc:creator>Liselore Verschuren</dc:creator>
  <dc:description/>
  <dc:language>en-US</dc:language>
  <cp:lastModifiedBy>o011hou</cp:lastModifiedBy>
  <dcterms:modified xsi:type="dcterms:W3CDTF">2010-07-07T16:31:16Z</dcterms:modified>
  <cp:revision>129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17857533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Seminar for Compulsory Education</vt:lpwstr>
  </property>
  <property fmtid="{D5CDD505-2E9C-101B-9397-08002B2CF9AE}" pid="6" name="_NewReviewCycle">
    <vt:lpwstr/>
  </property>
  <property fmtid="{D5CDD505-2E9C-101B-9397-08002B2CF9AE}" pid="7" name="_PreviousAdHocReviewCycleID">
    <vt:r8>-837471163</vt:r8>
  </property>
</Properties>
</file>