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B1F6-E519-45A9-B914-C170E50ED6A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6221-8A1F-4A86-ADF4-BED6D5204A5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8A99-5EDA-41FB-94AA-6732949B9EF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3AE8-51D8-41C2-8E85-9288865336B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759C-010C-43DF-9A46-61D75DBC9F1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2249-6482-4818-B5A0-A056F301E98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3656-CF06-434B-8C91-A72037ECA94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CC27-F0D1-463E-87F8-974624D9205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D7F4-B243-4E04-8033-8A2B1842FB9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030F-D8C6-4515-9908-27C21BC5539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C523-0963-4E2B-89DB-F5E6F38519A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8DF7-3D13-4064-8071-EC8AF75B829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F97D-B670-4388-B196-EC4F8B3AFC7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3522-C0F9-43B2-BAC1-F4AB217C06A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6A00-292E-4C2E-857A-E0AAA031BAE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44B5-C6B1-4282-A414-3649F0FF15B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7EE3-66AC-4F7F-8FF7-CCC5252861B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4DBA-2886-4B2F-B163-E195F5E96A3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BAB8-50C5-4B08-87D1-A98C25A1409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0E88-10BE-4186-B84D-D60A00556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0C34-19A1-4130-AF22-B7CF1282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B4DA-B545-437E-AD48-6CD760A4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6A6E-DD7E-4887-8184-6C9F475B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27F4-227D-4951-A9C6-53523336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FCF2-2B89-4925-9351-740A297B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DD49-5641-49CC-9D4E-7E880D59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FCE8-1D79-4CBB-98D1-507E52B7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6B36-33E4-47B2-B1E8-F8B2084F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F781-CB9E-4F66-998B-6ACAF86E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1A4E-740A-4A43-ACD7-D5E46238D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BFF3-9947-449C-B1EF-2238C8014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BB12-E58E-43F9-ABED-768352FC779F}" type="slidenum">
              <a:rPr b="0" lang="fr-FR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21416400">
            <a:off x="1294920" y="99000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La logique de la compétence en éducation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urquoi? Comment?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051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Quelques considérations en marge de l’évaluation des compét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8440" y="12949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Le concept de compétences : un statut scientifique ambig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752120" y="3504960"/>
            <a:ext cx="7162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 concept impor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s utilisé en psychologie cogn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Optima ExtraBlack"/>
                <a:ea typeface="ＭＳ Ｐゴシック"/>
              </a:rPr>
              <a:t>Un concept pertinent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Définition de la compétenc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0912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Une compétence est la capacité de mobiliser des ressources (internes </a:t>
            </a:r>
            <a:r>
              <a:rPr b="0" i="1" lang="en-US" sz="32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</a:rPr>
              <a:t>et</a:t>
            </a: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 externes).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Elle implique l’intégration (ou la mise en relation) de diverses connaissances.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Elle s’applique à une famille de situations.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Les situations sont complexes (et inédites)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3809880"/>
            <a:ext cx="8153280" cy="1828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iter les savoirs morts, les connaissances iner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76160" y="18288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800" spc="-1" strike="noStrike">
                <a:solidFill>
                  <a:srgbClr val="898989"/>
                </a:solidFill>
                <a:latin typeface="Calibri"/>
              </a:rPr>
              <a:t>Un vrai problème 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520" y="1294920"/>
            <a:ext cx="6248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La notion de compétence </a:t>
            </a:r>
            <a:br>
              <a:rPr sz="6600"/>
            </a:b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= </a:t>
            </a:r>
            <a:br>
              <a:rPr sz="6600"/>
            </a:b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LA solution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ourquoi ce concep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Qu’est-ce qu’on gag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Qu’est-ce qu’on per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ronckart et Dolz (1999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218960" y="22856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82680" indent="1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ns verser dans le purisme conceptuel, il nous paraît évident qu’on ne peut raisonnablement « penser » la problématique de la formation en usant d’un terme qui finit par désigner tous les aspects de ce que l’on appelait autrefois les « fonctions psychologiques supérieures 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82680" indent="1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82680" indent="1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82680" indent="144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mpétence = Intelligenc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En résum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219320" y="1294920"/>
            <a:ext cx="71625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a problématique de la mobilisation en situation des ressources cognitives du sujet pose </a:t>
            </a:r>
            <a:r>
              <a:rPr b="1" lang="fr-FR" sz="36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un vrai problèm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à la recherche psychopédagogique, mais il n’est pas sûr que la notion de compétence lui apporte une solution posit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n vrai problème, car il faut lutter contre les savoirs morts, les connaissances inerte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is ne risque-t-on pas de précipiter le monde pédagogique dans une illusion simplificatrice dont il risque d’être difficile de le sorti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14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A la recherche d’équilib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Quelle conception de l’experti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Textes politico-pédagogiq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aire face à des situations inédi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réativit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ransf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sychologie cogn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’expertise suppose la mobilisation à bon escient d’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automatis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et de connaissances disciplin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n contrôle métacognitif de l’exéc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ux catégories de situations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ergnaud, 199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lles (les plus fréquentes) pour lesquelles le sujet dispose, à un moment donné de son développement et sous certaines circonstances, des ressources cognitives nécessaires au traitement relativement immédiat de la situ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lles (= situation de crise) pour lesquelles le sujet ne dispose pas de toutes les ressources nécessaires ; cela oblige à un temps d’exploration, de réflexion, d’hésitations ainsi qu’à des tentatives avortées et le conduit parfois à la réussite, parfois à l’éche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09320" y="380520"/>
            <a:ext cx="5410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mmai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09120" y="129492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urquoi l’approche par compétences aujourd’hui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jeux pédagogiques de l’approche par compét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 concept de compétences : un statut scientifique ambig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la recherche d’équilib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ion et compét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ion formative et résolutions de problèmes complex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’évaluation sommative des compétenc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7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2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5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8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 rot="21236400">
            <a:off x="457200" y="20574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halkboard Bold"/>
                <a:ea typeface="ＭＳ Ｐゴシック"/>
              </a:rPr>
              <a:t>L’évaluation scolaire doit-elle juger la capacité des élèves à « réussir » dans des situations </a:t>
            </a:r>
            <a:r>
              <a:rPr b="0" lang="fr-FR" sz="4800" spc="-1" strike="noStrike" u="sng">
                <a:solidFill>
                  <a:srgbClr val="000000"/>
                </a:solidFill>
                <a:uFillTx/>
                <a:latin typeface="Chalkboard Bold"/>
                <a:ea typeface="ＭＳ Ｐゴシック"/>
              </a:rPr>
              <a:t>inédites</a:t>
            </a:r>
            <a:r>
              <a:rPr b="0" lang="fr-FR" sz="4800" spc="-1" strike="noStrike">
                <a:solidFill>
                  <a:srgbClr val="000000"/>
                </a:solidFill>
                <a:latin typeface="Chalkboard Bold"/>
                <a:ea typeface="ＭＳ Ｐゴシック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Situations inédites = situations exceptionnell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240" y="3200400"/>
            <a:ext cx="7467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Times New Roman"/>
              </a:rPr>
              <a:t>Pourquoi faire de l’exceptionnel la norme de la vraie compétence 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Times New Roman"/>
              </a:rPr>
              <a:t>Pourquoi évaluer les élèves dans des situations qui ne se reproduiront pas nécessairement 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Risques de dér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ns l’approche par compétence,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les savoirs deviennent des moyens à mobiliser pour ag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dans des situations inéd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Espace réservé du contenu 3" descr=""/>
          <p:cNvPicPr/>
          <p:nvPr/>
        </p:nvPicPr>
        <p:blipFill>
          <a:blip r:embed="rId1"/>
          <a:stretch/>
        </p:blipFill>
        <p:spPr>
          <a:xfrm>
            <a:off x="4645080" y="1596960"/>
            <a:ext cx="40482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6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221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ÉUSSIR ET COMPREND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Quel dosag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Quel équilibr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 complexe et l’inéd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Deux problématiques pédagogiques différ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23520"/>
            <a:ext cx="74674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’inédit =&gt; un problème de flexibilité cogni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23520" y="3809520"/>
            <a:ext cx="6705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 montage cognitif complexe n’est pas nécessairement inéd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e solution inédite ne requiert pas toujours un montage cognitif complex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520" y="1371240"/>
            <a:ext cx="5943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’action pédagogique ==&gt; des questions d’équilib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85800" y="2514600"/>
          <a:ext cx="815328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14600"/>
                    <a:ext cx="815328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ion et « compétences 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ion formative et résolution de problèmes complex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échec »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peut résulter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e incompréhension du problème posé (représentation du problèm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e non maîtrise des connaissances, stratégies et/ou automatismes requis (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availability deficiencie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e « incapacité » à mobiliser des connaissances, stratégies et/ou automatismes maîtrisés (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production deficiencie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 manque de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fluency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des automatis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e surcharge cogni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’évaluation sommative des compét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en de « situations » exigeant des solutions inédi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en de « situations » exigeant des montages cognitifs complex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en de questions ciblant les automatism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 questions portant sur la compréhension des procédures/stratégies mises en œuv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276360"/>
            <a:ext cx="77724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Pourquoi l’approche par compétences, aujourd’hu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1828800"/>
            <a:ext cx="5333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ne mise en perspective sociolog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usgrove (196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out curriculum est une construction soci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l est le produit de transactions sociales, souvent conflictuelles, entre groupes professionnels et/ou groupes de pression, souvent oppos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ux-ci usent d’argumentation scientifique pour résoudre leurs rapports de for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our Bourque &amp; Frénette (1970), Dandurand (1990), Mellouki (1989), Lenoir (20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95280" y="22096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ransformation de l’école s’oriente dans une direction polarisée par la productivité et le développement économ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 mouvement culmine dans l’approche par compét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lle-ci imprime une orientation pragmatique et instrumentale aux program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savoir doit être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Calibri"/>
              </a:rPr>
              <a:t>UTILE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: influence de l’utilitarisme anglo-saxon &gt;&lt; humanisme européen (Lenoir, 2005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5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5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315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u niveau de la Commission Européen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992, Traite de Maastrich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993, Livre blanc sur la compétitivité des entrepri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995, Livre blanc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Enseigner &amp; apprendre: vers la société cognitiv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 » (sous la direction de Jean-Louis Reiff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« </a:t>
            </a:r>
            <a:r>
              <a:rPr b="1" i="1" lang="en-US" sz="4000" spc="-1" strike="noStrike">
                <a:solidFill>
                  <a:srgbClr val="008000"/>
                </a:solidFill>
                <a:latin typeface="Calibri"/>
              </a:rPr>
              <a:t>Enseigner &amp; apprendre: vers la société cognitive</a:t>
            </a: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 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21333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es connaissances de base constituent le socle sur lequel se construit l’aptitude individuelle à l’emplo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» (p. 1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ans l’éducation de base, il convient de trouver un bon équilibre entre l’acquisition des savoirs et </a:t>
            </a:r>
            <a:r>
              <a:rPr b="0" i="1" lang="en-US" sz="4400" spc="-1" strike="noStrike">
                <a:solidFill>
                  <a:srgbClr val="1f497d"/>
                </a:solidFill>
                <a:latin typeface="Calibri"/>
              </a:rPr>
              <a:t>les compétences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méthodologiques qui permettent d’apprendre soi-même. Ce sont celles-ci qu’il convient aujourd’hui de développer »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p. 16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1447920"/>
            <a:ext cx="6248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 livre blanc de 1995 redéfinit les rapports entre l’entreprise et l’éc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43000" y="3359160"/>
            <a:ext cx="73152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itique de l’école (= facteur d’exclusion par l’échec scolair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arition de notions nouvel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créditation/validation des acquis: les entreprises pourront reconnaître les compéten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Compét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ployabi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5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es enjeux pédagogiques de l’approche par compét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440" y="15998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notion de compétences institue un nouveau rapport de l’école aux savoi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s curriculums ne sont plus construits sur une base disciplinai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s savoirs n’ont plus de valeur en soi; il leur faut être utilitaire; ces sont des moyens pour agir efficace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uprématie de l’utilitarisme nord-américain par à l’humanisme européen (Lenoir, 20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monde pédagogique est divisé en croyants et non-croy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6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17:20:10Z</dcterms:created>
  <dc:creator>Marcel Crahay</dc:creator>
  <dc:description/>
  <dc:language>en-US</dc:language>
  <cp:lastModifiedBy>Admin</cp:lastModifiedBy>
  <dcterms:modified xsi:type="dcterms:W3CDTF">2010-07-08T06:21:49Z</dcterms:modified>
  <cp:revision>34</cp:revision>
  <dc:subject/>
  <dc:title>Les compétences professionnelles et le curriculum: des réalités conciliables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3866849</vt:r8>
  </property>
  <property fmtid="{D5CDD505-2E9C-101B-9397-08002B2CF9AE}" pid="3" name="_AuthorEmail">
    <vt:lpwstr>education@mci-group.com</vt:lpwstr>
  </property>
  <property fmtid="{D5CDD505-2E9C-101B-9397-08002B2CF9AE}" pid="4" name="_AuthorEmailDisplayName">
    <vt:lpwstr>MCI Education</vt:lpwstr>
  </property>
  <property fmtid="{D5CDD505-2E9C-101B-9397-08002B2CF9AE}" pid="5" name="_EmailSubject">
    <vt:lpwstr>Seminar for Compulsory Education</vt:lpwstr>
  </property>
  <property fmtid="{D5CDD505-2E9C-101B-9397-08002B2CF9AE}" pid="6" name="_NewReviewCycle">
    <vt:lpwstr/>
  </property>
  <property fmtid="{D5CDD505-2E9C-101B-9397-08002B2CF9AE}" pid="7" name="_PreviousAdHocReviewCycleID">
    <vt:r8>1978508253</vt:r8>
  </property>
</Properties>
</file>