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B8785-F687-446E-9F57-B0EA8093D6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3397A8-9C6B-4F49-8CB6-0C4A54207E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D7ADF86-71DE-4BBE-B0FC-383447B2B1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FD6F79-20E8-4DF2-95F6-C340429CBF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CF08A-E768-4524-862D-8B5704B123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035DE-074B-46A6-9CD3-8EDF6E0249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CF139E-FCBC-41E3-B57A-3D291CF5E8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EBF75B-3578-4DBE-9F91-D39E6876C1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CA12159-45F9-4495-9E53-4259D2EBC1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BC77C4-0923-42A9-B9DC-18A04B829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EC6886-981A-44EC-B2E6-D2C40F21B2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0965B6-7938-4855-82F2-105134C47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7FC6-16D6-4464-BA9B-2DFA13DAF130}"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C51CC-59B1-4B34-A9EF-D4C63414EB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16CF800-B8AE-439B-9510-0EC67C0D05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A225E-DEA8-4C85-A1BE-C78D1A329884}"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1B6E64FF-3CAA-46A6-B4E5-0C28DB9859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3ED7B-8359-4683-8F74-E754928AF399}"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E768E-733C-4300-BCA7-FC9A0778DA30}"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CEADDE-9710-4AD2-9DDA-656ABC902669}"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C0DB0-2DD0-4431-A2A1-5A86BB578147}"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292BA1E-CCD0-407A-ADDD-4652F2C705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3D2BBC-0473-473B-A24E-46C62B85C1C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28E67-ED14-4DC0-BA93-035AF5A11D4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E08515-DAE8-475B-A4FC-5A433A9198D1}"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8B6C2-9898-4B63-8207-BB9D8E817B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17713F6E-910B-4151-9681-304EF37E281F}"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1303C-13F3-439D-B61E-15A8E4D00D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82929-0E92-4442-939A-A19526B3A2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8B977F43-F2AB-4A3E-9673-5E67FEA2980E}"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88BCAB49-A3EA-4A5F-93A1-7304D49AAD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01329107</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Seminar for Compulsory Education</vt:lpwstr>
  </property>
  <property fmtid="{D5CDD505-2E9C-101B-9397-08002B2CF9AE}" pid="6" name="_NewReviewCycle">
    <vt:lpwstr/>
  </property>
  <property fmtid="{D5CDD505-2E9C-101B-9397-08002B2CF9AE}" pid="7" name="_PreviousAdHocReviewCycleID">
    <vt:r8>1479371073</vt:r8>
  </property>
</Properties>
</file>