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3C106-6325-414F-99CB-D26C822BA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3C1D9E-0B34-4E39-8D32-FB79BB9E8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91DE65-0F03-43E0-B5A6-E83118AB7D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83A82E-5495-4779-A6DF-0E66367049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51E58-C20D-4B86-8F50-C74C62492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91B1-0B73-4B41-90C9-80AB15FD2A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453FC7-73A3-408E-8407-9E34B20CA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7943B2-FB2A-4E67-9754-56A08C074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D965826-25AE-4BF8-9223-0790EEC18E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FCF524-E4CE-4744-8F2C-A01D96622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F83CB4-F811-4478-9DB6-D03AB5FC6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C31801-E5CF-4946-87AF-BDDF6455D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29AE-4477-4085-8AE9-445E3B93EAED}"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4502D-67C1-4458-A6A8-B61F42309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4F996C2-F5C4-4596-8AE2-985D12A731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2D354-6FD8-4462-B937-DF1C53D9C8B3}"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37713429-CE88-41DC-BB2E-FC9DEBEC6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C46C6-2F0E-4D14-9ED3-A96955F12DDE}"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91B18-DFE5-411C-8ACE-70D5EBB175D2}"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432F91-9742-47DF-A0F8-AD291F64A9B9}"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4C3E0-916D-4CE0-BBBF-5D5BE1DC3577}"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8CEF596-4039-46A8-ABAB-114EA4743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060D95-F232-431B-9835-944B29F6955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794D4-3C16-461B-991A-156C790984A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E01B22-40F3-4FAB-97E6-E59D2A828C7D}"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8EA57-2E3F-4E31-AE0F-B72DEF157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5FE5B41A-BAFB-4311-AD8E-4951F1A0E655}"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408E2-E115-4D72-9139-195818B5E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FB069-8401-49D3-BDA7-1E88D9AEB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7AB3DD65-6061-4754-A350-9948EC620309}"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A267E536-7D86-49E4-8ADC-4EA77F737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1329107</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Seminar for Compulsory Education</vt:lpwstr>
  </property>
  <property fmtid="{D5CDD505-2E9C-101B-9397-08002B2CF9AE}" pid="6" name="_NewReviewCycle">
    <vt:lpwstr/>
  </property>
  <property fmtid="{D5CDD505-2E9C-101B-9397-08002B2CF9AE}" pid="7" name="_PreviousAdHocReviewCycleID">
    <vt:r8>1479371073</vt:r8>
  </property>
</Properties>
</file>