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09A5BE-24FD-4222-AF87-8576B22D66D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115876-7C7F-416D-B40B-11CAD4139FF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C9829D-AF25-4FD4-A230-13E6DE4520A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BCDD60-A50A-4816-9495-1655E10C1F7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424-49FA-4577-9B95-5DBE5A4B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F75-E175-488B-B435-70E3E908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E58-6599-4481-A0E8-28248487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EE5-E2B0-492A-930D-9A7BA675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841-67B6-4DDC-B4FD-EBC94C19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705-BE93-47F1-93A1-7AA69DAD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5F57-913F-408F-98A0-763BB63A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34F-E302-495E-93BA-1519A0BB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9B51-729B-4D2B-A315-D9F2B425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A45-76D6-4832-9235-BCF2C1F9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1BE-CA8E-4A6E-8DA0-5D34A1BE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BDD-908F-4364-AD95-520C0743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6F00-331D-4B61-9452-2D909817F56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2FC3-6DA4-44AD-8DB4-C1844EDD1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CF1E-0CDF-49D6-A063-4D4EB3A599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6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year-old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literacy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differences of stud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between schools (it concerns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nationa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(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B70-930A-45AA-A51A-0AE34079B8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are still large differences between schools at the level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 in the structure of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good development of key competences 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0E9-316D-4ED8-BFC3-700AB973E5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the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s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322-D21E-46F0-A473-6110F4BB0A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in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104-6318-43CD-935D-064B7D1D2D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7FCB-482A-401E-BAA0-C20AE7F1B8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3138-0CFB-4595-B4B4-E38CDC849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E2E-B428-403D-86C9-42DD01D7D2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mprehensive approach to planned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weakest students’ competences (revealed in PISA research in 2000-2003) that results from disclosure of these students’ capabilities 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the weak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researches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10D-85ED-40E2-950F-5256D977C6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ssibly identic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eneral education but it should be realize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89B-AD74-46FE-ABE7-A504B958FE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E17D-C128-44DF-B124-C9BC4496AE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330-226C-4D32-B9FC-780F275EA7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reading achievements of 15-year-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etween-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 differ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reading literacy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achievements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average results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to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599-1666-4D1B-9F06-C6FD5400C9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 in reading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achievements in reading literacy of 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lowest achie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27D-203E-4BAF-A62A-158CDCC7C8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7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171-1AEC-4A9E-98BF-ACA841724C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fessional 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2ED-FDE7-4503-8217-5D2BDD76C0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CB60-E309-4C78-9AF2-1A23D8BC3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comprehensive)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692-B4BC-4892-ACC6-F85103577F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between-school 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360" y="2060280"/>
            <a:ext cx="5076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bilit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 between schools 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Di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fference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7AF5-2C1C-4BAA-9F55-FC740EFB9B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5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year-old </a:t>
            </a:r>
            <a:br>
              <a:rPr sz="2600"/>
            </a:b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differen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chievements of student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ifferences c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F67-BCE2-414D-BF6C-A335DCCC12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8T12:58:10Z</dcterms:modified>
  <cp:revision>196</cp:revision>
  <dc:subject/>
  <dc:title>Prezentacj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85341322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952462772</vt:r8>
  </property>
</Properties>
</file>