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833F05-F513-48D7-B90F-1E5E8457E5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C16772-75E5-4025-863B-599BD14FBD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FFD846-9416-4850-8DDF-73BB274566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D5942C-68DC-4A40-BCBC-93A3184767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D5CF4-536C-475B-AA83-FE64045515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91C34-9692-4098-AE12-8140266549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C09987-EEF9-4410-B06F-73BD7CD40D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500D22-3BEB-4B70-B6A1-858CB0FFAD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4FD5D96-BE34-41CC-9BE3-864AEBCF9B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567007-0091-4C9E-931B-CE01969ACC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FA7954-2E1B-42B9-BFAD-429BC7E535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F82DCA-C0F3-464E-A75F-1222A0E736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CF69-09C6-4130-9D92-EBA4B8FC89A3}"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A7A3D-CC48-412A-82C5-4E144DA2BB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18E732A-54F9-4A92-A0F9-A9485A5826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86ABD-ED4B-4FCE-BE2D-C9230F7D82E9}"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84123043-2AB3-4CDD-A73E-64399A63C0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4E80B-746A-413D-B964-E208347014CB}"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2F0F4-B3AC-4C64-AD20-74CC7C5D2825}"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539CA4F-E00B-46E7-A0DE-8A11A9A4DF5B}"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97E8D-4A83-46C0-A2A4-0D82967CC610}"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33E3E90-DA2B-46A5-8DCF-838D4B4B74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870B09-B5CA-4EA7-9C45-B09C0E5AC2A3}"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1AADE-297E-47DC-8882-0DBCA7B316A2}"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9E3918-339F-4AC8-B6FE-2EB47FEA4F0B}"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9C417-98DD-4F1F-A7E1-920802A8B4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CDF6688D-85F8-4A83-A526-A0E3473ED3B3}"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FD4D4-4B32-42DF-B227-95B52D2F83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2392D-52EC-4B67-A768-8708B17A5A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C9C7B0C7-86AF-45F4-A4EB-736C41CD495B}"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77EC6711-58E2-4EE6-BFF8-82BA737039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01329107</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Seminar for Compulsory Education</vt:lpwstr>
  </property>
  <property fmtid="{D5CDD505-2E9C-101B-9397-08002B2CF9AE}" pid="6" name="_NewReviewCycle">
    <vt:lpwstr/>
  </property>
  <property fmtid="{D5CDD505-2E9C-101B-9397-08002B2CF9AE}" pid="7" name="_PreviousAdHocReviewCycleID">
    <vt:r8>1479371073</vt:r8>
  </property>
</Properties>
</file>