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B912-E861-4AF8-8B48-938A6918AB7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65A-E9DD-478B-ACFA-4E4C2DC31F2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E43-FBB4-4C3B-9ECE-82EFADC30AB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CFB8-DD9A-4F9E-A7BB-EF8F562303F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666-E74A-4DD0-BA59-A35934EF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BA7-9EAC-4B48-AFEB-A2569137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166-0645-4547-BCC2-71677C63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486-A602-4FEA-B534-FA05D6AD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B29-414B-49F8-94B7-89F146F7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427-5217-45AC-B0DC-3A551A4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E78-9803-4C7B-AEE1-A4822C6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9A4-D061-4BB3-A01D-BFB5F1C7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CF8-4E03-42CA-9BFF-9739ED34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C3C-5823-4286-80DE-FDD15B9F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FCF-7FFC-4003-9F4B-9F421DD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0C9-C36A-437E-970A-5D97CA8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905-1D9C-4050-B882-7EF7E22ED1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C3B-4B02-4DBB-9397-7FF49FB5F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ium ministrów edukacji na temat obowiązkowego kształceni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ksela, 9 lipca 2010 r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wijanie kompetencji młodzieży w Pols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doświadczenia i perspektyw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F36A-5219-465A-979A-2A11194C2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6- i 17-latków w czytaniu w roku 200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kich szkołach na poziomie ISCED 3 (dla uczniów 16-letnich i starszych) nadal utrzymują się duże różnice osiągnięć uczniów między szkołami (dotyczy to wszystkich kompetencji badanych w PISA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18% uczniów,  około 60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stępuje koncentracja najsłabszych uczniów w szkołach zasadniczych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 najlepszych – w licea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1" name="Rectangle 3"/>
          <p:cNvGraphicFramePr/>
          <p:nvPr/>
        </p:nvGraphicFramePr>
        <p:xfrm>
          <a:off x="0" y="1892160"/>
          <a:ext cx="4356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2160"/>
                    <a:ext cx="4356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71280" y="1413000"/>
            <a:ext cx="45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37373"/>
                </a:solidFill>
                <a:latin typeface="Arial"/>
              </a:rPr>
              <a:t>Procent uczniów według poziomów kompetencji czytania PISA 2006 opcja krajowa (badanie 16- i 17-latkó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8D4-62D6-4266-8D41-45816B8B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y rozwoju kluczowych kompeten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szkolnictwie zawodowy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becnie 16- i 17-latki nadal uczęszczają do podobnego rodzaju szkół na poziomie ISCED-3 jak przed reformą z 1999 roku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strukturze szkolnictwa na poziomie ISCED 3 między szkołami nadal zachowane są duże różnice, które udało się skutecznie ograniczyć na poziomie ISCED 2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nadto widoczny jest brak dobrego rozwoju kompetencji kluczowych w niektórych typach szkół na poziomie ISCED 3        – szczególnie w szkołach zawod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53A-842A-4F77-8EFF-53C0A4FD7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ntynuacja reformy systemu eduk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ace nad kompleksową i spójną strategią LLL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ząd RP przyjął w listopadzie 2009 r. plan uporządkowania wszystkich strategii kraj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rządzeniem premiera w lutym 2010 r. utworzony został międzyresortowy zespół do spraw LLL, w tym KRK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ska odnosi istotne sukcesy w zakresie edukacji formalnej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– dowodem są między innymi wyniki badań PISA oraz osiągnięcia Polski w zakresie 4 z 5 wskaźników programu „Edukacja i szkolenie 2010”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jednocześnie Polska ma słabe osiągnięcia poza tradycyjnym okresem kształcenia szkolnego, tj. w upowszechnieniu wychowania przedszkolnego i w uczeniu się dorosł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daniem strategii LLL będzie zrównoważenie osiągnięć Polski w całym obszarze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2765-3005-4FB3-9820-88973523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rekta programowa dziesięć lat później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kompleksowej reformy systemu edukacji z roku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a programowa wychowania przedszkolnego i kształcenia ogólnego wdrażana od 2009 r., oparta na efektach kształcenia,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j. podejściu promowanym w europejskich ramach kwalifikacji (EQF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bniżenie wieku obowiązkowego przygotowania przedszkolneg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od 5. roku życia) połączone z upowszechnieniem wychowania przedszkolnego i obniżeniem wieku rozpoczynania obowiązku szkolnego (od 6. roku życia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modernizacji kształcenia i szkolenia zawodowego opartej na nowym podejściu do kwalifikacji zawodowych. zgodnym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 europejskim systemem transferu osiągnięć w kształceniu i szkoleniu zawodowym (ECVET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zmian w szkołach i ich otoczeniu, wspierających proces indywidualizacji pracy z uczniami, zwłaszcza z uczniami mającymi trudności w nauce oraz z uczniami zdolnym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AB16-8225-4DF4-8514-B143589D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lan zmian rozpisany na lata szkoln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281240"/>
          <a:ext cx="8291520" cy="3878280"/>
        </p:xfrm>
        <a:graphic>
          <a:graphicData uri="http://schemas.openxmlformats.org/drawingml/2006/table">
            <a:tbl>
              <a:tblPr/>
              <a:tblGrid>
                <a:gridCol w="2016000"/>
                <a:gridCol w="2089440"/>
                <a:gridCol w="1800000"/>
                <a:gridCol w="1150920"/>
                <a:gridCol w="1235160"/>
              </a:tblGrid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reformowane nauczanie w klasac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Gimnazjum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gzamin gimnazjalny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</a:t>
                      </a:r>
                      <a:r>
                        <a:rPr b="0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sprawdzian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matura dostosowana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6"/>
          <p:cNvSpPr/>
          <p:nvPr/>
        </p:nvSpPr>
        <p:spPr>
          <a:xfrm>
            <a:off x="1187280" y="5445000"/>
            <a:ext cx="6769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szkoła podstawowa, L – liceum, T – technikum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zasadnicza szkoła zawodow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BD36-75D7-4892-B4C1-24AEB4396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FA7-F695-4E2C-A0E2-81D6D7AD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alendarium zmian w systemie egzaminów potwierdzających kwalifikacje zawodow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71600"/>
          <a:ext cx="8713800" cy="46116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potwierdzające kwalifikacje zawodow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D149-A58C-471B-9F31-F391986EC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można wyciągnąć z doświadczeń Polsk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Kompleksowe podejście do planowanych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ce wdrożona została w roku 1999 jedna z najszerzej zakrojonych reform edukacyjnych w państwach UE i OEC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imo, że obecnie wymaga ona korekt, okazała się skuteczna dzięki kompleksowemu podejściu do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epsze wykorzystanie ukrytych potencjał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nacząca poprawa kompetencji najsłabszych uczniów w Polsce, odkryta w badaniach PISA w latach 2000-2003, wynika z ujawnienia potencjału tych uczniów w nowym typie szkół (gimnazjum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jest prawdopodobne, że potencjał najsłabszych uczniów nie był wystarczająco rozwijany w szkołach, które grupowały niemal wyłącznie słaby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trzebna korekta programowa i systemowa – rozpisana na wiele kolejnych la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niki różnych badań międzynarodowych (jak PISA, TIMSS/PIRLS, TALIS, TEDS-M, PIAAC) były, są lub będą wykorzystywane w planowaniu kolejnych zmian w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mianie programowej rozpoczętej od września 2009 roku towarzyszy wiele innych zmian systemowych, których efekty będzie można również dostrzec dopiero po wielu latach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CAD-CB0B-4D2E-8299-193615F39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76320"/>
            <a:ext cx="878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wyciąga Polska ze swoich doświadczeń 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becnie wprowadzane zmiany programowe mają zapewnić lepsze efekty kształcenia ogólnego w szkołach ponadgimnazjalnych, bez wprowadzenia jednak istotnych zmian strukturalnych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zyjmuje się, że istnieje potrzeba wydłużenia okresu obowiązkowego – możliwie jednakowego – kształcenia ogólnego,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le prowadzonego w sposób bardziej zindywidualizowany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 Polsce istnieje bardzo silna tradycja dokonywania wyboru między kształceniem w liceum ogólnokształcącym a przygotowaniem zawodowym w technikum lub szkole zasadnicz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Zakładana jest ewolucyjna zmiana strukturalna związana ze zmianami w kształceniu zawodowym mającymi na celu stopniowe upowszechnianie nabywania kwalifikacji zawodowych w elastycznych formach kursowych zamiast w szkołach różnych typ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F43F-9C61-454F-A856-1921EAC72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stępne zaproszeni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listopadzie 2011 r., podczas polskiej Prezydencji w Radzie UE, planowana jest międzynarodowa konferencja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d roboczą nazwą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Skuteczność polityki edukacyjnej na rzecz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rozwoju kompetencji klucz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ędzie to okazja do szerszej debaty na ten tema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stępnie zapraszam Państwa na tę konferencję.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icjalne zaproszenia zostaną wysłane jesienią bieżącego roku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A0C-13EB-4B53-8C35-D89530061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rządek prezent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łówne odkrycia programu PISA w Polsce dotyczące kompetencji  młodzieży (15-latków)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prawa kompetencji – zwłaszcza w zakresie czytani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w osiągnięcia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lemy rozwoju kompetencji starszych uczniów (16- i 17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lityka, która przyczyniła się do osiągnięć ujawnionych w Polsc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rogramie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y rządu Jerzego Buzk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mpleksowa reforma systemu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reformy systemu edukacji i prace nad strategią LLL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akie wnioski można wyciągnąć z polskich doświadczeń w zakresie rozwoju kompetencji młodzieży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078D-39F3-4171-843E-6B9D15F9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177840" y="1844640"/>
          <a:ext cx="426708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844640"/>
                    <a:ext cx="426708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3280" y="1773000"/>
            <a:ext cx="41054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 największy w UE wzrost osiągnięć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-latków w czytaniu (w OECD jedynie w Korei Płd. odnotowano wzrost nieco większy).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0-2003 wzrosły przede wszystkim kompetencje uczniów słabych i najsłabszych (co można łączyć z największym w UE i OECD spadkiem różnic między szkołami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osiągnięciach uczniów)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3-2006 wzrosł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większym stopniu kompetencje uczniów dobrych i najlepszych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1773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Średnie wyniki w skali PIS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21E1-FCE1-49D9-B634-659BFC885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819600" cy="401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844640"/>
            <a:ext cx="3809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o bardzo znaczące zmniejszenie liczby słabych uczniów w czytaniu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tego rodzaju zmiana dotyczy nie tylko czytania, ale także matematyki i nauk przyrodnic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79280" y="1197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26920" y="1773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rocent najsłabszych uczniów</a:t>
            </a:r>
            <a:br>
              <a:rPr sz="1800"/>
            </a:br>
            <a:r>
              <a:rPr b="0" lang="pl-PL" sz="1400" spc="-1" strike="noStrike">
                <a:solidFill>
                  <a:srgbClr val="616365"/>
                </a:solidFill>
                <a:latin typeface="Arial"/>
              </a:rPr>
              <a:t>(low achiever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65E7-2EDD-459E-B162-11F75CBB3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e reformy 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a systemu edukacji rozpoczęta w roku 1999 była jedną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 czterech reform prowadzonych przez rząd Jerzego Buzka, które sprzyjały przygotowaniu Polski do wejścia do U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zostałe reformy dotyczyły systemów: administracji publicznej, ochrony zdrowia, zabezpieczeń społec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efekcie reform władze samorządowe stały się odpowiedzialne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 zdecydowaną większość zadań edukacyjnych i są w tym obszarze realnym partnerem administracji rządow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F1A0-A496-4EBE-8BE6-E03A0B49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a reforma systemu eduka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Kompleksowa reforma systemu edukacji objęła jednocześni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zekazanie władzom lokalnym szkół wraz ze środkami finansowymi na ich prowadzenie, powiązanymi z liczbą uczni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mianę struktury szkolnictw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programową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systemu oceny osiągnięć uczniów, w tym wprowadzenie systemu egzaminów zewnętr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cjonalizację sieci szkolnej, zwłaszcza na obszarach wiejski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dernizację wyposażenia szkół, szczególnie w zakresie nowych technologii informacyjnych i komunikacyj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drożenie systemu awansu zawodowego nauczycieli i nowego systemu ich wynagradzani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upowszechnienie doskonalenia zawodowego nauczycieli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8F3C-0806-4381-B169-E4F1B65DC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iana struktury szkolnictw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iany wprowadzane od roku 1999 – utworzenie szkoły na poziomie ISCED 2 oraz przedłużenie o rok obowiązkowego kształcenia ogólnego (dotyczy to 15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39640" y="4005360"/>
            <a:ext cx="84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       ISCED 1                                 ISCED 2                         ISCED 3</a:t>
            </a:r>
            <a:r>
              <a:rPr b="0" i="1" lang="en-US" sz="1800" spc="-1" strike="noStrike">
                <a:solidFill>
                  <a:srgbClr val="616365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8       9       10       11       12       13       14       15      16       17       18 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1440" y="2197080"/>
            <a:ext cx="838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ISCED 1-2                                                        ISCED 3            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 8        9       10       11       12       13      14      15      16       17       18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12720" y="4581360"/>
            <a:ext cx="1738440" cy="3844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51160" y="4581360"/>
            <a:ext cx="2403360" cy="384480"/>
          </a:xfrm>
          <a:prstGeom prst="rect">
            <a:avLst/>
          </a:prstGeom>
          <a:solidFill>
            <a:srgbClr val="00305c"/>
          </a:solidFill>
          <a:ln w="9360">
            <a:solidFill>
              <a:srgbClr val="003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30760" y="4581360"/>
            <a:ext cx="1504800" cy="384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257880" y="4581360"/>
            <a:ext cx="1435320" cy="384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227640" y="4971960"/>
            <a:ext cx="1800360" cy="433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227640" y="5405400"/>
            <a:ext cx="14367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341440" y="4630680"/>
            <a:ext cx="249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716360" y="4581360"/>
            <a:ext cx="1641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GIMNAZJUM  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lower second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839880" y="4581360"/>
            <a:ext cx="1355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PRZEDSZKOLE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127920" y="4951440"/>
            <a:ext cx="18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911760" y="5259240"/>
            <a:ext cx="16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2266920" y="2755800"/>
            <a:ext cx="3762360" cy="382680"/>
          </a:xfrm>
          <a:prstGeom prst="rect">
            <a:avLst/>
          </a:prstGeom>
          <a:solidFill>
            <a:srgbClr val="003f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24440" y="2755800"/>
            <a:ext cx="1866960" cy="3826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29480" y="3139920"/>
            <a:ext cx="2217600" cy="3826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29480" y="3521160"/>
            <a:ext cx="1589040" cy="48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253200" y="2755800"/>
            <a:ext cx="141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upper   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6229440" y="3139920"/>
            <a:ext cx="1671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6229440" y="3500280"/>
            <a:ext cx="1495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11280" y="2755800"/>
            <a:ext cx="1752480" cy="3826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838080" y="275580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PRZEDSZKOLE   </a:t>
            </a:r>
            <a:r>
              <a:rPr b="1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468360" y="191628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Stara struktura szkolnictwa (PISA 2000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468360" y="3716280"/>
            <a:ext cx="49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Nowa struktura szkolnictwa (PISA 2003, 2006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59000" y="2797200"/>
            <a:ext cx="324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6035760" y="2131920"/>
            <a:ext cx="21564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zedłużenie o rok kształcenia ogólne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227640" y="4971960"/>
            <a:ext cx="1498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300720" y="5405400"/>
            <a:ext cx="14940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9850-3DC4-4199-BF7A-DB227FE1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niejszenie różnic między szkołam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osiągnięciach 15-latków w czytaniu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98560" cy="408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679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badaniach PISA 2000-2003 odkryt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zmniejszenie zróżnicowania osiągnięć 15-latków między szkołami, najbardziej istotne spośród krajów U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OECD. Dotyczyło ono osiągnięć uczniów we wszystkich zakresach badań PISA (czytanie, matematyka, nauka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można łączyć z kompleksową reformą systemu edukacji wdrażaną od 1999 roku. Reforma ta była wdrażana stopniow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w roku 2000 nie objęła jeszcze 15-latków (PISA 2000 badała stary system edukacji, PISA 2003 i 2006 – nowy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197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7300"/>
                </a:solidFill>
                <a:latin typeface="Arial"/>
              </a:rPr>
              <a:t>zróżnicowanie między szkołami w latach 2000-2006 w Polsce na tle OECD jako procent średniego zróżnicowania osiągnięć uczniów w OECD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E1C-8202-4BC7-B730-27FFE7AB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5-latków w czytaniu w roku 2000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0" y="1917720"/>
            <a:ext cx="4699080" cy="4280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27600" y="1557000"/>
            <a:ext cx="4316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roku 2000 zanotowano w Polsce jedne z największych w UE i OECD różnic między szkołami w osiągnięciach uczniów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óżnice dotyczyły głównie podziału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a szkoły ogólnokształcące i zawodowe, w tym zasadnicze.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26% uczniów, ponad 73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 Jednocześnie w szkołach tych było bardzo mało uczniów najleps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155736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rocent uczniów według poziomów kompetencji czytania PISA 200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6T15:39:49Z</dcterms:modified>
  <cp:revision>115</cp:revision>
  <dc:subject/>
  <dc:title>Prezentacja programu PowerPoint</dc:title>
</cp:coreProperties>
</file>