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8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19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20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3552-6281-4D5F-8908-497B7C3E16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F740-347A-41CB-B623-1270F1251F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CC9B-06D2-4BA0-A32F-5AB839DB4D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9171-89EF-463F-83C1-23279BE075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22B0-23FE-41A3-844B-F70EEE1AB6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83C0-E79D-474A-B36A-40B1BE6D6C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240729-B2A7-4D5D-9AF0-800209E0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01F24-01BE-4EFF-8874-6CC1D2FC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177A7-70BB-46BD-B124-5530D5E6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6382D-53AD-4DD5-ABDF-130E8A96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BD1E74-0FAC-4C5D-8D66-5455A543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ED2106-C297-4C45-8135-6818A2C6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BB94B-0C94-4574-B9C2-2D225E7D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F77B67-7FC1-49C3-A4BC-62C79C10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41626-8979-4DCB-A771-135B19B8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005FC-7FD5-4583-8CDB-7A0E7DF4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37299F-1C74-4158-AF17-844E2F1B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4FD30-AF97-427C-8DE3-B772883F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779C23-CA32-4A7E-B040-03BC5A5C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AD4BE-E1A8-4594-B4C6-76FA3632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E4C36-74C1-49A0-B84D-E54D5136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376FB5-76B9-45B5-80EC-CC822274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25F58-9C80-4441-B72C-06833134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A6E358-E824-4624-BFB5-0A3EEC1A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997E4A-9196-4753-B43F-FE5EC1D0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02B743-01F7-4F7E-9D0E-8A63EBF3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48F15-681B-4F1D-9808-3E7E176D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6A43-C9A1-4105-90CA-A14E2C77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6BF1-70A7-422D-8857-9FD59A53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6501-F1CF-44EF-9073-BA99AF40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6BD0-8CE0-47BD-9EF4-78A651A8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17F3-BB82-46C6-AFB8-3B2C482A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E0E8-FC12-46DA-955D-D35F4CE8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CFA3-E34E-4161-BB8D-275DE813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3367-7208-401F-9673-A0BB2142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0EBC-4CD2-437B-850E-290991DF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BA0F-B998-410A-B99F-FAFBD69E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82D7-989D-41A2-98F0-895494A9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DF7F-86CD-426B-880F-42FE8B65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6FC265-FD3E-494B-B9E3-B282F294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BD3DD2-196A-41DF-A0E5-F4D03B88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F66EC7-E77F-4A03-97EC-F8678D94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1AA36A-5C8F-46DC-BFA3-ED248E4D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A933BB-DAF1-4130-A697-27DEAF49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1BCABA-8E66-46CC-A895-D09AD130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0EA2B2-FED4-4647-8577-72DD0981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1D31ED-AE66-4DF6-8DCD-C441D3C8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8A0623-105F-47FC-A0C4-F00A5D8C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DF3EC4-462D-4B83-B578-7815CCA8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FB76B2-B610-4097-973F-9A3052C5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CFEBFD-F308-4FC4-A5D6-4EFFEFD6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8C5597-2755-4CCC-AE15-19047D55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EDCFE-B41E-4788-A624-5CCDD677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51E866-96FF-485D-A3BB-2733512E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3C09-9B30-42FE-BC9A-C9515F99EF7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923000" y="2474640"/>
            <a:ext cx="3598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908240" y="3511440"/>
            <a:ext cx="35989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4" descr="Logo Powerpoint 2"/>
          <p:cNvPicPr/>
          <p:nvPr/>
        </p:nvPicPr>
        <p:blipFill>
          <a:blip r:embed="rId2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5"/>
          </p:nvPr>
        </p:nvSpPr>
        <p:spPr>
          <a:xfrm>
            <a:off x="7696080" y="5936760"/>
            <a:ext cx="106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1A65-F321-47F4-B0DE-E0DB91122A5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6"/>
          </p:nvPr>
        </p:nvSpPr>
        <p:spPr>
          <a:xfrm>
            <a:off x="1727280" y="5936760"/>
            <a:ext cx="3635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7"/>
          </p:nvPr>
        </p:nvSpPr>
        <p:spPr>
          <a:xfrm>
            <a:off x="685800" y="5936760"/>
            <a:ext cx="914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9232-2237-4906-973E-49E4480F3A3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5634-ED1D-455E-A687-4974C7C1AD3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18520" indent="-218520"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5920" indent="-2811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4960" indent="-28080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03360" indent="-28080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3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62EF-3810-4CF9-B0DD-1D8F2771A89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16000" indent="-21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775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9040" indent="-2775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7756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FABF-723A-4836-98F7-1DDA253FDE7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4A35-8F5A-476D-A990-19410A73FE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shpFoto" descr="Afb 1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shpFoto" descr="Afb 2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3959-E406-419E-B125-D851DA77AB9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8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FA2F-C291-45A0-A35F-91E7F5544A2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hpKleurvlakOnder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shpTekst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shpDatum" descr="RO__vervolgpagina~LPP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9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8676-73E7-4EDE-AFBD-1FA7BB68306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0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1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9E92-8BBA-4F4A-AF73-506E4A2FC96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2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68F6-157B-4A83-9B35-A3CB69686AB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3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4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03C7-C60D-4C44-853C-09F9BC15EA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voettekst 1"/>
          <p:cNvSpPr/>
          <p:nvPr/>
        </p:nvSpPr>
        <p:spPr>
          <a:xfrm>
            <a:off x="1727280" y="5937120"/>
            <a:ext cx="36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Projectdirectie Voortijdig Schoolverlate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www.aanvalopschooluitval.n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ijdelijke aanduiding voor dianummer 2"/>
          <p:cNvSpPr/>
          <p:nvPr/>
        </p:nvSpPr>
        <p:spPr>
          <a:xfrm>
            <a:off x="685800" y="5937120"/>
            <a:ext cx="914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B6AF-CE10-4997-884B-58DCE25F7E34}" type="slidenum">
              <a:rPr b="0" lang="en-US" sz="1200" spc="-1" strike="noStrike">
                <a:solidFill>
                  <a:srgbClr val="000000"/>
                </a:solidFill>
                <a:latin typeface="OCWTale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Afbeelding 4" descr="suzan.jpg"/>
          <p:cNvPicPr/>
          <p:nvPr/>
        </p:nvPicPr>
        <p:blipFill>
          <a:blip r:embed="rId1"/>
          <a:stretch/>
        </p:blipFill>
        <p:spPr>
          <a:xfrm>
            <a:off x="0" y="3344760"/>
            <a:ext cx="4576680" cy="351324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4594320" y="1757520"/>
            <a:ext cx="454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Blitz on dropouts</a:t>
            </a:r>
            <a:br>
              <a:rPr sz="19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Marja van Bijsterveldt-Vliegenthart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State Secretary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of Education, Culture and Scienc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russels, 9 July 201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900079"/>
                </a:solidFill>
                <a:latin typeface="Verdana"/>
              </a:rPr>
              <a:t>The Golden Triangle</a:t>
            </a:r>
            <a:r>
              <a:rPr b="1" lang="nl-NL" sz="20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69360" y="2073240"/>
            <a:ext cx="7858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municip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ch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ll working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Agreements with schools and local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In 39 regions for the period 2008-2011 (convenants)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F474-BABD-434B-903C-855254A8281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FE42BB-B0C2-4EBC-B7F9-4DA83B686F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Oval 3"/>
          <p:cNvSpPr/>
          <p:nvPr/>
        </p:nvSpPr>
        <p:spPr>
          <a:xfrm>
            <a:off x="6145200" y="4089240"/>
            <a:ext cx="1689120" cy="16066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Oval 4"/>
          <p:cNvSpPr/>
          <p:nvPr/>
        </p:nvSpPr>
        <p:spPr>
          <a:xfrm>
            <a:off x="1187280" y="4203720"/>
            <a:ext cx="1776600" cy="153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911760" y="1701720"/>
            <a:ext cx="1511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Text Box 6"/>
          <p:cNvSpPr/>
          <p:nvPr/>
        </p:nvSpPr>
        <p:spPr>
          <a:xfrm rot="10800000">
            <a:off x="6411960" y="4691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162080" y="48625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16"/>
          <p:cNvSpPr/>
          <p:nvPr/>
        </p:nvSpPr>
        <p:spPr>
          <a:xfrm>
            <a:off x="5495760" y="2719440"/>
            <a:ext cx="103356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17"/>
          <p:cNvSpPr/>
          <p:nvPr/>
        </p:nvSpPr>
        <p:spPr>
          <a:xfrm flipH="1">
            <a:off x="2563920" y="2708280"/>
            <a:ext cx="1287360" cy="13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28"/>
          <p:cNvSpPr/>
          <p:nvPr/>
        </p:nvSpPr>
        <p:spPr>
          <a:xfrm>
            <a:off x="3171960" y="4941720"/>
            <a:ext cx="2678040" cy="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5EA20D-3CB6-4055-8A91-6EDA0E3889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Oval 3"/>
          <p:cNvSpPr/>
          <p:nvPr/>
        </p:nvSpPr>
        <p:spPr>
          <a:xfrm>
            <a:off x="6372360" y="4365720"/>
            <a:ext cx="151272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Oval 4"/>
          <p:cNvSpPr/>
          <p:nvPr/>
        </p:nvSpPr>
        <p:spPr>
          <a:xfrm>
            <a:off x="1187280" y="4365720"/>
            <a:ext cx="151308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924360" y="1413000"/>
            <a:ext cx="15112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Directs the ‘Drive to reduce school drop-out rates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6"/>
          <p:cNvSpPr/>
          <p:nvPr/>
        </p:nvSpPr>
        <p:spPr>
          <a:xfrm rot="10800000">
            <a:off x="6300360" y="4652280"/>
            <a:ext cx="166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ary/pre- vocational secondary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1187280" y="47242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2916360" y="81288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ocial Affairs &amp; Employment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580000" y="1268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alth, Welfare &amp; Sport/ Youth &amp; Fami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724360" y="1844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651640" y="2349360"/>
            <a:ext cx="29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griculture, Nature &amp; Food Qua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3780000" y="2924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826920" y="1268280"/>
            <a:ext cx="28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ousing, Communities &amp; Integration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1619280" y="184464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conomic aff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1258920" y="234936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terior &amp; Kingdom Rel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16"/>
          <p:cNvSpPr/>
          <p:nvPr/>
        </p:nvSpPr>
        <p:spPr>
          <a:xfrm>
            <a:off x="5508720" y="2708280"/>
            <a:ext cx="1295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7"/>
          <p:cNvSpPr/>
          <p:nvPr/>
        </p:nvSpPr>
        <p:spPr>
          <a:xfrm flipH="1">
            <a:off x="2340000" y="2708280"/>
            <a:ext cx="1511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6300720" y="3213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 Box 19"/>
          <p:cNvSpPr/>
          <p:nvPr/>
        </p:nvSpPr>
        <p:spPr>
          <a:xfrm>
            <a:off x="826920" y="30686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Education Ministry mandates responsibilities (covenan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20"/>
          <p:cNvSpPr/>
          <p:nvPr/>
        </p:nvSpPr>
        <p:spPr>
          <a:xfrm>
            <a:off x="179280" y="3716280"/>
            <a:ext cx="878544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1"/>
          <p:cNvSpPr/>
          <p:nvPr/>
        </p:nvSpPr>
        <p:spPr>
          <a:xfrm>
            <a:off x="179280" y="3716280"/>
            <a:ext cx="87854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22"/>
          <p:cNvSpPr/>
          <p:nvPr/>
        </p:nvSpPr>
        <p:spPr>
          <a:xfrm>
            <a:off x="684360" y="378936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unicipal Executive Councillors for education/youth policy/RMC municipalities (administrative coordination)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108000" y="4149720"/>
            <a:ext cx="252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Drop-out Registration and Coordination Centre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50920" y="400536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324000" y="4797360"/>
            <a:ext cx="8650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Work and Income/Employment and Assistance Act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324000" y="5950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Probation servic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2268360" y="5589720"/>
            <a:ext cx="17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ebt restructuring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28"/>
          <p:cNvSpPr/>
          <p:nvPr/>
        </p:nvSpPr>
        <p:spPr>
          <a:xfrm>
            <a:off x="2771640" y="49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29"/>
          <p:cNvSpPr/>
          <p:nvPr/>
        </p:nvSpPr>
        <p:spPr>
          <a:xfrm>
            <a:off x="2700360" y="508464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Housing corporat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2484360" y="4149720"/>
            <a:ext cx="13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Attendance officer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3924360" y="42926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Urban Policy/Accre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3492360" y="458136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unicipalities Fund/own resourc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4716360" y="5157720"/>
            <a:ext cx="16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Regional Institute for Mental Health/Area Health Authority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5580000" y="429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Juvenile c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7451640" y="566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olice/Court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7093080" y="414972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Youth and Family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7956720" y="486900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38"/>
          <p:cNvSpPr/>
          <p:nvPr/>
        </p:nvSpPr>
        <p:spPr>
          <a:xfrm>
            <a:off x="2556000" y="595008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39"/>
          <p:cNvSpPr/>
          <p:nvPr/>
        </p:nvSpPr>
        <p:spPr>
          <a:xfrm flipH="1">
            <a:off x="5651640" y="5950080"/>
            <a:ext cx="72072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2987640" y="638172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loyers/Employees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F5911C-083B-42C0-BCA0-09FAFDA1D7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494c5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362D-37D7-46D6-B4A6-07985C9C263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83868A-1FEA-4E3B-88C6-310CF8217D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900079"/>
                </a:solidFill>
                <a:latin typeface="Arial"/>
              </a:rPr>
              <a:t>Agreements/Convenant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406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duce dropout rate with 10% every year until 2012’ (40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wn choice in methods to achieve objectives (menu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operation between municipality and school and other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ole of the gover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ing, monitoring and evalu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 results in good practices and implement these in order to improve nation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B37538-2716-41B5-9AF9-1BD8B0C1D2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Arial"/>
              </a:rPr>
              <a:t>What are we going to do in the future?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New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inuing current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haring goo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ECD: contribution researc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Overcoming School Failure”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commendation on Early School Leavers, by the Europea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952781-A3F4-4CDC-A71C-5FF87E277C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061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Introduction Early school leavers: objectives and key figures</a:t>
            </a:r>
            <a:r>
              <a:rPr b="0" lang="nl-NL" sz="22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12840" y="2111400"/>
            <a:ext cx="8061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isbon objective: reducing the number of early school-leavers between the ages of 18 and 24 from 15.5% in 2002 to approx. 10% in 2010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ional objective: reducing the number of early school-leavers : from 71.000 in 2002 (5,7%) to 35.000 in 2012 (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D7A7C-E357-4494-B32D-14B3BDD29D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A795-3A50-476C-BF98-C7BE15A0BF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A26A-C7D2-4CCF-8561-8619BA6A3ED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Verdana"/>
              </a:rPr>
              <a:t>The results (national objective)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graphicFrame>
        <p:nvGraphicFramePr>
          <p:cNvPr id="433" name="Object 3"/>
          <p:cNvGraphicFramePr/>
          <p:nvPr/>
        </p:nvGraphicFramePr>
        <p:xfrm>
          <a:off x="617400" y="2260440"/>
          <a:ext cx="7790040" cy="350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260440"/>
                    <a:ext cx="779004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9"/>
          <p:cNvSpPr/>
          <p:nvPr/>
        </p:nvSpPr>
        <p:spPr>
          <a:xfrm>
            <a:off x="3594240" y="51832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5232240" y="5199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46DD81-A8B9-4E11-9A97-1554B6ED8A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Results in international </a:t>
            </a: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perspectiv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pout rate in 2008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: 15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L: 11.4 %</a:t>
            </a:r>
            <a:br>
              <a:rPr sz="1800"/>
            </a:br>
            <a:br>
              <a:rPr sz="18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ource: Eurostat, 2009)</a:t>
            </a:r>
            <a:br>
              <a:rPr sz="1800"/>
            </a:br>
            <a:br>
              <a:rPr sz="1800"/>
            </a:br>
            <a:endParaRPr b="0" lang="en-US" sz="13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400824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E8FA-9D51-420B-9288-6B35AD4D8B1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shpPagina" descr=""/>
          <p:cNvPicPr/>
          <p:nvPr/>
        </p:nvPicPr>
        <p:blipFill>
          <a:blip r:embed="rId1"/>
          <a:stretch/>
        </p:blipFill>
        <p:spPr>
          <a:xfrm>
            <a:off x="4307040" y="-222120"/>
            <a:ext cx="4662360" cy="73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FBDEF2-6B5A-4061-9318-C6B1EE017E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71440" y="985680"/>
            <a:ext cx="816912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900079"/>
                </a:solidFill>
                <a:latin typeface="Verdana"/>
              </a:rPr>
              <a:t>Know the Numbers 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53828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tter registration, better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Introduction of ‘Education Number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roduction of ‘Digital Count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10237E-924B-4F80-9E4A-EC05D48EB2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0D3B-ABC6-4AFE-8B40-5CE414F3A40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66480" y="1233360"/>
            <a:ext cx="85611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Policies and Programs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2240" y="1716120"/>
            <a:ext cx="85755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transition from pre-vocational to vocational education (VMBO – 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ore scope for ‘practical-oriented student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career orientation and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ppealing education, with sports and cul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.000 APL-programmes and agreement with large emplo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nd better care at school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D11FEF-CE02-43FB-A769-6EFA5E7E13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6840" y="1233000"/>
            <a:ext cx="3681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Focus on municipalities </a:t>
            </a: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in the Netherland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48" name="Picture 7" descr="C:\Users\Loesje\Desktop\vsv0809_gem1Eng.jpg"/>
          <p:cNvPicPr/>
          <p:nvPr/>
        </p:nvPicPr>
        <p:blipFill>
          <a:blip r:embed="rId1"/>
          <a:stretch/>
        </p:blipFill>
        <p:spPr>
          <a:xfrm>
            <a:off x="4289400" y="0"/>
            <a:ext cx="4854600" cy="687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CDAEFA-1459-4159-9BEB-073FB79F7A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6520" y="1245960"/>
            <a:ext cx="4016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Focus on the </a:t>
            </a:r>
            <a:br>
              <a:rPr sz="2300"/>
            </a:b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municipality of Amsterdam</a:t>
            </a:r>
            <a:r>
              <a:rPr b="0" lang="nl-NL" sz="23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51" name="Picture 7" descr="C:\Users\Loesje\Desktop\vsv0809_Amsterdam[1].jpg"/>
          <p:cNvPicPr/>
          <p:nvPr/>
        </p:nvPicPr>
        <p:blipFill>
          <a:blip r:embed="rId1"/>
          <a:stretch/>
        </p:blipFill>
        <p:spPr>
          <a:xfrm>
            <a:off x="2482920" y="1968480"/>
            <a:ext cx="6661080" cy="488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42A007-76B6-439F-9022-422D95796F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0079"/>
                </a:solidFill>
                <a:latin typeface="Verdana"/>
              </a:rPr>
              <a:t>Monitoring and evaluation arrangements</a:t>
            </a:r>
            <a:r>
              <a:rPr b="0" lang="en-US" sz="2200" spc="-1" strike="noStrike">
                <a:solidFill>
                  <a:srgbClr val="2494c5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 effects with facts and figures: naming, shaming and f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idence based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verall design to measure th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F7DB-C7D9-4D58-A2E7-6A54A5511C7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68CDBD-A9FE-48D6-B1CF-BE10EBE31E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8:56:33Z</dcterms:created>
  <dc:creator>Liselore Verschuren</dc:creator>
  <dc:description/>
  <dc:language>en-US</dc:language>
  <cp:lastModifiedBy>o011hou</cp:lastModifiedBy>
  <dcterms:modified xsi:type="dcterms:W3CDTF">2010-07-07T16:31:16Z</dcterms:modified>
  <cp:revision>129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785753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Seminar for Compulsory Education</vt:lpwstr>
  </property>
  <property fmtid="{D5CDD505-2E9C-101B-9397-08002B2CF9AE}" pid="6" name="_NewReviewCycle">
    <vt:lpwstr/>
  </property>
  <property fmtid="{D5CDD505-2E9C-101B-9397-08002B2CF9AE}" pid="7" name="_PreviousAdHocReviewCycleID">
    <vt:r8>-837471163</vt:r8>
  </property>
</Properties>
</file>