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2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0751-960C-43EC-A9C9-B170B4A4B8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326D-65A8-4BCB-8127-B28873E925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230E-4668-4525-82F8-39AB6A88A2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50F1-3996-4521-BD2F-A18BFF227A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1577-55B8-467B-839B-775C4ECC21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ECCA-13DF-4AF0-9C19-3FEF94BA4B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4122D-A95A-41A9-85CC-AAC977FE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9E6F1-F56F-460D-BFC0-23999D78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99265B-095A-4677-9123-1FED75FD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FECF6-C057-4A4D-813B-B7FA87EF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3D010F-363C-47DE-8F8F-380FEC1E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7C820-930E-4D6D-A8FD-D70935E1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F1A80-9C29-4E3B-B7A8-44CE07E2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32048-16C5-4B41-8A2A-1E91BBC6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B9B44-EC2A-4B4F-8A0E-A9D682A6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F9211-E9BA-4BA8-97C0-5549971A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9CB68-9926-4894-8D3B-CF7B28B2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FC565-FB52-48E5-926B-A56AAF1F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FFF44-20DF-42C4-BB2B-15C11973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3DAA4-FAE9-4B7D-A1E8-D0A2E0BE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72B46-C3EE-4F31-8A99-E9F839B7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96A0F7-041D-48FA-805B-BF9376E3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408825-7017-4482-BFED-4563CA2E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D0FB3-C134-4FE5-973C-534542C6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F6DC76-BE7C-4D44-B205-98959BA0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E16BBC-D55C-49F8-BDB0-358586CE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A737B-10DF-4BDD-860F-097E69C5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73AF-28B6-42B7-9DF8-F45E7118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8FDB-CCA9-4331-819A-6183D845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B0C6-528A-4EE5-89A1-B4BD61F2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A7C8-C02B-41B0-8246-65CBDCCD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8175-DE3C-4390-AD89-D604C12D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206C-111A-4BBE-A385-6AEF8B28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7D14-96C0-4C65-9833-8EABC49D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11FB-8F4F-4B2C-BFF5-C7623C8C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A647-FFA5-44B5-8102-71E71198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21D9-2B08-4BBE-A857-87D2A435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A765-2F42-4422-88E9-AA71A2CB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5BB7-3D10-41D3-9F23-C8E8A3C3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6503E-35BF-4D8B-BE97-41B7ABB1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9F4B58-8C76-491F-A69E-E915F134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CD879-9FDA-4FB2-970A-612649B6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63A76-7464-401F-8D58-7075B888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94A6B4-0709-4B4F-B319-66FD840C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0368AC-55E1-4B03-A432-AE056115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C523B5-A816-462B-B0E5-28580B9C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BED429-667D-4BE3-A870-115B78C3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576C24-66C2-4FAE-8D13-8509A867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661B00-DEB6-4898-BF58-E7957440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0545CA-6A0E-480E-B2DC-55332921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72DEFC-1819-4307-90BD-5DD20A07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37817-365A-4AC9-91C6-D58327C1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5A22C-6B61-4730-BDDA-378DA1D4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0993A-9831-4545-890D-58FB99B5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188E-FAA6-4D6F-AC1F-75E55E73CB2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23000" y="2474640"/>
            <a:ext cx="3598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908240" y="3511440"/>
            <a:ext cx="35989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4" descr="Logo Powerpoint 2"/>
          <p:cNvPicPr/>
          <p:nvPr/>
        </p:nvPicPr>
        <p:blipFill>
          <a:blip r:embed="rId2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5"/>
          </p:nvPr>
        </p:nvSpPr>
        <p:spPr>
          <a:xfrm>
            <a:off x="7696080" y="5936760"/>
            <a:ext cx="106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7AA8-808E-4BA4-B19E-97606A751D8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1727280" y="5936760"/>
            <a:ext cx="363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7"/>
          </p:nvPr>
        </p:nvSpPr>
        <p:spPr>
          <a:xfrm>
            <a:off x="685800" y="5936760"/>
            <a:ext cx="914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E248-7F95-4BCB-B6C4-10A337A26B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00CA-2492-46F2-8868-406913BD40E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18520" indent="-218520"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5920" indent="-2811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28080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03360" indent="-28080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467F-00BD-48D0-9E0D-17CDEBD3D2B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16000" indent="-21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775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9040" indent="-2775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775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D555-4625-4BAD-B5C9-8B7FEBFF878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6839-E6C9-43AE-AD15-8B6E9033AE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shpFoto" descr="Afb 1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shpFoto" descr="Afb 2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66D9-137A-45F2-9B56-BFABB2FA8A0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8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D422-E1B3-4FEB-9D78-47FA67D8E84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shpDatum" descr="RO__vervolgpagina~LPP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9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25A3-4E92-48E1-A20F-4DF13B9BE38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0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1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C3AF-485A-4731-A236-F13437D431B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2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28CF-4567-45E3-BF4D-9CE640051AD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3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4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45C2-FC24-4532-801F-004AE5DD27D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1727280" y="5937120"/>
            <a:ext cx="36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Projectdirectie Voortijdig Schoolverlate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www.aanvalopschooluitval.n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ijdelijke aanduiding voor dianummer 2"/>
          <p:cNvSpPr/>
          <p:nvPr/>
        </p:nvSpPr>
        <p:spPr>
          <a:xfrm>
            <a:off x="685800" y="5937120"/>
            <a:ext cx="914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B129-4215-4943-92A7-5146C392D5E5}" type="slidenum">
              <a:rPr b="0" lang="en-US" sz="1200" spc="-1" strike="noStrike">
                <a:solidFill>
                  <a:srgbClr val="000000"/>
                </a:solidFill>
                <a:latin typeface="OCWTale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Afbeelding 4" descr="suzan.jpg"/>
          <p:cNvPicPr/>
          <p:nvPr/>
        </p:nvPicPr>
        <p:blipFill>
          <a:blip r:embed="rId1"/>
          <a:stretch/>
        </p:blipFill>
        <p:spPr>
          <a:xfrm>
            <a:off x="0" y="3344760"/>
            <a:ext cx="4576680" cy="35132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4594320" y="1757520"/>
            <a:ext cx="454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Blitz on dropouts</a:t>
            </a: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arja van Bijsterveldt-Vliegenthart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State Secretary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of Education, Culture and Scienc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russels, 9 July 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900079"/>
                </a:solidFill>
                <a:latin typeface="Verdana"/>
              </a:rPr>
              <a:t>The Golden Triangle</a:t>
            </a:r>
            <a:r>
              <a:rPr b="1" lang="nl-NL" sz="20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69360" y="2073240"/>
            <a:ext cx="7858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municip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ch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ll working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Agreements with schools and local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In 39 regions for the period 2008-2011 (convenants)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B066-9B67-4B59-B2F7-6652258150C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67B82C-36BA-4955-903A-3CBF41DC5E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Oval 3"/>
          <p:cNvSpPr/>
          <p:nvPr/>
        </p:nvSpPr>
        <p:spPr>
          <a:xfrm>
            <a:off x="6145200" y="4089240"/>
            <a:ext cx="1689120" cy="1606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1187280" y="4203720"/>
            <a:ext cx="1776600" cy="153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911760" y="1701720"/>
            <a:ext cx="1511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6"/>
          <p:cNvSpPr/>
          <p:nvPr/>
        </p:nvSpPr>
        <p:spPr>
          <a:xfrm rot="10800000">
            <a:off x="6411960" y="4691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162080" y="48625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5495760" y="2719440"/>
            <a:ext cx="103356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17"/>
          <p:cNvSpPr/>
          <p:nvPr/>
        </p:nvSpPr>
        <p:spPr>
          <a:xfrm flipH="1">
            <a:off x="2563920" y="2708280"/>
            <a:ext cx="128736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3171960" y="4941720"/>
            <a:ext cx="267804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FFF70-92D9-450E-BBB8-A6535EE628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Oval 3"/>
          <p:cNvSpPr/>
          <p:nvPr/>
        </p:nvSpPr>
        <p:spPr>
          <a:xfrm>
            <a:off x="6372360" y="4365720"/>
            <a:ext cx="151272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Oval 4"/>
          <p:cNvSpPr/>
          <p:nvPr/>
        </p:nvSpPr>
        <p:spPr>
          <a:xfrm>
            <a:off x="1187280" y="4365720"/>
            <a:ext cx="151308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924360" y="1413000"/>
            <a:ext cx="15112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Directs the ‘Drive to reduce school drop-out rate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6"/>
          <p:cNvSpPr/>
          <p:nvPr/>
        </p:nvSpPr>
        <p:spPr>
          <a:xfrm rot="10800000">
            <a:off x="6300360" y="465228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ary/pre- vocational secondary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187280" y="4724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916360" y="81288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ocial Affairs &amp; Employment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580000" y="1268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alth, Welfare &amp; Sport/ Youth &amp; Fami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724360" y="1844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651640" y="2349360"/>
            <a:ext cx="29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griculture, Nature &amp; Food Qua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3780000" y="2924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826920" y="126828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ousing, Communities &amp; Integration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1619280" y="18446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conomic aff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1258920" y="234936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terior &amp; Kingdom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5508720" y="2708280"/>
            <a:ext cx="1295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7"/>
          <p:cNvSpPr/>
          <p:nvPr/>
        </p:nvSpPr>
        <p:spPr>
          <a:xfrm flipH="1">
            <a:off x="2340000" y="2708280"/>
            <a:ext cx="151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6300720" y="3213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19"/>
          <p:cNvSpPr/>
          <p:nvPr/>
        </p:nvSpPr>
        <p:spPr>
          <a:xfrm>
            <a:off x="826920" y="30686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Education Ministry mandates responsibilities (covena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179280" y="3716280"/>
            <a:ext cx="878544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179280" y="3716280"/>
            <a:ext cx="8785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684360" y="378936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nicipal Executive Councillors for education/youth policy/RMC municipalities (administrative coordination)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108000" y="4149720"/>
            <a:ext cx="25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Drop-out Registration and Coordination Centre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50920" y="4005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324000" y="4797360"/>
            <a:ext cx="865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Work and Income/Employment and Assistance Act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4000" y="5950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Probation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2268360" y="558972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bt restructuring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28"/>
          <p:cNvSpPr/>
          <p:nvPr/>
        </p:nvSpPr>
        <p:spPr>
          <a:xfrm>
            <a:off x="2771640" y="49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29"/>
          <p:cNvSpPr/>
          <p:nvPr/>
        </p:nvSpPr>
        <p:spPr>
          <a:xfrm>
            <a:off x="2700360" y="50846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Housing corpor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2484360" y="414972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Attendance officer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3924360" y="42926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Urban Policy/Accre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3492360" y="458136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unicipalities Fund/own resourc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4716360" y="515772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egional Institute for Mental Health/Area Health Authority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5580000" y="429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Juvenile c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7451640" y="566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olice/Court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7093080" y="414972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Youth and Family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7956720" y="486900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38"/>
          <p:cNvSpPr/>
          <p:nvPr/>
        </p:nvSpPr>
        <p:spPr>
          <a:xfrm>
            <a:off x="2556000" y="595008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39"/>
          <p:cNvSpPr/>
          <p:nvPr/>
        </p:nvSpPr>
        <p:spPr>
          <a:xfrm flipH="1">
            <a:off x="5651640" y="5950080"/>
            <a:ext cx="72072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987640" y="638172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loyers/Employees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996344-28C3-462B-8AA4-25009270CD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494c5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50B2-E439-41EE-96F7-308EB268886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6F92CF-DF66-48B1-A233-8FAF3899FB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900079"/>
                </a:solidFill>
                <a:latin typeface="Arial"/>
              </a:rPr>
              <a:t>Agreements/Convenant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06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duce dropout rate with 10% every year until 2012’ (4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wn choice in methods to achieve objectives (men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operation between municipality and school and other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 of the gover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ing, monitoring and evalu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results in good practices and implement these in order to improve nation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0ED761-02BE-4AE0-963B-8F1E19515A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Arial"/>
              </a:rPr>
              <a:t>What are we going to do in the future?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New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inuing curr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haring goo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ECD: contribution resear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Overcoming School Failure”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commendation on Early School Leavers, by the 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847B6-67A4-4B6C-AA16-CBB93079A0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061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Introduction Early school leavers: objectives and key figures</a:t>
            </a:r>
            <a:r>
              <a:rPr b="0" lang="nl-NL" sz="22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12840" y="2111400"/>
            <a:ext cx="8061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sbon objective: reducing the number of early school-leavers between the ages of 18 and 24 from 15.5% in 2002 to approx. 10% in 2010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ional objective: reducing the number of early school-leavers : from 71.000 in 2002 (5,7%) to 35.000 in 2012 (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2B3C21-1DCB-4446-AC63-2E7800E6FB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0CC1-0333-455C-8D24-498DEDA13E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28E2-4F89-481A-8030-F486C5CCA27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Verdana"/>
              </a:rPr>
              <a:t>The results (national objective)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617400" y="2260440"/>
          <a:ext cx="7790040" cy="350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260440"/>
                    <a:ext cx="779004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9"/>
          <p:cNvSpPr/>
          <p:nvPr/>
        </p:nvSpPr>
        <p:spPr>
          <a:xfrm>
            <a:off x="3594240" y="5183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232240" y="5199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31D01D-DA01-4BAA-9FD9-EDDC0A6345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Results in international </a:t>
            </a: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perspectiv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out rate in 2008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: 15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: 11.4 %</a:t>
            </a:r>
            <a:br>
              <a:rPr sz="1800"/>
            </a:br>
            <a:br>
              <a:rPr sz="18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ource: Eurostat, 2009)</a:t>
            </a:r>
            <a:br>
              <a:rPr sz="1800"/>
            </a:br>
            <a:br>
              <a:rPr sz="1800"/>
            </a:br>
            <a:endParaRPr b="0" lang="en-US" sz="13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40082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F411-244D-40A8-9DA5-4D2FD58BCBE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shpPagina" descr=""/>
          <p:cNvPicPr/>
          <p:nvPr/>
        </p:nvPicPr>
        <p:blipFill>
          <a:blip r:embed="rId1"/>
          <a:stretch/>
        </p:blipFill>
        <p:spPr>
          <a:xfrm>
            <a:off x="4307040" y="-222120"/>
            <a:ext cx="4662360" cy="73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946729-6935-413B-8674-A9B6B0630C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71440" y="985680"/>
            <a:ext cx="816912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900079"/>
                </a:solidFill>
                <a:latin typeface="Verdana"/>
              </a:rPr>
              <a:t>Know the Numbers 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3828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tter registration, better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Introduction of ‘Education Number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roduction of ‘Digital Count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908187-0AB3-4EB6-BE6D-6933C6298F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061D-F68A-4C1B-A581-87DEA1A8912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6480" y="1233360"/>
            <a:ext cx="8561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Policies and Programs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2240" y="1716120"/>
            <a:ext cx="8575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transition from pre-vocational to vocational education (VMBO – 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ore scope for ‘practical-oriented student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career orientation and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ppealing education, with sports and 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.000 APL-programmes and agreement with large emplo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nd better care at school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FAA62C-7B9C-4398-89A4-D868C3A9C8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6840" y="1233000"/>
            <a:ext cx="3681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Focus on municipalities </a:t>
            </a: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in the Netherland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48" name="Picture 7" descr="C:\Users\Loesje\Desktop\vsv0809_gem1Eng.jpg"/>
          <p:cNvPicPr/>
          <p:nvPr/>
        </p:nvPicPr>
        <p:blipFill>
          <a:blip r:embed="rId1"/>
          <a:stretch/>
        </p:blipFill>
        <p:spPr>
          <a:xfrm>
            <a:off x="4289400" y="0"/>
            <a:ext cx="4854600" cy="687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54E98-C630-474E-8AA6-1AFB2F0E5D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6520" y="1245960"/>
            <a:ext cx="4016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Focus on the </a:t>
            </a:r>
            <a:br>
              <a:rPr sz="2300"/>
            </a:b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municipality of Amsterdam</a:t>
            </a:r>
            <a:r>
              <a:rPr b="0" lang="nl-NL" sz="23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51" name="Picture 7" descr="C:\Users\Loesje\Desktop\vsv0809_Amsterdam[1].jpg"/>
          <p:cNvPicPr/>
          <p:nvPr/>
        </p:nvPicPr>
        <p:blipFill>
          <a:blip r:embed="rId1"/>
          <a:stretch/>
        </p:blipFill>
        <p:spPr>
          <a:xfrm>
            <a:off x="2482920" y="1968480"/>
            <a:ext cx="6661080" cy="488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55DDFB-BEA4-43DF-82B5-25396FF094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0079"/>
                </a:solidFill>
                <a:latin typeface="Verdana"/>
              </a:rPr>
              <a:t>Monitoring and evaluation arrangements</a:t>
            </a:r>
            <a:r>
              <a:rPr b="0" lang="en-US" sz="2200" spc="-1" strike="noStrike">
                <a:solidFill>
                  <a:srgbClr val="2494c5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 effects with facts and figures: naming, shaming and f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dence based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verall design to measure th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5F78-C3AD-4BF3-ADE0-CFEAB898EEF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80BEA-AC5D-450F-9901-CD0C3015EA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8:56:33Z</dcterms:created>
  <dc:creator>Liselore Verschuren</dc:creator>
  <dc:description/>
  <dc:language>en-US</dc:language>
  <cp:lastModifiedBy>o011hou</cp:lastModifiedBy>
  <dcterms:modified xsi:type="dcterms:W3CDTF">2010-07-07T16:31:16Z</dcterms:modified>
  <cp:revision>129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785753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-837471163</vt:r8>
  </property>
</Properties>
</file>