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C198-8D5F-436E-BECB-6CD321487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2921-4E42-4870-B24D-4774E7ECF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6117-4D63-4AD6-9C0E-8C77D5AFA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55A3-8BF8-4974-973B-7A4552BCD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6501-821B-4F27-B4EF-A48321CB6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847F40-E90A-4C03-A21D-F949DB4E5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0E9F80-B881-4C9D-AB48-E8F351738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848027-1C0E-4BEC-BDD6-F43B4F0F0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6BB6B6-B183-4A77-9865-2A1E97053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C4AFEE-15A6-40BB-99F2-6CC8682DC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56FA-EB5E-4F1F-A9CC-D4A6058DC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AE6F80-5793-4A23-AB06-46D74B4A5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C9A311-D1CA-4075-BBD2-C0B8AE5E5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9F53F4-400B-49A7-8155-40F079B41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55FB4F-9597-492D-8A66-37B2209E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B00AFF-BB9C-43E3-A3AA-34486C54F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221888-157F-4821-8CE5-2C854E003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02F1DA-5E50-4863-AD51-FA86A42A7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7A7F-E4A6-4517-BD0B-8D984CAF6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28D0-364A-4448-A203-8B8C00564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4882-446B-4059-8D5C-A37E0416B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0A36-92DF-455C-9307-E50EF4E9C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658C-F7B3-44AD-B898-FC5B4B316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2682-0DA7-48B0-A929-9589B3CA7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bg_1.jpg"/>
          <p:cNvPicPr/>
          <p:nvPr/>
        </p:nvPicPr>
        <p:blipFill>
          <a:blip r:embed="rId2"/>
          <a:stretch/>
        </p:blipFill>
        <p:spPr>
          <a:xfrm>
            <a:off x="1440" y="14400"/>
            <a:ext cx="9141120" cy="6829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24800" y="61437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141D6-DE3B-47C5-9343-89D7DFAF347A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bg_2_beloldal.jpg"/>
          <p:cNvPicPr/>
          <p:nvPr/>
        </p:nvPicPr>
        <p:blipFill>
          <a:blip r:embed="rId2"/>
          <a:stretch/>
        </p:blipFill>
        <p:spPr>
          <a:xfrm>
            <a:off x="1440" y="14400"/>
            <a:ext cx="9141120" cy="68292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lide Number Placeholder 5"/>
          <p:cNvSpPr/>
          <p:nvPr/>
        </p:nvSpPr>
        <p:spPr>
          <a:xfrm>
            <a:off x="6740640" y="642132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19768-B698-47E4-B84B-90C1F1EE9250}" type="slidenum">
              <a:rPr b="0" lang="hu-HU" sz="1000" spc="-1" strike="noStrike">
                <a:solidFill>
                  <a:srgbClr val="a69765"/>
                </a:solidFill>
                <a:latin typeface="Times New Roman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bg_1.jpg"/>
          <p:cNvPicPr/>
          <p:nvPr/>
        </p:nvPicPr>
        <p:blipFill>
          <a:blip r:embed="rId2"/>
          <a:stretch/>
        </p:blipFill>
        <p:spPr>
          <a:xfrm>
            <a:off x="1440" y="14400"/>
            <a:ext cx="9141120" cy="6829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8"/>
          </p:nvPr>
        </p:nvSpPr>
        <p:spPr>
          <a:xfrm>
            <a:off x="6740640" y="60897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a69765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11DC1-1C08-4113-835F-4FB0ACF4B2A4}" type="slidenum">
              <a:rPr b="0" lang="hu-HU" sz="1000" spc="-1" strike="noStrike">
                <a:solidFill>
                  <a:srgbClr val="a69765"/>
                </a:solidFill>
                <a:latin typeface="Times New Roman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17808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’abandon scolaire précoce en Hongr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4076640"/>
            <a:ext cx="6400800" cy="20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Séminaire des Ministres de l’Enseignement obligatoi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Bruxelles, 9 Juillet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Rózsa Hoffmann Ph.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Secrétaire d’État chargée de</a:t>
            </a:r>
            <a:r>
              <a:rPr b="1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’Éducation Nationa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’importance de la réduction du taux d’abandon scolaire préco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L’expansion de l’éduc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Le probl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me des analphabètes fonctionn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2.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L’importance de la réduction du taux d’abandon scolaire 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préco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-  du point de vue économique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: un moyen important de la lutte contre la crise économique e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t le développement du capital humain, l’obtention d’un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e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qualification co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forme au marché du travail, l’amélioration de l’empolyabilit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- </a:t>
            </a:r>
            <a:r>
              <a:rPr b="0" lang="hu-HU" sz="2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du point de vue social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: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la réussite personnelle des individus, l’amélioration de la qualité de la vie humain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1341000"/>
            <a:ext cx="8291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0000ff"/>
                </a:solidFill>
                <a:latin typeface="Times New Roman"/>
              </a:rPr>
              <a:t>Les causes de l’abandon scolaire précoc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a pauvreté, la situation défavorisée et le milieu socioculturel bas qui en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décou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e fait de désavantager la culture et le savoir par rapport aux biens matérie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a  nécessité de gagner de l’argent plus tô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e manque de motivation à l’étu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e chômage de longue durée des par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es insuffisances structurelles, territoriales du système scolai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e caractère inintéressant des contenus 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transmi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par l’éco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l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e caractère inadapté des méthodes d’enseign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a perte du prestige des pédagogu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es problèmes de santé, mentaux ou d’autres problèmes des enfant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e fait de choisir trop tôt un compagnon/une compagne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4000" y="1280880"/>
            <a:ext cx="7810200" cy="99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ff"/>
                </a:solidFill>
                <a:latin typeface="Times New Roman"/>
              </a:rPr>
              <a:t>Données statistiques</a:t>
            </a:r>
            <a:br>
              <a:rPr sz="2800"/>
            </a:br>
            <a:br>
              <a:rPr sz="2800"/>
            </a:br>
            <a:r>
              <a:rPr b="1" lang="hu-HU" sz="2000" spc="-1" strike="noStrike">
                <a:solidFill>
                  <a:srgbClr val="0000ff"/>
                </a:solidFill>
                <a:latin typeface="Times New Roman"/>
              </a:rPr>
              <a:t>Le taux d’abandon scolaire préco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042920" y="2637000"/>
          <a:ext cx="7201080" cy="1295280"/>
        </p:xfrm>
        <a:graphic>
          <a:graphicData uri="http://schemas.openxmlformats.org/drawingml/2006/table">
            <a:tbl>
              <a:tblPr/>
              <a:tblGrid>
                <a:gridCol w="1657440"/>
                <a:gridCol w="3095640"/>
                <a:gridCol w="2448000"/>
              </a:tblGrid>
              <a:tr h="49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on européen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ngr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,5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3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9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,7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042920" y="4797360"/>
          <a:ext cx="7315200" cy="1457280"/>
        </p:xfrm>
        <a:graphic>
          <a:graphicData uri="http://schemas.openxmlformats.org/drawingml/2006/table">
            <a:tbl>
              <a:tblPr/>
              <a:tblGrid>
                <a:gridCol w="1657440"/>
                <a:gridCol w="2016000"/>
                <a:gridCol w="1824120"/>
                <a:gridCol w="1817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Él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s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â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és de 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 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Él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s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â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és de 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 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Él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s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â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és de 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 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>
            <a:off x="2484360" y="4292640"/>
            <a:ext cx="43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ff"/>
                </a:solidFill>
                <a:latin typeface="Times New Roman"/>
              </a:rPr>
              <a:t>Participation scol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341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ff"/>
                </a:solidFill>
                <a:latin typeface="Times New Roman"/>
              </a:rPr>
              <a:t>Mesures prises pour réduire le taux d’abandon scolaire précoce en Hongrie - 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Écoles maternel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L’admission obligatoire des enfants défavorisé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L’a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ugmentation du nombre de places dans les écoles maternelles, aide à la scolarisation à l’école maternelle, repas gratuits à l’école maternelle, possibilité d’organiser une école maternelle/crèche intégrée</a:t>
            </a:r>
            <a:r>
              <a:rPr b="1" lang="hu-H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Éco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Cours individuels pour assurer le rattrapage des é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</a:t>
            </a:r>
            <a:r>
              <a:rPr b="0" lang="hu-H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s en retar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éveloppement et introduction des méthodes d’enseignement intégr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laboration des programmes de formation et d’enseignement et des méthodologies d’enseignement, diffusion des bonnes pra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éation d’un réseau de soutien professionnel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rogrammes ciblés – Programme « Arany János » : programme de collège et d’école d’apprentissage pour les élèves</a:t>
            </a: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 souffrant de désavantages multiples,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rogrammes de type « seconde chance », aides au repas et à l’achat de livres scolair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34136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ff"/>
                </a:solidFill>
                <a:latin typeface="Times New Roman"/>
              </a:rPr>
              <a:t>Mesures prises pour réduire le taux d’abandon scolaire précoce en Hongrie – 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Dans le cas des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enfants ayant des besoins pédagogiques spécifiques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développement du contenu, aides ciblé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e nouveau gouvernement envisage d’élaborer et mettre en place dans l’ensemble du système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un modèle complexe de contrôle et d’appréciation professionnel</a:t>
            </a: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extérieur</a:t>
            </a: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dans l’enseignement 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pour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’amélioration du niveau et de l’efficacité de l’apprentiss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Écoles professionnel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ossibilité de participer dans l’éducation de rattrapage pour ceux qui n’ont pas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 achevé l’école primai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413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ff"/>
                </a:solidFill>
                <a:latin typeface="Times New Roman"/>
              </a:rPr>
              <a:t>Programmes et bonnes pratiques </a:t>
            </a:r>
            <a:br>
              <a:rPr sz="2400"/>
            </a:br>
            <a:r>
              <a:rPr b="1" lang="hu-HU" sz="2400" spc="-1" strike="noStrike">
                <a:solidFill>
                  <a:srgbClr val="0000ff"/>
                </a:solidFill>
                <a:latin typeface="Times New Roman"/>
              </a:rPr>
              <a:t>visant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à</a:t>
            </a:r>
            <a:r>
              <a:rPr b="1" lang="hu-H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réduire l’abandon scolaire préco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Programme Internats – Écoles Professionnelles Arany János pour élèves 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souffrant de désavantages multiples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: prog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soutenu par une orientation professionnelle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, coopération entre enseignants et parents et l’institution éducative, un environnement d’enseignement inclus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Programm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« 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Tanoda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»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services extrascolaires aux é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s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souffrant de désavantages et de désavantages multiples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ans les classes supérieures de l’école primaire, au collège et au lycé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Programme de développement des écoles professionnelles: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A: Renouvellement de l’enseignement du savoir général et professionn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B: Méthodolgie de l’enseignement professionn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C: Réintégration des é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s désavantagé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(+ enseignement de langues, mesure et évaluation des écoles professionnelles, orientation professionnelle, informatiqu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400" spc="-1" strike="noStrike">
                <a:solidFill>
                  <a:srgbClr val="0000ff"/>
                </a:solidFill>
                <a:latin typeface="Times New Roman"/>
              </a:rPr>
              <a:t>Merci pour votre attention!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5T13:49:13Z</dcterms:created>
  <dc:creator>Kori</dc:creator>
  <dc:description/>
  <dc:language>en-US</dc:language>
  <cp:lastModifiedBy>demeterd</cp:lastModifiedBy>
  <dcterms:modified xsi:type="dcterms:W3CDTF">2010-07-07T09:25:01Z</dcterms:modified>
  <cp:revision>2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53326723</vt:r8>
  </property>
  <property fmtid="{D5CDD505-2E9C-101B-9397-08002B2CF9AE}" pid="3" name="_AuthorEmail">
    <vt:lpwstr>education@mci-group.com</vt:lpwstr>
  </property>
  <property fmtid="{D5CDD505-2E9C-101B-9397-08002B2CF9AE}" pid="4" name="_AuthorEmailDisplayName">
    <vt:lpwstr>MCI Education</vt:lpwstr>
  </property>
  <property fmtid="{D5CDD505-2E9C-101B-9397-08002B2CF9AE}" pid="5" name="_EmailSubject">
    <vt:lpwstr>Seminar for Compulsory Education</vt:lpwstr>
  </property>
  <property fmtid="{D5CDD505-2E9C-101B-9397-08002B2CF9AE}" pid="6" name="_NewReviewCycle">
    <vt:lpwstr/>
  </property>
  <property fmtid="{D5CDD505-2E9C-101B-9397-08002B2CF9AE}" pid="7" name="_PreviousAdHocReviewCycleID">
    <vt:r8>1320732215</vt:r8>
  </property>
</Properties>
</file>