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2FA6B9-B196-4016-89F3-1A89624EDF8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4E8692-834E-4215-9B5A-CF33EB50889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B21EBD-CD01-4E97-8BC2-254BAB6A7C4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D26444-9C4E-41D3-9B89-3EDD0288615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134-C540-4B67-9C6F-7E6D9EED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C8D-59A4-43EA-93B2-F18C032F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AA8-F1BB-42F4-BD50-B731137D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244-2DF8-4D79-98F5-CC3813A7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0F5-ADCC-4022-9DCE-07749C57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B40-635E-4AD6-ABB9-8B311F78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FE9-1758-44E7-BDD3-02A95D35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69B-6ABC-41F1-B6B1-DAB73D4C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5AA-35C7-472D-A807-97D6D0EC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A72-8C22-4AF6-A7BF-A1FECD3B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12C-382D-4390-961E-31A3C7B1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B5D-B73A-4D4B-B331-C80911A1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70B5-AFC0-49A3-A927-985BB17F14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2EFC-1C4A-4BE8-9957-829FA3D37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8A9-9D21-462F-912E-BE37A817DF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6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year-old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literacy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differences of stud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between schools (it concerns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nationa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(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E4F-21EA-4E0C-9BF5-B4A7015F69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are still large differences between schools at the level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 in the structure of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good development of key competences 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1B4-583B-4A50-8232-424599AB0A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the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s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3BF-2A72-4D0C-9AF4-2B821D6233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in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3E0-11AE-40CD-98CC-60FC47A5DD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02D-79F1-4C21-BBD3-915BCB60D2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797A-0C0D-4BEE-8470-7BAA570DE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19E-1E1E-4406-B15D-938AD9CCE2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mprehensive approach to planned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weakest students’ competences (revealed in PISA research in 2000-2003) that results from disclosure of these students’ capabilities 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the weak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researches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D37-3325-4516-826F-7FD1DF1265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ssibly identic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eneral education but it should be realize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862-7B55-4037-B11A-09C1BD13E0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88C-F6C0-46FA-A82B-015B963F95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F07-BE4B-46B0-9B1A-0AE3DC9BCE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reading achievements of 15-year-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etween-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 differ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reading literacy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achievements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average results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8BE-88AC-4896-AB92-1E1F556065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 in reading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achievements in reading literacy of 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lowest achie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797-8E11-47F6-AC5A-C96B4F6535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7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9CE-A4FE-4B6B-AE12-8200A0BF02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fessional 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674-7847-460C-9CAF-637B656FAC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956C-B94D-42B0-9781-239A39592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comprehensive)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655-C563-472E-A4CA-7C5C7964C5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between-school 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2060280"/>
            <a:ext cx="507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bilit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 between schools 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Di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fference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5D7-32EC-4C7C-B449-BE70810534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5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year-old </a:t>
            </a:r>
            <a:br>
              <a:rPr sz="2600"/>
            </a:b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differen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chievements of student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ifferences c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FA4-2DDD-41CB-90A1-CB8A8903DF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8T12:58:10Z</dcterms:modified>
  <cp:revision>196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5341322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952462772</vt:r8>
  </property>
</Properties>
</file>