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ABACFE-AFFB-4EB4-8F44-1B18704D95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1FDC5-6826-4E82-B029-F852416A069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16754-7FEA-4B01-905A-5FEF2BE332E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2157E-F1B3-496F-9097-8ED219F1B76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2DE-4ABF-4048-A145-4F6F8C2B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704-3391-4A51-845A-5C358D46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AA49-1FD5-46D4-BD7D-836433E4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323-9F3C-4E6E-88FD-1DE93C45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BE02-9B2C-4F17-911B-5B889B10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348-2A28-4543-BDC8-6A40B2DC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36A-2BA9-4F72-BFE7-808EBEB9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980-5721-42BB-AA7A-2CF5BA7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140-6143-497C-AF91-40055505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048-48EB-4C1B-AF60-E5D0C3BF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876-4763-497E-AC0C-D0D9BE4C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760-B687-4FF8-9BC5-38EA149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F286-F491-43F0-A104-1852958A03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1378-6341-4242-9505-8A69D93BD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416-8823-4492-BB2D-846BAA8D59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6- and 17-year-olds’ performance in reading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between schools (it concern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l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nationa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86F-5701-43AF-A7F9-16C1AD9E51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til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lar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student performanc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tween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development of key competence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E4C-C5BC-457C-BA27-DC32030F89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146-9093-45AB-B7B9-E3BA9F29F8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A9B-5098-48DC-A9A8-FC7209E900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2934-60EE-4B40-B2A9-F7FF0D4030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D9C6-F273-4122-8C43-2BF7F0B9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2B0-E610-4B04-B0A3-BE6801FDC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rehensive approach to planned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tudents (revealed in PISA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) that results from disclosure of these students’ capabiliti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rogramm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A33-6B76-4155-926B-CEEF09F81C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comprehensiv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ducation but it should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arried ou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3C5-6812-4693-9401-02F2FACD9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C2E-1E22-4FBE-946C-AA801990B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between school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F45-5BD4-4D1D-BD0B-433CFB0E53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mean 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highes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student performance between 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n UE and OECD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 and OECD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Mean performanc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A0E-ABC1-411F-95F9-40FE9918A8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reading 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 i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 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and OECD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ach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8D15-60D3-4704-B0BA-F677F8F33E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EE09-58D6-4F53-8E30-D3BC7EC1DA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-servi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EFF-7E28-4529-8B22-6DFCF509EF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2D6B-7FD0-4775-827B-E6E1FE91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comprehensive compulsor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294-B0E9-4AA9-A15F-63921D6E9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in variance in student performanc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      between schools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113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 in student performance between school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 in 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ariance in student performance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070-3353-4BC0-A8D3-D68DEB7A0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5-year-olds’ performance in reading         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is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15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F80-CC9B-4657-9F6F-473C64C0B9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tanislaw.drzazdzews</cp:lastModifiedBy>
  <dcterms:modified xsi:type="dcterms:W3CDTF">2010-07-14T10:39:35Z</dcterms:modified>
  <cp:revision>226</cp:revision>
  <dc:subject/>
  <dc:title>Prezentacja programu PowerPoint</dc:title>
</cp:coreProperties>
</file>