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AA2E8-8186-4264-B95D-A0B148163D06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ymbol zastępczy numeru slajd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499DF-09AB-461B-9353-5D01368B6E3F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018B0-D980-477E-BC7C-613E122F3405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ymbol zastępczy numeru slajd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08B2A-96EE-42E1-B1AB-59296C7DF32F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2F68-E806-42A1-BBC1-8B06BD925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174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94B6-6B07-4399-9E05-7316D6389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174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174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9C26-D7C4-44F6-8289-2AADEBD8B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3492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3492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174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174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174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0B2C-0819-4160-BFD0-19D984B06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609D-154A-4F3A-AF4C-8CF2B434E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F96A-AEDC-4E5B-8A55-07235BE64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8B5F-358B-4E8C-B267-D255676C1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A504-DDC1-4154-92F6-E747E19CA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E47A-D94D-46A5-9F9A-6B93FBC65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174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B82F-8316-4B1C-9049-358CD102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174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3A9C-DDD3-455C-A0E2-30A89979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174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8B1D-E566-47B2-8482-EC9943C1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PREZENTACJA_SLAJDY"/>
          <p:cNvPicPr/>
          <p:nvPr/>
        </p:nvPicPr>
        <p:blipFill>
          <a:blip r:embed="rId2"/>
          <a:stretch/>
        </p:blipFill>
        <p:spPr>
          <a:xfrm>
            <a:off x="0" y="0"/>
            <a:ext cx="9144000" cy="1068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343080" indent="-343080" algn="ctr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73737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73737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73737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BE936-9AB0-4110-AADA-44EA22416B4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58CBA-86FC-4346-9888-80F675B3F7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Picture 10" descr="KIW_MEN"/>
          <p:cNvPicPr/>
          <p:nvPr/>
        </p:nvPicPr>
        <p:blipFill>
          <a:blip r:embed="rId4"/>
          <a:stretch/>
        </p:blipFill>
        <p:spPr>
          <a:xfrm>
            <a:off x="2486160" y="6205680"/>
            <a:ext cx="4190760" cy="57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glowna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0" y="3573360"/>
            <a:ext cx="9144000" cy="3284640"/>
          </a:xfrm>
          <a:prstGeom prst="rect">
            <a:avLst/>
          </a:prstGeom>
          <a:solidFill>
            <a:srgbClr val="003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5157360"/>
            <a:ext cx="914400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minarium ministrów edukacji na temat obowiązkowego kształcenia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uksela, 9 lipca 2010 r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3505320" y="56386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0" y="3357720"/>
            <a:ext cx="91440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zwijanie kompetencji młodzieży w Polsc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– doświadczenia i perspektyw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ymbol zastępczy numeru slajdu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10C0F-B865-4FE6-808B-40ED1B34ED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Różnice między szkołami w osiągnięciach </a:t>
            </a:r>
            <a:br>
              <a:rPr sz="2800"/>
            </a:b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polskich 16- i 17-latków w czytaniu w roku 2006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427280" y="1412640"/>
            <a:ext cx="4392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W polskich szkołach na poziomie ISCED 3 (dla uczniów 16-letnich i starszych) nadal utrzymują się duże różnice osiągnięć uczniów między szkołami (dotyczy to wszystkich kompetencji badanych w PISA)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W zasadniczych szkołach zawodowych, do których </a:t>
            </a:r>
            <a:r>
              <a:rPr b="0" lang="pl-PL" sz="1800" spc="-1" strike="noStrike">
                <a:solidFill>
                  <a:srgbClr val="d97300"/>
                </a:solidFill>
                <a:latin typeface="Arial"/>
              </a:rPr>
              <a:t>przyjmowano 18% uczniów,  około 60% z nich należało do kategorii najsłabszych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uczniów (low achievers)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Występuje koncentracja najsłabszych uczniów w szkołach zasadniczych </a:t>
            </a:r>
            <a:br>
              <a:rPr sz="1800"/>
            </a:b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 najlepszych – w liceach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21" name="Rectangle 3"/>
          <p:cNvGraphicFramePr/>
          <p:nvPr/>
        </p:nvGraphicFramePr>
        <p:xfrm>
          <a:off x="0" y="1892160"/>
          <a:ext cx="4356000" cy="41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92160"/>
                    <a:ext cx="4356000" cy="41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Text Box 5"/>
          <p:cNvSpPr/>
          <p:nvPr/>
        </p:nvSpPr>
        <p:spPr>
          <a:xfrm>
            <a:off x="71280" y="1413000"/>
            <a:ext cx="450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37373"/>
                </a:solidFill>
                <a:latin typeface="Arial"/>
              </a:rPr>
              <a:t>Procent uczniów według poziomów kompetencji czytania PISA 2006 opcja krajowa (badanie 16- i 17-latków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16CA0-23DC-49AA-84B0-5257B2BEDE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Problemy rozwoju kluczowych kompetencji </a:t>
            </a:r>
            <a:br>
              <a:rPr sz="2800"/>
            </a:b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w szkolnictwie zawodowym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Obecnie 16- i 17-latki nadal uczęszczają do podobnego rodzaju szkół na poziomie ISCED-3 jak przed reformą z 1999 roku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W strukturze szkolnictwa na poziomie ISCED 3 między szkołami nadal zachowane są duże różnice, które udało się skutecznie ograniczyć na poziomie ISCED 2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Ponadto widoczny jest brak dobrego rozwoju kompetencji kluczowych w niektórych typach szkół na poziomie ISCED 3        – szczególnie w szkołach zawodowych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0F597-69F0-49AB-861D-03CCA9FC0C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Kontynuacja reformy systemu edukacji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Prace nad kompleksową i spójną strategią LLL: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rząd RP przyjął w listopadzie 2009 r. plan uporządkowania wszystkich strategii krajowych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zarządzeniem premiera w lutym 2010 r. utworzony został międzyresortowy zespół do spraw LLL, w tym KRK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Polska odnosi istotne sukcesy w zakresie edukacji formalnej </a:t>
            </a:r>
            <a:br>
              <a:rPr sz="2000"/>
            </a:b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– dowodem są między innymi wyniki badań PISA oraz osiągnięcia Polski w zakresie 4 z 5 wskaźników programu „Edukacja i szkolenie 2010”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jednocześnie Polska ma słabe osiągnięcia poza tradycyjnym okresem kształcenia szkolnego, tj. w upowszechnieniu wychowania przedszkolnego i w uczeniu się dorosłych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zadaniem strategii LLL będzie zrównoważenie osiągnięć Polski w całym obszarze LL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2D76F-082A-49C5-84B2-7C14E05B83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Korekta programowa dziesięć lat później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Kontynuacja kompleksowej reformy systemu edukacji z roku 1999: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eforma programowa wychowania przedszkolnego i kształcenia ogólnego wdrażana od 2009 r., oparta na efektach kształcenia,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j. podejściu promowanym w europejskich ramach kwalifikacji (EQF)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bniżenie wieku obowiązkowego przygotowania przedszkolnego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(od 5. roku życia) połączone z upowszechnieniem wychowania przedszkolnego i obniżeniem wieku rozpoczynania obowiązku szkolnego (od 6. roku życia)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rzygotowywanie modernizacji kształcenia i szkolenia zawodowego opartej na nowym podejściu do kwalifikacji zawodowych. zgodnym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z europejskim systemem transferu osiągnięć w kształceniu i szkoleniu zawodowym (ECVET)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rzygotowywanie zmian w szkołach i ich otoczeniu, wspierających proces indywidualizacji pracy z uczniami, zwłaszcza z uczniami mającymi trudności w nauce oraz z uczniami zdolnymi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8EDC4-1DF4-4E7F-AC1B-DAF2218168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Plan zmian rozpisany na lata szkolne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95280" y="1281240"/>
          <a:ext cx="8291520" cy="3878280"/>
        </p:xfrm>
        <a:graphic>
          <a:graphicData uri="http://schemas.openxmlformats.org/drawingml/2006/table">
            <a:tbl>
              <a:tblPr/>
              <a:tblGrid>
                <a:gridCol w="2016000"/>
                <a:gridCol w="2089440"/>
                <a:gridCol w="1800000"/>
                <a:gridCol w="1150920"/>
                <a:gridCol w="1235160"/>
              </a:tblGrid>
              <a:tr h="455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ok szkolny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e77817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Zreformowane nauczanie w klasach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e7781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09/201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SP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Gimnazjum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0/201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SP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Gimnazjum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1/201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SP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Gimnazjum</a:t>
                      </a:r>
                      <a:r>
                        <a:rPr b="0" lang="en-US" sz="20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egzamin gimnazjalny dostosowany do nowej podstawy programowej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gradFill rotWithShape="0">
                      <a:gsLst>
                        <a:gs pos="0">
                          <a:srgbClr val="ffae84"/>
                        </a:gs>
                        <a:gs pos="100000">
                          <a:srgbClr val="ffe5db"/>
                        </a:gs>
                      </a:gsLst>
                      <a:lin ang="27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2/201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VSP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L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T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ZSZ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3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3/201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V SP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L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T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ZSZ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71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4/201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VI SP</a:t>
                      </a:r>
                      <a:r>
                        <a:rPr b="0" lang="en-US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sprawdzian dostosowany do nowej podstawy programowej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gradFill rotWithShape="0">
                      <a:gsLst>
                        <a:gs pos="0">
                          <a:srgbClr val="ffae84"/>
                        </a:gs>
                        <a:gs pos="100000">
                          <a:srgbClr val="ffe5db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L</a:t>
                      </a:r>
                      <a:r>
                        <a:rPr b="0" lang="en-US" sz="20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matura dostosowana do nowej podstawy programowej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gradFill rotWithShape="0">
                      <a:gsLst>
                        <a:gs pos="0">
                          <a:srgbClr val="ffae84"/>
                        </a:gs>
                        <a:gs pos="100000">
                          <a:srgbClr val="ffe5db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T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ZSZ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3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5/2016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V T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6" name="Text Box 56"/>
          <p:cNvSpPr/>
          <p:nvPr/>
        </p:nvSpPr>
        <p:spPr>
          <a:xfrm>
            <a:off x="1187280" y="5445000"/>
            <a:ext cx="6769440" cy="559080"/>
          </a:xfrm>
          <a:prstGeom prst="rect">
            <a:avLst/>
          </a:prstGeom>
          <a:solidFill>
            <a:srgbClr val="0030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P – szkoła podstawowa, L – liceum, T – technikum,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ZSZ – zasadnicza szkoła zawodow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5C1EB-47EB-42C1-BB14-1FD71544AA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Symbol zastępczy numeru slajd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18E75-09B6-4C2A-8128-B0AA8627BC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Kalendarium zmian w systemie egzaminów potwierdzających kwalifikacje zawodowe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79280" y="1371600"/>
          <a:ext cx="8713800" cy="4611600"/>
        </p:xfrm>
        <a:graphic>
          <a:graphicData uri="http://schemas.openxmlformats.org/drawingml/2006/table">
            <a:tbl>
              <a:tblPr/>
              <a:tblGrid>
                <a:gridCol w="1728720"/>
                <a:gridCol w="3384720"/>
                <a:gridCol w="3600360"/>
              </a:tblGrid>
              <a:tr h="57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k szkolny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e1700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gzaminy potwierdzające kwalifikacje zawodowe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e17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1/201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Egzaminy na dotychczasowych zasadach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2/201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gzaminy na dotychczasowych zasadach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3737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twierdzanie wyodrębnionych kwalifikacji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05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3/201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gzaminy na dotychczasowych zasadach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3737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twierdzanie wyodrębnionych kwalifikacji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05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4/201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gzaminy na dotychczasowych zasadach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3737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twierdzanie wyodrębnionych kwalifikacji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05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5/2016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gzaminy na dotychczasowych zasadach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73737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twierdzanie wyodrębnionych kwalifikacji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00305c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6/2017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Potwierdzanie wyodrębnionych kwalifikacji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7/2018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Potwierdzanie wyodrębnionych kwalifikacji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2D1C3-6C41-44F1-8409-473C0052E8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Jakie wnioski można wyciągnąć z doświadczeń Polski </a:t>
            </a:r>
            <a:br>
              <a:rPr sz="2800"/>
            </a:b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w zakresie rozwoju kompetencji młodzieży?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569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Kompleksowe podejście do planowanych zmian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w Polsce wdrożona została w roku 1999 jedna z najszerzej zakrojonych reform edukacyjnych w państwach UE i OECD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mimo, że obecnie wymaga ona korekt, okazała się skuteczna dzięki kompleksowemu podejściu do zmian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Lepsze wykorzystanie ukrytych potencjałów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znacząca poprawa kompetencji najsłabszych uczniów w Polsce, odkryta w badaniach PISA w latach 2000-2003, wynika z ujawnienia potencjału tych uczniów w nowym typie szkół (gimnazjum)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jest prawdopodobne, że potencjał najsłabszych uczniów nie był wystarczająco rozwijany w szkołach, które grupowały niemal wyłącznie słabych uczniów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Potrzebna korekta programowa i systemowa – rozpisana na wiele kolejnych lat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wyniki różnych badań międzynarodowych (jak PISA, TIMSS/PIRLS, TALIS, TEDS-M, PIAAC) były, są lub będą wykorzystywane w planowaniu kolejnych zmian w edukacji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zmianie programowej rozpoczętej od września 2009 roku towarzyszy wiele innych zmian systemowych, których efekty będzie można również dostrzec dopiero po wielu latach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7F13D-5885-45B2-98AF-B3D5E72C68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9280" y="76320"/>
            <a:ext cx="87854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Jakie wnioski wyciąga Polska ze swoich doświadczeń w zakresie rozwoju kompetencji młodzieży?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351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becnie wprowadzane zmiany programowe mają zapewnić lepsze efekty kształcenia ogólnego w szkołach ponadgimnazjalnych, bez wprowadzenia jednak istotnych zmian strukturalnych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Przyjmuje się, że istnieje potrzeba wydłużenia okresu obowiązkowego – możliwie jednakowego – kształcenia ogólnego, </a:t>
            </a:r>
            <a:br>
              <a:rPr sz="2000"/>
            </a:b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le prowadzonego w sposób bardziej zindywidualizowany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W Polsce istnieje bardzo silna tradycja dokonywania wyboru między kształceniem w liceum ogólnokształcącym a przygotowaniem zawodowym w technikum lub szkole zasadniczej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Zakładana jest ewolucyjna zmiana strukturalna związana ze zmianami w kształceniu zawodowym mającymi na celu stopniowe upowszechnianie nabywania kwalifikacji zawodowych w elastycznych formach kursowych zamiast w szkołach różnych typów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78FD5-50B8-40FF-8A15-CA553DC0E5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Wstępne zaproszenie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W listopadzie 2011 r., podczas polskiej Prezydencji w Radzie UE, planowana jest międzynarodowa konferencja </a:t>
            </a:r>
            <a:br>
              <a:rPr sz="2000"/>
            </a:b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pod roboczą nazwą: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Skuteczność polityki edukacyjnej na rzecz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rozwoju kompetencji kluczowych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Będzie to okazja do szerszej debaty na ten temat.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Wstępnie zapraszam Państwa na tę konferencję. </a:t>
            </a:r>
            <a:br>
              <a:rPr sz="2000"/>
            </a:b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Oficjalne zaproszenia zostaną wysłane jesienią bieżącego roku.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96DB5-1631-4F93-8EC0-ACD9FAD4DA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Porządek prezentacji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Główne odkrycia programu PISA w Polsce dotyczące kompetencji  młodzieży (15-latków):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9200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oprawa kompetencji – zwłaszcza w zakresie czytania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9200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zmniejszenie różnic między szkołami w osiągnięciach uczniów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roblemy rozwoju kompetencji starszych uczniów (16- i 17-latków)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olityka, która przyczyniła się do osiągnięć ujawnionych w Polsce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w programie PISA: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9200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eformy rządu Jerzego Buzka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9200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kompleksowa reforma systemu edukacji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Kontynuacja reformy systemu edukacji i prace nad strategią LLL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Jakie wnioski można wyciągnąć z polskich doświadczeń w zakresie rozwoju kompetencji młodzieży?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ymbol zastępczy numeru slajdu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83C26-EE86-491A-9BEE-D90F0FAFC5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Poprawa kompetencji polskich 15-latków (PISA)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60" name="Rectangle 3"/>
          <p:cNvGraphicFramePr/>
          <p:nvPr/>
        </p:nvGraphicFramePr>
        <p:xfrm>
          <a:off x="177840" y="1844640"/>
          <a:ext cx="4267080" cy="444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1844640"/>
                    <a:ext cx="4267080" cy="444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43280" y="1773000"/>
            <a:ext cx="4105440" cy="45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W Polsce w latach 2000-2006 nastąpił największy w UE wzrost osiągnięć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15-latków w czytaniu (w OECD jedynie w Korei Płd. odnotowano wzrost nieco większy).</a:t>
            </a:r>
            <a:br>
              <a:rPr sz="1800"/>
            </a:b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W latach 2000-2003 wzrosły przede wszystkim kompetencje uczniów słabych i najsłabszych (co można łączyć z największym w UE i OECD spadkiem różnic między szkołami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w osiągnięciach uczniów).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W latach 2003-2006 wzrosły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w większym stopniu kompetencje uczniów dobrych i najlepszych.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250920" y="1197000"/>
            <a:ext cx="88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Osiągnięcia polskich 15-latków w czytaniu na tle UE w latach 2000-2006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826920" y="1773360"/>
            <a:ext cx="34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Średnie wyniki w skali PIS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ymbol zastępczy numeru slajdu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6B16D-020E-496E-A370-A8255D3AB5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Poprawa kompetencji polskich 15-latków (PISA)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pic>
        <p:nvPicPr>
          <p:cNvPr id="67" name="Rectangle 3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3819600" cy="40129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47960" y="1844640"/>
            <a:ext cx="3809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W Polsce w latach 2000-2006 nastąpiło bardzo znaczące zmniejszenie liczby słabych uczniów w czytaniu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W Polsce tego rodzaju zmiana dotyczy nie tylko czytania, ale także matematyki i nauk przyrodniczych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179280" y="1197000"/>
            <a:ext cx="89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Osiągnięcia polskich 15-latków w czytaniu na tle UE w latach 2000-2006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826920" y="1773360"/>
            <a:ext cx="34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Procent najsłabszych uczniów</a:t>
            </a:r>
            <a:br>
              <a:rPr sz="1800"/>
            </a:br>
            <a:r>
              <a:rPr b="0" lang="pl-PL" sz="1400" spc="-1" strike="noStrike">
                <a:solidFill>
                  <a:srgbClr val="616365"/>
                </a:solidFill>
                <a:latin typeface="Arial"/>
              </a:rPr>
              <a:t>(low achievers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59CC8-7EE8-42DD-9CE9-80851B811A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Kompleksowe reformy rządu Jerzego Buzka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280360" cy="45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Reforma systemu edukacji rozpoczęta w roku 1999 była jedną </a:t>
            </a:r>
            <a:br>
              <a:rPr sz="2000"/>
            </a:b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z czterech reform prowadzonych przez rząd Jerzego Buzka, które sprzyjały przygotowaniu Polski do wejścia do UE: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pozostałe reformy dotyczyły systemów: administracji publicznej, ochrony zdrowia, zabezpieczeń społecznych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w efekcie reform władze samorządowe stały się odpowiedzialne </a:t>
            </a:r>
            <a:br>
              <a:rPr sz="2000"/>
            </a:b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za zdecydowaną większość zadań edukacyjnych i są w tym obszarze realnym partnerem administracji rządowej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F733B-F8D2-4374-9098-F5BBC8FCAE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Kompleksowa reforma systemu edukacji </a:t>
            </a:r>
            <a:br>
              <a:rPr sz="2800"/>
            </a:b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rządu Jerzego Buzka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989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Kompleksowa reforma systemu edukacji objęła jednocześnie: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przekazanie władzom lokalnym szkół wraz ze środkami finansowymi na ich prowadzenie, powiązanymi z liczbą uczniów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zmianę struktury szkolnictwa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reformę programową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reformę systemu oceny osiągnięć uczniów, w tym wprowadzenie systemu egzaminów zewnętrznych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racjonalizację sieci szkolnej, zwłaszcza na obszarach wiejskich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modernizację wyposażenia szkół, szczególnie w zakresie nowych technologii informacyjnych i komunikacyjnych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wdrożenie systemu awansu zawodowego nauczycieli i nowego systemu ich wynagradzania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upowszechnienie doskonalenia zawodowego nauczycieli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C7C12-E278-4441-9A7E-4B715105E3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Zmiana struktury szkolnictwa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7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Zmiany wprowadzane od roku 1999 – utworzenie szkoły na poziomie ISCED 2 oraz przedłużenie o rok obowiązkowego kształcenia ogólnego (dotyczy to 15-latków)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80" name="Text Box 20"/>
          <p:cNvSpPr/>
          <p:nvPr/>
        </p:nvSpPr>
        <p:spPr>
          <a:xfrm>
            <a:off x="539640" y="4005360"/>
            <a:ext cx="8448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1200" spc="-1" strike="noStrike">
                <a:solidFill>
                  <a:srgbClr val="616365"/>
                </a:solidFill>
                <a:latin typeface="Arial"/>
                <a:ea typeface="Arial"/>
              </a:rPr>
              <a:t>ISCED 0                                         ISCED 1                                 ISCED 2                         ISCED 3</a:t>
            </a:r>
            <a:r>
              <a:rPr b="0" i="1" lang="en-US" sz="1800" spc="-1" strike="noStrike">
                <a:solidFill>
                  <a:srgbClr val="616365"/>
                </a:solidFill>
                <a:latin typeface="Arial"/>
                <a:ea typeface="Arial"/>
              </a:rPr>
              <a:t>             </a:t>
            </a:r>
            <a:r>
              <a:rPr b="0" i="1" lang="en-US" sz="1200" spc="-1" strike="noStrike">
                <a:solidFill>
                  <a:srgbClr val="616365"/>
                </a:solidFill>
                <a:latin typeface="Arial"/>
              </a:rPr>
              <a:t>ISCED 4-6</a:t>
            </a:r>
            <a:r>
              <a:rPr b="0" i="1" lang="en-US" sz="1200" spc="-1" strike="noStrike">
                <a:solidFill>
                  <a:srgbClr val="616365"/>
                </a:solidFill>
                <a:latin typeface="Arial"/>
                <a:ea typeface="Arial"/>
              </a:rPr>
              <a:t>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16365"/>
                </a:solidFill>
                <a:latin typeface="Arial"/>
                <a:ea typeface="Arial"/>
              </a:rPr>
              <a:t>3        4        5        6        7       8       9       10       11       12       13       14       15      16       17       18       19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541440" y="2197080"/>
            <a:ext cx="83851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i="1" lang="en-US" sz="1200" spc="-1" strike="noStrike">
                <a:solidFill>
                  <a:srgbClr val="616365"/>
                </a:solidFill>
                <a:latin typeface="Arial"/>
                <a:ea typeface="Arial"/>
              </a:rPr>
              <a:t>ISCED 0                                  ISCED 1-2                                                        ISCED 3                         </a:t>
            </a:r>
            <a:r>
              <a:rPr b="0" i="1" lang="en-US" sz="1200" spc="-1" strike="noStrike">
                <a:solidFill>
                  <a:srgbClr val="616365"/>
                </a:solidFill>
                <a:latin typeface="Arial"/>
              </a:rPr>
              <a:t>ISCED 4-6</a:t>
            </a:r>
            <a:r>
              <a:rPr b="0" i="1" lang="en-US" sz="1200" spc="-1" strike="noStrike">
                <a:solidFill>
                  <a:srgbClr val="616365"/>
                </a:solidFill>
                <a:latin typeface="Arial"/>
                <a:ea typeface="Arial"/>
              </a:rPr>
              <a:t>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16365"/>
                </a:solidFill>
                <a:latin typeface="Arial"/>
                <a:ea typeface="Arial"/>
              </a:rPr>
              <a:t>3        4        5        6        7        8        9       10       11       12       13      14      15      16       17       18      19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612720" y="4581360"/>
            <a:ext cx="1738440" cy="384480"/>
          </a:xfrm>
          <a:prstGeom prst="rect">
            <a:avLst/>
          </a:prstGeom>
          <a:solidFill>
            <a:srgbClr val="e17000"/>
          </a:solidFill>
          <a:ln w="9360">
            <a:solidFill>
              <a:srgbClr val="e1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2351160" y="4581360"/>
            <a:ext cx="2403360" cy="384480"/>
          </a:xfrm>
          <a:prstGeom prst="rect">
            <a:avLst/>
          </a:prstGeom>
          <a:solidFill>
            <a:srgbClr val="00305c"/>
          </a:solidFill>
          <a:ln w="9360">
            <a:solidFill>
              <a:srgbClr val="003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4730760" y="4581360"/>
            <a:ext cx="1504800" cy="384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6257880" y="4581360"/>
            <a:ext cx="1435320" cy="384480"/>
          </a:xfrm>
          <a:prstGeom prst="rect">
            <a:avLst/>
          </a:prstGeom>
          <a:solidFill>
            <a:srgbClr val="0066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ff"/>
                </a:solidFill>
                <a:latin typeface="Arial"/>
              </a:rPr>
              <a:t>LICEUM </a:t>
            </a: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(upper secondary general)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6227640" y="4971960"/>
            <a:ext cx="1800360" cy="43344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6227640" y="5405400"/>
            <a:ext cx="1436760" cy="576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2341440" y="4630680"/>
            <a:ext cx="2497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ff"/>
                </a:solidFill>
                <a:latin typeface="Arial"/>
                <a:ea typeface="Arial"/>
              </a:rPr>
              <a:t>SZKOŁA PODSTAWOWA</a:t>
            </a:r>
            <a:r>
              <a:rPr b="0" lang="pl-PL" sz="11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pl-PL" sz="1000" spc="-1" strike="noStrike">
                <a:solidFill>
                  <a:srgbClr val="ffffff"/>
                </a:solidFill>
                <a:latin typeface="Arial"/>
                <a:ea typeface="Arial"/>
              </a:rPr>
              <a:t>(primary)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4716360" y="4581360"/>
            <a:ext cx="16416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ff"/>
                </a:solidFill>
                <a:latin typeface="Arial"/>
                <a:ea typeface="Arial"/>
              </a:rPr>
              <a:t>GIMNAZJUM  </a:t>
            </a:r>
            <a:r>
              <a:rPr b="0" lang="pl-PL" sz="11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0" lang="pl-PL" sz="1000" spc="-1" strike="noStrike">
                <a:solidFill>
                  <a:srgbClr val="ffffff"/>
                </a:solidFill>
                <a:latin typeface="Arial"/>
                <a:ea typeface="Arial"/>
              </a:rPr>
              <a:t>(lower secondary)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16"/>
          <p:cNvSpPr/>
          <p:nvPr/>
        </p:nvSpPr>
        <p:spPr>
          <a:xfrm>
            <a:off x="839880" y="4581360"/>
            <a:ext cx="13557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ff"/>
                </a:solidFill>
                <a:latin typeface="Arial"/>
              </a:rPr>
              <a:t>PRZEDSZKOLE</a:t>
            </a:r>
            <a:r>
              <a:rPr b="0" lang="pl-PL" sz="1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(pre-primary)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17"/>
          <p:cNvSpPr/>
          <p:nvPr/>
        </p:nvSpPr>
        <p:spPr>
          <a:xfrm>
            <a:off x="6127920" y="4951440"/>
            <a:ext cx="1827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18"/>
          <p:cNvSpPr/>
          <p:nvPr/>
        </p:nvSpPr>
        <p:spPr>
          <a:xfrm>
            <a:off x="3911760" y="5259240"/>
            <a:ext cx="1641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22"/>
          <p:cNvSpPr/>
          <p:nvPr/>
        </p:nvSpPr>
        <p:spPr>
          <a:xfrm>
            <a:off x="2266920" y="2755800"/>
            <a:ext cx="3762360" cy="382680"/>
          </a:xfrm>
          <a:prstGeom prst="rect">
            <a:avLst/>
          </a:prstGeom>
          <a:solidFill>
            <a:srgbClr val="003f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3"/>
          <p:cNvSpPr/>
          <p:nvPr/>
        </p:nvSpPr>
        <p:spPr>
          <a:xfrm>
            <a:off x="5824440" y="2755800"/>
            <a:ext cx="1866960" cy="382680"/>
          </a:xfrm>
          <a:prstGeom prst="rect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24"/>
          <p:cNvSpPr/>
          <p:nvPr/>
        </p:nvSpPr>
        <p:spPr>
          <a:xfrm>
            <a:off x="5829480" y="3139920"/>
            <a:ext cx="2217600" cy="3826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25"/>
          <p:cNvSpPr/>
          <p:nvPr/>
        </p:nvSpPr>
        <p:spPr>
          <a:xfrm>
            <a:off x="5829480" y="3521160"/>
            <a:ext cx="1589040" cy="4888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27"/>
          <p:cNvSpPr/>
          <p:nvPr/>
        </p:nvSpPr>
        <p:spPr>
          <a:xfrm>
            <a:off x="6253200" y="2755800"/>
            <a:ext cx="1415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ff"/>
                </a:solidFill>
                <a:latin typeface="Arial"/>
                <a:ea typeface="Arial"/>
              </a:rPr>
              <a:t>LICEUM </a:t>
            </a:r>
            <a:r>
              <a:rPr b="0" lang="pl-PL" sz="1000" spc="-1" strike="noStrike">
                <a:solidFill>
                  <a:srgbClr val="ffffff"/>
                </a:solidFill>
                <a:latin typeface="Arial"/>
                <a:ea typeface="Arial"/>
              </a:rPr>
              <a:t>(upper    secondary general)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28"/>
          <p:cNvSpPr/>
          <p:nvPr/>
        </p:nvSpPr>
        <p:spPr>
          <a:xfrm>
            <a:off x="6229440" y="3139920"/>
            <a:ext cx="167148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ff"/>
                </a:solidFill>
                <a:latin typeface="Arial"/>
              </a:rPr>
              <a:t>TECHNIKUM</a:t>
            </a: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(upper                  secondary vocational)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29"/>
          <p:cNvSpPr/>
          <p:nvPr/>
        </p:nvSpPr>
        <p:spPr>
          <a:xfrm>
            <a:off x="6229440" y="3500280"/>
            <a:ext cx="1495440" cy="5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ff"/>
                </a:solidFill>
                <a:latin typeface="Arial"/>
              </a:rPr>
              <a:t>SZKOŁA ZASADNICZA</a:t>
            </a:r>
            <a:r>
              <a:rPr b="0" lang="pl-PL" sz="9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(basic vocational)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30"/>
          <p:cNvSpPr/>
          <p:nvPr/>
        </p:nvSpPr>
        <p:spPr>
          <a:xfrm>
            <a:off x="611280" y="2755800"/>
            <a:ext cx="1752480" cy="382680"/>
          </a:xfrm>
          <a:prstGeom prst="rect">
            <a:avLst/>
          </a:prstGeom>
          <a:solidFill>
            <a:srgbClr val="e17000"/>
          </a:solidFill>
          <a:ln w="9360">
            <a:solidFill>
              <a:srgbClr val="e1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1"/>
          <p:cNvSpPr/>
          <p:nvPr/>
        </p:nvSpPr>
        <p:spPr>
          <a:xfrm>
            <a:off x="838080" y="2755800"/>
            <a:ext cx="157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ff"/>
                </a:solidFill>
                <a:latin typeface="Arial"/>
                <a:ea typeface="Arial"/>
              </a:rPr>
              <a:t>PRZEDSZKOLE   </a:t>
            </a:r>
            <a:r>
              <a:rPr b="1" lang="pl-PL" sz="1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pl-PL" sz="1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pl-PL" sz="1000" spc="-1" strike="noStrike">
                <a:solidFill>
                  <a:srgbClr val="ffffff"/>
                </a:solidFill>
                <a:latin typeface="Arial"/>
                <a:ea typeface="Arial"/>
              </a:rPr>
              <a:t>(pre-primary)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32"/>
          <p:cNvSpPr/>
          <p:nvPr/>
        </p:nvSpPr>
        <p:spPr>
          <a:xfrm>
            <a:off x="468360" y="1916280"/>
            <a:ext cx="49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17000"/>
                </a:solidFill>
                <a:latin typeface="Arial"/>
                <a:ea typeface="Arial"/>
              </a:rPr>
              <a:t>Stara struktura szkolnictwa (PISA 2000):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33"/>
          <p:cNvSpPr/>
          <p:nvPr/>
        </p:nvSpPr>
        <p:spPr>
          <a:xfrm>
            <a:off x="468360" y="3716280"/>
            <a:ext cx="491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17000"/>
                </a:solidFill>
                <a:latin typeface="Arial"/>
                <a:ea typeface="Arial"/>
              </a:rPr>
              <a:t>Nowa struktura szkolnictwa (PISA 2003, 2006):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2259000" y="2797200"/>
            <a:ext cx="324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ff"/>
                </a:solidFill>
                <a:latin typeface="Arial"/>
                <a:ea typeface="Arial"/>
              </a:rPr>
              <a:t>SZKOŁA PODSTAWOWA</a:t>
            </a:r>
            <a:r>
              <a:rPr b="0" lang="pl-PL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pl-PL" sz="1000" spc="-1" strike="noStrike">
                <a:solidFill>
                  <a:srgbClr val="ffffff"/>
                </a:solidFill>
                <a:latin typeface="Arial"/>
                <a:ea typeface="Arial"/>
              </a:rPr>
              <a:t>(primary)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34"/>
          <p:cNvSpPr/>
          <p:nvPr/>
        </p:nvSpPr>
        <p:spPr>
          <a:xfrm>
            <a:off x="6035760" y="2131920"/>
            <a:ext cx="215640" cy="4033800"/>
          </a:xfrm>
          <a:prstGeom prst="rect">
            <a:avLst/>
          </a:prstGeom>
          <a:solidFill>
            <a:srgbClr val="c0c0c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900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przedłużenie o rok kształcenia ogólnego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28"/>
          <p:cNvSpPr/>
          <p:nvPr/>
        </p:nvSpPr>
        <p:spPr>
          <a:xfrm>
            <a:off x="6227640" y="4971960"/>
            <a:ext cx="149868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ff"/>
                </a:solidFill>
                <a:latin typeface="Arial"/>
              </a:rPr>
              <a:t>TECHNIKUM</a:t>
            </a: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(upper                  secondary vocational)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29"/>
          <p:cNvSpPr/>
          <p:nvPr/>
        </p:nvSpPr>
        <p:spPr>
          <a:xfrm>
            <a:off x="6300720" y="5405400"/>
            <a:ext cx="1494000" cy="5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ff"/>
                </a:solidFill>
                <a:latin typeface="Arial"/>
              </a:rPr>
              <a:t>SZKOŁA ZASADNICZA</a:t>
            </a:r>
            <a:r>
              <a:rPr b="0" lang="pl-PL" sz="9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(basic vocational)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ymbol zastępczy numeru slajdu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B0A49-7F8F-44AA-A7F5-FD1C8162A6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Zmniejszenie różnic między szkołami </a:t>
            </a:r>
            <a:br>
              <a:rPr sz="2800"/>
            </a:b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w osiągnięciach 15-latków w czytaniu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pic>
        <p:nvPicPr>
          <p:cNvPr id="110" name="Rectangle 3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3598560" cy="40849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140000" y="1989000"/>
            <a:ext cx="467964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W badaniach PISA 2000-2003 odkryto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w Polsce zmniejszenie zróżnicowania osiągnięć 15-latków między szkołami, najbardziej istotne spośród krajów UE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 OECD. Dotyczyło ono osiągnięć uczniów we wszystkich zakresach badań PISA (czytanie, matematyka, nauka)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Zmniejszenie różnic między szkołami można łączyć z kompleksową reformą systemu edukacji wdrażaną od 1999 roku. Reforma ta była wdrażana stopniowo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 w roku 2000 nie objęła jeszcze 15-latków (PISA 2000 badała stary system edukacji, PISA 2003 i 2006 – nowy)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250920" y="1197000"/>
            <a:ext cx="871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7300"/>
                </a:solidFill>
                <a:latin typeface="Arial"/>
              </a:rPr>
              <a:t>zróżnicowanie między szkołami w latach 2000-2006 w Polsce na tle OECD jako procent średniego zróżnicowania osiągnięć uczniów w OECD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ymbol zastępczy numeru slajdu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FD2E-1CBE-41C4-91A6-9A0704DCC7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Różnice między szkołami w osiągnięciach </a:t>
            </a:r>
            <a:br>
              <a:rPr sz="2800"/>
            </a:b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polskich 15-latków w czytaniu w roku 2000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pic>
        <p:nvPicPr>
          <p:cNvPr id="115" name="Rectangle 3" descr=""/>
          <p:cNvPicPr/>
          <p:nvPr/>
        </p:nvPicPr>
        <p:blipFill>
          <a:blip r:embed="rId1"/>
          <a:stretch/>
        </p:blipFill>
        <p:spPr>
          <a:xfrm>
            <a:off x="0" y="1917720"/>
            <a:ext cx="4699080" cy="428004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827600" y="1557000"/>
            <a:ext cx="4316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W roku 2000 zanotowano w Polsce jedne z największych w UE i OECD różnic między szkołami w osiągnięciach uczniów. </a:t>
            </a:r>
            <a:br>
              <a:rPr sz="1800"/>
            </a:br>
            <a:br>
              <a:rPr sz="1800"/>
            </a:b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Różnice dotyczyły głównie podziału </a:t>
            </a:r>
            <a:br>
              <a:rPr sz="1800"/>
            </a:b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na szkoły ogólnokształcące i zawodowe, w tym zasadnicze.</a:t>
            </a:r>
            <a:br>
              <a:rPr sz="1800"/>
            </a:br>
            <a:br>
              <a:rPr sz="1800"/>
            </a:b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W zasadniczych szkołach zawodowych, do których </a:t>
            </a:r>
            <a:r>
              <a:rPr b="0" lang="pl-PL" sz="1800" spc="-1" strike="noStrike">
                <a:solidFill>
                  <a:srgbClr val="d97300"/>
                </a:solidFill>
                <a:latin typeface="Arial"/>
              </a:rPr>
              <a:t>przyjmowano 26% uczniów, ponad 73% z nich należało do kategorii najsłabszych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uczniów (low achievers). Jednocześnie w szkołach tych było bardzo mało uczniów najlepszych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324000" y="1557360"/>
            <a:ext cx="39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Procent uczniów według poziomów kompetencji czytania PISA 200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0:26:15Z</dcterms:created>
  <dc:creator>w.filipkowski</dc:creator>
  <dc:description/>
  <dc:language>en-US</dc:language>
  <cp:lastModifiedBy>Katarzyna Hall</cp:lastModifiedBy>
  <dcterms:modified xsi:type="dcterms:W3CDTF">2010-07-06T15:39:49Z</dcterms:modified>
  <cp:revision>115</cp:revision>
  <dc:subject/>
  <dc:title>Prezentacja programu PowerPoint</dc:title>
</cp:coreProperties>
</file>