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FC77-A57F-4538-A831-EA3C4DFC2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C597-73A6-4625-9DCC-8A47891D1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B03E-CF48-4B83-9977-55F94EA69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43F-BE31-48F3-81E8-2B4CF730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EDE-99F9-41A5-A094-4D52F796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DC1-DD1F-4DD6-AB7C-DB32382B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E41-E696-4416-9CD5-3F4D15C8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C08-C917-4183-A6BF-7C34FAB0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FAE-3A7C-48E3-B6A4-F67DB4D1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752-5B15-4FC8-B86A-E07B8BD8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13B-3899-4AD9-B5B9-95F20909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094-05C0-488A-9B53-FF6B42A9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64B-C9C5-4F9D-B0B0-DC626BAF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793-2FB3-473E-AA03-9F533A9D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AE2-9AB6-4CAF-879D-B8A0DB04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0E5C-AF67-4278-91ED-C7D84A582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7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edlacek@img.cas.cz" TargetMode="External"/><Relationship Id="rId2" Type="http://schemas.openxmlformats.org/officeDocument/2006/relationships/hyperlink" Target="mailto:dohnalek@imc.cas.cz" TargetMode="External"/><Relationship Id="rId3" Type="http://schemas.openxmlformats.org/officeDocument/2006/relationships/hyperlink" Target="http://www.instruct-fp7.eu/" TargetMode="External"/><Relationship Id="rId4" Type="http://schemas.openxmlformats.org/officeDocument/2006/relationships/hyperlink" Target="mailto:sklenar@chemi.muni.cz" TargetMode="External"/><Relationship Id="rId5" Type="http://schemas.openxmlformats.org/officeDocument/2006/relationships/hyperlink" Target="mailto:jkoca@chemi.muni.cz" TargetMode="External"/><Relationship Id="rId6" Type="http://schemas.openxmlformats.org/officeDocument/2006/relationships/hyperlink" Target="mailto:hozak@img.cas.cz" TargetMode="External"/><Relationship Id="rId7" Type="http://schemas.openxmlformats.org/officeDocument/2006/relationships/hyperlink" Target="http://www.eurobioimaging.eu/poster.pdf" TargetMode="External"/><Relationship Id="rId8" Type="http://schemas.openxmlformats.org/officeDocument/2006/relationships/hyperlink" Target="mailto:syka@biomed.cas.cz" TargetMode="External"/><Relationship Id="rId9" Type="http://schemas.openxmlformats.org/officeDocument/2006/relationships/hyperlink" Target="mailto:bartunek@img.cas.cz" TargetMode="External"/><Relationship Id="rId10" Type="http://schemas.openxmlformats.org/officeDocument/2006/relationships/hyperlink" Target="http://www.fmp-berlin.de/eu-openscreen.html" TargetMode="External"/><Relationship Id="rId11" Type="http://schemas.openxmlformats.org/officeDocument/2006/relationships/hyperlink" Target="mailto:hocek@uochb.cas.cz" TargetMode="External"/><Relationship Id="rId12" Type="http://schemas.openxmlformats.org/officeDocument/2006/relationships/hyperlink" Target="mailto:jiri.vondrasek@uochb.cas.cz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59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892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Calibri"/>
              </a:rPr>
              <a:t>Národní roadmap infrastruktur výzkumu pro </a:t>
            </a:r>
            <a:br>
              <a:rPr sz="4400"/>
            </a:br>
            <a:r>
              <a:rPr b="1" lang="cs-CZ" sz="4400" spc="-1" strike="noStrike">
                <a:solidFill>
                  <a:srgbClr val="cc0000"/>
                </a:solidFill>
                <a:latin typeface="Calibri"/>
              </a:rPr>
              <a:t>„biomedical life sciences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579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1859c"/>
                </a:solidFill>
                <a:latin typeface="Calibri"/>
              </a:rPr>
              <a:t>Peter </a:t>
            </a:r>
            <a:r>
              <a:rPr b="1" lang="cs-CZ" sz="2400" spc="-1" strike="noStrike">
                <a:solidFill>
                  <a:srgbClr val="31859c"/>
                </a:solidFill>
                <a:latin typeface="Calibri"/>
              </a:rPr>
              <a:t>Šebo , Radislav Sedláč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rcRect l="39296" t="0" r="0" b="0"/>
          <a:stretch/>
        </p:blipFill>
        <p:spPr>
          <a:xfrm>
            <a:off x="0" y="5945040"/>
            <a:ext cx="12952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8"/>
          <p:cNvGrpSpPr/>
          <p:nvPr/>
        </p:nvGrpSpPr>
        <p:grpSpPr>
          <a:xfrm>
            <a:off x="990720" y="0"/>
            <a:ext cx="7848360" cy="914400"/>
            <a:chOff x="990720" y="0"/>
            <a:chExt cx="7848360" cy="914400"/>
          </a:xfrm>
        </p:grpSpPr>
        <p:pic>
          <p:nvPicPr>
            <p:cNvPr id="110" name="Obrázek 4" descr="infrafrontier-head.gif"/>
            <p:cNvPicPr/>
            <p:nvPr/>
          </p:nvPicPr>
          <p:blipFill>
            <a:blip r:embed="rId1"/>
            <a:srcRect l="80181" t="0" r="0" b="0"/>
            <a:stretch/>
          </p:blipFill>
          <p:spPr>
            <a:xfrm>
              <a:off x="990720" y="75960"/>
              <a:ext cx="112176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2"/>
            <p:cNvSpPr/>
            <p:nvPr/>
          </p:nvSpPr>
          <p:spPr>
            <a:xfrm>
              <a:off x="1828800" y="0"/>
              <a:ext cx="70102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Times New Roman"/>
                </a:rPr>
                <a:t>Infrafrontie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European infrastructure for phenotyping and archiving of model mammalian genom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8"/>
          <p:cNvSpPr/>
          <p:nvPr/>
        </p:nvSpPr>
        <p:spPr>
          <a:xfrm>
            <a:off x="2594160" y="762120"/>
            <a:ext cx="43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zech centre for phenog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57200" y="2666880"/>
            <a:ext cx="8686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ength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existující know-how , kvalitní vědecké výsledky uznávané v zahranič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akness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ědci zatím roztrouš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ortuniti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zin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árodní spolupráce a napojení zlepší postavení ČR  v obor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rea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edostatek některého specializovaného personál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Rectangle 9"/>
          <p:cNvGrpSpPr/>
          <p:nvPr/>
        </p:nvGrpSpPr>
        <p:grpSpPr>
          <a:xfrm>
            <a:off x="957240" y="2395440"/>
            <a:ext cx="1268280" cy="731880"/>
            <a:chOff x="957240" y="2395440"/>
            <a:chExt cx="1268280" cy="731880"/>
          </a:xfrm>
        </p:grpSpPr>
        <p:pic>
          <p:nvPicPr>
            <p:cNvPr id="115" name="Rectangle 9" descr=""/>
            <p:cNvPicPr/>
            <p:nvPr/>
          </p:nvPicPr>
          <p:blipFill>
            <a:blip r:embed="rId2"/>
            <a:stretch/>
          </p:blipFill>
          <p:spPr>
            <a:xfrm>
              <a:off x="957240" y="2395440"/>
              <a:ext cx="12682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372320" y="24382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 u="sng">
                  <a:solidFill>
                    <a:srgbClr val="ff0000"/>
                  </a:solidFill>
                  <a:uFillTx/>
                  <a:latin typeface="Calibri"/>
                </a:rPr>
                <a:t>SWO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bdélník 4"/>
          <p:cNvSpPr/>
          <p:nvPr/>
        </p:nvSpPr>
        <p:spPr>
          <a:xfrm>
            <a:off x="0" y="1523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omic Sans MS"/>
              </a:rPr>
              <a:t>Proč budovat</a:t>
            </a:r>
            <a:r>
              <a:rPr b="1" lang="en-US" sz="1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cs-CZ" sz="1800" spc="-1" strike="noStrike">
                <a:solidFill>
                  <a:srgbClr val="0070c0"/>
                </a:solidFill>
                <a:latin typeface="Comic Sans MS"/>
              </a:rPr>
              <a:t>České cent</a:t>
            </a:r>
            <a:r>
              <a:rPr b="1" lang="de-DE" sz="18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1" lang="cs-CZ" sz="1800" spc="-1" strike="noStrike">
                <a:solidFill>
                  <a:srgbClr val="0070c0"/>
                </a:solidFill>
                <a:latin typeface="Comic Sans MS"/>
              </a:rPr>
              <a:t>um pro fenogenomiku</a:t>
            </a:r>
            <a:r>
              <a:rPr b="1" lang="en-US" sz="18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228600" y="5816520"/>
            <a:ext cx="8686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ernational Knockout Mouse Consortium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IKMC) 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0c0"/>
                </a:solidFill>
                <a:latin typeface="Comic Sans MS"/>
              </a:rPr>
              <a:t>25,000-30,000 m</a:t>
            </a:r>
            <a:r>
              <a:rPr b="1" lang="cs-CZ" sz="1400" spc="-1" strike="noStrike">
                <a:solidFill>
                  <a:srgbClr val="0070c0"/>
                </a:solidFill>
                <a:latin typeface="Comic Sans MS"/>
              </a:rPr>
              <a:t>yších </a:t>
            </a:r>
            <a:r>
              <a:rPr b="1" lang="de-DE" sz="1400" spc="-1" strike="noStrike">
                <a:solidFill>
                  <a:srgbClr val="0070c0"/>
                </a:solidFill>
                <a:latin typeface="Comic Sans MS"/>
              </a:rPr>
              <a:t>mutant</a:t>
            </a:r>
            <a:r>
              <a:rPr b="1" lang="cs-CZ" sz="1400" spc="-1" strike="noStrike">
                <a:solidFill>
                  <a:srgbClr val="0070c0"/>
                </a:solidFill>
                <a:latin typeface="Comic Sans MS"/>
              </a:rPr>
              <a:t>ů ke studiu jednotlivých genů</a:t>
            </a:r>
            <a:r>
              <a:rPr b="1" lang="de-DE" sz="1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cs-CZ" sz="1400" spc="-1" strike="noStrike">
                <a:solidFill>
                  <a:srgbClr val="0070c0"/>
                </a:solidFill>
                <a:latin typeface="Comic Sans MS"/>
              </a:rPr>
              <a:t>bude vytvořeno</a:t>
            </a:r>
            <a:r>
              <a:rPr b="1" lang="de-DE" sz="1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cs-CZ" sz="1400" spc="-1" strike="noStrike">
                <a:solidFill>
                  <a:srgbClr val="0070c0"/>
                </a:solidFill>
                <a:latin typeface="Comic Sans MS"/>
              </a:rPr>
              <a:t>do</a:t>
            </a:r>
            <a:r>
              <a:rPr b="1" lang="de-DE" sz="1400" spc="-1" strike="noStrike">
                <a:solidFill>
                  <a:srgbClr val="0070c0"/>
                </a:solidFill>
                <a:latin typeface="Comic Sans MS"/>
              </a:rPr>
              <a:t> 2011/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Rectangle 13"/>
          <p:cNvGrpSpPr/>
          <p:nvPr/>
        </p:nvGrpSpPr>
        <p:grpSpPr>
          <a:xfrm>
            <a:off x="115920" y="5394240"/>
            <a:ext cx="2608200" cy="725400"/>
            <a:chOff x="115920" y="5394240"/>
            <a:chExt cx="2608200" cy="725400"/>
          </a:xfrm>
        </p:grpSpPr>
        <p:pic>
          <p:nvPicPr>
            <p:cNvPr id="120" name="Rectangle 13" descr=""/>
            <p:cNvPicPr/>
            <p:nvPr/>
          </p:nvPicPr>
          <p:blipFill>
            <a:blip r:embed="rId3"/>
            <a:stretch/>
          </p:blipFill>
          <p:spPr>
            <a:xfrm>
              <a:off x="115920" y="5394240"/>
              <a:ext cx="26082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38920" y="54356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 u="sng">
                  <a:solidFill>
                    <a:srgbClr val="ff0000"/>
                  </a:solidFill>
                  <a:uFillTx/>
                  <a:latin typeface="Calibri"/>
                </a:rPr>
                <a:t>Mezinárodní situ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ounded Rectangle 14"/>
          <p:cNvSpPr/>
          <p:nvPr/>
        </p:nvSpPr>
        <p:spPr>
          <a:xfrm>
            <a:off x="304920" y="2362320"/>
            <a:ext cx="8229600" cy="2590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572000" cy="7333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TextBox 5"/>
          <p:cNvGrpSpPr/>
          <p:nvPr/>
        </p:nvGrpSpPr>
        <p:grpSpPr>
          <a:xfrm>
            <a:off x="-182520" y="1731960"/>
            <a:ext cx="9339120" cy="3662280"/>
            <a:chOff x="-182520" y="1731960"/>
            <a:chExt cx="9339120" cy="3662280"/>
          </a:xfrm>
        </p:grpSpPr>
        <p:pic>
          <p:nvPicPr>
            <p:cNvPr id="126" name="TextBox 5" descr=""/>
            <p:cNvPicPr/>
            <p:nvPr/>
          </p:nvPicPr>
          <p:blipFill>
            <a:blip r:embed="rId2"/>
            <a:stretch/>
          </p:blipFill>
          <p:spPr>
            <a:xfrm>
              <a:off x="-182520" y="1731960"/>
              <a:ext cx="9339120" cy="36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28600" y="1752480"/>
              <a:ext cx="8915400" cy="32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Koordinátor za ČR/vědecký partner </a:t>
              </a: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:  Pavel Hozák, Ústav molekulární genetiky AV ČR, v.v.i., BIOC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Partner v ČR:</a:t>
              </a: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  MŠMT ČR, kontaktní osoba: Gabriela Vlčkov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plň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uro-BioImaging </a:t>
              </a:r>
              <a:r>
                <a:rPr b="0" lang="cs-CZ" sz="1800" spc="-1" strike="noStrike">
                  <a:solidFill>
                    <a:srgbClr val="000000"/>
                  </a:solidFill>
                  <a:latin typeface="Calibri"/>
                </a:rPr>
                <a:t> bude vyvíjet a poskytovat přístup k zobrazovacím technologiím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Calibri"/>
                </a:rPr>
                <a:t>v dlouhodobém měřítku chce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uro-BioImaging</a:t>
              </a:r>
              <a:r>
                <a:rPr b="0" lang="cs-CZ" sz="1800" spc="-1" strike="noStrike">
                  <a:solidFill>
                    <a:srgbClr val="000000"/>
                  </a:solidFill>
                  <a:latin typeface="Calibri"/>
                </a:rPr>
                <a:t> vyvinout a etablovat technologii k vizualizaci makromolekul v jejich přirozeném prostředí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Klíčové součásti infrastruktur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vybudovani centrální infrastruktury  v rámci BIOCEV ,  - </a:t>
              </a:r>
              <a:r>
                <a:rPr b="0" lang="cs-CZ" sz="1600" spc="-1" strike="noStrike">
                  <a:solidFill>
                    <a:srgbClr val="0000ff"/>
                  </a:solidFill>
                  <a:latin typeface="Calibri"/>
                </a:rPr>
                <a:t>Open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klad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nvestice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200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il. Kč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oz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15-25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il. Kč/r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TextBox 15"/>
          <p:cNvGrpSpPr/>
          <p:nvPr/>
        </p:nvGrpSpPr>
        <p:grpSpPr>
          <a:xfrm>
            <a:off x="-165240" y="847800"/>
            <a:ext cx="9321840" cy="6905520"/>
            <a:chOff x="-165240" y="847800"/>
            <a:chExt cx="9321840" cy="6905520"/>
          </a:xfrm>
        </p:grpSpPr>
        <p:pic>
          <p:nvPicPr>
            <p:cNvPr id="129" name="TextBox 15" descr=""/>
            <p:cNvPicPr/>
            <p:nvPr/>
          </p:nvPicPr>
          <p:blipFill>
            <a:blip r:embed="rId1"/>
            <a:stretch/>
          </p:blipFill>
          <p:spPr>
            <a:xfrm>
              <a:off x="-165240" y="847800"/>
              <a:ext cx="932184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28600" y="914400"/>
              <a:ext cx="8915400" cy="64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Calibri"/>
                </a:rPr>
                <a:t>CZ-OPENSCREE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cs-CZ" sz="2000" spc="-1" strike="noStrike">
                  <a:solidFill>
                    <a:srgbClr val="ff0000"/>
                  </a:solidFill>
                  <a:latin typeface="Calibri"/>
                </a:rPr>
                <a:t>( připravovaná infrastruktura v rámci EU-OPENSCREEN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Cíl: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Open Access infrastruktura evropského měřítka pro chemickou biolog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Calibri"/>
                </a:rPr>
                <a:t>Zástupce: Petr Bartůněk,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Ústav molekulární genetiky AV ČR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plň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Identifikace nových molekulárních sond/nástrojů pro výzkum nových potenciálních léčiv pro závažná onemocně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Klíčové součásti infrastruktur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Centrální jednotka pro testování (high-throughput screening) - </a:t>
              </a:r>
              <a:r>
                <a:rPr b="0" lang="cs-CZ" sz="1600" spc="-1" strike="noStrike">
                  <a:solidFill>
                    <a:srgbClr val="0000ff"/>
                  </a:solidFill>
                  <a:latin typeface="Calibri"/>
                </a:rPr>
                <a:t>Open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Národní sbírka sloučeni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Národní databáze sloučen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Podpora: vývoj testů, medicinální chemie a chem/bioinformati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Spolupráce a interakce v rámci ČR:</a:t>
              </a:r>
              <a:r>
                <a:rPr b="0" lang="cs-CZ" sz="16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ÚMG, MBÚ, ÚEM, ÚEB, ÚOCHB AV ČR, PřF UK, LF UK (BIOCEV), FaF U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PřF, LF MUNI  (CEITEC)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PřF, LF UPOL (BioMedReg)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VŠC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klad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nvestice  90-150 mil. Kč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oz  28 mil. Kč/r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4"/>
          <p:cNvSpPr/>
          <p:nvPr/>
        </p:nvSpPr>
        <p:spPr>
          <a:xfrm>
            <a:off x="7323480" y="6324480"/>
            <a:ext cx="13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test.chembio.cz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7324920" y="6611760"/>
            <a:ext cx="148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www.chemgen.cz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971e204f61"/>
          <p:cNvPicPr/>
          <p:nvPr/>
        </p:nvPicPr>
        <p:blipFill>
          <a:blip r:embed="rId2"/>
          <a:stretch/>
        </p:blipFill>
        <p:spPr>
          <a:xfrm>
            <a:off x="5867280" y="0"/>
            <a:ext cx="3124440" cy="1119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images.jpeg"/>
          <p:cNvPicPr/>
          <p:nvPr/>
        </p:nvPicPr>
        <p:blipFill>
          <a:blip r:embed="rId3"/>
          <a:stretch/>
        </p:blipFill>
        <p:spPr>
          <a:xfrm>
            <a:off x="2717640" y="32220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images-1.jpeg"/>
          <p:cNvPicPr/>
          <p:nvPr/>
        </p:nvPicPr>
        <p:blipFill>
          <a:blip r:embed="rId4"/>
          <a:stretch/>
        </p:blipFill>
        <p:spPr>
          <a:xfrm>
            <a:off x="2130480" y="230040"/>
            <a:ext cx="531720" cy="567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zajimavosti_logoav.png"/>
          <p:cNvPicPr/>
          <p:nvPr/>
        </p:nvPicPr>
        <p:blipFill>
          <a:blip r:embed="rId5"/>
          <a:stretch/>
        </p:blipFill>
        <p:spPr>
          <a:xfrm>
            <a:off x="228600" y="304920"/>
            <a:ext cx="534960" cy="534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cuni.gif"/>
          <p:cNvPicPr/>
          <p:nvPr/>
        </p:nvPicPr>
        <p:blipFill>
          <a:blip r:embed="rId6"/>
          <a:stretch/>
        </p:blipFill>
        <p:spPr>
          <a:xfrm>
            <a:off x="833400" y="274680"/>
            <a:ext cx="588960" cy="5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logo_mu_P280C.tif                                              000267A7Power HD                       BA8137B1:"/>
          <p:cNvPicPr/>
          <p:nvPr/>
        </p:nvPicPr>
        <p:blipFill>
          <a:blip r:embed="rId7"/>
          <a:stretch/>
        </p:blipFill>
        <p:spPr>
          <a:xfrm>
            <a:off x="1517760" y="230040"/>
            <a:ext cx="612720" cy="6098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Rectangle 2"/>
          <p:cNvGrpSpPr/>
          <p:nvPr/>
        </p:nvGrpSpPr>
        <p:grpSpPr>
          <a:xfrm>
            <a:off x="-360360" y="244440"/>
            <a:ext cx="9516960" cy="901800"/>
            <a:chOff x="-360360" y="244440"/>
            <a:chExt cx="9516960" cy="901800"/>
          </a:xfrm>
        </p:grpSpPr>
        <p:pic>
          <p:nvPicPr>
            <p:cNvPr id="141" name="Rectangle 2" descr=""/>
            <p:cNvPicPr/>
            <p:nvPr/>
          </p:nvPicPr>
          <p:blipFill>
            <a:blip r:embed="rId1"/>
            <a:stretch/>
          </p:blipFill>
          <p:spPr>
            <a:xfrm>
              <a:off x="-360360" y="244440"/>
              <a:ext cx="9516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0" y="380880"/>
              <a:ext cx="9144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INSTR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"/>
          <p:cNvSpPr/>
          <p:nvPr/>
        </p:nvSpPr>
        <p:spPr>
          <a:xfrm>
            <a:off x="380880" y="2090880"/>
            <a:ext cx="8382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Calibri"/>
              </a:rPr>
              <a:t>Náplň a cí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RUCT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poskytovat 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 access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-class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vanou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turu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ctu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ální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olog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Podpora evropskéh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zkumu v biomedicíně – zlepšování  a rozšiřování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echnolog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í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dukace vědeckých pracovníku v novch technologi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Calibri"/>
              </a:rPr>
              <a:t>Evropská s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tru</a:t>
            </a:r>
            <a:r>
              <a:rPr b="1" lang="cs-CZ" sz="2000" spc="-1" strike="noStrike">
                <a:solidFill>
                  <a:srgbClr val="0000ff"/>
                </a:solidFill>
                <a:latin typeface="Calibri"/>
              </a:rPr>
              <a:t>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-8 core cente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aždé centum poskytuje 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tting-edg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„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turu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y 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d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c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ein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ystaliz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e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ss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trometry, NMR, X-ra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ystalografi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el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on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vá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opie 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mogr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X-ray imaging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instruct logo.gif"/>
          <p:cNvPicPr/>
          <p:nvPr/>
        </p:nvPicPr>
        <p:blipFill>
          <a:blip r:embed="rId2"/>
          <a:stretch/>
        </p:blipFill>
        <p:spPr>
          <a:xfrm>
            <a:off x="7162920" y="0"/>
            <a:ext cx="1272960" cy="1004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Rectangle 7"/>
          <p:cNvGrpSpPr/>
          <p:nvPr/>
        </p:nvGrpSpPr>
        <p:grpSpPr>
          <a:xfrm>
            <a:off x="-360360" y="944640"/>
            <a:ext cx="9516960" cy="1042920"/>
            <a:chOff x="-360360" y="944640"/>
            <a:chExt cx="9516960" cy="1042920"/>
          </a:xfrm>
        </p:grpSpPr>
        <p:pic>
          <p:nvPicPr>
            <p:cNvPr id="147" name="Rectangle 7" descr=""/>
            <p:cNvPicPr/>
            <p:nvPr/>
          </p:nvPicPr>
          <p:blipFill>
            <a:blip r:embed="rId3"/>
            <a:stretch/>
          </p:blipFill>
          <p:spPr>
            <a:xfrm>
              <a:off x="-360360" y="944640"/>
              <a:ext cx="95169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990720"/>
              <a:ext cx="91440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Integrated Infrastructure for Structural Biology </a:t>
              </a:r>
              <a:r>
                <a:rPr b="1" lang="cs-CZ" sz="20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in Euro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70c0"/>
                  </a:solidFill>
                  <a:latin typeface="Calibri"/>
                </a:rPr>
                <a:t>ČR jako přidružený stá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17680" y="9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80880" y="990720"/>
            <a:ext cx="8016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Zástu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Vladim</a:t>
            </a: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r Sklen</a:t>
            </a: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ář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 Brno /CEITEC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Jan Dohn</a:t>
            </a: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lek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MCH Praha / BIOCEV represent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 in INSTRUCT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říje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08 –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vní informativní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eeting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v Č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listopa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09 plan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vaný meeting národních uživatelských skupi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Pr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Calibri"/>
              </a:rPr>
              <a:t>Náklad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stice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l. K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oz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il. Kč/r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Rectangle 2"/>
          <p:cNvGrpSpPr/>
          <p:nvPr/>
        </p:nvGrpSpPr>
        <p:grpSpPr>
          <a:xfrm>
            <a:off x="-360360" y="244440"/>
            <a:ext cx="9516960" cy="901800"/>
            <a:chOff x="-360360" y="244440"/>
            <a:chExt cx="9516960" cy="901800"/>
          </a:xfrm>
        </p:grpSpPr>
        <p:pic>
          <p:nvPicPr>
            <p:cNvPr id="153" name="Rectangle 2" descr=""/>
            <p:cNvPicPr/>
            <p:nvPr/>
          </p:nvPicPr>
          <p:blipFill>
            <a:blip r:embed="rId1"/>
            <a:stretch/>
          </p:blipFill>
          <p:spPr>
            <a:xfrm>
              <a:off x="-360360" y="244440"/>
              <a:ext cx="9516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0" y="380880"/>
              <a:ext cx="9144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INSTRUCT</a:t>
              </a:r>
              <a:r>
                <a:rPr b="1" lang="cs-CZ" sz="2800" spc="-1" strike="noStrike">
                  <a:solidFill>
                    <a:srgbClr val="ff0000"/>
                  </a:solidFill>
                  <a:latin typeface="Calibri"/>
                </a:rPr>
                <a:t> v Č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8" descr="instruct logo.gif"/>
          <p:cNvPicPr/>
          <p:nvPr/>
        </p:nvPicPr>
        <p:blipFill>
          <a:blip r:embed="rId2"/>
          <a:stretch/>
        </p:blipFill>
        <p:spPr>
          <a:xfrm>
            <a:off x="7162920" y="0"/>
            <a:ext cx="1272960" cy="1004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228600" y="3657600"/>
            <a:ext cx="8686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ength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nožství  mol.-biol. a strukturálně biologických skupin s tradicí v produkc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teinů, vývoji léků; kontakty na aplikovaný výzkum  a industriální partn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akness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hybějjící přístroje a zařízení, chybějící zkušení specialisté; závislost na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hraničních  infrastrukturách,  vědci a přístroje jsou v ČR roztrouš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ortuniti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ožnost vytvoření dobře komunikující a spolupracující struktury: napojení na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entra v zahranič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rea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nížení rozpočtu vedoucí k nedostatku specialistů; nedostatek přístrojového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bavení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ectangle 12"/>
          <p:cNvGrpSpPr/>
          <p:nvPr/>
        </p:nvGrpSpPr>
        <p:grpSpPr>
          <a:xfrm>
            <a:off x="500040" y="3382920"/>
            <a:ext cx="1268280" cy="731880"/>
            <a:chOff x="500040" y="3382920"/>
            <a:chExt cx="1268280" cy="731880"/>
          </a:xfrm>
        </p:grpSpPr>
        <p:pic>
          <p:nvPicPr>
            <p:cNvPr id="158" name="Rectangle 12" descr=""/>
            <p:cNvPicPr/>
            <p:nvPr/>
          </p:nvPicPr>
          <p:blipFill>
            <a:blip r:embed="rId3"/>
            <a:stretch/>
          </p:blipFill>
          <p:spPr>
            <a:xfrm>
              <a:off x="500040" y="3382920"/>
              <a:ext cx="12682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915120" y="34290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 u="sng">
                  <a:solidFill>
                    <a:srgbClr val="ff0000"/>
                  </a:solidFill>
                  <a:uFillTx/>
                  <a:latin typeface="Calibri"/>
                </a:rPr>
                <a:t>SWO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5958000"/>
          </a:xfrm>
          <a:prstGeom prst="rect">
            <a:avLst/>
          </a:prstGeom>
          <a:ln w="0">
            <a:noFill/>
          </a:ln>
        </p:spPr>
      </p:pic>
      <p:sp>
        <p:nvSpPr>
          <p:cNvPr id="161" name="Oval 4"/>
          <p:cNvSpPr/>
          <p:nvPr/>
        </p:nvSpPr>
        <p:spPr>
          <a:xfrm>
            <a:off x="2514600" y="2971800"/>
            <a:ext cx="6019920" cy="1752480"/>
          </a:xfrm>
          <a:prstGeom prst="ellipse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0" y="19065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25. 8. 2009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- první úkoly pracov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3.9. 2009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 - prezentace na MŠ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3.9.–30.9.2009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- mapování infrastruktur a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-zpracování odborných názorů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-SWOT analýza současného sta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31. 10. 2009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 - připomín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00"/>
                </a:solidFill>
                <a:latin typeface="Comic Sans MS"/>
                <a:ea typeface="Calibri"/>
              </a:rPr>
              <a:t>konec 2009  </a:t>
            </a:r>
            <a:r>
              <a:rPr b="0" lang="cs-CZ" sz="2400" spc="-1" strike="noStrike">
                <a:solidFill>
                  <a:srgbClr val="0033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3300"/>
                </a:solidFill>
                <a:latin typeface="Comic Sans MS"/>
                <a:ea typeface="Calibri"/>
              </a:rPr>
              <a:t> - schválení MŠMT a vlád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Rectangle 2"/>
          <p:cNvGrpSpPr/>
          <p:nvPr/>
        </p:nvGrpSpPr>
        <p:grpSpPr>
          <a:xfrm>
            <a:off x="-360360" y="274680"/>
            <a:ext cx="9516960" cy="1620720"/>
            <a:chOff x="-360360" y="274680"/>
            <a:chExt cx="9516960" cy="1620720"/>
          </a:xfrm>
        </p:grpSpPr>
        <p:pic>
          <p:nvPicPr>
            <p:cNvPr id="164" name="Rectangle 2" descr=""/>
            <p:cNvPicPr/>
            <p:nvPr/>
          </p:nvPicPr>
          <p:blipFill>
            <a:blip r:embed="rId2"/>
            <a:stretch/>
          </p:blipFill>
          <p:spPr>
            <a:xfrm>
              <a:off x="-360360" y="274680"/>
              <a:ext cx="951696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088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Calibri"/>
                </a:rPr>
                <a:t>Harmonogram přípravy vytvoření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Calibri"/>
                </a:rPr>
                <a:t>České Roadm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TextBox 28"/>
          <p:cNvGrpSpPr/>
          <p:nvPr/>
        </p:nvGrpSpPr>
        <p:grpSpPr>
          <a:xfrm>
            <a:off x="-360360" y="-103320"/>
            <a:ext cx="9516960" cy="1438560"/>
            <a:chOff x="-360360" y="-103320"/>
            <a:chExt cx="9516960" cy="1438560"/>
          </a:xfrm>
        </p:grpSpPr>
        <p:pic>
          <p:nvPicPr>
            <p:cNvPr id="168" name="TextBox 28" descr=""/>
            <p:cNvPicPr/>
            <p:nvPr/>
          </p:nvPicPr>
          <p:blipFill>
            <a:blip r:embed="rId1"/>
            <a:stretch/>
          </p:blipFill>
          <p:spPr>
            <a:xfrm>
              <a:off x="-360360" y="-103320"/>
              <a:ext cx="9516960" cy="14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0" y="0"/>
              <a:ext cx="914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Calibri"/>
                </a:rPr>
                <a:t>Viz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Interakce v rámci ESF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5"/>
          <p:cNvGrpSpPr/>
          <p:nvPr/>
        </p:nvGrpSpPr>
        <p:grpSpPr>
          <a:xfrm>
            <a:off x="-171720" y="1370880"/>
            <a:ext cx="5756040" cy="4877280"/>
            <a:chOff x="-171720" y="1370880"/>
            <a:chExt cx="5756040" cy="4877280"/>
          </a:xfrm>
        </p:grpSpPr>
        <p:sp>
          <p:nvSpPr>
            <p:cNvPr id="171" name="Oval 15"/>
            <p:cNvSpPr/>
            <p:nvPr/>
          </p:nvSpPr>
          <p:spPr>
            <a:xfrm>
              <a:off x="882360" y="1752480"/>
              <a:ext cx="3809880" cy="365760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2" descr="instruct logo.gif"/>
            <p:cNvPicPr/>
            <p:nvPr/>
          </p:nvPicPr>
          <p:blipFill>
            <a:blip r:embed="rId2"/>
            <a:stretch/>
          </p:blipFill>
          <p:spPr>
            <a:xfrm>
              <a:off x="3638520" y="3886200"/>
              <a:ext cx="1272600" cy="100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3"/>
            <p:cNvGrpSpPr/>
            <p:nvPr/>
          </p:nvGrpSpPr>
          <p:grpSpPr>
            <a:xfrm>
              <a:off x="2214720" y="1371600"/>
              <a:ext cx="1335240" cy="1526400"/>
              <a:chOff x="2214720" y="1371600"/>
              <a:chExt cx="1335240" cy="1526400"/>
            </a:xfrm>
          </p:grpSpPr>
          <p:pic>
            <p:nvPicPr>
              <p:cNvPr id="174" name="Picture 4" descr="infrafrontier-logo.gif"/>
              <p:cNvPicPr/>
              <p:nvPr/>
            </p:nvPicPr>
            <p:blipFill>
              <a:blip r:embed="rId3"/>
              <a:stretch/>
            </p:blipFill>
            <p:spPr>
              <a:xfrm>
                <a:off x="2214720" y="1371600"/>
                <a:ext cx="1335240" cy="126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Box 5"/>
              <p:cNvSpPr/>
              <p:nvPr/>
            </p:nvSpPr>
            <p:spPr>
              <a:xfrm>
                <a:off x="2285640" y="2590920"/>
                <a:ext cx="1174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46c0a"/>
                    </a:solidFill>
                    <a:latin typeface="Times New Roman"/>
                    <a:ea typeface="Times New Roman"/>
                  </a:rPr>
                  <a:t>Infrafront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6" name="Picture 2" descr="971e204f61"/>
            <p:cNvPicPr/>
            <p:nvPr/>
          </p:nvPicPr>
          <p:blipFill>
            <a:blip r:embed="rId4"/>
            <a:stretch/>
          </p:blipFill>
          <p:spPr>
            <a:xfrm>
              <a:off x="437760" y="4038840"/>
              <a:ext cx="199368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9" descr="eurobioimaging logo.gif"/>
            <p:cNvPicPr/>
            <p:nvPr/>
          </p:nvPicPr>
          <p:blipFill>
            <a:blip r:embed="rId5"/>
            <a:stretch/>
          </p:blipFill>
          <p:spPr>
            <a:xfrm>
              <a:off x="1111320" y="3124080"/>
              <a:ext cx="33530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Circular Arrow 17"/>
            <p:cNvSpPr/>
            <p:nvPr/>
          </p:nvSpPr>
          <p:spPr>
            <a:xfrm flipV="1" rot="7178400">
              <a:off x="-75960" y="1884600"/>
              <a:ext cx="1981080" cy="1371600"/>
            </a:xfrm>
            <a:prstGeom prst="pie">
              <a:avLst/>
            </a:prstGeom>
            <a:solidFill>
              <a:srgbClr val="fac0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Circular Arrow 19"/>
            <p:cNvSpPr/>
            <p:nvPr/>
          </p:nvSpPr>
          <p:spPr>
            <a:xfrm flipV="1" rot="15050400">
              <a:off x="3620520" y="2150640"/>
              <a:ext cx="1981080" cy="1371600"/>
            </a:xfrm>
            <a:prstGeom prst="pie">
              <a:avLst/>
            </a:prstGeom>
            <a:solidFill>
              <a:srgbClr val="fac0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Circular Arrow 21"/>
            <p:cNvSpPr/>
            <p:nvPr/>
          </p:nvSpPr>
          <p:spPr>
            <a:xfrm flipV="1">
              <a:off x="1809720" y="4571280"/>
              <a:ext cx="2362320" cy="1676520"/>
            </a:xfrm>
            <a:prstGeom prst="pie">
              <a:avLst/>
            </a:prstGeom>
            <a:solidFill>
              <a:srgbClr val="fac0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24"/>
          <p:cNvGrpSpPr/>
          <p:nvPr/>
        </p:nvGrpSpPr>
        <p:grpSpPr>
          <a:xfrm>
            <a:off x="5562720" y="1371600"/>
            <a:ext cx="3581280" cy="5105520"/>
            <a:chOff x="5562720" y="1371600"/>
            <a:chExt cx="3581280" cy="5105520"/>
          </a:xfrm>
        </p:grpSpPr>
        <p:sp>
          <p:nvSpPr>
            <p:cNvPr id="182" name="Rounded Rectangle 22"/>
            <p:cNvSpPr/>
            <p:nvPr/>
          </p:nvSpPr>
          <p:spPr>
            <a:xfrm>
              <a:off x="5562720" y="1371600"/>
              <a:ext cx="3581280" cy="5105520"/>
            </a:xfrm>
            <a:custGeom>
              <a:avLst/>
              <a:gdLst>
                <a:gd name="textAreaLeft" fmla="*/ 174600 w 3581280"/>
                <a:gd name="textAreaRight" fmla="*/ 3406680 w 3581280"/>
                <a:gd name="textAreaTop" fmla="*/ 174600 h 5105520"/>
                <a:gd name="textAreaBottom" fmla="*/ 4930920 h 5105520"/>
              </a:gdLst>
              <a:ahLst/>
              <a:rect l="textAreaLeft" t="textAreaTop" r="textAreaRight" b="textAreaBottom"/>
              <a:pathLst>
                <a:path w="21600" h="30792">
                  <a:moveTo>
                    <a:pt x="3600" y="0"/>
                  </a:moveTo>
                  <a:arcTo wR="3600" hR="3600" stAng="16200000" swAng="-5400000"/>
                  <a:lnTo>
                    <a:pt x="0" y="27192"/>
                  </a:lnTo>
                  <a:arcTo wR="3600" hR="3600" stAng="10800000" swAng="-5400000"/>
                  <a:lnTo>
                    <a:pt x="18000" y="307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TextBox 20"/>
            <p:cNvGrpSpPr/>
            <p:nvPr/>
          </p:nvGrpSpPr>
          <p:grpSpPr>
            <a:xfrm>
              <a:off x="5730120" y="1426320"/>
              <a:ext cx="2975040" cy="1078920"/>
              <a:chOff x="5730120" y="1426320"/>
              <a:chExt cx="2975040" cy="1078920"/>
            </a:xfrm>
          </p:grpSpPr>
          <p:pic>
            <p:nvPicPr>
              <p:cNvPr id="184" name="TextBox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730120" y="1426320"/>
                <a:ext cx="2975040" cy="107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6100200" y="1447560"/>
                <a:ext cx="25869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70c0"/>
                    </a:solidFill>
                    <a:latin typeface="Calibri"/>
                  </a:rPr>
                  <a:t>Možnosti spolupráce a napojení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70c0"/>
                    </a:solidFill>
                    <a:latin typeface="Calibri"/>
                  </a:rPr>
                  <a:t>v rámci evropských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70c0"/>
                    </a:solidFill>
                    <a:latin typeface="Calibri"/>
                  </a:rPr>
                  <a:t>open acces infarstruktu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6" name="Picture 3" descr=""/>
            <p:cNvPicPr/>
            <p:nvPr/>
          </p:nvPicPr>
          <p:blipFill>
            <a:blip r:embed="rId7"/>
            <a:stretch/>
          </p:blipFill>
          <p:spPr>
            <a:xfrm>
              <a:off x="5791320" y="2819520"/>
              <a:ext cx="1541520" cy="64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4" descr=""/>
            <p:cNvPicPr/>
            <p:nvPr/>
          </p:nvPicPr>
          <p:blipFill>
            <a:blip r:embed="rId8"/>
            <a:stretch/>
          </p:blipFill>
          <p:spPr>
            <a:xfrm>
              <a:off x="5638680" y="5410440"/>
              <a:ext cx="3505320" cy="47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Group 23"/>
            <p:cNvGrpSpPr/>
            <p:nvPr/>
          </p:nvGrpSpPr>
          <p:grpSpPr>
            <a:xfrm>
              <a:off x="6858000" y="3124080"/>
              <a:ext cx="2057400" cy="1206000"/>
              <a:chOff x="6858000" y="3124080"/>
              <a:chExt cx="2057400" cy="1206000"/>
            </a:xfrm>
          </p:grpSpPr>
          <p:pic>
            <p:nvPicPr>
              <p:cNvPr id="189" name="Picture 2" descr=""/>
              <p:cNvPicPr/>
              <p:nvPr/>
            </p:nvPicPr>
            <p:blipFill>
              <a:blip r:embed="rId9"/>
              <a:srcRect l="0" t="0" r="58542" b="7896"/>
              <a:stretch/>
            </p:blipFill>
            <p:spPr>
              <a:xfrm>
                <a:off x="7924680" y="3124080"/>
                <a:ext cx="871560" cy="86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Rectangle 23"/>
              <p:cNvSpPr/>
              <p:nvPr/>
            </p:nvSpPr>
            <p:spPr>
              <a:xfrm>
                <a:off x="6858000" y="3657600"/>
                <a:ext cx="2057400" cy="6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BBMR 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Biobanking and Biomolecular Resources Research</a:t>
                </a:r>
                <a:r>
                  <a:rPr b="0" lang="cs-CZ" sz="1000" spc="-1" strike="noStrike">
                    <a:solidFill>
                      <a:srgbClr val="000000"/>
                    </a:solidFill>
                    <a:latin typeface="Calibri"/>
                  </a:rPr>
                  <a:t> I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nfrastructu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1" name="Picture 22" descr=""/>
            <p:cNvPicPr/>
            <p:nvPr/>
          </p:nvPicPr>
          <p:blipFill>
            <a:blip r:embed="rId10"/>
            <a:srcRect l="0" t="0" r="79401" b="0"/>
            <a:stretch/>
          </p:blipFill>
          <p:spPr>
            <a:xfrm>
              <a:off x="6324480" y="4572000"/>
              <a:ext cx="13456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Calibri"/>
              </a:rPr>
              <a:t>Pracovní skupina – biomedical life sci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84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funkční genomika savců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FRAFRONTIE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R. Sedláček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edlacek@img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trukturní biologie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STRUC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J. Dohnálek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ohnalek@imc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instruct-fp7.eu/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. Sklenář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sklenar@chemi.muni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. Koča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jkoca@chemi.muni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Zobrazování v biomedicíně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uroBioImag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P. Hozák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ozak@img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eurobioimaging.eu/poster.pdf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. Syk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syka@biomed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chemická genetika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U-OPENSCREE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P. Bartůněk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bartunek@img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fmp-berlin.de/eu-openscreen.htm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. Hocek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ocek@uochb.cas.cz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Bioinformatika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LIXIR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J. Vondrášek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jiri.vondrasek@uochb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Biobanking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BMRI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D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Valik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valik@mou.cz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klinický a translační výzkum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CRI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M. Hajduc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hajduchm@gmail.co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ecrin.org/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. Kar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kara.tomas@mayo.ed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ATRIS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J. Syk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syka@biomed.cas.cz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Systems biology and Synthetic biology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. Damborsky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jiri@chemi.muni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Calibri"/>
              </a:rPr>
              <a:t>Poslání pracovní skupiny pro přípravu Národní roadm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mapovat stávající infrastruktury výzkumu, které lze označit za velké a financovatelné podle novely zákona 130/2002 S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mapovat výstavb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a pořízení infrastruktur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, kt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é je připravováno z prostředků OP VaV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dentifikovat ESFRI Roadmap konsorcia, která  jsou relevantní pro VaV v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dentifikovat nejsilnější české týmy schopné se napojit na stávající ESFRI Roadmap konsorcia a katalyzovat jejich úč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koordinovat propojení stávajících infrastruktur a napojení na ESF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hadnout a navrhnout  potřebné finanční alokace na účelové financování národních infrastruktur v letech 2010 -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Kritéria pro výběr infrastrukt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2855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ákladný a unikátní soubor zařízení a činností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 nákladným provoz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en access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otevřenost a poskytování výzkumných služeb vnějším uživatelů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ýznam pro VaV na národní a evropské úrov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tenciál napojení na OP VaVpI projekty nebo ESFRI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oadmap proje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ritická masa a vědecká/technická/metodická excel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řenos znalostí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trénink a vzdělá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Calibri"/>
              </a:rPr>
              <a:t>První úko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Ve svém oboru zmapovat infrastruktury pro zařazení na roadmap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apovat stávající stav a co se připravuje v OP VaV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jevit vlastní odborný názo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vést SWOT analýzu současného stav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ážit možnosti napojení na ESFRI Roadmap konsor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had potřeb oboru na příštích 10 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pravit návrhy na zařazení nových infrastruktur a jejich lokalizaci na území Č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hadnout potřebné finanční alokace na léta 2010 – 2020 pro financování jejich provozu a obnovu zařízení pořízených z OP VaVpI po roc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ážit možnost návrhu další celoevropské infrastruktury pro ESFR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Návaznost na zatím definované projekty OP VaV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ITEC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rn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struct, BBM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CRC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rn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C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ioMedReg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lomouc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CRIN, BBM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IOCEV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stec u Pra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FROPNT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uroBioIma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STR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Rounded Rectangle 22"/>
          <p:cNvGrpSpPr/>
          <p:nvPr/>
        </p:nvGrpSpPr>
        <p:grpSpPr>
          <a:xfrm>
            <a:off x="249120" y="1755720"/>
            <a:ext cx="8523360" cy="5138640"/>
            <a:chOff x="249120" y="1755720"/>
            <a:chExt cx="8523360" cy="5138640"/>
          </a:xfrm>
        </p:grpSpPr>
        <p:pic>
          <p:nvPicPr>
            <p:cNvPr id="63" name="Rounded Rectangle 22" descr=""/>
            <p:cNvPicPr/>
            <p:nvPr/>
          </p:nvPicPr>
          <p:blipFill>
            <a:blip r:embed="rId1"/>
            <a:stretch/>
          </p:blipFill>
          <p:spPr>
            <a:xfrm>
              <a:off x="249120" y="1755720"/>
              <a:ext cx="852336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44560" y="2011320"/>
              <a:ext cx="76834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Group 23" descr=""/>
          <p:cNvPicPr/>
          <p:nvPr/>
        </p:nvPicPr>
        <p:blipFill>
          <a:blip r:embed="rId2"/>
          <a:stretch/>
        </p:blipFill>
        <p:spPr>
          <a:xfrm>
            <a:off x="927000" y="1895400"/>
            <a:ext cx="7740720" cy="4627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2286000" y="0"/>
            <a:ext cx="5486400" cy="15699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1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eb4e3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8eb4e3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Rounded Rectangle 22"/>
          <p:cNvGrpSpPr/>
          <p:nvPr/>
        </p:nvGrpSpPr>
        <p:grpSpPr>
          <a:xfrm>
            <a:off x="249120" y="1835280"/>
            <a:ext cx="8523360" cy="5132160"/>
            <a:chOff x="249120" y="1835280"/>
            <a:chExt cx="8523360" cy="5132160"/>
          </a:xfrm>
        </p:grpSpPr>
        <p:pic>
          <p:nvPicPr>
            <p:cNvPr id="69" name="Rounded Rectangle 22" descr=""/>
            <p:cNvPicPr/>
            <p:nvPr/>
          </p:nvPicPr>
          <p:blipFill>
            <a:blip r:embed="rId1"/>
            <a:stretch/>
          </p:blipFill>
          <p:spPr>
            <a:xfrm>
              <a:off x="249120" y="1835280"/>
              <a:ext cx="8523360" cy="51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44560" y="2087640"/>
              <a:ext cx="76834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3"/>
          <p:cNvGrpSpPr/>
          <p:nvPr/>
        </p:nvGrpSpPr>
        <p:grpSpPr>
          <a:xfrm>
            <a:off x="990720" y="1928880"/>
            <a:ext cx="7569000" cy="4852800"/>
            <a:chOff x="990720" y="1928880"/>
            <a:chExt cx="7569000" cy="4852800"/>
          </a:xfrm>
        </p:grpSpPr>
        <p:sp>
          <p:nvSpPr>
            <p:cNvPr id="72" name="Line 2"/>
            <p:cNvSpPr/>
            <p:nvPr/>
          </p:nvSpPr>
          <p:spPr>
            <a:xfrm>
              <a:off x="2963880" y="1928880"/>
              <a:ext cx="0" cy="485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"/>
            <p:cNvSpPr/>
            <p:nvPr/>
          </p:nvSpPr>
          <p:spPr>
            <a:xfrm>
              <a:off x="5936760" y="1928880"/>
              <a:ext cx="0" cy="485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Text Box 5"/>
            <p:cNvGrpSpPr/>
            <p:nvPr/>
          </p:nvGrpSpPr>
          <p:grpSpPr>
            <a:xfrm>
              <a:off x="1206000" y="2017800"/>
              <a:ext cx="1215360" cy="713160"/>
              <a:chOff x="1206000" y="2017800"/>
              <a:chExt cx="1215360" cy="713160"/>
            </a:xfrm>
          </p:grpSpPr>
          <p:pic>
            <p:nvPicPr>
              <p:cNvPr id="75" name="Text Box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6000" y="2017800"/>
                <a:ext cx="1215360" cy="7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1245240" y="2062080"/>
                <a:ext cx="1169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Biologic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Scien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Text Box 6"/>
            <p:cNvGrpSpPr/>
            <p:nvPr/>
          </p:nvGrpSpPr>
          <p:grpSpPr>
            <a:xfrm>
              <a:off x="3242160" y="1962720"/>
              <a:ext cx="2253600" cy="956880"/>
              <a:chOff x="3242160" y="1962720"/>
              <a:chExt cx="2253600" cy="956880"/>
            </a:xfrm>
          </p:grpSpPr>
          <p:pic>
            <p:nvPicPr>
              <p:cNvPr id="78" name="Text Box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2160" y="1962720"/>
                <a:ext cx="2251440" cy="95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243960" y="2004480"/>
                <a:ext cx="22518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Biological Resour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Production System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Text Box 7"/>
            <p:cNvGrpSpPr/>
            <p:nvPr/>
          </p:nvGrpSpPr>
          <p:grpSpPr>
            <a:xfrm>
              <a:off x="6697440" y="2017800"/>
              <a:ext cx="1161720" cy="713160"/>
              <a:chOff x="6697440" y="2017800"/>
              <a:chExt cx="1161720" cy="713160"/>
            </a:xfrm>
          </p:grpSpPr>
          <p:pic>
            <p:nvPicPr>
              <p:cNvPr id="81" name="Text Box 7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7440" y="2017800"/>
                <a:ext cx="1161720" cy="7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6778080" y="2062080"/>
                <a:ext cx="1035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Medic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Scien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AutoShape 10"/>
            <p:cNvGrpSpPr/>
            <p:nvPr/>
          </p:nvGrpSpPr>
          <p:grpSpPr>
            <a:xfrm>
              <a:off x="2319840" y="3809880"/>
              <a:ext cx="4053960" cy="462960"/>
              <a:chOff x="2319840" y="3809880"/>
              <a:chExt cx="4053960" cy="462960"/>
            </a:xfrm>
          </p:grpSpPr>
          <p:pic>
            <p:nvPicPr>
              <p:cNvPr id="84" name="AutoShap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319840" y="3809880"/>
                <a:ext cx="405396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2409120" y="3872160"/>
                <a:ext cx="389232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Comic Sans MS"/>
                  </a:rPr>
                  <a:t>INFRAFRONTI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AutoShape 11"/>
            <p:cNvGrpSpPr/>
            <p:nvPr/>
          </p:nvGrpSpPr>
          <p:grpSpPr>
            <a:xfrm>
              <a:off x="3140280" y="4273200"/>
              <a:ext cx="2030040" cy="462960"/>
              <a:chOff x="3140280" y="4273200"/>
              <a:chExt cx="2030040" cy="462960"/>
            </a:xfrm>
          </p:grpSpPr>
          <p:pic>
            <p:nvPicPr>
              <p:cNvPr id="87" name="AutoShap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3140280" y="4273200"/>
                <a:ext cx="20300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3232080" y="4336920"/>
                <a:ext cx="186696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Comic Sans MS"/>
                  </a:rPr>
                  <a:t>INSTRUC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AutoShape 12"/>
            <p:cNvGrpSpPr/>
            <p:nvPr/>
          </p:nvGrpSpPr>
          <p:grpSpPr>
            <a:xfrm>
              <a:off x="2637360" y="4742640"/>
              <a:ext cx="3862440" cy="462960"/>
              <a:chOff x="2637360" y="4742640"/>
              <a:chExt cx="3862440" cy="462960"/>
            </a:xfrm>
          </p:grpSpPr>
          <p:pic>
            <p:nvPicPr>
              <p:cNvPr id="90" name="AutoShap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2637360" y="4742640"/>
                <a:ext cx="38624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2725920" y="4803120"/>
                <a:ext cx="370116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Comic Sans MS"/>
                  </a:rPr>
                  <a:t>EU-OPEN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AutoShape 13"/>
            <p:cNvGrpSpPr/>
            <p:nvPr/>
          </p:nvGrpSpPr>
          <p:grpSpPr>
            <a:xfrm>
              <a:off x="990720" y="5260680"/>
              <a:ext cx="7569000" cy="469080"/>
              <a:chOff x="990720" y="5260680"/>
              <a:chExt cx="7569000" cy="469080"/>
            </a:xfrm>
          </p:grpSpPr>
          <p:pic>
            <p:nvPicPr>
              <p:cNvPr id="93" name="AutoShap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990720" y="5260680"/>
                <a:ext cx="7569000" cy="4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1081440" y="5321880"/>
                <a:ext cx="740340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Euro-BioImag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Rectangle 21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0" y="380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národní roadmap – příklad integr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9"/>
          <a:stretch/>
        </p:blipFill>
        <p:spPr>
          <a:xfrm>
            <a:off x="5181480" y="5562720"/>
            <a:ext cx="3200400" cy="512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6" descr="infrafrontier-logo.gif"/>
          <p:cNvPicPr/>
          <p:nvPr/>
        </p:nvPicPr>
        <p:blipFill>
          <a:blip r:embed="rId10"/>
          <a:stretch/>
        </p:blipFill>
        <p:spPr>
          <a:xfrm>
            <a:off x="5610240" y="3200400"/>
            <a:ext cx="874800" cy="78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971e204f61"/>
          <p:cNvPicPr/>
          <p:nvPr/>
        </p:nvPicPr>
        <p:blipFill>
          <a:blip r:embed="rId11"/>
          <a:stretch/>
        </p:blipFill>
        <p:spPr>
          <a:xfrm>
            <a:off x="6172200" y="4495680"/>
            <a:ext cx="1424160" cy="511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instruct logo.gif"/>
          <p:cNvPicPr/>
          <p:nvPr/>
        </p:nvPicPr>
        <p:blipFill>
          <a:blip r:embed="rId12"/>
          <a:stretch/>
        </p:blipFill>
        <p:spPr>
          <a:xfrm>
            <a:off x="4952880" y="4191120"/>
            <a:ext cx="77796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TextBox 1"/>
          <p:cNvGrpSpPr/>
          <p:nvPr/>
        </p:nvGrpSpPr>
        <p:grpSpPr>
          <a:xfrm>
            <a:off x="-165240" y="2724120"/>
            <a:ext cx="9321840" cy="3322800"/>
            <a:chOff x="-165240" y="2724120"/>
            <a:chExt cx="9321840" cy="3322800"/>
          </a:xfrm>
        </p:grpSpPr>
        <p:pic>
          <p:nvPicPr>
            <p:cNvPr id="102" name="TextBox 1" descr=""/>
            <p:cNvPicPr/>
            <p:nvPr/>
          </p:nvPicPr>
          <p:blipFill>
            <a:blip r:embed="rId1"/>
            <a:stretch/>
          </p:blipFill>
          <p:spPr>
            <a:xfrm>
              <a:off x="-165240" y="2724120"/>
              <a:ext cx="9321840" cy="332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28600" y="2743200"/>
              <a:ext cx="8915400" cy="29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Koordinátor za ČR/vědecký partner </a:t>
              </a: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:  Radislav Sedláček, Ústav molekulární genetiky AV ČR, v.v.i, BIOC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Partner v ČR:</a:t>
              </a: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  MŠMT ČR, kontaktní osoba: Gabriela Vlčkov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plň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Popis funkce genů, s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ystem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atická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anal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ýza myších mutantů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not deep drilling)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ima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rní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creening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min.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320 valid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ovaných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aramet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rů  ve fenotypizační platformě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Klíčové součásti infrastruktur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vybudovani centrální infrastruktury </a:t>
              </a: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„ Czech centre for phenogenomics“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r>
                <a:rPr b="0" lang="cs-CZ" sz="1600" spc="-1" strike="noStrike">
                  <a:solidFill>
                    <a:srgbClr val="0000ff"/>
                  </a:solidFill>
                  <a:latin typeface="Calibri"/>
                </a:rPr>
                <a:t>Open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klad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nvestice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700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il. Kč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oz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80-9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il. Kč/r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990720" y="0"/>
            <a:ext cx="7848360" cy="914400"/>
            <a:chOff x="990720" y="0"/>
            <a:chExt cx="7848360" cy="914400"/>
          </a:xfrm>
        </p:grpSpPr>
        <p:pic>
          <p:nvPicPr>
            <p:cNvPr id="105" name="Obrázek 4" descr="infrafrontier-head.gif"/>
            <p:cNvPicPr/>
            <p:nvPr/>
          </p:nvPicPr>
          <p:blipFill>
            <a:blip r:embed="rId2"/>
            <a:srcRect l="80181" t="0" r="0" b="0"/>
            <a:stretch/>
          </p:blipFill>
          <p:spPr>
            <a:xfrm>
              <a:off x="990720" y="75960"/>
              <a:ext cx="112176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2"/>
            <p:cNvSpPr/>
            <p:nvPr/>
          </p:nvSpPr>
          <p:spPr>
            <a:xfrm>
              <a:off x="1828800" y="0"/>
              <a:ext cx="70102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Times New Roman"/>
                </a:rPr>
                <a:t>Infrafrontie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European infrastructure for phenotyping and archiving of model mammalian genom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"/>
          <p:cNvSpPr/>
          <p:nvPr/>
        </p:nvSpPr>
        <p:spPr>
          <a:xfrm>
            <a:off x="304920" y="1450800"/>
            <a:ext cx="883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Calibri"/>
              </a:rPr>
              <a:t>Náplň, cíl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Systematická standardizovaná funkční anotace genů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omocí zvířecích modelů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1600" spc="-1" strike="noStrike">
                <a:solidFill>
                  <a:srgbClr val="000000"/>
                </a:solidFill>
                <a:latin typeface="Comic Sans MS"/>
              </a:rPr>
              <a:t>Phenofrontier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Archivace myších mutantů a modelů pomocí kryoprezervace, diseminac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000000"/>
                </a:solidFill>
                <a:latin typeface="Comic Sans MS"/>
              </a:rPr>
              <a:t>Archivefronti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604600" y="762120"/>
            <a:ext cx="3918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Comic Sans MS"/>
              </a:rPr>
              <a:t>Czech centre for phenoge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9:11:15Z</dcterms:created>
  <dc:creator>Peter</dc:creator>
  <dc:description/>
  <dc:language>en-US</dc:language>
  <cp:lastModifiedBy>witzanyovan</cp:lastModifiedBy>
  <dcterms:modified xsi:type="dcterms:W3CDTF">2009-09-25T14:03:08Z</dcterms:modified>
  <cp:revision>53</cp:revision>
  <dc:subject/>
  <dc:title>Slide 1</dc:title>
</cp:coreProperties>
</file>