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B57-99BC-41C1-8C14-B31A9A08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F6A-456A-4E5B-884A-596E4E44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534-9B64-446E-9FA0-FB4E3268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040-0879-42C8-AF63-9D95C710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8B22-3A88-459A-B4C9-A0BF46FF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5968-A1FB-4782-811D-9A995721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4A74-CE7C-434B-A454-244CB293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B3EF-7095-43DA-BAD2-7327FF1C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AF1D-704E-4830-8B1D-1ECE8FFA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10DA-7BCE-4530-8561-8891DEA2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ABA1-4FE2-4781-8FC4-1F17A3E4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0D5-C0E0-44D8-8449-19CEE3E6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DB05-8A0F-4D57-A6EA-6225982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72AF-84AB-4860-8362-9571DF9F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16DA-6DDC-4236-9DA1-EB60AD48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1D83-6D3D-409B-AAE6-F53D0730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8B2F-1D41-4548-94EA-0256FC35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981-5B4A-4303-BEE6-DAF08134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C41-FE05-4437-B5E3-E2A7E6BE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1CC-BA96-4C55-948D-71546271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C84-31E9-4144-B691-46B7D559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4D6-692F-408D-B520-9E419F4C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06F-7D23-4808-BCC6-2173BA2C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9BE-7CAE-484F-8163-22A42913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CD77-9120-4D86-B6DF-34547155C1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042C-A439-4216-B3E0-5570BB473319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ovéPole 3"/>
          <p:cNvSpPr/>
          <p:nvPr/>
        </p:nvSpPr>
        <p:spPr>
          <a:xfrm>
            <a:off x="1035000" y="1357200"/>
            <a:ext cx="70783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Česká Roadmap výzkumný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infrastrukt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- část Informatika (e-Infrastruktu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4"/>
          <p:cNvSpPr/>
          <p:nvPr/>
        </p:nvSpPr>
        <p:spPr>
          <a:xfrm>
            <a:off x="1857240" y="3643200"/>
            <a:ext cx="51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g. Jan Gruntorád, CS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členové pracovní skup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6"/>
          <p:cNvSpPr/>
          <p:nvPr/>
        </p:nvSpPr>
        <p:spPr>
          <a:xfrm>
            <a:off x="210600" y="628668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aha, 3.9.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ovéPole 1"/>
          <p:cNvSpPr/>
          <p:nvPr/>
        </p:nvSpPr>
        <p:spPr>
          <a:xfrm>
            <a:off x="285840" y="1785960"/>
            <a:ext cx="88581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ložná infrastruktura a jej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středí umožňující ulože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ého množství generovaných da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utné pro jejich zpracová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n-lin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é kapacity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louhodobá úložiště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archivace)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timalizac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stupu k uloženým datů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práva dat a kurátorství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promazávání starých nepotřebných d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rizontáln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bezpečnostní problemati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A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středí pro spolupráci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integrace s výpočetními a úložnými prostředími, videok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andartiza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uživatelských rozhraní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ormátů da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nitoring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785880" y="9288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truktura komplexní národní e‑infrastruktury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bdélník 1"/>
          <p:cNvSpPr/>
          <p:nvPr/>
        </p:nvSpPr>
        <p:spPr>
          <a:xfrm>
            <a:off x="214200" y="1500120"/>
            <a:ext cx="89298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Projekty navržené k zařazení do Road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elká infrastruktura CE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T for Innovations (IT4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entre for Education, Research and Innovations for ICT (CERI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Picture 1"/>
          <p:cNvPicPr/>
          <p:nvPr/>
        </p:nvPicPr>
        <p:blipFill>
          <a:blip r:embed="rId1"/>
          <a:stretch/>
        </p:blipFill>
        <p:spPr>
          <a:xfrm>
            <a:off x="714240" y="1069920"/>
            <a:ext cx="77155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ovéPole 1"/>
          <p:cNvSpPr/>
          <p:nvPr/>
        </p:nvSpPr>
        <p:spPr>
          <a:xfrm>
            <a:off x="142920" y="642960"/>
            <a:ext cx="900108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elká infrastruktura CES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no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íle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íťové infrastruktur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ětší propustnost stávajících linek, redundance, posílení uzlů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budová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ových optických tras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 uživatelům s vysokými nároky na přenosové pá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adstavbové služb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 vysokou přidanou hodnotou (AAI, prostředí pro spolupráci, bezpečnost, inteligentní monitoring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tvoření jednotn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rodní gridové infrastruktu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á bude integrova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početní a úložné zdroj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ýzkumných a akademických organizací v Č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řízení výkonných a vysoce dostupný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atových úložišť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 výzkumnou a akademickou komun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budování komplexní národní e‑infrastruktury pro vědu a výzkum s excelentními parametry, kter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jso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ěžně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dostupné na trh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poj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ově vznikající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ědeckých infrastruk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kytování špičkových komunikačních služeb (IP konektivita, end‑to‑end okruhy, …) a souvisejících nadstavbových služeb (AAI, videokonference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ovéPole 1"/>
          <p:cNvSpPr/>
          <p:nvPr/>
        </p:nvSpPr>
        <p:spPr>
          <a:xfrm>
            <a:off x="357120" y="107172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le (pokračování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ordina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árodní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ridových aktiv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kytová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žeb datových úložiš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71680" y="2857680"/>
            <a:ext cx="807696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SNET je dlouhodobě integrován do panevropských síťových infrastruktur (GNx) a gridových infrastruktur (EGE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kt IT4Inno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28556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ílem projektu je vytvořit na základně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ysoce výkonné výpočetní infrastruktu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a úrovni TOP50 nejvýkonnějších superpočítačů, široké portfolio následujících služeb s vysoce přidanou hodnoto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ýzkum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voj nových meto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softwarové podpory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elních algoritm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ávrh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ementace výpočetně náročných úlo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disciplinárního charakteru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dpora využití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kytování výpočetních kapac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to pojaté centrum rovněž vymezuj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kruh cílových skup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pro které je urče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ýzkumná obec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kademické sfér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rezentovaná univerzitami a pracovišti akademie věd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5%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ovaného výkonu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jekty z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likační sfér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četně státní správy, samosprávy a jejich institucí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lavní aplikační oblast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finované výzkumným záměrem centra jsou následující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zvoj informační společnost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stou vývoje komplexních systémů pro modelování, simulaci a řízení kritických situací (povodně, znečištění, dopravní problémy, exploze nebezpečných látek apod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voj metod řešení náročných aplikac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z oblasti výpočetní matematiky a mechaniky (strojní a automobilový průmysl, dynamika tekutin, geomechanika, stavební inženýrství), výpočetní fyziky a chemie (elektromagnetika, magnetooptika, akustika, molekulární dynamika, nanotechnologie, návrh léčiv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dpora rozvoj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bedded systémů a jejich networki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výkonnými výpočetními systém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oretický výzkum v oblasti informatik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zaměřený na problematiku vývoje a využití na výpočet náročných algoritmů (vyhledávání informace a dataming, problematika verifikace, bezpečnost, genetické a evoluční algoritmy apod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ýstupy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85716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ýsledky výzkumu a vývoje považované výzkumnou komunitou za excelentní, produkované v dlouhodobém horizontu v objemu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dpovídajícím parametrům evropských center excelen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jekty výzkumného týmu IT4I s jinými výzkumnými organizacemi, resp. výzkumné projekty jiných výzkumných organizací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 předmětné oblasti výzkumu, zejména pak v oblasti řešení výpočetně náročných úloh prostřednictvím infrastruktury superpočítačového centra projektu IT4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kytnutí komplexně orientovaných služeb včetně vývoje softwaru pro daný typ úlo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ajištění podpůrných a konzultačních služeb v oblasti HPC pro zákazníky cent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kytnutí výpočetních kapac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zkumné služby a výsledky poptávané aplikační sféro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řičemž míra úspěchu je měřena objemem finančních prostředků získaných z aplikační sféry: projekt IT4I počítá s významným zdrojem příjmů z aplikační sfér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středí propojující výzkum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uku v oblasti informačních technologií a výpočetní matemati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stou otevření nových studijních programů magisterského a doktorského studia cílených na HP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00040" y="4071960"/>
            <a:ext cx="807732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4I je členem evropského projektu PRACE (Partnership for Advanced Computing in Europe) zaměřeného na poskytování HPC služeb v E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IT  -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jekt Masarykovy univerzity (Fakulta informatiky, Ústav výpočetní techniky) a partnerů – projekt osy 2 programu Va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560" y="1000080"/>
            <a:ext cx="5143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ýznamné rysy projektu C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znamný P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árodní počítačové sítě,  zkušenost s provozováním výkonných výpočetních systémů a návaznost na rozvoj informatiky -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přístupnění výpočetních i úložných kapaci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poskytnut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ce kvalifikovaných služeb v I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ávaznost na nově akreditovaný program Služby v 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ovativní pracoviště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pojující centralizované služby s distribuovanými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lastní výzkum a vývoj ve správě a zpřístupnění výpočetních a úložných kapacit, vazba na doktorské i magisterské studi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6-32 pracovníků pro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rodní infrastruktur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plikační týmy projektů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é ji využívaj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imenzování centra verifikováno partnerskými dohodami -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zbytný minimální rozsah kapacit a služeb CERIT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výpočetní výkon 6400 jader v SMP a 6000 v HDC  a úložná kapacita 2x8 petabytů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57520" y="1142640"/>
            <a:ext cx="3786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lečn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ovativní prostředí podporující konkurenceschopno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ČR v oblasti výzkumu a vývoje; vysoce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valifikovaná odborná kapacita pro efektivní využití a zpřístupně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důležitější, než pouhá instalace technicky dokonalé výpočetní k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lečně s IT4I zapojení do PRACE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mplementarita i zálohování výpočetních kapaci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dvojice ne zcela ekvivalentních uzlů vytvářející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rodní infrastrukturu pro superpočítačové výpočt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pravená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polupráce s  etablovanými superpočítačovými cent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 Julichu a Garch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gram 4" descr=""/>
          <p:cNvPicPr/>
          <p:nvPr/>
        </p:nvPicPr>
        <p:blipFill>
          <a:blip r:embed="rId1"/>
          <a:stretch/>
        </p:blipFill>
        <p:spPr>
          <a:xfrm>
            <a:off x="-19080" y="341280"/>
            <a:ext cx="3749760" cy="3676680"/>
          </a:xfrm>
          <a:prstGeom prst="rect">
            <a:avLst/>
          </a:prstGeom>
          <a:ln w="0">
            <a:noFill/>
          </a:ln>
        </p:spPr>
      </p:pic>
      <p:sp>
        <p:nvSpPr>
          <p:cNvPr id="110" name="Content Placeholder 3"/>
          <p:cNvSpPr/>
          <p:nvPr/>
        </p:nvSpPr>
        <p:spPr>
          <a:xfrm>
            <a:off x="3857760" y="1071720"/>
            <a:ext cx="528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ílová skupina uživatel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sad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lepšení podmínek českých vědeckých excelentních skupi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pro které je nedostatečnost výpočetních a úložných kapacit e-infrastruktury v jejich vlastních činnostech kritický a zároveň brzd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nkurenceschopnost regionů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efektiv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apojení v mezinárodních projektech typu ESF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lupráce a poskytování služeb výzkumné a vývojové komunitě, tj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. velkým nově budovaným centrů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ako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zechGlob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program EU – ICOS)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DMAS, UCE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materiálový a technologický výzkum)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EITE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BIOCEV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life sciences)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CAM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nkologie) při jejich vlastním zapojení v síti ESF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ojení d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ranného a bezpečnostního výzkum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rámci ESA, EDA, RTO N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zkumné týmy a projekty n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niverzitá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v ústave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V ČR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 průmyslový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acovištích aplikovaného výzkum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firmách s vysokou úrovní inovac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ovéPole 1"/>
          <p:cNvSpPr/>
          <p:nvPr/>
        </p:nvSpPr>
        <p:spPr>
          <a:xfrm>
            <a:off x="214200" y="714240"/>
            <a:ext cx="8715600" cy="63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Návrh dalšího postupu, doporučení 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jek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vzájemn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plementár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společně mají potenciál vytvořit komplexní národní e‑infrastrukturu na špičkové úrov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ká infrastruktura CESNET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krývá základ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unikační infrastruktur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věnuje se koordinac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ridových služeb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jako budoucí provozovatel národní gridové infrastruktury – NGI) a vybudování netriviálních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stribuovaných úložných kapaci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které budou sloužit celé výzkumné a akademické komunitě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4I - primárně zaměřen na poskytová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uperpočítačových kapaci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napojení do odpovídajících struktur (zejména projekt PRACE),  hlavní část výkonu bude řešena a poskytová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ntráln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RIT -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azební prvek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zi čist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stribuovaným řešením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grid) 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ntráln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ojatým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uperpočítače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ude mít zapojenu významnou část svých výpočetních kapacit v národním gridum, bude disponovat i superpočítačovými technologiemi,  bude poskytovat i nezanedbatelný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ložný 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což je dáno i charakterem požadavků přímo napojených ESFRI a dalších projektů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ovéPole 2"/>
          <p:cNvSpPr/>
          <p:nvPr/>
        </p:nvSpPr>
        <p:spPr>
          <a:xfrm>
            <a:off x="500040" y="1285920"/>
            <a:ext cx="835812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no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ložení pracovní skup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WOT analý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lužby komplexní e-Infrastruk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rojekty navržené k zařazení do Road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ávrh dalšího postu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ovéPole 1"/>
          <p:cNvSpPr/>
          <p:nvPr/>
        </p:nvSpPr>
        <p:spPr>
          <a:xfrm>
            <a:off x="285840" y="1571760"/>
            <a:ext cx="8643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Návrh dalšího postupu, doporučení 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podrobněji rozpracovat plány a potřeby ESFRI projek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 využívání komplexní e-Infratsruk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rozpracovat možnosti organizačního zajištění koordin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kytování komplexních e-Infrastrukturních služ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1"/>
          <p:cNvSpPr/>
          <p:nvPr/>
        </p:nvSpPr>
        <p:spPr>
          <a:xfrm>
            <a:off x="1035720" y="2286000"/>
            <a:ext cx="728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5400" spc="-1" strike="noStrike">
                <a:solidFill>
                  <a:srgbClr val="3333cc"/>
                </a:solidFill>
                <a:latin typeface="Times New Roman"/>
              </a:rPr>
              <a:t>Děkuji Vám za pozorno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ovéPole 1"/>
          <p:cNvSpPr/>
          <p:nvPr/>
        </p:nvSpPr>
        <p:spPr>
          <a:xfrm>
            <a:off x="430920" y="1428840"/>
            <a:ext cx="80964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ložení pracovní skupiny pro přípravu Česk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Roadmap výzkumných infrastrukt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f. Ing. Zdeněk Bittnar, Dr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ČVUT v Pra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RNDr.Antonín Kučera, CSc.                  UK v Pra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f. Ing. Ivo Vondrák, C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ŠB-TU v Ostrav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 RNDr. Luděk Matyska, C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g. Jiří Site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ČU v Plz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f. Ing. Miroslav Tůma, C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V Č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jemník pracovní skupi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g.Jan Furman                                               CES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ovéPole 1"/>
          <p:cNvSpPr/>
          <p:nvPr/>
        </p:nvSpPr>
        <p:spPr>
          <a:xfrm>
            <a:off x="285840" y="500040"/>
            <a:ext cx="86439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WOT a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lý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ilné strá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prvek (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unikač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část)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‑infrastruktur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v ČR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a špičkové světové úro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íťová a gridová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ást dlouhodobě plně integrová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 evropských infrastrukturních projekt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GN3, EGEE 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labé strá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plexní e‑infra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tak jak je chápána ve strategických ESFRI a e-IRG dokumentech,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atím v ČR chyb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dostatečná výpočetní a úložná kapacita pro výzkumnou komunit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uperpočítačové zdroje chybí v republice úpl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nalost provozu a správ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stribuovaných a superpočítačových výpočetních systémů i rozsáhlých datových úložišť je v republic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mi nerovnoměrně rozptý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yb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ystematic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zajiště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zdělá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 oblasti „scientific computi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ovéPole 1"/>
          <p:cNvSpPr/>
          <p:nvPr/>
        </p:nvSpPr>
        <p:spPr>
          <a:xfrm>
            <a:off x="142920" y="1428840"/>
            <a:ext cx="90010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říležitosti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ám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ležito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ybudovat národ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plexní e-infrastruktur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 výzkumnou  a akademickou komunit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a světové úrov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xistují již projekt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realizac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ednotlivých část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ové infra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pravené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jek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e vzájemn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uj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mají potenciál pokrýt všechny aspekt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oderní komplexní infra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lizací doporučení dojde k souběžné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poře špičkových vědeckých tým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nstal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ýznamných součástí distribuované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-infrastruktury v region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ovéPole 1"/>
          <p:cNvSpPr/>
          <p:nvPr/>
        </p:nvSpPr>
        <p:spPr>
          <a:xfrm>
            <a:off x="142920" y="1357200"/>
            <a:ext cx="90010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říležitosti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budováním kvalitní e‑infrastruktury lze výrazně přispět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e stabilizaci výzkumných pracovníků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e všech vědeckých oborech a vytvořit podmínky pro dalš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ersonální posilování české vě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případě distribuovaných výpočetních kapacit zůstane zachována značná mír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utonom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většina prostředků bude ve vlastnictví a správě jednotlivých organizac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por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polupráce tým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národním a zejmé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zinárodním měřít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možní řešit aktuál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ké výzkumné problém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íky snadnému zapojení do rozsáhlé mezinárodní spolupráce (ESFRI projekty, EIROForum – CERN, ESA, EMBO, EBI, … – a dalš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ovéPole 1"/>
          <p:cNvSpPr/>
          <p:nvPr/>
        </p:nvSpPr>
        <p:spPr>
          <a:xfrm>
            <a:off x="142920" y="1071720"/>
            <a:ext cx="90010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Ohrožení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dostatečné finanční prostředk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e-Infrastrukturu v důsledk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cenění potře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 český akademický i průmyslový výzk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koordinované pořizová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provoz informačních technologií (přenosových, úložných a výpočetních kapacit) bez vazby na koncept národní e‑infra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ridová část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‑infrastruktury je založena 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poje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ýpočetních a případně úložných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apacit jednotlivých subjekt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rojektů VaVpI, ESFRI, vysokých škol a výzkumných ústavů). Pokud tyto subjekty z jakéhokoliv důvod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ce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é potřeby a nepořídí odpovídající kapacity, nebude co propojovat do národního gridu a v konečném důsledk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budou k dispozic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povídající výpočetní a úložné kapacity pro řešení špičkových potř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ovéPole 1"/>
          <p:cNvSpPr/>
          <p:nvPr/>
        </p:nvSpPr>
        <p:spPr>
          <a:xfrm>
            <a:off x="142920" y="1500120"/>
            <a:ext cx="90010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Ohrožení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držitelnost vybudované e‑infrastruktury z důvod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dostatečných finančních prostředků na pro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tráta akumulovaného know-how 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ybudovaného mezinárodního postave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důsledk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dostatečné podpory národní složk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ezinárodních e-Infrastruktur (GN3, EGI, PR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ovéPole 1"/>
          <p:cNvSpPr/>
          <p:nvPr/>
        </p:nvSpPr>
        <p:spPr>
          <a:xfrm>
            <a:off x="285840" y="1285920"/>
            <a:ext cx="885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íťová infrastruktura a jej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klade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yzická infrastruktur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alizovaná sofistikovaný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tickým přenosovým systéme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a technologie pro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nos dat protokolem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ransportní služb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 špičkovými parametry (např. virtuální privátní datové okruhy, vícebodová distribuce dat at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pojení do sítě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do evropské sítě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É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početní infrastruktura a jej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uperpočítačová centr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centra poskytujíc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početní kapacit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 subjektů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ri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- propojení výpočetních kapaci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závislých menších center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gridové prostředí tvoří spolu se superpočítačovými centry základní prvky výpočetní infrastruktury v České republ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oučástí může být 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ordinace nákup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zpřístupně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zbytn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poj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ýpočetní části e‑infrastruktury s podobným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ystémy v zahraničí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 důvodu zajištění mezinárodní spolupráce vědeckých týmů  (projekt PRACE  a projekt EGI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bdélník 2"/>
          <p:cNvSpPr/>
          <p:nvPr/>
        </p:nvSpPr>
        <p:spPr>
          <a:xfrm>
            <a:off x="785880" y="50004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truktura komplexní národní e‑infrastruktury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8:04:40Z</dcterms:created>
  <dc:creator>zapletalova</dc:creator>
  <dc:description/>
  <dc:language>en-US</dc:language>
  <cp:lastModifiedBy>witzanyovan</cp:lastModifiedBy>
  <dcterms:modified xsi:type="dcterms:W3CDTF">2009-09-25T13:55:19Z</dcterms:modified>
  <cp:revision>604</cp:revision>
  <dc:subject/>
  <dc:title>Prezentace aplikace PowerPoint</dc:title>
</cp:coreProperties>
</file>