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F53-29A5-4535-9850-5B5CBFBA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D27-0EF9-441B-A420-6800C8FE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840-AF7C-4F72-9E50-1039E09C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AEB-9799-495E-9B7F-DB9FFDC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944-C16F-49CB-B9BE-846C933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99EC-E317-485E-9F5D-C42458B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B4E0-275B-4755-907D-04C7C6A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5F20-FF10-4211-AFAA-08A1168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B32E-662C-4348-BAF4-794228E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254-DCFB-45A1-A806-25C9ACD9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B3E2-1A4D-4D4F-802A-09BFD55E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8D1-3C31-4A15-9CC9-453FC04E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5C0-D390-475F-8083-1D39442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07F2-1814-4C27-AEC0-09D22A2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8B6-65C8-4A09-8467-9E36710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5A8F-BAEE-42CE-BCA4-582FDD1F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5E17-3DD8-455C-A1A5-E4817997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EF5F-9448-493C-A47C-741545DD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5306-4508-4236-99B2-92C2C76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D04E-88F8-4DA0-88D8-9CAC0ACD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6DF7-8B14-45E1-8FA6-6B167E2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A7FBA-8D24-4BE5-9358-082EB4CC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D71-3D56-4F4D-BF99-EAB91ED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6526-5AA0-45D1-9F96-F9CC6E5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34AF-0FAC-459B-B124-0CCA180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D4A9-CBA9-408E-8BA7-0B666A7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2E42-EE8D-4CD6-8DA0-CF7C936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61F4-97F4-4581-91FA-EB6C36D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D49E-3EB5-4383-A63B-98125311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2132-1630-4BFA-9926-AC0868A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CDBDB-D9B5-4F1C-A1A6-6ED4155A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FB7B-7D6E-4B51-87FC-AEF3E23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4C0B-E123-4062-9751-3EFBFC2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563-0DE2-45B0-A4AE-96929FAB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6783-C1C0-4F7F-A32D-0ED8B69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88F2-0FEF-4C3E-B068-93AA283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B163-844C-4F24-9246-30C4CBC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1718-29A3-4953-9EED-9D61D66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9352-D875-4F26-B4CB-F1845A3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C625-65BF-4C0C-96D5-EF35882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4B8C-1CBC-4795-AD0C-E791844F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CF2F-C98E-49CF-8E3F-79D6ABCA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7B81-0C55-4AF7-B37C-D689B8FB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2B4-DDCC-4D91-8ED4-0D8CB1D3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86F-1CDE-4155-9AE9-A2CE0A13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A89-30D1-4D4E-A3CA-7946BCE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ED5-C43D-4DB2-875D-82B1CB5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B05-9E36-4C59-94B8-0EE325F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AC0-CD30-44C7-9023-F5464FCD45ED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5D7-18BB-41D7-97EC-ED2CAAFFC126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F1C-C162-47A9-AE11-8084117198B0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201-198A-4CFC-8432-25A504C73A28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4617b"/>
                </a:solidFill>
                <a:latin typeface="Calibri"/>
              </a:rPr>
              <a:t>Progra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00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ivítání, úvod do problematiky a cíl informačního dne  - Jan Marek, CSc. 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ředitel odboru mezinárodní spolupráce ve výzkumu a vývoj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2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práce tematických skupin České Roadmap – moderuje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Socioekonomické a humanitní vědy – Jindřich Krejč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Vědy o životním prostředí – Michal V.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0:15 – 10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Fyzika a materiálové inženýrství, vesmír – Petr Křen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nergetika – Ivan Štek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1:45 – 12: 1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2:15 – 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Oběd formou bufet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okračování – tematické skupin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Biomedicína – Peter Šebo a Radislav Sedláč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30 – 13: 4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horizontálních témat – moderuje Jan Hrušá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 – infrastruktury – Jan Gruntorá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4:30 – 15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valuace </a:t>
            </a:r>
            <a:r>
              <a:rPr b="1" lang="en-US" sz="1400" spc="-1" strike="noStrike">
                <a:solidFill>
                  <a:srgbClr val="55a839"/>
                </a:solidFill>
                <a:latin typeface="Constantia"/>
              </a:rPr>
              <a:t>start- up společností </a:t>
            </a: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– Viliam Grácz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5:30 – 16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ečná d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Shrnutí a návrh dalších kroků –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1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 – Jan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Definice velké infrastruktury podle zákona 130/2002 Sb. v posledním zně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§2 Vymezení pojm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(2) pro účely poskytování podpory j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) velkou infrastrukturou pro výzkum, vývoj a inovace jedinečné výzkumné zařízení, včetně jeho pořízení, souvisejících investic a zajištění jeho činnosti, které je nezbytné pro ucelenou výzkumnou a vývojovou činnost s vysokou finanční a technologickou náročností a které je schvalováno vládou a zřizováno jednou výzkumnou organizací pro využití též dalšími výzkumnými organizacem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Calibri"/>
              </a:rPr>
              <a:t>ESFRI – 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uropean Strategic Forum for R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oslání ESFR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trategický přístup k evropským výzkumným infrastrukturám; a)směřování (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Roadmap 2006, 2008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); b)manažerské problémy; právní otázky; ad hoc otázky (regionální rozmě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Ustanoveno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během působení komisaře Busquina v únoru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– 15 států – tvořené 1 zástupcem administrativy a 1 odborníkem z každého ČS;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lénum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ematick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pracovní skupi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ředsedov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voleni na 2 rok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. Hans Cha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. John Wood – ustanovil výkonný výb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3. Carlo Rizzu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eští delegát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Jan Marek a Karel Jungwirth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Naďa Witzanyová a Jan Hrušá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Konferenc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2000 </a:t>
            </a: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Strassbourg;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2003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riest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; 2005 ECR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ttingham;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007 Hamburk; 2008 ECRI Versailles; 2009 RIC Prah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26:31Z</dcterms:created>
  <dc:creator>witzanyovan</dc:creator>
  <dc:description/>
  <dc:language>en-US</dc:language>
  <cp:lastModifiedBy>witzanyovan</cp:lastModifiedBy>
  <dcterms:modified xsi:type="dcterms:W3CDTF">2009-09-02T11:37:16Z</dcterms:modified>
  <cp:revision>8</cp:revision>
  <dc:subject/>
  <dc:title>Snímek 1</dc:title>
</cp:coreProperties>
</file>