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9951-E739-436A-8E05-841654B162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1AAC-04B5-4DC8-93DF-B0116784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52BA3-B840-4379-8E18-CBFD89B4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306C-73F7-4780-8F1D-A37F8E91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A1485-13A9-48A1-94F2-50A686B0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8B43-F5C8-4133-B589-80B78529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61E6-9CCB-4A73-B927-F041E0CC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BF13-0C1A-4297-8D73-7077FB7B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2E2B-88A6-429A-897A-B31A478C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1B72-C489-4515-8340-35D8C86F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2D213-690D-4E71-8819-051C525F48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4D368-0A09-4EB2-8C60-78164431CA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D614-C730-45DD-8BA9-D5BC1B48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D6770-456D-41A7-96A6-05F9074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65E5E-50BE-4456-A487-C6C029E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E7D82-79F7-44B6-8FBE-36DAE04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53E1C-BC5E-4962-9466-FF5268FE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99BEF-C17E-4BAD-9519-1520492B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F9F1A-3B12-4B40-8A2F-BBEDA056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F2918-DC5A-4882-939A-72206DD4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40EF3-5D9D-4CA7-958C-A22339A7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055BF-A643-41D1-8B51-12280407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30C18-DC94-486A-B302-217604BB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E122-813B-4AD0-A318-77617732B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1AFD0-E32D-4D1D-BE27-459FE87753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C275B9-EDC4-4BBF-A7DF-DB5EFDA15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3DB79-4E5F-41B3-BDE6-857B33A5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0D4586-A655-449E-B8A6-F687DFF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BE045-3C54-440E-95C2-2F30E43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69CC6F-A656-42A3-A035-6C78BA10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1F861-B9B9-4102-B646-E7DEB5E8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31939-4B04-473B-81C5-EB57614D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C4E3FE-DFCE-4DDE-A6F6-F8E478E4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DC78DC-3BFD-4DED-B72B-43F2F181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28EC-41C0-42EA-81ED-AAD240DFFF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834C49-936C-451C-B3BD-4D16BD78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547C91-3457-4A44-A61D-DFFCF7C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7F3551-4038-4FCB-8D1C-1A57B0C2A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5992-5AD7-42C7-AFBF-902018290A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E377A-008D-4A6A-BE79-86B39CF0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6C4D-0C99-4B36-B8EB-6F0DBA87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531F2-7B95-45FE-AA68-1906D43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18DAC-A15A-48FF-B1C7-FAE571F4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7BFB5-E531-4BEC-9CE5-41A73410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E2D9-A835-4A40-9587-7F28D47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31252-5C39-4387-B222-54227664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A3341-5C91-430B-B010-2E3410B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60D4-718D-40A5-8422-30D67F99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1AFBD-6EB8-4CB4-9B8F-259C3E7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ADB6B-9CA3-4901-AD5E-BD30B4C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8ED0D-5490-46DF-A5E8-3EC7083DEB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A1568-1FB6-48AE-99F6-CE8ED612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E5AC5-CB2E-48D5-A617-7E3D9479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900AD-4553-4722-AA8A-10FBE1F8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10CD0-98E1-45CF-BB46-DFC36C8B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F1DA4-D96C-4B89-BFAF-2A60E7A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32AD-EA9D-4305-B56B-8C342B7B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04FC8-2ED9-40F5-992A-E26D4268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E72B2-A202-4751-92DD-2ED49A5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A9F1A-15C3-4B75-B425-093BFA77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89F5-C209-4FB1-81CE-2C25D8F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A1228-CDB9-4B6D-9668-A4024994E1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1CBB-1B20-483E-A140-F4D4D88F97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7455-2125-4CBB-8FF4-0574F690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39A1-A19F-46B3-BC27-72F92AF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F0E5-4CAC-47F8-91A6-2C60A4BC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983D-0017-4A21-8F16-6F75A327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CA6F-4825-439C-AE39-461BFCEA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0B40-ECB1-44EE-8D5B-1EA9C3BD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1184-81E3-4C35-8D8F-2FD7399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AA20-E294-4AA9-939A-4A7C3857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D77A-54F6-485E-915C-EABD945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D932-F13E-4CCA-8ABA-4695869F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479D-994E-4221-9396-B7028F68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6C12-5B51-4CCC-A95F-3AD575F38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5F4E0-666C-4569-9A4E-A0EB5DDE2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D16D9-8C88-49A8-A4E3-CE1B1A82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0A942-F1F7-4FA3-A0C5-8AAB910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BDB1-F6CC-4256-82FF-67D6CD2A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046DE-43D6-49C1-9998-9ACFAD62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52D50-3D0D-4CCD-BC42-EAB1A9B3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550D9-3CCB-4376-BDD8-94956B20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CF5E4-8298-4CD5-A954-696142D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59AF4-B9A3-4E0D-B813-1921DCA3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F6A09-A424-4A00-BBDC-9DA77771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DBCC5-EBCC-467E-B109-D6584787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BE343-967E-400C-B683-BE8A6BA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78D28-013E-41DB-A767-BEFD7EF8D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25945-FB50-4931-9D96-3031BC579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911A-EA38-4B03-8674-A3994BA2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912FF-24C2-49D8-B8EB-BAF75E3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8B7F2-0563-4138-9DEF-69612CAB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CA61F-6EA1-4AAE-9505-96C5E1D1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BECC5E-3069-4053-85B1-5A53C897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78318-D03E-4821-9614-9114DFFD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7B29C-61F6-4C77-830D-39BAD9A4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2E1D8-897F-43B5-8F8F-81214A7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3CE9A-02D2-4CBC-9616-CD8BDAF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94C7A-C625-4A7A-86E4-B099B71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4F6A7-ADF8-465E-B578-92BCCA7A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5AB0-5114-4E06-9EC4-B7EDCACF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029E0-18F3-45D3-86A7-B38194DD71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F126-C5F9-4B6F-90D4-3B733384B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5091-08F0-42AD-AF2A-B6FD2E0A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65E5-7FCF-4381-9466-C0850148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7A85-86B6-472D-9A3F-8F5CB2DF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0076-D3E8-4AC6-A297-27287B12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6736-A2D6-434A-B529-F224CC0F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FD41-D331-4614-AFFC-A81BE37E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2CFD-F484-4820-93B8-FA8109F1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15B5-ED6D-4457-B06C-880FF657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C01B-C586-4C9C-AB23-093D3787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37D1-81BA-4386-ACCF-D1A36B0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B752-60C4-4048-AFA4-2197AC2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6D65-351F-4BA0-A437-5C7254F7F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104FF-C27F-4E20-B51E-64F41AC677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E31C7-8D66-4126-A1FA-769A4394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595B3-54DD-45A2-B261-AE9CC8A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2FE57-EC4B-46BA-83BA-3CA041C7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ECAA7-4ACE-469C-9470-6264B537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9049D-9E7E-4379-A35B-8F4D0D85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12656-E0AE-4707-B03B-B27C230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12A1-2B1D-4B0D-9E26-BE773C33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410EB-067C-4192-97A6-64FACB0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20882-D449-4E9B-B7B1-85564CEF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08F3C-F349-48CC-9BEE-1D59D106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03E70-C584-4317-95C7-F195B427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D0972-8C3A-4709-BC35-31BCC2831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782D5-DE70-4DB1-99EA-6F0130834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DB887-2C61-495C-B48B-55553A7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C3E63-684F-4B4A-950A-D0881A7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792C36-D221-46EF-8534-D907F932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7000E0-C653-493E-B16E-608FB41B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F546-C810-4DC6-9593-6E21FA2A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F144A-046F-4127-8BBE-1C54EF3F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B4EB1-96C0-42A4-B8D7-17893706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FBB30C-A2DC-4B42-B478-21AA46AA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A7D7B-AB78-484F-835C-7B4AED2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83677-0246-496B-9183-5EB8540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D55F8-B97D-4723-8597-1A35A20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54409B-434D-4E10-96FC-36FD3FABC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2D5F-D19E-498C-851A-89D272B280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48DAE-D542-44FF-A0B2-6A6FFFA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D003-3CAC-45DB-8B2E-489CAFF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736-0089-482C-9FF1-334B603D51BE}" type="slidenum">
              <a:rPr b="1" lang="cs-CZ" sz="20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B59A-244C-45E7-AEC9-A08353FB63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FEAD-FF13-4E3E-ABBF-6732F2AAC4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3F5C-0149-4F3D-A27A-B936E6AD2B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9398-47DB-4528-8E68-4F29AF18DF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87F-FF2D-412E-8E91-B3D5B47EC1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061F-A523-44B3-9E1C-645D97A129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DA1-78A5-4713-B31F-D2A641E3E1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090C-A57F-4D18-BDD9-5B783292C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ADBE-7C10-44F6-B20D-4D124FD2E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5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409A-2752-4C0A-B9D3-B5C8D6F3D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7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3B25-F69A-4891-B59D-E821A6CBC8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.wmf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3.png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.wmf"/><Relationship Id="rId6" Type="http://schemas.openxmlformats.org/officeDocument/2006/relationships/image" Target="../media/image5.png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1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wmf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wmf"/><Relationship Id="rId14" Type="http://schemas.openxmlformats.org/officeDocument/2006/relationships/image" Target="../media/image5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09480" y="3205080"/>
            <a:ext cx="80517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ociální a humanitní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ědy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 České Roadma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řich Krejč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rej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@soc.cas.c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520560" y="1279440"/>
            <a:ext cx="7899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Informační den o infrastruktuře výzk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3. září 2009</a:t>
            </a:r>
            <a:r>
              <a:rPr b="0" lang="en-US" sz="2600" spc="-1" strike="noStrike">
                <a:solidFill>
                  <a:srgbClr val="3366cc"/>
                </a:solidFill>
                <a:latin typeface="Arial"/>
              </a:rPr>
              <a:t>, </a:t>
            </a: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MŠM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CD9-2C12-46F3-B6F8-8D36D6D6908D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rojekty pro Českou Roadmap (II.)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958320"/>
            <a:ext cx="9144000" cy="58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5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 - s českou úča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SS (surv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Ú AV ČR, 3 vlny z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nancování - nyní: SOÚ (dříve INGO, GAČ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: realizace šetření každé 2 roky + doprovodn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999"/>
              </a:spcBef>
              <a:buSzPct val="1335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lší národní projekty - přehled v pří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eský národní korpus (FF U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dat pro jazykový výzkum, úložiště digitalizovaných textů + spec. software, široké spektrum depozitorů a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spolupráce (TELRI, CL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nancování: Výzkumný záměr MŠMT (+ gra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25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tální knihovny, databáze, projekty digitalizace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běr dat - koordinovaná účast v kontinuálních mezinár. šetř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8812-3DE4-46AD-8CEA-9E421970B495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ředběžné zhodnocení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17520" y="755280"/>
            <a:ext cx="8826480" cy="61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49"/>
              </a:spcBef>
              <a:buSzPct val="1526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apojení do mezinárodních aktivit - významný impul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ojekty formulované „zdola“ - vycházející z potřeb výzkumník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existující a zavedené technolo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ítě - spolupráce - sdílení zdrojů - rozložení nákladů - efektivi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625"/>
              </a:spcBef>
              <a:buSzPct val="1526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apojení do mezinár. projektů nepokrývá reálné potřeby SH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k koncepce a specializovaný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tříštěnost, nedostatek koordinace, různost institucionálního zázemí, různost zdrojů financo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hybějící infrastruktur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limity dosahování excelence, limity efektivity, limity zapojení do mezinár. projek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fragmentovaná, ale existující infrastruktur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východiska 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o nové projekty a řešení nedostatk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2625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473A-3A42-436E-9E93-5F212E95988D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098360"/>
            <a:ext cx="819936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1500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: www.cordis.lu/esf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SSDA: http://www.cessd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ologický datový archiv: http://archiv.soc.cas.c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LARIN: http://www.clarin.e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RIAH: http://www.dariah.e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ARE: http://www.share-projec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ARE ČR: http://www.cerge-ei.cz/shar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S (Survey): http://www.europeansocialsurvey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ý národní korpus: http://ucnk.ff.cuni.cz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DF58-1B9D-4509-8D0D-3CF87A976DCC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ématická pracovní skupina SH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rakter a význam 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rastruktury v SH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HV v ESFRI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jekty pro Českou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běžné zhodnoc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7" descr="under construction"/>
          <p:cNvPicPr/>
          <p:nvPr/>
        </p:nvPicPr>
        <p:blipFill>
          <a:blip r:embed="rId7"/>
          <a:srcRect l="12617" t="10533" r="11683" b="12114"/>
          <a:stretch/>
        </p:blipFill>
        <p:spPr>
          <a:xfrm>
            <a:off x="6006960" y="3159000"/>
            <a:ext cx="2057400" cy="18655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6032880" y="5068800"/>
            <a:ext cx="202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AD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PŘÍ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4ECC-1537-4B14-8A23-E65FB15E81FA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Tématická pracovní skupina SHV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30360"/>
            <a:ext cx="80391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11"/>
              </a:spcBef>
              <a:buSzPct val="139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gr. Jin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ch Krej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PhD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 AV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ciolog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PhDr. Ing. On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 C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PhD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SS M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itolog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f. PhDr. Milan Hlav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a, CSc.,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ÚČ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F U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Ing. Daniel 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ich, PhD.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ERG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-E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konom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RNDr. Karel Oliva, Dr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Ú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zykov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BDB-1B26-4B04-A26B-FC00DAF01EC5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82400" y="343080"/>
            <a:ext cx="83372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Česká Roadmap - metoda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4027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89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gální a koncepční rámec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ýzkumná organizace pro výzkumné účel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ikátní a nákladná v rámci oboru, široký veřejný přístup, uživatelé, celonárodní dosah, mezinárodní kompon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SFRI, indikativní seznamy projek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tabáze projektů (TC, RIV, info projek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zkum využívaných zdrojů pro výzk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tazníky pro projekty (7.9. první vlna dotazová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F74-68E5-4F98-8BE7-0278D91DFE51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In</a:t>
            </a: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frastruktura SHV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1993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561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ramatický růst využívání dat v SHV 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odukce dat, nové zdroje, rozvoj metod, rozvoj technologií.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64"/>
              </a:spcBef>
              <a:buSzPct val="145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frastruktura - propojení dvou aspek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ové zdroj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báze, sbírky výzkumného materiálu,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ologie, systemizace, nástroj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běr dat, digitalizace, vzdálený přístup, propojování rozptýlených zdrojů, informační systémy, prostředí pro spolupráci, harmonizace/standardizace a spojování databází, nástroje pro kompa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64"/>
              </a:spcBef>
              <a:buSzPct val="1458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harakter infrastruk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čnost na práci, méně investic do příst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n fixně lokalizovaná pracoviště, ale také sítě: </a:t>
            </a:r>
            <a:br>
              <a:rPr sz="2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pojení do mezinárodních sítí, virtuální struktury, vzdálený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adný přístup pro odbornou veřejnost, celonárodní dosah (NRRE), mezinárodní propo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6D55-87D8-4AC8-A726-45F36E82460D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Význam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819000"/>
            <a:ext cx="8199360" cy="56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561"/>
              </a:spcBef>
              <a:buSzPct val="1602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dílení a vícenásobné využití dat je podmínkou efektivity výzku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mlouvy a direktivy EU, OE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m zdrojů vzniká nový výzkumný materiál </a:t>
            </a:r>
            <a:br>
              <a:rPr sz="2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opojení témat, časové a mezinárodní srovn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ředí pro spoluprá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rodní, mezinárodní, mezioborov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a konkurenceschopnosti výzku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datům z reálných výzkumů pro účely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gionální aspekt: digitaliz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zdálený přís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centralizace, demokratická distribuce podmí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ority rozvoje společnosti v NPV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 infrastruktury a nedostatky v jednotl. prioritách, významný průnik s prioritou Technologie a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urenceschopnost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zení a s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ské zdroje, znalostní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identita a okolní sv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A0A5-9AC7-42A7-BB94-03A4E0A90D91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SHV v ESFRI Roadmap 2008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806400"/>
            <a:ext cx="9144000" cy="60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89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ESSDA - Council of European Social Science Data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rch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vace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zpracov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zpřístupnění sociálněvěd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at, meziná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kompa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trib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uovan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20 zemí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&gt; 30.000 výzkumníků, &gt; 50.000 databáz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LARIN - Common Language Resources and Tech. Infrast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ziná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koordinace a přístup k jazykovým zdrojům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gridová infrastr., We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technologie, 32 zem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DARIAH - Digital Research Infr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for the Arts an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Huma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gi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tal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eriály pro humanitn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ědy, digitalizace, propojení, sdíl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istribuovaná, 14 zem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SS - European Social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louhodobý sběr dat ku sledování hodnotových změn, přístup k datů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31 zemí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HARE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urvey of Health, Ageing and Retirement in Eu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louhodobý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běr dat o zdraví, socio-ekonomickém statusu, sociálních a rodinných sítí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A84-0AFC-469A-8479-74A91E0437EF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Náklady na mezinárodní projekty ESFRI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12" name="Picture 116" descr="COSTS in M"/>
          <p:cNvPicPr/>
          <p:nvPr/>
        </p:nvPicPr>
        <p:blipFill>
          <a:blip r:embed="rId1"/>
          <a:srcRect l="7245" t="11083" r="16391" b="36947"/>
          <a:stretch/>
        </p:blipFill>
        <p:spPr>
          <a:xfrm>
            <a:off x="419040" y="1209600"/>
            <a:ext cx="81662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AC3B-6125-46BA-A956-EC86962A9657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rojekty pro Českou Roadmap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768240"/>
            <a:ext cx="9144000" cy="608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5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 - s českou účastí, podporované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ESS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iologický datový archiv (SOÚ AV ČR), 700 reg. uživatelů (VŠ, VVI, zahr. - více oborů), data v mezinárodní sí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SOÚ, INGO, FP7 (dříve MŠMT, GA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ssda-ERIC: (operační: 40-70 tis. Eur/rok) + upgrade a zvýšení provozních nákladů 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LAR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Ústav formální a aplikované lingvistiky MFF) + FI MU, ÚJ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rukce: 1) úložiště, sítě, připojení, 2) distribuční kanály mezi centry v EU; centrum v ČR dosud není, jsou zde různé zdroj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FP7 + 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HÚ A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vlna šetření ze 2, distribuce dat přes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FP7 + 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9:18:17Z</dcterms:created>
  <dc:creator>Jindrich Krejci</dc:creator>
  <dc:description/>
  <dc:language>en-US</dc:language>
  <cp:lastModifiedBy>witzanyovan</cp:lastModifiedBy>
  <dcterms:modified xsi:type="dcterms:W3CDTF">2009-09-25T13:56:17Z</dcterms:modified>
  <cp:revision>264</cp:revision>
  <dc:subject/>
  <dc:title>Snímek 1</dc:title>
</cp:coreProperties>
</file>