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55B-1872-4DAC-9C7A-685A30B30D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81C6-7EB1-4368-B312-43A7C4FB98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00D-341B-4DC3-883C-C012936B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093-5164-4E6A-B28A-C4925808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7D5-016C-412A-8B24-A3C53002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EFC-35D9-4119-960E-D2973EFD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C74-BBA1-436B-AC4E-96C98A49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4A1-5559-4D98-90AF-BA06E9FC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A13-B2D8-48B3-93BB-99166CC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86A-0EC0-44CD-9037-FF834689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506-CD07-4D12-9440-BBC983E0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E74-6BA2-45F5-8921-6DC6AAE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0E6-5061-4BB4-9D7A-641DAE0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CE0-E1DB-495D-B980-389ED56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9FF-A3ED-43B2-83F1-39720F770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research/fch/index_en.cf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stovní mapa v oblasti Energet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600200" y="129528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Ivan Štek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ÚTEF ČVUT"/>
          <p:cNvPicPr/>
          <p:nvPr/>
        </p:nvPicPr>
        <p:blipFill>
          <a:blip r:embed="rId1"/>
          <a:stretch/>
        </p:blipFill>
        <p:spPr>
          <a:xfrm>
            <a:off x="457200" y="1981080"/>
            <a:ext cx="4419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 ÚTEF"/>
          <p:cNvPicPr/>
          <p:nvPr/>
        </p:nvPicPr>
        <p:blipFill>
          <a:blip r:embed="rId2"/>
          <a:stretch/>
        </p:blipFill>
        <p:spPr>
          <a:xfrm>
            <a:off x="5257800" y="1981080"/>
            <a:ext cx="12193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logo ČVUT"/>
          <p:cNvPicPr/>
          <p:nvPr/>
        </p:nvPicPr>
        <p:blipFill>
          <a:blip r:embed="rId3"/>
          <a:stretch/>
        </p:blipFill>
        <p:spPr>
          <a:xfrm>
            <a:off x="7086600" y="1981080"/>
            <a:ext cx="1371600" cy="1063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28600" y="32767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racovní skupina energetika v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racovní skupina energetika v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Úkoly pracovní skup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řehled současných projektů (RI´s) v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Česká účast v EU projektech a předběžný přehled národních infra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tup činností pracovní skupiny energe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304920"/>
            <a:ext cx="9144000" cy="5337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acovní skupina v Č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sady pro její vytvořen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alá skupina, pokrytí všech směrů VaV energe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2) Seznam členů: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g. Karel Katovský, Ph.D. – Katedra jaderných reaktorů FJFI ČV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NDr. Jiří J. Mareš, Ph.D. – vedoucí sekce Fyzika pevných látek, FzÚ AV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NDr. Pavol Mikula, DrSc. –vedoucí oddělení neutronové fyziky, ÚJF AV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Tadeáš Ochodek, CSc. – ředitel Výzkumného energetického centra, VŠB-TU Ost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Petr Toman, Ph.D. – vedoucí Ústavu elektroenergetiky, FEKT VUT B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Ivan Štekl, CSc. – zástupce ředitele ÚTEF ČVUT v Pr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52280"/>
            <a:ext cx="9144000" cy="631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Pracovní skupina v 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1) Seznam členů:  celkem 20 čle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briele Fioni (France),  Jean-Marie Carrere (France, předseda), Henrik Bindslev (Denmark),  Harald Bolt (Germany), Nigel Brandon (UK), Ion-Catalin Cristescu (Romania), Francesca Ferrazza (Italy), Morten Gronli (Norway), Laurynas Juodis (Lithuania), Mathew Kennedy (Ireland), Athanasios Konstandopoulos (Greece), Mats Leijon (Sweden), Peter Lund (Finland), Ernest Mund (Belgium), John Rekstad (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way), Enrique Soria Lascore (Spain), Ivan Štekl (ČR), Piotr Tomczyk (Poland), Alexander Wokaun (Switzerland), Brigitte Weiss (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2) Rozdělení podle odbornost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uel cells and hydrogen JT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P. Tomczyk, N. Br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ean Biofuels Technology Platfor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A. Wokaun, F. Ferr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mart grid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M. Leijon, H. 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ustainable Nuclear Energy T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P.E. Labeau, I.C. Cristescu, L. Juodis, I. Štek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ean Photovoltaic T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J. Rekstad, H. Bindsl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TP for wind energ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E. Soria Lascore, M. Kenn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TP for zero emission fossil fuel power plan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M. Gronli, A. Konstandopo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kolem je také posuzovat nové projekty a oceňovat postup řešení stávajíc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Úkoly pracovní skupiny energet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) Vytvoření návrhu „cestovní mapy“ Č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zpr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pito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erget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ategická část; popis současného stav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isting and new RI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SWOT analý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ulky navrhovaných projektů – s vyznačenými vazbami mezi regionální, národní a mezinárodní infrastruktu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mi krátký popis jednotlivých projektů včetně současného financování, indikativního rozpočtu do roku 2015 a odhad do roku 2020 tam, kde nezbytně nut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ňování projektů a postupu řeš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b) Kritéria výzkumných infrastruktur (RI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ní (mezinárodní) význ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en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frastruktura výzkumu (RI není ús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roveň výzkumné činnosti (publikace, patenty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národní spoluprá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c) Kritéria posuzování projektů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) State of the art; ii) Scientific and technical quality; iii) Maturity; iv) Evolution in the next 10-20 years (major up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e/new 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ccepted projects + emerging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690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Přehled současných projektů (RIs) v 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Směry VaV energetika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cond generation biofuels; C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apture, transport and storage; wind turbines; photovoltaic and concetrated solar power; smart electricity grids and Trans-European energy networks; efficient energy conversion; energy storage technologies; fission reactors; materials, nanoscience, ICT technologies, bioscience and comp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33cc"/>
                </a:solidFill>
                <a:uFillTx/>
                <a:latin typeface="Times New Roman"/>
              </a:rPr>
              <a:t>Roadmap 2008 (různé stádium realizace)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ules Horowitz high flux reactor (JHR) –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česká úč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national Fusion Materials Irradiation Facility (IFMIF)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igh Power Energy Research Facility (HiPER) –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česká úč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stainable Nuclear Energy Technology Platform – generation IV fast neutron reactor (closed fuel cycle),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www.snetp.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RRHA – accelerator driven fast neutron experimental 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CCSEL (European Carbon Dioxide Capture and Storage Lab. Infrastruc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REI-SOLAR – solar energy, national project, chtějí EU 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600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D) Přehled současných projektů (RIs) v EU (pokračování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učasné iniciativy VaV energetika (různé stádium realizace)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JTI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Joint Technology Initiatives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nd ETP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European Technology Platforms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el cells and Hydrogen Joint Technology Initiative – </a:t>
            </a:r>
            <a:r>
              <a:rPr b="0" lang="cs-CZ" sz="2000" spc="-1" strike="noStrike" u="sng">
                <a:solidFill>
                  <a:srgbClr val="ff0066"/>
                </a:solidFill>
                <a:uFillTx/>
                <a:latin typeface="Times New Roman"/>
                <a:hlinkClick r:id="rId1"/>
              </a:rPr>
              <a:t>http://ec.europa.eu/research/fch/index_en.c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Biofuels Technology Platform – http://www.biofuelstp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art Grids – http://www.smartgrids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Photovoltaic Technology Platform – http://www.eupvplatform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Technology Platform for Wind Energy– http://www.windplatform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Technology Platform for Zero Emission Fossil Fuel Power Plants– http://www.zero-emissionplatform.eu/websit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trategic Energy Technlogy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Plan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ERA European Energy Research Alliance – http://www.eera-set.eu/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 Initiative Hydrogen and Fuel Cell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 Initiative Fusion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39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E) Česká účast v EU projektech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řehled národních infrastru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Reaktor LVR-15 (existující RI, tuzemská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JV; 1957 + modernizace 2007; provozní výkon 15 MW; 135 pracovníků (64 VŠ); interní uživatelé – 7; externí uživatelé – 11; zahraniční uživatelé – 7; provozní náklady = 80-110 mil. Kč; (EERRI, FP6+7, ACCESS; EF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Reaktor LR-0 (existující RI, tuzemská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JV; 1982 + modernizace 2008; 27 pracovníků (14 VŠ); provozní náklady = 25-32 mil. Kč; (EUROATOM, IAEA, OECD-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Laboratoř neutronové fyziky (existující RI, tuzemská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ÚJF; 15 zaměstnanců (9 VŠ); interní týmy – 3; externí týmy – 3; zahraniční uživatelé – z 9 zemí; provozní náklady = 6-18 mil. Kč; (FP7, ACCESS, IA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HiPER (High Power Energy Resource, zahraniční VB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zÚ, ÚFP (celkem 9); financování = 20 mil. Kč/rok do 2010; spojení s ESF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JHR (Jules Horowitz Reactor, zahraniční Francie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7 partnerů; financování = 60-70 mil. Kč/rok do roku 2010; spojení s ESFR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CVEVL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využití geotermální energie (OP VaVP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G) Postup činností pracovní skupiny energet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trategická část; popis současného stavu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existing and new RI)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SWOT analýz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vytvoř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nam pracovišť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ůsobících v oblasti VaV v energet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měrně dobře je pokryta oblast RI „udržitelné jaderné energie“; chybí informace o klasické energetice, solární, větrné... energetice, smart grids, materiálovém výzkumu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vytvořen krátký dotazník, který bude rozeslán subjektům VaV podle bodu A)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otním cílem je získání podrobných informací o výzkumných infrastrukturách v ČR; konečným cílem je získání dalších návrhů na RI, případně koordinace stávajících a nově navrhovaných infrastruktur (včetně finančních potřeb do r. 202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ín = konec zář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Pracovištím b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e zaslána  informace o ESFRI procesu a činnosti Energy Working Grou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myslem je zapojení českých výzkumných pracovišť či týmů do evropských iniciativ. Ideální stav by byla lokalizace nové infrastruktury na území ČR (single sited, distribut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borný odhad oboru do roku 20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na základě získaných údajů z ČR, z ESFRI iniciativ, včetně indikativního rozpoč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10:31Z</dcterms:created>
  <dc:creator>IS</dc:creator>
  <dc:description/>
  <dc:language>en-US</dc:language>
  <cp:lastModifiedBy>witzanyovan</cp:lastModifiedBy>
  <dcterms:modified xsi:type="dcterms:W3CDTF">2009-09-25T14:02:03Z</dcterms:modified>
  <cp:revision>828</cp:revision>
  <dc:subject/>
  <dc:title>Problematika pozadí v experimentech subjaderné fyziky </dc:title>
</cp:coreProperties>
</file>