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D3A4-494F-4B79-A2E1-170E3A63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F3F-0FB7-4651-85CF-133F22BD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A36-CE5B-41C2-974C-5BDC4934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576-71F0-4F88-AD86-B82CE31C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189B-F6A1-45C2-B228-E236D71E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0FD5-F24E-4A04-A9AC-BDA16FA1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D09A-ECCC-4EB0-886B-3B593326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9375-7A77-4CE1-84A2-B81899C3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1510-A70A-4499-868E-E9438E1E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8700-3B9A-467D-B5E1-39098581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C899-A587-49BF-8C90-DFBABC68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710-FB0B-478F-BE85-68000176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48ED-0209-4F8F-A805-6BB34453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90D1-8F7B-4DC8-9D2E-ED8F52E6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2755-5358-47C1-8D83-4C7C7DE5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B96A-6A6B-4750-B080-53B2FFDC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342F-0DC9-4A05-9B6C-AFFF9D4B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9B2-5948-456E-92DD-7A9EFE97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1D7-253B-4AE2-A719-F121141C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55F-EEBD-4364-BBEF-E06D01DE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D10-2039-4669-BEC9-C13F653E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1E5-9B81-48A5-B8FA-04511440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A9A-7FD9-4F5D-B931-C24B979C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AE1-80B8-4CC9-BC74-3C132590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F3E8-1B5A-438A-BD01-4F069E7AD1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8998-DA38-4FD7-9847-1D57436CD5C5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ovéPole 3"/>
          <p:cNvSpPr/>
          <p:nvPr/>
        </p:nvSpPr>
        <p:spPr>
          <a:xfrm>
            <a:off x="1035000" y="1357200"/>
            <a:ext cx="70783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Česká Roadmap výzkumný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cs-CZ" sz="4000" spc="-1" strike="noStrike">
                <a:solidFill>
                  <a:srgbClr val="3333cc"/>
                </a:solidFill>
                <a:latin typeface="Times New Roman"/>
              </a:rPr>
              <a:t>infrastrukt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- část Informatika (e-Infrastruktu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ovéPole 4"/>
          <p:cNvSpPr/>
          <p:nvPr/>
        </p:nvSpPr>
        <p:spPr>
          <a:xfrm>
            <a:off x="1857240" y="3643200"/>
            <a:ext cx="512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g. Jan Gruntorád, CS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členové pracovní skup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ovéPole 6"/>
          <p:cNvSpPr/>
          <p:nvPr/>
        </p:nvSpPr>
        <p:spPr>
          <a:xfrm>
            <a:off x="210600" y="628668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aha, 3.9.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ovéPole 1"/>
          <p:cNvSpPr/>
          <p:nvPr/>
        </p:nvSpPr>
        <p:spPr>
          <a:xfrm>
            <a:off x="285840" y="1785960"/>
            <a:ext cx="885816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ložná infrastruktura a jej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středí umožňující ulože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ého množství generovaných da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utné pro jejich zpracová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n-lin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skové kapacity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louhodobá úložiště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archivace)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timalizace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ístupu k uloženým datů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práva dat a kurátorství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promazávání starých nepotřebných da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rizontáln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bezpečnostní problematik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A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středí pro spolupráci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integrace s výpočetními a úložnými prostředími, videok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tandartiza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uživatelských rozhraní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ormátů da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onitoring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785880" y="9288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truktura komplexní národní e‑infrastruktury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bdélník 1"/>
          <p:cNvSpPr/>
          <p:nvPr/>
        </p:nvSpPr>
        <p:spPr>
          <a:xfrm>
            <a:off x="214200" y="1500120"/>
            <a:ext cx="89298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Projekty navržené k zařazení do Road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elká infrastruktura CES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T for Innovations (IT4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entre for Education, Research and Innovations for ICT (CERIT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Picture 1"/>
          <p:cNvPicPr/>
          <p:nvPr/>
        </p:nvPicPr>
        <p:blipFill>
          <a:blip r:embed="rId1"/>
          <a:stretch/>
        </p:blipFill>
        <p:spPr>
          <a:xfrm>
            <a:off x="714240" y="1069920"/>
            <a:ext cx="77155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ovéPole 1"/>
          <p:cNvSpPr/>
          <p:nvPr/>
        </p:nvSpPr>
        <p:spPr>
          <a:xfrm>
            <a:off x="142920" y="642960"/>
            <a:ext cx="900108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Velká infrastruktura CES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nos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íle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íťové infrastruktur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ětší propustnost stávajících linek, redundance, posílení uzlů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budová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ových optických tras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 uživatelům s vysokými nároky na přenosové pás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adstavbové služb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 vysokou přidanou hodnotou (AAI, prostředí pro spolupráci, bezpečnost, inteligentní monitoring,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tvoření jednotn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rodní gridové infrastruktu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á bude integrova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početní a úložné zdroj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ýzkumných a akademických organizací v Č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řízení výkonných a vysoce dostupný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atových úložišť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 výzkumnou a akademickou komun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budování komplexní národní e‑infrastruktury pro vědu a výzkum s excelentními parametry, kter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jso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ěžně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dostupné na trh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poj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ově vznikající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ědeckých infrastruk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kytování špičkových komunikačních služeb (IP konektivita, end‑to‑end okruhy, …) a souvisejících nadstavbových služeb (AAI, videokonference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ovéPole 1"/>
          <p:cNvSpPr/>
          <p:nvPr/>
        </p:nvSpPr>
        <p:spPr>
          <a:xfrm>
            <a:off x="357120" y="1071720"/>
            <a:ext cx="67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íle (pokračování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ordinac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národní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ridových aktiv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skytová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žeb datových úložiš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71680" y="2857680"/>
            <a:ext cx="807696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SNET je dlouhodobě integrován do panevropských síťových infrastruktur (GNx) a gridových infrastruktur (EGE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kt IT4Innov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28556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ílem projektu je vytvořit na základně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ysoce výkonné výpočetní infrastruktu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a úrovni TOP50 nejvýkonnějších superpočítačů, široké portfolio následujících služeb s vysoce přidanou hodnoto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ýzkum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voj nových meto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softwarové podpory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elních algoritm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ávrh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ementace výpočetně náročných úlo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disciplinárního charakteru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dpora využití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kytování výpočetních kapac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to pojaté centrum rovněž vymezuj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kruh cílových skup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pro které je urče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ýzkumná obec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kademické sfér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rezentovaná univerzitami a pracovišti akademie věd 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5%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alovaného výkonu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jekty z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likační sfér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četně státní správy, samosprávy a jejich institucí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lavní aplikační oblast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finované výzkumným záměrem centra jsou následující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ozvoj informační společnost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stou vývoje komplexních systémů pro modelování, simulaci a řízení kritických situací (povodně, znečištění, dopravní problémy, exploze nebezpečných látek apod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voj metod řešení náročných aplikac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z oblasti výpočetní matematiky a mechaniky (strojní a automobilový průmysl, dynamika tekutin, geomechanika, stavební inženýrství), výpočetní fyziky a chemie (elektromagnetika, magnetooptika, akustika, molekulární dynamika, nanotechnologie, návrh léčiv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dpora rozvoj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bedded systémů a jejich networki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výkonnými výpočetními systém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oretický výzkum v oblasti informatik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zaměřený na problematiku vývoje a využití na výpočet náročných algoritmů (vyhledávání informace a dataming, problematika verifikace, bezpečnost, genetické a evoluční algoritmy apod.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ýstupy proj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85716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ýsledky výzkumu a vývoje považované výzkumnou komunitou za excelentní, produkované v dlouhodobém horizontu v objemu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dpovídajícím parametrům evropských center excelenc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jekty výzkumného týmu IT4I s jinými výzkumnými organizacemi, resp. výzkumné projekty jiných výzkumných organizací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 předmětné oblasti výzkumu, zejména pak v oblasti řešení výpočetně náročných úloh prostřednictvím infrastruktury superpočítačového centra projektu IT4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kytnutí komplexně orientovaných služeb včetně vývoje softwaru pro daný typ úloh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ajištění podpůrných a konzultačních služeb v oblasti HPC pro zákazníky cent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kytnutí výpočetních kapac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zkumné služby a výsledky poptávané aplikační sférou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řičemž míra úspěchu je měřena objemem finančních prostředků získaných z aplikační sféry: projekt IT4I počítá s významným zdrojem příjmů z aplikační sféry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středí propojující výzkum a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ýuku v oblasti informačních technologií a výpočetní matemati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stou otevření nových studijních programů magisterského a doktorského studia cílených na HP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00040" y="4071960"/>
            <a:ext cx="807732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4I je členem evropského projektu PRACE (Partnership for Advanced Computing in Europe) zaměřeného na poskytování HPC služeb v E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RIT  -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jekt Masarykovy univerzity (Fakulta informatiky, Ústav výpočetní techniky) a partnerů – projekt osy 2 programu VaV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2560" y="1000080"/>
            <a:ext cx="5143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ýznamné rysy projektu C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znamný P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árodní počítačové sítě,  zkušenost s provozováním výkonných výpočetních systémů a návaznost na rozvoj informatiky -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přístupnění výpočetních i úložných kapaci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poskytnut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ce kvalifikovaných služeb v I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ávaznost na nově akreditovaný program Služby v 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novativní pracoviště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pojující centralizované služby s distribuovanými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vlastní výzkum a vývoj ve správě a zpřístupnění výpočetních a úložných kapacit, vazba na doktorské i magisterské studi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26-32 pracovníků pro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rodní infrastruktur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plikační týmy projektů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které ji využívaj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imenzování centra verifikováno partnerskými dohodami -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zbytný minimální rozsah kapacit a služeb CERIT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výpočetní výkon 6400 jader v SMP a 6000 v HDC  a úložná kapacita 2x8 petabytů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57520" y="1142640"/>
            <a:ext cx="3786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lečn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ovativní prostředí podporující konkurenceschopnos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ČR v oblasti výzkumu a vývoje; vysoce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valifikovaná odborná kapacita pro efektivní využití a zpřístupně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důležitější, než pouhá instalace technicky dokonalé výpočetní k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lečně s IT4I zapojení do PRACE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mplementarita i zálohování výpočetních kapacit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dvojice ne zcela ekvivalentních uzlů vytvářející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rodní infrastrukturu pro superpočítačové výpočt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ipravená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polupráce s  etablovanými superpočítačovými centr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 Julichu a Garching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gram 4" descr=""/>
          <p:cNvPicPr/>
          <p:nvPr/>
        </p:nvPicPr>
        <p:blipFill>
          <a:blip r:embed="rId1"/>
          <a:stretch/>
        </p:blipFill>
        <p:spPr>
          <a:xfrm>
            <a:off x="-19080" y="341280"/>
            <a:ext cx="3749760" cy="3676680"/>
          </a:xfrm>
          <a:prstGeom prst="rect">
            <a:avLst/>
          </a:prstGeom>
          <a:ln w="0">
            <a:noFill/>
          </a:ln>
        </p:spPr>
      </p:pic>
      <p:sp>
        <p:nvSpPr>
          <p:cNvPr id="110" name="Content Placeholder 3"/>
          <p:cNvSpPr/>
          <p:nvPr/>
        </p:nvSpPr>
        <p:spPr>
          <a:xfrm>
            <a:off x="3857760" y="1071720"/>
            <a:ext cx="52862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ílová skupina uživatel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sad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lepšení podmínek českých vědeckých excelentních skupin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pro které je nedostatečnost výpočetních a úložných kapacit e-infrastruktury v jejich vlastních činnostech kritický a zároveň brzd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nkurenceschopnost regionů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efektiv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apojení v mezinárodních projektech typu ESF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olupráce a poskytování služeb výzkumné a vývojové komunitě, tj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. velkým nově budovaným centrů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jako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zechGlobe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program EU – ICOS)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DMAS, UCEB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materiálový a technologický výzkum)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CEITEC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BIOCEV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life sciences)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CAMO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nkologie) při jejich vlastním zapojení v síti ESF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ojení d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ranného a bezpečnostního výzkum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 rámci ESA, EDA, RTO NA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ýzkumné týmy a projekty na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niverzitá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, v ústave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V ČR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 průmyslových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acovištích aplikovaného výzkum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firmách s vysokou úrovní inovac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ovéPole 1"/>
          <p:cNvSpPr/>
          <p:nvPr/>
        </p:nvSpPr>
        <p:spPr>
          <a:xfrm>
            <a:off x="214200" y="714240"/>
            <a:ext cx="8715600" cy="63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Návrh dalšího postupu, doporučení 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jek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vzájemn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plementár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společně mají potenciál vytvořit komplexní národní e‑infrastrukturu na špičkové úrov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ká infrastruktura CESNET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krývá základ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unikační infrastruktur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věnuje se koordinac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ridových služeb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jako budoucí provozovatel národní gridové infrastruktury – NGI) a vybudování netriviálních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stribuovaných úložných kapaci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které budou sloužit celé výzkumné a akademické komunitě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T4I - primárně zaměřen na poskytová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uperpočítačových kapaci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napojení do odpovídajících struktur (zejména projekt PRACE),  hlavní část výkonu bude řešena a poskytová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ntráln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ERIT -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azební prvek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zi čist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stribuovaným řešením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grid) 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entráln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ojatým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uperpočítače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ude mít zapojenu významnou část svých výpočetních kapacit v národním gridum, bude disponovat i superpočítačovými technologiemi,  bude poskytovat i nezanedbatelný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ložný pros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což je dáno i charakterem požadavků přímo napojených ESFRI a dalších projektů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ovéPole 2"/>
          <p:cNvSpPr/>
          <p:nvPr/>
        </p:nvSpPr>
        <p:spPr>
          <a:xfrm>
            <a:off x="500040" y="1285920"/>
            <a:ext cx="835812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no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ložení pracovní skupi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SWOT analý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lužby komplexní e-Infrastruk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rojekty navržené k zařazení do Road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Návrh dalšího postu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ovéPole 1"/>
          <p:cNvSpPr/>
          <p:nvPr/>
        </p:nvSpPr>
        <p:spPr>
          <a:xfrm>
            <a:off x="285840" y="1571760"/>
            <a:ext cx="8643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Návrh dalšího postupu, doporučení 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podrobněji rozpracovat plány a potřeby ESFRI projek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 využívání komplexní e-Infratsrukt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rozpracovat možnosti organizačního zajištění koordin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kytování komplexních e-Infrastrukturních služ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 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1"/>
          <p:cNvSpPr/>
          <p:nvPr/>
        </p:nvSpPr>
        <p:spPr>
          <a:xfrm>
            <a:off x="1035720" y="2286000"/>
            <a:ext cx="728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5400" spc="-1" strike="noStrike">
                <a:solidFill>
                  <a:srgbClr val="3333cc"/>
                </a:solidFill>
                <a:latin typeface="Times New Roman"/>
              </a:rPr>
              <a:t>Děkuji Vám za pozorno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ovéPole 1"/>
          <p:cNvSpPr/>
          <p:nvPr/>
        </p:nvSpPr>
        <p:spPr>
          <a:xfrm>
            <a:off x="430920" y="1428840"/>
            <a:ext cx="80964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ložení pracovní skupiny pro přípravu České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Roadmap výzkumných infrastruktu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f. Ing. Zdeněk Bittnar, Dr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ČVUT v Pra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RNDr.Antonín Kučera, CSc.                  UK v Pra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f. Ing. Ivo Vondrák, C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ŠB-TU v Ostravě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 RNDr. Luděk Matyska, C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g. Jiří Siter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ČU v Plz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f. Ing. Miroslav Tůma, CSc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V Č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jemník pracovní skupin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g.Jan Furman                                               CESN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ovéPole 1"/>
          <p:cNvSpPr/>
          <p:nvPr/>
        </p:nvSpPr>
        <p:spPr>
          <a:xfrm>
            <a:off x="285840" y="500040"/>
            <a:ext cx="864396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                       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WOT an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lý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ilné strá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kladní prvek (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unikač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část)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‑infrastruktur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v ČR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a špičkové světové úrov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íťová a gridová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ást dlouhodobě plně integrová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 evropských infrastrukturních projekt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GN3, EGEE I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labé strán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plexní e‑infrastruktur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tak jak je chápána ve strategických ESFRI a e-IRG dokumentech,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atím v ČR chyb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dostatečná výpočetní a úložná kapacita pro výzkumnou komunit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uperpočítačové zdroje chybí v republice úpl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nalost provozu a správ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stribuovaných a superpočítačových výpočetních systémů i rozsáhlých datových úložišť je v republic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mi nerovnoměrně rozptýl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yb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ystematické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zajiště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zdělá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 oblasti „scientific computin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ovéPole 1"/>
          <p:cNvSpPr/>
          <p:nvPr/>
        </p:nvSpPr>
        <p:spPr>
          <a:xfrm>
            <a:off x="142920" y="1428840"/>
            <a:ext cx="90010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říležitosti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ám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ležitos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ybudovat národ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mplexní e-infrastruktur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 výzkumnou  a akademickou komunit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a světové úrov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xistují již projekt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realizac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ednotlivých část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ové infra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pravené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jek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e vzájemně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oplňuj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mají potenciál pokrýt všechny aspekt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oderní komplexní infra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lizací doporučení dojde k souběžné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poře špičkových vědeckých tým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nstal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ýznamných součástí distribuované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e-infrastruktury v region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ovéPole 1"/>
          <p:cNvSpPr/>
          <p:nvPr/>
        </p:nvSpPr>
        <p:spPr>
          <a:xfrm>
            <a:off x="142920" y="1357200"/>
            <a:ext cx="90010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říležitosti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budováním kvalitní e‑infrastruktury lze výrazně přispět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e stabilizaci výzkumných pracovníků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e všech vědeckých oborech a vytvořit podmínky pro dalš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ersonální posilování české vě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případě distribuovaných výpočetních kapacit zůstane zachována značná mír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utonomi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většina prostředků bude ve vlastnictví a správě jednotlivých organizac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por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polupráce tým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národním a zejmé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zinárodním měřít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možní řešit aktuál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elké výzkumné problém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íky snadnému zapojení do rozsáhlé mezinárodní spolupráce (ESFRI projekty, EIROForum – CERN, ESA, EMBO, EBI, … – a dalš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ovéPole 1"/>
          <p:cNvSpPr/>
          <p:nvPr/>
        </p:nvSpPr>
        <p:spPr>
          <a:xfrm>
            <a:off x="142920" y="1071720"/>
            <a:ext cx="90010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Ohrožení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dostatečné finanční prostředk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e-Infrastrukturu v důsledk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cenění potře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 český akademický i průmyslový výzk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koordinované pořizová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 provoz informačních technologií (přenosových, úložných a výpočetních kapacit) bez vazby na koncept národní e‑infrastruktu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ridová část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‑infrastruktury je založena n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ropoje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ýpočetních a případně úložných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apacit jednotlivých subjektů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rojektů VaVpI, ESFRI, vysokých škol a výzkumných ústavů). Pokud tyto subjekty z jakéhokoliv důvod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ce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vé potřeby a nepořídí odpovídající kapacity, nebude co propojovat do národního gridu a v konečném důsledk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budou k dispozic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dpovídající výpočetní a úložné kapacity pro řešení špičkových potř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ovéPole 1"/>
          <p:cNvSpPr/>
          <p:nvPr/>
        </p:nvSpPr>
        <p:spPr>
          <a:xfrm>
            <a:off x="142920" y="1500120"/>
            <a:ext cx="90010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Ohrožení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držitelnost vybudované e‑infrastruktury z důvod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dostatečných finančních prostředků na prov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tráta akumulovaného know-how a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ybudovaného mezinárodního postave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 důsledku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edostatečné podpory národní složk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ezinárodních e-Infrastruktur (GN3, EGI, PR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ovéPole 1"/>
          <p:cNvSpPr/>
          <p:nvPr/>
        </p:nvSpPr>
        <p:spPr>
          <a:xfrm>
            <a:off x="285840" y="1285920"/>
            <a:ext cx="885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íťová infrastruktura a jej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áklade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fyzická infrastruktur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ealizovaná sofistikovaný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tickým přenosovým systéme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a technologie pro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enos dat protokolem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ransportní služb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e špičkovými parametry (např. virtuální privátní datové okruhy, vícebodová distribuce dat at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pojení do sítě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do evropské sítě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É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početní infrastruktura a její služ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uperpočítačová centra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centra poskytujíc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početní kapacity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 subjektů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ri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- propojení výpočetních kapaci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závislých menších center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gridové prostředí tvoří spolu se superpočítačovými centry základní prvky výpočetní infrastruktury v České republ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oučástí může být 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oordinace nákupu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zpřístupnění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zbytné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ropoje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výpočetní části e‑infrastruktury s podobným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ystémy v zahraničí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 důvodu zajištění mezinárodní spolupráce vědeckých týmů  (projekt PRACE  a projekt EGI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bdélník 2"/>
          <p:cNvSpPr/>
          <p:nvPr/>
        </p:nvSpPr>
        <p:spPr>
          <a:xfrm>
            <a:off x="785880" y="50004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Struktura komplexní národní e‑infrastruktury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8:04:40Z</dcterms:created>
  <dc:creator>zapletalova</dc:creator>
  <dc:description/>
  <dc:language>en-US</dc:language>
  <cp:lastModifiedBy>witzanyovan</cp:lastModifiedBy>
  <dcterms:modified xsi:type="dcterms:W3CDTF">2009-09-25T13:55:19Z</dcterms:modified>
  <cp:revision>604</cp:revision>
  <dc:subject/>
  <dc:title>Prezentace aplikace PowerPoint</dc:title>
</cp:coreProperties>
</file>