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2480"/>
            <a:ext cx="54831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C68C-443E-42F9-970A-0B465D66EB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AFCE-C42F-42B2-A918-A45422ABBD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440" y="4632480"/>
            <a:ext cx="54831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7CD-6A03-46F6-81C4-212F5657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CE4-99A9-4FF0-BA48-98CC6739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F80-0A74-47F3-96E4-FB31A72B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914-A489-4422-8006-AAF4C5A1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A01-3BCC-4FF1-B54B-52DF4E4D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C72-9D2E-44E4-A7D8-5B2C9E0F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6FE-1199-4215-977D-CA193229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204-DEBA-498D-9171-975D80FB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E5D-AEDF-494E-84B8-1A337F8A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02C-082C-44B5-B482-514471A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5C1-509E-44CC-B9C5-9C432540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0792-EBE7-41C0-8192-F4715E52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A9E8-E8C9-4B18-B55A-63E806929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research/fch/index_en.cf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estovní mapa v oblasti Energetik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600200" y="1295280"/>
            <a:ext cx="5562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Ivan Štekl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ÚTEF ČVUT"/>
          <p:cNvPicPr/>
          <p:nvPr/>
        </p:nvPicPr>
        <p:blipFill>
          <a:blip r:embed="rId1"/>
          <a:stretch/>
        </p:blipFill>
        <p:spPr>
          <a:xfrm>
            <a:off x="457200" y="1981080"/>
            <a:ext cx="44197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 ÚTEF"/>
          <p:cNvPicPr/>
          <p:nvPr/>
        </p:nvPicPr>
        <p:blipFill>
          <a:blip r:embed="rId2"/>
          <a:stretch/>
        </p:blipFill>
        <p:spPr>
          <a:xfrm>
            <a:off x="5257800" y="1981080"/>
            <a:ext cx="1219320" cy="1069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logo ČVUT"/>
          <p:cNvPicPr/>
          <p:nvPr/>
        </p:nvPicPr>
        <p:blipFill>
          <a:blip r:embed="rId3"/>
          <a:stretch/>
        </p:blipFill>
        <p:spPr>
          <a:xfrm>
            <a:off x="7086600" y="1981080"/>
            <a:ext cx="1371600" cy="1063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228600" y="327672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racovní skupina energetika v Č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racovní skupina energetika v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Úkoly pracovní skupi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řehled současných projektů (RI´s) v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Česká účast v EU projektech a předběžný přehled národních infra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tup činností pracovní skupiny energet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304920"/>
            <a:ext cx="9144000" cy="5337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acovní skupina v Č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ásady pro její vytvořen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alá skupina, pokrytí všech směrů VaV energeti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2) Seznam členů: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g. Karel Katovský, Ph.D. – Katedra jaderných reaktorů FJFI ČV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NDr. Jiří J. Mareš, Ph.D. – vedoucí sekce Fyzika pevných látek, FzÚ AV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NDr. Pavol Mikula, DrSc. –vedoucí oddělení neutronové fyziky, ÚJF AV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Tadeáš Ochodek, CSc. – ředitel Výzkumného energetického centra, VŠB-TU Ost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Petr Toman, Ph.D. – vedoucí Ústavu elektroenergetiky, FEKT VUT B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Ivan Štekl, CSc. – zástupce ředitele ÚTEF ČVUT v Pra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152280"/>
            <a:ext cx="9144000" cy="631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) Pracovní skupina v E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1) Seznam členů:  celkem 20 člen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abriele Fioni (France),  Jean-Marie Carrere (France, předseda), Henrik Bindslev (Denmark),  Harald Bolt (Germany), Nigel Brandon (UK), Ion-Catalin Cristescu (Romania), Francesca Ferrazza (Italy), Morten Gronli (Norway), Laurynas Juodis (Lithuania), Mathew Kennedy (Ireland), Athanasios Konstandopoulos (Greece), Mats Leijon (Sweden), Peter Lund (Finland), Ernest Mund (Belgium), John Rekstad (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way), Enrique Soria Lascore (Spain), Ivan Štekl (ČR), Piotr Tomczyk (Poland), Alexander Wokaun (Switzerland), Brigitte Weiss (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2) Rozdělení podle odbornost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uel cells and hydrogen JT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P. Tomczyk, N. Brand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uropean Biofuels Technology Platfor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A. Wokaun, F. Ferr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mart grid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M. Leijon, H. B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ustainable Nuclear Energy T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P.E. Labeau, I.C. Cristescu, L. Juodis, I. Štek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uropean Photovoltaic T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J. Rekstad, H. Bindsl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TP for wind energ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E. Soria Lascore, M. Kenn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TP for zero emission fossil fuel power plant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M. Gronli, A. Konstandopo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kolem je také posuzovat nové projekty a oceňovat postup řešení stávajíc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6558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) Úkoly pracovní skupiny energeti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) Vytvoření návrhu „cestovní mapy“ Č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zpra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apito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erget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trategická část; popis současného stav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isting and new RI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SWOT analý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ulky navrhovaných projektů – s vyznačenými vazbami mezi regionální, národní a mezinárodní infrastruktur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lmi krátký popis jednotlivých projektů včetně současného financování, indikativního rozpočtu do roku 2015 a odhad do roku 2020 tam, kde nezbytně nut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ňování projektů a postupu řeš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b) Kritéria výzkumných infrastruktur (RI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árodní (mezinárodní) význ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pen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frastruktura výzkumu (RI není ústa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roveň výzkumné činnosti (publikace, patenty, 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zinárodní spoluprá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c) Kritéria posuzování projektů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i) State of the art; ii) Scientific and technical quality; iii) Maturity; iv) Evolution in the next 10-20 years (major up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e/new R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ccepted projects + emerging id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9144000" cy="690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) Přehled současných projektů (RIs) v E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Směry VaV energetika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econd generation biofuels; CO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capture, transport and storage; wind turbines; photovoltaic and concetrated solar power; smart electricity grids and Trans-European energy networks; efficient energy conversion; energy storage technologies; fission reactors; materials, nanoscience, ICT technologies, bioscience and compu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33cc"/>
                </a:solidFill>
                <a:uFillTx/>
                <a:latin typeface="Times New Roman"/>
              </a:rPr>
              <a:t>Roadmap 2008 (různé stádium realizace)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ules Horowitz high flux reactor (JHR) –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česká úč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national Fusion Materials Irradiation Facility (IFMIF)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igh Power Energy Research Facility (HiPER) –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česká úč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stainable Nuclear Energy Technology Platform – generation IV fast neutron reactor (closed fuel cycle),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www.snetp.e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YRRHA – accelerator driven fast neutron experimental fac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CCSEL (European Carbon Dioxide Capture and Storage Lab. Infrastruc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REI-SOLAR – solar energy, national project, chtějí EU pro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0"/>
            <a:ext cx="9144000" cy="600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D) Přehled současných projektů (RIs) v EU (pokračování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učasné iniciativy VaV energetika (různé stádium realizace)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JTI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Joint Technology Initiatives)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and ETP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European Technology Platforms)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uel cells and Hydrogen Joint Technology Initiative – </a:t>
            </a:r>
            <a:r>
              <a:rPr b="0" lang="cs-CZ" sz="2000" spc="-1" strike="noStrike" u="sng">
                <a:solidFill>
                  <a:srgbClr val="ff0066"/>
                </a:solidFill>
                <a:uFillTx/>
                <a:latin typeface="Times New Roman"/>
                <a:hlinkClick r:id="rId1"/>
              </a:rPr>
              <a:t>http://ec.europa.eu/research/fch/index_en.c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Biofuels Technology Platform – http://www.biofuelstp.e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mart Grids – http://www.smartgrids.e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Photovoltaic Technology Platform – http://www.eupvplatform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Technology Platform for Wind Energy– http://www.windplatform.eu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uropean Technology Platform for Zero Emission Fossil Fuel Power Plants– http://www.zero-emissionplatform.eu/website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SE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Strategic Energy Technlogy) 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Plan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ERA European Energy Research Alliance – http://www.eera-set.eu/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dustrial Initiative Hydrogen and Fuel Cells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dustrial Initiative Fusion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39"/>
          <p:cNvSpPr/>
          <p:nvPr/>
        </p:nvSpPr>
        <p:spPr>
          <a:xfrm>
            <a:off x="0" y="0"/>
            <a:ext cx="9144000" cy="7500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E) Česká účast v EU projektech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řehled národních infrastruktu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Reaktor LVR-15 (existující RI, tuzemská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JV; 1957 + modernizace 2007; provozní výkon 15 MW; 135 pracovníků (64 VŠ); interní uživatelé – 7; externí uživatelé – 11; zahraniční uživatelé – 7; provozní náklady = 80-110 mil. Kč; (EERRI, FP6+7, ACCESS; EF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Reaktor LR-0 (existující RI, tuzemská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JV; 1982 + modernizace 2008; 27 pracovníků (14 VŠ); provozní náklady = 25-32 mil. Kč; (EUROATOM, IAEA, OECD-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Laboratoř neutronové fyziky (existující RI, tuzemská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ÚJF; 15 zaměstnanců (9 VŠ); interní týmy – 3; externí týmy – 3; zahraniční uživatelé – z 9 zemí; provozní náklady = 6-18 mil. Kč; (FP7, ACCESS, IA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HiPER (High Power Energy Resource, zahraniční VB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zÚ, ÚFP (celkem 9); financování = 20 mil. Kč/rok do 2010; spojení s ESF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JHR (Jules Horowitz Reactor, zahraniční Francie)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7 partnerů; financování = 60-70 mil. Kč/rok do roku 2010; spojení s ESFRI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cc"/>
                </a:solidFill>
                <a:latin typeface="Times New Roman"/>
              </a:rPr>
              <a:t>CVEVL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využití geotermální energie (OP VaVP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0" y="0"/>
            <a:ext cx="9144000" cy="6558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Times New Roman"/>
              </a:rPr>
              <a:t>G) Postup činností pracovní skupiny energetik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Strategická část; popis současného stavu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(existing and new RI)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, SWOT analýz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 vytvoř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znam pracovišť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ůsobících v oblasti VaV v energeti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oměrně dobře je pokryta oblast RI „udržitelné jaderné energie“; chybí informace o klasické energetice, solární, větrné... energetice, smart grids, materiálovém výzkumu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l vytvořen krátký dotazník, který bude rozeslán subjektům VaV podle bodu A)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otním cílem je získání podrobných informací o výzkumných infrastrukturách v ČR; konečným cílem je získání dalších návrhů na RI, případně koordinace stávajících a nově navrhovaných infrastruktur (včetně finančních potřeb do r. 202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ín = konec zář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Pracovištím b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e zaslána  informace o ESFRI procesu a činnosti Energy Working Grou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myslem je zapojení českých výzkumných pracovišť či týmů do evropských iniciativ. Ideální stav by byla lokalizace nové infrastruktury na území ČR (single sited, distribute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Odborný odhad oboru do roku 202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na základě získaných údajů z ČR, z ESFRI iniciativ, včetně indikativního rozpoč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1T15:10:31Z</dcterms:created>
  <dc:creator>IS</dc:creator>
  <dc:description/>
  <dc:language>en-US</dc:language>
  <cp:lastModifiedBy>witzanyovan</cp:lastModifiedBy>
  <dcterms:modified xsi:type="dcterms:W3CDTF">2009-09-25T14:02:03Z</dcterms:modified>
  <cp:revision>828</cp:revision>
  <dc:subject/>
  <dc:title>Problematika pozadí v experimentech subjaderné fyziky </dc:title>
</cp:coreProperties>
</file>