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276-1E5D-4F82-B366-B43845D5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BAA-7C2E-4F52-B764-8F19BFD0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DCE-026B-4CD4-AC81-B55B012B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6B82-35C2-4C41-B534-2967E531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5F49-2013-49ED-998B-7E614A30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C0BC-2487-495E-A315-B1D08746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7B48-72F9-4CA8-93A2-7F178C54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E439-4453-451D-8B33-81A06165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2E9A-3109-45A8-91A6-B2CF6DBF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83A9-B0EB-4547-9B4E-772CD747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B689-4A1B-4DFB-A9C7-710E5500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0F2-EAD8-415A-80DA-17A359F7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5B54-67C7-4314-8990-6D66E1AC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E6D9-A87E-4A97-BCDE-26D990C5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2D70-3B66-4ECE-8BFE-BC9071ED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ED08-7835-4C5F-B2AC-1790A49A4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64AA-59F0-49B2-BE86-232493DA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0545D-E765-42E8-ABCE-2B26C4F3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D25F-BC76-42B3-B4EA-1F3BB8DB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F7A8E-7A59-4CFC-841F-6708C007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F8A44-F980-4EDA-BBF4-D2DE711E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F8CCF-FE2B-4962-90CF-14025229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E0B-D6FE-400B-BE19-E91B453E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0953-E665-45AA-ABDA-0C892E69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5AAD-98BD-4AEF-9D09-DB0F3C3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0F7E-08E6-4F99-B124-C3DBD1E1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0955-06E7-4D3B-93F7-E2AD513D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02F8-818A-4171-88F5-F3C8925E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8577-69E4-40B3-8236-F7AC934F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F01C1-C37C-4218-9171-FB122155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90A26-5D53-454C-80B3-0A96A089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5ED3A-8B4F-41AB-980E-1B493036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D34CB-B0EE-4368-B534-0F5D843C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E58-755E-4DD6-A402-88D07B97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1F6BD-B796-4392-AE74-935C26D5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0C6D-3AD0-4BED-8BA0-D1826F00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0B315-6D71-4050-838F-10FA268F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571FD-E553-47A5-8199-60D9AEBA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DBB3C-C161-409C-8E4E-600BF6E6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E6A99-36BD-469A-B783-EB64EF40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2CC25-7995-49DE-9936-59212A91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511E-0535-4B18-838D-CBC69E04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AB7A-1BB7-424B-8866-161D322A0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86C-63A6-40B5-8AC0-D7926106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03B7-8898-4001-BEF7-10F4BD77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25A-BD78-4C34-822D-1E1FA95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D964-1AFD-4A4A-98DF-A1613C9C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F8C-CB39-4A82-AE6E-E7FA2ED2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4B25-6F34-468F-80FB-55921173FED1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595B-76A3-4D9C-8104-580C0A478035}" type="slidenum"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23E6-549D-4A84-9973-3BC3F7C28A58}" type="slidenum">
              <a:rPr b="0" lang="cs-CZ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559c3e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63c44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cca6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6F37-F32D-4EC2-957D-5764C7090CD6}" type="slidenum">
              <a:rPr b="0" lang="cs-CZ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4617b"/>
                </a:solidFill>
                <a:latin typeface="Calibri"/>
              </a:rPr>
              <a:t>Progra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4240" y="12855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9: 00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řivítání, úvod do problematiky a cíl informačního dne  - Jan Marek, CSc. 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ředitel odboru mezinárodní spolupráce ve výzkumu a vývoj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9: 2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ředstavení práce tematických skupin České Roadmap – moderuje Naďa Witzanyová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Socioekonomické a humanitní vědy – Jindřich Krejčí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Vědy o životním prostředí – Michal V. Mar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0:15 – 10: 45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Fyzika a materiálové inženýrství, vesmír – Petr Křen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Energetika – Ivan Štek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1:45 – 12: 15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2:15 – 13: 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Oběd formou bufetu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3: 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okračování – tematické skupiny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Biomedicína – Peter Šebo a Radislav Sedláč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3: 30 – 13: 45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3: 45 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Představení horizontálních témat – moderuje Jan Hrušá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E – infrastruktury – Jan Gruntorá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4:30 – 15: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D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Evaluace </a:t>
            </a:r>
            <a:r>
              <a:rPr b="1" lang="en-US" sz="1400" spc="-1" strike="noStrike">
                <a:solidFill>
                  <a:srgbClr val="55a839"/>
                </a:solidFill>
                <a:latin typeface="Constantia"/>
              </a:rPr>
              <a:t>start- up společností </a:t>
            </a:r>
            <a:r>
              <a:rPr b="1" lang="cs-CZ" sz="1400" spc="-1" strike="noStrike">
                <a:solidFill>
                  <a:srgbClr val="55a839"/>
                </a:solidFill>
                <a:latin typeface="Constantia"/>
              </a:rPr>
              <a:t>– Viliam Grácz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5:30 – 16: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Závěrečná d</a:t>
            </a:r>
            <a:r>
              <a:rPr b="0" i="1" lang="cs-CZ" sz="1400" spc="-1" strike="noStrike">
                <a:solidFill>
                  <a:srgbClr val="000000"/>
                </a:solidFill>
                <a:latin typeface="Constantia"/>
              </a:rPr>
              <a:t>iskus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6: 00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Shrnutí a návrh dalších kroků – Naďa Witzanyová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16:15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onstantia"/>
              </a:rPr>
              <a:t>Závěr – Jan Marek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4617b"/>
                </a:solidFill>
                <a:latin typeface="Calibri"/>
              </a:rPr>
              <a:t>Definice velké infrastruktury podle zákona 130/2002 Sb. v posledním znění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§2 Vymezení pojm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(2) pro účely poskytování podpory j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f) velkou infrastrukturou pro výzkum, vývoj a inovace jedinečné výzkumné zařízení, včetně jeho pořízení, souvisejících investic a zajištění jeho činnosti, které je nezbytné pro ucelenou výzkumnou a vývojovou činnost s vysokou finanční a technologickou náročností a které je schvalováno vládou a zřizováno jednou výzkumnou organizací pro využití též dalšími výzkumnými organizacem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4617b"/>
                </a:solidFill>
                <a:latin typeface="Calibri"/>
              </a:rPr>
              <a:t>ESFRI – 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European Strategic Forum for RI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oslání ESFR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– strategický přístup k evropským výzkumným infrastrukturám; a)směřování (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Roadmap 2006, 2008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); b)manažerské problémy; právní otázky; ad hoc otázky (regionální rozměr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Ustanoveno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během působení komisaře Busquina v únoru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2002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– 15 států – tvořené 1 zástupcem administrativy a 1 odborníkem z každého ČS;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lénum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tematické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pracovní skupin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Předsedové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voleni na 2 roky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451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1. Hans Chang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451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2. John Wood – ustanovil výkonný výb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spcBef>
                <a:spcPts val="451"/>
              </a:spcBef>
              <a:buClr>
                <a:srgbClr val="0b9b7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3. Carlo Rizzu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Čeští delegáti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: Jan Marek a Karel Jungwirth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Naďa Witzanyová a Jan Hrušá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nstantia"/>
              </a:rPr>
              <a:t>Konference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: 2000 </a:t>
            </a:r>
            <a:r>
              <a:rPr b="0" lang="fr-FR" sz="1800" spc="-1" strike="noStrike">
                <a:solidFill>
                  <a:srgbClr val="000000"/>
                </a:solidFill>
                <a:latin typeface="Constantia"/>
              </a:rPr>
              <a:t>Strassbourg;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 2003 </a:t>
            </a: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Trieste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; 2005 ECRI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ottingham; </a:t>
            </a:r>
            <a:r>
              <a:rPr b="0" lang="cs-CZ" sz="1800" spc="-1" strike="noStrike">
                <a:solidFill>
                  <a:srgbClr val="000000"/>
                </a:solidFill>
                <a:latin typeface="Constantia"/>
              </a:rPr>
              <a:t>2007 Hamburk; 2008 ECRI Versailles; 2009 RIC Prah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3:26:31Z</dcterms:created>
  <dc:creator>witzanyovan</dc:creator>
  <dc:description/>
  <dc:language>en-US</dc:language>
  <cp:lastModifiedBy>witzanyovan</cp:lastModifiedBy>
  <dcterms:modified xsi:type="dcterms:W3CDTF">2009-09-02T11:37:16Z</dcterms:modified>
  <cp:revision>8</cp:revision>
  <dc:subject/>
  <dc:title>Snímek 1</dc:title>
</cp:coreProperties>
</file>