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8FEAE-61D4-4393-87AC-CD205164A4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C27FB-D96F-4FD9-85E7-5F4370B1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10733-BDD0-45AB-9A09-CA4B14C3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1057F-EC35-41A1-B0C2-AA119658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E4B5E-066F-4780-90D1-68D05D0E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B9D2A-A745-449C-9C86-010115A0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ECEC1-6BA2-4798-AAD8-F0AD79AB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5CAD5-94A9-4A93-B0FF-864FE2FB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E11B2-15B5-4EA8-8B86-D3F19A74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B5216-4963-41CF-8602-BB065F55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A814B-0505-4A23-86FE-179C7CDD0F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56D451-3B76-4417-8228-367C4BBEFB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F0118-6B46-4389-969D-03D065B3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7BB37C-3E5E-4BA5-A81A-83611682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B044F1-522F-44F6-9C1F-68B18199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01D971-94EB-4330-A480-BBAA576C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8A1F9D-7DE7-4E7C-9844-98D0D1C5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E86C31-D5F8-4D9E-B4AD-FEDC050A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538BC-E898-419C-8DE4-A76CEF39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BF8A66-2936-41BF-9035-71D135BC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259F60-F0C4-4DED-9BCF-4973617F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999792-F2A3-46F5-B8CC-7504C816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BF0D39-4172-41E6-8FAD-97DB5D74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65158-FA2A-4147-AC6E-FE8F720F4E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ABF6C-DF89-4697-AF38-5F3B8BBF99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A59D03-EB86-444A-AF94-C62C7D8147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A62FB5-3430-4B9D-A003-8498BF33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B32F93-A18D-4AEF-9349-BC70A692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F56063-76A5-4462-A2CA-B68CCE20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A9236E-8444-4C0B-91BB-9D0473E4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8F1B60-278D-4A49-BC49-97A0BDCD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732830-7694-4516-BBA6-3F03F156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B2464D-2E33-4F11-9C78-3C16B39A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7EDD77-04F0-4E28-B308-C3AF0F30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8D3F0-4284-452F-A8D5-FF07A3938D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027C75-9E86-4651-92A2-E678E409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8C0BAA-97DC-4B16-A47F-944402D4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3BFA15-A8DC-4216-9894-C228733A38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5CFE7-77BE-4333-95D9-D2CC284E38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33BA3-EE4E-4645-9A0E-1F0DA3D3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8DFAD-CDCE-4A1B-B04D-B166C027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A12C7-2563-4D3E-A984-0966EC48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36F58-7A56-4311-A43E-5778D5FD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5F9FD-5307-444F-A47D-85C996AD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890B2-68A3-4827-B9B4-89A32F4C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4F309-483C-46E6-BA47-1499F4F1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C4209-9BB9-47EA-A05D-E031D437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D0933-5477-4582-ABE5-11B4D44E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6EE43-4197-465A-B997-C53268D6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DC9BA-2643-4A37-A78C-CEA67C7A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C59CC-24F5-4B59-970E-1E272F303B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3476D-13A0-48AF-B424-FBDB7020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73D8C-08CC-465B-A206-537D7C13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D3D73-76DC-40D1-961C-BBA040CC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961DB-4B81-4055-95C8-7467328B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AAEF7-002C-406B-BBE7-64EF66D0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DB47B-4C8D-4BA0-B312-58664F30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D4304-4108-4AD8-92F1-78A6253F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D3D79-B637-41CB-8007-0E920FFE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F3F98-7131-436A-B5F6-540499AA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7AA26-3C06-4548-B563-85A7344E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20F87-F4C6-4C68-868D-5ED1999784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3859-7FA9-46B1-9FA7-9F0E1F15CB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7DED-5913-4AED-B483-FEED0B5E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3FDF-C536-460A-9B96-8ACB625A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FE15-7219-4E6E-A4AB-DAB48D45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77B8-4433-4DB3-A6EF-66FD1491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CC4D7-A6F9-45C0-8159-900E76D8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8981-48AC-4760-871E-68DC6A9C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B430-BC76-4DE1-87E6-539FBF94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64C4-1D5A-45D9-AEB0-9698DBCD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216B-E8F2-4D8F-87EE-B335814D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6D77-B4DF-47C2-9D89-0EE0CE81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8986-31E5-44D2-BDAD-A7766CE0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74DF-679C-43F5-9E1C-E12C5B16D9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2692DA-252B-4699-8115-8734497932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F3F82-176C-4690-A980-E47C1D4C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80FD85-084B-43E2-8E93-6412CBC4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938EA-F5F5-4F56-B302-D419180D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B26140-628C-4E03-B733-32A66833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71F9C-D08B-454A-BFD7-BFB4E087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6F1DD-1470-4F3E-B2CB-D64EAED9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6E8FE-5A59-4255-B26A-74E0A6CA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BDBB3-EB1F-445C-B7CC-6DA4B4BC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A4FE4-58C7-437E-8608-B2F69A8E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DB7BC-569F-47FB-984A-2562A089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D04F9-B606-4D77-A0AD-9EF1E607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B7C15-57C3-4572-933A-863072C885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4231A7-1D12-4E38-BE77-6D8B97B1DD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5CD92-463B-4458-A7B6-85CFBB1D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3EF58A-FE6D-4AB2-8663-1CFD5391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05E0CF-70FF-44F8-ABD4-4C625112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A560A5-C8B3-4545-984E-F54450D8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EFBAB2-EDE5-4FD3-8B55-A31363A1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825268-7AF4-4842-B13A-4DE24139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CEADF1-EEF8-4C25-A422-860E1C2F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531F55-44D8-4941-B6D7-1E884FC2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AA04F0-CE60-4E96-B8D0-029FA0CF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15D82D-371C-40E3-B31A-439087EE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C751BB-31E3-45BF-AB6D-1657F469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F3F1E-3CD3-4C6F-B974-E38192FB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36810F-0D88-4E13-938D-60F17CBDFE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0F5CD-C0EC-49D4-A7AB-3F094EF9ED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BE2D7-753F-43C3-9BA1-33151ECC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61762-BEC6-4760-983D-8D761A6B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CE485-8180-4328-B8D6-895086E9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4CD0F-50D2-42FC-8B1F-C3290DAB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15095-8972-4ABC-A977-E5C1A258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F80D9-5862-4570-BD21-B11E476C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E6203-A015-4491-997A-B298E7F9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EB95A-2831-45AE-B602-57B8FB14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D2FB4-5912-42C4-B6F9-8EDBCCC9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D6378-8A19-440C-AD38-737DAD4E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59742-87C6-4AA0-A7DD-1FAB7ED1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6E685-E512-461B-AAC6-ADE497654A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BDF1E-1D6B-4E71-964F-251399F6AB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BE5509-59A0-457B-9135-B54FC9A1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31DABC-5EC6-47D4-8083-9B8FF60D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612171-5855-4DE0-AD9D-DB9DDC1A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21D431-F2B8-45AF-B433-7BEDBA48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F1747-975A-44CA-B9E0-469BA764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3694B-A7DC-44C4-B213-11C112B8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FC3EB-1458-4715-B69D-5D162218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40824C-EAEB-40FF-AE1D-DD4D5B03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8DA830-2074-481D-A529-303C1F2D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A99317-8EE5-4A56-9CB9-E91F34E5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94E06E-2B51-424F-994D-A36425FE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5B9690-4EBB-414B-9833-B271FE6C52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319683-56D1-4495-9F11-A2286EB2CC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381584-43B2-4C79-AE8B-1B7108C9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269D83-52C9-45A5-A50A-54BBFA3B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DAD0DF-B6D2-4E20-82F5-3E47C9F6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E8DC0F-D855-4733-BEBE-01C3EFED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6FC56-33DF-4193-8A9D-29E6977B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66560" y="401760"/>
            <a:ext cx="83376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C2DE9C-D231-42B1-90CA-BEF0CEE3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60049D-293E-4DD3-A31C-09E373C8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64AD18-4F97-42F5-98B4-8D590840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5BB773-C742-430F-9AD0-0FD76D22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89160"/>
            <a:ext cx="8199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3798B2-DD0A-47E1-9A9F-3A2D5EF4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58760" y="154260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58760" y="3989160"/>
            <a:ext cx="400104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481D17-F01A-494A-9DC2-DEA5A719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29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01560" y="154260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29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01560" y="3989160"/>
            <a:ext cx="2639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5B3154-2F23-4BE4-ACF9-E197487EAC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09A3B-E435-42D4-886E-B890C4F864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C46CA-FD23-425C-90D5-F2BF2708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BC2F4-9F09-4969-A252-4A86997C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E86C-F99B-4CF6-9EA2-D393A09ADEA8}" type="slidenum">
              <a:rPr b="1" lang="cs-CZ" sz="2000" spc="-1" strike="noStrike">
                <a:solidFill>
                  <a:srgbClr val="3366c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19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20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D07C-37B8-4737-8701-DB79429A5A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1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2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5B11-F6DC-41B2-ADF2-3EDDC05383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3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4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C6C9-2584-4678-A4C9-D57DD35294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8AF4-2BA0-4BCB-A4A5-59349345F8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5D07-12C3-4493-9C71-FD6EE784BC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9BE3-2B3F-42CF-BD0B-74BC356FEB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9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0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4700-FC20-4F99-A117-952CB7634D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1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79E1-F74E-4B35-A070-2952374562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4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978E-A63C-4E27-AC7D-D3BCAA1A8D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5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6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C8FF-09CE-4579-BEC3-7FB06DF9B9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81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81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90640" indent="-176040">
              <a:spcBef>
                <a:spcPts val="81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6320" indent="-17640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7"/>
          </p:nvPr>
        </p:nvSpPr>
        <p:spPr>
          <a:xfrm>
            <a:off x="-360" y="6381360"/>
            <a:ext cx="4675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Times New Roman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18"/>
          </p:nvPr>
        </p:nvSpPr>
        <p:spPr>
          <a:xfrm>
            <a:off x="6732720" y="631800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CD12-92D3-4135-886D-2A29E16DF8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.wmf"/><Relationship Id="rId7" Type="http://schemas.openxmlformats.org/officeDocument/2006/relationships/image" Target="../media/image9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3.pn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3.png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1.wmf"/><Relationship Id="rId6" Type="http://schemas.openxmlformats.org/officeDocument/2006/relationships/image" Target="../media/image5.png"/><Relationship Id="rId7" Type="http://schemas.openxmlformats.org/officeDocument/2006/relationships/image" Target="../media/image1.wmf"/><Relationship Id="rId8" Type="http://schemas.openxmlformats.org/officeDocument/2006/relationships/image" Target="../media/image5.png"/><Relationship Id="rId9" Type="http://schemas.openxmlformats.org/officeDocument/2006/relationships/image" Target="../media/image1.wm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wmf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wmf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wmf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.wmf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1.wmf"/><Relationship Id="rId14" Type="http://schemas.openxmlformats.org/officeDocument/2006/relationships/image" Target="../media/image5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09480" y="3205080"/>
            <a:ext cx="805176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ociální a humanitní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ědy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 České Roadma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řich Krejč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rej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@soc.cas.c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520560" y="1279440"/>
            <a:ext cx="7899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cc"/>
                </a:solidFill>
                <a:latin typeface="Arial"/>
              </a:rPr>
              <a:t>Informační den o infrastruktuře výzkum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cc"/>
                </a:solidFill>
                <a:latin typeface="Arial"/>
              </a:rPr>
              <a:t>3. září 2009</a:t>
            </a:r>
            <a:r>
              <a:rPr b="0" lang="en-US" sz="2600" spc="-1" strike="noStrike">
                <a:solidFill>
                  <a:srgbClr val="3366cc"/>
                </a:solidFill>
                <a:latin typeface="Arial"/>
              </a:rPr>
              <a:t>, </a:t>
            </a:r>
            <a:r>
              <a:rPr b="0" lang="cs-CZ" sz="2600" spc="-1" strike="noStrike">
                <a:solidFill>
                  <a:srgbClr val="3366cc"/>
                </a:solidFill>
                <a:latin typeface="Arial"/>
              </a:rPr>
              <a:t>MŠM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6004-9341-44CD-8722-88269DFF6502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37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Projekty pro Českou Roadmap (II.)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0" y="958320"/>
            <a:ext cx="9144000" cy="589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51"/>
              </a:spcBef>
              <a:buSzPct val="1335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SFRI - s českou úča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68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SS (surve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Ú AV ČR, 3 vlny z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74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nancování - nyní: SOÚ (dříve INGO, GAČ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74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klady: realizace šetření každé 2 roky + doprovodné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2999"/>
              </a:spcBef>
              <a:buSzPct val="13358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lší národní projekty - přehled v pří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1375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Český národní korpus (FF U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624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oj dat pro jazykový výzkum, úložiště digitalizovaných textů + spec. software, široké spektrum depozitorů a uživ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624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zinárodní spolupráce (TELRI, CLAR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624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nancování: Výzkumný záměr MŠMT (+ gran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1250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igitální knihovny, databáze, projekty digitalizace,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běr dat - koordinovaná účast v kontinuálních mezinár. šetřen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5E21-BA5F-4A5A-BF1A-84DE7E82FB8B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37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Předběžné zhodnocení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17520" y="755280"/>
            <a:ext cx="8826480" cy="610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649"/>
              </a:spcBef>
              <a:buSzPct val="1526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zapojení do mezinárodních aktivit - významný impul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49"/>
              </a:spcBef>
              <a:buSzPct val="1526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rojekty formulované „zdola“ - vycházející z potřeb výzkumník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49"/>
              </a:spcBef>
              <a:buSzPct val="1526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existující a zavedené technolog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49"/>
              </a:spcBef>
              <a:buSzPct val="1526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sítě - spolupráce - sdílení zdrojů - rozložení nákladů - efektivi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2625"/>
              </a:spcBef>
              <a:buSzPct val="1526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zapojení do mezinár. projektů nepokrývá reálné potřeby SH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49"/>
              </a:spcBef>
              <a:buSzPct val="1526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dostatek koncepce a specializovaných program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49"/>
              </a:spcBef>
              <a:buSzPct val="15268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oztříštěnost, nedostatek koordinace, různost institucionálního zázemí, různost zdrojů financo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49"/>
              </a:spcBef>
              <a:buSzPct val="15268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chybějící infrastruktura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limity dosahování excelence, limity efektivity, limity zapojení do mezinár. projekt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49"/>
              </a:spcBef>
              <a:buSzPct val="15268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fragmentovaná, ale existující infrastruktura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východiska </a:t>
            </a:r>
            <a:br>
              <a:rPr sz="2100"/>
            </a:b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ro nové projekty a řešení nedostatk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2625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DOPORUČE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F90E-B909-465A-BA6F-FF01D9A85379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1098360"/>
            <a:ext cx="819936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1500"/>
              </a:spcBef>
              <a:buSzPct val="1335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SFRI: www.cordis.lu/esf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500"/>
              </a:spcBef>
              <a:buSzPct val="1335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SSDA: http://www.cessda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ologický datový archiv: http://archiv.soc.cas.cz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500"/>
              </a:spcBef>
              <a:buSzPct val="1335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LARIN: http://www.clarin.e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500"/>
              </a:spcBef>
              <a:buSzPct val="1335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RIAH: http://www.dariah.eu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500"/>
              </a:spcBef>
              <a:buSzPct val="13358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HARE: http://www.share-project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HARE ČR: http://www.cerge-ei.cz/shar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500"/>
              </a:spcBef>
              <a:buSzPct val="13358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SS (Survey): http://www.europeansocialsurvey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500"/>
              </a:spcBef>
              <a:buSzPct val="13358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ský národní korpus: http://ucnk.ff.cuni.cz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DD1C-452F-4DEE-930B-C5982FA90A4A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Obsah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42600"/>
            <a:ext cx="819936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814"/>
              </a:spcBef>
              <a:buSzPct val="1233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ématická pracovní skupina SH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814"/>
              </a:spcBef>
              <a:buSzPct val="1233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eto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814"/>
              </a:spcBef>
              <a:buSzPct val="1233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harakter a význam 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rastruktury v SH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814"/>
              </a:spcBef>
              <a:buSzPct val="1233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HV v ESFRI Road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814"/>
              </a:spcBef>
              <a:buSzPct val="1233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jekty pro Českou Road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814"/>
              </a:spcBef>
              <a:buSzPct val="1233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běžné zhodnoce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7" descr="under construction"/>
          <p:cNvPicPr/>
          <p:nvPr/>
        </p:nvPicPr>
        <p:blipFill>
          <a:blip r:embed="rId7"/>
          <a:srcRect l="12617" t="10533" r="11683" b="12114"/>
          <a:stretch/>
        </p:blipFill>
        <p:spPr>
          <a:xfrm>
            <a:off x="6006960" y="3159000"/>
            <a:ext cx="2057400" cy="186552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8"/>
          <p:cNvSpPr/>
          <p:nvPr/>
        </p:nvSpPr>
        <p:spPr>
          <a:xfrm>
            <a:off x="6032880" y="5068800"/>
            <a:ext cx="202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OADM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PŘÍPRA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1E1C-E63B-4431-B627-F71CFF169247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6560" y="40176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Tématická pracovní skupina SHV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30360"/>
            <a:ext cx="803916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11"/>
              </a:spcBef>
              <a:buSzPct val="1395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gr. Jind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ch Krej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čí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PhD.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U AV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ciolog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151"/>
              </a:spcBef>
              <a:buSzPct val="139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c. PhDr. Ing. Ond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j C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PhD.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SS MU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litolog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151"/>
              </a:spcBef>
              <a:buSzPct val="1395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f. PhDr. Milan Hlava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a, CSc.,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(ÚČ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FF UK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istor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151"/>
              </a:spcBef>
              <a:buSzPct val="1395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c. Ing. Daniel M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ü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ich, PhD.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ERGE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-EI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konom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151"/>
              </a:spcBef>
              <a:buSzPct val="1395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c. RNDr. Karel Oliva, Dr.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(Ú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V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zykov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F831-7A8D-47C3-A542-108ADC0D3736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82400" y="343080"/>
            <a:ext cx="833724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Česká Roadmap - metoda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377720"/>
            <a:ext cx="84027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689"/>
              </a:spcBef>
              <a:buSzPct val="14580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gální a koncepční rámec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výzkumná organizace pro výzkumné účely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nikátní a nákladná v rámci oboru, široký veřejný přístup, uživatelé, celonárodní dosah, mezinárodní kompon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ESFRI, indikativní seznamy projekt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atabáze projektů (TC, RIV, info projek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ůzkum využívaných zdrojů pro výzk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otazníky pro projekty (7.9. první vlna dotazování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8574-73B4-4C4C-926F-6BB457B67EF5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6cc"/>
                </a:solidFill>
                <a:latin typeface="Arial"/>
              </a:rPr>
              <a:t>In</a:t>
            </a: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frastruktura SHV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19936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561"/>
              </a:spcBef>
              <a:buSzPct val="14580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ramatický růst využívání dat v SHV </a:t>
            </a:r>
            <a:br>
              <a:rPr sz="2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rodukce dat, nové zdroje, rozvoj metod, rozvoj technologií..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2064"/>
              </a:spcBef>
              <a:buSzPct val="14580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nfrastruktura - propojení dvou aspekt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37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tové zdroj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tabáze, sbírky výzkumného materiálu,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37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ologie, systemizace, nástroj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běr dat, digitalizace, vzdálený přístup, propojování rozptýlených zdrojů, informační systémy, prostředí pro spolupráci, harmonizace/standardizace a spojování databází, nástroje pro kompar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2064"/>
              </a:spcBef>
              <a:buSzPct val="14580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Charakter infrastrukt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74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ročnost na práci, méně investic do přístroj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37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en fixně lokalizovaná pracoviště, ale také sítě: </a:t>
            </a:r>
            <a:br>
              <a:rPr sz="20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pojení do mezinárodních sítí, virtuální struktury, vzdálený přís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74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nadný přístup pro odbornou veřejnost, celonárodní dosah (NRRE), mezinárodní propoj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8E2B-7644-4A77-A87E-9C07FA58C733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37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Význam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819000"/>
            <a:ext cx="8199360" cy="560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561"/>
              </a:spcBef>
              <a:buSzPct val="1602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dílení a vícenásobné využití dat je podmínkou efektivity výzkum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smlouvy a direktivy EU, OEC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901"/>
              </a:spcBef>
              <a:buSzPct val="1602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pojováním zdrojů vzniká nový výzkumný materiál </a:t>
            </a:r>
            <a:br>
              <a:rPr sz="20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ropojení témat, časové a mezinárodní srovn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901"/>
              </a:spcBef>
              <a:buSzPct val="1602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ředí pro spoluprác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árodní, mezinárodní, mezioborov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001"/>
              </a:spcBef>
              <a:buSzPct val="16025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a konkurenceschopnosti výzku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001"/>
              </a:spcBef>
              <a:buSzPct val="16025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stup k datům z reálných výzkumů pro účely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1001"/>
              </a:spcBef>
              <a:buSzPct val="16025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gionální aspekt: digitaliza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zdálený přístu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ecentralizace, demokratická distribuce podmí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901"/>
              </a:spcBef>
              <a:buSzPct val="16025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iority rozvoje společnosti v NPV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znam infrastruktury a nedostatky v jednotl. prioritách, významný průnik s prioritou Technologie a met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kurenceschopnost spol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zení a s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dské zdroje, znalostní společ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eská identita a okolní svě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1D57-6A62-4AC7-85B1-8FBA53FAD126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37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SHV v ESFRI Roadmap 2008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0" y="806400"/>
            <a:ext cx="9144000" cy="60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689"/>
              </a:spcBef>
              <a:buSzPct val="14580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CESSDA - Council of European Social Science Data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Arch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rchivace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, zpracov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zpřístupnění sociálněvěd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dat, mezinár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kompar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strib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uovaná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20 zemí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&gt; 30.000 výzkumníků, &gt; 50.000 databáz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CLARIN - Common Language Resources and Tech. Infrast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zinár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koordinace a přístup k jazykovým zdrojům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gridová infrastr., Web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 technologie, 32 zem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DARIAH - Digital Research Infr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 for the Arts and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Huma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gi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tal.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teriály pro humanitn</a:t>
            </a: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vědy, digitalizace, propojení, sdílen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distribuovaná, 14 zemí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ESS - European Social Surv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dlouhodobý sběr dat ku sledování hodnotových změn, přístup k datů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31 zemí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689"/>
              </a:spcBef>
              <a:buSzPct val="14580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SHARE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-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Survey of Health, Ageing and Retirement in Euro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49"/>
              </a:spcBef>
              <a:buSzPct val="100000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Arial"/>
              </a:rPr>
              <a:t>dlouhodobý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běr dat o zdraví, socio-ekonomickém statusu, sociálních a rodinných sítí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337"/>
              </a:spcBef>
              <a:buSzPct val="100000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zem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8AC9-8F55-457D-9018-4FC3275854DC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337600" cy="10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Náklady na mezinárodní projekty ESFRI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512" name="Picture 116" descr="COSTS in M"/>
          <p:cNvPicPr/>
          <p:nvPr/>
        </p:nvPicPr>
        <p:blipFill>
          <a:blip r:embed="rId1"/>
          <a:srcRect l="7245" t="11083" r="16391" b="36947"/>
          <a:stretch/>
        </p:blipFill>
        <p:spPr>
          <a:xfrm>
            <a:off x="419040" y="1209600"/>
            <a:ext cx="816624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Zástupný symbol pro datum 3"/>
          <p:cNvSpPr/>
          <p:nvPr/>
        </p:nvSpPr>
        <p:spPr>
          <a:xfrm>
            <a:off x="0" y="6381720"/>
            <a:ext cx="4675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Sociální a humanitní vě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00" spc="-1" strike="noStrike">
                <a:solidFill>
                  <a:srgbClr val="3366cc"/>
                </a:solidFill>
                <a:latin typeface="Arial"/>
                <a:ea typeface="宋体"/>
              </a:rPr>
              <a:t>Informační den o infrastruktuře výzkumu, 3. 9. 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ástupný symbol pro číslo snímku 4"/>
          <p:cNvSpPr/>
          <p:nvPr/>
        </p:nvSpPr>
        <p:spPr>
          <a:xfrm>
            <a:off x="6732720" y="6318360"/>
            <a:ext cx="241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B79E-74E5-42C9-B243-38327980FC55}" type="slidenum">
              <a:rPr b="1" lang="cs-CZ" sz="2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37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66cc"/>
                </a:solidFill>
                <a:latin typeface="Arial"/>
              </a:rPr>
              <a:t>Projekty pro Českou Roadmap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0" y="768240"/>
            <a:ext cx="9144000" cy="608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44600" indent="-444600">
              <a:spcBef>
                <a:spcPts val="751"/>
              </a:spcBef>
              <a:buSzPct val="1335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SFRI - s českou účastí, podporované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1375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CESS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ciologický datový archiv (SOÚ AV ČR), 700 reg. uživatelů (VŠ, VVI, zahr. - více oborů), data v mezinárodní sí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cování - nyní: SOÚ, INGO, FP7 (dříve MŠMT, GAČ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ssda-ERIC: (operační: 40-70 tis. Eur/rok) + upgrade a zvýšení provozních nákladů v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1375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CLAR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U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Ústav formální a aplikované lingvistiky MFF) + FI MU, ÚJ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strukce: 1) úložiště, sítě, připojení, 2) distribuční kanály mezi centry v EU; centrum v ČR dosud není, jsou zde různé zdroje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cování - nyní: FP7 + MŠ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6840">
              <a:spcBef>
                <a:spcPts val="1375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HÚ AV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vlna šetření ze 2, distribuce dat přes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34960" indent="-264960">
              <a:spcBef>
                <a:spcPts val="337"/>
              </a:spcBef>
              <a:buSzPct val="100000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cování - nyní: FP7 + MŠ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9:18:17Z</dcterms:created>
  <dc:creator>Jindrich Krejci</dc:creator>
  <dc:description/>
  <dc:language>en-US</dc:language>
  <cp:lastModifiedBy>witzanyovan</cp:lastModifiedBy>
  <dcterms:modified xsi:type="dcterms:W3CDTF">2009-09-25T13:56:17Z</dcterms:modified>
  <cp:revision>264</cp:revision>
  <dc:subject/>
  <dc:title>Snímek 1</dc:title>
</cp:coreProperties>
</file>