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B587-6761-4AD7-BE7E-F97805C8C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9A98-3E54-4F4A-9ACE-4DFDCC0BE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78AA-74A9-45B5-930B-E0A4326E3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905-ABBE-407A-B960-FAA1701B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788-5BCD-4F8D-A5C6-D91C1B97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7C4A-C7A1-4BB2-9702-C2B61F5E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BFC-C7D3-4585-AF07-F59E5816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865-4259-41B7-B1B2-D6442F9D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402-3ED2-4D6A-AC9F-0B377619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A5D-5C33-44A4-A88C-ACD88BFA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E2D-2FC9-46D7-9E83-3EB61A99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1674-91B3-4005-ADBE-B0A97AD1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8F8C-B8DF-44A2-AA92-AD972507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30A-96A6-477C-982E-65F4E331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846-8C5E-4431-A55F-9696268D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7301-B5BE-4B94-8DDF-6BCB14BD8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7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edlacek@img.cas.cz" TargetMode="External"/><Relationship Id="rId2" Type="http://schemas.openxmlformats.org/officeDocument/2006/relationships/hyperlink" Target="mailto:dohnalek@imc.cas.cz" TargetMode="External"/><Relationship Id="rId3" Type="http://schemas.openxmlformats.org/officeDocument/2006/relationships/hyperlink" Target="http://www.instruct-fp7.eu/" TargetMode="External"/><Relationship Id="rId4" Type="http://schemas.openxmlformats.org/officeDocument/2006/relationships/hyperlink" Target="mailto:sklenar@chemi.muni.cz" TargetMode="External"/><Relationship Id="rId5" Type="http://schemas.openxmlformats.org/officeDocument/2006/relationships/hyperlink" Target="mailto:jkoca@chemi.muni.cz" TargetMode="External"/><Relationship Id="rId6" Type="http://schemas.openxmlformats.org/officeDocument/2006/relationships/hyperlink" Target="mailto:hozak@img.cas.cz" TargetMode="External"/><Relationship Id="rId7" Type="http://schemas.openxmlformats.org/officeDocument/2006/relationships/hyperlink" Target="http://www.eurobioimaging.eu/poster.pdf" TargetMode="External"/><Relationship Id="rId8" Type="http://schemas.openxmlformats.org/officeDocument/2006/relationships/hyperlink" Target="mailto:syka@biomed.cas.cz" TargetMode="External"/><Relationship Id="rId9" Type="http://schemas.openxmlformats.org/officeDocument/2006/relationships/hyperlink" Target="mailto:bartunek@img.cas.cz" TargetMode="External"/><Relationship Id="rId10" Type="http://schemas.openxmlformats.org/officeDocument/2006/relationships/hyperlink" Target="http://www.fmp-berlin.de/eu-openscreen.html" TargetMode="External"/><Relationship Id="rId11" Type="http://schemas.openxmlformats.org/officeDocument/2006/relationships/hyperlink" Target="mailto:hocek@uochb.cas.cz" TargetMode="External"/><Relationship Id="rId12" Type="http://schemas.openxmlformats.org/officeDocument/2006/relationships/hyperlink" Target="mailto:jiri.vondrasek@uochb.cas.cz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59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89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0000"/>
                </a:solidFill>
                <a:latin typeface="Calibri"/>
              </a:rPr>
              <a:t>Národní roadmap infrastruktur výzkumu pro </a:t>
            </a:r>
            <a:br>
              <a:rPr sz="4400"/>
            </a:br>
            <a:r>
              <a:rPr b="1" lang="cs-CZ" sz="4400" spc="-1" strike="noStrike">
                <a:solidFill>
                  <a:srgbClr val="cc0000"/>
                </a:solidFill>
                <a:latin typeface="Calibri"/>
              </a:rPr>
              <a:t>„biomedical life sciences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1859c"/>
                </a:solidFill>
                <a:latin typeface="Calibri"/>
              </a:rPr>
              <a:t>Peter </a:t>
            </a:r>
            <a:r>
              <a:rPr b="1" lang="cs-CZ" sz="2400" spc="-1" strike="noStrike">
                <a:solidFill>
                  <a:srgbClr val="31859c"/>
                </a:solidFill>
                <a:latin typeface="Calibri"/>
              </a:rPr>
              <a:t>Šebo , Radislav Sedláč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rcRect l="39296" t="0" r="0" b="0"/>
          <a:stretch/>
        </p:blipFill>
        <p:spPr>
          <a:xfrm>
            <a:off x="0" y="5945040"/>
            <a:ext cx="12952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8"/>
          <p:cNvGrpSpPr/>
          <p:nvPr/>
        </p:nvGrpSpPr>
        <p:grpSpPr>
          <a:xfrm>
            <a:off x="990720" y="0"/>
            <a:ext cx="7848360" cy="914400"/>
            <a:chOff x="990720" y="0"/>
            <a:chExt cx="7848360" cy="914400"/>
          </a:xfrm>
        </p:grpSpPr>
        <p:pic>
          <p:nvPicPr>
            <p:cNvPr id="110" name="Obrázek 4" descr="infrafrontier-head.gif"/>
            <p:cNvPicPr/>
            <p:nvPr/>
          </p:nvPicPr>
          <p:blipFill>
            <a:blip r:embed="rId1"/>
            <a:srcRect l="80181" t="0" r="0" b="0"/>
            <a:stretch/>
          </p:blipFill>
          <p:spPr>
            <a:xfrm>
              <a:off x="990720" y="75960"/>
              <a:ext cx="11217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2"/>
            <p:cNvSpPr/>
            <p:nvPr/>
          </p:nvSpPr>
          <p:spPr>
            <a:xfrm>
              <a:off x="1828800" y="0"/>
              <a:ext cx="7010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Infrafrontie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European infrastructure for phenotyping and archiving of model mammalian genom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8"/>
          <p:cNvSpPr/>
          <p:nvPr/>
        </p:nvSpPr>
        <p:spPr>
          <a:xfrm>
            <a:off x="2594160" y="762120"/>
            <a:ext cx="43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zech centre for pheno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57200" y="2666880"/>
            <a:ext cx="8686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ength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existující know-how , kvalitní vědecké výsledky uznávané v zahranič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kness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ědci zatím roztrouš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ortuniti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zin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árodní spolupráce a napojení zlepší postavení ČR  v obor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rea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dostatek některého specializovaného personál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Rectangle 9"/>
          <p:cNvGrpSpPr/>
          <p:nvPr/>
        </p:nvGrpSpPr>
        <p:grpSpPr>
          <a:xfrm>
            <a:off x="957240" y="2395440"/>
            <a:ext cx="1268280" cy="731880"/>
            <a:chOff x="957240" y="2395440"/>
            <a:chExt cx="1268280" cy="731880"/>
          </a:xfrm>
        </p:grpSpPr>
        <p:pic>
          <p:nvPicPr>
            <p:cNvPr id="115" name="Rectangle 9" descr=""/>
            <p:cNvPicPr/>
            <p:nvPr/>
          </p:nvPicPr>
          <p:blipFill>
            <a:blip r:embed="rId2"/>
            <a:stretch/>
          </p:blipFill>
          <p:spPr>
            <a:xfrm>
              <a:off x="957240" y="2395440"/>
              <a:ext cx="12682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372320" y="24382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ff0000"/>
                  </a:solidFill>
                  <a:uFillTx/>
                  <a:latin typeface="Calibri"/>
                </a:rPr>
                <a:t>SWO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bdélník 4"/>
          <p:cNvSpPr/>
          <p:nvPr/>
        </p:nvSpPr>
        <p:spPr>
          <a:xfrm>
            <a:off x="0" y="1523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omic Sans MS"/>
              </a:rPr>
              <a:t>Proč budovat</a:t>
            </a:r>
            <a:r>
              <a:rPr b="1" lang="en-US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cs-CZ" sz="1800" spc="-1" strike="noStrike">
                <a:solidFill>
                  <a:srgbClr val="0070c0"/>
                </a:solidFill>
                <a:latin typeface="Comic Sans MS"/>
              </a:rPr>
              <a:t>České cent</a:t>
            </a:r>
            <a:r>
              <a:rPr b="1" lang="de-DE" sz="18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1" lang="cs-CZ" sz="1800" spc="-1" strike="noStrike">
                <a:solidFill>
                  <a:srgbClr val="0070c0"/>
                </a:solidFill>
                <a:latin typeface="Comic Sans MS"/>
              </a:rPr>
              <a:t>um pro fenogenomiku</a:t>
            </a:r>
            <a:r>
              <a:rPr b="1" lang="en-US" sz="1800" spc="-1" strike="noStrike">
                <a:solidFill>
                  <a:srgbClr val="0070c0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228600" y="5816520"/>
            <a:ext cx="868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ernational Knockout Mouse Consortium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KMC) 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25,000-30,000 m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yších 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mutant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ů ke studiu jednotlivých genů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bude vytvořeno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1" lang="cs-CZ" sz="1400" spc="-1" strike="noStrike">
                <a:solidFill>
                  <a:srgbClr val="0070c0"/>
                </a:solidFill>
                <a:latin typeface="Comic Sans MS"/>
              </a:rPr>
              <a:t>do</a:t>
            </a:r>
            <a:r>
              <a:rPr b="1" lang="de-DE" sz="1400" spc="-1" strike="noStrike">
                <a:solidFill>
                  <a:srgbClr val="0070c0"/>
                </a:solidFill>
                <a:latin typeface="Comic Sans MS"/>
              </a:rPr>
              <a:t> 2011/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Rectangle 13"/>
          <p:cNvGrpSpPr/>
          <p:nvPr/>
        </p:nvGrpSpPr>
        <p:grpSpPr>
          <a:xfrm>
            <a:off x="115920" y="5394240"/>
            <a:ext cx="2608200" cy="725400"/>
            <a:chOff x="115920" y="5394240"/>
            <a:chExt cx="2608200" cy="725400"/>
          </a:xfrm>
        </p:grpSpPr>
        <p:pic>
          <p:nvPicPr>
            <p:cNvPr id="120" name="Rectangle 13" descr=""/>
            <p:cNvPicPr/>
            <p:nvPr/>
          </p:nvPicPr>
          <p:blipFill>
            <a:blip r:embed="rId3"/>
            <a:stretch/>
          </p:blipFill>
          <p:spPr>
            <a:xfrm>
              <a:off x="115920" y="5394240"/>
              <a:ext cx="2608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38920" y="54356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ff0000"/>
                  </a:solidFill>
                  <a:uFillTx/>
                  <a:latin typeface="Calibri"/>
                </a:rPr>
                <a:t>Mezinárodní situ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ounded Rectangle 14"/>
          <p:cNvSpPr/>
          <p:nvPr/>
        </p:nvSpPr>
        <p:spPr>
          <a:xfrm>
            <a:off x="304920" y="2362320"/>
            <a:ext cx="8229600" cy="2590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4572000" cy="7333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TextBox 5"/>
          <p:cNvGrpSpPr/>
          <p:nvPr/>
        </p:nvGrpSpPr>
        <p:grpSpPr>
          <a:xfrm>
            <a:off x="-182520" y="1731960"/>
            <a:ext cx="9339120" cy="3662280"/>
            <a:chOff x="-182520" y="1731960"/>
            <a:chExt cx="9339120" cy="3662280"/>
          </a:xfrm>
        </p:grpSpPr>
        <p:pic>
          <p:nvPicPr>
            <p:cNvPr id="126" name="TextBox 5" descr=""/>
            <p:cNvPicPr/>
            <p:nvPr/>
          </p:nvPicPr>
          <p:blipFill>
            <a:blip r:embed="rId2"/>
            <a:stretch/>
          </p:blipFill>
          <p:spPr>
            <a:xfrm>
              <a:off x="-182520" y="1731960"/>
              <a:ext cx="9339120" cy="36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28600" y="1752480"/>
              <a:ext cx="8915400" cy="329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Koordinátor za ČR/vědecký partner 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:  Pavel Hozák, Ústav molekulární genetiky AV ČR, v.v.i., BIOC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Partner v ČR: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  MŠMT ČR, kontaktní osoba: Gabriela Vlčkov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plň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uro-BioImaging </a:t>
              </a:r>
              <a:r>
                <a:rPr b="0" lang="cs-CZ" sz="1800" spc="-1" strike="noStrike">
                  <a:solidFill>
                    <a:srgbClr val="000000"/>
                  </a:solidFill>
                  <a:latin typeface="Calibri"/>
                </a:rPr>
                <a:t> bude vyvíjet a poskytovat přístup k zobrazovacím technologiím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Calibri"/>
                </a:rPr>
                <a:t>v dlouhodobém měřítku chce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uro-BioImaging</a:t>
              </a:r>
              <a:r>
                <a:rPr b="0" lang="cs-CZ" sz="1800" spc="-1" strike="noStrike">
                  <a:solidFill>
                    <a:srgbClr val="000000"/>
                  </a:solidFill>
                  <a:latin typeface="Calibri"/>
                </a:rPr>
                <a:t> vyvinout a etablovat technologii k vizualizaci makromolekul v jejich přirozeném prostředí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Klíčové součásti infrastruktur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vybudovani centrální infrastruktury  v rámci BIOCEV ,  - 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Open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klad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vestice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200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oz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15-25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/r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TextBox 15"/>
          <p:cNvGrpSpPr/>
          <p:nvPr/>
        </p:nvGrpSpPr>
        <p:grpSpPr>
          <a:xfrm>
            <a:off x="-165240" y="847800"/>
            <a:ext cx="9321840" cy="6905520"/>
            <a:chOff x="-165240" y="847800"/>
            <a:chExt cx="9321840" cy="6905520"/>
          </a:xfrm>
        </p:grpSpPr>
        <p:pic>
          <p:nvPicPr>
            <p:cNvPr id="129" name="TextBox 15" descr=""/>
            <p:cNvPicPr/>
            <p:nvPr/>
          </p:nvPicPr>
          <p:blipFill>
            <a:blip r:embed="rId1"/>
            <a:stretch/>
          </p:blipFill>
          <p:spPr>
            <a:xfrm>
              <a:off x="-165240" y="847800"/>
              <a:ext cx="932184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28600" y="914400"/>
              <a:ext cx="8915400" cy="64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ff0000"/>
                  </a:solidFill>
                  <a:latin typeface="Calibri"/>
                </a:rPr>
                <a:t>CZ-OPENSCREE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cs-CZ" sz="2000" spc="-1" strike="noStrike">
                  <a:solidFill>
                    <a:srgbClr val="ff0000"/>
                  </a:solidFill>
                  <a:latin typeface="Calibri"/>
                </a:rPr>
                <a:t>( připravovaná infrastruktura v rámci EU-OPENSCREEN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Cíl: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cs-CZ" sz="1800" spc="-1" strike="noStrike">
                  <a:solidFill>
                    <a:srgbClr val="000000"/>
                  </a:solidFill>
                  <a:latin typeface="Calibri"/>
                </a:rPr>
                <a:t>Open Access infrastruktura evropského měřítka pro chemickou biolog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00"/>
                  </a:solidFill>
                  <a:latin typeface="Calibri"/>
                </a:rPr>
                <a:t>Zástupce: Petr Bartůněk,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Ústav molekulární genetiky AV ČR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plň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Identifikace nových molekulárních sond/nástrojů pro výzkum nových potenciálních léčiv pro závažná onemocněn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Klíčové součásti infrastruktur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Centrální jednotka pro testování (high-throughput screening) - 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Open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Národní sbírka sloučeni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Národní databáze sloučen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odpora: vývoj testů, medicinální chemie a chem/bioinformati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Spolupráce a interakce v rámci ČR: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ÚMG, MBÚ, ÚEM, ÚEB, ÚOCHB AV ČR, PřF UK, LF UK (BIOCEV), FaF U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řF, LF MUNI  (CEITEC)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řF, LF UPOL (BioMedReg)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VŠC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klad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vestice  90-150 mil. Kč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oz  28 mil. Kč/r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4"/>
          <p:cNvSpPr/>
          <p:nvPr/>
        </p:nvSpPr>
        <p:spPr>
          <a:xfrm>
            <a:off x="7323480" y="632448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test.chembio.c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7324920" y="6611760"/>
            <a:ext cx="148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ttp://www.chemgen.cz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971e204f61"/>
          <p:cNvPicPr/>
          <p:nvPr/>
        </p:nvPicPr>
        <p:blipFill>
          <a:blip r:embed="rId2"/>
          <a:stretch/>
        </p:blipFill>
        <p:spPr>
          <a:xfrm>
            <a:off x="5867280" y="0"/>
            <a:ext cx="3124440" cy="1119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images.jpeg"/>
          <p:cNvPicPr/>
          <p:nvPr/>
        </p:nvPicPr>
        <p:blipFill>
          <a:blip r:embed="rId3"/>
          <a:stretch/>
        </p:blipFill>
        <p:spPr>
          <a:xfrm>
            <a:off x="2717640" y="32220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images-1.jpeg"/>
          <p:cNvPicPr/>
          <p:nvPr/>
        </p:nvPicPr>
        <p:blipFill>
          <a:blip r:embed="rId4"/>
          <a:stretch/>
        </p:blipFill>
        <p:spPr>
          <a:xfrm>
            <a:off x="2130480" y="230040"/>
            <a:ext cx="531720" cy="567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zajimavosti_logoav.png"/>
          <p:cNvPicPr/>
          <p:nvPr/>
        </p:nvPicPr>
        <p:blipFill>
          <a:blip r:embed="rId5"/>
          <a:stretch/>
        </p:blipFill>
        <p:spPr>
          <a:xfrm>
            <a:off x="228600" y="304920"/>
            <a:ext cx="534960" cy="534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cuni.gif"/>
          <p:cNvPicPr/>
          <p:nvPr/>
        </p:nvPicPr>
        <p:blipFill>
          <a:blip r:embed="rId6"/>
          <a:stretch/>
        </p:blipFill>
        <p:spPr>
          <a:xfrm>
            <a:off x="833400" y="274680"/>
            <a:ext cx="588960" cy="59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logo_mu_P280C.tif                                              000267A7Power HD                       BA8137B1:"/>
          <p:cNvPicPr/>
          <p:nvPr/>
        </p:nvPicPr>
        <p:blipFill>
          <a:blip r:embed="rId7"/>
          <a:stretch/>
        </p:blipFill>
        <p:spPr>
          <a:xfrm>
            <a:off x="1517760" y="230040"/>
            <a:ext cx="612720" cy="6098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4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Rectangle 2"/>
          <p:cNvGrpSpPr/>
          <p:nvPr/>
        </p:nvGrpSpPr>
        <p:grpSpPr>
          <a:xfrm>
            <a:off x="-360360" y="244440"/>
            <a:ext cx="9516960" cy="901800"/>
            <a:chOff x="-360360" y="244440"/>
            <a:chExt cx="9516960" cy="901800"/>
          </a:xfrm>
        </p:grpSpPr>
        <p:pic>
          <p:nvPicPr>
            <p:cNvPr id="141" name="Rectangle 2" descr=""/>
            <p:cNvPicPr/>
            <p:nvPr/>
          </p:nvPicPr>
          <p:blipFill>
            <a:blip r:embed="rId1"/>
            <a:stretch/>
          </p:blipFill>
          <p:spPr>
            <a:xfrm>
              <a:off x="-360360" y="244440"/>
              <a:ext cx="9516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0" y="380880"/>
              <a:ext cx="9144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INSTRUC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4"/>
          <p:cNvSpPr/>
          <p:nvPr/>
        </p:nvSpPr>
        <p:spPr>
          <a:xfrm>
            <a:off x="380880" y="2090880"/>
            <a:ext cx="8382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Calibri"/>
              </a:rPr>
              <a:t>Náplň a cí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RUCT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poskytovat 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 acces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-clas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vano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tur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ální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olog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Podpora evropskéh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zkumu v biomedicíně – zlepšování  a rozšiřování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echnologi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í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dukace vědeckých pracovníku v novch technologi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ff"/>
                </a:solidFill>
                <a:latin typeface="Calibri"/>
              </a:rPr>
              <a:t>Evropská s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tru</a:t>
            </a:r>
            <a:r>
              <a:rPr b="1" lang="cs-CZ" sz="2000" spc="-1" strike="noStrike">
                <a:solidFill>
                  <a:srgbClr val="0000ff"/>
                </a:solidFill>
                <a:latin typeface="Calibri"/>
              </a:rPr>
              <a:t>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-8 core cente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aždé centum poskytuje 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tting-edg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„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turu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y 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d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c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ein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ystaliz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e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s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trometry, NMR, X-ra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ystalografi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el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on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vá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pie 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mogr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X-ray imaging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t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instruct logo.gif"/>
          <p:cNvPicPr/>
          <p:nvPr/>
        </p:nvPicPr>
        <p:blipFill>
          <a:blip r:embed="rId2"/>
          <a:stretch/>
        </p:blipFill>
        <p:spPr>
          <a:xfrm>
            <a:off x="7162920" y="0"/>
            <a:ext cx="1272960" cy="1004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Rectangle 7"/>
          <p:cNvGrpSpPr/>
          <p:nvPr/>
        </p:nvGrpSpPr>
        <p:grpSpPr>
          <a:xfrm>
            <a:off x="-360360" y="944640"/>
            <a:ext cx="9516960" cy="1042920"/>
            <a:chOff x="-360360" y="944640"/>
            <a:chExt cx="9516960" cy="1042920"/>
          </a:xfrm>
        </p:grpSpPr>
        <p:pic>
          <p:nvPicPr>
            <p:cNvPr id="147" name="Rectangle 7" descr=""/>
            <p:cNvPicPr/>
            <p:nvPr/>
          </p:nvPicPr>
          <p:blipFill>
            <a:blip r:embed="rId3"/>
            <a:stretch/>
          </p:blipFill>
          <p:spPr>
            <a:xfrm>
              <a:off x="-360360" y="944640"/>
              <a:ext cx="95169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990720"/>
              <a:ext cx="9144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Integrated Infrastructure for Structural Biology </a:t>
              </a:r>
              <a:r>
                <a:rPr b="1" lang="cs-CZ" sz="20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Calibri"/>
                </a:rPr>
                <a:t>in Euro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70c0"/>
                  </a:solidFill>
                  <a:latin typeface="Calibri"/>
                </a:rPr>
                <a:t>ČR jako přidružený stá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17680" y="9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80880" y="990720"/>
            <a:ext cx="80168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Zástup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Vladim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í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r Sklen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ář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 Brno /CEITEC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Jan Dohn</a:t>
            </a:r>
            <a:r>
              <a:rPr b="1" i="1" lang="cs-CZ" sz="1600" spc="-1" strike="noStrike">
                <a:solidFill>
                  <a:srgbClr val="000000"/>
                </a:solidFill>
                <a:latin typeface="Calibri"/>
              </a:rPr>
              <a:t>á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lek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MCH Praha / BIOCEV represent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 in INSTRUCT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říje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8 –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vní informativní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eeting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v Č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listopa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9 plan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vaný meeting národních uživatelských skupin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 Pra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Calibri"/>
              </a:rPr>
              <a:t>Náklad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i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l. Kč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oz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mil. Kč/r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Rectangle 2"/>
          <p:cNvGrpSpPr/>
          <p:nvPr/>
        </p:nvGrpSpPr>
        <p:grpSpPr>
          <a:xfrm>
            <a:off x="-360360" y="244440"/>
            <a:ext cx="9516960" cy="901800"/>
            <a:chOff x="-360360" y="244440"/>
            <a:chExt cx="9516960" cy="901800"/>
          </a:xfrm>
        </p:grpSpPr>
        <p:pic>
          <p:nvPicPr>
            <p:cNvPr id="153" name="Rectangle 2" descr=""/>
            <p:cNvPicPr/>
            <p:nvPr/>
          </p:nvPicPr>
          <p:blipFill>
            <a:blip r:embed="rId1"/>
            <a:stretch/>
          </p:blipFill>
          <p:spPr>
            <a:xfrm>
              <a:off x="-360360" y="244440"/>
              <a:ext cx="95169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380880"/>
              <a:ext cx="91440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alibri"/>
                </a:rPr>
                <a:t>INSTRUCT</a:t>
              </a:r>
              <a:r>
                <a:rPr b="1" lang="cs-CZ" sz="2800" spc="-1" strike="noStrike">
                  <a:solidFill>
                    <a:srgbClr val="ff0000"/>
                  </a:solidFill>
                  <a:latin typeface="Calibri"/>
                </a:rPr>
                <a:t> v Č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8" descr="instruct logo.gif"/>
          <p:cNvPicPr/>
          <p:nvPr/>
        </p:nvPicPr>
        <p:blipFill>
          <a:blip r:embed="rId2"/>
          <a:stretch/>
        </p:blipFill>
        <p:spPr>
          <a:xfrm>
            <a:off x="7162920" y="0"/>
            <a:ext cx="1272960" cy="1004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28600" y="3657600"/>
            <a:ext cx="8686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ength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nožství  mol.-biol. a strukturálně biologických skupin s tradicí v produkci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roteinů, vývoji léků; kontakty na aplikovaný výzkum  a industriální partn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akness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hybějjící přístroje a zařízení, chybějící zkušení specialisté; závislost na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hraničních  infrastrukturách,  vědci a přístroje jsou v ČR roztrouš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ortuniti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možnost vytvoření dobře komunikující a spolupracující struktury: napojení na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entra v zahranič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reat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nížení rozpočtu vedoucí k nedostatku specialistů; nedostatek přístrojového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vybavení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ectangle 12"/>
          <p:cNvGrpSpPr/>
          <p:nvPr/>
        </p:nvGrpSpPr>
        <p:grpSpPr>
          <a:xfrm>
            <a:off x="500040" y="3382920"/>
            <a:ext cx="1268280" cy="731880"/>
            <a:chOff x="500040" y="3382920"/>
            <a:chExt cx="1268280" cy="731880"/>
          </a:xfrm>
        </p:grpSpPr>
        <p:pic>
          <p:nvPicPr>
            <p:cNvPr id="158" name="Rectangle 12" descr=""/>
            <p:cNvPicPr/>
            <p:nvPr/>
          </p:nvPicPr>
          <p:blipFill>
            <a:blip r:embed="rId3"/>
            <a:stretch/>
          </p:blipFill>
          <p:spPr>
            <a:xfrm>
              <a:off x="500040" y="3382920"/>
              <a:ext cx="126828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915120" y="34290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ff0000"/>
                  </a:solidFill>
                  <a:uFillTx/>
                  <a:latin typeface="Calibri"/>
                </a:rPr>
                <a:t>SWO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341280"/>
            <a:ext cx="9144000" cy="5958000"/>
          </a:xfrm>
          <a:prstGeom prst="rect">
            <a:avLst/>
          </a:prstGeom>
          <a:ln w="0">
            <a:noFill/>
          </a:ln>
        </p:spPr>
      </p:pic>
      <p:sp>
        <p:nvSpPr>
          <p:cNvPr id="161" name="Oval 4"/>
          <p:cNvSpPr/>
          <p:nvPr/>
        </p:nvSpPr>
        <p:spPr>
          <a:xfrm>
            <a:off x="2514600" y="2971800"/>
            <a:ext cx="6019920" cy="1752480"/>
          </a:xfrm>
          <a:prstGeom prst="ellips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0" y="19065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25. 8. 2009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 první úkoly pracov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3.9. 2009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 - prezentace na MŠ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3.9.–30.9.2009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 mapování infrastruktur a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zpracování odborných názorů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-SWOT analýza současného sta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31. 10. 2009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  <a:ea typeface="Calibri"/>
              </a:rPr>
              <a:t> - připomínk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00"/>
                </a:solidFill>
                <a:latin typeface="Comic Sans MS"/>
                <a:ea typeface="Calibri"/>
              </a:rPr>
              <a:t>konec 2009  </a:t>
            </a:r>
            <a:r>
              <a:rPr b="0" lang="cs-CZ" sz="2400" spc="-1" strike="noStrike">
                <a:solidFill>
                  <a:srgbClr val="003300"/>
                </a:solidFill>
                <a:latin typeface="Comic Sans MS"/>
                <a:ea typeface="Calibri"/>
              </a:rPr>
              <a:t>	</a:t>
            </a:r>
            <a:r>
              <a:rPr b="0" lang="cs-CZ" sz="2400" spc="-1" strike="noStrike">
                <a:solidFill>
                  <a:srgbClr val="003300"/>
                </a:solidFill>
                <a:latin typeface="Comic Sans MS"/>
                <a:ea typeface="Calibri"/>
              </a:rPr>
              <a:t> - schválení MŠMT a vlád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Rectangle 2"/>
          <p:cNvGrpSpPr/>
          <p:nvPr/>
        </p:nvGrpSpPr>
        <p:grpSpPr>
          <a:xfrm>
            <a:off x="-360360" y="274680"/>
            <a:ext cx="9516960" cy="1620720"/>
            <a:chOff x="-360360" y="274680"/>
            <a:chExt cx="9516960" cy="1620720"/>
          </a:xfrm>
        </p:grpSpPr>
        <p:pic>
          <p:nvPicPr>
            <p:cNvPr id="164" name="Rectangle 2" descr=""/>
            <p:cNvPicPr/>
            <p:nvPr/>
          </p:nvPicPr>
          <p:blipFill>
            <a:blip r:embed="rId2"/>
            <a:stretch/>
          </p:blipFill>
          <p:spPr>
            <a:xfrm>
              <a:off x="-360360" y="274680"/>
              <a:ext cx="951696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08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Calibri"/>
                </a:rPr>
                <a:t>Harmonogram přípravy vytvoření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ff0000"/>
                  </a:solidFill>
                  <a:latin typeface="Calibri"/>
                </a:rPr>
                <a:t>České Roadma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5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TextBox 28"/>
          <p:cNvGrpSpPr/>
          <p:nvPr/>
        </p:nvGrpSpPr>
        <p:grpSpPr>
          <a:xfrm>
            <a:off x="-360360" y="-103320"/>
            <a:ext cx="9516960" cy="1438560"/>
            <a:chOff x="-360360" y="-103320"/>
            <a:chExt cx="9516960" cy="1438560"/>
          </a:xfrm>
        </p:grpSpPr>
        <p:pic>
          <p:nvPicPr>
            <p:cNvPr id="168" name="TextBox 28" descr=""/>
            <p:cNvPicPr/>
            <p:nvPr/>
          </p:nvPicPr>
          <p:blipFill>
            <a:blip r:embed="rId1"/>
            <a:stretch/>
          </p:blipFill>
          <p:spPr>
            <a:xfrm>
              <a:off x="-360360" y="-103320"/>
              <a:ext cx="9516960" cy="143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0"/>
              <a:ext cx="914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Calibri"/>
                </a:rPr>
                <a:t>Viz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Interakce v rámci ESF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5"/>
          <p:cNvGrpSpPr/>
          <p:nvPr/>
        </p:nvGrpSpPr>
        <p:grpSpPr>
          <a:xfrm>
            <a:off x="-171720" y="1370880"/>
            <a:ext cx="5756040" cy="4877280"/>
            <a:chOff x="-171720" y="1370880"/>
            <a:chExt cx="5756040" cy="4877280"/>
          </a:xfrm>
        </p:grpSpPr>
        <p:sp>
          <p:nvSpPr>
            <p:cNvPr id="171" name="Oval 15"/>
            <p:cNvSpPr/>
            <p:nvPr/>
          </p:nvSpPr>
          <p:spPr>
            <a:xfrm>
              <a:off x="882360" y="1752480"/>
              <a:ext cx="3809880" cy="365760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2" descr="instruct logo.gif"/>
            <p:cNvPicPr/>
            <p:nvPr/>
          </p:nvPicPr>
          <p:blipFill>
            <a:blip r:embed="rId2"/>
            <a:stretch/>
          </p:blipFill>
          <p:spPr>
            <a:xfrm>
              <a:off x="3638520" y="3886200"/>
              <a:ext cx="1272600" cy="100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3"/>
            <p:cNvGrpSpPr/>
            <p:nvPr/>
          </p:nvGrpSpPr>
          <p:grpSpPr>
            <a:xfrm>
              <a:off x="2214720" y="1371600"/>
              <a:ext cx="1335240" cy="1526400"/>
              <a:chOff x="2214720" y="1371600"/>
              <a:chExt cx="1335240" cy="1526400"/>
            </a:xfrm>
          </p:grpSpPr>
          <p:pic>
            <p:nvPicPr>
              <p:cNvPr id="174" name="Picture 4" descr="infrafrontier-logo.gif"/>
              <p:cNvPicPr/>
              <p:nvPr/>
            </p:nvPicPr>
            <p:blipFill>
              <a:blip r:embed="rId3"/>
              <a:stretch/>
            </p:blipFill>
            <p:spPr>
              <a:xfrm>
                <a:off x="2214720" y="1371600"/>
                <a:ext cx="1335240" cy="126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Box 5"/>
              <p:cNvSpPr/>
              <p:nvPr/>
            </p:nvSpPr>
            <p:spPr>
              <a:xfrm>
                <a:off x="2285640" y="2590920"/>
                <a:ext cx="1174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46c0a"/>
                    </a:solidFill>
                    <a:latin typeface="Times New Roman"/>
                    <a:ea typeface="Times New Roman"/>
                  </a:rPr>
                  <a:t>Infrafron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6" name="Picture 2" descr="971e204f61"/>
            <p:cNvPicPr/>
            <p:nvPr/>
          </p:nvPicPr>
          <p:blipFill>
            <a:blip r:embed="rId4"/>
            <a:stretch/>
          </p:blipFill>
          <p:spPr>
            <a:xfrm>
              <a:off x="437760" y="4038840"/>
              <a:ext cx="199368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9" descr="eurobioimaging logo.gif"/>
            <p:cNvPicPr/>
            <p:nvPr/>
          </p:nvPicPr>
          <p:blipFill>
            <a:blip r:embed="rId5"/>
            <a:stretch/>
          </p:blipFill>
          <p:spPr>
            <a:xfrm>
              <a:off x="1111320" y="3124080"/>
              <a:ext cx="33530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Circular Arrow 17"/>
            <p:cNvSpPr/>
            <p:nvPr/>
          </p:nvSpPr>
          <p:spPr>
            <a:xfrm flipV="1" rot="7178400">
              <a:off x="-75960" y="1884600"/>
              <a:ext cx="1981080" cy="1371600"/>
            </a:xfrm>
            <a:prstGeom prst="pie">
              <a:avLst/>
            </a:prstGeom>
            <a:solidFill>
              <a:srgbClr val="fac0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Circular Arrow 19"/>
            <p:cNvSpPr/>
            <p:nvPr/>
          </p:nvSpPr>
          <p:spPr>
            <a:xfrm flipV="1" rot="15050400">
              <a:off x="3620520" y="2150640"/>
              <a:ext cx="1981080" cy="1371600"/>
            </a:xfrm>
            <a:prstGeom prst="pie">
              <a:avLst/>
            </a:prstGeom>
            <a:solidFill>
              <a:srgbClr val="fac0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Circular Arrow 21"/>
            <p:cNvSpPr/>
            <p:nvPr/>
          </p:nvSpPr>
          <p:spPr>
            <a:xfrm flipV="1">
              <a:off x="1809720" y="4571280"/>
              <a:ext cx="2362320" cy="1676520"/>
            </a:xfrm>
            <a:prstGeom prst="pie">
              <a:avLst/>
            </a:prstGeom>
            <a:solidFill>
              <a:srgbClr val="fac09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24"/>
          <p:cNvGrpSpPr/>
          <p:nvPr/>
        </p:nvGrpSpPr>
        <p:grpSpPr>
          <a:xfrm>
            <a:off x="5562720" y="1371600"/>
            <a:ext cx="3581280" cy="5105520"/>
            <a:chOff x="5562720" y="1371600"/>
            <a:chExt cx="3581280" cy="5105520"/>
          </a:xfrm>
        </p:grpSpPr>
        <p:sp>
          <p:nvSpPr>
            <p:cNvPr id="182" name="Rounded Rectangle 22"/>
            <p:cNvSpPr/>
            <p:nvPr/>
          </p:nvSpPr>
          <p:spPr>
            <a:xfrm>
              <a:off x="5562720" y="1371600"/>
              <a:ext cx="3581280" cy="510552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5105520"/>
                <a:gd name="textAreaBottom" fmla="*/ 4930920 h 5105520"/>
              </a:gdLst>
              <a:ahLst/>
              <a:rect l="textAreaLeft" t="textAreaTop" r="textAreaRight" b="textAreaBottom"/>
              <a:pathLst>
                <a:path w="21600" h="30792">
                  <a:moveTo>
                    <a:pt x="3600" y="0"/>
                  </a:moveTo>
                  <a:arcTo wR="3600" hR="3600" stAng="16200000" swAng="-5400000"/>
                  <a:lnTo>
                    <a:pt x="0" y="27192"/>
                  </a:lnTo>
                  <a:arcTo wR="3600" hR="3600" stAng="10800000" swAng="-5400000"/>
                  <a:lnTo>
                    <a:pt x="18000" y="307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ce6f2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TextBox 20"/>
            <p:cNvGrpSpPr/>
            <p:nvPr/>
          </p:nvGrpSpPr>
          <p:grpSpPr>
            <a:xfrm>
              <a:off x="5730120" y="1426320"/>
              <a:ext cx="2975040" cy="1078920"/>
              <a:chOff x="5730120" y="1426320"/>
              <a:chExt cx="2975040" cy="1078920"/>
            </a:xfrm>
          </p:grpSpPr>
          <p:pic>
            <p:nvPicPr>
              <p:cNvPr id="184" name="TextBox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730120" y="1426320"/>
                <a:ext cx="2975040" cy="107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6100200" y="1447560"/>
                <a:ext cx="258696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70c0"/>
                    </a:solidFill>
                    <a:latin typeface="Calibri"/>
                  </a:rPr>
                  <a:t>Možnosti spolupráce a napojení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70c0"/>
                    </a:solidFill>
                    <a:latin typeface="Calibri"/>
                  </a:rPr>
                  <a:t>v rámci evropských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400" spc="-1" strike="noStrike">
                    <a:solidFill>
                      <a:srgbClr val="0070c0"/>
                    </a:solidFill>
                    <a:latin typeface="Calibri"/>
                  </a:rPr>
                  <a:t>open acces infarstruktu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3" descr=""/>
            <p:cNvPicPr/>
            <p:nvPr/>
          </p:nvPicPr>
          <p:blipFill>
            <a:blip r:embed="rId7"/>
            <a:stretch/>
          </p:blipFill>
          <p:spPr>
            <a:xfrm>
              <a:off x="5791320" y="2819520"/>
              <a:ext cx="1541520" cy="6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4" descr=""/>
            <p:cNvPicPr/>
            <p:nvPr/>
          </p:nvPicPr>
          <p:blipFill>
            <a:blip r:embed="rId8"/>
            <a:stretch/>
          </p:blipFill>
          <p:spPr>
            <a:xfrm>
              <a:off x="5638680" y="5410440"/>
              <a:ext cx="3505320" cy="47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8" name="Group 23"/>
            <p:cNvGrpSpPr/>
            <p:nvPr/>
          </p:nvGrpSpPr>
          <p:grpSpPr>
            <a:xfrm>
              <a:off x="6858000" y="3124080"/>
              <a:ext cx="2057400" cy="1206000"/>
              <a:chOff x="6858000" y="3124080"/>
              <a:chExt cx="2057400" cy="1206000"/>
            </a:xfrm>
          </p:grpSpPr>
          <p:pic>
            <p:nvPicPr>
              <p:cNvPr id="189" name="Picture 2" descr=""/>
              <p:cNvPicPr/>
              <p:nvPr/>
            </p:nvPicPr>
            <p:blipFill>
              <a:blip r:embed="rId9"/>
              <a:srcRect l="0" t="0" r="58542" b="7896"/>
              <a:stretch/>
            </p:blipFill>
            <p:spPr>
              <a:xfrm>
                <a:off x="7924680" y="3124080"/>
                <a:ext cx="871560" cy="86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Rectangle 23"/>
              <p:cNvSpPr/>
              <p:nvPr/>
            </p:nvSpPr>
            <p:spPr>
              <a:xfrm>
                <a:off x="6858000" y="3657600"/>
                <a:ext cx="2057400" cy="67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BBMR I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Biobanking and Biomolecular Resources Research</a:t>
                </a:r>
                <a:r>
                  <a:rPr b="0" lang="cs-CZ" sz="1000" spc="-1" strike="noStrike">
                    <a:solidFill>
                      <a:srgbClr val="000000"/>
                    </a:solidFill>
                    <a:latin typeface="Calibri"/>
                  </a:rPr>
                  <a:t> I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nfrastructu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1" name="Picture 22" descr=""/>
            <p:cNvPicPr/>
            <p:nvPr/>
          </p:nvPicPr>
          <p:blipFill>
            <a:blip r:embed="rId10"/>
            <a:srcRect l="0" t="0" r="79401" b="0"/>
            <a:stretch/>
          </p:blipFill>
          <p:spPr>
            <a:xfrm>
              <a:off x="6324480" y="4572000"/>
              <a:ext cx="13456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Calibri"/>
              </a:rPr>
              <a:t>Pracovní skupina – biomedical life sci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funkční genomika savců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RAFRONTIER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R. Sedláče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edlacek@img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trukturní biologie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STRUC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J. Dohnále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ohnalek@imc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instruct-fp7.eu/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. Sklenář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sklenar@chemi.muni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. Koča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jkoca@chemi.muni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Zobrazování v biomedicíně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uroBioImaging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P. Hozák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ozak@img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eurobioimaging.eu/poster.pdf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. Syk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syka@biomed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hemická genetika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U-OPENSCREE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. Bartůně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bartunek@img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fmp-berlin.de/eu-openscreen.htm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. Hoce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ocek@uochb.cas.cz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Bioinformatika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LIXIR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J. Vondrášek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jiri.vondrasek@uochb.cas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Biobanking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BMRI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D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. 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Valik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valik@mou.cz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klinický a translační výzkum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CRIN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M. Hajduc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hajduchm@gmail.co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http://www.ecrin.org/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. Kar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kara.tomas@mayo.ed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ATRIS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J. Syka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syka@biomed.cas.cz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Systems biology and Synthetic biology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. Damborsky</a:t>
            </a:r>
            <a:r>
              <a:rPr b="1" lang="cs-CZ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jiri@chemi.muni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Calibri"/>
              </a:rPr>
              <a:t>Poslání pracovní skupiny pro přípravu Národní roadma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apovat stávající infrastruktury výzkumu, které lze označit za velké a financovatelné podle novely zákona 130/2002 S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mapovat výstavb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a pořízení infrastruktur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, kt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é je připravováno z prostředků OP VaVp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dentifikovat ESFRI Roadmap konsorcia, která  jsou relevantní pro VaV v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dentifikovat nejsilnější české týmy schopné se napojit na stávající ESFRI Roadmap konsorcia a katalyzovat jejich úča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koordinovat propojení stávajících infrastruktur a napojení na ESF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hadnout a navrhnout  potřebné finanční alokace na účelové financování národních infrastruktur v letech 2010 -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Kritéria pro výběr infrastrukt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760" y="1285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ákladný a unikátní soubor zařízení a činnost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 nákladným provoz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pen access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tevřenost a poskytování výzkumných služeb vnějším uživatelů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ýznam pro VaV na národní a evropské úrov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tenciál napojení na OP VaVpI projekty nebo ESFRI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admap proj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ritická masa a vědecká/technická/metodická excel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řenos znalost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trénink a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Calibri"/>
              </a:rPr>
              <a:t>První úko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Ve svém oboru zmapovat infrastruktury pro zařazení na roadm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apovat stávající stav a co se připravuje v OP VaV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jevit vlastní odborný názor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vést SWOT analýzu současného stav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ážit možnosti napojení na ESFRI Roadmap konsor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had potřeb oboru na příštích 10 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pravit návrhy na zařazení nových infrastruktur a jejich lokalizaci na území Č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hadnout potřebné finanční alokace na léta 2010 – 2020 pro financování jejich provozu a obnovu zařízení pořízených z OP VaVpI po roce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ážit možnost návrhu další celoevropské infrastruktury pro ESFR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Návaznost na zatím definované projekty OP VaV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ITEC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rn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struct, BBM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CRC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rno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C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ioMedReg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lomouc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CRIN, BBM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IOCEV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stec u Pra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FRAFROPNT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uroBioIma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NSTR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Rounded Rectangle 22"/>
          <p:cNvGrpSpPr/>
          <p:nvPr/>
        </p:nvGrpSpPr>
        <p:grpSpPr>
          <a:xfrm>
            <a:off x="249120" y="1755720"/>
            <a:ext cx="8523360" cy="5138640"/>
            <a:chOff x="249120" y="1755720"/>
            <a:chExt cx="8523360" cy="5138640"/>
          </a:xfrm>
        </p:grpSpPr>
        <p:pic>
          <p:nvPicPr>
            <p:cNvPr id="63" name="Rounded Rectangle 22" descr=""/>
            <p:cNvPicPr/>
            <p:nvPr/>
          </p:nvPicPr>
          <p:blipFill>
            <a:blip r:embed="rId1"/>
            <a:stretch/>
          </p:blipFill>
          <p:spPr>
            <a:xfrm>
              <a:off x="249120" y="1755720"/>
              <a:ext cx="8523360" cy="51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44560" y="2011320"/>
              <a:ext cx="76834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Group 23" descr=""/>
          <p:cNvPicPr/>
          <p:nvPr/>
        </p:nvPicPr>
        <p:blipFill>
          <a:blip r:embed="rId2"/>
          <a:stretch/>
        </p:blipFill>
        <p:spPr>
          <a:xfrm>
            <a:off x="927000" y="1895400"/>
            <a:ext cx="7740720" cy="4627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2286000" y="0"/>
            <a:ext cx="5486400" cy="1569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1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eb4e3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8eb4e3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Rounded Rectangle 22"/>
          <p:cNvGrpSpPr/>
          <p:nvPr/>
        </p:nvGrpSpPr>
        <p:grpSpPr>
          <a:xfrm>
            <a:off x="249120" y="1835280"/>
            <a:ext cx="8523360" cy="5132160"/>
            <a:chOff x="249120" y="1835280"/>
            <a:chExt cx="8523360" cy="5132160"/>
          </a:xfrm>
        </p:grpSpPr>
        <p:pic>
          <p:nvPicPr>
            <p:cNvPr id="69" name="Rounded Rectangle 22" descr=""/>
            <p:cNvPicPr/>
            <p:nvPr/>
          </p:nvPicPr>
          <p:blipFill>
            <a:blip r:embed="rId1"/>
            <a:stretch/>
          </p:blipFill>
          <p:spPr>
            <a:xfrm>
              <a:off x="249120" y="1835280"/>
              <a:ext cx="8523360" cy="51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844560" y="2087640"/>
              <a:ext cx="7683480" cy="433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3"/>
          <p:cNvGrpSpPr/>
          <p:nvPr/>
        </p:nvGrpSpPr>
        <p:grpSpPr>
          <a:xfrm>
            <a:off x="990720" y="1928880"/>
            <a:ext cx="7569000" cy="4852800"/>
            <a:chOff x="990720" y="1928880"/>
            <a:chExt cx="7569000" cy="4852800"/>
          </a:xfrm>
        </p:grpSpPr>
        <p:sp>
          <p:nvSpPr>
            <p:cNvPr id="72" name="Line 2"/>
            <p:cNvSpPr/>
            <p:nvPr/>
          </p:nvSpPr>
          <p:spPr>
            <a:xfrm>
              <a:off x="2963880" y="1928880"/>
              <a:ext cx="0" cy="48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"/>
            <p:cNvSpPr/>
            <p:nvPr/>
          </p:nvSpPr>
          <p:spPr>
            <a:xfrm>
              <a:off x="5936760" y="1928880"/>
              <a:ext cx="0" cy="485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Text Box 5"/>
            <p:cNvGrpSpPr/>
            <p:nvPr/>
          </p:nvGrpSpPr>
          <p:grpSpPr>
            <a:xfrm>
              <a:off x="1206000" y="2017800"/>
              <a:ext cx="1215360" cy="713160"/>
              <a:chOff x="1206000" y="2017800"/>
              <a:chExt cx="1215360" cy="713160"/>
            </a:xfrm>
          </p:grpSpPr>
          <p:pic>
            <p:nvPicPr>
              <p:cNvPr id="75" name="Text Box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6000" y="2017800"/>
                <a:ext cx="1215360" cy="7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1245240" y="2062080"/>
                <a:ext cx="1169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Biologic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Scien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Text Box 6"/>
            <p:cNvGrpSpPr/>
            <p:nvPr/>
          </p:nvGrpSpPr>
          <p:grpSpPr>
            <a:xfrm>
              <a:off x="3242160" y="1962720"/>
              <a:ext cx="2253600" cy="956880"/>
              <a:chOff x="3242160" y="1962720"/>
              <a:chExt cx="2253600" cy="956880"/>
            </a:xfrm>
          </p:grpSpPr>
          <p:pic>
            <p:nvPicPr>
              <p:cNvPr id="78" name="Text Box 6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2160" y="1962720"/>
                <a:ext cx="2251440" cy="95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243960" y="2004480"/>
                <a:ext cx="22518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Biological Resour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Production System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Text Box 7"/>
            <p:cNvGrpSpPr/>
            <p:nvPr/>
          </p:nvGrpSpPr>
          <p:grpSpPr>
            <a:xfrm>
              <a:off x="6697440" y="2017800"/>
              <a:ext cx="1161720" cy="713160"/>
              <a:chOff x="6697440" y="2017800"/>
              <a:chExt cx="1161720" cy="713160"/>
            </a:xfrm>
          </p:grpSpPr>
          <p:pic>
            <p:nvPicPr>
              <p:cNvPr id="81" name="Text Box 7" descr=""/>
              <p:cNvPicPr/>
              <p:nvPr/>
            </p:nvPicPr>
            <p:blipFill>
              <a:blip r:embed="rId4"/>
              <a:stretch/>
            </p:blipFill>
            <p:spPr>
              <a:xfrm>
                <a:off x="6697440" y="2017800"/>
                <a:ext cx="1161720" cy="7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6778080" y="2062080"/>
                <a:ext cx="1035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Medic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mic Sans MS"/>
                  </a:rPr>
                  <a:t>Scien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AutoShape 10"/>
            <p:cNvGrpSpPr/>
            <p:nvPr/>
          </p:nvGrpSpPr>
          <p:grpSpPr>
            <a:xfrm>
              <a:off x="2319840" y="3809880"/>
              <a:ext cx="4053960" cy="462960"/>
              <a:chOff x="2319840" y="3809880"/>
              <a:chExt cx="4053960" cy="462960"/>
            </a:xfrm>
          </p:grpSpPr>
          <p:pic>
            <p:nvPicPr>
              <p:cNvPr id="84" name="AutoShap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319840" y="3809880"/>
                <a:ext cx="405396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2409120" y="3872160"/>
                <a:ext cx="389232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Comic Sans MS"/>
                  </a:rPr>
                  <a:t>INFRAFRONTI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AutoShape 11"/>
            <p:cNvGrpSpPr/>
            <p:nvPr/>
          </p:nvGrpSpPr>
          <p:grpSpPr>
            <a:xfrm>
              <a:off x="3140280" y="4273200"/>
              <a:ext cx="2030040" cy="462960"/>
              <a:chOff x="3140280" y="4273200"/>
              <a:chExt cx="2030040" cy="462960"/>
            </a:xfrm>
          </p:grpSpPr>
          <p:pic>
            <p:nvPicPr>
              <p:cNvPr id="87" name="AutoShape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3140280" y="4273200"/>
                <a:ext cx="20300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232080" y="4336920"/>
                <a:ext cx="186696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Comic Sans MS"/>
                  </a:rPr>
                  <a:t>INSTRU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AutoShape 12"/>
            <p:cNvGrpSpPr/>
            <p:nvPr/>
          </p:nvGrpSpPr>
          <p:grpSpPr>
            <a:xfrm>
              <a:off x="2637360" y="4742640"/>
              <a:ext cx="3862440" cy="462960"/>
              <a:chOff x="2637360" y="4742640"/>
              <a:chExt cx="3862440" cy="462960"/>
            </a:xfrm>
          </p:grpSpPr>
          <p:pic>
            <p:nvPicPr>
              <p:cNvPr id="90" name="AutoShape 12" descr=""/>
              <p:cNvPicPr/>
              <p:nvPr/>
            </p:nvPicPr>
            <p:blipFill>
              <a:blip r:embed="rId7"/>
              <a:stretch/>
            </p:blipFill>
            <p:spPr>
              <a:xfrm>
                <a:off x="2637360" y="4742640"/>
                <a:ext cx="38624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2725920" y="4803120"/>
                <a:ext cx="370116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Comic Sans MS"/>
                  </a:rPr>
                  <a:t>EU-OPEN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AutoShape 13"/>
            <p:cNvGrpSpPr/>
            <p:nvPr/>
          </p:nvGrpSpPr>
          <p:grpSpPr>
            <a:xfrm>
              <a:off x="990720" y="5260680"/>
              <a:ext cx="7569000" cy="469080"/>
              <a:chOff x="990720" y="5260680"/>
              <a:chExt cx="7569000" cy="469080"/>
            </a:xfrm>
          </p:grpSpPr>
          <p:pic>
            <p:nvPicPr>
              <p:cNvPr id="93" name="AutoShape 13" descr=""/>
              <p:cNvPicPr/>
              <p:nvPr/>
            </p:nvPicPr>
            <p:blipFill>
              <a:blip r:embed="rId8"/>
              <a:stretch/>
            </p:blipFill>
            <p:spPr>
              <a:xfrm>
                <a:off x="990720" y="5260680"/>
                <a:ext cx="7569000" cy="4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1081440" y="5321880"/>
                <a:ext cx="740340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Comic Sans MS"/>
                  </a:rPr>
                  <a:t>Euro-BioImag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" name="Rectangle 21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„</a:t>
            </a:r>
            <a:r>
              <a:rPr b="1" lang="cs-CZ" sz="1800" spc="-1" strike="noStrike">
                <a:solidFill>
                  <a:srgbClr val="b3a2c7"/>
                </a:solidFill>
                <a:latin typeface="Calibri"/>
              </a:rPr>
              <a:t>biomedical life science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0" y="380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alibri"/>
              </a:rPr>
              <a:t>národní roadmap – příklad integr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9"/>
          <a:stretch/>
        </p:blipFill>
        <p:spPr>
          <a:xfrm>
            <a:off x="5181480" y="5562720"/>
            <a:ext cx="3200400" cy="512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6" descr="infrafrontier-logo.gif"/>
          <p:cNvPicPr/>
          <p:nvPr/>
        </p:nvPicPr>
        <p:blipFill>
          <a:blip r:embed="rId10"/>
          <a:stretch/>
        </p:blipFill>
        <p:spPr>
          <a:xfrm>
            <a:off x="5610240" y="3200400"/>
            <a:ext cx="874800" cy="787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971e204f61"/>
          <p:cNvPicPr/>
          <p:nvPr/>
        </p:nvPicPr>
        <p:blipFill>
          <a:blip r:embed="rId11"/>
          <a:stretch/>
        </p:blipFill>
        <p:spPr>
          <a:xfrm>
            <a:off x="6172200" y="4495680"/>
            <a:ext cx="1424160" cy="511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9" descr="instruct logo.gif"/>
          <p:cNvPicPr/>
          <p:nvPr/>
        </p:nvPicPr>
        <p:blipFill>
          <a:blip r:embed="rId12"/>
          <a:stretch/>
        </p:blipFill>
        <p:spPr>
          <a:xfrm>
            <a:off x="4952880" y="4191120"/>
            <a:ext cx="77796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TextBox 1"/>
          <p:cNvGrpSpPr/>
          <p:nvPr/>
        </p:nvGrpSpPr>
        <p:grpSpPr>
          <a:xfrm>
            <a:off x="-165240" y="2724120"/>
            <a:ext cx="9321840" cy="3322800"/>
            <a:chOff x="-165240" y="2724120"/>
            <a:chExt cx="9321840" cy="3322800"/>
          </a:xfrm>
        </p:grpSpPr>
        <p:pic>
          <p:nvPicPr>
            <p:cNvPr id="102" name="TextBox 1" descr=""/>
            <p:cNvPicPr/>
            <p:nvPr/>
          </p:nvPicPr>
          <p:blipFill>
            <a:blip r:embed="rId1"/>
            <a:stretch/>
          </p:blipFill>
          <p:spPr>
            <a:xfrm>
              <a:off x="-165240" y="2724120"/>
              <a:ext cx="9321840" cy="33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28600" y="2743200"/>
              <a:ext cx="8915400" cy="29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Koordinátor za ČR/vědecký partner 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:  Radislav Sedláček, Ústav molekulární genetiky AV ČR, v.v.i, BIOCE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Partner v ČR:</a:t>
              </a:r>
              <a:r>
                <a:rPr b="0" lang="cs-CZ" sz="1400" spc="-1" strike="noStrike">
                  <a:solidFill>
                    <a:srgbClr val="000000"/>
                  </a:solidFill>
                  <a:latin typeface="Arial"/>
                </a:rPr>
                <a:t>  MŠMT ČR, kontaktní osoba: Gabriela Vlčkov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plň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Popis funkce genů, s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ystem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atická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anal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ýza myších mutantů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(not deep drilling)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,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ima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rní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creening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min.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320 valid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ovaných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aramet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rů  ve fenotypizační platformě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Klíčové součásti infrastruktur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vybudovani centrální infrastruktury </a:t>
              </a:r>
              <a:r>
                <a:rPr b="1" lang="cs-CZ" sz="1400" spc="-1" strike="noStrike">
                  <a:solidFill>
                    <a:srgbClr val="000000"/>
                  </a:solidFill>
                  <a:latin typeface="Arial"/>
                </a:rPr>
                <a:t>„ Czech centre for phenogenomics“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r>
                <a:rPr b="0" lang="cs-CZ" sz="1600" spc="-1" strike="noStrike">
                  <a:solidFill>
                    <a:srgbClr val="0000ff"/>
                  </a:solidFill>
                  <a:latin typeface="Calibri"/>
                </a:rPr>
                <a:t>Open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00ff"/>
                  </a:solidFill>
                  <a:latin typeface="Calibri"/>
                </a:rPr>
                <a:t>Náklady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vestice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700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oz  </a:t>
              </a:r>
              <a:r>
                <a:rPr b="0" lang="cs-CZ" sz="1600" spc="-1" strike="noStrike">
                  <a:solidFill>
                    <a:srgbClr val="000000"/>
                  </a:solidFill>
                  <a:latin typeface="Calibri"/>
                </a:rPr>
                <a:t>80-90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mil. Kč/ro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990720" y="0"/>
            <a:ext cx="7848360" cy="914400"/>
            <a:chOff x="990720" y="0"/>
            <a:chExt cx="7848360" cy="914400"/>
          </a:xfrm>
        </p:grpSpPr>
        <p:pic>
          <p:nvPicPr>
            <p:cNvPr id="105" name="Obrázek 4" descr="infrafrontier-head.gif"/>
            <p:cNvPicPr/>
            <p:nvPr/>
          </p:nvPicPr>
          <p:blipFill>
            <a:blip r:embed="rId2"/>
            <a:srcRect l="80181" t="0" r="0" b="0"/>
            <a:stretch/>
          </p:blipFill>
          <p:spPr>
            <a:xfrm>
              <a:off x="990720" y="75960"/>
              <a:ext cx="112176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2"/>
            <p:cNvSpPr/>
            <p:nvPr/>
          </p:nvSpPr>
          <p:spPr>
            <a:xfrm>
              <a:off x="1828800" y="0"/>
              <a:ext cx="7010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Times New Roman"/>
                </a:rPr>
                <a:t>Infrafrontie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European infrastructure for phenotyping and archiving of model mammalian genom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"/>
          <p:cNvSpPr/>
          <p:nvPr/>
        </p:nvSpPr>
        <p:spPr>
          <a:xfrm>
            <a:off x="304920" y="1450800"/>
            <a:ext cx="883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Calibri"/>
              </a:rPr>
              <a:t>Náplň, cí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Systematická standardizovaná funkční anotace genů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mocí zvířecích modelů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1600" spc="-1" strike="noStrike">
                <a:solidFill>
                  <a:srgbClr val="000000"/>
                </a:solidFill>
                <a:latin typeface="Comic Sans MS"/>
              </a:rPr>
              <a:t>Phenofrontier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Archivace myších mutantů a modelů pomocí kryoprezervace, diseminac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000000"/>
                </a:solidFill>
                <a:latin typeface="Comic Sans MS"/>
              </a:rPr>
              <a:t>Archivefronti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604600" y="762120"/>
            <a:ext cx="3918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ff"/>
                </a:solidFill>
                <a:latin typeface="Comic Sans MS"/>
              </a:rPr>
              <a:t>Czech centre for phenoge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9:11:15Z</dcterms:created>
  <dc:creator>Peter</dc:creator>
  <dc:description/>
  <dc:language>en-US</dc:language>
  <cp:lastModifiedBy>witzanyovan</cp:lastModifiedBy>
  <dcterms:modified xsi:type="dcterms:W3CDTF">2009-09-25T14:03:08Z</dcterms:modified>
  <cp:revision>53</cp:revision>
  <dc:subject/>
  <dc:title>Slide 1</dc:title>
</cp:coreProperties>
</file>