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946-96F4-46D9-9F0E-8B2D1DF7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F54-2888-4F5A-8194-1049BCF0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F8C61-ACCA-4A87-AA91-C3BDE94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2B9E2-AD16-4547-A67B-B26C9E86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ACA0A-5FE8-447C-B1F2-6F70DC0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97775-2AB8-443C-A679-3603F79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8FD8-8B87-4DA4-8233-A35DE7FA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B4B83-494F-462E-ACBF-F7C37B6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728FA-F1EF-4FDB-AB51-12B199D3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317D-0397-4743-A4AD-EE11C695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82F4B-8497-46C4-8AC9-F5671707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0B629-19E4-49EB-A4A6-3397DE15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981-31EC-44DB-8C9D-E0D34F1B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32AD7-27C3-4D54-956E-A4F93E05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A9FBC-E1DA-4B91-9A1B-C9706E2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20580-951C-4C50-952E-9B1E05B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5686-B4F0-4559-9D34-8C7F56A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4494-583A-435F-90CF-27C2AD69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2CD5E-44C1-4D28-8AD4-A656E19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68F0B-A812-4EE6-9C19-702E2FF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AC98D-18D6-48E6-8B67-D0BCFD7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51354-B730-4AF3-856D-0C0E650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48272-9B32-4BCC-BF6D-4E1C3D35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970-3F3C-486A-BCCB-0DAB1E24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DC0F-C836-48D1-8509-52CDB93E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6B00-4036-4C2A-A8F1-30BCABB2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3541E-DF3D-4E59-BA89-7EC4AC9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D4028-5AE3-451A-BCA5-46023B9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251B1-A500-4073-9723-F5119D7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96B3-7C75-46B1-9026-84F70234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A310-732E-4EA7-B39C-571FBCCB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62BFD-8F64-49A3-9EAB-8E0BC87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C4DB3-30DC-4107-A101-60CDE3B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58C1-4E24-45A2-9B00-0849E99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151-97EE-4FBF-9D64-1DC48B31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2BEB2-8386-4552-A96F-10CCD7A2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74F3D-536E-4DBD-AE11-8230BBFA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7B7CE-084E-403D-BD41-025DD66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84582-D0AA-4124-A036-65BA81B9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4F1FF-92D8-4DAD-A79B-FF36778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3712-97C9-4B0A-AE35-2AC8E62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A393A-89FF-4929-A2F5-332D9E0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A7A0D-63B0-4CC3-A78F-ECCE541F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B3828-39E6-43F6-AA34-40C843F4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06A5B-91F7-4840-8916-E6FA9B7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44C-1292-48F9-9517-3484BAD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43827-FB2B-41B7-A685-2E328ED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31660-C6E9-4B81-B549-81E868B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71161-14C5-427D-9A02-7DE66FBA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C4B54-3292-4BE4-A1CB-25986BDE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26DF6-A863-4266-B66F-A558FB93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CE2-FCDA-49EA-B4BB-64034AA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EFB-1568-4E3C-8A73-584A650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6F1A-5852-4D17-84F0-380425F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435F-6381-48FF-93EC-48858DF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4F5-A8BF-44DA-9131-AF6AE04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3AF-4D7A-4E13-BCA5-A49BC12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BBD-5876-4796-AE0A-8D888FC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874A-E399-43DD-99D4-2A32AC0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4F6C-2522-443E-A2BC-8782D1B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8788-2363-47E1-B43D-21B36DB2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73AB-F554-4EDF-A493-4EC1D356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0EA2-D5F2-4E88-9941-5364881A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5D77-FFB0-4E80-BF5F-31C1C74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D7E0-548A-4072-8756-943F22DB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B608-86D2-4F0D-A42C-B3A2BFD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88AF-06B3-4A91-9138-C7CB9D9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DC7-5A0A-4ECD-AA25-83528DD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7647-CC02-41D1-8FD4-1644503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2F23-D8BD-4A7A-8765-AB015C9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964B-9E02-40D3-BC69-F06DAA3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60CB-3DEA-4839-B043-2B09F47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4EF7-AA1A-4D1C-BBE0-9034AE7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D07F-0E1F-4097-B15A-A92CE11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BD16-9282-4EE8-895E-0C9ED5E3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D106-72E2-401B-84A4-D15C5461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CEEC-5087-4D41-97F7-49446819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1A70-5B52-4E22-BB33-A52C44F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C4F-C277-46F5-A8F6-BC0BBA6E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5EB4-518A-405C-95F1-CA1A8B0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FCE9-7285-440F-AEE2-EB13F6A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BB31-6088-4EB2-BF13-F4874E14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17D3-EFD1-446F-81C4-9C21027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2088-2E04-463A-9826-0C06281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A290-0464-4DE0-977F-19A561A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9100-4041-466B-BBF7-CA910097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F2E8-4DAD-45B9-AABD-271B1231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0870-377E-4AF1-85B9-AA3966BB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A001-E4A2-442A-AC00-ED59F538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18A-8E85-45DF-BC8A-55C6C83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9D5D0-C04D-4A24-8F6B-AF57666B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2F3F2-9789-4589-9FAB-8D5288C6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BA22-C70B-4ADE-9554-CF274B77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BFD1-475B-4F92-9024-EA054F6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AF3C-EE04-47F6-92CA-21D6F19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6AA97-799A-4A72-9469-E0EAD3D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9E72-D3CA-4904-8A75-535A339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BE24-8926-421A-82D7-A2CAA63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3B2D-2304-42CE-A987-D5FA2EBE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FB89-BCD7-46BC-8A9C-1BEB9CBC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D7F-5C57-4448-AC46-F5584E1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1B3D9-6DBA-43A5-8439-A36C5C8C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11A1-ABA6-4115-862A-54E9117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4EF0-E1E5-4EF0-A0C2-798360F9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C1E2-A6C6-4A61-9162-316F914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59FA-997F-438E-B9F0-7ADE7E4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7618-75E5-41D2-A254-E192C37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96A0-F520-4095-BC94-8CB695A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1DD8-8743-4715-81C6-5A4DBFF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5D74-6A17-48ED-A8FB-7E38F25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1D182-23AD-43A3-83D8-CC1D0AA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746-CCBF-436E-8EBF-4AE5062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90EB-13DC-4087-BF72-0A998E1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218B-D811-44A4-831A-F60CE06B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EDA9A-0669-4942-83B6-B7D000EB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9539-498C-4BA3-AB7C-9E5CF609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4626-7416-481C-AFA0-4A4009A3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3AE9-6972-417F-9A7C-E0F0B63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9BF6A-A53F-4C7C-B6EF-F588B0BF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E342C-59C5-4918-A4C6-EEFFCFB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65C1-C3E0-4D4C-8C08-3348461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B69B-C992-455D-A6DB-8B22EB4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789-E340-4976-A07B-9C8405C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DCBC-F908-4E75-A883-A3AFB02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A7597-3BD5-4577-97E0-65A880B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4EC06-F838-4BAA-A406-BA81D401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E16E-DC00-4419-BC71-8CDB9706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43B8-8D56-41FE-9691-1A282A96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3072-0E62-4CBE-AD1C-D311426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BFE4-16A4-4C49-9C01-61A3526F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0442-C435-4FF5-B0C8-D4A592B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0C18B-C1C8-4476-87E9-32594A2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3C07-97D6-4761-B2E8-CF132DD0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68F-3158-45CF-A0C7-B04DF80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3F12-2510-4A8C-AECD-DD61309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B87DD-4081-4B5C-9509-B8760EE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D653-C79B-4F79-BA66-265CFE64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76525-0575-4F24-9F23-2D42CB4F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088AD-E10C-4726-A34E-51158E8B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5018-F350-4AEF-A65C-67C73B0F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6F576-AD58-4062-839E-843F30F2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2DC6-4481-4B5A-BCF8-DCD35433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0DB5D-A33C-4C56-A85A-3FA29D4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1ED1-CAD9-4507-A1C0-54B1271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5A939-8A87-4D01-B935-B3CB7121F6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0237A-2CDF-4C68-887C-C8755F35A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57F8D0E-1480-42D6-B1EB-B17871B71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2F5C2-F0CC-47A5-BDD1-0AD6FC0F58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8E935-FEDC-4851-9108-13ED432DE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7C270-BAF0-4BC7-92BC-0BE59E40B6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05225-F761-4923-AFE3-503C1F498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A0189-E6F3-43F7-AB3F-F44D2B02CB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62DCC-5002-43EE-B30B-52769A997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A7D38-67C1-45DC-BC80-644809ED95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1D2E5-A427-4607-8342-255B4A5C6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28DF0-4B91-4357-B223-3AAD98A56B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1DE1A-BC52-432F-950E-8E52A087D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859F2-9F07-43AD-9C22-AAEC61DE9D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D92D-D975-46E8-964A-265C39C3F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51BA1-A33E-4E79-9660-E4B20A37FB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3F636-DF5A-4BC3-B4F3-35109534D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AC0AA-AA55-4BC4-BF4C-FE88ADD42B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3D0E5-B0A9-41DA-AF3F-CD363C44B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68E5-2986-429D-827D-9266A59D8F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CC1D2-E7D1-4B28-BAB5-8159DDDFF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C24A9-608D-4E32-BD54-4C3DFD3310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470B2-B8F8-4C92-8CA0-6B1B5F81C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FAD6D-0C4A-499D-AC91-F0FC1DE4C3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2131A-CCE0-4FB2-A507-8247F3E4A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6.1.2010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984807"/>
                </a:solidFill>
                <a:latin typeface="Blackadder ITC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Jak prvky publicity použít ?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ždy v souladu s pravidly danými v Manuálu vizuální identity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iditelně umístěné a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kvalitně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rovedené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čb originálech nutno použít předepsané inverzní varianty log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077E9-EC05-46BE-8C63-CBB534D5C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Obrázek 6" descr="Logolink_horizontal_zaklad_cb.jpg"/>
          <p:cNvPicPr/>
          <p:nvPr/>
        </p:nvPicPr>
        <p:blipFill>
          <a:blip r:embed="rId1"/>
          <a:stretch/>
        </p:blipFill>
        <p:spPr>
          <a:xfrm>
            <a:off x="2163600" y="3467160"/>
            <a:ext cx="46879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329840" y="177480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pagační a informační materiál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letáky, plakáty, brožury, newslettry, školicí materiály, certifikáty, prezenční listiny (logolink a povinná sdělení stačí uvést pouze na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titulní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stránce), příp. vizitky a obálky a na všech materiálech a dokumentech souvisejících s projektem (výjimkou jsou účetní doklady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pagační předměty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tužky, bloky, flashdisky, CD.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ediální výstupy: inzeráty, tiskové zprávy, články, PPT prezentace…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Internet: webové stránky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motné zařízení pořízené z prostředků ESF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jektová dokumentace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pracovní smlouvy/dohody (pokud to forma dokumentu umožňuje), výroční a závěrečné zprávy, korespondence, …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ístnosti/prostor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, v nichž se konají informační akce k OP VK: umístit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vlajky EU a ČR,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EU, ESF, MŠMT,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F7540-F01D-4706-A4CD-4A21397BE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329840" y="1784160"/>
            <a:ext cx="68850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ručka pro příjemce finanční podpory z OP VK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ktuální 4 verze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prirucka-pro-prijemce-op-vk-verze-4-platna-od-30-6-2010, účinná od 1.8. 2010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anuál vizuální identity OP VK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uploads/soubory/ESF/Publicita/Manual_vizual_identityOPVK.pdf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-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pravidla  Manuálu jsou závazná pro projekty, pro něž rozhodnutí či smlouva o poskytnutí dotace nabyla účinnosti po 30. 10. 2009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etodický dopis č. 12 (18.12.09)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– upravuje použití obou logolink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Web MŠMT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– sekce Strukturální fondy – OP VK – Pro žadatele a příjemce – Publicita: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strukturalni-fondy/publicita-a-publikace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radenstv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 rámci individuálních konzultací s projektovými manažer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7AD72-2235-44AA-A3B5-15B12D774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29840" y="104148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f3912c"/>
                </a:solidFill>
                <a:latin typeface="Calibri"/>
              </a:rPr>
              <a:t>Náhled webových stránek MŠMT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8D9B7-9A2B-4B93-B463-22EBF3DFE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rázek 7" descr=""/>
          <p:cNvPicPr/>
          <p:nvPr/>
        </p:nvPicPr>
        <p:blipFill>
          <a:blip r:embed="rId1"/>
          <a:srcRect l="9588" t="2379" r="10909" b="5554"/>
          <a:stretch/>
        </p:blipFill>
        <p:spPr>
          <a:xfrm>
            <a:off x="1760400" y="1733400"/>
            <a:ext cx="5227920" cy="37832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8"/>
          <p:cNvSpPr/>
          <p:nvPr/>
        </p:nvSpPr>
        <p:spPr>
          <a:xfrm rot="16200000">
            <a:off x="3690000" y="2529360"/>
            <a:ext cx="652320" cy="1133640"/>
          </a:xfrm>
          <a:prstGeom prst="upArrow">
            <a:avLst>
              <a:gd name="adj1" fmla="val 50000"/>
              <a:gd name="adj2" fmla="val 5474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/>
          <p:cNvSpPr/>
          <p:nvPr/>
        </p:nvSpPr>
        <p:spPr>
          <a:xfrm rot="16200000">
            <a:off x="2832120" y="3817440"/>
            <a:ext cx="500040" cy="1071720"/>
          </a:xfrm>
          <a:prstGeom prst="upArrow">
            <a:avLst>
              <a:gd name="adj1" fmla="val 34000"/>
              <a:gd name="adj2" fmla="val 6006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.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0" lang="cs-CZ" sz="1800" spc="-1" strike="noStrike">
                <a:solidFill>
                  <a:srgbClr val="fdeada"/>
                </a:solidFill>
                <a:latin typeface="Helvetica CE"/>
              </a:rPr>
              <a:t>petr.kraselovsky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37CBF-490E-442D-80BF-64CB023C5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371600" y="1815840"/>
            <a:ext cx="628344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Evropské komise (ES) č. 1828/2006 čl. 8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„…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příjemce finanční podpory je povinen jasně informovat subjekty účastnící se projektu i širokou veřejnost, že projekt získal finanční prostředky v rámci operačního programu spolufinancovaného Evropským sociálním fondem (ESF)“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pagace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jektu směrem k široké a odborné veřejnosti, EU, médiím, účastníkům projektu na všech materiálech a dokumentech souvisejících s projektem (výjimkou jsou účetní doklady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Čl. 1,11,16… v Rozhodnutí – Publicita……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1083/2006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Šance využít tuto povinnost ke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zviditelně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vého projektu a zvýšení povědomí potenciálních žadatelů o podporu o této formě pomoci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nutí určité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záruk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kvality všem účastníkům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Zabráně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blémům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ři kontrolách a auditech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ublicita spadá do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epřímých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ákladů !s výjimkou! případu kdy je publicita hlavní činností projektu a tedy klíčových aktivit – pa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přímé náklady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2F281-891F-4DDB-8EDE-65F013F76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123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96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29840" y="178884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Informování a propagace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jektu směrem k široké a odborné veřejnost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avidelné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edkládání MZ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o průběhu realizace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ouhlas se začleněním na veřejně přístupný seznam příjemců ( Akceptace dle Nařízení 1828/2006 čl. 6 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inimum povinné publicity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)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e46c0a"/>
                </a:solidFill>
                <a:latin typeface="Helvetica CE"/>
              </a:rPr>
              <a:t>Evropského sociálního fondu</a:t>
            </a:r>
            <a:r>
              <a:rPr b="0" lang="cs-CZ" sz="1400" spc="-1" strike="noStrike">
                <a:solidFill>
                  <a:srgbClr val="953735"/>
                </a:solidFill>
                <a:latin typeface="Helvetic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e46c0a"/>
                </a:solidFill>
                <a:latin typeface="Helvetica CE"/>
              </a:rPr>
              <a:t>Evropské unie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215968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215968"/>
                </a:solidFill>
                <a:latin typeface="Helvetica CE"/>
              </a:rPr>
              <a:t>Ministerstva školství, mládeže a tělovýchovy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ffc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ffc000"/>
                </a:solidFill>
                <a:latin typeface="Helvetica CE"/>
              </a:rPr>
              <a:t>Operačního programu Vzdělávání pro konkurenceschopnost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mají přesně vymezená pravidla použití a řazení (v rámci tzv. logolinku)  - 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Evropské komise (ES) Čl. 9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Dodržovat pravidla pro použití 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ového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logolinku musí příjemci u projektů, pro něž rozhodnutí či smlouva o poskytnutí dotace nabyla </a:t>
            </a:r>
            <a:r>
              <a:rPr b="0" lang="it-IT" sz="1400" spc="-1" strike="noStrike">
                <a:solidFill>
                  <a:srgbClr val="000000"/>
                </a:solidFill>
                <a:latin typeface="Helvetica CE"/>
              </a:rPr>
              <a:t>účinnosti po 30. 10. 2009.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rojekty vázané v právním aktu řídit se vždy novou verzí Příručky pro příjemce, se mohou při používání prvků povinné publicity nadále řídit pravidly platnými před 30. 10. 2009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0A369-8117-43CE-A472-0D202951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Jaká je posloupnost log v logolinku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195228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a logo OP VK může příjemce v logolinku přidat své logo a příp. logo partnera !pozor! nikoliv logo projektu. 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oficiálního partnera se uvádí vždy až za základní logolink a logo příjemce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avidla OP V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ezakazují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říjemci užít v rámci realizace projektu další loga či označení, než je předepsaný a definovaný logolink, může se jednat např. o loga dalších subjektů, které pomáhají s realizací projektu, i když nejsou oficiální finanční nebo nefinanční partneři, uvedení v projektu nebo např. o logo samotného projekt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Tato loga se však nemohou stát součástí oficiálního logolinku projektu, ale musí být uváděna odděleně v jiné části materiálu, tak aby nemohla být považována za součást oficiálního logolinku a nepůsobila dominantněji. Publicita, kterou příjemce umožní dalším subjektům musí odpovídat míře  jejich přispění k realizaci projektu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33343-8512-44A8-8CC0-5E1401092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04480" y="1784160"/>
            <a:ext cx="719316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20120" indent="-317520" algn="just">
              <a:spcBef>
                <a:spcPts val="349"/>
              </a:spcBef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 logolinky používáme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b) slogan : INVESTICE DO ROZVOJE VZDĚLÁVÁ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(povinné sdělení 1):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!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zor! na umístění ve vertikálním a horizontálním logolinku – centrování – INVESTMENTS IN EDUCATION DEVELOPMENT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 případě použití logolinku bez slovního odkazu na ESF je nutno používat i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vinné sdělení 2 - Tento program/projekt/produkt je spolufinancován  Evropským sociálním fondem a státním rozpočtem České republiky.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jimkou jsou rozměrově menší materiály a předměty. (</a:t>
            </a:r>
            <a:r>
              <a:rPr b="0" lang="en-US" sz="1400" spc="-1" strike="noStrike">
                <a:solidFill>
                  <a:srgbClr val="000000"/>
                </a:solidFill>
                <a:latin typeface="Helvetica CE"/>
              </a:rPr>
              <a:t>This project (product) is co-financed by the European Social Fund and the state budget of the Czech Republic.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materiálech menšího rozměru lze loga uvést i bez textů (!pozor!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logo EU vždy s textem)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 Zkrácený logolink neobsahuje logo MŠM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inimální povolená velikost loga ESF je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6 mm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výšk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MŠMT může být s textem i bez textu. Na základě výjimky z Manuálu udělené 27. 3. 2009 je minimální přípustná velikost log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 textem 1,5 cm = 15 mm na šířk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OP VK může být s textem i bez textu. Minimální velikost log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 textem je 1,5 cm na šířk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F851D-8F9E-4D9A-8CF4-44A66B748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892080"/>
            <a:ext cx="64580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               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Logo</a:t>
            </a: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        v Č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5880" y="1951200"/>
            <a:ext cx="71247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Logo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(z řeckého 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logos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= slovo, řeč, zákon, pojem…) je označení organizace, programu, projektu atd. ve speciálním grafickém provedení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Komise (ES) č. 1159/2000 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ukládá jednotlivým členským státům povinnost usilovat o jednotnou vizuální podobu těch informačních a propagačních opatření, které se vztahují k pomoci ze strukturálních fondů. (Sv.L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ESF (autork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Edita Plzáková, 2003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)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ychází z barev Evropské Unie a jeho symbolů - hvězd. Logo je složeno ze dvou vzájemně propojených částí - modrá plocha se zvětšujícími se hvězdami, které vyjadřují vstup ČR do EU a stylizovanou zkratku ESF. Logo může být používáno samostatně nebo s vypsaným názvem "evropský sociální fond". Logo je vytvořeno ve dvou jazykových mutacích: české a anglické, přičemž samotné logo zůstává stejné a mění se pouze přídavný tex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izuální identita loga je využívána při všech příležitostech vztahujících se k řízení a publicitě programů spolufinancovaných z ESF tak, aby si cílové skupiny pomoci byly vědomi faktu, že příslušný projekt je spolufinancován právě z ESF a zároveň bylo zvýšeno povědomí veřejnosti o této formě pomoci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4B826-A0BC-4F35-A317-DAEB8D290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4299120" y="1143000"/>
            <a:ext cx="7635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926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  <a:ea typeface="Arial"/>
              </a:rPr>
              <a:t>Logotypy strukturálních fondů zemí EU</a:t>
            </a:r>
            <a:br>
              <a:rPr sz="2000"/>
            </a:br>
            <a:r>
              <a:rPr b="1" i="1" lang="cs-CZ" sz="2000" spc="-1" strike="noStrike">
                <a:solidFill>
                  <a:srgbClr val="f3912c"/>
                </a:solidFill>
                <a:latin typeface="Calibri"/>
                <a:ea typeface="Arial"/>
              </a:rPr>
              <a:t>Lotyšsko, ČR, Francie, Malta, Holandsko….</a:t>
            </a:r>
            <a:endParaRPr b="1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C7669-2C84-4CCD-A497-75CCB953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1"/>
          <a:stretch/>
        </p:blipFill>
        <p:spPr>
          <a:xfrm>
            <a:off x="1004760" y="2127240"/>
            <a:ext cx="1819440" cy="1104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2"/>
          <a:stretch/>
        </p:blipFill>
        <p:spPr>
          <a:xfrm>
            <a:off x="1004760" y="3232080"/>
            <a:ext cx="1995480" cy="11019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1330200" y="4686480"/>
            <a:ext cx="1024200" cy="537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4"/>
          <a:stretch/>
        </p:blipFill>
        <p:spPr>
          <a:xfrm>
            <a:off x="3867120" y="2208240"/>
            <a:ext cx="903240" cy="793800"/>
          </a:xfrm>
          <a:prstGeom prst="rect">
            <a:avLst/>
          </a:prstGeom>
          <a:ln w="0">
            <a:noFill/>
          </a:ln>
        </p:spPr>
      </p:pic>
      <p:pic>
        <p:nvPicPr>
          <p:cNvPr id="540" name="Obrázek 9" descr="C:\Documents and Settings\kraselovskyp\Plocha\Logo historie\Erdf logo_soubory\images_011.jpeg"/>
          <p:cNvPicPr/>
          <p:nvPr/>
        </p:nvPicPr>
        <p:blipFill>
          <a:blip r:embed="rId5"/>
          <a:stretch/>
        </p:blipFill>
        <p:spPr>
          <a:xfrm>
            <a:off x="3514680" y="3313080"/>
            <a:ext cx="1909800" cy="752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6"/>
          <a:stretch/>
        </p:blipFill>
        <p:spPr>
          <a:xfrm>
            <a:off x="5673600" y="2127240"/>
            <a:ext cx="2419560" cy="118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7"/>
          <a:stretch/>
        </p:blipFill>
        <p:spPr>
          <a:xfrm>
            <a:off x="6256440" y="3476520"/>
            <a:ext cx="1280880" cy="1040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"/>
          <p:cNvPicPr/>
          <p:nvPr/>
        </p:nvPicPr>
        <p:blipFill>
          <a:blip r:embed="rId8"/>
          <a:stretch/>
        </p:blipFill>
        <p:spPr>
          <a:xfrm>
            <a:off x="3514680" y="4259160"/>
            <a:ext cx="1643040" cy="1069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"/>
          <p:cNvPicPr/>
          <p:nvPr/>
        </p:nvPicPr>
        <p:blipFill>
          <a:blip r:embed="rId9"/>
          <a:stretch/>
        </p:blipFill>
        <p:spPr>
          <a:xfrm>
            <a:off x="6093000" y="4954680"/>
            <a:ext cx="200016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1952280"/>
            <a:ext cx="645804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utno dodržet nejmenší povolené velikosti log, předepsané barvy, ochranné zóny a další náležitosti dané v Manuálu vizuální identity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polečně s logem ESF se v ČR zároveň vždy používá také vlajka EU (1955,1986,1992-3) s textem Evropská unie. </a:t>
            </a:r>
            <a:r>
              <a:rPr b="0" lang="pt-BR" sz="1400" spc="-1" strike="noStrike">
                <a:solidFill>
                  <a:srgbClr val="000000"/>
                </a:solidFill>
                <a:latin typeface="Helvetica CE"/>
              </a:rPr>
              <a:t>Logo ESF a vlajka EU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usí mít </a:t>
            </a:r>
            <a:r>
              <a:rPr b="1" lang="pt-BR" sz="1400" spc="-1" strike="noStrike">
                <a:solidFill>
                  <a:srgbClr val="000000"/>
                </a:solidFill>
                <a:latin typeface="Helvetica CE"/>
              </a:rPr>
              <a:t>shodnou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Helvetica CE"/>
              </a:rPr>
              <a:t>barevnos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zdálenost mezi vlajkou EU a logem ESF musí být vždy na šířku nožičky písmen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„f“ , u navazujících log buď na šířku nožičky „f“ nebo na výšku horní části „vlajky“ loga ESF</a:t>
            </a:r>
            <a:r>
              <a:rPr b="1" lang="cs-CZ" sz="1400" spc="-1" strike="noStrike">
                <a:solidFill>
                  <a:srgbClr val="ffffff"/>
                </a:solidFill>
                <a:latin typeface="Helvetica CE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šechna loga horizontálního logolinku jsou zarovnána k hornímu a dolnímu okraji loga ESF. Zkrácený logolin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emusí obsahovat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logo MŠMT.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06589-7F13-444F-A594-833C4FDA2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"/>
          <p:cNvPicPr/>
          <p:nvPr/>
        </p:nvPicPr>
        <p:blipFill>
          <a:blip r:embed="rId1"/>
          <a:stretch/>
        </p:blipFill>
        <p:spPr>
          <a:xfrm>
            <a:off x="1838160" y="3822840"/>
            <a:ext cx="1478160" cy="969840"/>
          </a:xfrm>
          <a:prstGeom prst="rect">
            <a:avLst/>
          </a:prstGeom>
          <a:ln w="0">
            <a:noFill/>
          </a:ln>
        </p:spPr>
      </p:pic>
      <p:pic>
        <p:nvPicPr>
          <p:cNvPr id="549" name="Obrázek 11" descr=""/>
          <p:cNvPicPr/>
          <p:nvPr/>
        </p:nvPicPr>
        <p:blipFill>
          <a:blip r:embed="rId2"/>
          <a:stretch/>
        </p:blipFill>
        <p:spPr>
          <a:xfrm>
            <a:off x="3559320" y="4040280"/>
            <a:ext cx="257148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Obrázek 6" descr="Logolink_horiz_zkraceny_text_RGB.jpg"/>
          <p:cNvPicPr/>
          <p:nvPr/>
        </p:nvPicPr>
        <p:blipFill>
          <a:blip r:embed="rId3"/>
          <a:stretch/>
        </p:blipFill>
        <p:spPr>
          <a:xfrm>
            <a:off x="6130800" y="3860640"/>
            <a:ext cx="264348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33280" y="1787400"/>
            <a:ext cx="7095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!pozor!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tátní vlajku ČR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užívá na svých dokumentech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uze řídící orgán (MŠMT)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S ani příjemce vlajku ČR nepoužijí. Příjemce může přiřadit za logo OP VK další loga příjemce a partnera (!nikoli! logo projektu)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á-li projekt více partnerů, umístění log partnerů do logolinku za logo příjemce se z důvodu komplikovanosti takového logolinku nedoporučuje, partnery projektu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lze zmínit např. v textu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daného informačního nebo propagačního materiál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motné zařízení a vybavení (vč. publikací, učebnic,…) pořízené z prostředků ESF -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amolepk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určené k označování tohoto zařízení obsahují vždy základní logolink OP VK (včetně textů u log a sloganu), na rozměrově menších samolepkách lze vynechat logo MŠMT, avšak u ostatních log je nutno zachovat text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lé propagační předměty (post-it, vizitka, flash disk, tužky,…): zkrácený logolink, možno i bez slogan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3055C-FFE1-4B6C-9759-D669BCC63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2:01:30Z</dcterms:modified>
  <cp:revision>38</cp:revision>
  <dc:subject/>
  <dc:title>Titulní strana – Titulek</dc:title>
</cp:coreProperties>
</file>