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move the slide</a:t>
            </a:r>
            <a:endParaRPr b="1" lang="en-US" sz="3200" spc="-1" strike="noStrike">
              <a:solidFill>
                <a:srgbClr val="000000"/>
              </a:solidFill>
              <a:latin typeface="Helvetica CE"/>
            </a:endParaRPr>
          </a:p>
        </p:txBody>
      </p:sp>
      <p:sp>
        <p:nvSpPr>
          <p:cNvPr id="5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2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6103B0-6451-403F-AB77-E4E408A2632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15800" indent="0">
              <a:lnSpc>
                <a:spcPct val="80000"/>
              </a:lnSpc>
              <a:spcAft>
                <a:spcPts val="103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500" spc="-1" strike="noStrike">
                <a:solidFill>
                  <a:srgbClr val="000000"/>
                </a:solidFill>
                <a:latin typeface="Calibri"/>
              </a:rPr>
              <a:t>Partneři se společně s příjemcem podílejí na realizaci projektu a to v těch aktivitách, ve kterých je k tomu zavazuje </a:t>
            </a:r>
            <a:r>
              <a:rPr b="1" lang="cs-CZ" sz="1500" spc="-1" strike="noStrike">
                <a:solidFill>
                  <a:srgbClr val="000000"/>
                </a:solidFill>
                <a:latin typeface="Calibri"/>
              </a:rPr>
              <a:t>Partnerská smlouva</a:t>
            </a:r>
            <a:r>
              <a:rPr b="0" lang="cs-CZ" sz="1500" spc="-1" strike="noStrike">
                <a:solidFill>
                  <a:srgbClr val="000000"/>
                </a:solidFill>
                <a:latin typeface="Calibri"/>
              </a:rPr>
              <a:t>.</a:t>
            </a:r>
            <a:endParaRPr b="0" lang="en-US" sz="1500" spc="-1" strike="noStrike">
              <a:solidFill>
                <a:srgbClr val="000000"/>
              </a:solidFill>
              <a:latin typeface="Calibri"/>
            </a:endParaRPr>
          </a:p>
          <a:p>
            <a:pPr lvl="1" marL="415800" indent="0">
              <a:lnSpc>
                <a:spcPct val="80000"/>
              </a:lnSpc>
              <a:spcAft>
                <a:spcPts val="103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500" spc="-1" strike="noStrike">
                <a:solidFill>
                  <a:srgbClr val="000000"/>
                </a:solidFill>
                <a:latin typeface="Calibri"/>
              </a:rPr>
              <a:t>Obsah PS je přitom velice důležitý, protože konečnou odpovědnost poskytovateli podpory nese příjemce. V PS je nutné vymezit podmínky partnerství (například vymezení aktivit na kterých se bude partner podílet, zda se bude rovněž podílet na zajištění udržitelnosti projektu, stanovení povinnosti odděleného vedení účetnictví k projektu, zřízení samostatného bankovního účtu/podúčtu projektu, či zabezpečení dostupnosti dokladů)</a:t>
            </a:r>
            <a:endParaRPr b="0" lang="en-US" sz="1500" spc="-1" strike="noStrike">
              <a:solidFill>
                <a:srgbClr val="000000"/>
              </a:solidFill>
              <a:latin typeface="Calibri"/>
            </a:endParaRPr>
          </a:p>
          <a:p>
            <a:pPr lvl="1" marL="415800" indent="0">
              <a:lnSpc>
                <a:spcPct val="80000"/>
              </a:lnSpc>
              <a:spcAft>
                <a:spcPts val="103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lvl="1" marL="415800" indent="0">
              <a:lnSpc>
                <a:spcPct val="80000"/>
              </a:lnSpc>
              <a:spcAft>
                <a:spcPts val="103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500" spc="-1" strike="noStrike">
                <a:solidFill>
                  <a:srgbClr val="000000"/>
                </a:solidFill>
                <a:latin typeface="Calibri"/>
              </a:rPr>
              <a:t>Smluvní vztah mezi příjemcem a jeho partnery není založen na poskytování služeb a nesmí být v rozporu s právními předpisy ČR!</a:t>
            </a:r>
            <a:endParaRPr b="0" lang="en-US" sz="1500" spc="-1" strike="noStrike">
              <a:solidFill>
                <a:srgbClr val="000000"/>
              </a:solidFill>
              <a:latin typeface="Calibri"/>
            </a:endParaRPr>
          </a:p>
          <a:p>
            <a:pPr lvl="1" marL="415800" indent="0">
              <a:lnSpc>
                <a:spcPct val="80000"/>
              </a:lnSpc>
              <a:spcAft>
                <a:spcPts val="103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500" spc="-1" strike="noStrike">
                <a:solidFill>
                  <a:srgbClr val="000000"/>
                </a:solidFill>
                <a:latin typeface="Calibri"/>
              </a:rPr>
              <a:t> </a:t>
            </a:r>
            <a:endParaRPr b="0" lang="en-US" sz="1500" spc="-1" strike="noStrike">
              <a:solidFill>
                <a:srgbClr val="000000"/>
              </a:solidFill>
              <a:latin typeface="Calibri"/>
            </a:endParaRPr>
          </a:p>
          <a:p>
            <a:pPr indent="0">
              <a:lnSpc>
                <a:spcPct val="80000"/>
              </a:lnSpc>
              <a:spcBef>
                <a:spcPts val="56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591"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36AEE4-ADA3-4326-A03F-17C6613201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V případě finančního partnerství může být příjemcem podpory pouze jeden subjekt. Tímto subjektem je žadatel, který předkládal projektovou žádost. Žadatel-příjemce dále vystupuje jako subjekt odpovědný za řízení projektu ve vztahu k partnerům a zodpovídá za rozdělení obdržených prostředků mezi partnery na základě smluvních aktů, schváleného rozpočtu projektu a dokladovaných skutečných výdajů.</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Partner předkládá příjemci žádost o proplacení svých výdajů (např. ve formě soupisky účetních dokladů s doloženými kopiemi účetních dokladů, případně výpisem z účtu). Při vyúčtování a dokladování má partner má vůči poskytovateli podpory stejné povinnosti jako příjemce, pro partnera je závazná PS, příjemce musí veškeré povinnosti partnera v této smlouvě upravit. </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Např. </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 v případě kontroly na místě je povinností příjemce zajistit ke kontrole originály účetních dokladů partnerů, takže v PS by poskytnutí těchto dokladů mělo být upraveno… </a:t>
            </a:r>
            <a:endParaRPr b="0" lang="en-US" sz="1200" spc="-1" strike="noStrike">
              <a:solidFill>
                <a:srgbClr val="000000"/>
              </a:solidFill>
              <a:latin typeface="Calibri"/>
            </a:endParaRPr>
          </a:p>
          <a:p>
            <a:pPr>
              <a:lnSpc>
                <a:spcPct val="9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Příjemce musí zavázat své partnery v PS k zřízení samostatného projektového bankovního účtu/podúčtu, který po celou dobu projektu slouží pouze pro platby s projektem související. Zde platí výjimka z PpP pro Rozhodnutí nebo právní akty, které poskytují dotaci, že v případě, že platby partnerovi neprobíhají zálohově, ale probíhají zpětně, nemusí mít partner zřízen samostatný BÚ. </a:t>
            </a:r>
            <a:endParaRPr b="0" lang="en-US" sz="1200" spc="-1" strike="noStrike">
              <a:solidFill>
                <a:srgbClr val="000000"/>
              </a:solidFill>
              <a:latin typeface="Calibri"/>
            </a:endParaRPr>
          </a:p>
          <a:p>
            <a:pPr indent="0">
              <a:lnSpc>
                <a:spcPct val="9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94"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08F9DF-DCA4-4BB3-BCD8-8D359A08D8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V případě partnera s FP předkládá partner příjemci žádost o proplacení svých způsobilých výdajů. Úhrady mezi příjemcem a partnerem mohou probíhat buď formou zálohové platby, kdy příjemce poskytne odpovídající část zálohy partnerovi na základě uzavřené P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Nebo by mělo být v PS upravené datum, kdy bude partner příjemci vyúčtovávat způsobilé výdaje za dané MO, tento datum by měl být stanoven  na termín před předkládáním řádných MZ tak, aby příjemce mohl způsobilé výdaje partnera do MZ zahrnou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V případě, že partner vyčerpá poskytnutou zálohu a vznikají mu další způsobilé výdaje, příjemce mu tyto další výdaje může proplatit ihned nebo počkat a proplatit tyto výdaje až po schválení poskytovatelem podpor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Nedočerpané finanční prostředky je partner povinen vrátit na projektový účet příjemce nejpozději do odeslání závěrečné monitorovací zprávy s žádostí o platbu.</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97"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2A284B-71FC-4DA9-AC40-8D8F4CC80D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15800" indent="0">
              <a:lnSpc>
                <a:spcPct val="80000"/>
              </a:lnSpc>
              <a:spcAft>
                <a:spcPts val="103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700" spc="-1" strike="noStrike">
                <a:solidFill>
                  <a:srgbClr val="000000"/>
                </a:solidFill>
                <a:latin typeface="Calibri"/>
              </a:rPr>
              <a:t>- Příjemce se s partnerem musí v PS dohodnout na termínu, kdy dojde k rozdělení zařízení a spotřebního materiálu nakoupeného z poskytnuté podpory (po udržitelnosti)</a:t>
            </a:r>
            <a:endParaRPr b="0" lang="en-US" sz="1700" spc="-1" strike="noStrike">
              <a:solidFill>
                <a:srgbClr val="000000"/>
              </a:solidFill>
              <a:latin typeface="Calibri"/>
            </a:endParaRPr>
          </a:p>
          <a:p>
            <a:pPr lvl="1" marL="415800">
              <a:lnSpc>
                <a:spcPct val="80000"/>
              </a:lnSpc>
              <a:spcAft>
                <a:spcPts val="1037"/>
              </a:spcAft>
              <a:buClr>
                <a:srgbClr val="000000"/>
              </a:buClr>
              <a:buSzPct val="75000"/>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700" spc="-1" strike="noStrike">
                <a:solidFill>
                  <a:srgbClr val="000000"/>
                </a:solidFill>
                <a:latin typeface="Calibri"/>
              </a:rPr>
              <a:t> </a:t>
            </a:r>
            <a:r>
              <a:rPr b="0" lang="cs-CZ" sz="1700" spc="-1" strike="noStrike">
                <a:solidFill>
                  <a:srgbClr val="000000"/>
                </a:solidFill>
                <a:latin typeface="Calibri"/>
              </a:rPr>
              <a:t>Zařízení a spotřební materiál nakoupený z projektu nelze po realizaci převádět partnerům sídlícím mimo cílový region v případě, že v rámci udržitelnosti tento partner nezaváže podporovat cílovou skupinu daného cílového regionu.</a:t>
            </a:r>
            <a:endParaRPr b="0" lang="en-US" sz="1700" spc="-1" strike="noStrike">
              <a:solidFill>
                <a:srgbClr val="000000"/>
              </a:solidFill>
              <a:latin typeface="Calibri"/>
            </a:endParaRPr>
          </a:p>
          <a:p>
            <a:pPr lvl="1" marL="415800">
              <a:lnSpc>
                <a:spcPct val="80000"/>
              </a:lnSpc>
              <a:spcAft>
                <a:spcPts val="1037"/>
              </a:spcAft>
              <a:buClr>
                <a:srgbClr val="000000"/>
              </a:buClr>
              <a:buSzPct val="75000"/>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700" spc="-1" strike="noStrike">
                <a:solidFill>
                  <a:srgbClr val="000000"/>
                </a:solidFill>
                <a:latin typeface="Calibri"/>
              </a:rPr>
              <a:t> </a:t>
            </a:r>
            <a:r>
              <a:rPr b="0" lang="cs-CZ" sz="1700" spc="-1" strike="noStrike">
                <a:solidFill>
                  <a:srgbClr val="000000"/>
                </a:solidFill>
                <a:latin typeface="Calibri"/>
              </a:rPr>
              <a:t>Kopie převodních listin či darovacích smluv</a:t>
            </a:r>
            <a:r>
              <a:rPr b="0" lang="cs-CZ" sz="700" spc="-1" strike="noStrike">
                <a:solidFill>
                  <a:srgbClr val="000000"/>
                </a:solidFill>
                <a:latin typeface="Calibri"/>
              </a:rPr>
              <a:t> </a:t>
            </a:r>
            <a:r>
              <a:rPr b="0" lang="cs-CZ" sz="1700" spc="-1" strike="noStrike">
                <a:solidFill>
                  <a:srgbClr val="000000"/>
                </a:solidFill>
                <a:latin typeface="Calibri"/>
              </a:rPr>
              <a:t>předkládá příjemce</a:t>
            </a:r>
            <a:r>
              <a:rPr b="0" lang="cs-CZ" sz="700" spc="-1" strike="noStrike">
                <a:solidFill>
                  <a:srgbClr val="000000"/>
                </a:solidFill>
                <a:latin typeface="Calibri"/>
              </a:rPr>
              <a:t> </a:t>
            </a:r>
            <a:r>
              <a:rPr b="0" lang="cs-CZ" sz="1700" spc="-1" strike="noStrike">
                <a:solidFill>
                  <a:srgbClr val="000000"/>
                </a:solidFill>
                <a:latin typeface="Calibri"/>
              </a:rPr>
              <a:t>se závěrečnou MZ</a:t>
            </a:r>
            <a:endParaRPr b="0" lang="en-US" sz="1700" spc="-1" strike="noStrike">
              <a:solidFill>
                <a:srgbClr val="000000"/>
              </a:solidFill>
              <a:latin typeface="Calibri"/>
            </a:endParaRPr>
          </a:p>
          <a:p>
            <a:pPr lvl="1" marL="415800" indent="0">
              <a:lnSpc>
                <a:spcPct val="80000"/>
              </a:lnSpc>
              <a:spcAft>
                <a:spcPts val="103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lvl="1" marL="415800" indent="0">
              <a:lnSpc>
                <a:spcPct val="80000"/>
              </a:lnSpc>
              <a:spcAft>
                <a:spcPts val="103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700" spc="-1" strike="noStrike">
                <a:solidFill>
                  <a:srgbClr val="000000"/>
                </a:solidFill>
                <a:latin typeface="Calibri"/>
              </a:rPr>
              <a:t>b) Partner s finančním příspěvkem </a:t>
            </a:r>
            <a:endParaRPr b="0" lang="en-US" sz="1700" spc="-1" strike="noStrike">
              <a:solidFill>
                <a:srgbClr val="000000"/>
              </a:solidFill>
              <a:latin typeface="Calibri"/>
            </a:endParaRPr>
          </a:p>
          <a:p>
            <a:pPr lvl="1" marL="415800" indent="0">
              <a:lnSpc>
                <a:spcPct val="80000"/>
              </a:lnSpc>
              <a:spcAft>
                <a:spcPts val="103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700" spc="-1" strike="noStrike">
                <a:solidFill>
                  <a:srgbClr val="000000"/>
                </a:solidFill>
                <a:latin typeface="Calibri"/>
              </a:rPr>
              <a:t>- nakupované zařízení a spotřební materiál je ihned v jeho vlastnictví</a:t>
            </a:r>
            <a:endParaRPr b="0" lang="en-US" sz="1700" spc="-1" strike="noStrike">
              <a:solidFill>
                <a:srgbClr val="000000"/>
              </a:solidFill>
              <a:latin typeface="Calibri"/>
            </a:endParaRPr>
          </a:p>
          <a:p>
            <a:pPr lvl="1" marL="415800" indent="0">
              <a:lnSpc>
                <a:spcPct val="80000"/>
              </a:lnSpc>
              <a:spcAft>
                <a:spcPts val="103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600"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CF21A5-1C62-4D41-A95E-4209D703BF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Podléhají schválení – mohou a nemusí být schváleny – vyjadřuje se gestor apod. </a:t>
            </a:r>
            <a:endParaRPr b="0" lang="en-US" sz="1200" spc="-1" strike="noStrike">
              <a:solidFill>
                <a:srgbClr val="000000"/>
              </a:solidFill>
              <a:latin typeface="Calibri"/>
            </a:endParaRPr>
          </a:p>
        </p:txBody>
      </p:sp>
      <p:sp>
        <p:nvSpPr>
          <p:cNvPr id="567"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769ACA-F65B-4571-B1F2-D374D6E47A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Nepodstatné změny týkající se změny </a:t>
            </a:r>
            <a:r>
              <a:rPr b="1" lang="cs-CZ" sz="1200" spc="-1" strike="noStrike">
                <a:solidFill>
                  <a:srgbClr val="000000"/>
                </a:solidFill>
                <a:latin typeface="Calibri"/>
              </a:rPr>
              <a:t>kontaktních údajů příjemce</a:t>
            </a:r>
            <a:r>
              <a:rPr b="0" lang="cs-CZ" sz="1200" spc="-1" strike="noStrike">
                <a:solidFill>
                  <a:srgbClr val="000000"/>
                </a:solidFill>
                <a:latin typeface="Calibri"/>
              </a:rPr>
              <a:t>, změny jeho sídla nebo změny hlavní kontaktní osoby nebo manažera projektu je nutné oznámit neprodleně a následně pak i s MZ.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Změna auditora </a:t>
            </a:r>
            <a:r>
              <a:rPr b="0" lang="cs-CZ" sz="1200" spc="-1" strike="noStrike">
                <a:solidFill>
                  <a:srgbClr val="000000"/>
                </a:solidFill>
                <a:latin typeface="Calibri"/>
              </a:rPr>
              <a:t>– pokud je povinností příjemce projektu nechat provést audi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Změna harmonogramu realizace </a:t>
            </a:r>
            <a:r>
              <a:rPr b="0" lang="cs-CZ" sz="1200" spc="-1" strike="noStrike">
                <a:solidFill>
                  <a:srgbClr val="000000"/>
                </a:solidFill>
                <a:latin typeface="Calibri"/>
              </a:rPr>
              <a:t>(posun KA) - tyto změny musí být opět zdůvodněny v MZ a doloženy novým přepracovaným harmonogramem (příloha č. 10 MZ) v elektronické i listinné podobě. Zde není možné v rámci změny v harmonogramu změnit celkovou dobu realizace projektu!</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Změna názvu subjektu příjemce </a:t>
            </a:r>
            <a:r>
              <a:rPr b="0" lang="cs-CZ" sz="1200" spc="-1" strike="noStrike">
                <a:solidFill>
                  <a:srgbClr val="000000"/>
                </a:solidFill>
                <a:latin typeface="Calibri"/>
              </a:rPr>
              <a:t>– příjemce musí o této změně dopředu informovat mšmt. Poskytovatel dotace zahájí proces úpravy nebo doplnění právního aktu o poskytnutí dotace v režimu podstatných změ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Změna statutárního zástupce </a:t>
            </a:r>
            <a:r>
              <a:rPr b="0" lang="cs-CZ" sz="1200" spc="-1" strike="noStrike">
                <a:solidFill>
                  <a:srgbClr val="000000"/>
                </a:solidFill>
                <a:latin typeface="Calibri"/>
              </a:rPr>
              <a:t>– příjemce je povinen do 5 pracovních dnů zaslat oznámení o změně statutárního zástupce spolu s podklady, které tuto změnu prokazují. Ověřenou kopii jmenovací listiny zaslat okamžitě po změně.</a:t>
            </a:r>
            <a:endParaRPr b="0" lang="en-US" sz="1200" spc="-1" strike="noStrike">
              <a:solidFill>
                <a:srgbClr val="000000"/>
              </a:solidFill>
              <a:latin typeface="Calibri"/>
            </a:endParaRPr>
          </a:p>
        </p:txBody>
      </p:sp>
      <p:sp>
        <p:nvSpPr>
          <p:cNvPr id="570"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6D5459-C204-4DD1-90AF-E7AC6CFCDA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15800" indent="0">
              <a:lnSpc>
                <a:spcPct val="80000"/>
              </a:lnSpc>
              <a:spcAft>
                <a:spcPts val="103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Podstatná změna je změna, která mění obsah nebo charakter schváleného projektu a zakládá povinnost upravit nebo doplnit právní akt o poskytnutí dotace. Tato změna tedy nesmí být provedena před jejím schválením a vydáním dodatku k právnímu aktu. Podstatné změny musí být schváleny všemi partnery příjemce, pokud se jich dotýkají, ještě před podáním příslušných návrhů změn projektu, a to v písemné formě s podpisem statutárního zástupce nebo statutárních orgánů partnerů. V případě, že takového souhlasu nebylo dosaženo, musí příjemce tuto informaci uvést při předkládání žádosti o podstatnou změnu.</a:t>
            </a:r>
            <a:endParaRPr b="0" lang="en-US" sz="1200" spc="-1" strike="noStrike">
              <a:solidFill>
                <a:srgbClr val="000000"/>
              </a:solidFill>
              <a:latin typeface="Calibri"/>
            </a:endParaRPr>
          </a:p>
          <a:p>
            <a:pPr lvl="1" marL="415800" indent="0">
              <a:lnSpc>
                <a:spcPct val="80000"/>
              </a:lnSpc>
              <a:spcAft>
                <a:spcPts val="103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415800" indent="0">
              <a:lnSpc>
                <a:spcPct val="80000"/>
              </a:lnSpc>
              <a:spcAft>
                <a:spcPts val="103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Tato podepsaná žádost se posílá příslušnému PM O CERA a na její posouzení mají pracovníci ministerstva 30 PD. Po rozhodnutí o schválení či neschválení navrhované změny má příslušný PM O CERA 5 PD na vyrozumění příjemce. V případě schválení PZ se vydá dodatek prvního aktu, který nabývá účinnosti dnem podpisu oběma stranami.</a:t>
            </a:r>
            <a:endParaRPr b="0" lang="en-US" sz="1200" spc="-1" strike="noStrike">
              <a:solidFill>
                <a:srgbClr val="000000"/>
              </a:solidFill>
              <a:latin typeface="Calibri"/>
            </a:endParaRPr>
          </a:p>
          <a:p>
            <a:pPr lvl="1" marL="415800" indent="0">
              <a:lnSpc>
                <a:spcPct val="80000"/>
              </a:lnSpc>
              <a:spcAft>
                <a:spcPts val="103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415800" indent="0">
              <a:lnSpc>
                <a:spcPct val="80000"/>
              </a:lnSpc>
              <a:spcAft>
                <a:spcPts val="103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Podstatné změny projektu nesmí příjemce provést před jejich odsouhlasením poskytovatele podpory. Odsouhlasení změn nelze provést se zpětnou platností. Jestliže příjemce provedete tyto změny před odsouhlasením ze strany poskytovatele, tyto změny nebudou uznány jako platné a příjemce se jejich realizace vystavuje riziku případného odnětí finanční podpory. </a:t>
            </a:r>
            <a:endParaRPr b="0" lang="en-US" sz="1200" spc="-1" strike="noStrike">
              <a:solidFill>
                <a:srgbClr val="000000"/>
              </a:solidFill>
              <a:latin typeface="Calibri"/>
            </a:endParaRPr>
          </a:p>
          <a:p>
            <a:pPr lvl="1" marL="415800" indent="0">
              <a:lnSpc>
                <a:spcPct val="80000"/>
              </a:lnSpc>
              <a:spcAft>
                <a:spcPts val="103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Calibri"/>
              </a:rPr>
              <a:t>Lhůta 30 pracovních dní na posouzení ze strany MŠMT je kvůli tomu, že Žádost posuzují i pracovníci mimo odbor CERA</a:t>
            </a:r>
            <a:endParaRPr b="0" lang="en-US" sz="1000" spc="-1" strike="noStrike">
              <a:solidFill>
                <a:srgbClr val="000000"/>
              </a:solidFill>
              <a:latin typeface="Calibri"/>
            </a:endParaRPr>
          </a:p>
        </p:txBody>
      </p:sp>
      <p:sp>
        <p:nvSpPr>
          <p:cNvPr id="573"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C9A5D9-14EE-47C3-846E-BF67003D96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Změna příjemce projektu </a:t>
            </a:r>
            <a:r>
              <a:rPr b="0" lang="cs-CZ" sz="1200" spc="-1" strike="noStrike">
                <a:solidFill>
                  <a:srgbClr val="000000"/>
                </a:solidFill>
                <a:latin typeface="Calibri"/>
              </a:rPr>
              <a:t>– ve výjimečných a dostatečně odůvodněných případech je možné projekt realizovat novým příjemcem, který nebyl uveden v projektové žádosti</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Změna týkající se monitorovacích indikátorů </a:t>
            </a:r>
            <a:r>
              <a:rPr b="0" lang="cs-CZ" sz="1200" spc="-1" strike="noStrike">
                <a:solidFill>
                  <a:srgbClr val="000000"/>
                </a:solidFill>
                <a:latin typeface="Calibri"/>
              </a:rPr>
              <a:t>– překročení výše stanovených indikátorů není považováno za podstatnou změnu projektu, pokud nesouvisí s podstatnou změnou rozpočtu. Zrušení povinných indikátorů není možn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Změna začátku nebo ukončení projektu </a:t>
            </a:r>
            <a:r>
              <a:rPr b="0" lang="cs-CZ" sz="1200" spc="-1" strike="noStrike">
                <a:solidFill>
                  <a:srgbClr val="000000"/>
                </a:solidFill>
                <a:latin typeface="Calibri"/>
              </a:rPr>
              <a:t>– v případě prodloužení doby realizace projektu není možné navýšit schválené finanční prostředk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                                                                 </a:t>
            </a:r>
            <a:r>
              <a:rPr b="0" lang="cs-CZ" sz="1200" spc="-1" strike="noStrike">
                <a:solidFill>
                  <a:srgbClr val="000000"/>
                </a:solidFill>
                <a:latin typeface="Calibri"/>
              </a:rPr>
              <a:t>- při změně začátku realizace je nutné dodat nový přepracovaný harmonogram (příloha č. 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Změna projektového účtu </a:t>
            </a:r>
            <a:r>
              <a:rPr b="0" lang="cs-CZ" sz="1200" spc="-1" strike="noStrike">
                <a:solidFill>
                  <a:srgbClr val="000000"/>
                </a:solidFill>
                <a:latin typeface="Calibri"/>
              </a:rPr>
              <a:t>– záměr změnit bankovní účet je příjemce povinen  předem oznámit poskytovateli podpory. Příjemce zašle do 5 pracovních dnů od realizace změny poskytovateli podpory oznámení o provedené změně účtu, jehož součástí musí být ověřená kopie smlouvy o zřízení nového účtu nebo formulář finanční identifikace potvrzený bankou</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Odstoupení partnera </a:t>
            </a:r>
            <a:r>
              <a:rPr b="0" lang="cs-CZ" sz="1200" spc="-1" strike="noStrike">
                <a:solidFill>
                  <a:srgbClr val="000000"/>
                </a:solidFill>
                <a:latin typeface="Calibri"/>
              </a:rPr>
              <a:t>v průběhu realizace projektu nebo </a:t>
            </a:r>
            <a:r>
              <a:rPr b="1" lang="cs-CZ" sz="1200" spc="-1" strike="noStrike">
                <a:solidFill>
                  <a:srgbClr val="000000"/>
                </a:solidFill>
                <a:latin typeface="Calibri"/>
              </a:rPr>
              <a:t>zapojení nového partnera </a:t>
            </a:r>
            <a:r>
              <a:rPr b="0" lang="cs-CZ" sz="1200" spc="-1" strike="noStrike">
                <a:solidFill>
                  <a:srgbClr val="000000"/>
                </a:solidFill>
                <a:latin typeface="Calibri"/>
              </a:rPr>
              <a:t>do projektu - jde pouze ve výjimečných a dostatečně zdůvodněných případech. Například může dojít k výměně partnera za jiného partnera při zachování všech povinností a závazků!</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76"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507FA2-202A-4E69-A965-ACC717CDA3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Procentní limity pro jednotlivé kapitol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Kapitola 3 – Zařízení a vybavení související s realizací projektu: nesmí překročit 25% celkových způsobilých výdajů projektu</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Kapitola 4 – Místní kancelář: nesmí překročit 8% celkových způsobilých výdajů projektu</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Kapitola 5 – Nákup služeb souvisejících s realizací projektu: nesmí překročit 49% celkových způsobilých výdajů projektu</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Kapitola 7 – Přímá podpora: nesmí překročit 20% celkových způsobilých výdajů projektu</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79"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88B722-6F99-483B-B74F-AB5105B4A3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Pokud se jedná o nepodstatné změny rozpočtu, oznamují se a zdůvodňují se v bezprostředně nejbližší MZ. </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Nepodstatnou změnou je </a:t>
            </a:r>
            <a:endParaRPr b="0" lang="en-US" sz="1200" spc="-1" strike="noStrike">
              <a:solidFill>
                <a:srgbClr val="000000"/>
              </a:solidFill>
              <a:latin typeface="Calibri"/>
            </a:endParaRPr>
          </a:p>
          <a:p>
            <a:pPr>
              <a:lnSpc>
                <a:spcPct val="90000"/>
              </a:lnSpc>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Přesun finančních prostředků mezi položkami uvnitř jednotlivých kapitol.</a:t>
            </a:r>
            <a:r>
              <a:rPr b="0" lang="cs-CZ" sz="1200" spc="-1" strike="noStrike">
                <a:solidFill>
                  <a:srgbClr val="000000"/>
                </a:solidFill>
                <a:latin typeface="Calibri"/>
              </a:rPr>
              <a:t> Tyto změny mohou být prováděny bez omezení s výjimkou kapitoly Osobní náklady a Křížové financování. </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	</a:t>
            </a:r>
            <a:r>
              <a:rPr b="0" lang="cs-CZ" sz="1200" spc="-1" strike="noStrike">
                <a:solidFill>
                  <a:srgbClr val="000000"/>
                </a:solidFill>
                <a:latin typeface="Wingdings"/>
                <a:ea typeface="Wingdings"/>
              </a:rPr>
              <a:t></a:t>
            </a:r>
            <a:r>
              <a:rPr b="0" lang="cs-CZ" sz="1200" spc="-1" strike="noStrike">
                <a:solidFill>
                  <a:srgbClr val="000000"/>
                </a:solidFill>
                <a:latin typeface="Calibri"/>
              </a:rPr>
              <a:t> </a:t>
            </a:r>
            <a:r>
              <a:rPr b="0" lang="cs-CZ" sz="1200" spc="-1" strike="noStrike">
                <a:solidFill>
                  <a:srgbClr val="000000"/>
                </a:solidFill>
                <a:latin typeface="Calibri"/>
              </a:rPr>
              <a:t>v rámci kap. Osobní náklady:</a:t>
            </a:r>
            <a:endParaRPr b="0" lang="en-US" sz="1200" spc="-1" strike="noStrike">
              <a:solidFill>
                <a:srgbClr val="000000"/>
              </a:solidFill>
              <a:latin typeface="Calibri"/>
            </a:endParaRPr>
          </a:p>
          <a:p>
            <a:pPr>
              <a:lnSpc>
                <a:spcPct val="9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lze provádět nepodstatné změny pouze pokud jsou zapříčiněny změnou schváleného pracovněprávního vztahu (např. z DPP na DPČ), rozdělením úvazků nebo sloučením úvazků, vytvořením nové pracovní pozice nebo navýšením úvazku stávající pozice za schválenou jednotkovou cenu. </a:t>
            </a:r>
            <a:endParaRPr b="0" lang="en-US" sz="1200" spc="-1" strike="noStrike">
              <a:solidFill>
                <a:srgbClr val="000000"/>
              </a:solidFill>
              <a:latin typeface="Calibri"/>
            </a:endParaRPr>
          </a:p>
          <a:p>
            <a:pPr>
              <a:lnSpc>
                <a:spcPct val="9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V případě slučování úvazku lze slučovat jen úvazky se stejnými schválenými jednotkovými cenami nebo sloučený úvazek musí respektovat nejnižší schválenou jednotkovou mzdu ze slučovaných úvazků</a:t>
            </a:r>
            <a:endParaRPr b="0" lang="en-US" sz="1200" spc="-1" strike="noStrike">
              <a:solidFill>
                <a:srgbClr val="000000"/>
              </a:solidFill>
              <a:latin typeface="Calibri"/>
            </a:endParaRPr>
          </a:p>
          <a:p>
            <a:pPr>
              <a:lnSpc>
                <a:spcPct val="9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Uhrazení příplatků za práci o sobotách a nedělíc a svátcích, které jsou uznatelné (opodstatněné) a jejich úhradou dojde k překročení rozpočtových výdajů položek této kapitoly</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 v rámci kap. Osobní náklady se nedají provádět nepodstatné změny, pokud je příjemce organizace s limity mzdové regulace. Všechny změny v této kapitole jsou u organizací se závaznými mzdovými limity považovány za </a:t>
            </a:r>
            <a:r>
              <a:rPr b="1" lang="cs-CZ" sz="1200" spc="-1" strike="noStrike">
                <a:solidFill>
                  <a:srgbClr val="000000"/>
                </a:solidFill>
                <a:latin typeface="Calibri"/>
              </a:rPr>
              <a:t>změny podstatné</a:t>
            </a:r>
            <a:r>
              <a:rPr b="0" lang="cs-CZ" sz="1200" spc="-1" strike="noStrike">
                <a:solidFill>
                  <a:srgbClr val="000000"/>
                </a:solidFill>
                <a:latin typeface="Calibri"/>
              </a:rPr>
              <a:t>.</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	</a:t>
            </a:r>
            <a:r>
              <a:rPr b="0" lang="cs-CZ" sz="1200" spc="-1" strike="noStrike">
                <a:solidFill>
                  <a:srgbClr val="000000"/>
                </a:solidFill>
                <a:latin typeface="Wingdings"/>
                <a:ea typeface="Wingdings"/>
              </a:rPr>
              <a:t></a:t>
            </a:r>
            <a:r>
              <a:rPr b="0" lang="cs-CZ" sz="1200" spc="-1" strike="noStrike">
                <a:solidFill>
                  <a:srgbClr val="000000"/>
                </a:solidFill>
                <a:latin typeface="Calibri"/>
              </a:rPr>
              <a:t> </a:t>
            </a:r>
            <a:r>
              <a:rPr b="0" lang="cs-CZ" sz="1200" spc="-1" strike="noStrike">
                <a:solidFill>
                  <a:srgbClr val="000000"/>
                </a:solidFill>
                <a:latin typeface="Calibri"/>
              </a:rPr>
              <a:t>v rámci nepodstatných změn není možné navyšovat finanční prostředky schválené v kapitole Křížové financování.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 Položky v rozpočtu, které spadají do této kapitoly nelze navyšovat v rámci provádění nepodstatných změn, pokud tato změna bude mít vliv na výši investičních a neinvestičních prostředků rozpočtu či bude znamenat celkové navýšení částky této kapitoly pro projekt</a:t>
            </a:r>
            <a:endParaRPr b="0" lang="en-US" sz="1200" spc="-1" strike="noStrike">
              <a:solidFill>
                <a:srgbClr val="000000"/>
              </a:solidFill>
              <a:latin typeface="Calibri"/>
            </a:endParaRPr>
          </a:p>
        </p:txBody>
      </p:sp>
      <p:sp>
        <p:nvSpPr>
          <p:cNvPr id="582"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02ABA8-8FF2-4CEF-9C40-E5F3602CC1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Žádost o podstatnou změnu </a:t>
            </a:r>
            <a:r>
              <a:rPr b="0" lang="cs-CZ" sz="1200" spc="-1" strike="noStrike">
                <a:solidFill>
                  <a:srgbClr val="000000"/>
                </a:solidFill>
                <a:latin typeface="Calibri"/>
              </a:rPr>
              <a:t>musíte podat, pokud předsouváte finanční prostředky mezi kapitolami v takové výši, která přesahuje 15 % celkového objemu způsobilých výdajů kapitoly, ze které prostředky přesouvát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Navýšení položek Křížového financování</a:t>
            </a:r>
            <a:r>
              <a:rPr b="0" lang="cs-CZ" sz="1200" spc="-1" strike="noStrike">
                <a:solidFill>
                  <a:srgbClr val="000000"/>
                </a:solidFill>
                <a:latin typeface="Calibri"/>
              </a:rPr>
              <a:t>, pokud tato změna bude mít vliv na výši investičních a neinvestičních prostředků rozpočtu či bude znamenat celkové navýšení částky křížového financování v rámci projektu</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85"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213200-E0E7-4C6D-8765-9160263BC8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Partnerství v rámci OP VK </a:t>
            </a:r>
            <a:r>
              <a:rPr b="0" lang="cs-CZ" sz="1200" spc="-1" strike="noStrike">
                <a:solidFill>
                  <a:srgbClr val="000000"/>
                </a:solidFill>
                <a:latin typeface="Calibri"/>
              </a:rPr>
              <a:t>je smluvní vztah mezi dvěma nebo více subjekty. Partneři se společně podílejí na přípravě a realizaci projektu ve fázi zpracování projektové žádosti, ve fázi jeho realizace i ve fázi ukončení projektu. Partneři se podílejí rovněž na zajištění udržitelnosti projektu, jsou-li k tomu zavázáni partnerskou smlouvou.</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Účast partnerů v projektu musí být opodstatněná a nezastupitelná. Jejich přínos pro realizaci projektu musí spočívat v zajištění aktivit, bez jejichž realizace by nebylo dosaženo cílů a monitorovacích indikátorů projektu a zároveň je příjemce nemůže zajistit sám vlastními zdroji a silami. Výběr projektů k realizaci je založen na posouzení projektu jako celku včetně opodstatněnosti partnera, tudíž veškeré změny týkající se odstoupení stávajícího nebo přistoupení nového partnera jsou změny podstatné.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Partnerství </a:t>
            </a:r>
            <a:r>
              <a:rPr b="1" lang="cs-CZ" sz="1200" spc="-1" strike="noStrike">
                <a:solidFill>
                  <a:srgbClr val="000000"/>
                </a:solidFill>
                <a:latin typeface="Calibri"/>
              </a:rPr>
              <a:t>nesmí</a:t>
            </a:r>
            <a:r>
              <a:rPr b="0" lang="cs-CZ" sz="1200" spc="-1" strike="noStrike">
                <a:solidFill>
                  <a:srgbClr val="000000"/>
                </a:solidFill>
                <a:latin typeface="Calibri"/>
              </a:rPr>
              <a:t> být založeno pouze na zabezpečení </a:t>
            </a:r>
            <a:r>
              <a:rPr b="1" lang="cs-CZ" sz="1200" spc="-1" strike="noStrike">
                <a:solidFill>
                  <a:srgbClr val="000000"/>
                </a:solidFill>
                <a:latin typeface="Calibri"/>
              </a:rPr>
              <a:t>běžné administrace projektu </a:t>
            </a:r>
            <a:r>
              <a:rPr b="0" lang="cs-CZ" sz="1200" spc="-1" strike="noStrike">
                <a:solidFill>
                  <a:srgbClr val="000000"/>
                </a:solidFill>
                <a:latin typeface="Calibri"/>
              </a:rPr>
              <a:t>(zejména zpracování monitorovacích zpráv, finanční řízení projektu, účetnictví, administrativní agenda apod.), dále nesmí být založeno na </a:t>
            </a:r>
            <a:r>
              <a:rPr b="1" lang="cs-CZ" sz="1200" spc="-1" strike="noStrike">
                <a:solidFill>
                  <a:srgbClr val="000000"/>
                </a:solidFill>
                <a:latin typeface="Calibri"/>
              </a:rPr>
              <a:t>poskytování běžných služeb </a:t>
            </a:r>
            <a:r>
              <a:rPr b="0" lang="cs-CZ" sz="1200" spc="-1" strike="noStrike">
                <a:solidFill>
                  <a:srgbClr val="000000"/>
                </a:solidFill>
                <a:latin typeface="Calibri"/>
              </a:rPr>
              <a:t>(publicita projektu, IT služby, účetní služby, audit apod.) nebo na </a:t>
            </a:r>
            <a:r>
              <a:rPr b="1" lang="cs-CZ" sz="1200" spc="-1" strike="noStrike">
                <a:solidFill>
                  <a:srgbClr val="000000"/>
                </a:solidFill>
                <a:latin typeface="Calibri"/>
              </a:rPr>
              <a:t>dodávkách služeb</a:t>
            </a:r>
            <a:r>
              <a:rPr b="0" lang="cs-CZ" sz="1200" spc="-1" strike="noStrike">
                <a:solidFill>
                  <a:srgbClr val="000000"/>
                </a:solidFill>
                <a:latin typeface="Calibri"/>
              </a:rPr>
              <a:t>.</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Partnerem není dodavatel, který je v rámci projektu poskytovatelem služeb či dodavatelem zařízení a vybavení na komerční bázi. Partner nesmí být dodavatelem běžně komerčně poskytovaných dodávek, služeb či stavebních prací (např. dodávka papíru, vytištění propagačních tiskovin, provedení stavebních úprav prostor potřebných pro realizaci projektu apod.)</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Projekty, které jsou v rámci partnerství realizovány musí mít neziskový charakter, čili příjemce ani partneři nemohou projekt realizovat za účelem dosažení zisku.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Se zaměstnancem partnera může příjemce uzavřít pracovně právní vztah</a:t>
            </a:r>
            <a:r>
              <a:rPr b="0" lang="cs-CZ" sz="1200" spc="-1" strike="noStrike">
                <a:solidFill>
                  <a:srgbClr val="000000"/>
                </a:solidFill>
                <a:latin typeface="Calibri"/>
              </a:rPr>
              <a:t>. Náplň činnosti tohoto pracovně právního vztahu však nesmí být shodná s činností partnera v projektu. V případě, že příjemce uzavře pracovně právní vztah se zaměstnancem partnera na totožnou činnost, jakou má partner v projektu, nemůže pak partner stejnou činnost vykazovat v rámci partnerství. Pokud by tato totožná činnost byla vykazována jak partnerem tak i další osobou, jednalo by se o porušení pravidel partnerství v OP VK a výdaje s tím spojené budou prohlášeny za nezpůsobilé!!!</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88"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0283CF-22DD-48C1-AE6E-C5D179AFD6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B2429C-8291-43CB-BD49-09256A97F7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9"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0"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B1A08B-3B00-43E8-B350-95D869DC67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56"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57"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121C9DD-331E-4BE1-8E8A-DF4F283BD54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11938F7-30BD-41A3-9AE9-8EC5531F98C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A56C246-2BEE-495D-971E-40CFD7A5C2A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61"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62"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63"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23AAFD-1508-47EF-86BA-0A14A9911A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65"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6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67"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722948-BC32-42E2-9D45-9D7415BDE0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69"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0"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1"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046A54-4179-4372-AFE0-F19603135D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73"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4"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FAFC4B7-2666-456A-AF3E-4B11AC3A268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76"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7"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8"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9"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5E27AA8-C7E8-46FB-AFCB-A83D75D5156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81"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2"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3"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4"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5"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6"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8FA43AA-1563-4BD9-8DFA-EC167621347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113FFFE-FD10-4799-BA16-4327DFB3FF5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2"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5"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E1885A-D6AD-49E5-998B-3A425E1684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95"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4B32A88-FA61-41C4-9A49-DD4A62F671C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97"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38B5B6E-2AEA-44BF-B601-51F113CC51D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99"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0"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29A2645-A7BB-49FD-A422-9E491B7582C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AFA8B48-71AA-4EBF-B0CA-07239A285C1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7FC64DC-9285-4C13-8044-95F41C1A062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04"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5"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6"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AF92CE3-EE3D-4634-B99F-61DD6EA2001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08"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9"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0"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040108D-BBA8-412B-9EEC-FA259B56E09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12"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3"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4"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BF80DE6-E5B1-4723-9907-45EF750B1B1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16"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7"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23BE6BC-DF76-494A-9D2F-86D52C28DD8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19"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0"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1"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2"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57ED74B-B13D-4A2E-8743-1E4222261ED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7"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9"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40D93C-A881-44E3-9918-DB7FE40B45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24"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5"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6"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7"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8"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9"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5E31ABA-B9DA-4344-8C67-068F12B8E04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B60BACF-E2F3-42C8-BBCA-9EC5BE99D91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38"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E020926-CFE4-4188-9AB9-5E1DD80848A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40"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BF17722-B456-4FE0-ACC8-B3822EB2A15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42"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43"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CD1A9B5-119B-4728-9E45-72369E13D36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3E31573-B37E-49F4-8B23-645D0B742CB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FC020D0-D85C-4697-9C0E-4D2F94BA509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47"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48"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49"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48CA127-4B6F-4042-8C27-32EFABA6C54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51"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52"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53"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71A0E4F-D620-447A-A5DD-0171C5BAC38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5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5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57"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B576147-710F-4C9B-BEF9-CBD3F31FA87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DA9291-648D-4E0A-8EBC-D89D510372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59"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0"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1DC50C8-AE13-4294-8032-2EFAE1E2ED0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62"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3"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4"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5"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186A962-79F3-4B69-8D1A-546FA893BE2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67"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8"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9"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70"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71"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72"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E267EB6-F3D1-49DF-B33A-2641A1D0898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133D9DD-C7E0-450C-9F48-D0B0FDEA6A5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81"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2BCA514-1E4B-4849-BA4A-ACEE2805654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83"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44B2398-F5C9-4E65-B0D5-7C2CDA6C81D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85"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86"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6548FAD-1671-4857-96BA-7C08C8A7593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2A6E414-5F57-4534-9218-95628189CC5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0C311D2-DE2E-47AC-90A4-182406B2610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90"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1"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2"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F5FDE55-4F6C-4C45-8583-812398658D1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1"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D940C0-9735-4EB1-8ACA-79915B0E2A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94"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5"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6"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9477D15-B365-4A23-9384-2EDB85A6A79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98"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9"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0"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3234FDB-2639-4A04-A481-E66FE4D6C99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02"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3"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063E968-DEB0-44FE-A7D8-3CF6B34046F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0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7"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8"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685D50B-757F-4E58-BEAD-1974E46172A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10"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1"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2"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3"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4"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5"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DB50CA1-82BE-48DF-BE9F-B8CA844F945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3"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E4DB54-290D-41D6-A9D1-02B966A35E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5"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6"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F83048-720D-4FDA-822E-AC45CCD5FD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949CFE-B462-45C3-B080-7DE7BB763D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1BE33A-53AA-4A57-AEED-1DD96CDEC4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60"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1"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2"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BCFDE8-6603-45DE-8993-5F5F514734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8"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4D4199-EB0C-4C1A-B11A-EFECB294F1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64"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5"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6"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6492D4-17C1-4032-AE5E-6921EE5AE7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68"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9"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0"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AFCEA4-054B-40CD-856D-2D597ED64D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72"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3"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CF6F83-4071-4E14-BE91-93058EE5EF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7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7"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8"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BB5117-116D-41B5-86D4-6BFB9B4135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80"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1"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2"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3"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4"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5"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337FE6-130E-4561-9DB7-1670FC6B60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5C9E51F-27C9-4C99-B57B-AF1FB0063C5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94"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E4E079-45D1-4F7F-BA92-DC17310858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96"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C98994-20F0-441C-9C7A-6D8C3F77AE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98"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9"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4F3A3A-291F-48CB-B9A2-26E5D9CCBC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17DF44-A798-4F6C-A8B1-1A35F67069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0"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4A3106-70F8-495E-B506-EA1BB13B27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CAE1E0-03CE-445F-AEE1-28F48534BD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03"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04"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05"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2ECC44-2069-401B-B04D-18CDA2F54F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07"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08"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09"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653411-A7B7-4F81-AD3D-53F4014E72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11"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12"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13"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695E03-4219-4B00-A76E-095CFE8AFF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15"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16"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B68BB7-93F8-4C55-A8F8-2341DDC4D1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18"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19"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0"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1"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1748713-6C43-40DD-B576-EC1BD997647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23"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4"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5"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6"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7"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8"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BD45F63-3082-47CD-84E6-9921736F4C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AE5751C-49AB-4B6B-8605-55480A05ACD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37"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29EB64-CD1C-4153-88F4-CEB11F6988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39"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B721EC-0E26-4611-A929-73933377FD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2"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3"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DE8309-E711-4931-B3C3-40FCC5E0CB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41"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42"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D0BA48-2FBC-455D-9563-B18E0612CD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CD182F-B23C-452D-9003-25E7B4147C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6ABB64-B78F-4EC3-AB5E-52F8135621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46"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47"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48"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9C884D-C426-4F0E-B290-0D1C7AF08C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50"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1"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2"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B03455-DD21-42EF-81D3-F843F98D44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54"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5"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6"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BF5677-6289-49A8-B5E8-0351F12169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58"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9"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8C8C3C-7A60-41B7-8D3C-EFBD1176DE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61"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2"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3"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4"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F0D948F-BF52-4C7E-84E4-77ECD890DFA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66"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7"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8"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9"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70"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71"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A5B9BF6-6739-4B7D-BE0F-567FF270B68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BCD2FC6-7B7A-4EF8-9434-4BC6799A666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A0D03A-E440-4568-96BE-1B46EE1B97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80"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A50CA0-D276-46FB-8899-3359A27AAB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82"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A134A9-88EB-4094-B536-916D5CB98D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84"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85"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7E2F9A-6282-4A3C-B40C-253B6CCC26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C9C144-031B-4364-A23B-B758347B3A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26C2AA-49CC-4334-B5E0-96BD269A9F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89"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0"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1"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0C3D92-625D-4C5D-8B1F-659C990366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93"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4"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5"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294C42-54BC-4E46-B1A0-7D0ECA76F7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97"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8"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9"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403468-F194-4F61-A4AD-69F71331DB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01"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02"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65C670-0E49-4827-A7F6-43652FA71C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04"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05"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06"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07"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A63B2F2-EB6C-4A6F-BF81-F59CD2A090A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1E001-4BEB-406A-AA95-594844B5AE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09"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0"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1"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2"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3"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4"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B3DF091-3A25-4A8E-847A-0630D6A56A3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098E0A4-E523-4070-83E9-B826B9756B2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23"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D08CBF-1A03-4B7D-B065-31D24FAF72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25"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624D88A-D718-4743-9157-4C4CE6258F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27"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28"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51473D-7E5B-4505-8295-609F87BABA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AEDC72-D6BC-4E7B-B7F9-340B183962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AD3598-BAA8-4B5B-BF2E-5DF785C544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32"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3"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4"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191C7A-74CC-4C3A-B172-076D33837A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36"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7"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8"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7E374C-05F2-4AEC-AA75-6E93A0DFCF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40"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1"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2"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650FD0-844D-4DD4-8D68-15ECC50411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7"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8"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025B5-6206-49CE-936B-2F062B137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44"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5"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901121-5257-408D-B3EC-2F98C4DEB0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47"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8"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9"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0"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CFB3B5F-066B-41B5-97C7-27858CD2B2D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52"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3"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4"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5"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6"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7"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51BBDA8-87F5-4C80-8435-7A1EDDA8657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03A607F-FC86-44FB-AD2A-B873F29AE1A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66"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5C8E899-47DA-4C9F-AE0E-B3448DA599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68"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08DD35-814B-4274-A971-B571F3A6E4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70"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71"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B5E0F2-B531-4F32-8D64-C47079FA5A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8DD685-D865-440E-A0E4-5FCEC0E44D3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302385-5876-4C11-A912-3702E32C5B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7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76"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77"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B504F3-BC03-4514-B4AB-4BFBCF7217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1"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2"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7DC16-E636-4428-9D23-2C6042400D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79"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0"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1"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BD617B-4AFD-4171-BB47-262EB6CFBC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83"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4"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5"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54A19A-65E3-4EE2-B82B-4D737EAC71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87"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8"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6E1099-0E94-4714-A100-97EB02C114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90"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1"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2"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3"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912016A-202B-4B6B-8B2B-748F935D361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95"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6"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7"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8"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9"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00"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9DA3995-731F-44C9-A8AF-E82BA4DF1D1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0A67D1D-0D54-4AD2-B443-8EFB1C31524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09"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A5D4C87-9DAC-4172-A672-41E924585FF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11"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699862-242F-4296-A504-E2EB6D0458B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13"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14"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8FBD0F1-05FA-413D-9850-4B11F75DDA9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1ABB2A2-0A83-4243-919B-AA38B4A5792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7"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9B461-C591-47F8-8D05-FDA4C9D5D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DBCFEB-182D-429F-946D-3BF0F3B926A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18"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19"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0"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EDA7FA-76FE-4FC1-8784-A91AAAA496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22"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3"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4"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15051C-062A-4061-8CE7-E09140D8C2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26"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7"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8"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E6AF4D-E4B0-4185-A555-D23637EE70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30"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1"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90ED8F9-1DE0-4046-98E6-A3285DF52E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33"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4"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5"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6"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3F02388-D563-4907-BA03-30AF8453131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38"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9"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0"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1"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2"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3"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54C965E-13FA-4C26-B74B-D2C702BEF11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6572E33-C441-49B0-8203-E10A53B9B21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52"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364EE9B-5358-4F13-8753-82BB19DB0CA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54"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8930597-E92A-4CCA-8B2A-C5104A6407C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1"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1E7DB5-65C3-4919-B273-70CB1B8B212D}" type="datetime">
              <a:rPr b="0" lang="cs-CZ" sz="1200" spc="-1" strike="noStrike">
                <a:solidFill>
                  <a:srgbClr val="898989"/>
                </a:solidFill>
                <a:latin typeface="Calibri"/>
              </a:rPr>
              <a:t>30.07.2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EF3E2D-5BDB-4C7A-B713-A45FC2A518DD}" type="slidenum">
              <a:rPr b="0" lang="en-US" sz="1200" spc="-1" strike="noStrike">
                <a:solidFill>
                  <a:srgbClr val="898989"/>
                </a:solidFill>
                <a:latin typeface="Calibri"/>
              </a:rPr>
              <a:t>&lt;number&gt;</a:t>
            </a:fld>
            <a:fld id="{BE96FB04-9FA3-4669-AC6E-D6C3309DA72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5" name="Picture 8" descr="MSMT_tecky_OK_RGB.ai"/>
          <p:cNvPicPr/>
          <p:nvPr/>
        </p:nvPicPr>
        <p:blipFill>
          <a:blip r:embed="rId2"/>
          <a:stretch/>
        </p:blipFill>
        <p:spPr>
          <a:xfrm>
            <a:off x="1314360" y="569880"/>
            <a:ext cx="6458040" cy="503280"/>
          </a:xfrm>
          <a:prstGeom prst="rect">
            <a:avLst/>
          </a:prstGeom>
          <a:ln w="0">
            <a:noFill/>
          </a:ln>
        </p:spPr>
      </p:pic>
      <p:pic>
        <p:nvPicPr>
          <p:cNvPr id="6" name="Picture 10" descr="MSMT_logolink_bezVlajky_RGB.ai"/>
          <p:cNvPicPr/>
          <p:nvPr/>
        </p:nvPicPr>
        <p:blipFill>
          <a:blip r:embed="rId3"/>
          <a:stretch/>
        </p:blipFill>
        <p:spPr>
          <a:xfrm>
            <a:off x="2438280" y="5935680"/>
            <a:ext cx="4267440" cy="841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7" name="Picture 8" descr="MSMT_tecky_OK_RGB.ai"/>
          <p:cNvPicPr/>
          <p:nvPr/>
        </p:nvPicPr>
        <p:blipFill>
          <a:blip r:embed="rId2"/>
          <a:stretch/>
        </p:blipFill>
        <p:spPr>
          <a:xfrm>
            <a:off x="1314360" y="569880"/>
            <a:ext cx="6458040" cy="503280"/>
          </a:xfrm>
          <a:prstGeom prst="rect">
            <a:avLst/>
          </a:prstGeom>
          <a:ln w="0">
            <a:noFill/>
          </a:ln>
        </p:spPr>
      </p:pic>
      <p:pic>
        <p:nvPicPr>
          <p:cNvPr id="388" name="Picture 10" descr="MSMT_logolink_bezVlajky_RGB.ai"/>
          <p:cNvPicPr/>
          <p:nvPr/>
        </p:nvPicPr>
        <p:blipFill>
          <a:blip r:embed="rId3"/>
          <a:stretch/>
        </p:blipFill>
        <p:spPr>
          <a:xfrm>
            <a:off x="2438280" y="5935680"/>
            <a:ext cx="4267440" cy="841320"/>
          </a:xfrm>
          <a:prstGeom prst="rect">
            <a:avLst/>
          </a:prstGeom>
          <a:ln w="0">
            <a:noFill/>
          </a:ln>
        </p:spPr>
      </p:pic>
      <p:sp>
        <p:nvSpPr>
          <p:cNvPr id="38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390"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39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CCB3EF-2ED3-4AE7-A792-4029EF1D4800}" type="datetime">
              <a:rPr b="0" lang="cs-CZ" sz="1200" spc="-1" strike="noStrike">
                <a:solidFill>
                  <a:srgbClr val="898989"/>
                </a:solidFill>
                <a:latin typeface="Calibri"/>
              </a:rPr>
              <a:t>30.07.2026</a:t>
            </a:fld>
            <a:endParaRPr b="0" lang="en-US" sz="1200" spc="-1" strike="noStrike">
              <a:solidFill>
                <a:srgbClr val="000000"/>
              </a:solidFill>
              <a:latin typeface="Times New Roman"/>
            </a:endParaRPr>
          </a:p>
        </p:txBody>
      </p:sp>
      <p:sp>
        <p:nvSpPr>
          <p:cNvPr id="39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A590D3-EC14-43FA-9E21-44D0297AC90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0" name="Picture 8" descr="MSMT_tecky_OK_RGB.ai"/>
          <p:cNvPicPr/>
          <p:nvPr/>
        </p:nvPicPr>
        <p:blipFill>
          <a:blip r:embed="rId2"/>
          <a:stretch/>
        </p:blipFill>
        <p:spPr>
          <a:xfrm>
            <a:off x="1314360" y="569880"/>
            <a:ext cx="6458040" cy="503280"/>
          </a:xfrm>
          <a:prstGeom prst="rect">
            <a:avLst/>
          </a:prstGeom>
          <a:ln w="0">
            <a:noFill/>
          </a:ln>
        </p:spPr>
      </p:pic>
      <p:pic>
        <p:nvPicPr>
          <p:cNvPr id="431" name="Picture 10" descr="MSMT_logolink_bezVlajky_RGB.ai"/>
          <p:cNvPicPr/>
          <p:nvPr/>
        </p:nvPicPr>
        <p:blipFill>
          <a:blip r:embed="rId3"/>
          <a:stretch/>
        </p:blipFill>
        <p:spPr>
          <a:xfrm>
            <a:off x="2438280" y="5935680"/>
            <a:ext cx="4267440" cy="841320"/>
          </a:xfrm>
          <a:prstGeom prst="rect">
            <a:avLst/>
          </a:prstGeom>
          <a:ln w="0">
            <a:noFill/>
          </a:ln>
        </p:spPr>
      </p:pic>
      <p:sp>
        <p:nvSpPr>
          <p:cNvPr id="43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433"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434"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35BC1E-C075-4566-A28D-E0F734C0ADCC}" type="datetime">
              <a:rPr b="0" lang="cs-CZ" sz="1200" spc="-1" strike="noStrike">
                <a:solidFill>
                  <a:srgbClr val="898989"/>
                </a:solidFill>
                <a:latin typeface="Calibri"/>
              </a:rPr>
              <a:t>30.07.2026</a:t>
            </a:fld>
            <a:endParaRPr b="0" lang="en-US" sz="1200" spc="-1" strike="noStrike">
              <a:solidFill>
                <a:srgbClr val="000000"/>
              </a:solidFill>
              <a:latin typeface="Times New Roman"/>
            </a:endParaRPr>
          </a:p>
        </p:txBody>
      </p:sp>
      <p:sp>
        <p:nvSpPr>
          <p:cNvPr id="435"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6"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14CFE5-113A-4255-9844-316FBCD6FFD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3" name="Picture 8" descr="MSMT_tecky_OK_RGB.ai"/>
          <p:cNvPicPr/>
          <p:nvPr/>
        </p:nvPicPr>
        <p:blipFill>
          <a:blip r:embed="rId2"/>
          <a:stretch/>
        </p:blipFill>
        <p:spPr>
          <a:xfrm>
            <a:off x="1314360" y="569880"/>
            <a:ext cx="6458040" cy="503280"/>
          </a:xfrm>
          <a:prstGeom prst="rect">
            <a:avLst/>
          </a:prstGeom>
          <a:ln w="0">
            <a:noFill/>
          </a:ln>
        </p:spPr>
      </p:pic>
      <p:pic>
        <p:nvPicPr>
          <p:cNvPr id="474" name="Picture 10" descr="MSMT_logolink_bezVlajky_RGB.ai"/>
          <p:cNvPicPr/>
          <p:nvPr/>
        </p:nvPicPr>
        <p:blipFill>
          <a:blip r:embed="rId3"/>
          <a:stretch/>
        </p:blipFill>
        <p:spPr>
          <a:xfrm>
            <a:off x="2438280" y="5935680"/>
            <a:ext cx="4267440" cy="841320"/>
          </a:xfrm>
          <a:prstGeom prst="rect">
            <a:avLst/>
          </a:prstGeom>
          <a:ln w="0">
            <a:noFill/>
          </a:ln>
        </p:spPr>
      </p:pic>
      <p:sp>
        <p:nvSpPr>
          <p:cNvPr id="47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476"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477"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5DC2C1-B200-42E7-9E21-233414596EC5}" type="datetime">
              <a:rPr b="0" lang="cs-CZ" sz="1200" spc="-1" strike="noStrike">
                <a:solidFill>
                  <a:srgbClr val="898989"/>
                </a:solidFill>
                <a:latin typeface="Calibri"/>
              </a:rPr>
              <a:t>30.07.2026</a:t>
            </a:fld>
            <a:endParaRPr b="0" lang="en-US" sz="1200" spc="-1" strike="noStrike">
              <a:solidFill>
                <a:srgbClr val="000000"/>
              </a:solidFill>
              <a:latin typeface="Times New Roman"/>
            </a:endParaRPr>
          </a:p>
        </p:txBody>
      </p:sp>
      <p:sp>
        <p:nvSpPr>
          <p:cNvPr id="478"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9"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0E0A8B-BE98-4ADA-AA68-655E8604631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8" descr="MSMT_tecky_OK_RGB.ai"/>
          <p:cNvPicPr/>
          <p:nvPr/>
        </p:nvPicPr>
        <p:blipFill>
          <a:blip r:embed="rId2"/>
          <a:stretch/>
        </p:blipFill>
        <p:spPr>
          <a:xfrm>
            <a:off x="1314360" y="569880"/>
            <a:ext cx="6458040" cy="503280"/>
          </a:xfrm>
          <a:prstGeom prst="rect">
            <a:avLst/>
          </a:prstGeom>
          <a:ln w="0">
            <a:noFill/>
          </a:ln>
        </p:spPr>
      </p:pic>
      <p:pic>
        <p:nvPicPr>
          <p:cNvPr id="44" name="Picture 10" descr="MSMT_logolink_bezVlajky_RGB.ai"/>
          <p:cNvPicPr/>
          <p:nvPr/>
        </p:nvPicPr>
        <p:blipFill>
          <a:blip r:embed="rId3"/>
          <a:stretch/>
        </p:blipFill>
        <p:spPr>
          <a:xfrm>
            <a:off x="2438280" y="5935680"/>
            <a:ext cx="4267440" cy="841320"/>
          </a:xfrm>
          <a:prstGeom prst="rect">
            <a:avLst/>
          </a:prstGeom>
          <a:ln w="0">
            <a:noFill/>
          </a:ln>
        </p:spPr>
      </p:pic>
      <p:sp>
        <p:nvSpPr>
          <p:cNvPr id="4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46"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9DC7DA-631E-455A-8D74-89F57CC3C571}" type="datetime">
              <a:rPr b="0" lang="cs-CZ" sz="1200" spc="-1" strike="noStrike">
                <a:solidFill>
                  <a:srgbClr val="898989"/>
                </a:solidFill>
                <a:latin typeface="Calibri"/>
              </a:rPr>
              <a:t>30.07.20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A80801-8553-4610-86EC-5C63CD978CC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8" descr="MSMT_tecky_OK_RGB.ai"/>
          <p:cNvPicPr/>
          <p:nvPr/>
        </p:nvPicPr>
        <p:blipFill>
          <a:blip r:embed="rId2"/>
          <a:stretch/>
        </p:blipFill>
        <p:spPr>
          <a:xfrm>
            <a:off x="1314360" y="569880"/>
            <a:ext cx="6458040" cy="503280"/>
          </a:xfrm>
          <a:prstGeom prst="rect">
            <a:avLst/>
          </a:prstGeom>
          <a:ln w="0">
            <a:noFill/>
          </a:ln>
        </p:spPr>
      </p:pic>
      <p:pic>
        <p:nvPicPr>
          <p:cNvPr id="87" name="Picture 10" descr="MSMT_logolink_bezVlajky_RGB.ai"/>
          <p:cNvPicPr/>
          <p:nvPr/>
        </p:nvPicPr>
        <p:blipFill>
          <a:blip r:embed="rId3"/>
          <a:stretch/>
        </p:blipFill>
        <p:spPr>
          <a:xfrm>
            <a:off x="2438280" y="5935680"/>
            <a:ext cx="4267440" cy="841320"/>
          </a:xfrm>
          <a:prstGeom prst="rect">
            <a:avLst/>
          </a:prstGeom>
          <a:ln w="0">
            <a:noFill/>
          </a:ln>
        </p:spPr>
      </p:pic>
      <p:sp>
        <p:nvSpPr>
          <p:cNvPr id="8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89"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37B338-7E7E-4C5B-97E2-8968A1F1F2CF}" type="datetime">
              <a:rPr b="0" lang="cs-CZ" sz="1200" spc="-1" strike="noStrike">
                <a:solidFill>
                  <a:srgbClr val="898989"/>
                </a:solidFill>
                <a:latin typeface="Calibri"/>
              </a:rPr>
              <a:t>30.07.2026</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006462-A23B-4FAF-9998-F90F0A090A0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8" descr="MSMT_tecky_OK_RGB.ai"/>
          <p:cNvPicPr/>
          <p:nvPr/>
        </p:nvPicPr>
        <p:blipFill>
          <a:blip r:embed="rId2"/>
          <a:stretch/>
        </p:blipFill>
        <p:spPr>
          <a:xfrm>
            <a:off x="1314360" y="569880"/>
            <a:ext cx="6458040" cy="503280"/>
          </a:xfrm>
          <a:prstGeom prst="rect">
            <a:avLst/>
          </a:prstGeom>
          <a:ln w="0">
            <a:noFill/>
          </a:ln>
        </p:spPr>
      </p:pic>
      <p:pic>
        <p:nvPicPr>
          <p:cNvPr id="130" name="Picture 10" descr="MSMT_logolink_bezVlajky_RGB.ai"/>
          <p:cNvPicPr/>
          <p:nvPr/>
        </p:nvPicPr>
        <p:blipFill>
          <a:blip r:embed="rId3"/>
          <a:stretch/>
        </p:blipFill>
        <p:spPr>
          <a:xfrm>
            <a:off x="2438280" y="5935680"/>
            <a:ext cx="4267440" cy="841320"/>
          </a:xfrm>
          <a:prstGeom prst="rect">
            <a:avLst/>
          </a:prstGeom>
          <a:ln w="0">
            <a:noFill/>
          </a:ln>
        </p:spPr>
      </p:pic>
      <p:sp>
        <p:nvSpPr>
          <p:cNvPr id="13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132"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13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CD3023-DA39-476B-BBA9-CFB7EAC72BB9}" type="datetime">
              <a:rPr b="0" lang="cs-CZ" sz="1200" spc="-1" strike="noStrike">
                <a:solidFill>
                  <a:srgbClr val="898989"/>
                </a:solidFill>
                <a:latin typeface="Calibri"/>
              </a:rPr>
              <a:t>30.07.2026</a:t>
            </a:fld>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022A9F-DDD2-447B-BE70-EEC6C98AA9C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8" descr="MSMT_tecky_OK_RGB.ai"/>
          <p:cNvPicPr/>
          <p:nvPr/>
        </p:nvPicPr>
        <p:blipFill>
          <a:blip r:embed="rId2"/>
          <a:stretch/>
        </p:blipFill>
        <p:spPr>
          <a:xfrm>
            <a:off x="1314360" y="569880"/>
            <a:ext cx="6458040" cy="503280"/>
          </a:xfrm>
          <a:prstGeom prst="rect">
            <a:avLst/>
          </a:prstGeom>
          <a:ln w="0">
            <a:noFill/>
          </a:ln>
        </p:spPr>
      </p:pic>
      <p:pic>
        <p:nvPicPr>
          <p:cNvPr id="173" name="Picture 10" descr="MSMT_logolink_bezVlajky_RGB.ai"/>
          <p:cNvPicPr/>
          <p:nvPr/>
        </p:nvPicPr>
        <p:blipFill>
          <a:blip r:embed="rId3"/>
          <a:stretch/>
        </p:blipFill>
        <p:spPr>
          <a:xfrm>
            <a:off x="2438280" y="5935680"/>
            <a:ext cx="4267440" cy="841320"/>
          </a:xfrm>
          <a:prstGeom prst="rect">
            <a:avLst/>
          </a:prstGeom>
          <a:ln w="0">
            <a:noFill/>
          </a:ln>
        </p:spPr>
      </p:pic>
      <p:sp>
        <p:nvSpPr>
          <p:cNvPr id="17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175"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17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81E6DF-743F-43E0-9E9A-B334A3315ECC}" type="datetime">
              <a:rPr b="0" lang="cs-CZ" sz="1200" spc="-1" strike="noStrike">
                <a:solidFill>
                  <a:srgbClr val="898989"/>
                </a:solidFill>
                <a:latin typeface="Calibri"/>
              </a:rPr>
              <a:t>30.07.2026</a:t>
            </a:fld>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808FC2-1592-4C8C-BCF2-537BBCE5E27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8" descr="MSMT_tecky_OK_RGB.ai"/>
          <p:cNvPicPr/>
          <p:nvPr/>
        </p:nvPicPr>
        <p:blipFill>
          <a:blip r:embed="rId2"/>
          <a:stretch/>
        </p:blipFill>
        <p:spPr>
          <a:xfrm>
            <a:off x="1314360" y="569880"/>
            <a:ext cx="6458040" cy="503280"/>
          </a:xfrm>
          <a:prstGeom prst="rect">
            <a:avLst/>
          </a:prstGeom>
          <a:ln w="0">
            <a:noFill/>
          </a:ln>
        </p:spPr>
      </p:pic>
      <p:pic>
        <p:nvPicPr>
          <p:cNvPr id="216" name="Picture 10" descr="MSMT_logolink_bezVlajky_RGB.ai"/>
          <p:cNvPicPr/>
          <p:nvPr/>
        </p:nvPicPr>
        <p:blipFill>
          <a:blip r:embed="rId3"/>
          <a:stretch/>
        </p:blipFill>
        <p:spPr>
          <a:xfrm>
            <a:off x="2438280" y="5935680"/>
            <a:ext cx="4267440" cy="841320"/>
          </a:xfrm>
          <a:prstGeom prst="rect">
            <a:avLst/>
          </a:prstGeom>
          <a:ln w="0">
            <a:noFill/>
          </a:ln>
        </p:spPr>
      </p:pic>
      <p:sp>
        <p:nvSpPr>
          <p:cNvPr id="21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218"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21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61E83C-AC02-452C-927B-7616DF079BE0}" type="datetime">
              <a:rPr b="0" lang="cs-CZ" sz="1200" spc="-1" strike="noStrike">
                <a:solidFill>
                  <a:srgbClr val="898989"/>
                </a:solidFill>
                <a:latin typeface="Calibri"/>
              </a:rPr>
              <a:t>30.07.2026</a:t>
            </a:fld>
            <a:endParaRPr b="0" lang="en-US" sz="1200" spc="-1" strike="noStrike">
              <a:solidFill>
                <a:srgbClr val="000000"/>
              </a:solidFill>
              <a:latin typeface="Times New Roman"/>
            </a:endParaRPr>
          </a:p>
        </p:txBody>
      </p:sp>
      <p:sp>
        <p:nvSpPr>
          <p:cNvPr id="220"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1"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0E6E63-331F-4FF8-9831-ECFE336D171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8" descr="MSMT_tecky_OK_RGB.ai"/>
          <p:cNvPicPr/>
          <p:nvPr/>
        </p:nvPicPr>
        <p:blipFill>
          <a:blip r:embed="rId2"/>
          <a:stretch/>
        </p:blipFill>
        <p:spPr>
          <a:xfrm>
            <a:off x="1314360" y="569880"/>
            <a:ext cx="6458040" cy="503280"/>
          </a:xfrm>
          <a:prstGeom prst="rect">
            <a:avLst/>
          </a:prstGeom>
          <a:ln w="0">
            <a:noFill/>
          </a:ln>
        </p:spPr>
      </p:pic>
      <p:pic>
        <p:nvPicPr>
          <p:cNvPr id="259" name="Picture 10" descr="MSMT_logolink_bezVlajky_RGB.ai"/>
          <p:cNvPicPr/>
          <p:nvPr/>
        </p:nvPicPr>
        <p:blipFill>
          <a:blip r:embed="rId3"/>
          <a:stretch/>
        </p:blipFill>
        <p:spPr>
          <a:xfrm>
            <a:off x="2438280" y="5935680"/>
            <a:ext cx="4267440" cy="841320"/>
          </a:xfrm>
          <a:prstGeom prst="rect">
            <a:avLst/>
          </a:prstGeom>
          <a:ln w="0">
            <a:noFill/>
          </a:ln>
        </p:spPr>
      </p:pic>
      <p:sp>
        <p:nvSpPr>
          <p:cNvPr id="26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261"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262"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FD5876-0CFE-456E-A0EA-42D8F1192128}" type="datetime">
              <a:rPr b="0" lang="cs-CZ" sz="1200" spc="-1" strike="noStrike">
                <a:solidFill>
                  <a:srgbClr val="898989"/>
                </a:solidFill>
                <a:latin typeface="Calibri"/>
              </a:rPr>
              <a:t>30.07.2026</a:t>
            </a:fld>
            <a:endParaRPr b="0" lang="en-US" sz="1200" spc="-1" strike="noStrike">
              <a:solidFill>
                <a:srgbClr val="000000"/>
              </a:solidFill>
              <a:latin typeface="Times New Roman"/>
            </a:endParaRPr>
          </a:p>
        </p:txBody>
      </p:sp>
      <p:sp>
        <p:nvSpPr>
          <p:cNvPr id="263"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4"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EC2C22-FF85-49CA-8896-B444036776C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Picture 8" descr="MSMT_tecky_OK_RGB.ai"/>
          <p:cNvPicPr/>
          <p:nvPr/>
        </p:nvPicPr>
        <p:blipFill>
          <a:blip r:embed="rId2"/>
          <a:stretch/>
        </p:blipFill>
        <p:spPr>
          <a:xfrm>
            <a:off x="1314360" y="569880"/>
            <a:ext cx="6458040" cy="503280"/>
          </a:xfrm>
          <a:prstGeom prst="rect">
            <a:avLst/>
          </a:prstGeom>
          <a:ln w="0">
            <a:noFill/>
          </a:ln>
        </p:spPr>
      </p:pic>
      <p:pic>
        <p:nvPicPr>
          <p:cNvPr id="302" name="Picture 10" descr="MSMT_logolink_bezVlajky_RGB.ai"/>
          <p:cNvPicPr/>
          <p:nvPr/>
        </p:nvPicPr>
        <p:blipFill>
          <a:blip r:embed="rId3"/>
          <a:stretch/>
        </p:blipFill>
        <p:spPr>
          <a:xfrm>
            <a:off x="2438280" y="5935680"/>
            <a:ext cx="4267440" cy="841320"/>
          </a:xfrm>
          <a:prstGeom prst="rect">
            <a:avLst/>
          </a:prstGeom>
          <a:ln w="0">
            <a:noFill/>
          </a:ln>
        </p:spPr>
      </p:pic>
      <p:sp>
        <p:nvSpPr>
          <p:cNvPr id="30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304"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305"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995176-DAF0-4A3B-ABF5-A5F838803372}" type="datetime">
              <a:rPr b="0" lang="cs-CZ" sz="1200" spc="-1" strike="noStrike">
                <a:solidFill>
                  <a:srgbClr val="898989"/>
                </a:solidFill>
                <a:latin typeface="Calibri"/>
              </a:rPr>
              <a:t>30.07.2026</a:t>
            </a:fld>
            <a:endParaRPr b="0" lang="en-US" sz="1200" spc="-1" strike="noStrike">
              <a:solidFill>
                <a:srgbClr val="000000"/>
              </a:solidFill>
              <a:latin typeface="Times New Roman"/>
            </a:endParaRPr>
          </a:p>
        </p:txBody>
      </p:sp>
      <p:sp>
        <p:nvSpPr>
          <p:cNvPr id="306"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7"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A50585-62ED-43B1-9230-174847472FD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Picture 8" descr="MSMT_tecky_OK_RGB.ai"/>
          <p:cNvPicPr/>
          <p:nvPr/>
        </p:nvPicPr>
        <p:blipFill>
          <a:blip r:embed="rId2"/>
          <a:stretch/>
        </p:blipFill>
        <p:spPr>
          <a:xfrm>
            <a:off x="1314360" y="569880"/>
            <a:ext cx="6458040" cy="503280"/>
          </a:xfrm>
          <a:prstGeom prst="rect">
            <a:avLst/>
          </a:prstGeom>
          <a:ln w="0">
            <a:noFill/>
          </a:ln>
        </p:spPr>
      </p:pic>
      <p:pic>
        <p:nvPicPr>
          <p:cNvPr id="345" name="Picture 10" descr="MSMT_logolink_bezVlajky_RGB.ai"/>
          <p:cNvPicPr/>
          <p:nvPr/>
        </p:nvPicPr>
        <p:blipFill>
          <a:blip r:embed="rId3"/>
          <a:stretch/>
        </p:blipFill>
        <p:spPr>
          <a:xfrm>
            <a:off x="2438280" y="5935680"/>
            <a:ext cx="4267440" cy="841320"/>
          </a:xfrm>
          <a:prstGeom prst="rect">
            <a:avLst/>
          </a:prstGeom>
          <a:ln w="0">
            <a:noFill/>
          </a:ln>
        </p:spPr>
      </p:pic>
      <p:sp>
        <p:nvSpPr>
          <p:cNvPr id="34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347"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34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4CF425-8DAE-4F8A-864A-0229F74A5B77}" type="datetime">
              <a:rPr b="0" lang="cs-CZ" sz="1200" spc="-1" strike="noStrike">
                <a:solidFill>
                  <a:srgbClr val="898989"/>
                </a:solidFill>
                <a:latin typeface="Calibri"/>
              </a:rPr>
              <a:t>30.07.2026</a:t>
            </a:fld>
            <a:endParaRPr b="0" lang="en-US" sz="1200" spc="-1" strike="noStrike">
              <a:solidFill>
                <a:srgbClr val="000000"/>
              </a:solidFill>
              <a:latin typeface="Times New Roman"/>
            </a:endParaRPr>
          </a:p>
        </p:txBody>
      </p:sp>
      <p:sp>
        <p:nvSpPr>
          <p:cNvPr id="349"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0"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3A166A-9384-4200-B6A9-69EC343876D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2844360"/>
            <a:ext cx="7772400" cy="1025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f39800"/>
                </a:solidFill>
                <a:latin typeface="Helvetica CE"/>
              </a:rPr>
              <a:t>Pravidla projektového řízení</a:t>
            </a:r>
            <a:endParaRPr b="1" lang="en-US" sz="3200" spc="-1" strike="noStrike">
              <a:solidFill>
                <a:srgbClr val="000000"/>
              </a:solidFill>
              <a:latin typeface="Helvetica C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1329840" y="1260360"/>
            <a:ext cx="6458040" cy="911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f39800"/>
                </a:solidFill>
                <a:latin typeface="Helvetica CE"/>
              </a:rPr>
              <a:t>Povinnosti příjemce při partnerství</a:t>
            </a:r>
            <a:endParaRPr b="1" lang="en-US" sz="3200" spc="-1" strike="noStrike">
              <a:solidFill>
                <a:srgbClr val="000000"/>
              </a:solidFill>
              <a:latin typeface="Helvetica CE"/>
            </a:endParaRPr>
          </a:p>
        </p:txBody>
      </p:sp>
      <p:sp>
        <p:nvSpPr>
          <p:cNvPr id="549" name=""/>
          <p:cNvSpPr txBox="1"/>
          <p:nvPr/>
        </p:nvSpPr>
        <p:spPr>
          <a:xfrm>
            <a:off x="1329840" y="2342880"/>
            <a:ext cx="6458040" cy="300204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říjemce uvádí své partnery již v žádosti o finanční podporu včetně rolí, podílů na aktivitách projektu a v případě finančního partnerství také podílu na prostředcích z obdržené podpory</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říjemce je povinen za každého partnera předložit Prohlášení o partnerství</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Veškeré smluvní vztahy mezi příjemcem a partnerem jsou vymezeny ve Smlouvě o partnerství</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oskytovatel nenese odpovědnost za obsah této smlouvy</a:t>
            </a:r>
            <a:endParaRPr b="0" lang="en-US" sz="1800" spc="-1" strike="noStrike">
              <a:solidFill>
                <a:srgbClr val="000000"/>
              </a:solidFill>
              <a:latin typeface="Helvetica CE"/>
            </a:endParaRPr>
          </a:p>
        </p:txBody>
      </p:sp>
      <p:sp>
        <p:nvSpPr>
          <p:cNvPr id="550"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0FB826-2DD2-4D15-BE3D-961865233B6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f39800"/>
                </a:solidFill>
                <a:latin typeface="Helvetica CE"/>
              </a:rPr>
              <a:t>Typy partnerství</a:t>
            </a:r>
            <a:endParaRPr b="1" lang="en-US" sz="3200" spc="-1" strike="noStrike">
              <a:solidFill>
                <a:srgbClr val="000000"/>
              </a:solidFill>
              <a:latin typeface="Helvetica CE"/>
            </a:endParaRPr>
          </a:p>
        </p:txBody>
      </p:sp>
      <p:sp>
        <p:nvSpPr>
          <p:cNvPr id="552" name=""/>
          <p:cNvSpPr txBox="1"/>
          <p:nvPr/>
        </p:nvSpPr>
        <p:spPr>
          <a:xfrm>
            <a:off x="1329840" y="2157120"/>
            <a:ext cx="6458040" cy="3414600"/>
          </a:xfrm>
          <a:prstGeom prst="rect">
            <a:avLst/>
          </a:prstGeom>
          <a:noFill/>
          <a:ln w="0">
            <a:noFill/>
          </a:ln>
        </p:spPr>
        <p:txBody>
          <a:bodyPr anchor="t">
            <a:normAutofit/>
          </a:bodyPr>
          <a:p>
            <a:pPr marL="343080" indent="-343080" algn="just">
              <a:spcBef>
                <a:spcPts val="499"/>
              </a:spcBef>
              <a:buClr>
                <a:srgbClr val="f398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f39800"/>
                </a:solidFill>
                <a:latin typeface="Helvetica CE"/>
              </a:rPr>
              <a:t>a) Partner s finančním příspěvkem</a:t>
            </a:r>
            <a:endParaRPr b="0" lang="en-US" sz="20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Helvetica CE"/>
              </a:rPr>
              <a:t>     </a:t>
            </a:r>
            <a:r>
              <a:rPr b="0" lang="cs-CZ" sz="1800" spc="-1" strike="noStrike">
                <a:solidFill>
                  <a:srgbClr val="000000"/>
                </a:solidFill>
                <a:latin typeface="Helvetica CE"/>
              </a:rPr>
              <a:t> </a:t>
            </a:r>
            <a:r>
              <a:rPr b="0" lang="cs-CZ" sz="1800" spc="-1" strike="noStrike">
                <a:solidFill>
                  <a:srgbClr val="000000"/>
                </a:solidFill>
                <a:latin typeface="Helvetica CE"/>
              </a:rPr>
              <a:t>- Tento typ partnera přijímá prostřednictvím příjemce část finanční podpory na realizaci věcných projektových aktivit</a:t>
            </a:r>
            <a:endParaRPr b="0" lang="en-US" sz="1800" spc="-1" strike="noStrike">
              <a:solidFill>
                <a:srgbClr val="000000"/>
              </a:solidFill>
              <a:latin typeface="Helvetica CE"/>
            </a:endParaRPr>
          </a:p>
          <a:p>
            <a:pPr marL="343080" indent="-343080"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a:p>
            <a:pPr marL="343080" indent="-343080" algn="just">
              <a:spcBef>
                <a:spcPts val="499"/>
              </a:spcBef>
              <a:buClr>
                <a:srgbClr val="f398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f39800"/>
                </a:solidFill>
                <a:latin typeface="Helvetica CE"/>
              </a:rPr>
              <a:t>b) Partner bez finančního příspěvku</a:t>
            </a:r>
            <a:endParaRPr b="0" lang="en-US" sz="20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ffc000"/>
                </a:solidFill>
                <a:latin typeface="Helvetica CE"/>
              </a:rPr>
              <a:t>     </a:t>
            </a:r>
            <a:r>
              <a:rPr b="0" lang="cs-CZ" sz="1800" spc="-1" strike="noStrike">
                <a:solidFill>
                  <a:srgbClr val="000000"/>
                </a:solidFill>
                <a:latin typeface="Helvetica CE"/>
              </a:rPr>
              <a:t>- Tento typ partnera se podílí na realizaci věcných aktivit projektu (konzultace, odborná garance), ale není mu poskytován žádný finanční příspěvek za účast na realizaci projektu</a:t>
            </a:r>
            <a:endParaRPr b="0" lang="en-US" sz="1800" spc="-1" strike="noStrike">
              <a:solidFill>
                <a:srgbClr val="000000"/>
              </a:solidFill>
              <a:latin typeface="Helvetica CE"/>
            </a:endParaRPr>
          </a:p>
        </p:txBody>
      </p:sp>
      <p:sp>
        <p:nvSpPr>
          <p:cNvPr id="553"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3202A8-E586-475F-983B-7987EA875B6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f39800"/>
                </a:solidFill>
                <a:latin typeface="Helvetica CE"/>
              </a:rPr>
              <a:t>Partner s finančním příspěvkem </a:t>
            </a:r>
            <a:endParaRPr b="1" lang="en-US" sz="3200" spc="-1" strike="noStrike">
              <a:solidFill>
                <a:srgbClr val="000000"/>
              </a:solidFill>
              <a:latin typeface="Helvetica CE"/>
            </a:endParaRPr>
          </a:p>
        </p:txBody>
      </p:sp>
      <p:sp>
        <p:nvSpPr>
          <p:cNvPr id="555" name=""/>
          <p:cNvSpPr txBox="1"/>
          <p:nvPr/>
        </p:nvSpPr>
        <p:spPr>
          <a:xfrm>
            <a:off x="1329840" y="2171880"/>
            <a:ext cx="6458040" cy="3186000"/>
          </a:xfrm>
          <a:prstGeom prst="rect">
            <a:avLst/>
          </a:prstGeom>
          <a:noFill/>
          <a:ln w="0">
            <a:noFill/>
          </a:ln>
        </p:spPr>
        <p:txBody>
          <a:bodyPr anchor="t">
            <a:normAutofit/>
          </a:bodyPr>
          <a:p>
            <a:pPr marL="343080" indent="-343080" algn="just">
              <a:lnSpc>
                <a:spcPct val="93000"/>
              </a:lnSpc>
              <a:spcAft>
                <a:spcPts val="12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Samostatný projektový bankovní účet/podúčet - podmínka u ex-ante</a:t>
            </a:r>
            <a:endParaRPr b="0" lang="en-US" sz="1800" spc="-1" strike="noStrike">
              <a:solidFill>
                <a:srgbClr val="000000"/>
              </a:solidFill>
              <a:latin typeface="Helvetica CE"/>
            </a:endParaRPr>
          </a:p>
          <a:p>
            <a:pPr marL="343080" indent="-343080" algn="just">
              <a:lnSpc>
                <a:spcPct val="93000"/>
              </a:lnSpc>
              <a:spcAft>
                <a:spcPts val="12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Výjimka při proplácení výdajů partnerovi ex-post</a:t>
            </a:r>
            <a:endParaRPr b="0" lang="en-US" sz="1800" spc="-1" strike="noStrike">
              <a:solidFill>
                <a:srgbClr val="000000"/>
              </a:solidFill>
              <a:latin typeface="Helvetica CE"/>
            </a:endParaRPr>
          </a:p>
          <a:p>
            <a:pPr marL="343080" indent="-343080" algn="just">
              <a:lnSpc>
                <a:spcPct val="93000"/>
              </a:lnSpc>
              <a:spcAft>
                <a:spcPts val="12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říjemce podpory = žadatel předkládá výdaje za sebe i všechny partnery s finančním příspěvkem</a:t>
            </a:r>
            <a:endParaRPr b="0" lang="en-US" sz="1800" spc="-1" strike="noStrike">
              <a:solidFill>
                <a:srgbClr val="000000"/>
              </a:solidFill>
              <a:latin typeface="Helvetica CE"/>
            </a:endParaRPr>
          </a:p>
          <a:p>
            <a:pPr marL="343080" indent="-343080" algn="just">
              <a:lnSpc>
                <a:spcPct val="93000"/>
              </a:lnSpc>
              <a:spcAft>
                <a:spcPts val="12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Žádost o proplacení výdajů předkládá partner příjemci</a:t>
            </a:r>
            <a:endParaRPr b="0" lang="en-US" sz="1800" spc="-1" strike="noStrike">
              <a:solidFill>
                <a:srgbClr val="000000"/>
              </a:solidFill>
              <a:latin typeface="Helvetica CE"/>
            </a:endParaRPr>
          </a:p>
          <a:p>
            <a:pPr marL="343080" indent="-343080" algn="just">
              <a:lnSpc>
                <a:spcPct val="93000"/>
              </a:lnSpc>
              <a:spcAft>
                <a:spcPts val="12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artner má při dokladování a vyúčtování vůči poskytovateli podpory stejné povinnosti jako příjemce</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56"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E838E8-4C79-429A-9E4F-FE6B5A79BE8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1329840" y="1042560"/>
            <a:ext cx="6458040" cy="909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r>
              <a:rPr b="1" lang="cs-CZ" sz="3200" spc="-1" strike="noStrike">
                <a:solidFill>
                  <a:srgbClr val="f39800"/>
                </a:solidFill>
                <a:latin typeface="Helvetica CE"/>
              </a:rPr>
              <a:t>Úhrada mezi partnerem a příjemcem</a:t>
            </a:r>
            <a:endParaRPr b="1" lang="en-US" sz="3200" spc="-1" strike="noStrike">
              <a:solidFill>
                <a:srgbClr val="000000"/>
              </a:solidFill>
              <a:latin typeface="Helvetica CE"/>
            </a:endParaRPr>
          </a:p>
        </p:txBody>
      </p:sp>
      <p:sp>
        <p:nvSpPr>
          <p:cNvPr id="558" name=""/>
          <p:cNvSpPr txBox="1"/>
          <p:nvPr/>
        </p:nvSpPr>
        <p:spPr>
          <a:xfrm>
            <a:off x="1329840" y="2599920"/>
            <a:ext cx="6458040" cy="2745000"/>
          </a:xfrm>
          <a:prstGeom prst="rect">
            <a:avLst/>
          </a:prstGeom>
          <a:noFill/>
          <a:ln w="0">
            <a:noFill/>
          </a:ln>
        </p:spPr>
        <p:txBody>
          <a:bodyPr anchor="t">
            <a:normAutofit fontScale="99000"/>
          </a:bodyPr>
          <a:p>
            <a:pPr marL="339480" indent="-339480" algn="just">
              <a:spcAft>
                <a:spcPts val="12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říjemce poskytne partnerovi část zálohové platby dle smlouvy</a:t>
            </a:r>
            <a:endParaRPr b="0" lang="en-US" sz="1800" spc="-1" strike="noStrike">
              <a:solidFill>
                <a:srgbClr val="000000"/>
              </a:solidFill>
              <a:latin typeface="Helvetica CE"/>
            </a:endParaRPr>
          </a:p>
          <a:p>
            <a:pPr marL="339480" indent="-339480" algn="just">
              <a:spcAft>
                <a:spcPts val="12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artner vyúčtovává způsobilé výdaje za dané MO, příjemce zahrnuje do MZ</a:t>
            </a:r>
            <a:endParaRPr b="0" lang="en-US" sz="1800" spc="-1" strike="noStrike">
              <a:solidFill>
                <a:srgbClr val="000000"/>
              </a:solidFill>
              <a:latin typeface="Helvetica CE"/>
            </a:endParaRPr>
          </a:p>
          <a:p>
            <a:pPr marL="339480" indent="-339480" algn="just">
              <a:spcAft>
                <a:spcPts val="12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okud partner</a:t>
            </a:r>
            <a:r>
              <a:rPr b="1" lang="cs-CZ" sz="1800" spc="-1" strike="noStrike">
                <a:solidFill>
                  <a:srgbClr val="000000"/>
                </a:solidFill>
                <a:latin typeface="Helvetica CE"/>
              </a:rPr>
              <a:t> </a:t>
            </a:r>
            <a:r>
              <a:rPr b="0" lang="cs-CZ" sz="1800" spc="-1" strike="noStrike">
                <a:solidFill>
                  <a:srgbClr val="000000"/>
                </a:solidFill>
                <a:latin typeface="Helvetica CE"/>
              </a:rPr>
              <a:t>vyúčtovává způsobilé výdaje nad částku poskytnuté zálohové platby, doporučuje se j provést jejich proplacení až po schválení poskytovatelem podpory</a:t>
            </a:r>
            <a:endParaRPr b="0" lang="en-US" sz="1800" spc="-1" strike="noStrike">
              <a:solidFill>
                <a:srgbClr val="000000"/>
              </a:solidFill>
              <a:latin typeface="Helvetica CE"/>
            </a:endParaRPr>
          </a:p>
          <a:p>
            <a:pPr marL="339480" indent="-339480" algn="just">
              <a:spcAft>
                <a:spcPts val="12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ovinnost partnera vrátit nedočerpané finanční prostředky</a:t>
            </a:r>
            <a:endParaRPr b="0" lang="en-US" sz="1800" spc="-1" strike="noStrike">
              <a:solidFill>
                <a:srgbClr val="000000"/>
              </a:solidFill>
              <a:latin typeface="Helvetica CE"/>
            </a:endParaRPr>
          </a:p>
          <a:p>
            <a:pPr marL="339480" indent="-3394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59"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BA35F7-E924-469F-9786-C159E1A1FEB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1329840" y="1260360"/>
            <a:ext cx="6458040" cy="91152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f3912c"/>
                </a:solidFill>
                <a:latin typeface="Helvetica CE"/>
              </a:rPr>
              <a:t>Vypořádání</a:t>
            </a:r>
            <a:r>
              <a:rPr b="1" lang="cs-CZ" sz="2900" spc="-1" strike="noStrike">
                <a:solidFill>
                  <a:srgbClr val="f3912c"/>
                </a:solidFill>
                <a:latin typeface="Helvetica CE"/>
              </a:rPr>
              <a:t> po skončení projektu</a:t>
            </a:r>
            <a:endParaRPr b="1" lang="en-US" sz="2900" spc="-1" strike="noStrike">
              <a:solidFill>
                <a:srgbClr val="000000"/>
              </a:solidFill>
              <a:latin typeface="Helvetica CE"/>
            </a:endParaRPr>
          </a:p>
        </p:txBody>
      </p:sp>
      <p:sp>
        <p:nvSpPr>
          <p:cNvPr id="561" name=""/>
          <p:cNvSpPr txBox="1"/>
          <p:nvPr/>
        </p:nvSpPr>
        <p:spPr>
          <a:xfrm>
            <a:off x="1329840" y="2171520"/>
            <a:ext cx="6458040" cy="3300120"/>
          </a:xfrm>
          <a:prstGeom prst="rect">
            <a:avLst/>
          </a:prstGeom>
          <a:noFill/>
          <a:ln w="0">
            <a:noFill/>
          </a:ln>
        </p:spPr>
        <p:txBody>
          <a:bodyPr anchor="ctr">
            <a:normAutofit/>
          </a:bodyPr>
          <a:p>
            <a:pPr lvl="1" marL="828720" indent="-414360" algn="just">
              <a:spcBef>
                <a:spcPts val="499"/>
              </a:spcBef>
              <a:buClr>
                <a:srgbClr val="ffc000"/>
              </a:buClr>
              <a:buFont typeface="Helvetica CE"/>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cs-CZ" sz="2000" spc="-1" strike="noStrike">
                <a:solidFill>
                  <a:srgbClr val="ffc000"/>
                </a:solidFill>
                <a:latin typeface="Helvetica CE"/>
              </a:rPr>
              <a:t>Partner bez finančního příspěvku</a:t>
            </a:r>
            <a:endParaRPr b="0" lang="en-US" sz="2000" spc="-1" strike="noStrike">
              <a:solidFill>
                <a:srgbClr val="000000"/>
              </a:solidFill>
              <a:latin typeface="Helvetica CE"/>
            </a:endParaRPr>
          </a:p>
          <a:p>
            <a:pPr lvl="1" marL="828720" indent="-414360" algn="just">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Rozdělení zařízení a spotřebního materiálu</a:t>
            </a:r>
            <a:endParaRPr b="0" lang="en-US" sz="1800" spc="-1" strike="noStrike">
              <a:solidFill>
                <a:srgbClr val="000000"/>
              </a:solidFill>
              <a:latin typeface="Helvetica CE"/>
            </a:endParaRPr>
          </a:p>
          <a:p>
            <a:pPr lvl="1" marL="828720" indent="-414360" algn="just">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Toto zařízení a spotřební materiál nelze převádět partnerům mimo cílový region, pokud se nejedná o podporu cílové skupiny</a:t>
            </a:r>
            <a:endParaRPr b="0" lang="en-US" sz="1800" spc="-1" strike="noStrike">
              <a:solidFill>
                <a:srgbClr val="000000"/>
              </a:solidFill>
              <a:latin typeface="Helvetica CE"/>
            </a:endParaRPr>
          </a:p>
          <a:p>
            <a:pPr lvl="1" marL="828720" indent="-414360" algn="just">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Kopie převodních listin, darovacích smluv předkládá příjemce se závěrečnou MZ</a:t>
            </a:r>
            <a:endParaRPr b="0" lang="en-US" sz="1800" spc="-1" strike="noStrike">
              <a:solidFill>
                <a:srgbClr val="000000"/>
              </a:solidFill>
              <a:latin typeface="Helvetica CE"/>
            </a:endParaRPr>
          </a:p>
          <a:p>
            <a:pPr lvl="1" marL="828720" indent="-414360" algn="just">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Helvetica CE"/>
            </a:endParaRPr>
          </a:p>
          <a:p>
            <a:pPr lvl="1" marL="828720" indent="-414360" algn="just">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cs-CZ" sz="2000" spc="-1" strike="noStrike">
                <a:solidFill>
                  <a:srgbClr val="ffc000"/>
                </a:solidFill>
                <a:latin typeface="Helvetica CE"/>
              </a:rPr>
              <a:t>b) Partner s finančním příspěvkem </a:t>
            </a:r>
            <a:endParaRPr b="0" lang="en-US" sz="2000" spc="-1" strike="noStrike">
              <a:solidFill>
                <a:srgbClr val="000000"/>
              </a:solidFill>
              <a:latin typeface="Helvetica CE"/>
            </a:endParaRPr>
          </a:p>
          <a:p>
            <a:pPr lvl="1" marL="828720" indent="-414360" algn="just">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 </a:t>
            </a:r>
            <a:r>
              <a:rPr b="0" lang="cs-CZ" sz="1800" spc="-1" strike="noStrike">
                <a:solidFill>
                  <a:srgbClr val="000000"/>
                </a:solidFill>
                <a:latin typeface="Helvetica CE"/>
              </a:rPr>
              <a:t>Zařízení a spotřební materiál ve vlastnictví</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62"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8B4916-1F30-4B50-83AE-4CABAC607F8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
          <p:cNvSpPr txBox="1"/>
          <p:nvPr/>
        </p:nvSpPr>
        <p:spPr>
          <a:xfrm>
            <a:off x="1329840" y="2171520"/>
            <a:ext cx="6458040" cy="3173400"/>
          </a:xfrm>
          <a:prstGeom prst="rect">
            <a:avLst/>
          </a:prstGeom>
          <a:noFill/>
          <a:ln w="0">
            <a:noFill/>
          </a:ln>
        </p:spPr>
        <p:txBody>
          <a:bodyPr anchor="t">
            <a:normAutofit/>
          </a:bodyPr>
          <a:p>
            <a:pPr marL="343080" indent="-343080" algn="ctr">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600" spc="-1" strike="noStrike">
                <a:solidFill>
                  <a:srgbClr val="ffc000"/>
                </a:solidFill>
                <a:latin typeface="Helvetica CE"/>
              </a:rPr>
              <a:t>Děkuji za pozornost</a:t>
            </a:r>
            <a:endParaRPr b="0" lang="en-US" sz="36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1" lang="cs-CZ" sz="1800" spc="-1" strike="noStrike">
                <a:solidFill>
                  <a:srgbClr val="000000"/>
                </a:solidFill>
                <a:latin typeface="Helvetica CE"/>
              </a:rPr>
              <a:t>Ing. Marie Kaufnerová</a:t>
            </a:r>
            <a:endParaRPr b="0" lang="en-US" sz="1800" spc="-1" strike="noStrike">
              <a:solidFill>
                <a:srgbClr val="000000"/>
              </a:solidFill>
              <a:latin typeface="Helvetica CE"/>
            </a:endParaRPr>
          </a:p>
          <a:p>
            <a:pPr marL="343080" indent="-343080"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marie.kaufnerova@msmt.cz</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64"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702E74-8521-4290-8A57-E0DA9BF8A1A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1371600" y="1248840"/>
            <a:ext cx="6283440" cy="567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f39800"/>
                </a:solidFill>
                <a:latin typeface="Helvetica CE"/>
              </a:rPr>
              <a:t>Změny</a:t>
            </a:r>
            <a:r>
              <a:rPr b="1" lang="cs-CZ" sz="2800" spc="-1" strike="noStrike">
                <a:solidFill>
                  <a:srgbClr val="f39800"/>
                </a:solidFill>
                <a:latin typeface="Helvetica CE"/>
              </a:rPr>
              <a:t> v projektu</a:t>
            </a:r>
            <a:endParaRPr b="1" lang="en-US" sz="2800" spc="-1" strike="noStrike">
              <a:solidFill>
                <a:srgbClr val="000000"/>
              </a:solidFill>
              <a:latin typeface="Helvetica CE"/>
            </a:endParaRPr>
          </a:p>
        </p:txBody>
      </p:sp>
      <p:sp>
        <p:nvSpPr>
          <p:cNvPr id="525"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13E82C-C7AB-4E2E-95A2-4C54E9EAA19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26" name=""/>
          <p:cNvSpPr txBox="1"/>
          <p:nvPr/>
        </p:nvSpPr>
        <p:spPr>
          <a:xfrm>
            <a:off x="1329840" y="2171520"/>
            <a:ext cx="6458040" cy="3429000"/>
          </a:xfrm>
          <a:prstGeom prst="rect">
            <a:avLst/>
          </a:prstGeom>
          <a:noFill/>
          <a:ln w="0">
            <a:noFill/>
          </a:ln>
        </p:spPr>
        <p:txBody>
          <a:bodyPr anchor="t">
            <a:normAutofit/>
          </a:bodyPr>
          <a:p>
            <a:pPr marL="343080" indent="-343080" algn="just">
              <a:spcBef>
                <a:spcPts val="499"/>
              </a:spcBef>
              <a:buClr>
                <a:srgbClr val="f398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f39800"/>
                </a:solidFill>
                <a:latin typeface="Helvetica CE"/>
              </a:rPr>
              <a:t>Nepodstatné změny</a:t>
            </a:r>
            <a:endParaRPr b="0" lang="en-US" sz="20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Neovlivní dosažení cílů projektu a monitorovacích    indikátorů</a:t>
            </a:r>
            <a:endParaRPr b="0" lang="en-US" sz="18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Oznamují se v monitorovací zprávě v části č. 10 se zdůvodněním</a:t>
            </a:r>
            <a:endParaRPr b="0" lang="en-US" sz="18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lgn="just">
              <a:spcBef>
                <a:spcPts val="499"/>
              </a:spcBef>
              <a:buClr>
                <a:srgbClr val="f398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f39800"/>
                </a:solidFill>
                <a:latin typeface="Helvetica CE"/>
              </a:rPr>
              <a:t>Podstatné změny</a:t>
            </a:r>
            <a:endParaRPr b="0" lang="en-US" sz="20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Mění charakter a obsah projektu oproti schválené žádosti</a:t>
            </a:r>
            <a:endParaRPr b="0" lang="en-US" sz="1800" spc="-1" strike="noStrike">
              <a:solidFill>
                <a:srgbClr val="000000"/>
              </a:solidFill>
              <a:latin typeface="Helvetica CE"/>
            </a:endParaRPr>
          </a:p>
          <a:p>
            <a:pPr marL="343080" indent="-343080" algn="just">
              <a:spcBef>
                <a:spcPts val="451"/>
              </a:spcBef>
              <a:buClr>
                <a:srgbClr val="000000"/>
              </a:buClr>
              <a:buFont typeface="Helvetica C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Doplňují právní akt o poskytnutí podpory (dodatek)</a:t>
            </a:r>
            <a:endParaRPr b="0" lang="en-US" sz="18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Podléhají schválení</a:t>
            </a:r>
            <a:endParaRPr b="0" lang="en-US" sz="1800" spc="-1" strike="noStrike">
              <a:solidFill>
                <a:srgbClr val="000000"/>
              </a:solidFill>
              <a:latin typeface="Helvetica C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1329840" y="1071360"/>
            <a:ext cx="6458040" cy="880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f39800"/>
                </a:solidFill>
                <a:latin typeface="Helvetica CE"/>
              </a:rPr>
              <a:t>Nepodstatné změny</a:t>
            </a:r>
            <a:endParaRPr b="1" lang="en-US" sz="3200" spc="-1" strike="noStrike">
              <a:solidFill>
                <a:srgbClr val="000000"/>
              </a:solidFill>
              <a:latin typeface="Helvetica CE"/>
            </a:endParaRPr>
          </a:p>
        </p:txBody>
      </p:sp>
      <p:sp>
        <p:nvSpPr>
          <p:cNvPr id="528" name=""/>
          <p:cNvSpPr txBox="1"/>
          <p:nvPr/>
        </p:nvSpPr>
        <p:spPr>
          <a:xfrm>
            <a:off x="1329840" y="1952280"/>
            <a:ext cx="6458040" cy="370044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Změna kontaktních údajů příjemce</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Změna sídla příjemce</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Změna kontaktní osoby projektu a manažera projektu</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Změna harmonogramu realizace (posun KA)</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Změna partnerské smlouvy charakteru nepodstatné změny</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Změna názvu subjektu příjemce</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Změna ve statusu plátce DPH</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Změna statutárního zástupce</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Dřívější ukončení projektu při ukončení všech plánovaných aktivit projektu</a:t>
            </a:r>
            <a:endParaRPr b="0" lang="en-US" sz="1800" spc="-1" strike="noStrike">
              <a:solidFill>
                <a:srgbClr val="000000"/>
              </a:solidFill>
              <a:latin typeface="Helvetica CE"/>
            </a:endParaRPr>
          </a:p>
        </p:txBody>
      </p:sp>
      <p:sp>
        <p:nvSpPr>
          <p:cNvPr id="529"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07ACC7-C1B8-419F-BDA9-942FBDBDED5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1329840" y="1028880"/>
            <a:ext cx="6458040" cy="714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f39800"/>
                </a:solidFill>
                <a:latin typeface="Helvetica CE"/>
              </a:rPr>
              <a:t>Žádost o podstatnou změnu</a:t>
            </a:r>
            <a:endParaRPr b="1" lang="en-US" sz="3200" spc="-1" strike="noStrike">
              <a:solidFill>
                <a:srgbClr val="000000"/>
              </a:solidFill>
              <a:latin typeface="Helvetica CE"/>
            </a:endParaRPr>
          </a:p>
        </p:txBody>
      </p:sp>
      <p:sp>
        <p:nvSpPr>
          <p:cNvPr id="531" name=""/>
          <p:cNvSpPr txBox="1"/>
          <p:nvPr/>
        </p:nvSpPr>
        <p:spPr>
          <a:xfrm>
            <a:off x="1329840" y="1571760"/>
            <a:ext cx="6458040" cy="4300560"/>
          </a:xfrm>
          <a:prstGeom prst="rect">
            <a:avLst/>
          </a:prstGeom>
          <a:noFill/>
          <a:ln w="0">
            <a:noFill/>
          </a:ln>
        </p:spPr>
        <p:txBody>
          <a:bodyPr anchor="t">
            <a:normAutofit/>
          </a:bodyPr>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7030a0"/>
                </a:solidFill>
                <a:latin typeface="Helvetica CE"/>
              </a:rPr>
              <a:t>http://www.msmt.cz/strukturalni-fondy/monitorovaci-zprava-a-jeji-prilohy-platna-od-28-6-2010</a:t>
            </a:r>
            <a:endParaRPr b="0" lang="en-US" sz="18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lgn="just">
              <a:lnSpc>
                <a:spcPct val="80000"/>
              </a:lnSpc>
              <a:spcAft>
                <a:spcPts val="550"/>
              </a:spcAft>
              <a:buClr>
                <a:srgbClr val="000000"/>
              </a:buClr>
              <a:buSzPct val="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Zasílá se v písemné podobě kontaktní osobě pro projekt</a:t>
            </a:r>
            <a:endParaRPr b="0" lang="en-US" sz="1800" spc="-1" strike="noStrike">
              <a:solidFill>
                <a:srgbClr val="000000"/>
              </a:solidFill>
              <a:latin typeface="Helvetica CE"/>
            </a:endParaRPr>
          </a:p>
          <a:p>
            <a:pPr marL="343080" indent="-343080" algn="just">
              <a:lnSpc>
                <a:spcPct val="80000"/>
              </a:lnSpc>
              <a:spcAft>
                <a:spcPts val="1287"/>
              </a:spcAft>
              <a:buClr>
                <a:srgbClr val="000000"/>
              </a:buClr>
              <a:buSzPct val="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Musí obsahovat popis změny, zdůvodnění, souhlas partnerů, další dokumenty</a:t>
            </a:r>
            <a:endParaRPr b="0" lang="en-US" sz="1800" spc="-1" strike="noStrike">
              <a:solidFill>
                <a:srgbClr val="000000"/>
              </a:solidFill>
              <a:latin typeface="Helvetica CE"/>
            </a:endParaRPr>
          </a:p>
          <a:p>
            <a:pPr marL="343080" indent="-343080" algn="just">
              <a:lnSpc>
                <a:spcPct val="80000"/>
              </a:lnSpc>
              <a:spcAft>
                <a:spcPts val="1287"/>
              </a:spcAft>
              <a:buClr>
                <a:srgbClr val="000000"/>
              </a:buClr>
              <a:buSzPct val="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f39800"/>
                </a:solidFill>
                <a:latin typeface="Helvetica CE"/>
              </a:rPr>
              <a:t>Lhůty:</a:t>
            </a:r>
            <a:endParaRPr b="0" lang="en-US" sz="2000" spc="-1" strike="noStrike">
              <a:solidFill>
                <a:srgbClr val="000000"/>
              </a:solidFill>
              <a:latin typeface="Helvetica CE"/>
            </a:endParaRPr>
          </a:p>
          <a:p>
            <a:pPr marL="343080" indent="-343080" algn="just">
              <a:lnSpc>
                <a:spcPct val="80000"/>
              </a:lnSpc>
              <a:spcAft>
                <a:spcPts val="1287"/>
              </a:spcAft>
              <a:buClr>
                <a:srgbClr val="000000"/>
              </a:buClr>
              <a:buSzPct val="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30 pracovních dní na posouzení ze strany MŠMT</a:t>
            </a:r>
            <a:endParaRPr b="0" lang="en-US" sz="1800" spc="-1" strike="noStrike">
              <a:solidFill>
                <a:srgbClr val="000000"/>
              </a:solidFill>
              <a:latin typeface="Helvetica CE"/>
            </a:endParaRPr>
          </a:p>
          <a:p>
            <a:pPr marL="343080" indent="-343080" algn="just">
              <a:lnSpc>
                <a:spcPct val="80000"/>
              </a:lnSpc>
              <a:spcAft>
                <a:spcPts val="1287"/>
              </a:spcAft>
              <a:buClr>
                <a:srgbClr val="000000"/>
              </a:buClr>
              <a:buSzPct val="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5 pracovních dní na vyrozumění</a:t>
            </a:r>
            <a:endParaRPr b="0" lang="en-US" sz="1800" spc="-1" strike="noStrike">
              <a:solidFill>
                <a:srgbClr val="000000"/>
              </a:solidFill>
              <a:latin typeface="Helvetica CE"/>
            </a:endParaRPr>
          </a:p>
          <a:p>
            <a:pPr marL="343080" indent="-343080" algn="just">
              <a:lnSpc>
                <a:spcPct val="80000"/>
              </a:lnSpc>
              <a:spcAft>
                <a:spcPts val="1287"/>
              </a:spcAft>
              <a:buClr>
                <a:srgbClr val="000000"/>
              </a:buClr>
              <a:buSzPct val="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Max. 60 kalendářních dnů před koncem projektu! </a:t>
            </a:r>
            <a:endParaRPr b="0" lang="en-US" sz="1800" spc="-1" strike="noStrike">
              <a:solidFill>
                <a:srgbClr val="000000"/>
              </a:solidFill>
              <a:latin typeface="Helvetica CE"/>
            </a:endParaRPr>
          </a:p>
          <a:p>
            <a:pPr marL="343080" indent="-343080" algn="just">
              <a:lnSpc>
                <a:spcPct val="80000"/>
              </a:lnSpc>
              <a:spcAft>
                <a:spcPts val="1287"/>
              </a:spcAft>
              <a:buClr>
                <a:srgbClr val="000000"/>
              </a:buClr>
              <a:buSzPct val="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Doporučujeme konzultovat předem s kontaktní osobou projektu</a:t>
            </a:r>
            <a:endParaRPr b="0" lang="en-US" sz="1800" spc="-1" strike="noStrike">
              <a:solidFill>
                <a:srgbClr val="000000"/>
              </a:solidFill>
              <a:latin typeface="Helvetica CE"/>
            </a:endParaRPr>
          </a:p>
          <a:p>
            <a:pPr marL="343080" indent="-343080" algn="just">
              <a:lnSpc>
                <a:spcPct val="93000"/>
              </a:lnSpc>
              <a:spcAft>
                <a:spcPts val="1287"/>
              </a:spcAft>
              <a:buClr>
                <a:srgbClr val="000000"/>
              </a:buClr>
              <a:buSzPct val="45000"/>
              <a:buFont typeface="Helvetica C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lgn="just">
              <a:lnSpc>
                <a:spcPct val="93000"/>
              </a:lnSpc>
              <a:spcAft>
                <a:spcPts val="1287"/>
              </a:spcAft>
              <a:buClr>
                <a:srgbClr val="000000"/>
              </a:buClr>
              <a:buSzPct val="45000"/>
              <a:buFont typeface="Helvetica C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lgn="just">
              <a:lnSpc>
                <a:spcPct val="93000"/>
              </a:lnSpc>
              <a:spcAft>
                <a:spcPts val="1287"/>
              </a:spcAft>
              <a:buClr>
                <a:srgbClr val="000000"/>
              </a:buClr>
              <a:buSzPct val="45000"/>
              <a:buFont typeface="Helvetica C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lgn="just">
              <a:lnSpc>
                <a:spcPct val="93000"/>
              </a:lnSpc>
              <a:spcAft>
                <a:spcPts val="1287"/>
              </a:spcAft>
              <a:buClr>
                <a:srgbClr val="000000"/>
              </a:buClr>
              <a:buSzPct val="45000"/>
              <a:buFont typeface="Helvetica C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lgn="just">
              <a:lnSpc>
                <a:spcPct val="93000"/>
              </a:lnSpc>
              <a:spcAft>
                <a:spcPts val="1287"/>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32"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E76728-6C9D-48F6-9BD4-3D84226411D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f39800"/>
                </a:solidFill>
                <a:latin typeface="Helvetica CE"/>
              </a:rPr>
              <a:t>Podstatné změny</a:t>
            </a:r>
            <a:endParaRPr b="1" lang="en-US" sz="3200" spc="-1" strike="noStrike">
              <a:solidFill>
                <a:srgbClr val="000000"/>
              </a:solidFill>
              <a:latin typeface="Helvetica CE"/>
            </a:endParaRPr>
          </a:p>
        </p:txBody>
      </p:sp>
      <p:sp>
        <p:nvSpPr>
          <p:cNvPr id="534" name=""/>
          <p:cNvSpPr txBox="1"/>
          <p:nvPr/>
        </p:nvSpPr>
        <p:spPr>
          <a:xfrm>
            <a:off x="1329840" y="1952640"/>
            <a:ext cx="6458040" cy="3633840"/>
          </a:xfrm>
          <a:prstGeom prst="rect">
            <a:avLst/>
          </a:prstGeom>
          <a:noFill/>
          <a:ln w="0">
            <a:noFill/>
          </a:ln>
        </p:spPr>
        <p:txBody>
          <a:bodyPr anchor="t">
            <a:normAutofit fontScale="91000"/>
          </a:bodyPr>
          <a:p>
            <a:pPr marL="312120" indent="-31212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Změna právní formy příjemce</a:t>
            </a:r>
            <a:endParaRPr b="0" lang="en-US" sz="1800" spc="-1" strike="noStrike">
              <a:solidFill>
                <a:srgbClr val="000000"/>
              </a:solidFill>
              <a:latin typeface="Helvetica CE"/>
            </a:endParaRPr>
          </a:p>
          <a:p>
            <a:pPr marL="312120" indent="-31212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Změna příjemce projektu – např. při transformaci škol</a:t>
            </a:r>
            <a:endParaRPr b="0" lang="en-US" sz="1800" spc="-1" strike="noStrike">
              <a:solidFill>
                <a:srgbClr val="000000"/>
              </a:solidFill>
              <a:latin typeface="Helvetica CE"/>
            </a:endParaRPr>
          </a:p>
          <a:p>
            <a:pPr marL="312120" indent="-31212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Změna názvu projektu (ve výjimečných případech)</a:t>
            </a:r>
            <a:endParaRPr b="0" lang="en-US" sz="1800" spc="-1" strike="noStrike">
              <a:solidFill>
                <a:srgbClr val="000000"/>
              </a:solidFill>
              <a:latin typeface="Helvetica CE"/>
            </a:endParaRPr>
          </a:p>
          <a:p>
            <a:pPr marL="312120" indent="-31212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Změna týkající se monitorovacích indikátorů</a:t>
            </a:r>
            <a:endParaRPr b="0" lang="en-US" sz="1800" spc="-1" strike="noStrike">
              <a:solidFill>
                <a:srgbClr val="000000"/>
              </a:solidFill>
              <a:latin typeface="Helvetica CE"/>
            </a:endParaRPr>
          </a:p>
          <a:p>
            <a:pPr marL="312120" indent="-31212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Zapojení nového partnera (ve výjimečných případech)</a:t>
            </a:r>
            <a:endParaRPr b="0" lang="en-US" sz="1800" spc="-1" strike="noStrike">
              <a:solidFill>
                <a:srgbClr val="000000"/>
              </a:solidFill>
              <a:latin typeface="Helvetica CE"/>
            </a:endParaRPr>
          </a:p>
          <a:p>
            <a:pPr marL="312120" indent="-31212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Změna začátku realizace projektu</a:t>
            </a:r>
            <a:endParaRPr b="0" lang="en-US" sz="1800" spc="-1" strike="noStrike">
              <a:solidFill>
                <a:srgbClr val="000000"/>
              </a:solidFill>
              <a:latin typeface="Helvetica CE"/>
            </a:endParaRPr>
          </a:p>
          <a:p>
            <a:pPr marL="312120" indent="-31212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Změna data ukončení projektu</a:t>
            </a:r>
            <a:endParaRPr b="0" lang="en-US" sz="1800" spc="-1" strike="noStrike">
              <a:solidFill>
                <a:srgbClr val="000000"/>
              </a:solidFill>
              <a:latin typeface="Helvetica CE"/>
            </a:endParaRPr>
          </a:p>
          <a:p>
            <a:pPr marL="312120" indent="-31212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Změna projektového účtu</a:t>
            </a:r>
            <a:endParaRPr b="0" lang="en-US" sz="1800" spc="-1" strike="noStrike">
              <a:solidFill>
                <a:srgbClr val="000000"/>
              </a:solidFill>
              <a:latin typeface="Helvetica CE"/>
            </a:endParaRPr>
          </a:p>
          <a:p>
            <a:pPr marL="312120" indent="-31212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Odstoupení partnera </a:t>
            </a:r>
            <a:endParaRPr b="0" lang="en-US" sz="1800" spc="-1" strike="noStrike">
              <a:solidFill>
                <a:srgbClr val="000000"/>
              </a:solidFill>
              <a:latin typeface="Helvetica CE"/>
            </a:endParaRPr>
          </a:p>
          <a:p>
            <a:pPr marL="312120" indent="-31212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odstatná změna rozpočtu (kapitola 5.5.2)</a:t>
            </a:r>
            <a:endParaRPr b="0" lang="en-US" sz="1800" spc="-1" strike="noStrike">
              <a:solidFill>
                <a:srgbClr val="000000"/>
              </a:solidFill>
              <a:latin typeface="Helvetica CE"/>
            </a:endParaRPr>
          </a:p>
          <a:p>
            <a:pPr marL="312120" indent="-31212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12120" indent="-312120" algn="just">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cs-CZ" sz="1600" spc="-1" strike="noStrike">
                <a:solidFill>
                  <a:srgbClr val="000000"/>
                </a:solidFill>
                <a:latin typeface="Helvetica CE"/>
              </a:rPr>
              <a:t>V případě pochybností se má za to, že jde o změnu podstatnou</a:t>
            </a:r>
            <a:endParaRPr b="0" lang="en-US" sz="1600" spc="-1" strike="noStrike">
              <a:solidFill>
                <a:srgbClr val="000000"/>
              </a:solidFill>
              <a:latin typeface="Helvetica CE"/>
            </a:endParaRPr>
          </a:p>
          <a:p>
            <a:pPr marL="312120" indent="-312120"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Helvetica CE"/>
            </a:endParaRPr>
          </a:p>
        </p:txBody>
      </p:sp>
      <p:sp>
        <p:nvSpPr>
          <p:cNvPr id="535"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6BC677-81AD-4200-B009-547C8DA1058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1329840" y="1085760"/>
            <a:ext cx="6458040" cy="671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f39800"/>
                </a:solidFill>
                <a:latin typeface="Helvetica CE"/>
              </a:rPr>
              <a:t>Změny v </a:t>
            </a:r>
            <a:r>
              <a:rPr b="1" lang="cs-CZ" sz="2800" spc="-1" strike="noStrike">
                <a:solidFill>
                  <a:srgbClr val="f39800"/>
                </a:solidFill>
                <a:latin typeface="Helvetica CE"/>
              </a:rPr>
              <a:t>rozpočtu</a:t>
            </a:r>
            <a:endParaRPr b="1" lang="en-US" sz="2800" spc="-1" strike="noStrike">
              <a:solidFill>
                <a:srgbClr val="000000"/>
              </a:solidFill>
              <a:latin typeface="Helvetica CE"/>
            </a:endParaRPr>
          </a:p>
        </p:txBody>
      </p:sp>
      <p:sp>
        <p:nvSpPr>
          <p:cNvPr id="537" name=""/>
          <p:cNvSpPr txBox="1"/>
          <p:nvPr/>
        </p:nvSpPr>
        <p:spPr>
          <a:xfrm>
            <a:off x="1329840" y="1757160"/>
            <a:ext cx="6458040" cy="409716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odstatné a nepodstatné změny </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Nesmějí narušit charakter a hlavní záměr projektu</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ro projekt musejí být nezbytné a efektivní</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Tyto změny nesmí navýšit celkový rozpočet</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Nesmí navýšit kapitoly nebo položky krácené Výběrovou komisí </a:t>
            </a:r>
            <a:endParaRPr b="0" lang="en-US" sz="1800" spc="-1" strike="noStrike">
              <a:solidFill>
                <a:srgbClr val="000000"/>
              </a:solidFill>
              <a:latin typeface="Helvetica CE"/>
            </a:endParaRPr>
          </a:p>
          <a:p>
            <a:pPr marL="343080" indent="-343080" algn="just">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Nesmí dojít k překročení procentních limitů pro jednotlivé kapitoly ( </a:t>
            </a:r>
            <a:r>
              <a:rPr b="0" lang="cs-CZ" sz="1600" spc="-1" strike="noStrike">
                <a:solidFill>
                  <a:srgbClr val="000000"/>
                </a:solidFill>
                <a:latin typeface="Helvetica CE"/>
              </a:rPr>
              <a:t>Zařízení a vybavení – 25 %; Nákup služeb - 49%; Přímá podpora -  20 % z celkových způsobilých výdajů)</a:t>
            </a:r>
            <a:endParaRPr b="0" lang="en-US" sz="16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Nesmí způsobit začátek nové nebo zrušení stávající klíčové aktivity!</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Musí být zdůvodněny a doloženy novým přepracovaným rozpočtem</a:t>
            </a:r>
            <a:endParaRPr b="0" lang="en-US" sz="1800" spc="-1" strike="noStrike">
              <a:solidFill>
                <a:srgbClr val="000000"/>
              </a:solidFill>
              <a:latin typeface="Helvetica CE"/>
            </a:endParaRPr>
          </a:p>
        </p:txBody>
      </p:sp>
      <p:sp>
        <p:nvSpPr>
          <p:cNvPr id="53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9B79D8-83D6-4C34-80BE-D5EA880AB55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f39800"/>
                </a:solidFill>
                <a:latin typeface="Helvetica CE"/>
              </a:rPr>
              <a:t>Nepodstatné změny v rozpočtu</a:t>
            </a:r>
            <a:endParaRPr b="1" lang="en-US" sz="3200" spc="-1" strike="noStrike">
              <a:solidFill>
                <a:srgbClr val="000000"/>
              </a:solidFill>
              <a:latin typeface="Helvetica CE"/>
            </a:endParaRPr>
          </a:p>
        </p:txBody>
      </p:sp>
      <p:sp>
        <p:nvSpPr>
          <p:cNvPr id="540" name=""/>
          <p:cNvSpPr txBox="1"/>
          <p:nvPr/>
        </p:nvSpPr>
        <p:spPr>
          <a:xfrm>
            <a:off x="1329840" y="2171520"/>
            <a:ext cx="6458040" cy="317340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řesun prostředků mezi položkami uvnitř jednotlivých kapitol</a:t>
            </a:r>
            <a:endParaRPr b="0" lang="en-US" sz="18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řesun finančních prostředků mezi jednotlivými kapitolami </a:t>
            </a:r>
            <a:r>
              <a:rPr b="1" lang="cs-CZ" sz="1800" spc="-1" strike="noStrike">
                <a:solidFill>
                  <a:srgbClr val="000000"/>
                </a:solidFill>
                <a:latin typeface="Calibri"/>
              </a:rPr>
              <a:t>menší </a:t>
            </a:r>
            <a:r>
              <a:rPr b="0" lang="cs-CZ" sz="1800" spc="-1" strike="noStrike">
                <a:solidFill>
                  <a:srgbClr val="000000"/>
                </a:solidFill>
                <a:latin typeface="Calibri"/>
              </a:rPr>
              <a:t>než </a:t>
            </a:r>
            <a:r>
              <a:rPr b="0" lang="cs-CZ" sz="1800" spc="-1" strike="noStrike">
                <a:solidFill>
                  <a:srgbClr val="000000"/>
                </a:solidFill>
                <a:latin typeface="Helvetica CE"/>
              </a:rPr>
              <a:t>15% objemu způsobilých výdajů kapitoly platného rozpočtu ze kterého jsou finanční prostředky převáděny</a:t>
            </a:r>
            <a:endParaRPr b="0" lang="en-US" sz="18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Vytvoření nové položky nebo zrušení položky v rozpočtu</a:t>
            </a:r>
            <a:endParaRPr b="0" lang="en-US" sz="18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41"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2E40AB-7BDF-4290-B134-19AFEE29092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f39800"/>
                </a:solidFill>
                <a:latin typeface="Helvetica CE"/>
              </a:rPr>
              <a:t>Podstatné změny v rozpočtu</a:t>
            </a:r>
            <a:endParaRPr b="1" lang="en-US" sz="3200" spc="-1" strike="noStrike">
              <a:solidFill>
                <a:srgbClr val="000000"/>
              </a:solidFill>
              <a:latin typeface="Helvetica CE"/>
            </a:endParaRPr>
          </a:p>
        </p:txBody>
      </p:sp>
      <p:sp>
        <p:nvSpPr>
          <p:cNvPr id="543" name=""/>
          <p:cNvSpPr txBox="1"/>
          <p:nvPr/>
        </p:nvSpPr>
        <p:spPr>
          <a:xfrm>
            <a:off x="1329840" y="2228400"/>
            <a:ext cx="6458040" cy="3116520"/>
          </a:xfrm>
          <a:prstGeom prst="rect">
            <a:avLst/>
          </a:prstGeom>
          <a:noFill/>
          <a:ln w="0">
            <a:noFill/>
          </a:ln>
        </p:spPr>
        <p:txBody>
          <a:bodyPr anchor="t">
            <a:normAutofit/>
          </a:bodyPr>
          <a:p>
            <a:pPr lvl="1" marL="414360" indent="-285840" algn="just">
              <a:lnSpc>
                <a:spcPct val="93000"/>
              </a:lnSpc>
              <a:spcAft>
                <a:spcPts val="1037"/>
              </a:spcAft>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řesun prostředků mezi kapitolami přesahující 15 % objemu způsobilých výdajů kapitoly, ze které  jsou prostředky převáděny</a:t>
            </a:r>
            <a:endParaRPr b="0" lang="en-US" sz="1800" spc="-1" strike="noStrike">
              <a:solidFill>
                <a:srgbClr val="000000"/>
              </a:solidFill>
              <a:latin typeface="Helvetica CE"/>
            </a:endParaRPr>
          </a:p>
          <a:p>
            <a:pPr lvl="1" marL="414360" indent="-285840" algn="just">
              <a:lnSpc>
                <a:spcPct val="93000"/>
              </a:lnSpc>
              <a:spcAft>
                <a:spcPts val="1037"/>
              </a:spcAft>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Navýšení prostředků kapitoly Osobní náklady o více než 15 %</a:t>
            </a:r>
            <a:endParaRPr b="0" lang="en-US" sz="1800" spc="-1" strike="noStrike">
              <a:solidFill>
                <a:srgbClr val="000000"/>
              </a:solidFill>
              <a:latin typeface="Helvetica CE"/>
            </a:endParaRPr>
          </a:p>
          <a:p>
            <a:pPr lvl="1" marL="414360" indent="-285840" algn="just">
              <a:lnSpc>
                <a:spcPct val="93000"/>
              </a:lnSpc>
              <a:spcAft>
                <a:spcPts val="1037"/>
              </a:spcAft>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Navýšení položek Křížového financování</a:t>
            </a:r>
            <a:endParaRPr b="0" lang="en-US" sz="1800" spc="-1" strike="noStrike">
              <a:solidFill>
                <a:srgbClr val="000000"/>
              </a:solidFill>
              <a:latin typeface="Helvetica CE"/>
            </a:endParaRPr>
          </a:p>
          <a:p>
            <a:pPr lvl="1" marL="414360" indent="-285840" algn="just">
              <a:lnSpc>
                <a:spcPct val="93000"/>
              </a:lnSpc>
              <a:spcAft>
                <a:spcPts val="1037"/>
              </a:spcAft>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Navýšení či snížení zálohové platby</a:t>
            </a:r>
            <a:endParaRPr b="0" lang="en-US" sz="1800" spc="-1" strike="noStrike">
              <a:solidFill>
                <a:srgbClr val="000000"/>
              </a:solidFill>
              <a:latin typeface="Helvetica CE"/>
            </a:endParaRPr>
          </a:p>
          <a:p>
            <a:pPr lvl="1" marL="414360" indent="-285840" algn="just">
              <a:lnSpc>
                <a:spcPct val="93000"/>
              </a:lnSpc>
              <a:spcAft>
                <a:spcPts val="1037"/>
              </a:spcAft>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400" spc="-1" strike="noStrike">
                <a:solidFill>
                  <a:srgbClr val="000000"/>
                </a:solidFill>
                <a:latin typeface="Helvetica CE"/>
              </a:rPr>
              <a:t>U organizací se stanovenými ukazateli/limity mzdové regulace jakékoliv změny rozpočtu v kapitole 1 Osobní náklady</a:t>
            </a:r>
            <a:endParaRPr b="0" lang="en-US" sz="1400" spc="-1" strike="noStrike">
              <a:solidFill>
                <a:srgbClr val="000000"/>
              </a:solidFill>
              <a:latin typeface="Helvetica CE"/>
            </a:endParaRPr>
          </a:p>
        </p:txBody>
      </p:sp>
      <p:sp>
        <p:nvSpPr>
          <p:cNvPr id="544"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EB3022-5CD9-4D3D-B9BB-8C2351CA31F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f39800"/>
                </a:solidFill>
                <a:latin typeface="Helvetica CE"/>
              </a:rPr>
              <a:t>Principy a podmínky partnerství</a:t>
            </a:r>
            <a:endParaRPr b="1" lang="en-US" sz="3200" spc="-1" strike="noStrike">
              <a:solidFill>
                <a:srgbClr val="000000"/>
              </a:solidFill>
              <a:latin typeface="Helvetica CE"/>
            </a:endParaRPr>
          </a:p>
        </p:txBody>
      </p:sp>
      <p:sp>
        <p:nvSpPr>
          <p:cNvPr id="546" name=""/>
          <p:cNvSpPr txBox="1"/>
          <p:nvPr/>
        </p:nvSpPr>
        <p:spPr>
          <a:xfrm>
            <a:off x="1329840" y="2171520"/>
            <a:ext cx="6458040" cy="3538440"/>
          </a:xfrm>
          <a:prstGeom prst="rect">
            <a:avLst/>
          </a:prstGeom>
          <a:noFill/>
          <a:ln w="0">
            <a:noFill/>
          </a:ln>
        </p:spPr>
        <p:txBody>
          <a:bodyPr anchor="t">
            <a:normAutofit/>
          </a:bodyPr>
          <a:p>
            <a:pPr marL="343080" indent="-343080" algn="just">
              <a:lnSpc>
                <a:spcPct val="93000"/>
              </a:lnSpc>
              <a:spcAft>
                <a:spcPts val="1287"/>
              </a:spcAft>
              <a:buClr>
                <a:srgbClr val="000000"/>
              </a:buClr>
              <a:buSzPct val="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600" spc="-1" strike="noStrike">
                <a:solidFill>
                  <a:srgbClr val="000000"/>
                </a:solidFill>
                <a:latin typeface="Helvetica CE"/>
              </a:rPr>
              <a:t>Partneři se společně podílejí na přípravě a realizaci projektu ve fázi zpracování projektové žádosti, ve fázi jeho realizace i ve fázi ukončení projektu. Partneři se podílejí rovněž na zajištění udržitelnosti projektu, jsou-li k tomu zavázáni partnerskou smlouvou. </a:t>
            </a:r>
            <a:endParaRPr b="0" lang="en-US" sz="1600" spc="-1" strike="noStrike">
              <a:solidFill>
                <a:srgbClr val="000000"/>
              </a:solidFill>
              <a:latin typeface="Helvetica CE"/>
            </a:endParaRPr>
          </a:p>
          <a:p>
            <a:pPr marL="343080" indent="-343080" algn="just">
              <a:lnSpc>
                <a:spcPct val="93000"/>
              </a:lnSpc>
              <a:spcAft>
                <a:spcPts val="12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Nezastupitelnost</a:t>
            </a:r>
            <a:endParaRPr b="0" lang="en-US" sz="1800" spc="-1" strike="noStrike">
              <a:solidFill>
                <a:srgbClr val="000000"/>
              </a:solidFill>
              <a:latin typeface="Helvetica CE"/>
            </a:endParaRPr>
          </a:p>
          <a:p>
            <a:pPr marL="343080" indent="-343080" algn="just">
              <a:lnSpc>
                <a:spcPct val="93000"/>
              </a:lnSpc>
              <a:spcAft>
                <a:spcPts val="12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Opodstatněnost</a:t>
            </a:r>
            <a:endParaRPr b="0" lang="en-US" sz="1800" spc="-1" strike="noStrike">
              <a:solidFill>
                <a:srgbClr val="000000"/>
              </a:solidFill>
              <a:latin typeface="Helvetica CE"/>
            </a:endParaRPr>
          </a:p>
          <a:p>
            <a:pPr marL="343080" indent="-343080" algn="just">
              <a:lnSpc>
                <a:spcPct val="93000"/>
              </a:lnSpc>
              <a:spcAft>
                <a:spcPts val="12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říjemce realizuje hlavní, podstatnou část aktivit</a:t>
            </a:r>
            <a:endParaRPr b="0" lang="en-US" sz="1800" spc="-1" strike="noStrike">
              <a:solidFill>
                <a:srgbClr val="000000"/>
              </a:solidFill>
              <a:latin typeface="Helvetica CE"/>
            </a:endParaRPr>
          </a:p>
          <a:p>
            <a:pPr marL="343080" indent="-343080" algn="just">
              <a:lnSpc>
                <a:spcPct val="93000"/>
              </a:lnSpc>
              <a:spcAft>
                <a:spcPts val="12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Realizované projekty mají neziskový charakter</a:t>
            </a:r>
            <a:endParaRPr b="0" lang="en-US" sz="1800" spc="-1" strike="noStrike">
              <a:solidFill>
                <a:srgbClr val="000000"/>
              </a:solidFill>
              <a:latin typeface="Helvetica CE"/>
            </a:endParaRPr>
          </a:p>
          <a:p>
            <a:pPr marL="343080" indent="-343080" algn="just">
              <a:lnSpc>
                <a:spcPct val="93000"/>
              </a:lnSpc>
              <a:spcAft>
                <a:spcPts val="12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1" lang="cs-CZ" sz="1800" spc="-1" strike="noStrike">
                <a:solidFill>
                  <a:srgbClr val="000000"/>
                </a:solidFill>
                <a:latin typeface="Helvetica CE"/>
              </a:rPr>
              <a:t>Partner nesmí být dodavatelem!</a:t>
            </a:r>
            <a:endParaRPr b="0" lang="en-US" sz="1800" spc="-1" strike="noStrike">
              <a:solidFill>
                <a:srgbClr val="000000"/>
              </a:solidFill>
              <a:latin typeface="Helvetica CE"/>
            </a:endParaRPr>
          </a:p>
          <a:p>
            <a:pPr marL="343080" indent="-343080" algn="just">
              <a:lnSpc>
                <a:spcPct val="93000"/>
              </a:lnSpc>
              <a:spcAft>
                <a:spcPts val="1287"/>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47"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7CEA31-ACB5-447C-8324-18B67983A0E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1T17:09:51Z</dcterms:created>
  <dc:creator>Amos Amos</dc:creator>
  <dc:description/>
  <dc:language>en-US</dc:language>
  <cp:lastModifiedBy>Marie Kaufnerová</cp:lastModifiedBy>
  <dcterms:modified xsi:type="dcterms:W3CDTF">2010-09-16T15:23:31Z</dcterms:modified>
  <cp:revision>198</cp:revision>
  <dc:subject/>
  <dc:title>Titulní strana – Titulek</dc:title>
</cp:coreProperties>
</file>