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F4AA-90EE-4997-A4F0-3409DFD4BF9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4E2B-92E6-4C35-8DDF-B0D58A9663B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šechny faktury musejí být vystaveny na příjemce dotace (nebo na partnera s finančním příspěvkem). K fakturám musí dodat likvidační protokol, z kterého my poznáme, že byly částky řádně zaúčtovány. Doporučujeme vytvořit si razítko projektu, kterým označí všechny originály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důsledku administrativní zátěže nebudeme kontrolovat doklady pod 10tis Kč, tzn. pokud nám je dodají, budeme je ignorovat, jsou pro nás nerelevantní. Něco jiného je samozřejmě pokud si vyžádáme nějaký doklad k namátkové kontrol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EA2D-8F84-4477-AECD-9C80B48C04A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zor na časté chyby. Pokud chtějí poskytnout partnerovi peníze předem (tzn. dát mu zálohu), musí mít partner zřízený samostatný projektový účet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artner si účet nemusí zřizovat, pokud výdaj uhradí nejprve ze svého provozního účtu a následně mu jej příjemce proplatí. Způsob financování musí být zakotven v partnerské smlouvě. Pokud chtějí způsob změnit, musí vydat dodatek k partnerské smlouv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časnosti časté chyby, pozor pozor, vzniká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A809-011E-46F8-99AC-CA86851BBD8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Bylo by fajn, kdyby k výdajům na výpisu z účtu dopsali vždy číslo výdaje (podle soupisky) nebo poznámku, že se jedná o nepřímý náklad, nebo mylnou platbu, atd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DB35-4BC5-457A-8A64-B987AF914C5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z předchozího období = opomenutý výdaj nebo výdaj, který věcně nesouvisel s předchozím obdob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lovní komentář: pokud do soupisky zahrnou výdaj z předchozích období, ať to komentují, abychom se v tom zorientoval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0FE9-1749-4E89-BE58-C4B4FA49222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smí nastat v případě přímých výdajů. V tomto případě by došlo k nesrovnalosti a k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 nepřímým výdajem je toto možné, částku NN si převedou a co je s ní dál nás už nezajímá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ovinka Příručky pro příjemce verze 4: Osobní náklady-lze si na provozní účet zaslat prostředky z projektového účtu 5 pracovních dnů přede dnem, kdy budou tyto prostředky z provozního účtu uhraze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1720-F103-4DE6-ABF9-54C3A6969E2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rvního sloupce této přílohy zaneste údaje z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ého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mocí sloupce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řadová čísla účetních dokladů na soupisce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bude tato příloha propojena se Soupiskou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řádku nepřímých nákladů (sloupec Aktuálně prokazované výdaje) zadejte skutečně vyčerpané nepřímé náklady, tzn. odvedené na provozní účet nebo na výpisu z projektového účtu identifikovány jako NN. Z tohoto důvodu se celkové způsobilé výdaje nebudou shodovat s částkou ze Soupisky účetních dokladů (v Soupisce jsou totiž NN dopočteny a nemusejí odpovídat skutečně čerpaným N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D234-A933-41ED-9729-24AAD52F1C2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riály, které mají příjemci k dispozici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ezent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eznam příloh monitorovacích zpráv (zelenobílá tabulk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lohy MZ (exce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pis z fiktivního účtu a zadání pro praktickou čá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BAA-297D-44E3-A8AD-9E041191A17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sloupce Schválený rozpočet, uveďte aktuální rozpočet, který je v právním aktu, tj. rozpočet v Rozhodnutí, popř. změněný akceptovaným Dodatkem k Rozhodnutí na základě schválené podstatné změ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- uvádí se zde všechny nepodstatné změny od začátku realizace projektu, včetně změn, které nastaly v tomto MO. Kumulativně se uvádějí z důvodů kontroly pravidel přesouvání v rámci nepodstatných změn - max 15% nákladů kapitoly, z které jsou prostředky přesouvány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3350-1BDB-462A-8E55-7C6C7486FFA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330120" indent="-33012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lňte přílohu č. 9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kto předělaný rozpočet zaneste do prvního sloupce přílohy č. 8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hled čerpání způsobilých výdaj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9D3-ACD1-4E0F-8E21-9FDF94E828A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acovní výkaz musí minimálně obsahovat tyto údaje (údaje, které jsou v excelovské příloze připravené). Jinak si tam mohou přidat i jiné pole, pokud chtě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BD63-407C-4365-8A30-B3BBD7C2273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Kolečka a šipky naznačují, jaká pole se sčíta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ranžová bublina Dopište počet skutečně proplacených hodin- zadává se počet hodin, který byl pracovníkovi proplacen z projektových peněz. Tento údaj nesmí být vyšší než počet hodin vyplývající ze smlouvy (ale může být nižší, což příjemcům říkat nebudeme). Počet hodin zde uvedený může být i nižší než v poli Celkem, protože v těle výkazu může být uvedena práce „navíc“, která může být podkladem pro mimořádnou dměn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čet skutečně proplacených hodin bude pak uveden v Rozpise mzdových výdajů (zde se započítávají i svátky a dovolená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1D31-E862-4325-A6A0-C062974F73C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blematika mzdových výdajů je krásně popsána v newsletteru z června 2010, který je dostupný na webu. Rámeček je hypertextový odkaz, stačí na něj kliknout a ukáže se vám web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ležitosti pracovní smlouvy jsou v PpP – jen identifikace projektu, popis činnosti relevantní pro projekt, rozsah činnosti (povinnost odevzdávat výkaz už v PpP není!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sou mzdové výdaje hrazeny prvotně z provozního účtu, je vždy potřeba dodat vnitřní účetní doklad - příkaz k refundaci. Výpis z provozního účtu lze nahradit sjetinou z personální systému, kde bude identifikace zaměstnance, číslo jeho účtu a výše celkové vyplacené mzdy nebo čestným prohlášením dotyčného zaměstnance, že deklarovanou částku za dané období skutečně obdrže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pozorněte příjemce, že musíme ověřovat, zda jsou mzdy/platy v čase a místě obvyklé, tj. budeme potřebovat vnitřní směrnice, projektový manažer OP VK i jiných operáků musí mít stejný platový tarif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9DB3-593D-427D-A5DD-AC2BC7F40CD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ciální pojištění- kdyby se příjemci ptali, jinak neříkat: od nového roku se pravděpodobně zvýší sociální pojištění o 1 %. Kde to mají vzít? Buď si najdou nějaké finance v rozpočtu a převedou si je do kap. 1.2 Sociální pojištění, nebo si to zafinancují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8C7C-9ABB-4DA7-A2D9-1E56631DCB3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 (výpis z účtu, pokladní výdajový doklad, faktura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latná legislativa je zákon č.262/2009 Sb. Zákoník prá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eškeré cestovní náhrady spojené s </a:t>
            </a:r>
            <a:r>
              <a:rPr b="0" lang="cs-CZ" sz="1300" spc="-1" strike="noStrike" u="sng">
                <a:solidFill>
                  <a:srgbClr val="000000"/>
                </a:solidFill>
                <a:uFillTx/>
                <a:latin typeface="Calibri"/>
              </a:rPr>
              <a:t>vnitrostátními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pracovními cestami jsou součástí N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EC8-D4DB-41C4-9014-BDE4E3956A8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1DF0-4834-4E58-ABDA-3BC93CC5EC3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eptat se příjemců, zda jejich organizace používá odpisy a zda plánují uplatňovat je v projektu. Když ne, slajd přeskočit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pP str. 4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AC49-98A3-455D-B920-5A9E8B5EC5C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ové náhrady mohou být poskytovány pouze pedagogickým, akademickým a dalším pracovníkům ve školství, výzkumu a vývoji (PpP str. 57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aměstnavatel cílové skupiny musí s příjemcem/partnerem uzavřít smlouvu o vzdělávání (str.58, doporučuji pročís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řílohách MZ je nastaven vzorec na dvojnásobek mzdy, musí si ho buď upravit, nebo si to přepočítat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C0F1-FFBA-44A2-90CC-8345C081B42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městnanec jde na školení 29.9.-1.10.2010- 3 dny, každý den od 9 do 14h, tj. 5 h (čistý čas školení, cesta na školení se nezapočítává). Jelikož se mzdové příspěvky vypočítávají z měsíční hrubé mzdy, musí být každý měsíc zvlášť v řádku. V září to byly dva dny (29. a 30.), tedy 10 h, v říjnu jeden den, tj. 5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síční fond pracovní doby v hodin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ří má 176 h (hrubá mzda 18 00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říjen má 168 h; předpokládejme, že zaměstnanec čerpal 1 den dovolenou 168 – 8=160 h. (hrubá mzda s náhradou za dovolenou 18 25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odvody- povinné pojištění zaměstnanc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inový mzdový náklad se dopočte sá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mínka uzantelnosti: v přílohách MZ je nastaven vzorec na 70 % skutečných nákladů a dvojnásobek mzdy, musí si ho upravit na 100 % skutečných nákladů a trojnásobek mz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zdové příspěvky jsou poskytovány do výše 100 % skutečných nákladů, maximálně však do trojnásobku minimální mzdy platné v době škol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prvním řádku jsou skutečné náklady menší než 3násobek minimální  mzdy (137,48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sou proplaceny skutečné ná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druhém řádku jsou skutečné náklady vyšší než 3násobek minimální mzdy (145,99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e proplacen 3násobek minimální mz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o Soupisky bude uveden celkový součet mzdových příspěvků (přílohy, které jsou rozepsány v Rozpisech, se do soupisky dávají souhrnně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E2B0-0DE7-4215-A8FD-3D96E9C7D45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stupně klikat a rekapitulovat návaznost jednotlivých příloh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piska účetních dokladů je navázána na jednotlivé účetní doklady – v soupisce jsou totiž uvedeny všechny přímé výdaje daného monitorovaného období, z účetních dokladů se do soupisky zaznamenává Typ a označení prvotního dokladu, název dodavatele a částka uvedená na doklad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hrnné částky z Rozpisu mzdových výdajů jsou uvedeny v řádcích soupisky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Rozpis je provázán i s pracovním výkazem.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čet hodin proplacených v daném měsíci za projekt 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vedených v pracovním výkazu musí být shodný s počtem odpracovaných hodin uvedených v Rozpisu mzdových výdajů a s počtem hodiny skutečně proplacených z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pisce jsou také souhrnné částky z Rozpisu cestovních náhrad i z Rozpisu mzdových příspěvků. Rozpis mzdových příspěvků je na seznam školení napojen pomocí pole Kód školen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a konec je Soupiska napojena i na výpis z projektového či provozního účtu na základě data uskutečnění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F259-3611-4926-9378-2584FEDA4D8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7B4A-90EF-4F1F-AF2C-AFE47CCEEF9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6ECB-3C6F-4B01-9009-EDADD246599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C6E-6D13-4DD0-BC76-2D79B95168F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Nepřímé náklady napište částku dopočtených nepřímých nákladů. Tuto částku naleznete v soupisce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le příjmy zůstává prázdné. Do tohoto pole se dopisují příjmy dle čl. 55, což kladné úroky na projektovém účtu nejso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Zdůvodnění platby napište informace o přijatých úrocích. Např. výše kladných úroků na projektovém účtu za dané období je …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0C49-A01D-4AD5-B810-BD787D2073F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ásky by se lišily  jen v případě, že by měl projekt soukromé financo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8E3D-DD75-4CEE-BEFF-3EE83A1FC20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2618-DB57-4525-9EC9-D6741CFCF61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pakované nedoložení požadovaných podkladů- nebudeme vás při opravě MZ vyzývat do nekonečna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odůvodněné výdaje- zcela nesouvisející s projekte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hospodárný výdaj- mobil pro komunikaci v rámci projektového týmu za 10 tis Kč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, tiskárna pro tisk MZ za 40 tis Kč apod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é platby- např. dvakrát uhrazená faktur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0D84-BA59-4041-BD1A-3C11DF2CC52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á platba- omylem uhrazený výdaj z projektového účtu. Novinka: pokud se jim do 5 pracovních dní od uskutečnění mylné platby povede peníze na projektový účet vrátit, není to mylná platba ani nesrovnalost (PpP str. 31). Data bereme z výpisu z projektového účtu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e je povinen okamžitě po zjištění chyby vrátit danou částku na projektový účet a informovat poskytovatele v nejbližší MZ. Příjemci lze doporučit, aby po dohodě s poskytovatelem a s ÚFO poslal prostředky na účet ÚFO, protože až do tohoto okamžiku se počítá doba pro vyměření penále (PpP str. 32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 z praxe- FÚ je na příjemce hodný, mylnou platbu většinou odpouští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A472-CFE0-47B8-80CA-5B7FD43F59B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jsou t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ážně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náklady spojené s administrací projektů, jejich výčet a popis je uveden v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důraznit, že pokud se budeme obecně bavit o výdajích, budeme mít namysli výdaje přím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n upozornění: nerozlišujeme výdaj a náklad, pokud bychom to rozlišovali tak, jak se má, mluvili bychom jen o výdají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BF0B-6FAC-4983-A07D-4E556E8E9D0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DFAB-D8DD-487B-B468-C873CEEB468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prostor pro cílovou skupinu je přímý nákl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719F-404D-4A3B-BA74-19A11D60494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musí věcně souviset s monitorovaným obdobím- př. Letenky na zahraniční cestu, která proběhne až v dalším monitorovaném období; tento výdaj nebude v soupisce zahrnu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7FB8-17F2-480A-B881-446ACF9044F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aždý příjemce má u sebe vytištěnou soupisku účetních dokladů a prohlíží si ji. Přílohy jsou vytištěné se zobrazením komentářů k buňká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jprve </a:t>
            </a: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záhlaví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přílohy- stejné u všech příloh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Registrační číslo projektu CZ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rojekt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říjemce podp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ořadové číslo MZ ve tvaru 1/2010, 2/2011, 3/20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dobí – monitorované období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řadové číslo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ísluje si příjemce svou vlastní řadou, doporučujeme ve tvaru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číslo výdaje/MZ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, tj. 1/1, 2/1, 3/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Číslo kapitoly/položky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etailní členění, např. Fotoaparát, pol. 3.3.5, ne jen kapitola 3, dle tohoto sloupce by měla být soupiska řazen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Typ úče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faktura, výdajový pokladní dokl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Označení prvo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apř. číslo faktury či paragon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pis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bojte se rozeps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Název dodavatel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u mezd není potřeba doplňov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ástky jsou jasné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Datum uskutečnění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atum uskutečnění výdaje z projektového účtu; v případě, že byl výdaj nejprve hrazen z účtu provozního, napište do závorky ještě toto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Křížové financování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rvní část je KF celkem, druhá část je KF investiční- doplňují se sem aktuálně čerpané výdaje, tedy vyplňujeme jen když jsme v daném období utratili nějaké výdaje z těchto polože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0000"/>
                </a:solidFill>
                <a:uFillTx/>
                <a:latin typeface="Calibri"/>
              </a:rPr>
              <a:t>Pro info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- položky rozpočtu 3.8 a 5.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 investiční je jen položka 3.8.1 (patří sem např. tiskárna za 50 tis Kč) a 5.2 stavební úpravy v rámci K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investice- patří sem KF investiční (3.8.1 a 5.2) a nehmotný majetek v pořizovací ceně nad 60 tis Kč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ranžové bubliny ŽoP-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tyto částky zaznamenejte do žádosti o platb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0568-DB69-439A-AC14-8E22C51C82F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newslett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040" y="1290240"/>
            <a:ext cx="8134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monitorovací zprávy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text 3"/>
          <p:cNvSpPr/>
          <p:nvPr/>
        </p:nvSpPr>
        <p:spPr>
          <a:xfrm>
            <a:off x="0" y="156996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přiložených dokladů označit číslem, které je uvedeno v Soupisce účetních dokladů - Pořadové číslo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dokladů musí být označeny reg. číslem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dkládají se pouze kopie účetních dokladů s částkou uvedenou na dokladu přesahující 10 00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klady s částkou do 10 000 Kč vče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znamenány v Soupisce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dokládej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vyžádány k namátkové k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fakturám dokládat objednávku a likvidační proto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zřídit samostatný bankovní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ante (zálohami) - musí mí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post (zpětné proplacení) - nemusí mít samostatný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zakotven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jektový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text 3"/>
          <p:cNvSpPr/>
          <p:nvPr/>
        </p:nvSpPr>
        <p:spPr>
          <a:xfrm>
            <a:off x="61920" y="156996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ankov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vinná přílo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výdajů pořadovým číslem výdaje ze Soupisky účetní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účtu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 výjimečných (odůvodněných!) případech lze výdaj hradit z jiného než projektového úč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je k prvotní úhradě výdaje použit jiný než projektový účet, je příjemce povinen doložit kopii výpisu     z tohoto úč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vztahující se k jiné činnosti organizace mohou být začerně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uznatelný až po refundaci výdaje z projektového úč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Jiný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Čárový popisek 2 10"/>
          <p:cNvSpPr/>
          <p:nvPr/>
        </p:nvSpPr>
        <p:spPr>
          <a:xfrm>
            <a:off x="6773760" y="200196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255004"/>
              <a:gd name="adj4" fmla="val 20097"/>
              <a:gd name="adj5" fmla="val 336078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Čárový popisek 2 14"/>
          <p:cNvSpPr/>
          <p:nvPr/>
        </p:nvSpPr>
        <p:spPr>
          <a:xfrm>
            <a:off x="6951600" y="3201840"/>
            <a:ext cx="2755800" cy="1155960"/>
          </a:xfrm>
          <a:prstGeom prst="borderCallout2">
            <a:avLst>
              <a:gd name="adj1" fmla="val 18750"/>
              <a:gd name="adj2" fmla="val -8333"/>
              <a:gd name="adj3" fmla="val 140689"/>
              <a:gd name="adj4" fmla="val 18925"/>
              <a:gd name="adj5" fmla="val 169902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6"/>
          <p:cNvSpPr/>
          <p:nvPr/>
        </p:nvSpPr>
        <p:spPr>
          <a:xfrm>
            <a:off x="1039680" y="200196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nebude zahrnut do této MZ, ale až do následují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Čárový popisek 2 10"/>
          <p:cNvSpPr/>
          <p:nvPr/>
        </p:nvSpPr>
        <p:spPr>
          <a:xfrm>
            <a:off x="32868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170125"/>
              <a:gd name="adj6" fmla="val 4768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Čárový popisek 2 14"/>
          <p:cNvSpPr/>
          <p:nvPr/>
        </p:nvSpPr>
        <p:spPr>
          <a:xfrm>
            <a:off x="388476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6"/>
          <p:cNvSpPr/>
          <p:nvPr/>
        </p:nvSpPr>
        <p:spPr>
          <a:xfrm>
            <a:off x="1039680" y="200196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ut do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11"/>
          <p:cNvSpPr/>
          <p:nvPr/>
        </p:nvSpPr>
        <p:spPr>
          <a:xfrm>
            <a:off x="1039680" y="1557360"/>
            <a:ext cx="59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římým výdajem nesmí nastat; nelze si na provozní účet předfinancovat např. nákup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17"/>
          <p:cNvSpPr/>
          <p:nvPr/>
        </p:nvSpPr>
        <p:spPr>
          <a:xfrm>
            <a:off x="1039680" y="251928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inka v PpP 4: lze si předfinancovat mzdy – 5 prac. 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180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ný rozpočet- vychází z přílohy č. 9 Přepracovaný rozpočet, tzn. jsou v něm zapracovány nepodstatné změny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lipsa 6"/>
          <p:cNvSpPr/>
          <p:nvPr/>
        </p:nvSpPr>
        <p:spPr>
          <a:xfrm>
            <a:off x="2995560" y="2090880"/>
            <a:ext cx="978120" cy="1288800"/>
          </a:xfrm>
          <a:prstGeom prst="ellipse">
            <a:avLst/>
          </a:prstGeom>
          <a:noFill/>
          <a:ln w="38160">
            <a:solidFill>
              <a:srgbClr val="f391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text 3"/>
          <p:cNvSpPr/>
          <p:nvPr/>
        </p:nvSpPr>
        <p:spPr>
          <a:xfrm>
            <a:off x="266760" y="1601640"/>
            <a:ext cx="837396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ktický mod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 v pr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jčastější chyby a probl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 v aplikaci Benefit 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torno final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žop v aplikaci Benefit 7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185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text 3"/>
          <p:cNvSpPr/>
          <p:nvPr/>
        </p:nvSpPr>
        <p:spPr>
          <a:xfrm>
            <a:off x="-27000" y="342432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- vychází Rozhodnutí o poskytnutí dotace či z relevantního Doda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sp>
        <p:nvSpPr>
          <p:cNvPr id="188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Přímá spojovací šipka 12"/>
          <p:cNvCxnSpPr/>
          <p:nvPr/>
        </p:nvCxnSpPr>
        <p:spPr>
          <a:xfrm flipH="1">
            <a:off x="2550240" y="2357280"/>
            <a:ext cx="3290040" cy="22233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90" name="Přímá spojovací šipka 15"/>
          <p:cNvCxnSpPr/>
          <p:nvPr/>
        </p:nvCxnSpPr>
        <p:spPr>
          <a:xfrm flipH="1">
            <a:off x="2550240" y="2357280"/>
            <a:ext cx="6224040" cy="3245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193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195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9 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97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8 Přehled čerp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ojektu, název subjekt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acovníka a zastávané funk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odkaz na položku rozpočtu, např. 1.1.1.1.5 Řešitel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daje o úvazku v projektu, popřípadě o zapojení do dalších projektů v téže organizaci či u part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racovní výkaz podepíše i pracovník, není potřeba zvlášť dodávat čestné prohlášení o nepřekro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,5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va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asový rozsah práce dle smlouvy a podrobný popis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204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Zakřivená spojovací čára 9"/>
          <p:cNvCxnSpPr>
            <a:stCxn id="205" idx="6"/>
            <a:endCxn id="206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208" name="Přímá spojovací šipka 16"/>
          <p:cNvCxnSpPr>
            <a:stCxn id="204" idx="6"/>
            <a:endCxn id="205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209" name="Zaoblený obdélníkový popisek 20"/>
          <p:cNvGrpSpPr/>
          <p:nvPr/>
        </p:nvGrpSpPr>
        <p:grpSpPr>
          <a:xfrm>
            <a:off x="5114880" y="5035680"/>
            <a:ext cx="2200320" cy="1127160"/>
            <a:chOff x="5114880" y="5035680"/>
            <a:chExt cx="2200320" cy="1127160"/>
          </a:xfrm>
        </p:grpSpPr>
        <p:pic>
          <p:nvPicPr>
            <p:cNvPr id="210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114880" y="5035680"/>
              <a:ext cx="22003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213520" y="5330880"/>
              <a:ext cx="2009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Dopište počet skutečně proplacených hod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ovací šipka 12"/>
          <p:cNvCxnSpPr>
            <a:stCxn id="204" idx="7"/>
            <a:endCxn id="212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pro text 3"/>
          <p:cNvSpPr/>
          <p:nvPr/>
        </p:nvSpPr>
        <p:spPr>
          <a:xfrm>
            <a:off x="17640" y="1738440"/>
            <a:ext cx="9601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latní listina, výplatní páska, mzdové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 z projektového/provoz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personálníh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čestné prohlášení zaměstnanc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př. další relevantní do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5">
            <a:hlinkClick r:id="rId1"/>
          </p:cNvPr>
          <p:cNvSpPr/>
          <p:nvPr/>
        </p:nvSpPr>
        <p:spPr>
          <a:xfrm>
            <a:off x="6862680" y="5468760"/>
            <a:ext cx="217332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Viz Newsletter Osob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20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21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archiv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příkaz včetně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souvisejících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lší doklady dané platnou legislati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57320" y="3157560"/>
            <a:ext cx="9612000" cy="1357200"/>
          </a:xfrm>
          <a:prstGeom prst="rect">
            <a:avLst/>
          </a:prstGeom>
          <a:ln w="0">
            <a:noFill/>
          </a:ln>
        </p:spPr>
      </p:pic>
      <p:sp>
        <p:nvSpPr>
          <p:cNvPr id="228" name="Zástupný symbol pro text 3"/>
          <p:cNvSpPr/>
          <p:nvPr/>
        </p:nvSpPr>
        <p:spPr>
          <a:xfrm>
            <a:off x="506520" y="1868400"/>
            <a:ext cx="9112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 - zahran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text 3"/>
          <p:cNvSpPr/>
          <p:nvPr/>
        </p:nvSpPr>
        <p:spPr>
          <a:xfrm>
            <a:off x="-71280" y="1735200"/>
            <a:ext cx="991224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bdélník 4"/>
          <p:cNvSpPr/>
          <p:nvPr/>
        </p:nvSpPr>
        <p:spPr>
          <a:xfrm rot="1146000">
            <a:off x="8243640" y="1122120"/>
            <a:ext cx="15444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2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á podpora cílové skup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hrada zaměstnavateli za pracovníka, který se škol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x. do výše trojnásobku minimální mz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 školení (v hod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zavřít smlouvu o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délník 4"/>
          <p:cNvSpPr/>
          <p:nvPr/>
        </p:nvSpPr>
        <p:spPr>
          <a:xfrm rot="1146000">
            <a:off x="8243640" y="1122120"/>
            <a:ext cx="15444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2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2320"/>
                <a:gridCol w="9205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39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Zaoblený obdélníkový popisek 10"/>
          <p:cNvGrpSpPr/>
          <p:nvPr/>
        </p:nvGrpSpPr>
        <p:grpSpPr>
          <a:xfrm>
            <a:off x="8352000" y="3017880"/>
            <a:ext cx="1590480" cy="1468440"/>
            <a:chOff x="8352000" y="3017880"/>
            <a:chExt cx="1590480" cy="1468440"/>
          </a:xfrm>
        </p:grpSpPr>
        <p:pic>
          <p:nvPicPr>
            <p:cNvPr id="241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0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44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48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52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255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258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261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264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267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270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273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276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279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1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Obrázek 4" descr=""/>
          <p:cNvPicPr/>
          <p:nvPr/>
        </p:nvPicPr>
        <p:blipFill>
          <a:blip r:embed="rId1"/>
          <a:stretch/>
        </p:blipFill>
        <p:spPr>
          <a:xfrm>
            <a:off x="1084320" y="1327320"/>
            <a:ext cx="7556400" cy="4967280"/>
          </a:xfrm>
          <a:prstGeom prst="rect">
            <a:avLst/>
          </a:prstGeom>
          <a:ln w="0">
            <a:noFill/>
          </a:ln>
        </p:spPr>
      </p:pic>
      <p:sp>
        <p:nvSpPr>
          <p:cNvPr id="29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Zaoblený obdélníkový popisek 6"/>
          <p:cNvGrpSpPr/>
          <p:nvPr/>
        </p:nvGrpSpPr>
        <p:grpSpPr>
          <a:xfrm>
            <a:off x="6808680" y="2163600"/>
            <a:ext cx="2494080" cy="755640"/>
            <a:chOff x="6808680" y="2163600"/>
            <a:chExt cx="2494080" cy="755640"/>
          </a:xfrm>
        </p:grpSpPr>
        <p:pic>
          <p:nvPicPr>
            <p:cNvPr id="292" name="Zaoblený obdélníkový popisek 6" descr=""/>
            <p:cNvPicPr/>
            <p:nvPr/>
          </p:nvPicPr>
          <p:blipFill>
            <a:blip r:embed="rId2"/>
            <a:stretch/>
          </p:blipFill>
          <p:spPr>
            <a:xfrm>
              <a:off x="6808680" y="2163600"/>
              <a:ext cx="249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907400" y="2424240"/>
              <a:ext cx="1315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Obrázek 10" descr=""/>
          <p:cNvPicPr/>
          <p:nvPr/>
        </p:nvPicPr>
        <p:blipFill>
          <a:blip r:embed="rId1"/>
          <a:srcRect l="1906" t="0" r="0" b="0"/>
          <a:stretch/>
        </p:blipFill>
        <p:spPr>
          <a:xfrm>
            <a:off x="1306440" y="1424160"/>
            <a:ext cx="7290000" cy="4889160"/>
          </a:xfrm>
          <a:prstGeom prst="rect">
            <a:avLst/>
          </a:prstGeom>
          <a:ln w="0">
            <a:noFill/>
          </a:ln>
        </p:spPr>
      </p:pic>
      <p:sp>
        <p:nvSpPr>
          <p:cNvPr id="2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Zaoblený obdélníkový popisek 10"/>
          <p:cNvGrpSpPr/>
          <p:nvPr/>
        </p:nvGrpSpPr>
        <p:grpSpPr>
          <a:xfrm>
            <a:off x="5711760" y="1163520"/>
            <a:ext cx="3846600" cy="1135080"/>
            <a:chOff x="5711760" y="1163520"/>
            <a:chExt cx="3846600" cy="1135080"/>
          </a:xfrm>
        </p:grpSpPr>
        <p:pic>
          <p:nvPicPr>
            <p:cNvPr id="297" name="Zaoblený obdélníkový popisek 10" descr=""/>
            <p:cNvPicPr/>
            <p:nvPr/>
          </p:nvPicPr>
          <p:blipFill>
            <a:blip r:embed="rId2"/>
            <a:stretch/>
          </p:blipFill>
          <p:spPr>
            <a:xfrm>
              <a:off x="5711760" y="1163520"/>
              <a:ext cx="38466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956280" y="125244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finanční prostředky požadujeme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1084320" y="1812960"/>
            <a:ext cx="7943760" cy="3033720"/>
          </a:xfrm>
          <a:prstGeom prst="rect">
            <a:avLst/>
          </a:prstGeom>
          <a:ln w="0">
            <a:noFill/>
          </a:ln>
        </p:spPr>
      </p:pic>
      <p:grpSp>
        <p:nvGrpSpPr>
          <p:cNvPr id="301" name="Zaoblený obdélníkový popisek 4"/>
          <p:cNvGrpSpPr/>
          <p:nvPr/>
        </p:nvGrpSpPr>
        <p:grpSpPr>
          <a:xfrm>
            <a:off x="6145200" y="4468680"/>
            <a:ext cx="2816280" cy="1030320"/>
            <a:chOff x="6145200" y="4468680"/>
            <a:chExt cx="2816280" cy="1030320"/>
          </a:xfrm>
        </p:grpSpPr>
        <p:pic>
          <p:nvPicPr>
            <p:cNvPr id="302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145200" y="4468680"/>
              <a:ext cx="28162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354720" y="4917960"/>
              <a:ext cx="25272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Info o přijatých úro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Zaoblený obdélníkový popisek 5"/>
          <p:cNvGrpSpPr/>
          <p:nvPr/>
        </p:nvGrpSpPr>
        <p:grpSpPr>
          <a:xfrm>
            <a:off x="5735520" y="1504800"/>
            <a:ext cx="2695680" cy="1603440"/>
            <a:chOff x="5735520" y="1504800"/>
            <a:chExt cx="2695680" cy="1603440"/>
          </a:xfrm>
        </p:grpSpPr>
        <p:pic>
          <p:nvPicPr>
            <p:cNvPr id="305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5735520" y="1504800"/>
              <a:ext cx="2695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829480" y="1590840"/>
              <a:ext cx="2511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Částka nepřímých nákladů dle Soupisk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Obrázek 8" descr=""/>
          <p:cNvPicPr/>
          <p:nvPr/>
        </p:nvPicPr>
        <p:blipFill>
          <a:blip r:embed="rId1"/>
          <a:srcRect l="1909" t="0" r="1909" b="0"/>
          <a:stretch/>
        </p:blipFill>
        <p:spPr>
          <a:xfrm>
            <a:off x="1573200" y="1512720"/>
            <a:ext cx="6473880" cy="4889520"/>
          </a:xfrm>
          <a:prstGeom prst="rect">
            <a:avLst/>
          </a:prstGeom>
          <a:ln w="0">
            <a:noFill/>
          </a:ln>
        </p:spPr>
      </p:pic>
      <p:sp>
        <p:nvSpPr>
          <p:cNvPr id="30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Zaoblený obdélníkový popisek 11"/>
          <p:cNvGrpSpPr/>
          <p:nvPr/>
        </p:nvGrpSpPr>
        <p:grpSpPr>
          <a:xfrm>
            <a:off x="7265880" y="1079640"/>
            <a:ext cx="2543400" cy="1127160"/>
            <a:chOff x="7265880" y="1079640"/>
            <a:chExt cx="2543400" cy="1127160"/>
          </a:xfrm>
        </p:grpSpPr>
        <p:pic>
          <p:nvPicPr>
            <p:cNvPr id="310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65880" y="1079640"/>
              <a:ext cx="254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845480" y="1163520"/>
              <a:ext cx="185724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utraceny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Zaoblený obdélník 15"/>
          <p:cNvGrpSpPr/>
          <p:nvPr/>
        </p:nvGrpSpPr>
        <p:grpSpPr>
          <a:xfrm>
            <a:off x="-85680" y="2719440"/>
            <a:ext cx="1311120" cy="2913120"/>
            <a:chOff x="-85680" y="2719440"/>
            <a:chExt cx="1311120" cy="2913120"/>
          </a:xfrm>
        </p:grpSpPr>
        <p:pic>
          <p:nvPicPr>
            <p:cNvPr id="313" name="Zaoblený obdélník 15" descr=""/>
            <p:cNvPicPr/>
            <p:nvPr/>
          </p:nvPicPr>
          <p:blipFill>
            <a:blip r:embed="rId3"/>
            <a:stretch/>
          </p:blipFill>
          <p:spPr>
            <a:xfrm>
              <a:off x="-85680" y="2719440"/>
              <a:ext cx="131112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1680" y="2816280"/>
              <a:ext cx="10828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17375e"/>
                  </a:solidFill>
                  <a:latin typeface="Calibri"/>
                </a:rPr>
                <a:t>Částky zde uvedené budou shod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Zahnutá šipka doprava 21"/>
          <p:cNvSpPr/>
          <p:nvPr/>
        </p:nvSpPr>
        <p:spPr>
          <a:xfrm>
            <a:off x="1039680" y="244620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ahnutá šipka doprava 22"/>
          <p:cNvSpPr/>
          <p:nvPr/>
        </p:nvSpPr>
        <p:spPr>
          <a:xfrm>
            <a:off x="1039680" y="369108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odezření  na porušení rozpočtové káz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Zástupný symbol pro text 3"/>
          <p:cNvSpPr/>
          <p:nvPr/>
        </p:nvSpPr>
        <p:spPr>
          <a:xfrm>
            <a:off x="355680" y="1601640"/>
            <a:ext cx="972504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ušení podmínek výběrového řízení, např. není dodržena      povinnost sčítání spolu souvisejících p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é nedoložení požadovaný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působilé výdaje dle Příručky pro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ůvodně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hospodár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ylné plat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odezření na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Zástupný symbol pro text 3" descr=""/>
          <p:cNvPicPr/>
          <p:nvPr/>
        </p:nvPicPr>
        <p:blipFill>
          <a:blip r:embed="rId1"/>
          <a:stretch/>
        </p:blipFill>
        <p:spPr>
          <a:xfrm>
            <a:off x="255600" y="1504800"/>
            <a:ext cx="9833040" cy="4816800"/>
          </a:xfrm>
          <a:prstGeom prst="rect">
            <a:avLst/>
          </a:prstGeom>
          <a:ln w="0">
            <a:noFill/>
          </a:ln>
        </p:spPr>
      </p:pic>
      <p:sp>
        <p:nvSpPr>
          <p:cNvPr id="32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Řešení nesrovnal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– přímo přiřaditelné k určit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dokladovat, vykaz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náklady spojené s administrací pro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neinvestič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ní nutné doklad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4, str. 61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Výzva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Následuje praktický mod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úklidu, ostr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kanceláře pro 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lady na pořízení  zásob či materiálu pro občerstvení pracovníků či cílové skupi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lohy monitorovacích zprá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bdélník 3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způsobilým výdajům projektu dokládaným v rámci dané MZ  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výdaj musí věcně souviset s monitorovaným obdob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ahuje soupis všech účetních dokladů bez ohledu na hodnotu účetního do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Řazení dokladů v soupisce je vzestupně dle jednotlivých kapitol (položek)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se dopočítávají podle výše nákladů přím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text 3"/>
          <p:cNvSpPr/>
          <p:nvPr/>
        </p:nvSpPr>
        <p:spPr>
          <a:xfrm>
            <a:off x="372960" y="1541520"/>
            <a:ext cx="90252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3 Rozpis mzdových/platových výdajů realizačního týmu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4 Rozpis cestovních náhrad- zahranič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5 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20/1 Rozpis mzdových příspěvků pro škole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95360" y="5424480"/>
          <a:ext cx="7512120" cy="396720"/>
        </p:xfrm>
        <a:graphic>
          <a:graphicData uri="http://schemas.openxmlformats.org/drawingml/2006/table">
            <a:tbl>
              <a:tblPr/>
              <a:tblGrid>
                <a:gridCol w="5600880"/>
                <a:gridCol w="191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y 9/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125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Obdélník 8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03" name="Zaoblený obdélníkový popisek 5"/>
          <p:cNvGrpSpPr/>
          <p:nvPr/>
        </p:nvGrpSpPr>
        <p:grpSpPr>
          <a:xfrm>
            <a:off x="8137440" y="5321160"/>
            <a:ext cx="1817640" cy="1067040"/>
            <a:chOff x="8137440" y="5321160"/>
            <a:chExt cx="1817640" cy="1067040"/>
          </a:xfrm>
        </p:grpSpPr>
        <p:pic>
          <p:nvPicPr>
            <p:cNvPr id="104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37440" y="5321160"/>
              <a:ext cx="1817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236080" y="5553000"/>
              <a:ext cx="16272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předpokládané celkové výd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Zaoblený obdélníkový popisek 7"/>
          <p:cNvGrpSpPr/>
          <p:nvPr/>
        </p:nvGrpSpPr>
        <p:grpSpPr>
          <a:xfrm>
            <a:off x="3067200" y="3108240"/>
            <a:ext cx="1796760" cy="1586160"/>
            <a:chOff x="3067200" y="3108240"/>
            <a:chExt cx="1796760" cy="1586160"/>
          </a:xfrm>
        </p:grpSpPr>
        <p:pic>
          <p:nvPicPr>
            <p:cNvPr id="107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08240"/>
              <a:ext cx="17967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Zadejte procento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Zakřivená spojovací čára 17"/>
          <p:cNvCxnSpPr>
            <a:stCxn id="109" idx="6"/>
            <a:endCxn id="110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13" name="Zakřivená spojovací čára 19"/>
          <p:cNvCxnSpPr>
            <a:stCxn id="110" idx="6"/>
            <a:endCxn id="111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sp>
        <p:nvSpPr>
          <p:cNvPr id="114" name="Obdélník 37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16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0-09-07T14:05:41Z</dcterms:modified>
  <cp:revision>466</cp:revision>
  <dc:subject/>
  <dc:title>Název PPT </dc:title>
</cp:coreProperties>
</file>