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8DF69-9CAD-4F62-94BB-F3063F615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8C622-58BE-43AF-A976-75406D47F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A42AC-6439-46EB-AE19-7FD4B9FF4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FD815-80FB-4692-AFEE-5DE96ED17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D9D46-BCFE-4010-B184-2EA2FF813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EAD8A-E246-4436-BF76-D62A00352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09CB2-5CBA-46AF-9957-7A374D3D2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1E71B-8B72-4872-8637-C54AF6F6F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9CE80-D77A-4081-9409-A440C7DE7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C242D-2C7C-4146-89EB-9305425BB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1AFDD-B062-4588-A798-733549A8B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090B-FEC6-4294-97EF-1D208A3D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BB81-847C-4C58-BD35-D29B8EEA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57312-40A8-4348-AEC2-22A555E1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0B93D-CF18-41B0-AF95-2B1FAFF2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15CE6-41FD-48B1-911F-CBA0C9A4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2B382-758E-4BAD-92BC-841172A1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EBAB0-786A-43CB-B0FA-BB1760D3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E7F9F-440A-4249-93D0-6765F46D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476F3-8AB8-46D0-8A79-2DA74ACA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BD6BB-3ADC-404B-9145-475D57B9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9D744-FF7E-470A-B331-8D721E70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2954B-B150-4163-A5DF-8EEED6DE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0A2-1C97-4024-9B0C-B47D0AF7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0419C-2C82-498A-A16B-F5AF1439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A241A-1C27-4A32-A60C-141EE215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C777D-0B60-4A55-88ED-C8970992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6F708-E809-483E-A18F-E7ECD1B9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40FB7-7143-4896-9595-EF17F9B1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5ADF0-0B06-4611-BEDC-63C4745E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8DC50-3B13-4786-AE9B-7DFB1281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A7796-CB0E-44E0-8C0A-3B226C74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84F82-C6D0-495B-A5FD-616800D8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86522-02E4-44D2-BC2A-EDAC516B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53B7-E0F9-4EC0-A007-9FB794EA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1E8B4-3A7C-45F3-B85C-0575B496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C9C69-8A75-4A41-97FE-7A1BFCE7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0CC8B-18DE-4827-AF08-A54B5435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1815A-1779-4FE5-9B36-8F950276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4DB0B-3FF7-4E9F-8F73-9806FE8F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E86DF-A4F1-4780-B870-6EA5A569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F8C39-D5EB-4981-9C24-219FE8DC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29C13-24F1-494C-BBD6-E881D3F1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96228-F323-49D9-B92F-9DC09C95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8B387-A14B-4265-8EEF-F89146E6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3C0B-8130-4224-A8DA-193A420D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44F5E-5761-4654-B670-9AE1E777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D84AD-CC5C-4E12-8EAF-1744344C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D3CB6-2F05-427C-829B-957E6517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90E2E-7DA7-4725-A092-034ABA5A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46013-84C7-411E-849B-4FEF4906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613A2-5CF9-4A94-B222-5E38C354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73D5C-C5B4-4345-83F3-ADB2586E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B7062-BD83-4D0B-83E4-9184CC1D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09661-6A2D-4DA0-83DD-C7B2CEA2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82DB8-68F2-418D-8505-B4FD2290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B015-E82D-4F18-A382-DA25747E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2E7F9-BB3A-49AD-8335-58685004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5E4E6-D004-4913-B4F9-21850916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8470A-6A92-4BF7-AD6B-19F402BD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DB7F7-6BEC-4451-A49D-47658CA8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D307B-482C-43B4-89C7-016389F8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DAE2-F576-4DFF-8AA0-47CE2C29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A032-3A20-4FBF-9628-EEF13B76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6BC6-8DD6-48E0-B972-2D31DDAB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CAF3-28D8-4F6F-B556-8C16B4EB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B249-98EB-4CA2-9BE5-DD13DA2E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D65-A347-43BF-B929-B4485308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F2D5-9868-4FE8-AA1A-BD497DB2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45B8-0724-4032-80C3-46E69338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7145-5916-486E-8EB4-B1E97B20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7E19-C027-4D29-BAA5-58D0DA09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8C4D-0C34-428D-863E-CE5328E0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9536A-8F9C-4D54-A15D-A864BFC3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9CCC6-C9E0-4CAA-B186-0DCB73B4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33085-BFAA-47E7-8A2E-2DAE4037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FB378-7DE9-4068-A3B0-AA82848C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CDB10-F4BF-4541-893F-4AC41C0C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A12-758D-4A38-B9F1-A2A4A0AA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276CD-7DA1-427D-B785-BA012DE2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27454-CE44-4A7A-8D6E-A16937A4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47101-4393-4B54-8045-D8213D1C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3594C-3006-4E02-966C-0A12B922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495E0-DED1-4976-A894-116EC691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AF591-D2F4-4D51-A259-61254A2D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898BD-4B54-46D0-AD1E-EEB63E36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A3254-60B3-48AB-914B-3B43D404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FA6E9-B172-4442-9284-ECFA9F68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6603A-F9E5-4053-B0E6-00088424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5FE-496D-4F33-BB56-813778C7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BD004-0B2F-45E5-ADDA-7D0857A7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4520C-44F2-40B5-AB4C-63A80D30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616FA-024F-4F9C-B46B-D9A35ABA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10F04-4547-41FC-8AD0-3A20DD4C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A75A5-E919-422C-959A-4098772E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EBEC2-70B1-47F3-93B6-989F6416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114FA-705F-4507-8BD9-EC6C82A7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5F516-8DAC-4B59-868D-93375A9B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77745-DD0C-4487-A845-19326C52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BCF5A-C132-4E33-AC8B-D882A074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3CF5-E073-479F-BC00-9E6FBF47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0F07F-DD73-4FAB-A789-F54B975C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14763-33CD-4BFA-A8AC-268B1E36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3666F-5A4A-4D8B-8788-6514710A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ABF39-819F-4541-9CDF-8CC60151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6F2F5-8198-4EB5-A651-E72C2381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0D70E-5CB0-411A-8086-50F5B4D2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487AA-EC00-475C-9641-1543D8E9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4869E-3EE1-43C9-B533-5644FFD5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9D4A6-DB18-46D2-BE34-272C3DD8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4B210-D2E8-477F-9D25-170CF88A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995-C14A-4DB4-94AF-65075111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6B778-8182-44E6-8155-0EFAAADD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BA668-13B4-4029-8801-18D810D9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440CA-895F-470D-854A-C882706A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48615-EB39-46A8-BBC9-F3F0C3A6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AA984-5B7F-471B-A49D-EA360DC9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762C4-8957-4729-B28B-281D89C3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25618-7FEE-4156-A824-33037C73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9B75D-4AD7-46DA-88EF-CB77A38A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F8832-9AC1-4914-B062-B9854469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32747-F5FF-43EB-861F-BB22A4DA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093-D5B8-4862-B817-C07AE4D9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1F18F-D38C-4039-9D89-74CA0B2A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1F72E-3F8A-42CF-982E-2D752239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25C38-0036-4315-A959-A1321E49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8C289-D36B-495B-A03B-BA493FAE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F41C7-A5D4-477F-8436-E4A74C9F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4127C-0CF3-4522-9021-D420E5EC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C6399-6B06-4F14-B466-E3FFA62A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F5722-4FC4-424A-8FBD-407A154E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CF287-1693-4357-A547-F7A907E2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631A2-09AA-4B37-8703-F0D48D3B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301C-747A-4FC3-A868-75AB9AC2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C8C4B-9306-421D-8307-B25BC097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BF59A-2327-4C5F-967F-B4D99339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56A40-07C9-409D-880D-9A9BDC1D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37431-0789-42EB-9457-2F2E15FA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34E05-4B13-4B0D-AF14-8B8ED18C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51FF8-E13F-443C-BE2F-474EBD81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3936F-74B6-47BA-BF0B-0ACAD738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4FAA1-B7D5-4146-BAE2-28EA12A8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4454E-E4D7-4C2E-AD16-8B5FC95A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3F500-17B6-4517-B7F6-2419C15C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15F-4370-40CD-8A53-E457FCA2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245FC-9E9B-4507-9199-FC1B3507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54F86-467C-480F-A827-C31170C8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57EE9-5C9F-4A78-98C1-224D67EF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44478-1C5F-4555-BFE4-9289BF71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93C69-F03D-4F47-B1A9-152CF703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CE2E1-39D7-4CA6-9491-AEDDFCBC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4BC63-814A-428F-9A06-7ECBD7CA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496DE-4897-4362-94E8-26F342E6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00AA0-633A-4405-8D32-3AB24DCC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4B313-D625-47FC-AAB4-0AC5CD89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0A1B2-60B1-41C3-90F1-B2DDB0A1EA7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91409-DA6E-468C-AFCC-C24F6816B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B86AC4E0-DED1-4E3E-B79D-DEA4AD2D4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B4209-B6AE-4170-8693-45600B63D1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1CDA44-58CA-45BF-A4B3-41B695F21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A1A73-4368-4F26-94FC-B2D527E4268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BD8C7-6057-47C9-904A-3CB4F3249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52691-140F-4090-84F2-330895FE97B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E3FB1-BCDF-4277-A2E0-CACB55411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5265D-9E07-4FC2-80C2-C59F2567E43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F28E8-45E6-44C0-8EE2-B2A6DC97E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84C8B-84D9-49DE-BB12-0781DDDF428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F6EA1-42A1-49D2-91EC-FE43FDE5A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81E124-2D80-4FBB-9E50-68C90FA1815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12A87-9557-4C06-9CEA-0FB88BE60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DD9DC3-D247-4340-9FEF-D3ED9F3EE0C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D1E74-5DEC-4DE0-8285-B4457C85B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931DC-FC7D-43C6-A246-F1E3158E8EA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AE36B-E191-4D95-A3C3-D07178DB2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B708A-91D8-4B00-8CB8-7FF1FD6F5A9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C00C2-DA99-4B12-A85A-7513AAB84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6BECC-BAC4-4EE1-8C07-C43047641BE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8EF0A-51C5-45EB-A5A6-848C9B8CC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23FCE-8F7F-4A9C-B6C1-E384AF5C381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FF9FB-24CA-481D-BDA7-273E37AE2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8443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Pravidla realizace projektu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Ukončení projektu v jiném režim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329840" y="2171520"/>
            <a:ext cx="64580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Řízení o odnětí podpor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Řízení o odnětí podpory může být zahájeno pokud došlo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9144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 vázání prostředků státního rozpoč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9144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e zjištění, že poskytnuté údaje jsou neúplné či nepravdivé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9144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 vydání právního aktu v rozporu se zákonem či právem ES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9144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 situaci, že může být řádně či včas splněn účel dotace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F38E2-B218-4B34-99CD-2CA1177D2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Vztahy a povinnosti příjemce vůči cílovým skupiná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329840" y="2171520"/>
            <a:ext cx="64580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Postupy při oslovování cílových skupi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 oslovení cílové skupiny využívat legální nástroje publicity projektu (letáčky, plakáty, prezentace na seminářích či konferencích, inzerce v tisku či v dalších sdělovacích prostředcích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yvarovat se diskreditace cílové skupiny či projektu samotného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Helvetica CE"/>
              </a:rPr>
              <a:t>V případě, že zástupci cílové skupiny budou v průběhu projektu příjemcem nebo jeho partnery průběžně oslovováni - zajistit souhlas zástupců cílových skupin se zasíláním dodatečných informací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6DEF0-7B3F-4AD2-90C9-E496C6066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Vztahy a povinnosti příjemce vůči cílovým skupiná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329840" y="2171520"/>
            <a:ext cx="64580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Ochrana osobních údaj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252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jemce je povinen postupovat v souladu se zákonem č.101/2000 Sb., o ochraně osobních údajů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2520" algn="just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 Individuální projekty dále platí zákon č. 218/2000 Sb. o rozpočtových pravidlech -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z toho důvodu se na zpracování osobních údajů příjemcem podpory pro účely projektů nevztahuje oznamovací povinnost podle § 16 zákona č. 101/2000 Sb., o ochraně osobních údajů  tzn. není povinnost oznámit zpracovávání osobních údajů Úřadu pro ochranu osobních údajů před započetím zpracovávání těchto údajů.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45252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skytovatel dotace vydá písemné rozhodnutí formou právního aktu, který zavazuje příjemce k naplňování monitorovacích indikátorů a jejich dokladování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9B463-BF54-4AB3-B588-64BDBC3B1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71600" y="1249200"/>
            <a:ext cx="6283440" cy="6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Vztahy a povinnosti příjemce vůči cílovým skupiná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371600" y="2565360"/>
            <a:ext cx="6283440" cy="31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Proč a jak se zabývat monitorovacími indikátor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Monitorovací indikátory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jsou součástí monitorovací zprávy projektu. Plánovanou hodnotu MI projektu si každý příjemce stanovil při zpracování projektové žádosti. Uzavřením právního aktu se MI stávají závaznými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Dosažené hodnoty MI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se uvádějí kumulativně tzn. za celou dobu realizace projektu do okamžiku průběžného monitorování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ykazované hodnoty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se musí opírat o průkaznou evidenci vedenou příjemcem nebo partnerem (prezenční listiny, pracovní smlouvy, záznamy apod. – tyto materiály podléhají manuálu publicity)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BA21F-4F2C-401E-84C2-28AA78C33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Vztahy a povinnosti příjemce vůči cílovým skupiná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329840" y="2329920"/>
            <a:ext cx="6458040" cy="34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ásady při vykazování M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Ověřitelnost indikátorů –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jemce je povinen v MZ popsat a doložit zdroj, ze kterého lze ověřit splnění indikátoru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Dělení indikátorů –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kladní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monitorovací indikátory se mohou dále dělit pro podrobnější sledování dopadu projektu (např. na muže a ženy, kde součet dává číslo základního indikátoru, Počet nově vytvořených /inovovaných produktů s komponentou ICT či s komponentou ŽP, kde se součet nemusí rovnat základnímu indikátoru – počet nově vytvořených/inovovaných produktů)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Sledovaná hodnota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je vždy průběžná a kumulativní tj. vyjadřuje celkový počet za dosavadní průběh projektu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7F199-7EE1-40E3-B1C8-7A3A26362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Vztahy a povinnosti příjemce vůči cílovým skupiná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329840" y="2323800"/>
            <a:ext cx="645804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Přehled MI pro OP 1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07.41.00 Počet podpořených osob - celkem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celkový počet osob z cílových skupin, které byly vzdělávané v rámci projektu)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z toho 07.41.14 Počet podpořených osob v počátečním vzdělávání celkem – dětí, žáků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z celkového počtu podpořených osob)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07.41.15 – chlapci, 07.41.16 - dívk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z toho 07.41.65 Počet podpořených osob – pracovníků v dalším vzdělávání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z celkového počtu podpořených osob)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07.41.66 – muži, 07.41.67 - žen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8D557-0504-4CF2-8A41-91C2137C1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Vztahy a povinnosti příjemce vůči cílovým skupiná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323800"/>
            <a:ext cx="645804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Přehled MI pro OP 1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07.41.20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očet podpořených osob – poskytovatelé služeb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osoby, které v rámci projektu poskytují vzdělávací a se vzděláváním související služby cílové skupině –  např. pedagogický pracovník, lektor, školitel, tvůrce výukových materiálů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ní součástí indikátoru 07.41.00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37827-AAC3-4DA5-BA68-AF2F3E85D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Vztahy a povinnosti příjemce vůči cílovým skupiná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323800"/>
            <a:ext cx="645804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Přehled MI pro OP 1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06.43.10 Počet nově vytvořených/inovovaných produktů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nově vytvořené/inovované produkty vzniklé v rámci projektu pro cílovou skupinu, počet = počet druhů, souborů, nikoli kusů)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z toho 06.43.12 Počet nově vytvořených/inovovaných produktů s komponentou ŽP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problematice ŽP věnováno min. 15 – 20 % výuky)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z toho 06.43.13 Počet nově vytvořených/inovovaných produktů s komponentou ICT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problematice ICT věnováno min. 40 hodin výuky)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34C19-3163-4FD3-A27D-6D8E2E53C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FF7A2-E3EB-4430-BDC7-36D58BD53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228600" y="987480"/>
          <a:ext cx="8458200" cy="4937040"/>
        </p:xfrm>
        <a:graphic>
          <a:graphicData uri="http://schemas.openxmlformats.org/drawingml/2006/table">
            <a:tbl>
              <a:tblPr/>
              <a:tblGrid>
                <a:gridCol w="1481040"/>
                <a:gridCol w="830520"/>
                <a:gridCol w="496800"/>
                <a:gridCol w="496800"/>
                <a:gridCol w="495360"/>
                <a:gridCol w="496800"/>
                <a:gridCol w="1343160"/>
                <a:gridCol w="371520"/>
                <a:gridCol w="480960"/>
                <a:gridCol w="706320"/>
                <a:gridCol w="630360"/>
                <a:gridCol w="628560"/>
              </a:tblGrid>
              <a:tr h="167760">
                <a:tc gridSpan="1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Příloha č. 1 Monitorovací zprávy OP V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 gridSpan="1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gridSpan="1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gridSpan="1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ITOROVACÍ INDIKÁT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strační 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řadové číslo Monitorovací zpráv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v ke d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 gridSpan="1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 a výsled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ód indikáto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7"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ev indikáto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ěrná jednot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sažená hodno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tomto obdob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k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1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Je možné přidávat další řádk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dpis oprávněné osob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tné od 28. 6. 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lší zdro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Web MŠMT – sekce Strukturální fondy – OP VK – Pro žadatele a příjemce – Monitorovací zpráva a její přílohy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http://www.msmt.cz/strukturalni-fondy/prehled-a-postup-pri-vykazovani-monitorovacich-indikatoru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oradenství v rámci individuálních konzultací s projektovými manažer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5E312-4818-4951-A997-1AEE488BB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ravidla realizace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329840" y="2171880"/>
            <a:ext cx="645804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jdůležitější dokumenty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ručka pro příjemce finanční podpory z OP VK verze 4 účinná od 1.8.2010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ávní akt – Rozhodnutí o poskytnutí dotace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etodické dopisy OP VK – uvedené v právním a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 nové v případě aktuálního       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řešení konkrétní záležitost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etodika monitorovacích indikátorů – poslední verz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     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http://www.msmt.cz/strukturalni-fondy/prehled-a-postup-pri-vykazovani-monitorovacich-indikator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+ platná legislativa ČR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AD34E-10FA-4794-92BC-7C2F1265A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799920" y="2171520"/>
            <a:ext cx="788652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algn="just">
              <a:spcBef>
                <a:spcPts val="400"/>
              </a:spcBef>
              <a:spcAft>
                <a:spcPts val="850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600" spc="-1" strike="noStrike">
                <a:solidFill>
                  <a:srgbClr val="2a62a8"/>
                </a:solidFill>
                <a:latin typeface="Helvetica CE"/>
              </a:rPr>
              <a:t>Námitky proti postupu poskytovatele podpory  – možno podat do 15 pracovních dní od okamžiku, kdy se příjemce o tomto postupu prokazatelně dozvěděl písemným vyrozuměním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914400" algn="just">
              <a:spcBef>
                <a:spcPts val="400"/>
              </a:spcBef>
              <a:spcAft>
                <a:spcPts val="850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600" spc="-1" strike="noStrike">
                <a:solidFill>
                  <a:srgbClr val="2a62a8"/>
                </a:solidFill>
                <a:latin typeface="Helvetica CE"/>
              </a:rPr>
              <a:t>Zaslat 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914400" algn="just">
              <a:spcBef>
                <a:spcPts val="400"/>
              </a:spcBef>
              <a:spcAft>
                <a:spcPts val="850"/>
              </a:spcAft>
              <a:buClr>
                <a:srgbClr val="2a62a8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600" spc="-1" strike="noStrike">
                <a:solidFill>
                  <a:srgbClr val="2a62a8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2a62a8"/>
                </a:solidFill>
                <a:latin typeface="Helvetica CE"/>
              </a:rPr>
              <a:t>na odbor </a:t>
            </a:r>
            <a:r>
              <a:rPr b="1" i="1" lang="cs-CZ" sz="1600" spc="-1" strike="noStrike">
                <a:solidFill>
                  <a:srgbClr val="2a62a8"/>
                </a:solidFill>
                <a:latin typeface="Helvetica CE"/>
              </a:rPr>
              <a:t>46 CERA – Implementace projektů strukturálních fondů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914400" algn="just">
              <a:spcBef>
                <a:spcPts val="400"/>
              </a:spcBef>
              <a:spcAft>
                <a:spcPts val="850"/>
              </a:spcAft>
              <a:buClr>
                <a:srgbClr val="2a62a8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600" spc="-1" strike="noStrike">
                <a:solidFill>
                  <a:srgbClr val="2a62a8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2a62a8"/>
                </a:solidFill>
                <a:latin typeface="Helvetica CE"/>
              </a:rPr>
              <a:t>pokud nebudete spokojeni s řešením vaší námitky  odborem 46, můžete se poté obrátit na odbor </a:t>
            </a:r>
            <a:r>
              <a:rPr b="1" i="1" lang="cs-CZ" sz="1600" spc="-1" strike="noStrike">
                <a:solidFill>
                  <a:srgbClr val="2a62a8"/>
                </a:solidFill>
                <a:latin typeface="Helvetica CE"/>
              </a:rPr>
              <a:t>41 – Odbor řízení OP VK</a:t>
            </a:r>
            <a:r>
              <a:rPr b="0" lang="cs-CZ" sz="1600" spc="-1" strike="noStrike">
                <a:solidFill>
                  <a:srgbClr val="2a62a8"/>
                </a:solidFill>
                <a:latin typeface="Helvetica CE"/>
              </a:rPr>
              <a:t>, který provede prošetře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914400" algn="just">
              <a:spcBef>
                <a:spcPts val="400"/>
              </a:spcBef>
              <a:spcAft>
                <a:spcPts val="850"/>
              </a:spcAft>
              <a:buClr>
                <a:srgbClr val="2a62a8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600" spc="-1" strike="noStrike">
                <a:solidFill>
                  <a:srgbClr val="2a62a8"/>
                </a:solidFill>
                <a:latin typeface="Helvetica CE"/>
              </a:rPr>
              <a:t>     </a:t>
            </a:r>
            <a:r>
              <a:rPr b="0" lang="cs-CZ" sz="1600" spc="-1" strike="noStrike">
                <a:solidFill>
                  <a:srgbClr val="2a62a8"/>
                </a:solidFill>
                <a:latin typeface="Helvetica CE"/>
              </a:rPr>
              <a:t>Námitka či její prošetření, by mělo být provedeno během 10 pracovních dní a do 5 pracovních dní od ukončení prověření odesláno vyrozumě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2a62a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5DD2D-520B-472F-9771-CC46D11B0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Námitky a jejich řešení</a:t>
            </a:r>
            <a:endParaRPr b="1" lang="en-US" sz="4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277920" y="2171520"/>
            <a:ext cx="84088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algn="just">
              <a:spcBef>
                <a:spcPts val="451"/>
              </a:spcBef>
              <a:spcAft>
                <a:spcPts val="850"/>
              </a:spcAft>
              <a:buClr>
                <a:srgbClr val="2a62a8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914400" algn="just">
              <a:spcAft>
                <a:spcPts val="850"/>
              </a:spcAft>
              <a:buClr>
                <a:srgbClr val="2a62a8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800" spc="-1" strike="noStrike">
                <a:solidFill>
                  <a:srgbClr val="2a62a8"/>
                </a:solidFill>
                <a:latin typeface="Helvetica CE"/>
              </a:rPr>
              <a:t>Příjemce je povinen bezplatně všechny nově vytvořené produkty nebo jejich kopie předat do vlastnictví poskytovatele (MŠMT), který je oprávněn je uchovávat, využívat  zpřístupňovat třetím osobám a </a:t>
            </a:r>
            <a:r>
              <a:rPr b="1" lang="cs-CZ" sz="1800" spc="-1" strike="noStrike">
                <a:solidFill>
                  <a:srgbClr val="2a62a8"/>
                </a:solidFill>
                <a:latin typeface="Helvetica CE"/>
              </a:rPr>
              <a:t>bezplatně  šířit v časově, územně a množstevně neomezeném rozsahu</a:t>
            </a:r>
            <a:r>
              <a:rPr b="0" lang="cs-CZ" sz="2800" spc="-1" strike="noStrike">
                <a:solidFill>
                  <a:srgbClr val="2a62a8"/>
                </a:solidFill>
                <a:latin typeface="Helvetica C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lvl="1" marL="514440" algn="just">
              <a:spcAft>
                <a:spcPts val="85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2a62a8"/>
                </a:solidFill>
                <a:latin typeface="Helvetica CE"/>
              </a:rPr>
              <a:t>Příjemce je povinen zajistit smluvně nebo jiným vhodným způsobem oprávnění poskytovatele podpory k výkonu práv užít autorské dílo s nositeli chráněných práv duševního vlastnictví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74176-5067-4895-8187-CD4AE6BFE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Autorská práva</a:t>
            </a:r>
            <a:endParaRPr b="1" lang="en-US" sz="4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fc000"/>
                </a:solidFill>
                <a:latin typeface="Helvetica CE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Marie Kaufnerov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jektový manažer – oblast podpory 1.1 Zvyšování kvality ve vzdělá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bor  46 - CER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mail: </a:t>
            </a:r>
            <a:r>
              <a:rPr b="0" lang="cs-CZ" sz="1800" spc="-1" strike="noStrike">
                <a:solidFill>
                  <a:srgbClr val="0070c0"/>
                </a:solidFill>
                <a:latin typeface="Helvetica CE"/>
              </a:rPr>
              <a:t>marie.kaufner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DDA0BE-4110-4C6E-A01A-CB3F533BA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ožnost zasílání aktualit OP VK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a této adrese se můžete přihlásit k emailovému odebírání  aktualit týkající se ESF a OP V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ttp://www.msmt.cz/strukturalni-fondy/zasilani-informaci-registra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1BAA7-F36C-46D2-8157-4062481B7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oba realizace projektu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Délka trvání projekt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vedena v právním a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jdéle 36 měsíců od přijetí právního aktu s nejzazším datem ukončení 30. 6. 2015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aháj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tum akceptace Rozhodnutí o poskytnutí dota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bo datum uvedené v právním aktu –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le toho,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o nastane později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tum uvedené v právním a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5BA40-DD0C-4B79-8840-05D31E874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oba realizace projektu</a:t>
            </a:r>
            <a:br>
              <a:rPr sz="28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měna data ukonče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statná změna projektu.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žná pouze v řádně odůvodněných a schválených případech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působilé výdaje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 data zahájení projektu do data ukončení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 datu ukončení pouze výdaje bezprostředně související s realizací projektu např. audit projektu, mzdy pracovníků projektu, kteří uzavírají projekt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ECA6F-61E2-4263-A153-BFF83FC3D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1371600" y="2408040"/>
            <a:ext cx="6283440" cy="31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kud příjemce nerealizuje projekt v souladu se smluvními podmínkami - výše možné udělené sankce je uvedena v právním a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7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0B925-9C82-489A-8C8C-5E60D3623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Ukončení projektu v jiném režim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329840" y="2171520"/>
            <a:ext cx="6458040" cy="36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Ukončení projektu příjemc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ísemně k rukám poskytovatele formou návrhu na změnu právního aktu s novým datem ukončení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 nejvýše dvouměsíční lhůtou uzavření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případě akceptace změnového právního aktu (rozhodnutí o změně Rozhodnutí) začíná běžet lhůta pro uzavření aktivit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 financování ex-ante –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musí být odděleně evidovány výdaje uskutečněné po dni odeslání návrhu na ukončení projektu – vyúčtování musí bát řádně zdůvodněno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využité prostředky ve prospěch projektu musí být vráceny do 30 pracovních dnů po ukončení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F53BC-8775-4E12-B416-9D720F8F7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Ukončení projektu v jiném režim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329840" y="2171520"/>
            <a:ext cx="64580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Neoprávněné předčasné ukonč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případě porušení podmínek právního aktu (nedodržení podmínek pro předčasné ukončení projektu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suzuje se jako nesrovnalost a podezření na porušení rozpočtové kázně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jemce je povinen vrátit neoprávněně vyplacené prostředky v plné výši a ve lhůtě stanovené poskytovatelem nebo příslušným FÚ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C7642-8652-4A64-82B1-80A91F75A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Ukončení projektu v jiném režim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329840" y="2171520"/>
            <a:ext cx="64580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Pozastavení podpory z OP V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skytovatel podpory je oprávněn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ontrolovat podezření na porušení rozpočtové kázně či rozpočtových pravidel nebo podezření na porušení dalších povinností uvedených v právním a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yzvat příjemce k okamžité nápravě zjištěných nedostatků a stanovit lhůty k náprav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eventivně pozastavit platby příjemci podpor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C1058-3E10-4711-A7E1-6DC5EE3B2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Marie Kaufnerová</cp:lastModifiedBy>
  <dcterms:modified xsi:type="dcterms:W3CDTF">2010-09-16T13:04:11Z</dcterms:modified>
  <cp:revision>181</cp:revision>
  <dc:subject/>
  <dc:title>Titulní strana – Titulek</dc:title>
</cp:coreProperties>
</file>