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97944-E844-4849-B537-30DADE8B2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9A3E4-CCCE-4EF4-B3E1-C20469505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7A84D-42B8-458A-9F3C-637CA3A18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6A829-F1A9-491D-829F-B8FE8BCC1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036B2-3EB2-41EB-A491-73D3EA6D1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3ABDB-196C-4900-8622-D50AB17AA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307BE-04E1-48AC-B543-12AD1BCD0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5CF-900E-40B1-AB67-F3DAD188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A9A-33A0-49E6-ACB2-6727C358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9CCA7-EAC9-43E5-A872-7B5D853B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DD17D-2501-439F-91C1-4A2DC46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9AAB6-216E-4CFA-BD5E-B9D17183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D72E8-E01C-4354-B496-8426908E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D6896-6A75-4008-9776-CA3A8D1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313EE-CBC9-4F8D-BE33-E96ED4AB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8E079-BD42-413E-B3A6-83365F20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32908-06C4-467B-AB21-A32FD429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B7165-204E-4795-AAFC-0A43E27C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51D8C-0C54-45B2-ABAE-A6A65C6C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432-4D18-4B4F-8688-39A9EA63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DC080-FD55-48C0-8155-E85E1119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6380B-7F58-4E1D-A409-2FA7F0BC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ABDF4-034D-4731-A84E-80624B14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2517D-D9E6-490E-A8EC-10553C9D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9EEA1-0AE3-4667-8252-854DE12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D5B0F-DB56-4EBC-9410-0485D0A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9FA81-D414-40AE-9CB7-0C18CBF3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58BF1-5856-469A-BFA2-5657972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6D080-33B4-4780-9EED-77B8F1F7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70594-1D72-49EA-9999-F6A1F72E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FCB-A658-4E24-9144-B02A3324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692E3-6461-4FA3-B8CB-2357D8DD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89D37-08EF-4E18-B918-697B87CC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2C3D6-62DD-4DE1-9A82-1071676F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BA65F-0B34-4D27-AE85-46C06F41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13D65-12D9-4D0C-9D85-C60AD3C5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EAA30-7337-4241-AEBE-B870C867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7C4B5-4A70-41FA-A358-A073709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4571A-2159-44CB-8C63-01C8A7A4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A36F6-1124-492C-9368-15D41ADB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E0D37-9379-4398-AD08-D74B2018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4460-34BA-4E0A-A679-5DFA07BE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18166-B6E9-4C55-9D1A-6D43005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AF019-4AFE-4452-8BEA-49AC487C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1C516-A097-489F-8D8A-77C41177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62728-90B5-438C-8082-E2A9FEA7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2DF9D-538A-43D4-BDB3-21D49224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4CED3-839F-4E35-9AFD-2A387C3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C1990-141B-43DB-9674-415EE0DB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26472-2B62-438B-A8E6-53B6201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7766F-6384-4525-BC86-553FDB3C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45669-B338-4AF6-9D8B-468C3B8F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CA44-5A9F-430F-9E22-DE5DD4BD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45EBC-C5E2-4002-B400-B89D416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7342F-0883-4C77-A0DC-7D3C370F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BABB8-EF92-464C-B6F5-A8973C6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CCDD6-5974-4F2B-B9D4-6C00A40F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62E05-544E-4721-93EC-59C7891E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5AA7-F318-4ECE-8029-1CC5E6B1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9D5E-5893-46EE-B320-D3957CAE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7156-CEC4-43C5-8F8D-8907E283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D25A-9B90-4F07-B9DD-C7C3E12D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3E1F-8D1D-490F-BCD9-02CAA993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3BE-5ECA-4456-8341-DB6D29EB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3897-EFDF-40D1-8CBB-C4A5DFE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D69-B277-494C-BCC3-A57183E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0BDB-883D-429A-8F96-0BC4A900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2E12-0635-4BAD-A631-89419E66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7DFE-31C1-4FEE-9433-A6B20EF9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9874-EE9C-4B6E-B958-099205AA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657B-248F-4798-A471-4575F35B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89E6-36AE-4688-998E-5BF7A50B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B3D3-02A1-4099-B041-D4E532EC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4AC9-078E-46C1-B736-BDD7A697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704-ABD2-4373-A5EA-EBC65E09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EFB9-FC7E-449A-AEBB-E5CB3C44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4D19-097A-4C09-9DF0-0731343A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8D02E-5222-4CEF-92DB-F0856EF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B5A9-93CB-42AB-86B1-587A0D5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3310-30B8-4F3E-A15D-8E93184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814B-BB53-4009-ABC5-E1D1D241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B425-C237-40B3-9FB1-AF270DF7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9B0C-B5A5-415D-AF3B-5DD5904D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6B15-EACF-4108-BA03-3BCD2CFA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7D16-A458-48DA-9C0D-4A3932A2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D56-EF38-453B-812B-B92C28B5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5211-6658-40DA-8DC2-CA104CF5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3D277-248E-4AF8-A2F1-17D234D1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7966-317F-4925-AFB8-4CC5F69F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4F3C9-A742-4C82-9AA5-841D2A1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71BF3-0FBF-48F1-AACE-B2E026E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00C5-C8DD-4E90-AE53-A099D95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B42B7-3ED4-45A3-B10E-CAF7A121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5483-BB6B-4DF9-9087-35A8D08A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3952-9000-45F9-9D89-B445D460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ECC9-525B-47DE-8838-F237C3F3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128-4341-4D86-A6CD-599FBCD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6C28-D534-4A43-8A10-51D7E803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7EA0-2C87-4C71-AA21-A440EB14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0B92-34B0-4CEC-AC88-5F8C823A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C06AD-9514-4E7F-9D0D-35F78EE0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561EC-E42A-4CEB-8B4F-2744568E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62B1-1A40-4E1B-A3ED-9F25562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4D6A-3A05-41F4-87EA-0C264B10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47A89-AA53-40F6-BB9B-517C4F27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9244-945A-4B06-9E98-7197D9D7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EBB6-8D25-46A0-8772-50E5443E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797-2F36-4086-A637-8AF9EF9F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AA0B-EAC7-4559-8209-5249CAF3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8D27-B0E1-4F60-B6AC-701792ED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FA3F3-C7D9-4DA4-9B90-50D4FDFC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D43A-0D4D-4BE3-BED4-EF636AAB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8A20C-21E9-43A3-B7A5-D8B5FDBD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B2B73-5A23-406C-8795-CB5BE770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ADD1-8421-4833-B713-2B379D53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ABA6-E261-4FBF-8D59-61F72F75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CE0F4-FF56-4935-A2A6-C16E83CF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DA0A4-70C8-443B-8DC2-40BCE8B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D1A-7BF9-4876-991C-ED30336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D3B0C-F328-4D05-887B-07A3B42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F104C-060A-4B56-BD56-140B6905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BB493-1102-41C8-A591-814956F3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8291-8845-4664-860A-1AFC113F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7A59F-DF40-4245-949E-BCF8175A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CBEA6-44A9-4A02-AB44-D0A1E96E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232A-12FF-4B8A-8A6E-B1BA024F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EBF96-84B1-4694-BFAC-DE270D20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24834-C911-4089-A3F0-FA51207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1F8FF-D6A8-4180-8231-DB6DBF4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FD8-37A5-4D52-A510-A9EF675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0163D-5AE0-4F94-AEDC-E55E2834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B3EA4-AAC7-43B0-8A8C-FB4D00D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2BE11-079C-4241-85DB-3A382D8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B2F3-7D0B-4583-BA38-4EC8D24D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E0E7-301F-4481-81D4-BBEF5025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A7E0D-A63F-4D83-9D84-41A1E295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00FC7-BF22-4FD3-B3D0-5910BEB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532BE-D3CD-48F8-96E6-49457E6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52AC6-CCF5-45DE-8768-799F90C9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78069-36C6-4B49-850D-E6FD7BC4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8AD-59B9-4E60-83E6-01889228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BC56-1106-451F-977A-736A17D5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E79E-D7EB-452E-BD67-8EB8921C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79577-5B79-44AD-98CC-2C55AAE7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485FA-BE7C-4A64-B56B-C5D5EB55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1483-0C3E-42CA-9314-6443D9A0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DE253-8DC7-4119-8FC0-F3C0F2AC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40379-5DAB-4AB9-B12E-88E46524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5ABA6-5FB9-4BA1-AB5D-619D71E9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A07ED-2E59-4ED8-80BE-83123EE9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AD83A-7606-4E7E-9552-C93830AE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2E736-E712-4E3A-95BF-42429C7507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DE433-AA82-4D83-9B3F-A50C2866C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B80A2710-BDF9-40A2-B822-B03EC18D4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C91AB-DE02-4EB3-8C72-B21480930F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3EE1A-02D6-43D7-B17B-966295C1F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2FD37-83BF-4216-A625-3E7FCD5637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FD4D6-4AD5-4754-8646-A648A34AC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2C149-2F2D-4FED-8061-5BF5A26D0D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42D95-C900-47A6-89E3-E4C72652E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57029-B49D-496F-BBBD-2133BD19B4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5E762-B009-406D-9483-D4EB76A1D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EC8CD-4451-4350-8B04-19A32C18C2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409C9-B4CE-4841-80AE-A42680D8C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C2759-2E22-4D97-927A-657C4676BF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31E2F-5247-4029-B9AF-44DB6CCB8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264E5-C56D-4929-B588-89687382FF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7DA16-D252-4FF5-87E9-A3FDCD66D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94E83-3CEA-4A68-AC97-7CC7909E05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6F741-493F-4756-9F5F-AC0ADEB09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38273-9AEB-4ED8-AD09-5C59E24979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42CE0-57C9-4778-9C08-965CB3A41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519D8-329F-48F3-AD1D-AB5FCD4ED2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62C56-4B4A-4B65-8147-0B7A3F017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88FD6-AF8A-4ACF-90D6-4B7AEAD904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DF66A-5B45-41B5-B1B7-7EB0C6D74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44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Kontroly, sank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Formy kontr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dministrativní kontroly projekt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– formou pravidelných monitorovacích zpráv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ontroly na místě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– formou veřejnoprávní kontroly podle zák. č. 320/2001 Sb. a zákona 552/1991 Sb., v souladu s nařízením rady EK č. 1083/2006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etodická dohlídk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– nemá váhu veřejnoprávní kontroly. Výstupem je zpráva z průběhu dohlídky popisující stav věc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C5958-7528-41D1-9C37-5D6ABF962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Kontroly, sank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Sank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% ze všech proplacených prostředků v případě neplnění jakéhokoliv indikátoru výsledku nebo výstupu o 10 % - 15 %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 % ze všech proplacených prostředků v případě neplnění jakéhokoliv indikátoru výsledku nebo výstupu o 15 % - 50 %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stoupení od právního aktu (100 %) v případě neplnění jakéhokoliv indikátoru výsledku nebo výstupu o více jak 50 %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F7C2E-B637-497B-A397-A283B3361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Kontroly, sank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všech projektů s podporou nad 3 miliony Kč je nutné provést audit autorizovanou firmou (člen komory auditorů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rok auditora se přikládá k závěrečné žádosti o platb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se týká jak projektového účetnictví příjemce, tak projektového účetnictví partnerů s finančním příspěvkem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7C390-90BF-410D-9012-7720071D6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Kontroly, sank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ráva z externího auditu musí obsahovat informaci o následujících skutečnostech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 správnosti a úplnosti zaúčtování všech výdaj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šechny vykázané výdaje byly uhrazeny v souladu s pravidly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hodnocení postupu při zadávání veřejných zakáz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věření souladu výdajů s platným rozpočte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skutečnosti zjištěné při auditorském šetř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DAADB-F4BC-4573-9F17-6CAAD0427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Archiv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Archivace v listinné i el. podob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38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archivaci je příjemce zavázán v právním akt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in. do roku 2025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 Příjemce je povinen zavázat k archivaci také partnery projektu (případně převzít materiály, týkající se realizace projektu, do své úschovy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38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lady na archivaci po ukončení realizace projekt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způsobilé výdaje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38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38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77DA6-44AA-4E6A-BB3F-0D831BA45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Archiv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ákladní pravidla archiv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ždy porovnat zálohovaná data s originálem - verifika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jistit trvalost uložených dat v průběhu stanovené archivační dob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aždé médium po archivaci označit datem, názvem a popisem jeho obsah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kumentaci vést přehledně (uvádět číslo projektu, číslo monitorovací zprávy, datum) se snadnou dosažitelností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92766-1AA9-4EC0-8130-A8B4DD1F7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Helvetica CE"/>
              </a:rPr>
              <a:t>Kde najít MZ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01F42-F369-45A0-AE8C-A0769CE4D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1616040" y="1952640"/>
            <a:ext cx="6172200" cy="3857760"/>
          </a:xfrm>
          <a:prstGeom prst="rect">
            <a:avLst/>
          </a:prstGeom>
          <a:ln w="0">
            <a:noFill/>
          </a:ln>
        </p:spPr>
      </p:pic>
      <p:sp>
        <p:nvSpPr>
          <p:cNvPr id="569" name="Šipka doleva 5"/>
          <p:cNvSpPr/>
          <p:nvPr/>
        </p:nvSpPr>
        <p:spPr>
          <a:xfrm>
            <a:off x="2971800" y="3184560"/>
            <a:ext cx="701640" cy="214200"/>
          </a:xfrm>
          <a:prstGeom prst="lef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Šipka doleva 7"/>
          <p:cNvSpPr/>
          <p:nvPr/>
        </p:nvSpPr>
        <p:spPr>
          <a:xfrm>
            <a:off x="4632480" y="2394000"/>
            <a:ext cx="979200" cy="484200"/>
          </a:xfrm>
          <a:prstGeom prst="leftArrow">
            <a:avLst>
              <a:gd name="adj1" fmla="val 50000"/>
              <a:gd name="adj2" fmla="val 3741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10253f"/>
                </a:solidFill>
                <a:latin typeface="Helvetica CE"/>
              </a:rPr>
              <a:t>http://www.msmt.cz/strukturalni-fondy/prirucka-pro-prijemce-op-vk-verze-4-platna-od-30-6-2010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10253f"/>
                </a:solidFill>
                <a:latin typeface="Helvetica CE"/>
              </a:rPr>
              <a:t>      </a:t>
            </a:r>
            <a:r>
              <a:rPr b="0" lang="cs-CZ" sz="1800" spc="-1" strike="noStrike">
                <a:solidFill>
                  <a:srgbClr val="10253f"/>
                </a:solidFill>
                <a:latin typeface="Helvetica CE"/>
              </a:rPr>
              <a:t>http://www.msmt.cz/strukturalni-fondy/monitorovaci-zprava-a-jeji-prilohy-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M a F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F5C7D-14E4-4C39-B314-82844E89D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Helvetica CE"/>
              </a:rPr>
              <a:t>Děkuji za pozorn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Helvetica CE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 u="sng">
                <a:solidFill>
                  <a:srgbClr val="e46c0a"/>
                </a:solidFill>
                <a:uFillTx/>
                <a:latin typeface="Helvetica CE"/>
              </a:rPr>
              <a:t>petr.kraselovsky@msmt.cz</a:t>
            </a: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2FFD0-9943-4B62-957C-162B4054F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á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ledování využití finančních prostředků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klad pro kontroly a audi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zpráva o udržitel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1. Monitorovací obdob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začátku realizace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b) v souladu s kalendářními měsí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od prvního dne měsíce v němž začal projekt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Dodržovat celé období realiz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5313D-0E4F-40C0-87A3-F878766AB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růběžná monitorovací zpráv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 30 kalendářních dnů od ukončení monitorovacího období (první MZ po 3 měsících, další MZ pak po 6 měsících realizace projektu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epsané statutárním zástupcem. Datum podpisu statutárního zástupce nemůže být dřívější než datum vyhotovení zprá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zalepené obálce s adresou poskytovatele, jménem      příslušného PM a registračním číslem projektu. „Neotvírat – Monitorovací zpráva“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ctr"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Rozhoduje datum doručení poskytovateli podpory!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C34F7-955A-4043-BB37-9984BBC65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Žádost o plat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ouhrn všech způsobilých výdajů za uplynulé monitorovací období včetně podílu nepřímých výdaj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ůže zahrnovat i výdaje vzniklé v předchozím období, k nimž neměl příjemce v uvedenou dobu potřebné doklady. Podepsaná statutárním zástupcem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 projektu (kladné úroky) se z požadované částky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odečítaj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5003A-0574-4CAD-B5DA-946BC9A6D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Krácení částky v žádosti o plat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ůvody krácení jsou vždy sděleny písemně či elektronick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kytovatel je oprávněn při schvalování MZ požadovat po příjemci doplně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je povinen tyto údaje poskytnout do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5 pracovních dnů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nestanoví-li poskytovatel lhůtu kratší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8376C-E832-496C-9FD5-8D5223C6C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imořádná průběž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je oprávněn předložit mimořádnou monitorovací zprávu spolu s žádostí o proplacení uznatelných nákladů v kratším obdob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sledná monitorovací období je opět šestiměsíční a počítá se od podání mimořádné průběžné monitorovací zpráv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819E2-C521-4EBB-8E2A-45968FF73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ávěreč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jpozději do 2 měsíců po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projektů nad 3 mil. Kč se přikládá k žádosti o závěrečnou platbu i výrok auditora k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přikládá souhrnnou informaci o realizaci projektu včetně publicity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DF6C1-B7EF-4477-8FF4-CFBF67EC9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a o udržitelnost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íspěvek z ESF bude zachován, pokud projekt v následujících 5 letech po ukončení neprojde podstatnou změnou, kter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vlivní povahu projektu nebo výsledky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kytne realizátorům nepatřičnou výhodu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jde ke změně vlastnictví či zastavení produktivní čin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A3496-4EB6-4F85-8500-3944795A0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a o udržitelnost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držitelnost je specifikována v právním aktu dle žádosti příjem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jetek pořízený v křížovém financování musí být nadále využíván v souladu s podporo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dokládá udržitelnost projektu monitorovací zprávou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jednou za rok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jpozději do 2 měsíců od uplynutí prvního ročního obdob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CBB3B-2CE9-458A-B017-8E9E412A6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09-07T14:45:14Z</dcterms:modified>
  <cp:revision>182</cp:revision>
  <dc:subject/>
  <dc:title>Titulní strana – Titulek</dc:title>
</cp:coreProperties>
</file>