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04633-88E3-4D4B-A474-4AC521C2F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FB0F9-7616-4AA6-B94F-0D3F5FEE9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0583A-4835-49A0-8543-9FD78150F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D9799-102D-4358-9CF1-AE360DB4D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 – jedná se o přílohu č. 2 – Přehled uzavřených zadávacích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52E48-1502-48B0-89DA-A3F93DF75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96E0A-3922-4246-9E24-16E874E11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6D76D-3D69-4C04-B2EE-9C2715C59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0BE5C-95E8-4955-9E4F-67FBFEB6D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oporuč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příjemce v rámci Smlouvy o partnerství pověří partnera prováděním zadávacích/výběrových řízení, doporučujeme, aby si smluvně zajistil i přechod odpovědnosti za provádění těchto činností v rámci partnerství a stanovil v partnerské smlouvě partnerovi povinnost vrátit prostředky určené k plnění zakázky, pokud by se z důvodu nesprávně provedeného zadávacího/výběrového řízení staly nezpůsobilými k proplacení z prostředků OP VK. A dále, že je partner povinen uhradit případné sankce či pokuty, které by byly příjemci uloženy v souvislosti s nesprávně provedeným zadávacím řízení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7D8BF-CCE0-4B8A-9D0B-452252A19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všem poku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y jinak nebylo možné dostatečně přesně a srozumitelně určit předmět zakázky, musí zadavatel v tomto v zadávací dokumentaci nebo v oznámení o zahájení, umožnit pro plnění zakázky použití i jiných, kvalitativně a technicky obdobných řeš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y bylo poptávané plnění nekompatibilní s již používanými zařízeními či systémy a jeho přizpůsobení by provozu zadavatele působilo mimořádné obtíže, může zadavatel uvést podrobnější specifický popis plnění. – jedná se například o používání Microsoft Windows a Microsoft Office pro pořizované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CC1B1-08E6-4399-938A-C7056D5B0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lší dokument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které je možné stáhnout z webových stránek mšm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zva k podání nabíde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sledek výzvy k podávání nabíd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estné prohlášení o nestrannosti a nepodjatosti členů hodnotící k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pis o posouzení a hodnocení nabíd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65881-E137-4D5D-8630-BF3067BD2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E31-804D-42CC-87FF-46577B54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494-135F-41D9-B261-F7ADCDEA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2A26-84FC-44F2-BF87-9636FD99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1A2E-41C6-4FE9-9CB5-B139326E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2B641-43A7-4131-B34C-1C31B991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B7433-E75A-45E2-8CBB-945D2C08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8C54E-8D18-45E9-94D5-CAA47105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5D7F0-0FEB-4612-8140-510B158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DB1ED-84C4-4FEB-9A75-097892DC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AE02-55DE-4F89-AFA1-06B9C9DC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C8A2D-8B78-4CC5-9C67-5C905ED4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CFDF2-AD11-4986-B296-7E9816C3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91C-344F-413B-98DA-EA3BAC2F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7A7CF-8323-4E5F-930B-1F37528A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9B9F5-9D9A-4E64-B8E3-E66751CD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46B9F-2647-4A09-974D-4B81FE82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B7E55-E071-40E8-8554-51070D1B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4D5A5-B8AE-468E-957B-DE14476D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CB9C4-9191-4CE2-82D3-3A9E015B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67ED3-C4CB-4005-AA08-DF7D088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4197-F7C7-4385-8422-D73335F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7786E-9A52-4319-9419-50A06C11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A9ADE-C6D3-452E-BEE8-8E3C4901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CB7-2DAA-4B3F-94FD-9BB347DC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CF08-A93D-420A-855D-ED8D4924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DE4A2-070C-46EF-8672-3221412F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D70C4-ED59-40D5-9C08-B5A85241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0D480-4232-47B6-96AE-3090EED6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E8C3-E92D-439C-ACD1-E77096A0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39D1D-AF6B-4149-A2CB-3278DBEA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F6F6F-8375-4894-83A8-CC5A5F26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B8329-C2AF-4CE2-B08F-8087805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6BF64-29B0-4A5C-BFE7-0DF6183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5239C-60F8-4E5D-B6F0-CF62FFA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9A4C-174E-4EB5-98D9-8C501956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E1EE3-CB19-4CFF-923D-6126DCC4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2DC63-6773-41FF-BB70-A3F8032C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6FD7B-D496-4516-AB8B-EFE963CF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D1416-568B-4AA1-814F-D9240820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5B806-65CF-457B-BE5E-1AD053E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DD8EE-1F62-4C59-84AE-A62ED8B4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18B39-D7A4-4966-AB44-18CFC6AF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BC2B3-CD8E-46BF-9C71-202C24C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23B7A-397B-4A4A-BC2A-B85AE1E5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94AF6-B726-441C-B7F2-E3F61C7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39B-DA1A-4558-AF23-085B5B8E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89774-14B0-400B-B2CB-4538B57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ADEC8-1A8F-4B39-9FC3-1BFD7A5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FB77F-F597-457D-AC37-4A68D35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9E7F1-F6CE-4DAC-94E8-C6209A4D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7EEA2-93E5-40FF-8ACD-471F410D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67A4-6FBF-46B2-8880-F5C86D8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B805-FD03-4F59-B5BA-41934AB0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418A-E021-440B-B23B-3FCB84D0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F1AA-C6AC-4F69-B1B1-B9C1506B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2B05-922D-456C-AACE-D087B23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FC9-FE8F-4FEE-B389-A1426913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6C6-48A9-4224-B1BB-B2C60D3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F17-7921-45D9-9D12-E061C22D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1686-2B9E-4FC8-887C-5A5781D8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BADC-57BC-470D-9998-AC1B978D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19D7-B35E-4E85-A4DD-CF30B1CC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8721-EC7C-446D-B0B8-9FA7497A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9399-97DF-401E-88D5-3C1B741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2CBC-9285-49E6-A5E0-E5C60331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CE31-A20B-4E9E-8239-E914B9C4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038D-7AB8-4B50-BB36-C57A213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6DA-DC0A-4816-A95A-98B75EB7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3901-B09B-4E68-8B2A-22108456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3CCB-AD22-44D3-BC27-8C07D428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BF7F-2A64-4B5B-8192-70BE950E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1B63-288A-4D65-AC1C-218CCE1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4433-A134-4912-91B7-515E6F3F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97FFE-4DB2-4BE8-9D12-C2DF6FC2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E896-8D22-4D34-A02C-9E918100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2805-0A76-4817-9B14-2FA85E58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F889-58A9-41E7-A858-3F2AC041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88CE-3728-4A86-9946-3FFD55AD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967-A245-4BCF-A2CA-11BD9D83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3FC4-077F-46D5-8FE6-2F7FBE46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3904-9890-4716-BBC5-41ACF001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60F0-75B8-4A65-8D7F-86500047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886A-9D74-4F11-8B21-795D0F72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E24C-461C-400D-8DC4-E98E9A9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34FA-AAB4-4775-884D-8E20B8C7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84FB-F674-47D7-8C80-E0E95D2F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F719-0ABC-4453-837A-337037F8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E84F9-0C61-48A6-BF0A-8A96FBC3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BB17-F7FB-455B-850A-773B088F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7DD-E6A9-498F-B29F-0110F096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C9F7-862B-4B9F-94B1-670F9D84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1FAB-FE3A-47FD-8923-3E0B8091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9183-F9AA-413F-8F81-A5302F8F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C8DE9-41BC-4BF5-A907-63A6E61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86BF-C258-4189-BC54-31784F8D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C41A-8D6A-4CD9-8206-3B74998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66EC-7A09-419E-8786-7520937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0013-BA98-41D6-A37F-004E31C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53B93-72D5-4BFD-BE1E-F2BB80F8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243F-3C57-4B61-9B9D-1456C5AA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D65-843B-4C72-92A9-6F21A330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8448-4AE1-4238-9D7D-24DCF34A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0C7DD-A5AB-49B9-A144-8981F394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C381-216B-455C-879C-8B9C316F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1D02-002A-4F2F-8D4A-C48E8D2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1DC9-C452-407A-ACE3-2D110151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7DCE-CEA6-4441-8967-542900C6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FDF5-6232-4E13-B517-3454D95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A7B5-6E25-4872-8D72-15ACF7EB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714F-6EC2-478A-A170-22C0334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7F9F5-38DF-4453-B27E-9F46487C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D88-3653-4853-A5D2-AC4A986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1A2F3-F6FE-428D-928B-DCBC4AF5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58B93-7423-4D2F-A7ED-6477E716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B0B1-AB87-4227-8534-87A8973F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4E816-0D80-4A90-A035-38A97381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9023-C8EE-45C0-9221-56E5B676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8B92-C378-4F1F-82D9-4716035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544B-BF17-4506-A4AB-43AAB98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173E-77D2-41A1-8713-4B66E21D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8B76-C8B3-4E17-ABE9-230DFB0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016BF-2D07-4EFD-942B-B4DA173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F63-0450-4477-82DE-49562595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5011B-025D-4D04-90DE-340326B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B01E-DD49-4031-A8D3-037B0D7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08F6D-8ACC-4BEB-904F-EC3ED654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A1CB-8B4A-4111-9C12-4C839B0C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E363-7471-4A48-BCD5-0DA418B4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0954A-2E5A-4E55-9BE1-D86D197A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1ADE0-131F-4CF5-BF1C-67574D20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5B51B-5B73-46BE-81E7-11F4F23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4074-9436-4CB0-9C03-4F53EA5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7D1BA-A689-4DA9-B547-32133FFF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543-8ED6-4F7F-BC4A-D06512F4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F5690-77E8-4114-918E-759AD649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3E0D5-4959-4FA1-A358-4ED1410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D4EDE-695D-488E-A579-07DB4FA7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B426-31EF-4187-9903-CA6BED36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09BE-CECA-4B53-BF65-1A22166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EEC05-6DCF-43F7-A9F5-F3BE150E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4BDC-33E7-4404-BDD7-03C6118F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3F039-FC65-4D45-8A8A-C486F76D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F345C-2BD8-491A-A403-74A7053C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98241-4C5C-4F53-83E9-4B6D053F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F60AA-A76D-4209-87EC-ECE88CDBD3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4FD3E-93D5-4195-A2FE-41F31FEEF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8EDB096-4D60-43BB-B27A-8B870236A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98B44-658A-4E08-BB0D-F756E484A4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39073-CD81-4068-8BE2-E66FDF870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8CF8F-67B6-4D36-B0DD-94A536B3A9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92476-B191-4617-9EB0-3D1E63838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0DDA5-A369-4BAC-BD46-C5E99E2FA1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8AE0A-C82E-42C3-B5CB-FBE5F4B9B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4961F-0785-49C9-B28C-9049781B84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4544A-B9F2-42D1-8C56-DE297E133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9C6D6-DA07-4ECC-8A29-04161183E2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1696B-24C6-412B-95D8-47C95E9C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C4A86-428C-46B9-A6AD-4DC28B1771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2DC6A-E8EE-4F24-A3B6-237898A63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3ED66-D89C-473B-8EBC-03A8224E66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45B8C-4B73-4978-B150-89FA292FC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1DD2E-1844-4984-AF99-BE43B63B31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DA6DC-4F89-4C48-8090-50001792E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BD6B2-F067-481D-87F5-FAAA5CD68A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276AA-2B42-4B69-8022-0FBB8D527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AD791-4B7E-44D8-B424-8B5C2493B8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F99FD-AE67-48FF-B598-7C0223A60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777D0-B255-4815-8097-3BC87C556E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2AD06-3621-4A5D-81A0-8A7B73441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etra.netikova@msmt.cz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44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  <a:ea typeface="Arial CE"/>
              </a:rPr>
              <a:t>Veřejné zakázky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Hodnocení nabídek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329840" y="1952280"/>
            <a:ext cx="645804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Komise/pověřená osob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hou být zaměstnanci za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hou zastávat i roli komise pro otevírání obál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Postup + doklad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y jsou pouze úplné nabíd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bídky předložené po uplynutí lhůty nejsou hodnoce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bídky, které nesplňují podmínky výzvy a kvalifikační kritéria nejsou hodnoce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 hodnocení je vždy nutné pořídit protokol 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29840" y="1047240"/>
            <a:ext cx="64580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Ukončení výběrového 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29840" y="1755720"/>
            <a:ext cx="64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Uzavření smlouvy – postup a možnost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oprávněn uzavřít smlouvu pouze s uchazečem, který podal vítěznou nabídku – pokud odmítne, pak s druhým…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zavřená smlouva musí odpovídat podmínkám stanoveným v zadávací dokument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ležitosti smlouvy dle Příručky pro příjemce verze 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Zrušení VŘ – možnosti a důsled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ost informovat všechny uchazeč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kud nebyly ve stanovené lhůtě podány žádné nabídk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přeformuluje podmínky a zadává znov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povinen o důvodech zrušení informovat poskyto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akázky do 200 000 Kč bez DP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Změna oproti předchozím výzvám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musí být prováděno výběrové řízení a je dostačující zaslat přímo objednávku jednomu vhodnému dodavatel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bjednávka musí být zaslána dopisem nebo elektronicky a potvrzena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ybraným dodavatelem nemusí být nutně uzavřená písemná smlou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nákupu drobných položek v obchodě stačí doložit paragon z obchod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akázky 200 000 – 800 000 Kč bez DP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29840" y="2374920"/>
            <a:ext cx="645804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Změna oproti předchozím výzvám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povinen písemně nebo elektronicky vyzvat k podání nabídky alespoň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3 do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hůta pro podání nabídek musí trvat minimálně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9 kalendářních dn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e dne odeslání výz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nabídek nemusí být prováděno hodnotící komisí – stač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věřená osoba za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ybraným dodavatelem musí být uzavře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ísemná smlou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valifikační kritéria dl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§ 54 zákona  137/2006 Sb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akázky 800 000 – 2 000 000 Kč bez DP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68280"/>
            <a:ext cx="64580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Změna oproti předchozím výzvám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povinen písemně nebo elektronicky oslovit alespoň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5 dodavatelů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vinn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veřejnit výzv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 stránkách MŠMT (nebo ZS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hůta pro podání nabídek činí alespoň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kalendářních d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nabídek musí být prováděno minimálně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3 člennou hodnotící komis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ísemná smlou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valifikační kritéria dl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§ 54 zákona  137/2006 Sb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330200" y="2344680"/>
            <a:ext cx="674208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stupná na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www.msmt.cz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zavřené zadávací řízení = podpis smlouvy s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plňuje se kumulativně – pokračování v číselné řa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kládá se ke každé MZ, ve které dochází k jakékoliv změn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evzdává se za celý projekt, tzn. obsahuje zadávací řízení příjemce i jednotlivých partner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kud je ZŘ zrušeno, vyplňuje se do této přílohy s následujícím pořadovým číslem, do názvu dodavatele se napíše zrušen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Příloha č. 2 - Přehled uzavřených zadávacích 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7296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Doklady k monitorovací zprávě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xt oznámení o zahájení výběrového 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pis o posouzení a hodnocení podaných nabíd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mlouva s vybran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xt oznámení o výsledku VŘ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Časté chyby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dání všech požadovaných pod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oučástí zápisu není prohlášení o mlčenlivosti a nepodjat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rušení ZŘ není součástí Přílohy č. 2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fc000"/>
                </a:solidFill>
                <a:latin typeface="Helvetica CE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Ing. Petra Netík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petra.netik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Rozdělení zakázek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39800"/>
                </a:solidFill>
                <a:latin typeface="Helvetica CE"/>
              </a:rPr>
              <a:t>Veřejná zakázka na dodá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zakázka, jejímž předmětem je pořízení věcí („zboží“) formou koupě zboží, koupě zboží na splátky nebo nájmu zboží. Dále za zakázku na dodávky lze považovat poskytnutí služby spočívající v umístění, montáži či uvedení zboží do provozu, pokud tyto činnosti nejsou základním účelem zakázky, avšak jsou nezbytné ke splnění zakázky na dodáv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f3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39800"/>
                </a:solidFill>
                <a:latin typeface="Helvetica CE"/>
              </a:rPr>
              <a:t>Veřejná zakázka na stavební prác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f3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39800"/>
                </a:solidFill>
                <a:latin typeface="Helvetica CE"/>
              </a:rPr>
              <a:t>Veřejná zakázka na služb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 Je zakázka, která není zakázkou na dodávky nebo na stavební prá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29840" y="1047600"/>
            <a:ext cx="64580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ákladní ustanov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329840" y="1681200"/>
            <a:ext cx="64580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koli výdaje na pořízení určitého zboží, služeb či stavebních úprav musí být bezpodmínečně spjaté s realizací projektu a pro projekt musí být prokazatelně nezbytné. V opačném případě by se jednalo o nezpůsobilý výdaj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adavatelem zakázky může být příjemce dotace nebo jeho partner s finančním příspěvkem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pokud je touto činností pověřen ve Smlouvě o partnerství. Příjemce dotace je však odpovědný za to, že v rámci realizace projektu nedojde k porušení pravid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možností je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mocnit partnera k zastoup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v souladu s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1 zákona č. 137/2006 Sb., o veřejných zakázkách. Zadavatelem v tomto případě zůstává příjem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ákladní ustanov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/partner může provést výběr dodavatele již před zahájením realizace projektu. Výdaje spojené s tímto výběrem jsou však neuznatelné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e zákona č. 320/2001 Sb., o finanční kontrole ve veřejné správě, musí příjemci disponovat s veřejnými prostředky hospodárně, efektivně a účeln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Stanovení předmětu zakáz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Zadavatel stanoví předmět jedné zakázky tak, aby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šechna obdobná a spolu související plnění, která zadavatel zamýšlí zadat v průběhu jednoho účetního období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b) Všechna plnění, která spolu místně, věcně a časově souvisí, nebo jejichž předměty plnění tvoří jeden funkční cel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Stanovení předmětu zakáz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POZOR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určení předmětu zakázky </a:t>
            </a:r>
            <a:r>
              <a:rPr b="1" lang="cs-CZ" sz="1800" spc="-1" strike="noStrike">
                <a:solidFill>
                  <a:srgbClr val="c00000"/>
                </a:solidFill>
                <a:latin typeface="Helvetica CE"/>
              </a:rPr>
              <a:t>NENÍ PŘÍPUSTNÉ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vádět v oznámení o zahájení výběrového řízení (ve Výzvě k podání nabídky nebo v zadávací dokumentaci) požadavky nebo odkazy na obchodní firmy, názvy nebo jména a příjmení, specifická označení zboží a služeb, které platí pro určitou osobu, pokud by to vedlo ke zvýhodnění nebo vyloučení určitých uchazečů nebo určitých výrobků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Dělení zakázek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smí docházet k dělení předmětu zakázky na menší zakázky s cílem snížit hodnotu zakázky pod stanovené limity pro jednotlivé postup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není povinen sčítat předpokládané hodnoty zakázek, které vzniknou z aktuálních potřeb zadavatele a které nelze objektivně dopředu předvíd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vinnost sčítání neplatí ani pro opakované zakázky, které zadavatel pořizuje nepravidelně a její jednotková cena je v průběhu účetního období proměnlivá (např. potraviny, pohonných hmot či letenek pro cílovou skupin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076040"/>
            <a:ext cx="6728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Forma zahájení výběrového 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1798200"/>
            <a:ext cx="64580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veřejnění oznámení o zahájení výběrového 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esláním výzvy k podání nabídek konkrétním zájemců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ombinace způsobů a) a b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známení o zahájení výběrového řízení musí být uveřejněno na webových stránkách MŠMT nebo zprostředkujícím subjektu, dále může být uveřejněno na webových stránkách zadavatele či v tisk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ulář pro zveřejnění výzvy na webových stránkách poskytovatele dotace naleznete na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www.msmt.cz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Výzva k podání nabídek). Součástí formuláře jsou i kontak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ové adresy –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později 3 pracovní dny před termínem zveřejně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9840" y="1017720"/>
            <a:ext cx="645804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Oznámení o zahájení VŘ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329840" y="1739520"/>
            <a:ext cx="645804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Musí obsahovat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dentifikační údaje za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zev a popis předmětu zakáz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pokládaná hodnota zakázky bez DPH a s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hůta a místo pro podání nabíd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daje o hodnotících kritérií (uvádět v %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formace o tom, v jakém jazyce může být nabídka podán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ogolin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kaz na kontaktní osobu zadavatele, telefon, e-mailová adres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stanovení o zrušení zakáz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09-07T07:24:28Z</dcterms:modified>
  <cp:revision>115</cp:revision>
  <dc:subject/>
  <dc:title>Titulní strana – Titulek</dc:title>
</cp:coreProperties>
</file>