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1747F-23A0-4291-BB99-FA612884A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chce příjemce předkládat MZ v intervalu po celých měsících (od 1. do 30.) je nutné, abychom mu upravili „hlavičku“ v M7+. Tzn. 5 pracovních dní před skutečných (novým) termínem ukončení monitorovaného období příjemce požádá svého PM O CERA o změnu dat předkládání MZ (mailem). PM potvrdí emailem a upraví v M7+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9DFDA-5FAE-48F8-AECF-6811E31CE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ykazované indikátory se musí opírat o průkaznou evidenci vedenou příjemc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ýkazy o provedené práci, prezenční listiny, certifikáty, atd. – tj. doklady, kterými můžete prokázat dosažené číselné hodno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2B1F2-6B35-4C6F-8876-F635DF107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9BAC0-1AD1-4869-9621-3DA8E184D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pište, jakým způsobem jste ve sledovaném období informovali cílovou skupinu a širší veřejnost o Vašem projektu a jaké nástroje publicity jste využi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webové strá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ištěn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udiovizuální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lmov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e,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nzerce v médiích (tisk, TV, rozhlas, internet, ostatní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azné aktivity povinné publicity jsou uvedeny v příloze č. 1 Rozhodnutí o poskytnutí do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je součástí MZ Žádost o platbu, popište náklady spojené s povinnou publicit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7F14C-4ED5-453B-A131-A2EA4528E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B89FC-6668-41E4-AB98-5179E9437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1ABCE-F615-45E1-AFBA-23131D375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FE04C-42D8-4D1D-88FA-3EB1AD055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01574-9786-4A2A-9081-344BBAFC9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E9D5D-0CCD-4EE8-8253-3EDAE53A6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, která má charakter podstatné změny projektu, nesmí být provedena před jejím schválením poskytovatelem podpory a před provedením úpravy nebo doplněním právního aktu o poskytnutí podp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57D86-465C-4163-B546-BB5F665D8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EA98D-EB18-469B-81C6-D71057378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BE466-3B2E-4719-9578-4B8ED42FF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DBBF8-FF38-4D7D-9674-E1ACA6666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DD9E0-0AB8-4485-B27B-249F8F2E1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E128A-0A11-4A04-97E3-84640C946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524-007D-456B-A38A-41E5DD1A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C6E-9547-437A-95E3-B80E6917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CECC2-47E8-4B8A-BE3C-D24D67D8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E4927-B3EE-40AB-8A15-09AA7E9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7862C-4083-4254-8A56-E8CFEA06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8F3F1-F4B0-4959-B018-94710BEC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1890A-C3C0-4FD3-A0CB-6822ABBC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DFA72-32E9-4E3A-83B6-8C3B30D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0FC24-75B4-430E-B6B0-CF4BD327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2B736-9D66-4BCC-8232-73F086E2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01ABB-24F2-4529-B34A-912E24D8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268EF-787E-4D49-A34F-A2DA2545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607-5F04-4DD9-9287-A453A0D9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4A9BC-F5B7-46D8-ACE1-82A0F5E4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7665B-89D5-454E-B169-068EFC12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08F99-073E-4820-B5DD-2DCDB26B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F9C51-A8ED-427E-A105-B7610B15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3D1E9-5910-48D8-8D6D-78FA5B1B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FF0BB-8168-4B5E-8CF1-A9F35AE4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B66F5-7AF5-4A5A-9496-DAC51705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C6871-CD87-4DFF-B7F4-7E215977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B6D28-AB76-4DEE-BDA0-49AD0FD8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4C1FD-A311-4497-A03A-28185A22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68A-670F-4CE9-A64D-9A3316F2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2A02C-EC41-4118-AE5E-68ED0E6D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46F65-08CA-4E49-9B2C-571427C8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D63BA-4493-40D9-8756-E90595D9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927DC-B703-4DAF-BF56-83535EBD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BA139-F145-4C7A-8DE1-4C4D7172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BC406-DF2D-42CC-83CA-7AF2825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6B5F6-ECBD-4006-8F9F-3C1CB5F9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CCA73-8E75-4C87-8B0B-3BACFFA6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928A8-3E76-4164-8942-A243541D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BC643-0821-40C5-B0B6-70B5066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7A8-20A1-4B29-B362-1DB46E97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76E4D-7686-4092-BD24-5360FA43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9C816-B7B7-4ED3-9CB0-3D460DCA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A1302-93E3-4F17-BD9C-93D69A63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00FC2-B730-4958-9BEA-10880494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4247C-6194-4328-861C-A065809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18EB3-1BFB-4204-9ABE-57CFBB9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E039A-0175-4A2C-867A-8DAB3804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00F5B-0E33-4FB1-A076-9E2A7BC2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DBE82-D04D-4308-985A-387F55E7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9847D-9C3E-4530-8D2A-7B1A432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744B-E3AB-4C42-BA28-1BCC034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E7E87-0950-4A58-BB15-298D181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654BB-0584-4CBC-B926-554C3F08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1AD35-F1E8-417B-81A4-8AA2A549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DA854-E840-48CB-AAFE-55B673E4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8118E-122F-4180-8249-43487DC8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1E9-5FCB-497F-92AC-BD64C0EA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9169-D305-4DAF-AC32-C850B5C6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84F8-5AD5-41AE-9922-990613E3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E9BB-9AC5-469E-AD65-7CB88C84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7ABD-FD2C-4D70-A841-71AAA644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7F0-93D5-403B-B285-66B5B5D0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D2DC-C577-4E29-9B53-BA8D8DBC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08D7-483C-4E76-BB62-99291EC4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ED4-8B2A-4AA9-9113-8071B65F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71AE-3C03-46EF-A37D-DC47755C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6C18-B6F0-4BD3-8FA6-56D915F5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5513-97A4-4D72-A665-EE78E089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AD54-75D9-479A-B8E0-A70064CE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BBFB-A01F-4205-9194-C531DD7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07FA-07DD-428D-A0EA-668B2DFC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43F2-2ACE-4224-B1D0-04D25F24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498-E092-44D2-A783-04395341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33C9-E0EE-4DD2-BF4D-58C40EF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48E1-7020-457D-A440-BB36B294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5EFB-ED45-48C5-AC13-FC089CCD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B791-3203-42C6-BDCA-08C2B93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5F20-FA96-4CD7-A715-A9EBAA59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C105-6680-413A-8CCF-58A70F05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2764-BDAF-4C33-A502-898BA7EB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FAF85-8F33-46C8-AF8C-DAB3A312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1AABC-4643-42FF-8CDC-B1665C78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56A3-7975-408E-ADA4-DC0F1B47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B29-47A3-4135-AD08-E1B25AF9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6ADC-46E9-4802-8DF1-798F39E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58CCB-4531-4C35-8836-C289D3F9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687C3-5563-4274-9F75-64CA5BB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53C85-F67A-42B0-96C6-2F6590D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E7B4-1BD9-4546-8848-7D9F168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2258-213A-4E23-BC01-3684CCF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FBC1-A34D-4C5F-ADA8-D9AA9F0C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D3907-B47C-430F-9227-BC1D2375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9C83-7673-41AD-8A6E-A53E15A5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E42D-24BC-481A-B1BB-E4F21D38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8AB-A11E-47B6-8402-6F859263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4B30-3981-4551-B85A-6220039E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830C-FC7A-445B-B7A0-F6F4E9F0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706E9-328C-4273-BE5B-41A7ED7F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0F037-2F09-4BB0-BAC4-1BB1EA83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3BD40-2832-4182-BFA0-67E6A338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4099-B4EE-4926-9B6F-C311F921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884C8-2CAE-4BBE-B9A4-934F895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6A8CD-6B0A-4844-A10A-FD87910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6AF9A-4355-4B12-B6E2-18269E09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4529E-BB7B-4F2D-88E3-D04858A9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2F6-B34B-4481-B19B-3AEA712C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F5DE1-47D2-4E2F-8ED1-3E079A94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17BA-917C-4B3B-9C1A-6E063478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03EBC-9BC6-4833-8E2E-D25296A2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B1E0-AE6C-4A4D-8B26-E8D6B293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6D574-343D-4D41-B831-65E90AEF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61F8-11E5-4330-B67A-51EDA654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D0E49-F70B-4313-9F7E-BC9BECFE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755A1-2896-4005-B694-C8638109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0DB68-35FE-45B6-B617-F895BA7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0870-6C2B-4C8B-9BE8-FD98858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298-2257-4673-90B8-F4782712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1D74B-B036-4514-AF2E-CD905F41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8F45B-C4E9-480D-80B1-BF9B052C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2518-5010-4917-8047-3C60124C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CD791-3539-4D54-B40E-84735D95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E0067-8757-44E2-BA11-D523A308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01CB0-6EDE-4D5B-9458-40AA4D98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4EF92-D63C-4F42-8F1C-FFDBBA80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4C6E3-68DB-47A3-AA23-64645F6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F27FA-69EE-45FA-99A7-5BDDC70A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48FF-3F4F-4A3E-82A1-2F4A3CC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B06-6333-4D74-AF69-0FA56260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8D439-8014-496F-B5D6-4E5E6F5B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9187-DB96-4BEF-8D26-5AAA798F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CEC0-5315-450B-A5A4-52152B8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F1A1F-1673-4DD8-84F5-52009025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E4A2D-2F79-4AC3-B1FC-C7058CAC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0E9A-D27D-4818-B1F5-B81CE68E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3DC29-824A-438F-B8E4-24F2A05D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A275B-30D5-49A9-B1A1-F0E3B25C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F5130-BAA3-4ABB-8834-F34B92E0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0DC59-4986-49FC-9085-DA5F6B3B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D02-E1C8-4F60-BE8F-237A713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58F4D-19C6-4952-A9A1-E8B2CCE9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6EB74-8AC9-41E5-BF09-8E095FC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B5838-26EC-466B-9270-EDE13017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D2C2E-B233-402D-9C42-97C8631D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3A96B-B73B-470A-A2CD-5495D8DE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D355-6216-497B-A8B2-D4737113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4939B-A0ED-4D9B-BC9B-4E4B9C42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4F965-73B1-4F30-B8EA-76C6768B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B0AC3-AB55-45AC-B5DE-763BE7C2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B8C9A-4251-4294-80B6-DD5C56C0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C8D58-51E7-4F2F-B1E9-A6DBB5A040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E9BBC-EBFF-4BB9-AFE7-D166E7752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4072E586-139E-42A2-88BF-1A5CB548A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87810-25EB-47B5-96F3-6B7A13E8D7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47808-7F57-4277-83D1-B78F51075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079DB-1B9A-4D3D-9420-35617A08D2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87181-37C9-455F-BD32-95011F8B6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45957-15E5-4A49-91B5-7371587669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3ADEE-4818-461C-8CCD-6159DCFB3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931D8-5E7F-4523-8DBA-35792F3669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D0287-90E4-4CC2-AD6E-F361EDDB9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D2552-D0E3-4934-BA3A-F45DC88D56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9A31C-32BD-4A10-9508-6A183440F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9E540-47CF-42DC-A760-139BA857B1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93F27-57FC-42E4-9E0A-E3C0AFBA7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DE276-70CA-4064-8F1A-83D393DC6F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54A12-CF5E-46FF-80CB-625E10E16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40744-EEBA-4FD2-88A1-F281A434F4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E601E-6525-4B34-BCA0-3F9FAD528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98092-ACF3-4401-83E1-8A8FE1C384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E12CA-EC05-4B61-B969-D5549F2FC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9A9E2-4E24-4FF5-9007-2FACC53607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EF483-2D3F-4706-BE76-75266B9A7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E5176-9A1A-41DF-9FE3-0A1B28C712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26E59-78DF-4A7E-A4E9-A11C81F16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irucka-pro-prijemce-op-vk-verze-4-platna-od-30-6-2010" TargetMode="External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6684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Seminář pro příjemce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finanční podpory z Operačního programu Vzdělávání pro konkurenceschopnost</a:t>
            </a:r>
            <a:br>
              <a:rPr sz="3600"/>
            </a:br>
            <a:br>
              <a:rPr sz="3600"/>
            </a:b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053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monitorovacích zpráv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F0EB4-093F-47A3-A62C-F79A36BE5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1538280" y="1746360"/>
            <a:ext cx="6249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6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Monitorovací indikátory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4F203-E97E-4255-BE77-CC47AFCF7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8" name="Picture 7" descr=""/>
          <p:cNvPicPr/>
          <p:nvPr/>
        </p:nvPicPr>
        <p:blipFill>
          <a:blip r:embed="rId1"/>
          <a:srcRect l="0" t="22844" r="0" b="0"/>
          <a:stretch/>
        </p:blipFill>
        <p:spPr>
          <a:xfrm>
            <a:off x="2103480" y="1595520"/>
            <a:ext cx="49575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918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Dodavatelé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CE93D-1280-4ECA-9B1A-9B93D11EB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"/>
          <p:cNvPicPr/>
          <p:nvPr/>
        </p:nvPicPr>
        <p:blipFill>
          <a:blip r:embed="rId1"/>
          <a:srcRect l="0" t="20531" r="0" b="0"/>
          <a:stretch/>
        </p:blipFill>
        <p:spPr>
          <a:xfrm>
            <a:off x="2255760" y="1459080"/>
            <a:ext cx="44514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96948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3C92A-6B71-4050-881B-1B72DCC7C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66" name="Picture 8" descr=""/>
          <p:cNvPicPr/>
          <p:nvPr/>
        </p:nvPicPr>
        <p:blipFill>
          <a:blip r:embed="rId1"/>
          <a:srcRect l="0" t="18774" r="0" b="0"/>
          <a:stretch/>
        </p:blipFill>
        <p:spPr>
          <a:xfrm>
            <a:off x="2475000" y="1373040"/>
            <a:ext cx="421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29840" y="929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- detail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95EC8-B81D-4D72-A332-D16B0DC05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rcRect l="0" t="0" r="0" b="46962"/>
          <a:stretch/>
        </p:blipFill>
        <p:spPr>
          <a:xfrm>
            <a:off x="588960" y="1415880"/>
            <a:ext cx="4151160" cy="3113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2"/>
          <a:srcRect l="0" t="67407" r="0" b="0"/>
          <a:stretch/>
        </p:blipFill>
        <p:spPr>
          <a:xfrm>
            <a:off x="4556160" y="3852720"/>
            <a:ext cx="4373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600" y="968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ublicita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378C1-4E35-4667-98E5-1A712D202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rcRect l="0" t="28022" r="0" b="0"/>
          <a:stretch/>
        </p:blipFill>
        <p:spPr>
          <a:xfrm>
            <a:off x="2152800" y="1535040"/>
            <a:ext cx="5441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302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líčové aktivity projekt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3AD9E-6CE6-4A7B-BF6A-5F4F831BF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rcRect l="0" t="25624" r="0" b="0"/>
          <a:stretch/>
        </p:blipFill>
        <p:spPr>
          <a:xfrm>
            <a:off x="351000" y="1490760"/>
            <a:ext cx="4505040" cy="360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3"/>
          <a:stretch/>
        </p:blipFill>
        <p:spPr>
          <a:xfrm>
            <a:off x="4600440" y="2498760"/>
            <a:ext cx="4411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6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 </a:t>
            </a: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klíčových aktivit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9A92F-11DD-4D01-ABAA-F1726B632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rcRect l="0" t="30100" r="0" b="0"/>
          <a:stretch/>
        </p:blipFill>
        <p:spPr>
          <a:xfrm>
            <a:off x="2008080" y="1531800"/>
            <a:ext cx="5578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97956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ontroly na místě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899F9-54AF-4BEB-8A32-7627D3C48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rcRect l="0" t="21759" r="0" b="0"/>
          <a:stretch/>
        </p:blipFill>
        <p:spPr>
          <a:xfrm>
            <a:off x="2381400" y="1414440"/>
            <a:ext cx="48495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302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Změny v monitorovací zprávě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DE900-D1DF-4B2D-81AA-B569431B4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1"/>
          <a:stretch/>
        </p:blipFill>
        <p:spPr>
          <a:xfrm>
            <a:off x="2033640" y="1433520"/>
            <a:ext cx="5043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zdější datum uvedené v projektové žád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AAED0-1A8C-478C-8A6E-1C4B7BCC1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30200" y="995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řílohy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81C9B-0E5C-4BC9-99F6-631C02324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2666880" y="1430280"/>
            <a:ext cx="34401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Přílohy k Monitorovací zprávě</a:t>
            </a: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A7254-EDD2-4C2D-8C92-F3CDA714F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71600" y="675360"/>
            <a:ext cx="628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371600" y="1382760"/>
            <a:ext cx="6283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Čestné prohlášení statutárního zástupce jako pevná součást tištěné verze monitorovací zprá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dpisový vzor osob oprávněných k podepisování a schvalování dokumentů a operací v rámci projektu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1477B-056F-4FC1-8F5D-6394CBA26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2440" y="480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20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E1C0D-08BF-4264-AED6-4CFDFA0AD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8" descr=""/>
          <p:cNvPicPr/>
          <p:nvPr/>
        </p:nvPicPr>
        <p:blipFill>
          <a:blip r:embed="rId2"/>
          <a:stretch/>
        </p:blipFill>
        <p:spPr>
          <a:xfrm>
            <a:off x="633240" y="1212840"/>
            <a:ext cx="7709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prirucka-pro-prijemce-op-vk-verze-4-platna-od-30-6-2010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0C329-C0EB-40ED-A687-EC514A341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ěkuji za pozorn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1A4B6-DE1B-44F1-86EB-205CCE095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statná změna projektu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 pracovníků projektu, kteří uzavírají projek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7AA28-406E-43C5-BEA5-A4EF4D8D3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zpráva o udržitel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A7044-29E8-42D1-93F5-9D883E1F4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Věcná část Monitorovací zprávy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24CE4-FF8D-402B-B133-216E350C9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2463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edkládá se prostřednictvím aplikace Benefit 7+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ručka pro vytvoření monitorovací zprávy v B7+  s technický i metodickým postupem bude uveřejněna na webu MŠMT na přelomu měsíce ledna a úno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informace (struktura, přílohy) k předkládání elektronické monitorovací zprávy budou uveřejněny na webu MŠMT ve stejné dob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593F9-EA77-4BF9-8400-9AD91A228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EEF6D-776C-429E-8CCD-BAA8355BE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rcRect l="2724" t="11681" r="3377" b="10612"/>
          <a:stretch/>
        </p:blipFill>
        <p:spPr>
          <a:xfrm>
            <a:off x="642960" y="1158840"/>
            <a:ext cx="7651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0280" y="966960"/>
            <a:ext cx="78152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rojektu a monitorovací zprávě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288D1-01BA-4FB2-ADB9-52C67A7A1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"/>
          <p:cNvPicPr/>
          <p:nvPr/>
        </p:nvPicPr>
        <p:blipFill>
          <a:blip r:embed="rId1"/>
          <a:srcRect l="0" t="0" r="0" b="32472"/>
          <a:stretch/>
        </p:blipFill>
        <p:spPr>
          <a:xfrm>
            <a:off x="369720" y="1392120"/>
            <a:ext cx="4759560" cy="4006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2"/>
          <a:srcRect l="0" t="67243" r="0" b="0"/>
          <a:stretch/>
        </p:blipFill>
        <p:spPr>
          <a:xfrm>
            <a:off x="3886200" y="3591000"/>
            <a:ext cx="5091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říjemci, kontaktní osobě a zhotoviteli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3772A-CE04-4DB7-B1B5-1DDDAE0A0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"/>
          <a:srcRect l="0" t="0" r="0" b="30166"/>
          <a:stretch/>
        </p:blipFill>
        <p:spPr>
          <a:xfrm>
            <a:off x="465120" y="1746360"/>
            <a:ext cx="4788000" cy="34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"/>
          <p:cNvPicPr/>
          <p:nvPr/>
        </p:nvPicPr>
        <p:blipFill>
          <a:blip r:embed="rId2"/>
          <a:srcRect l="0" t="73928" r="0" b="0"/>
          <a:stretch/>
        </p:blipFill>
        <p:spPr>
          <a:xfrm>
            <a:off x="4151160" y="4332240"/>
            <a:ext cx="480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8T07:29:04Z</dcterms:modified>
  <cp:revision>295</cp:revision>
  <dc:subject/>
  <dc:title>Titulní strana – Titulek</dc:title>
</cp:coreProperties>
</file>