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3184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159A-91CC-45F0-99CF-560AC4D34B4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14DE-5627-447F-BE51-869376A97C4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šechny faktury musejí být vystaveny na příjemce dotace (nebo na partnera s finančním příspěvkem). K fakturám musí dodat likvidační protokol, z kterého my poznáme, že byly částky řádně zaúčtovány. Doporučujeme vytvořit si razítko projektu, kterým označí všechny originály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důsledku administrativní zátěže nebudeme kontrolovat doklady pod 10tis Kč, tzn. pokud nám je dodají, budeme je ignorovat, jsou pro nás nerelevantní. Něco jiného je samozřejmě pokud si vyžádáme nějaký doklad k namátkové kontrol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EDD8-BD82-4A86-AC05-2AEC1761D2B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zor na časté chyby. Pokud chtějí poskytnout partnerovi peníze předem (tzn. dát mu zálohu), musí mít partner zřízený samostatný projektový účet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artner si účet nemusí zřizovat, pokud výdaj uhradí nejprve ze svého provozního účtu a následně mu jej příjemce proplatí. Způsob financování musí být zakotven v partnerské smlouvě. Pokud chtějí způsob změnit, musí vydat dodatek k partnerské smlouv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časnosti časté chyby, pozor pozor, vzniká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E38B-FB1A-426A-85D3-5FA15712064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Bylo by fajn, kdyby k výdajům na výpisu z účtu dopsali vždy číslo výdaje (podle soupisky) nebo poznámku, že se jedná o nepřímý náklad, nebo mylnou platbu, atd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E0AC-44F5-4087-94AA-2DAE2A2FE49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z předchozího období = opomenutý výdaj nebo výdaj, který věcně nesouvisel s předchozím obdob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lovní komentář: pokud do soupisky zahrnou výdaj z předchozích období, ať to komentují, abychom se v tom zorientoval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6859-3D64-49A0-BC94-2D26DB8677B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smí nastat v případě přímých výdajů. V tomto případě by došlo k nesrovnalosti a k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 nepřímým výdajem je toto možné, částku NN si převedou a co je s ní dál nás už nezajímá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ovinka Příručky pro příjemce verze 4: Osobní náklady-lze si na provozní účet zaslat prostředky z projektového účtu 5 pracovních dnů přede dnem, kdy budou tyto prostředky z provozního účtu uhraze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0C7B-A53D-4CE6-A821-4AA39DBD394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rvního sloupce této přílohy zaneste údaje z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ého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mocí sloupce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řadová čísla účetních dokladů na soupisce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bude tato příloha propojena se Soupiskou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řádku nepřímých nákladů (sloupec Aktuálně prokazované výdaje) zadejte skutečně vyčerpané nepřímé náklady, tzn. odvedené na provozní účet nebo na výpisu z projektového účtu identifikovány jako NN. Z tohoto důvodu se celkové způsobilé výdaje nebudou shodovat s částkou ze Soupisky účetních dokladů (v Soupisce jsou totiž NN dopočteny a nemusejí odpovídat skutečně čerpaným N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C743-EABB-44F8-9EA1-01D65A41729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ateriály, které mají příjemci k dispozici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ezenta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eznam příloh monitorovacích zpráv (zelenobílá tabulk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lohy MZ (exce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pis z fiktivního účtu a zadání pro praktickou čás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2307-FB40-4BCD-A548-1F746B0A625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sloupce Schválený rozpočet, uveďte aktuální rozpočet, který je v právním aktu, tj. rozpočet v Rozhodnutí, popř. změněný akceptovaným Dodatkem k Rozhodnutí na základě schválené podstatné změ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- uvádí se zde všechny nepodstatné změny od začátku realizace projektu, včetně změn, které nastaly v tomto MO. Kumulativně se uvádějí z důvodů kontroly pravidel přesouvání v rámci nepodstatných změn - max 15% nákladů kapitoly, z které jsou prostředky přesouvány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FD98-2864-44BB-9BFC-79F56624156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lňte přílohu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ý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kto předělaný rozpočet zaneste do prvního sloupce přílohy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hled čerpání způsobilých výdaj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BABD-922D-4F60-B2A6-C8814B6D90E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acovní výkaz musí minimálně obsahovat tyto údaje (údaje, které jsou v excelovské příloze připravené). Jinak si tam mohou přidat i jiné pole, pokud chtě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52E6-4CC6-4C86-A709-8C2027686C0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Kolečka a šipky naznačují, jaká pole se sčíta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ranžová bublina Dopište počet skutečně proplacených hodin- zadává se počet hodin, který byl pracovníkovi proplacen z projektových peněz. Tento údaj nesmí být vyšší než počet hodin vyplývající ze smlouvy (ale může být nižší, což příjemcům říkat nebudeme). Počet hodin zde uvedený může být i nižší než v poli Celkem, protože v těle výkazu může být uvedena práce „navíc“, která může být podkladem pro mimořádnou dměn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čet skutečně proplacených hodin bude pak uveden v Rozpise mzdových výdajů (zde se započítávají i svátky a dovolená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9673-D1AE-4ACD-B7E7-819BF75D61A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blematika mzdových výdajů je krásně popsána v newsletteru z června 2010, který je dostupný na webu. Rámeček je hypertextový odkaz, stačí na něj kliknout a ukáže se vám web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ležitosti pracovní smlouvy jsou v PpP – jen identifikace projektu, popis činnosti relevantní pro projekt, rozsah činnosti (povinnost odevzdávat výkaz už v PpP není!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sou mzdové výdaje hrazeny prvotně z provozního účtu, je vždy potřeba dodat vnitřní účetní doklad - příkaz k refundaci. Výpis z provozního účtu lze nahradit sjetinou z personální systému, kde bude identifikace zaměstnance, číslo jeho účtu a výše celkové vyplacené mzdy nebo čestným prohlášením dotyčného zaměstnance, že deklarovanou částku za dané období skutečně obdržel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pozorněte příjemce, že musíme ověřovat, zda jsou mzdy/platy v čase a místě obvyklé, tj. budeme potřebovat vnitřní směrnice, projektový manažer OP VK i jiných operáků musí mít stejný platový tarif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58BC-B46A-4828-892F-7679A22246F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ciální pojištění- kdyby se příjemci ptali, jinak neříkat: od nového roku se pravděpodobně zvýší sociální pojištění o 1 %. Kde to mají vzít? Buď si najdou nějaké finance v rozpočtu a převedou si je do kap. 1.2 Sociální pojištění, nebo si to zafinancují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2038-F4FD-40AD-A41E-D5390F1CBF2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lvl="2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 (výpis z účtu, pokladní výdajový doklad, faktura,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latná legislativa je zákon č.262/2009 Sb. Zákoník prá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eškeré cestovní náhrady spojené s </a:t>
            </a:r>
            <a:r>
              <a:rPr b="0" lang="cs-CZ" sz="1300" spc="-1" strike="noStrike" u="sng">
                <a:solidFill>
                  <a:srgbClr val="000000"/>
                </a:solidFill>
                <a:uFillTx/>
                <a:latin typeface="Calibri"/>
              </a:rPr>
              <a:t>vnitrostátními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pracovními cestami jsou součástí N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AF66-D6A9-442F-A4FA-C512C25F9B9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44E5-EE01-4A5E-85F3-500CF0CD4C2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eptat se příjemců, zda jejich organizace používá odpisy a zda plánují uplatňovat je v projektu. Když ne, slajd přeskočit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pP str. 4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0575-D004-4FE1-91B3-531CB7B7711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ové náhrady mohou být poskytovány pouze pedagogickým, akademickým a dalším pracovníkům ve školství, výzkumu a vývoji (PpP str. 57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aměstnavatel cílové skupiny musí s příjemcem/partnerem uzavřít smlouvu o vzdělávání (str.58, doporučuji pročís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přílohách MZ je nastaven vzorec na dvojnásobek mzdy, musí si ho buď upravit, nebo si to přepočítat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EFB0-08FB-4CF2-AA49-775B21D652C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městnanec jde na školení 29.9.-1.10.2010- 3 dny, každý den od 9 do 14h, tj. 5 h (čistý čas školení, cesta na školení se nezapočítává). Jelikož se mzdové příspěvky vypočítávají z měsíční hrubé mzdy, musí být každý měsíc zvlášť v řádku. V září to byly dva dny (29. a 30.), tedy 10 h, v říjnu jeden den, tj. 5 hod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síční fond pracovní doby v hodin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ří má 176 h (hrubá mzda 18 00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říjen má 168 h; předpokládejme, že zaměstnanec čerpal 1 den dovolenou 168 – 8=160 h. (hrubá mzda s náhradou za dovolenou 18 25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odvody- povinné pojištění zaměstnanc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odinový mzdový náklad se dopočte sá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mínka uzantelnosti: v přílohách MZ je nastaven vzorec na 70 % skutečných nákladů a dvojnásobek mzdy, musí si ho upravit na 100 % skutečných nákladů a trojnásobek mz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zdové příspěvky jsou poskytovány do výše 100 % skutečných nákladů, maximálně však do trojnásobku minimální mzdy platné v době škol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prvním řádku jsou skutečné náklady menší než 3násobek minimální  mzdy (137,48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sou proplaceny skutečné ná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druhém řádku jsou skutečné náklady vyšší než 3násobek minimální mzdy (145,99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e proplacen 3násobek minimální mz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o Soupisky bude uveden celkový součet mzdových příspěvků (přílohy, které jsou rozepsány v Rozpisech, se do soupisky dávají souhrnně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A952-EF77-4971-8626-B6DCCFBA7DF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stupně klikat a rekapitulovat návaznost jednotlivých příloh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piska účetních dokladů je navázána na jednotlivé účetní doklady – v soupisce jsou totiž uvedeny všechny přímé výdaje daného monitorovaného období, z účetních dokladů se do soupisky zaznamenává Typ a označení prvotního dokladu, název dodavatele a částka uvedená na doklad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hrnné částky z Rozpisu mzdových výdajů jsou uvedeny v řádcích soupisky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Rozpis je provázán i s pracovním výkazem.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čet hodin proplacených v daném měsíci za projekt 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vedených v pracovním výkazu musí být shodný s počtem odpracovaných hodin uvedených v Rozpisu mzdových výdajů a s počtem hodiny skutečně proplacených z projekt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pisce jsou také souhrnné částky z Rozpisu cestovních náhrad i z Rozpisu mzdových příspěvků. Rozpis mzdových příspěvků je na seznam školení napojen pomocí pole Kód školen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a konec je Soupiska napojena i na výpis z projektového či provozního účtu na základě data uskutečnění výdaj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0FBF-BA3F-4F60-A4DE-208C6EC9D2B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1457-C91F-4C04-9958-3A92CEADEC3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CD66-7D9F-44F0-9E41-1943D04E053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3751-84F8-44F5-BD53-4B690FEEE13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Nepřímé náklady napište částku dopočtených nepřímých nákladů. Tuto částku naleznete v soupisce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le příjmy zůstává prázdné. Do tohoto pole se dopisují příjmy dle čl. 55, což kladné úroky na projektovém účtu nejso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Zdůvodnění platby napište informace o přijatých úrocích. Např. výše kladných úroků na projektovém účtu za dané období je …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6B3F-3532-46EC-9A11-48F9CFCA32B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ásky by se lišily  jen v případě, že by měl projekt soukromé financován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50FC-1FA7-4C56-BA69-EA13C919C68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877B-9D46-455C-8940-F3DB70BD1FA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pakované nedoložení požadovaných podkladů- nebudeme vás při opravě MZ vyzývat do nekonečna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odůvodněné výdaje- zcela nesouvisející s projektem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hospodárný výdaj- mobil pro komunikaci v rámci projektového týmu za 10 tis Kč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, tiskárna pro tisk MZ za 40 tis Kč apod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é platby- např. dvakrát uhrazená faktur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5997-8DD8-4848-A88D-399FDD37ED7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á platba- omylem uhrazený výdaj z projektového účtu. Novinka: pokud se jim do 5 pracovních dní od uskutečnění mylné platby povede peníze na projektový účet vrátit, není to mylná platba ani nesrovnalost (PpP str. 31). Data bereme z výpisu z projektového účtu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jemce je povinen okamžitě po zjištění chyby vrátit danou částku na projektový účet a informovat poskytovatele v nejbližší MZ. Příjemci lze doporučit, aby po dohodě s poskytovatelem a s ÚFO poslal prostředky na účet ÚFO, protože až do tohoto okamžiku se počítá doba pro vyměření penále (PpP str. 32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 z praxe- FÚ je na příjemce hodný, mylnou platbu většinou odpouští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32C5-AFB2-4BDD-8531-1FC0DC165DF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jsou t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ážně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náklady spojené s administrací projektů, jejich výčet a popis je uveden v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důraznit, že pokud se budeme obecně bavit o výdajích, budeme mít namysli výdaje přím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en upozornění: nerozlišujeme výdaj a náklad, pokud bychom to rozlišovali tak, jak se má, mluvili bychom jen o výdají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F7DF-2B30-4583-92A3-3AA271D2046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4D64-8BF5-4C09-A302-C3F1C02A661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prostor pro cílovou skupinu je přímý nákl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D3D2-4A56-4E9D-AD4C-74817BF519F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musí věcně souviset s monitorovaným obdobím- př. Letenky na zahraniční cestu, která proběhne až v dalším monitorovaném období; tento výdaj nebude v soupisce zahrnu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35DA-8C1C-4F38-889E-643A12166E3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aždý příjemce má u sebe vytištěnou soupisku účetních dokladů a prohlíží si ji. Přílohy jsou vytištěné se zobrazením komentářů k buňkám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jprve </a:t>
            </a: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záhlaví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přílohy- stejné u všech příloh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Registrační číslo projektu CZ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rojekt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říjemce podpo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ořadové číslo MZ ve tvaru 1/2010, 2/2011, 3/20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dobí – monitorované období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řadové číslo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ísluje si příjemce svou vlastní řadou, doporučujeme ve tvaru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číslo výdaje/MZ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, tj. 1/1, 2/1, 3/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Číslo kapitoly/položky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etailní členění, např. Fotoaparát, pol. 3.3.5, ne jen kapitola 3, dle tohoto sloupce by měla být soupiska řazen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Typ úče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faktura, výdajový pokladní dokl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Označení prvo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apř. číslo faktury či paragon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pis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bojte se rozeps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Název dodavatel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u mezd není potřeba doplňov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ástky jsou jasné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Datum uskutečnění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atum uskutečnění výdaje z projektového účtu; v případě, že byl výdaj nejprve hrazen z účtu provozního, napište do závorky ještě toto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Křížové financování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rvní část je KF celkem, druhá část je KF investiční- doplňují se sem aktuálně čerpané výdaje, tedy vyplňujeme jen když jsme v daném období utratili nějaké výdaje z těchto polože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000000"/>
                </a:solidFill>
                <a:uFillTx/>
                <a:latin typeface="Calibri"/>
              </a:rPr>
              <a:t>Pro info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- položky rozpočtu 3.8 a 5.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 investiční je jen položka 3.8.1 (patří sem např. tiskárna za 50 tis Kč) a 5.2 stavební úpravy v rámci K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investice- patří sem KF investiční (3.8.1 a 5.2) a nehmotný majetek v pořizovací ceně nad 60 tis Kč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ranžové bubliny ŽoP-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tyto částky zaznamenejte do žádosti o platb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C020-2C91-4B72-89DE-12D3F19C4EF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newslett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44520" y="3779640"/>
            <a:ext cx="779616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95040" y="1290240"/>
            <a:ext cx="8134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 monitorovací zprávy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text 3"/>
          <p:cNvSpPr/>
          <p:nvPr/>
        </p:nvSpPr>
        <p:spPr>
          <a:xfrm>
            <a:off x="0" y="1569960"/>
            <a:ext cx="95742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přiložených dokladů označit číslem, které je uvedeno v Soupisce účetních dokladů - Pořadové číslo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dokladů označit registračním číslem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dkládat pouze kopie účetních dokladů s částkou uvedenou na dokladu přesahující 10 000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klady s částkou do 10 000 Kč včet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znamenány v Soupisce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dokládají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být vyžádány k namátkové kontrole/při kontrole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 fakturám dokládat objednávku a likvidační proto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zřídit samostatný bankovní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ner s finančním příspě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ante (zálohami) - musí mít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post (proplacení uskutečněných výdajů) - nemusí mít samostatný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 proplácení zakotvit v partnerské smlou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jektový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text 3"/>
          <p:cNvSpPr/>
          <p:nvPr/>
        </p:nvSpPr>
        <p:spPr>
          <a:xfrm>
            <a:off x="61920" y="1569960"/>
            <a:ext cx="9823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úhrady týkající se projektu musí být doloženy výpisem z projektového bankov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í projektu přednostně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by finančním partne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hrada 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od peněz do projektové pokl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vinná přílo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výdajů pořadovým číslem výdaje ze Soupisky účetní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výpisu z účtu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 výjimečných (odůvodněných!) případech lze výdaj hradit z jiného než projektového úč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je k prvotní úhradě výdaje použit jiný než projektový účet, je příjemce povinen doložit kopii výpisu     z tohoto úč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 vztahující se k jiné činnosti organizace mohou být začerně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 je uznatelný až po refundaci výdaje z projektového úč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Jiný 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bdélník 6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Čárový popisek 2 10"/>
          <p:cNvSpPr/>
          <p:nvPr/>
        </p:nvSpPr>
        <p:spPr>
          <a:xfrm>
            <a:off x="206208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Čárový popisek 2 14"/>
          <p:cNvSpPr/>
          <p:nvPr/>
        </p:nvSpPr>
        <p:spPr>
          <a:xfrm>
            <a:off x="508464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Čárový popisek 2 10"/>
          <p:cNvSpPr/>
          <p:nvPr/>
        </p:nvSpPr>
        <p:spPr>
          <a:xfrm>
            <a:off x="375120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Čárový popisek 2 14"/>
          <p:cNvSpPr/>
          <p:nvPr/>
        </p:nvSpPr>
        <p:spPr>
          <a:xfrm>
            <a:off x="699624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Čárový popisek 2 10"/>
          <p:cNvSpPr/>
          <p:nvPr/>
        </p:nvSpPr>
        <p:spPr>
          <a:xfrm>
            <a:off x="6773760" y="200196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255004"/>
              <a:gd name="adj4" fmla="val 20097"/>
              <a:gd name="adj5" fmla="val 336078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Čárový popisek 2 14"/>
          <p:cNvSpPr/>
          <p:nvPr/>
        </p:nvSpPr>
        <p:spPr>
          <a:xfrm>
            <a:off x="6951600" y="3201840"/>
            <a:ext cx="2755800" cy="1155960"/>
          </a:xfrm>
          <a:prstGeom prst="borderCallout2">
            <a:avLst>
              <a:gd name="adj1" fmla="val 18750"/>
              <a:gd name="adj2" fmla="val -8333"/>
              <a:gd name="adj3" fmla="val 140689"/>
              <a:gd name="adj4" fmla="val 18925"/>
              <a:gd name="adj5" fmla="val 169902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16"/>
          <p:cNvSpPr/>
          <p:nvPr/>
        </p:nvSpPr>
        <p:spPr>
          <a:xfrm>
            <a:off x="1039680" y="2001960"/>
            <a:ext cx="42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nebude zahrnut do této MZ, ale až do následují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Čárový popisek 2 10"/>
          <p:cNvSpPr/>
          <p:nvPr/>
        </p:nvSpPr>
        <p:spPr>
          <a:xfrm>
            <a:off x="32868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43217"/>
              <a:gd name="adj4" fmla="val 12685"/>
              <a:gd name="adj5" fmla="val 170125"/>
              <a:gd name="adj6" fmla="val 4768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Čárový popisek 2 14"/>
          <p:cNvSpPr/>
          <p:nvPr/>
        </p:nvSpPr>
        <p:spPr>
          <a:xfrm>
            <a:off x="388476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6"/>
          <p:cNvSpPr/>
          <p:nvPr/>
        </p:nvSpPr>
        <p:spPr>
          <a:xfrm>
            <a:off x="1039680" y="200196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z minulých období může být zahrnut do MZ (+ slovní komentá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1"/>
          <p:cNvSpPr/>
          <p:nvPr/>
        </p:nvSpPr>
        <p:spPr>
          <a:xfrm>
            <a:off x="328680" y="5157720"/>
            <a:ext cx="71100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Čárový popisek 2 10"/>
          <p:cNvSpPr/>
          <p:nvPr/>
        </p:nvSpPr>
        <p:spPr>
          <a:xfrm>
            <a:off x="47736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Čárový popisek 2 14"/>
          <p:cNvSpPr/>
          <p:nvPr/>
        </p:nvSpPr>
        <p:spPr>
          <a:xfrm>
            <a:off x="14400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na provoz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11"/>
          <p:cNvSpPr/>
          <p:nvPr/>
        </p:nvSpPr>
        <p:spPr>
          <a:xfrm>
            <a:off x="225360" y="1557360"/>
            <a:ext cx="9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mý výdaj- nelze (nelze si na provozní účet předfinancovat nákup 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15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17"/>
          <p:cNvSpPr/>
          <p:nvPr/>
        </p:nvSpPr>
        <p:spPr>
          <a:xfrm>
            <a:off x="179280" y="199548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inka v PpP 4: lze si předfinancovat mzdy – 5 pracovních dní pře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16"/>
          <p:cNvSpPr/>
          <p:nvPr/>
        </p:nvSpPr>
        <p:spPr>
          <a:xfrm>
            <a:off x="179280" y="243036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přímé výdaje lze převést na provozní účet a pak je postupně čer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17600" y="2097000"/>
            <a:ext cx="9273960" cy="1771560"/>
          </a:xfrm>
          <a:prstGeom prst="rect">
            <a:avLst/>
          </a:prstGeom>
          <a:ln w="0">
            <a:noFill/>
          </a:ln>
        </p:spPr>
      </p:pic>
      <p:sp>
        <p:nvSpPr>
          <p:cNvPr id="170" name="Zástupný symbol pro text 3"/>
          <p:cNvSpPr/>
          <p:nvPr/>
        </p:nvSpPr>
        <p:spPr>
          <a:xfrm>
            <a:off x="-2700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ný rozpočet- vychází z přílohy Přepracovaný rozpočet, tzn. jsou v něm zapracovány nepodstatné změny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ipsa 6"/>
          <p:cNvSpPr/>
          <p:nvPr/>
        </p:nvSpPr>
        <p:spPr>
          <a:xfrm>
            <a:off x="2995560" y="2090880"/>
            <a:ext cx="978120" cy="1288800"/>
          </a:xfrm>
          <a:prstGeom prst="ellipse">
            <a:avLst/>
          </a:prstGeom>
          <a:noFill/>
          <a:ln w="38160">
            <a:solidFill>
              <a:srgbClr val="f391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text 3"/>
          <p:cNvSpPr/>
          <p:nvPr/>
        </p:nvSpPr>
        <p:spPr>
          <a:xfrm>
            <a:off x="270000" y="1981080"/>
            <a:ext cx="837396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a nepřím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dezření na porušení rozpočtové káz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pracovaný rozpočet projekt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506520" y="1671480"/>
            <a:ext cx="9165960" cy="1575000"/>
          </a:xfrm>
          <a:prstGeom prst="rect">
            <a:avLst/>
          </a:prstGeom>
          <a:ln w="0">
            <a:noFill/>
          </a:ln>
        </p:spPr>
      </p:pic>
      <p:sp>
        <p:nvSpPr>
          <p:cNvPr id="175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text 3"/>
          <p:cNvSpPr/>
          <p:nvPr/>
        </p:nvSpPr>
        <p:spPr>
          <a:xfrm>
            <a:off x="-27000" y="3424320"/>
            <a:ext cx="988236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válený rozpočet- vychází z Rozhodnutí o poskytnutí dotace či z relevantního Doda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Přímá spojovací šipka 8"/>
          <p:cNvCxnSpPr/>
          <p:nvPr/>
        </p:nvCxnSpPr>
        <p:spPr>
          <a:xfrm flipH="1">
            <a:off x="2506320" y="2268000"/>
            <a:ext cx="978480" cy="1289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8" name="Přímá spojovací šipka 12"/>
          <p:cNvCxnSpPr/>
          <p:nvPr/>
        </p:nvCxnSpPr>
        <p:spPr>
          <a:xfrm flipH="1">
            <a:off x="2550240" y="2357280"/>
            <a:ext cx="3290040" cy="22233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9" name="Přímá spojovací šipka 15"/>
          <p:cNvCxnSpPr/>
          <p:nvPr/>
        </p:nvCxnSpPr>
        <p:spPr>
          <a:xfrm flipH="1">
            <a:off x="2550240" y="2357280"/>
            <a:ext cx="6224040" cy="3245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541440" y="1743120"/>
            <a:ext cx="9165960" cy="1574640"/>
          </a:xfrm>
          <a:prstGeom prst="rect">
            <a:avLst/>
          </a:prstGeom>
          <a:ln w="0">
            <a:noFill/>
          </a:ln>
        </p:spPr>
      </p:pic>
      <p:sp>
        <p:nvSpPr>
          <p:cNvPr id="182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3720" y="3875040"/>
            <a:ext cx="9274320" cy="1771560"/>
          </a:xfrm>
          <a:prstGeom prst="rect">
            <a:avLst/>
          </a:prstGeom>
          <a:ln w="0">
            <a:noFill/>
          </a:ln>
        </p:spPr>
      </p:pic>
      <p:sp>
        <p:nvSpPr>
          <p:cNvPr id="184" name="Obdélník 6"/>
          <p:cNvSpPr/>
          <p:nvPr/>
        </p:nvSpPr>
        <p:spPr>
          <a:xfrm rot="20862600">
            <a:off x="290520" y="1506600"/>
            <a:ext cx="35892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pracovaný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Přímá spojovací šipka 10"/>
          <p:cNvCxnSpPr/>
          <p:nvPr/>
        </p:nvCxnSpPr>
        <p:spPr>
          <a:xfrm flipH="1">
            <a:off x="3563280" y="2409840"/>
            <a:ext cx="2445480" cy="1867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86" name="Obdélník 12"/>
          <p:cNvSpPr/>
          <p:nvPr/>
        </p:nvSpPr>
        <p:spPr>
          <a:xfrm rot="20862600">
            <a:off x="274680" y="3825720"/>
            <a:ext cx="35892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hled čerpání způsobilých výd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ojektu, název subjekt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acovníka a zastávané funk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odkaz na položku rozpočtu, např. 1.1.1.1.5 Řešitel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daje o úvazku v projektu, popřípadě o zapojení do dalších projektů v téže organizaci či u part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pracovní výkaz podepíše i pracovník, není potřeba zvlášť dodávat čestné prohlášení o nepřekro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,5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va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Časový rozsah práce dle smlouvy a podrobný popis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77840" y="2046240"/>
            <a:ext cx="9485280" cy="3159000"/>
          </a:xfrm>
          <a:prstGeom prst="rect">
            <a:avLst/>
          </a:prstGeom>
          <a:ln w="0">
            <a:noFill/>
          </a:ln>
        </p:spPr>
      </p:pic>
      <p:sp>
        <p:nvSpPr>
          <p:cNvPr id="191" name="Elipsa 5"/>
          <p:cNvSpPr/>
          <p:nvPr/>
        </p:nvSpPr>
        <p:spPr>
          <a:xfrm>
            <a:off x="312912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lipsa 6"/>
          <p:cNvSpPr/>
          <p:nvPr/>
        </p:nvSpPr>
        <p:spPr>
          <a:xfrm>
            <a:off x="637380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lipsa 7"/>
          <p:cNvSpPr/>
          <p:nvPr/>
        </p:nvSpPr>
        <p:spPr>
          <a:xfrm>
            <a:off x="6951600" y="46688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Zakřivená spojovací čára 9"/>
          <p:cNvCxnSpPr>
            <a:stCxn id="192" idx="6"/>
            <a:endCxn id="193" idx="6"/>
          </p:cNvCxnSpPr>
          <p:nvPr/>
        </p:nvCxnSpPr>
        <p:spPr>
          <a:xfrm>
            <a:off x="7262640" y="4290480"/>
            <a:ext cx="223200" cy="489600"/>
          </a:xfrm>
          <a:prstGeom prst="curvedConnector5">
            <a:avLst>
              <a:gd name="adj1" fmla="val 202746"/>
              <a:gd name="adj2" fmla="val 49963"/>
              <a:gd name="adj3" fmla="val 202746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cxnSp>
        <p:nvCxnSpPr>
          <p:cNvPr id="195" name="Přímá spojovací šipka 16"/>
          <p:cNvCxnSpPr>
            <a:stCxn id="191" idx="6"/>
            <a:endCxn id="192" idx="2"/>
          </p:cNvCxnSpPr>
          <p:nvPr/>
        </p:nvCxnSpPr>
        <p:spPr>
          <a:xfrm>
            <a:off x="4017960" y="4290480"/>
            <a:ext cx="2356560" cy="39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  <p:grpSp>
        <p:nvGrpSpPr>
          <p:cNvPr id="196" name="Zaoblený obdélníkový popisek 20"/>
          <p:cNvGrpSpPr/>
          <p:nvPr/>
        </p:nvGrpSpPr>
        <p:grpSpPr>
          <a:xfrm>
            <a:off x="5114880" y="5035680"/>
            <a:ext cx="2200320" cy="1127160"/>
            <a:chOff x="5114880" y="5035680"/>
            <a:chExt cx="2200320" cy="1127160"/>
          </a:xfrm>
        </p:grpSpPr>
        <p:pic>
          <p:nvPicPr>
            <p:cNvPr id="197" name="Zaoblený obdélníkový popisek 20" descr=""/>
            <p:cNvPicPr/>
            <p:nvPr/>
          </p:nvPicPr>
          <p:blipFill>
            <a:blip r:embed="rId2"/>
            <a:stretch/>
          </p:blipFill>
          <p:spPr>
            <a:xfrm>
              <a:off x="5114880" y="5035680"/>
              <a:ext cx="22003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213520" y="5330880"/>
              <a:ext cx="2009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Dopište počet skutečně proplacených hod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Elipsa 10"/>
          <p:cNvSpPr/>
          <p:nvPr/>
        </p:nvSpPr>
        <p:spPr>
          <a:xfrm>
            <a:off x="5707080" y="275760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Přímá spojovací šipka 12"/>
          <p:cNvCxnSpPr>
            <a:stCxn id="191" idx="7"/>
            <a:endCxn id="199" idx="3"/>
          </p:cNvCxnSpPr>
          <p:nvPr/>
        </p:nvCxnSpPr>
        <p:spPr>
          <a:xfrm flipV="1">
            <a:off x="3887640" y="3098160"/>
            <a:ext cx="1950480" cy="10515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text 3"/>
          <p:cNvSpPr/>
          <p:nvPr/>
        </p:nvSpPr>
        <p:spPr>
          <a:xfrm>
            <a:off x="17640" y="1738440"/>
            <a:ext cx="9601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latní listina, výplatní páska, mzdové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is z projektového/provoz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personálníh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čestné prohlášení zaměstnanc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výk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př. další relevantní do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5">
            <a:hlinkClick r:id="rId1"/>
          </p:cNvPr>
          <p:cNvSpPr/>
          <p:nvPr/>
        </p:nvSpPr>
        <p:spPr>
          <a:xfrm>
            <a:off x="6862680" y="5468760"/>
            <a:ext cx="217332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Viz Newsletter Osob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ázek 6" descr="rozpis mezd_1.JPG"/>
          <p:cNvPicPr/>
          <p:nvPr/>
        </p:nvPicPr>
        <p:blipFill>
          <a:blip r:embed="rId1"/>
          <a:stretch/>
        </p:blipFill>
        <p:spPr>
          <a:xfrm>
            <a:off x="284040" y="2046240"/>
            <a:ext cx="9352080" cy="1225440"/>
          </a:xfrm>
          <a:prstGeom prst="rect">
            <a:avLst/>
          </a:prstGeom>
          <a:ln w="0">
            <a:noFill/>
          </a:ln>
        </p:spPr>
      </p:pic>
      <p:pic>
        <p:nvPicPr>
          <p:cNvPr id="206" name="Obrázek 6" descr="rozpis mezd_2.JPG"/>
          <p:cNvPicPr/>
          <p:nvPr/>
        </p:nvPicPr>
        <p:blipFill>
          <a:blip r:embed="rId2"/>
          <a:stretch/>
        </p:blipFill>
        <p:spPr>
          <a:xfrm>
            <a:off x="284040" y="3246480"/>
            <a:ext cx="7629480" cy="142236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8" descr="rozpis mezd_3.JPG"/>
          <p:cNvPicPr/>
          <p:nvPr/>
        </p:nvPicPr>
        <p:blipFill>
          <a:blip r:embed="rId3"/>
          <a:stretch/>
        </p:blipFill>
        <p:spPr>
          <a:xfrm>
            <a:off x="2587680" y="4713120"/>
            <a:ext cx="707544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ráva ze služební cesty zahrani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archiv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příkaz včetně vyúč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souvisejících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lší doklady dané platnou legislati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náhrady tuzemské jsou součástí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ázek 5" descr="cestovní.bmp"/>
          <p:cNvPicPr/>
          <p:nvPr/>
        </p:nvPicPr>
        <p:blipFill>
          <a:blip r:embed="rId1"/>
          <a:srcRect l="65" t="0" r="0" b="0"/>
          <a:stretch/>
        </p:blipFill>
        <p:spPr>
          <a:xfrm>
            <a:off x="157320" y="3157560"/>
            <a:ext cx="9612000" cy="1357200"/>
          </a:xfrm>
          <a:prstGeom prst="rect">
            <a:avLst/>
          </a:prstGeom>
          <a:ln w="0">
            <a:noFill/>
          </a:ln>
        </p:spPr>
      </p:pic>
      <p:sp>
        <p:nvSpPr>
          <p:cNvPr id="212" name="Zástupný symbol pro text 3"/>
          <p:cNvSpPr/>
          <p:nvPr/>
        </p:nvSpPr>
        <p:spPr>
          <a:xfrm>
            <a:off x="506520" y="1868400"/>
            <a:ext cx="9112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 - zahran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text 3"/>
          <p:cNvSpPr/>
          <p:nvPr/>
        </p:nvSpPr>
        <p:spPr>
          <a:xfrm>
            <a:off x="-71280" y="1735200"/>
            <a:ext cx="991224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395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aňové odpisy vlastního dlouhodobého hmotného nebo nehmotného majet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 nákupu dotčeného majetku nebyly využity veřejné prostřed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sou uplatňovány v alikvotní výši s ohledem na míru využití daného majetku v rámci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jsou uplatňovány pouze po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e možné doložit je účetním dokladem dokládajícím pořizovací cenu maje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ajetek je odpisován dle odpisového plánu příjem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ýše ročních odpisů je stanovena jednou z metod daňového odpisu pro účely daně z příjmu pro jednotlivé druhy majetku a jsou způsobilé pouze po dobu, kdy je majetek využíván pro účely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íjemce si vybere formu odpisování, kterou bude používat po celou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á podpora cílové skup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hrada zaměstnavateli za pracovníka, který je vzděláv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x. do výše trojnásobku minimální mz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za dobu školení (v hodiná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uzavřít smlouvu o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mé a nepřímé ná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17600" y="1646280"/>
          <a:ext cx="7467480" cy="1401840"/>
        </p:xfrm>
        <a:graphic>
          <a:graphicData uri="http://schemas.openxmlformats.org/drawingml/2006/table">
            <a:tbl>
              <a:tblPr/>
              <a:tblGrid>
                <a:gridCol w="844560"/>
                <a:gridCol w="1778040"/>
                <a:gridCol w="1363680"/>
                <a:gridCol w="1027080"/>
                <a:gridCol w="1027080"/>
                <a:gridCol w="1427040"/>
              </a:tblGrid>
              <a:tr h="82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aměstnanc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c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ení dle kó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hodin 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ční fond pracovní doby v hodin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8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084320" y="3157560"/>
          <a:ext cx="7208640" cy="1733400"/>
        </p:xfrm>
        <a:graphic>
          <a:graphicData uri="http://schemas.openxmlformats.org/drawingml/2006/table">
            <a:tbl>
              <a:tblPr/>
              <a:tblGrid>
                <a:gridCol w="1527120"/>
                <a:gridCol w="1006560"/>
                <a:gridCol w="836640"/>
                <a:gridCol w="922320"/>
                <a:gridCol w="920520"/>
                <a:gridCol w="922320"/>
                <a:gridCol w="1073160"/>
              </a:tblGrid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účtovaná hrubá mzda 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é na sociální a zdravotní poji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odv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inový mzdový nákla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minimální mzdy za h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mínka uznatel-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ti v K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natelný mzdový náklad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220" name="Zástupný symbol pro text 3"/>
          <p:cNvSpPr/>
          <p:nvPr/>
        </p:nvSpPr>
        <p:spPr>
          <a:xfrm>
            <a:off x="-71280" y="5113440"/>
            <a:ext cx="9912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 29.9.2010-1.10.2010, každý den 5 ho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rubá mzda 18 000 Kč/měsí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Říjen - čerpaná dovolená 1 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Zaoblený obdélníkový popisek 10"/>
          <p:cNvGrpSpPr/>
          <p:nvPr/>
        </p:nvGrpSpPr>
        <p:grpSpPr>
          <a:xfrm>
            <a:off x="8352000" y="3017880"/>
            <a:ext cx="1590480" cy="1468440"/>
            <a:chOff x="8352000" y="3017880"/>
            <a:chExt cx="1590480" cy="1468440"/>
          </a:xfrm>
        </p:grpSpPr>
        <p:pic>
          <p:nvPicPr>
            <p:cNvPr id="222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8352000" y="3017880"/>
              <a:ext cx="15904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553600" y="3114720"/>
              <a:ext cx="128556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100 % skutečných ná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Zaoblený obdélníkový popisek 11"/>
          <p:cNvGrpSpPr/>
          <p:nvPr/>
        </p:nvGrpSpPr>
        <p:grpSpPr>
          <a:xfrm>
            <a:off x="8253360" y="4675320"/>
            <a:ext cx="1689120" cy="1670040"/>
            <a:chOff x="8253360" y="4675320"/>
            <a:chExt cx="1689120" cy="1670040"/>
          </a:xfrm>
        </p:grpSpPr>
        <p:pic>
          <p:nvPicPr>
            <p:cNvPr id="225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8253360" y="4675320"/>
              <a:ext cx="1689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8361360" y="5297400"/>
              <a:ext cx="1474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Trojnásobek minimální mz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7218360" y="4890960"/>
          <a:ext cx="1073160" cy="371520"/>
        </p:xfrm>
        <a:graphic>
          <a:graphicData uri="http://schemas.openxmlformats.org/drawingml/2006/table">
            <a:tbl>
              <a:tblPr/>
              <a:tblGrid>
                <a:gridCol w="1073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Obdélník 18"/>
          <p:cNvGrpSpPr/>
          <p:nvPr/>
        </p:nvGrpSpPr>
        <p:grpSpPr>
          <a:xfrm>
            <a:off x="6066000" y="4187880"/>
            <a:ext cx="1846080" cy="1311120"/>
            <a:chOff x="6066000" y="4187880"/>
            <a:chExt cx="1846080" cy="1311120"/>
          </a:xfrm>
        </p:grpSpPr>
        <p:pic>
          <p:nvPicPr>
            <p:cNvPr id="229" name="Obdélník 18" descr=""/>
            <p:cNvPicPr/>
            <p:nvPr/>
          </p:nvPicPr>
          <p:blipFill>
            <a:blip r:embed="rId1"/>
            <a:stretch/>
          </p:blipFill>
          <p:spPr>
            <a:xfrm>
              <a:off x="6066000" y="4187880"/>
              <a:ext cx="1846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126120" y="4226040"/>
              <a:ext cx="1733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příspěvk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ázanost příloh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Obdélník 4"/>
          <p:cNvGrpSpPr/>
          <p:nvPr/>
        </p:nvGrpSpPr>
        <p:grpSpPr>
          <a:xfrm>
            <a:off x="3024360" y="2724120"/>
            <a:ext cx="1846080" cy="1397160"/>
            <a:chOff x="3024360" y="2724120"/>
            <a:chExt cx="1846080" cy="1397160"/>
          </a:xfrm>
        </p:grpSpPr>
        <p:pic>
          <p:nvPicPr>
            <p:cNvPr id="233" name="Obdélník 4" descr=""/>
            <p:cNvPicPr/>
            <p:nvPr/>
          </p:nvPicPr>
          <p:blipFill>
            <a:blip r:embed="rId2"/>
            <a:stretch/>
          </p:blipFill>
          <p:spPr>
            <a:xfrm>
              <a:off x="3024360" y="2724120"/>
              <a:ext cx="184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083040" y="2759040"/>
              <a:ext cx="173520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oupiska účetních do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Obdélník 7"/>
          <p:cNvGrpSpPr/>
          <p:nvPr/>
        </p:nvGrpSpPr>
        <p:grpSpPr>
          <a:xfrm>
            <a:off x="536400" y="1878120"/>
            <a:ext cx="1401840" cy="1798560"/>
            <a:chOff x="536400" y="1878120"/>
            <a:chExt cx="1401840" cy="1798560"/>
          </a:xfrm>
        </p:grpSpPr>
        <p:pic>
          <p:nvPicPr>
            <p:cNvPr id="236" name="Obdélník 7" descr=""/>
            <p:cNvPicPr/>
            <p:nvPr/>
          </p:nvPicPr>
          <p:blipFill>
            <a:blip r:embed="rId3"/>
            <a:stretch/>
          </p:blipFill>
          <p:spPr>
            <a:xfrm>
              <a:off x="536400" y="187812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95440" y="1913040"/>
              <a:ext cx="128880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Obdélník 8"/>
          <p:cNvGrpSpPr/>
          <p:nvPr/>
        </p:nvGrpSpPr>
        <p:grpSpPr>
          <a:xfrm>
            <a:off x="669960" y="2054160"/>
            <a:ext cx="1403280" cy="1798560"/>
            <a:chOff x="669960" y="2054160"/>
            <a:chExt cx="1403280" cy="1798560"/>
          </a:xfrm>
        </p:grpSpPr>
        <p:pic>
          <p:nvPicPr>
            <p:cNvPr id="239" name="Obdélník 8" descr=""/>
            <p:cNvPicPr/>
            <p:nvPr/>
          </p:nvPicPr>
          <p:blipFill>
            <a:blip r:embed="rId4"/>
            <a:stretch/>
          </p:blipFill>
          <p:spPr>
            <a:xfrm>
              <a:off x="669960" y="205416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28640" y="2090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Obdélník 9"/>
          <p:cNvGrpSpPr/>
          <p:nvPr/>
        </p:nvGrpSpPr>
        <p:grpSpPr>
          <a:xfrm>
            <a:off x="822240" y="2206800"/>
            <a:ext cx="1403280" cy="1798560"/>
            <a:chOff x="822240" y="2206800"/>
            <a:chExt cx="1403280" cy="1798560"/>
          </a:xfrm>
        </p:grpSpPr>
        <p:pic>
          <p:nvPicPr>
            <p:cNvPr id="242" name="Obdélník 9" descr=""/>
            <p:cNvPicPr/>
            <p:nvPr/>
          </p:nvPicPr>
          <p:blipFill>
            <a:blip r:embed="rId5"/>
            <a:stretch/>
          </p:blipFill>
          <p:spPr>
            <a:xfrm>
              <a:off x="822240" y="220680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80920" y="224316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Obdélník 13"/>
          <p:cNvGrpSpPr/>
          <p:nvPr/>
        </p:nvGrpSpPr>
        <p:grpSpPr>
          <a:xfrm>
            <a:off x="847800" y="5035680"/>
            <a:ext cx="1401840" cy="1798560"/>
            <a:chOff x="847800" y="5035680"/>
            <a:chExt cx="1401840" cy="1798560"/>
          </a:xfrm>
        </p:grpSpPr>
        <p:pic>
          <p:nvPicPr>
            <p:cNvPr id="245" name="Obdélník 13" descr=""/>
            <p:cNvPicPr/>
            <p:nvPr/>
          </p:nvPicPr>
          <p:blipFill>
            <a:blip r:embed="rId6"/>
            <a:stretch/>
          </p:blipFill>
          <p:spPr>
            <a:xfrm>
              <a:off x="847800" y="503568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06480" y="506880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vozní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Obdélník 12"/>
          <p:cNvGrpSpPr/>
          <p:nvPr/>
        </p:nvGrpSpPr>
        <p:grpSpPr>
          <a:xfrm>
            <a:off x="2000160" y="4541760"/>
            <a:ext cx="1425600" cy="1803600"/>
            <a:chOff x="2000160" y="4541760"/>
            <a:chExt cx="1425600" cy="1803600"/>
          </a:xfrm>
        </p:grpSpPr>
        <p:pic>
          <p:nvPicPr>
            <p:cNvPr id="248" name="Obdélník 12" descr=""/>
            <p:cNvPicPr/>
            <p:nvPr/>
          </p:nvPicPr>
          <p:blipFill>
            <a:blip r:embed="rId7"/>
            <a:stretch/>
          </p:blipFill>
          <p:spPr>
            <a:xfrm>
              <a:off x="2000160" y="4541760"/>
              <a:ext cx="14256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062080" y="457992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jektový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Obdélník 15"/>
          <p:cNvGrpSpPr/>
          <p:nvPr/>
        </p:nvGrpSpPr>
        <p:grpSpPr>
          <a:xfrm>
            <a:off x="5913360" y="3054240"/>
            <a:ext cx="1846440" cy="1335240"/>
            <a:chOff x="5913360" y="3054240"/>
            <a:chExt cx="1846440" cy="1335240"/>
          </a:xfrm>
        </p:grpSpPr>
        <p:pic>
          <p:nvPicPr>
            <p:cNvPr id="251" name="Obdélník 15" descr=""/>
            <p:cNvPicPr/>
            <p:nvPr/>
          </p:nvPicPr>
          <p:blipFill>
            <a:blip r:embed="rId8"/>
            <a:stretch/>
          </p:blipFill>
          <p:spPr>
            <a:xfrm>
              <a:off x="5913360" y="3054240"/>
              <a:ext cx="18464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973840" y="3112920"/>
              <a:ext cx="17334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cestovních náhrad zahraničn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Obdélník 16"/>
          <p:cNvGrpSpPr/>
          <p:nvPr/>
        </p:nvGrpSpPr>
        <p:grpSpPr>
          <a:xfrm>
            <a:off x="5688000" y="1968480"/>
            <a:ext cx="1852560" cy="1305000"/>
            <a:chOff x="5688000" y="1968480"/>
            <a:chExt cx="1852560" cy="1305000"/>
          </a:xfrm>
        </p:grpSpPr>
        <p:pic>
          <p:nvPicPr>
            <p:cNvPr id="254" name="Obdélník 16" descr=""/>
            <p:cNvPicPr/>
            <p:nvPr/>
          </p:nvPicPr>
          <p:blipFill>
            <a:blip r:embed="rId9"/>
            <a:stretch/>
          </p:blipFill>
          <p:spPr>
            <a:xfrm>
              <a:off x="5688000" y="1968480"/>
              <a:ext cx="1852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751360" y="2001960"/>
              <a:ext cx="173376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výdaj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bdélník 17"/>
          <p:cNvGrpSpPr/>
          <p:nvPr/>
        </p:nvGrpSpPr>
        <p:grpSpPr>
          <a:xfrm>
            <a:off x="8047080" y="1163520"/>
            <a:ext cx="1401840" cy="1798920"/>
            <a:chOff x="8047080" y="1163520"/>
            <a:chExt cx="1401840" cy="1798920"/>
          </a:xfrm>
        </p:grpSpPr>
        <p:pic>
          <p:nvPicPr>
            <p:cNvPr id="257" name="Obdélník 17" descr=""/>
            <p:cNvPicPr/>
            <p:nvPr/>
          </p:nvPicPr>
          <p:blipFill>
            <a:blip r:embed="rId10"/>
            <a:stretch/>
          </p:blipFill>
          <p:spPr>
            <a:xfrm>
              <a:off x="8047080" y="1163520"/>
              <a:ext cx="14018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107200" y="12016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acovní vý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bdélník 20"/>
          <p:cNvGrpSpPr/>
          <p:nvPr/>
        </p:nvGrpSpPr>
        <p:grpSpPr>
          <a:xfrm>
            <a:off x="8265960" y="4943520"/>
            <a:ext cx="1408320" cy="1798560"/>
            <a:chOff x="8265960" y="4943520"/>
            <a:chExt cx="1408320" cy="1798560"/>
          </a:xfrm>
        </p:grpSpPr>
        <p:pic>
          <p:nvPicPr>
            <p:cNvPr id="260" name="Obdélník 20" descr=""/>
            <p:cNvPicPr/>
            <p:nvPr/>
          </p:nvPicPr>
          <p:blipFill>
            <a:blip r:embed="rId11"/>
            <a:stretch/>
          </p:blipFill>
          <p:spPr>
            <a:xfrm>
              <a:off x="8265960" y="4943520"/>
              <a:ext cx="1408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329680" y="4979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eznam ško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2" name="Přímá spojovací šipka 22"/>
          <p:cNvCxnSpPr/>
          <p:nvPr/>
        </p:nvCxnSpPr>
        <p:spPr>
          <a:xfrm flipH="1" flipV="1">
            <a:off x="2169720" y="3087000"/>
            <a:ext cx="9136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Přímá spojovací šipka 25"/>
          <p:cNvCxnSpPr/>
          <p:nvPr/>
        </p:nvCxnSpPr>
        <p:spPr>
          <a:xfrm flipH="1">
            <a:off x="2706480" y="4047840"/>
            <a:ext cx="12434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Přímá spojovací šipka 28"/>
          <p:cNvCxnSpPr/>
          <p:nvPr/>
        </p:nvCxnSpPr>
        <p:spPr>
          <a:xfrm flipV="1">
            <a:off x="4818240" y="2601720"/>
            <a:ext cx="93384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Přímá spojovací šipka 30"/>
          <p:cNvCxnSpPr/>
          <p:nvPr/>
        </p:nvCxnSpPr>
        <p:spPr>
          <a:xfrm>
            <a:off x="4818240" y="3403440"/>
            <a:ext cx="11563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Přímá spojovací šipka 33"/>
          <p:cNvCxnSpPr/>
          <p:nvPr/>
        </p:nvCxnSpPr>
        <p:spPr>
          <a:xfrm>
            <a:off x="4817880" y="3403440"/>
            <a:ext cx="13086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Přímá spojovací šipka 37"/>
          <p:cNvCxnSpPr/>
          <p:nvPr/>
        </p:nvCxnSpPr>
        <p:spPr>
          <a:xfrm flipV="1">
            <a:off x="7485120" y="2045520"/>
            <a:ext cx="622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Přímá spojovací šipka 40"/>
          <p:cNvCxnSpPr/>
          <p:nvPr/>
        </p:nvCxnSpPr>
        <p:spPr>
          <a:xfrm>
            <a:off x="7859520" y="4825800"/>
            <a:ext cx="47052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Zadání žádosti o platb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Obrázek 4" descr=""/>
          <p:cNvPicPr/>
          <p:nvPr/>
        </p:nvPicPr>
        <p:blipFill>
          <a:blip r:embed="rId1"/>
          <a:stretch/>
        </p:blipFill>
        <p:spPr>
          <a:xfrm>
            <a:off x="1084320" y="1327320"/>
            <a:ext cx="7556400" cy="4967280"/>
          </a:xfrm>
          <a:prstGeom prst="rect">
            <a:avLst/>
          </a:prstGeom>
          <a:ln w="0">
            <a:noFill/>
          </a:ln>
        </p:spPr>
      </p:pic>
      <p:sp>
        <p:nvSpPr>
          <p:cNvPr id="27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-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Zaoblený obdélníkový popisek 6"/>
          <p:cNvGrpSpPr/>
          <p:nvPr/>
        </p:nvGrpSpPr>
        <p:grpSpPr>
          <a:xfrm>
            <a:off x="6808680" y="2163600"/>
            <a:ext cx="2494080" cy="755640"/>
            <a:chOff x="6808680" y="2163600"/>
            <a:chExt cx="2494080" cy="755640"/>
          </a:xfrm>
        </p:grpSpPr>
        <p:pic>
          <p:nvPicPr>
            <p:cNvPr id="273" name="Zaoblený obdélníkový popisek 6" descr=""/>
            <p:cNvPicPr/>
            <p:nvPr/>
          </p:nvPicPr>
          <p:blipFill>
            <a:blip r:embed="rId2"/>
            <a:stretch/>
          </p:blipFill>
          <p:spPr>
            <a:xfrm>
              <a:off x="6808680" y="2163600"/>
              <a:ext cx="2494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907400" y="2424240"/>
              <a:ext cx="1315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Ex-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Obrázek 10" descr=""/>
          <p:cNvPicPr/>
          <p:nvPr/>
        </p:nvPicPr>
        <p:blipFill>
          <a:blip r:embed="rId1"/>
          <a:srcRect l="1906" t="0" r="0" b="0"/>
          <a:stretch/>
        </p:blipFill>
        <p:spPr>
          <a:xfrm>
            <a:off x="1306440" y="1424160"/>
            <a:ext cx="7290000" cy="4889160"/>
          </a:xfrm>
          <a:prstGeom prst="rect">
            <a:avLst/>
          </a:prstGeom>
          <a:ln w="0">
            <a:noFill/>
          </a:ln>
        </p:spPr>
      </p:pic>
      <p:sp>
        <p:nvSpPr>
          <p:cNvPr id="27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Zaoblený obdélníkový popisek 10"/>
          <p:cNvGrpSpPr/>
          <p:nvPr/>
        </p:nvGrpSpPr>
        <p:grpSpPr>
          <a:xfrm>
            <a:off x="5711760" y="1163520"/>
            <a:ext cx="3846600" cy="1135080"/>
            <a:chOff x="5711760" y="1163520"/>
            <a:chExt cx="3846600" cy="1135080"/>
          </a:xfrm>
        </p:grpSpPr>
        <p:pic>
          <p:nvPicPr>
            <p:cNvPr id="278" name="Zaoblený obdélníkový popisek 10" descr=""/>
            <p:cNvPicPr/>
            <p:nvPr/>
          </p:nvPicPr>
          <p:blipFill>
            <a:blip r:embed="rId2"/>
            <a:stretch/>
          </p:blipFill>
          <p:spPr>
            <a:xfrm>
              <a:off x="5711760" y="1163520"/>
              <a:ext cx="38466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956280" y="1252440"/>
              <a:ext cx="2479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finanční prostředky požaduj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084320" y="1812960"/>
            <a:ext cx="7943760" cy="3033720"/>
          </a:xfrm>
          <a:prstGeom prst="rect">
            <a:avLst/>
          </a:prstGeom>
          <a:ln w="0">
            <a:noFill/>
          </a:ln>
        </p:spPr>
      </p:pic>
      <p:grpSp>
        <p:nvGrpSpPr>
          <p:cNvPr id="282" name="Zaoblený obdélníkový popisek 4"/>
          <p:cNvGrpSpPr/>
          <p:nvPr/>
        </p:nvGrpSpPr>
        <p:grpSpPr>
          <a:xfrm>
            <a:off x="6145200" y="4468680"/>
            <a:ext cx="2816280" cy="1030320"/>
            <a:chOff x="6145200" y="4468680"/>
            <a:chExt cx="2816280" cy="1030320"/>
          </a:xfrm>
        </p:grpSpPr>
        <p:pic>
          <p:nvPicPr>
            <p:cNvPr id="283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6145200" y="4468680"/>
              <a:ext cx="28162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354720" y="4917960"/>
              <a:ext cx="25272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Info o přijatých úroc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Zaoblený obdélníkový popisek 5"/>
          <p:cNvGrpSpPr/>
          <p:nvPr/>
        </p:nvGrpSpPr>
        <p:grpSpPr>
          <a:xfrm>
            <a:off x="5735520" y="1504800"/>
            <a:ext cx="2695680" cy="1603440"/>
            <a:chOff x="5735520" y="1504800"/>
            <a:chExt cx="2695680" cy="1603440"/>
          </a:xfrm>
        </p:grpSpPr>
        <p:pic>
          <p:nvPicPr>
            <p:cNvPr id="286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5735520" y="1504800"/>
              <a:ext cx="26956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829480" y="1590840"/>
              <a:ext cx="2511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Částka nepřímých nákladů dle Soupisk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Obrázek 8" descr=""/>
          <p:cNvPicPr/>
          <p:nvPr/>
        </p:nvPicPr>
        <p:blipFill>
          <a:blip r:embed="rId1"/>
          <a:srcRect l="1909" t="0" r="1909" b="0"/>
          <a:stretch/>
        </p:blipFill>
        <p:spPr>
          <a:xfrm>
            <a:off x="1573200" y="1512720"/>
            <a:ext cx="6473880" cy="4889520"/>
          </a:xfrm>
          <a:prstGeom prst="rect">
            <a:avLst/>
          </a:prstGeom>
          <a:ln w="0">
            <a:noFill/>
          </a:ln>
        </p:spPr>
      </p:pic>
      <p:sp>
        <p:nvSpPr>
          <p:cNvPr id="2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Zaoblený obdélníkový popisek 11"/>
          <p:cNvGrpSpPr/>
          <p:nvPr/>
        </p:nvGrpSpPr>
        <p:grpSpPr>
          <a:xfrm>
            <a:off x="7265880" y="1079640"/>
            <a:ext cx="2543400" cy="1127160"/>
            <a:chOff x="7265880" y="1079640"/>
            <a:chExt cx="2543400" cy="1127160"/>
          </a:xfrm>
        </p:grpSpPr>
        <p:pic>
          <p:nvPicPr>
            <p:cNvPr id="291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7265880" y="1079640"/>
              <a:ext cx="2543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845480" y="1163520"/>
              <a:ext cx="185724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byly prostředky utrace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Zaoblený obdélník 15"/>
          <p:cNvGrpSpPr/>
          <p:nvPr/>
        </p:nvGrpSpPr>
        <p:grpSpPr>
          <a:xfrm>
            <a:off x="-85680" y="2719440"/>
            <a:ext cx="1311120" cy="2913120"/>
            <a:chOff x="-85680" y="2719440"/>
            <a:chExt cx="1311120" cy="2913120"/>
          </a:xfrm>
        </p:grpSpPr>
        <p:pic>
          <p:nvPicPr>
            <p:cNvPr id="294" name="Zaoblený obdélník 15" descr=""/>
            <p:cNvPicPr/>
            <p:nvPr/>
          </p:nvPicPr>
          <p:blipFill>
            <a:blip r:embed="rId3"/>
            <a:stretch/>
          </p:blipFill>
          <p:spPr>
            <a:xfrm>
              <a:off x="-85680" y="2719440"/>
              <a:ext cx="131112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1680" y="2816280"/>
              <a:ext cx="108288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17375e"/>
                  </a:solidFill>
                  <a:latin typeface="Calibri"/>
                </a:rPr>
                <a:t>Částky zde uvedené budou shodn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Zahnutá šipka doprava 21"/>
          <p:cNvSpPr/>
          <p:nvPr/>
        </p:nvSpPr>
        <p:spPr>
          <a:xfrm>
            <a:off x="1039680" y="244620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ahnutá šipka doprava 22"/>
          <p:cNvSpPr/>
          <p:nvPr/>
        </p:nvSpPr>
        <p:spPr>
          <a:xfrm>
            <a:off x="1039680" y="369108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8520" y="3068640"/>
            <a:ext cx="91299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odezření z porušení rozpočtové káz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Zástupný symbol pro text 3"/>
          <p:cNvSpPr/>
          <p:nvPr/>
        </p:nvSpPr>
        <p:spPr>
          <a:xfrm>
            <a:off x="355680" y="1601640"/>
            <a:ext cx="972504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ušení podmínek výběrového řízení, např. není dodržena povinnost sčítání spolu souvisejících pl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é nedoložení požadovaný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působilé výdaje dle Příručky pro příjem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ůvodně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hospodár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ylné plat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nutí výdaje nepřímého charakteru do přímých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odezření z porušení rozpočtové káz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Zástupný symbol pro text 3" descr=""/>
          <p:cNvPicPr/>
          <p:nvPr/>
        </p:nvPicPr>
        <p:blipFill>
          <a:blip r:embed="rId1"/>
          <a:stretch/>
        </p:blipFill>
        <p:spPr>
          <a:xfrm>
            <a:off x="255600" y="1504800"/>
            <a:ext cx="9833040" cy="4816800"/>
          </a:xfrm>
          <a:prstGeom prst="rect">
            <a:avLst/>
          </a:prstGeom>
          <a:ln w="0">
            <a:noFill/>
          </a:ln>
        </p:spPr>
      </p:pic>
      <p:sp>
        <p:nvSpPr>
          <p:cNvPr id="3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Řešení nesrovnal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náklady – přímo přiřaditelné k určité aktivitě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dokladovat, vykaz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náklady spojené s administrac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lehčení realizace a kontroly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neinvestiční výda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ní nutné doklad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ručka pro příjemce, verze 4, str. 61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Zástupný symbol pro text 3"/>
          <p:cNvSpPr/>
          <p:nvPr/>
        </p:nvSpPr>
        <p:spPr>
          <a:xfrm>
            <a:off x="1890720" y="3600360"/>
            <a:ext cx="69786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g. Dana Voden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-mail: dana.vodenkova@msmt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.: 234 814 1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Nadpis 2"/>
          <p:cNvSpPr/>
          <p:nvPr/>
        </p:nvSpPr>
        <p:spPr>
          <a:xfrm>
            <a:off x="684360" y="16621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úklidu, ostr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í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isk pro administr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tuzemské cestovní náhr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kanceláře pro 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klady na pořízení  zásob či materiálu pro občerstvení pracovníků či cílové skupi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lohy monitorovacích zprá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text 3"/>
          <p:cNvSpPr/>
          <p:nvPr/>
        </p:nvSpPr>
        <p:spPr>
          <a:xfrm>
            <a:off x="0" y="1779480"/>
            <a:ext cx="992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hled účetních dokladů ke všem přímým způsobilým výdajům projektu dokládaným v rámci dané MZ  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výdaj musí věcně souviset s monitorovaným obdob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ahuje soupis všech účetních dokladů bez ohledu na hodnotu účetního do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Řazení dokladů v soupisce je vzestupně dle jednotlivých kapitol (položek)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se dopočítávají podle výše nákladů přím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text 3"/>
          <p:cNvSpPr/>
          <p:nvPr/>
        </p:nvSpPr>
        <p:spPr>
          <a:xfrm>
            <a:off x="372960" y="1541520"/>
            <a:ext cx="90252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, které jsou rozepsány ve vlastních přílohách, jsou v Soupisce uvedeny souhrn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/platových výdajů realizačního týmu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- zahranič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příspěvků pro školené o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95360" y="5424480"/>
          <a:ext cx="7512120" cy="396720"/>
        </p:xfrm>
        <a:graphic>
          <a:graphicData uri="http://schemas.openxmlformats.org/drawingml/2006/table">
            <a:tbl>
              <a:tblPr/>
              <a:tblGrid>
                <a:gridCol w="5600880"/>
                <a:gridCol w="1911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y 1/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125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10517" b="0"/>
          <a:stretch/>
        </p:blipFill>
        <p:spPr>
          <a:xfrm>
            <a:off x="239760" y="1541520"/>
            <a:ext cx="9494640" cy="223848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Soupiska.JPG"/>
          <p:cNvPicPr/>
          <p:nvPr/>
        </p:nvPicPr>
        <p:blipFill>
          <a:blip r:embed="rId2"/>
          <a:srcRect l="285" t="7222" r="4279" b="0"/>
          <a:stretch/>
        </p:blipFill>
        <p:spPr>
          <a:xfrm>
            <a:off x="247680" y="4076640"/>
            <a:ext cx="95932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02" name="Zaoblený obdélníkový popisek 5"/>
          <p:cNvGrpSpPr/>
          <p:nvPr/>
        </p:nvGrpSpPr>
        <p:grpSpPr>
          <a:xfrm>
            <a:off x="8137440" y="5321160"/>
            <a:ext cx="1817640" cy="1067040"/>
            <a:chOff x="8137440" y="5321160"/>
            <a:chExt cx="1817640" cy="1067040"/>
          </a:xfrm>
        </p:grpSpPr>
        <p:pic>
          <p:nvPicPr>
            <p:cNvPr id="103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8137440" y="5321160"/>
              <a:ext cx="18176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236080" y="5553000"/>
              <a:ext cx="16272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předpokládané celkové výd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Zaoblený obdélníkový popisek 7"/>
          <p:cNvGrpSpPr/>
          <p:nvPr/>
        </p:nvGrpSpPr>
        <p:grpSpPr>
          <a:xfrm>
            <a:off x="3067200" y="3108240"/>
            <a:ext cx="1796760" cy="1586160"/>
            <a:chOff x="3067200" y="3108240"/>
            <a:chExt cx="1796760" cy="1586160"/>
          </a:xfrm>
        </p:grpSpPr>
        <p:pic>
          <p:nvPicPr>
            <p:cNvPr id="106" name="Zaoblený obdélníkový popisek 7" descr=""/>
            <p:cNvPicPr/>
            <p:nvPr/>
          </p:nvPicPr>
          <p:blipFill>
            <a:blip r:embed="rId4"/>
            <a:stretch/>
          </p:blipFill>
          <p:spPr>
            <a:xfrm>
              <a:off x="3067200" y="3108240"/>
              <a:ext cx="17967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81320" y="3209760"/>
              <a:ext cx="14954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Zadejte procento NN uvedené v právním a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Elipsa 13"/>
          <p:cNvSpPr/>
          <p:nvPr/>
        </p:nvSpPr>
        <p:spPr>
          <a:xfrm>
            <a:off x="7396200" y="4046400"/>
            <a:ext cx="533520" cy="22248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4"/>
          <p:cNvSpPr/>
          <p:nvPr/>
        </p:nvSpPr>
        <p:spPr>
          <a:xfrm>
            <a:off x="7396200" y="45356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ipsa 15"/>
          <p:cNvSpPr/>
          <p:nvPr/>
        </p:nvSpPr>
        <p:spPr>
          <a:xfrm>
            <a:off x="7396200" y="484668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Zakřivená spojovací čára 17"/>
          <p:cNvCxnSpPr>
            <a:stCxn id="108" idx="6"/>
            <a:endCxn id="109" idx="6"/>
          </p:cNvCxnSpPr>
          <p:nvPr/>
        </p:nvCxnSpPr>
        <p:spPr>
          <a:xfrm>
            <a:off x="7929720" y="4157640"/>
            <a:ext cx="2160" cy="489600"/>
          </a:xfrm>
          <a:prstGeom prst="curvedConnector5">
            <a:avLst>
              <a:gd name="adj1" fmla="val 14380000"/>
              <a:gd name="adj2" fmla="val 49963"/>
              <a:gd name="adj3" fmla="val 14380000"/>
            </a:avLst>
          </a:prstGeom>
          <a:ln w="25560">
            <a:solidFill>
              <a:srgbClr val="f79646"/>
            </a:solidFill>
            <a:miter/>
          </a:ln>
        </p:spPr>
      </p:cxnSp>
      <p:cxnSp>
        <p:nvCxnSpPr>
          <p:cNvPr id="112" name="Zakřivená spojovací čára 19"/>
          <p:cNvCxnSpPr>
            <a:stCxn id="109" idx="6"/>
            <a:endCxn id="110" idx="6"/>
          </p:cNvCxnSpPr>
          <p:nvPr/>
        </p:nvCxnSpPr>
        <p:spPr>
          <a:xfrm>
            <a:off x="7929720" y="4646160"/>
            <a:ext cx="2160" cy="311760"/>
          </a:xfrm>
          <a:prstGeom prst="curvedConnector5">
            <a:avLst>
              <a:gd name="adj1" fmla="val 14380000"/>
              <a:gd name="adj2" fmla="val 49942"/>
              <a:gd name="adj3" fmla="val 14380000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grpSp>
        <p:nvGrpSpPr>
          <p:cNvPr id="113" name="Zaoblený obdélníkový popisek 20"/>
          <p:cNvGrpSpPr/>
          <p:nvPr/>
        </p:nvGrpSpPr>
        <p:grpSpPr>
          <a:xfrm>
            <a:off x="311040" y="5541840"/>
            <a:ext cx="2340000" cy="1425600"/>
            <a:chOff x="311040" y="5541840"/>
            <a:chExt cx="2340000" cy="1425600"/>
          </a:xfrm>
        </p:grpSpPr>
        <p:pic>
          <p:nvPicPr>
            <p:cNvPr id="114" name="Zaoblený obdélníkový popisek 20" descr=""/>
            <p:cNvPicPr/>
            <p:nvPr/>
          </p:nvPicPr>
          <p:blipFill>
            <a:blip r:embed="rId5"/>
            <a:stretch/>
          </p:blipFill>
          <p:spPr>
            <a:xfrm>
              <a:off x="311040" y="5541840"/>
              <a:ext cx="2340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36680" y="5665680"/>
              <a:ext cx="16063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 vyúčtování vynaložených celkových způsobil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>Zuzana ujanáková</dc:creator>
  <dc:description/>
  <dc:language>en-US</dc:language>
  <cp:lastModifiedBy>ugh</cp:lastModifiedBy>
  <dcterms:modified xsi:type="dcterms:W3CDTF">2011-01-17T12:55:32Z</dcterms:modified>
  <cp:revision>470</cp:revision>
  <dc:subject/>
  <dc:title>Název PPT </dc:title>
</cp:coreProperties>
</file>