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2D006E-FA3A-4190-B54C-0BCCB6B51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2255A-5C1D-4967-888C-8B57CA111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8BB82-DFA3-4606-B9B7-1A0C4250E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729-5910-4515-B64F-45B77A13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6D8-CB1C-47EE-9B5D-B4C89E9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BDB12-3F9F-4AD6-A186-7CC17F21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829F6-6D7E-454E-A4DB-27716FD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31C8-DD6C-4EE0-BA69-6F849A08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259CE-94B3-4C31-A69A-D95594E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174B6-F4C2-4603-B232-B2C9148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ACA03-0EE3-441A-8195-409FBD18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DC26D-122A-4317-A83E-CA7860AA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737F3-97F9-47A0-9542-63E7883F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AF712-ED3E-4355-BA7A-47984FC2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7662C-3BC2-41F7-ADCD-C037E669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A4D-0573-4A35-9E21-91C0C4C6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FF028-E3F6-499D-86B6-1AA48516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11A3C-3183-41AC-8F66-395265E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08090-1E8C-4520-8CEF-044E1FD7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FF4FD-FD4B-442C-B254-B257E7F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EB314-286F-4212-AD09-DA1ECFA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7679B-19B6-4CE6-ADF2-E750F5E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4435-EC07-43C0-A58C-B457D739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6F346-05BC-47CE-AAF1-A1B473D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59735-418B-401A-A331-63507054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B5DB1-57FA-4BD5-87B9-AA9FCC8E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ED8-6BDD-40EC-91C7-CCD9DD6A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9BBE-82A8-4B20-99D8-9877622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C271D-207C-463D-A161-ECF0E9D7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AEDD8-1923-44ED-8AEE-B84F4855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3A223-6D78-43A7-B563-423BE8A4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EE120-AB59-46ED-A2FB-C4ECE1CB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BE483-EFB7-496E-8236-CF51C43F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8794-DCF0-430D-9462-65AC2FB3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C51A8-2B7F-4667-BC22-60412C6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FE1D3-261A-4B8D-9BFF-0D09B14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36737-EA5A-4BC3-B4AF-5CB5F87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2482-87D8-4B2F-9923-F2DA923D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3BB9E-225A-4159-919D-BB54A7BA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2C2C1-B44B-41A5-A375-BC2B8D7A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A5064-A94F-4A63-999D-A3BE1AA0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1F71F-36AB-422D-BA12-206AF897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79405-A5FA-4D5E-9C6A-8F3DB4A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687CD-F530-4E1F-8906-0188C4A9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379BA-1E1C-409C-BC0F-D5B52E4E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96B3B-9518-4630-A5BA-ABBEE3E8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BF416-A2AA-4B33-8FA2-938211E4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44015-5478-44E2-8D84-21AA1272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58B-5086-4721-B8F8-0FD1947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7E40E-F0B2-42C7-8615-DB30EF9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F2DE9-A003-4194-ADAC-32DFDFE5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B4007-1D08-44D8-9F22-B96E9392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57FD9-CD1E-4D5C-818D-A6855587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EE9A5-196B-40A9-93FA-82B099A4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490C-6C25-451E-A539-311E7771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DF2A-9DF2-4456-8760-2839D11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49B-2261-49D4-B6BF-A7FB5D00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66C3-8299-41ED-9867-B1C031B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31A3-4687-4954-B4E1-A4938E37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DF5-7A0E-409E-AFC1-975AFB3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0012-4CEC-4692-86B8-78E897D0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44C-5926-44FB-9CD7-2A0F3C0C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42B3-A12A-4D1D-A2AD-66614470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6241-D300-4CF1-A841-FCB56699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5EC-8B26-403B-973A-44147E56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8AFFE-7D52-466F-A447-CF686AC5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BAC4-EECE-49FD-955E-A7C5D5C2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9346-E9C6-456A-A1EE-2788DCF8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1329-414B-4506-BC51-7CAF9706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33E1-0DA4-4380-AF51-0F037BFF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EDB-6B41-4EF4-B134-05C5A5C0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130A-5151-44E5-9D6D-E4A1188C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9D13-CA52-4948-86C9-91233956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10C9-6CF1-41AF-B78B-D383D060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AF26-7185-4665-8C3C-1B39921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2FA5-9135-435E-95F2-EE0D5A09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D97C-FC37-4C8A-AB0A-2483116B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BB93-0DD7-440D-B53C-12E7AF2E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C90E-1199-4418-8860-35534D97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6A9D-702D-4E2F-848B-6D5D544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E92D-82D1-4D63-A0F3-536528BC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94C-B2CE-4F8E-9E48-AFA6A2AE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009A9-541F-4750-805D-F6617CE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6091-FE50-4DFD-8D7C-379E008F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4D8B-2B7D-4C01-91B6-F3ABA51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782B8-4E13-43CF-870B-45FD3BA6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39A1-A3D8-4D66-ADF7-CEA758B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1FDC-7C65-4C9D-8E04-F3E0C8C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1680-A14B-428F-847A-32C65E9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85B1-2A14-41CC-AD09-EE414D3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834A-AE4F-430B-AD3F-5F4C1A59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877F0-90FD-4578-9833-9ECE99A5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5CC-2D99-4415-9363-01A9D1DE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13F4-6A52-4690-86D7-A37BAF64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084F-6777-40BD-9228-84ACBE56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E3E32-55E7-4183-9719-523A3B11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7DD0D-D659-4C21-8F67-5233E639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B985-8C87-4F62-839D-8A6B8F47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92D3-7FD7-487B-A4C1-3B76713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38A95-02E1-4889-919F-6BDE6BD0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F518-DFA4-4F7C-BA09-51A48EC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C11BB-F721-4DD4-8781-B53A3B7E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AB02-24F7-440C-B6ED-F98438F1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2D6-B5DE-4C85-8A26-8FC7E928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93E90-F366-4367-92FD-EC54AC76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A0C0E-DB5F-4D0B-B624-EFC1DFF7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901F4-8A7A-4EC0-936C-CCF029A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29091-8C3D-4CD2-BB79-D3D52547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464FD-5290-4826-B2CD-F431EB7A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E514-819E-4577-B6CD-DB8E538A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7656-3952-46AE-AE59-8C67D28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7AD5F-818B-4B9B-8DB9-0B4E88B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7A100-433A-473F-ADC4-F1B7B80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84CD2-4F72-4A1A-A69B-3CC11558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D1A-D822-436B-B057-5D56171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6D0D2-510E-4213-BC84-3E59AE2D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66AB7-D2A7-49B6-84D8-3164457F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874B5-C000-497F-A46E-CE462033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585F-07EF-4E91-B559-FC3E8122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0341-27B6-4AE4-8506-2BFC3468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0821-0147-40BC-983C-AE8D849E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8113-40F5-4506-9AE6-D001252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6D5C-663D-4888-A7AD-C47E697B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BC13-853C-4BD3-B90E-C3C21D4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D10E1-7C8A-489F-BFCB-66D7E2D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C6C-195D-478F-BFAA-50E311CA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A152D-4CCD-4589-A9ED-FE934C7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95FE-A226-4656-9733-35DC6A0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748E2-72EF-4DA8-8EE4-583D824C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6438B-C0B6-4FE7-B4B7-868792D0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5446F-3D17-44A5-A07B-73B090DD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23C03-8796-4226-9A04-CE9DE223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1632B-EE06-4378-9E3A-18527922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F0BB8-4B56-4446-9E88-02813C66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AE5C-B9EA-429D-AAD6-5D95917C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AE61C-C4C6-4F73-96AC-132D27FD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0CC-236B-4281-9AC9-A6A8887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A6EA6-F192-4D77-B18C-D2CF0BEA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ABB63-DC7B-499A-8E50-D2EE6E8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82E07-57C5-4C0A-A7F0-D59A024B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73CD7-B1E3-48C6-B512-F7D2869A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644F7-B710-4863-AA01-BE5742A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F07B8-0158-4443-9E9B-81F5DF06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BE256-57E1-4101-BD61-F626D9C6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AEA7-7F25-467E-8A41-35EC28E2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040D7-E58E-443A-B364-7ECE477E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EA4C1-8AC9-4AFC-817C-31C7D93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07EAB-BEB1-4CF3-963E-71EBBFE9AD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5CBDB-3CDE-4B86-AB4D-65B9761BE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675B299-065C-4948-85FD-2DD1440B9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C9C8C-60BB-43DE-A9A6-FBEAF465BD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9D95B-F196-4D29-B304-06458B213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F29F9-1025-4369-AE85-9F4D9D4E8B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F0DFC-9DF8-4053-8875-B01215367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92D39-3616-4BBD-B337-8E500E4572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031E4-A65F-4B45-93BE-8CE2E6DDF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3EA5D-6C40-4FA1-9CDD-E12C32FB25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78D52-F6D9-4720-84FE-AAE621362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098B3-E484-4779-BFF2-F207B94C27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79956-0A46-4E1B-A8EF-5CDB29AA5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8ED3F-28EE-4690-A552-CC8B134D98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323D0-661F-4251-B4DF-1DE27D621D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05632-3E27-4D2B-9A56-28C401D28B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FA85B-D39E-41B2-8355-8E641A60D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36363-D047-4771-A84E-0E87F2A9DC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C7D9E-C3BD-46EB-91AE-F10157994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1091E-2E88-4976-9EA1-3A71F666F1F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FBC8F-8DD0-464D-9111-64EE78DE9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D6697-BD85-423F-83DE-73299708E3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518C5-82F4-4A58-9578-A2A04F659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D5E41-1E04-4AE2-AFB2-AED45F5D42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27E7A-043A-48B5-9E54-99AEE8C01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55F23-ECEE-4AB7-B9BD-2265789F0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C2A7B-5DC2-4FB1-B1C0-0A7BB9E0C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0A2D2-9473-46C9-8536-536DE21C8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3F607-7A00-4FD9-8F97-0FC79385B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AAF5A-E3BD-4628-9C0F-E6319F650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DF21C-098B-468A-9E9A-CA8ADF423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92075-AE4E-45FE-96BE-AC7605263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E8E51-050A-4209-91DA-661198267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4F0D8-12F8-4672-8807-E627B4460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2F40A-AF89-43D5-BB82-80D7A91B5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68A51-1147-406B-9829-16208B2E4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0C03E-A5DA-4401-AFEA-6D193EB05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BACE8-EE04-4108-A0A3-F2234D2F9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C804E-CD88-48DF-A634-22438DA5E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8808C-00C4-485C-8376-57DF4221C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83AED-1DA1-4D0D-8AC5-BD343C56F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6A9B8-D8F9-4A3D-B7FE-2CA7997E4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1B6F1-B902-4032-AD1F-82DB44C30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941DE-DAB2-43A5-9324-18E81FEB6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94B47-6481-406F-9610-8641BA791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85EFB-C2B9-4651-83C8-7497F85AA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7C9AB-5EB7-4B94-92BB-7908E685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5333-159F-4135-8451-6E6B0E687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061A7-EC17-470A-8368-3822A4B12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C9182-064B-4CDB-84E1-4DF7DF3BA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37CA4-BD63-43B8-8BC5-9CE5E6633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49AE6-CECC-40EB-B05E-8ACCBFEF7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B0E03-F386-413B-A25D-CBC16744F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A68C5-18D1-4B7C-96E5-996349DF0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CAF1D-1BA1-46AF-BA16-2CF833DA9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87CA2-D2F1-4640-96F2-222A061C7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D879A-7C8D-4C8E-BD05-F87DF9D96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BCC40-1E8B-4ADD-858D-F5CF47C87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D9F19-2528-42E1-9084-3B3F9792A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07:31:58Z</dcterms:modified>
  <cp:revision>45</cp:revision>
  <dc:subject/>
  <dc:title>Titulní strana – Titulek</dc:title>
</cp:coreProperties>
</file>