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A0E-BA30-4BB1-AC1C-5BC413FB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B51-202F-4BF3-BF2D-E6D25DE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E0C7C-3332-46E6-B613-0A28D2AF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AA18C-BD05-4F2B-A36B-3EB2BC37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904CD-8E07-4E4A-AD2C-84DA9508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B9AB2-A741-499B-94F4-C82ED94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5CA7E-2D94-4628-A0C6-CCA1871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1C5ED-24FA-4451-A4CC-3DF073D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AE6ED-91B5-4C26-A74B-CE80CDB5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85D24-DD17-454E-AE89-431B4DA3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4F223-C43B-4A4F-B146-F8DAC895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11558-08D1-4E22-BBA0-6237470A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5B4-1D62-45FB-AA55-E4BB451B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AF1B0-2D91-4258-B379-665105EB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87A06-F006-4109-90F5-1E2F8C55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E07C7-262E-4197-9B5C-DF1212C2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B1EE3-D6C5-4B4C-B077-6011A3A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E5CF6-940F-463B-9DBF-CE78840C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3ED9D-5D33-450B-91B4-1E651AA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A15A9-2583-47ED-A676-98435BB3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EFCCF-694E-427A-B932-8C891E9B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080CD-1A70-4457-A7AD-AD587C33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74987-F08A-48ED-A038-64825C30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BC3-08CF-42F8-920D-B634119A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098CF-F854-458B-9157-B7031FAE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978A4-D1D4-4D2D-81D3-C2E0BDA1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FE9C3-119D-4FD9-BD34-D4C31DCE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0FE3B-A2C6-4D93-A52E-B561A91F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915DB-3DDF-4A6F-A986-E9978FEC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45A10-6C47-4ECD-BCDB-75D052C6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0AD26-C296-4329-8E1E-3A8B613F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DA5E3-7188-4F04-9DE6-42D65650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59007-0C75-45B7-B390-37225362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165D3-618C-487D-87AE-C9F168E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4FF8-33F9-4994-9AAF-291A9228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9A61C-B50E-4966-B254-D2907813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8E5BE-3F67-427C-806A-237256B9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5E993-4F88-4FA3-9400-4D044A30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B3692-59AB-44D2-87A7-1C4CABD0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1B11E-4423-4715-97D8-48A6E335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F251C-6138-429C-AD3D-BF42FAFC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E5DA3-6D42-4966-8C46-657129F2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26C1D-278A-4EF5-A357-3EBF2511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82DA7-6DB9-424D-908E-44D7D9B2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E3742-AA05-4495-B078-0FE91504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0C38-1340-49EB-9739-E036242F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657E8-D9B9-4001-B7D8-D9C850EA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CAC4E-1255-47F9-86A6-2637286C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C3FBA-379A-4881-886B-395FF2F9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AF9B6-04D4-4A8E-A527-62C8AD75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40B8A-C846-4C07-9F46-9E2398FC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383C-A590-4634-B816-91331B71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5B15-4B43-416D-8B51-80E52AA9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164B-AB58-4974-94FE-22FF299F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268F-4F09-45CB-8144-F4BABB23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9587-D5ED-4B7F-AAE8-87FD18A9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037-5A35-4B28-A9F1-5D85C79A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C1FA-85D8-4A9B-905F-A6F16FD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14D0-654F-49E8-8244-47C26C5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8740-3887-47FC-A384-341BFAF4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7BB9-50CB-4F8E-B659-81D71F3F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58CC-371E-41CA-A836-34894EB0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55A58-9209-47FF-AD78-124D4589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163E-2552-4267-AA1F-94E74AC5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CFF3-C279-4C35-B672-CEC9E184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D3D7-F665-4590-938F-023D9FCD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E2B7-7630-4BA6-8512-1D1B1C45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796-3D99-4F2D-A3BB-F6559318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1935-C219-40B9-920A-DA791C2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B73B-9372-454B-B446-114D3729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8FEB-DDF8-4C3F-A5DD-62A6658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1CF7-248D-4A08-AF28-3FB2F5E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2512-9513-4878-80A5-7138A4C0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2F38C-CD29-4A31-B8D6-D49EB52D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CBD4-57F5-469E-B5A5-6C1BBE28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AE654-E948-470F-AED3-38CE8DAF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939E5-C61D-4E35-9CF4-A612D786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18CD-7C0C-4072-8026-592774C8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3F8-0CDC-4D67-844F-1C399B47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3921-C02D-44C9-9EEA-EB982BD2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A408-28B7-4DE8-BD08-6BF3DF2F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A76C-9811-4DBF-A7B3-4B38880C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2E3D7-DD18-4CC1-B24F-2A244540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29BE7-7CF2-44E7-9AB0-AB88469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28623-D17E-461C-8FEA-5141B8B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6718-22B9-45C7-9E15-0BD79269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C1EE-D61F-43B5-9023-EDF5DAE4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94D07-AA5C-4EC7-BFE1-A073C456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4D5A-E385-4F13-B8D5-9D45C38C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942-811E-474C-888C-0CC117CB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C808-81DD-442C-BDDE-AB620FAA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3DE2-2C7A-4BF1-AF73-1ECE3A7A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F5507-0A0F-4785-934A-B938E1B9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3EDD-4F3A-4869-B3FE-6F1E1073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5DC87-8FB9-4E90-AFB0-A35776BF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E230-0D07-4F84-8E97-A30789BF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09D24-E44E-4F7E-9DCE-41CC120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DE56-CC54-4D1C-93DA-C5AA94D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5252-7D2E-4018-BBCD-9AD81AE4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7D4E-8439-4BDF-8E1F-E2000F26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0B2-07A6-49E3-982E-20559365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86FC7-BFF1-4BAE-9ECC-C646968C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52B68-2431-4DE0-BA81-437CCAE0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2D136-F76A-48C3-B3DF-61857AB3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8C9B-4DB2-4398-86D2-701842D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ED7E2-2EAB-4618-9A2A-CAA03D5D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F44D6-AE39-4872-8483-EF350FE1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829F5-AD92-427B-AAE8-86C91B3B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F875-9359-4217-9F64-2B70BBF9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15F3D-A51B-4E79-90A8-48AFA55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05075-33A5-4137-B581-8C2F909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318-DA48-4EFC-A598-78D700E9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E2587-0463-4E1B-9C58-817384BB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8752-3306-435C-8DCD-464EAE21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5F4E3-2AE7-4BCA-B41E-65AB34CC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637E0-AA34-427B-BF17-57E9B29E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637DF-DE69-43FD-BD19-3F26BE3C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7C66-CF9B-496B-8DBD-13DA88E9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91869-C548-406F-A113-76B3D3A8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0C1E-EA76-4589-A8BF-47A8617C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FDBF-56B5-46F2-B9B6-C420AAC6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641D5-1C40-42D0-BDA1-504BE0EF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7A2-5440-45C8-BA79-26BEB96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944AF-7551-4443-8315-76EF27E8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BCB21-A4B5-4B83-A102-B32391B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D71FE-36D0-46CF-87B7-57EB88FB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E747C-B476-4F33-8C17-17620B44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39F87-35E2-484F-ABC3-A0BEB79E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00E6E-A7D1-4F40-8E5D-58B997A5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C17AA-0ECD-4C5F-9488-78356FE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2C027-41A5-41B0-9086-3C8940BC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951E5-59BC-40DC-9263-8368AD54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5C5C7-6124-40BC-801D-878EE2B1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D2A-3A21-4D6A-B1F6-C8541A57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BAF86-FA8D-48B1-B91B-3F0A716B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81E6C-0C9C-49CC-A63F-56BBC80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7AE09-D485-43E9-A2EC-16673ED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F519E-AEA9-4328-8E45-E89E5649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D75DF-A339-4E4D-8EEF-C98B97C6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24893-267A-4416-84C0-8E26A077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8673C-63C5-4FFE-8904-A8768358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A5E22-1F3D-47A5-99AE-BC90AE95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07052-23CD-4D3C-A48D-A5AC773A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F922E-3965-4C3F-B7DC-0C70F299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5677F-4FFE-473A-9EFA-51D3103F76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E66DE-5B79-4041-AB78-B7B987C3B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3B2EE067-2B7B-4957-8271-01DD05B05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7281A-A073-4A13-8EB8-50A72B8D86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40DAA-6E20-4490-8B14-BD2245A56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6CFC3-A086-48AC-B109-AD9D92C556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ACF48-EC32-466B-AC67-4F4A97214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A12A1-3121-4ED5-8F60-0B76C9CD80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2D79D-D610-44D0-92D0-57819A7B1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293EA-53A6-43DD-A872-6E97DFEAFA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59A2C-8301-4550-9D64-5AA4F51D4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88091-3F3D-46BC-B267-74640B2757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A263C-5481-483E-9124-AA47177D7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54EE2-7732-4A18-A6C6-0B58005A73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7D8A0-1733-41A9-98EB-85D396B19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95970-D158-4D4D-938C-A2D2430698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2811E-08A5-4629-9E57-DA5F52C76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0001F-9C5C-4CA3-878B-EE6C29C4D4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8ADF0-B326-4369-8B89-AE4D2B7FC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24EB4-BDAC-4ADB-BC67-7250CDCC2F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92E4C-0CFE-4D95-96C7-95B7ED4C0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3F365-87AE-4679-9CD0-91249D7CEC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56FB2-3CE0-48C8-A04E-CB10C5C6A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4D5C7-93E3-4865-AAB6-BE51B55C19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C84A7-6FB8-40C3-8156-6F79203AB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8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AE160-39EB-493C-A49D-073FB4E06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C1BF3-4041-42D8-BC80-A65CA4975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FCC8F-EE72-4C05-B213-D31473989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88A3D-CFF1-4759-9336-F5BAF6741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807EF-241E-47D4-8D6D-F8A6596DE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A46FC-A7B6-4906-B6D4-9D4CED5AF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FBB08-5045-427A-971D-86A104810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8CD74-2A9A-4742-BE8C-9A15C69E2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1856A-51F3-45D2-9F2D-4723B8461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EB1B1-FD67-48B6-B03F-99EBABD50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A51C7-8CCE-458F-9161-DDA505903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C4E4F-78CE-457B-9B95-C139BF9B5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B201F-AD78-4BD6-A830-F574ED551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1AAEF-4013-4B3D-9A7C-470D0F411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A2595-DF07-422E-8DB9-0EB7A6DF8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B29E7-818F-471D-A509-6DACE73EB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42D73-BD26-4743-8D45-B1A9D12B0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C1B42-1C1B-426C-828A-D8C96A8CB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9F759-10C7-4EA1-8C8A-280383235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390FF-5DB2-4534-ABB7-0E7C21303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9714F-4B17-4177-82B8-0166591F3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C32BD-E326-4FCE-9077-03FC6EE0A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324C8-B22D-4704-A7FD-9EDFD5F46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CC3BA-7E72-4B4B-BC77-5B351FCD8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903BC-B135-4B4A-A13F-43CC885F6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D014F-661F-4E5B-991F-5214E67BF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D45B1-7D00-4DF4-B2E9-4DF14D67B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E519F-8271-4C81-B0A3-1A128E043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EEA0C-3F05-4187-8A3C-615CF66C1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527BD-6F7B-4D08-AA46-EEAB178BD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04F7A-238F-4449-BF0E-38BC58E16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031E3-5768-4C89-8036-69D37B011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982E5-E08B-499A-9C15-4EA454CAD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04T07:21:41Z</dcterms:modified>
  <cp:revision>75</cp:revision>
  <dc:subject/>
  <dc:title>Titulní strana – Titulek</dc:title>
</cp:coreProperties>
</file>