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0.jpeg" ContentType="image/jpeg"/>
  <Override PartName="/ppt/media/image22.jpeg" ContentType="image/jpeg"/>
  <Override PartName="/ppt/media/image9.png" ContentType="image/png"/>
  <Override PartName="/ppt/media/image36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28.png" ContentType="image/png"/>
  <Override PartName="/ppt/media/image30.png" ContentType="image/png"/>
  <Override PartName="/ppt/media/image14.png" ContentType="image/png"/>
  <Override PartName="/ppt/media/image10.jpeg" ContentType="image/jpeg"/>
  <Override PartName="/ppt/media/image5.png" ContentType="image/png"/>
  <Override PartName="/ppt/media/image35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4C70-A65E-4EFD-B33A-CB6FEE18B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0BE0-33D4-4120-8368-8D9AC37D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5E66ED-149B-46C6-99C4-2CB081CD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DF911-E30A-4D95-AA9E-4F26BC8E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4BE148-AD19-43EE-B70F-EEA6F5D2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31871-EDAC-448F-861E-80C7BFF9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A45D0-BE6E-4885-8ED1-12F02A16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80F1F-48DE-409C-BC18-00408963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A76779-15D2-4425-90D7-A0C32C06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A6CA8E-E9CA-4C1E-8B63-CAD4D9BD0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BB217B-85B1-4A0B-9A66-E24A0A5BE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5354B-1563-47CC-AE9D-09E6D4EEF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10C3-DC35-4FF9-918F-FCFAF1E3C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19517-E6B7-4F87-AAC9-41625CE4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F5708F-080E-4E29-90F7-56EB5D09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F85B15-24D9-493A-91E7-E78060EB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AF3E8-C366-43C3-9319-8173328D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5FEC29-11AA-4827-AD5D-FB5A3621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5A5AF-003C-4DD9-9843-F63B61EF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D2EFF-3F9A-48B8-A1D6-E766FBD2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5C7DFF-BC97-4567-B649-3FF1691A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2EFCE-0A34-43E5-9A63-F0B3E508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F013D4-4BB3-47F2-95E8-A0F480820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3E96-996D-46FE-B06F-6D2A6782D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A65EE-4989-4479-AC49-777BA6A68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24F00-D837-46AA-9A5B-9A4BB6C46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36481-2C89-4C62-B20D-54692F3E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AEC36-0AF2-4B77-9E7F-445026A4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0C897-029F-4B78-B46A-85FAAC97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23F72-E7BC-4CE7-9415-4A04F8F2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A9DB6-C8A3-4577-8493-7592A96A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FE97D-FD02-4924-A8C2-22C6D931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D21FD-149B-4E06-8513-B0320A57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1F63D-F2BD-45FA-87B3-2FA0F429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1FEC-8490-4358-BA15-2215DD362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E62BA-A8BC-4A4D-A1D1-20081ECC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C1DEF-8FB8-42CE-8F19-674DF62C8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37ACF-866F-4C2C-89C7-FBE06CC35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D2A64-804F-4189-8B6F-B3D32A41F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75188-5CB4-46C8-9FD4-2D40F52D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1FC665-1FCC-4749-BBFD-007E37F9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F1DE73-F2D6-4F2D-A76A-16661B00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56F8BF-DD7F-4D5D-81D8-5647876F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C400B0-4671-4FCF-8393-1D3F98DA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9D8E6C-B53F-4EFC-A838-0C9BE3F4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C30D-F4E5-457C-998B-6CFF0065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95279F-CD11-4E3C-BE97-EA366406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F306A9-AD48-4F23-8090-258C1030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451891-AC82-41CA-9FC7-DE2A24B1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A4F2EC-F46E-4A97-A8C3-8A5CDC152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5E931C-FB4D-46A0-B486-DDE26F52B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387B-795D-4B93-BA8E-4A605784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59A8-0524-4AAB-A042-0AFEE058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9F10-ADAC-4484-B1A9-8F06D826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2C93-BE86-4CE7-9595-E704ED89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1EC6-BFD0-4A78-9962-23673721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55A9-6574-4370-A46A-5444C213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39E5-63E7-465F-AEA1-D8000652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0CD2-C1B0-4A77-86AA-4EA43EFB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ABCE-B15A-4A28-AAFB-E6CCC8D1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B40F-C280-4417-8B6A-69B73FD8B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2169-2536-49A6-9252-A414405B8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7380C-47D8-45A5-9BB7-E88A573B6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1F0A6-4AFF-4B6A-B101-974B9FD3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1AEE1-16E7-4BCF-BF40-E3F00DD1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37BF7-824D-4DA5-95BD-0C97C591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E37BA-6C3E-46CF-9536-ED71D3C6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F3AB-6C70-4657-8E39-64842FAE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202E7-B769-42F4-AAD9-AD45AA64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709A8-6EE1-41DB-AE2B-E7AD9DC6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3166C-319E-46CA-88D2-965027D4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B465B-79D1-4258-9C08-DE46C7E4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C3B28-A7A0-403D-A86E-BA722352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5AD30-6593-440F-8BFE-491ABB1E1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FFF34-A7CE-4F4D-A6FD-53C75DA9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D27D8-9E37-4ED6-8C01-3E500C2B8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3A61D-76E4-4B79-BBCC-AFE5EA82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D2813-8C8D-47FB-B303-8DC45A9D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7E4C-FA41-4750-9DFB-7691B2ED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5577C-AB18-4725-8A93-6C82D7D0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3AF2A-AFB4-4CEA-ACC7-EB36A42A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8FAE6-C72B-450B-8D34-CD7B3B5B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FF2F3-94BF-4691-B58A-77BB37BE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7296F-BB64-4885-932D-FC04E662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7B4B0-F8F7-45F2-B787-0FB5257E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9027D-E8D1-4254-B820-3014AD51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6E947-B809-4D8F-90DA-D8ED6C31C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A8518-E9A3-46D8-8CB7-E1CB991D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239F2-C9CA-4799-961D-12BB8187F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2C73-CE76-4010-8ADD-6AB0E599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6EE75-EDA5-42C3-AE3B-84A7753F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C806C-EFBB-4A27-9677-60A35D28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35BFF-1C46-47B7-97E8-D30A46B4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7B52E-A1FF-4224-B0EF-4B233853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061BE-CD7C-4596-8771-C15BC285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B9067-682D-40FE-8AE6-424C312D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CDC71-9A46-4F92-92B8-E0C7DCE8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16CE4-B028-449C-9BDF-84D4A76F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68E04-DB68-4A56-AA23-C68D253E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F05DD-3004-4156-AD42-42981F24B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E273-1999-423D-ACAC-65E926B4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EF35F-2EE3-4CD3-8D22-F6C1BDF1E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81242-3C7F-4B54-85E7-DCB9B4E7D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78314-FD02-4644-995F-047EC2E3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2CC5B-2F00-42E9-A121-B3CCF11B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189FD-B132-4E7A-A6AD-D220ABE1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53F15-269C-453A-A58B-81B84367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942C8-581F-435F-8EEB-37F84804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484C0-5591-48F3-918D-F433727B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8F088-E518-474B-8D24-1FE1B0AD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92293-5FCC-46E6-B619-6B0BB29B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0D60-17A7-44BC-B739-39CE1641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7E272-685E-42D1-B55A-356CC1EB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19C10-3245-4B76-BC16-C2A396EB2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85A9B-0629-45A8-A34E-D1DF7C11B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50CBC-D6C2-40A2-BDD4-6943CFF0A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4AB97-5D8D-4BDA-BC4D-2A963DB8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C3C3B-665E-425F-8CC6-C6304A15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CC6D5-D6E6-498C-BFCD-62276F8C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FB1D6-C6F4-49FB-B13B-4A76FE24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DEC46-785F-48E4-9617-0A02E4DC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C6131-2748-44C7-AF31-B8101746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49F9-6E72-40C2-9316-57786E57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49A53-7269-43CE-B0D2-39AD8F17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7AB8B-1D6B-4A3E-8893-0115E049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92CF8-E7A6-4E51-8672-4FA0A2A3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79BDF-644B-4FD7-BD26-B278DAAB8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E2674-7DF0-4B01-8C6D-837156F6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F2277-44FA-4F1D-A5DB-65DCAA718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52DE6-ACE5-4205-A8CF-DDCA7DDD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107FC-3507-47E8-AABA-F3A28E7D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55E68-2197-4175-9A5F-90AAC13A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6A47C-5866-4C15-978F-F55EA711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9FA1-49F6-4C61-A3E3-545E0E1A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F5B53-E5EC-4772-8C00-E897609F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0E7EA-B640-4946-B382-9E904B75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F1702-8CFA-4F58-B2B1-AB2E6DF8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3856B-0A22-4D7D-ABEE-EEEBC5E0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32F4F-907C-4FC2-B56E-7DA23BAB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3EA55-55BF-4F98-850E-1E1C7C7B6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59D9B-6F24-4183-B990-2F5621F2F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0E6EF4-A8D8-4A6F-A02D-9FA51BD77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3E914-ED6E-493D-A3B0-4613FA07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70937F-09CC-47DA-9A0A-DDB6C9A0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F37963-89F0-42BE-99DB-A1A9A3C875E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493AB7-D2A1-47FF-959A-36018244BC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BB25FD56-BC72-466D-997C-816E57E41F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41379A-5098-41D7-B35A-D54D41A4923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2C1C9C-4250-404C-8782-3FBE96D74F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776B42-0711-45E6-AEB1-E4A985772B4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733593-0E50-495F-9085-9EB27690CD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4E2356-6CF1-4112-8FF8-2F217422659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5B269C-0669-41B4-9C65-25F24F292E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4B10C6-AD54-4056-9529-1E4B3D3EFF4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BF0830-83A1-41DD-B7AB-05863693CF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64057E-B5CA-4954-8667-9208A8DFFE9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C6A15E-B5D7-488E-973E-339DBCFB2B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C694A6-6D6F-455D-B991-10FA15C2B94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2472A9-E1BF-482F-A8E9-82C325176E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79928A-8E2A-46BD-AFBB-02273E45116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8B7944-32A5-43FC-8A5B-356A84689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8C1025-54A4-4F21-B685-661E1BA9FB3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BBD572-436C-472D-A2B4-B5F404DA93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CA2AD0-513B-49AE-90D2-1D0BA7613EF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93F5FE-D04D-4109-A544-7718B11E4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168D25-5F1B-4951-98FA-84E3864B4C5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41CCB7-456A-4C5B-98E1-43273AE210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C45405-BEEE-4A7B-B324-630EEC6717F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FED1A5-BE0B-4559-B775-C1D2E58464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-zadost.cz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mailto:veronika.supova@msmt.cz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zso.cz/" TargetMode="External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1819440"/>
            <a:ext cx="7772400" cy="102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Benefit7 – jak vyplnit projektovou žádos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1371600" y="2844360"/>
            <a:ext cx="6400800" cy="18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Corso Karlín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28.1.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Mgr. Petr Kraselovský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ADRESA ŽADATELE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C4A029-764E-4C25-A7FA-D3C28A9952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3" descr=""/>
          <p:cNvPicPr/>
          <p:nvPr/>
        </p:nvPicPr>
        <p:blipFill>
          <a:blip r:embed="rId1"/>
          <a:srcRect l="2063" t="16091" r="4470" b="8276"/>
          <a:stretch/>
        </p:blipFill>
        <p:spPr>
          <a:xfrm>
            <a:off x="1838160" y="1770120"/>
            <a:ext cx="5442120" cy="3173400"/>
          </a:xfrm>
          <a:prstGeom prst="rect">
            <a:avLst/>
          </a:prstGeom>
          <a:ln w="0">
            <a:noFill/>
          </a:ln>
        </p:spPr>
      </p:pic>
      <p:sp>
        <p:nvSpPr>
          <p:cNvPr id="562" name="Obdélník se zakulaceným příčným rohem 5"/>
          <p:cNvSpPr/>
          <p:nvPr/>
        </p:nvSpPr>
        <p:spPr>
          <a:xfrm>
            <a:off x="7280280" y="1770120"/>
            <a:ext cx="1604880" cy="37702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Oficiální adresa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– automatické natažení po validaci ARES – takto načtené údaje needituj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Adresa pro doručení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– povinný úd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29840" y="1146240"/>
            <a:ext cx="645804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OSOBY ŽADATEL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2AFB2A-DB71-4A0B-961B-B9637FBD9F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9" descr="C:\Documents and Settings\kraselovskyp\Dokumenty\Obrázky\1.1.- 4.bmp"/>
          <p:cNvPicPr/>
          <p:nvPr/>
        </p:nvPicPr>
        <p:blipFill>
          <a:blip r:embed="rId1"/>
          <a:stretch/>
        </p:blipFill>
        <p:spPr>
          <a:xfrm>
            <a:off x="2496960" y="1846440"/>
            <a:ext cx="4056120" cy="3760560"/>
          </a:xfrm>
          <a:prstGeom prst="rect">
            <a:avLst/>
          </a:prstGeom>
          <a:ln w="0">
            <a:noFill/>
          </a:ln>
        </p:spPr>
      </p:pic>
      <p:sp>
        <p:nvSpPr>
          <p:cNvPr id="566" name="Elipsa 6"/>
          <p:cNvSpPr/>
          <p:nvPr/>
        </p:nvSpPr>
        <p:spPr>
          <a:xfrm>
            <a:off x="4213080" y="4221000"/>
            <a:ext cx="1656000" cy="597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Elipsa 7"/>
          <p:cNvSpPr/>
          <p:nvPr/>
        </p:nvSpPr>
        <p:spPr>
          <a:xfrm>
            <a:off x="2154240" y="5319720"/>
            <a:ext cx="187164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4AF326-9107-4BB1-8B6C-4AB1182A33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Obrázek 8" descr="1.JPG"/>
          <p:cNvPicPr/>
          <p:nvPr/>
        </p:nvPicPr>
        <p:blipFill>
          <a:blip r:embed="rId1"/>
          <a:stretch/>
        </p:blipFill>
        <p:spPr>
          <a:xfrm>
            <a:off x="2523960" y="1717560"/>
            <a:ext cx="3781440" cy="3792600"/>
          </a:xfrm>
          <a:prstGeom prst="rect">
            <a:avLst/>
          </a:prstGeom>
          <a:ln w="0">
            <a:noFill/>
          </a:ln>
        </p:spPr>
      </p:pic>
      <p:sp>
        <p:nvSpPr>
          <p:cNvPr id="571" name="Obdélník se zakulaceným příčným rohem 5"/>
          <p:cNvSpPr/>
          <p:nvPr/>
        </p:nvSpPr>
        <p:spPr>
          <a:xfrm>
            <a:off x="6553080" y="1784520"/>
            <a:ext cx="1908360" cy="37256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Formuláře na záložce „Partner projektu“ jsou přístupné pouze v případě, že žadatel na záložce „Projekt“ zvolil možnost „Projekt má partnera.“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mocí tlačítka „Nový záznam“ je možné zadat potřebný počet partnerů projekt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FC6566-80F6-40D2-9741-DA1ABAF63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Zástupný symbol pro obsah 12" descr="1.JPG"/>
          <p:cNvPicPr/>
          <p:nvPr/>
        </p:nvPicPr>
        <p:blipFill>
          <a:blip r:embed="rId1"/>
          <a:stretch/>
        </p:blipFill>
        <p:spPr>
          <a:xfrm>
            <a:off x="2606760" y="1739880"/>
            <a:ext cx="3676680" cy="3800520"/>
          </a:xfrm>
          <a:prstGeom prst="rect">
            <a:avLst/>
          </a:prstGeom>
          <a:ln w="0">
            <a:noFill/>
          </a:ln>
        </p:spPr>
      </p:pic>
      <p:sp>
        <p:nvSpPr>
          <p:cNvPr id="575" name="Obdélníkový popisek 5"/>
          <p:cNvSpPr/>
          <p:nvPr/>
        </p:nvSpPr>
        <p:spPr>
          <a:xfrm>
            <a:off x="6170760" y="1957320"/>
            <a:ext cx="2516040" cy="657360"/>
          </a:xfrm>
          <a:prstGeom prst="wedgeRectCallout">
            <a:avLst>
              <a:gd name="adj1" fmla="val -74203"/>
              <a:gd name="adj2" fmla="val 56935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ymezte částku, která z celkového rozpočtu projektu připadá na partn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bdélníkový popisek 6"/>
          <p:cNvSpPr/>
          <p:nvPr/>
        </p:nvSpPr>
        <p:spPr>
          <a:xfrm>
            <a:off x="6170760" y="2614680"/>
            <a:ext cx="2516040" cy="885600"/>
          </a:xfrm>
          <a:prstGeom prst="wedgeRectCallout">
            <a:avLst>
              <a:gd name="adj1" fmla="val -67208"/>
              <a:gd name="adj2" fmla="val 57439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Proč zapojujete partnera do projektu, proč určité aktivity nerealizuje přímo žadatel? Proč je vhodný právě tento partner?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bdélníkový popisek 7"/>
          <p:cNvSpPr/>
          <p:nvPr/>
        </p:nvSpPr>
        <p:spPr>
          <a:xfrm>
            <a:off x="6170760" y="3762360"/>
            <a:ext cx="2516040" cy="676440"/>
          </a:xfrm>
          <a:prstGeom prst="wedgeRectCallout">
            <a:avLst>
              <a:gd name="adj1" fmla="val -74203"/>
              <a:gd name="adj2" fmla="val 6796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ďte způsob zapojení partnerů v příslušných aktivitá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bdélníkový popisek 8"/>
          <p:cNvSpPr/>
          <p:nvPr/>
        </p:nvSpPr>
        <p:spPr>
          <a:xfrm>
            <a:off x="6170760" y="4438800"/>
            <a:ext cx="2516040" cy="1101600"/>
          </a:xfrm>
          <a:prstGeom prst="wedgeRectCallout">
            <a:avLst>
              <a:gd name="adj1" fmla="val -73287"/>
              <a:gd name="adj2" fmla="val 5254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Jaké projekty v oblasti RLZ již partner realizoval či realizuje. V případě velkého počtu projektů uveďte jen projekty obdobného charakter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C29877-43C5-4F91-AB8E-774868C6EC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1844640" y="1952640"/>
            <a:ext cx="5429160" cy="2419200"/>
          </a:xfrm>
          <a:prstGeom prst="rect">
            <a:avLst/>
          </a:prstGeom>
          <a:ln w="0">
            <a:noFill/>
          </a:ln>
        </p:spPr>
      </p:pic>
      <p:sp>
        <p:nvSpPr>
          <p:cNvPr id="582" name="Obdélník se zakulaceným příčným rohem 5"/>
          <p:cNvSpPr/>
          <p:nvPr/>
        </p:nvSpPr>
        <p:spPr>
          <a:xfrm>
            <a:off x="1844640" y="4371840"/>
            <a:ext cx="5429160" cy="1128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Uveďte stručný popis cílové skupiny, se kterou máte zkušenosti. Jakým způsobem jste s cílovou skupinou pracovali a případně s jakým výsledkem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Elipsa 6"/>
          <p:cNvSpPr/>
          <p:nvPr/>
        </p:nvSpPr>
        <p:spPr>
          <a:xfrm>
            <a:off x="3425760" y="3262320"/>
            <a:ext cx="3670200" cy="422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ADRESA PARTNER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82C896-F967-4C45-A357-AD0A4A20FD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Zástupný symbol pro obsah 4" descr="xxx_adresaPartnera.jpg"/>
          <p:cNvPicPr/>
          <p:nvPr/>
        </p:nvPicPr>
        <p:blipFill>
          <a:blip r:embed="rId1"/>
          <a:srcRect l="0" t="0" r="0" b="1517"/>
          <a:stretch/>
        </p:blipFill>
        <p:spPr>
          <a:xfrm>
            <a:off x="2811600" y="1674720"/>
            <a:ext cx="3163680" cy="3770280"/>
          </a:xfrm>
          <a:prstGeom prst="rect">
            <a:avLst/>
          </a:prstGeom>
          <a:ln w="0">
            <a:noFill/>
          </a:ln>
        </p:spPr>
      </p:pic>
      <p:sp>
        <p:nvSpPr>
          <p:cNvPr id="587" name="Obdélník se zakulaceným příčným rohem 5"/>
          <p:cNvSpPr/>
          <p:nvPr/>
        </p:nvSpPr>
        <p:spPr>
          <a:xfrm>
            <a:off x="6249960" y="1784520"/>
            <a:ext cx="1733400" cy="36604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Adresy partnerů jsou automaticky vloženy při validaci ARES na záložce „Partner projektu.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Automaticky vložené údaje needitujte v  aplikaci BENEFI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OSOBY PARTNER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2DC9AF-F2BB-4528-B876-5B15205AF4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Zástupný symbol pro obsah 4" descr="04_zadost21_crop.jpg"/>
          <p:cNvPicPr/>
          <p:nvPr/>
        </p:nvPicPr>
        <p:blipFill>
          <a:blip r:embed="rId1"/>
          <a:srcRect l="3504" t="3029" r="0" b="4543"/>
          <a:stretch/>
        </p:blipFill>
        <p:spPr>
          <a:xfrm>
            <a:off x="2197080" y="1784520"/>
            <a:ext cx="3938760" cy="3560760"/>
          </a:xfrm>
          <a:prstGeom prst="rect">
            <a:avLst/>
          </a:prstGeom>
          <a:ln w="0">
            <a:noFill/>
          </a:ln>
        </p:spPr>
      </p:pic>
      <p:sp>
        <p:nvSpPr>
          <p:cNvPr id="591" name="Obdélník se zakulaceným příčným rohem 5"/>
          <p:cNvSpPr/>
          <p:nvPr/>
        </p:nvSpPr>
        <p:spPr>
          <a:xfrm>
            <a:off x="6300720" y="1916280"/>
            <a:ext cx="2357640" cy="32860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yplňte u každého partnera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tatutární zástupce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OPIS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D8CEE7-EB0D-4255-8304-4CF612888A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2727360" y="1770120"/>
            <a:ext cx="3424320" cy="3716280"/>
          </a:xfrm>
          <a:prstGeom prst="rect">
            <a:avLst/>
          </a:prstGeom>
          <a:ln w="0">
            <a:noFill/>
          </a:ln>
        </p:spPr>
      </p:pic>
      <p:sp>
        <p:nvSpPr>
          <p:cNvPr id="595" name="Obdélník se zakulaceným příčným rohem 5"/>
          <p:cNvSpPr/>
          <p:nvPr/>
        </p:nvSpPr>
        <p:spPr>
          <a:xfrm>
            <a:off x="6151680" y="2048040"/>
            <a:ext cx="1636560" cy="3438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Věnujte maximální pozornost vyplnění těchto záložek. Informace zde zadané slouží jako základní nástroj při hodnocení žádost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OPIS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F404E3-784B-4F1E-990C-CA6950EFE7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2" descr=""/>
          <p:cNvPicPr/>
          <p:nvPr/>
        </p:nvPicPr>
        <p:blipFill>
          <a:blip r:embed="rId1"/>
          <a:stretch/>
        </p:blipFill>
        <p:spPr>
          <a:xfrm>
            <a:off x="1987560" y="1770120"/>
            <a:ext cx="4849920" cy="3749760"/>
          </a:xfrm>
          <a:prstGeom prst="rect">
            <a:avLst/>
          </a:prstGeom>
          <a:ln w="0">
            <a:noFill/>
          </a:ln>
        </p:spPr>
      </p:pic>
      <p:sp>
        <p:nvSpPr>
          <p:cNvPr id="599" name="Obdélníkový popisek 5"/>
          <p:cNvSpPr/>
          <p:nvPr/>
        </p:nvSpPr>
        <p:spPr>
          <a:xfrm>
            <a:off x="6467400" y="1938240"/>
            <a:ext cx="2471760" cy="1209600"/>
          </a:xfrm>
          <a:prstGeom prst="wedgeRectCallout">
            <a:avLst>
              <a:gd name="adj1" fmla="val -67625"/>
              <a:gd name="adj2" fmla="val -2571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Jaké má žadatel mechanismy a postupy pro řízení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ďte činnosti související s projektovým řízením včetně vazby na rozpoč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bdélníkový popisek 6"/>
          <p:cNvSpPr/>
          <p:nvPr/>
        </p:nvSpPr>
        <p:spPr>
          <a:xfrm>
            <a:off x="6467400" y="4381560"/>
            <a:ext cx="2471760" cy="971640"/>
          </a:xfrm>
          <a:prstGeom prst="wedgeRectCallout">
            <a:avLst>
              <a:gd name="adj1" fmla="val -75726"/>
              <a:gd name="adj2" fmla="val 55199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yberte podporované aktivity uvedené ve výzvě k předkládání žádostí, které odpovídají danému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Elipsa 8"/>
          <p:cNvSpPr/>
          <p:nvPr/>
        </p:nvSpPr>
        <p:spPr>
          <a:xfrm>
            <a:off x="4091040" y="4643280"/>
            <a:ext cx="1000080" cy="174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Elipsa 9"/>
          <p:cNvSpPr/>
          <p:nvPr/>
        </p:nvSpPr>
        <p:spPr>
          <a:xfrm>
            <a:off x="1987560" y="4638600"/>
            <a:ext cx="1000080" cy="179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30200" y="1077480"/>
            <a:ext cx="67089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ÚZEMÍ DOPADU A REALIZAC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C04FCA-47CF-4078-8167-276A409987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Zástupný symbol pro obsah 9" descr="1.JPG"/>
          <p:cNvPicPr/>
          <p:nvPr/>
        </p:nvPicPr>
        <p:blipFill>
          <a:blip r:embed="rId1"/>
          <a:stretch/>
        </p:blipFill>
        <p:spPr>
          <a:xfrm>
            <a:off x="2784600" y="1603440"/>
            <a:ext cx="3316320" cy="4027320"/>
          </a:xfrm>
          <a:prstGeom prst="rect">
            <a:avLst/>
          </a:prstGeom>
          <a:ln w="0">
            <a:noFill/>
          </a:ln>
        </p:spPr>
      </p:pic>
      <p:sp>
        <p:nvSpPr>
          <p:cNvPr id="606" name="Obdélník se zakulaceným příčným rohem 5"/>
          <p:cNvSpPr/>
          <p:nvPr/>
        </p:nvSpPr>
        <p:spPr>
          <a:xfrm>
            <a:off x="6488280" y="1770120"/>
            <a:ext cx="1931760" cy="35431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Zadané oblasti musí být v souladu s prostorem  definovaným Operačním program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rámci jednoho kraje je nutné uvést vždy pouze jeden reg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ádějte nejvyšší typ území (region, kraj, okres, obec), který odpovídá zpracovávanému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Elipsa 6"/>
          <p:cNvSpPr/>
          <p:nvPr/>
        </p:nvSpPr>
        <p:spPr>
          <a:xfrm>
            <a:off x="3857760" y="3178080"/>
            <a:ext cx="1245960" cy="506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eu-zadost.cz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AFD1EA-0E79-4C07-B69D-14AA4C035A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"/>
          <p:cNvPicPr/>
          <p:nvPr/>
        </p:nvPicPr>
        <p:blipFill>
          <a:blip r:embed="rId2"/>
          <a:stretch/>
        </p:blipFill>
        <p:spPr>
          <a:xfrm>
            <a:off x="662040" y="1951200"/>
            <a:ext cx="802476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330200" y="1091880"/>
            <a:ext cx="67089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ÚZEMÍ DOPADU A REALIZAC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721864-C67C-4718-AB26-48568A4543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Obrázek 9" descr="3.JPG"/>
          <p:cNvPicPr/>
          <p:nvPr/>
        </p:nvPicPr>
        <p:blipFill>
          <a:blip r:embed="rId1"/>
          <a:stretch/>
        </p:blipFill>
        <p:spPr>
          <a:xfrm>
            <a:off x="2360520" y="1638360"/>
            <a:ext cx="4192560" cy="4043160"/>
          </a:xfrm>
          <a:prstGeom prst="rect">
            <a:avLst/>
          </a:prstGeom>
          <a:ln w="0">
            <a:noFill/>
          </a:ln>
        </p:spPr>
      </p:pic>
      <p:sp>
        <p:nvSpPr>
          <p:cNvPr id="611" name="Obdélník se zakulaceným příčným rohem 5"/>
          <p:cNvSpPr/>
          <p:nvPr/>
        </p:nvSpPr>
        <p:spPr>
          <a:xfrm>
            <a:off x="6286680" y="1714680"/>
            <a:ext cx="1969920" cy="3703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díl plánované částky způsobilých výdajů projektu (v %) vztahující se k NUTS3, v němž je projekt realizován. Součet procentních podílů ze všech zadaných oblastí se musí rovnat 100 %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KLÍČOVÉ AKTIVI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CCD8ED-92A9-4A71-AC37-3C2425EA8E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2" descr=""/>
          <p:cNvPicPr/>
          <p:nvPr/>
        </p:nvPicPr>
        <p:blipFill>
          <a:blip r:embed="rId1"/>
          <a:stretch/>
        </p:blipFill>
        <p:spPr>
          <a:xfrm>
            <a:off x="1951200" y="1811160"/>
            <a:ext cx="4976640" cy="3716640"/>
          </a:xfrm>
          <a:prstGeom prst="rect">
            <a:avLst/>
          </a:prstGeom>
          <a:ln w="0">
            <a:noFill/>
          </a:ln>
        </p:spPr>
      </p:pic>
      <p:sp>
        <p:nvSpPr>
          <p:cNvPr id="615" name="Obdélník se zakulaceným příčným rohem 5"/>
          <p:cNvSpPr/>
          <p:nvPr/>
        </p:nvSpPr>
        <p:spPr>
          <a:xfrm>
            <a:off x="6315120" y="3236760"/>
            <a:ext cx="2187360" cy="14306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všechny klíčové aktivity, které bude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 jednotlivých fázích projektu realizovat žadatel nebo partneři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bdélníkový popisek 6"/>
          <p:cNvSpPr/>
          <p:nvPr/>
        </p:nvSpPr>
        <p:spPr>
          <a:xfrm>
            <a:off x="5838840" y="4830840"/>
            <a:ext cx="2663640" cy="696960"/>
          </a:xfrm>
          <a:prstGeom prst="wedgeRectCallout">
            <a:avLst>
              <a:gd name="adj1" fmla="val -96907"/>
              <a:gd name="adj2" fmla="val 6101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Náklady na klíčové aktivity rozložte na ESF způsobilé výdaje a výdaje spadající do křížového financování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KLÍČOVÉ AKTIVI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846612-7916-4632-8502-C8AB3D61DD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Zástupný symbol pro obsah 4" descr="04_zadost27_2_crop.jpg"/>
          <p:cNvPicPr/>
          <p:nvPr/>
        </p:nvPicPr>
        <p:blipFill>
          <a:blip r:embed="rId1"/>
          <a:stretch/>
        </p:blipFill>
        <p:spPr>
          <a:xfrm>
            <a:off x="1946160" y="1770120"/>
            <a:ext cx="5064120" cy="3852720"/>
          </a:xfrm>
          <a:prstGeom prst="rect">
            <a:avLst/>
          </a:prstGeom>
          <a:ln w="0">
            <a:noFill/>
          </a:ln>
        </p:spPr>
      </p:pic>
      <p:sp>
        <p:nvSpPr>
          <p:cNvPr id="620" name="Obdélníkový popisek 5"/>
          <p:cNvSpPr/>
          <p:nvPr/>
        </p:nvSpPr>
        <p:spPr>
          <a:xfrm>
            <a:off x="6553080" y="2511360"/>
            <a:ext cx="2448000" cy="1201680"/>
          </a:xfrm>
          <a:prstGeom prst="wedgeRectCallout">
            <a:avLst>
              <a:gd name="adj1" fmla="val -63472"/>
              <a:gd name="adj2" fmla="val 187018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Ke každé klíčové aktivitě přiřaďte všechny subjekty, které se budou podílet na její realizac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HARMONOGRAM AKTIVIT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24FAEB-FBAD-4BAE-8D75-B0297F4503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2" descr=""/>
          <p:cNvPicPr/>
          <p:nvPr/>
        </p:nvPicPr>
        <p:blipFill>
          <a:blip r:embed="rId1"/>
          <a:stretch/>
        </p:blipFill>
        <p:spPr>
          <a:xfrm>
            <a:off x="1692360" y="1770120"/>
            <a:ext cx="5759280" cy="2962080"/>
          </a:xfrm>
          <a:prstGeom prst="rect">
            <a:avLst/>
          </a:prstGeom>
          <a:ln w="0">
            <a:noFill/>
          </a:ln>
        </p:spPr>
      </p:pic>
      <p:sp>
        <p:nvSpPr>
          <p:cNvPr id="624" name="Obdélník se zakulaceným příčným rohem 5"/>
          <p:cNvSpPr/>
          <p:nvPr/>
        </p:nvSpPr>
        <p:spPr>
          <a:xfrm>
            <a:off x="1692360" y="4732200"/>
            <a:ext cx="5759280" cy="712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Do harmonogramu zahrňte všechny klíčové aktivity zadané na záložce „Klíčové aktivity“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dené aktivity musí být realizovány v časovém rozmezí uvedeném na záložce „Projekt“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Elipsa 6"/>
          <p:cNvSpPr/>
          <p:nvPr/>
        </p:nvSpPr>
        <p:spPr>
          <a:xfrm>
            <a:off x="1692360" y="3166920"/>
            <a:ext cx="1071360" cy="190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Elipsa 7"/>
          <p:cNvSpPr/>
          <p:nvPr/>
        </p:nvSpPr>
        <p:spPr>
          <a:xfrm>
            <a:off x="5180040" y="3968640"/>
            <a:ext cx="107136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REALIZAČNÍ TÝM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EABBE4-22F7-4550-9AD9-86F065C470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2" descr=""/>
          <p:cNvPicPr/>
          <p:nvPr/>
        </p:nvPicPr>
        <p:blipFill>
          <a:blip r:embed="rId1"/>
          <a:stretch/>
        </p:blipFill>
        <p:spPr>
          <a:xfrm>
            <a:off x="1330200" y="1784520"/>
            <a:ext cx="3364200" cy="15174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3" descr=""/>
          <p:cNvPicPr/>
          <p:nvPr/>
        </p:nvPicPr>
        <p:blipFill>
          <a:blip r:embed="rId2"/>
          <a:stretch/>
        </p:blipFill>
        <p:spPr>
          <a:xfrm>
            <a:off x="1330200" y="3301920"/>
            <a:ext cx="2695680" cy="2268720"/>
          </a:xfrm>
          <a:prstGeom prst="rect">
            <a:avLst/>
          </a:prstGeom>
          <a:ln w="0">
            <a:noFill/>
          </a:ln>
        </p:spPr>
      </p:pic>
      <p:sp>
        <p:nvSpPr>
          <p:cNvPr id="631" name="Elipsa 7"/>
          <p:cNvSpPr/>
          <p:nvPr/>
        </p:nvSpPr>
        <p:spPr>
          <a:xfrm>
            <a:off x="3429000" y="3000240"/>
            <a:ext cx="92880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Elipsa 8"/>
          <p:cNvSpPr/>
          <p:nvPr/>
        </p:nvSpPr>
        <p:spPr>
          <a:xfrm>
            <a:off x="1104840" y="3000240"/>
            <a:ext cx="92880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bdélníkový popisek 9"/>
          <p:cNvSpPr/>
          <p:nvPr/>
        </p:nvSpPr>
        <p:spPr>
          <a:xfrm>
            <a:off x="4357800" y="1974960"/>
            <a:ext cx="2149200" cy="836640"/>
          </a:xfrm>
          <a:prstGeom prst="wedgeRectCallout">
            <a:avLst>
              <a:gd name="adj1" fmla="val -69004"/>
              <a:gd name="adj2" fmla="val 12646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Z nabídky lze rozlišit pracovníky dle typu 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Manažerské a administrativní pozic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Odborné pozi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bdélníkový popisek 10"/>
          <p:cNvSpPr/>
          <p:nvPr/>
        </p:nvSpPr>
        <p:spPr>
          <a:xfrm>
            <a:off x="4357800" y="2954160"/>
            <a:ext cx="2450880" cy="331920"/>
          </a:xfrm>
          <a:prstGeom prst="wedgeRectCallout">
            <a:avLst>
              <a:gd name="adj1" fmla="val -65439"/>
              <a:gd name="adj2" fmla="val 206384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Zvolte žadatele nebo partnera. </a:t>
            </a:r>
            <a:br>
              <a:rPr sz="16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bdélník se zakulaceným příčným rohem 11"/>
          <p:cNvSpPr/>
          <p:nvPr/>
        </p:nvSpPr>
        <p:spPr>
          <a:xfrm>
            <a:off x="6945480" y="1784520"/>
            <a:ext cx="1741320" cy="37861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případě, že plánujete pro určitý typ pozice více zaměstnanců, vyplňte tuto pozici jako jeden záznam a v poli „Úvazek“ uveďte kumulovanou hodnotu úvazků všech zaměstnanců (například 300 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popisu pracovní náplně uveďte počet osob, které budou danou pozici zajišťov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309320" y="1050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REALIZAČNÍ TÝM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99FC41-218F-4A6C-A328-A8BA152524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4" descr=""/>
          <p:cNvPicPr/>
          <p:nvPr/>
        </p:nvPicPr>
        <p:blipFill>
          <a:blip r:embed="rId1"/>
          <a:stretch/>
        </p:blipFill>
        <p:spPr>
          <a:xfrm>
            <a:off x="1309680" y="1569960"/>
            <a:ext cx="5605560" cy="3775320"/>
          </a:xfrm>
          <a:prstGeom prst="rect">
            <a:avLst/>
          </a:prstGeom>
          <a:ln w="0">
            <a:noFill/>
          </a:ln>
        </p:spPr>
      </p:pic>
      <p:sp>
        <p:nvSpPr>
          <p:cNvPr id="639" name="Šrafovaná šipka doprava 5"/>
          <p:cNvSpPr/>
          <p:nvPr/>
        </p:nvSpPr>
        <p:spPr>
          <a:xfrm rot="5400000">
            <a:off x="3643200" y="164124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bdélníkový popisek 6"/>
          <p:cNvSpPr/>
          <p:nvPr/>
        </p:nvSpPr>
        <p:spPr>
          <a:xfrm>
            <a:off x="6359400" y="1743120"/>
            <a:ext cx="2592360" cy="1111320"/>
          </a:xfrm>
          <a:prstGeom prst="wedgeRectCallout">
            <a:avLst>
              <a:gd name="adj1" fmla="val -91231"/>
              <a:gd name="adj2" fmla="val 1190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 pracovní smlouvy uvádějte úvazek v procentech (50 %, 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300 % atd.), v případě DPČ nebo DPP uvádějte počet hodin za měsí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bdélníkový popisek 7"/>
          <p:cNvSpPr/>
          <p:nvPr/>
        </p:nvSpPr>
        <p:spPr>
          <a:xfrm>
            <a:off x="6134040" y="3535200"/>
            <a:ext cx="2817720" cy="700200"/>
          </a:xfrm>
          <a:prstGeom prst="wedgeRectCallout">
            <a:avLst>
              <a:gd name="adj1" fmla="val -99125"/>
              <a:gd name="adj2" fmla="val -5155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 pracovní smlouvy doplňte sazbu za měsíc, u DPČ nebo DPP sazbu za hodin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bdélníkový popisek 8"/>
          <p:cNvSpPr/>
          <p:nvPr/>
        </p:nvSpPr>
        <p:spPr>
          <a:xfrm>
            <a:off x="4871880" y="4599000"/>
            <a:ext cx="4079880" cy="985680"/>
          </a:xfrm>
          <a:prstGeom prst="wedgeRectCallout">
            <a:avLst>
              <a:gd name="adj1" fmla="val -74995"/>
              <a:gd name="adj2" fmla="val -6300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Zodpovězte následující otázk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Jaká bude převažující pracovní náplň této pozice v projektu? Popište nejčastější typy činností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Na jakých konkrétních aktivitách se bude v rámci projektu podílet a jakým způsobe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Jaké náklady (jiné než osobní a režie) se budou k dané pozici váza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HORIZONTÁLNÍ TÉMATA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D57215-8536-4511-A6EB-F78C5541E4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916280" y="1784520"/>
            <a:ext cx="4989240" cy="3727440"/>
          </a:xfrm>
          <a:prstGeom prst="rect">
            <a:avLst/>
          </a:prstGeom>
          <a:ln w="0">
            <a:noFill/>
          </a:ln>
        </p:spPr>
      </p:pic>
      <p:sp>
        <p:nvSpPr>
          <p:cNvPr id="646" name="Obdélník se zakulaceným příčným rohem 5"/>
          <p:cNvSpPr/>
          <p:nvPr/>
        </p:nvSpPr>
        <p:spPr>
          <a:xfrm>
            <a:off x="6905520" y="1951200"/>
            <a:ext cx="1611360" cy="35607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hrňte, v jakých klíčových aktivitách a jakým způsobem bude projekt ovlivňovat rovné příležitosti a udržitelný rozvoj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KATEGORIZACE PROJEKTU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1698B8-9190-451D-95D0-05462AB2F1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5" descr=""/>
          <p:cNvPicPr/>
          <p:nvPr/>
        </p:nvPicPr>
        <p:blipFill>
          <a:blip r:embed="rId1"/>
          <a:stretch/>
        </p:blipFill>
        <p:spPr>
          <a:xfrm>
            <a:off x="1330200" y="1784520"/>
            <a:ext cx="3760920" cy="19954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" descr=""/>
          <p:cNvPicPr/>
          <p:nvPr/>
        </p:nvPicPr>
        <p:blipFill>
          <a:blip r:embed="rId2"/>
          <a:stretch/>
        </p:blipFill>
        <p:spPr>
          <a:xfrm>
            <a:off x="1330200" y="3887640"/>
            <a:ext cx="4238640" cy="1690920"/>
          </a:xfrm>
          <a:prstGeom prst="rect">
            <a:avLst/>
          </a:prstGeom>
          <a:ln w="0">
            <a:noFill/>
          </a:ln>
        </p:spPr>
      </p:pic>
      <p:sp>
        <p:nvSpPr>
          <p:cNvPr id="651" name="Obdélníkový popisek 6"/>
          <p:cNvSpPr/>
          <p:nvPr/>
        </p:nvSpPr>
        <p:spPr>
          <a:xfrm>
            <a:off x="4776840" y="1784520"/>
            <a:ext cx="2579760" cy="715680"/>
          </a:xfrm>
          <a:prstGeom prst="wedgeRectCallout">
            <a:avLst>
              <a:gd name="adj1" fmla="val -43023"/>
              <a:gd name="adj2" fmla="val 116648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Výběr typu území – venkovská oblast, měst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bdélníkový popisek 7"/>
          <p:cNvSpPr/>
          <p:nvPr/>
        </p:nvSpPr>
        <p:spPr>
          <a:xfrm>
            <a:off x="5195880" y="2720880"/>
            <a:ext cx="2714760" cy="2857680"/>
          </a:xfrm>
          <a:prstGeom prst="wedgeRectCallout">
            <a:avLst>
              <a:gd name="adj1" fmla="val -123347"/>
              <a:gd name="adj2" fmla="val 44879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oučet částek za všechna zvolená prioritní témata v poli Prostředky z EU v Kč musí být roven částce v poli Strukturální fond v záložce Přehled financov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Monitorovací indikátory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3303DE-DD84-443D-AABD-663E945FD7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3" descr=""/>
          <p:cNvPicPr/>
          <p:nvPr/>
        </p:nvPicPr>
        <p:blipFill>
          <a:blip r:embed="rId1"/>
          <a:stretch/>
        </p:blipFill>
        <p:spPr>
          <a:xfrm>
            <a:off x="1746360" y="1711440"/>
            <a:ext cx="4738680" cy="3633840"/>
          </a:xfrm>
          <a:prstGeom prst="rect">
            <a:avLst/>
          </a:prstGeom>
          <a:ln w="0">
            <a:noFill/>
          </a:ln>
        </p:spPr>
      </p:pic>
      <p:sp>
        <p:nvSpPr>
          <p:cNvPr id="656" name="Obdélník se zakulaceným příčným rohem 5"/>
          <p:cNvSpPr/>
          <p:nvPr/>
        </p:nvSpPr>
        <p:spPr>
          <a:xfrm>
            <a:off x="6615000" y="1770120"/>
            <a:ext cx="2071800" cy="3565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šechny indikátory jsou před vyplněny na nulovou hodnotu. Vyplňte pouze hodnoty relevantních indikátorů pro projek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Nezapomínejte vyplnit součtové i dílčí indikátory  např. muže/žen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Elipsa 7"/>
          <p:cNvSpPr/>
          <p:nvPr/>
        </p:nvSpPr>
        <p:spPr>
          <a:xfrm>
            <a:off x="4808520" y="2825640"/>
            <a:ext cx="1428840" cy="55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VÝBĚROVÁ ŘÍZENÍ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9BA876-369D-4C36-A4D2-33FC286DD1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897200" y="1736640"/>
            <a:ext cx="4147920" cy="3808440"/>
          </a:xfrm>
          <a:prstGeom prst="rect">
            <a:avLst/>
          </a:prstGeom>
          <a:ln w="0">
            <a:noFill/>
          </a:ln>
        </p:spPr>
      </p:pic>
      <p:sp>
        <p:nvSpPr>
          <p:cNvPr id="661" name="Obdélník se zakulaceným příčným rohem 5"/>
          <p:cNvSpPr/>
          <p:nvPr/>
        </p:nvSpPr>
        <p:spPr>
          <a:xfrm>
            <a:off x="6342120" y="1881360"/>
            <a:ext cx="2146320" cy="36637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Uveďte informace </a:t>
            </a:r>
            <a:br>
              <a:rPr sz="1500"/>
            </a:b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o chystaných nebo již probíhajících výběrových řízení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Formuláře na této záložce budou aktivní pouze v případě, že jste na záložce „Projekt“ zvolili příslušnou volb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Konto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1BC7A9-A4DD-4C59-8C39-1231EEE29B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6" descr=""/>
          <p:cNvPicPr/>
          <p:nvPr/>
        </p:nvPicPr>
        <p:blipFill>
          <a:blip r:embed="rId1"/>
          <a:srcRect l="3901" t="10139" r="30472" b="56434"/>
          <a:stretch/>
        </p:blipFill>
        <p:spPr>
          <a:xfrm>
            <a:off x="1152360" y="1770120"/>
            <a:ext cx="7008840" cy="2759040"/>
          </a:xfrm>
          <a:prstGeom prst="rect">
            <a:avLst/>
          </a:prstGeom>
          <a:ln w="0">
            <a:noFill/>
          </a:ln>
        </p:spPr>
      </p:pic>
      <p:sp>
        <p:nvSpPr>
          <p:cNvPr id="524" name="Podnadpis 7"/>
          <p:cNvSpPr/>
          <p:nvPr/>
        </p:nvSpPr>
        <p:spPr>
          <a:xfrm>
            <a:off x="2071800" y="4529160"/>
            <a:ext cx="5716440" cy="10778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indent="-14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4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 úspěšném přihlášení se zobrazí nabídka 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Konto žádosti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. Slouží jako seznam/přehled všech vytvořených žádostí, které žadatel vytvořil či k nim má přístup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9280" indent="-1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UBLICIT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20B65F-E292-4D18-B185-CACF685D53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" descr=""/>
          <p:cNvPicPr/>
          <p:nvPr/>
        </p:nvPicPr>
        <p:blipFill>
          <a:blip r:embed="rId1"/>
          <a:stretch/>
        </p:blipFill>
        <p:spPr>
          <a:xfrm>
            <a:off x="1382760" y="1582560"/>
            <a:ext cx="5898960" cy="4040280"/>
          </a:xfrm>
          <a:prstGeom prst="rect">
            <a:avLst/>
          </a:prstGeom>
          <a:ln w="0">
            <a:noFill/>
          </a:ln>
        </p:spPr>
      </p:pic>
      <p:sp>
        <p:nvSpPr>
          <p:cNvPr id="665" name="Elipsa 5"/>
          <p:cNvSpPr/>
          <p:nvPr/>
        </p:nvSpPr>
        <p:spPr>
          <a:xfrm>
            <a:off x="1392120" y="3314880"/>
            <a:ext cx="1216080" cy="48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Elipsa 6"/>
          <p:cNvSpPr/>
          <p:nvPr/>
        </p:nvSpPr>
        <p:spPr>
          <a:xfrm>
            <a:off x="5022720" y="3314880"/>
            <a:ext cx="1214640" cy="48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DALŠÍ PROJEK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E1CDC5-959C-4CD3-8DD2-9A4CB18365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Zástupný symbol pro obsah 4" descr="04_zadost50_1_crop.jpg"/>
          <p:cNvPicPr/>
          <p:nvPr/>
        </p:nvPicPr>
        <p:blipFill>
          <a:blip r:embed="rId1"/>
          <a:srcRect l="4686" t="3034" r="0" b="25762"/>
          <a:stretch/>
        </p:blipFill>
        <p:spPr>
          <a:xfrm>
            <a:off x="1246320" y="1784520"/>
            <a:ext cx="5960880" cy="3551040"/>
          </a:xfrm>
          <a:prstGeom prst="rect">
            <a:avLst/>
          </a:prstGeom>
          <a:ln w="0">
            <a:noFill/>
          </a:ln>
        </p:spPr>
      </p:pic>
      <p:sp>
        <p:nvSpPr>
          <p:cNvPr id="670" name="Obdélník se zakulaceným příčným rohem 5"/>
          <p:cNvSpPr/>
          <p:nvPr/>
        </p:nvSpPr>
        <p:spPr>
          <a:xfrm>
            <a:off x="7207200" y="1784520"/>
            <a:ext cx="1690560" cy="42750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další projekty, které realizuje žadatel v oblasti rozvoje lidských zdrojů a které jsou financované z veřejných zdrojů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projekty, které jsou relevantní vzhledem k tomuto projektu a js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realizované nebo připravované v době podání žádos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ŘÍLOH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94B863-C860-4B83-8F6D-F38B7C18BC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7" descr=""/>
          <p:cNvPicPr/>
          <p:nvPr/>
        </p:nvPicPr>
        <p:blipFill>
          <a:blip r:embed="rId1"/>
          <a:stretch/>
        </p:blipFill>
        <p:spPr>
          <a:xfrm>
            <a:off x="1855800" y="1701720"/>
            <a:ext cx="4325760" cy="3870360"/>
          </a:xfrm>
          <a:prstGeom prst="rect">
            <a:avLst/>
          </a:prstGeom>
          <a:ln w="0">
            <a:noFill/>
          </a:ln>
        </p:spPr>
      </p:pic>
      <p:sp>
        <p:nvSpPr>
          <p:cNvPr id="674" name="Obdélník se zakulaceným příčným rohem 5"/>
          <p:cNvSpPr/>
          <p:nvPr/>
        </p:nvSpPr>
        <p:spPr>
          <a:xfrm>
            <a:off x="6365880" y="1701720"/>
            <a:ext cx="1781280" cy="3870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Elektronickou přílohu vložte kliknutím na tlačítko Připojit, zde vyberte požadovaný  soubo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Přílohy s povinným podpisem naskenujte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a přiložte jako obrázek jpg, nebo soubor p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Každá příloha musí mít zaškrtnuto buď doložena, nebo nerelevantn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Kontrola žádosti a finalizace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42F767-4111-4405-B96C-33EB852FC7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2" descr=""/>
          <p:cNvPicPr/>
          <p:nvPr/>
        </p:nvPicPr>
        <p:blipFill>
          <a:blip r:embed="rId1"/>
          <a:stretch/>
        </p:blipFill>
        <p:spPr>
          <a:xfrm>
            <a:off x="1596960" y="1784520"/>
            <a:ext cx="6510240" cy="2858760"/>
          </a:xfrm>
          <a:prstGeom prst="rect">
            <a:avLst/>
          </a:prstGeom>
          <a:ln w="0">
            <a:noFill/>
          </a:ln>
        </p:spPr>
      </p:pic>
      <p:sp>
        <p:nvSpPr>
          <p:cNvPr id="678" name="Obdélník se zakulaceným příčným rohem 5"/>
          <p:cNvSpPr/>
          <p:nvPr/>
        </p:nvSpPr>
        <p:spPr>
          <a:xfrm>
            <a:off x="1596960" y="4643280"/>
            <a:ext cx="6510240" cy="10065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Kontrola se spustí přes tlačítko Kontrola, automaticky proběhne i při spuštění Finalizace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Bez doplnění všech nedostatků, na které Kontrola upozorní, nelze Finalizaci žádosti provést</a:t>
            </a:r>
            <a:r>
              <a:rPr b="0" lang="cs-CZ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Kontakt - Benefi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help_opvk@msmt.cz</a:t>
            </a:r>
            <a:r>
              <a:rPr b="0" lang="cs-CZ" sz="28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Děkujeme vám za pozornost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4E3AC4-D141-48A9-A96C-26481EA03C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Tvorba nové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292272-32B6-41F5-8AF1-370EC3B07A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7" descr=""/>
          <p:cNvPicPr/>
          <p:nvPr/>
        </p:nvPicPr>
        <p:blipFill>
          <a:blip r:embed="rId1"/>
          <a:stretch/>
        </p:blipFill>
        <p:spPr>
          <a:xfrm>
            <a:off x="1330200" y="1770120"/>
            <a:ext cx="6458040" cy="8906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8" descr="C:\Documents and Settings\kraselovskyp\Dokumenty\Obrázky\1.1.bmp"/>
          <p:cNvPicPr/>
          <p:nvPr/>
        </p:nvPicPr>
        <p:blipFill>
          <a:blip r:embed="rId2"/>
          <a:stretch/>
        </p:blipFill>
        <p:spPr>
          <a:xfrm>
            <a:off x="1330200" y="2660760"/>
            <a:ext cx="6458040" cy="1684080"/>
          </a:xfrm>
          <a:prstGeom prst="rect">
            <a:avLst/>
          </a:prstGeom>
          <a:ln w="0">
            <a:noFill/>
          </a:ln>
        </p:spPr>
      </p:pic>
      <p:sp>
        <p:nvSpPr>
          <p:cNvPr id="529" name="Podnadpis 7"/>
          <p:cNvSpPr/>
          <p:nvPr/>
        </p:nvSpPr>
        <p:spPr>
          <a:xfrm>
            <a:off x="1928880" y="4344840"/>
            <a:ext cx="5344920" cy="11145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 nabídce jsou různé typy výzev. Vždy je nutné vybrat správný typ výzvy podle druhu projektu. Úplný název výzvy v Benefit7 je vždy uveden ve výzvě samotn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Elipsa 7"/>
          <p:cNvSpPr/>
          <p:nvPr/>
        </p:nvSpPr>
        <p:spPr>
          <a:xfrm>
            <a:off x="2820960" y="3321000"/>
            <a:ext cx="4967280" cy="64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329840" y="108216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Identifikace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864FB4-05CA-4184-A621-F534761A03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2" descr="C:\Documents and Settings\kraselovskyp\Dokumenty\Obrázky\1.1 - 2.bmp"/>
          <p:cNvPicPr/>
          <p:nvPr/>
        </p:nvPicPr>
        <p:blipFill>
          <a:blip r:embed="rId1"/>
          <a:stretch/>
        </p:blipFill>
        <p:spPr>
          <a:xfrm>
            <a:off x="1330200" y="1774800"/>
            <a:ext cx="6458040" cy="2625840"/>
          </a:xfrm>
          <a:prstGeom prst="rect">
            <a:avLst/>
          </a:prstGeom>
          <a:ln w="0">
            <a:noFill/>
          </a:ln>
        </p:spPr>
      </p:pic>
      <p:sp>
        <p:nvSpPr>
          <p:cNvPr id="534" name="Podnadpis 7"/>
          <p:cNvSpPr/>
          <p:nvPr/>
        </p:nvSpPr>
        <p:spPr>
          <a:xfrm>
            <a:off x="1728720" y="4592520"/>
            <a:ext cx="5859360" cy="9590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Vyplňujte záložky v takovém pořadí, v jakém jsou řazeny za sebou. Při přeskakování záložek nemusí být všechna pole zobrazena nebo se nemusí zobrazovat číselníky.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Calibri"/>
                <a:ea typeface="Times New Roman"/>
              </a:rPr>
              <a:t>Průběžně UKLÁDEJTE každou záložk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Elipsa 7"/>
          <p:cNvSpPr/>
          <p:nvPr/>
        </p:nvSpPr>
        <p:spPr>
          <a:xfrm>
            <a:off x="3240000" y="2292480"/>
            <a:ext cx="3313080" cy="669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Elipsa 9"/>
          <p:cNvSpPr/>
          <p:nvPr/>
        </p:nvSpPr>
        <p:spPr>
          <a:xfrm>
            <a:off x="955800" y="4148280"/>
            <a:ext cx="2046240" cy="25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8" descr=""/>
          <p:cNvPicPr/>
          <p:nvPr/>
        </p:nvPicPr>
        <p:blipFill>
          <a:blip r:embed="rId2"/>
          <a:stretch/>
        </p:blipFill>
        <p:spPr>
          <a:xfrm>
            <a:off x="4056120" y="4248000"/>
            <a:ext cx="2305080" cy="304920"/>
          </a:xfrm>
          <a:prstGeom prst="rect">
            <a:avLst/>
          </a:prstGeom>
          <a:ln w="0">
            <a:noFill/>
          </a:ln>
        </p:spPr>
      </p:pic>
      <p:sp>
        <p:nvSpPr>
          <p:cNvPr id="538" name="Šipka dolů 12"/>
          <p:cNvSpPr/>
          <p:nvPr/>
        </p:nvSpPr>
        <p:spPr>
          <a:xfrm rot="5400000">
            <a:off x="5103720" y="3913200"/>
            <a:ext cx="534960" cy="976320"/>
          </a:xfrm>
          <a:prstGeom prst="downArrow">
            <a:avLst>
              <a:gd name="adj1" fmla="val 50000"/>
              <a:gd name="adj2" fmla="val 50002"/>
            </a:avLst>
          </a:prstGeom>
          <a:noFill/>
          <a:ln w="1260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330200" y="914040"/>
            <a:ext cx="624384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PROJEKT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1EFB74-7B49-4E0C-A72F-16625A17F8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8" descr=""/>
          <p:cNvPicPr/>
          <p:nvPr/>
        </p:nvPicPr>
        <p:blipFill>
          <a:blip r:embed="rId1"/>
          <a:stretch/>
        </p:blipFill>
        <p:spPr>
          <a:xfrm>
            <a:off x="1922400" y="1555920"/>
            <a:ext cx="4508640" cy="24382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C:\Documents and Settings\kraselovskyp\Dokumenty\Obrázky\1.1 - 3.jpg"/>
          <p:cNvPicPr/>
          <p:nvPr/>
        </p:nvPicPr>
        <p:blipFill>
          <a:blip r:embed="rId2"/>
          <a:stretch/>
        </p:blipFill>
        <p:spPr>
          <a:xfrm>
            <a:off x="1927080" y="2660760"/>
            <a:ext cx="4626000" cy="2884320"/>
          </a:xfrm>
          <a:prstGeom prst="rect">
            <a:avLst/>
          </a:prstGeom>
          <a:ln w="0">
            <a:noFill/>
          </a:ln>
        </p:spPr>
      </p:pic>
      <p:sp>
        <p:nvSpPr>
          <p:cNvPr id="543" name="Elipsa 6"/>
          <p:cNvSpPr/>
          <p:nvPr/>
        </p:nvSpPr>
        <p:spPr>
          <a:xfrm>
            <a:off x="2925720" y="4303800"/>
            <a:ext cx="3938760" cy="531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Elipsa 7"/>
          <p:cNvSpPr/>
          <p:nvPr/>
        </p:nvSpPr>
        <p:spPr>
          <a:xfrm>
            <a:off x="3225960" y="5013360"/>
            <a:ext cx="1468440" cy="322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Elipsa 9"/>
          <p:cNvSpPr/>
          <p:nvPr/>
        </p:nvSpPr>
        <p:spPr>
          <a:xfrm>
            <a:off x="4694400" y="5013360"/>
            <a:ext cx="1469880" cy="322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ŽADATEL PROJEKTU 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0E15BF-6942-4426-8B7F-51635F1C4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Obrázek 5" descr="1.JPG"/>
          <p:cNvPicPr/>
          <p:nvPr/>
        </p:nvPicPr>
        <p:blipFill>
          <a:blip r:embed="rId1"/>
          <a:stretch/>
        </p:blipFill>
        <p:spPr>
          <a:xfrm>
            <a:off x="2633760" y="1658880"/>
            <a:ext cx="3714480" cy="3987720"/>
          </a:xfrm>
          <a:prstGeom prst="rect">
            <a:avLst/>
          </a:prstGeom>
          <a:ln w="0">
            <a:noFill/>
          </a:ln>
        </p:spPr>
      </p:pic>
      <p:sp>
        <p:nvSpPr>
          <p:cNvPr id="549" name="Obdélníkový popisek 5"/>
          <p:cNvSpPr/>
          <p:nvPr/>
        </p:nvSpPr>
        <p:spPr>
          <a:xfrm flipV="1" rot="10800000">
            <a:off x="6214680" y="2927880"/>
            <a:ext cx="2639880" cy="1214280"/>
          </a:xfrm>
          <a:prstGeom prst="wedgeRectCallout">
            <a:avLst>
              <a:gd name="adj1" fmla="val 172361"/>
              <a:gd name="adj2" fmla="val 5378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Částka, která připad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z celkového rozpočtu na žadate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bdélník se zakulaceným příčným rohem 6"/>
          <p:cNvSpPr/>
          <p:nvPr/>
        </p:nvSpPr>
        <p:spPr>
          <a:xfrm>
            <a:off x="6156360" y="4221000"/>
            <a:ext cx="2714760" cy="13575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Žadatelem je hlavní odpovědná osoba za projek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Služba ARES ošetřující IČ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 případě, že by validace ARES neproběhla správně a načtená data neodpovídala skutečnosti je nutné zařídit opravu dat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i špatném názvu subjektu je třeba obrátit se na Registr ekonomických subjektů (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czso.cz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i chybě v adrese na UIR- ADR (Ministerstvo práce a sociálních věcí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2826F5-02D8-491F-8BD6-6552E24940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329840" y="1064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ŽADATEL PROJEKTU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7323FC-6D72-4080-91FD-196307922B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2" descr=""/>
          <p:cNvPicPr/>
          <p:nvPr/>
        </p:nvPicPr>
        <p:blipFill>
          <a:blip r:embed="rId1"/>
          <a:stretch/>
        </p:blipFill>
        <p:spPr>
          <a:xfrm>
            <a:off x="2075040" y="1757520"/>
            <a:ext cx="4713120" cy="3797280"/>
          </a:xfrm>
          <a:prstGeom prst="rect">
            <a:avLst/>
          </a:prstGeom>
          <a:ln w="0">
            <a:noFill/>
          </a:ln>
        </p:spPr>
      </p:pic>
      <p:sp>
        <p:nvSpPr>
          <p:cNvPr id="557" name="Obdélníkový popisek 5"/>
          <p:cNvSpPr/>
          <p:nvPr/>
        </p:nvSpPr>
        <p:spPr>
          <a:xfrm>
            <a:off x="6786720" y="1757520"/>
            <a:ext cx="2193840" cy="1957320"/>
          </a:xfrm>
          <a:prstGeom prst="wedgeRectCallout">
            <a:avLst>
              <a:gd name="adj1" fmla="val -85736"/>
              <a:gd name="adj2" fmla="val 55046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Uveďte stručný popis cílové skupiny, se kterou máte zkušenosti. Jakým způsobem jste s cílovou skupinou pracovali a případně s jakým výsledkem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Elipsa 6"/>
          <p:cNvSpPr/>
          <p:nvPr/>
        </p:nvSpPr>
        <p:spPr>
          <a:xfrm>
            <a:off x="3289320" y="4143240"/>
            <a:ext cx="3726000" cy="511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1-04T07:21:41Z</dcterms:modified>
  <cp:revision>75</cp:revision>
  <dc:subject/>
  <dc:title>Titulní strana – Titulek</dc:title>
</cp:coreProperties>
</file>