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0.jpeg" ContentType="image/jpeg"/>
  <Override PartName="/ppt/media/image22.jpeg" ContentType="image/jpeg"/>
  <Override PartName="/ppt/media/image9.png" ContentType="image/png"/>
  <Override PartName="/ppt/media/image36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28.png" ContentType="image/png"/>
  <Override PartName="/ppt/media/image30.png" ContentType="image/png"/>
  <Override PartName="/ppt/media/image14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E641-83B7-4DD9-B245-9E53215E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5BD0-74E4-458D-85DF-C72B1FF4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ACBF1-A02C-449C-AA79-C40ADA8F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F5132-6103-4643-AAD2-D8BFE3AA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0A34A-EA74-4D77-8779-814326BB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51671-3C7C-42A2-A190-4E82CD01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BCF09-C7F1-42E4-8879-9902875B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3FF57-16BA-4488-B57F-5687EEAA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BD648-017F-4F02-A6D6-A1134F9C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9522F-40ED-44B6-8D63-294EDDB8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8A775-AE27-4808-990D-F3C2AD93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FFBF3-3422-4BE4-BA72-78DF535C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CC7D-DBD1-43D1-A593-F86DF26C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634C3-B342-4A65-9FF1-6E6DB335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FC0A1-9E1A-4619-A074-B754C0E7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05646-2D89-4388-8F1B-C8E93448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B00B6-65FE-476C-9B8C-C20869B6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37226-09C9-45B9-9085-23ACD095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24D16-6610-4E92-8692-F10EC9E3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A84DA-1154-4BB7-B38F-E50DA59A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CD704-B1AD-4573-AE12-90D6C185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9CBB7-81B8-4E87-AD0B-F35AD29F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C6942-4157-4415-A9F7-952E2132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F151-23F4-4C59-9B5C-D109A8C4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B061D-9C33-4C6D-ABAC-A5B3D47A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02D89-D3C7-434A-A416-7FEC5EC1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C8340-36A6-4BD6-A8B3-21743890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21EB0-3773-4D9A-9799-10C05B76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8AC02-B748-44CB-88F4-D57F0AD5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70BBF-123E-498A-9900-36623907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64885-61CC-4FDE-975D-8CF64A2B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55936-9910-431A-90B3-5EE66CE6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E3C82-BA39-4C11-9BB3-D5C07F50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44279-5A04-48E6-8A1C-1BC72C31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7444-958A-4254-8895-38296FB1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1F19C-A7DA-4D7C-B0E6-BF5DF6A5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BD6C9-797A-41C1-886B-37D2EC6A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A1999-263E-4232-8ED7-08041E6F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EF074-4E4E-4A44-81B0-4175F2EB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612B7-6B50-42D1-896F-28DF1224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42159-2F5B-4495-A985-DD671763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87A622-DB5B-41FE-A446-AF29E879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EDDB5-0B17-4F0D-B9A7-371A6341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DFC6A-485F-4272-84B1-D65E696A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A6742-1CEA-4DE3-99C5-FB04E690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0E9A-FE7D-427C-9BF0-A2592F68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BC817-1496-45FF-9AB2-A2413DA7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DA512-16EC-4402-83BF-086C7154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2EF153-B218-41C9-9369-E96EB663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D3549-DB72-4FCC-BB14-6C2E12A5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9192C-BA84-4FF0-ABB8-2A5C1A6A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414C-FE1C-4B51-88AC-ADCA8A28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D5B6-26D9-4598-957B-2735F72C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1691-2099-439C-A407-F42E96F5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FAE4-471B-420A-8641-EAF24A84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4D62-3719-470F-8398-296BA091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45FA-27ED-4C69-B969-0160F273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84E2-F5FA-4950-A9E0-F7B8A7F0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325B-915D-4CA4-BC8F-486D63E5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37CE-03F6-4549-90CB-CC1136C6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7C90-53D4-4BC5-A804-BE448035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BAA4-5199-462F-A7B8-4767DD1B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1B383-E12F-48C3-9F85-FF588097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1FFAF-D9AB-42F4-B5DF-69E66E8A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C24C7-7F9D-411E-82FE-8273E690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310DB-346F-4F4F-B215-9DA3E624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0EF73-FB7F-45FF-B385-DEE59807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10D9-B02E-46A4-9D64-E938E602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68055-92E2-4A87-9ED3-78A474C0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92C24-2106-4D58-BBF5-DE8741CF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28F29-65BB-47EC-9657-235A0C12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16309-9C8E-4D8C-BCEE-EDFD92C9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9B84E-9267-4CF2-939B-F23BB072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EE183-35C7-43BE-B389-53A1EC0B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1E4E7-2462-4898-AC93-19EFE7E2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D3605-2416-44DF-8C19-EE4A2858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3C362-2F4F-4EC5-BAE5-6B38B34B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F01A5-CE64-4687-89A6-8D3244EC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433F-867C-4400-862E-E4474965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47308-4D28-4776-AE8C-1379F722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C6952-00A1-4A0F-92DD-B53C5488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61D2A-CF8C-4AC9-9B72-4E2FD118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C5E98-74BB-41D5-A50E-DFC37A9A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98DBE-599E-4801-B2E2-DA95E13E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91E30-B737-4AF6-9FB3-0E045F80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FF67B-9E80-4835-9878-212EF271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9B0FF-A6B9-4F92-B2E4-E5D1C9EC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7CA5E-B674-4714-9B28-A95A98FB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0457F-FEAC-41FC-A9C3-09D6B116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84E5-8501-42A2-8BD3-4F09D665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81D95-BF03-4BBE-BD01-4096D275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20FDD-DDB1-4C5A-A1B7-3DB18177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536D2-DC0B-45DC-8EDA-8B7CFD6A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CA013-F473-4DFF-B9D9-BC62F2D5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0D832-A787-4ED6-9257-EA3AB96C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44973-B441-4EF7-8FC8-A51CF6F8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F5C8C-030F-4446-999D-AF798A3D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9C091-B64A-4EDE-9D93-F7469839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C3646-3B42-43D2-8755-AB5C8BE7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57954-7BF8-4111-B489-87F9D99C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49D9-F4B2-4AF3-A9FA-06ED250D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946CC-7725-4484-801F-92411E06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21254-FECF-4437-B84D-0759DA9F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41FCF-2CA0-4BE4-95F2-7A9A0A23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62357-6BE7-4C4A-B080-86BB45F7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6170C-CA6D-431C-8D07-FE2593FE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206FC-4C75-4C91-9280-90289539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FC23B-B9B7-4468-B6AD-D6E0F588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7F318-FEC7-4B10-8F27-F9CEDF4C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ABC2B-942F-4B2A-B067-47F9716D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79D0D-7BFA-4BC9-A475-C7D030B7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1610-CEB4-4D30-8AED-2BC3FA9E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E8BCC-580F-43AF-9893-B5D3BBDB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A7314-1171-45A3-9316-6BD86BD0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FAD2A-B4EF-47F0-AD99-E7F4ADEF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D93CB-4709-4FEF-91FE-E1E765E1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67D15-8AB2-4572-BB51-F78D956E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9FBEB-E94B-437F-9AA6-9F8E1FE2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F9F19-A331-4709-8BCC-408A0B8C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3309A-9212-482E-A739-5E662428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B8008-D10E-4B74-883B-B7BC1BDC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1A0ED-3A04-4081-995B-5BACA0F1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CC82-AE32-49ED-B582-A29DC6E1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6CB9C-F79D-47A9-917C-028D1DDF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EA0AF-BE84-4E4D-BE9B-75EFD1AD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69645-2BF1-4417-8C51-7D1DA42C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FCA5D-19DF-4CB8-989D-5A765401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48517-F3C1-48F2-A22B-1ABC0BD0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6BFCB-A8F0-491A-9090-4DA14B2B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60E73-86B4-4251-B845-BEB5AC44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F6D70-D860-42DF-AD28-0F13D6DB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39397-4831-4336-8A8C-FDCA7F62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05AB3-D234-43EC-A3FB-905A3570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136A-8DA9-4D5C-8CE4-F6404E78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11F42-2D97-4376-AA40-BB5A8875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298F1-3AD1-4204-956A-D220F7EE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363FC-5C13-4AB5-B202-E5001DD7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CFF20-2117-4787-984C-98E2E719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CEDF6-AC6B-4B59-899D-8CB45D58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C6DE8-FA53-4485-BF39-E78A387D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D9DAC-4B6A-46CE-9960-B4586223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348CD-C000-4A82-8711-28F3CBC5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374B0-A7FD-4FDC-8AB3-70D7AA5A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232A8-A1C6-496F-9B5D-9B6D7375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910C35-269D-40F8-AD9F-34EAFA7A4D9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8BBD76-BAC9-4A38-925C-95BF6D62F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91E81B91-15E6-47A1-AF73-3D76952F0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C16A1-393C-467F-B25E-F7998ACC326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C02A5-AEA0-40D9-A9FF-39C26A6FD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B66F11-004A-4229-A29A-65F11EEA3E6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EC6E4-F976-42DD-816B-AD3D06CF9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7A333C-8936-4CD8-AE18-663767FA715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CF1D4-DC98-43C2-AA3E-EB9E685C7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E91B84-9A11-45CA-8A65-314DF7510A4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5B8D1-5F2E-4D31-8B7E-CDBB360A2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06BA41-30C6-4275-94BD-2A73CBDA301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0F48A-0159-446B-9E13-6BD5C756E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B60D3-5068-4CBD-8D6D-0A5B344260E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CE75B4-48C4-4703-85EE-D7ACF687A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056AB-333E-48E9-8BAA-41C97AC778D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7282D-CC24-4766-99D6-2752AB1FD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ED54C-B357-4733-8F28-DF540A94459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CA4D9-3CB2-4A0C-AFFB-7E855472C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966CC-A418-4B11-A6DD-68704CDC5B8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3412C2-7512-40A1-8693-C26393DDE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D9745-D22B-407C-A81D-AAAA08720A3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D0D75C-38A0-4708-987A-67F90082E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96206-913F-4BA7-8472-A5E7E1E69B1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0C6DBA-35BC-4CDF-A588-F15716330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zso.cz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819440"/>
            <a:ext cx="777240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Benefit7 – jak vyplnit projektovou žádos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2844360"/>
            <a:ext cx="640080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orso Karlí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28.1.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Mgr. Petr Kraselovský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ŽADATEL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7A5F7-BC59-47F9-B3F3-9CA92D2A7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1"/>
          <a:srcRect l="2063" t="16091" r="4470" b="8276"/>
          <a:stretch/>
        </p:blipFill>
        <p:spPr>
          <a:xfrm>
            <a:off x="1838160" y="1770120"/>
            <a:ext cx="5442120" cy="3173400"/>
          </a:xfrm>
          <a:prstGeom prst="rect">
            <a:avLst/>
          </a:prstGeom>
          <a:ln w="0">
            <a:noFill/>
          </a:ln>
        </p:spPr>
      </p:pic>
      <p:sp>
        <p:nvSpPr>
          <p:cNvPr id="562" name="Obdélník se zakulaceným příčným rohem 5"/>
          <p:cNvSpPr/>
          <p:nvPr/>
        </p:nvSpPr>
        <p:spPr>
          <a:xfrm>
            <a:off x="7280280" y="1770120"/>
            <a:ext cx="1604880" cy="37702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Oficiální adresa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automatické natažení po validaci ARES – takto načtené údaje needituj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Adresa pro doručení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povinný úd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14624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OSOBY ŽADATEL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968CDF-D7B6-46A8-8723-803F1FB90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9" descr="C:\Documents and Settings\kraselovskyp\Dokumenty\Obrázky\1.1.- 4.bmp"/>
          <p:cNvPicPr/>
          <p:nvPr/>
        </p:nvPicPr>
        <p:blipFill>
          <a:blip r:embed="rId1"/>
          <a:stretch/>
        </p:blipFill>
        <p:spPr>
          <a:xfrm>
            <a:off x="2496960" y="1846440"/>
            <a:ext cx="4056120" cy="3760560"/>
          </a:xfrm>
          <a:prstGeom prst="rect">
            <a:avLst/>
          </a:prstGeom>
          <a:ln w="0">
            <a:noFill/>
          </a:ln>
        </p:spPr>
      </p:pic>
      <p:sp>
        <p:nvSpPr>
          <p:cNvPr id="566" name="Elipsa 6"/>
          <p:cNvSpPr/>
          <p:nvPr/>
        </p:nvSpPr>
        <p:spPr>
          <a:xfrm>
            <a:off x="4213080" y="4221000"/>
            <a:ext cx="1656000" cy="597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Elipsa 7"/>
          <p:cNvSpPr/>
          <p:nvPr/>
        </p:nvSpPr>
        <p:spPr>
          <a:xfrm>
            <a:off x="2154240" y="5319720"/>
            <a:ext cx="18716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35A5F-5BE1-460C-8D43-0014702FC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Obrázek 8" descr="1.JPG"/>
          <p:cNvPicPr/>
          <p:nvPr/>
        </p:nvPicPr>
        <p:blipFill>
          <a:blip r:embed="rId1"/>
          <a:stretch/>
        </p:blipFill>
        <p:spPr>
          <a:xfrm>
            <a:off x="2523960" y="1717560"/>
            <a:ext cx="3781440" cy="3792600"/>
          </a:xfrm>
          <a:prstGeom prst="rect">
            <a:avLst/>
          </a:prstGeom>
          <a:ln w="0">
            <a:noFill/>
          </a:ln>
        </p:spPr>
      </p:pic>
      <p:sp>
        <p:nvSpPr>
          <p:cNvPr id="571" name="Obdélník se zakulaceným příčným rohem 5"/>
          <p:cNvSpPr/>
          <p:nvPr/>
        </p:nvSpPr>
        <p:spPr>
          <a:xfrm>
            <a:off x="6553080" y="1784520"/>
            <a:ext cx="1908360" cy="3725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záložce „Partner projektu“ jsou přístupné pouze v případě, že žadatel na záložce „Projekt“ zvolil možnost „Projekt má partnera.“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mocí tlačítka „Nový záznam“ je možné zadat potřebný počet partnerů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8CB5E4-0EE7-47E5-8529-9939BD32A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Zástupný symbol pro obsah 12" descr="1.JPG"/>
          <p:cNvPicPr/>
          <p:nvPr/>
        </p:nvPicPr>
        <p:blipFill>
          <a:blip r:embed="rId1"/>
          <a:stretch/>
        </p:blipFill>
        <p:spPr>
          <a:xfrm>
            <a:off x="2606760" y="1739880"/>
            <a:ext cx="3676680" cy="3800520"/>
          </a:xfrm>
          <a:prstGeom prst="rect">
            <a:avLst/>
          </a:prstGeom>
          <a:ln w="0">
            <a:noFill/>
          </a:ln>
        </p:spPr>
      </p:pic>
      <p:sp>
        <p:nvSpPr>
          <p:cNvPr id="575" name="Obdélníkový popisek 5"/>
          <p:cNvSpPr/>
          <p:nvPr/>
        </p:nvSpPr>
        <p:spPr>
          <a:xfrm>
            <a:off x="6170760" y="1957320"/>
            <a:ext cx="2516040" cy="657360"/>
          </a:xfrm>
          <a:prstGeom prst="wedgeRectCallout">
            <a:avLst>
              <a:gd name="adj1" fmla="val -74203"/>
              <a:gd name="adj2" fmla="val 56935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ymezte částku, která z celkového rozpočtu projektu připadá na partn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bdélníkový popisek 6"/>
          <p:cNvSpPr/>
          <p:nvPr/>
        </p:nvSpPr>
        <p:spPr>
          <a:xfrm>
            <a:off x="6170760" y="2614680"/>
            <a:ext cx="2516040" cy="885600"/>
          </a:xfrm>
          <a:prstGeom prst="wedgeRectCallout">
            <a:avLst>
              <a:gd name="adj1" fmla="val -67208"/>
              <a:gd name="adj2" fmla="val 57439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roč zapojujete partnera do projektu, proč určité aktivity nerealizuje přímo žadatel? Proč je vhodný právě tento partner?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bdélníkový popisek 7"/>
          <p:cNvSpPr/>
          <p:nvPr/>
        </p:nvSpPr>
        <p:spPr>
          <a:xfrm>
            <a:off x="6170760" y="3762360"/>
            <a:ext cx="2516040" cy="676440"/>
          </a:xfrm>
          <a:prstGeom prst="wedgeRectCallout">
            <a:avLst>
              <a:gd name="adj1" fmla="val -74203"/>
              <a:gd name="adj2" fmla="val 679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způsob zapojení partnerů v příslušných aktivitá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bdélníkový popisek 8"/>
          <p:cNvSpPr/>
          <p:nvPr/>
        </p:nvSpPr>
        <p:spPr>
          <a:xfrm>
            <a:off x="6170760" y="4438800"/>
            <a:ext cx="2516040" cy="1101600"/>
          </a:xfrm>
          <a:prstGeom prst="wedgeRectCallout">
            <a:avLst>
              <a:gd name="adj1" fmla="val -73287"/>
              <a:gd name="adj2" fmla="val 5254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Jaké projekty v oblasti RLZ již partner realizoval či realizuje. V případě velkého počtu projektů uveďte jen projekty obdobného charakter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9AE47-4B98-4C68-BD92-32BACCA7E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1844640" y="1952640"/>
            <a:ext cx="5429160" cy="2419200"/>
          </a:xfrm>
          <a:prstGeom prst="rect">
            <a:avLst/>
          </a:prstGeom>
          <a:ln w="0">
            <a:noFill/>
          </a:ln>
        </p:spPr>
      </p:pic>
      <p:sp>
        <p:nvSpPr>
          <p:cNvPr id="582" name="Obdélník se zakulaceným příčným rohem 5"/>
          <p:cNvSpPr/>
          <p:nvPr/>
        </p:nvSpPr>
        <p:spPr>
          <a:xfrm>
            <a:off x="1844640" y="4371840"/>
            <a:ext cx="5429160" cy="1128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Elipsa 6"/>
          <p:cNvSpPr/>
          <p:nvPr/>
        </p:nvSpPr>
        <p:spPr>
          <a:xfrm>
            <a:off x="3425760" y="3262320"/>
            <a:ext cx="3670200" cy="422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PARTNER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C25117-25C5-45A1-8F51-96F765A3D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Zástupný symbol pro obsah 4" descr="xxx_adresaPartnera.jpg"/>
          <p:cNvPicPr/>
          <p:nvPr/>
        </p:nvPicPr>
        <p:blipFill>
          <a:blip r:embed="rId1"/>
          <a:srcRect l="0" t="0" r="0" b="1517"/>
          <a:stretch/>
        </p:blipFill>
        <p:spPr>
          <a:xfrm>
            <a:off x="2811600" y="1674720"/>
            <a:ext cx="3163680" cy="3770280"/>
          </a:xfrm>
          <a:prstGeom prst="rect">
            <a:avLst/>
          </a:prstGeom>
          <a:ln w="0">
            <a:noFill/>
          </a:ln>
        </p:spPr>
      </p:pic>
      <p:sp>
        <p:nvSpPr>
          <p:cNvPr id="587" name="Obdélník se zakulaceným příčným rohem 5"/>
          <p:cNvSpPr/>
          <p:nvPr/>
        </p:nvSpPr>
        <p:spPr>
          <a:xfrm>
            <a:off x="6249960" y="1784520"/>
            <a:ext cx="1733400" cy="36604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dresy partnerů jsou automaticky vloženy při validaci ARES na záložce „Partner projektu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utomaticky vložené údaje needitujte v  aplikaci BENEFI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OSOBY PARTNER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953F5-A1BD-4232-B6D6-796ED7BB4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Zástupný symbol pro obsah 4" descr="04_zadost21_crop.jpg"/>
          <p:cNvPicPr/>
          <p:nvPr/>
        </p:nvPicPr>
        <p:blipFill>
          <a:blip r:embed="rId1"/>
          <a:srcRect l="3504" t="3029" r="0" b="4543"/>
          <a:stretch/>
        </p:blipFill>
        <p:spPr>
          <a:xfrm>
            <a:off x="2197080" y="1784520"/>
            <a:ext cx="3938760" cy="3560760"/>
          </a:xfrm>
          <a:prstGeom prst="rect">
            <a:avLst/>
          </a:prstGeom>
          <a:ln w="0">
            <a:noFill/>
          </a:ln>
        </p:spPr>
      </p:pic>
      <p:sp>
        <p:nvSpPr>
          <p:cNvPr id="591" name="Obdélník se zakulaceným příčným rohem 5"/>
          <p:cNvSpPr/>
          <p:nvPr/>
        </p:nvSpPr>
        <p:spPr>
          <a:xfrm>
            <a:off x="6300720" y="1916280"/>
            <a:ext cx="2357640" cy="32860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plňte u každého partnera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tatutární zástupce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7D2D9F-FC98-45D8-826B-81F76E60C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2727360" y="1770120"/>
            <a:ext cx="3424320" cy="3716280"/>
          </a:xfrm>
          <a:prstGeom prst="rect">
            <a:avLst/>
          </a:prstGeom>
          <a:ln w="0">
            <a:noFill/>
          </a:ln>
        </p:spPr>
      </p:pic>
      <p:sp>
        <p:nvSpPr>
          <p:cNvPr id="595" name="Obdélník se zakulaceným příčným rohem 5"/>
          <p:cNvSpPr/>
          <p:nvPr/>
        </p:nvSpPr>
        <p:spPr>
          <a:xfrm>
            <a:off x="6151680" y="2048040"/>
            <a:ext cx="1636560" cy="3438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Věnujte maximální pozornost vyplnění těchto záložek. Informace zde zadané slouží jako základní nástroj při hodnocení žádost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4B194-8DEB-448D-903E-E41963D75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1987560" y="1770120"/>
            <a:ext cx="4849920" cy="3749760"/>
          </a:xfrm>
          <a:prstGeom prst="rect">
            <a:avLst/>
          </a:prstGeom>
          <a:ln w="0">
            <a:noFill/>
          </a:ln>
        </p:spPr>
      </p:pic>
      <p:sp>
        <p:nvSpPr>
          <p:cNvPr id="599" name="Obdélníkový popisek 5"/>
          <p:cNvSpPr/>
          <p:nvPr/>
        </p:nvSpPr>
        <p:spPr>
          <a:xfrm>
            <a:off x="6467400" y="1938240"/>
            <a:ext cx="2471760" cy="1209600"/>
          </a:xfrm>
          <a:prstGeom prst="wedgeRectCallout">
            <a:avLst>
              <a:gd name="adj1" fmla="val -67625"/>
              <a:gd name="adj2" fmla="val -2571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Jaké má žadatel mechanismy a postupy pro řízení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činnosti související s projektovým řízením včetně vazby na rozpoč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bdélníkový popisek 6"/>
          <p:cNvSpPr/>
          <p:nvPr/>
        </p:nvSpPr>
        <p:spPr>
          <a:xfrm>
            <a:off x="6467400" y="4381560"/>
            <a:ext cx="2471760" cy="971640"/>
          </a:xfrm>
          <a:prstGeom prst="wedgeRectCallout">
            <a:avLst>
              <a:gd name="adj1" fmla="val -75726"/>
              <a:gd name="adj2" fmla="val 5519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yberte podporované aktivity uvedené ve výzvě k předkládání žádostí, které odpovídají daném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Elipsa 8"/>
          <p:cNvSpPr/>
          <p:nvPr/>
        </p:nvSpPr>
        <p:spPr>
          <a:xfrm>
            <a:off x="4091040" y="4643280"/>
            <a:ext cx="1000080" cy="174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lipsa 9"/>
          <p:cNvSpPr/>
          <p:nvPr/>
        </p:nvSpPr>
        <p:spPr>
          <a:xfrm>
            <a:off x="1987560" y="4638600"/>
            <a:ext cx="1000080" cy="17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30200" y="10774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F90DC-4A25-4612-9E1A-B93903577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Zástupný symbol pro obsah 9" descr="1.JPG"/>
          <p:cNvPicPr/>
          <p:nvPr/>
        </p:nvPicPr>
        <p:blipFill>
          <a:blip r:embed="rId1"/>
          <a:stretch/>
        </p:blipFill>
        <p:spPr>
          <a:xfrm>
            <a:off x="2784600" y="1603440"/>
            <a:ext cx="3316320" cy="4027320"/>
          </a:xfrm>
          <a:prstGeom prst="rect">
            <a:avLst/>
          </a:prstGeom>
          <a:ln w="0">
            <a:noFill/>
          </a:ln>
        </p:spPr>
      </p:pic>
      <p:sp>
        <p:nvSpPr>
          <p:cNvPr id="606" name="Obdélník se zakulaceným příčným rohem 5"/>
          <p:cNvSpPr/>
          <p:nvPr/>
        </p:nvSpPr>
        <p:spPr>
          <a:xfrm>
            <a:off x="6488280" y="1770120"/>
            <a:ext cx="1931760" cy="35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adané oblasti musí být v souladu s prostorem  definovaným Operačním program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rámci jednoho kraje je nutné uvést vždy pouze jeden reg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ádějte nejvyšší typ území (region, kraj, okres, obec), který odpovídá zpracovávaném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Elipsa 6"/>
          <p:cNvSpPr/>
          <p:nvPr/>
        </p:nvSpPr>
        <p:spPr>
          <a:xfrm>
            <a:off x="3857760" y="3178080"/>
            <a:ext cx="1245960" cy="506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eu-zadost.cz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0AE948-1F9B-441B-B569-A219553A1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2"/>
          <a:stretch/>
        </p:blipFill>
        <p:spPr>
          <a:xfrm>
            <a:off x="662040" y="1951200"/>
            <a:ext cx="802476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30200" y="10918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7AE9E5-783E-4E12-9C52-32EE1FEDE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Obrázek 9" descr="3.JPG"/>
          <p:cNvPicPr/>
          <p:nvPr/>
        </p:nvPicPr>
        <p:blipFill>
          <a:blip r:embed="rId1"/>
          <a:stretch/>
        </p:blipFill>
        <p:spPr>
          <a:xfrm>
            <a:off x="2360520" y="1638360"/>
            <a:ext cx="4192560" cy="4043160"/>
          </a:xfrm>
          <a:prstGeom prst="rect">
            <a:avLst/>
          </a:prstGeom>
          <a:ln w="0">
            <a:noFill/>
          </a:ln>
        </p:spPr>
      </p:pic>
      <p:sp>
        <p:nvSpPr>
          <p:cNvPr id="611" name="Obdélník se zakulaceným příčným rohem 5"/>
          <p:cNvSpPr/>
          <p:nvPr/>
        </p:nvSpPr>
        <p:spPr>
          <a:xfrm>
            <a:off x="6286680" y="1714680"/>
            <a:ext cx="1969920" cy="3703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díl plánované částky způsobilých výdajů projektu (v %) vztahující se k NUTS3, v němž je projekt realizován. Součet procentních podílů ze všech zadaných oblastí se musí rovnat 100 %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7FB258-040F-4876-85BC-E2D588A90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1951200" y="1811160"/>
            <a:ext cx="4976640" cy="3716640"/>
          </a:xfrm>
          <a:prstGeom prst="rect">
            <a:avLst/>
          </a:prstGeom>
          <a:ln w="0">
            <a:noFill/>
          </a:ln>
        </p:spPr>
      </p:pic>
      <p:sp>
        <p:nvSpPr>
          <p:cNvPr id="615" name="Obdélník se zakulaceným příčným rohem 5"/>
          <p:cNvSpPr/>
          <p:nvPr/>
        </p:nvSpPr>
        <p:spPr>
          <a:xfrm>
            <a:off x="6315120" y="3236760"/>
            <a:ext cx="2187360" cy="1430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všechny klíčové aktivity, které bude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 jednotlivých fázích projektu realizovat žadatel nebo partneři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bdélníkový popisek 6"/>
          <p:cNvSpPr/>
          <p:nvPr/>
        </p:nvSpPr>
        <p:spPr>
          <a:xfrm>
            <a:off x="5838840" y="4830840"/>
            <a:ext cx="2663640" cy="696960"/>
          </a:xfrm>
          <a:prstGeom prst="wedgeRectCallout">
            <a:avLst>
              <a:gd name="adj1" fmla="val -96907"/>
              <a:gd name="adj2" fmla="val 610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Náklady na klíčové aktivity rozložte na ESF způsobilé výdaje a výdaje spadající do křížového financován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A224E7-32FA-42BA-B3D6-0EE7A14B6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Zástupný symbol pro obsah 4" descr="04_zadost27_2_crop.jpg"/>
          <p:cNvPicPr/>
          <p:nvPr/>
        </p:nvPicPr>
        <p:blipFill>
          <a:blip r:embed="rId1"/>
          <a:stretch/>
        </p:blipFill>
        <p:spPr>
          <a:xfrm>
            <a:off x="1946160" y="1770120"/>
            <a:ext cx="5064120" cy="3852720"/>
          </a:xfrm>
          <a:prstGeom prst="rect">
            <a:avLst/>
          </a:prstGeom>
          <a:ln w="0">
            <a:noFill/>
          </a:ln>
        </p:spPr>
      </p:pic>
      <p:sp>
        <p:nvSpPr>
          <p:cNvPr id="620" name="Obdélníkový popisek 5"/>
          <p:cNvSpPr/>
          <p:nvPr/>
        </p:nvSpPr>
        <p:spPr>
          <a:xfrm>
            <a:off x="6553080" y="2511360"/>
            <a:ext cx="2448000" cy="1201680"/>
          </a:xfrm>
          <a:prstGeom prst="wedgeRectCallout">
            <a:avLst>
              <a:gd name="adj1" fmla="val -63472"/>
              <a:gd name="adj2" fmla="val 187018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Ke každé klíčové aktivitě přiřaďte všechny subjekty, které se budou podílet na její realizac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HARMONOGRAM AKTIVI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6C4371-9535-4EB1-9804-DF4294765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1692360" y="1770120"/>
            <a:ext cx="5759280" cy="2962080"/>
          </a:xfrm>
          <a:prstGeom prst="rect">
            <a:avLst/>
          </a:prstGeom>
          <a:ln w="0">
            <a:noFill/>
          </a:ln>
        </p:spPr>
      </p:pic>
      <p:sp>
        <p:nvSpPr>
          <p:cNvPr id="624" name="Obdélník se zakulaceným příčným rohem 5"/>
          <p:cNvSpPr/>
          <p:nvPr/>
        </p:nvSpPr>
        <p:spPr>
          <a:xfrm>
            <a:off x="1692360" y="4732200"/>
            <a:ext cx="5759280" cy="712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Do harmonogramu zahrňte všechny klíčové aktivity zadané na záložce „Klíčové aktivity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dené aktivity musí být realizovány v časovém rozmezí uvedeném na záložce „Projekt“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Elipsa 6"/>
          <p:cNvSpPr/>
          <p:nvPr/>
        </p:nvSpPr>
        <p:spPr>
          <a:xfrm>
            <a:off x="1692360" y="3166920"/>
            <a:ext cx="1071360" cy="190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Elipsa 7"/>
          <p:cNvSpPr/>
          <p:nvPr/>
        </p:nvSpPr>
        <p:spPr>
          <a:xfrm>
            <a:off x="5180040" y="3968640"/>
            <a:ext cx="107136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F7A463-BB95-4B3B-B71A-112976C38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330200" y="1784520"/>
            <a:ext cx="3364200" cy="15174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"/>
          <p:cNvPicPr/>
          <p:nvPr/>
        </p:nvPicPr>
        <p:blipFill>
          <a:blip r:embed="rId2"/>
          <a:stretch/>
        </p:blipFill>
        <p:spPr>
          <a:xfrm>
            <a:off x="1330200" y="3301920"/>
            <a:ext cx="2695680" cy="2268720"/>
          </a:xfrm>
          <a:prstGeom prst="rect">
            <a:avLst/>
          </a:prstGeom>
          <a:ln w="0">
            <a:noFill/>
          </a:ln>
        </p:spPr>
      </p:pic>
      <p:sp>
        <p:nvSpPr>
          <p:cNvPr id="631" name="Elipsa 7"/>
          <p:cNvSpPr/>
          <p:nvPr/>
        </p:nvSpPr>
        <p:spPr>
          <a:xfrm>
            <a:off x="3429000" y="3000240"/>
            <a:ext cx="9288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Elipsa 8"/>
          <p:cNvSpPr/>
          <p:nvPr/>
        </p:nvSpPr>
        <p:spPr>
          <a:xfrm>
            <a:off x="1104840" y="3000240"/>
            <a:ext cx="9288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bdélníkový popisek 9"/>
          <p:cNvSpPr/>
          <p:nvPr/>
        </p:nvSpPr>
        <p:spPr>
          <a:xfrm>
            <a:off x="4357800" y="1974960"/>
            <a:ext cx="2149200" cy="836640"/>
          </a:xfrm>
          <a:prstGeom prst="wedgeRectCallout">
            <a:avLst>
              <a:gd name="adj1" fmla="val -69004"/>
              <a:gd name="adj2" fmla="val 12646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Z nabídky lze rozlišit pracovníky dle typu 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Manažerské a administrativní pozic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Odborné pozi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bdélníkový popisek 10"/>
          <p:cNvSpPr/>
          <p:nvPr/>
        </p:nvSpPr>
        <p:spPr>
          <a:xfrm>
            <a:off x="4357800" y="2954160"/>
            <a:ext cx="2450880" cy="331920"/>
          </a:xfrm>
          <a:prstGeom prst="wedgeRectCallout">
            <a:avLst>
              <a:gd name="adj1" fmla="val -65439"/>
              <a:gd name="adj2" fmla="val 20638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Zvolte žadatele nebo partnera. </a:t>
            </a:r>
            <a:br>
              <a:rPr sz="16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bdélník se zakulaceným příčným rohem 11"/>
          <p:cNvSpPr/>
          <p:nvPr/>
        </p:nvSpPr>
        <p:spPr>
          <a:xfrm>
            <a:off x="6945480" y="1784520"/>
            <a:ext cx="1741320" cy="3786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řípadě, že plánujete pro určitý typ pozice více zaměstnanců, vyplňte tuto pozici jako jeden záznam a v poli „Úvazek“ uveďte kumulovanou hodnotu úvazků všech zaměstnanců (například 300 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opisu pracovní náplně uveďte počet osob, které budou danou pozici zajišťov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09320" y="1050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0CCA0F-7A05-4FC3-8AD2-6D98A113F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4" descr=""/>
          <p:cNvPicPr/>
          <p:nvPr/>
        </p:nvPicPr>
        <p:blipFill>
          <a:blip r:embed="rId1"/>
          <a:stretch/>
        </p:blipFill>
        <p:spPr>
          <a:xfrm>
            <a:off x="1309680" y="1569960"/>
            <a:ext cx="5605560" cy="3775320"/>
          </a:xfrm>
          <a:prstGeom prst="rect">
            <a:avLst/>
          </a:prstGeom>
          <a:ln w="0">
            <a:noFill/>
          </a:ln>
        </p:spPr>
      </p:pic>
      <p:sp>
        <p:nvSpPr>
          <p:cNvPr id="639" name="Šrafovaná šipka doprava 5"/>
          <p:cNvSpPr/>
          <p:nvPr/>
        </p:nvSpPr>
        <p:spPr>
          <a:xfrm rot="5400000">
            <a:off x="3643200" y="164124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bdélníkový popisek 6"/>
          <p:cNvSpPr/>
          <p:nvPr/>
        </p:nvSpPr>
        <p:spPr>
          <a:xfrm>
            <a:off x="6359400" y="1743120"/>
            <a:ext cx="2592360" cy="1111320"/>
          </a:xfrm>
          <a:prstGeom prst="wedgeRectCallout">
            <a:avLst>
              <a:gd name="adj1" fmla="val -91231"/>
              <a:gd name="adj2" fmla="val 1190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 pracovní smlouvy uvádějte úvazek v procentech (50 %, 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300 % atd.), v případě DPČ nebo DPP uvádějte počet hodin za měsí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bdélníkový popisek 7"/>
          <p:cNvSpPr/>
          <p:nvPr/>
        </p:nvSpPr>
        <p:spPr>
          <a:xfrm>
            <a:off x="6134040" y="3535200"/>
            <a:ext cx="2817720" cy="700200"/>
          </a:xfrm>
          <a:prstGeom prst="wedgeRectCallout">
            <a:avLst>
              <a:gd name="adj1" fmla="val -99125"/>
              <a:gd name="adj2" fmla="val -5155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 pracovní smlouvy doplňte sazbu za měsíc, u DPČ nebo DPP sazbu za hodin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bdélníkový popisek 8"/>
          <p:cNvSpPr/>
          <p:nvPr/>
        </p:nvSpPr>
        <p:spPr>
          <a:xfrm>
            <a:off x="4871880" y="4599000"/>
            <a:ext cx="4079880" cy="985680"/>
          </a:xfrm>
          <a:prstGeom prst="wedgeRectCallout">
            <a:avLst>
              <a:gd name="adj1" fmla="val -74995"/>
              <a:gd name="adj2" fmla="val -6300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Zodpovězte následující otázk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Jaká bude převažující pracovní náplň této pozice v projektu? Popište nejčastější typy činnost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Na jakých konkrétních aktivitách se bude v rámci projektu podílet a jakým způsob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Jaké náklady (jiné než osobní a režie) se budou k dané pozici váza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HORIZONTÁLNÍ TÉMATA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BCAF3E-08A8-464D-8413-EF0C9FBB8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916280" y="1784520"/>
            <a:ext cx="4989240" cy="3727440"/>
          </a:xfrm>
          <a:prstGeom prst="rect">
            <a:avLst/>
          </a:prstGeom>
          <a:ln w="0">
            <a:noFill/>
          </a:ln>
        </p:spPr>
      </p:pic>
      <p:sp>
        <p:nvSpPr>
          <p:cNvPr id="646" name="Obdélník se zakulaceným příčným rohem 5"/>
          <p:cNvSpPr/>
          <p:nvPr/>
        </p:nvSpPr>
        <p:spPr>
          <a:xfrm>
            <a:off x="6905520" y="1951200"/>
            <a:ext cx="1611360" cy="35607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hrňte, v jakých klíčových aktivitách a jakým způsobem bude projekt ovlivňovat rovné příležitosti a udržitelný rozvo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KATEGORIZACE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5A5EC-BEDE-458E-A710-CCF7177B5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5" descr=""/>
          <p:cNvPicPr/>
          <p:nvPr/>
        </p:nvPicPr>
        <p:blipFill>
          <a:blip r:embed="rId1"/>
          <a:stretch/>
        </p:blipFill>
        <p:spPr>
          <a:xfrm>
            <a:off x="1330200" y="1784520"/>
            <a:ext cx="3760920" cy="19954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"/>
          <p:cNvPicPr/>
          <p:nvPr/>
        </p:nvPicPr>
        <p:blipFill>
          <a:blip r:embed="rId2"/>
          <a:stretch/>
        </p:blipFill>
        <p:spPr>
          <a:xfrm>
            <a:off x="1330200" y="3887640"/>
            <a:ext cx="4238640" cy="1690920"/>
          </a:xfrm>
          <a:prstGeom prst="rect">
            <a:avLst/>
          </a:prstGeom>
          <a:ln w="0">
            <a:noFill/>
          </a:ln>
        </p:spPr>
      </p:pic>
      <p:sp>
        <p:nvSpPr>
          <p:cNvPr id="651" name="Obdélníkový popisek 6"/>
          <p:cNvSpPr/>
          <p:nvPr/>
        </p:nvSpPr>
        <p:spPr>
          <a:xfrm>
            <a:off x="4776840" y="1784520"/>
            <a:ext cx="2579760" cy="715680"/>
          </a:xfrm>
          <a:prstGeom prst="wedgeRectCallout">
            <a:avLst>
              <a:gd name="adj1" fmla="val -43023"/>
              <a:gd name="adj2" fmla="val 116648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ýběr typu území – venkovská oblast, měst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bdélníkový popisek 7"/>
          <p:cNvSpPr/>
          <p:nvPr/>
        </p:nvSpPr>
        <p:spPr>
          <a:xfrm>
            <a:off x="5195880" y="2720880"/>
            <a:ext cx="2714760" cy="2857680"/>
          </a:xfrm>
          <a:prstGeom prst="wedgeRectCallout">
            <a:avLst>
              <a:gd name="adj1" fmla="val -123347"/>
              <a:gd name="adj2" fmla="val 4487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oučet částek za všechna zvolená prioritní témata v poli Prostředky z EU v Kč musí být roven částce v poli Strukturální fond v záložce Přehled finan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Monitorovací indikátor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67C351-679E-4923-82BD-F8FE98A6F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1"/>
          <a:stretch/>
        </p:blipFill>
        <p:spPr>
          <a:xfrm>
            <a:off x="1746360" y="1711440"/>
            <a:ext cx="4738680" cy="3633840"/>
          </a:xfrm>
          <a:prstGeom prst="rect">
            <a:avLst/>
          </a:prstGeom>
          <a:ln w="0">
            <a:noFill/>
          </a:ln>
        </p:spPr>
      </p:pic>
      <p:sp>
        <p:nvSpPr>
          <p:cNvPr id="656" name="Obdélník se zakulaceným příčným rohem 5"/>
          <p:cNvSpPr/>
          <p:nvPr/>
        </p:nvSpPr>
        <p:spPr>
          <a:xfrm>
            <a:off x="6615000" y="1770120"/>
            <a:ext cx="2071800" cy="3565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šechny indikátory jsou před vyplněny na nulovou hodnotu. Vyplňte pouze hodnoty relevantních indikátorů pro proje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Nezapomínejte vyplnit součtové i dílčí indikátory  např. muže/že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Elipsa 7"/>
          <p:cNvSpPr/>
          <p:nvPr/>
        </p:nvSpPr>
        <p:spPr>
          <a:xfrm>
            <a:off x="4808520" y="2825640"/>
            <a:ext cx="1428840" cy="55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VÝBĚROVÁ ŘÍZENÍ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6618D-14EB-46F6-B435-B37C98721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897200" y="1736640"/>
            <a:ext cx="4147920" cy="3808440"/>
          </a:xfrm>
          <a:prstGeom prst="rect">
            <a:avLst/>
          </a:prstGeom>
          <a:ln w="0">
            <a:noFill/>
          </a:ln>
        </p:spPr>
      </p:pic>
      <p:sp>
        <p:nvSpPr>
          <p:cNvPr id="661" name="Obdélník se zakulaceným příčným rohem 5"/>
          <p:cNvSpPr/>
          <p:nvPr/>
        </p:nvSpPr>
        <p:spPr>
          <a:xfrm>
            <a:off x="6342120" y="1881360"/>
            <a:ext cx="2146320" cy="36637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informace 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o chystaných nebo již probíhajících výběrových řízení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této záložce budou aktivní pouze v případě, že jste na záložce „Projekt“ zvolili příslušnou volb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E50862-4814-4B2D-A3E0-67DA193FC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6" descr=""/>
          <p:cNvPicPr/>
          <p:nvPr/>
        </p:nvPicPr>
        <p:blipFill>
          <a:blip r:embed="rId1"/>
          <a:srcRect l="3901" t="10139" r="30472" b="56434"/>
          <a:stretch/>
        </p:blipFill>
        <p:spPr>
          <a:xfrm>
            <a:off x="1152360" y="1770120"/>
            <a:ext cx="7008840" cy="2759040"/>
          </a:xfrm>
          <a:prstGeom prst="rect">
            <a:avLst/>
          </a:prstGeom>
          <a:ln w="0">
            <a:noFill/>
          </a:ln>
        </p:spPr>
      </p:pic>
      <p:sp>
        <p:nvSpPr>
          <p:cNvPr id="524" name="Podnadpis 7"/>
          <p:cNvSpPr/>
          <p:nvPr/>
        </p:nvSpPr>
        <p:spPr>
          <a:xfrm>
            <a:off x="2071800" y="4529160"/>
            <a:ext cx="5716440" cy="10778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4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 úspěšném přihlášení se zobrazí nabídka 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. Slouží jako seznam/přehled všech vytvořených žádostí, které žadatel vytvořil či k nim má přístup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UBLICIT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F0B2D-3D92-4920-B961-EF0AAB6E3C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" descr=""/>
          <p:cNvPicPr/>
          <p:nvPr/>
        </p:nvPicPr>
        <p:blipFill>
          <a:blip r:embed="rId1"/>
          <a:stretch/>
        </p:blipFill>
        <p:spPr>
          <a:xfrm>
            <a:off x="1382760" y="1582560"/>
            <a:ext cx="5898960" cy="4040280"/>
          </a:xfrm>
          <a:prstGeom prst="rect">
            <a:avLst/>
          </a:prstGeom>
          <a:ln w="0">
            <a:noFill/>
          </a:ln>
        </p:spPr>
      </p:pic>
      <p:sp>
        <p:nvSpPr>
          <p:cNvPr id="665" name="Elipsa 5"/>
          <p:cNvSpPr/>
          <p:nvPr/>
        </p:nvSpPr>
        <p:spPr>
          <a:xfrm>
            <a:off x="1392120" y="3314880"/>
            <a:ext cx="121608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Elipsa 6"/>
          <p:cNvSpPr/>
          <p:nvPr/>
        </p:nvSpPr>
        <p:spPr>
          <a:xfrm>
            <a:off x="5022720" y="3314880"/>
            <a:ext cx="121464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DALŠÍ PROJEK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81C3B4-1181-43BF-8B7B-A4512B653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1246320" y="1784520"/>
            <a:ext cx="5960880" cy="3551040"/>
          </a:xfrm>
          <a:prstGeom prst="rect">
            <a:avLst/>
          </a:prstGeom>
          <a:ln w="0">
            <a:noFill/>
          </a:ln>
        </p:spPr>
      </p:pic>
      <p:sp>
        <p:nvSpPr>
          <p:cNvPr id="670" name="Obdélník se zakulaceným příčným rohem 5"/>
          <p:cNvSpPr/>
          <p:nvPr/>
        </p:nvSpPr>
        <p:spPr>
          <a:xfrm>
            <a:off x="7207200" y="1784520"/>
            <a:ext cx="1690560" cy="4275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další projekty, které realizuje žadatel v oblasti rozvoje lidských zdrojů a které jsou financované z veřejných zdrojů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projekty, které jsou relevantní vzhledem k tomuto projektu a js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realizované nebo připravované v době podání žádos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ŘÍLOH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6DEC66-DD1D-44D9-9BDB-6C61351AB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7" descr=""/>
          <p:cNvPicPr/>
          <p:nvPr/>
        </p:nvPicPr>
        <p:blipFill>
          <a:blip r:embed="rId1"/>
          <a:stretch/>
        </p:blipFill>
        <p:spPr>
          <a:xfrm>
            <a:off x="1855800" y="1701720"/>
            <a:ext cx="4325760" cy="3870360"/>
          </a:xfrm>
          <a:prstGeom prst="rect">
            <a:avLst/>
          </a:prstGeom>
          <a:ln w="0">
            <a:noFill/>
          </a:ln>
        </p:spPr>
      </p:pic>
      <p:sp>
        <p:nvSpPr>
          <p:cNvPr id="674" name="Obdélník se zakulaceným příčným rohem 5"/>
          <p:cNvSpPr/>
          <p:nvPr/>
        </p:nvSpPr>
        <p:spPr>
          <a:xfrm>
            <a:off x="6365880" y="1701720"/>
            <a:ext cx="1781280" cy="3870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Elektronickou přílohu vložte kliknutím na tlačítko Připojit, zde vyberte požadovaný  soub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řílohy s povinným podpisem naskenujte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a přiložte jako obrázek jpg, nebo soubor p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Každá příloha musí mít zaškrtnuto buď doložena, nebo nerelevant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rola žádosti a finalizac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72FE4E-73D0-4A38-87E5-940FF5451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2" descr=""/>
          <p:cNvPicPr/>
          <p:nvPr/>
        </p:nvPicPr>
        <p:blipFill>
          <a:blip r:embed="rId1"/>
          <a:stretch/>
        </p:blipFill>
        <p:spPr>
          <a:xfrm>
            <a:off x="1596960" y="1784520"/>
            <a:ext cx="6510240" cy="2858760"/>
          </a:xfrm>
          <a:prstGeom prst="rect">
            <a:avLst/>
          </a:prstGeom>
          <a:ln w="0">
            <a:noFill/>
          </a:ln>
        </p:spPr>
      </p:pic>
      <p:sp>
        <p:nvSpPr>
          <p:cNvPr id="678" name="Obdélník se zakulaceným příčným rohem 5"/>
          <p:cNvSpPr/>
          <p:nvPr/>
        </p:nvSpPr>
        <p:spPr>
          <a:xfrm>
            <a:off x="1596960" y="4643280"/>
            <a:ext cx="6510240" cy="1006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Kontrola se spustí přes tlačítko Kontrola, automaticky proběhne i při spuštění Finalizac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Bez doplnění všech nedostatků, na které Kontrola upozorní, nelze Finalizaci žádosti provést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Kontakt - Benef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help_opvk@msmt.cz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Děkujeme vám za pozornost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574AC8-7141-48D6-83C6-CA908925A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vorba nové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EFC613-06E5-41C4-9963-F7369597D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1330200" y="1770120"/>
            <a:ext cx="6458040" cy="8906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C:\Documents and Settings\kraselovskyp\Dokumenty\Obrázky\1.1.bmp"/>
          <p:cNvPicPr/>
          <p:nvPr/>
        </p:nvPicPr>
        <p:blipFill>
          <a:blip r:embed="rId2"/>
          <a:stretch/>
        </p:blipFill>
        <p:spPr>
          <a:xfrm>
            <a:off x="1330200" y="2660760"/>
            <a:ext cx="6458040" cy="1684080"/>
          </a:xfrm>
          <a:prstGeom prst="rect">
            <a:avLst/>
          </a:prstGeom>
          <a:ln w="0">
            <a:noFill/>
          </a:ln>
        </p:spPr>
      </p:pic>
      <p:sp>
        <p:nvSpPr>
          <p:cNvPr id="529" name="Podnadpis 7"/>
          <p:cNvSpPr/>
          <p:nvPr/>
        </p:nvSpPr>
        <p:spPr>
          <a:xfrm>
            <a:off x="1928880" y="4344840"/>
            <a:ext cx="5344920" cy="1114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 nabídce jsou různé typy výzev. Vždy je nutné vybrat správný typ výzvy podle druhu projektu. Úplný název výzvy v Benefit7 je vždy uveden ve výzvě samotn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Elipsa 7"/>
          <p:cNvSpPr/>
          <p:nvPr/>
        </p:nvSpPr>
        <p:spPr>
          <a:xfrm>
            <a:off x="2820960" y="3321000"/>
            <a:ext cx="496728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29840" y="108216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dentifikace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D5A77-6F34-4D51-9850-31872DF64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2" descr="C:\Documents and Settings\kraselovskyp\Dokumenty\Obrázky\1.1 - 2.bmp"/>
          <p:cNvPicPr/>
          <p:nvPr/>
        </p:nvPicPr>
        <p:blipFill>
          <a:blip r:embed="rId1"/>
          <a:stretch/>
        </p:blipFill>
        <p:spPr>
          <a:xfrm>
            <a:off x="1330200" y="1774800"/>
            <a:ext cx="6458040" cy="2625840"/>
          </a:xfrm>
          <a:prstGeom prst="rect">
            <a:avLst/>
          </a:prstGeom>
          <a:ln w="0">
            <a:noFill/>
          </a:ln>
        </p:spPr>
      </p:pic>
      <p:sp>
        <p:nvSpPr>
          <p:cNvPr id="534" name="Podnadpis 7"/>
          <p:cNvSpPr/>
          <p:nvPr/>
        </p:nvSpPr>
        <p:spPr>
          <a:xfrm>
            <a:off x="1728720" y="4592520"/>
            <a:ext cx="5859360" cy="9590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yplňujte záložky v takovém pořadí, v jakém jsou řazeny za sebou. Při přeskakování záložek nemusí být všechna pole zobrazena nebo se nemusí zobrazovat číselníky.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Průběžně UKLÁDEJTE každou záložk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Elipsa 7"/>
          <p:cNvSpPr/>
          <p:nvPr/>
        </p:nvSpPr>
        <p:spPr>
          <a:xfrm>
            <a:off x="3240000" y="2292480"/>
            <a:ext cx="3313080" cy="669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Elipsa 9"/>
          <p:cNvSpPr/>
          <p:nvPr/>
        </p:nvSpPr>
        <p:spPr>
          <a:xfrm>
            <a:off x="955800" y="4148280"/>
            <a:ext cx="2046240" cy="25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"/>
          <p:cNvPicPr/>
          <p:nvPr/>
        </p:nvPicPr>
        <p:blipFill>
          <a:blip r:embed="rId2"/>
          <a:stretch/>
        </p:blipFill>
        <p:spPr>
          <a:xfrm>
            <a:off x="4056120" y="4248000"/>
            <a:ext cx="2305080" cy="304920"/>
          </a:xfrm>
          <a:prstGeom prst="rect">
            <a:avLst/>
          </a:prstGeom>
          <a:ln w="0">
            <a:noFill/>
          </a:ln>
        </p:spPr>
      </p:pic>
      <p:sp>
        <p:nvSpPr>
          <p:cNvPr id="538" name="Šipka dolů 12"/>
          <p:cNvSpPr/>
          <p:nvPr/>
        </p:nvSpPr>
        <p:spPr>
          <a:xfrm rot="5400000">
            <a:off x="5103720" y="3913200"/>
            <a:ext cx="534960" cy="976320"/>
          </a:xfrm>
          <a:prstGeom prst="downArrow">
            <a:avLst>
              <a:gd name="adj1" fmla="val 50000"/>
              <a:gd name="adj2" fmla="val 50002"/>
            </a:avLst>
          </a:prstGeom>
          <a:noFill/>
          <a:ln w="1260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30200" y="914040"/>
            <a:ext cx="624384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PROJEK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9A830-3260-419F-8BA3-0015B2B21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8" descr=""/>
          <p:cNvPicPr/>
          <p:nvPr/>
        </p:nvPicPr>
        <p:blipFill>
          <a:blip r:embed="rId1"/>
          <a:stretch/>
        </p:blipFill>
        <p:spPr>
          <a:xfrm>
            <a:off x="1922400" y="1555920"/>
            <a:ext cx="4508640" cy="2438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C:\Documents and Settings\kraselovskyp\Dokumenty\Obrázky\1.1 - 3.jpg"/>
          <p:cNvPicPr/>
          <p:nvPr/>
        </p:nvPicPr>
        <p:blipFill>
          <a:blip r:embed="rId2"/>
          <a:stretch/>
        </p:blipFill>
        <p:spPr>
          <a:xfrm>
            <a:off x="1927080" y="2660760"/>
            <a:ext cx="4626000" cy="2884320"/>
          </a:xfrm>
          <a:prstGeom prst="rect">
            <a:avLst/>
          </a:prstGeom>
          <a:ln w="0">
            <a:noFill/>
          </a:ln>
        </p:spPr>
      </p:pic>
      <p:sp>
        <p:nvSpPr>
          <p:cNvPr id="543" name="Elipsa 6"/>
          <p:cNvSpPr/>
          <p:nvPr/>
        </p:nvSpPr>
        <p:spPr>
          <a:xfrm>
            <a:off x="2925720" y="4303800"/>
            <a:ext cx="3938760" cy="531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Elipsa 7"/>
          <p:cNvSpPr/>
          <p:nvPr/>
        </p:nvSpPr>
        <p:spPr>
          <a:xfrm>
            <a:off x="3225960" y="5013360"/>
            <a:ext cx="1468440" cy="322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Elipsa 9"/>
          <p:cNvSpPr/>
          <p:nvPr/>
        </p:nvSpPr>
        <p:spPr>
          <a:xfrm>
            <a:off x="4694400" y="5013360"/>
            <a:ext cx="1469880" cy="322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ŽADATEL PROJEKTU 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3E689E-394C-4300-AA14-DC36C4C41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Obrázek 5" descr="1.JPG"/>
          <p:cNvPicPr/>
          <p:nvPr/>
        </p:nvPicPr>
        <p:blipFill>
          <a:blip r:embed="rId1"/>
          <a:stretch/>
        </p:blipFill>
        <p:spPr>
          <a:xfrm>
            <a:off x="2633760" y="1658880"/>
            <a:ext cx="3714480" cy="3987720"/>
          </a:xfrm>
          <a:prstGeom prst="rect">
            <a:avLst/>
          </a:prstGeom>
          <a:ln w="0">
            <a:noFill/>
          </a:ln>
        </p:spPr>
      </p:pic>
      <p:sp>
        <p:nvSpPr>
          <p:cNvPr id="549" name="Obdélníkový popisek 5"/>
          <p:cNvSpPr/>
          <p:nvPr/>
        </p:nvSpPr>
        <p:spPr>
          <a:xfrm flipV="1" rot="10800000">
            <a:off x="6214680" y="2927880"/>
            <a:ext cx="2639880" cy="1214280"/>
          </a:xfrm>
          <a:prstGeom prst="wedgeRectCallout">
            <a:avLst>
              <a:gd name="adj1" fmla="val 172361"/>
              <a:gd name="adj2" fmla="val 5378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ástka, která připad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 celkového rozpočtu na žadate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bdélník se zakulaceným příčným rohem 6"/>
          <p:cNvSpPr/>
          <p:nvPr/>
        </p:nvSpPr>
        <p:spPr>
          <a:xfrm>
            <a:off x="6156360" y="4221000"/>
            <a:ext cx="2714760" cy="1357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Žadatelem je hlavní odpovědná osoba za proj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lužba ARES ošetřující IČ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 případě, že by validace ARES neproběhla správně a načtená data neodpovídala skutečnosti je nutné zařídit opravu dat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špatném názvu subjektu je třeba obrátit se na Registr ekonomických subjektů (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zso.cz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chybě v adrese na UIR- ADR (Ministerstvo práce a sociálních věcí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4FFE1-CD1E-4072-A7E0-4C7FED1C6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29840" y="1064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ŽADATEL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6946F1-8A2F-4E9A-9EDB-625AC7169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2075040" y="1757520"/>
            <a:ext cx="4713120" cy="3797280"/>
          </a:xfrm>
          <a:prstGeom prst="rect">
            <a:avLst/>
          </a:prstGeom>
          <a:ln w="0">
            <a:noFill/>
          </a:ln>
        </p:spPr>
      </p:pic>
      <p:sp>
        <p:nvSpPr>
          <p:cNvPr id="557" name="Obdélníkový popisek 5"/>
          <p:cNvSpPr/>
          <p:nvPr/>
        </p:nvSpPr>
        <p:spPr>
          <a:xfrm>
            <a:off x="6786720" y="1757520"/>
            <a:ext cx="2193840" cy="1957320"/>
          </a:xfrm>
          <a:prstGeom prst="wedgeRectCallout">
            <a:avLst>
              <a:gd name="adj1" fmla="val -85736"/>
              <a:gd name="adj2" fmla="val 5504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Elipsa 6"/>
          <p:cNvSpPr/>
          <p:nvPr/>
        </p:nvSpPr>
        <p:spPr>
          <a:xfrm>
            <a:off x="3289320" y="4143240"/>
            <a:ext cx="3726000" cy="511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04T07:21:41Z</dcterms:modified>
  <cp:revision>75</cp:revision>
  <dc:subject/>
  <dc:title>Titulní strana – Titulek</dc:title>
</cp:coreProperties>
</file>