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32B4A-3E41-434E-B209-88E698872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8DFE5-D5D3-4C5C-856E-D448D7729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62498-C991-480E-A7F5-53A724423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DD6-8ACC-41C5-8911-7FB52C86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7AE-D633-4DBE-9AA7-CC2FEB12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4CE10-E190-4C3D-8ECB-E72D5F04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22FB7-3FD3-40CE-8969-ED80A6BC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6A269-1EA0-4B3A-8560-11E4DFA2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64359-5117-43F2-95F5-BFD7F52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A29C2-92C3-46C5-B2AA-C4F2165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D9C20-6375-4330-B83E-3A6EBBB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2D1BB-AFCD-447D-9217-AE7ECA10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7C796-E237-4CA7-898C-FE2CC165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A74C5-B289-4B01-AA34-BAD0D66A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A8977-AC26-4556-A406-B3F45853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CB7-4944-4F09-9CDA-25B12866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EA117-8771-4D11-9922-93A0FF3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7D10A-C6B2-43FC-991C-06386821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3D094-6F54-4D03-A9AC-6574B244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02379-D449-425C-8FA1-5603D0E7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AA70E-6D1A-4A55-845A-097CC0C3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3DC00-8991-4D9D-9C88-705096E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1524D-0B17-4025-B8F6-396F056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F6889-37DF-4D25-9969-44194F4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89238-6F33-4D29-A426-ADE8FA24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21DA5-7C1D-414F-A8AF-663C0590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F02-D250-48C0-8E80-0972C5E6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946B2-44F5-436F-980C-9D4AA658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4BE3F-9CA3-410D-8686-83DFA3C1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4C5AA-8C7A-4900-A29C-6523B214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82E9E-ECC0-417A-922A-392EE1D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6090E-508E-42BA-8DCD-3CAAA639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5E783-6C3D-4AB4-9B86-7C538C22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17ED7-7AC9-4FFC-99D4-EB70B90F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5DBED-18F3-4637-9516-7EBAD09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BBF68-D68A-43D8-B86A-51D60B2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A6234-D8B4-4718-83A7-9495240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170C-FD13-40A6-9D8A-02328EF2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90345-3B0D-491C-AAF2-9A674780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B753F-CAEE-43D9-B126-0E057195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7BAA9-7888-4FAA-9636-CA6AFC9E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37373-5EBA-4218-A675-8FE2DAA6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15790-26AE-4744-9212-260D5926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0DD70-0EAD-41EE-AD45-5C3304F4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287FB-6D5B-4439-94B7-ABC7AA12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A4CCF-8B2B-4BF5-A689-AF32386F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4B88A-A81D-472C-9F1E-E49ADC69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BB3A3-D91D-4345-B9D3-8F1F11B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B4AD-811D-4AE9-9CA7-E178B69A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91CB7-3602-40F1-9853-A996CBA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731CC-2A68-4A84-94D1-F08A7727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9EDD8-5B69-4229-B5F7-45E4E54C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7ADB8-BD0C-4B4E-8A4A-9F094060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1B1C1-2E0A-424C-9860-5BABA04C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D178-9ECF-4C7A-88B4-9FBCA5EC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A70D-A4EF-47FA-8064-1BB29AD3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CC1-FA15-45E2-8390-31BAE065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64C1-70CD-4AA6-8216-0B54A6F2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57DB-E5CA-4051-AA8F-E38F389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45B-D00B-4DE7-BF4F-1E673CCD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391-3FE3-4BCC-9F63-6EC7337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1C43-D41D-471F-9E55-3A22A5A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8075-47CC-458A-B249-C981998D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2B70-A2DA-4F42-8AFA-2B0F4023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C579-A65C-49B8-9A2F-44300472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8010-AB81-4047-8F1F-43BF16CB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CEE9-6DAA-469E-AE40-0B5BF7E3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72B5-2E19-4A57-B4CA-0F2C7C32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B9A2-9C7D-4A1D-B0F0-F9FAA20B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4053-D807-4B3F-9413-6089B930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22B-BC3F-421B-81F3-AEAF27BA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CA1B-FC7A-4C71-9224-E4BB58C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C108-FC85-4E09-9AE1-2E24A885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EB3E-1A18-4610-A895-D9BD2DC9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503A-9307-4319-A6B4-98184BF1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3384-1DDD-4D06-AB77-F91FA127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BF3C-6511-4349-AFD0-210AE293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F804-2A88-4551-B203-612F9A43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5359-0959-4336-AF29-8476B1FF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666D-E90F-474B-BE0C-FBABE233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CDD33-6F83-401A-A0EA-CFDFE741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593-CB87-4904-9CDB-73894EA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086EC-DD43-4BEF-AFAC-31A2B396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D3F5-807A-44AF-BF1C-1E02CAED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8A88-68C0-4AE0-8D3D-4722CAC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5093-FC94-4347-B716-5836B6D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EB5F4-230B-4CB3-8B51-62FD3476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B63E-8B7B-4718-BD75-A26755D2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C33D-301C-4607-9D38-A419886A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71AE-4296-4D94-9EBF-96A47865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397A-E3F8-435D-A683-085C529F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5216-5EB8-4612-BF14-F5C362E5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7B6-E74E-4CB7-A146-A6C5C84F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2A29-034B-4118-9860-1A8D1222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C6CEF-838A-4E21-8644-F964274C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2B594-C10D-4DFE-8B9C-6F8DACD9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61AE2-4B6A-4748-B424-C623ABEE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DCFC-E04C-477B-88C8-87849486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A5989-36BC-4435-B83F-CEC0B390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10097-F85B-4777-86B8-348BBD2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CE4E-9420-4CAB-A7A1-CC92C1E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93FD-99FA-4C76-9812-CE10E24C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73B5D-F283-44E7-9561-C744F9D6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113-E44D-4E88-AD2F-B5C07F41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21AF2-51BF-44AD-9C3E-58661F7A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B5D1-02BD-4E1A-BCD2-ED59638B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7C7F0-6E7E-4117-8AF9-36F3DD33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2841D-9FC2-46E8-81C6-AEA3359E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C0372-B20B-4390-9799-CA2C8B9C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37139-F2BF-4050-B5E9-DE269514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801FA-91AD-416C-A3F6-6001A007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1FE61-DE23-4BE5-8653-1771AE1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CA1A-8B15-4C57-8839-DA0E5AA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441E-77BE-416A-9BF5-DAB1D60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D14-AA71-4B03-8F0E-FA93070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5FEEB-7A54-4D6A-BE3B-314E0207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C870-1A5A-4085-8E08-8232DD81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DC654-FC22-4840-8373-D26299E1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4BB4-00E8-4755-A1E8-183E337B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826B0-946F-4F3F-B8CC-3C51A8A4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15FF8-5637-4AAD-BD42-D1865CE4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9933-A5E5-4BFB-AFAE-691532E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B526F-EE03-4247-932B-F95B50C0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FC4D5-1819-44F0-BA2E-5862FE95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21513-72E2-45FC-9F1E-5F724775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E68-A0C0-4EDE-911E-45FBE5B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63E69-9299-4F7D-860C-E2B3434E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DD981-2E63-41CD-A0E1-9B9C7FDA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BDCB-BFD7-41B1-BAE5-9BEC3897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963EB-5FB5-4D5B-8E4C-2DD83A7E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4380-7E5A-4B76-9314-01EB25FE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0DA2C-26F1-471A-8F8A-BE625E72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E8D0-C7F0-4B32-AB89-C9F63A3E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14AC1-AC4B-4ECA-9EE3-3A58997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944A-C593-40AE-9A8D-B7B677CE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7510D-D5DB-4AD0-9E5A-20D0C69A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49E-6470-41FC-8115-4D44CB6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439E9-9394-4A92-A069-D03E1531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8EE0-DD49-4E03-92E9-C66F0A6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A596D-18B6-4CBE-860A-94AAE42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AD9A8-2729-4064-865B-780E2D55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A5BD0-96FF-453D-BE4A-40B008F9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82C4-7152-4A98-8E6F-C9D6CCAB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C13C9-7468-495A-920E-7AB9AC61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9A085-8E8B-4050-A8D7-81F59A82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8344A-4ADC-4A49-8DDC-C527609A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8012B-A845-46E0-96D8-E98A22C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9AD40-27F6-4C73-B0CC-3458B27782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55834-665E-43B2-B1FE-C6E4F2279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74B9AEC-EE92-4CCA-BFC9-7816F51F2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AB7E7-5B37-4E0F-B972-79AE2F6987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9A47A-9363-419D-837B-3D97776DA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231C9-9525-4EDB-B5D8-B265D65C7D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471FC-9634-4BD8-A8F1-6FBB5FF01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2FE78-E5D7-4282-9224-225F0B307E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F17AB-750D-4EC6-91BA-515C8E94B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4C033-5F4D-456B-AEAE-C5AC0B6F72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CC6C2-BDE9-4767-AC87-0E0F0F573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745E8-5BD4-4AF8-B329-9C2677F16B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F7941-27B5-433E-86F5-26DCB7C3B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C5D0B-F418-4AC4-B5CF-F78458891F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F792D-FCB2-4CB7-AB07-B558135D0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7D6F1-6B31-4364-ADF8-6C84276B21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784CA-906E-4BDE-AA56-698CCE470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CCE67-E5E2-414B-93A7-214F24A5EC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204CB-6FFA-479E-836B-17600C70F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9B132-4B9D-413B-8CCD-38B63B1396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3EEB8-923C-4DA3-8DF1-6F61C0626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C2BD1-C41E-4002-B58C-0A590F0917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29724-4819-4D8D-AE31-60E86FFBA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1104D-6407-4A30-8954-B25D59BBD7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F71E7-B02E-44D4-AD02-E0E1686B5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315E7-88A5-463B-89BF-15EF7E94F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5565F-A985-4D8F-98D8-5CB2E8DCA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F9727-286D-4F2A-9653-59C37379D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43EE6-F15B-490A-92FE-00DF86583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43E96-E1DA-4275-9991-AB5EB7E08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C35EF-008E-469D-93B8-A940AF4C8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5043B-92F7-4248-80F0-15243FBD3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F0640-455D-4293-8164-9D4EF480F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9670B-F3D5-460A-9788-4F8988968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A9B11-29BA-4E9B-A336-36ECA9671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17418-A2E6-4FB5-AF27-CC354D38D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899E1-B115-4C30-9652-7FD726AD5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98BF2-837E-4D72-8EA9-80025AA25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0515A-BC2A-4E1D-9368-96AC01DC3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3D71C-5157-4307-8DA1-0374A7B14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1040C-DE49-4A87-A516-9BE33E939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EF57A-224D-4916-A88B-470B9F433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92C75-6052-4E37-92DD-D2D141AA3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69E55-3FFB-4120-B8DE-8CF541AC7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AA20C-3C15-443A-A295-5CBD56978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25165-1FC9-4C45-8C4E-FABDBB0CA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FC69F-02DA-4C63-8EB5-F29D1F8EB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BF8C3-273F-4B7A-8A07-B38D1AD9B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71981-03B3-4706-AE7B-528AB822E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363F6-C129-472D-9971-2E8519F51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5E822-DCA5-40DF-AA97-F4527D29D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E2C2E-425F-44C9-8ACD-B1084ADBF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CF3FE-A667-416E-A638-00E8886EC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ADF54-46EE-4066-A2A8-84F89892D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8B064-538C-418E-9B57-9A899ABB5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8480E-1266-4903-9075-7F1D927D6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A83EE-8B0F-46EC-8469-AF10432C0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7CD80-C5AF-437C-BDAE-B6ADA55FF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E24B6-C6AC-4F62-93A4-6C6301832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07:31:58Z</dcterms:modified>
  <cp:revision>45</cp:revision>
  <dc:subject/>
  <dc:title>Titulní strana – Titulek</dc:title>
</cp:coreProperties>
</file>