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E6C29-9A36-4FD4-98AC-0F8C680BE4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C3DB8-C266-4C81-A0C5-12C4215ED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2A83E-6BA5-4F78-A4C0-517F467FB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00705-C368-4BC8-B90F-DB7C74F705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33305-E135-470A-8465-D02755C20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0A69C-E0AF-4E48-815C-205B7D365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EC1BC-D3E9-4BB9-9B01-EA79EDD59E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D192B-099F-462F-8361-699D8FD1F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F039E-17E1-4124-A054-4A8205C4DC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72A6D-AE5D-4709-8422-3B3497FDD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87ECC-5E08-4846-84C8-E5B954A2B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92DEB-B21C-46A6-8A5F-1C0CCAF17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7FF7AC-D1E8-458B-B805-CC08EB29B8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FDD549-9D06-47AB-B3F3-8412FB05AA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7E2C66-BAA4-4C6D-A0E5-07A964D8DA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F6438B-55DE-4359-AD52-4065CBF514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292902-19D3-4C00-8BF4-A523861FEA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95CEA1-2D5B-4117-BC4E-A575A4688D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AA136A-9CD6-486A-A974-0051A9ABA5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F6214C-1D07-4BD4-8B78-578D747268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750EF9-430D-412D-A695-613FFFE61B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86E6DD-2842-4783-AC56-7C803FAFD1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569C1-B224-42FF-AA38-DFEAADC55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D654CC-808E-4DC5-BB8E-9017DBDA13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73E04B-FF0A-4A34-A9DC-C6CE36980C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DAD680-AE8D-4EA3-9B66-7226A8C34F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F830E6-C2E5-491E-9C81-9A72528BC7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00673A-0312-4DBE-8F68-0D4E52CC48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0C319F-D5FA-475F-9E48-5F15DABFA0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77C966-6292-4D45-924C-A820F35251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CFC8A1-72D7-4076-9A55-9D55A17AF3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02C011-3444-4B2C-8782-0D32F433F5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AD42C0-F0CF-454B-BD7A-B0056051F4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5EC4F-784D-48F9-87FB-F0D061B1A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B0AF177-B796-4B52-B917-2B9A894749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211E22-FF2F-49D3-80B9-842604B9E0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A60468-8CBB-4D3F-9254-BD27EB2570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10F189-59A2-46E3-B117-F7F241DC01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AF30C1-D7A4-4B24-BE2C-4A51D3160A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ECCFDE-33BA-4FDB-8A2C-D6D8B4A503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D3D6A2-4195-423A-A83A-D5AD014EC4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5DC4B8-B9E8-4DE9-81B6-68D9603502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02B4A4-024E-4661-8831-F1706A77EB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251C7A-801C-43B1-A5BA-3B1C01A875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608E5-A51A-4D5D-BF56-DED901D60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9FC120-C834-4684-8C62-D29981685E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14B6FC-DA92-4109-9D1E-D69C6D16E1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70AA7D-908C-402E-B3C1-B9F85E6FFF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59FE9A-17AF-4C66-B364-761C1D09F2C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CE8C46-D039-4A05-B6CB-F584AA9B6A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0AC836-CC44-4636-98A4-2672AA98F6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7ABD17-72AA-4AF3-8985-ED441088C1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9EE650-C3D2-43D1-9A09-56BC756B2B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EF27D8-B996-4723-BB94-8542BF34B6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B0340F-E93C-468D-A68F-26E38DA1C8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34DF2-3DA5-45B6-B716-D1FA66032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3986E0-AB1C-4863-A3C6-9C08C1D1DD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06578E-70A9-4A22-B64F-21BC9F7F09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9A9127-836D-4241-90D7-9BCDAF5BA7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EB89861-E6B7-4DB1-8E17-1B9EE2548A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8D19C8-AED4-4059-99A3-CA95A1F58DB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F027F-9F47-4E75-9DB7-2F710BF91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743CE-3872-4124-9D88-8513F76E3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4EB9D-DEA1-40D6-8C29-691683640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01A2B-67D1-410C-AD22-26F155392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E5C05-9C9B-461A-9949-E8F7D1B1B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35F87-9ACC-4168-803A-00EAD9002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E7EA9-5B5A-455B-9746-9FA67AD29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73319-F364-4399-8C4E-6C03B61AA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7B82A-89A0-4FBA-99F7-9E50E7CAF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5760E-E547-4804-B1E2-28603FB06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963F5-EECC-4808-BC3D-5F10BA917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861BD6-26E2-43E4-9085-D3C5E80894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65FD17-5639-4547-B393-A185D8AEB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5F9AED-8A29-460C-A5D1-AAD030940D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48B86-54EC-4CE5-88BF-C0919F7361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D2F2B-75DC-4C74-A384-CDFE95253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17BEC-9B40-44D2-A613-4A3FC206F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015D2-0E27-40EC-A1C6-CD3CC24EB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E3BE1-85E7-42B6-9AD6-3F3A3290E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99C6C-DA99-4276-A73F-05D004305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89F6E-FD21-4256-9C72-3A41F8557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2E7D4A-186D-480D-A5C9-594E9FF03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07DDA0-35A8-4A06-A353-F404B8DD74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11E87C-6A6D-456F-B392-7C1366139D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4EFF0D-CDC6-4EEB-A661-DBABB5200F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021F62-FE85-4C7B-9D8B-C9694C7440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719F00-61D7-494C-AC56-A571199465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758C5-E44F-4044-A821-588332749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229AB0-F526-49AD-9BFA-6B69501FD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018DD-3682-474F-9C2C-45E8C629E0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397C8-1BF1-4F31-B947-01F93E67B8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5E662-AFA7-44F9-9477-88DB4456C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F2AED-FE7C-4A54-B441-3446BFC901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DBBCAF-8ADB-460B-9047-4EA57D911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FE509C-CD20-4CC6-BAFB-9A1C5DD55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544B37-0961-4AF3-BD38-878FDE4A36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0ABD2C-8336-4986-8AA3-246EAEFF54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4C1F46-43E5-4229-9FE3-269ECD28AA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8BE70-3E08-4FE7-B681-A16CF7EDE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3DD20F-9083-46B3-A963-3AFE0271C4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806F5-59B0-4B38-B6D0-223558A584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458A88-2AF8-44F5-8B22-BC958258ED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E104C0-2608-44CB-BEA5-FD982C79C3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BB0D9B-D303-47E9-8D55-7EC8E94A20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44519-A02D-4C48-828F-8B83BA419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03129-3407-44D2-8CBB-C183ABE50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C2109F-BEA3-410D-9295-0B6A11DCC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B3FB87-F5E7-4669-A911-C538D28F7B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32216E-2B56-44FC-A518-68DC1404D8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F94B5-EEBC-438A-854F-C926ED505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5454D8-AD21-48D1-8D93-40AD3BF1F4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D46D85-F826-4D4E-8933-510E5A678C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6ADFDB-1B0D-47A2-94F5-669C32C19E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3B4930-9484-402F-8D7B-5E6860BA06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DC9BC7-17E5-41BE-B6FD-43A402C310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FD69A3-5E58-4049-B647-4DB1A8099C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43498E-AED5-453A-84D9-F9F677C7D2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1507A3-3985-46A2-9654-F35C33BBDD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BA2B79-D798-4F27-8219-254B72013E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6ACFD5-65FA-44E7-B5A5-DB6CF281F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C247B-371E-4104-87F6-9DBDB0CD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28F048-270E-4752-9639-CF74417A2F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69D90B-5EE3-4200-AF3C-5648CB9523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E95977-EADA-46DF-981E-9F3A425AFF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5952D7-1C72-466C-99E1-FBCB524427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D8EA4B-FCFC-450D-9C68-64C714ADDA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944CAE-CA29-40F0-B80A-3DAB69859C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427D97-9A5C-481A-B60D-6BB959EECC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DB340F-C634-48B7-A3F2-2FA1B0BC4A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62BB27-0EEB-4109-90A7-60631A3638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A9B73-4B33-4B53-AD69-AD06A3080F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3F09-6E25-456A-ACA9-8666B7ED4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E9A64D-022A-4F6A-8882-177ADF206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575D3A-8557-4FA4-B137-F572B7DFB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CC4EE-7CFA-43A3-A7AE-9A29BAAC3D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AB5DA1-4711-4764-82DD-5782A04F08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260839-F049-4D03-93F5-D6CDFA7599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784D64-C67A-45CF-B818-DEBD73525A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6730C0-4205-493E-9CE0-9D58B4D0FD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35D51D-EE8D-4531-837D-1967341E98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799327-859E-4722-A50E-CC133CDACF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401284-A84E-4969-8967-9FFC4DF7D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FB48-A771-4BFF-9B72-5C7C8A2EB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60A67F-367B-4A31-81A1-72FA0F1B16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CC2D1F-33E8-460F-8ED6-E1F616AE5F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0B6430-A8C9-478E-A539-28FB6B7521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F574F-1E7A-46B7-B8BA-F232685780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A02545-CFE8-4780-AEE5-E8F7AB49C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4FD02C-7DFF-4078-A381-6591232809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428AF0-61C7-497E-ACB0-14E3ACB9B5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47460B-CD8B-45EE-A21D-6B6B420C48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5276D5-C311-4E1B-BAA1-E33DCD8C51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2F124F-612D-4D6D-B099-BA01F6978A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9994F-49DE-4056-95AE-4BE5E1000A1F}"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0D3B3-17CC-445C-948C-45946E9A6C03}" type="slidenum">
              <a:rPr b="0" lang="en-US" sz="1200" spc="-1" strike="noStrike">
                <a:solidFill>
                  <a:srgbClr val="898989"/>
                </a:solidFill>
                <a:latin typeface="Calibri"/>
              </a:rPr>
              <a:t>&lt;number&gt;</a:t>
            </a:fld>
            <a:fld id="{E0770180-E9C9-4E8C-8A89-AA0DD11032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5AD12-24D9-49EB-AC80-445321634FD3}"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2CE73-E61C-462A-A82D-ED3EA5EBD3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19D71-A560-4FBB-A9CE-9E82E8CB7219}"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268B5-AB83-4398-90EE-A5E5E57763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A1330-9F29-4D3D-8473-C9FC9ECF7258}"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2E3D6-7218-45B1-883B-36A3B3CFB2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9C98A-9A69-4459-94C5-ABC7C1D59323}"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5F276-3783-4D22-82BC-5AC9D0A9ED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631C0-3225-49F4-A70D-CD375E3AE600}"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BB6D2-F1CF-4A0A-AB2E-6E2840B617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60C1D-D997-4A6A-B7C1-B65CFF69CEFF}"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E198E-7146-49D8-9CC9-DDC89D2A9C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776B3-234F-445D-BE32-094C3788C202}"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00104-3B25-4241-9440-157CA4BC3F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945AF-0913-4F7F-8E01-70953B7F1FE8}"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D5692-74E2-4FE6-ACFE-45B1A8D9DD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C7FCE-0B5B-48D9-B326-4CE52C878163}"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8C2C8-087B-4D94-A747-9E54CCBD28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18DDD-DDCF-42F8-933A-A5990646AB22}"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55146-2DF9-4EF9-833A-122E88CF58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ED17F-8D34-4288-A6E8-6D0A7F88ABBE}"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C81A9-0CA6-4BC8-98D5-15DF68E3E9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Praha</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28.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B0F0E-0347-4239-9406-222F1EF54C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C8B0E-3D8F-4140-B243-E5196B63A2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C0604-6284-4F58-B2C7-8382D20783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60134-22CA-4F39-B86F-006FF51FED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AA067-27DD-4C9B-BB46-B394A36034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883ED-74DA-401F-844D-70D1E097D5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EEA9F-70DA-402D-9D4F-97A135B076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78352-E680-4A31-8299-C779CA028B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2DB30-C7A4-4FCC-9F4B-0FE9700CB8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776EA-2E9D-4050-9B08-C717111605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2394B-C38F-40CA-902B-714D73DEFA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9CE89-7AFE-42EB-871D-2F70B4BE7A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1E63F-5BB3-4718-9921-9087F7B05B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03164-90F7-4E55-9311-EC34D81C75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4ABD1-E9E7-4AD9-95E8-47FF4CD2AD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44FBB-55EA-4EFB-9BFE-D8EA31AA65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844880"/>
        </p:xfrm>
        <a:graphic>
          <a:graphicData uri="http://schemas.openxmlformats.org/drawingml/2006/table">
            <a:tbl>
              <a:tblPr/>
              <a:tblGrid>
                <a:gridCol w="382680"/>
                <a:gridCol w="666720"/>
                <a:gridCol w="4228920"/>
                <a:gridCol w="585720"/>
                <a:gridCol w="1097280"/>
              </a:tblGrid>
              <a:tr h="11952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1884F-2132-4FA0-8F32-9FC9CF1608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F7424-2CFF-4789-8ADB-88C6779363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0EDBE-84F2-4F63-BF58-75BD546E99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B4756-6B5F-47E4-A37D-AF56634DFC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2816F-4AE5-4890-951B-AEA7A4CD03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1-01-06T13:29:26Z</dcterms:modified>
  <cp:revision>58</cp:revision>
  <dc:subject/>
  <dc:title>Titulní strana – Titulek</dc:title>
</cp:coreProperties>
</file>