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FBC2A-486C-4AFE-BFFB-E562260A0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2E7BE-63DA-4D48-A434-E8D446D27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A5F95-C69A-4A5F-874E-B12CDA691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EF3-CEDB-42B0-AC8C-6730694B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F8A-5EE2-450F-A9AA-E55A9563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3D72C-FC8C-4088-B292-FB0521FF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4304C-B1DE-482D-922B-0854B802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999D7-5AF5-4860-ABA9-B56500D7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67E94-0D75-470D-9205-5BF0DF6F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1BC7D-F876-4162-95BE-1552EC42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981DE-ECD6-4184-BA1F-A0547EF1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1E0CC-DA13-45B1-8B46-AA6FAB67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74887-2634-4B4B-9C85-918DCCD7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6E710-D717-4E7F-830C-27909111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D5848-627C-4CA7-9688-1C88476A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D16-FDDF-40BB-87CC-157293FB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CE915-AE2B-4E73-B8F3-30F18863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519EF-4398-40A1-A8D4-7C54FCA2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16933-E5B5-42C7-B789-AB11EA1C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8F1DC-B725-4CD2-930F-957B9278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96603-99D9-4F95-9F45-60BD45C4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CAA63-81F2-4051-9787-4AFF3DF5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D6EA0-F837-4CC8-8990-60055871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D5419-735A-4D35-A9E8-15D0CFDB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2E67F-5F26-41DD-B973-5C64C13E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97228-E269-4083-8E3C-177CBDB5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63D-8D7F-4BC6-AFD1-E119552B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B1382-0FA7-46EF-9F84-4EA81A92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E81C1-C1E3-4217-8A35-9B1754FB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01EE3-CE5B-4E6E-B4AC-7C133DCB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6D1EB-3889-4F2F-94CA-37CC715A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9DFC1-B4C6-41CB-9561-0F837749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FD3CA-1514-4A5F-9069-380FC7AD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2DC1A-5534-43B7-96AE-C4E16D94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64DDA-5533-4F86-9A1C-5854DCC1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FFF89-8BCA-4AB1-8C6A-69277A59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A63BE-02A8-4B43-89D7-5BE3F559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522E-15A1-456A-814E-85466023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9EE46-8063-4686-9079-51F0D16A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D2C73-230D-48D1-9064-0F3DE80F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F580B-BA98-43B5-9DE4-A3E02A8A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0E601-2996-497E-90BC-3FF490B0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352E2-20C3-4907-9FE2-AC1E97A2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BC14F-D90E-43D1-872E-5D7F79A6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02237-9A30-4404-BB09-A98FA1DC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D177F-0E73-4A64-9B06-5BE1124F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72260-2F74-496C-A8A3-EFD4C11E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6FFB4-2124-4359-9091-7AA85F18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AD7B-7C4E-451F-8319-768029C8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B6530-5B46-4BF9-AED6-D2346F79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95D61-C7EA-4FA7-8BF2-7DCC7BA0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967BD-88CC-4E3C-9BC0-0FFA8CAB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13F08-D2E7-4C3E-B4DD-F0950866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EFA16-51C0-45E2-B49E-DA66929E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429A-95F8-4D17-84EF-4B6F1219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21D3-4925-4F73-9E29-594680A4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B5BD-E831-4087-B989-7E97F6ED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4A7F-704D-4971-9BDE-0BC6A238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36AE-1977-4A76-97D2-2DF83138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DE1-E0E9-4CF3-9EF9-15981376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98B0-B027-4D42-9C6C-B7C144E6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236A-551C-435A-8D46-D5A079A0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209A-4D82-4317-94D6-17AA0235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E4C9-8421-4CDA-A07E-62AACA57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FE45-C2AC-4429-AD31-C7644BAA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5020-8B69-4E2B-ACC5-543D6CDB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F546-E8EF-4723-95DF-23CD031D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6C911-8DAD-4F79-9A77-402BE555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E3199-23FB-4C76-84E1-B3CA4223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ED66-8D2C-4914-8490-557746F7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28B-DB22-4F48-931B-B3838D05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3832-F2BF-47D4-82ED-AF20EA8C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37D37-5E05-45C8-8B0C-0D5B91B6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0089-2247-4BC3-B64D-68CD650D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E0B5-21B2-4750-B087-09AD06CD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A60A7-A054-4C02-957C-3D44E74B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F273-8F87-4117-BB31-DD5ACC2F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6DBE-9C39-4468-9002-EFE0FBA5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1844C-FAAD-4FC7-B9C9-020BF455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72B01-F6B2-4A27-BE36-A9A256DA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68ED5-7807-4E93-AAB8-0F909A5E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C9E-6CDF-4E52-883F-6A3C6F8A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0A1BB-A039-4760-BE6D-E0562818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37140-E23E-43F6-BCAB-A02F5B86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CD120-6578-416B-8B5F-DDD53FA0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0E343-7E3A-43E7-B63A-7CCBB112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835F1-BB8E-4F26-A4CA-3DC11700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C4B97-9A79-464F-B160-C256543B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48DB1-8D8B-4D18-8F53-28CBA4C0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E4F5A-5EF1-4363-AEC1-F81064F6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66966-065B-4CD5-AE4B-8A8E99F8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5CD6F-035E-4AE0-92CD-00B706A1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17C-89A4-47A8-9736-1BD1BA39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DF299-AE54-4704-8527-2E16DE11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FDB31-2B06-497E-81F7-8F6D8A26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BAC14-8AD8-42B3-9C2D-ED331D30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104B6-A4F7-4DBF-B4E7-98E12702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0CD3E-72DF-460E-9491-976B17C2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A155F-4AC3-4CED-9F77-2EF2D71F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93EBE-5BDD-4D7E-8285-CE23308E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823C4-C101-4D28-B5FD-DD2674B5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A05A4-052D-43C7-9471-96D2D58E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CFCFB-9DD5-4A8E-80D2-9900D561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CC5-C071-4C2C-AE8A-AD21F10D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30403-D6CA-4C48-A0D0-174BABAA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A0CD4-50CD-4735-895B-C3CB9564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AAD5C-70D1-405D-BB0F-EC49B438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3C778-B4BE-435D-A7C8-855120B4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D9661-DD71-4F86-8115-2C48DB42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81830-9DAD-414A-BFA7-F1FEF859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4B14B-177C-4443-A48F-9AA4D12E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494DD-2422-4FF1-AD95-E39DF948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4B1D2-DB17-4018-AC1F-9070D110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4387D-BB66-4826-95A1-D439999B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1AC-3D2C-4248-B003-EC01DC59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933CB-9106-4394-BDBB-5C1A71ED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1E61E-658C-4043-A555-FC754E54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7E152-405A-4E80-99E1-34547344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D7C5A-1AD2-4284-B857-49FA86B0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E6DC1-E2CF-404B-A072-CF380699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E7C93-18EF-4C8C-A2CF-E4CF8F97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17074-B2A5-4E33-B4E3-4DAD5543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567BF-ECB7-471E-B6D3-2894947B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1E4BA-C89E-49C2-92A7-0FF14F5D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9E1C2-39D1-4DF4-87C9-058E73DD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8C4-815A-49A2-9EBA-7AFAA427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B335F-1F4F-4D9E-8E90-88B8D195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606CD-A4BB-4C66-BEEF-FD6F292A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7548D-0498-4B54-A3C6-D73F282C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6BC2B-43E4-4D76-978D-81600202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BD02F-8E46-4E63-BD54-3F51F6C3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9F411-7E32-4F17-9DDF-79D03AF9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429F0-15B9-462B-BEA7-7684C1F3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1F6F8-2038-4A77-99FD-CE40BE6C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5F511-9E22-4C23-A6A2-B969585E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6AB2D-0E87-4FAA-AB3C-C8DFB37A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4F9-C901-40DA-A808-F5D449A7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353FB-E02B-48D7-8706-463F51CA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CE97D-CF8C-4E5B-B9DE-885BE696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33CFA-DEB8-42C6-B118-2D510678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E4D9F-6E63-4790-943B-61EDC84C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AB952-A7C6-420F-AA21-0515A9D0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40EB4-B209-4F03-A765-7E2B47EE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547EA-2AB9-4F45-9D07-C42CD81D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AD17E-22E6-4DB9-A52B-3BF73A88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8D35B-CBC9-4737-AE0E-BB0736CB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A6F0A-23E3-411D-A119-CC5CB196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353B3-7C81-433A-A67E-54A287B353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653C6-FA3E-46F2-8D69-8107559C3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FDEE8386-8C94-4BA6-98BE-5D520C68D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3FF88-E8E7-40DE-B09F-4D508301C55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95BC7-8561-41D5-BB6D-C3469ACA2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E0501-9AC7-4D52-AA88-9B9423AE59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0CA63-B965-4C10-8E80-59509A65F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46296-5502-4B64-9A2D-B9B2A68FED6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AB78F-F82A-45BC-934C-708856523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3C56E-EB78-45B2-9FC8-968D122D87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FDDD4-A7AC-449D-BCE4-037FA4FF1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0B30A-F34C-48F3-BF62-32D76F4C94A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B6C38-2C70-48BE-B407-737B97315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6AFE0-FB42-471E-ABD5-86EE62F534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AF979-1839-412A-9DE5-51D718DAA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F7830-60F7-4892-85CB-0A56621266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0AC70-2D4D-4AA9-8315-B27C03307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FF8C7-2740-420A-A77C-6DE1E08EE5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63CAE-C45D-4D4E-BE82-A77106CAD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24B1E-7383-4845-B1DC-7E53022EF26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CBEAC-1EF6-444D-9A60-40039D3A1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CDDAB-747C-41E0-9162-7884E870D8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3AE9D-0981-47E3-B462-D569762AC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5AFC0-BA72-40D1-BC64-2114B1A56A2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6C850-BF58-4D33-8BD6-4EA734F69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Mgr. Tomáš Drážný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30D62-E6D2-454B-965C-AA7E12077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E1F31-EEE4-42BD-BF9E-406FCE56D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smlouva, DPP, DP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Finanční manažer  0,2 * 20.000 = 4.000 K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D6E2B-552C-41BC-877F-12859954B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1"/>
          <a:stretch/>
        </p:blipFill>
        <p:spPr>
          <a:xfrm>
            <a:off x="814320" y="183348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10" name="Šipka doleva 6"/>
          <p:cNvSpPr/>
          <p:nvPr/>
        </p:nvSpPr>
        <p:spPr>
          <a:xfrm>
            <a:off x="5753160" y="42973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Šipka doprava 7"/>
          <p:cNvSpPr/>
          <p:nvPr/>
        </p:nvSpPr>
        <p:spPr>
          <a:xfrm rot="16200000">
            <a:off x="2961360" y="473616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B14C7-13B9-425E-AAB0-E422B48AD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6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7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Šipka doleva 12"/>
          <p:cNvSpPr/>
          <p:nvPr/>
        </p:nvSpPr>
        <p:spPr>
          <a:xfrm rot="8874600">
            <a:off x="1499400" y="3244680"/>
            <a:ext cx="800280" cy="22248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 13"/>
          <p:cNvSpPr/>
          <p:nvPr/>
        </p:nvSpPr>
        <p:spPr>
          <a:xfrm>
            <a:off x="1340640" y="51134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79646"/>
                </a:solidFill>
                <a:latin typeface="Helvetica CE"/>
                <a:ea typeface="Helvetica CE"/>
              </a:rPr>
              <a:t>Využívejte komentář k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E58F2-E06A-46BE-A9A4-DA387B47A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Zahraniční pracovní cesty realizačního týmu:</a:t>
            </a:r>
            <a:br>
              <a:rPr sz="20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849B9-2A4A-4E6C-BD0C-7FFA6069D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18908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76CF4-CBDA-4F46-A7AE-A79BA22F0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hraniční expert v ČR, per diems 230 €/den (ubytování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69858-19A0-4A31-BE91-C5E99D5B1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pic>
        <p:nvPicPr>
          <p:cNvPr id="637" name="Obrázek 1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51760" y="5948280"/>
            <a:ext cx="1754280" cy="408240"/>
          </a:xfrm>
          <a:prstGeom prst="rect">
            <a:avLst/>
          </a:prstGeom>
          <a:ln w="0">
            <a:noFill/>
          </a:ln>
        </p:spPr>
      </p:pic>
      <p:sp>
        <p:nvSpPr>
          <p:cNvPr id="638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E7867-080E-40D8-BA93-BBB297322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B7634-D47F-43E0-902E-E6CFA195F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9F760-2A7F-4CB3-89EC-6B6C25C13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opravy a údržbu -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54C42-4F74-426D-90A3-0C3F82BBA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nční podpora na jeden IP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mální výše: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5.000.000,-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ximální výše: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.000.000,- Kč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návaznosti na typ podporovaných aktiv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E38F2-FB02-44AB-83A5-B4D1DC58A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uze příjemce, který daňově neodepisuj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motný majetek nad 40 tis. Kč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do 40 tis. Kč - židle, stoly, lavice pro cílovou skupin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a vybavení pro realizační tým - max. 15 tis. Kč na 1 přepočtený úvaz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2764B-6C9C-40B2-82FF-C7E32D66C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E3D13-B43E-4D16-A65F-9ADD800C9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skript, tvorba publikací, učebnic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eklady textů, zpracování analýz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daje na zajištění konferencí a kurzů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řádaných v rámci projektu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CEDFB-6604-4305-B0CB-4A5C2973D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9E7BC-8515-4A1A-8C3E-C2542017D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B4EEE-E66C-4467-9BFE-D909D3D39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a pracovních míst nebo úprava přístupu pro osoby se zdravotním postižením, a úprava výukových, tréninkových nebo pracovních prostor, používaných na 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224F4-D0D0-4649-A669-92C2725F1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ovány zaměstnavateli jako náhrada mzdy pracovníka účastnícího se dalšího vzdělávání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lacené přímo zástupcům cílové skupin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137DE-ED0E-4845-B99C-A6B4786A6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8556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0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dnadpis 1"/>
          <p:cNvSpPr/>
          <p:nvPr/>
        </p:nvSpPr>
        <p:spPr>
          <a:xfrm>
            <a:off x="1330200" y="3916440"/>
            <a:ext cx="3333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dnadpis 1"/>
          <p:cNvSpPr/>
          <p:nvPr/>
        </p:nvSpPr>
        <p:spPr>
          <a:xfrm>
            <a:off x="4870440" y="40006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5E793-F443-460D-BB97-0437D9E07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íl nepřímých nákladů se stanoví jak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cento dané výzvou z přímých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působilých výdajů celkem bez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ho financování položka rozpočtu 9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přímé náklady není třeb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kazovat účetními do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694B7-5286-47D5-8313-8914BBB47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D9CCC-CAAE-40F4-B527-3EBBAC7D7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360" y="1072800"/>
            <a:ext cx="78865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94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  <p:pic>
        <p:nvPicPr>
          <p:cNvPr id="695" name="Obrázek 15" descr="nn_benefit.JPG"/>
          <p:cNvPicPr/>
          <p:nvPr/>
        </p:nvPicPr>
        <p:blipFill>
          <a:blip r:embed="rId3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6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E59A3-597E-4710-A0AF-74BB58B64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B085A-BD7C-47FE-9D95-E0B540F43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A5781-EB4A-44A2-93E3-203E16552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10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7228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7F8BA-D732-4B70-8EB8-76AEF3099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pozornost aktuálním informacímk výzvám na  </a:t>
            </a:r>
            <a:r>
              <a:rPr b="0" lang="cs-CZ" sz="16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08D70-7480-44EC-8754-E99291BDA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manažer - Odbor CERA OP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tomas.drazny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6FCFB-16C5-4C5F-A2E3-50A997FE5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DC2D9-9C06-48CE-A4B0-6F5AF5204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3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manažerské a administrativní pozi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CAFE8-46A8-45DB-91F7-CB7F686F4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9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formace ze záložky Realizační tým se automaticky nepřenášejí do záložky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709EB-0D8F-4528-90D7-80456AB17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0200" y="2251080"/>
            <a:ext cx="6296040" cy="3094200"/>
          </a:xfrm>
          <a:prstGeom prst="rect">
            <a:avLst/>
          </a:prstGeom>
          <a:ln w="0">
            <a:noFill/>
          </a:ln>
        </p:spPr>
      </p:pic>
      <p:sp>
        <p:nvSpPr>
          <p:cNvPr id="595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59075-B682-43AE-9EC8-6882BAFE9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520EE-A572-42E6-BBCC-EA80C0016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1T07:31:58Z</dcterms:modified>
  <cp:revision>45</cp:revision>
  <dc:subject/>
  <dc:title>Titulní strana – Titulek</dc:title>
</cp:coreProperties>
</file>