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AFDAF-D7A2-47DC-B15A-6E732F7A98E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8C76A-8078-46C6-9336-3AE8D67F1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3EE27-827A-4E49-9A59-44C8BE334E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1A706-B4B5-4D36-B9EB-1993B6FE6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6D09A-2206-40B7-AA7B-825185C3C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80C3B-99F5-48CB-8325-41A4136ED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407F9-3E70-415B-94DE-71A7ACFB0F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2F018-BDC9-4A67-B141-F53FEBF31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50365-4B50-4718-94E2-9132EF228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25943-E84F-424B-AC96-F93D0C599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1D5EB-E69D-4D0A-85AA-E3D1F75F1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F9BFD-0462-4C35-B122-E906D88D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8AAEF8-1F95-4A94-A1C6-C80AB56BE6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57A8D4-535C-493E-9D62-7FC777A9B6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3E5BAA-0A3C-4A34-AD33-A358FEA3CB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0AFF96-16C7-4E92-A5DE-9066635068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876E2E-C49E-4A5F-AD05-B8773D1416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917185-6AB8-49C3-B580-D47A4642C0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17D75A-1AB0-48D5-A42F-B5A095322D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C4597C-315C-42FC-AD22-E9CEAC22EE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822DF8-2315-4891-9F15-B16CE1E6DA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0BA623-E166-4362-8BC6-F352A89A34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A4FDB-D0A1-4C6B-941B-708775722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F61BEF-1024-4DAD-B824-063B9376D1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703868-3903-4005-BD3B-EA7DAA0562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026292-1496-4F47-9DEC-76F924850B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E5F8CE-F969-4864-8E87-965107B7A7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DE7ACE-76B5-4E1E-89AE-C8C3A216A7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55FABC-F4E5-4589-A3DC-E989160AB5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DB2A95-4F01-4EB5-A5D0-5CA98979E6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F97D78-3F63-4DFD-90BA-61911BCEAF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BA328B-D0AC-49FE-BDC0-979E69F083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7A9BF9-7A4F-4C1F-A0A1-C5C951229D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FF9EF-7D78-492A-9695-195E87F78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20080B-E893-4E35-8060-0DBC5441A5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770132-3562-49B2-9D08-11DBED2D10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438BC7-7FD8-4A50-B8C5-8A5BE0C2F1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396B36-86AE-4226-8986-FDB0BC2609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2AD92E-E489-4079-99E4-4CDB734D3F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C77738-A7D9-41C7-9F76-97F4C794E8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D998A8-1AE1-49B6-9E93-6836094F62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C66FF0-B074-4A4E-803B-A7474BEED2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1DA1A4-7373-447F-A216-A6DD6E4C3E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42DA53-AA93-4A72-8581-FD8C29BCF7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D23AF-1A08-4D9C-83EF-0B3D92471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23B25D-DC0B-4E1A-85F1-DDE87FCC6E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243022-9A7B-4E10-BD63-9F6B614F0B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53F5BC-9921-4301-95FC-121DC751AFE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090303-B01A-4D74-8A82-6407132A80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EE0F91-7F9C-4C87-BF42-F925E44EDA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0D9BFF-A810-41A4-9562-A19E5F67E0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FE50BE-F64E-4B0C-8C35-6E25843F0F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5A005D-E544-4B0B-B574-E3D28B93DB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F8C280-AB80-48AA-B78E-FA90783DCD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BBDCBD-795B-4D5F-9673-0C9F79FE88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38527-BD78-4B70-90A7-526CA95C3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E08893-14B4-46F5-AF21-5DB2C3BCE8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9B5643-63C6-4CB6-A1E4-985C1DF6FF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DAA249-4CF4-4C90-BA03-795D9DDD64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C66DA8-0D2C-4467-A560-130F30756DC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312C02C-A55E-4289-A38D-0FCB62B58D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59AE7-4C33-4EBE-89B0-7FFDD3198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28AB6-8A6A-4A6B-937C-21A2F1E0E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C26E7-D2B3-4EE3-A270-4655E1343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C4334-22D0-4139-82A6-1F852ADBC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38389-88A5-4BE0-B792-B73244A22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84F13-0FD0-49BA-9FD7-4E4710F9E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F413E-706B-466A-8476-026761ABC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1C6EE-2E8F-4F3D-A64C-043E49203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49A3B-46E3-440B-9421-791413CD4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B5F22-CC63-418E-844C-6A90B46CE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EFE58-3C60-4824-9A33-3427BB694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B7CF92-E870-4363-823A-BFF922D21A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3A639-D9DB-43E0-B10B-447BA24EB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850710-C610-4CC5-9B73-C6C827027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05F3E1-524F-438D-9065-B7461B05A2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DBD87-12DC-42A7-9067-AAC2511C63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D4C96-1799-47AA-82F3-FB2881713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892C72-83A4-4C81-B866-FDA3FAED81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C67A8-BB16-4FB4-83F8-44B8FA184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B897E-57FE-4FFF-886A-11F2E204D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CF63C-2FB5-4479-9F23-A2D61AA05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5020E-4C3E-4B81-BB1E-4AB550E18B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1D0524-EB5E-4B12-91B8-A79692A2B2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387C86-FDE8-400C-838C-B994589D28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D7C3C6-F81C-4B73-9C22-3519D7DE69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638B51-C107-466D-97CC-CDF605C9B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C3E99-C99C-4C0E-B92F-AD527B916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59196-8D46-4BC4-8330-F6DB940D6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289A50-4E21-4EF4-B458-75AD57439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3AD1FB-D90C-42E5-9175-39DC73DFBF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EC6E0-9F7E-4BEB-934B-02F03544DF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620FB-F0CF-40FA-9E7D-1CFEBEEC4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B49AD-D53A-4D1E-A4A7-A10542E1D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0CB8E-1CF5-4A94-8E1A-1A88C83AF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4ACD0-730E-4D36-BBF5-A020AD077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A153C5-B9C7-46C5-8EF6-5499C9A075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A828A3-26B1-4CA2-B824-FF3481D1DE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E03023-B17B-4B1C-B8B7-EE39F7BF87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EFF4A-BC89-40D3-87C9-DC79FE569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9328F-572C-4D87-8E03-65B0921083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768B21-DBB4-409D-BE43-A7B885C27F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41DC6-A16E-4FC3-BC15-3E6B6B1F2D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5862E-FAC0-49FB-8308-7F7293DD40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AF151B-AA18-4297-B84A-03D8786D0E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BC3A3-E5FD-4431-B735-F03CB2C41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98E898-C7C8-4F9B-9BD8-98D49C445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6C47A-DF8E-4E42-80EC-52828DA1C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B2AAC5-7D95-4854-8595-0807DF70FC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1B5DAF-A10F-4FE2-8810-14761DC5C2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BB0FF-A983-4AA6-A988-889A781B8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188988-F3E5-421C-B2D4-B5D8CE63CF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458A4A-F659-4100-A0D8-5BC4FFB0C3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B74B90-2605-4E45-B60E-7D71F2C2CF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D13585-0B61-409F-956B-01A2A3E494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793749-6325-4008-AF4B-FFD6DBC384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93C8E6-841B-47EA-B315-E914F232A0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81528C-F57D-406B-9DDC-C549BD0287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A5F520-7AC7-430D-A3B3-BA58C9F842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F8E7D-687B-4D90-A061-42066CECA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4A5A1D-9643-46CF-B325-68D42B104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EFA43-C65D-4E0B-B9F9-CC6C31592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7C082E-E00D-45EF-AD3C-677837C800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59ECD4-EE01-4FC2-8732-46E953F8B7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414DC5-E7A2-4206-B203-AA458DA511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2554FC-67F8-4DD8-B876-26677EC73E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DA1E14-CCD6-49E0-BA75-602C833D25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ABD75C-1E50-4C4E-AFD6-6AE4C22229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AD4644-3C67-40D1-9D19-49619F8F41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FF8338-8C63-4114-92CC-00EC5D082F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4E12F0-D5DB-4AA6-8431-1EB5F5905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2911E-CEF5-4C12-BF48-976CF9DB9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47611-F60C-4A13-8ED0-F7FED49EE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1445B-6458-4E5B-9D06-585B97892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300315-C8CE-442E-8FE3-2F4B1D89A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E4A02F-4CDC-4FEE-8095-301EB52859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30E6EF-7CD1-4AA0-87B3-0820E3E2B8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736D75-A305-4071-9A63-571A7D8CA7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4A04E6-5F74-47BA-A98A-536466C186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76E924-9F3E-46E3-A713-33CAF4DBF3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DF8CD5-2D92-4422-B6F8-EB222A57DD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30A996-6546-433E-87C1-D1E3A17E3D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95A599-5A1A-4318-BF13-A0DD9760A4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D9EF-2245-4432-8D12-B02A49513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3EF61F-871C-4DAA-9CA0-5F6A370DC4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05F4E2-9874-4E84-8AFE-6A98C08A0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0063AD-550D-46EB-8886-4093A49D6E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2D623-145B-442F-9161-D30148EECF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78B7EA-852B-4ABD-8DEC-6061F585D3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A72BCB-F2CA-48A1-884F-F5959DD802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FEB762-1DE9-4A4C-BAF9-2B6DC4411F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3351F4-7B41-4807-A584-7F62CA938F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BB0FA4-010E-4294-9539-8F82988226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BB7779-8A29-46BF-ACC1-ABAD06EAE3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1E29E-1D92-4803-A60A-ADF0EC49AE64}"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36CDC-8807-48F1-B479-81BDD5AE4DE4}" type="slidenum">
              <a:rPr b="0" lang="en-US" sz="1200" spc="-1" strike="noStrike">
                <a:solidFill>
                  <a:srgbClr val="898989"/>
                </a:solidFill>
                <a:latin typeface="Calibri"/>
              </a:rPr>
              <a:t>&lt;number&gt;</a:t>
            </a:fld>
            <a:fld id="{B6D4EE8D-C6D6-4287-8899-D3963C9C18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C5C3A-75F7-44C6-9518-190A47CE6DD0}"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66FA6-1CF1-440C-8971-558D06F098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CF2BE-FC32-4871-B4BD-42C1134881C5}"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2DD7A-8964-4818-9901-163A64A252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9B0E3-724F-4076-BEEF-78F4BC33997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81B0D-8F8F-48A2-B464-F7BB2C516B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5F434-2FFF-45EA-9928-9E3B6D773FB8}"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8F7C6-EBFB-485B-A45F-E9FF80FA87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E750F-9456-4C0D-AB59-E9E14211E892}"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3ACB5-4768-47B4-BE81-6D6D8F68B6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EF407-9CB7-45C4-9306-84A99509BF6C}"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DDE9D-5DA7-4833-A635-782EEA8A9E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29782-F886-40FF-BB97-FDCE5C514C97}"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B971E-86CB-43FA-BD61-D2D7E0C979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E6C862-3354-49DE-AC31-D97B3C51DDA6}"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DA115-1019-43E8-A16C-6D82DF4D31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B89D6-A9A1-4377-A9F9-0EFC01885A78}"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0F46C-09B7-4D2C-9494-3767F97E3F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AD180-61EF-435B-989E-C8510BD072A4}"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A2551-D02D-4CB3-81D9-93A21F36E5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48027-CD50-4EEC-AD2A-F893B3B99F7D}"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24E54-4930-479F-8285-E416B6F813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Praha</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28.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7691B-A142-456D-BD84-7FC686276A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84CD6-BE8D-4517-91A3-13D33504C1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0CFED-599E-4CDE-A46E-316BF27282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EE454-7169-47BB-947B-EB41C953F8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ECC57-5CA2-4A66-808A-02AF8EF7BF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4FDBE-D994-4F72-8691-B51795433B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E8142-C307-4BFA-B994-FCF0AF6A41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CC4FE-6C70-495B-A224-5525624D7E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CCC59-5786-45B5-B90C-F642D240B0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37FAD-B726-43B9-A0CF-BDC9C09317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90395-790F-4E9E-BCC7-7FE56528CD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EAC79-B82A-4DB1-9834-4CB21A8BD7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6BC22-F969-46D2-B62A-6D08C0C433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E9F48-03A3-4747-9C02-04234B0BF8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27877-3C11-4696-93A0-82A59AE8E4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1004A-5809-4997-BE50-302B293E11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844880"/>
        </p:xfrm>
        <a:graphic>
          <a:graphicData uri="http://schemas.openxmlformats.org/drawingml/2006/table">
            <a:tbl>
              <a:tblPr/>
              <a:tblGrid>
                <a:gridCol w="382680"/>
                <a:gridCol w="666720"/>
                <a:gridCol w="4228920"/>
                <a:gridCol w="585720"/>
                <a:gridCol w="1097280"/>
              </a:tblGrid>
              <a:tr h="11952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2D726-7243-4BD1-9BFE-87C9E3D50C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1271F-F7A0-4D49-B81F-D05692E77C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134DE-1BB1-494B-AC56-E20942E2DB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7AF0E-99D8-46FF-A0E0-67BFC7EAED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17C20-741E-4583-ABBB-AF76A5EFD5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1-01-06T13:29:26Z</dcterms:modified>
  <cp:revision>58</cp:revision>
  <dc:subject/>
  <dc:title>Titulní strana – Titulek</dc:title>
</cp:coreProperties>
</file>