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0E5A7-E56A-4534-81F3-5D588749BFF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DADAB-9D3F-4E56-AB2F-DBF9BE056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2A701-7F89-480D-9F62-D49822424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35457-C667-4DD7-A119-7EA25BF9C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62BA1-B87F-449C-B44B-921306605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72F28-C48B-4C39-8B29-BFD39CA01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78E0A-765E-459E-A4CB-0369C66A1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2056B-706C-40D5-A585-5343F4C63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1E16F-47CB-4241-BDD3-F6B445B02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1F4FD-7A97-4140-BA83-EC4187765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5A222-9EA0-4BB3-897F-32B851EF4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23D1E-B4F7-4A30-B95A-F14CA69E6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CD31AB-BEB7-4924-B766-21DBFE5C4D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A9C4A6-1B8D-4D2E-950B-C58847EAD7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E36AF9-F1D7-4F35-A95A-AEA00503B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1526EA-DAAB-420E-B02A-E26AB35100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D49657-1F04-4097-B13C-E7BB0F791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1E70CA-43F0-4F49-AB1D-179DE449D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176C8-BDFF-4A01-AF05-EBC68957AC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312D04-D09C-47BD-AFAF-1D9535CC78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06CAEF-BCB0-44D1-ADA5-82F886D1B9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BA43D3-875E-4D36-8FBD-A473724E28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48856-D393-4577-9C7A-C12008CAF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98B192-212D-494E-85AF-E756460861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F7F4CB-7BCE-4B0E-A3F7-863B94301A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4F9F01-465E-44C9-A734-BFE073C2D7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7B6DF8-4967-4F12-B711-6F73F02D9C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F18427-3793-4E38-BA6F-852068F3CE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BDCBE5-6EF3-481C-8BF7-3BEEA1F7CE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36F9B7-D015-41AC-BA0F-C2221957D0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B1358E-FA82-4025-B667-05A8E8ABB9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79C259-A09E-4522-92C9-948C1C8703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1F19BB-56C3-4198-987B-557A96D958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8DDEB-ADFE-400D-B019-B665CE8CF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DED874-EF4A-4F55-B99A-83FBF3236F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8F3902-B35E-4113-95F2-1BF469B4150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C93A5D-A5E2-4232-AC56-0BD96D6683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25E8AC-5FAF-4386-830C-05A85CD328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AA87B6-ECB5-4789-A9E8-35AF0DE92D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C83FC0-FD07-4BB9-85A9-F41C1EE8F3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8A0B36-16A2-41B6-9AE2-3A50D1030F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10BA96-72FA-4C3C-9F29-A6D2AFBB95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278951-FB13-4B0A-88EF-53293CB323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0DE045-5EBC-489F-AC9C-B4F582F22F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81B18-B657-4981-B7D3-C70648E01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0B24E9-99C0-468D-BAA3-06BA70E400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475FF2-A6D9-48AE-AD0F-2F9D32A843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6D9B56-24F2-4F99-97BD-F449B6391E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E4262A-D5A6-462B-8547-ED45BC4152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735AD2-F84D-44AC-AF45-D35B4B2A28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DF6D02-C469-4346-B21C-DBE21645BF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26E967-6939-4E2A-8B06-C9C2BD0B70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EC635F-C35C-4651-9435-632F0B374A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3F39C3-95EC-4DF8-9A33-202E4F8054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A33C50-981A-49DA-A910-0F65956752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1E4EF-159F-41C7-8EA3-6CECC02B7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B09C3B-BB94-4875-B5A7-3947740636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0C4DD4-75D9-47BC-8131-10C791497A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BB91DC-79C0-4D14-8CA6-F3EE5E4C83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16BD76-AEBD-4006-928A-D4A406AF75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189435-107E-4567-9F00-53AAAB03A4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C6C5C-181D-41D1-92C9-704AC7902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1020C-4726-4216-90F8-5D1D5DBFB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49B27-B61E-4B7F-BE91-03AB55B91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BAA66-AAC5-45CB-87AC-40CA68664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181D4-3FF5-4211-A513-B53D77F5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9A7BB-5201-491F-A0B9-B2EAFFBEE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100AC-6B05-44D9-9C0D-50D222ED4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DE5FC-C088-4E57-895A-144C9B976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B728E-CF82-47D8-87C9-B17A46D9C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F5C9B-8596-418E-BF63-AFAC15ED2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B8B53-AB4A-4258-A739-0C76433E2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B5C2A8-4995-433A-8C6F-07DE58239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06CA1-3A45-4D58-9BBE-EDC6AD123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99F16-EA97-413E-89E8-7B9D3998A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9EA14-88ED-4AD0-9A53-70AB35347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E33C7-AC76-4DD9-A4C2-1155DE8E6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D8F14-39D8-423F-BE65-AF959F9E4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7C6D0-2905-4114-A764-82BC6C383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52D72-0670-4CF0-B63F-232E27672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5C045-BCFC-4937-B01F-3A5492D38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FE572-9C2A-446F-A5CF-D7DE014DC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1D9BE-6D14-40C4-BC17-109A5FAA2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1EC9F-FD92-4121-9FD9-F9D063048D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0215F8-BE15-4D2B-B28D-437DCAA79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EFD6BC-A398-4F12-A2C1-653F7AB752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FC948-82A9-4473-B145-28F197CF6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D481E9-E280-40E9-90CE-396B51705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427BA-55E8-4D51-8E23-112990FD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7C26D-CB51-4149-911E-6F09B87ACC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D5ACA7-5E2D-4E36-BC9C-5C66ABAFD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881709-995E-4C25-8065-96DD3A3A2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1D7EE-5E63-4956-87EA-FF62BFDA1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6CC07-1F70-48F6-9448-EC9229272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4A6BD-359C-4693-9273-3B1E7C4E5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30333-5AEC-4983-9CB9-8982CB2FF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128173-208A-4FAA-B6D2-8AC18349DC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4617B6-C079-4F1F-95B7-4141C07F47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3CCF9-3E8F-49AF-AF23-83E33210EA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F2144-5C97-4B51-9BFB-DA095EB2C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E61A6-3018-477B-B664-81E835051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9F035-79C5-4C66-B6CC-F98FCF914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130C4-29B3-44A3-8F76-F4158AEA1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95263C-A78E-4E4D-8A0E-4632BD66D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DEB3D2-1364-4564-8E33-EEE5C8999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B6516-EF7A-45A1-B388-7270EBBC9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90AE41-56CD-48D5-B9FC-E49D8BF37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9B51A-07C7-492E-B7BF-25F9E47D6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19FB8-7D22-43D2-BA14-4B9DEE2D5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EF9293-150A-48EA-83C1-23CBE12BAF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3A31F-5CA1-4580-ABEC-F8D6F0670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7691CD-F977-41D9-88D7-C6FF8A0492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356E32-D652-4E6A-A75B-968E8F5667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52EC0-9246-48EE-B897-B91E8C9A85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237AFB-877D-45FC-84AB-6B44E7C95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721AB-A57F-4180-92B9-6C9995EB5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A3562E-38B4-4B53-A06A-5AC97C2A5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363045-7AD4-41E2-B986-F16A98D20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7F5D3-BE57-490F-95CB-AD676A340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072E8-F9E1-48A9-87CE-7ADD15FBA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4BCCC-C6E4-4CBD-8ED6-477259241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98BA8-BA1C-4872-9970-A058C2A37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867D4-11E2-45E8-9E65-57FB93A5C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F5145-D983-492D-BC9B-9AD5434CEF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D2CE3A-240C-47B2-94BB-623DEF9800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7D17AC-CC32-4300-85C8-CA5DFF9505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BFC965-4CC9-4AC2-B2C1-BFD375466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87CAE-BF23-471B-8592-9CAE27EAD2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97505-94E7-4547-9836-C57F9E0BC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4470B-6D0B-40DF-B59D-51AE91F2F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5BA36A-E6C5-4990-817F-44FE4CF43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3EB95-3767-414B-990C-E7886A661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B22B-DEB8-451A-9551-669323A87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8A110-9FD4-4BB1-9178-E53AAAFE6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1B7C6-F992-4B2E-9397-D0EAA2F87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1307E-17FE-41B8-B713-1D49F5E44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36B465-1D07-47A2-896A-06333A5301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8D3F2D-F91D-40C3-9A76-2EB8CCE804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5E06D0-7AC9-476C-986F-902DB8E501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50C309-FA04-4BF7-84C9-A35C0B0890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A96ED3-EC21-49E3-A48D-77A8FDDC4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776101-0035-4563-B169-E3DDBEA09F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27DADB-C4AF-4EFA-B4E4-B4023AF9B8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0259-5A84-4259-9B23-957078E1B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ECDDF-1016-43F7-A8AE-949154F1D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93AFF-B424-49F0-AF49-6C44649977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C9352-29D4-41FB-9D21-2F53DACFD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FBCD5-F221-4F66-9641-CDDC94819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5209FB-370E-4DDC-998D-FF8AC3CD2F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ED374F-9E94-455D-A22B-5897B8D9F8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3C24F5-2A5E-4908-A982-BF28BD61AC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173C85-26D8-45FC-9C66-056A7C0437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80AB8A-1981-428A-AB55-975C23B69A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C18C59-39A9-463D-93BC-FEE30246E1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67603-C4C5-4837-9ED2-4733EBED1560}"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FB5D3-F37E-448E-9EBB-15049D8ADC72}" type="slidenum">
              <a:rPr b="0" lang="en-US" sz="1200" spc="-1" strike="noStrike">
                <a:solidFill>
                  <a:srgbClr val="898989"/>
                </a:solidFill>
                <a:latin typeface="Calibri"/>
              </a:rPr>
              <a:t>&lt;number&gt;</a:t>
            </a:fld>
            <a:fld id="{109182F2-FFCC-4A1B-9983-B3B111EF00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7B9DB-24FB-4160-8B0F-D4C5A5BFE0BA}"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6BC6D-F80B-40A7-8E1B-E8FF2EB720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DC008-3E89-4448-890A-C39C2EC8B434}"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4B700-BFC2-4E51-9151-DC00858435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E9641-7BBA-4697-A1B1-780775EDD18A}"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140E5-1DE1-4802-A529-D80170D656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4D266-C11A-4302-AC33-E2CAB0A6C51C}"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8E9B4-08EA-47B9-BD21-1BFC9373EA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99689-9FF9-495C-A4B6-FD2F68A0E87E}"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B04A9-7370-4D1C-91E4-9BD37007BE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8164E-6416-42CC-9251-FFF63E840C16}"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75B4D-07BC-4F43-B7B6-CAEC749A1D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FE65B-1CBA-4B76-A2E5-B553D3E35955}"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6A0A5-2DE0-4A17-A2C3-957CC08C48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D9984-10C1-41BE-A88F-641AED10DFEE}"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6083D-8AEE-48D7-A079-CE1C761471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11D74-F007-44B9-82E2-93CE9C17F0A3}"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D8B2E-D2A3-45BA-846B-FA49C1175E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E0C4A-07B6-4B87-83C2-A62E34C40790}"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EDD62-3380-4058-BA4A-8A5430B38C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9979D-6CC5-4E62-A9EB-9F7209C34916}"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15F40-F4DB-40AF-9F68-C40340CD84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28.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43E60-7F91-4B58-9916-74CC4DE64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77F37-FA84-4FDC-92D2-1A28E0BB7E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02555-9586-4D52-8D32-A3A63799C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CC1F1-B5E3-4B82-992E-63F129F1CE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B7C95-E705-49C8-863A-8C3308411F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178EA-B022-45CD-BBDD-097FDEB90F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833F1-DD40-418E-ADB3-C1BAB078F2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12A42-89F2-4BE5-B7CA-E0A615E409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4AC95-85BC-41AD-94DE-B0D35CD1C1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28A7C-E08D-4772-B18D-5D69B9CE18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BAC7F-715B-4363-BBD9-64C9B7F0E1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A038F-C19A-454E-814F-E7F34CF8D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8AD9F-4240-4357-89D6-A2E9F74DCC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181CC-0447-4692-BD3F-A538127FB3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34B34-5EB7-4927-AFA5-2921825A5E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61CB1-7C2E-4AB8-BF75-0C94E20627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5CA37-E737-4D04-B72E-F4FBB9A57B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EDC72-CF8C-4D1F-B898-AB055D9BF1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56A7C-C555-4136-8CCA-6B79E516FF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8DAB4-3165-4633-AE22-BA04848DA8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D56B6-443A-4C22-AE5C-368FA0584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06T13:29:26Z</dcterms:modified>
  <cp:revision>58</cp:revision>
  <dc:subject/>
  <dc:title>Titulní strana – Titulek</dc:title>
</cp:coreProperties>
</file>