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0.jpeg" ContentType="image/jpeg"/>
  <Override PartName="/ppt/media/image22.jpeg" ContentType="image/jpeg"/>
  <Override PartName="/ppt/media/image9.png" ContentType="image/png"/>
  <Override PartName="/ppt/media/image36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28.png" ContentType="image/png"/>
  <Override PartName="/ppt/media/image30.png" ContentType="image/png"/>
  <Override PartName="/ppt/media/image14.png" ContentType="image/png"/>
  <Override PartName="/ppt/media/image10.jpeg" ContentType="image/jpeg"/>
  <Override PartName="/ppt/media/image5.png" ContentType="image/png"/>
  <Override PartName="/ppt/media/image35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D61E-C175-4E7D-AC4B-65E42E923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54FB-1B76-4ACF-B117-50ADC812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6F128-82D5-4296-AEB5-57BD8B90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13F223-EE06-4145-B4DF-F4BDA480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1A4A13-1BD4-4340-9F0C-8855B7F5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71B97A-ED21-48FE-8DA2-2F1FD4C1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581939-936A-4BDB-9CC8-6D58445F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DB77F2-2F8A-499E-A423-DD303D99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494A6-D150-4E5E-8144-05004AF2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B78E9-19DD-4C86-AFF0-62341E05A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E9403D-6F19-48E5-9414-4152F57CD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E64F5E-1395-4E7A-97B5-DC527BAFD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7DF5-6D39-4EA5-B598-18A10C17B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1AF1E4-E0D3-4F95-981C-CB6FDB5F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36E76E-8B4F-4F3A-854D-AD81726F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FA1683-A9DC-4DF4-9DC8-4681F55C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DA0079-664A-4525-BC53-AE602041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E44D02-3706-44D8-9C57-02F962B7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0DEF65-62B7-436F-8E32-19F27625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A31FD5-1A2A-497F-A8EA-3090E766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F51E18-F9F9-470D-B060-9D1C3D48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38B3AA-9BC1-42CE-82BA-150AA73B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D58F46-5B93-4EF1-B494-C10A468C1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F2D1-40F6-4060-8979-7F9C4116E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84C67F-CD86-4C42-8E9E-ADD0190E8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E8F5B-C3CD-4C8E-9E47-941868E0E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0B2DA-06FC-4FEF-9C4B-7DDFC478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7AF5CA-3F82-49C7-87E9-ADC104D0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01FFE-C186-4CDD-A142-02F90112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F3EE0-2464-423C-B2BF-734379A6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BA10B-A953-4D6C-A745-89493407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C2399-3BAB-456C-A883-2F236C0A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F5300-43BC-4594-94D8-17DE8870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0636F-4F32-4F00-88D7-BEB8D64B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2ABA-CB6C-44C6-8038-76158B6CB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C6128-784B-4628-AA0F-34823216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3BEC8-7F69-4848-B697-A551A992A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8B3A6-2B12-4A05-B092-A80EF7F91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065B13-A6B0-476A-9896-8D38502BE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E93FB2-2BD6-439A-A17F-244A478F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5FC6D8-3E90-4C51-8974-AEE689D1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BDE97B-5339-4BE9-A37B-3905C474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F93D7B-FB28-4038-9014-9A384C8D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9F1206-989E-4EAC-8499-5B13B918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9BAF4A-B84D-4156-A0FF-52DA715D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CCDF-3572-452B-B3F1-5A55DFCD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2BC4EC-FD29-45ED-B9A6-6D0A602B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B85FF4-8F11-4FB1-A292-5A9E50D1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DAD966-B527-4778-8D05-5589F564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06B021-3551-43BC-9EED-8A273276B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875502-6393-4004-9C12-D205959DA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7C85-4AFC-417A-8048-075CD5F2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41E6-6DBA-4A28-80F1-09E5C43B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2EAD-ED49-40C1-B778-D51F09D0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F7B8-99D9-46B1-A285-05F384B2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1353-8BF4-4B99-B5C4-123DFA76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3875-A11F-4888-9971-2CDDFB4C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BD6F-5692-4AB3-8EE6-40031AF7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7F79-23FE-422B-A0F0-4F4CDF49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8751-ED00-4AB7-95DB-5651B9CB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4521-F512-4C3F-A27D-B1821AF2F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A641-B97C-4229-969A-9614265F6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09A11-1419-4607-B3C9-833F64867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9E805-6DAE-4F80-AFF6-E3B4C088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EAA7A-0D17-44F4-A383-52565796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750F6-EBB2-4B3C-BCC5-7EFAA1C0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10D71-0027-46BE-8B5C-7609846E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887F-991B-4EFF-BC21-A4822222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95C00-89DE-4934-9B7A-F1CBE0E6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4797B-2991-4893-ADB1-A460C80C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2368E-5F8B-4DB4-9C46-8F8C2BB0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F8C4C-A062-461A-933A-269A195A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EE5F0-A8C7-46B4-ABC1-0A12675F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41AB7-B0A5-4EA0-9B0C-2FBE5109E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F7E23-3F8D-445B-91BF-AB6D32B56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99CB1-931F-4BFF-ABC6-7391FAFD2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4AB59-A6C4-447D-9551-239511EB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E663B-E54A-4BA0-B858-0DDEB38A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1840-8878-485F-96AC-C2E4FB0C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BBEC4-6BA2-42CF-BF74-8DF387A9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AC569-DA3E-4962-8850-DC6D59EE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64D3B-0676-4F48-8EB0-E6E2EF56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97784-BE3C-4E87-B632-B73172E3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A3D2A-0471-45CC-BBEF-A1835858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6EF37-F5A8-499B-ACEB-753A3B49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EBBA2-B623-4DEC-8C37-D422C4DB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36805-2B42-4BCE-907B-AD210B5A9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73C32-A256-466F-9D28-C65AAD978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9C198-420F-4B41-BF94-3875117E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136B-616C-4168-9F2E-9D3AB420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B39E6-7835-4820-9FDB-86C0B4B8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0F6E6-BE3A-4716-A0CC-367B5406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DDACA-A0EF-4933-BFFD-2336F2F8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5ABA7-7B83-44B6-B84B-F54DA048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F7402-072D-42EE-BD39-8EFD0A95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D5343-9E70-4FD8-B680-1E9B9AD7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BC15B-4F4D-47D6-8A36-04AE06F3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09C47-21D6-4B7A-B733-9E20A92E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7CEFE-0668-472C-8DFB-E0E00D4D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1D955-4492-4442-A96C-0EBA315E7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E4F9-9EC8-4257-B69F-1CDE5F81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53F66-2A17-4774-8D82-DF261B4E0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06063-93E0-4D1E-B041-923EBE1F9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EC068-B86A-4F58-BA1F-5C39017B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11A08-94F8-4C88-B1EC-5D239FA6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C6D36-3030-4859-9FEB-A05C7FAF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4529B-7A98-4DAE-A145-01CB3DD9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99C32-E038-47B2-B2BB-C96D6C53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BB240-BF91-49CE-B5C0-36985025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324AA-4F6D-4280-87A6-9385B8A1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4B920-8A07-4753-98F4-0765DC67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2E6B-55FD-47BD-8EB7-B0AB9B8A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05729-E559-4A6A-816B-F78796E7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72341-2171-465C-ADC5-630966F8C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E8BF8-27C3-4716-B2E7-39A52DD36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B3A6B-2A99-451C-B800-A647F0564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3279A-6052-44A6-AB79-DE5EB9A6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23866-04C9-4CE7-BD3E-5383524A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E7521-1E75-4076-9293-8C5D3DA8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38468-3066-40E0-B6B6-30A30B8E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D6127-9BF6-429A-8F36-529E08A7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87B21-7B8A-400B-8995-D0DC5587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E3CA-4BE4-405A-9431-A3403B86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FA077-185A-4AD9-AF7B-D7EEDB12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536CB-6809-4A88-AD09-AB548506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08835-91AC-4C44-8DF8-F2E2249B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67983-D0EC-4D48-9F34-C88772B6C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6191A-D6F3-416E-A0FC-A3E99D9C5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24325-E637-483D-A5E4-52543C587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71DC7-08CB-47F9-B48F-3D2A7191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733B3-668D-4832-BB48-56AC3F3D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589A0-BDCD-40B3-8ACA-D845B5C9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786C6-9BFB-4ED5-A981-90B23D93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F2E1-201A-4E75-ACCD-9A5960FE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3F7A5-4FA7-4BB5-9AF6-ACEFD3C5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C9059-FC9F-49E2-9282-E01B49EF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EE207-4C38-444D-A2F5-D43A21E7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DA210-18CB-4074-AB1D-49A78445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B8B49-2561-470F-94AD-9D887B11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2A448-EA6B-4BA4-98AF-C30A81FBB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F603D-BB60-4EEC-BAEF-0D4E75BA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B51419-004A-4D67-87AB-C948604E5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9452EA-3B2D-4EA0-AF20-9328E468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4119D-34AF-48AC-8C16-F47CF113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576C24-2B93-4338-B2FB-99F87C1FB50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1FCBBB-FE82-41DC-9503-7984A0821D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FDBF16DE-D054-44F9-A271-88C8C40D2E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A61D90-E526-4516-9358-ADBC4BC17D8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CA293B-2D1C-414B-B523-F1A3785771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71F94E-A93D-498A-A74C-578B2C4A987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8C3DEF-F7D7-42EB-B9FD-AB9E4519F8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98DD4A-D4F9-47E0-BEB9-59502B3522E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BB553F-E1A0-4BE1-9861-2BF3729F70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3FC76F-2031-47AC-B194-F43FD6B3371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804F7B-8C61-402A-A498-AE4E621B93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35B88D-09BA-4583-8969-02E5DAAA2F3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2EB5FE-7862-437D-8365-D95CFDE847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B803DB-7226-4EB3-819C-F925695B88D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3D19EC-9677-47DC-976B-D90CD5E9CB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9B7CE4-62B8-4C56-B2B4-B8642B6668B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599F96-4ED1-40B7-8157-9BFD247196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2474CB-0CFC-4D23-98D6-C558E8C9BE2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C7FA19-F670-47AE-A8EE-765100EEFF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9D4DA9-467E-412F-95B4-1E74F05E192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79AA8C-EA8B-4D4F-B921-781A6B2743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18C651-D222-42AC-9ABC-42FC9E29641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122C89-02DB-4257-B05F-BD9BA07982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7548CD-2D79-4B04-8BA8-C2496E7B007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17F210-EF1C-4925-B952-6A44652F24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-zadost.cz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mailto:veronika.supova@msmt.cz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zso.cz/" TargetMode="External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1819440"/>
            <a:ext cx="7772400" cy="102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Benefit7 – jak vyplnit projektovou žádos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1371600" y="2844360"/>
            <a:ext cx="6400800" cy="18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Corso Karlín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28.1.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Mgr. Petr Kraselovský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ADRESA ŽADATELE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A5B825-5EC2-4FA6-ACCC-014D3F63A8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3" descr=""/>
          <p:cNvPicPr/>
          <p:nvPr/>
        </p:nvPicPr>
        <p:blipFill>
          <a:blip r:embed="rId1"/>
          <a:srcRect l="2063" t="16091" r="4470" b="8276"/>
          <a:stretch/>
        </p:blipFill>
        <p:spPr>
          <a:xfrm>
            <a:off x="1838160" y="1770120"/>
            <a:ext cx="5442120" cy="3173400"/>
          </a:xfrm>
          <a:prstGeom prst="rect">
            <a:avLst/>
          </a:prstGeom>
          <a:ln w="0">
            <a:noFill/>
          </a:ln>
        </p:spPr>
      </p:pic>
      <p:sp>
        <p:nvSpPr>
          <p:cNvPr id="562" name="Obdélník se zakulaceným příčným rohem 5"/>
          <p:cNvSpPr/>
          <p:nvPr/>
        </p:nvSpPr>
        <p:spPr>
          <a:xfrm>
            <a:off x="7280280" y="1770120"/>
            <a:ext cx="1604880" cy="377028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Oficiální adresa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– automatické natažení po validaci ARES – takto načtené údaje needituj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Adresa pro doručení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– povinný úd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29840" y="1146240"/>
            <a:ext cx="645804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OSOBY ŽADATELE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E18362-9A5B-40E2-BC88-7F220F9EF1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9" descr="C:\Documents and Settings\kraselovskyp\Dokumenty\Obrázky\1.1.- 4.bmp"/>
          <p:cNvPicPr/>
          <p:nvPr/>
        </p:nvPicPr>
        <p:blipFill>
          <a:blip r:embed="rId1"/>
          <a:stretch/>
        </p:blipFill>
        <p:spPr>
          <a:xfrm>
            <a:off x="2496960" y="1846440"/>
            <a:ext cx="4056120" cy="3760560"/>
          </a:xfrm>
          <a:prstGeom prst="rect">
            <a:avLst/>
          </a:prstGeom>
          <a:ln w="0">
            <a:noFill/>
          </a:ln>
        </p:spPr>
      </p:pic>
      <p:sp>
        <p:nvSpPr>
          <p:cNvPr id="566" name="Elipsa 6"/>
          <p:cNvSpPr/>
          <p:nvPr/>
        </p:nvSpPr>
        <p:spPr>
          <a:xfrm>
            <a:off x="4213080" y="4221000"/>
            <a:ext cx="1656000" cy="597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Elipsa 7"/>
          <p:cNvSpPr/>
          <p:nvPr/>
        </p:nvSpPr>
        <p:spPr>
          <a:xfrm>
            <a:off x="2154240" y="5319720"/>
            <a:ext cx="187164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ARTNER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E1EC1E-52ED-4227-B4B2-DD0BA50C35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Obrázek 8" descr="1.JPG"/>
          <p:cNvPicPr/>
          <p:nvPr/>
        </p:nvPicPr>
        <p:blipFill>
          <a:blip r:embed="rId1"/>
          <a:stretch/>
        </p:blipFill>
        <p:spPr>
          <a:xfrm>
            <a:off x="2523960" y="1717560"/>
            <a:ext cx="3781440" cy="3792600"/>
          </a:xfrm>
          <a:prstGeom prst="rect">
            <a:avLst/>
          </a:prstGeom>
          <a:ln w="0">
            <a:noFill/>
          </a:ln>
        </p:spPr>
      </p:pic>
      <p:sp>
        <p:nvSpPr>
          <p:cNvPr id="571" name="Obdélník se zakulaceným příčným rohem 5"/>
          <p:cNvSpPr/>
          <p:nvPr/>
        </p:nvSpPr>
        <p:spPr>
          <a:xfrm>
            <a:off x="6553080" y="1784520"/>
            <a:ext cx="1908360" cy="37256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Formuláře na záložce „Partner projektu“ jsou přístupné pouze v případě, že žadatel na záložce „Projekt“ zvolil možnost „Projekt má partnera.“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mocí tlačítka „Nový záznam“ je možné zadat potřebný počet partnerů projekt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ARTNER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934AA9-21F5-4626-A28A-9E5F22FB26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Zástupný symbol pro obsah 12" descr="1.JPG"/>
          <p:cNvPicPr/>
          <p:nvPr/>
        </p:nvPicPr>
        <p:blipFill>
          <a:blip r:embed="rId1"/>
          <a:stretch/>
        </p:blipFill>
        <p:spPr>
          <a:xfrm>
            <a:off x="2606760" y="1739880"/>
            <a:ext cx="3676680" cy="3800520"/>
          </a:xfrm>
          <a:prstGeom prst="rect">
            <a:avLst/>
          </a:prstGeom>
          <a:ln w="0">
            <a:noFill/>
          </a:ln>
        </p:spPr>
      </p:pic>
      <p:sp>
        <p:nvSpPr>
          <p:cNvPr id="575" name="Obdélníkový popisek 5"/>
          <p:cNvSpPr/>
          <p:nvPr/>
        </p:nvSpPr>
        <p:spPr>
          <a:xfrm>
            <a:off x="6170760" y="1957320"/>
            <a:ext cx="2516040" cy="657360"/>
          </a:xfrm>
          <a:prstGeom prst="wedgeRectCallout">
            <a:avLst>
              <a:gd name="adj1" fmla="val -74203"/>
              <a:gd name="adj2" fmla="val 56935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ymezte částku, která z celkového rozpočtu projektu připadá na partn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bdélníkový popisek 6"/>
          <p:cNvSpPr/>
          <p:nvPr/>
        </p:nvSpPr>
        <p:spPr>
          <a:xfrm>
            <a:off x="6170760" y="2614680"/>
            <a:ext cx="2516040" cy="885600"/>
          </a:xfrm>
          <a:prstGeom prst="wedgeRectCallout">
            <a:avLst>
              <a:gd name="adj1" fmla="val -67208"/>
              <a:gd name="adj2" fmla="val 57439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Proč zapojujete partnera do projektu, proč určité aktivity nerealizuje přímo žadatel? Proč je vhodný právě tento partner?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bdélníkový popisek 7"/>
          <p:cNvSpPr/>
          <p:nvPr/>
        </p:nvSpPr>
        <p:spPr>
          <a:xfrm>
            <a:off x="6170760" y="3762360"/>
            <a:ext cx="2516040" cy="676440"/>
          </a:xfrm>
          <a:prstGeom prst="wedgeRectCallout">
            <a:avLst>
              <a:gd name="adj1" fmla="val -74203"/>
              <a:gd name="adj2" fmla="val 6796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eďte způsob zapojení partnerů v příslušných aktivitá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bdélníkový popisek 8"/>
          <p:cNvSpPr/>
          <p:nvPr/>
        </p:nvSpPr>
        <p:spPr>
          <a:xfrm>
            <a:off x="6170760" y="4438800"/>
            <a:ext cx="2516040" cy="1101600"/>
          </a:xfrm>
          <a:prstGeom prst="wedgeRectCallout">
            <a:avLst>
              <a:gd name="adj1" fmla="val -73287"/>
              <a:gd name="adj2" fmla="val 5254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Jaké projekty v oblasti RLZ již partner realizoval či realizuje. V případě velkého počtu projektů uveďte jen projekty obdobného charakter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ARTNER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46FEBF-E7EE-43D3-BEA1-DE17030514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" descr=""/>
          <p:cNvPicPr/>
          <p:nvPr/>
        </p:nvPicPr>
        <p:blipFill>
          <a:blip r:embed="rId1"/>
          <a:stretch/>
        </p:blipFill>
        <p:spPr>
          <a:xfrm>
            <a:off x="1844640" y="1952640"/>
            <a:ext cx="5429160" cy="2419200"/>
          </a:xfrm>
          <a:prstGeom prst="rect">
            <a:avLst/>
          </a:prstGeom>
          <a:ln w="0">
            <a:noFill/>
          </a:ln>
        </p:spPr>
      </p:pic>
      <p:sp>
        <p:nvSpPr>
          <p:cNvPr id="582" name="Obdélník se zakulaceným příčným rohem 5"/>
          <p:cNvSpPr/>
          <p:nvPr/>
        </p:nvSpPr>
        <p:spPr>
          <a:xfrm>
            <a:off x="1844640" y="4371840"/>
            <a:ext cx="5429160" cy="1128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Uveďte stručný popis cílové skupiny, se kterou máte zkušenosti. Jakým způsobem jste s cílovou skupinou pracovali a případně s jakým výsledkem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Elipsa 6"/>
          <p:cNvSpPr/>
          <p:nvPr/>
        </p:nvSpPr>
        <p:spPr>
          <a:xfrm>
            <a:off x="3425760" y="3262320"/>
            <a:ext cx="3670200" cy="422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ADRESA PARTNER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EB0032-A2EC-495B-9B9D-091056B13D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Zástupný symbol pro obsah 4" descr="xxx_adresaPartnera.jpg"/>
          <p:cNvPicPr/>
          <p:nvPr/>
        </p:nvPicPr>
        <p:blipFill>
          <a:blip r:embed="rId1"/>
          <a:srcRect l="0" t="0" r="0" b="1517"/>
          <a:stretch/>
        </p:blipFill>
        <p:spPr>
          <a:xfrm>
            <a:off x="2811600" y="1674720"/>
            <a:ext cx="3163680" cy="3770280"/>
          </a:xfrm>
          <a:prstGeom prst="rect">
            <a:avLst/>
          </a:prstGeom>
          <a:ln w="0">
            <a:noFill/>
          </a:ln>
        </p:spPr>
      </p:pic>
      <p:sp>
        <p:nvSpPr>
          <p:cNvPr id="587" name="Obdélník se zakulaceným příčným rohem 5"/>
          <p:cNvSpPr/>
          <p:nvPr/>
        </p:nvSpPr>
        <p:spPr>
          <a:xfrm>
            <a:off x="6249960" y="1784520"/>
            <a:ext cx="1733400" cy="366048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Adresy partnerů jsou automaticky vloženy při validaci ARES na záložce „Partner projektu.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Automaticky vložené údaje needitujte v  aplikaci BENEFI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OSOBY PARTNER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2BD076-6FFA-480E-AE25-BAE2264B6A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Zástupný symbol pro obsah 4" descr="04_zadost21_crop.jpg"/>
          <p:cNvPicPr/>
          <p:nvPr/>
        </p:nvPicPr>
        <p:blipFill>
          <a:blip r:embed="rId1"/>
          <a:srcRect l="3504" t="3029" r="0" b="4543"/>
          <a:stretch/>
        </p:blipFill>
        <p:spPr>
          <a:xfrm>
            <a:off x="2197080" y="1784520"/>
            <a:ext cx="3938760" cy="3560760"/>
          </a:xfrm>
          <a:prstGeom prst="rect">
            <a:avLst/>
          </a:prstGeom>
          <a:ln w="0">
            <a:noFill/>
          </a:ln>
        </p:spPr>
      </p:pic>
      <p:sp>
        <p:nvSpPr>
          <p:cNvPr id="591" name="Obdélník se zakulaceným příčným rohem 5"/>
          <p:cNvSpPr/>
          <p:nvPr/>
        </p:nvSpPr>
        <p:spPr>
          <a:xfrm>
            <a:off x="6300720" y="1916280"/>
            <a:ext cx="2357640" cy="328608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yplňte u každého partnera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statutární zástupce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OPIS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CF5E9F-C607-4123-A1C3-5F8401C35C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2727360" y="1770120"/>
            <a:ext cx="3424320" cy="3716280"/>
          </a:xfrm>
          <a:prstGeom prst="rect">
            <a:avLst/>
          </a:prstGeom>
          <a:ln w="0">
            <a:noFill/>
          </a:ln>
        </p:spPr>
      </p:pic>
      <p:sp>
        <p:nvSpPr>
          <p:cNvPr id="595" name="Obdélník se zakulaceným příčným rohem 5"/>
          <p:cNvSpPr/>
          <p:nvPr/>
        </p:nvSpPr>
        <p:spPr>
          <a:xfrm>
            <a:off x="6151680" y="2048040"/>
            <a:ext cx="1636560" cy="34383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Věnujte maximální pozornost vyplnění těchto záložek. Informace zde zadané slouží jako základní nástroj při hodnocení žádost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OPIS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AEBEF7-470F-41B8-AC26-0E0F9DA850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2" descr=""/>
          <p:cNvPicPr/>
          <p:nvPr/>
        </p:nvPicPr>
        <p:blipFill>
          <a:blip r:embed="rId1"/>
          <a:stretch/>
        </p:blipFill>
        <p:spPr>
          <a:xfrm>
            <a:off x="1987560" y="1770120"/>
            <a:ext cx="4849920" cy="3749760"/>
          </a:xfrm>
          <a:prstGeom prst="rect">
            <a:avLst/>
          </a:prstGeom>
          <a:ln w="0">
            <a:noFill/>
          </a:ln>
        </p:spPr>
      </p:pic>
      <p:sp>
        <p:nvSpPr>
          <p:cNvPr id="599" name="Obdélníkový popisek 5"/>
          <p:cNvSpPr/>
          <p:nvPr/>
        </p:nvSpPr>
        <p:spPr>
          <a:xfrm>
            <a:off x="6467400" y="1938240"/>
            <a:ext cx="2471760" cy="1209600"/>
          </a:xfrm>
          <a:prstGeom prst="wedgeRectCallout">
            <a:avLst>
              <a:gd name="adj1" fmla="val -67625"/>
              <a:gd name="adj2" fmla="val -2571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Jaké má žadatel mechanismy a postupy pro řízení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eďte činnosti související s projektovým řízením včetně vazby na rozpoč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bdélníkový popisek 6"/>
          <p:cNvSpPr/>
          <p:nvPr/>
        </p:nvSpPr>
        <p:spPr>
          <a:xfrm>
            <a:off x="6467400" y="4381560"/>
            <a:ext cx="2471760" cy="971640"/>
          </a:xfrm>
          <a:prstGeom prst="wedgeRectCallout">
            <a:avLst>
              <a:gd name="adj1" fmla="val -75726"/>
              <a:gd name="adj2" fmla="val 55199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yberte podporované aktivity uvedené ve výzvě k předkládání žádostí, které odpovídají danému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Elipsa 8"/>
          <p:cNvSpPr/>
          <p:nvPr/>
        </p:nvSpPr>
        <p:spPr>
          <a:xfrm>
            <a:off x="4091040" y="4643280"/>
            <a:ext cx="1000080" cy="1749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Elipsa 9"/>
          <p:cNvSpPr/>
          <p:nvPr/>
        </p:nvSpPr>
        <p:spPr>
          <a:xfrm>
            <a:off x="1987560" y="4638600"/>
            <a:ext cx="1000080" cy="179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30200" y="1077480"/>
            <a:ext cx="67089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ÚZEMÍ DOPADU A REALIZACE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64E2A2-FF1A-4FD0-BBBF-05612510DC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Zástupný symbol pro obsah 9" descr="1.JPG"/>
          <p:cNvPicPr/>
          <p:nvPr/>
        </p:nvPicPr>
        <p:blipFill>
          <a:blip r:embed="rId1"/>
          <a:stretch/>
        </p:blipFill>
        <p:spPr>
          <a:xfrm>
            <a:off x="2784600" y="1603440"/>
            <a:ext cx="3316320" cy="4027320"/>
          </a:xfrm>
          <a:prstGeom prst="rect">
            <a:avLst/>
          </a:prstGeom>
          <a:ln w="0">
            <a:noFill/>
          </a:ln>
        </p:spPr>
      </p:pic>
      <p:sp>
        <p:nvSpPr>
          <p:cNvPr id="606" name="Obdélník se zakulaceným příčným rohem 5"/>
          <p:cNvSpPr/>
          <p:nvPr/>
        </p:nvSpPr>
        <p:spPr>
          <a:xfrm>
            <a:off x="6488280" y="1770120"/>
            <a:ext cx="1931760" cy="35431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Zadané oblasti musí být v souladu s prostorem  definovaným Operačním program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 rámci jednoho kraje je nutné uvést vždy pouze jeden reg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ádějte nejvyšší typ území (region, kraj, okres, obec), který odpovídá zpracovávanému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Elipsa 6"/>
          <p:cNvSpPr/>
          <p:nvPr/>
        </p:nvSpPr>
        <p:spPr>
          <a:xfrm>
            <a:off x="3857760" y="3178080"/>
            <a:ext cx="1245960" cy="506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eu-zadost.cz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EBEDC0-129A-4444-A744-06A307392E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"/>
          <p:cNvPicPr/>
          <p:nvPr/>
        </p:nvPicPr>
        <p:blipFill>
          <a:blip r:embed="rId2"/>
          <a:stretch/>
        </p:blipFill>
        <p:spPr>
          <a:xfrm>
            <a:off x="662040" y="1951200"/>
            <a:ext cx="802476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330200" y="1091880"/>
            <a:ext cx="67089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ÚZEMÍ DOPADU A REALIZACE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90820C-5034-4A31-8E53-9F8A6E43F7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Obrázek 9" descr="3.JPG"/>
          <p:cNvPicPr/>
          <p:nvPr/>
        </p:nvPicPr>
        <p:blipFill>
          <a:blip r:embed="rId1"/>
          <a:stretch/>
        </p:blipFill>
        <p:spPr>
          <a:xfrm>
            <a:off x="2360520" y="1638360"/>
            <a:ext cx="4192560" cy="4043160"/>
          </a:xfrm>
          <a:prstGeom prst="rect">
            <a:avLst/>
          </a:prstGeom>
          <a:ln w="0">
            <a:noFill/>
          </a:ln>
        </p:spPr>
      </p:pic>
      <p:sp>
        <p:nvSpPr>
          <p:cNvPr id="611" name="Obdélník se zakulaceným příčným rohem 5"/>
          <p:cNvSpPr/>
          <p:nvPr/>
        </p:nvSpPr>
        <p:spPr>
          <a:xfrm>
            <a:off x="6286680" y="1714680"/>
            <a:ext cx="1969920" cy="3703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díl plánované částky způsobilých výdajů projektu (v %) vztahující se k NUTS3, v němž je projekt realizován. Součet procentních podílů ze všech zadaných oblastí se musí rovnat 100 %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KLÍČOVÉ AKTIVIT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963CEB-CCEA-469C-8A37-753C4D9F4C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2" descr=""/>
          <p:cNvPicPr/>
          <p:nvPr/>
        </p:nvPicPr>
        <p:blipFill>
          <a:blip r:embed="rId1"/>
          <a:stretch/>
        </p:blipFill>
        <p:spPr>
          <a:xfrm>
            <a:off x="1951200" y="1811160"/>
            <a:ext cx="4976640" cy="3716640"/>
          </a:xfrm>
          <a:prstGeom prst="rect">
            <a:avLst/>
          </a:prstGeom>
          <a:ln w="0">
            <a:noFill/>
          </a:ln>
        </p:spPr>
      </p:pic>
      <p:sp>
        <p:nvSpPr>
          <p:cNvPr id="615" name="Obdélník se zakulaceným příčným rohem 5"/>
          <p:cNvSpPr/>
          <p:nvPr/>
        </p:nvSpPr>
        <p:spPr>
          <a:xfrm>
            <a:off x="6315120" y="3236760"/>
            <a:ext cx="2187360" cy="14306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veďte všechny klíčové aktivity, které bude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 jednotlivých fázích projektu realizovat žadatel nebo partneři projek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bdélníkový popisek 6"/>
          <p:cNvSpPr/>
          <p:nvPr/>
        </p:nvSpPr>
        <p:spPr>
          <a:xfrm>
            <a:off x="5838840" y="4830840"/>
            <a:ext cx="2663640" cy="696960"/>
          </a:xfrm>
          <a:prstGeom prst="wedgeRectCallout">
            <a:avLst>
              <a:gd name="adj1" fmla="val -96907"/>
              <a:gd name="adj2" fmla="val 6101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Náklady na klíčové aktivity rozložte na ESF způsobilé výdaje a výdaje spadající do křížového financování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KLÍČOVÉ AKTIVIT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9F92DE-3555-48F0-80BF-7992823F0B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Zástupný symbol pro obsah 4" descr="04_zadost27_2_crop.jpg"/>
          <p:cNvPicPr/>
          <p:nvPr/>
        </p:nvPicPr>
        <p:blipFill>
          <a:blip r:embed="rId1"/>
          <a:stretch/>
        </p:blipFill>
        <p:spPr>
          <a:xfrm>
            <a:off x="1946160" y="1770120"/>
            <a:ext cx="5064120" cy="3852720"/>
          </a:xfrm>
          <a:prstGeom prst="rect">
            <a:avLst/>
          </a:prstGeom>
          <a:ln w="0">
            <a:noFill/>
          </a:ln>
        </p:spPr>
      </p:pic>
      <p:sp>
        <p:nvSpPr>
          <p:cNvPr id="620" name="Obdélníkový popisek 5"/>
          <p:cNvSpPr/>
          <p:nvPr/>
        </p:nvSpPr>
        <p:spPr>
          <a:xfrm>
            <a:off x="6553080" y="2511360"/>
            <a:ext cx="2448000" cy="1201680"/>
          </a:xfrm>
          <a:prstGeom prst="wedgeRectCallout">
            <a:avLst>
              <a:gd name="adj1" fmla="val -63472"/>
              <a:gd name="adj2" fmla="val 187018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Ke každé klíčové aktivitě přiřaďte všechny subjekty, které se budou podílet na její realizac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HARMONOGRAM AKTIVIT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E493B2-6ECA-4FDA-9F85-EC1304549C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2" descr=""/>
          <p:cNvPicPr/>
          <p:nvPr/>
        </p:nvPicPr>
        <p:blipFill>
          <a:blip r:embed="rId1"/>
          <a:stretch/>
        </p:blipFill>
        <p:spPr>
          <a:xfrm>
            <a:off x="1692360" y="1770120"/>
            <a:ext cx="5759280" cy="2962080"/>
          </a:xfrm>
          <a:prstGeom prst="rect">
            <a:avLst/>
          </a:prstGeom>
          <a:ln w="0">
            <a:noFill/>
          </a:ln>
        </p:spPr>
      </p:pic>
      <p:sp>
        <p:nvSpPr>
          <p:cNvPr id="624" name="Obdélník se zakulaceným příčným rohem 5"/>
          <p:cNvSpPr/>
          <p:nvPr/>
        </p:nvSpPr>
        <p:spPr>
          <a:xfrm>
            <a:off x="1692360" y="4732200"/>
            <a:ext cx="5759280" cy="712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Do harmonogramu zahrňte všechny klíčové aktivity zadané na záložce „Klíčové aktivity“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edené aktivity musí být realizovány v časovém rozmezí uvedeném na záložce „Projekt“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Elipsa 6"/>
          <p:cNvSpPr/>
          <p:nvPr/>
        </p:nvSpPr>
        <p:spPr>
          <a:xfrm>
            <a:off x="1692360" y="3166920"/>
            <a:ext cx="1071360" cy="190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Elipsa 7"/>
          <p:cNvSpPr/>
          <p:nvPr/>
        </p:nvSpPr>
        <p:spPr>
          <a:xfrm>
            <a:off x="5180040" y="3968640"/>
            <a:ext cx="107136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REALIZAČNÍ TÝM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453BCF-DA28-4868-93F3-0DC93D0C4F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2" descr=""/>
          <p:cNvPicPr/>
          <p:nvPr/>
        </p:nvPicPr>
        <p:blipFill>
          <a:blip r:embed="rId1"/>
          <a:stretch/>
        </p:blipFill>
        <p:spPr>
          <a:xfrm>
            <a:off x="1330200" y="1784520"/>
            <a:ext cx="3364200" cy="15174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3" descr=""/>
          <p:cNvPicPr/>
          <p:nvPr/>
        </p:nvPicPr>
        <p:blipFill>
          <a:blip r:embed="rId2"/>
          <a:stretch/>
        </p:blipFill>
        <p:spPr>
          <a:xfrm>
            <a:off x="1330200" y="3301920"/>
            <a:ext cx="2695680" cy="2268720"/>
          </a:xfrm>
          <a:prstGeom prst="rect">
            <a:avLst/>
          </a:prstGeom>
          <a:ln w="0">
            <a:noFill/>
          </a:ln>
        </p:spPr>
      </p:pic>
      <p:sp>
        <p:nvSpPr>
          <p:cNvPr id="631" name="Elipsa 7"/>
          <p:cNvSpPr/>
          <p:nvPr/>
        </p:nvSpPr>
        <p:spPr>
          <a:xfrm>
            <a:off x="3429000" y="3000240"/>
            <a:ext cx="92880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Elipsa 8"/>
          <p:cNvSpPr/>
          <p:nvPr/>
        </p:nvSpPr>
        <p:spPr>
          <a:xfrm>
            <a:off x="1104840" y="3000240"/>
            <a:ext cx="92880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bdélníkový popisek 9"/>
          <p:cNvSpPr/>
          <p:nvPr/>
        </p:nvSpPr>
        <p:spPr>
          <a:xfrm>
            <a:off x="4357800" y="1974960"/>
            <a:ext cx="2149200" cy="836640"/>
          </a:xfrm>
          <a:prstGeom prst="wedgeRectCallout">
            <a:avLst>
              <a:gd name="adj1" fmla="val -69004"/>
              <a:gd name="adj2" fmla="val 126467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Z nabídky lze rozlišit pracovníky dle typu 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Manažerské a administrativní pozic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Odborné pozi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bdélníkový popisek 10"/>
          <p:cNvSpPr/>
          <p:nvPr/>
        </p:nvSpPr>
        <p:spPr>
          <a:xfrm>
            <a:off x="4357800" y="2954160"/>
            <a:ext cx="2450880" cy="331920"/>
          </a:xfrm>
          <a:prstGeom prst="wedgeRectCallout">
            <a:avLst>
              <a:gd name="adj1" fmla="val -65439"/>
              <a:gd name="adj2" fmla="val 206384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Zvolte žadatele nebo partnera. </a:t>
            </a:r>
            <a:br>
              <a:rPr sz="16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bdélník se zakulaceným příčným rohem 11"/>
          <p:cNvSpPr/>
          <p:nvPr/>
        </p:nvSpPr>
        <p:spPr>
          <a:xfrm>
            <a:off x="6945480" y="1784520"/>
            <a:ext cx="1741320" cy="37861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 případě, že plánujete pro určitý typ pozice více zaměstnanců, vyplňte tuto pozici jako jeden záznam a v poli „Úvazek“ uveďte kumulovanou hodnotu úvazků všech zaměstnanců (například 300 %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 popisu pracovní náplně uveďte počet osob, které budou danou pozici zajišťov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309320" y="1050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REALIZAČNÍ TÝM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72C3B2-EEDC-4780-9C2F-E42668E511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4" descr=""/>
          <p:cNvPicPr/>
          <p:nvPr/>
        </p:nvPicPr>
        <p:blipFill>
          <a:blip r:embed="rId1"/>
          <a:stretch/>
        </p:blipFill>
        <p:spPr>
          <a:xfrm>
            <a:off x="1309680" y="1569960"/>
            <a:ext cx="5605560" cy="3775320"/>
          </a:xfrm>
          <a:prstGeom prst="rect">
            <a:avLst/>
          </a:prstGeom>
          <a:ln w="0">
            <a:noFill/>
          </a:ln>
        </p:spPr>
      </p:pic>
      <p:sp>
        <p:nvSpPr>
          <p:cNvPr id="639" name="Šrafovaná šipka doprava 5"/>
          <p:cNvSpPr/>
          <p:nvPr/>
        </p:nvSpPr>
        <p:spPr>
          <a:xfrm rot="5400000">
            <a:off x="3643200" y="164124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bdélníkový popisek 6"/>
          <p:cNvSpPr/>
          <p:nvPr/>
        </p:nvSpPr>
        <p:spPr>
          <a:xfrm>
            <a:off x="6359400" y="1743120"/>
            <a:ext cx="2592360" cy="1111320"/>
          </a:xfrm>
          <a:prstGeom prst="wedgeRectCallout">
            <a:avLst>
              <a:gd name="adj1" fmla="val -91231"/>
              <a:gd name="adj2" fmla="val 1190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 pracovní smlouvy uvádějte úvazek v procentech (50 %, 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300 % atd.), v případě DPČ nebo DPP uvádějte počet hodin za měsí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bdélníkový popisek 7"/>
          <p:cNvSpPr/>
          <p:nvPr/>
        </p:nvSpPr>
        <p:spPr>
          <a:xfrm>
            <a:off x="6134040" y="3535200"/>
            <a:ext cx="2817720" cy="700200"/>
          </a:xfrm>
          <a:prstGeom prst="wedgeRectCallout">
            <a:avLst>
              <a:gd name="adj1" fmla="val -99125"/>
              <a:gd name="adj2" fmla="val -5155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 pracovní smlouvy doplňte sazbu za měsíc, u DPČ nebo DPP sazbu za hodin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bdélníkový popisek 8"/>
          <p:cNvSpPr/>
          <p:nvPr/>
        </p:nvSpPr>
        <p:spPr>
          <a:xfrm>
            <a:off x="4871880" y="4599000"/>
            <a:ext cx="4079880" cy="985680"/>
          </a:xfrm>
          <a:prstGeom prst="wedgeRectCallout">
            <a:avLst>
              <a:gd name="adj1" fmla="val -74995"/>
              <a:gd name="adj2" fmla="val -63000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Zodpovězte následující otázk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Jaká bude převažující pracovní náplň této pozice v projektu? Popište nejčastější typy činností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Na jakých konkrétních aktivitách se bude v rámci projektu podílet a jakým způsobe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Jaké náklady (jiné než osobní a režie) se budou k dané pozici váza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HORIZONTÁLNÍ TÉMATA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A0F0FB-0237-415D-B43A-BD5822DAB3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916280" y="1784520"/>
            <a:ext cx="4989240" cy="3727440"/>
          </a:xfrm>
          <a:prstGeom prst="rect">
            <a:avLst/>
          </a:prstGeom>
          <a:ln w="0">
            <a:noFill/>
          </a:ln>
        </p:spPr>
      </p:pic>
      <p:sp>
        <p:nvSpPr>
          <p:cNvPr id="646" name="Obdélník se zakulaceným příčným rohem 5"/>
          <p:cNvSpPr/>
          <p:nvPr/>
        </p:nvSpPr>
        <p:spPr>
          <a:xfrm>
            <a:off x="6905520" y="1951200"/>
            <a:ext cx="1611360" cy="35607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Shrňte, v jakých klíčových aktivitách a jakým způsobem bude projekt ovlivňovat rovné příležitosti a udržitelný rozvoj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KATEGORIZACE PROJEKTU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EE0AAF-E7E7-4D04-8315-E1C0B9812C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5" descr=""/>
          <p:cNvPicPr/>
          <p:nvPr/>
        </p:nvPicPr>
        <p:blipFill>
          <a:blip r:embed="rId1"/>
          <a:stretch/>
        </p:blipFill>
        <p:spPr>
          <a:xfrm>
            <a:off x="1330200" y="1784520"/>
            <a:ext cx="3760920" cy="19954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" descr=""/>
          <p:cNvPicPr/>
          <p:nvPr/>
        </p:nvPicPr>
        <p:blipFill>
          <a:blip r:embed="rId2"/>
          <a:stretch/>
        </p:blipFill>
        <p:spPr>
          <a:xfrm>
            <a:off x="1330200" y="3887640"/>
            <a:ext cx="4238640" cy="1690920"/>
          </a:xfrm>
          <a:prstGeom prst="rect">
            <a:avLst/>
          </a:prstGeom>
          <a:ln w="0">
            <a:noFill/>
          </a:ln>
        </p:spPr>
      </p:pic>
      <p:sp>
        <p:nvSpPr>
          <p:cNvPr id="651" name="Obdélníkový popisek 6"/>
          <p:cNvSpPr/>
          <p:nvPr/>
        </p:nvSpPr>
        <p:spPr>
          <a:xfrm>
            <a:off x="4776840" y="1784520"/>
            <a:ext cx="2579760" cy="715680"/>
          </a:xfrm>
          <a:prstGeom prst="wedgeRectCallout">
            <a:avLst>
              <a:gd name="adj1" fmla="val -43023"/>
              <a:gd name="adj2" fmla="val 116648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Výběr typu území – venkovská oblast, měst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bdélníkový popisek 7"/>
          <p:cNvSpPr/>
          <p:nvPr/>
        </p:nvSpPr>
        <p:spPr>
          <a:xfrm>
            <a:off x="5195880" y="2720880"/>
            <a:ext cx="2714760" cy="2857680"/>
          </a:xfrm>
          <a:prstGeom prst="wedgeRectCallout">
            <a:avLst>
              <a:gd name="adj1" fmla="val -123347"/>
              <a:gd name="adj2" fmla="val 44879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Součet částek za všechna zvolená prioritní témata v poli Prostředky z EU v Kč musí být roven částce v poli Strukturální fond v záložce Přehled financová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Monitorovací indikátory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1F13FB-16FB-4EA1-ADAE-6F573BD3AA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3" descr=""/>
          <p:cNvPicPr/>
          <p:nvPr/>
        </p:nvPicPr>
        <p:blipFill>
          <a:blip r:embed="rId1"/>
          <a:stretch/>
        </p:blipFill>
        <p:spPr>
          <a:xfrm>
            <a:off x="1746360" y="1711440"/>
            <a:ext cx="4738680" cy="3633840"/>
          </a:xfrm>
          <a:prstGeom prst="rect">
            <a:avLst/>
          </a:prstGeom>
          <a:ln w="0">
            <a:noFill/>
          </a:ln>
        </p:spPr>
      </p:pic>
      <p:sp>
        <p:nvSpPr>
          <p:cNvPr id="656" name="Obdélník se zakulaceným příčným rohem 5"/>
          <p:cNvSpPr/>
          <p:nvPr/>
        </p:nvSpPr>
        <p:spPr>
          <a:xfrm>
            <a:off x="6615000" y="1770120"/>
            <a:ext cx="2071800" cy="3565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šechny indikátory jsou před vyplněny na nulovou hodnotu. Vyplňte pouze hodnoty relevantních indikátorů pro projek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Nezapomínejte vyplnit součtové i dílčí indikátory  např. muže/žen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Elipsa 7"/>
          <p:cNvSpPr/>
          <p:nvPr/>
        </p:nvSpPr>
        <p:spPr>
          <a:xfrm>
            <a:off x="4808520" y="2825640"/>
            <a:ext cx="1428840" cy="55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VÝBĚROVÁ ŘÍZENÍ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B9B30A-CB0D-4BC4-B2EC-02B6520753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Zástupný symbol pro obsah 8" descr="1.JPG"/>
          <p:cNvPicPr/>
          <p:nvPr/>
        </p:nvPicPr>
        <p:blipFill>
          <a:blip r:embed="rId1"/>
          <a:stretch/>
        </p:blipFill>
        <p:spPr>
          <a:xfrm>
            <a:off x="1897200" y="1736640"/>
            <a:ext cx="4147920" cy="3808440"/>
          </a:xfrm>
          <a:prstGeom prst="rect">
            <a:avLst/>
          </a:prstGeom>
          <a:ln w="0">
            <a:noFill/>
          </a:ln>
        </p:spPr>
      </p:pic>
      <p:sp>
        <p:nvSpPr>
          <p:cNvPr id="661" name="Obdélník se zakulaceným příčným rohem 5"/>
          <p:cNvSpPr/>
          <p:nvPr/>
        </p:nvSpPr>
        <p:spPr>
          <a:xfrm>
            <a:off x="6342120" y="1881360"/>
            <a:ext cx="2146320" cy="36637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Uveďte informace </a:t>
            </a:r>
            <a:br>
              <a:rPr sz="1500"/>
            </a:b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o chystaných nebo již probíhajících výběrových řízení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Formuláře na této záložce budou aktivní pouze v případě, že jste na záložce „Projekt“ zvolili příslušnou volbu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Konto 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456A64-789A-4B9E-BEC4-312A2490C2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6" descr=""/>
          <p:cNvPicPr/>
          <p:nvPr/>
        </p:nvPicPr>
        <p:blipFill>
          <a:blip r:embed="rId1"/>
          <a:srcRect l="3901" t="10139" r="30472" b="56434"/>
          <a:stretch/>
        </p:blipFill>
        <p:spPr>
          <a:xfrm>
            <a:off x="1152360" y="1770120"/>
            <a:ext cx="7008840" cy="2759040"/>
          </a:xfrm>
          <a:prstGeom prst="rect">
            <a:avLst/>
          </a:prstGeom>
          <a:ln w="0">
            <a:noFill/>
          </a:ln>
        </p:spPr>
      </p:pic>
      <p:sp>
        <p:nvSpPr>
          <p:cNvPr id="524" name="Podnadpis 7"/>
          <p:cNvSpPr/>
          <p:nvPr/>
        </p:nvSpPr>
        <p:spPr>
          <a:xfrm>
            <a:off x="2071800" y="4529160"/>
            <a:ext cx="5716440" cy="10778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indent="-14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4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 úspěšném přihlášení se zobrazí nabídka 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Konto žádosti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. Slouží jako seznam/přehled všech vytvořených žádostí, které žadatel vytvořil či k nim má přístup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9280" indent="-1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UBLICIT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8A7BAC-4349-44D7-B578-AFAEBCD1DF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2" descr=""/>
          <p:cNvPicPr/>
          <p:nvPr/>
        </p:nvPicPr>
        <p:blipFill>
          <a:blip r:embed="rId1"/>
          <a:stretch/>
        </p:blipFill>
        <p:spPr>
          <a:xfrm>
            <a:off x="1382760" y="1582560"/>
            <a:ext cx="5898960" cy="4040280"/>
          </a:xfrm>
          <a:prstGeom prst="rect">
            <a:avLst/>
          </a:prstGeom>
          <a:ln w="0">
            <a:noFill/>
          </a:ln>
        </p:spPr>
      </p:pic>
      <p:sp>
        <p:nvSpPr>
          <p:cNvPr id="665" name="Elipsa 5"/>
          <p:cNvSpPr/>
          <p:nvPr/>
        </p:nvSpPr>
        <p:spPr>
          <a:xfrm>
            <a:off x="1392120" y="3314880"/>
            <a:ext cx="1216080" cy="48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Elipsa 6"/>
          <p:cNvSpPr/>
          <p:nvPr/>
        </p:nvSpPr>
        <p:spPr>
          <a:xfrm>
            <a:off x="5022720" y="3314880"/>
            <a:ext cx="1214640" cy="48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DALŠÍ PROJEKT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4BD1EB-B987-43F4-B6AC-69C41E18D6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Zástupný symbol pro obsah 4" descr="04_zadost50_1_crop.jpg"/>
          <p:cNvPicPr/>
          <p:nvPr/>
        </p:nvPicPr>
        <p:blipFill>
          <a:blip r:embed="rId1"/>
          <a:srcRect l="4686" t="3034" r="0" b="25762"/>
          <a:stretch/>
        </p:blipFill>
        <p:spPr>
          <a:xfrm>
            <a:off x="1246320" y="1784520"/>
            <a:ext cx="5960880" cy="3551040"/>
          </a:xfrm>
          <a:prstGeom prst="rect">
            <a:avLst/>
          </a:prstGeom>
          <a:ln w="0">
            <a:noFill/>
          </a:ln>
        </p:spPr>
      </p:pic>
      <p:sp>
        <p:nvSpPr>
          <p:cNvPr id="670" name="Obdélník se zakulaceným příčným rohem 5"/>
          <p:cNvSpPr/>
          <p:nvPr/>
        </p:nvSpPr>
        <p:spPr>
          <a:xfrm>
            <a:off x="7207200" y="1784520"/>
            <a:ext cx="1690560" cy="42750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veďte další projekty, které realizuje žadatel v oblasti rozvoje lidských zdrojů a které jsou financované z veřejných zdrojů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veďte projekty, které jsou relevantní vzhledem k tomuto projektu a js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realizované nebo připravované v době podání žádos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ŘÍLOH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2D130D-8C57-4971-9E53-A44EC97218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7" descr=""/>
          <p:cNvPicPr/>
          <p:nvPr/>
        </p:nvPicPr>
        <p:blipFill>
          <a:blip r:embed="rId1"/>
          <a:stretch/>
        </p:blipFill>
        <p:spPr>
          <a:xfrm>
            <a:off x="1855800" y="1701720"/>
            <a:ext cx="4325760" cy="3870360"/>
          </a:xfrm>
          <a:prstGeom prst="rect">
            <a:avLst/>
          </a:prstGeom>
          <a:ln w="0">
            <a:noFill/>
          </a:ln>
        </p:spPr>
      </p:pic>
      <p:sp>
        <p:nvSpPr>
          <p:cNvPr id="674" name="Obdélník se zakulaceným příčným rohem 5"/>
          <p:cNvSpPr/>
          <p:nvPr/>
        </p:nvSpPr>
        <p:spPr>
          <a:xfrm>
            <a:off x="6365880" y="1701720"/>
            <a:ext cx="1781280" cy="38703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Elektronickou přílohu vložte kliknutím na tlačítko Připojit, zde vyberte požadovaný  soubo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Přílohy s povinným podpisem naskenujte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a přiložte jako obrázek jpg, nebo soubor pd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Každá příloha musí mít zaškrtnuto buď doložena, nebo nerelevantn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Kontrola žádosti a finalizace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DD0506-63A7-4CBF-8B7D-272768C66A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2" descr=""/>
          <p:cNvPicPr/>
          <p:nvPr/>
        </p:nvPicPr>
        <p:blipFill>
          <a:blip r:embed="rId1"/>
          <a:stretch/>
        </p:blipFill>
        <p:spPr>
          <a:xfrm>
            <a:off x="1596960" y="1784520"/>
            <a:ext cx="6510240" cy="2858760"/>
          </a:xfrm>
          <a:prstGeom prst="rect">
            <a:avLst/>
          </a:prstGeom>
          <a:ln w="0">
            <a:noFill/>
          </a:ln>
        </p:spPr>
      </p:pic>
      <p:sp>
        <p:nvSpPr>
          <p:cNvPr id="678" name="Obdélník se zakulaceným příčným rohem 5"/>
          <p:cNvSpPr/>
          <p:nvPr/>
        </p:nvSpPr>
        <p:spPr>
          <a:xfrm>
            <a:off x="1596960" y="4643280"/>
            <a:ext cx="6510240" cy="10065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Kontrola se spustí přes tlačítko Kontrola, automaticky proběhne i při spuštění Finalizace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Bez doplnění všech nedostatků, na které Kontrola upozorní, nelze Finalizaci žádosti provést</a:t>
            </a:r>
            <a:r>
              <a:rPr b="0" lang="cs-CZ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Kontakt - Benefi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help_opvk@msmt.cz</a:t>
            </a:r>
            <a:r>
              <a:rPr b="0" lang="cs-CZ" sz="28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Děkujeme vám za pozornost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BCC799-660B-4939-97FA-C7DD57234B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Tvorba nové 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E4DBBC-4DD7-434B-99A3-589A6A3612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7" descr=""/>
          <p:cNvPicPr/>
          <p:nvPr/>
        </p:nvPicPr>
        <p:blipFill>
          <a:blip r:embed="rId1"/>
          <a:stretch/>
        </p:blipFill>
        <p:spPr>
          <a:xfrm>
            <a:off x="1330200" y="1770120"/>
            <a:ext cx="6458040" cy="8906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8" descr="C:\Documents and Settings\kraselovskyp\Dokumenty\Obrázky\1.1.bmp"/>
          <p:cNvPicPr/>
          <p:nvPr/>
        </p:nvPicPr>
        <p:blipFill>
          <a:blip r:embed="rId2"/>
          <a:stretch/>
        </p:blipFill>
        <p:spPr>
          <a:xfrm>
            <a:off x="1330200" y="2660760"/>
            <a:ext cx="6458040" cy="1684080"/>
          </a:xfrm>
          <a:prstGeom prst="rect">
            <a:avLst/>
          </a:prstGeom>
          <a:ln w="0">
            <a:noFill/>
          </a:ln>
        </p:spPr>
      </p:pic>
      <p:sp>
        <p:nvSpPr>
          <p:cNvPr id="529" name="Podnadpis 7"/>
          <p:cNvSpPr/>
          <p:nvPr/>
        </p:nvSpPr>
        <p:spPr>
          <a:xfrm>
            <a:off x="1928880" y="4344840"/>
            <a:ext cx="5344920" cy="11145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V nabídce jsou různé typy výzev. Vždy je nutné vybrat správný typ výzvy podle druhu projektu. Úplný název výzvy v Benefit7 je vždy uveden ve výzvě samotné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Elipsa 7"/>
          <p:cNvSpPr/>
          <p:nvPr/>
        </p:nvSpPr>
        <p:spPr>
          <a:xfrm>
            <a:off x="2820960" y="3321000"/>
            <a:ext cx="4967280" cy="647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329840" y="108216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Identifikace 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80A31B-797E-413D-B32D-183BD6A710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12" descr="C:\Documents and Settings\kraselovskyp\Dokumenty\Obrázky\1.1 - 2.bmp"/>
          <p:cNvPicPr/>
          <p:nvPr/>
        </p:nvPicPr>
        <p:blipFill>
          <a:blip r:embed="rId1"/>
          <a:stretch/>
        </p:blipFill>
        <p:spPr>
          <a:xfrm>
            <a:off x="1330200" y="1774800"/>
            <a:ext cx="6458040" cy="2625840"/>
          </a:xfrm>
          <a:prstGeom prst="rect">
            <a:avLst/>
          </a:prstGeom>
          <a:ln w="0">
            <a:noFill/>
          </a:ln>
        </p:spPr>
      </p:pic>
      <p:sp>
        <p:nvSpPr>
          <p:cNvPr id="534" name="Podnadpis 7"/>
          <p:cNvSpPr/>
          <p:nvPr/>
        </p:nvSpPr>
        <p:spPr>
          <a:xfrm>
            <a:off x="1728720" y="4592520"/>
            <a:ext cx="5859360" cy="9590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Vyplňujte záložky v takovém pořadí, v jakém jsou řazeny za sebou. Při přeskakování záložek nemusí být všechna pole zobrazena nebo se nemusí zobrazovat číselníky.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Calibri"/>
                <a:ea typeface="Times New Roman"/>
              </a:rPr>
              <a:t>Průběžně UKLÁDEJTE každou záložku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Elipsa 7"/>
          <p:cNvSpPr/>
          <p:nvPr/>
        </p:nvSpPr>
        <p:spPr>
          <a:xfrm>
            <a:off x="3240000" y="2292480"/>
            <a:ext cx="3313080" cy="6699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Elipsa 9"/>
          <p:cNvSpPr/>
          <p:nvPr/>
        </p:nvSpPr>
        <p:spPr>
          <a:xfrm>
            <a:off x="955800" y="4148280"/>
            <a:ext cx="2046240" cy="252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8" descr=""/>
          <p:cNvPicPr/>
          <p:nvPr/>
        </p:nvPicPr>
        <p:blipFill>
          <a:blip r:embed="rId2"/>
          <a:stretch/>
        </p:blipFill>
        <p:spPr>
          <a:xfrm>
            <a:off x="4056120" y="4248000"/>
            <a:ext cx="2305080" cy="304920"/>
          </a:xfrm>
          <a:prstGeom prst="rect">
            <a:avLst/>
          </a:prstGeom>
          <a:ln w="0">
            <a:noFill/>
          </a:ln>
        </p:spPr>
      </p:pic>
      <p:sp>
        <p:nvSpPr>
          <p:cNvPr id="538" name="Šipka dolů 12"/>
          <p:cNvSpPr/>
          <p:nvPr/>
        </p:nvSpPr>
        <p:spPr>
          <a:xfrm rot="5400000">
            <a:off x="5103720" y="3913200"/>
            <a:ext cx="534960" cy="976320"/>
          </a:xfrm>
          <a:prstGeom prst="downArrow">
            <a:avLst>
              <a:gd name="adj1" fmla="val 50000"/>
              <a:gd name="adj2" fmla="val 50002"/>
            </a:avLst>
          </a:prstGeom>
          <a:noFill/>
          <a:ln w="1260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330200" y="914040"/>
            <a:ext cx="624384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PROJEKT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FFB0BB-2D8C-4FC8-ADD3-D372AF678E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8" descr=""/>
          <p:cNvPicPr/>
          <p:nvPr/>
        </p:nvPicPr>
        <p:blipFill>
          <a:blip r:embed="rId1"/>
          <a:stretch/>
        </p:blipFill>
        <p:spPr>
          <a:xfrm>
            <a:off x="1922400" y="1555920"/>
            <a:ext cx="4508640" cy="24382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C:\Documents and Settings\kraselovskyp\Dokumenty\Obrázky\1.1 - 3.jpg"/>
          <p:cNvPicPr/>
          <p:nvPr/>
        </p:nvPicPr>
        <p:blipFill>
          <a:blip r:embed="rId2"/>
          <a:stretch/>
        </p:blipFill>
        <p:spPr>
          <a:xfrm>
            <a:off x="1927080" y="2660760"/>
            <a:ext cx="4626000" cy="2884320"/>
          </a:xfrm>
          <a:prstGeom prst="rect">
            <a:avLst/>
          </a:prstGeom>
          <a:ln w="0">
            <a:noFill/>
          </a:ln>
        </p:spPr>
      </p:pic>
      <p:sp>
        <p:nvSpPr>
          <p:cNvPr id="543" name="Elipsa 6"/>
          <p:cNvSpPr/>
          <p:nvPr/>
        </p:nvSpPr>
        <p:spPr>
          <a:xfrm>
            <a:off x="2925720" y="4303800"/>
            <a:ext cx="3938760" cy="531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Elipsa 7"/>
          <p:cNvSpPr/>
          <p:nvPr/>
        </p:nvSpPr>
        <p:spPr>
          <a:xfrm>
            <a:off x="3225960" y="5013360"/>
            <a:ext cx="1468440" cy="322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Elipsa 9"/>
          <p:cNvSpPr/>
          <p:nvPr/>
        </p:nvSpPr>
        <p:spPr>
          <a:xfrm>
            <a:off x="4694400" y="5013360"/>
            <a:ext cx="1469880" cy="322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ŽADATEL PROJEKTU 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02EA85-3190-4401-9D9A-9D3517CDDF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Obrázek 5" descr="1.JPG"/>
          <p:cNvPicPr/>
          <p:nvPr/>
        </p:nvPicPr>
        <p:blipFill>
          <a:blip r:embed="rId1"/>
          <a:stretch/>
        </p:blipFill>
        <p:spPr>
          <a:xfrm>
            <a:off x="2633760" y="1658880"/>
            <a:ext cx="3714480" cy="3987720"/>
          </a:xfrm>
          <a:prstGeom prst="rect">
            <a:avLst/>
          </a:prstGeom>
          <a:ln w="0">
            <a:noFill/>
          </a:ln>
        </p:spPr>
      </p:pic>
      <p:sp>
        <p:nvSpPr>
          <p:cNvPr id="549" name="Obdélníkový popisek 5"/>
          <p:cNvSpPr/>
          <p:nvPr/>
        </p:nvSpPr>
        <p:spPr>
          <a:xfrm flipV="1" rot="10800000">
            <a:off x="6214680" y="2927880"/>
            <a:ext cx="2639880" cy="1214280"/>
          </a:xfrm>
          <a:prstGeom prst="wedgeRectCallout">
            <a:avLst>
              <a:gd name="adj1" fmla="val 172361"/>
              <a:gd name="adj2" fmla="val 5378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Částka, která připad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z celkového rozpočtu na žadate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bdélník se zakulaceným příčným rohem 6"/>
          <p:cNvSpPr/>
          <p:nvPr/>
        </p:nvSpPr>
        <p:spPr>
          <a:xfrm>
            <a:off x="6156360" y="4221000"/>
            <a:ext cx="2714760" cy="13575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Žadatelem je hlavní odpovědná osoba za projek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Služba ARES ošetřující IČ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 případě, že by validace ARES neproběhla správně a načtená data neodpovídala skutečnosti je nutné zařídit opravu dat: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i špatném názvu subjektu je třeba obrátit se na Registr ekonomických subjektů (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czso.cz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i chybě v adrese na UIR- ADR (Ministerstvo práce a sociálních věcí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0B822D-4AF0-4C9A-8B09-031ECD34C8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329840" y="1064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ŽADATEL PROJEKTU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4BDF75-83E0-4EFF-B5FB-857B9E6379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2" descr=""/>
          <p:cNvPicPr/>
          <p:nvPr/>
        </p:nvPicPr>
        <p:blipFill>
          <a:blip r:embed="rId1"/>
          <a:stretch/>
        </p:blipFill>
        <p:spPr>
          <a:xfrm>
            <a:off x="2075040" y="1757520"/>
            <a:ext cx="4713120" cy="3797280"/>
          </a:xfrm>
          <a:prstGeom prst="rect">
            <a:avLst/>
          </a:prstGeom>
          <a:ln w="0">
            <a:noFill/>
          </a:ln>
        </p:spPr>
      </p:pic>
      <p:sp>
        <p:nvSpPr>
          <p:cNvPr id="557" name="Obdélníkový popisek 5"/>
          <p:cNvSpPr/>
          <p:nvPr/>
        </p:nvSpPr>
        <p:spPr>
          <a:xfrm>
            <a:off x="6786720" y="1757520"/>
            <a:ext cx="2193840" cy="1957320"/>
          </a:xfrm>
          <a:prstGeom prst="wedgeRectCallout">
            <a:avLst>
              <a:gd name="adj1" fmla="val -85736"/>
              <a:gd name="adj2" fmla="val 55046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Uveďte stručný popis cílové skupiny, se kterou máte zkušenosti. Jakým způsobem jste s cílovou skupinou pracovali a případně s jakým výsledkem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Elipsa 6"/>
          <p:cNvSpPr/>
          <p:nvPr/>
        </p:nvSpPr>
        <p:spPr>
          <a:xfrm>
            <a:off x="3289320" y="4143240"/>
            <a:ext cx="3726000" cy="511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1-01-04T07:21:41Z</dcterms:modified>
  <cp:revision>75</cp:revision>
  <dc:subject/>
  <dc:title>Titulní strana – Titulek</dc:title>
</cp:coreProperties>
</file>