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517968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5EF2B-38A6-437C-AE40-CE88FB239A6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857680" y="514440"/>
            <a:ext cx="3429000" cy="2571840"/>
          </a:xfrm>
          <a:prstGeom prst="rect">
            <a:avLst/>
          </a:prstGeom>
          <a:ln w="0">
            <a:noFill/>
          </a:ln>
        </p:spPr>
      </p:sp>
      <p:sp>
        <p:nvSpPr>
          <p:cNvPr id="60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E0EC4-BDF9-4D00-A10C-133981390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2857680" y="514440"/>
            <a:ext cx="3429000" cy="2571840"/>
          </a:xfrm>
          <a:prstGeom prst="rect">
            <a:avLst/>
          </a:prstGeom>
          <a:ln w="0">
            <a:noFill/>
          </a:ln>
        </p:spPr>
      </p:sp>
      <p:sp>
        <p:nvSpPr>
          <p:cNvPr id="60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E610F-ECC1-4E8E-89F9-9C57A656DA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2857680" y="514440"/>
            <a:ext cx="3429000" cy="2571840"/>
          </a:xfrm>
          <a:prstGeom prst="rect">
            <a:avLst/>
          </a:prstGeom>
          <a:ln w="0">
            <a:noFill/>
          </a:ln>
        </p:spPr>
      </p:sp>
      <p:sp>
        <p:nvSpPr>
          <p:cNvPr id="61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4CCE8-EEEC-4231-87E4-DE2198943B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2857680" y="514440"/>
            <a:ext cx="3429000" cy="2571840"/>
          </a:xfrm>
          <a:prstGeom prst="rect">
            <a:avLst/>
          </a:prstGeom>
          <a:ln w="0">
            <a:noFill/>
          </a:ln>
        </p:spPr>
      </p:sp>
      <p:sp>
        <p:nvSpPr>
          <p:cNvPr id="6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6D359-BDED-4411-8FA8-A90CCECFD5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2857680" y="514440"/>
            <a:ext cx="3429000" cy="2571840"/>
          </a:xfrm>
          <a:prstGeom prst="rect">
            <a:avLst/>
          </a:prstGeom>
          <a:ln w="0">
            <a:noFill/>
          </a:ln>
        </p:spPr>
      </p:sp>
      <p:sp>
        <p:nvSpPr>
          <p:cNvPr id="61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862C2-8350-4524-A173-50CE1FADF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2857680" y="514440"/>
            <a:ext cx="3429000" cy="2571840"/>
          </a:xfrm>
          <a:prstGeom prst="rect">
            <a:avLst/>
          </a:prstGeom>
          <a:ln w="0">
            <a:noFill/>
          </a:ln>
        </p:spPr>
      </p:sp>
      <p:sp>
        <p:nvSpPr>
          <p:cNvPr id="61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AC092-2F26-404C-AE5A-9895EF508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2857680" y="514440"/>
            <a:ext cx="3429000" cy="2571840"/>
          </a:xfrm>
          <a:prstGeom prst="rect">
            <a:avLst/>
          </a:prstGeom>
          <a:ln w="0">
            <a:noFill/>
          </a:ln>
        </p:spPr>
      </p:sp>
      <p:sp>
        <p:nvSpPr>
          <p:cNvPr id="5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3FBE8A-215B-47EB-9BE7-BC613AF9B9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2857680" y="514440"/>
            <a:ext cx="3429000" cy="2571840"/>
          </a:xfrm>
          <a:prstGeom prst="rect">
            <a:avLst/>
          </a:prstGeom>
          <a:ln w="0">
            <a:noFill/>
          </a:ln>
        </p:spPr>
      </p:sp>
      <p:sp>
        <p:nvSpPr>
          <p:cNvPr id="59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0FBB3F-EA7A-4715-9C35-92CC6624E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2857680" y="514440"/>
            <a:ext cx="3429000" cy="2571840"/>
          </a:xfrm>
          <a:prstGeom prst="rect">
            <a:avLst/>
          </a:prstGeom>
          <a:ln w="0">
            <a:noFill/>
          </a:ln>
        </p:spPr>
      </p:sp>
      <p:sp>
        <p:nvSpPr>
          <p:cNvPr id="60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EE494-E0CE-474E-9282-8B695755B3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84BDB-86F1-49FE-ADC0-B94319098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2765B-ADDE-4C0E-9346-14D1221AC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EFD801-7007-4D18-AE3B-5F3CABC127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5C1644-8F33-4D0F-B6BD-1ACF6E8F15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33835E-6E83-47BB-BC00-C1ED2615BF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BD029-6E50-41D7-96C6-867E7CDF3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0704E-9A9E-4B93-9E8F-95F100A9F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81DDD7-9B1B-4A5B-BA43-31CDC9E93D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72E224-81AC-4520-BADE-54CA41E9D4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3D48E3-3FBE-4D15-A313-D9547C8C39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CD8962-3036-4609-B393-BA51010D13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655BBC0-BAB6-475A-88F1-6BD96E5215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F036D-971B-4293-88A4-904EA9A22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B63D19-D0F4-4898-960E-60E843D5AA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4DE223-E27E-4BDD-8009-44B2C20847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233ACB-08EE-4639-B1F9-C75F1CC7C5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B16465-9520-4023-8B15-B64ED76B10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E4FA56-ADBF-40A8-8A9E-1364D21DCF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3B07E3-0AE4-453D-BACB-56AB3EDBA0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128E11-55FE-441E-9DD8-45670E74B5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1DE88A-9F08-427B-8EC0-BBBA5068F4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67ECF7-B5F8-408A-BC49-CDB7293580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E663B4-6205-40EF-BDA0-90104E3413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C0637-9077-480A-A966-05C58CD17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2D4E69-AF06-4110-A032-2FAF5DCE92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3CBCE0-9E45-4DEB-B52B-64B3DA746D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D59267-1C71-42A6-A3E5-A740E56698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5F0595-656E-4781-B497-2EDCC31132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F0673A-442D-46DC-95F3-B26CC2F3B8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1D05F5-783F-4A77-A409-8CD63CF53E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0225267-6DEA-4309-A02C-98DB081293B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A093DC-E656-45C3-8D75-39104854DD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59980B-5ABC-4E98-9FF0-F0726117D8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16AA86-D297-476B-863A-0F88407DB6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C823C-978F-4AB1-9213-28B67204C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40E9F8-55BB-45EE-A54C-4D7959879B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30F3285-207D-4C85-B6E0-FB040D3C24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906AB7-0A8A-4A7C-A16F-93448FB7A2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9C64FC-1394-4D9D-A613-003632B3B8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DE81F3-1705-4788-97B6-ED29F55AE3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3672C8-6CF6-484B-B1A2-ADCAE75FE5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2A9E0E-65F5-4213-A0A0-4DB9701259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B9F7E7-FD52-489B-85B1-D343FD6376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40F1D20-C544-4490-926A-93409A9C1E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ECB38F-BEB0-430C-9772-9B4937D6CA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539A7-8F4F-4BD5-B250-0CA973B1D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FE08DB-6C68-416A-992A-41C3BF49C1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0FF352-4186-4235-918A-F6844FFCBC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603AE2-98BB-4F8A-9A84-E055A43F13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E9B1C8-2022-49DC-AAF3-BE5F064BA2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02B8CA-4A46-4B1F-AAA5-1C1765B561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B4489-BDE5-43C9-976F-4E2BE9AB5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BE17DB-38FE-460B-84E3-E3F68BCA7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DDC32-9105-4EF3-B1CC-01869C7BB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ADDAD-1F9C-402B-B005-65585D5C1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74892-DEE6-4B9C-BA8F-0A7B727B1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0781C-AAC5-4113-BFDE-DA154C183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4238C-43C0-46C3-B6CA-B9DA3CF8E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8F632-8AD5-4092-BDC1-52F767FBE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003A7-1BC7-48A9-9A1E-6C450988D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086B0-4CB4-48B7-9E9B-A44E5C9B4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89287-EBDD-4EC5-87B6-E0C84A0D6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545392-5B35-45DC-8746-7F3AA1AA94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A2277-FF1E-448B-8417-798A772D89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73058B-B194-4935-90FE-672D333E0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187A97-5526-4054-B27E-F2F98DE48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FB0889-C0A5-4249-927B-26A64971C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4A01-BAF0-4A2B-B1F0-9F06E5EC2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106EFB-64B3-49AE-8AED-26020F4E1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3FB7F-DE87-42F8-ACEC-CCED8B8A4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48155-4BCF-4F0F-ABB4-D2E292AB9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EF8B98-F27A-469A-BD7C-4423D25689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93F58-08CF-4460-9AA3-C14EDBA0A7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CAC3E7-5CDD-4CC2-B7AC-A0A9DA0ED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25E8F-8635-4D68-A858-ADB824A02E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E71C86-ABA6-4893-8E59-F97F807CA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6C7FA5-1454-4D0F-9D7C-FCA4B9F512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CBD29-B94A-47DF-AC67-3C282CE183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83556-81FD-45D7-AA73-29602D6B9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C022E0-2483-4B49-8BA5-AF960204AE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54E1BE-09CF-47DC-BF9B-34EFCCC2C3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14F66-A560-4148-B6BB-7ACE6E022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3DB6D-D538-4C97-B3FD-882F17882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864FA-902D-47EC-9EAE-182BC0B17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F7DBCB-C1AE-4CA6-88E3-5935CB76D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B3763E-DC77-4D7A-A18B-03872441E1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810D97-95AD-4FDF-BC15-A889655B81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6AB074-4AE6-4B8F-8CD9-49829A3BED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E32B91-5B69-44B6-A4FD-977D990713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F3415-2A16-44B0-B3D8-C8A8EF9EE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564B5C-96B5-45C0-BB50-7BD4AB0C5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676EB7-B3B4-4397-B295-7003322D33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FA1810-6FA8-41DF-9DB3-AA394366A7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2FB7E2-22D9-47B4-AD5D-08FBCF2F4A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75342-7114-4232-B0DD-8AA27111E9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88E35-1770-4A23-BF60-7D541B86AE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2E3F5B-EAD3-4392-A1C0-952326926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7A25CD-9057-4D3D-A0CD-FBE078D5DD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E03D8D-104A-46F0-B63D-340BA2C99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8886D4-B0E5-4F37-A3F7-646BAC1912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1644B-9B83-488E-96D4-F425B237B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AEFB60-0421-4506-9D79-E559D592C0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076E48-F904-4AED-927A-90FF2BE003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A62E63-D332-4AB5-B992-B8AC6B509D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155D7E-932A-4E36-8ACA-8CBAF7436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88D6FA-F541-437F-A8A2-7573783AF1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6CFF21-EC70-460E-88B2-A4BAE2E7FE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DED8D7-E5FB-4B9E-8C6F-EE27BE0710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50D019-B5B7-4DFB-ADA7-1CB83A9B3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1D580F-95CA-4032-B32A-8C8652D95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C1D51-BC17-4E96-AC15-352113E9A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30F47-3360-40A5-93AD-7690F1D58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C9916-B32F-4AAC-883B-92DAAF05BD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721E50-0DFA-4461-90B3-1D2CA1F628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996120-3E00-4CC6-87E4-B8476C6488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B83EFD-041B-4E25-A7B2-901C7624A5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D20456-2FC5-4265-9920-65369DE9E0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A29F52-4D04-450C-A2B1-2CFB8A9161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26C29E-2334-4F28-AAF2-D40C1A221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3EC925-FB05-49E4-8230-50F29A34C1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77A16B-8124-4996-A3E8-43863E83EF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CCBCC-4854-4A55-957C-28D7D4CEE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59DEB-AD84-4D8A-BA82-2587CF4BF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9E058-8D16-4976-BE07-CF6749EEA8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529B99-7FEE-41C5-A41D-DE5C47E7D8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1C4F9E-83A1-418A-8513-914C87EC5A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F58A20-FE47-4B1C-BAB4-A5CA1268E0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D0B09B-E7EA-4E71-9D58-9842C4BC79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4E6FA2-FAB8-479A-88A0-AB22AEB6CE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C4DBA-6BEC-422C-9BA9-FBCF57F6A2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85D23B-199A-4473-A55D-991AA31215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D101A8-27DB-4A5D-917F-74358FC17D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637935-AC33-4176-BFE8-8DB855D0F8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88F59-5DE7-44F9-914A-048D149E8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9EF1BD-25F2-4326-B1B2-9D7E0C6AEB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D1559C-91AB-4989-A4A7-02DE60FF85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A982F9-6672-4A0D-852A-3669B320F6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7AC3D-33A9-4DD7-89BF-40078F9DDE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EAC0A2-6292-47A9-B195-320F456549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636A37-D6FA-4F40-A142-21F98759E3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376E01-E7BE-4E75-917D-FDE7E79A7A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44831D-5544-44AB-8C59-03FD6E1BBC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87B1A4-C6FB-4A69-8315-504A5C901C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2F0562-1025-4A2E-83AF-0E533BD3CD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3EE32-E043-48EE-8C30-CCB278D0D4A3}"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F69104-6550-46CB-ACFE-272C397F4B89}" type="slidenum">
              <a:rPr b="0" lang="en-US" sz="1200" spc="-1" strike="noStrike">
                <a:solidFill>
                  <a:srgbClr val="898989"/>
                </a:solidFill>
                <a:latin typeface="Calibri"/>
              </a:rPr>
              <a:t>&lt;number&gt;</a:t>
            </a:fld>
            <a:fld id="{CFCE91B5-37D6-47D4-AA83-0A8C231B92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115CA-96A6-45FE-B4A4-79EC2E46CDD7}"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91F09-C072-4B75-8635-AEB0433ABC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92389-266F-4792-816A-4F333DA5E645}"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25880-CE92-4782-B6F6-D07407A704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67C78-2500-421F-9435-3BC0A4E29D9D}"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87C46-695A-4BD9-BB9F-58E3F7965C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FCD49-217F-4720-8A0D-79E37E6A958E}"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933E5-4862-4A76-8086-B6C9C366E3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B354F-FC67-43C1-861A-F928624A0434}"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925BA-4084-4089-AA7B-741F8B57F9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61206-0AE4-4807-80F7-AE5C5C81D413}"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003307-9230-473C-924B-2F3836D099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E4897-2DA2-4D1A-A06B-3613F4B0B0B0}"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59282-B544-4C6C-A25B-C0EE4ADD8C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AE82E-163B-4817-B7CC-BF389B5013EC}"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EA20D-57EA-4AF6-BC57-E99C1DDA44E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F0AD3-D5BD-40E4-A68D-C4DC2B5C7C6C}"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DA8580-8709-4387-9B46-93F29E9B3B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38322-8B38-4D42-842C-FCC2A7D8A6E5}"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2C5F3E-0D39-493B-BE89-249F0DCA5C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A6C80-719E-4836-BF64-E8D0BFC068BF}"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9C0DC-D9B9-43FF-8D7B-FCB739D9F7F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4.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72234-CE95-4539-B27A-6AA6C2D9E8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A68EFD-D2A0-43E7-8EF2-5FF94A9F6B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12898-0BC2-4C29-837B-D4D54A4835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37943-ABF8-442D-BAAF-FDE8DEC994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6E130-4D29-4DE3-AFB6-5E84EB4185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97700-42B7-4888-A62F-F033D8E4E3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29F6B-51CA-4FDA-9A7E-D46412007A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F0EE48-1075-43E2-9067-24838B84A0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935B2B-C1EF-4048-B94B-A1A7D010B6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BC0C7-3F05-4053-BD96-6C4997699C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45D740-0D89-4A49-872D-75DD6663E7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0E6DE-6C7D-4B3E-AABE-DD255D1C71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C8164-355B-4F53-83F0-B935642A31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F69A5-D8F5-4ABE-85DA-17A2406D57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FAB5EC-084E-4CB3-B588-419D887D2E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E0DEB-7DA6-44A9-BDA2-C1915728B6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138560"/>
        </p:xfrm>
        <a:graphic>
          <a:graphicData uri="http://schemas.openxmlformats.org/drawingml/2006/table">
            <a:tbl>
              <a:tblPr/>
              <a:tblGrid>
                <a:gridCol w="382680"/>
                <a:gridCol w="666720"/>
                <a:gridCol w="4228920"/>
                <a:gridCol w="585720"/>
                <a:gridCol w="1097280"/>
              </a:tblGrid>
              <a:tr h="701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C45928-42D5-42A3-B2BD-C2C651039C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226AE-B772-4592-A5B8-8B0608786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CF5B87-CFB0-4261-954E-48A9CF8108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E313C-F0EB-4B81-8FF1-F4E5006335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85951-A082-4469-B3EF-CAECE87C58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0-12-22T12:59:21Z</dcterms:modified>
  <cp:revision>55</cp:revision>
  <dc:subject/>
  <dc:title>Titulní strana – Titulek</dc:title>
</cp:coreProperties>
</file>