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3B44F-525D-4AAC-A124-2615D9C3686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1E522-FF03-4C48-A09D-B916966CC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16118-4AAA-46BF-8B0D-BC4994E36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857680" y="514440"/>
            <a:ext cx="3429000" cy="2571840"/>
          </a:xfrm>
          <a:prstGeom prst="rect">
            <a:avLst/>
          </a:prstGeom>
          <a:ln w="0">
            <a:noFill/>
          </a:ln>
        </p:spPr>
      </p:sp>
      <p:sp>
        <p:nvSpPr>
          <p:cNvPr id="61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A5D5A-5EC5-4573-A7DE-68AAD1B65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E36CC-3D41-4849-8951-B02A85453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2857680" y="514440"/>
            <a:ext cx="3429000" cy="2571840"/>
          </a:xfrm>
          <a:prstGeom prst="rect">
            <a:avLst/>
          </a:prstGeom>
          <a:ln w="0">
            <a:noFill/>
          </a:ln>
        </p:spPr>
      </p:sp>
      <p:sp>
        <p:nvSpPr>
          <p:cNvPr id="61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053AA-C9D3-495E-887E-D62E8D442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857680" y="514440"/>
            <a:ext cx="3429000" cy="2571840"/>
          </a:xfrm>
          <a:prstGeom prst="rect">
            <a:avLst/>
          </a:prstGeom>
          <a:ln w="0">
            <a:noFill/>
          </a:ln>
        </p:spPr>
      </p:sp>
      <p:sp>
        <p:nvSpPr>
          <p:cNvPr id="61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25DA6-FC92-4FF1-BE03-D47AE1DA4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2857680" y="514440"/>
            <a:ext cx="3429000" cy="2571840"/>
          </a:xfrm>
          <a:prstGeom prst="rect">
            <a:avLst/>
          </a:prstGeom>
          <a:ln w="0">
            <a:noFill/>
          </a:ln>
        </p:spPr>
      </p:sp>
      <p:sp>
        <p:nvSpPr>
          <p:cNvPr id="5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7F61A-78A4-415D-A17B-D75398589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2857680" y="514440"/>
            <a:ext cx="3429000" cy="2571840"/>
          </a:xfrm>
          <a:prstGeom prst="rect">
            <a:avLst/>
          </a:prstGeom>
          <a:ln w="0">
            <a:noFill/>
          </a:ln>
        </p:spPr>
      </p:sp>
      <p:sp>
        <p:nvSpPr>
          <p:cNvPr id="59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E9EC9-6C96-4ACE-B143-D2A3C6561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2857680" y="514440"/>
            <a:ext cx="3429000" cy="2571840"/>
          </a:xfrm>
          <a:prstGeom prst="rect">
            <a:avLst/>
          </a:prstGeom>
          <a:ln w="0">
            <a:noFill/>
          </a:ln>
        </p:spPr>
      </p:sp>
      <p:sp>
        <p:nvSpPr>
          <p:cNvPr id="60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70A8E-8824-4D66-BBD6-23025EC7B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EB56D-1B86-4D1B-BF74-9FE637FD1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FC289-4F22-4E97-8DAB-B6A95549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20E105-3EC6-4C22-962A-B7A8DBC13C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61EF9B-32E8-4499-855B-C481A67A89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9FE05E-AF37-4517-AABE-4A37D399C5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EC90DB-4FF9-4E83-AB30-99C88AB082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37EF2-39A6-4F6B-ABED-A5369429D7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A987D8-6764-4DD6-A090-2C98CFC8BA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6BCF26-5309-4BE2-A707-3FCF53171F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281106-84A5-4F2C-9D45-C06883639C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0D0D50-9310-494D-A1D2-271A35DB5F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B3A702-9F33-401C-B1BF-0E453E695C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63EE5-A412-4BE4-9230-24FD060C1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0A3117-2CA0-4372-891D-3E5C80A988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29AE44-3C8F-4448-A57B-D1CD9AF0B3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DCB073-C113-4292-8C0A-FED49334A6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9CF740-D6B0-4BD8-AB03-960CB7BBAE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DA3D30-708F-48C3-89C0-9A86EF69C5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52C237-D2B8-4CC2-9874-1DD8BD5955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D5F7B9-64ED-486E-8B32-7A4978CAA5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D0BE4C-6F4B-465D-8E39-AEE5425B56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E1DDF3-F8CB-4C7E-9A2A-4CCFE68C4F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9CAA5C-DCAB-49FB-945F-366708F932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86EBA-3769-4080-8912-7102C1D9D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42A906-1CCC-4E8E-9541-EC86AB9EA7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383997-A3B8-409A-B440-8495F8751B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D1F6E8-41CA-47FB-BFDF-0E97145999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90E93A-4A41-4BA0-A17A-6E087B1B62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592332-FB9A-4DD3-9926-BDF1103853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E302C1-E2E9-4FDD-BF12-D304EABF53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3EF6E1-0176-4F97-9807-9A70D658C4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F86A5D-19F0-4665-BBF0-37CBE0CFAC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5E8A50-0692-4870-A8AC-4A2C6BAA74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477533-97CB-4458-B3E8-E77C724AA0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7ED27-15C0-4E6F-B065-EB7033BD8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97AF32-1CE6-4E3E-A3FC-A1F1AC6469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22502D-5CCA-44DE-AB18-B58E20130E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0517C8-2B0C-4D8E-A91A-2D4C6401D7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67E325-60F7-43B1-BEAC-F5F0CD347B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31805A-FAB8-4A05-8099-2BE5937C6C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D5DC07-EBBC-471B-B436-862EB511B3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DE09A5-8F4C-4D7B-9828-A1EF8C8F84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584B2F-426A-4A30-B6A8-0AF6A83B17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02DE23-9AEC-4100-A531-3BE32906E7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5D726B-66E8-4F90-97D1-CBD52F5F45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3B4F9-11A9-4761-A5AF-5DBE22315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863043-C6AC-4A28-981B-19375CBA3D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C7FD37-B631-4427-A660-54C12AE366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42D7A3-46E9-4342-92F5-B9734071AE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9F5720-1F62-4C38-B983-55A56351FF5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5D087A-D05C-49B8-B4BF-DEFB2511F7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77473-0CDF-4072-8680-520376F0D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DD524-91A1-4A35-9972-5221791C0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B916D-2495-4664-AA04-CFEEE0DA3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DCC7A-34BB-41FF-8C9F-C1690949D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DF3F7-C38C-47CB-B44B-145FEF2C1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2EE85-782B-47C7-94BD-9CF542911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826F1-1C05-4FED-A202-78BFB0144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3952D-3ED4-4E71-98BC-8779717AE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9459F-D97E-448B-82ED-974D2EEB3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7C791-CBAB-4AB1-9A7E-F8B418631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08351-2366-4554-A3CE-47D279EE1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AE4ED1-E659-4EA1-BC3E-781C0E1471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FAD9D-D328-4A30-8AA8-72061071F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7E235-1751-4AD7-88F5-3BC6AFC74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16E2C-289F-4E0D-8A72-951E8E91B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1FE16-065C-489F-A307-1AB11333A9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2727-B9C9-4D29-BCA9-531E57CBF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D525D-8502-4AF2-B201-D4B26053C1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787CE-8587-466E-9573-2F7F1C09F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F3C3D-60CC-495F-8D47-43723CBE4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8B853-9186-4989-B5DE-E3F3B48F1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B2EB2-2F81-4AAE-B8E3-A91961DB7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1CF0AD-2D27-48E9-8BE3-5EFF529C73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94D32C-482D-45C3-BF23-187863D6C4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E9EA8F-7970-4430-B949-07ECBC468D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DFB8C2-4CD7-4BCB-9810-DC84A9106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C6D835-ACCA-4A76-A7D0-EFC5C4F02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D1D3D-973A-4430-9212-278571FF5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49C7C-AA6A-4ACF-8BED-9C678343B9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93723E-2B1D-4E65-9E44-DF4A9B0A6C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9266A-9959-48E5-A649-DA99A08FF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9D982-915A-4E46-9B36-A5DE8CCEB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5DB2D-3F3F-4D58-8F50-4046D7810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9C2C0-9300-48AF-BBAF-367A8C869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23ADE-A52A-45AE-BD66-1D119CB6A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5D08E5-CDDD-46E5-878F-344162834F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CC8803-2CFC-4C98-B2C2-0E8E63D366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10ECC3-F495-47D2-A42C-C64DC758C2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34A7E-EB51-45B2-9E9E-691E0CD80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D7228-FE28-4196-B782-E37B51319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9CD4C-FFFA-43B2-863C-BA13264C8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1E891-2218-4C36-B9B9-73F6126DD1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621B0-F1BF-4FEF-ACE0-6BDB92230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0A6E16-418E-4440-AEE8-238A96CA99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D2A19-ABEC-4883-A3BD-04B987E6F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CEE86E-7F54-4CFF-9CD1-C6D619DC3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F52435-5FE1-4B19-8475-F329757DD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74D4F2-12ED-46F6-A1C1-1E04E481A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09EB8E-AA64-4D5F-BC84-2B5A3DADA8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61437-E6B3-4351-A686-645F825DA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9FADFF-8DBE-4BFA-A8D6-9091EFE16B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C86D7A-C0ED-4F59-924F-459CC78F6F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3BFF10-E794-41FB-8A26-83E7ECF286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41E1EC-1E3E-4847-9356-FFB28ABB6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7AF323-E292-4591-ABFC-A3BFD1FDF1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B92508-9B74-4452-9A4B-6EAD47D22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8318A-2A1F-4962-8B2D-4816EF4081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3A944-462D-438B-A743-8E4EFC1DD8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06ABB-5997-42F6-90AB-3456B6CD1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FAB80-5D4B-458A-8FFF-9AB90E8DF6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7C883-29C1-44B8-9E5F-F60B78ECC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E8C7AC-A686-45EF-A5BA-F9C6D6CDAA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E54F1E-BB21-4DC5-898B-A13C9B5B24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B6C139-2C24-4B06-89F0-AE6FCD54E2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338E96-C9AA-4FE9-809D-C63F37A7BF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3E4BD6-1D60-4164-B11D-2518712F8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2BAD67-36B6-452E-B19D-3D8FF3A8CD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5DC395-D890-4F47-97D1-60CEC8AD55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7FBA99-F533-4534-A332-4A4D8FEFB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AE1CE5-A5C6-4F1A-84C2-4F45B7570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CDAC2-C79F-45A8-BFDE-9C821C1D8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9690-088D-490F-9BE1-540B05C6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987B70-0A3D-4670-9294-29318EE5BE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C898F-E237-4AF2-A105-70258BA5E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55510B-607B-42E3-81E6-8AF406F94C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31686A-775C-4DC7-B320-B3BD9E53F2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54C154-AFD4-49FB-BB85-ECD2834A3F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A45483-5770-4CC9-8EDE-64AD1F77A3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ACA87B-393F-4B06-87DC-9F4710B9B9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E4A9A-CA16-4E0C-A764-F68F0C9832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FBFF99-DBD6-46A6-A7E0-80B99CFC5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A7CC3B-3464-4203-BB51-7937E152F0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9944C-AACD-449E-A2FB-1F23CE425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98B916-2A7E-4430-8B2C-19DF0139E2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5CCB3-EE77-42E1-B871-2951E7A9A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9759F-762A-4EBE-A87B-21F70580EC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094F9E-4743-4315-A706-A7560C082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F61356-532A-42B4-8B2D-CC2E78685C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FC99C8-DBFE-4986-A1A6-8C352371AF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5D4713-955A-4E85-BF73-80B915CB35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1C4C62-A759-4658-87FB-9C585C1AAA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05089-9880-4C78-B2CA-27B6CAF7DD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B249EC-15C3-4941-A86A-5F0FB817A3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481E8-E567-4B93-A66A-B91210E95DF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E34CC-4CED-4CF3-94FE-302D12994923}" type="slidenum">
              <a:rPr b="0" lang="en-US" sz="1200" spc="-1" strike="noStrike">
                <a:solidFill>
                  <a:srgbClr val="898989"/>
                </a:solidFill>
                <a:latin typeface="Calibri"/>
              </a:rPr>
              <a:t>&lt;number&gt;</a:t>
            </a:fld>
            <a:fld id="{2B043937-9011-4F16-B049-D74083F638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C925D-FCE3-4813-B0F8-AD57584F72DC}"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09C2B-B64C-42A3-9DEC-581F2F54CB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1A787-FB83-4279-8C50-C6944EE966BA}"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516C2-2ADC-4BFD-BCD5-38AF30861D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919B3-308F-449F-A64A-8DC20F120731}"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142DE-B28E-42F7-A9FD-7E957EB891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8DC00-1908-4F2F-BCC3-4CD498B097DE}"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94C70-0BC0-4039-A9E9-949B131E4D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18A59-A841-438C-BAEA-C3B6376FFDB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D6B86-C961-41BF-8D5B-091D545C6F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258F4-3EA3-42AA-B5FE-773BDCFCB7F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18472-D65E-4205-8030-143352E49D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53306-384D-415A-B1E3-C5877DA2C991}"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D6B78-FB56-4CD5-853A-A168C44A25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23B03-4775-484E-92E9-BB1853A5F1B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47453-4831-4E97-84F9-B1D3AD029F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E4678-19C2-4715-AE25-17710E57AF58}"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07721-F3BF-4EC0-B955-67E2DAA7FB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AA7A8-876A-4A67-8D80-F9D5FC33AF70}"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EEEEB-F63F-4F9B-A241-977B1A26B5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C1C6A-C9CC-4D09-93B2-56FF1793C78A}"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15205-3957-406E-9895-9F82CFFF8A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4.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F29AB-DF8D-4774-B82C-45C3497519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E8705-FC46-4224-80B1-9CC8D3AEF7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85887-E63A-4C40-8301-5836078E0C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3C7C9-E533-4077-8F04-A70D9E7882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C424B-85FD-4790-974D-F69C16A7DC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3253B-BA79-4349-A292-70AFBA7408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4AA24-088D-4437-85C2-823730297B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6863B-FD2B-4CC3-8EC7-D96DAA0FF8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7130B-EEFE-453A-83C2-79C544EC1A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24055-2FD4-4625-A74D-365815E7B6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FA11B-5560-48C8-91A4-36FE517522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9E336-AE37-42A2-867C-2407AD1DC8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062FE-228D-462B-A6D7-C155BDF67F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86646-9EB1-48BA-B437-254210579B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93D92-BD13-4070-827E-B344EDFE45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3F05F-842B-4466-9FF9-103207C28E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138560"/>
        </p:xfrm>
        <a:graphic>
          <a:graphicData uri="http://schemas.openxmlformats.org/drawingml/2006/table">
            <a:tbl>
              <a:tblPr/>
              <a:tblGrid>
                <a:gridCol w="382680"/>
                <a:gridCol w="666720"/>
                <a:gridCol w="4228920"/>
                <a:gridCol w="585720"/>
                <a:gridCol w="1097280"/>
              </a:tblGrid>
              <a:tr h="701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DC2FD-9A76-48C8-ADB6-A9A2FDE234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27972-1BDB-4183-A4B2-52C00A306C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58AAA-FD61-47C5-AA88-216ED0DEE1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9A0AB-7C50-42EB-B7C7-90628616C2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B79E4-5F51-4FEB-91F3-2CAE9F39E9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22T12:59:21Z</dcterms:modified>
  <cp:revision>55</cp:revision>
  <dc:subject/>
  <dc:title>Titulní strana – Titulek</dc:title>
</cp:coreProperties>
</file>