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5FBA9-D617-4D9C-8C26-B59E28CF5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CEE3C-B352-470E-9DFF-E0BB27344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DDA2B-E2E4-49E9-8B40-9885A1081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AA1-1BE4-476F-A688-359CDA40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77E-E061-40F9-8010-15A593F4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D139D-ED50-4FC8-94F0-3F1880C1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DFB44-3ED8-4D27-843C-8779416D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67AC2-3C1B-4138-AE19-CD9ED2C1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8B6A2-98DA-4DA1-B4FC-2E1987DB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4DB97-803F-4023-A9DA-B3C6B6D1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7DFD0-4C7F-4AE9-A49E-42E6AB61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6FA28-AE93-4861-BE65-E6590A5A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B0F3A-7F48-4795-B24B-4B53311B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887C1-E4F8-49BF-8F7E-D3890D2A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71B60-AAE6-4148-A700-AD5A8807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5BA-5062-4404-9A7D-9D99412C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08F22-9AAA-489C-8440-14C6B766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8C21A-9851-4198-B543-1DD835E3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FA2F2-F5AF-4D13-ADCE-2A06CFBE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60FD7-199E-45B0-A5E7-5BF052A5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4ACD1-F65D-46FB-A86B-EE98601D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E91AE-1D92-43B8-A8C3-0FD698DE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7E680-8FE7-4EC5-9B9E-14435F8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F046D-A1E6-4390-B7CB-D71F6E9B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8C7D5-EBA0-49C1-A250-1B16EA43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6B2CB-993B-4AE6-9D85-865A6312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D9C7-C25A-4A42-855E-73B8C361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0E991-4C82-443E-9BD9-1A471AE8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1DA7D-0D03-4C38-AB18-9189CA1D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E1445-C1DC-40E8-AC6A-6D78D89B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5E0A4-0CB7-4026-93B1-78A9C125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EEEBF-872E-46DD-8952-918C285F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8D4D9-F3BA-4E91-8630-0B4DE111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9467A-0AA8-43D5-9D36-4B98415E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4025A-EB37-4062-A4B4-F040339F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DBC66-7397-4FA5-8180-395713B5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15374-4457-4EE7-82EC-02DAFFA6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32AD-A475-4F0E-AF5D-F0E91C08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70A60-129B-40D2-9179-783DE8D2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F7C6A-7371-45F0-B08F-896300DF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6EFF2-C5B5-4AC5-B8B6-095A4DA2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96AE4-A923-4090-B757-06E63FF7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D73EB-6338-452A-B0F3-9D71E71F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77DAF-673F-4082-97D3-420F8B6C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4D040-04A9-45CC-81EB-6568D3B8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D8DAB-C5E2-4C90-8E3F-BCF1648A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F358A-17C6-4BF3-8546-ACE88924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0A0E6-E644-4371-856F-A771F005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97EA-F355-4A49-A9A8-BC4F873F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74DFB-6691-4A71-8A8B-0422D233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B7E42-3CED-4E65-A8B1-DC8901B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CF9DA-271A-4C9A-AF75-E169DB85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BF7B7-268F-447C-AEE6-012DE4CA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F4ED0-C5B4-4CC2-A3DE-F1664C90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76EB-EC1D-4508-90C1-2EF800D0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6130-059D-4A39-B7BF-A9713C86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0B18-5F87-49AE-ACF0-36C7ED74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3727-5ADA-42E7-B304-37DF2BAC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9309-742E-4FB9-964B-ACDE976C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4EA-9DB9-4B6F-BCDB-623FB0F4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4F89-09FD-44E8-9DCA-4E6DECA8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D733-AD09-4FD8-9CB5-05DFA75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34AB-856B-477B-8C5E-ACC80A1E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B2AF-D5F2-4951-8D9B-005C43BA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D787-E896-4AC2-84E1-870ABB99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A447-8651-4CF8-9686-AE4C1CE5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B4D89-3ADF-45CB-BCB6-3E869C0F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79257-E09D-4A94-838C-E188DE94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EDBE3-776C-41C6-919B-32F28526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0F6E-BE88-4781-810B-B3323097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780-E5A9-48A3-8701-F0D321F4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75A06-2FA7-4392-AD8E-D45F6D95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4905-133C-4BC2-93B5-6DDF5447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810E-C63B-410E-A300-DD419F6D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8542-2566-4F6D-B99D-3C8CA822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B68D8-E5BB-4446-A400-511F55F0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73BAF-87D5-4959-B4B0-FB208523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02BC-3A37-4182-A871-F5253462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2BA70-24A5-47D6-9A39-CDD02447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0D026-645E-4A04-86F1-E61167EA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6476B-86A3-4D76-AD4F-24C2AB13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DF2-12DD-4103-811C-250C92A6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E11E1-57EA-4B20-9B79-AEEB4038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E7812-A10E-471A-BA69-91225C2D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9F549-0431-48C1-901A-C27115FA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7BFCF-DA5F-4AD6-8F69-6BA5937B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B7FDD-580B-4D0B-942F-BDD3FD31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18227-B6D2-4160-BAD0-68F04B48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064BA-4B26-4D08-9682-EB749B00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08799-0686-4952-B510-04D4B162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B2556-6024-45DC-9AAA-849E5267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565DE-6100-4E6C-B809-A2698E3D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CE5-3E83-4C74-AEC0-ED9774D8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8CB7E-CD05-4D08-B093-760D9201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53A13-CC27-455C-AB32-18BF02FC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264D5-90E5-4512-88FD-93C5F196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52A0D-9318-4901-AA72-28FC4BFD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812C6-409D-4EC0-8AF3-C8319B99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6468F-6E0E-45BB-8B70-CDE0DA4E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34CA4-2AD5-4FFB-88A9-8CBBE2CC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755EA-6BDA-46D3-82F9-C04BBF6C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3A18B-0682-460B-B786-9EC68E30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24BAD-7DBB-42A4-9BA3-515A5C8E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218-88C4-4932-9AED-DF564BB4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F7501-826E-423E-BCAC-2ABB684A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CA908-46C1-4240-8445-B7EBC3FC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BD4E6-D1E8-4A8D-87B2-D49A7184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90F23-B7D8-4982-B532-24A9FF49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95FCF-E942-46F3-981B-B2CF5C80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93028-F7EE-4A84-AC29-BC5F1867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8F53C-5BA6-4691-AC10-93599E90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997B5-445F-4A8D-AACC-89B270BF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20A6B-71E2-44E9-96CC-61591CF0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E7A2C-3E8A-4D54-A834-335D8724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771-FDB0-4CF5-86E1-5E3C68DD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8DEEB-8077-46B5-84A4-27D21086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02E56-7176-4E6E-80FA-191358B9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450ED-25E1-4539-A4A4-E5CD224D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5141D-7FC9-405E-BD6F-AC995A38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8A33D-1AAB-40E4-A545-0C5807CF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C00A5-4534-45D7-9340-6914C62F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2DFDF-3D92-4D1C-AA2F-95410BB6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88685-4259-41BB-9FB7-E8FA7B23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25850-AA04-4C36-932D-0E2989FC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FD878-9A8D-4F6E-BA3F-B363C615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E92-196F-42AD-9415-6F2E61A6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4F7A7-7810-4F41-B9E5-98187DCD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52DB9-6400-48D9-A134-0AB6642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8CE39-8F66-489D-A1A4-2C8033E8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667D-FF67-489E-8EB0-590433BD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095B9-56D2-4167-AA39-54A9DF6A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90DC6-66F3-460B-9EC9-1B44071B3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C2316-D2BA-4D11-BA1D-52A5F4A3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08C3B-2DB0-411E-B3B3-D5E1E493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F2851-5445-4773-994C-5C6B46B5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21AFE-468D-4637-98D0-4FE635BB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4B4-FBCF-45D4-9983-99DAADE2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A1367-A555-474E-929A-C3F46168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8DDD9-F2AD-4A75-A49E-C1474F62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5422D-A193-4538-B073-9EA6443D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F1AC5-2246-4677-B305-CABC15C7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BA296-0AC5-446E-9718-7A5AAEB6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7EB2A-F03F-445E-AC14-BAB6E07D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7EDAC-0AF8-4AED-ADD9-36A2F94D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5F231-17FB-42C6-945B-9A53629F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D8EAE-3298-4BBA-874F-9AC6D801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EBD43-7419-4001-8931-4B102E0A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41980-2A94-4978-A63F-0692593EDE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A4EE4-FE8D-4030-AC18-A1213C488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121F9DFF-CC34-47D1-9577-92DBB055E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1BABC-8E55-4F71-A065-8087C40427E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B27D5-B71F-4329-A0F2-259581497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8A17F-1943-4CFB-A0DF-67C01328AC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4E8A3-473C-4681-8033-035ABE72E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8F4E7-7F47-4039-8C13-5A704B1CB6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32552-E1E9-4187-95B7-A447CAA7F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E3C28-1934-4464-B1C7-06B7CAA2255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13889-CDDF-4327-838D-A82F97950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43995-BA30-4A5F-9DCB-48AD9ED542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DC8F0-0BE8-42BF-A29F-586DDC4C2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72F15E-C8A9-47C2-A883-791A069C2E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34221-B0A7-4E7A-80D1-CF4FDF66B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B38E0-DEA0-4629-8249-B0FE693C1D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B4D62-DCDB-4589-960C-BF63C1CD7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6696D-82A2-48F8-8C0E-015FA7350CA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D2958-F91B-47E1-BD0F-D85A68CBC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3D92C-4F6F-429E-8C8E-09EBC9578F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1B403-8C33-40A9-8152-7CE8B47FE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A5949-DDA0-425A-BB4A-0F0AEF4A28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A8BA6-A344-49F9-AF16-8D833BBA7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34CD2-6BD6-4FCC-B053-6119DBB22A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51130-40A7-4141-B796-B3A8276D2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A4E80-9FCE-4CB1-99A5-4C4B49B51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DAFD94-D16E-458D-9863-B04A793F9B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996EE-CE0B-4087-B2A3-FBFE4FBDC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895A0-A5E4-4A3F-9A42-2C2D3F288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A970F-B0BB-4004-A26C-54CC594AC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42F36-CE6F-4D56-9E42-9979F8E9F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36F72-1813-455C-A249-8FDB88643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2ADE7-423E-4A5A-9682-D9CA9EAEE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4BD1D-C264-42E4-B494-186B26360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4AF16-D52B-4CC3-B49F-52D8C7005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0A672-D3C8-45F8-9582-A30A6B3F1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7B027-BF45-4B3E-8B84-80CCC00F2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17582-618A-4577-9EEE-EDABBA221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55040-6BDB-457A-8118-332828C2E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B65A6-2E4A-4390-9489-A085CD639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D2BAF-8B6B-468A-8497-89B92329B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8E832-1673-450F-9CCE-520D2494C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C1DC16-9C7A-4A2F-93A3-EA1A4BF0D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B0C04-4252-484F-B013-1692EF629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391AA-62B3-4EFB-A2BD-76F37F888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1B99F-1D04-42B4-96C5-9D4268D84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A71A1-166B-4137-9DAB-37428418F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E20C4-43DC-43A5-BF43-D7E89C9F5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3D82B-D4CE-422A-9EB6-689AC2393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34EC9-9D1F-455D-B67B-DFA3AD728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E833F-3821-4797-BB25-9EFC0C089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1E31B-2E70-4F8E-B62F-DF2A1EAB9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B2DE84-BEAA-4709-BB40-2AD4731BE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C425C-8F51-467F-BE6F-384FA4D4B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99D71-778A-4E6D-8F63-A73C47FB8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DA8E1-8AB2-4F63-9E8B-33A4F6F01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08EC3-D999-44A4-9231-22769782D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CB268-21F6-4804-9A97-FE9439D0D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D9FD8-FDFD-453E-9732-865F87360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22T14:02:39Z</dcterms:modified>
  <cp:revision>45</cp:revision>
  <dc:subject/>
  <dc:title>Titulní strana – Titulek</dc:title>
</cp:coreProperties>
</file>