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439-7192-4EA3-8DB4-DBC65998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E09-8802-4AF6-B37A-C8CD53F1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52460-8D82-4D97-84E6-4817378C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50832-622C-4119-A07A-91B367D0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EACEB-68E9-452F-95F0-FC515163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1C346-A814-477D-8D30-A9637968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E23ED-D103-4AC3-9E18-70CA10DC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6BF22-5AC7-40C5-BA4B-C85AD966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48076-3988-4A65-A9A8-8F043E8C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8B8FB-1F47-4EF3-B995-D59982D2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F02DE-10AB-45AA-8C3C-1E841B27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353B4-F016-49ED-8D24-824A9363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696-C322-4899-AF87-1BF3D184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98FEC-9FD6-41CE-958A-F4A2506D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5B618-04B5-426A-962A-6B4D37DE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09E7D-20D1-4E96-9EA5-041E53AF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42445-DA82-4E02-ADE0-2030CD5B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7F39B-FE90-49BB-9CD3-29A6CB2F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6E047-E4E0-45B1-B9EA-ABC32CAE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F0CE4-3B9A-4F66-BA22-975301E0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BE638-3FE6-4E37-8D73-D3C30B96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A2C81-E787-4EFE-8783-B36E1DE4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8829C-8091-4A94-AABA-D18F89E5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6C7-B775-4B89-9763-080CE332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0AE35-1E3C-4D24-B7D3-04C81252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0749C-72B1-4FC3-8880-2A40D0FF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A2ACF-A552-4B62-8ADF-18261975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A0765-B8AA-4DD4-8E15-FAF691FB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3AD60-F03E-46AD-AAE1-19C9B965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E2FDC-354D-46F1-AE75-7A87BA4E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A0FE2-DF49-458D-AFDE-479EF847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D365A-1EAA-4C08-BBFA-4F58D431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99A4A-158C-4BF2-9F94-F6BCC095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F36FC-5C55-4EC8-BF0D-2296B36E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32BA-08AE-46A8-A6EC-04FCE570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C1418-F33F-4841-AE96-5342CDA2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D7668-19D0-4142-9C00-9F9C1023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BD6AF-8E8C-4C9A-A09C-7369E025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CC59C-B5AF-463B-8E9C-EABD6813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C51E0-C709-42D1-8C75-657CC0C2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3D3FE-894B-4E17-828A-CB3A632D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4440B-E0DF-4301-AEC3-4A76478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0521A-9728-4CC4-818E-AE242EB0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4A078-0D43-4423-B276-6B15310F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A7A4D-05ED-44D9-983E-F70FA967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941F-41FD-462F-A073-95229095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A1D2D-F441-4F01-BB6F-712580C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93DD6-B736-44D9-84DC-BE97EAD9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41073-CA6D-4936-B682-3927937B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F8D0B-EC89-4D76-994C-0F65676F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DC666-0B70-421E-82C2-F96A7F3D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3938-CC9E-4203-B1EA-3C16EA3E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22BB-7DD1-48BD-B48E-2141ADC6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53BA-1E1C-4B98-87A5-815E2385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E469-59D9-4119-ADEB-04D5CFF9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C035-03E2-4AF2-8BA1-790B24FF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C9A-8A3D-4060-A0EB-2C5E8071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8CBC-56CC-4084-9903-F2AAF4BE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3904-0FA9-4475-BA8C-A74B6499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2524-D617-4531-BBD5-5D47B50C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C229-8A46-4D22-8CE6-3B6EFB8C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0F2D-E3A2-4361-8213-250B4363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7036-9EED-4552-A467-141083D8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63F87-DEA9-40F3-994A-40D686E2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5654-7124-459D-9CB1-C75C177D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0D34-AF9E-4D8E-87E7-783D8C64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4810-6AD8-45B8-8F17-442BC55B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B8A-DDDB-498F-BB61-819BA1BF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754A1-A567-4DE9-B364-9C6BCF15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73DE8-8274-4FCC-98E8-30783512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D926-D1CB-44A8-8D50-44F8E120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6AA56-A604-4B61-885B-82DF461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D697-C499-47AE-8214-38B78F6A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2015-C887-41D4-82A9-9BA270BA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F6C9B-18A9-4AAE-8BB3-32226700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58B1-4DFF-48CB-8B1C-80DC2CF8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26A5-8EF4-449A-953A-53C36011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1C91-B567-4BDC-992F-362A65E8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760-F95A-4FF6-8FDD-A9F7A045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C8BB-3BD0-4E58-A07F-C1D1A5D4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65D6E-1807-44C0-9A2E-1906EE62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58A83-E546-4B9F-9117-78CEE74C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C3B38-5077-432E-8AB0-1ED8BD1B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A77B3-6012-42A4-8455-987CBD39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54E9-8D1A-41B2-99CD-289E3220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DDFC1-3861-4C39-AF4C-55142DDA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0B078-41B5-4B69-9F0B-BAD75EF2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B994-882A-42D0-BADD-607D380D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36587-F3B3-4514-92C5-3E3689B8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A0A-CC70-4F81-9E41-AA402123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F42E9-A2D6-4FA3-A430-45F727F2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600F-368F-4175-A87D-AB371E51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1AA8B-26ED-4C0E-A185-8864139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AE881-A4CF-4969-8E29-AF0716AD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BC8CF-D801-4526-92E2-EDA10348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7CD82-7723-4C4E-9F93-9C212EEC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365B-3B46-4944-A5F4-21D73DCA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596ED-495A-44DA-B6BD-C2C6A751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5B3D-14C4-465C-A04D-84722F84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80E37-6F28-488C-8EDB-C4A6D49F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251-423C-4E56-8541-2243B34B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BCA9-B265-41AD-96B5-C0D35D5C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BC77-DEC8-40C2-90F8-1DA36C88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021F8-544D-4EEF-B24E-F299EFA8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71E02-CBAE-49F8-8405-8705C0C4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028E2-594B-4176-8399-D1D17B6A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36750-A666-4920-9D04-C3DCE104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5F12A-E364-4708-8700-BABAF673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DB844-4458-4ABE-B9A4-37B9285C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D8B75-BC1C-4753-AEC4-59100857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C7538-4AE8-4C99-8EA9-9E3E07EA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A5A-8065-4854-8ADB-64D589A7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A10B0-363A-413D-B8F2-F260EF7A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FDF2B-D78E-4E89-A4DB-12C3C2A8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FD5D6-B044-4B21-9BFE-D71B4E31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AC717-F84D-4710-80BE-BC1BBF6A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22A4C-EAF7-413E-AF2E-39C4A611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E04ED-EABD-474B-8510-8FC4AE72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88079-1DF2-4B9B-B1B9-514B0E74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702D6-0C37-4A1A-AB6D-02F6D75E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F1741-C2C1-4F09-8E1A-747646E3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F5C37-AA8B-4151-A5B7-3879CCD1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CF1-C8C8-4187-A65A-5C526682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C5EBA-3997-46B0-A7F0-7B2A45C0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66CAC-E3B3-44BB-920D-27A65C0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41792-5EA0-4FEA-B9F6-E713524F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9C041-E9DA-4E73-93FE-396E87C5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1B35C-03E8-4F8D-A8CB-483CC126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C98A0-B95B-4D7B-9BB5-F3D84EC4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40E8A-9BFE-4C4E-B788-13B01C8F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AB1DD-2379-4AB7-9ED9-E81493A3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85C3A-FC06-4F1C-A2FF-4270E863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5664E-DDB2-4B29-AEC9-1D41E9AE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1A6-B306-4180-9F61-BA841557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E2D53-BE39-49D5-8A42-054D78A3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5C531-3601-42FD-B815-64F01D06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A9622-7EBB-40E6-8A37-8FD7CE47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B9F3C-1C1A-4303-9C89-F3F0D5E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67DB7-B7D6-41AB-A1C6-7019B353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16B02-544B-4AB8-89E9-83A9563B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99DE4-CD06-423A-95A4-5380FC7D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32A10-7651-471A-9D2D-64E7E7E9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C3F38-9FBB-4CDC-B1AB-34491862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5092E-39C6-49DA-9A08-60483337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F242F-00D8-4027-BAB4-C8DC125147D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6A7AA-7934-44DC-8D30-E0D7898F7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BED04154-01CD-4C20-989B-B5CCD07D0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AFCEC-1965-48D5-BDE2-BB872BE7CE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3BAA1-88E3-4EA2-84CD-59E9C2490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29FBD-5B9D-4DFF-87FB-E60A49F97C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362CA-FB4B-46B2-AF46-DF5F91D4D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6B72D-A5C7-4448-9FB5-2FF926A2B6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012DB-9EA6-4121-8A71-22AD57DD8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31694-98B0-44E9-A61A-20E48D7410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0E294-24D7-4BA3-A85A-5BC3AEA3B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2B376-CAD9-4C79-8BD3-39A1AD9496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66268-A057-4428-BA3C-D3CF9F339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D55E3-2FA5-49CD-920A-0B228E09B6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6F1A5-603F-4F1B-9E2B-5FDEE0107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ABBDF-1A39-48DA-94FB-0DCF54AE96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7009C-E325-481B-B24E-7893167CF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4C32A-64E7-46DB-8C7F-1F42543BDA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CD1B7-BC7E-4725-B552-A415DC651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3B1F2-583E-4A60-8115-22231B79B2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06515-C7F5-4BB9-9ED6-B4C32EEED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97724-E9FC-4A7E-9B7A-48C535AD90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182A5-F5AA-495F-9187-D543FA6F6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AF79D-5793-4157-9AFD-D65A2275E0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F0489-D932-4473-B2D6-8CD498CB7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D14DA-EB35-4456-998E-455ED6568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DC7FC-EA11-4C98-B0AA-9AA1D34B0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4FA26-F336-458C-83C4-94E005FAE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B3973-EE61-4EB0-A03D-926FCED28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41E5B-E482-454A-9BDE-E6B07D8CA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6F7D4-4561-42AE-BC3A-F9B619891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5CABC-4FB7-4B7E-A915-7D6B873EB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F3FFE-34C9-471E-9276-C557F4564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A8DA5-6CE6-41BB-B937-CBEEFCE7F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5C88B-4D45-416A-9558-214C3938D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6F4A5-0EFB-4781-9879-3D636DCD7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91A85-8B37-414E-8DAD-11268F014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FA895-089F-4CA3-ADAE-045C9F753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720E3-AE77-48D8-A300-62FA5D91C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CA7E3-4985-4075-9C49-F58B10E03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25703-CFD1-4E54-BD1E-B7E37518F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9B75A-E3FA-4F12-A79D-EAEE9D73B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9C0AF-60C6-4E5C-A614-5C5D76648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B10E7-4E70-4E40-861D-2662FC912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4B1EC-1B38-41D3-8547-8444AEEFF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0402B-1252-44DD-A7E7-F5CC033DF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0A869-8D40-4298-BA9A-41A1DEAB9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32983-BC55-440F-9EFD-99BF9B897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80E47-385F-4C32-873D-122E35D1F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9FAB1-A559-4EA6-8E8A-23DA59BCA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6D583-E01C-4296-87A7-F03057F55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AB798-71DA-464F-BE84-B39B2A13F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6FE80-6B5F-4C9E-9A6C-AAE9AE828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BA839-4271-48D3-AB4D-75ADBA4DF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ABBCC-1B01-48DE-9F77-34BBE6478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47C5B-4155-4494-AF25-39529A139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44E45-48D3-49FF-BF6B-2E773E1BC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016AD-52B9-4C12-BB0C-C304AAD74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30T09:40:02Z</dcterms:modified>
  <cp:revision>74</cp:revision>
  <dc:subject/>
  <dc:title>Titulní strana – Titulek</dc:title>
</cp:coreProperties>
</file>