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230D-81E1-4985-9D1A-F977772F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BF4-B9E3-4997-889E-434356E2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6DE16-2B07-48E0-B8C5-8DEA2B33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046C9-94C4-4684-9603-588A8BBA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011A6-BD38-4144-BDD3-EDB314C0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089AD-D759-4F4C-B6F2-F8ED96F1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D6D1D-346F-49D1-BC0E-B48D770E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FD05F-BA00-448B-BA56-FCE58F40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F60C0-D18F-4554-B7FF-979AD643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E8FCD-35D5-4C03-B2E7-7E94AA9B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AC9A1-A293-405C-8142-3D73F928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9F26B-A2A7-49D8-BB74-2CB52C8D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768-D66F-41D1-A470-AC9168E3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8E9A6-5E9B-4226-A8C2-26F535C1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A8D1E-E4E2-4CE6-871D-4AB417B4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94073-E162-4EA1-933A-8853308C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0E6E6-CAF7-4D1F-9C96-277757BC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3D4BA-F503-4A59-9669-F9C7B54C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EE6F0-87C0-40BF-BEE1-03F83C7C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B0223-3937-440D-A9B1-CD04A88E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25882-51AC-4AA2-881F-745DB169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A1EAA-49CA-4BF7-BBD4-DF538FA6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F69B2-EC3F-4206-A950-44141793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577-E17E-4114-92FD-0BB2E96F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12283-D864-402A-A181-3DCA7E79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47BCE-8E76-49FB-B109-AD8DD0BD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4C7F4-661B-4E91-9403-F03848C8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58F43-8C52-4248-945E-1F0F90CF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3E5E7-5C95-4854-80A3-A6585512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0B33B5-87A3-4AF3-935C-6137374A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B4156-34A0-4D6A-974C-9FBC51BE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89A07-E39A-42D5-974D-B17E8956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29EA7-5108-4A34-B9B3-2D1150D1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7775D-9B68-4778-AF18-36A5AEC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BB18-FFE1-4582-9B58-F9A70BE1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034B5-323E-43E7-BC69-25397B22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FEA6F-ED5D-4156-8742-EDA4C6BF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DD74F-C569-41DC-ABA0-911FB5A6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34D49A-BBF1-4239-94C3-CD1F4913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F6A28-C7FB-4E00-A9B4-D5A90263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BC97B-4EF1-474C-9357-E67B960C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1A9D0-775F-4056-A4C9-F332B27E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51740-9D14-4827-AE3D-227B19A9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ED1F2-0100-43B1-BDDE-DAEE5F37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9763F-8F96-4EC4-A474-EB7F52E9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1CA3-A74D-4103-BC6A-0D09140A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7F646-2350-4D53-89BB-15D8ADB2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EA3AE-9ADC-49B3-A046-C4BE9DF5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3B1DD-79C0-4B03-9556-59B53D78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04915-2916-4907-90E4-562EE65A1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4B52C-8BBE-4054-BDCC-E38B3F72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1AE3-21B7-49C1-8CAA-80FC8FD4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07B7-D97A-4BD0-B415-13C8C96C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E196-7FD1-488E-B92D-22A87E7A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C43F-66D3-4FE4-B7F1-CA0C421C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5AA7-393F-4BE5-96BB-B2D6A71B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9B0-08AC-4F64-84A8-B6EDD54F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D231-6C49-43E7-B8EE-1B3641C0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482C-F313-4EE0-A55C-BBAE2B17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71C6-825A-4395-84C4-E030A25D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8496-13F1-4477-8ACD-F8CC851A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F3FC-BD9C-4A17-8154-154C4A78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ADE34-2001-46BF-A3BC-E6C0006B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0802B-7DBA-4B60-9A90-3836D972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C622-78C3-47AE-BEA6-FE1E56FE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BC17B-5E44-41B6-B170-4E5F3AF0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7AE9-181C-4D3C-A2EB-994479A3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C47-8C66-48F6-92DF-AD58E3A6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A063-6EAF-4EFB-B35E-99C865A9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A443-2C04-42F0-AF4A-E48B4767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2E2B-54AC-4974-BDF0-0258AE0F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DB3A-3139-4E14-AE6B-80671139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930F-7E45-4253-8B52-68434D5B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150D-1A01-46CA-8434-6CAA2810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CF82-FEB9-48D1-83AA-FB07A288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E3F1-2D30-49C7-A759-B367C3DF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3837E-A033-417E-8794-7003A69E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5500C-A8DA-4AE9-B5EC-3A9754D4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29F-64D6-4BBC-A8C2-891FA75F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0C1AB-2F1F-494F-8D2D-6BCED2E9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75AB3-0A8C-4801-B194-490869CF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6E46-7842-4730-9AB6-6ABE0014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F5E64-F532-4E39-ABF1-0B6771B5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71E49-C1FD-4B6B-947F-362843EB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FEED7-A87F-4200-BB65-730BD326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2920D-5BB2-466A-BD21-1F2F24A7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72E8D-B0D2-4971-9575-9B962065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7BCA9-2B6F-43C5-B552-A90A3527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6C5A1-3C6C-48B9-885C-91A0EA0E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A9A-03A3-46DF-8D73-172078FE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B3B28-B27F-44C6-B01F-76EE59EA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16BF6-7236-4F8B-8558-C2BD3162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8F35-61D7-4DB2-A45C-99DFE4E1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64E4B-FC89-4E84-BEBC-286FE404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458B0-42DC-4168-8119-1127F180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93EC5-4A53-4DB2-84AD-298F321D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DB9FF-C4F2-4207-9281-FCB1291D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72441-C860-485C-9950-FC30F4B3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3C7E4-9942-4BD3-8DBE-9301E808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C265F-3D4D-4F00-A515-CBF51647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290-3A00-4024-A62D-882B6AB9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FB15-C10B-41CA-8443-60931CF1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E3A6E-ED8A-4992-B722-590EE24F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4999B-3AF9-47E9-8360-DE28BA77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78BC6-7E8B-4E48-BED1-C68D9C1F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3E58E-049E-41AC-9A72-784DE679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22565-06D3-47C7-8FD0-97B392D3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AEEFE-5032-4DF6-9A29-649B4F2E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7CB93-4076-4294-8068-4D2E6760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B9A6F-8B7A-42FF-9E08-E9D26A88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7902D-4522-4FB2-814E-9724CE24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5D3-8EFC-44FC-9382-3BBF44D5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4FF95-B9C9-490A-8130-0DA1C0A2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B7541-BD91-4236-9775-94EE909E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BE361-08A9-4FC2-A93F-8761A901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C0FAC-9B10-4787-AA9D-8586A066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41F25-4CFA-40D2-9CE9-A2569168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99D52-E61D-4DC0-87D0-6E5BFBCE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65BE5-908B-4462-9B9A-CEF44DAF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769D7-B419-48DE-99C4-80D86199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5420-2DB1-47F4-ACAA-E210E0A6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9A3F4-3C5C-4C57-B2DB-A914870C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DCE-61FF-402C-AEE9-3B900311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871B9-EE83-4721-A903-46FC6270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573FD-71CF-47BE-AEC5-15BAA3FE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64968-EF1C-484D-B386-D76C95D9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A356F-37F3-45DC-9EF3-CBFBA4A4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1DBCF-6E3E-418B-8BBB-C8EBABB3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36D30-7421-45BB-B67E-488A1E5A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B68E8-8951-460E-A5D0-16730493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BCF9D-43E1-4103-848D-3FF3FD5B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CE4C4-F381-4200-B583-FA37D4EE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021E7-AF5F-4F61-B254-F3285FC2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432-A1B7-498E-A27E-5628107E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6A47C-A3AA-4B7C-A82D-3629555B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2C336-4E2D-4312-BC2E-8A3A7794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50964-179C-42EB-B98A-194F0B05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5E47A-B288-4AC7-BB65-B54342A7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08DAF-01EA-4FE1-92B7-43CB89A5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79514-FE90-4C48-8651-2559753D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FFAB9-134A-43EA-87EB-CB7BC864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F7050-E171-46A4-B326-62AB82B5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295A8-A30E-49C4-BC83-EA1E53AB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AAE89-5DE6-49BD-8946-E7922F5C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A732A-DD36-4F9E-B77B-D3F9BC4038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86C60-6276-4D28-A0E0-DE1EF9239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CA81A1D6-CA7B-4A05-84B6-7B8B3D095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BAE87-F248-484A-B3CB-FEBD94BE4B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7C7FF-06B5-41FA-B956-302FA1DD6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3A8A9-C5A6-47B8-A929-723CB9658D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E723DB-DDF6-4340-8CDD-C63C22965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ED316-D863-481C-AE43-DD84BE2351E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73E53-FDCE-4E9F-A202-1D0B734073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1437F-DEB6-47D9-A0D2-04B0C709D5B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E824C-2274-4E1E-B5F7-CC8B979D6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FC280E-23C4-496B-A066-3CFF91E97C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AC006-5427-4D9D-AA1C-A28FCCDE2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E046A-BF54-440F-B1A0-5729EDDF8A7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E9262-8ACF-4DC8-A9FE-194BCFCA5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11174-790E-4FE1-AB37-580C0ED2E63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D2166-011A-4FFC-9BDF-C8E0F96B3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1C801-D2FE-4F0E-BE32-5053BCB899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9AB2C-183D-454C-8FBC-CE0CE74EC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FE512-16A1-43F0-8CE2-8DCE8EDB88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4057F-82F6-466A-8DA5-C5AAB4414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BA983-26E6-4E13-B407-074415E31C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40BE7-0726-4982-AA91-6E6299946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92FF6-26D4-4D7F-B538-31E9C1D18C8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16AE9-FC06-400F-9F40-760F86AA2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B4036-D549-47A7-9BFF-78FEFF7AE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3B47B-4345-44E6-A6F8-A848100E4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53E19-C02F-495F-A560-1A3753277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18752-B782-4E25-B168-01A4D3F28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98FA5-E5F9-4A9D-824D-8744F9923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188C4-E6C0-436F-B379-6B6153B5A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8FC69-5FE1-4B1B-BB3F-9898E650D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228A8-7695-4A99-82E5-A11313FAC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BDEA2-2312-4B1B-A26A-AA2141D84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42B3FB-8C76-47E1-982A-86977C6E8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C6759-0B31-4C84-9670-4BB746370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20B72-14DA-4FCD-BDCB-DF2AE3BC2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230F0-0023-4A26-B31F-F2FCFA3A6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0AF620-C621-407B-8DF6-A6CDB27E6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43F50-F13B-47F7-952E-314AB470B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954AD-5FFD-4394-8B43-2468B6056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A4034-96D3-4282-B66E-ABAA0408D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BA770-1755-4796-87BD-6FE3FFF89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BFC04-17BF-48ED-ADFC-80D7E0532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DD4ADF-DF92-4A66-8D2D-9E5D3157F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8BF2C-E870-46FF-B443-0C3843FF9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46D0A-69AC-4A5A-90DC-B8910E3D9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922EA-1461-4C2D-B3AF-290D286A3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77C84-B11F-41B1-92C2-00B3A1F1B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6D67C2-B797-40AB-8F9A-E19F13952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0FD2B-8856-4C31-B0EC-735FEAF25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D9D70-1523-440C-92C6-AACBC2FEC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E3700-C250-4BBA-A1DA-EFF8E0208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0B514-436F-433D-82EB-6FB4180B2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232C4-E333-4415-AD96-69BBF0874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12C03-F368-404D-BFD5-B71856FF83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E7C73-3B38-4C27-A8C2-2F47CE915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349D3-3B67-4F83-A783-9A11D7DC1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0-12-30T09:40:02Z</dcterms:modified>
  <cp:revision>74</cp:revision>
  <dc:subject/>
  <dc:title>Titulní strana – Titulek</dc:title>
</cp:coreProperties>
</file>