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FCD0F-5EB4-43A3-B80F-D64661B97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9D264-CB0A-421A-B2E8-351660E82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9531B-D137-40DC-AD31-B1248D2D1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FD1-AF6E-4816-A737-C1234972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CC8-2A58-4E30-8CFB-DF4C72A3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74409-1DB0-465E-BC77-D63E56ED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3675E-1A2E-4CDA-8F8B-46E86A4C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98C3D-878B-44ED-A6C2-88251DAE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4FF36-6359-4753-B794-C6C41C3D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52616-2D15-4945-9445-058A290C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E6C62-B079-469B-B54C-B4C7E865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EBD4C-2268-4E2D-95D7-BB735824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D6FF1-BF99-4151-8655-760C8496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08C4B-4CF2-44B3-B757-EAFAB8CD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26A7C-DB8F-4216-B7E3-B794097C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457-F3B3-4342-BEF6-DDB05363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DC8BF-4C02-4CC6-A611-700EC298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21E48-0540-432A-ACA4-D8AC4962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9DDBC-AE75-448E-A43F-C7C39DD6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99118-1F8F-45CC-8047-805F34E8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17B85-D88F-40F0-BF42-EF4381B1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4AF94-BF6A-4003-8EC7-F1FD587C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86AF2-CBA4-4AF3-AE2E-64CE5334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D595E-B4E0-4F8B-A4A7-81559A0B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2CD36-98AD-4BA8-86F3-6239F566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0AC62-0925-4CF6-A961-22754068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A47-07C1-42D2-87EF-A6008066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577CC-9CD4-4689-A288-17B209E6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DBCD4-FDE9-453D-839B-59AD4453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E7D13-D22D-4B34-BB4C-3B8516A3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AE582-B5E5-4E04-B380-D829AB83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7A380-230A-411D-8C82-E86B4EAB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8C8B9-ADBA-4AD6-92D9-91752257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C4172-F556-4C5A-9822-191C26FD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6926D-1016-48E8-8D63-62B9E0E7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AD517-56A4-4DC2-88F7-B6287D47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7D667-759C-4AA9-80B1-FCAB5BC4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7681-009A-4522-BE31-CC4B01DC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2A25C-A7C0-4D9A-935B-863A334C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C2A76-5B5B-42D4-B5AA-9E90FBBA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302F2-DE66-45FD-B81F-0730778A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2C04A-7057-45A2-8AFF-37D8FFE9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4A737-F104-416B-8844-99603B54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96159-B6D0-485A-9C63-D08DC5A3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400C7-BE43-46FF-84C7-E812CF7A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B9CC9-7120-4187-8FE1-E3427E06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42CFF-A8B8-4725-BDFE-6BBEECCC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25B2E-6763-4DC0-931B-D4165AA9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54DD-AC47-48E8-A64B-777470A1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D074D-189A-4A9F-AF27-72428761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CA337-4EF8-4631-80B2-2D31CCAA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F0C80-4424-4613-8376-F3E0F5BE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5ABAD-AA67-4031-90A4-2630C548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8F54D-8B26-4BBA-AD90-20A13291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1B92-B5B3-4A6F-97CE-6C57F29F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DC23-8B53-4FC8-BC49-C8D88EA6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ABD4-8C34-45D9-8ED5-6546BAC0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F0CA-690B-42E7-8080-B56DC785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4815-81B3-4595-9EE7-18E9429C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62F-82AC-4E3D-B470-B9B15DBB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8C7E-60BA-4D44-AA92-D9C01CD8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CB67-77F7-4BD7-ABD7-BD7E8ACC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BC6E-06FA-4C24-A8B2-C2BECDDD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C509-0ECA-4E4D-8CA7-E42FABAC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E2FA-F32B-4298-86A5-E6D34E6A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C7B8E-A2E1-472F-AE71-A3420B1B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6411F-2866-4D68-866A-C601CCF1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33C07-29D3-45B8-B703-B4275053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BAED1-B335-43CC-8245-E447AFCE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E619B-8750-4D24-A588-E9535F93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388-7989-4E3D-8461-B1732706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530F9-0F90-4EBF-A67E-EFE82429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04A19-AFEF-494F-8581-0A850CDF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160C3-AD6E-40E3-9DFD-72F633AC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329ED-451B-49BF-8233-D3861A08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11A66-9756-4506-9328-D723389F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767D6-99F9-4730-940A-7F4C42AE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A2EE-E112-4430-8A13-AE235E0A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A88C5-BFA2-4C15-AAC4-E5AA4145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605ED-3B88-4AAF-A6A5-C8CF273C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0B66B-5742-4528-B619-0F9FFC86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536-8BF3-411E-831E-81D9F71D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DFCBA-B12B-4264-83E9-6B59EB23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82613-F174-4347-A054-17268E53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BB5D4-CD1B-4B27-ACC9-DEFCA305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A0881-436E-4388-8902-373A5B66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E35DC-F495-41E3-8669-52BAA02E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94B4D-1E2D-4058-9850-8FA37917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8D37F-3884-48A9-AE95-3F0E49FF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59FF0-453C-4DE5-8DD6-38A30EF7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806E4-EEB5-4534-A3D7-CA58091D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6183E-55A7-4A11-B5B6-89973829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E7E-1009-4D0F-B4BC-F53A6817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9EF6F-14EB-4848-AA92-22E947AF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DD81B-3B8D-41BD-B190-48594551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E09D5-FAB6-4FB8-BD9B-E01D017B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13594-1EC0-41FB-AB75-95C5C875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351E9-8C77-4BB1-B13A-F8C9E8CC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2FABC-59B7-4D23-8436-4EF37128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81924-40B0-4880-AF37-D64CC8BF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BEB29-C7DA-450B-B041-BE8C08BC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A019D-99D8-4826-B2B4-18A8AB55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A182D-E319-41E6-990E-71A5A8D7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300-B6B7-4606-A938-2EDA0906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59B93-692A-432C-88BB-2878654A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D5403-A934-4FC8-87DD-5144BA75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63AA4-0020-4682-BB54-3A22FCFB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AF5B0-034C-479D-8C54-E049CE04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4C249-F66A-4779-B2CD-4FEDAA34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5127A-07D9-47CE-8786-93526033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D928F-864D-4BEB-B21F-4CF4245C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FB688-9D88-4C19-80F9-671C084D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A0914-D9FB-4DD3-93E7-355A8E24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2E3E8-6C05-4977-B53D-8426F800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C36-72AE-4E18-993D-869AA3A8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3562F-B6E0-4F86-8DD5-AF446AE9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973C7-3947-4354-AC7C-DB27776B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48CE4-1605-4F68-8F77-9102A057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C879D-3301-430A-87F0-562DCB8C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F8A8F-04DB-4B06-8428-E116C317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ACC3A-5F5D-4581-A4F2-6BA73D7C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BFDE8-9EC1-4E03-8D12-DF98C46F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54E56-5B1E-4EF5-BE43-24844D28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F73A8-1557-471F-BA7B-B2ED8F45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0130E-C572-448E-9A80-FE526D97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72EF-9160-4419-A83E-00F42261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AA4BB-517F-4622-A7C4-FEC7EE32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77A44-B8E0-4996-894C-40E1A105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82E3A-A7A5-4D1E-92EC-B01F2E4F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6B11B-518C-4B38-9FB6-17AA9567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1563D-4189-4281-8155-63051E19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BA7C3-661B-4AE6-99D4-B1BA5672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F12CB-EFC0-4D3D-B38E-BC0EF2D2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403F6-C5AF-4594-A4CD-E1B6E291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627EF-C8C6-4ABD-8197-CD008A1E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18C02-0B85-4883-B680-BD2B59B7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FE49-9923-4355-B674-DB8B92F2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AAEE2-066E-41C3-99EE-95FDA0A6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9DF56-CABF-46D4-9E4E-99104D5F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9348C-F744-4F4F-A2B4-3A637C09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91D2C-A3C3-4BBF-8164-66846CD9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D0EA8-4C3F-4DB5-A4F2-25902F7C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EE9DE-D922-401F-8FBC-612BFF6F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E95F2-2B89-4BF4-BB5B-13475E12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974C9-8A10-4D14-A300-E0E7F1CF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B1B69-D845-4CB3-951E-EAA5B4EA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75745-327E-4422-9DD8-4128573D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6595D-9DA6-48A5-A691-8FE40926C7D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E7E9C-C3D8-4E79-BA44-1F4A7E5D0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C4466D7A-2767-4BF2-BC57-83191C7CC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79EAF-1324-41DE-94CF-17C23E9F74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FB8E2-AB5B-4B23-B2C4-8F8210C98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1EF44-1BE9-4AD7-9D9D-619EDA95C89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00BFF-2B10-4BC8-8E9A-316595E30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0E64A-B738-40F5-8E9B-F330ACD445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7AE3C-8ED5-456E-B241-5B0452416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D2136-0048-4057-897D-53B357377AD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9DF2C-BF40-4C36-A605-CD738FF7B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1F3C0-366D-4EA6-A0A1-8B8B6B16368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F5E06-5D98-43F0-8B1D-91BC3AC54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7990F-EE1F-468E-A159-01C3E45F6F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E608C-7E86-438A-A1FB-DC0137695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6DA43-1916-46EC-A382-749253BD84D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CC06B-D70B-4F82-A51A-5D4DE2EA8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42870-2839-4940-9004-2C425B093B4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D758E-2862-4029-B02D-3DE365569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EBE12-723E-4765-A58C-C360642172B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2E5E4-8ADF-4131-8DB8-944377D5A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8D462-6AA1-48FE-B516-F966AD42305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B92B3-C5E3-4590-9174-82CDEFB62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FBFD1-7EB3-47F2-95DC-C2638808E70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CB5E1-C80C-48C1-9CDD-6223B8B85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Mgr. Tomáš Drážný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3A430-4ABE-43B8-86EC-3DB6B3109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DC724-8CA1-473D-9FEC-7B9820E42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smlouva, DPP, DPČ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Finanční manažer  0,2 * 20.000 = 4.000 K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11977-CC5F-45ED-A962-50D922495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9" descr=""/>
          <p:cNvPicPr/>
          <p:nvPr/>
        </p:nvPicPr>
        <p:blipFill>
          <a:blip r:embed="rId1"/>
          <a:stretch/>
        </p:blipFill>
        <p:spPr>
          <a:xfrm>
            <a:off x="814320" y="183348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10" name="Šipka doleva 6"/>
          <p:cNvSpPr/>
          <p:nvPr/>
        </p:nvSpPr>
        <p:spPr>
          <a:xfrm>
            <a:off x="5753160" y="42973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Šipka doprava 7"/>
          <p:cNvSpPr/>
          <p:nvPr/>
        </p:nvSpPr>
        <p:spPr>
          <a:xfrm rot="16200000">
            <a:off x="2961360" y="473616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9066B-CBAA-47AF-B05F-C5EA8F90A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6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7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Šipka doleva 12"/>
          <p:cNvSpPr/>
          <p:nvPr/>
        </p:nvSpPr>
        <p:spPr>
          <a:xfrm rot="8874600">
            <a:off x="1499400" y="3244680"/>
            <a:ext cx="800280" cy="222480"/>
          </a:xfrm>
          <a:prstGeom prst="leftArrow">
            <a:avLst>
              <a:gd name="adj1" fmla="val 50000"/>
              <a:gd name="adj2" fmla="val 4995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délník 13"/>
          <p:cNvSpPr/>
          <p:nvPr/>
        </p:nvSpPr>
        <p:spPr>
          <a:xfrm>
            <a:off x="1340640" y="511344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79646"/>
                </a:solidFill>
                <a:latin typeface="Helvetica CE"/>
                <a:ea typeface="Helvetica CE"/>
              </a:rPr>
              <a:t>Využívejte komentář k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3E29D-CEDC-412B-8168-A3E7D82E7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Zahraniční pracovní cesty realizačního týmu:</a:t>
            </a:r>
            <a:br>
              <a:rPr sz="20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51603-9DBE-4638-98C3-EB32C790C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18908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9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197D3-92E5-40A5-9331-2FFB91C07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hraniční expert v ČR, per diems 230 €/den (ubytování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E36B8-BFC5-43BD-8261-416596CBA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pic>
        <p:nvPicPr>
          <p:cNvPr id="637" name="Obrázek 1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51760" y="5948280"/>
            <a:ext cx="1754280" cy="408240"/>
          </a:xfrm>
          <a:prstGeom prst="rect">
            <a:avLst/>
          </a:prstGeom>
          <a:ln w="0">
            <a:noFill/>
          </a:ln>
        </p:spPr>
      </p:pic>
      <p:sp>
        <p:nvSpPr>
          <p:cNvPr id="638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A56E1-C8FA-4BA2-805C-75473D71E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F6ADD-81FA-4F22-A8C2-A35525841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BD80D-0215-4969-B531-C4A55CE51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opravy a údržbu -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3C8CD-93F4-4100-BA63-EAF574187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inanční podpora na jeden IP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mální výše: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5.000.000,-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ximální výše: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0.000.000,- Kč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návaznosti na typ podporovaných aktivi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6C735-EE7A-4850-A4B1-A2BD65B9A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ouze příjemce, který daňově neodepisuj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motný majetek nad 40 tis. Kč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do 40 tis. Kč - židle, stoly, lavice pro cílovou skupin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a vybavení pro realizační tým - max. 15 tis. Kč na 1 přepočtený úvaz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726FA-DDA5-416C-8093-9449A7DC1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FED2E-359B-4A01-98D7-1864289A1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skript, tvorba publikací, učebnic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eklady textů, zpracování analýz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daje na zajištění konferencí a kurzů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ořádaných v rámci projektu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FDBDF-36BD-4662-BF5D-FE228A8C3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4B053-C98D-43BD-9594-810D09ED7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DD9FC-118E-4256-A182-359AC6492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a pracovních míst nebo úprava přístupu pro osoby se zdravotním postižením, a úprava výukových, tréninkových nebo pracovních prostor, používaných na 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3B4FD-F43A-405D-ACAC-A42C50A92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skytovány zaměstnavateli jako náhrada mzdy pracovníka účastnícího se dalšího vzdělávání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lacené přímo zástupcům cílové skupin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3AA7C-2F58-4901-8FCB-F016A53D9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8556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0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odnadpis 1"/>
          <p:cNvSpPr/>
          <p:nvPr/>
        </p:nvSpPr>
        <p:spPr>
          <a:xfrm>
            <a:off x="1330200" y="3916440"/>
            <a:ext cx="333396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dnadpis 1"/>
          <p:cNvSpPr/>
          <p:nvPr/>
        </p:nvSpPr>
        <p:spPr>
          <a:xfrm>
            <a:off x="4870440" y="40006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0F63F-B697-4AF9-8D51-680BC218D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íl nepřímých nákladů se stanoví jak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cento dané výzvou z přímých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působilých výdajů celkem bez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ho financování položka rozpočtu 9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přímé náklady není třeb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kazovat účetními do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D59DB-49B5-447C-9C06-4317584B8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5D8A0-18A0-495D-9678-C8B43F8F7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71360" y="1072800"/>
            <a:ext cx="78865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94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  <p:pic>
        <p:nvPicPr>
          <p:cNvPr id="695" name="Obrázek 15" descr="nn_benefit.JPG"/>
          <p:cNvPicPr/>
          <p:nvPr/>
        </p:nvPicPr>
        <p:blipFill>
          <a:blip r:embed="rId3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6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21701-3417-46E5-950B-DF15FB409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B192C-943A-4C55-BB05-0803A35C8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828C4-5238-4441-9DD1-037E8435B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10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7228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FF6D3-3084-4350-A380-2AF7272FB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pozornost aktuálním informacímk výzvám na  </a:t>
            </a:r>
            <a:r>
              <a:rPr b="0" lang="cs-CZ" sz="16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8B5DE-EED6-48B7-97B9-C054454F3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gr. Tomáš Drá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manažer - Odbor CERA OP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tomas.drazny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4846F-5275-4250-B17E-2338EB028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F2786-0D22-4282-8723-C05357727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3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manažerské a administrativní pozic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227D9-F17B-4E72-9406-344415385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9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formace ze záložky Realizační tým se automaticky nepřenášejí do záložky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34EB5-5D94-48F8-820D-4F03C1F17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30200" y="2251080"/>
            <a:ext cx="6296040" cy="3094200"/>
          </a:xfrm>
          <a:prstGeom prst="rect">
            <a:avLst/>
          </a:prstGeom>
          <a:ln w="0">
            <a:noFill/>
          </a:ln>
        </p:spPr>
      </p:pic>
      <p:sp>
        <p:nvSpPr>
          <p:cNvPr id="595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6EFB2-AF11-4284-AA3F-D5117EEE3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3CA51-69A2-45A4-AC6D-A612F2464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22T14:02:39Z</dcterms:modified>
  <cp:revision>45</cp:revision>
  <dc:subject/>
  <dc:title>Titulní strana – Titulek</dc:title>
</cp:coreProperties>
</file>