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A3AAF-51FA-4D6C-BAF0-BBC642C97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nanční manažer  0,2 * 20.000 = 4.000 Kč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B8AD4-2AA5-4448-B504-36FAEAD18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17BEA-DFD1-4F8A-A609-9CFC21ABC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DA2D5-918D-4F8E-BE97-E7BB4509E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F20ED-1A1E-4E56-BB4F-A8DE4D24E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EEB-DC00-4B26-A51C-A9F2F902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9C3-6258-4C62-A731-B2E38F5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961B7-4175-4E3D-AEA2-CF47DBEA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4307-19D2-40F4-B33F-606D4B6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CFBC0-30E8-48FF-BC33-4481411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2F81B-9494-43B2-96A6-7F2439E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2AFCF-F20F-482F-926B-E9DD7A6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28C2-9F25-455B-92B1-FAEF538D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13567-E57A-41C4-A6C5-8F551B4E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E3787-95D8-40A3-AF12-78E2BE2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2AA5C-314C-4EDC-A42F-61D5F7C8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32A32-CD70-416C-8B9B-8C25CEA8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36A-BF9C-44E5-A78C-77255272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2F2B1-1089-4703-9A13-FC98F57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28EEE-6719-4024-BAFA-4BD48A97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45EEB-1C4A-4AB8-9CF1-518C2DC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1B766-9B5D-4AFE-8CB8-7364FAFA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3247C-851F-4CCF-80AF-E241C6FD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0FA89-C37D-46BC-8DA8-DAC2E9D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76017-06C1-44DE-8983-1A040E8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8FF80-4F1C-4915-A437-2EE562C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10D3C-408F-40A3-AF6B-FA90673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E0CE-96CE-450E-8959-EF55DB53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187-3CBA-413C-AF9A-221D0070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FA3C1-556C-4913-81AC-8E7B5224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0A6A8-7CC1-4012-830C-7C2EF87E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16FA9-B40E-4176-BA98-2C08AB60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3214-FCEC-4642-A41B-CBD3F35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3305-FB5E-481F-AB29-33E7B8D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1038-243C-4927-8BBC-FE70636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E26D-16FD-4ADB-8885-607D281E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C774-198E-4D49-B33A-0C2CEE1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BA932-DFBD-45D0-AAFB-AA2B7A4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3DC0-F463-4555-B307-237497C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2B7-9874-446B-85F3-D34CD44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7193-8FF0-4749-821D-12A88BC5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934F8-493B-455C-83EC-9030E7DD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5A73-DF6C-4772-A18B-E7B486FB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7DF82-5116-4053-936B-779B3E2D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3B6C1-557E-4EF8-B749-6047969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8761-9DF6-428F-B885-0B84BA32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2AEED-F2F1-4DBB-9921-FCECE5C2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FB43F-663A-4556-AE2E-C55DC06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F7EB6-52A5-4298-933D-0A2A447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C258-13C2-4599-BD88-F658E6C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62F8-88D4-40F7-B4B7-C190878A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0CDD9-5173-42EA-BD8F-D3A28D2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1F3D0-9674-4DCA-9674-ABECAEF3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9A14-A4A2-4330-8060-94B3A57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1CD9C-B915-49A0-9D6D-C1E9134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387B0-3B4C-484C-AD1E-797E0A9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8F9-431C-4611-A20E-FB38D01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0B47-6C47-41DC-A822-33ADF073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CCA2-19AA-43FF-B007-8E94BF7C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B68-BB54-46C7-8385-89865FAF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2805-2FE6-42C0-A8EE-86DE3F4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C7E-B58B-4349-8793-061F74F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8AA4-EEA7-4C2D-A284-0D581C9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1FB8-033E-4B6F-94BA-807DD12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2230-B5D4-40B5-9AE6-496577A8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87E-82F2-4A5E-8847-99D30371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FF6-062D-42EF-9E64-4AB117C0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C961-3E39-4322-AD31-7F759434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53EB-E438-4A4A-8288-C0CE78EA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3362-1962-43A9-8CE0-AAC6C10B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7DC5-E812-4DA6-A508-7D4F086D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4BE2-3508-416D-9E08-DA8B52D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6CA-5273-4C79-A995-0C5C37C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DCFB-714A-43C3-B464-6E380C0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B977-2EFF-41AE-B912-ABA6A9E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B90F-C85D-4257-AAE6-3C7493D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AC59-F81E-42C6-A9D8-0D29B68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1C7A-DA10-4E4D-8E66-871149B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8218-E907-465F-92E1-FF2B88B0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BE36-5FE7-4ABE-95D7-45EED011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7BD8-298B-4C79-BFEE-967D2EAF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48F6-5083-4BC5-89DB-6C98D8D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D288-736F-4BF4-B902-E32C004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BE1-75DF-452A-B3B0-68035AA2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CA2F-FC7D-4FAD-83B1-63F9767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8518-932B-40D7-AD88-E8BDDF9A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4DE8-0DE2-4405-B055-77029A72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19D8-30F1-49AE-B5A2-2149E87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BD88-6164-4FCF-BE76-2FE0F4F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9386-A545-4864-B8B3-7314C325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997F-F7DC-47B3-BEFD-0CD9602F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8AC5-0511-42BA-9512-26154375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46A8-3A9E-4CFD-A4C9-DFCF3B7D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CCD0-8EAE-43D1-8F7A-B6699393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049-E252-4C3D-949F-697757C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E65F-C4C2-4D4A-B23F-52F79A8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10EA3-84E5-472F-9188-AEB60843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F074-B9DA-443A-9BAE-8BEAA98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6815-182A-4F56-BB90-0E8A9D7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3663-CBE5-4DDD-AAF1-FA0F6C8E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D830-8F92-40FD-A768-29F6AE14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2C1F-ACD0-4E30-A1B8-562136A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6BB5-9E27-4C83-B404-AD2D2A5B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BA15-3473-41C2-920D-866E5404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9527A-C44E-47D1-BF64-93DBCCD4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950-0E95-4412-97E3-BD01137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EF34-D1B1-4349-AFDE-F9C68C3F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13880-6FE8-463E-A1CE-C38B3849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8295-3869-4046-9238-39DD8AE0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69E5-BFD0-448E-B69E-3DC63572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0AF7-A3B4-4B1F-82A7-6BA90E99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F8F6C-06EA-4B4B-A62B-B357955C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9FDE-198C-4E4E-954D-296AA61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0DCD-E653-444F-BF2C-B805EAA4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6F49-95C2-404C-ADBF-C5DFABE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57377-5363-4BCC-9A2F-0A31414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43D-DEB4-478A-8520-ADCFAEC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EDF5-FE35-45A5-B6C0-F1190F8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8E25-0529-405F-992A-E803090D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A884-28D8-494A-A17F-87E77575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0FAF-A2E2-478E-95CD-A5ADD343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6F28-E330-4904-A137-3CD13B1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D852-D2D3-4F06-AFC3-9038AB9F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B33A-84C4-495D-80DF-E2C9E56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4065B-1D95-4E2B-800D-2C2E02DF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3252-C80D-47FB-A08D-E6B53F69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C170-490E-4003-90E6-53F62AA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7AB-CA9D-4922-B193-57A4C4E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B3AE-B268-482B-B52A-F02EA80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06EB-82B7-4A60-8853-BFC4C13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52B4-B658-4040-96AF-754A7E4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996A4-5A81-44AF-938B-F194545C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65B7-A96E-458A-9382-39F1811E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DE6D-5CFD-4FD1-BE10-448B4A9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2938-ACE7-41E7-9F22-3D42DCE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42A1-D6C6-45C2-BD03-FA4ECC6E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F481-2313-4F09-B6C8-3B53F260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A565-9E68-464F-91E9-63A1284F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965-DC86-486F-BC59-0432516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4297-4EAD-4F5B-AFB6-3064DB77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A864-8F22-4DD7-B1BC-D8A18F5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F745-CA8E-483B-8D10-67F0093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4B4F3-AB4E-48AF-9C93-6D150C1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0461-B2C5-4B58-A38B-1AA1BC3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6D2D0-8C71-4679-A3BD-74301B54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E80A8-D2E6-442C-838E-27D6C372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B4134-2877-4D87-B8F5-642AB3BD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04728-3648-44AB-A722-EBF76C3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F06A-3A45-4CB6-B7D3-283F5E3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19C1D-1AD1-4AA6-80EB-2C3FDAD6F2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5F8EE-85D0-4CA6-8E68-6259A50D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74DBCD9C-10DB-4B88-9868-21F637219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57331-434F-49FD-AD8F-ABBDFB58E2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2C3A7-E4DB-4C31-B15E-1EB766EED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9C8DB-B43C-4220-A16C-1FE5E8B89B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909BE-0DF7-498D-9033-294C0C0F2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F2B29-C0A8-4DC3-A0E3-01EC46B419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8AC23-B18D-4B14-91DE-633CC9664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96291-5770-4D00-B3B0-C0DB5F231D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37CFA-35DD-436C-8117-32E6B3E7C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D29CC-1ABC-4AA1-B814-92FE7C94D3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9A5C4-B4E3-4D89-BDD8-AA03CCE10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49964-9F9D-442E-AC35-C090F410AE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F2D16-6362-43D0-83EB-2A68CEB92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87BDE-CD95-48C9-A3F0-4E8459DFA8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A62E5-D8F3-4038-9212-524D6700E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3318F-90A4-4CC2-A12E-3EE78F5BFD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BC1BB-BFD8-4103-B6C4-6E8B3871B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CCD62-C4FB-43E6-A14F-61BAA53029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96416-6CBC-4D30-A55E-8758B11A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9E41F-E1BE-4BAA-BBEE-01ECFCADFA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78F16-3D81-492A-89F3-983D4B87D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D3B22-9A8E-4406-8012-BEF51E578D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C2D7F-F47C-4574-8E9A-B65B89929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Ing. Ivana Baloušková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18917-D0F3-40CE-BFE0-2B6E9667E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EF8E5-C7FD-46ED-88B2-3592294D3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 smlouva, DPP, DPČ, ev. autorské honorář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87E17-2D8B-440A-8BF3-BBB8C5E85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814320" y="166536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06" name="Šipka doleva 6"/>
          <p:cNvSpPr/>
          <p:nvPr/>
        </p:nvSpPr>
        <p:spPr>
          <a:xfrm>
            <a:off x="5753160" y="40752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Šipka doprava 7"/>
          <p:cNvSpPr/>
          <p:nvPr/>
        </p:nvSpPr>
        <p:spPr>
          <a:xfrm rot="18280200">
            <a:off x="1257840" y="455832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2ED86-2DC3-4D54-89FF-64F9816FF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1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2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Šipka doleva 12"/>
          <p:cNvSpPr/>
          <p:nvPr/>
        </p:nvSpPr>
        <p:spPr>
          <a:xfrm rot="7954800">
            <a:off x="1500120" y="3465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délník 13"/>
          <p:cNvSpPr/>
          <p:nvPr/>
        </p:nvSpPr>
        <p:spPr>
          <a:xfrm>
            <a:off x="1348200" y="5113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využívejte komentář k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1C0CA-6B7F-4522-933C-A134F55C1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9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B81E9-CA3D-47B1-B1BC-4C3C76A77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192240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3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F49AF-66CB-4603-A666-6E212E5FA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zahraniční expert v ČR, per diems 230 €/de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ubytování, 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38A3F-349A-4CF0-8F58-A0B8AE99A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sp>
        <p:nvSpPr>
          <p:cNvPr id="630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80994-0C7A-4CAD-8A07-AD6623FE5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8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C8C05-21D4-4222-9CCA-E2187864E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robný hmotný majetek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D4932-8EBB-4DB1-B1FD-D3049DF2F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Výdaje na opravy a údržb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D5700-752C-43F5-801A-241555E74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nční podpora na 1 IPO pro jednotlivé podaktivity podrobně upravuje Příloha č. 5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82149-BAF6-48DE-8D5B-CEF8A4381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uze příjemce, který daňově neodepisu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hmotný majetek nad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ábytek do 40 tis. Kč - židle, stoly, lavice pro cílovo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kupi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ábytek a vybavení pro realizační tým - max. 15 tis. Kč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na 1 přepočtený úva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0DE42-EA7E-40A9-8237-1CD51EED0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A8847-A9F2-4BF9-814F-82B80826A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tisk skript, tvorba publikací, učebni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řeklady textů, zpracování analý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na zajištění konferencí a kurzů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řádaných v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rámci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FA719-445B-4DE7-8616-4FCE3801D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0A94A-D1A0-4E9A-9425-666A30F1A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F95CD-6D0E-409D-B7F9-731C6B137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úprava pracovních míst nebo úprava přístupu pro osoby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e zdravotním postižením, a úprava výukových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éninkových nebo pracovních prostor, používaných n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34D64-B239-4A96-9AD3-D78AB48D2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skytovány zaměstnavateli jako náhrada mzdy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ka účastnícího se dalšího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690840" indent="-265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asistentské služby žákům se speciálními potřeba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09300-2ACE-4E71-85AC-003A040F3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329840" y="2185560"/>
            <a:ext cx="64580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2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dnadpis 1"/>
          <p:cNvSpPr/>
          <p:nvPr/>
        </p:nvSpPr>
        <p:spPr>
          <a:xfrm>
            <a:off x="1330200" y="3916440"/>
            <a:ext cx="68724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odnadpis 1"/>
          <p:cNvSpPr/>
          <p:nvPr/>
        </p:nvSpPr>
        <p:spPr>
          <a:xfrm>
            <a:off x="4870440" y="391644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délník 10"/>
          <p:cNvSpPr/>
          <p:nvPr/>
        </p:nvSpPr>
        <p:spPr>
          <a:xfrm>
            <a:off x="4114800" y="440856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bankovní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publicita projektu včetně úvodní a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závěrečn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6CCD4-F4EC-4EB7-8FBA-D42A92346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íl nepřímých nákladů se stanoví jako procento dané výzvou z přímých způsobilých výdajů celkem bez  křížového financování položka rozpočtu 10.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přímé náklady není třeba prokazovat účetními do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968D1-BF22-4055-B9C1-57CD6E0D6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C0A6-0E1C-4CCD-BCCE-1037B7CA6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3600" y="1072800"/>
            <a:ext cx="76042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86" name="Obrázek 15" descr="nn_benefit.JPG"/>
          <p:cNvPicPr/>
          <p:nvPr/>
        </p:nvPicPr>
        <p:blipFill>
          <a:blip r:embed="rId2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7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37CBE-D0FA-4B8E-A4AB-E1FD1A5D8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3EFAC-D482-4050-9681-AD6127F42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BD0E6-9BCF-4147-82A6-E270444C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01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907A6-B5F7-41E0-A6D5-C83B61AA4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pozornost aktuálním informacím k výzvám na 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82D60-8C34-48B9-8DEA-1C4B59E94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g. Ivana Balouš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ivana.balouskova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13786-3E17-4CFA-B229-2247927AA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D172C-3053-4269-80EC-9F7F8CCA8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manažerské a administrativní pozi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91D6B-0BEF-4789-814A-864F107A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informace ze záložky Realizační tým se automaticky nepřenášej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do záložky Rozpočet projekt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368B6-E005-45F2-BE70-137583CF7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30200" y="2443320"/>
            <a:ext cx="6296040" cy="3093840"/>
          </a:xfrm>
          <a:prstGeom prst="rect">
            <a:avLst/>
          </a:prstGeom>
          <a:ln w="0">
            <a:noFill/>
          </a:ln>
        </p:spPr>
      </p:pic>
      <p:sp>
        <p:nvSpPr>
          <p:cNvPr id="592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BCC91-8F60-4A3A-84ED-BFC70D055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203DE-6587-4BFD-BDF9-470B09639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14:38:35Z</dcterms:modified>
  <cp:revision>64</cp:revision>
  <dc:subject/>
  <dc:title>Titulní strana – Titulek</dc:title>
</cp:coreProperties>
</file>