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105-4FA5-420A-88B0-E6356F1D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C3D-97DF-482B-B638-4E8A541E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D4014-9B75-4FFB-A068-6758EEAB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E496A-124B-477E-B4D8-B2A243A1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AC656-9448-4C56-8291-C570906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EC145-0295-4CF6-A177-1DD8D3B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862B4-7338-498D-9264-C4C7051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C1D3-46B4-484F-909E-5BCF5359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676C1-E198-4435-A16B-7EAB5F11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E9A1A-5D08-4B34-8726-ED122882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A35B7-8985-4D4A-8579-D1215EDE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1BA40-20F3-40A4-AFDE-E2411BE4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E87-4EC6-44E1-9C36-744FF47A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093FC-11BA-44A6-BAEA-44A9BD33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181C3-2C85-43D9-91FA-6A39CAA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19C84-B85D-45EB-BDB2-260B976C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3A217-A85C-418E-BD58-C180F2D4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110C7-2BC8-4C06-9C9C-F53926CB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B5972-347F-4B9A-AFB1-9446ECA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544A8-205C-4329-9AF0-C532F71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55FD9-DD34-4CCE-A779-CE9A06A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25B1A-0055-4ED5-A1C1-8155D17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41AE8-BAF5-4612-A7A9-CD05C54B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41F-EBD8-4B41-989E-CF00AB61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3D9E3-D7B3-41CD-8DCA-491EDCBC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93CC2-5927-4751-96A7-211ED6F3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A9B80-859D-4A4E-9A45-BEF14268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6B7EC-47C9-4F7B-A4AF-85EBB556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37552-573C-4D47-BFA5-EBE9B56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7251F-E46C-4B89-AF82-E546F872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C2C1B-1FE6-4F2B-8C7C-407EDC5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41A1E-6DE2-48BA-B036-7CBA6DC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609A-B778-46CB-A084-532E4A7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08A7B-6480-4AC7-8247-94F4CB3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CD4-7AAD-4505-BDE0-C4789148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80FC7-2C21-4AA5-B5A5-FBE7CA6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D5CA2-3806-47DA-BC59-0D3FF229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5B506-723A-4E0E-96C6-595589FD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29150-A159-4949-BE72-C4B16F8A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7D8B2-166C-4455-8F17-A93AF8A0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2CFE-7601-4335-A61E-63A29914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CFE7B-FF27-4CC7-8CC7-E9A9FD5F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E7B40-C5BD-43DC-98EA-E232D2A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993C2-0FB5-4ED6-80AC-9FAAA951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F009-38F3-44F1-8DBB-74B97C6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D72-DEC3-4BFA-8517-59B9CDAA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32A28-A047-4B8B-8B9D-C891C7C3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B5487-834D-4239-8D11-DB6DC39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B1C11-DD4C-4DEB-A670-9346536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9C1EF-A696-4BD6-9E8F-37C4EF73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0B262-0D7A-4CB2-A660-3F9083FB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476E-F0C9-43C9-8C57-C4F473B3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BB35-BFB8-4DCC-BFCE-13C822E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1F69-9B94-4A5D-8891-5EF5E41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0002-4E52-4B12-B8D1-578E76A6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5E6-9DBA-4475-AEA1-B2BF997A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A3D-EB5D-455A-AF1B-CF0AE4B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5EDC-53D5-48F6-BD09-C6C5C20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D38-3CC4-4D7C-B56D-236A9D7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9BE0-51F1-4F4B-BEF8-AC63D2AF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D3EC-E4A3-4AA9-96D2-6E3BB7AB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AEF8-18A1-4D60-9782-7F16C1A3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3EA2-E50D-4165-8760-D1C89CE9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10CF-0509-46F3-99B4-5A755832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2411-1545-4527-AC5C-1278085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31B3-75DC-4B4E-BE0F-2D0BB4B3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E7D1-8662-4FDB-96E1-D91A1899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02B-24FC-492B-85AF-927DBEA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60DE-618C-4DFE-9DEC-666824AE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8AB2-3B6C-42AC-A360-1059FD84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336D-13AE-44F5-A6B9-9EACEDA5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6845-73E9-486B-9BED-B15EA180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AECB-9F40-4F92-A45B-EC29FBB4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520C-A345-4AFC-B2C2-BDBD0312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75B1-FE64-45E0-90D0-6A9A06E9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FF01C-2CA2-4838-81F7-0B947066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54DA-4B04-46E6-AE60-4D2E4611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7030-BE1A-457D-98DB-A52ABC6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C3A-3B33-4870-B896-7E1284B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ACD2-265A-42C1-B598-38E1F85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2990-5228-467E-8A7F-73A3D855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7D44-D7C8-4C3F-9151-1F8737DE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4D93-151D-4677-B8F0-BF44318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3E91-CEB2-47A4-A9B8-0EEC88BB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20CAA-ED85-40B9-9829-F4D05E41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A476-C95C-4FE4-B8CE-F2D4B81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8B4E2-37D0-4844-A7C5-ACBA3C70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D333-8C3D-4B03-BDE0-B25E6A71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768AC-CB02-437A-B23E-32D35657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388-7B92-4EA6-B52F-FB94729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E9A00-DAB5-4767-AEAC-DE7E403F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CDFCD-D93F-4BD3-91D9-9A3297C4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4FA0-6753-4BB4-B72C-B9B4A021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6D91-D7C1-4E7B-BAE3-C5FFE591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0E6F-134C-461B-A2D7-037E65C4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B8D4-EEC7-4FD7-9306-6864F68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70C9-7632-4CCD-9ABD-C124FC09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28C8C-4AE0-4DBB-AE45-E07C6FC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E5CAC-545D-43ED-88EB-39FFCA38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8ABE-8BC5-498A-A98D-C602E3C0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7BF-2FE3-458F-BBCC-B5035D3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01401-9DCF-4535-9DBD-492D831F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A66B-7702-4454-AD6D-AB2038AB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CBAED-2310-4B3D-8B21-28AAD145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2482-A117-40A7-8C2D-7F403355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A4FDD-5533-41B1-B4A8-E03B6AD0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1FC4-E87B-4025-96AC-4CCA5834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8F3D-AE97-4E3A-9B0A-80160E6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41AF4-7F6C-454B-82B8-2A4446F6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69E4-4531-4026-86D2-8EE23C9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3142B-0C23-4218-87B2-29D6EA6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D88-37E3-4B5F-9138-5E2468B1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4F169-9227-4D08-A805-F3F877E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B54FC-AE9A-4647-A547-F39103AD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0EDDF-4AEC-44AB-BBE0-03D35559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47A5-DFAE-48E5-89D8-90F15770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48506-1AC8-40DB-AA72-EFAB14D9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AA2C-205C-4ACD-8D4A-A17F3A62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485D8-A593-47F1-AC5E-E4E10414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57DC2-714C-4D5D-968F-41A5E226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4A6F7-41C0-4E77-A4DC-2B097CD3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3448A-0EA2-493E-BE15-18DE0C63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5E3-C02E-471F-B3C2-ECF8CC2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19A2-C153-4CDC-9173-7217D346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CB85B-AC31-439B-8CF0-5581606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598A-93F7-42CA-AE6E-BBB9EE95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5662-FD17-4860-B4BE-DFF2FC67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5CE1-0A2E-4904-9AFC-8D722894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CDF6-1E73-45E1-BAF0-664FDEA8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6ACC-A193-41CC-9BAD-6EB02392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C224-6128-4AFA-AD9E-5AE9DF8B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91F75-E22B-4A93-98A0-C013174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FFE8B-D62C-4630-921A-51FEF8EA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023-4042-41EC-9847-544B95F1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BBA6D-005C-4E2D-ADEF-4D367839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FCC4-8BB6-4809-B6D7-19C1040C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AE4F0-5E58-4F7B-AF2D-0DF368E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B3EB-6262-430E-AC46-4BE756F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C797-9C7A-4ACD-936A-F195872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3F642-CB1A-4502-AE8D-D49F1755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F519C-CAB7-490D-B6B1-989E8827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A6033-F942-4E92-9295-08D5C574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8C9DB-6300-424F-96E2-D756A2D3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4F807-A1FB-4D42-9C8C-7D606297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0BF7C-8DA7-475E-924A-DF0C9C4F57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F448F-BBDF-4B1E-BBDD-36EA757BC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B6A26C36-D2A3-4DCA-A291-4962FD396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E0D3A-26C6-47D4-B227-FBC13259D0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52C7C-BB26-4C20-B09C-87DDA3818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767B4-C459-4D5F-821B-2F4E9DCFF5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806D7-1A2C-4C84-BFAB-CF89B95C6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778BF-49F5-46CD-903F-A53A7C7A35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3D358-EC7F-4FB5-9262-04822094D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A47EB-EC2C-4FD0-8191-479A27B4EA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F49DA-730E-4B15-844F-1E54B47FA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43BBD-2938-405C-BB5E-9A43D849CC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A71CA-7326-4883-88A0-5DD12AE15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39598-44FF-4917-B6EA-C3CF6D2E8B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AB0F9-DA85-4019-A1EE-254B35AD3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4B624-23ED-4625-88F7-CA0827C980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DAE7E-445C-4F50-A3EC-F4B94A044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63D44-F119-4ED3-AB27-C10929E371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D2FAD-EB15-442D-ACCC-8C48E0BEB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68151-FEF5-41E8-8076-35BF62410D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7EEA5-6238-492E-9F48-12E1F5FE3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FCF4E-A259-4D6A-BA5C-AB96674D7C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05E37-BB1F-4C34-B1B4-440CE550C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9E49E-2B29-48B4-A852-DF43525CAB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5F82A-3B9C-402F-9E50-8FB61D056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rno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629B4-A406-4FC9-A831-8F838F069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7B3D3-3B08-4D12-8959-DC54570A5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21DC5-4381-414D-9B39-1957ED398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48320-DF3B-4B81-A9B2-50BAC4DA7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1C240-AEA1-4C65-892F-2A3CE1A41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DDC35-5BAC-4F82-A89C-D2AA84B2B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99665-6A5D-4574-8364-7AEF7DF5F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01389-2E1F-42B7-BA74-784B3D6E0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B1591-E62D-4092-8DCB-C0B9F557F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8F59D-8D5F-4EE0-B94F-191ABAF26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0BAF0-CB12-4F4F-989E-5922436FB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F864E-355A-43D6-BB3A-38319B38C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B3217-B407-43CF-A1F1-51F2D4888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C1781-29AE-41A1-9DD1-9A1A9457F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5D0A5-65ED-4F40-A738-47734FBD4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0DC1B-ED89-44A4-B9AD-B8109566E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3E88E-0555-4A87-B4A3-4795B2E79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649CA-46BC-4418-975D-4B0651D32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EFBF5-20C4-4B6A-A911-B16DDD53C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0366E-48C9-46EC-AF81-EF12D4292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85A7D-1F05-4295-8FAE-ECBE2771B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67D6D-E3C1-4987-92CB-192D21583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D2C27-0E9E-4B11-9B95-2594906DD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5D334-1BBA-4275-8480-07F2B71B7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062F2-1B87-4793-8AE8-7D89B5557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DADB5-4E7F-4367-96E5-A38C08434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BB9D7-FB86-4AC4-81B5-E3842CC22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9835D-6B4C-47D7-A337-BB1B05DCA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92AB5-F297-4A02-9AFF-B9A416F1D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3F6F7-9166-45F6-8F23-B5FFE1A50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9AD59-4ABC-46FE-9BC0-79BA1E85A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3A5CC-E382-4FE1-AE79-031FC235A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F6418-3DBA-4C95-BB42-67D0F088C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8:36:51Z</dcterms:modified>
  <cp:revision>74</cp:revision>
  <dc:subject/>
  <dc:title>Titulní strana – Titulek</dc:title>
</cp:coreProperties>
</file>