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33480-4CDD-4201-8E1D-A12B2D5B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nanční manažer  0,2 * 20.000 = 4.000 Kč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E68F0-5211-4187-A20B-E755D4E6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4E179-5AF9-4580-87F9-A1118DCA0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E72E1-6F9D-4EA4-A0CA-5B92D5A19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85702-3845-4E11-8E8A-194156977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413-374C-4E06-BFAF-CCBF4612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4CA-1B8B-432E-9219-F1C016B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B2991-2D4B-4190-8EAA-C79823F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BA85-02DB-4149-9245-DE38DAD9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ACCE-E2C3-4257-B910-A063BEB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3CEA-2260-41C3-B39C-E86AA20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AA897-BFEE-4CF6-994D-9F14C6A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E8CBA-7419-4780-AB62-7FE5DA2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2A26-DF8F-4321-A068-0FB41A6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0814F-AB82-4BBC-BC44-4D62F44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76E3-1472-4DF3-9254-6CF55F26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C767F-6A78-415D-B384-5F657E9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A97-1B44-44DD-B4E0-068F9340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FC198-0A8E-4485-8E64-C06F194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EDDCF-DDD1-48EA-99D2-06DBF56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2E32A-36E2-4B8F-956D-4E92ECC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C301-694B-449C-BF4A-396B762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563B0-D654-4101-BEDD-CFDB7C4D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66B20-283F-4204-A799-246E35E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7245B-8732-4480-B1BB-3D97CEA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A8FE6-03E5-4BDD-BFE8-BE94347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1567C-D4A1-44E1-A39F-C978A744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BE5F4-DD83-4178-8328-AE786BC5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F0D-B112-4082-BCDC-5B6A4F95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BA36-21C3-4C36-8F67-2ADE4BFA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2CD81-73E3-4A0D-88AC-21029CF2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3BA9-CF56-428C-AC7C-313FED4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4242-4075-48EE-AA22-CCDDE2A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E1A65-1224-40B7-B1EF-E81DE28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F796C-60C3-43E9-A67D-41CE15D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B09BB-16B4-42CA-BB6D-32486044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55537-237A-41CF-A8F9-1FEEFA8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ADFB8-55EF-47B0-B471-8A7CC9F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D075-0B6F-49CC-832D-9EA2058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5AFC-AFD5-4EC8-86C4-07267AF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19511-E02E-48F9-8182-735C4E7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B1F1-4DE9-49FC-B214-AC57C837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8A4EC-36B9-408B-A3BF-6528C690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FE94E-2CF7-48F4-A435-656D50DB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D1C22-16B9-42F8-886C-EDC86EEB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EE05E-BEF1-4BDF-94BF-4A15D43C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808DA-1A83-494D-A21E-DA469B0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EF5BF-B468-4F28-B944-8C29197A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BFB8-6932-48FE-AA4C-63205AB0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8DE4D-8BD8-4974-94CD-F698E7A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EBE-680E-4BEE-AFE9-B37B6EE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C1A2D-DB95-49F9-AFF7-AD5BC29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D4317-C6F1-497B-A7C5-AB84D25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A5E7A-8FB4-4824-B2BB-7CD66DC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B430-B394-4269-8F2E-3D84006B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A1279-41AD-4A6E-9236-81E2C678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0E8B-CC71-4DD2-91CA-D0235BE8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77F8-D7CE-44B7-B6F3-B896ADC4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7AF2-BB3B-46E3-8E9D-2405DB59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5B86-FFE9-4B00-9737-CC30CDD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466F-A759-422B-B8A2-24C29E9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6E-C2FC-4C12-A6FB-D2F31A6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EB7-4B05-4E1D-A00D-CEC5118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A2B-9A82-41BF-9CF0-9A9FE2D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8E44-173A-45AD-BE76-76290A7C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F5B-EDAB-44D2-A7D0-2D4E5046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2A36-EFEC-4F55-A742-1F1A9AF2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8304-0B4F-4318-B494-C4C7830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9F69-DC0A-4D54-A907-44578477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E1DB-E551-4EEC-8493-D91A0072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0FF2-7F56-4ADC-B484-43E9351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150C-A0CB-4CD9-9209-71C7FE3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52F-2D06-44FE-B084-C05ED8F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6DEE-37D4-4726-808F-C77C4678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F8D6-958D-4240-A94D-D4A6F4C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04DE-D5ED-4FA0-94BA-F1FAFBC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EFC5-4E87-4768-A494-0A1FB6A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396-F9AA-4DD5-AFF1-EE3C665F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9F3B-3E5E-4289-A668-6B74FE9B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8778-D76F-48FB-BA4B-863A3BF5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B0B1-4880-4509-B257-0A6E496F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1C4F-4664-4028-8D57-8494B1D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B337-66E1-4C6C-8084-722A352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6EC-4D40-45BA-9B9C-69A8D18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1FF1-CE84-4C5C-8C3F-A2A7B2D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F971E-A093-49E1-B718-F13508C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01FE-8FDE-4190-B6BD-0D4F031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BAE9-2803-42C8-BF9C-386F9A3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B3F0-19EF-4B59-9932-5245BAA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450F-6CB6-41F5-9AF1-FF6976A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EB54-34A8-431E-B571-CD917BE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E0D8-C605-41C1-A4F4-D2D917BA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53D1-61FC-4E68-8259-3D0CD85C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1E78-4A34-4EBC-AFA5-09A07EF4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902-E3FE-4E1F-B728-97570FA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D1AD-6181-4816-9931-9282E33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8354-457D-4592-973D-3788C5E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7805-3FDF-430A-8E8E-8695381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C71C-A478-41C9-B0A8-414E056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2E57-6DD7-4C77-A66D-9A2C9B6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4FF5-050B-4C2C-AE91-C402D71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A8B3-D94F-4F76-8642-16ADF26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D256-BCDD-4E11-AA16-3726BBF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4A64-F578-44CB-ADEA-AD6D85AE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A54C-3A97-4336-A230-DE4F6CD2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C34-2316-4479-871F-CF2AF7A5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408F-C1CC-4FE6-A149-3B2704B8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BA44-7E15-4C6F-A166-437C8384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AB6D-C993-48F4-87C1-A214DDA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D5F5C-0F03-41D4-B988-8291C39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7600-FA14-46C1-985B-2F98005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2E0D-C63D-45EE-89E8-60E34A5C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BF30-F448-4B84-98BA-863C47DC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FC0A-11AC-4AFD-A840-346F19A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5C6C-F33C-4E1D-A221-8050390A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25A3-009F-46B2-87EE-B103B09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A2C-6A18-4638-BDD1-C7221998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DE1E-D8DA-4A05-8C9C-2E9D240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146A-8F59-4B8E-90C6-119F9659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189EF-7AC8-4D69-8822-17C4A872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105D-A7EA-426C-8BF0-AB966AAE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4915-9DB8-4B84-A83A-28021501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48A0-4718-4DF1-9EC2-F8361AD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4902-DCDB-4DCB-9C5F-00EEFA1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E3F3-0E0C-4439-AFE5-67C1893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A7FD-D528-4003-B57A-8446530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E6FAF-6BDD-4477-AF52-E02E339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F6-5213-42D4-B2F5-2B5F472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7EFC8-8528-4ABB-A140-71C4254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A3E1-2CC9-424B-B204-0745C62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9057-85FC-47C0-8E28-13EF0CD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1BC0-AA10-4173-959A-300C754B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9F21-DB9F-4837-B4A7-65AF257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C616B-6FC2-4999-BF87-A7448642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57BA-8617-4D30-B656-6CC069C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2C91-9872-41EF-97EC-41FC7B0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FD6A-ACC6-4FCF-ABA7-D9E5992C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B65C-12BB-44FA-95F8-BE762F68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E81-B6B9-4AB9-BA50-2B2D3B8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CB26-1AF5-4751-B61D-77082C70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7D588-BCEE-4C99-9517-8F644FC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C64B4-EEFA-4FD1-8400-9D621EA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4F44A-8A88-409B-9EEA-E2ED1E5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4A21-416D-4BD4-87EF-13F1FC9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7B29-6F72-4362-8190-B419932D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73B7B-1DDB-4BAD-96DE-284B5E5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7217D-2E81-42AE-A9EF-F270AB5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8B5A-98CE-4B4E-B2F5-9C2AA65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8F5A0-FB64-422F-BD69-C93145E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60791-965E-449E-BF03-0AEE23EDF9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69650-76CD-49B7-BBA7-F1EF113D2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EE18455-405F-4D3F-8695-6951BF947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FA308-C143-4526-A436-AC8624C41B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175CE-8296-4107-9EA9-9CD4DAD5D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C5DCA-A1A4-4EF0-98C5-B9B4017722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20DDD-D7CA-4F20-94EE-C620A4F6B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7D88D-8747-407B-B9D8-77D31BFA26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5126D-03EA-4E54-AB39-DA23C223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997F2-525C-426B-B627-0A2796ADA8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298E8-05D0-466A-BE2A-7484BFC22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A15F5-F8FB-4D3E-8E53-E6CED49EC2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988A2-2293-4FCD-A87B-0089C9D0A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62D89-AA5E-4F8C-8880-6CDB65F2D6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9338D-A764-491F-A442-CF458F57E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6D368-B5ED-4439-945C-638082615E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320F1-05A5-4B4F-9E34-FE2FBFE36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C6CC5-BBBB-4EAD-A9C2-A71F9679A0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2587F-9FBE-4871-8414-54883CE60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437D7-A072-4391-BFD7-2E9DD20DC2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C09CB-D453-49BE-8E05-05C130AD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86869-4475-4A20-BD0D-90699CDCBA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2F361-F0F6-44FE-AC9D-4960F6D9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1C03D-6818-40C9-AEBE-85C706CBC9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77D32-2BD2-4486-A7AC-4FDCB2873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Ing. Ivana Baloušková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32DB7-B9D4-4F82-B1AB-DD79A0BE5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FCB85-3BB1-4011-A27C-3C729D512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 smlouva, DPP, DPČ, ev. autorské honorář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60E06-7081-4118-B064-CEE61B0F5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814320" y="166536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06" name="Šipka doleva 6"/>
          <p:cNvSpPr/>
          <p:nvPr/>
        </p:nvSpPr>
        <p:spPr>
          <a:xfrm>
            <a:off x="5753160" y="40752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Šipka doprava 7"/>
          <p:cNvSpPr/>
          <p:nvPr/>
        </p:nvSpPr>
        <p:spPr>
          <a:xfrm rot="18280200">
            <a:off x="1257840" y="455832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CF964-37B2-4CD9-816E-79D535971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1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2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Šipka doleva 12"/>
          <p:cNvSpPr/>
          <p:nvPr/>
        </p:nvSpPr>
        <p:spPr>
          <a:xfrm rot="7954800">
            <a:off x="1500120" y="3465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délník 13"/>
          <p:cNvSpPr/>
          <p:nvPr/>
        </p:nvSpPr>
        <p:spPr>
          <a:xfrm>
            <a:off x="1348200" y="5113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využívejte komentář k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03911-B281-4031-BA0C-AF152FC33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9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E7F15-869F-455C-B90A-2F2049898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192240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3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08C93-854D-4B96-BDF2-D167BB02D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zahraniční expert v ČR, per diems 230 €/de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ubytování, 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F1E7E-4AD3-47D0-8E62-B67B1FF9A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sp>
        <p:nvSpPr>
          <p:cNvPr id="630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7CF33-0DB7-4247-95C6-4471B729B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8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71827-C5BE-4060-881C-2E5760873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robný hmotný majetek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0E928-F19F-4F9A-8B93-B57E2F700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Výdaje na opravy a údržb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16D36-5A04-4DD9-99E0-82A8F0E7B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nční podpora na 1 IPO pro jednotlivé podaktivity podrobně upravuje Příloha č. 5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232B-E61B-4E33-82DA-E63B1C6A4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uze příjemce, který daňově neodepisu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hmotný majetek nad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ábytek do 40 tis. Kč - židle, stoly, lavice pro cílovo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kupi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ábytek a vybavení pro realizační tým - max. 15 tis. Kč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na 1 přepočtený úva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EB8D5-31F9-463F-9508-DFA6CF62D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42702-C65D-4A14-9CDB-1F53917B0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tisk skript, tvorba publikací, učebni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řeklady textů, zpracování analý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na zajištění konferencí a kurzů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řádaných v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rámci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7624F-BF7F-45BC-BF7B-D9B7ECFF5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65AF1-FC68-424E-8E51-CD3E2AE17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8D7EF-9671-4B25-B50A-12633EB9E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úprava pracovních míst nebo úprava přístupu pro osoby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e zdravotním postižením, a úprava výukových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éninkových nebo pracovních prostor, používaných n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89F3B-F81D-4505-AF34-F8B137DF1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skytovány zaměstnavateli jako náhrada mzdy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ka účastnícího se dalšího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690840" indent="-265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asistentské služby žákům se speciálními potřeba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FFEC1-112E-4866-85E8-576310F73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329840" y="2185560"/>
            <a:ext cx="64580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2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dnadpis 1"/>
          <p:cNvSpPr/>
          <p:nvPr/>
        </p:nvSpPr>
        <p:spPr>
          <a:xfrm>
            <a:off x="1330200" y="3916440"/>
            <a:ext cx="68724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odnadpis 1"/>
          <p:cNvSpPr/>
          <p:nvPr/>
        </p:nvSpPr>
        <p:spPr>
          <a:xfrm>
            <a:off x="4870440" y="391644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délník 10"/>
          <p:cNvSpPr/>
          <p:nvPr/>
        </p:nvSpPr>
        <p:spPr>
          <a:xfrm>
            <a:off x="4114800" y="440856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bankovní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publicita projektu včetně úvodní a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závěrečn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77A50-7466-426B-B5E7-6B09D14A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íl nepřímých nákladů se stanoví jako procento dané výzvou z přímých způsobilých výdajů celkem bez  křížového financování položka rozpočtu 10.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přímé náklady není třeba prokazovat účetními do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8902E-685C-4884-A5B7-DA8408754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0D61F-EF62-464E-9370-D2BDBD40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3600" y="1072800"/>
            <a:ext cx="76042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86" name="Obrázek 15" descr="nn_benefit.JPG"/>
          <p:cNvPicPr/>
          <p:nvPr/>
        </p:nvPicPr>
        <p:blipFill>
          <a:blip r:embed="rId2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7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1A4D-6E49-4F12-B807-31BE4E135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62F90-06F1-4A40-99CF-3625BD43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FCC14-B7AB-4C91-BEE2-F82E0383C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01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D05F8-8AE2-4054-95D8-3E20BD348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pozornost aktuálním informacím k výzvám na 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72DF0-EE1D-4E92-B442-0B420922D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g. Ivana Balouš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ivana.balouskova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F122A-4D9F-427B-A472-CE3122372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AE151-39B2-4AAC-BBB0-C8E53D4C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manažerské a administrativní pozi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776E2-23AA-4EE3-A9ED-DFC185543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informace ze záložky Realizační tým se automaticky nepřenášej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do záložky Rozpočet projekt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32A83-45AE-471A-9416-C04B80C1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30200" y="2443320"/>
            <a:ext cx="6296040" cy="3093840"/>
          </a:xfrm>
          <a:prstGeom prst="rect">
            <a:avLst/>
          </a:prstGeom>
          <a:ln w="0">
            <a:noFill/>
          </a:ln>
        </p:spPr>
      </p:pic>
      <p:sp>
        <p:nvSpPr>
          <p:cNvPr id="592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EEA82-AD4B-4097-B3AA-E2ABF1202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CA25C-0151-49DB-9C45-927C12D81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14:38:35Z</dcterms:modified>
  <cp:revision>64</cp:revision>
  <dc:subject/>
  <dc:title>Titulní strana – Titulek</dc:title>
</cp:coreProperties>
</file>