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31979-11BA-4CC3-809B-39E9FB178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FBE6E-D30B-41CE-B96D-E9EF9086E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4B057-610C-4C44-A004-A9C130246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5438-9038-46BC-BCC0-8B473742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294-091C-4ECB-8F86-A8754BA9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B0485-B579-4EF2-998B-2816BD01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966E7-3B6D-4762-99D2-336743E2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71CD9-BB3D-4DF4-ACE2-85FB4B19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84084-CA9F-48BC-9200-B4E4268A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5EEEA-DB3F-4B37-9EB5-43B0D228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FC4E7-0E0C-43DC-8AD1-E99C072C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E420A-0B33-4B71-BE3D-264E4405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495F1-0D82-4B0A-BEB3-C4F976C5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44BF9-3376-4A57-A8A6-5A2E4DFC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0E2A9-1976-4269-AFA8-A3875441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C3F-DC8E-49E8-AC33-79D0DEED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0BA0C-0B2C-43DA-8D51-D55BD94A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96B7A-7BC9-4D19-A155-AAC1B7C9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C4503-3B77-4AB4-A24C-32FE6C8B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765CB-2BD7-4276-84FD-8D68A1E2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B487F-10F0-420D-9F5A-C01481D0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98038-DD5F-4856-9E09-8CFB73D0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FFB78-1F50-4692-8408-4FD3EF47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BD3FD-747C-43A2-8DB2-23E58514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AE2EE-A005-43C3-9558-50D2EBC4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C99DB-D5D1-4936-B00E-C0A5CE3C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F00-5518-4124-982E-5C030F8D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46232-9EDE-427C-9D27-FB03A502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355F1-4D29-405E-8384-91CC4681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1BB35-A737-4EEE-B3B2-29F41D45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CA929-25A3-4E5A-B941-900F867A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9D3EA-172F-41F8-B9DF-5CB16209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BE137-D6C6-49EC-8B65-CD3A334A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B9801-6AB0-4FA4-A1FF-8AAAFF31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7EFAC-4BC7-49E5-9D4B-C72CC505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3E648-4CE3-4253-916D-B90202EC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FAD8D-9507-4863-AC57-98CD2FA7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A6A3-7E3F-49CD-97C5-E0B445F1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5385E-D7FC-4492-ABD8-6B341BB3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BF9E1-A34E-4713-A66E-DF7FB2BE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3BDF1-8676-424A-A9B2-EEBC7C0B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723D0-D386-451D-BB4D-AE2C9AE5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4F9E9-A002-48DA-A91A-0D19D92C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181AA-148F-41D5-9033-E8021994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6E68C-6366-4FDA-9AC6-8BFB804B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2A5A5-BD7B-40E7-A3AA-EC43DE4F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D75B3-AAFD-412F-8527-29612E26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29DAF-3130-4559-BCAB-8A3D1DF1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AFDA-1752-49A5-AE8F-0D23C442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FBF88-EB2E-4588-A6C3-886BCB35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9020F-C497-4AE2-80BF-F4A55AD6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52324-2D0B-4B75-9173-1755DFA8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C061E-CF56-4E27-8A62-B14EDF3E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B0CCB-CDB3-4D54-9DF4-D5BF9C34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C3A6-5D5A-4569-8ABC-74796ADA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AD82-9C9A-49CA-BCCA-1D3D1A50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373F-5755-46BD-B5B8-F9B49D63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DABE-677D-402C-833A-3FF17CA2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80EA-0FE5-4930-9EF4-D0CF395E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8E1-26B0-4A22-A2D9-5656ED0A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EF95-76BF-4804-BB6A-F8BED3E3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7BF3-8982-46BD-9BCA-66782C03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6135-91C5-4511-8355-923D05DC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4FC6-AA1D-4F32-A4BE-2ECD29D3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D88E-8A76-4AA2-838E-F59333C7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7B16B-461E-4ADE-A74A-C33FCF92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FE970-29A9-4CC3-9FB7-A1EFC854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42DC7-CD88-4972-A563-A458A583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8B80-93DD-4587-9361-3643407D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477B0-B130-499A-A133-233C115E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6C0-4B20-4194-A3D0-516B28EC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AE67D-313C-41F0-9F0C-C8B38656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126B-9A27-4697-8F47-902DF331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72C7C-280E-401A-A5B7-E78B8689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3F3E5-9A35-4D11-9DAE-BD1B909A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DDFAB-153B-405B-957F-6CF0C7CE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E939-6C7A-44CB-AA6F-FB2CCF7C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FA40-BE1D-448A-9FE6-69DE16FB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82488-9821-4A7D-B8CE-81876BE7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2024F-A58B-4435-B5FC-2EE7DE1B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895F3-1EA9-4D52-9935-6503E074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194-5A16-48B2-95D6-D8159C9B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2D3CF-E87C-40EF-981C-5DCABBCB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6A8E8-E1AB-4F7B-931C-2B3E37D7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64173-2F83-4371-9533-61062EB7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F8122-DE5D-4324-9A97-CEAD5EC9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4E1EA-4B63-4D79-94ED-EE7908B2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A48D2-95FF-4EFD-9F36-A4DADA5A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0567-E519-4E95-AA95-CD0190E5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69CB0-E381-4B5E-871B-B285A742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05119-094E-4E14-A3EC-7CDF9FD3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9DF7D-1F79-4ADA-920B-0E863F1D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94D-2F91-4F11-B4F2-EBA41BFE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AFB57-8FF3-4B79-AA28-CB325198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8CB13-F912-439A-AF26-FAC3F6CC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F67C5-4C4D-4A57-9F3B-2F2A15DF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F2973-DCC7-4B81-9590-FD5076AA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D1796-65C5-419E-831C-A6001C1C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4D5CE-69D1-4030-A5AF-62BCC8CF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6B329-4BA4-4805-A655-0007184F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1DD74-E087-4449-B6F4-52B80861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70DB1-37D9-424F-8ABA-BAFB842D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BB778-F7ED-4A27-A8A5-E6CDDF7E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732-CDB9-44EC-81A2-36CC30AD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5E21D-127C-455B-905E-3185504A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6F845-FA97-4E9F-B788-55AF23E0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9366D-8C18-436A-B685-6370080A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AAE46-AB8D-4B44-BCC8-7953099C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E8785-F142-46EC-864B-312139F2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4D1B7-3F1B-4EFE-A983-462D2A58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E244C-1876-4629-A8B3-75205D1B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34CCE-B254-431B-AB4F-79547D7F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111D8-2BEF-4918-BA39-B191F165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22364-A4BA-461B-BB78-85AA495E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892-53C0-4F33-8F89-2500B5F5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6946E-7D4A-46E4-8138-587A78B0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52980-F918-45F0-9A52-FBFFA829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FF23C-4C16-4EDA-87AE-184E1ABA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324F9-BBAE-46AD-968A-DABBBFBF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0132A-5815-499A-9ABD-8EBDBFAB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DF316-2DF2-42EA-8C54-8903078E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E31B9-9FB3-487D-BE14-863E2B2C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DDA6A-7E1A-4C5E-BD7B-1C26EB23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E4BE0-9F0B-41B3-8FC3-2346887A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96B43-D8C3-4902-A29A-93EFC928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0892-6489-43EF-A068-328B746D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B44A5-88DF-4FBB-808C-5E8A4271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FADF4-345B-414F-8068-9BCB34E4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31A94-F46D-4349-8945-38B39C9E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D2010-BB9A-4A18-B538-730AB299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5254A-39F7-4334-B7A1-8C15FEA6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69FFD-D13C-4E36-B17F-2C7A8141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92ED5-104A-48A1-91BB-7407C410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DF4E4-5A15-454B-8764-3AC52997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A5B3A-8AE8-4846-8105-79C9863C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FB49C-5F64-4235-9DF9-7223B46D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F75-7F7E-4653-97E6-ED67C315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59162-8F71-411A-A52D-0999E4C8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2D8D3-4EAA-4FBF-8DA9-2175961A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84C20-DF98-4A87-A475-FB3F4294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EFEED-549C-44EA-9A53-C72B7F4D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7B450-E1FD-4125-B413-FEF4ED19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EDD41-DD11-44F9-B5EA-FBD0E27B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C6BED-D25D-4869-9F5B-BB60D36B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A2803-6EC6-4A6B-9EB5-1E3F1282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A3120-599D-4AB0-A57C-0ECDEA3B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C95C9-5D92-4106-801A-FB9FF239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64FCA-C9B5-4828-98B3-28CB751F847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128CE-FC42-4308-8539-5DB736764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1B2A65BA-A7B0-4E53-8A9E-37EA4B67E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1AAD5-50D7-411A-B79E-53A1527815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88972-6070-4D60-955E-3E22F8BBC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B43C7-CE04-4FE5-B882-4CB658913F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128C2-E9E2-43AF-A35C-0BFBCA594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3EA7E-7859-4AC2-A758-DB235D0CEF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FECED-D9CF-4F54-A0DA-E6121ED6D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1EF0C-DC8F-45A1-9F82-C6E029E811D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C15A9-E75F-43F3-8B78-B8AD4E463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D362A-317E-48C0-850A-EE67C59A03F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A3637-6A80-467B-A3B1-5D46CCDE1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104B1-C3B9-48BB-9F21-E51F9B16FD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3B8F0-7159-4ECC-BCA4-B83D13772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F9CAF-0E33-47A1-9A24-C7F7DCEF7D4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73263-2BBF-4684-8C66-E624975B2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D0027-B604-426C-9A0A-3072A3045F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1C59B-3373-478A-8E62-07C5B6DB1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772C5-9D80-48F0-942A-34063191603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568B8-F85E-4F5A-B8D5-41B069DEC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EA483-443C-423A-B30A-455BF23C29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26E72-F82E-445E-807F-D458EE34D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B4898-5A3F-42B7-AD1F-7C0F204561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00CC4-55EC-4FA8-8B11-257285BB4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Mgr. Tomáš Drážný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3D0B3-D1E9-4B50-A67C-45BD897DF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50D4C-A322-4DBA-8062-AF71B7DCE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smlouva, DPP, DP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Finanční manažer  0,2 * 20.000 = 4.000 K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9AD99-E0BA-4C6E-BA08-92AE44D18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1"/>
          <a:stretch/>
        </p:blipFill>
        <p:spPr>
          <a:xfrm>
            <a:off x="814320" y="183348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10" name="Šipka doleva 6"/>
          <p:cNvSpPr/>
          <p:nvPr/>
        </p:nvSpPr>
        <p:spPr>
          <a:xfrm>
            <a:off x="5753160" y="42973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Šipka doprava 7"/>
          <p:cNvSpPr/>
          <p:nvPr/>
        </p:nvSpPr>
        <p:spPr>
          <a:xfrm rot="16200000">
            <a:off x="2961360" y="473616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99A4E-B29B-4CE7-B39E-BFA955842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6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7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Šipka doleva 12"/>
          <p:cNvSpPr/>
          <p:nvPr/>
        </p:nvSpPr>
        <p:spPr>
          <a:xfrm rot="8874600">
            <a:off x="1499400" y="3244680"/>
            <a:ext cx="800280" cy="22248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 13"/>
          <p:cNvSpPr/>
          <p:nvPr/>
        </p:nvSpPr>
        <p:spPr>
          <a:xfrm>
            <a:off x="1340640" y="51134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79646"/>
                </a:solidFill>
                <a:latin typeface="Helvetica CE"/>
                <a:ea typeface="Helvetica CE"/>
              </a:rPr>
              <a:t>Využívejte komentář k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D43A1-4FA8-4801-8866-1CB8D29DF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Zahraniční pracovní cesty realizačního týmu:</a:t>
            </a:r>
            <a:br>
              <a:rPr sz="20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DC063-573A-4744-B2A3-89A992ECB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18908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1AA7E-4982-430B-AA7D-25A9FF13D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hraniční expert v ČR, per diems 230 €/den (ubytování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CB3FF-99C9-4D0F-A2DD-CF6A4769E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pic>
        <p:nvPicPr>
          <p:cNvPr id="637" name="Obrázek 1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51760" y="5948280"/>
            <a:ext cx="1754280" cy="408240"/>
          </a:xfrm>
          <a:prstGeom prst="rect">
            <a:avLst/>
          </a:prstGeom>
          <a:ln w="0">
            <a:noFill/>
          </a:ln>
        </p:spPr>
      </p:pic>
      <p:sp>
        <p:nvSpPr>
          <p:cNvPr id="638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E2EFC-58C0-4D9B-B15A-30E2E8CCE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CBCEB-110A-433B-B9DB-37F753365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2D65B-BB03-46C8-991D-A9304C5DB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opravy a údržbu -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E11FA-1160-4CAF-BAB3-007042D34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nční podpora na jeden IP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mální výše: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5.000.000,-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ximální výše: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.000.000,- Kč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návaznosti na typ podporovaných aktiv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A1165-587D-4C85-88D3-7CE4F64AE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uze příjemce, který daňově neodepisuj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motný majetek nad 40 tis. Kč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do 40 tis. Kč - židle, stoly, lavice pro cílovou skupin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a vybavení pro realizační tým - max. 15 tis. Kč na 1 přepočtený úvaz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6A247-1A5C-47F6-927C-00CF72FA4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5AF01-928A-4F58-8CB9-FC71CF38F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skript, tvorba publikací, učebnic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eklady textů, zpracování analýz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daje na zajištění konferencí a kurzů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řádaných v rámci projektu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04D49-E644-4836-A69D-3DBC58C18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C0492-2948-47A7-9015-85EECB789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810A1-6076-412D-9730-EB6537392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a pracovních míst nebo úprava přístupu pro osoby se zdravotním postižením, a úprava výukových, tréninkových nebo pracovních prostor, používaných na 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23F7F-E7AC-4A3B-8B6F-ACA1FE7BB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ovány zaměstnavateli jako náhrada mzdy pracovníka účastnícího se dalšího vzdělávání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lacené přímo zástupcům cílové skupin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7B68D-3F36-4331-8457-D8DB4C511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8556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0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dnadpis 1"/>
          <p:cNvSpPr/>
          <p:nvPr/>
        </p:nvSpPr>
        <p:spPr>
          <a:xfrm>
            <a:off x="1330200" y="3916440"/>
            <a:ext cx="3333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dnadpis 1"/>
          <p:cNvSpPr/>
          <p:nvPr/>
        </p:nvSpPr>
        <p:spPr>
          <a:xfrm>
            <a:off x="4870440" y="40006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85C24-2F67-479E-A49B-AC30196CA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íl nepřímých nákladů se stanoví jak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cento dané výzvou z přímých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působilých výdajů celkem bez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ho financování položka rozpočtu 9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přímé náklady není třeb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kazovat účetními do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3A724-31F0-4805-84BB-175748461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67FC0-3A7B-471E-9932-C68D6C408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360" y="1072800"/>
            <a:ext cx="78865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94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  <p:pic>
        <p:nvPicPr>
          <p:cNvPr id="695" name="Obrázek 15" descr="nn_benefit.JPG"/>
          <p:cNvPicPr/>
          <p:nvPr/>
        </p:nvPicPr>
        <p:blipFill>
          <a:blip r:embed="rId3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6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CC3EC-4A0E-4D9B-96E3-1BA37F0B3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638BB-E8A6-4943-A0FF-01172CDD5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95707-AD00-48FD-911A-370B9B0F6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10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7228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41DF4-31DF-46B2-94F3-37B9C3FD0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pozornost aktuálním informacímk výzvám na  </a:t>
            </a:r>
            <a:r>
              <a:rPr b="0" lang="cs-CZ" sz="16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4301D-7A03-4D6B-B819-916DDC47A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manažer - Odbor CERA OP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tomas.drazny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9C695-B867-4797-BF08-DE6001A44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71500-4361-43A7-A271-04E45389B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3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manažerské a administrativní pozi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A7349-6BB4-4616-84F8-1BA8A9B25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9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formace ze záložky Realizační tým se automaticky nepřenášejí do záložky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95E20-0A2F-48F9-A5E7-7F62366A6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0200" y="2251080"/>
            <a:ext cx="6296040" cy="3094200"/>
          </a:xfrm>
          <a:prstGeom prst="rect">
            <a:avLst/>
          </a:prstGeom>
          <a:ln w="0">
            <a:noFill/>
          </a:ln>
        </p:spPr>
      </p:pic>
      <p:sp>
        <p:nvSpPr>
          <p:cNvPr id="595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23A65-AF2F-44BA-A678-6AEF1EBDB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1FBAD-27F6-430A-AF76-A6663C5F4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22T14:02:39Z</dcterms:modified>
  <cp:revision>45</cp:revision>
  <dc:subject/>
  <dc:title>Titulní strana – Titulek</dc:title>
</cp:coreProperties>
</file>