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741-ADF7-4E74-8080-65A58C63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A78-50A8-4F06-B066-921BD8F6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115AC-6182-4E4B-878D-8DD3BB1A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17A9A-3D2F-451A-9F90-2006FCF9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B1C63-9C6E-4E80-86AC-F1222FC6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17A83-A8F6-4827-8DED-55692BE4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C749E-8D14-43F2-8052-8A8E7756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D543B-3CF7-4D03-9EFC-219888D2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E3694-E97C-434E-BC92-DE68E7D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4174E-D456-49DC-9D39-11CEF1FA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80294-A319-48B2-BFEF-4025776E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DEC5E-777D-4E7A-8071-8409C617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283-B8FE-4A72-BDAC-953AFB82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29E9A-3184-4B4A-A54B-B93D131C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6926-0F6A-40E1-ABEB-B0BE55CC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50A46-FF89-4194-9AC4-35CB8316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E0422-C759-45CC-A299-840ABA12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F2747-C2D6-4BB0-AE96-548CD5CC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A33C4-E6F0-4AEF-AA57-2FB2E6D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C319B-7965-446E-9759-B19E005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6D042-B59C-4325-9DD5-1C6DFAA0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839EF-AE8F-4517-8632-941AF47D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212BA-19D8-400F-AE2F-63781D34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B76-8C8C-42BE-80FD-520551C3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D2605-50B8-46FF-84E6-F680D456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DEC87-8BE0-481D-A719-16A745A1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19BAA-F43F-43BB-B72A-0AB66895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DDC08-AC89-4018-9B37-CB11F895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F7603-5121-4803-AAC0-A2882839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26029-78B7-4E0D-A589-6F4C4CA7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45F2-2CF8-4A4F-938B-D30E40A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0D386-8E4C-4AF2-A4A7-EE5BFB3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A3E7E-606A-4050-A162-23EBC259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2956-97DE-40BA-835A-701B9BB3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B0EB-3B2A-4449-912F-9B57B08D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95FC-FF14-449D-AFEB-A9B71924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65886-75A2-4E6D-BBAE-1AC9E19F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18007-3D03-4F42-8A70-0E4E8C5E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10A53-0B71-4BE3-86A7-87725E12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BA73A-6C57-4280-8D0D-D67F3214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EA1C8-3076-446E-A6A0-8F642A99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4F35C-9AEF-4D04-828F-A16D6D97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30921-50A7-47A4-A8BE-BC214586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74B24-E2E5-4294-A40B-84A59F9D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EDB13-907E-460C-A2C4-DED91D62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20F-E628-434A-8685-61F7E90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EFE91-4F76-47DE-9AF5-FE5DE71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A7533-EEA2-4E6C-83B9-DD5E8C5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BEBB8-B41F-4082-9762-B7322F7E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6DA01-2701-4674-B7BD-5D4D8100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E2BD9-564E-4C42-AEEA-087844D0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2D5-5F3E-488E-874B-187AF3A7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DF3E-A2E0-4B70-AB97-F3CA79FF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F070-EFBC-404A-A7C7-E83CF96B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5CFB-9B5D-4DB6-9EED-1E8595A0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9EEC-4DCA-4990-939C-2FB9C05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69E-8178-4735-8778-876A5EC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6EB0-480B-45B0-873A-7F620142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D87C-8B6C-4E4B-B1D6-217C231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61B2-CF0E-4EE7-AF01-91EFA5E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D15-57DF-440A-8B54-C74A98B1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ADC6-B26A-4AB9-9552-4C3ACC71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4A51-D060-49DA-A53D-40CEDC45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D576-138C-4995-AECE-6ACF451B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5556-A38B-48A4-B0E3-819B692E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33DA-67BE-4B2D-BF50-3E8D1670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6478-1201-42D3-B268-31F07C48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A00-CA57-4E19-B785-775AB1E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6C68-E161-4DC6-BD70-1F323C58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7EF1-8FD7-4013-B0EA-2EE8B53F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EFB1-B9EF-4AA4-9120-60228C0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7434-AADF-4482-84AD-57D8073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B7D7-7E86-42DC-85A8-407E099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ACC7-4041-4424-8396-07D1B50A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31E1-4BAB-4990-AB0C-D0A4EA16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F605-5F38-4D57-BF56-7810E428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5DF1-0FEF-4FA9-A4E1-1BC19AF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06E2-5831-4B08-90C0-760EE64C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422-FC5E-4ECB-AAC3-D9537904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E52D-4A89-4841-B905-A8E19590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88D2-DB05-4C11-9E4C-9F32C696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7328F-ECF5-4E29-A307-7F2A04F8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EEC7-CDC7-49BE-AD0F-BB1254EF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74AF-EE5C-4B33-B089-05969F5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51F8-3971-4CEF-988B-E466020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4DC9-9A98-4C7A-8FB0-E0AC254A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99C0-7B8B-42B3-872E-99F909B6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2607C-AE00-482C-A493-BE311365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48EB-C9C9-4244-8D38-FBCECEF2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7CE-3589-414E-B9D7-40BD45D3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1D7B-9406-461A-A728-5B46FDBB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C85C-C80A-4B76-BACC-F38EE6D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DA18-E68E-4BAD-9333-E8E3389E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E3AB-5A4E-4AD7-BE7F-B2ED08A3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9E08-6FC2-4E40-AD64-58DC7701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2E59-DBE4-40A1-89C4-69F2503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52407-6924-4842-967E-33F4359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BBAF2-78D7-443C-B888-F64C8241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31FA-38C2-4BCA-BF7C-5C730CD6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0971-CC51-4C53-9138-EAA9B487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D3B-1139-4984-A080-AE50217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DCD5-B82A-43DA-AA73-77318D09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7C8A0-1E80-4681-A3E4-467F4B47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DCC3-279C-40A7-8856-FCA38C7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AB87-82F9-4131-B8C2-DA2D83F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09A4-F79A-4FDD-A4C8-098B4879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1F0C-DCEE-4DFF-97B4-7C4FCE9D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02402-EDE8-4E76-AB80-EE672C3D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39D86-8E97-4325-98B2-F2A87CB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5E67-C070-4D82-96E4-E7FAEA12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F5A79-8FA5-4723-96A7-54AE9BE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6EC-4A89-4E69-AFBA-F518D58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975C-9978-495D-B859-680C4DAF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34B5A-3F60-4B49-9DFB-31CE462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D0D6B-5152-4BD6-B705-12C569B8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A2D57-0147-4187-9278-0BA43FA0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9D8D-FAE7-4B5D-9BA1-C68881DD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F885-65A4-4179-BF1B-7AEF251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D454-3A91-499C-9020-F10225C4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E594-06F5-4254-B9EF-1131326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F219F-87E6-4F19-A178-76EC3668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547C4-9608-4EB2-B92B-D404A41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297-2C98-4E61-B92E-B1DB935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9DA9B-B9A5-4BD7-9C4D-551F5EA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4235-01F3-4877-BA9E-0508C65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2D3D-FEEF-4932-9B3E-07CE53E5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2CDA5-5FAA-4E07-B14D-D79A0474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77036-F4DC-44BD-9570-91B9A0FE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7254-4911-4CE7-8310-2D35C22B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D348-DC7A-4C57-A4EC-D860F2D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9606B-3CB7-4FA6-A0F3-3CCF6922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839C-36B9-43A1-B02E-A2033AA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28B4-5B01-463E-A5F7-03E766A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F2A-4353-419C-948E-6BC0250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65B39-0132-4FE2-9A44-87E032FE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89C19-1ECF-4C3A-86A1-C662F95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BF659-C36C-4348-9F19-F75FA425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D54C9-85F2-4CD5-862D-AD749D72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3CFFD-6986-4657-ACA7-50A3CF3E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2543-3A7F-4BA8-ADFC-B1F90627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64E0-5197-46EF-9726-F06EA27F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49BDC-FB73-4BDF-896E-49324259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6636C-56BB-459A-9191-0325988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AC5C1-9D0D-42A5-8726-C0CA549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24ED2-79F4-4A3E-9983-3CFEB707C9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C2DED-F90B-4BEB-A1EC-8DCCBC6A2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0CE944A8-EC8B-4573-B213-18C029FBF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E45CF-B6C6-4259-A298-8FFF333CB3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4DD1F-F257-4444-AAE5-9191826A4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DB183-CE81-482D-9364-2FC6089BEA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43537-F1C9-43E9-A1E6-0CB8925FE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64838-8DD7-4464-9AD2-FD41E0684C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83D7F-7AF7-4B8D-BA76-1575B9ACB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786D7-4B5F-4B91-81BC-ED8DACCF07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13E4E-9C69-4254-BD4B-03B77303D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68EA1-4624-4368-946D-C318FBFF4D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8EE75-A385-4CC3-8EA7-523FF3F3F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7C2FA-2BEA-49C2-A71F-D97E7F476B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3DBC6-9F28-4BC7-934E-424D86206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4C420-7511-4A47-8737-BD42698E7D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29010-1F00-432E-914E-03E090A99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70040-A3DC-41C9-891F-F5A6D81B27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EC210-21E6-4B2A-A149-F1A4B357F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43827-2415-4F09-9567-6A26B36E05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1F426-FCA0-4864-881D-17CA84D9F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E9E61-0249-418E-9E76-EB6BE5C4F3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33FED-344D-46A2-888F-469F6B666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E6C36-793C-477D-AFB6-2E29ED1312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E561B-9856-424D-8694-311132A9A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rno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A1F81-AE52-4A68-BDC7-169DE2AD8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2DCA4-8537-4D8A-8458-656E4246F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875B4-48A6-4653-87F3-0CFDB4CA2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A59F7-78FA-4270-A1D6-C9500958B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FF318-B159-4E46-8287-5C410C108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C783E-90B4-4AE9-A77A-C942A0E43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E1887-FE3C-4BFD-9F23-162DABF89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7FB78-E25B-4966-894D-9A2B0353F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F610E-67EC-4A6A-BC2C-FECFD2670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91154-A5F2-4B33-A385-E27530184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064CD-35AE-48AD-AE30-DAC873656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6D941-A6D9-41E0-BD98-CBE4E0C25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61BFF-2641-461C-B2A3-74839EC5C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D9455-B672-46F9-8C98-9AC171316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8AAD1-D567-49A6-8358-FA6819CBA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8896B-7505-40B0-BF84-5EDB3E56B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427BD-79A6-41BF-B354-4C2191184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D224B-7013-47CA-B2C9-989B759E3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4FAC3-8BB9-4E70-A000-4F8402369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75FD1-40CF-46EC-83DE-86791E555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6A44B-B781-436D-8180-4F552754F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2E8B4-C906-4485-824B-525D29399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34323-34E8-438D-9166-150CE6069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D1BF1-0D00-432E-9C22-15D77D9EB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B0632-FB3B-44A5-8152-808EEB449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AE0F5-9083-4C74-AF28-1DE307E6D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31D8E-36FA-4E5A-9484-842EF038B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FA86A-9C98-4A59-A9BE-9651E5DE7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94B6B-7243-4963-A541-412A794C1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64A69-30BE-4A6E-86AF-FBDAED8A8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FF000-150E-4B25-89DF-C786CBEA8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BA30F-8857-4742-94A7-61B088135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984EF-C3FC-42AC-B81C-7CAC5593E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8:36:51Z</dcterms:modified>
  <cp:revision>74</cp:revision>
  <dc:subject/>
  <dc:title>Titulní strana – Titulek</dc:title>
</cp:coreProperties>
</file>