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207-EA57-4B01-89D0-12FD9053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1BC-0544-4378-8B34-5F71F56A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C6EA3-A8BD-4883-9781-240997C0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E72AE-7592-4470-BADF-8CAF6B98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0BEC5-01E4-4B95-8D5F-820BED4A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8C0D4-6F0F-4C5E-B685-8E8647EE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B7198-6C86-4C93-8B5E-0DA8D74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81C7F-42F7-4DC0-8421-B71A2741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43E92-D923-4A81-A5A5-BBDD6902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392A9-ED7F-4D28-A51D-DE6E47FF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414AC-AAD9-4DED-92BC-4225AE14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99DBA-B00E-42D0-AC01-DC08873F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AD3-B7CB-44C2-A694-AF61FC81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AD345-2888-4DCA-B686-C703C1E6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F66BE-EE26-488C-AAB5-F799268F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BE2B6-0515-4D2D-B094-9BFD0C41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FCAAF-D27D-4105-9DC0-BF97E70D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A8741-314F-4E02-9C33-2C89D838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69819-7E03-4D1B-8759-70FE0A07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B8905-4CC6-43F8-8549-2695090C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13B09-7286-4220-B9C0-321DEC86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750B1-5742-4C9E-A8C7-EE8777F3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39F1B-2669-405E-A073-EE5F0BC3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6D7-57C0-40E9-8437-67C2D15B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631B5-DD74-4825-BDC6-2EBFFD55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A8A12-73DE-4BE8-9B5C-7A39E962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7F67F-AAEE-40C6-8E96-A6CD4FA3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A010E-0DB5-486C-924B-632A1EB8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D3CF0-2D4F-46B4-A164-867654CA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E595B-9B67-469F-BC12-8A996A4A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DFE64-BCCC-4524-A12E-5DEB2E52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B95FA-327C-4F99-A6E1-D85E6816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83A0E-6578-4712-A0D9-184C460E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D0CB6-A8E7-45D5-AE92-5397FDDF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04BD-BCD3-413A-9974-CC50C1A8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B993B-58C9-46C1-B76B-15C43D66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FCF30-8DCB-4183-8422-F6212239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BACE0-026F-4984-B636-A3EBC68E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78B2C-5A03-4D96-A922-1052DAA6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34B31-0260-4F85-9677-D1464E96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88B41-6A5B-4A30-9FB4-BBA2944A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22659-DE7F-42E2-9BF0-636CAE18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18944-A072-4A74-8CF4-862B248B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1F423-FEEB-49F7-BE35-E3B972E8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2E9FD-A441-4BB0-9A73-D2BD4F8F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4048-28B1-4712-9C1C-CBC4A406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89729-0990-4845-97C8-5CA0CBF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E7905-CC49-41FE-925F-033C3523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694E2-7039-43B8-9EDF-9DD65E69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CADA7-1F45-46E2-B9E6-ADC71844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DBD1A-8D5C-46B1-8712-8EF1EFB7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E0B8-442B-45E5-841C-D9E9B1C8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22B0-D1B0-4B76-925F-FE867D81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3941-EC04-4C62-9D57-75DEC720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0F3B-A133-432E-8D1D-3AD2232C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16DE-C966-440B-A338-31C0B9BF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564-F142-4879-BF10-274C1733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1213-9089-44C9-B4CB-CE55E7DA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F92A-635B-4FDE-A0EB-CCA2404C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B577-440C-4B4E-9995-2FD9613E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A603-929C-4085-A355-17F5B197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262C-A8A1-4BFC-9493-F4F61091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9FB2-9762-4979-AE25-7104243A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5EF8-9E43-418F-9BCF-8E8A9562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DC30-EE08-464A-8BD0-F358C432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A720-F85A-4A09-802E-C1334B9D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54520-B6FD-4542-BF95-A9100E9B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DC7-D0BA-4023-ADD3-214CBB12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AEBD-B82F-40D7-B1E6-A5E4BC65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19912-A244-4C88-8A02-79046DC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ADBC-C8D0-43B4-B292-A32ADB47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67C6E-206A-410C-AE80-268436B9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F23F-6951-4042-A1D9-97A00530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0425-4F65-48ED-9EED-F5C491BA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07F1-00E5-487B-9211-7B5C499F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9B85-8204-4BF5-8A02-A1C75AE8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5643-361B-4F00-B735-CC516AF8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A9ABE-ACC6-4AC6-AFFB-52CA7A7E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B37-DA21-4EBA-A953-2C309ADE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42CEA-7ED5-4951-9951-92604AC9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25CDF-E5D8-4AB0-939C-51A4B8C7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8082-6B98-400A-8D00-6ABA2D09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1A131-2737-4B0A-B5B1-5CEC8AB1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06F7-35D3-4789-898C-E889A28C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9E702-FD61-485A-B000-2FFBA49D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8625-10F5-4EE2-8099-691B99F3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2C34A-AE0A-4847-A27A-58C04C76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70727-2840-41E7-8483-C7AFBD9B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44CE1-2E8B-42B3-A266-C78FB0E6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6D7-4C8C-402F-A6EC-81670D84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518D-F4E3-4E1F-BD10-3010D6B2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18CCA-E64D-4D50-A158-7807FACE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83DC7-CB9B-4E9F-BBE8-00EC2E25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DD4F-1B36-45E7-81A7-EACD67EB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8DE2C-B52F-43B8-B558-97A70725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0361-E99F-43D3-9C9F-21D4C57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7F909-9E84-43AE-9837-DFB03708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92F98-2B03-4835-AEC4-F2A4C964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8631A-5DCF-4C1B-86DE-AC654452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2AB5F-0B32-4254-8856-60117241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0A9-2CA6-4F2E-B764-CAF475C3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BE665-0808-46D9-B107-115CCF81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3F6AD-8B2B-4622-8BF7-AA8E6E18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6E6DF-5B1E-403E-A64C-0D707246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5BAE1-B161-44F7-9D08-44256C0E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E2DD9-A410-42B4-BCC0-61765124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E8EFB-F4F0-46D4-8C4D-B7ADBF53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11625-89B7-405A-9F81-6090E0B8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5C2E0-F1FC-4F09-8209-56C99D68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D00BB-9244-49FC-9AC9-EBF14C49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8C8DD-57D2-4872-A55A-BAF80EA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5DF-5BB3-4FC5-AFB1-AEC180B7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16B48-4D9C-4125-BEEE-98C5794B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F002A-966A-4E25-8A0B-12CB1CBA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823FA-AA9A-48F0-A882-6037B154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57906-8151-4D18-B225-7FAF4D26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3806F-EDBE-4BB9-A372-8632F9C7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63356-8827-491C-ABF7-A424C208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2D171-7C82-4EE3-9017-A5474822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92BA7-C579-4758-BDD6-77DBB648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F6EDD-24C8-4170-829D-869EA1C9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EFEB9-EEB8-4421-8856-9788D660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332-D44F-4E15-ADD0-C5D6BE03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ADF09-80B1-4E8C-9A88-99E65E77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6D2D4-A859-4007-9935-F7C32237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4FDDF-39D8-4B06-94DB-93EDE137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893F7-2C1D-4160-8FB2-DF78E6BD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D13E0-30F2-4925-9A25-55799516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E9D79-3E2B-423B-83CD-3C81054A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8B98C-7C27-4DC4-8247-80C6A486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9298A-E498-4248-8995-9D3EDA5F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25180-7C28-42DC-B1F3-D2FCED76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F8AD4-4564-4F0D-BD5E-0E4346A9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22A-433C-4680-A719-040920B6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23228-DEB9-498F-A944-51441880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82249-F591-42B1-B68F-8056B1E4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E1F60-71A7-48A2-8EE1-A6B98C60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00347-C8EB-4083-9247-806C01F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717F0-B5E1-41DE-84A7-28A2B5FD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CCA7D-5553-451E-8931-989E361C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35517-3C8C-4461-8D6D-276A2AA8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FD382-2D9B-4838-AD05-7C41B898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1246F-D6F5-438F-B265-E00A17B5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36D9A-A2D8-44B3-8AA1-970DABC6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90B63-A308-4F56-8CD1-6C5FBCF6C5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A63F5-E549-4548-AD79-3869C4890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CDFC90EB-A442-472E-946D-895A43977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05C28-0A49-4D44-B86A-E35247CD85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17A5D-8507-45E1-8650-9C1EFA087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8CEC3-3651-48D1-AD74-5AF1631FE5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FAB68-68A4-4358-95A8-6A8734FD1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F4480-DA5A-4B8E-AE3A-5A3DEF23D30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B1370-8A43-4AF9-83EB-B8632FC51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5FD96-BEB3-41C6-9C6D-995AE5F4C4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47CC1-75CC-4952-BACE-1907A71B0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15B46-5CEC-476F-A8B5-E516117024B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EE943-9C7A-4E47-B77C-5815EEBB7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E78B0-CA68-446D-AFBF-E7A91F09C5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114F1-0421-45BB-9D4D-93C016EB5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3B653-77D7-424B-8B78-731B1E2712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F5287-7C40-470B-AE8C-E0D301BE3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31FFC-7ABD-465D-B10D-659C5089F8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64EA3-8195-4EAF-814A-080E303D6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22884-FDB1-49CB-82B3-558D12A3042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78B9F-E2DE-4FF4-B9EB-CF3670600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6C3A2-9EB8-4500-829C-4C02F9740A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FE0AE-DEF4-4D5F-9CFB-FD0004A77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5976F-3E15-492D-A795-FDE03BE319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80D03-32C3-488D-A08B-55000F4F1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rno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2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2439E-FCB9-4C10-A177-E851A845F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81FA4-3574-458F-BB7D-C4B4ACC04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4D5CF-2719-4BDF-A504-E62FDA21B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47F956-98B9-4998-96D4-AAB9505AB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9243E-8739-4AE0-9EEE-61957FEFB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76503-D936-441C-AD8B-0BF7D8D97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AC036-3907-4294-8CA5-B17522AF2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B641D-9EE7-4D08-88C2-750108F15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CD3AA-53A4-467B-962A-8E446746F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5DAB3-0773-4351-BEEF-077C97A74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B041C-2396-4C5A-915A-201BF003D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E3CC4-E48F-4B55-8E17-96F2D60D5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800B1-0348-4DCF-90C4-7602AE1B7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1C7B5-983C-4EC7-A3BF-FB138FC1F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45310-0AC5-4496-8423-E1801BBD6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7A770-0741-4EAA-994F-548A2C01F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94B00-2423-4CD0-99B2-55AE95AE6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EF6F5-C7BF-4B02-A1DC-24A1C4B7C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FA02A-7C88-426E-B693-4944DF44F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C7A44-FA8B-44C2-89E9-25D6A9BF6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C9FA9-975E-495C-B73A-C55450D42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36ACF-FF3E-4BD3-B96F-1378FBBA4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3A947-D341-4796-A399-59AE829AA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62B44-04D1-44B3-AA8E-FE286D99F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05CD8-D943-4195-BEC9-F6D4F1C58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A359F-B18F-49C9-A126-4E6E185AF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D5173-7B6D-49EB-AC99-684A9A7D6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07445-2911-46A4-A90A-90D661A68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AE295-181E-4E28-9281-6CF93F0A5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649EB-E67F-4A9E-B6E0-573543128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1EE98-4657-462D-871F-48C42A666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7857B-ACF1-4695-AADA-134EFF1AD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98F7E-476F-4991-A43B-CAF9B7E09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30T08:36:51Z</dcterms:modified>
  <cp:revision>74</cp:revision>
  <dc:subject/>
  <dc:title>Titulní strana – Titulek</dc:title>
</cp:coreProperties>
</file>