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3DBE8-63E1-461B-A559-6818535588F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5A040-DE62-418B-BBBA-E0C07E5AE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69E27-DE5F-4967-B2BD-94905880D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32CD8-738A-4A5D-B70F-F22B2998C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471C8-B510-4733-83AF-FD897ECD1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D786E-320F-4B2D-8E61-8F972B5514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654CE-E995-482B-83AB-1F333F8FD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01896-16FE-41C6-B689-FDBB40836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1D8A9-6102-4197-8E6B-A3050BC45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B1D5B-AD58-4CB1-BB8F-734703CDB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3CDD0-8428-4670-B119-7DF710BCC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44C08-ED61-494C-A9B5-727847F9B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377A58-A162-4D6D-BB20-F29ECF5EA7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D42F42-9CEC-4193-B174-1ED765039B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4F00B7-C3DC-4350-B1D2-748CE47677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87B57F-8CD5-4083-82F5-146BFBBE00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FD7108-66A9-4085-9330-BBB0F7A414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BE9FA6-32B7-4A9A-A4C1-9F279A8D3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B74E02-049C-4583-98B3-47200AD4A7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E8AB1C-796E-4108-9FB4-D6FB07D589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5BA1BB-6028-49AB-BAC0-3AD4B0D954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BB7617-9911-4E01-9CB9-3A83CBA8B1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783A3-1FA4-4A71-B31D-AE3BD3A08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ADD91F-5442-4F5B-B6A7-FE3509872E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A0AE11-C03C-4341-9FB5-CCB140BA30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4E2929-6ED0-49B6-9F3C-536A42FE83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0609F1-A883-4DD7-96AD-56C95BC19A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581BE1-6D60-4A24-B965-8FFE561400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13DD17-46F1-4B1A-8807-8414046AE5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BAA9AF-E961-4A43-AAA1-C8622AD791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1A55E8-4D27-4B67-B31A-CAF6B8A9A7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25EF59-00A7-4992-9093-84D502BF9C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75B1F5-06E1-45EE-9E7D-F69F23C1D6C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E37DC-061E-46AF-A6B3-75BF86D0B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CD6058-1419-4B0F-AD63-6DD98F4EC0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16A10F-7AD8-4007-8A5C-EA81282423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FB745B-FDF4-4352-B0F0-5AF546B780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91F4F4-1C64-4514-A787-BE3C8E3F0F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7C18BA-2DA1-45FE-A97E-7EEF58170B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E1B585-15C4-489E-865C-9BF81A455B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A32320-B9E9-4A43-8835-6D8723D7C6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D18483-793C-4412-BCB8-64CD10CB9C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5BCAA6-5D2D-492C-9B54-63171A3515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D04800-4162-44D2-81CE-AD320CD702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777DA-1032-482D-9467-4E8B43608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5E12CF-1517-4F60-9357-1449EECDC1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4C15DF-FC7B-417F-91B0-39A6D6C4F0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63C611-A198-4855-8DEC-295FD85D4F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FC261BD-AE71-44E4-832B-6D43D3E3061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3571DC-9092-47F0-B986-BDE9614584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44918F-5CA6-4FB4-B0D3-BD68C35BCC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ACC6CD-8EE4-49F2-A68E-23A7B90E03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F1869C-17E3-4F73-AFC7-6B3A99E5FA5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220A5A-DBE3-40B2-B4E8-717C0F7730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FBF4C0-B61F-4F59-9E47-D3B83648E5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A0E67-2D52-4E60-8818-D2E0ED431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235F51-250B-4D62-99CE-60E03EA4DE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73C8C7-5A34-40C5-B9E7-FBC74F1694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492BF3-6504-49E2-A2DD-57AB442FE6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B04B6C7-0F78-4F94-B4D9-F4311A30CE9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50B7B5-CA52-408D-A02D-23084FE8609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2D2E5-413F-435C-A61A-F0BA3480B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D6475-D735-4E85-BC31-843E8701C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49A93-C258-4733-BAD1-CEFE292C8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329E4-286B-482A-813D-FB4ED3FFD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BBF40-7409-4470-8C97-F9624FB3E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81BB6-485D-4581-A0C3-B642BDE3C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80216-86E4-45A6-9563-D8E41AA3A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E0EB9-8390-4C18-BEBE-74858B96B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6550B-E135-4262-9FAF-C446A499A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EBB06-3DA2-4E1E-8A72-CE7A1B265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9B927-7229-446A-B7C5-A6F95B054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94E247-8FA5-45B5-9F7B-953984DF55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786ED1-64A5-4773-B1C9-B82A26849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F53C42-953E-4C0F-8DFA-011983B32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052CC7-EDF4-4423-8B43-EA14BF90D5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1F786-8911-4AF8-A98D-B806A3F842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0C4E7-A10E-4037-B57D-8D47E8921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74AB9C-2373-452C-9A2A-AD51CD6487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3E5FB5-7E78-44D5-88BE-6872B6527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DEED32-B789-4042-A1DF-3970E0E32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F7DED6-C1D1-4854-B75E-B93BDB9DF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395D1D-250E-4FFC-BBDA-B7B99B351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0D6A87-568C-4F9F-9D49-D54EAB356C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6D90A6-32E6-4E92-B44B-8C67D0BD65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8F2832-0BA9-4D5B-9645-15DE696231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87BEF4-51A0-4DB3-8B5B-B584D50C3C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3CEBA-6158-454D-9186-00392292EC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6107D-A8E0-4B1E-B366-7391B3382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E6745-2CAE-4B70-89A4-6C2C9E660F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8CB68-D5F9-46C4-A1B3-251BC32BB7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650519-ED68-424B-A92F-56A02E8F7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34BE5-5B61-4995-8AF5-70E72721E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434B8-61BC-42B9-9AA9-D54CBAAC5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66A65-3C4D-4360-83C7-3C8E7484A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653B90-49F0-44DC-BB0B-8A4C198E3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026C4E-BC1D-4BE6-9007-03D18B8FFB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DA31CC-775D-4B0C-B8AF-69C84E0DAF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91EB13-0484-4F4D-A480-440586AF01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08A22-5B87-4B6C-96A2-6AD8CE982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934DA7-78F0-4F40-9447-5BC87750C1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D0D15B-CEF2-4666-BBFC-0AF8AD05FC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481CEC-4136-4AEB-8DFE-5B5A8E473D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8EC0A8-9C1C-4373-94EB-04F15C273A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CB3862-2E62-418D-AFDE-DE226F1C3E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23698-1E22-4909-BA2E-B9EBF4DE9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204996-11CC-4C50-A11E-D04B2CB5C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04716C-5D82-49BD-8218-70070E479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90ECE-5157-43AC-9B5E-913B262A53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920DCC-2FFC-475A-83E0-9AF7395522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14EFC-5645-467F-A842-D15C9F36F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10F6A4-CB7C-4268-B975-77DB1346B6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150B28-98D7-4578-9FD9-7DBAC3B2C4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697A38-4FD5-434F-B72C-B308C3F2FD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DE38F6-A8B8-4BCE-90ED-00C85CEC73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E4B655-805C-46FB-9D00-205CF8F8CA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E5D3A7-D4B2-4664-8B2E-FA815BF273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A79771-18DE-4153-834E-420036315D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C4177-D9E5-4BC0-993A-A1DC6EACC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7643D-6CCA-4A7C-8AE1-EFBED370F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198BE9-D3D3-4289-8A31-C624D8E20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AB409-E394-4F53-913E-B788B5F9F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B055EB-ECF7-4AE0-9095-83620A8ADA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6DE19C-BB95-4F9E-9879-377C2FE411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75EFA2-42C1-496E-98F2-3CE3B1DE3B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969989-E421-40CA-BED9-976D9FB49B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D8A401-0671-4782-A6C8-F2EE621467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69011B-A4B9-4314-860A-E3C698D186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5CDDF1-54F0-4258-B955-6D7BC2931A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484C98-A720-4841-839F-E693382C60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AB8E41-3F79-40C4-B690-6971D59722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372ACB-DCC1-4567-8438-657643333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3CB1D-076D-42E1-A5EB-2B58DCEE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B9AC4E-9AEE-431A-8123-8F68723282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34D68-0DAA-4795-815B-2E920F8A6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461B35-1A8B-4605-96C8-0EDA79ACFC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A3E575-DADA-472D-B0E7-59C32F2F91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2A5060-40C2-4B3F-874E-420BF04164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709AC2-EEF2-4230-9539-9854B144C8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26ADEE-80F0-4879-A7E4-06E85194DA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D23E4A-EDEF-4752-A384-94B1165DC7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CD14CD-DA14-425F-B694-BA437D1C1A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00E316-92C8-47EF-9683-4029EE7464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1BC7A-F208-4B8A-B476-8B8689093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DDF5DF-91A7-4D83-93F5-E1C5AF87E3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3E04FF-F274-44DD-A09E-F19DB9780D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3524A4-5CD8-4C0E-942F-69E7F8A06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475100-AA5E-48AF-9B4D-B67EEC50A3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AD3089-0E55-4B82-8633-EB234F294C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89B4AE-EE71-4706-85D9-70383F6E6C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B65BB3-2F7D-4F41-B336-5DF1A04393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60EC8F-7FDA-499D-9E25-F06D1A5C01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091B61-E640-4F54-A3A2-0B659F7005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1AEE94-84BC-4481-A655-A891A6A911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236B4-8016-496B-B63E-0C7624AFC953}"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496CB-A687-41B0-9110-FF5D1B403FC6}" type="slidenum">
              <a:rPr b="0" lang="en-US" sz="1200" spc="-1" strike="noStrike">
                <a:solidFill>
                  <a:srgbClr val="898989"/>
                </a:solidFill>
                <a:latin typeface="Calibri"/>
              </a:rPr>
              <a:t>&lt;number&gt;</a:t>
            </a:fld>
            <a:fld id="{868FADA7-F739-4175-904E-087F6920E5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DA508-862C-4D09-94C7-E72DFA5C440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A718C-2808-4F9C-A555-8FA5E7F6A0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0F6BBC-6F56-4CC6-B458-3C245B9AE755}"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2C151-95FA-476A-910B-4D3C590201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1DF88-E692-43D8-AD03-37DB6471A474}"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C6F86-3E02-496F-A13D-636B0E7D63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8C8AE-847E-46BF-8418-2F68888ED80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52F52-C263-4C94-BCA5-0FF6CC1939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5B6FA-9BCA-4381-AAEC-4E69826779F7}"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2EEDD-D31B-4EF9-B801-22F5DD8EB8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E40FD-95AF-4831-94CD-D609B12EBC81}"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4A459-99F7-47F3-ADB4-A2E146019A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118C2-666C-4E29-8456-17021D00699E}"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80E29-FBB8-469A-A041-7862DBC725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5093A-BF32-4EC5-BEEA-3B15232EE32F}"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89F3D-0149-4303-A47C-254E0ED310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21D8E-ECDE-4197-A8EE-0B8507C80430}"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AF146-8335-4C55-8788-4EC6A26A8A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E76A7-A8FD-4AB6-83A8-7AAF563C48C0}"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8EAAA-BC07-44FD-BD0A-D234D5B588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A245D-A990-4EEA-B387-3D84CB6820C6}" type="datetime">
              <a:rPr b="0" lang="cs-CZ" sz="1200" spc="-1" strike="noStrike">
                <a:solidFill>
                  <a:srgbClr val="898989"/>
                </a:solidFill>
                <a:latin typeface="Calibri"/>
              </a:rPr>
              <a:t>29.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B6E6C-F1B7-4CBE-A058-B5E7EE90D8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Brno</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12.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1B98A-3564-4EF6-B7AF-3FD5CA0F85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EB886-7A87-4E59-B586-5E3A334E23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9003A-FC67-41A9-AC3B-F19E498AC0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6D4C3-4449-4B93-B124-943D4573AF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2DB96C-5FC0-43A7-8014-317B689613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31492-8AEB-431B-87B7-40822EBD96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16642-80FC-4731-B1BA-349790620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33CEC-8826-49D8-A96E-4A2A6FBA14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F5ADE1-9393-4FB6-992A-90A649FA7A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02FE7-B3C8-4487-A107-8E2B44454C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7FDDF-A6FB-4AA6-B0DF-9B88BE86EB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7024B-EAC5-49C3-B286-6C3FBA96C9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4F150-1051-49AC-9B2D-EE67075C4E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D4879-2980-48E5-B8E2-26CA94BA34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443D0-0671-4DF6-8125-4A524458B2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09033-A34E-4C6A-BB2F-45D091EA8E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844880"/>
        </p:xfrm>
        <a:graphic>
          <a:graphicData uri="http://schemas.openxmlformats.org/drawingml/2006/table">
            <a:tbl>
              <a:tblPr/>
              <a:tblGrid>
                <a:gridCol w="382680"/>
                <a:gridCol w="666720"/>
                <a:gridCol w="4228920"/>
                <a:gridCol w="585720"/>
                <a:gridCol w="1097280"/>
              </a:tblGrid>
              <a:tr h="11952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79132-4847-4E92-A940-95F472FF51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7D4CF-72CA-4DA5-9E11-E7750D1B6B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10524-20DE-450B-8C35-56120F7C3D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4ADD7-6036-4215-979E-244AF92DB4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CAFA62-0A58-4F30-8918-681498C3BF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0-12-30T08:36:00Z</dcterms:modified>
  <cp:revision>56</cp:revision>
  <dc:subject/>
  <dc:title>Titulní strana – Titulek</dc:title>
</cp:coreProperties>
</file>