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A760E-27A2-4427-837B-516A816F96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311CB-5A14-451F-A2DE-8F42ECFA7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ECFB3-0DA2-4F9D-88CE-A5591EB7D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96BCF-F8E2-464E-80D0-FB427DD43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9ADE9-055C-4C9B-8152-9314BEA9E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4A2C9-2C67-41E1-902B-DBF5B31CD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C94BE-5851-4A17-855D-563A865CD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739FA-3480-48B0-8257-298ABC6E3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CC829-669C-46A3-80E4-4E59C6834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BA24D-3ACE-4653-87D3-58163C6A7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A20E2-1C52-4EE9-8993-C5DD2154C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D04E7-03D6-4371-BEBF-B43DED4E8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5A6A03-CA6D-4E60-85F5-91B724FB50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64C011-BFFC-46E0-8E46-33B6656731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D182B3-3AB8-4700-8D6A-FE96A365AB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CC19D-DFBA-452D-B6C3-4A64E8561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2414D-F256-4072-B90A-82909E1B8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FAE21A-0D03-4184-AAF8-6D385CF3E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EAD7E9-8F6C-4588-AB73-52E945D63D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0A960C-74EA-4761-90E0-08EC5ECD0E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BCE1D5-6DAB-41AE-8F68-5B69F8EC02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02CEA4-3493-4FEA-9089-639EE858AF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4F407-93E4-43D2-A5A9-957858951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0D7106-44BF-4B2E-92C6-2D6B7D522F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A08EB5-EB1D-4926-9808-7FF135C839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A5716E-2BE0-46B9-9CF6-28E24C282F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0F8761-EA4A-4195-B1CF-BDA24F1429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3D2E07-6410-48A3-9A6C-AC8514ED98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AD66BD-43EF-4299-BD1E-9856C6EBD6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474D1D-BFCF-4202-B8B7-0AEE4EA0A2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E55865-DDC9-4F22-9439-DF86E3C7B5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3D8E14-0BCF-4A29-98D7-414316834C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45CE55-F55E-4993-A73D-D275A8D547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3DAA2-18A7-40CC-844E-18D690196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D88E4F-AB48-4C9E-ABEB-4518BEFCB3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5AC804-FF2C-424C-B194-C806EDEA65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9514E4-1B94-4539-BA03-EF6D4CBBFD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CC34F9-AC1B-4BDE-9A8F-87F1842528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784D6D-7CCF-47D9-B1CD-22146E53E2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D63341-9206-4FC8-9B72-E0C7F68369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1D596C-26E7-4528-BF74-E2C593121D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EA11BF-8450-4C88-9D8D-6791BD39BA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849166-004B-4898-813E-64F53D9581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D7AAEC-547D-4201-B6A9-C8A82704E8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07F94-A3B9-404B-9359-C534F5BB7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AD73E2-A365-4097-96B5-448B90F539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BA0447-E042-4E07-80A4-CD8E839C01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29B9EF-6DB3-4694-B337-7AB77BE12C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E854C3-B59B-467D-B60F-942AD91F2C0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F059C3-98DC-4DB3-9AC3-DAE838AE4E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676C2E-CCCD-4249-A2BF-B736C1EDAB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9C0393-28FB-4C76-B5D1-466809902D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BB7572-232C-4B69-A1CA-A513026957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716A7C-EFCB-4FA5-B9CF-659A31A84E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44F0A1-768B-4C1F-9390-B4E069FFA8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15E14-4593-4DFA-A055-92C1C0BCE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E3DFE0-F2FD-48CF-883B-98B1053030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1361A3-FF09-4204-A313-76D3C3C199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C2A5A6-5B56-4B76-B1A3-D501E64D08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3B9423D-3BD5-4DE7-97C1-0AF630DDD7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B311847-FE0E-4CCF-A2D1-F6E4AD8A597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E2BC0-7346-4132-9BF0-09A792E7D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E504E-A9E9-4316-9042-51CD54667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976E7-186E-42B1-AADB-FD90E6CFF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F2D25-8041-4F41-9030-9F6F2F05A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36C93-FFA7-493C-8D90-E82A22F4B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286CA-A17F-4FAD-8AC0-CC0F48524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485FD-800B-40EA-9E76-68665BE52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B5E0E-76CF-43D2-A298-75964319B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815BE-4EF1-482A-A431-3AA89A87D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6CC05-E371-4631-B772-7F7EAD749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CD9A8-E524-4407-A0E9-F6EAB3A7E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4C6351-EB17-4DBB-AA71-201A2D640A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96F556-CD37-4A7D-B262-A6A3122D24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A3E71-7796-4F50-9C61-2F21ACBAC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7E78FE-F1CC-4D0C-A398-0CFE2CA80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59F14-132F-44B7-9891-404489AD3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E95DC-5D81-4814-9F33-B655620C0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EB8AFE-9925-44FA-89BF-3BD1E8057F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5BFEE-B489-4E2A-A6B2-BC8A04103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5C91A-9832-44FF-B771-436E1D865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5C711-B7E1-41A0-A6A4-D2BCD4BA8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72372-AEE5-4083-A243-E5721BDEFA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67C5D5-CDC8-489F-951E-BC2ED60A05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49CE90-0BDA-45DF-87B0-E890213479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E88207-6587-4826-91D4-3881DB587B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135CF-0EE3-4E96-B2E0-506533E50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3F58B-246C-41B2-80D0-BB1311C4A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07DC7-CBA1-48D0-95E6-77EEEF005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1F83F-2259-408E-97F6-C8F397F848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524806-DCC8-4562-A017-F46C1AE11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36744-B881-40A0-ABC8-D4190B7D2E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ABAF9-3DE4-4267-BEE7-4D32AAB62C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6A3C7-68D8-401D-8F0F-DEFA20B875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4FEF8-1D62-46DF-A155-0C480FB52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EC01AD-9D6D-4FF5-9EFC-5A5019661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A5D6B3-1648-46E1-B719-AC70EB9DB6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556C22-5E83-455C-B586-EF9ED44991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9BA608-1F32-4C26-A5F3-8A404574A2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5406A-0BF4-4F8A-B505-1E5AF1E2F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D0E55B-1E1B-4C91-B2FD-B7BB504D2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74FAF7-81FF-435B-92E0-AB6F40BDBA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F3BE26-80E9-45F0-A8FC-F14D1A63D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E848EE-0579-46E4-84A3-D69064D5E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4C97AA-9884-4CC6-9A92-0F6694E84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4F88C-D274-42DF-ADC0-3F6C6724B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090D7-1E82-4AEA-BD7F-1FED5B2BC6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ADD58-623D-49AE-A9D5-01FFD43E0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9044A7-8EE4-40E1-959F-207CA32A2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C274A3-BF86-4BF3-9A20-367BF677BA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07B69-758E-45FD-87CC-8C427586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CEA5B4-D97F-416C-94D7-79342CA4A4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ACFF04-A2D1-4478-B34F-A7655B1146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7B662C-8F6A-43D9-AB74-C760F83994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2C037A-DE81-4110-93A1-8387E1F138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36793F-04C3-4EFA-8FBB-ED6C19430B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F38FAC-F185-4797-B81D-49EBD00C86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9B2F22-D414-498A-B103-AF1FF48B2A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15D7C4-2543-4A25-B9AB-3F504E5F7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5E600-2D85-4AD8-8025-10BE6635B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C888B-C8EB-4A5F-91AB-292F8F219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0D56F-9FA6-49E8-B5FE-9BCBD2402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6D48FB-8FC6-4AB9-BCCC-355A2AC643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421B91-7B13-4B8A-8B79-EA1A326618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9AF112-9202-4B5B-8349-B364C9EF54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459F10-163E-4265-958C-FB85322F6D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E33EC4-E440-4D47-A784-45F567CCFA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2EDC68-4E4B-4E38-A8D2-9253559C8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1AEE2F-6130-4112-BEF6-4F5ECE18AA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CEC5D-9C51-42D5-A4C4-5FA878562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2875F1-353D-4F7F-AF83-D279A0943B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61A6AF-CB58-42D6-BA2B-1BE96F286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CD60-8780-4943-8F34-085733F3D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C3E00-E945-445F-8E7F-91E8EBF35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E6D23B-5123-4915-A47F-51D34F4EE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F28669-B6D5-443D-B274-D55666A296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DF254A-7B78-4C65-9DA6-524ACDD8C2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8BE11F-628F-41FD-BEEB-5FC0D91ADC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82AB4F-32F5-436C-A30B-5C4CE3F909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73066C-2ABF-4DEA-9332-A4D04A0874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740277-1DE8-4FA1-A01F-6A53CB5C4D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31390F-D956-4AFD-8CEA-041566C177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65E159-8DCC-4659-86C3-5547648D83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F4CA-3B54-4125-AB6C-7D324B20F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FBDF06-FF3E-4B26-8736-77CFC77EB6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4620D4-CAAC-460E-B52D-E9F3200E8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E7B9D9-EEFD-4143-80E1-D5DA167C2F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42E45-FB44-498C-A436-891D822FE1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42F32A-AD62-45B7-A8E8-D5D9210695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C294E7-623C-4C44-BF1E-0A5A82E69A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A60169-4A8C-4920-AC63-5501C15115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0CD559-4F5C-4965-B36D-E95DA4BD5D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1C2647-F4C7-4288-A554-21C4B57A8D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DC9690-35CD-4AE5-840B-C2D7B6E40A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0EB9B-4336-4EB2-8051-8D5A67BFF063}"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17868-C897-4992-9935-0D3EC418961F}" type="slidenum">
              <a:rPr b="0" lang="en-US" sz="1200" spc="-1" strike="noStrike">
                <a:solidFill>
                  <a:srgbClr val="898989"/>
                </a:solidFill>
                <a:latin typeface="Calibri"/>
              </a:rPr>
              <a:t>&lt;number&gt;</a:t>
            </a:fld>
            <a:fld id="{6F75369E-2FF5-42F9-A976-96CF570699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D7982-7E4F-4CA7-BF4B-AECF5CABB66D}"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08A44-08D6-47AA-BE67-CECD0AC9A1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9FD93-9667-49F3-A5C5-BCE1DB3CD4FB}"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E28B1-DBEA-412E-A680-139F0533CF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EA216-BB20-4E60-A102-14880FF17175}"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5F9C8-7127-4DB0-AD71-816EF0D0AA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AF1E6-7FA5-4203-B186-23DD686951FA}"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985DB-4B0D-4FAD-A0CE-41C75E4C94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2C438-DA4F-419F-985C-4D773A8623BC}"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10775-64A8-417D-8F86-F0E927EED1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2D7A4-F644-458E-BD00-7897CB20FB7D}"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1C544-1EBE-437A-A8C0-58326F9633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AD176-6E64-4DEC-A902-6AB0AE777091}"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EE639-995F-4F50-9354-79613181D6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81844-AB17-401F-8CF7-BCD9F7EB8FCA}"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614BD-BEA6-4789-BBA8-E201C6525F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8BB5D-788B-4015-AAF8-E75A91E39505}"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80497-F40B-4A6F-AD8D-ADBA8771F5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EDB5D-6F01-47C1-A1C6-017C5E67FFB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E3151-C03F-40F1-A004-C98E169798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806803-1562-4C0F-9892-6E75727FDB30}"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CE201-F509-4D45-841B-0884D1DB93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Brno</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12.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22A01-DB46-41F2-A7E3-9B34062A4D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9E73F-C4E3-4977-B866-69828185EF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10C5C-1D71-43B5-AC6A-DC254A593D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A0074-4178-40E6-A978-052C044119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9D4C1-C1F9-4C7C-B059-AE8F9F3120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43813-A64F-4925-BAB7-59BC17C367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6AF0F-3E87-4C83-844A-CC64985720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CEF33-7D3C-481C-A586-E36E2FD89D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47456-6226-4439-9926-E90BBF1274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0468D-8E86-4FAB-BE38-AD01DE2F7A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F0747-9E4D-497B-8281-AB97AC298E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53178-FFD3-40EC-B65C-77EEAAD3F4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A3D46-F5C6-4833-9E10-B478299A04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AD31D-9DB0-4193-8EFC-A494F18267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5818C-E651-4A49-B670-2785491F5B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4120D-855F-45A1-9281-5B0A53DC0F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76BD8-C482-472C-9327-E46793C6CD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8E693-8829-4104-9837-87D0D79A07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6BA83-A78B-47D5-A417-F535027C50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65408-D8B9-438D-A921-A187322D8D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3E95A-7BC7-430E-8452-C035E6FF34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0-12-30T08:36:00Z</dcterms:modified>
  <cp:revision>56</cp:revision>
  <dc:subject/>
  <dc:title>Titulní strana – Titulek</dc:title>
</cp:coreProperties>
</file>