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F75EA-41FF-4700-91CA-CBCAB27DD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nanční manažer  0,2 * 20.000 = 4.000 Kč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013DE-52CB-437D-BBD9-11F7C3BCF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6CD2B-D426-4984-A148-4D4388C94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EA9C8-BF51-4D14-85C7-C5675238E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F61E2-25D3-43B6-A83D-FBB69658F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50A-171B-4876-9806-3892EFAA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B75-59D4-4AF1-BF5B-4519947A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445E1-0A5A-4AE0-8B97-4DC33C3C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9CEA8-4D06-446A-8A77-7048B6BB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14C34-C8FD-42BE-8F6E-196B3F82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51F11-69BF-4EBB-A82B-F670845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C66E2-0295-4878-A09F-408DCDF4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4DC38-F32D-4835-BAC0-5D3BCC5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77BC9-8AE8-42E9-9FCC-F787834C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3F3F4-A771-4799-8B4E-8F35B9BA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BB9B6-F87D-491E-A54F-5D062357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C0B46-60E9-46F1-B71A-7A3BDBE8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ECF-95FF-4846-B83C-7F8C0B5C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DFCD2-3C16-4BEF-BE53-BB6F4BE7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E9827-67CD-4CDE-8B8A-4997BAD9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D4DCE-6CB7-4288-B0AC-EEAC1C5D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EAB02-0716-40C3-9D34-A5F7D69C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0178E-E348-407B-82B1-A32503E6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9E609-778C-4E66-BEE1-0DB69E5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0392D-3FC1-457C-90E3-3E05955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2056D-E389-4EBC-A8D5-A2DEB9BA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8777F-4DC9-45B8-88C8-899329AC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856A2-4658-4F94-A22E-8E63A3C8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19E-A98A-46A5-98CE-DB163E4C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E9955-928E-4C68-BFD3-4BDB7F28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A2F0E-5488-4067-850F-B6B20D3F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97623-2253-4555-A545-CF14B240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EDEF2-7990-4F05-891C-1335BABA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20449-CAD3-4374-8F01-C9CF3C9C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66ED7-DFA6-45C9-832E-92C8DE8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CDB7B-2C31-410F-ADA9-B85E4F67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3E52F-2625-44C1-85BF-0E10132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C49D9-80C0-4A75-86DF-58155A2F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89D2E-9D60-4E3B-9116-0E362CA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4225-18B4-4048-B08F-99101186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337A-3293-4F25-B5C8-B35C3DF9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525B4-699F-4545-B3CE-7B394985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23AC6-F40C-4E48-A07C-F3C3DD27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A97B1-9631-469F-906F-7A51A704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6D169-59F3-4BF1-BA6D-4F0EB4AD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2FD23-C041-491F-8ED7-6F5A811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26743-5AE8-44FE-80FA-AE76517A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5FFA1-7EAC-41A0-88A3-5A3D6192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1A13F-754F-4FDD-BE9A-7193ABA5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96CE9-DA1F-401A-AFAE-F3645649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CBA3-8AAF-4F3C-8DB4-99A7BBBE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75538-5020-436F-A549-7DEFBDD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40DE2-190D-4AF9-AA03-AE937CC0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FA299-99B5-4F6F-876B-60B2CAA6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FBF51-D748-4E99-A04F-9B7EC94D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CC57E-E06B-4040-9442-F83AF713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BF33-EE47-4C4C-9F2E-F64F2F07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9F95-AB71-416E-9C80-9AC5523C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C85C-49F9-4376-A27A-6EDAE841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2177-D313-446E-9743-F70A70CB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3E1E-5F57-464D-97C7-FB58F742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28C-3896-40DD-B939-5D0AA0BC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C70B-1C20-4654-B593-0F5D78C2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C671-04D0-443A-BCA1-D186A10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2EDC-1FB3-46D9-AF62-09455DC9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38A4-5826-4F17-806A-D5AA8942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8C74-B4D3-4BE5-94A3-49127F2E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5666-6CED-4067-8D53-8784DC3E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F2A7-CCD2-42B3-AD17-EF78B684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0827-8B9A-4655-81C9-7FC7AD28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12213-608C-4C69-85BF-76225B34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CB76-683C-485C-9485-491F37BC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EF7-1A65-40A9-B625-520B8EB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3046-8FA2-4A27-A32D-EE6306D4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D8CF-40A1-4578-960A-D4F4EDE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D5E0-C592-4AB2-B98A-08F770E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14F9-0E2D-4023-9F00-3DE72B4F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B2B8-3BE8-482E-AAF6-3E536993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767A-8B70-4027-882A-A1D812B9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BA1B-7218-4A88-845F-1F096024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2BF0-64E8-4921-94B1-F3334344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9935-1ACD-4BD0-A0A1-0A62B54D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705E-A643-4D2F-A2EF-6143697D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014-8138-4C53-A93C-A9E697AB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55D2-91A9-44D6-9610-20CBA948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54FE4-3ED1-4A9B-8866-73B07003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E19C3-0B34-4B4C-BD53-A4953AA7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B036-8511-40F5-9B37-EC2FC5D2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05AE-2AB7-425C-9AB5-C6C8AF31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09CD-444C-4186-956B-AA8EA33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D4444-904E-46DF-8866-9CF7477E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C02D-F25C-405E-830E-180B070D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3AFE-5A40-48A3-850F-91ACEDDA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79BE-C58B-4F2E-AC08-CD591166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339-09AE-4B00-95DC-F5120663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18DA-9AF1-463B-AF3D-43E116E5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8E9BC-B067-4926-8A0D-9D2F751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19524-8C37-41EE-91BA-6AD7275B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3F95-7908-4E71-8BE9-5A02398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2CEA-CDB9-4F4D-B2CB-28A76D33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739FA-5F35-4F09-A358-4FC5A1D4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1074-E036-4A47-96FC-60DBE5F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FF44F-CF43-43FE-BFB1-9BB78AC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4BBA-DB60-4CB4-83E2-351AD72A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43E1B-8D00-446F-BB5B-0AC738DD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DB5-EA4F-4150-867A-A66F5D1B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1C02-5218-4426-9CA6-6B0A5B6D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B90A0-A1CA-4BD7-8AFC-14A7C544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58EF-8337-4414-976B-5B73C962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F6D44-3FBD-4EAE-829E-263557FF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1CB82-CCFC-4B57-BA8D-9B2EA031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2AB6-D66E-4033-AE70-4F9C5983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052A-F8BD-4649-9FF0-9D3D128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7DD7-05E2-4270-9DEC-F64265B8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8732F-A2DF-4334-B4B4-E7357DA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BAA7-9E8F-4DA5-A331-95C69ACD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246-1841-404A-9EA2-171B96A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D670-1534-4A48-8617-4ADF2E12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2158-EF1A-4913-9669-97A883BE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79F0A-CD0A-47CF-95BC-643055B7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11033-35B1-4937-ABCE-132BA5CE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07E4-EA0D-4A78-8E14-F9FAFA2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AB08E-1E54-4C5B-8AE0-6DF966E8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9B58B-C444-490D-98E3-8F64E246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730E7-97BB-4818-AD53-2CFCF4DB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06DCB-4051-44F6-B3FF-4AC555C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70108-773E-473D-8FDF-BA29137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C51-BDF5-441C-BA3B-8D4216F2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F7812-DC51-4478-A948-0B92CD0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C82F-15BE-4430-9081-DAE009E1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345A-C117-4BEB-973F-A2F0D259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CB775-25D3-4241-B2F7-13BB66A8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6A374-398B-49B4-A73E-2B0F0D1D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9A77-894A-4E6A-9C03-7A781739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803B9-0803-4450-8E6A-74E2FB5B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E62A-54D1-404F-89F2-A82360BE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003D4-1E73-42C6-90A1-55C39D54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1A52C-2C60-4840-8423-52263A6B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BDE-97BA-4BC4-A27E-BC776AD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BDAEA-4589-4077-A49B-0DD9C5E8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DAE55-8CC9-476A-AF13-0525065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4A27D-4D70-4912-9F9B-C9E4C0B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EA1F-0D77-4EA3-B5BA-DB95E3F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586D3-CA13-4D0F-8A74-40536753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BEA84-78A4-4238-B305-FF874924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B6EDD-D8CC-4112-80C9-D2F75B78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C41C4-CB83-47EB-A543-EB3461B9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A5C29-7B3A-4D48-88F0-6118CE8C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14FBA-5CAF-48A3-817F-9CE1E203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BED5C-FD0D-4F4A-A923-C49BBB2685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92D07-C385-43F7-93D3-543E568E1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1CE26275-143D-4FFE-B031-85A44CA77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D1B83-18BD-48B4-B891-8292779205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6190F-18FC-42B3-82AA-7D9E43D59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0691E-04FC-4206-B013-334BFD9C09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B1E0A-00CA-46F5-8FBF-842E11BA7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6A104-CE14-49F1-836B-4E502B1F9A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690C6-80A4-4EC7-9B26-076CF37BE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4E806-5679-471C-AA49-3ABD850A9D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9F03C-91F0-41A0-9AD5-F26D0A360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6B6EE-18AC-4043-9294-E99958ADA2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BDB4E-4AFC-42B9-97B0-A50DE6C53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3FD70-9D5C-43A5-8879-9507C7FBC4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7FF37-24EE-49CE-BE74-543D23797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D8712-4831-41AC-B520-4835D5235E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5F3DD-F210-4DE8-A4F6-4DB505412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3042E-230A-48E9-84B8-A81F865AF5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41705-695E-40AE-885D-5573B5109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0CADF-EAB8-4F47-BC2E-E4F0C33752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DDCC1-D160-44FA-ACC5-7B5EE4E9B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9BB34-B89E-48EE-823F-002574E378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1B28B-E54B-4265-BC9A-9C3A21A23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9FF5A-EA7B-4A87-A595-F8D2C5EF6B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EF7E1-83C6-4B82-823C-8B5B027FB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Ing. Ivana Baloušková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ED15E-0469-423D-99D0-8639E8F9D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3C43B-58BC-4A7A-B505-F07DF168D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 smlouva, DPP, DPČ, ev. autorské honorář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689AD-F2CA-4472-AE56-33447F75F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9" descr=""/>
          <p:cNvPicPr/>
          <p:nvPr/>
        </p:nvPicPr>
        <p:blipFill>
          <a:blip r:embed="rId1"/>
          <a:stretch/>
        </p:blipFill>
        <p:spPr>
          <a:xfrm>
            <a:off x="814320" y="166536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06" name="Šipka doleva 6"/>
          <p:cNvSpPr/>
          <p:nvPr/>
        </p:nvSpPr>
        <p:spPr>
          <a:xfrm>
            <a:off x="5753160" y="40752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Šipka doprava 7"/>
          <p:cNvSpPr/>
          <p:nvPr/>
        </p:nvSpPr>
        <p:spPr>
          <a:xfrm rot="18280200">
            <a:off x="1257840" y="455832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A10D0-DC9F-4696-B48E-9C2300B19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1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2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Šipka doleva 12"/>
          <p:cNvSpPr/>
          <p:nvPr/>
        </p:nvSpPr>
        <p:spPr>
          <a:xfrm rot="7954800">
            <a:off x="1500120" y="3465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délník 13"/>
          <p:cNvSpPr/>
          <p:nvPr/>
        </p:nvSpPr>
        <p:spPr>
          <a:xfrm>
            <a:off x="1348200" y="5113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využívejte komentář k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FA8AB-2DAB-4913-AD07-D4CE204B5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9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65F1B-18E8-496B-8FDA-7E12044A1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192240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3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744D1-4175-4D1B-8064-1268EC83A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zahraniční expert v ČR, per diems 230 €/den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ubytování, 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7F620-1D1D-4EAC-AE10-418E96E23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sp>
        <p:nvSpPr>
          <p:cNvPr id="630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871AC-3254-480C-91AE-2DE62CDCF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8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E9D6C-D9C1-4E1E-90FD-8A316D887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robný hmotný majetek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8E2C8-ECFE-4484-8797-40D8280F6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Výdaje na opravy a údržb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E1090-E46D-4FB5-A3C3-65CC655D1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nční podpora na 1 IPO pro jednotlivé podaktivity podrobně upravuje Příloha č. 5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C3E61-440E-4F17-9825-18656B7FA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uze příjemce, který daňově neodepisu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hmotný majetek nad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nábytek do 40 tis. Kč - židle, stoly, lavice pro cílovo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kupi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ábytek a vybavení pro realizační tým - max. 15 tis. Kč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na 1 přepočtený úvaz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37CB0-61A9-4D11-80BA-689EEA9F0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68EB6-CA7E-47CE-BAB4-FC938BB3D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tisk skript, tvorba publikací, učebni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řeklady textů, zpracování analý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na zajištění konferencí a kurzů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řádaných v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rámci projekt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BB7B5-7A8E-404A-AF4D-3B7BD045F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1D9B8-8EFA-4DE1-AB0A-4274DF58D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B6A18-0E40-4FED-BBD2-6DD921C48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úprava pracovních míst nebo úprava přístupu pro osoby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e zdravotním postižením, a úprava výukových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éninkových nebo pracovních prostor, používaných n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13819-AA35-428E-B1B5-7103E5909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skytovány zaměstnavateli jako náhrada mzdy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ka účastnícího se dalšího vzdělá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690840" indent="-265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asistentské služby žákům se speciálními potřebam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5C524-6CE9-4833-B444-9F3071E8D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329840" y="2185560"/>
            <a:ext cx="645804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72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odnadpis 1"/>
          <p:cNvSpPr/>
          <p:nvPr/>
        </p:nvSpPr>
        <p:spPr>
          <a:xfrm>
            <a:off x="1330200" y="3916440"/>
            <a:ext cx="68724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odnadpis 1"/>
          <p:cNvSpPr/>
          <p:nvPr/>
        </p:nvSpPr>
        <p:spPr>
          <a:xfrm>
            <a:off x="4870440" y="391644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délník 10"/>
          <p:cNvSpPr/>
          <p:nvPr/>
        </p:nvSpPr>
        <p:spPr>
          <a:xfrm>
            <a:off x="4114800" y="4408560"/>
            <a:ext cx="4572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bankovní popl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publicita projektu včetně úvodní a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závěrečné k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5AE09-3302-4268-B7F1-033F5AB4E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íl nepřímých nákladů se stanoví jako procento dané výzvou z přímých způsobilých výdajů celkem bez  křížového financování položka rozpočtu 10.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přímé náklady není třeba prokazovat účetními do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10060-E5BC-42CF-B040-7E2C4420C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41E04-38F3-45FB-A6A9-A2D653612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53600" y="1072800"/>
            <a:ext cx="760428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86" name="Obrázek 15" descr="nn_benefit.JPG"/>
          <p:cNvPicPr/>
          <p:nvPr/>
        </p:nvPicPr>
        <p:blipFill>
          <a:blip r:embed="rId2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7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F122D-5CDB-4818-8D89-2E49F69F3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D5D43-5B11-4CAF-99F8-E0347E29B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F4489-52EB-466C-8027-1DA79DD65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01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13DEC-5289-41F7-AD61-AB8A7D61F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pozornost aktuálním informacím k výzvám na 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EB395-CF02-41DF-BC89-6632395A5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g. Ivana Balouš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ivana.balouskova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B2E1D-8646-47B4-9C52-22B338B4B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10C40-78C0-44DF-B140-699262894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manažerské a administrativní pozi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E4E83-CE7C-4FB5-A720-801CED759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informace ze záložky Realizační tým se automaticky nepřenášej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 do záložky Rozpočet projektu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20ED7-AAE5-44EE-A2E7-F3AC60E6A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1330200" y="2443320"/>
            <a:ext cx="6296040" cy="3093840"/>
          </a:xfrm>
          <a:prstGeom prst="rect">
            <a:avLst/>
          </a:prstGeom>
          <a:ln w="0">
            <a:noFill/>
          </a:ln>
        </p:spPr>
      </p:pic>
      <p:sp>
        <p:nvSpPr>
          <p:cNvPr id="592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FC63B-737D-4751-A1EE-4547FA750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D898B-ED5D-448C-ACD9-BC1E56562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14:38:35Z</dcterms:modified>
  <cp:revision>64</cp:revision>
  <dc:subject/>
  <dc:title>Titulní strana – Titulek</dc:title>
</cp:coreProperties>
</file>