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0CA-B6E8-419A-AD5A-56E444DB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637-7AFC-4509-9A9D-0AFCD08A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92555-003A-430D-A620-F4A6109E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822BD-5F5F-48A0-899A-247BC5FB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FAC69-7543-4F74-A8DD-7E33611E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05133-9A85-4BA8-A4AD-CD22BB9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11618-4510-43C8-92F5-DCC68C9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368F1-9465-49B2-89E9-62D3ADA9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63BFC-EB0B-4562-98EB-F2551EEB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B062A-22C3-48E2-8D74-35D0A05D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79CBC-2827-40B6-B70A-7315F40B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3C0AF-BAD5-4CD8-BD2E-79353926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17D-0A30-4761-BB84-A4AA5A27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8F372-EF91-4CC5-8F3E-E1B00A0A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9FA5F-44DC-46E8-A996-97DD9EF8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5F6EA-4AA1-460E-BFF0-8DB6345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558CE-6D18-46D5-899B-AEA3E1A3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83762-F206-4C92-8351-2C8AB603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EAFE0-7201-475F-A464-40FE2D6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0AFD8-C00F-4F5C-AA28-0195B1F0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D17CE-10F8-40F0-A7E3-1E5C3CE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E9189-B92A-48A4-8269-6851A0A3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A702D-4A5A-489A-8B86-695EF8CD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7CF-7050-4A18-9922-A9ADECF2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233E2-AAAF-448F-B549-D2572374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B6257-2A04-405A-8BF1-1E82ABF5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20DC3-E541-43DA-BF6A-D9B2884E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8DEAD-9A9F-473B-9929-D0562035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BE14-16C9-4D52-AFCA-5560A9D2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0E51E-3A59-4A73-9243-A9B21599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D4272-ADA9-4453-B81B-9C91B2C1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49BAE-946F-4E19-B1D3-C81961CD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25284-BD17-4C86-9A9E-56CB0BD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5C45A-9C82-4DD8-B4CC-ABF9839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786B-E41D-4313-AEDA-FDE2B7EF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8ABA1-B219-4999-B299-AC24464B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47D0B-1B50-466A-A3AA-0E5DB516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DB1A1-9B63-44F8-8C1A-1C159602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8CE84-1D2A-4090-A835-9A8F8CF0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BC1C8-5D74-4B8A-A156-0EF5295E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87E52-1D94-47AC-8422-48CB601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0FCC5-31DC-4411-BC7F-3CB8015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E6F6C-0B77-49CD-9F30-DFB6D82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6F705-3F09-46CF-AACC-89628D50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65E07-8757-49BA-AB7A-2F6569D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0756-32D3-44FD-A5B7-45DBBBA7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8D8C9-4C92-4F77-94B7-D16CA73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689EC-42A5-45E1-847F-2778397D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C2C1D-8EAE-4010-824C-909054FE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71034-8F96-4FEB-860D-8141022A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32EEC-FADF-4E10-883B-25E5C93C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D6FC-F222-47FF-B957-80DADDB8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1ECA-A70F-4FCD-B999-304C8D0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BDFE-257E-4D39-9F86-0FF1512F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4BE9-9BD6-4830-8690-5A23646E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87F7-74EE-4D75-A529-DC87E2A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9C8-6D28-45A1-9412-6431988C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0600-30DC-47F5-A0AA-5A3043AC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24F8-BF6A-479D-BEAB-620D8CEB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1BCB-B657-46ED-8A8F-7E3DA7E9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EB93-9277-40CA-BDFB-11723FE0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B302-52BE-43CD-BF37-CD7B0575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8403-AE56-421E-A837-517F316E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9FC3-F1A2-4A9A-9F9E-49778A91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D446-6FBE-42E3-B560-A835E701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F877-603C-4D42-91CE-CFF3D6B7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FDD4-EAC9-441B-B7D1-9BB2A99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AEC-FFE3-423F-B5B7-D7924E11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8784-281C-491B-9DD9-28EEBC6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39AE-F46F-4118-93E7-BD780FC4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5AB4-EF04-4B67-8201-8377DA24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4BBE-02C7-4E28-8A91-E36DE991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25D9-9C1E-452E-B90F-8BB0FB63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D334-89E6-40B3-A54E-55E1F0D6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2704E-F334-4700-921C-A30A7ED9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B526-2287-4C1C-BDB0-C0A6C076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0E64-5E30-48A2-9FB4-A2B847B7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30BF-D91A-4127-8B23-86B4EE91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23B-2AAC-4217-A677-02106AD7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59A2-1A4F-4E21-B1B6-A0E25E9C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9307-967A-4AEC-AD85-A63C499D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C6F4-9CA9-4711-95E0-F84930A1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D5B9-006D-4037-BAAC-1459FA6C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4AD4-5C97-40D6-A6F1-1B4EA36E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DC84-BDFB-4A5C-AB23-B378D495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1815-194D-460B-8CBA-7D107DA6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1D1F-34CB-476E-AC04-AD770730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F0D4-C21C-4249-9CE1-520EE4D2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62FCA-1034-47E6-8E72-CDD53565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A7F-9E77-4286-ABF0-C1499000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2A60-F442-4EBA-934A-9F1E223B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1638-24C4-4414-9570-69DDDD01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CD652-1729-41A7-9C00-5483FD2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5F68-4DCB-4927-85D5-C3E8CE55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7EF8-B181-4DE4-97F3-4C03EF1F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CF89F-AA33-4ED1-90A4-7FF70800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5474-5A81-4D7B-8FBB-867689E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7151-9A2D-4C2F-B5A3-C83CEDE9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614A-8A02-4DE5-A17F-272FB7F5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505E-1546-416F-B57A-AB39482F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D5F-9504-4BB2-A584-9FDEB7A3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FB97-679F-4AC0-9996-FCBC697D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13655-8039-498E-9BBF-2E91B92C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C5028-F4DA-4B2B-9910-B185F93A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EAF8E-BAE5-4AD8-9233-36A7A80B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56626-4CB7-4ECF-82D1-5330C3ED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6C231-F36A-4F05-9F38-F229D5B9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9D8D1-516D-47EE-9685-4FB0618C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A4877-1702-4764-99F0-6B4BDAE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9B1FE-8B50-4487-99BF-1D25E1DE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0E73-F242-4B7C-86BA-DE0794C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D10-D44A-4DE0-B273-67A4E49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10948-AFD3-432C-B492-0B1B9C05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479D6-0F0D-4CE0-8D3A-8E4C5F21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F4BF2-C7C6-4B52-8872-736AFC0F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E6560-352B-4EDA-8B0C-C4E33E21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37DEE-BEB1-4025-BCFF-1D9B6A69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CF5E-65C1-417A-A8A5-7FE51795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E6DBA-4495-4595-A4BB-985A8D1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EE812-3D0B-4588-AC82-BBF12F78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8D6B2-F600-48BB-9BD6-AE36C7F3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25FEC-EC05-42BB-8143-D4F57772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EFC-3FA2-44CF-B6E3-C98C19A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DB4EC-5001-47EB-AB35-B5149B8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6CE7-C366-439C-B1F4-93B656C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452B2-D0ED-4712-A7AF-E8611A69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3668C-000E-41EE-8EB1-F30A7005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C9E26-C107-44B9-97A6-11C65644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2046-84A3-4426-9A0B-1F40446B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4DAB-E3F7-4B8E-B2BD-D4FE3D65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5AEDE-E2F5-4500-9E7A-50958D4B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D504-7FA9-44E0-9F66-8E180F0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BDC6D-9A7F-4A35-927C-1CCDF6A5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37F-5EAD-4AA8-84AB-A2B083D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E589B-CDFD-491E-A156-994B691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8278-C73E-4D3B-9F45-4766A1A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A5B7F-0D01-463D-81EB-CB56284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45669-4DF6-49F8-AA25-06DB1C64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009C-307D-488C-8085-4DA4863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BEF8-0907-439E-8B1D-8498ACC9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9B93-522B-43B3-A03F-FBAD373E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AE8FC-0AB4-4632-9E78-49AD211C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B8B4-2B47-4423-AF09-98280DF3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ADD0C-FC8F-49D6-8ED2-64B58D4A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4A3E1-6E1A-4C92-9560-FC1932043B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CF653-8165-460E-A5EB-8379DA1A8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4610FFBB-2F91-477C-B5B1-770A34F00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55E0D-7EF3-4F30-8411-BD2E5CAFD4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05534-7F8A-4DB7-8482-4CAF147B2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55FC1-0F98-4B9A-9F3C-4C6104E990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6143A-B8B5-42EF-9EF4-06BDB8880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15B47-562D-4918-829C-F78E00763B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92127-A991-43E6-BA2C-9043EB2D1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8EA64-EA69-40DE-9E7F-6474B85260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3DA95-8A0B-4835-837F-61B180355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D9F97-5F0A-4631-8DBD-0AC1191A1A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D869D-6359-4450-868D-2F56FBC56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6B060-C692-4532-B102-478B5CC917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CBF84-C0FD-4FB0-9214-DD800B754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0A7D8-789F-4278-B947-84E2EB9FBA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951BA-8151-49A9-A97C-72B443672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0871C-C1F7-4FFD-B2D2-39FC30A8D4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86676-28D6-468F-867F-9FB745EFA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0A1E6-0701-4C12-9718-5A1D10851F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B2BAD-FC26-47C1-9EDA-6523D6F0B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E9A99-21F5-44EC-A36A-1F86B0B6D8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6C090-931F-496A-A51A-2EF6396DF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55F29-1080-49E8-9E1D-11484CC4B9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76A53-5EC0-492B-A253-C5AF5780D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rno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2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3E6E2-D9AF-4E51-8630-BB2094B06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930AF-6967-4AA9-B331-2F42509F3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A50DA-1C7A-4BB7-AC39-DE3C58C29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CC27F-5CDC-4431-993C-2C63C22AF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1537C-F7B4-4DB2-817D-D7A094E3C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BE78E-3691-48A3-B999-82A239BFF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3C40D-CFA5-4A1D-A22B-EBE847FF4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9B25C-A28D-439B-8E27-50D441F8E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FA55B-1301-4D9E-8157-0D6CB731C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248B0-E238-41AA-9114-6EE55071F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AEDC1-3A47-4660-BFD9-69D27591F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FA1A3-706C-4798-B79C-AA3153FEB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5277E-32D5-4698-8514-2E1A9916E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10E2F-2999-4AFE-883D-89A8DB63D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0ACCB-7F30-4756-AD9C-B50C3B75C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87C07-5C4C-4C11-B706-6556E021E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50A18-DBC2-45C7-95FF-4D8564F3C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B86BD-6D17-46CE-B8B2-26D00DF06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A83B1-B0B4-4E5E-9327-2AFCD55CC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45661-B41A-4341-A3C7-EA558FF4B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A1EAA-EFDE-4068-8A07-93C384565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F34A0-94B7-49A3-BCED-EAA444076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FBCD5-EF0B-48B2-83F2-6944E88AE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AB679-091D-4A20-B00E-D4646ABEB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7A853-320D-4AFB-B06E-CBA8E4660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F4B4F-E211-455E-8EFB-8D66A8B2E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36F68-0CE9-405B-9BDE-2339FF9B5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BF407-1DCB-44E4-97E7-2160D4C1C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E62A6-D23E-4F73-B852-2A696ED88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23AE3-92B4-4F32-B036-1B8A9CB10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850DE-A577-4DE8-B4BE-F14554E9C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94BE0-F5AC-4FEC-BD39-9DE75B0A0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E5B66-F2E9-40AB-B799-4653809D9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8:36:51Z</dcterms:modified>
  <cp:revision>74</cp:revision>
  <dc:subject/>
  <dc:title>Titulní strana – Titulek</dc:title>
</cp:coreProperties>
</file>