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85FDA1-9A21-4053-B30B-762F52A212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C2E787-8BD6-4D30-9D02-F179782B6A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12CC1B-7063-427C-9F82-0DC75EB3BE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2B27-690E-4BDC-B0A3-560679E0E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02EC-819D-41B8-BB7C-D14319FE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C719D-DA47-4BEA-8570-4B3AE5D0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D512A-60AC-4ECD-ABB4-30BC4792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9562F-AD9D-4E72-A068-38FC4E1B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30097-5160-4965-8C77-3FFB564C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0B391-DCE2-41E4-86ED-1CED7E6C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A55E2-2C46-4E37-B8F6-8A55A937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A5340-81F3-49DD-8305-80EC0EEB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658E4-75AF-455F-9464-B0988E41A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98E902-FE13-494E-A433-493720E4C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7BF15-D87F-4A2A-A615-9279060D5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1044-E2C8-4BC1-A8A0-43F089740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E24A97-B247-400A-907C-A3BC87DF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AC1A46-BE83-4441-B5D5-E4816CC6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DCFC6-709B-4F50-B9D9-4A44E852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AAC74E-D366-463B-A1EA-E375DC08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8E748-FDE7-4B96-B975-7D0A4F82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5A190D-E1C5-4CA7-BBFF-8DE69ACD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234A06-4BC2-4E72-BB10-704D0A87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3A9F5B-C521-4158-B566-52382DA8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DEF32-2641-4BA0-BC38-E50373BA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D01B5-56AD-4EEE-A2EC-7B6D8B9C1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B447-BEDC-4EAD-B876-8D5DC9834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5B138-1167-493F-A29B-D05BE6190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318B4-9FDA-464D-AA84-CE33A7E0F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0A563-EE00-4280-B0B3-8B0BE4C1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35BB1-50AF-45C9-A923-6B03C0E9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7F8F0-D3A1-4548-87A3-249C5344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C792C-0A7D-402A-B874-D6BB4145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342E8-2C37-4FEF-A1F6-0DBAB887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FDF6F-DB03-4907-B88F-D6D08D89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C01FC-15F1-47BA-BC6F-987F3131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863DE-173F-4E91-AC6A-E4EEF61C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AC85-ACA3-4F59-8ACE-A2773EBA9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562D0-7DC7-49AD-A000-4E634B05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C151D-BA09-44E8-B67F-B9CA0A98F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1E42E-A148-4176-B5A8-F62480D8F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4843E7-8C42-4F31-B16F-B872279BA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9DE918-9F43-465D-A07C-73A5F91F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84154A-8C9B-442C-B0A2-F4804A76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AC8AA2-B9F1-49D6-B971-D74E9AAA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B135E7-B7B6-4EF2-9B7E-5213F8BF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C40501-43DD-494E-ACBC-F10A61BD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4BB62-A193-4D71-94C5-1281E469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6368-FD4D-4F2C-9855-633192A9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64FDC9-6BC1-41FA-8CF7-D82702FD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E6730E-4C77-45FA-A4C7-D6E84EE4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B40ED5-F476-4655-90A6-3FE46747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095E65-E775-4046-8892-6B26FD7E5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7601E2-C7A7-4334-BB48-52D02C87E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96DD-654A-4015-8BD3-04478056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1188-8CF9-4895-8F60-BE9CB241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3432-EA53-4681-9C2F-02065E05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0B95-F747-4732-A90E-AF37DA97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0FF1-5ED1-4380-8823-10E00CAA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E716-AD86-4C32-A9FE-B365763D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A92F-84CB-4FBF-9D6D-FB7F8854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332C-1284-4B17-B494-660B5F3F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0F10-D517-4C73-8A86-C68C7C40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E56F-3947-45CE-8A49-F04609A5B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794B-8605-4281-90CB-E45C6B83B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41F8B-D37F-48E0-99F2-41620AD23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AFA7D-79D2-497D-9C83-998CB997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DA825-5401-4E82-9A55-47926F9E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B6360-A536-4182-9E70-2CCE4E78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C00D0-B2D6-483A-BAE3-C70EDD11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36F5-1C04-477D-B453-E258D349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E02F6-650B-42C3-90A4-FC95003C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BCB06-4308-4BF3-B213-2D705B49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79292-E372-415E-8B42-2CC8C917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98753-AAE7-44C3-85CB-D347313E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FB052-6057-484C-A30C-80EA817E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72CF3-88BF-4BAA-9F2A-8B6C5B052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0ECEE-24CA-4AEB-8403-23152A3BA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09B4D-0E62-4C0C-8700-CA3EF2F93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8A3EA-2495-4935-9346-D8BC3809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2158B-1668-4528-B179-82E8A518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57F4-E504-497D-8B88-8648796B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22157-E4FF-490F-B3F7-AE75D3AC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0CD92-CE97-468B-8067-CAE2EE26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1977C-539E-4B85-B74A-973192D1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C9434-248A-4C2B-8A13-1F4EB16D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16B4C-1848-41D2-9409-F68A5DF3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7355B-5B84-428F-A583-3C041B63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B2CB5-2488-42AA-92F9-3BF0AEA5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1ED3C-6323-4561-B3FB-073DAECC6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77D30-4132-4625-899E-D3F93E5B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FAEF4-0C60-4428-8841-0E9AF97CB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39B3-20BD-47D4-A92C-4953808D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91211-A229-4EA1-A15B-B41B5BF7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00885-0FA7-408B-9E4D-7AED72D9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8573D-92A9-4B3D-9DFC-55DB7351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2CF5F-EC41-4413-A327-91F984E6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3B9F2-C8C9-4970-85FE-988BFD66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DC567-909C-460E-96B6-481DEEBB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B13FA-EA64-4711-A4DF-76AD4D37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92C7D-092A-4824-9F4D-C8FCB4BA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9C65D-552E-4A05-8517-D1018C8D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D9F80-6538-4AB5-997F-CC8D5BA12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FD5C-EDD6-433A-9FCA-819082FB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8B00F-CF91-4FA5-8781-45DC3489C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1AE91-0A35-4D93-AEFE-1FB9CD944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A7B08-86FA-442E-A4AC-D8D944BA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19BF0-8F40-42BF-B426-647BFB3D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137F2-ABFE-4856-80F9-6032B6D7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E8966-2A23-45E6-AA4D-A4B76824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E72E1-E290-4762-A8A6-A9338B7F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A580B-E997-468A-9529-A8191EAC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2B59E-46DD-4470-9B8B-F411BE57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4B840-8F92-4FCF-B2CC-16E1F299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F75D-F5F6-4955-9CE3-7DFBC732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B2466-DC8F-420E-9FE5-05600ED1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70FC2-A5E6-4370-B2B8-81FC0CA4A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AF8B7-26D0-4AFD-B9ED-554FAA8EA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FA4D9-DA0B-44E6-9008-84F706E04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BA01D-6F7B-48E7-960A-9F6C4ACA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87EC9-9D13-4FEA-B542-11FC4CA9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FC065-4D45-4055-8700-4916C343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CC606-7F44-4C3E-8191-F87B0600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E2156-A4B8-4F36-98D0-6A05FFAB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5428E-3493-45A2-B48F-FF677105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627B-436C-4C59-BC5D-CD37C0B0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61448-6DA5-4FE2-B313-4FDE7C77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A33A3-7C7F-4AA1-908B-7FD6A6B4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9F75F-D6CF-4121-8ED8-A6F2E28D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49DC9-EBDB-4415-AA03-E1620C3CC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0EC68-CE6B-411F-B8AB-46D3FABDC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FC8CF-4501-4198-A83A-E72A6CCD4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12739-0C41-418F-9070-EE3AF5A6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53E4A-86DF-4985-872C-704CB1F3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B8621-058D-44BD-BB9D-A42A4BFA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6D8CA-6D3C-4F53-A11B-B0C12BA4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35B9-C7C9-49F1-85B1-918B3333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029E9-6A03-4B24-9D5A-A8D9F40C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9CE3A-D8D4-41FE-9699-E8107CD0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90BDE-5439-491B-AC9E-82259149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1AA66-1194-403E-A946-BC13E9FF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E3559-9126-413B-A53B-371A0080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AEC47-D5AF-4454-BDC1-6E085D752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8B34D-0C8C-49AF-B456-238DE0FB2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2ED51-A081-47FC-87BB-D28496A77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3A543-DAAC-4339-BB87-0F1C9940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5A1FC-0F13-4C47-BCE2-39E130EE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00D9A6-FB48-4DDD-A951-1328F9349B1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F0D348-440A-4B81-8EB0-A73BCA5BA7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5124D69B-6902-4673-B119-A9A9A50F9B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57063D-9753-407F-A1FC-D330FF76E56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6F1A36-9676-43E4-BAA5-344CED4D79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42B747-9216-40A8-8900-DC95B4C87D5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A061CA-4486-4606-9BF0-66254220D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7B364B-374C-422F-85C1-439C3CBCB5E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6262EC-DF5E-4965-AB28-5B5FC8FE9B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1F7A7E-0BE0-446B-AA71-F7576409A3F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26C512-7C3D-4E38-8180-F32433E1DD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3C7459-3CA7-46C7-B797-1D5E1FA6F38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51D17D-284A-4B4B-A9A8-96F4995E10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CF442C-4E7D-486A-8E6D-687974A606B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724956-796F-4C84-AD02-AC9D0B5B4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1B0D13-DF44-4BF4-9E97-81A2E2A723F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99B99C-5BA2-4ADA-B449-0486E4C098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B477E7-2318-49F9-9FB1-FFBECA0AEBB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52859A-E578-4FFB-BBBC-8CD30B1D4B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5D9431-855C-453E-9D6B-0EAB6A3080A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B4EE2A-2E36-486D-BA3F-293C49C8C0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20F924-30D7-4EC3-998A-88A81CD321B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F0A2A2-BEF5-4293-8CC1-A135746726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822E8A-2522-4451-82E7-55DF3BC63AB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9E6794-FCF0-4FBC-AB2D-542EEA46B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400"/>
            </a:br>
            <a:r>
              <a:rPr b="1" lang="cs-CZ" sz="5400" spc="-1" strike="noStrike">
                <a:solidFill>
                  <a:srgbClr val="f3912c"/>
                </a:solidFill>
                <a:latin typeface="Helvetica CE"/>
              </a:rPr>
              <a:t>Rozpočet projektu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3912c"/>
                </a:solidFill>
                <a:latin typeface="Helvetica CE"/>
              </a:rPr>
              <a:t>Mgr. Tomáš Drážný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0B1AE2-72F4-4850-B6F3-22B03E4A57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F44B44-F44C-49C7-9905-DB67A98021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soby, které mají v rámci projektu uzavřen pracovně právní vztah (pracovnísmlouva, DPP, DPČ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hrubá mzda v místě realizace, oboru a čase obvykl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oporučená výše mezd/platů - Metodický dopis č. 4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http://www.msmt.cz/strukturalni-fondy/vyse-mezd-platu-v-projektech-op-vk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Finanční manažer  0,2 * 20.000 = 4.000 Kč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761A74-4929-46D6-ABB8-682384AB8A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9" descr=""/>
          <p:cNvPicPr/>
          <p:nvPr/>
        </p:nvPicPr>
        <p:blipFill>
          <a:blip r:embed="rId1"/>
          <a:stretch/>
        </p:blipFill>
        <p:spPr>
          <a:xfrm>
            <a:off x="814320" y="1833480"/>
            <a:ext cx="7232760" cy="3819600"/>
          </a:xfrm>
          <a:prstGeom prst="rect">
            <a:avLst/>
          </a:prstGeom>
          <a:ln w="0">
            <a:noFill/>
          </a:ln>
        </p:spPr>
      </p:pic>
      <p:sp>
        <p:nvSpPr>
          <p:cNvPr id="610" name="Šipka doleva 6"/>
          <p:cNvSpPr/>
          <p:nvPr/>
        </p:nvSpPr>
        <p:spPr>
          <a:xfrm>
            <a:off x="5753160" y="429732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Šipka doprava 7"/>
          <p:cNvSpPr/>
          <p:nvPr/>
        </p:nvSpPr>
        <p:spPr>
          <a:xfrm rot="16200000">
            <a:off x="2961360" y="4736160"/>
            <a:ext cx="752400" cy="2206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329840" y="1260360"/>
            <a:ext cx="6458040" cy="4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9BEBB5-C340-4E13-8824-437E728D80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9" descr=""/>
          <p:cNvPicPr/>
          <p:nvPr/>
        </p:nvPicPr>
        <p:blipFill>
          <a:blip r:embed="rId1"/>
          <a:stretch/>
        </p:blipFill>
        <p:spPr>
          <a:xfrm>
            <a:off x="1206360" y="1557360"/>
            <a:ext cx="6581880" cy="2444760"/>
          </a:xfrm>
          <a:prstGeom prst="rect">
            <a:avLst/>
          </a:prstGeom>
          <a:ln w="0">
            <a:noFill/>
          </a:ln>
        </p:spPr>
      </p:pic>
      <p:pic>
        <p:nvPicPr>
          <p:cNvPr id="616" name="Obrázek 7" descr="komentar.JPG"/>
          <p:cNvPicPr/>
          <p:nvPr/>
        </p:nvPicPr>
        <p:blipFill>
          <a:blip r:embed="rId2"/>
          <a:stretch/>
        </p:blipFill>
        <p:spPr>
          <a:xfrm>
            <a:off x="1501920" y="4002120"/>
            <a:ext cx="5956200" cy="1111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17" name="Obdélník 10"/>
          <p:cNvSpPr/>
          <p:nvPr/>
        </p:nvSpPr>
        <p:spPr>
          <a:xfrm flipV="1" rot="10800000">
            <a:off x="1645920" y="4196160"/>
            <a:ext cx="560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odinová sazba lektora je lehce nadprůměrná, jedná se o výjimečného odborníka. Jeho zapojení do projektu je klíčové. Viz blíže příloha č. 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Šipka doleva 11"/>
          <p:cNvSpPr/>
          <p:nvPr/>
        </p:nvSpPr>
        <p:spPr>
          <a:xfrm>
            <a:off x="5634000" y="304812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Šipka doleva 12"/>
          <p:cNvSpPr/>
          <p:nvPr/>
        </p:nvSpPr>
        <p:spPr>
          <a:xfrm rot="8874600">
            <a:off x="1499400" y="3244680"/>
            <a:ext cx="800280" cy="222480"/>
          </a:xfrm>
          <a:prstGeom prst="leftArrow">
            <a:avLst>
              <a:gd name="adj1" fmla="val 50000"/>
              <a:gd name="adj2" fmla="val 49959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bdélník 13"/>
          <p:cNvSpPr/>
          <p:nvPr/>
        </p:nvSpPr>
        <p:spPr>
          <a:xfrm>
            <a:off x="1340640" y="5113440"/>
            <a:ext cx="399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f79646"/>
                </a:solidFill>
                <a:latin typeface="Helvetica CE"/>
                <a:ea typeface="Helvetica CE"/>
              </a:rPr>
              <a:t>Využívejte komentář k rozpoč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Obrázek 10" descr="Benefit-logo.JPG"/>
          <p:cNvPicPr/>
          <p:nvPr/>
        </p:nvPicPr>
        <p:blipFill>
          <a:blip r:embed="rId3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79D1C6-990A-48CE-A477-A97BD1527C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hlavní manaže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finanční manaže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lekto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metodik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5" name="Podnadpis 1"/>
          <p:cNvSpPr/>
          <p:nvPr/>
        </p:nvSpPr>
        <p:spPr>
          <a:xfrm>
            <a:off x="4635360" y="2171880"/>
            <a:ext cx="33148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účetní organ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mzdová účet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persona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ostraha, úk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br>
              <a:rPr sz="3200"/>
            </a:b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Zahraniční pracovní cesty realizačního týmu:</a:t>
            </a:r>
            <a:br>
              <a:rPr sz="20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jen v řádně odůvodněných případech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římá vazba na klíčové aktivity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specifikace KDO, KAM a PROČ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4CDD3B-8B98-4D0C-9952-5D868BDF2B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4" descr=""/>
          <p:cNvPicPr/>
          <p:nvPr/>
        </p:nvPicPr>
        <p:blipFill>
          <a:blip r:embed="rId1"/>
          <a:stretch/>
        </p:blipFill>
        <p:spPr>
          <a:xfrm>
            <a:off x="1189080" y="2762280"/>
            <a:ext cx="6153120" cy="2689200"/>
          </a:xfrm>
          <a:prstGeom prst="rect">
            <a:avLst/>
          </a:prstGeom>
          <a:ln w="0">
            <a:noFill/>
          </a:ln>
        </p:spPr>
      </p:pic>
      <p:sp>
        <p:nvSpPr>
          <p:cNvPr id="629" name="Šipka doleva 8"/>
          <p:cNvSpPr/>
          <p:nvPr/>
        </p:nvSpPr>
        <p:spPr>
          <a:xfrm rot="19872600">
            <a:off x="6153120" y="468612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C9881D-55EC-4BAA-A898-1FEFA9D89D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estovné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ízdenky, letenky, výdaje za použití  vozidl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 za dopravu zahraničního experta do ČR a zpě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Ubyto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ravné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Ostat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utné vedlejší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ahraniční expert v ČR, per diems 230 €/den (ubytování,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travné a cestovné v ČR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62DE26-3B64-471B-A1B4-C38EF4C1AD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8" descr=""/>
          <p:cNvPicPr/>
          <p:nvPr/>
        </p:nvPicPr>
        <p:blipFill>
          <a:blip r:embed="rId1"/>
          <a:stretch/>
        </p:blipFill>
        <p:spPr>
          <a:xfrm>
            <a:off x="665280" y="2600280"/>
            <a:ext cx="8478720" cy="2081160"/>
          </a:xfrm>
          <a:prstGeom prst="rect">
            <a:avLst/>
          </a:prstGeom>
          <a:ln w="0">
            <a:noFill/>
          </a:ln>
        </p:spPr>
      </p:pic>
      <p:pic>
        <p:nvPicPr>
          <p:cNvPr id="637" name="Obrázek 1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51760" y="5948280"/>
            <a:ext cx="1754280" cy="408240"/>
          </a:xfrm>
          <a:prstGeom prst="rect">
            <a:avLst/>
          </a:prstGeom>
          <a:ln w="0">
            <a:noFill/>
          </a:ln>
        </p:spPr>
      </p:pic>
      <p:sp>
        <p:nvSpPr>
          <p:cNvPr id="638" name="Šipka doleva 7"/>
          <p:cNvSpPr/>
          <p:nvPr/>
        </p:nvSpPr>
        <p:spPr>
          <a:xfrm rot="10800000">
            <a:off x="130320" y="302400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Šipka doleva 8"/>
          <p:cNvSpPr/>
          <p:nvPr/>
        </p:nvSpPr>
        <p:spPr>
          <a:xfrm rot="10800000">
            <a:off x="130320" y="324612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Šipka doleva 9"/>
          <p:cNvSpPr/>
          <p:nvPr/>
        </p:nvSpPr>
        <p:spPr>
          <a:xfrm rot="10800000">
            <a:off x="130320" y="3643200"/>
            <a:ext cx="799920" cy="222480"/>
          </a:xfrm>
          <a:prstGeom prst="leftArrow">
            <a:avLst>
              <a:gd name="adj1" fmla="val 50000"/>
              <a:gd name="adj2" fmla="val 4993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Šipka doleva 10"/>
          <p:cNvSpPr/>
          <p:nvPr/>
        </p:nvSpPr>
        <p:spPr>
          <a:xfrm rot="10800000">
            <a:off x="130320" y="398124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Šipka doleva 11"/>
          <p:cNvSpPr/>
          <p:nvPr/>
        </p:nvSpPr>
        <p:spPr>
          <a:xfrm rot="10800000">
            <a:off x="130320" y="434628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6C2543-5215-49FF-96F2-69139AC724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794880" y="2171520"/>
            <a:ext cx="342108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zahraniční cestov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ubytování a strav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v zahraničí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cesta a per diems 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zahranič. experta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6" name="Podnadpis 1"/>
          <p:cNvSpPr/>
          <p:nvPr/>
        </p:nvSpPr>
        <p:spPr>
          <a:xfrm>
            <a:off x="4389480" y="2171880"/>
            <a:ext cx="463536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tuzemské cesto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realizačního týmu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ubytování a stra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realizačního týmu v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480A31-66B5-43FB-9471-047115B6CE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hmotný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majetek do 60 tis.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softwaru, licence, studijního program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louhodobý nehmotný majetek nad 60 tis. Kč 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robný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hmotný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majetek do 40 tis. Kč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výukového a spotřebního materiálu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A68C75-2513-4FBF-812F-234DE02DD6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užitý drobný hmotný majete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ájem zařízení, operativní leasing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aňové odpis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Výdaje na opravy a údržbu -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en majetek pořízený ze způsobilých výdajů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583C38-5791-434C-97C0-728557D7A8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Finanční podpora na jeden IPO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inimální výše: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5.000.000,-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aximální výše: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30.000.000,- Kč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 návaznosti na typ podporovaných aktivi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CD9FAD-6E21-4654-A74C-7106230B75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KŘÍŽOVÉ FINANCOVÁNÍ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limit 9 %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ouze příjemce, který daňově neodepisuje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Investiční část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hmotný majetek nad 40 tis. Kč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Neinvestiční část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bytek do 40 tis. Kč - židle, stoly, lavice pro cílovou skupin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bytek a vybavení pro realizační tým - max. 15 tis. Kč na 1 přepočtený úvazek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0E0076-DA21-469E-98C6-1CE18AB42C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1330200" y="2171520"/>
            <a:ext cx="35402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otebooky pro cílovou skupin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odborná literatura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9" name="Podnadpis 1"/>
          <p:cNvSpPr/>
          <p:nvPr/>
        </p:nvSpPr>
        <p:spPr>
          <a:xfrm>
            <a:off x="4870440" y="2171880"/>
            <a:ext cx="3816360" cy="39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papíry a psací potře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kancelářské potřeby pro administrac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91D4F5-8349-40F2-89A9-2C5B1EA615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ublikace/školící materiály/manuály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tisk skript, tvorba publikací, učebnic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Odborné služby/studie a výzkum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eklady textů, zpracování analýz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Výdaje na konference/kurz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ýdaje na zajištění konferencí a kurzů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ořádaných v rámci projektu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(pronájem prostor, techniky)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95D410-913D-4A3A-96D2-C4515FA680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dpora účastníků (stravné/ubytování)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limit pro stravné 300 Kč/os/den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limit pro ubytování 1 500 Kč/os/noc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Jiné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78C4BF-A2A9-4989-81D1-0F3F01B3F2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329840" y="2171520"/>
            <a:ext cx="333396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tvorba e‑learningového portál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onájem prostor pro seminář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9" name="Podnadpis 1"/>
          <p:cNvSpPr/>
          <p:nvPr/>
        </p:nvSpPr>
        <p:spPr>
          <a:xfrm>
            <a:off x="5002200" y="2171880"/>
            <a:ext cx="381636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áklady na daňové a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ávní poraden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áklady na realizaci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výběrových řízení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ezbytných pro projekt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(inzerce, poradenst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6 - Stavební úprav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87FCE0-7166-4EE8-BD2A-577D28D63F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robné stavební úpravy - do 4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 v rámci křížového financová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 – odpis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úprava pracovních míst nebo úprava přístupu pro osoby se zdravotním postižením, a úprava výukových, tréninkových nebo pracovních prostor, používaných na realizaci aktivit s 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ílovou skupino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7 - Přímá podpora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0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2D53A6-EDCA-4E9E-9D94-DA27932FCC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Mzdové příspěvky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oskytovány zaměstnavateli jako náhrada mzdy pracovníka účastnícího se dalšího vzdělávání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Cestovné, ubytování a stravné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lacené přímo zástupcům cílové skupiny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Doprovodné aktivity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asistentské služby žákům se speciálními potřebami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330200" y="1260000"/>
            <a:ext cx="68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8 - Náklady vyplývající přímo z Rozhodnut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6FFA6A-7DCA-4DBA-A6B5-5DA12CE15E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329840" y="218556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Audit projektu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chválená finanční podpora projektu ≥ 3 mil. Kč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rcRect l="648" t="5400" r="1297" b="5400"/>
          <a:stretch/>
        </p:blipFill>
        <p:spPr>
          <a:xfrm>
            <a:off x="1487520" y="3040200"/>
            <a:ext cx="6715080" cy="73332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80" name="Šipka doleva 6"/>
          <p:cNvSpPr/>
          <p:nvPr/>
        </p:nvSpPr>
        <p:spPr>
          <a:xfrm rot="10800000">
            <a:off x="5370120" y="355104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odnadpis 1"/>
          <p:cNvSpPr/>
          <p:nvPr/>
        </p:nvSpPr>
        <p:spPr>
          <a:xfrm>
            <a:off x="1330200" y="3916440"/>
            <a:ext cx="3333960" cy="31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  <a:ea typeface="Helvetica CE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odnadpis 1"/>
          <p:cNvSpPr/>
          <p:nvPr/>
        </p:nvSpPr>
        <p:spPr>
          <a:xfrm>
            <a:off x="4870440" y="4000680"/>
            <a:ext cx="381636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bankovní poplat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ublicita projektu včetně úvodní a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závěrečné k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Obrázek 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203960" y="600696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8E409D-F8BA-43DA-9DA2-FE9110CF07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díl nepřímých nákladů se stanoví jako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cento dané výzvou z přímých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působilých výdajů celkem bez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řížového financování položka rozpočtu 9.1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přímé náklady není třeba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kazovat účetními doklad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71360" y="1130400"/>
            <a:ext cx="788652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1071720" y="2341440"/>
          <a:ext cx="7535880" cy="2748240"/>
        </p:xfrm>
        <a:graphic>
          <a:graphicData uri="http://schemas.openxmlformats.org/drawingml/2006/table">
            <a:tbl>
              <a:tblPr/>
              <a:tblGrid>
                <a:gridCol w="4944960"/>
                <a:gridCol w="2590920"/>
              </a:tblGrid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Objem přímých nákladů (bez nákladů spadajících do křížového financování) – položka 9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% nepřímých nákladů </a:t>
                      </a: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≤ 6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6 mil. Kč ≤ 10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10 mil. Kč ≤ 15 mil. Kč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15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A81786-758F-482F-B9C5-AF7075DBE1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křížové financování do maximální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ýše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9%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celkových způsobilých výdajů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rámci výzvy budou uplatněna pravidla pro nepřímé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 - pří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61EA73-C03C-4893-956D-0F294E415A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isk a kopírování, nájem kanceláře a nákup kancelářského materiálu pro administraci projekt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edení účetnictví, personalistika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vody, paliv a energi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elefonní poplatky, poštovné, balné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ráva počítačových sítí a internetových stránek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řízení zásob či materiálu pro občerstvení, …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Obrázek 14" descr="celkove.JPG"/>
          <p:cNvPicPr/>
          <p:nvPr/>
        </p:nvPicPr>
        <p:blipFill>
          <a:blip r:embed="rId1"/>
          <a:srcRect l="575" t="0" r="0" b="69877"/>
          <a:stretch/>
        </p:blipFill>
        <p:spPr>
          <a:xfrm>
            <a:off x="1353960" y="2403360"/>
            <a:ext cx="6107400" cy="866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071360" y="1072800"/>
            <a:ext cx="7886520" cy="10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694" name="Obrázek 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203960" y="6006960"/>
            <a:ext cx="1754280" cy="408240"/>
          </a:xfrm>
          <a:prstGeom prst="rect">
            <a:avLst/>
          </a:prstGeom>
          <a:ln w="0">
            <a:noFill/>
          </a:ln>
        </p:spPr>
      </p:pic>
      <p:pic>
        <p:nvPicPr>
          <p:cNvPr id="695" name="Obrázek 15" descr="nn_benefit.JPG"/>
          <p:cNvPicPr/>
          <p:nvPr/>
        </p:nvPicPr>
        <p:blipFill>
          <a:blip r:embed="rId3"/>
          <a:stretch/>
        </p:blipFill>
        <p:spPr>
          <a:xfrm>
            <a:off x="1871640" y="3814920"/>
            <a:ext cx="4767120" cy="1590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96" name="TextovéPole 19"/>
          <p:cNvSpPr/>
          <p:nvPr/>
        </p:nvSpPr>
        <p:spPr>
          <a:xfrm>
            <a:off x="3794040" y="4187880"/>
            <a:ext cx="128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4 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ovéPole 20"/>
          <p:cNvSpPr/>
          <p:nvPr/>
        </p:nvSpPr>
        <p:spPr>
          <a:xfrm>
            <a:off x="4535640" y="4187880"/>
            <a:ext cx="142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977 566,8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Šipka doprava 16"/>
          <p:cNvSpPr/>
          <p:nvPr/>
        </p:nvSpPr>
        <p:spPr>
          <a:xfrm>
            <a:off x="4775040" y="2560680"/>
            <a:ext cx="978120" cy="22212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Šipka doprava 17"/>
          <p:cNvSpPr/>
          <p:nvPr/>
        </p:nvSpPr>
        <p:spPr>
          <a:xfrm>
            <a:off x="2327400" y="5183280"/>
            <a:ext cx="977760" cy="22212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ovéPole 24"/>
          <p:cNvSpPr/>
          <p:nvPr/>
        </p:nvSpPr>
        <p:spPr>
          <a:xfrm>
            <a:off x="5513400" y="4800600"/>
            <a:ext cx="128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4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aň z přidané hodnot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F001C0-6EAB-4C3D-8B37-3081E434B8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79646"/>
                </a:solidFill>
                <a:latin typeface="Helvetica CE"/>
              </a:rPr>
              <a:t>Plátce DPH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PH je způsobilým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m, pokud je příjemce osvobozen od daně ve vazbě k aktivitám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PH není způsobilým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m, pokud má příjemce nárok na odpočet na vstupu i ve vazbě k aktivitám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79646"/>
                </a:solidFill>
                <a:latin typeface="Helvetica CE"/>
              </a:rPr>
              <a:t>Neplátce DPH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 osoby neregistrované k DPH je daň z přidané hodnoty způsobilým výdajem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způsobilé výdaj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076EFE-9CE8-4185-8FDA-43D0140641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Výdaje, které nejsou vynaloženy v souladu s cíli projektu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Výdaje, které nelze hradit z veřejných prostředků OPVK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Příklady nezpůsobilých výdajů: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kurzové ztráty, stipendia, splátky finančního leasingu, vedení běžného provozního účtu, peněžitá pomoc v mateřství, mzdy zaměstnanců nepodílejících se na realizaci projektu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řehled financová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C9BEEE-497D-473B-B5BF-EBD0782BD4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Obrázek 4" descr="prehled financovani.JPG"/>
          <p:cNvPicPr/>
          <p:nvPr/>
        </p:nvPicPr>
        <p:blipFill>
          <a:blip r:embed="rId1"/>
          <a:stretch/>
        </p:blipFill>
        <p:spPr>
          <a:xfrm>
            <a:off x="1330200" y="1797120"/>
            <a:ext cx="5222880" cy="3722760"/>
          </a:xfrm>
          <a:prstGeom prst="rect">
            <a:avLst/>
          </a:prstGeom>
          <a:ln w="0">
            <a:noFill/>
          </a:ln>
        </p:spPr>
      </p:pic>
      <p:sp>
        <p:nvSpPr>
          <p:cNvPr id="710" name="Šipka doprava 6"/>
          <p:cNvSpPr/>
          <p:nvPr/>
        </p:nvSpPr>
        <p:spPr>
          <a:xfrm rot="10800000">
            <a:off x="5792760" y="2898720"/>
            <a:ext cx="977760" cy="22248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Obrázek 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7228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věrem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753BFF-4E97-413E-BC7B-1FA1A026BB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i tvorbě rozpočtu vycházejte z pokynů v platné Příručce pro žadatele, verze č. 6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ěnujte pozornost aktuálním informacímk výzvám na  </a:t>
            </a:r>
            <a:r>
              <a:rPr b="0" lang="cs-CZ" sz="1600" spc="-1" strike="noStrike" u="sng">
                <a:solidFill>
                  <a:srgbClr val="558ed5"/>
                </a:solidFill>
                <a:uFillTx/>
                <a:latin typeface="Helvetica CE"/>
              </a:rPr>
              <a:t>http://www.msmt.cz/strukturalni-fondy/pro-zadatele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ěnujte rozpočtu dostatek čas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snažte se být konkrétní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yužívejte komentář k rozpočtu či samostatné příloh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 případě nejasností Vám rádi poradíme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79CA18-DBE6-46D0-A16C-B1A299D5FB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bdélník 5"/>
          <p:cNvSpPr/>
          <p:nvPr/>
        </p:nvSpPr>
        <p:spPr>
          <a:xfrm>
            <a:off x="1116000" y="2136600"/>
            <a:ext cx="70311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Arial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gr. Tomáš Dráž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nanční manažer - Odbor CERA OP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1800" spc="-1" strike="noStrike" u="sng">
                <a:solidFill>
                  <a:srgbClr val="558ed5"/>
                </a:solidFill>
                <a:uFillTx/>
                <a:latin typeface="Helvetica CE"/>
                <a:ea typeface="Helvetica CE"/>
              </a:rPr>
              <a:t>tomas.drazny@msmt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F9F5CD-1CC7-42FB-956F-296103C80E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Zástupný symbol pro obsah 5" descr="benefit.JPG"/>
          <p:cNvPicPr/>
          <p:nvPr/>
        </p:nvPicPr>
        <p:blipFill>
          <a:blip r:embed="rId1"/>
          <a:srcRect l="0" t="0" r="21781" b="49555"/>
          <a:stretch/>
        </p:blipFill>
        <p:spPr>
          <a:xfrm>
            <a:off x="1330200" y="2052720"/>
            <a:ext cx="3156120" cy="3105000"/>
          </a:xfrm>
          <a:prstGeom prst="rect">
            <a:avLst/>
          </a:prstGeom>
          <a:ln w="9360">
            <a:solidFill>
              <a:srgbClr val="f79646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74" name="Obrázek 6" descr="benefit.JPG"/>
          <p:cNvPicPr/>
          <p:nvPr/>
        </p:nvPicPr>
        <p:blipFill>
          <a:blip r:embed="rId2"/>
          <a:srcRect l="0" t="50395" r="23062" b="0"/>
          <a:stretch/>
        </p:blipFill>
        <p:spPr>
          <a:xfrm>
            <a:off x="4270320" y="2451240"/>
            <a:ext cx="3143160" cy="3090600"/>
          </a:xfrm>
          <a:prstGeom prst="rect">
            <a:avLst/>
          </a:prstGeom>
          <a:ln w="9360">
            <a:solidFill>
              <a:srgbClr val="e46c0a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75" name="Šipka doleva 7"/>
          <p:cNvSpPr/>
          <p:nvPr/>
        </p:nvSpPr>
        <p:spPr>
          <a:xfrm rot="10800000">
            <a:off x="604440" y="489420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Šipka doleva 8"/>
          <p:cNvSpPr/>
          <p:nvPr/>
        </p:nvSpPr>
        <p:spPr>
          <a:xfrm rot="10800000">
            <a:off x="3906720" y="283536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Šipka doleva 9"/>
          <p:cNvSpPr/>
          <p:nvPr/>
        </p:nvSpPr>
        <p:spPr>
          <a:xfrm rot="10800000">
            <a:off x="3906720" y="336240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Šipka doleva 10"/>
          <p:cNvSpPr/>
          <p:nvPr/>
        </p:nvSpPr>
        <p:spPr>
          <a:xfrm rot="10800000">
            <a:off x="3906720" y="309888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Obrázek 10" descr="Benefit-logo.JPG"/>
          <p:cNvPicPr/>
          <p:nvPr/>
        </p:nvPicPr>
        <p:blipFill>
          <a:blip r:embed="rId3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líčové aktivity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rovázanost jednotlivých položek rozpočtu s aktivitami projektu</a:t>
            </a: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BFE17F-5CBC-422B-9B96-02CD5B8A70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7" descr=""/>
          <p:cNvPicPr/>
          <p:nvPr/>
        </p:nvPicPr>
        <p:blipFill>
          <a:blip r:embed="rId1"/>
          <a:stretch/>
        </p:blipFill>
        <p:spPr>
          <a:xfrm>
            <a:off x="957240" y="2171880"/>
            <a:ext cx="6311880" cy="3314520"/>
          </a:xfrm>
          <a:prstGeom prst="rect">
            <a:avLst/>
          </a:prstGeom>
          <a:ln w="0">
            <a:noFill/>
          </a:ln>
        </p:spPr>
      </p:pic>
      <p:sp>
        <p:nvSpPr>
          <p:cNvPr id="583" name="Obdélník 9"/>
          <p:cNvSpPr/>
          <p:nvPr/>
        </p:nvSpPr>
        <p:spPr>
          <a:xfrm>
            <a:off x="6399360" y="4070520"/>
            <a:ext cx="2400120" cy="113652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aké typy výdajů se k  aktivitě vztahují, popis výdajů pro danou aktiv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Šipka doleva 10"/>
          <p:cNvSpPr/>
          <p:nvPr/>
        </p:nvSpPr>
        <p:spPr>
          <a:xfrm>
            <a:off x="5673600" y="478152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ealizační tým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• manažerské a administrativní pozice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• odborné pozice 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214613-5D8F-48C4-B6DD-1887BC83AC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1330200" y="2171880"/>
            <a:ext cx="6689880" cy="3314520"/>
          </a:xfrm>
          <a:prstGeom prst="rect">
            <a:avLst/>
          </a:prstGeom>
          <a:ln w="0">
            <a:noFill/>
          </a:ln>
        </p:spPr>
      </p:pic>
      <p:sp>
        <p:nvSpPr>
          <p:cNvPr id="589" name="Obdélník 7"/>
          <p:cNvSpPr/>
          <p:nvPr/>
        </p:nvSpPr>
        <p:spPr>
          <a:xfrm>
            <a:off x="5324400" y="3909960"/>
            <a:ext cx="2178000" cy="62244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záznam pro částečný úvazek  na 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Šipka doleva 8"/>
          <p:cNvSpPr/>
          <p:nvPr/>
        </p:nvSpPr>
        <p:spPr>
          <a:xfrm>
            <a:off x="4576680" y="426888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29840" y="1116000"/>
            <a:ext cx="645804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ealizační tým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informace ze záložky Realizační tým se automaticky nepřenášejí do záložky 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BEB167-57B4-49FA-9940-1DE6358C08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1330200" y="2251080"/>
            <a:ext cx="6296040" cy="3094200"/>
          </a:xfrm>
          <a:prstGeom prst="rect">
            <a:avLst/>
          </a:prstGeom>
          <a:ln w="0">
            <a:noFill/>
          </a:ln>
        </p:spPr>
      </p:pic>
      <p:sp>
        <p:nvSpPr>
          <p:cNvPr id="595" name="Šipka doleva 7"/>
          <p:cNvSpPr/>
          <p:nvPr/>
        </p:nvSpPr>
        <p:spPr>
          <a:xfrm rot="20914200">
            <a:off x="4230360" y="387684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bdélník 8"/>
          <p:cNvSpPr/>
          <p:nvPr/>
        </p:nvSpPr>
        <p:spPr>
          <a:xfrm>
            <a:off x="4973760" y="3700440"/>
            <a:ext cx="1371600" cy="50976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áznam DPČ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hod.*saz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kladní pravidl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7675B9-C85D-4C31-A70A-DD01C78168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603000" y="2171520"/>
            <a:ext cx="795492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přiměře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ceny v místě, oboru a čase obvykl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hospodár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minimalizace výdajů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účel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přímá vazba na projek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efektivnost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– maximalizace poměru mezi výstupy  a vstupy projekt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apitoly rozpočtu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B2E5A2-C438-4EF3-ACE6-726B44E891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1329840" y="2171520"/>
            <a:ext cx="6458040" cy="34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3 - Zařízení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25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5 - Nákup služeb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49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6 - Stavební úprav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7 - Přímá podpora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20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8 - Náklady vyplývající přímo z rozhodnut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9 - Přímé způsobilé výdaje celke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10 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přímé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0-12-22T14:02:39Z</dcterms:modified>
  <cp:revision>45</cp:revision>
  <dc:subject/>
  <dc:title>Titulní strana – Titulek</dc:title>
</cp:coreProperties>
</file>