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02D84-81A5-49D1-89EF-4FA407740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nanční manažer  0,2 * 20.000 = 4.000 Kč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D49E9-F683-479D-818A-8C9F7084E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 C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C0D00-ACC0-42D1-947F-09750245B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A5337-FC27-4EE5-8FAE-EAA3601CF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8BF3D-3A8D-459F-829C-1F2F69A2D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B17-497C-436C-98C1-B469E5D1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54B-000C-4A2C-888D-E6D22E7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7BDB3-414C-40E7-A122-1594791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968A8-95F4-4717-BFDF-FC643F6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5BF5B-7058-4768-8652-219A653C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E6EE3-A769-42DD-B78B-90AED84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B6477-195F-4528-9A1A-2B6C1CC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35CED-F879-403A-9285-F6512CCD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BB475-40D4-428D-9CEC-9347090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E93D3-0E69-4CED-99E7-CE527AEB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2611-CD37-4C83-94D7-42AA9C1F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467C7-4219-4041-B271-C5E96E3A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CF9-1CE5-4889-BA4F-E9C419D4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70543-7DDD-4C22-97F7-86B752FC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EB0F-9423-4D76-91B3-13C5D0BF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5619D-FC55-415A-86AE-08E239D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D2856-9EC5-4512-8DC8-82904C0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F4B1A-F0C8-4170-9075-13529A5B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62898-4EAD-4CA3-B20D-17E4A69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0B81-8660-482B-ABB3-9004592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D9972-96CB-4884-A1E0-150320D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93278-18FC-4866-AADF-E5815AC1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BE403-94C4-4DAD-9F22-321AEB3C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F2E-B032-4CAA-BA66-53B93BD1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CFB64-F22D-44E3-98D0-4EBA0B2F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D6814-D9BE-4298-A7E0-0F0EF780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7B321-EC48-4477-8F0A-5BA693B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0FE34-A163-4C43-BA58-A643398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7095B-603B-4752-8870-8FBA76F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071F4-93E6-4514-A561-EFE83DB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7779F-5744-4932-86FA-E7C9AFAB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A595D-605D-44DF-8A27-F965945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79255-0572-454B-BC4E-9CB3642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4158-ABAB-47A7-B313-5A61302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3F5B-80BE-4B86-835B-9FDAE330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82DA9-4162-4B2E-93A7-43B84F8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C6A66-F350-47C6-84D9-CF3B34B7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8A31C-A256-43BB-B93A-8AA50B4D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000E9-44F3-4DC3-935F-D18F63AC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AEE96-496B-401C-9121-CDAEE48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C824-2693-400C-A892-7DC0112A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68DEB-4E88-4CEA-8BA9-4210B18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F1E7A-782A-493A-BA64-5AA6E176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13DD9-DF34-44CF-848E-170B2EFB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6D256-9B09-4570-916B-A34320B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8A5-7841-4E87-BD61-2ECB6513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567CA-F860-4828-AB33-33D73EE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3493-7687-4CFE-AF0C-2ED29541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8FDE2-4007-4DFE-BE2F-7B7B0711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86892-C848-40D8-BC5B-4BA0D4A2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C4CB-9FE4-4811-8C1E-A4D339F8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5D1D-10A8-4886-8245-2732016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46AA-11CE-4605-BADF-7C1F3C9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52B7-4258-4C04-A400-3F1E9BCE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9D71-FB02-4F76-A4E9-38E701B9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074-2EF3-45B1-B52D-780F201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5D3-EFC3-4CC0-BECB-28EFF0E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5CF3-2B75-4E5C-BBC9-F58EBC48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691-754D-45A3-9621-8CB5345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DB45-E958-4909-991B-5CBC285C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0F1-E2B5-4D9E-8264-E200FFC3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1F42-C434-4EB5-9619-79C6CE34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271E-A8B8-42E1-AE45-70AB31B2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1882-8C69-48FB-9DA8-FB44364B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D30D-8DE8-4563-982D-83E23D9C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30CB-2510-4DF7-8F5D-C8531EA2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44C3-4F1F-4D49-B012-C0A1E89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751-7027-4AF2-9936-59638B87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777F-3960-40CC-9781-C1F858C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BD27-F6FF-4ED4-8484-617C381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D297-87F0-4867-A925-349CD4B9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D2A0-7542-4CC5-9D77-3240689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7B6D-FE9E-44BC-8505-DFB15D3C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15AB-8C58-48C9-A7FB-1ED5BC1E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BA57-2D49-4ACF-AF7F-15CC9630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7E1B-3231-4D07-8572-86619377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8927-479A-4E50-A400-1D37F0F1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A11E-EA5F-4C5B-A4AA-290AC16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A7E-20D9-4814-A23F-FA589967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644C-9D41-4986-A395-66EFCA7A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E241-2F8C-481F-A854-B70CA5C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6565-6916-47B9-9670-0260F0E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3904-3795-43AB-A93F-9033CBC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37DD-DF7D-43C5-A052-13EA5ED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079C-4B84-4662-AC3B-D4F0FBC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A630-1EF3-41FC-B8FB-CB256ABD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605F-0A48-40A3-A8C8-82DA9430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96C4-C3D0-4280-A2A1-E0464C8F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97E5-87E3-4DD5-B8CD-9B02568D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219-055B-4450-A760-956EA63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9988-D270-4D36-B3C6-2F70C03A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7EE5-67EB-4687-BCB7-A173C00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CB54-AE9F-4D3F-AC87-40CCFA0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4211-FFCD-420C-8C7C-993A93BA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E0FA-1E4F-45DF-B4D5-B72290D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A6FAE-E1CF-4214-A823-F6AF4728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B7F3-373F-47E9-9653-DC3F675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7608-39C3-44DD-AAFA-B46D92E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FC2D-D222-43B5-A712-F84D58B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1BEE-1C25-4588-957E-8195F02A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40A-01ED-422E-B3B9-7032862B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787D-BA4D-4AD6-AE4B-D8213C28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E9AB-7D8F-4119-A2CD-2B4AE9AD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2CDD-57CE-47C4-A375-40FFCA65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FD7FD-1EE4-477D-AD66-0B5B19E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457EB-36FA-4443-B7DA-8589E92F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945E3-23F1-4649-8DF5-9269E65D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ACA3-F464-4A75-AC0C-6DDFCFC1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7234-6308-4F01-AF50-C8D9C107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C77E-DBD3-4744-A9B6-A3DBEF8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C4113-1D13-41FE-9B00-7CEC256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1F0-F56B-4B38-98C7-A066787A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FB1C-48A5-4147-9057-16D86CB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CCE85-9EB2-48C4-BB72-393996D8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0B79-2931-42AF-AE9D-4B2E733D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3BAD-D08C-4429-82D2-7F03BAC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C415-6C59-4BD2-9E5F-8AE2E8A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0CFA-BD5F-4991-B273-92C839A1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B067-B3E4-449B-A3C9-51DF796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E8B2E-B792-4311-98E0-F5FBC71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92255-3C42-45B6-9CCC-4C30F30B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7461-E902-46F3-831E-D293E2C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E4A-6709-41DB-8970-FD2CCCB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AFB6-4FDE-44DE-A1B4-12EAD9E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76AE-10D4-4BCA-AF8F-1CFF25D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AEB4F-BF95-420A-B256-EBE6A8E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861DB-48F2-4D24-AB45-B981E810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B2BDE-6EEA-40F8-A6A1-6589FE41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C9885-7A60-4E08-A699-FB4F53F5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453F-A5BB-407A-BF36-4AE2418D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D1BE9-106A-46FD-8A6B-264C609A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6B2FB-A0BE-4452-B231-92E2665E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4C60-8171-4452-A7C2-1EF631F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D90-7262-45F4-9BAF-B1CE313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BC45-8D16-40EA-AC01-DA86D86E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5121-51BD-42DF-95B0-2CE11CDD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957B-5E8F-4FAE-9B1F-EB60BA8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03AB9-760A-4FEE-8229-47068F1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84EFD-C486-430A-B15B-AB0DFCA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DA77-D944-4D48-928F-60DC4704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8E0B-F888-418A-9AA7-0B9E6E8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561D-8437-48C1-A090-C76BB8B8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3F6D9-5E76-477A-9C31-A147599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DE97C-3746-4907-9489-981761B6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75F6D-A81B-4D40-B7B3-FD697F12EF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C5087-43A1-4F7F-A7D5-79A45E160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7572FCE-2312-4D99-936D-82D61CA85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6F96B-4A67-4546-B1F7-B9C8875DDD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CEC73-8A4B-434B-B728-52CE6C250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40924-3E0E-4BE2-9EDC-7974482067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9D716-02A7-458B-A863-277BBDD67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CE8EB-4F2E-4D10-ADC5-90048DA384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5A9DA-92CC-4150-84CA-DC70BECA0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79E70-C61B-448B-A852-CB1E2947CD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568AC-3060-494F-B8CB-D188DB31C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840D0-AEEF-4407-B1EB-8548192F79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9527B-77A0-4A39-AFB1-D2CA405D0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C70A1-1E80-43B3-A12E-47D6061390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62E1D-E26F-4E70-B8D9-0237E6FE0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A86F8-1A16-4D76-8538-5127F9DB3C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85738-E89D-4858-BBA9-5AD7F1E83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B45A2-4FDC-42C0-8E5A-1600FC26E4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B4619-4CAE-4CAB-91D6-782CAC086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446E9-0229-476E-9A61-7CB4996FAE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0320D-4EFA-4212-9056-7DFDF625F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99C5E-F863-4D5C-9BD6-24A0B7F0D30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6541F-77B6-4176-87E1-6591D3E21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02774-4391-4C87-A2AC-3A480F6AB5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14A20-C733-4011-A069-7141D70DA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Ing. Ivana Baloušková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D5A87-867F-4E19-B05C-7D8ABAF9D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5BCF1-C833-4B8F-BFE9-0F74296AF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 smlouva, DPP, DPČ, ev. autorské honorář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44F42-FFBE-4462-9AE4-4BC40BD56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9" descr=""/>
          <p:cNvPicPr/>
          <p:nvPr/>
        </p:nvPicPr>
        <p:blipFill>
          <a:blip r:embed="rId1"/>
          <a:stretch/>
        </p:blipFill>
        <p:spPr>
          <a:xfrm>
            <a:off x="814320" y="166536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06" name="Šipka doleva 6"/>
          <p:cNvSpPr/>
          <p:nvPr/>
        </p:nvSpPr>
        <p:spPr>
          <a:xfrm>
            <a:off x="5753160" y="40752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Šipka doprava 7"/>
          <p:cNvSpPr/>
          <p:nvPr/>
        </p:nvSpPr>
        <p:spPr>
          <a:xfrm rot="18280200">
            <a:off x="1257840" y="455832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E7B69-0FF3-4E73-8046-E8C099909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1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2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Šipka doleva 12"/>
          <p:cNvSpPr/>
          <p:nvPr/>
        </p:nvSpPr>
        <p:spPr>
          <a:xfrm rot="7954800">
            <a:off x="1500120" y="3465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délník 13"/>
          <p:cNvSpPr/>
          <p:nvPr/>
        </p:nvSpPr>
        <p:spPr>
          <a:xfrm>
            <a:off x="1348200" y="511344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využívejte komentář k rozpoč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75B69-B962-485F-97FD-997133387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9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D5031-9007-4160-BC83-5F11C6943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192240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3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E7773-6265-410F-A6DB-8C09C07D4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zahraniční expert v ČR, per diems 230 €/den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ubytování, 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E4D05-CB7E-4962-A0BB-13EFB83EA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sp>
        <p:nvSpPr>
          <p:cNvPr id="630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D54A2-3465-43CD-A339-C3C7D56AE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8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E0CF2-4F59-4D2A-A975-8B548AE43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robný hmotný majetek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DA299-4D92-44C4-B997-8E135979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Výdaje na opravy a údržb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8EB8F-D3A1-4D92-949C-96145C8B3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nční podpora na 1 IPO pro jednotlivé podaktivity podrobně upravuje Příloha č. 5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E0DD7-00D8-4246-850D-747B9EA99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uze příjemce, který daňově neodepisu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hmotný majetek nad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 nábytek do 40 tis. Kč - židle, stoly, lavice pro cílovo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kupi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nábytek a vybavení pro realizační tým - max. 15 tis. Kč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na 1 přepočtený úvaz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F9F6A-615C-4E37-BE64-54C399796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677A5-C896-4D7E-A8DF-DF8BECC4B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tisk skript, tvorba publikací, učebni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řeklady textů, zpracování analý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výdaje na zajištění konferencí a kurzů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řádaných v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rámci projekt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0CA0A-9673-4E83-9210-960AEDBDA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52B5F-D5A0-4329-A78E-4EB73D7D7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08CA1-DA32-4183-A34A-9054860BC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úprava pracovních míst nebo úprava přístupu pro osoby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e zdravotním postižením, a úprava výukových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éninkových nebo pracovních prostor, používaných n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923B7-D736-41C4-99C2-7DB3B0678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oskytovány zaměstnavateli jako náhrada mzdy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acovníka účastnícího se dalšího vzdělá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690840" indent="-2656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asistentské služby žákům se speciálními potřebam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18960" indent="-31896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F96F5-EFEF-41E6-8B20-C5AFAC2FF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329840" y="2185560"/>
            <a:ext cx="64580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2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odnadpis 1"/>
          <p:cNvSpPr/>
          <p:nvPr/>
        </p:nvSpPr>
        <p:spPr>
          <a:xfrm>
            <a:off x="1330200" y="3916440"/>
            <a:ext cx="68724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	</a:t>
            </a: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odnadpis 1"/>
          <p:cNvSpPr/>
          <p:nvPr/>
        </p:nvSpPr>
        <p:spPr>
          <a:xfrm>
            <a:off x="4870440" y="391644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délník 10"/>
          <p:cNvSpPr/>
          <p:nvPr/>
        </p:nvSpPr>
        <p:spPr>
          <a:xfrm>
            <a:off x="4114800" y="4408560"/>
            <a:ext cx="4572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bankovní popla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publicita projektu včetně úvodní a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závěrečn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FED59-0259-4503-AD37-2CC7F9B86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íl nepřímých nákladů se stanoví jako procento dané výzvou z přímých způsobilých výdajů celkem bez  křížového financování položka rozpočtu 10.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přímé náklady není třeba prokazovat účetními do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BFA6F-DA94-4761-A126-27F00211F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8EA64-0022-4523-8820-C7C583C53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353600" y="1072800"/>
            <a:ext cx="760428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86" name="Obrázek 15" descr="nn_benefit.JPG"/>
          <p:cNvPicPr/>
          <p:nvPr/>
        </p:nvPicPr>
        <p:blipFill>
          <a:blip r:embed="rId2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7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950B9-B19E-443B-8A4B-2C30CC2B2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6D381-263E-4586-8DF2-C328DBF1A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2F4B8-04B0-422A-B3B0-3D2220EEA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01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83118-7A27-4CDD-8F9E-6FE4FB8F5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pozornost aktuálním informacím k výzvám na 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5E276-A6F6-43DA-AC7E-D07390F15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g. Ivana Baloušk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bor 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</a:rPr>
              <a:t>ivana.balouskova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C3566-6EE2-48B7-89DE-EA1417159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77BD4-8219-4229-AF43-9659B6FE1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manažerské a administrativní pozic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78654-656D-48D1-B93E-12B49F303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informace ze záložky Realizační tým se automaticky nepřenášejí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 do záložky Rozpočet projekt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63751-846E-427F-ABD5-159134625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1330200" y="2443320"/>
            <a:ext cx="6296040" cy="3093840"/>
          </a:xfrm>
          <a:prstGeom prst="rect">
            <a:avLst/>
          </a:prstGeom>
          <a:ln w="0">
            <a:noFill/>
          </a:ln>
        </p:spPr>
      </p:pic>
      <p:sp>
        <p:nvSpPr>
          <p:cNvPr id="592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462B4-61D6-4424-8B4F-5CEEFBAF4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FC227-CF1F-4496-A1F0-4935EBBCD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14:38:35Z</dcterms:modified>
  <cp:revision>64</cp:revision>
  <dc:subject/>
  <dc:title>Titulní strana – Titulek</dc:title>
</cp:coreProperties>
</file>