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move the slide</a:t>
            </a:r>
            <a:endParaRPr b="1" lang="en-US" sz="3200" spc="-1" strike="noStrike">
              <a:solidFill>
                <a:srgbClr val="000000"/>
              </a:solidFill>
              <a:latin typeface="Helvetica CE"/>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F7DFF1-2E13-4933-80B2-34BD72CEBD4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onitorování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říjemce finanční pomoci pro individuální projekt ostatní je povinen v průběhu realizace projektu sledovat naplňování monitorovacích indikátorů. Seznam monitorovacích indikátorů je uveden v příloze č. 2 této výzvy. Monitorovací indikátory je nutné uvést v žádosti v aplikaci Benefit7. Naplňování indikátorů bude sledováno v průběhu realizace projektu prostřednictvím monitorovacích zpráv, závěrečná hodnota monitorovacích indikátorů bude sledována prostřednictvím závěrečné zprávy. Definice MI a způsob sledování a počítání je uveden v Metodice MI OP V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BE71D0-7AEE-424B-966C-8A0E341D95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Úspěšný žadatel je dle pravidel stanovených Evropským společenstvím povinen zajistit, aby aktivity a výstupy, které budou v rámci projektu podpořeny, byly udržovány ještě 5 let po ukončení financování projektu. Specifikace aktivit a výstupů, které povedou k udržitelnosti projektu, musí žadatel uvést v žádosti o finanční podporu z OP VK. Závaznost udržitelnosti bude rovněž uvedena v právním aktu dotace a následně bude předmětem kontroly ze strany subjektů uvedených v právním aktu vydaném úspěšnému žadateli. Udržitelnost bude žadatel prokazovat po skončení financování z OP VK prostřednictvím ročních monitorovacích zpráv o udržitelnosti projektu.</a:t>
            </a:r>
            <a:endParaRPr b="0" lang="en-US" sz="1200" spc="-1" strike="noStrike">
              <a:solidFill>
                <a:srgbClr val="000000"/>
              </a:solidFill>
              <a:latin typeface="Calibri"/>
            </a:endParaRPr>
          </a:p>
        </p:txBody>
      </p:sp>
      <p:sp>
        <p:nvSpPr>
          <p:cNvPr id="60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56644-57CB-4BD6-96FA-9A66FD4BA0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výběru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budou po splnění formálních náležitostí a kritérií přijatelnosti bodově hodnoceny individuálními hodnotiteli a zpravodaji certifikovanými MŠMT (tzv. věcné hodnocení s využitím zpravodajů OP VK). Pokud budou zjištěny formální nedostatky, bude žadatel vyzván k jejich doplnění. V případě, že tyto nedostatky žadatel nedoplní v stanovené lhůtě, bude projektová žádost vyřazena z procesu dalšího hodnocení. Nedostatky v oblasti přijatelnosti (souladu s výzvou) jsou neopravitelné a žádost bude z procesu hodnocení vyřazena automatic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a základě věcného hodnocení doporučí Grémium zpravodajů projekty pro poskytnutí dotace. Podpořeny budou projekty maximálně do vyčerpání aloka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onečné schválení projektů vybraných k financování přísluší ministryni/ministrovi školství, mládeže a tělovýchov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podporu, které – v souladu s Metodickým pokynem MMR k hlavním zásadám pro přípravu, hodnocení a schvalování Integrovaného plánu rozvoje měst (dále jen „IPRM“), zpracovaným na základě usnesení vlády ČR ze dne 13.8.2007 č. 883 – se prokážou potvrzením města (nositelem IPRM), že jsou součástí a v souladu se schváleným IPRM a projekty dosáhly min. bodové hranice 65 bodů (na základě bodového hodnocení zpravodajů), získají navíc bodovou bonifikaci ve výši 10%, tzn. bodovou bonifikaci v rámci rozpětí 6,5 – 10 bodů. Projektu, které nedosáhly minimálně 65 bodů, nemohou obdržet výše uvedenou bodovou bonifikac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BE82FD-517D-49CD-B57E-624E7F993E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oznámení výsledku žadate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 10 pracovních dnů od rozhodnutí ministryně/ministra školství, mládeže a tělovýchovy bude seznam schválených projektových žádostí uveřejněn na internetových stránkách MŠMT www.msmt.cz v části Strukturální fondy (http://www.msmt.cz/strukturalni-fondy/vysled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ichni žadatelé budou o výsledku hodnocení žádosti informováni písemně nebo prostřednictvím datových schránek.</a:t>
            </a:r>
            <a:endParaRPr b="0" lang="en-US" sz="1200" spc="-1" strike="noStrike">
              <a:solidFill>
                <a:srgbClr val="000000"/>
              </a:solidFill>
              <a:latin typeface="Calibri"/>
            </a:endParaRPr>
          </a:p>
        </p:txBody>
      </p:sp>
      <p:sp>
        <p:nvSpPr>
          <p:cNvPr id="61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5E7038-352C-4A38-8207-C057449732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Žádost o finanční podporu pro individuální projekty ostatní musí být vyplněna na předepsaném formuláři webové žádosti – „Žádost o finanční podporu z OP VK – IP“ v programu Benefit7. K dispozici je na webových stránkách www.eu-zadost.cz. Žádost v českém jazyce se předkládá elektronicky finalizací v aplikaci Benefit7, dále 1x v listinné podobě (originále), včetně příloh na adresu vyhlašovatele a 1x v elektronické podobě ve formátu *.pdf na nosiči chráněném proti přepisu (na CD-R). Dále se na CD-R nahrají všechny povinné přílohy, které jsou specifikovány ve výzvě a také nepovinné přílohy. Přílohy, ve kterých musí být podpis statutárního zástupce žadatele, budou na CD-R naskenovány včetně tohoto podpisu (platí i pro úvodní list „Seznam příloh projektu).</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Doporučujeme před vpisováním žádosti do Benefit7 zkontrolovat název a adresu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Forma předkládání listinné žádosti a elektronické žádosti na CD-R:</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Na samostatném výtisku se předkládá žádost (tisk z aplikace Benefit7) a samostatně přílohy. Podepsaná žádost musí být sešita a přelepena páskou v levém horním rohu (na přední i zadní straně). Páska musí být označena na první a poslední straně podpisem statutárního zástupce a razítkem žadatele. Součástí žádosti je rovněž seznam přílohy „Přílohy projektu“, kde musí být uveden počet listů každé příloh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Všechny povinné a nepovinné přílohy musí být pevně spojené v jedné vazbě. Přílohy musí být sešity a přelepeny páskou v levém horním rohu (na přední i zadní straně). Páska musí být označena na první a poslední straně podpisem a razítkem statutárního zástupce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Úvodním listem spojených příloh je seznam příloh „Přílohy projektu“ včetně počtu listů (žadatel vytiskne seznam příloh z aplikace Benefit7 nebo si vytvoří seznam vlastní). Tento seznam bude orazítkován a samostatně podepsán oprávněným statutárním zástupce žadatel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1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058C9-B8B7-49EF-AA46-7F75B10FAE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ávazná pravidla pro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všechny přílohy musí být předloženy v listinné podobě v originále (nebo úředně ověřené kopii) a nesmějí být starší tří měsíců k datu podání žádosti (netýká se živnostenského listu)</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musí být dodrženo stanovené řazení přílohy viz níž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každá příloha musí být označena pořadovým číslem podle jejího umístění v seznamu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pokud je to relevantní, musí být přílohy podepsány statutárními/i zástupcem/zástupc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relevantní formuláře příloh žadatel vytiskne, zajistí jejich podpis a naskenované vloží ve formátu *.pdf do žádosti v aplikaci Benefit7 jako přílohu a následně originál (případně úředně ověřenou kopii) přiloží k listinné verzi žádosti jako jednu z příloh. Všechny naskenované originály formulářů i další nepovinné přílohy vloží žadatel na CD-R.</a:t>
            </a:r>
            <a:endParaRPr b="0" lang="en-US" sz="1200" spc="-1" strike="noStrike">
              <a:solidFill>
                <a:srgbClr val="000000"/>
              </a:solidFill>
              <a:latin typeface="Calibri"/>
            </a:endParaRPr>
          </a:p>
        </p:txBody>
      </p:sp>
      <p:sp>
        <p:nvSpPr>
          <p:cNvPr id="62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20301-EBBB-4D08-B770-968473E616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finanční podporu lze vyplňovat v aplikaci Benefit7 od 6. dubna 201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žádosti doručené po termínu ukončení výzvy budou automaticky vyřazeny. Rozhodující je datum a čas doručení zásilky, nikoliv datum odeslání.</a:t>
            </a:r>
            <a:endParaRPr b="0" lang="en-US" sz="1200" spc="-1" strike="noStrike">
              <a:solidFill>
                <a:srgbClr val="000000"/>
              </a:solidFill>
              <a:latin typeface="Calibri"/>
            </a:endParaRPr>
          </a:p>
        </p:txBody>
      </p:sp>
      <p:sp>
        <p:nvSpPr>
          <p:cNvPr id="59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B14825-D0F5-420A-B01E-E48C88A8C3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artnerství</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adatelé mohou předkládat návrh projektu samostatně nebo ve spolupráci s partnerskými organizacemi. Partneři žadatele se podílejí na přípravě a realizaci projektu. Oprávněnými partnery pro realizaci projektu jsou jen právnické osoby se sídlem v České republice splňující kritéria oprávněnosti uvedená v Příručce pro žadatele o finanční podporu z OP VK, která je platná k datu vyhlášení výzvy (verze 6, platná od 21.10.2009). Vždy je důležité, aby hlavní část řízení i klíčových aktivit projektu realizoval příjemce podpory. Partnerství nesmí nahrazovat poskytování běžně dostupných služeb na trhu ani dodávku běžného zboží (partner nesmí být skrytým dodavatelem). Povinnou přílohou projektové žádosti je příloha Principy partnerství a prohlášení o partnerství viz Příloha č. 4 této výzvy (platí pro partnera s finančním příspěvkem i pro partnera bez finančního příspěvku) a Čestné prohlášení partnera s finančním příspěvkem uvedené v Příloze č. 3 této výzvy (platí pro partnera s finančním příspěvkem).</a:t>
            </a:r>
            <a:endParaRPr b="0" lang="en-US" sz="1200" spc="-1" strike="noStrike">
              <a:solidFill>
                <a:srgbClr val="000000"/>
              </a:solidFill>
              <a:latin typeface="Calibri"/>
            </a:endParaRPr>
          </a:p>
        </p:txBody>
      </p:sp>
      <p:sp>
        <p:nvSpPr>
          <p:cNvPr id="59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44FC01-42DB-46FE-A468-9D96E20801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realizace projektu je max. 36 měsíců od data účinnosti právního aktu dotace nebo do 36 měsíců od počátku realizace projektu podle právního aktu. Žadatel se bude řídit harmonogramem uvedeným v projektové žádosti. Projekt musí být ukončen nejpozději do 30. 6. 2015.</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ísto dopadu podporovaných aktivit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Oblast podpory 1.1 je určena pro všechny regiony ČR spadající do Cíle Konvergence, tzn., že všechny individuální projektu ostatní musí mít dopad na cílové skupiny osob, které studují nebo pracují v regionech České republiky mimo území NUTS II hl. města Prahy a mají české občanství nebo povolení k trvalému pobytu na území ČR. Sídlo žadatele může být na celém území ČR včetně NUTS II hl. m. Prahy.</a:t>
            </a:r>
            <a:endParaRPr b="0" lang="en-US" sz="1200" spc="-1" strike="noStrike">
              <a:solidFill>
                <a:srgbClr val="000000"/>
              </a:solidFill>
              <a:latin typeface="Calibri"/>
            </a:endParaRPr>
          </a:p>
        </p:txBody>
      </p:sp>
      <p:sp>
        <p:nvSpPr>
          <p:cNvPr id="60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CB86BD-EB7B-4F8E-BEE0-DB747B7705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BE271-0607-4668-900E-8A3FD1990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588AA-6294-4D85-BD3F-5029A82D2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CDCE0B-9259-492B-A015-C9D922ACBC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A0A787-F85A-40A7-A3AC-E0CF73D52B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D64ADA-59F2-491B-911D-6C9D4BEA09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C64A03-B243-4C1C-85C9-4F53214E92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7"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3266B9-DCD8-4EA6-8AEB-3C96EDF6BA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1"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0290BB-B4EF-4E5A-9003-3CD7FF94D9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3"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4"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BB772A-C99F-45B6-A865-9FF4D403C4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9"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185173-B5CE-4A78-BB91-A809EEB90C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81"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2"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3"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4"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5"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6"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E2087A-0A59-4A05-93D5-1A69963052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90E6ED-E349-470F-B47D-9652B548E5E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CC192-5D43-4C75-B15B-61B7E1602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5"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D83FFF-DF60-4F1A-A8E3-5BA33C9784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7"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140981-7456-43C2-8B9F-2B08972461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EC9CAB-826A-493E-8A85-62611781D1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2CDB01-B070-411D-8FC1-1D407386D5A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FE0DEF-51F7-496D-9983-3F1CEA1124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B3E94A-DC4B-488D-9FD4-10DCFDD64E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0"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DBD9C1-E33B-406C-AF9A-8E157D392E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4"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CEE639-3591-48F5-8D67-D4F9386B52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6"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7"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D12A85-7108-4BEB-BB75-07033FF894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2"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820CB73-B630-4B57-84A2-97DF7CF2CDB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FD3A4-0193-4F15-B950-15C49EC27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24"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5"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6"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7"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8"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9"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1899C9B-5FA5-4673-8ECE-8E11A877BBD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441C96D-2206-414C-B39C-0F772719B5D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3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5DB8E9-248E-431B-8C28-4A090E213F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6DAF5C-AB8D-423E-877D-072FEA52EEE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B84BAE9-AC0B-4B35-9995-19DBAA5D99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8763F4-4795-44FE-A47C-56DB982F12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39CD08-681F-4F7E-B8E3-47149EEBBE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A6C4B7-A13A-4EBD-BB7B-90EF034C7D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AF8874-7474-483E-9D39-9CE1A7456A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E644C3-0B15-4940-BCED-2668A349C6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BF65B3-D71B-40EE-BF8D-B4535932EC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8850FC-2441-44B3-BECC-4857795A23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471CA91-56BD-4ECF-8D8C-8FC2F0ABEE4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2620D6A-BB47-4F21-A56F-3DFD5B9F774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4DAAED9-503C-4F57-8AA5-E742FF0D8F5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F87C331-EA30-4773-B2B2-32DA1928E0A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D0EEF5B-2E60-42DC-A485-197BD274608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8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FC044A-E5EC-4C9A-8F0C-0D893B729C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42D1EE6-60DD-411A-9FD5-84338BB90BC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948590-ADFA-42A5-9A91-2BD2473CA6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BCCBF7-1B9C-49BB-B0AB-974BBF6BA7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E7D8F-BB69-46D5-98D5-5A47FD2B4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2ACEB1-F652-4F04-B587-6DD65ECAA7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A15CD9-1169-4787-8DC8-AB4EE81B19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DE82651-7204-4B23-B213-9691AD795F3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EC21A51-5204-4513-B9A9-719C4295077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D5A885B-58E4-4650-89AF-ADC514F2270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95499-EF66-4AD0-8FE8-453298B2C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28E58-1689-41C7-9FE0-8AD7EC19B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9FA8B-9EA6-4151-AD42-4357E23BA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85E18-BA1A-4F1D-B334-360F7C111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2F9C1-0A5C-47E9-BB92-ADD6664F6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2B216-1FB0-44CF-AC99-34D622193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0F8E3-BAF0-4F74-9D5B-614651F28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388F8-6368-4A0F-8BF2-7D8F29048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4FFD3-EEA9-4616-911D-831FAC3D5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3293CE-26A6-46FE-8631-EEC50FDE51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03C1CC-ED27-4F3B-A73A-78A0A7E57D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CA83FD-DD64-447A-B8C9-A59BDB17CC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4"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35FE0C-1F84-4BFA-94E7-0E92432153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6"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0DC901-0DA5-4ABA-BE73-AEE00DF5F4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9A2044-E7AE-45C9-AA3B-52EABD89BC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7706DD-E0F2-49C7-AA23-DFA9074FE4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9901B-EEF1-46AE-980C-F8E1AB0B7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E49893-B9AD-44C0-9908-656B559877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104F47-64A4-43E8-8DB8-DA80F33C75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9"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BF40D0-68AF-475E-BB83-155B5A5061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3"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12ABD5-1CBE-4385-BC09-8F2D29A889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5"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6"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5FAE53-9A9C-4C61-9F26-23D84A5E3B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1"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85B813-ADDA-4A5F-A835-65F0A54CAE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3"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4"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5"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6"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7"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8"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14A363-C88A-4DB0-9B19-C102978D28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179D58-B037-41A8-95A6-682D7BE305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7"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55928E-5936-46CA-8C98-15F38BB33E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9"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CAF433-4D7B-43BE-B4F1-DA528389C2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C4C4B-7FE5-42BC-B4A3-138DCE3C3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274EB6-2057-4F4D-8C44-17B9098CA9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C47980-239F-4BEB-9147-937C4BB6C0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E211B6-9D2F-4636-967C-0DDFA63598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22D391-C904-4C96-BE67-FA86654F27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2"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B18D0E-FC22-4E6E-8D94-2F62E24A75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6"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C0E5A3-B141-4C17-A8EC-68CC6876AB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8"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9"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483221-1CBE-4F5C-B622-DFDAD464AE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4"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17DA78-0E26-4185-882E-1033916E31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6"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7"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8"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9"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0"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1"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936AF8-6ED5-4447-B9A9-EE8E1989A1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69D7D8-A71B-4DC9-951D-CC86B3E83D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56CA8-558A-4777-9E4F-4FD831193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0"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F169EE-9CF0-4ABD-AB19-80BE3B4A79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2"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8A67B2-958B-449C-A57F-ABBF1A059D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7E8C1A-D059-4BCC-B3A7-7D6193BE7D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00601E-C439-4277-A80E-2EBC57FFD5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7ED64A-6BFB-4064-90E4-26D039B795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F6CC92-C459-4D22-A218-14EF14D7A9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5"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89580C-9197-43CD-925F-DD0CCBF4E1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9"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A99E55-E2DC-4FA1-ACB6-0837ED3CE9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1"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2"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53CBC2-647C-40D3-B760-6F35E7D425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7"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FAA134-3850-435D-8C2A-635CC2E77B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14A6C-C59A-4394-A5EE-202D39D6B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9"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0"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1"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2"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3"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4"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4E491C-250C-4446-8CDC-2299B2DFF8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79F833-B769-4258-9AEA-9A48EE6DE2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3"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20886D-0BBB-407A-99D0-F82C2A2F8F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5"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501AC7-C708-4463-8618-A0A83C3BF1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1B8DED-ADBF-4152-89C0-9DCF4C07DB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B102A2-8420-4ED2-B4B0-816B4B03D9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FD2B09-4387-47C0-9550-1018B3CE33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17662B-4BBD-411E-AF95-127C6E935F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8"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E12A1B-FAFE-4186-92FA-D124374DF9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2"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CF1A6A-62F1-4D0C-921B-E702C2A1B6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D166C-618A-456C-88CE-0E94B42B6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4"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5"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B737E6-205B-47C8-870B-FDC4A8A463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0"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420D58-6545-4E77-AE20-35C192E4E6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2"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3"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4"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5"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6"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7"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0545D3-EF64-4869-BB92-9B449E70E9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FE7F81-7225-43E5-B386-F8FDBC9423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6"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86E2F2-A6ED-46C9-A8B4-5400994B32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8"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E851C9-21CE-4E05-87ED-3E62BCE1D8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64C39B-D07D-4544-8F46-6932BE6265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57665B-66DA-490A-990D-3E024DB44D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8F6F7C-49FB-484C-9D64-417C18363A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6E50B1-B1D7-4AB9-ACBC-DFC9FF312B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D5C6D-2760-4AA0-B905-926A0CA19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1"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0C6D6C-DA9E-48F7-A0DD-6532B4425C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5"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4D7098-42BD-4E8D-B1F4-1F6466A691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7"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8"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CBD05E-B671-499D-BCD9-7BEC481A00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3"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A3D773-7C2C-4005-A3ED-873740DFDE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5"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6"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7"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8"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9"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0"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C0BA8A-1B2F-4A3F-9A5F-49B1FE0517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B3AA2E-7315-49A2-8C8F-D05F43AE9E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09"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027073-96F8-473A-8B94-2349E9C57D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1"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6F4DB4-A98B-469D-B79D-A45BCC0463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48603A-AE8F-4D4A-9431-6A8DC06890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3EFA5B-C67E-40CA-8368-6C01BF520D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91E23-0CAC-43E9-B0B8-F43FF2088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B9770A-7A2C-41CE-953A-68BAA95DDC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ABE555-9C69-453A-8C68-55FE3E24EC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4"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1FC4D4-AC7A-4602-9303-07F0D0B1E1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8"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EB0B26-C291-4D5A-85F3-BC84661900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0"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1"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2F2513-DB38-4ED7-B616-9B2A592E9E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6"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0BFC94-55CC-42DC-8D1C-4E54ABF90E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8"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9"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0"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1"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2"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3"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9202FD-FC4C-40CA-B481-13D8C54E82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23F1DF-1424-48C8-B261-BBA6DC46FD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2"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8465C5-5D2B-4148-A82A-DB37BFB8D1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4"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1CA6BA-7977-4530-9FB1-7A9677F5E6A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6C448B-C312-4F20-80E1-85DF732131E7}"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778D36-615D-4558-AB17-A9A52D2833A1}" type="slidenum">
              <a:rPr b="0" lang="en-US" sz="1200" spc="-1" strike="noStrike">
                <a:solidFill>
                  <a:srgbClr val="898989"/>
                </a:solidFill>
                <a:latin typeface="Calibri"/>
              </a:rPr>
              <a:t>&lt;number&gt;</a:t>
            </a:fld>
            <a:fld id="{EB93B0D4-63B0-4747-B4B9-92608B8AC53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8" descr="MSMT_tecky_OK_RGB.ai"/>
          <p:cNvPicPr/>
          <p:nvPr/>
        </p:nvPicPr>
        <p:blipFill>
          <a:blip r:embed="rId2"/>
          <a:stretch/>
        </p:blipFill>
        <p:spPr>
          <a:xfrm>
            <a:off x="1314360" y="569880"/>
            <a:ext cx="6458040" cy="503280"/>
          </a:xfrm>
          <a:prstGeom prst="rect">
            <a:avLst/>
          </a:prstGeom>
          <a:ln w="0">
            <a:noFill/>
          </a:ln>
        </p:spPr>
      </p:pic>
      <p:pic>
        <p:nvPicPr>
          <p:cNvPr id="6" name="Picture 10" descr="MSMT_logolink_bezVlajky_RGB.ai"/>
          <p:cNvPicPr/>
          <p:nvPr/>
        </p:nvPicPr>
        <p:blipFill>
          <a:blip r:embed="rId3"/>
          <a:stretch/>
        </p:blipFill>
        <p:spPr>
          <a:xfrm>
            <a:off x="2438280" y="5624640"/>
            <a:ext cx="4267440" cy="84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8" descr="MSMT_tecky_OK_RGB.ai"/>
          <p:cNvPicPr/>
          <p:nvPr/>
        </p:nvPicPr>
        <p:blipFill>
          <a:blip r:embed="rId2"/>
          <a:stretch/>
        </p:blipFill>
        <p:spPr>
          <a:xfrm>
            <a:off x="1314360" y="569880"/>
            <a:ext cx="6458040" cy="503280"/>
          </a:xfrm>
          <a:prstGeom prst="rect">
            <a:avLst/>
          </a:prstGeom>
          <a:ln w="0">
            <a:noFill/>
          </a:ln>
        </p:spPr>
      </p:pic>
      <p:pic>
        <p:nvPicPr>
          <p:cNvPr id="388" name="Picture 10" descr="MSMT_logolink_bezVlajky_RGB.ai"/>
          <p:cNvPicPr/>
          <p:nvPr/>
        </p:nvPicPr>
        <p:blipFill>
          <a:blip r:embed="rId3"/>
          <a:stretch/>
        </p:blipFill>
        <p:spPr>
          <a:xfrm>
            <a:off x="2438280" y="5624640"/>
            <a:ext cx="4267440" cy="841320"/>
          </a:xfrm>
          <a:prstGeom prst="rect">
            <a:avLst/>
          </a:prstGeom>
          <a:ln w="0">
            <a:noFill/>
          </a:ln>
        </p:spPr>
      </p:pic>
      <p:sp>
        <p:nvSpPr>
          <p:cNvPr id="3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90"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4A8DFD-F0C2-422B-86F5-274DCC70F752}"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1A844-C953-4283-AC0A-5147B63A1E8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8" descr="MSMT_tecky_OK_RGB.ai"/>
          <p:cNvPicPr/>
          <p:nvPr/>
        </p:nvPicPr>
        <p:blipFill>
          <a:blip r:embed="rId2"/>
          <a:stretch/>
        </p:blipFill>
        <p:spPr>
          <a:xfrm>
            <a:off x="1314360" y="569880"/>
            <a:ext cx="6458040" cy="503280"/>
          </a:xfrm>
          <a:prstGeom prst="rect">
            <a:avLst/>
          </a:prstGeom>
          <a:ln w="0">
            <a:noFill/>
          </a:ln>
        </p:spPr>
      </p:pic>
      <p:pic>
        <p:nvPicPr>
          <p:cNvPr id="431" name="Picture 10" descr="MSMT_logolink_bezVlajky_RGB.ai"/>
          <p:cNvPicPr/>
          <p:nvPr/>
        </p:nvPicPr>
        <p:blipFill>
          <a:blip r:embed="rId3"/>
          <a:stretch/>
        </p:blipFill>
        <p:spPr>
          <a:xfrm>
            <a:off x="2438280" y="5624640"/>
            <a:ext cx="4267440" cy="841320"/>
          </a:xfrm>
          <a:prstGeom prst="rect">
            <a:avLst/>
          </a:prstGeom>
          <a:ln w="0">
            <a:noFill/>
          </a:ln>
        </p:spPr>
      </p:pic>
      <p:sp>
        <p:nvSpPr>
          <p:cNvPr id="4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33"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CEB5F3-187E-407E-B017-FE85CD9D6758}"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E5F74A-CC43-4E70-8997-7F035F0DFD3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8" descr="MSMT_tecky_OK_RGB.ai"/>
          <p:cNvPicPr/>
          <p:nvPr/>
        </p:nvPicPr>
        <p:blipFill>
          <a:blip r:embed="rId2"/>
          <a:stretch/>
        </p:blipFill>
        <p:spPr>
          <a:xfrm>
            <a:off x="1314360" y="569880"/>
            <a:ext cx="6458040" cy="503280"/>
          </a:xfrm>
          <a:prstGeom prst="rect">
            <a:avLst/>
          </a:prstGeom>
          <a:ln w="0">
            <a:noFill/>
          </a:ln>
        </p:spPr>
      </p:pic>
      <p:pic>
        <p:nvPicPr>
          <p:cNvPr id="474" name="Picture 10" descr="MSMT_logolink_bezVlajky_RGB.ai"/>
          <p:cNvPicPr/>
          <p:nvPr/>
        </p:nvPicPr>
        <p:blipFill>
          <a:blip r:embed="rId3"/>
          <a:stretch/>
        </p:blipFill>
        <p:spPr>
          <a:xfrm>
            <a:off x="2438280" y="5624640"/>
            <a:ext cx="4267440" cy="841320"/>
          </a:xfrm>
          <a:prstGeom prst="rect">
            <a:avLst/>
          </a:prstGeom>
          <a:ln w="0">
            <a:noFill/>
          </a:ln>
        </p:spPr>
      </p:pic>
      <p:sp>
        <p:nvSpPr>
          <p:cNvPr id="4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7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B6AE07-A6E4-4D5C-A369-61EC6E75FE54}"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30C281-062F-4023-BA6F-8C88AD8172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SMT_tecky_OK_RGB.ai"/>
          <p:cNvPicPr/>
          <p:nvPr/>
        </p:nvPicPr>
        <p:blipFill>
          <a:blip r:embed="rId2"/>
          <a:stretch/>
        </p:blipFill>
        <p:spPr>
          <a:xfrm>
            <a:off x="1314360" y="569880"/>
            <a:ext cx="6458040" cy="503280"/>
          </a:xfrm>
          <a:prstGeom prst="rect">
            <a:avLst/>
          </a:prstGeom>
          <a:ln w="0">
            <a:noFill/>
          </a:ln>
        </p:spPr>
      </p:pic>
      <p:pic>
        <p:nvPicPr>
          <p:cNvPr id="44" name="Picture 10" descr="MSMT_logolink_bezVlajky_RGB.ai"/>
          <p:cNvPicPr/>
          <p:nvPr/>
        </p:nvPicPr>
        <p:blipFill>
          <a:blip r:embed="rId3"/>
          <a:stretch/>
        </p:blipFill>
        <p:spPr>
          <a:xfrm>
            <a:off x="2438280" y="5624640"/>
            <a:ext cx="4267440" cy="841320"/>
          </a:xfrm>
          <a:prstGeom prst="rect">
            <a:avLst/>
          </a:prstGeom>
          <a:ln w="0">
            <a:noFill/>
          </a:ln>
        </p:spPr>
      </p:pic>
      <p:sp>
        <p:nvSpPr>
          <p:cNvPr id="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74780-BFB9-403F-920B-7C376DBB8B1D}"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BB6F74-C9F0-4FF9-B248-6EA8A21F239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MSMT_tecky_OK_RGB.ai"/>
          <p:cNvPicPr/>
          <p:nvPr/>
        </p:nvPicPr>
        <p:blipFill>
          <a:blip r:embed="rId2"/>
          <a:stretch/>
        </p:blipFill>
        <p:spPr>
          <a:xfrm>
            <a:off x="1314360" y="569880"/>
            <a:ext cx="6458040" cy="503280"/>
          </a:xfrm>
          <a:prstGeom prst="rect">
            <a:avLst/>
          </a:prstGeom>
          <a:ln w="0">
            <a:noFill/>
          </a:ln>
        </p:spPr>
      </p:pic>
      <p:pic>
        <p:nvPicPr>
          <p:cNvPr id="87" name="Picture 10" descr="MSMT_logolink_bezVlajky_RGB.ai"/>
          <p:cNvPicPr/>
          <p:nvPr/>
        </p:nvPicPr>
        <p:blipFill>
          <a:blip r:embed="rId3"/>
          <a:stretch/>
        </p:blipFill>
        <p:spPr>
          <a:xfrm>
            <a:off x="2438280" y="5624640"/>
            <a:ext cx="4267440" cy="841320"/>
          </a:xfrm>
          <a:prstGeom prst="rect">
            <a:avLst/>
          </a:prstGeom>
          <a:ln w="0">
            <a:noFill/>
          </a:ln>
        </p:spPr>
      </p:pic>
      <p:sp>
        <p:nvSpPr>
          <p:cNvPr id="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89"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FCBFB3-B21F-43A6-97FB-2696D93A8435}"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FACB07-0886-4EFC-9EB2-AC28258AFF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8" descr="MSMT_tecky_OK_RGB.ai"/>
          <p:cNvPicPr/>
          <p:nvPr/>
        </p:nvPicPr>
        <p:blipFill>
          <a:blip r:embed="rId2"/>
          <a:stretch/>
        </p:blipFill>
        <p:spPr>
          <a:xfrm>
            <a:off x="1314360" y="569880"/>
            <a:ext cx="6458040" cy="503280"/>
          </a:xfrm>
          <a:prstGeom prst="rect">
            <a:avLst/>
          </a:prstGeom>
          <a:ln w="0">
            <a:noFill/>
          </a:ln>
        </p:spPr>
      </p:pic>
      <p:pic>
        <p:nvPicPr>
          <p:cNvPr id="130" name="Picture 10" descr="MSMT_logolink_bezVlajky_RGB.ai"/>
          <p:cNvPicPr/>
          <p:nvPr/>
        </p:nvPicPr>
        <p:blipFill>
          <a:blip r:embed="rId3"/>
          <a:stretch/>
        </p:blipFill>
        <p:spPr>
          <a:xfrm>
            <a:off x="2438280" y="5624640"/>
            <a:ext cx="4267440" cy="841320"/>
          </a:xfrm>
          <a:prstGeom prst="rect">
            <a:avLst/>
          </a:prstGeom>
          <a:ln w="0">
            <a:noFill/>
          </a:ln>
        </p:spPr>
      </p:pic>
      <p:sp>
        <p:nvSpPr>
          <p:cNvPr id="1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32"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9DC174-33E8-416B-9023-6336D568184B}"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9A6761-C7FB-445F-8C3A-C438D221318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8" descr="MSMT_tecky_OK_RGB.ai"/>
          <p:cNvPicPr/>
          <p:nvPr/>
        </p:nvPicPr>
        <p:blipFill>
          <a:blip r:embed="rId2"/>
          <a:stretch/>
        </p:blipFill>
        <p:spPr>
          <a:xfrm>
            <a:off x="1314360" y="569880"/>
            <a:ext cx="6458040" cy="503280"/>
          </a:xfrm>
          <a:prstGeom prst="rect">
            <a:avLst/>
          </a:prstGeom>
          <a:ln w="0">
            <a:noFill/>
          </a:ln>
        </p:spPr>
      </p:pic>
      <p:pic>
        <p:nvPicPr>
          <p:cNvPr id="173" name="Picture 10" descr="MSMT_logolink_bezVlajky_RGB.ai"/>
          <p:cNvPicPr/>
          <p:nvPr/>
        </p:nvPicPr>
        <p:blipFill>
          <a:blip r:embed="rId3"/>
          <a:stretch/>
        </p:blipFill>
        <p:spPr>
          <a:xfrm>
            <a:off x="2438280" y="5624640"/>
            <a:ext cx="4267440" cy="841320"/>
          </a:xfrm>
          <a:prstGeom prst="rect">
            <a:avLst/>
          </a:prstGeom>
          <a:ln w="0">
            <a:noFill/>
          </a:ln>
        </p:spPr>
      </p:pic>
      <p:sp>
        <p:nvSpPr>
          <p:cNvPr id="1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75"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0C9717-4A4C-4C47-8FAF-1709AD5D5E82}"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8EB9C7-1256-4543-A9B2-5849E6FD51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8" descr="MSMT_tecky_OK_RGB.ai"/>
          <p:cNvPicPr/>
          <p:nvPr/>
        </p:nvPicPr>
        <p:blipFill>
          <a:blip r:embed="rId2"/>
          <a:stretch/>
        </p:blipFill>
        <p:spPr>
          <a:xfrm>
            <a:off x="1314360" y="569880"/>
            <a:ext cx="6458040" cy="503280"/>
          </a:xfrm>
          <a:prstGeom prst="rect">
            <a:avLst/>
          </a:prstGeom>
          <a:ln w="0">
            <a:noFill/>
          </a:ln>
        </p:spPr>
      </p:pic>
      <p:pic>
        <p:nvPicPr>
          <p:cNvPr id="216" name="Picture 10" descr="MSMT_logolink_bezVlajky_RGB.ai"/>
          <p:cNvPicPr/>
          <p:nvPr/>
        </p:nvPicPr>
        <p:blipFill>
          <a:blip r:embed="rId3"/>
          <a:stretch/>
        </p:blipFill>
        <p:spPr>
          <a:xfrm>
            <a:off x="2438280" y="5624640"/>
            <a:ext cx="4267440" cy="841320"/>
          </a:xfrm>
          <a:prstGeom prst="rect">
            <a:avLst/>
          </a:prstGeom>
          <a:ln w="0">
            <a:noFill/>
          </a:ln>
        </p:spPr>
      </p:pic>
      <p:sp>
        <p:nvSpPr>
          <p:cNvPr id="2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18"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57C84A-B560-48A9-964B-43B10FEB4D3E}"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4CF479-2445-4E62-9A88-A57411A19F6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8" descr="MSMT_tecky_OK_RGB.ai"/>
          <p:cNvPicPr/>
          <p:nvPr/>
        </p:nvPicPr>
        <p:blipFill>
          <a:blip r:embed="rId2"/>
          <a:stretch/>
        </p:blipFill>
        <p:spPr>
          <a:xfrm>
            <a:off x="1314360" y="569880"/>
            <a:ext cx="6458040" cy="503280"/>
          </a:xfrm>
          <a:prstGeom prst="rect">
            <a:avLst/>
          </a:prstGeom>
          <a:ln w="0">
            <a:noFill/>
          </a:ln>
        </p:spPr>
      </p:pic>
      <p:pic>
        <p:nvPicPr>
          <p:cNvPr id="259" name="Picture 10" descr="MSMT_logolink_bezVlajky_RGB.ai"/>
          <p:cNvPicPr/>
          <p:nvPr/>
        </p:nvPicPr>
        <p:blipFill>
          <a:blip r:embed="rId3"/>
          <a:stretch/>
        </p:blipFill>
        <p:spPr>
          <a:xfrm>
            <a:off x="2438280" y="5624640"/>
            <a:ext cx="4267440" cy="841320"/>
          </a:xfrm>
          <a:prstGeom prst="rect">
            <a:avLst/>
          </a:prstGeom>
          <a:ln w="0">
            <a:noFill/>
          </a:ln>
        </p:spPr>
      </p:pic>
      <p:sp>
        <p:nvSpPr>
          <p:cNvPr id="2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6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6FBB54-37A2-415C-9124-50C344F380C4}"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C93207-0817-4339-AFC3-9BA81581260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8" descr="MSMT_tecky_OK_RGB.ai"/>
          <p:cNvPicPr/>
          <p:nvPr/>
        </p:nvPicPr>
        <p:blipFill>
          <a:blip r:embed="rId2"/>
          <a:stretch/>
        </p:blipFill>
        <p:spPr>
          <a:xfrm>
            <a:off x="1314360" y="569880"/>
            <a:ext cx="6458040" cy="503280"/>
          </a:xfrm>
          <a:prstGeom prst="rect">
            <a:avLst/>
          </a:prstGeom>
          <a:ln w="0">
            <a:noFill/>
          </a:ln>
        </p:spPr>
      </p:pic>
      <p:pic>
        <p:nvPicPr>
          <p:cNvPr id="302" name="Picture 10" descr="MSMT_logolink_bezVlajky_RGB.ai"/>
          <p:cNvPicPr/>
          <p:nvPr/>
        </p:nvPicPr>
        <p:blipFill>
          <a:blip r:embed="rId3"/>
          <a:stretch/>
        </p:blipFill>
        <p:spPr>
          <a:xfrm>
            <a:off x="2438280" y="5624640"/>
            <a:ext cx="4267440" cy="841320"/>
          </a:xfrm>
          <a:prstGeom prst="rect">
            <a:avLst/>
          </a:prstGeom>
          <a:ln w="0">
            <a:noFill/>
          </a:ln>
        </p:spPr>
      </p:pic>
      <p:sp>
        <p:nvSpPr>
          <p:cNvPr id="3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04"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4BB764-0FE3-43BA-ADF1-3B00448FC68B}"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3F85C6-0CDD-4454-B729-9D16BA6F35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8" descr="MSMT_tecky_OK_RGB.ai"/>
          <p:cNvPicPr/>
          <p:nvPr/>
        </p:nvPicPr>
        <p:blipFill>
          <a:blip r:embed="rId2"/>
          <a:stretch/>
        </p:blipFill>
        <p:spPr>
          <a:xfrm>
            <a:off x="1314360" y="569880"/>
            <a:ext cx="6458040" cy="503280"/>
          </a:xfrm>
          <a:prstGeom prst="rect">
            <a:avLst/>
          </a:prstGeom>
          <a:ln w="0">
            <a:noFill/>
          </a:ln>
        </p:spPr>
      </p:pic>
      <p:pic>
        <p:nvPicPr>
          <p:cNvPr id="345" name="Picture 10" descr="MSMT_logolink_bezVlajky_RGB.ai"/>
          <p:cNvPicPr/>
          <p:nvPr/>
        </p:nvPicPr>
        <p:blipFill>
          <a:blip r:embed="rId3"/>
          <a:stretch/>
        </p:blipFill>
        <p:spPr>
          <a:xfrm>
            <a:off x="2438280" y="5624640"/>
            <a:ext cx="4267440" cy="841320"/>
          </a:xfrm>
          <a:prstGeom prst="rect">
            <a:avLst/>
          </a:prstGeom>
          <a:ln w="0">
            <a:noFill/>
          </a:ln>
        </p:spPr>
      </p:pic>
      <p:sp>
        <p:nvSpPr>
          <p:cNvPr id="3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47"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B82C57-86F0-40A6-BBA4-F34D728A87B4}"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D1EC59-850C-481A-A96E-03EDEE0A445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smt.cz/strukturalni-fondy/prehled-a-postup-pri-vykazovani-monitorovacich-indikatoru"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u-zadost.cz/" TargetMode="External"/><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171080"/>
            <a:ext cx="7772400" cy="1908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SEMINÁŘ PRO ŽADATELE O FINANČNÍ PODPORU Z OP VK</a:t>
            </a:r>
            <a:br>
              <a:rPr sz="3200"/>
            </a:br>
            <a:r>
              <a:rPr b="1" lang="cs-CZ" sz="3200" spc="-1" strike="noStrike">
                <a:solidFill>
                  <a:srgbClr val="f3912c"/>
                </a:solidFill>
                <a:latin typeface="Helvetica CE"/>
              </a:rPr>
              <a:t> Výzva v oblasti podpory </a:t>
            </a:r>
            <a:br>
              <a:rPr sz="3200"/>
            </a:br>
            <a:r>
              <a:rPr b="1" lang="cs-CZ" sz="3200" spc="-1" strike="noStrike">
                <a:solidFill>
                  <a:srgbClr val="f39800"/>
                </a:solidFill>
                <a:latin typeface="Helvetica CE"/>
                <a:ea typeface="Arial CE"/>
              </a:rPr>
              <a:t> 1.1 Zvyšování kvality ve vzdělávání</a:t>
            </a:r>
            <a:endParaRPr b="1" lang="en-US" sz="3200" spc="-1" strike="noStrike">
              <a:solidFill>
                <a:srgbClr val="000000"/>
              </a:solidFill>
              <a:latin typeface="Helvetica CE"/>
            </a:endParaRPr>
          </a:p>
        </p:txBody>
      </p:sp>
      <p:sp>
        <p:nvSpPr>
          <p:cNvPr id="524" name="PlaceHolder 2"/>
          <p:cNvSpPr>
            <a:spLocks noGrp="1"/>
          </p:cNvSpPr>
          <p:nvPr>
            <p:ph type="subTitle"/>
          </p:nvPr>
        </p:nvSpPr>
        <p:spPr>
          <a:xfrm>
            <a:off x="1371600" y="3079440"/>
            <a:ext cx="6400800" cy="2438280"/>
          </a:xfrm>
          <a:prstGeom prst="rect">
            <a:avLst/>
          </a:prstGeom>
          <a:noFill/>
          <a:ln w="0">
            <a:noFill/>
          </a:ln>
        </p:spPr>
        <p:txBody>
          <a:bodyPr anchor="t">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400" spc="-1" strike="noStrike">
                <a:solidFill>
                  <a:srgbClr val="000000"/>
                </a:solidFill>
                <a:latin typeface="Helvetica CE"/>
              </a:rPr>
              <a:t>Seminář pro žadatele – obecné informace</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Místo</a:t>
            </a:r>
            <a:r>
              <a:rPr b="0" lang="cs-CZ" sz="1400" spc="-1" strike="noStrike">
                <a:solidFill>
                  <a:srgbClr val="000000"/>
                </a:solidFill>
                <a:latin typeface="Helvetica CE"/>
              </a:rPr>
              <a:t> konání</a:t>
            </a:r>
            <a:r>
              <a:rPr b="0" lang="en-US" sz="1400" spc="-1" strike="noStrike">
                <a:solidFill>
                  <a:srgbClr val="000000"/>
                </a:solidFill>
                <a:latin typeface="Helvetica CE"/>
              </a:rPr>
              <a:t>: </a:t>
            </a:r>
            <a:r>
              <a:rPr b="0" lang="cs-CZ" sz="1400" spc="-1" strike="noStrike">
                <a:solidFill>
                  <a:srgbClr val="000000"/>
                </a:solidFill>
                <a:latin typeface="Helvetica CE"/>
              </a:rPr>
              <a:t>Brno</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Datum: </a:t>
            </a:r>
            <a:r>
              <a:rPr b="0" lang="cs-CZ" sz="1400" spc="-1" strike="noStrike">
                <a:solidFill>
                  <a:srgbClr val="000000"/>
                </a:solidFill>
                <a:latin typeface="Helvetica CE"/>
              </a:rPr>
              <a:t>12. ledna 2011</a:t>
            </a:r>
            <a:endParaRPr b="0" lang="en-US" sz="14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Hlavní kontaktní osoba výzvy : Ing. Marie Kaufner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Email: </a:t>
            </a:r>
            <a:r>
              <a:rPr b="0" lang="cs-CZ" sz="1200" spc="-1" strike="noStrike" u="sng">
                <a:solidFill>
                  <a:srgbClr val="0000ff"/>
                </a:solidFill>
                <a:uFillTx/>
                <a:latin typeface="Helvetica CE"/>
                <a:hlinkClick r:id="rId1"/>
              </a:rPr>
              <a:t>marie.kaufnerova@msmt.cz</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Tel.: 234 814 233</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Přednášející: PaedDr. Irena Svobodová, Mgr. Jaroslava Turková, Ing. Dana Pražák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Ing. Tomáš Drážný, Mgr. Petr Kraselovský</a:t>
            </a:r>
            <a:endParaRPr b="0" lang="en-US" sz="12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Monitorování projektů</a:t>
            </a:r>
            <a:endParaRPr b="1" lang="en-US" sz="3200" spc="-1" strike="noStrike">
              <a:solidFill>
                <a:srgbClr val="000000"/>
              </a:solidFill>
              <a:latin typeface="Helvetica CE"/>
            </a:endParaRPr>
          </a:p>
        </p:txBody>
      </p:sp>
      <p:sp>
        <p:nvSpPr>
          <p:cNvPr id="550" name=""/>
          <p:cNvSpPr txBox="1"/>
          <p:nvPr/>
        </p:nvSpPr>
        <p:spPr>
          <a:xfrm>
            <a:off x="1329840" y="1952280"/>
            <a:ext cx="6458040" cy="35449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vinnost v průběhu realizace projektu sledovat naplňování cílů projektu a monitorovacích indikátorů - prostřednictvím Monitorovacích zpráv ( po prvních 3 a dále po 6 měsícíc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eznam monitorovacích indikátorů je uveden v Příloze č. 2 této výz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etodika monitorovacích indikátorů OP VK</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ff"/>
                </a:solidFill>
                <a:uFillTx/>
                <a:latin typeface="Helvetica CE"/>
                <a:hlinkClick r:id="rId1"/>
              </a:rPr>
              <a:t>http://www.msmt.cz/strukturalni-fondy/prehled-a-postup-pri-vykazovani-monitorovacich-indikatoru</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E45EB1-F10C-43E5-8C58-43AD85BE3A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Udržitelnost projektů</a:t>
            </a:r>
            <a:endParaRPr b="1" lang="en-US" sz="3200" spc="-1" strike="noStrike">
              <a:solidFill>
                <a:srgbClr val="000000"/>
              </a:solidFill>
              <a:latin typeface="Helvetica CE"/>
            </a:endParaRPr>
          </a:p>
        </p:txBody>
      </p:sp>
      <p:sp>
        <p:nvSpPr>
          <p:cNvPr id="553" name=""/>
          <p:cNvSpPr txBox="1"/>
          <p:nvPr/>
        </p:nvSpPr>
        <p:spPr>
          <a:xfrm>
            <a:off x="1329840" y="2171520"/>
            <a:ext cx="6458040" cy="3057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úspěšný žadatel je dle pravidel stanovených Evropským společenstvím povinen zajistit, aby aktivity a výstupy, které budou v rámci projektu podpořeny, byly udržovány ještě 5 let po ukončení financování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pecifika aktivit a výstupů, které povedou k udržitelnosti, musí být uvedeny v žádosti o finanční podporu z OP VK</a:t>
            </a:r>
            <a:endParaRPr b="0" lang="en-US" sz="1800" spc="-1" strike="noStrike">
              <a:solidFill>
                <a:srgbClr val="000000"/>
              </a:solidFill>
              <a:latin typeface="Helvetica CE"/>
            </a:endParaRPr>
          </a:p>
          <a:p>
            <a:pPr lvl="1"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kazování udržitelnosti po ukončení financování projektu z OP VK probíhá prostřednictvím ročních monitorovacích zpráv o udržitelnosti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4"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A2C0C6-2FD7-48E3-A943-5B18097909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výběru projektů</a:t>
            </a:r>
            <a:endParaRPr b="1" lang="en-US" sz="3200" spc="-1" strike="noStrike">
              <a:solidFill>
                <a:srgbClr val="000000"/>
              </a:solidFill>
              <a:latin typeface="Helvetica CE"/>
            </a:endParaRPr>
          </a:p>
        </p:txBody>
      </p:sp>
      <p:sp>
        <p:nvSpPr>
          <p:cNvPr id="556"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náležitosti - 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ritéria přijatelnosti – ne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Grémium zpravodaj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onečné schválení – ministryně školství, mládeže a tělovýcho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bodová bonifikace – potvrzení města (nositelem IPRM), že projekt je součástí a v souladu se schváleným IPRM</a:t>
            </a:r>
            <a:endParaRPr b="0" lang="en-US" sz="1800" spc="-1" strike="noStrike">
              <a:solidFill>
                <a:srgbClr val="000000"/>
              </a:solidFill>
              <a:latin typeface="Helvetica CE"/>
            </a:endParaRPr>
          </a:p>
        </p:txBody>
      </p:sp>
      <p:sp>
        <p:nvSpPr>
          <p:cNvPr id="55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91A63-05F5-4A99-B41C-6BF6D6803F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roces hodnocení</a:t>
            </a:r>
            <a:endParaRPr b="1" lang="en-US" sz="3200" spc="-1" strike="noStrike">
              <a:solidFill>
                <a:srgbClr val="000000"/>
              </a:solidFill>
              <a:latin typeface="Helvetica CE"/>
            </a:endParaRPr>
          </a:p>
        </p:txBody>
      </p:sp>
      <p:sp>
        <p:nvSpPr>
          <p:cNvPr id="559" name=""/>
          <p:cNvSpPr txBox="1"/>
          <p:nvPr/>
        </p:nvSpPr>
        <p:spPr>
          <a:xfrm>
            <a:off x="1329840" y="2171520"/>
            <a:ext cx="6458040" cy="3377880"/>
          </a:xfrm>
          <a:prstGeom prst="rect">
            <a:avLst/>
          </a:prstGeom>
          <a:noFill/>
          <a:ln w="0">
            <a:noFill/>
          </a:ln>
        </p:spPr>
        <p:txBody>
          <a:bodyPr anchor="t">
            <a:normAutofit/>
          </a:bodyPr>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ijetí a registrace žádosti </a:t>
            </a:r>
            <a:r>
              <a:rPr b="0" lang="cs-CZ" sz="1400" spc="-1" strike="noStrike">
                <a:solidFill>
                  <a:srgbClr val="7f7f7f"/>
                </a:solidFill>
                <a:latin typeface="Helvetica CE"/>
              </a:rPr>
              <a:t>(Odbor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hodnocení </a:t>
            </a:r>
            <a:r>
              <a:rPr b="0" lang="cs-CZ" sz="1400" spc="-1" strike="noStrike">
                <a:solidFill>
                  <a:srgbClr val="7f7f7f"/>
                </a:solidFill>
                <a:latin typeface="Helvetica CE"/>
              </a:rPr>
              <a:t>(PM/FM Odboru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přijatelnosti </a:t>
            </a:r>
            <a:r>
              <a:rPr b="0" lang="cs-CZ" sz="1400" spc="-1" strike="noStrike">
                <a:solidFill>
                  <a:srgbClr val="7f7f7f"/>
                </a:solidFill>
                <a:latin typeface="Helvetica CE"/>
              </a:rPr>
              <a:t>(gestor ŘO)</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věcné </a:t>
            </a:r>
            <a:r>
              <a:rPr b="0" lang="cs-CZ" sz="1400" spc="-1" strike="noStrike">
                <a:solidFill>
                  <a:srgbClr val="7f7f7f"/>
                </a:solidFill>
                <a:latin typeface="Helvetica CE"/>
              </a:rPr>
              <a:t>(hodnotitelé, zpravodaj, Grémium zpravodajů)</a:t>
            </a:r>
            <a:endParaRPr b="0" lang="en-US" sz="14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Vyrozumění o výsledku hodnocení </a:t>
            </a:r>
            <a:br>
              <a:rPr sz="1800"/>
            </a:br>
            <a:r>
              <a:rPr b="1" lang="cs-CZ" sz="1800" spc="-1" strike="noStrike">
                <a:solidFill>
                  <a:srgbClr val="000000"/>
                </a:solidFill>
                <a:latin typeface="Helvetica CE"/>
              </a:rPr>
              <a:t>a uzavření právního aktu</a:t>
            </a:r>
            <a:endParaRPr b="0" lang="en-US" sz="18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6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9F63D5-C4B5-4770-BC8A-6521DD5977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1" name="TextovéPole 13"/>
          <p:cNvSpPr/>
          <p:nvPr/>
        </p:nvSpPr>
        <p:spPr>
          <a:xfrm rot="16200000">
            <a:off x="-608400" y="3507480"/>
            <a:ext cx="327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Arial"/>
              </a:rPr>
              <a:t>7 měsíců</a:t>
            </a:r>
            <a:endParaRPr b="0" lang="en-US" sz="2000" spc="-1" strike="noStrike">
              <a:solidFill>
                <a:srgbClr val="000000"/>
              </a:solidFill>
              <a:latin typeface="Arial"/>
            </a:endParaRPr>
          </a:p>
        </p:txBody>
      </p:sp>
      <p:sp>
        <p:nvSpPr>
          <p:cNvPr id="562" name="Šipka doprava 6"/>
          <p:cNvSpPr/>
          <p:nvPr/>
        </p:nvSpPr>
        <p:spPr>
          <a:xfrm rot="5400000">
            <a:off x="4386240" y="245736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3" name="Šipka doprava 7"/>
          <p:cNvSpPr/>
          <p:nvPr/>
        </p:nvSpPr>
        <p:spPr>
          <a:xfrm rot="5400000">
            <a:off x="4430160" y="3254400"/>
            <a:ext cx="285840" cy="215640"/>
          </a:xfrm>
          <a:prstGeom prst="rightArrow">
            <a:avLst>
              <a:gd name="adj1" fmla="val 50000"/>
              <a:gd name="adj2" fmla="val 50076"/>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Šipka doprava 8"/>
          <p:cNvSpPr/>
          <p:nvPr/>
        </p:nvSpPr>
        <p:spPr>
          <a:xfrm rot="5400000">
            <a:off x="4386240" y="4008240"/>
            <a:ext cx="285480" cy="216000"/>
          </a:xfrm>
          <a:prstGeom prst="rightArrow">
            <a:avLst>
              <a:gd name="adj1" fmla="val 50000"/>
              <a:gd name="adj2" fmla="val 49929"/>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Šipka doprava 9"/>
          <p:cNvSpPr/>
          <p:nvPr/>
        </p:nvSpPr>
        <p:spPr>
          <a:xfrm rot="5400000">
            <a:off x="4386240" y="453708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6" name="TextovéPole 10"/>
          <p:cNvSpPr/>
          <p:nvPr/>
        </p:nvSpPr>
        <p:spPr>
          <a:xfrm>
            <a:off x="1230480" y="1952640"/>
            <a:ext cx="45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7" name="Levá složená závorka 11"/>
          <p:cNvSpPr/>
          <p:nvPr/>
        </p:nvSpPr>
        <p:spPr>
          <a:xfrm>
            <a:off x="1330200" y="2209680"/>
            <a:ext cx="347760" cy="3108600"/>
          </a:xfrm>
          <a:custGeom>
            <a:avLst/>
            <a:gdLst>
              <a:gd name="textAreaLeft" fmla="*/ 222120 w 347760"/>
              <a:gd name="textAreaRight" fmla="*/ 348120 w 347760"/>
              <a:gd name="textAreaTop" fmla="*/ 9000 h 3108600"/>
              <a:gd name="textAreaBottom" fmla="*/ 3099600 h 3108600"/>
            </a:gdLst>
            <a:ahLst/>
            <a:rect l="textAreaLeft" t="textAreaTop" r="textAreaRight" b="textAreaBottom"/>
            <a:pathLst>
              <a:path w="21600" h="21600">
                <a:moveTo>
                  <a:pt x="21600" y="0"/>
                </a:moveTo>
                <a:cubicBezTo>
                  <a:pt x="16200" y="0"/>
                  <a:pt x="10800" y="101"/>
                  <a:pt x="10800" y="201"/>
                </a:cubicBezTo>
                <a:lnTo>
                  <a:pt x="10800" y="10599"/>
                </a:lnTo>
                <a:cubicBezTo>
                  <a:pt x="10800" y="10700"/>
                  <a:pt x="5400" y="10800"/>
                  <a:pt x="0" y="10800"/>
                </a:cubicBezTo>
                <a:cubicBezTo>
                  <a:pt x="5400" y="10800"/>
                  <a:pt x="10800" y="10901"/>
                  <a:pt x="10800" y="11001"/>
                </a:cubicBezTo>
                <a:lnTo>
                  <a:pt x="10800" y="21399"/>
                </a:lnTo>
                <a:cubicBezTo>
                  <a:pt x="10800" y="21500"/>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69" name=""/>
          <p:cNvSpPr txBox="1"/>
          <p:nvPr/>
        </p:nvSpPr>
        <p:spPr>
          <a:xfrm>
            <a:off x="1329840" y="2567160"/>
            <a:ext cx="6458040" cy="2560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Žádost </a:t>
            </a:r>
            <a:r>
              <a:rPr b="1" lang="cs-CZ" sz="2000" spc="-1" strike="noStrike">
                <a:solidFill>
                  <a:srgbClr val="000000"/>
                </a:solidFill>
                <a:latin typeface="Helvetica CE"/>
              </a:rPr>
              <a:t>nebyla finalizovaná</a:t>
            </a:r>
            <a:endParaRPr b="0" lang="en-US" sz="2000" spc="-1" strike="noStrike">
              <a:solidFill>
                <a:srgbClr val="000000"/>
              </a:solidFill>
              <a:latin typeface="Helvetica CE"/>
            </a:endParaRPr>
          </a:p>
          <a:p>
            <a:pPr marL="343080" indent="-343080" algn="just">
              <a:spcBef>
                <a:spcPts val="499"/>
              </a:spcBef>
              <a:buClr>
                <a:srgbClr val="bfbfb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bfbfbf"/>
                </a:solidFill>
                <a:latin typeface="Helvetica CE"/>
              </a:rPr>
              <a:t>Žádost </a:t>
            </a:r>
            <a:r>
              <a:rPr b="1" lang="cs-CZ" sz="2000" spc="-1" strike="noStrike">
                <a:solidFill>
                  <a:srgbClr val="bfbfbf"/>
                </a:solidFill>
                <a:latin typeface="Helvetica CE"/>
              </a:rPr>
              <a:t>nebyla</a:t>
            </a:r>
            <a:r>
              <a:rPr b="0" lang="cs-CZ" sz="2000" spc="-1" strike="noStrike">
                <a:solidFill>
                  <a:srgbClr val="bfbfbf"/>
                </a:solidFill>
                <a:latin typeface="Helvetica CE"/>
              </a:rPr>
              <a:t> odevzdaná </a:t>
            </a:r>
            <a:r>
              <a:rPr b="1" lang="cs-CZ" sz="2000" spc="-1" strike="noStrike">
                <a:solidFill>
                  <a:srgbClr val="bfbfbf"/>
                </a:solidFill>
                <a:latin typeface="Helvetica CE"/>
              </a:rPr>
              <a:t>v termín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líčová aktivita neodpovídají </a:t>
            </a:r>
            <a:r>
              <a:rPr b="0" lang="cs-CZ" sz="2000" spc="-1" strike="noStrike">
                <a:solidFill>
                  <a:srgbClr val="000000"/>
                </a:solidFill>
                <a:latin typeface="Helvetica CE"/>
              </a:rPr>
              <a:t>aktivitám stanoveným ve výzvě (např. řízení projekt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není právnickou osobo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je skrytým dodavatelem</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EAA97-A7A2-4E1B-98E7-71D56D0BD9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72" name=""/>
          <p:cNvSpPr txBox="1"/>
          <p:nvPr/>
        </p:nvSpPr>
        <p:spPr>
          <a:xfrm>
            <a:off x="1329840" y="1952640"/>
            <a:ext cx="6458040" cy="31910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CS nejsou v souladu </a:t>
            </a:r>
            <a:r>
              <a:rPr b="0" lang="cs-CZ" sz="2000" spc="-1" strike="noStrike">
                <a:solidFill>
                  <a:srgbClr val="000000"/>
                </a:solidFill>
                <a:latin typeface="Helvetica CE"/>
              </a:rPr>
              <a:t>s výzvou (např. studenti pražských VŠ)</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Překročena max. doba </a:t>
            </a:r>
            <a:r>
              <a:rPr b="0" lang="cs-CZ" sz="2000" spc="-1" strike="noStrike">
                <a:solidFill>
                  <a:srgbClr val="000000"/>
                </a:solidFill>
                <a:latin typeface="Helvetica CE"/>
              </a:rPr>
              <a:t>trvání projektu (např. 37 měsíců)</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ožadované fin. prostředky </a:t>
            </a:r>
            <a:r>
              <a:rPr b="1" lang="cs-CZ" sz="2000" spc="-1" strike="noStrike">
                <a:solidFill>
                  <a:srgbClr val="000000"/>
                </a:solidFill>
                <a:latin typeface="Helvetica CE"/>
              </a:rPr>
              <a:t>nejsou ve stanoveném limitu</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Překročeny limity kapitol</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Nedodrženo</a:t>
            </a:r>
            <a:r>
              <a:rPr b="0" lang="cs-CZ" sz="2000" spc="-1" strike="noStrike">
                <a:solidFill>
                  <a:srgbClr val="ff0000"/>
                </a:solidFill>
                <a:latin typeface="Helvetica CE"/>
              </a:rPr>
              <a:t> stanovené </a:t>
            </a:r>
            <a:r>
              <a:rPr b="1" lang="cs-CZ" sz="2000" spc="-1" strike="noStrike">
                <a:solidFill>
                  <a:srgbClr val="ff0000"/>
                </a:solidFill>
                <a:latin typeface="Helvetica CE"/>
              </a:rPr>
              <a:t>procento nepřímých nákladů</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3"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E420EE-74AF-4997-B27D-09F8E3BAA4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63160" y="1289160"/>
            <a:ext cx="6458040" cy="8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oznámení výsledku žadateli</a:t>
            </a:r>
            <a:endParaRPr b="1" lang="en-US" sz="3200" spc="-1" strike="noStrike">
              <a:solidFill>
                <a:srgbClr val="000000"/>
              </a:solidFill>
              <a:latin typeface="Helvetica CE"/>
            </a:endParaRPr>
          </a:p>
        </p:txBody>
      </p:sp>
      <p:sp>
        <p:nvSpPr>
          <p:cNvPr id="575" name=""/>
          <p:cNvSpPr txBox="1"/>
          <p:nvPr/>
        </p:nvSpPr>
        <p:spPr>
          <a:xfrm>
            <a:off x="1329840" y="2171880"/>
            <a:ext cx="6458040" cy="25034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uveřejnění na internetových stránkách MŠMT do 10 pracovních dnů od rozhodnutí ministryně školství</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www.msmt.cz/strukturalni-fondy/vysledk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informování písemně nebo prostřednictvím datových schránek </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76"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AB685F-0C56-4D34-BB03-51615A121A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531360" y="1260360"/>
            <a:ext cx="815508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Formální podoba žádosti a způsob jejího  předkládání</a:t>
            </a:r>
            <a:endParaRPr b="1" lang="en-US" sz="2400" spc="-1" strike="noStrike">
              <a:solidFill>
                <a:srgbClr val="000000"/>
              </a:solidFill>
              <a:latin typeface="Helvetica CE"/>
            </a:endParaRPr>
          </a:p>
        </p:txBody>
      </p:sp>
      <p:sp>
        <p:nvSpPr>
          <p:cNvPr id="578"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u="sng">
                <a:solidFill>
                  <a:srgbClr val="000000"/>
                </a:solidFill>
                <a:uFillTx/>
                <a:latin typeface="Helvetica CE"/>
              </a:rPr>
              <a:t>Předkládá se v zalepené obálce</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  tímto obsahem:</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Žádost o finanční podporu z OP VK – IP“  vytištěná  (po její finalizaci) z aplikace Benefit7 a podepsaná statutárním zástupcem (originál)</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a:t>
            </a:r>
            <a:r>
              <a:rPr b="0" lang="cs-CZ" sz="1800" spc="-1" strike="noStrike" u="sng">
                <a:solidFill>
                  <a:srgbClr val="0000ff"/>
                </a:solidFill>
                <a:uFillTx/>
                <a:latin typeface="Helvetica CE"/>
                <a:hlinkClick r:id="rId1"/>
              </a:rPr>
              <a:t>www.eu-zadost.cz</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vazek příloh (povinných i nepovinných) s úvodním listem podepsaným statutární zástupcem</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3.  CD-R s elektronickou verzí žádosti a ostaními přílohami ve formátu *.pdf</a:t>
            </a:r>
            <a:endParaRPr b="0" lang="en-US" sz="1800" spc="-1" strike="noStrike">
              <a:solidFill>
                <a:srgbClr val="000000"/>
              </a:solidFill>
              <a:latin typeface="Helvetica CE"/>
            </a:endParaRPr>
          </a:p>
        </p:txBody>
      </p:sp>
      <p:sp>
        <p:nvSpPr>
          <p:cNvPr id="57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8BB1A5-AA07-4FBA-94E1-75153B9176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u="sng">
                <a:solidFill>
                  <a:srgbClr val="000000"/>
                </a:solidFill>
                <a:uFillTx/>
                <a:latin typeface="Helvetica CE"/>
              </a:rPr>
              <a:t>Povinné údaje na přední straně obálky (zároveň adresa pro doručení poštou)</a:t>
            </a:r>
            <a:endParaRPr b="1" lang="en-US" sz="2400" spc="-1" strike="noStrike">
              <a:solidFill>
                <a:srgbClr val="000000"/>
              </a:solidFill>
              <a:latin typeface="Helvetica CE"/>
            </a:endParaRPr>
          </a:p>
        </p:txBody>
      </p:sp>
      <p:sp>
        <p:nvSpPr>
          <p:cNvPr id="581"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levo nahoř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zev a adresa žadate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Upozornění „NEOTVÍRAT“ pod adresou žadatele</a:t>
            </a:r>
            <a:endParaRPr b="0" lang="en-US" sz="1800" spc="-1" strike="noStrike">
              <a:solidFill>
                <a:srgbClr val="000000"/>
              </a:solidFill>
              <a:latin typeface="Helvetica CE"/>
            </a:endParaRPr>
          </a:p>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pravo do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armelitská 7</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18 12 Praha 1</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2"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94CDCA-34FB-4729-A711-C603545464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u="sng">
                <a:solidFill>
                  <a:srgbClr val="000000"/>
                </a:solidFill>
                <a:uFillTx/>
                <a:latin typeface="Helvetica CE"/>
              </a:rPr>
              <a:t>Povinné údaje na zadní straně obálky</a:t>
            </a:r>
            <a:endParaRPr b="1" lang="en-US" sz="2800" spc="-1" strike="noStrike">
              <a:solidFill>
                <a:srgbClr val="000000"/>
              </a:solidFill>
              <a:latin typeface="Helvetica CE"/>
            </a:endParaRPr>
          </a:p>
        </p:txBody>
      </p:sp>
      <p:sp>
        <p:nvSpPr>
          <p:cNvPr id="584"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programu: Operační program Vzdělávání pro konkurenceschopnost</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prioritní osy: 1 – Počáteční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oblasti podpory: 1.1 – Zvyšování kvality ve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výzvy: 26</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individuálního projektu ostatního: </a:t>
            </a:r>
            <a:r>
              <a:rPr b="0" i="1" lang="cs-CZ" sz="1800" spc="-1" strike="noStrike">
                <a:solidFill>
                  <a:srgbClr val="000000"/>
                </a:solidFill>
                <a:latin typeface="Helvetica CE"/>
              </a:rPr>
              <a:t>doplní žadatel</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a název podporované aktivity oblasti podpory 1.1: </a:t>
            </a:r>
            <a:r>
              <a:rPr b="0" i="1" lang="cs-CZ" sz="1800" spc="-1" strike="noStrike">
                <a:solidFill>
                  <a:srgbClr val="000000"/>
                </a:solidFill>
                <a:latin typeface="Helvetica CE"/>
              </a:rPr>
              <a:t>doplní žadatel </a:t>
            </a:r>
            <a:r>
              <a:rPr b="1" i="1" lang="cs-CZ" sz="1800" spc="-1" strike="noStrike">
                <a:solidFill>
                  <a:srgbClr val="000000"/>
                </a:solidFill>
                <a:latin typeface="Helvetica CE"/>
              </a:rPr>
              <a:t>(žadatel zvolí pouze jednu z</a:t>
            </a:r>
            <a:r>
              <a:rPr b="1" i="1" lang="en-US" sz="1800" spc="-1" strike="noStrike">
                <a:solidFill>
                  <a:srgbClr val="000000"/>
                </a:solidFill>
                <a:latin typeface="Helvetica CE"/>
              </a:rPr>
              <a:t> po</a:t>
            </a:r>
            <a:r>
              <a:rPr b="1" i="1" lang="cs-CZ" sz="1800" spc="-1" strike="noStrike">
                <a:solidFill>
                  <a:srgbClr val="000000"/>
                </a:solidFill>
                <a:latin typeface="Helvetica CE"/>
              </a:rPr>
              <a:t>dporovaných aktivit uvedených v bodě 4 této výzvy)</a:t>
            </a:r>
            <a:endParaRPr b="0" lang="en-US" sz="1800" spc="-1" strike="noStrike">
              <a:solidFill>
                <a:srgbClr val="000000"/>
              </a:solidFill>
              <a:latin typeface="Helvetica CE"/>
            </a:endParaRPr>
          </a:p>
        </p:txBody>
      </p:sp>
      <p:sp>
        <p:nvSpPr>
          <p:cNvPr id="585"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79E8E7-72D8-4AEE-A6C0-5EB9F15195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bsah semináře</a:t>
            </a:r>
            <a:endParaRPr b="1" lang="en-US" sz="3200" spc="-1" strike="noStrike">
              <a:solidFill>
                <a:srgbClr val="000000"/>
              </a:solidFill>
              <a:latin typeface="Helvetica CE"/>
            </a:endParaRPr>
          </a:p>
        </p:txBody>
      </p:sp>
      <p:sp>
        <p:nvSpPr>
          <p:cNvPr id="526" name=""/>
          <p:cNvSpPr txBox="1"/>
          <p:nvPr/>
        </p:nvSpPr>
        <p:spPr>
          <a:xfrm>
            <a:off x="1329840" y="2171520"/>
            <a:ext cx="6458040" cy="3173400"/>
          </a:xfrm>
          <a:prstGeom prst="rect">
            <a:avLst/>
          </a:prstGeom>
          <a:noFill/>
          <a:ln w="0">
            <a:noFill/>
          </a:ln>
        </p:spPr>
        <p:txBody>
          <a:bodyPr anchor="t">
            <a:normAutofit/>
          </a:bodyPr>
          <a:p>
            <a:pPr marL="399960" indent="-399960" algn="just">
              <a:spcBef>
                <a:spcPts val="499"/>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Základní informace k výzvě </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ěcná část výzvy</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Finanční řízení</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yplňování aplikace Benefit7+</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Diskuze</a:t>
            </a:r>
            <a:endParaRPr b="0" lang="en-US" sz="2400" spc="-1" strike="noStrike">
              <a:solidFill>
                <a:srgbClr val="000000"/>
              </a:solidFill>
              <a:latin typeface="Helvetica CE"/>
            </a:endParaRPr>
          </a:p>
          <a:p>
            <a:pPr marL="399960" indent="-399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p:txBody>
      </p:sp>
      <p:sp>
        <p:nvSpPr>
          <p:cNvPr id="52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E4B1E4-98E4-42F3-BA14-FB6875B5BC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u="sng">
                <a:solidFill>
                  <a:srgbClr val="000000"/>
                </a:solidFill>
                <a:uFillTx/>
                <a:latin typeface="Helvetica CE"/>
              </a:rPr>
              <a:t>Závazná pravidla pro přílohy</a:t>
            </a:r>
            <a:endParaRPr b="1" lang="en-US" sz="3200" spc="-1" strike="noStrike">
              <a:solidFill>
                <a:srgbClr val="000000"/>
              </a:solidFill>
              <a:latin typeface="Helvetica CE"/>
            </a:endParaRPr>
          </a:p>
        </p:txBody>
      </p:sp>
      <p:sp>
        <p:nvSpPr>
          <p:cNvPr id="587" name=""/>
          <p:cNvSpPr txBox="1"/>
          <p:nvPr/>
        </p:nvSpPr>
        <p:spPr>
          <a:xfrm>
            <a:off x="1329840" y="2171880"/>
            <a:ext cx="6458040" cy="27223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šechny přílohy musí být předloženy v listinné podobě v originále (nebo úředně ověřené kopii),</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musí být dodrženo stanovené řazení přílo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aždá příloha musí být označena pořadových číslem,</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kud je to relevantní, musí být přílohy podepsány statutárním/i zástupcem/zástup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095556-7C6F-4FA2-A1F3-B0A59281CF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Formální podoba žádosti a způsob jejího  předkládání</a:t>
            </a:r>
            <a:endParaRPr b="1" lang="en-US" sz="2800" spc="-1" strike="noStrike">
              <a:solidFill>
                <a:srgbClr val="000000"/>
              </a:solidFill>
              <a:latin typeface="Helvetica CE"/>
            </a:endParaRPr>
          </a:p>
        </p:txBody>
      </p:sp>
      <p:sp>
        <p:nvSpPr>
          <p:cNvPr id="590" name=""/>
          <p:cNvSpPr txBox="1"/>
          <p:nvPr/>
        </p:nvSpPr>
        <p:spPr>
          <a:xfrm>
            <a:off x="1329840" y="2149560"/>
            <a:ext cx="6458040" cy="341784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o </a:t>
            </a:r>
            <a:r>
              <a:rPr b="1" lang="cs-CZ" sz="1800" spc="-1" strike="noStrike">
                <a:solidFill>
                  <a:srgbClr val="a6a6a6"/>
                </a:solidFill>
                <a:latin typeface="Helvetica CE"/>
              </a:rPr>
              <a:t>datum</a:t>
            </a:r>
            <a:r>
              <a:rPr b="1" lang="cs-CZ" sz="1800" spc="-1" strike="noStrike">
                <a:solidFill>
                  <a:srgbClr val="e46c0a"/>
                </a:solidFill>
                <a:latin typeface="Helvetica CE"/>
              </a:rPr>
              <a:t>, čas</a:t>
            </a:r>
            <a:r>
              <a:rPr b="0" lang="cs-CZ" sz="1800" spc="-1" strike="noStrike">
                <a:solidFill>
                  <a:srgbClr val="000000"/>
                </a:solidFill>
                <a:latin typeface="Helvetica CE"/>
              </a:rPr>
              <a:t>– rozhoduje datum </a:t>
            </a:r>
            <a:r>
              <a:rPr b="1" lang="cs-CZ" sz="1800" spc="-1" strike="noStrike">
                <a:solidFill>
                  <a:srgbClr val="000000"/>
                </a:solidFill>
                <a:latin typeface="Helvetica CE"/>
              </a:rPr>
              <a:t>doručení zásilky</a:t>
            </a:r>
            <a:r>
              <a:rPr b="0" lang="cs-CZ" sz="1800" spc="-1" strike="noStrike">
                <a:solidFill>
                  <a:srgbClr val="000000"/>
                </a:solidFill>
                <a:latin typeface="Helvetica CE"/>
              </a:rPr>
              <a:t>, nikoliv datum odeslání.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00"/>
                </a:solidFill>
                <a:uFillTx/>
                <a:latin typeface="Helvetica CE"/>
              </a:rPr>
              <a:t>Adresa pro osobní doručení</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CORSO IIa, 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řižíkova 34/148</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86 00 Praha 8 - Karlín</a:t>
            </a:r>
            <a:endParaRPr b="0" lang="en-US" sz="1800" spc="-1" strike="noStrike">
              <a:solidFill>
                <a:srgbClr val="000000"/>
              </a:solidFill>
              <a:latin typeface="Helvetica CE"/>
            </a:endParaRPr>
          </a:p>
        </p:txBody>
      </p:sp>
      <p:sp>
        <p:nvSpPr>
          <p:cNvPr id="59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0A6C91-435E-436A-B8FD-3B6D1EE1D1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440" y="1351080"/>
            <a:ext cx="5486400" cy="40161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4400" spc="-1" strike="noStrike">
                <a:solidFill>
                  <a:srgbClr val="f3912c"/>
                </a:solidFill>
                <a:latin typeface="Helvetica CE"/>
              </a:rPr>
              <a:t>Děkuji za pozornost</a:t>
            </a:r>
            <a:br>
              <a:rPr sz="4400"/>
            </a:br>
            <a:br>
              <a:rPr sz="2000"/>
            </a:br>
            <a:r>
              <a:rPr b="1" lang="cs-CZ" sz="2000" spc="-1" strike="noStrike">
                <a:solidFill>
                  <a:srgbClr val="000000"/>
                </a:solidFill>
                <a:latin typeface="Helvetica CE"/>
              </a:rPr>
              <a:t>Ing. Marie Kaufnerová</a:t>
            </a:r>
            <a:br>
              <a:rPr sz="2000"/>
            </a:br>
            <a:r>
              <a:rPr b="1" lang="cs-CZ" sz="2000" spc="-1" strike="noStrike">
                <a:solidFill>
                  <a:srgbClr val="000000"/>
                </a:solidFill>
                <a:latin typeface="Helvetica CE"/>
              </a:rPr>
              <a:t>Projektová manažerka OP VK</a:t>
            </a:r>
            <a:br>
              <a:rPr sz="2000"/>
            </a:br>
            <a:r>
              <a:rPr b="1" lang="cs-CZ" sz="2000" spc="-1" strike="noStrike">
                <a:solidFill>
                  <a:srgbClr val="000000"/>
                </a:solidFill>
                <a:latin typeface="Helvetica CE"/>
              </a:rPr>
              <a:t>Odbor CERA</a:t>
            </a:r>
            <a:br>
              <a:rPr sz="2000"/>
            </a:br>
            <a:r>
              <a:rPr b="1" lang="cs-CZ" sz="2000" spc="-1" strike="noStrike">
                <a:solidFill>
                  <a:srgbClr val="000000"/>
                </a:solidFill>
                <a:latin typeface="Helvetica CE"/>
              </a:rPr>
              <a:t>Ministerstvo školství, mládeže a tělovýchovy ČR</a:t>
            </a:r>
            <a:br>
              <a:rPr sz="2000"/>
            </a:br>
            <a:r>
              <a:rPr b="1" lang="cs-CZ" sz="2000" spc="-1" strike="noStrike" u="sng">
                <a:solidFill>
                  <a:srgbClr val="000000"/>
                </a:solidFill>
                <a:uFillTx/>
                <a:latin typeface="Helvetica CE"/>
              </a:rPr>
              <a:t>e-mail:</a:t>
            </a:r>
            <a:r>
              <a:rPr b="1" lang="cs-CZ" sz="2000" spc="-1" strike="noStrike">
                <a:solidFill>
                  <a:srgbClr val="000000"/>
                </a:solidFill>
                <a:latin typeface="Helvetica CE"/>
              </a:rPr>
              <a:t> </a:t>
            </a:r>
            <a:r>
              <a:rPr b="1" lang="cs-CZ" sz="2000" spc="-1" strike="noStrike" u="sng">
                <a:solidFill>
                  <a:srgbClr val="0000ff"/>
                </a:solidFill>
                <a:uFillTx/>
                <a:latin typeface="Helvetica CE"/>
                <a:hlinkClick r:id="rId1"/>
              </a:rPr>
              <a:t>marie.kaufnerova@msmt.cz</a:t>
            </a:r>
            <a:br>
              <a:rPr sz="2000"/>
            </a:br>
            <a:r>
              <a:rPr b="1" lang="cs-CZ" sz="2000" spc="-1" strike="noStrike">
                <a:solidFill>
                  <a:srgbClr val="000000"/>
                </a:solidFill>
                <a:latin typeface="Helvetica CE"/>
              </a:rPr>
              <a:t>tel.: 234 814 233</a:t>
            </a:r>
            <a:br>
              <a:rPr sz="2000"/>
            </a:br>
            <a:br>
              <a:rPr sz="2000"/>
            </a:br>
            <a:endParaRPr b="1" lang="en-US" sz="2000" spc="-1" strike="noStrike">
              <a:solidFill>
                <a:srgbClr val="000000"/>
              </a:solidFill>
              <a:latin typeface="Helvetica CE"/>
            </a:endParaRPr>
          </a:p>
        </p:txBody>
      </p:sp>
      <p:sp>
        <p:nvSpPr>
          <p:cNvPr id="593"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C5842F-2FD2-44AB-A12A-911BE4EB4A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371600" y="1249200"/>
            <a:ext cx="6283440" cy="97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Termíny výzev a typy podporovaných projektů</a:t>
            </a:r>
            <a:endParaRPr b="1" lang="en-US" sz="2800" spc="-1" strike="noStrike">
              <a:solidFill>
                <a:srgbClr val="000000"/>
              </a:solidFill>
              <a:latin typeface="Helvetica CE"/>
            </a:endParaRPr>
          </a:p>
        </p:txBody>
      </p:sp>
      <p:sp>
        <p:nvSpPr>
          <p:cNvPr id="529" name=""/>
          <p:cNvSpPr txBox="1"/>
          <p:nvPr/>
        </p:nvSpPr>
        <p:spPr>
          <a:xfrm>
            <a:off x="1371600" y="2498400"/>
            <a:ext cx="6283440" cy="27385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vyhlášení výzvy: </a:t>
            </a:r>
            <a:r>
              <a:rPr b="0" lang="cs-CZ" sz="2000" spc="-1" strike="noStrike">
                <a:solidFill>
                  <a:srgbClr val="000000"/>
                </a:solidFill>
                <a:latin typeface="Helvetica CE"/>
              </a:rPr>
              <a:t> </a:t>
            </a:r>
            <a:r>
              <a:rPr b="1" lang="cs-CZ" sz="2000" spc="-1" strike="noStrike">
                <a:solidFill>
                  <a:srgbClr val="ff0000"/>
                </a:solidFill>
                <a:latin typeface="Helvetica CE"/>
              </a:rPr>
              <a:t>14. prosince 2010</a:t>
            </a: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ukončení výzvy:  </a:t>
            </a:r>
            <a:r>
              <a:rPr b="0" lang="cs-CZ" sz="2000" spc="-1" strike="noStrike">
                <a:solidFill>
                  <a:srgbClr val="000000"/>
                </a:solidFill>
                <a:latin typeface="Helvetica CE"/>
              </a:rPr>
              <a:t> </a:t>
            </a:r>
            <a:r>
              <a:rPr b="1" lang="cs-CZ" sz="2000" spc="-1" strike="noStrike">
                <a:solidFill>
                  <a:srgbClr val="ff0000"/>
                </a:solidFill>
                <a:latin typeface="Helvetica CE"/>
              </a:rPr>
              <a:t>10. února 2011 </a:t>
            </a:r>
            <a:endParaRPr b="0" lang="en-US" sz="2000" spc="-1" strike="noStrike">
              <a:solidFill>
                <a:srgbClr val="000000"/>
              </a:solidFill>
              <a:latin typeface="Helvetica CE"/>
            </a:endParaRPr>
          </a:p>
          <a:p>
            <a:pPr marL="343080" indent="-343080">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                                               </a:t>
            </a:r>
            <a:r>
              <a:rPr b="1" lang="cs-CZ" sz="2000" spc="-1" strike="noStrike">
                <a:solidFill>
                  <a:srgbClr val="ff0000"/>
                </a:solidFill>
                <a:latin typeface="Helvetica CE"/>
              </a:rPr>
              <a:t>ve 13:00</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Individuální projekty ostatní - IPo</a:t>
            </a:r>
            <a:endParaRPr b="0" lang="en-US" sz="2000" spc="-1" strike="noStrike">
              <a:solidFill>
                <a:srgbClr val="000000"/>
              </a:solidFill>
              <a:latin typeface="Helvetica CE"/>
            </a:endParaRPr>
          </a:p>
        </p:txBody>
      </p:sp>
      <p:sp>
        <p:nvSpPr>
          <p:cNvPr id="53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356709-7087-4EA2-B015-61766D2260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Celková alokovaná finanční částka:</a:t>
            </a:r>
            <a:endParaRPr b="1" lang="en-US" sz="2800" spc="-1" strike="noStrike">
              <a:solidFill>
                <a:srgbClr val="000000"/>
              </a:solidFill>
              <a:latin typeface="Helvetica CE"/>
            </a:endParaRPr>
          </a:p>
        </p:txBody>
      </p:sp>
      <p:sp>
        <p:nvSpPr>
          <p:cNvPr id="532" name=""/>
          <p:cNvSpPr txBox="1"/>
          <p:nvPr/>
        </p:nvSpPr>
        <p:spPr>
          <a:xfrm>
            <a:off x="1329840" y="2171520"/>
            <a:ext cx="6458040" cy="31734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170 000 000,- Kč</a:t>
            </a:r>
            <a:endParaRPr b="0" lang="en-US" sz="2400" spc="-1" strike="noStrike">
              <a:solidFill>
                <a:srgbClr val="000000"/>
              </a:solidFill>
              <a:latin typeface="Helvetica CE"/>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Výše nákladů na 1 projekt – 5 – 30 mil. podle typu podporované aktivity</a:t>
            </a:r>
            <a:endParaRPr b="0" lang="en-US" sz="2000" spc="-1" strike="noStrike">
              <a:solidFill>
                <a:srgbClr val="000000"/>
              </a:solidFill>
              <a:latin typeface="Helvetica CE"/>
            </a:endParaRPr>
          </a:p>
        </p:txBody>
      </p:sp>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DA815F-6007-4E5A-BE49-03C404C225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4" name=""/>
          <p:cNvGraphicFramePr/>
          <p:nvPr/>
        </p:nvGraphicFramePr>
        <p:xfrm>
          <a:off x="925560" y="1522440"/>
          <a:ext cx="6961320" cy="4844880"/>
        </p:xfrm>
        <a:graphic>
          <a:graphicData uri="http://schemas.openxmlformats.org/drawingml/2006/table">
            <a:tbl>
              <a:tblPr/>
              <a:tblGrid>
                <a:gridCol w="382680"/>
                <a:gridCol w="666720"/>
                <a:gridCol w="4228920"/>
                <a:gridCol w="585720"/>
                <a:gridCol w="1097280"/>
              </a:tblGrid>
              <a:tr h="119520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Označení aktivity v textu</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Podporovaná aktivita</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Alokace v mil. Kč</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Min. a max. částka dotace na jednotlivý projekt v mil. Kč</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1.</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a)</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zavádění nového doplňujícího vzdělávacího oboru „Etická výchova“ do výuky na základních školách dle Opatření MŠMT č. j. 12586/2009-22.</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5126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2.</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ýuky moderních československých a českých dějin 20. století v mezinárodních souvisloste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3.</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matematické gramotnosti.</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4.</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d)</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badatelských aktivit žáků ZŠ i SŠ v přírodních vědá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2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825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5.</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Spolupráce institucí počátečního vzdělávání se státní správou a samosprávou s možností uplatnění inovativních forem spolupráce včetně zapojení škol do komunitního rozvoje.</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6.</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zdělávání žáků prostřednictvím průběžného hodnocení.</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62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Celkem</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7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5"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FDADD0-FA21-49A1-B314-146E1B1EFA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TextovéPole 4"/>
          <p:cNvSpPr/>
          <p:nvPr/>
        </p:nvSpPr>
        <p:spPr>
          <a:xfrm>
            <a:off x="925560" y="1154160"/>
            <a:ext cx="696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Times New Roman"/>
                <a:ea typeface="Times New Roman"/>
              </a:rPr>
              <a:t>III.</a:t>
            </a:r>
            <a:r>
              <a:rPr b="1" lang="cs-CZ" sz="1800" spc="-1" strike="noStrike" u="sng">
                <a:solidFill>
                  <a:srgbClr val="000000"/>
                </a:solidFill>
                <a:uFillTx/>
                <a:latin typeface="Times New Roman"/>
                <a:ea typeface="Times New Roman"/>
              </a:rPr>
              <a:t> Alokace finančn</a:t>
            </a:r>
            <a:r>
              <a:rPr b="1" lang="cs-CZ" sz="1800" spc="-1" strike="noStrike" u="sng">
                <a:solidFill>
                  <a:srgbClr val="000000"/>
                </a:solidFill>
                <a:uFillTx/>
                <a:latin typeface="Arial"/>
                <a:ea typeface="Times New Roman"/>
              </a:rPr>
              <a:t>í</a:t>
            </a:r>
            <a:r>
              <a:rPr b="1" lang="cs-CZ" sz="1800" spc="-1" strike="noStrike" u="sng">
                <a:solidFill>
                  <a:srgbClr val="000000"/>
                </a:solidFill>
                <a:uFillTx/>
                <a:latin typeface="Times New Roman"/>
                <a:ea typeface="Times New Roman"/>
              </a:rPr>
              <a:t>ch prostředků výzvy na jednotliv</a:t>
            </a:r>
            <a:r>
              <a:rPr b="1" lang="cs-CZ" sz="1800" spc="-1" strike="noStrike" u="sng">
                <a:solidFill>
                  <a:srgbClr val="000000"/>
                </a:solidFill>
                <a:uFillTx/>
                <a:latin typeface="Arial"/>
                <a:ea typeface="Times New Roman"/>
              </a:rPr>
              <a:t>é</a:t>
            </a:r>
            <a:r>
              <a:rPr b="1" lang="cs-CZ" sz="1800" spc="-1" strike="noStrike" u="sng">
                <a:solidFill>
                  <a:srgbClr val="000000"/>
                </a:solidFill>
                <a:uFillTx/>
                <a:latin typeface="Times New Roman"/>
                <a:ea typeface="Times New Roman"/>
              </a:rPr>
              <a:t> podak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právněnost žadatele</a:t>
            </a:r>
            <a:endParaRPr b="1" lang="en-US" sz="3200" spc="-1" strike="noStrike">
              <a:solidFill>
                <a:srgbClr val="000000"/>
              </a:solidFill>
              <a:latin typeface="Helvetica CE"/>
            </a:endParaRPr>
          </a:p>
        </p:txBody>
      </p:sp>
      <p:sp>
        <p:nvSpPr>
          <p:cNvPr id="538"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Seznam uveden ve výzvě</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Další kritéria dle Příručky pro žadatel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dravotním pojišťovnám</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E2BBBD-96E4-4E52-B205-5088BC3D5D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9652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ství</a:t>
            </a:r>
            <a:endParaRPr b="1" lang="en-US" sz="3200" spc="-1" strike="noStrike">
              <a:solidFill>
                <a:srgbClr val="000000"/>
              </a:solidFill>
              <a:latin typeface="Helvetica CE"/>
            </a:endParaRPr>
          </a:p>
        </p:txBody>
      </p:sp>
      <p:sp>
        <p:nvSpPr>
          <p:cNvPr id="541"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F1BB73-5AD2-43CC-BAD7-A9D8699FED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2" name="TextovéPole 3"/>
          <p:cNvSpPr/>
          <p:nvPr/>
        </p:nvSpPr>
        <p:spPr>
          <a:xfrm>
            <a:off x="1330200" y="2505240"/>
            <a:ext cx="5826240" cy="283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realizace projektu samostatně nebo ve spolupráci s partnerskými organizacemi,</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 s finančním příspěvkem nebo partner bez finančního příspěvku</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ství nesmí nahrazovat poskytování běžně dostupných služeb na trhu ani dodávku běžného zboží (partner nesmí být skrytým dodavatelem).</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a:t>
            </a:r>
            <a:endParaRPr b="1" lang="en-US" sz="3200" spc="-1" strike="noStrike">
              <a:solidFill>
                <a:srgbClr val="000000"/>
              </a:solidFill>
              <a:latin typeface="Helvetica CE"/>
            </a:endParaRPr>
          </a:p>
        </p:txBody>
      </p:sp>
      <p:sp>
        <p:nvSpPr>
          <p:cNvPr id="544"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813571-43FE-42B1-ADDE-DD1F183E07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TextovéPole 3"/>
          <p:cNvSpPr/>
          <p:nvPr/>
        </p:nvSpPr>
        <p:spPr>
          <a:xfrm>
            <a:off x="1330200" y="2583000"/>
            <a:ext cx="681840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ritéria dle Příručky pro žadatel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ávnická osob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ídlo na území Č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Doba trvání a území dopadu podporovaných aktivit</a:t>
            </a:r>
            <a:endParaRPr b="1" lang="en-US" sz="3200" spc="-1" strike="noStrike">
              <a:solidFill>
                <a:srgbClr val="000000"/>
              </a:solidFill>
              <a:latin typeface="Helvetica CE"/>
            </a:endParaRPr>
          </a:p>
        </p:txBody>
      </p:sp>
      <p:sp>
        <p:nvSpPr>
          <p:cNvPr id="547" name=""/>
          <p:cNvSpPr txBox="1"/>
          <p:nvPr/>
        </p:nvSpPr>
        <p:spPr>
          <a:xfrm>
            <a:off x="1174320" y="2487600"/>
            <a:ext cx="6458040" cy="25970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ax. 36 měsíc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ukončení projektu nejpozději 30. 6. 2015</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šechny regiony České republiky mimo území NUTS II hl. města Prah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ídlo žadatele může být na celém území ČR včetně NUTS II hl. m. Prahy</a:t>
            </a:r>
            <a:endParaRPr b="0" lang="en-US" sz="1800" spc="-1" strike="noStrike">
              <a:solidFill>
                <a:srgbClr val="000000"/>
              </a:solidFill>
              <a:latin typeface="Helvetica CE"/>
            </a:endParaRPr>
          </a:p>
        </p:txBody>
      </p:sp>
      <p:sp>
        <p:nvSpPr>
          <p:cNvPr id="54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B03D8B-EEC1-417D-80B1-83EADEBFB0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7:09:51Z</dcterms:created>
  <dc:creator>Amos Amos</dc:creator>
  <dc:description/>
  <dc:language>en-US</dc:language>
  <cp:lastModifiedBy>ugh</cp:lastModifiedBy>
  <dcterms:modified xsi:type="dcterms:W3CDTF">2010-12-30T08:36:00Z</dcterms:modified>
  <cp:revision>56</cp:revision>
  <dc:subject/>
  <dc:title>Titulní strana – Titulek</dc:title>
</cp:coreProperties>
</file>