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8955F-23DB-444B-ADF5-20B06F58C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1162D-A349-49C3-83F1-89434444B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2B67D-9399-4635-949D-AA3537080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áložce žadatel opět vyplníte všechna povinná pole. Pole podíl na nákladech – zde uvedete výši podílu žadatele na výdajích projektu, v případě, že nemá žadatel partnera, bude se tato částka rovnat celkovým výdajů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187B0-2320-4A6E-9CDD-DFC8B1F18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sledními povinnými poli na této záložce jsou zkušennosti žadatele. Dbejte na konkrétnost uvedených dat vzhledem k projektu. Uvedené zkušenosti musí být ověřiteln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CDD53-A769-467A-A4E5-132057DFB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adresa pro doručení shodná s oficiální adresou, je možné použít tlačítko kopírovat záznam a po té už jen změnit typ adresy. V opačném případě zvolíte tlačítko nový záznam a adresu vyplníte. Nezapomeňte po vyplnění všech polí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24B05-7FED-4311-9737-AC916A511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této záložky se uvádějí osoby, které budou zastupovat žadatele. Vždy je nutné uvést právě jednoho statutárního zástupce a kontaktní osobu. Musí být uvedeni všichni statutární zástupci se společným podpisovým práv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C7A41-1214-4A57-A433-C55512B3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partner má podobná políčka jako záložka týkající se žadatele. V případě, že do projektu není zapojen žádný partner, záložky týkající se partnera se nezobrazí. V případě, že je do projektu zapojeno více partnerů je možné přidat příslušný počet polí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34072-EAA7-420C-BC4C-2E5DFF27C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lňte zbylá povinná pole dle zadání. Nezapomeňte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BE038-CC18-4301-9244-779247CC9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plnění všech polí opět nezapomeňt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2BEFF-9259-4C2A-B0C8-624CF6284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záložce žadatel specifikuje konkrétní místo, na které bude mít projekt dopad – území jehož se dotknou přínosy projektu. Oblast území dopadu nemusí být identická s adresou žadatele. Označenými tlačítky probíhá výběr územ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DB22D-2530-4F33-ABEF-914FEE907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elkem způsobilé výdaje se načítají automati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22885-D730-44F6-86B8-DA3376655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ručka „Jak vyplnit projektovou žádost“ naleznete na webových stránkách MŠM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0B7BD-73E6-47CB-A2F1-174D64AD4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 podrobně klíčovou aktivitu, dbejte n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KRÉTNOS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uvedených dat vzhledem k projektu. Veškeré uvedené skutečnosti jsou základním předmětem hodnocení projektu. KA obsahuje pouze aktivity hrazené z přímých náklad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D7F29-02E3-4E11-AD5D-9B8FD133D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armonogram vyplňujte po jednotlivých aktivitách a pro jednotlivé ro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ADC46-9C72-4D3A-B75F-E166EEAAD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C40C9-5747-4844-AF45-FA3F86768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záložce rozpočet projektu žadatel podrobně rozepíše finanční náležitosti jednotlivých relevantních položek.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 rozpočtu není nastavena automatická kontrola limitů jednotlivých kapito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6400A-2B7C-46AA-8C91-8F9CD56BD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berte z číselníku ze tří možností, jaký vliv má Váš proje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22614-8C45-4E6D-AFF3-C75E8EDED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indikátoru je nutné záložku uložit a použít tlačítko Nový záznam k zadání dalšího indikáto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1AD6-61E4-4D91-9238-8B73D2437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krétní pravidla týkající se povinné publicity naleznete v Příručce pro žadatele a v Příručce pro příjemce. 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1A042-8643-49E2-B213-685BBE7A8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á aplikace Benefit 7 je všem uživatelům přístupná na této internetové adr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621C3-6A69-426B-A2B0-2036D0D31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ojektu je nutné zálož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a použít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zadání dalšíh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8056E-3238-4792-9F61-D5CAF6E9E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6179F-B7AD-4128-B5F7-EDAF79166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v žádosti vše v pořádku, objeví se tabulka s textem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trola proběhla v pořádk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ECEFF-58BE-41F0-810B-D27C4F2F3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 důležité aby tištěná verze měla stejný HASH kód s elektronickou finálně uloženou webovou žádost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E82AB-7E90-4157-B76D-162B53C95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pro vytvoření žádosti o poskytnutí dotace v aplikaci Benefit7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registrace uživate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všech záložkách Benefitové žádosti je vždy nezbytn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it žlutá po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vyplnění registračního formuláře Vám bude na mailovou adresu zaslán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ační klíč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tento klíč kliknete a po té Vám bude účet aktivován.  Po úspěšné aktivaci se můžete přihlásit do aplikace Benefit7 vyplněním přihlašovacích údajů a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ihlásit s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0F98D-AE55-4B6A-9CD4-0279B092F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louží jako seznam/přehled všech vytvořených žádostí, které žadatel vytvořil či k nim má příst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66084-E1DB-4991-95CF-3C9FE1AE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e seznamu formulářů vyberete OP VK – OP Vzdělávání a konkurenceschopnost. Pak je nutné vybrat správný typ výzvy, který je uveden v samotné výzv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215E4-03B5-431C-ADEC-C8ECAD532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a žlutá pole jsou povinná, povinné pole musí být vždy vyplněno. Ostatní pole jsou nepovinná a nebo se vyplní automaticky s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ě ukládejte každou zálož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7933C-F949-47BD-8EAD-F4C52B908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je opět nezbytné doplnit všechna povinná pole. Některé údaje je možné doplnit pomocí číselní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by měl být jednoznačný, stručný a výstižný. Je možné zadat max.50 znak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krácený název, název anglicky. Harmonogram projektu - po vyplnění předpokládaného data zahájení a ukonč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alizace projektu, a 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se automaticky doplní předpokládaná doba trvání projektu v měsíc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2CE13-BC4C-48B2-A3C1-4A8749A14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k vyplnění této záložky je vyplnění IČ (osmimístné číslo). Správnost IČ je nutné zkontrolovat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alidace ARES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úspěšné validaci, dojde k načtení základních údajů uvedených v registru ekonomických subjektů Ministerstva financí Č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98C52-1044-4857-8E60-6307761BA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24A-3C65-41ED-B85F-A5DD1926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C67-D260-4161-99FF-0AC81BC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C638F-4155-4A7C-9D16-C437DCE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3DA7C-0495-44DE-930C-6F77799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AAB16-02E7-4CF8-BC76-3D2725F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CE24-67FF-4EFE-9217-BE7E1F7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5B82-C703-4844-8BD1-A4D333C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D3F77-0845-4F2B-8E54-8921A01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EFFC6-CCE8-4DA8-A67C-12231A9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A54C1-0BE9-4AD0-80C1-4DB657C6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FC97-68AC-4080-BC23-E328DEF4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F33F0-478A-49D9-9D60-4E22EA30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E5F-22F0-4A98-98F3-80A92A98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25FCA-8922-4B9B-94D8-CBD5507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BA78E-2ADA-4EFC-893F-AF3F1BD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3677C-56C5-406E-90F6-509B6A13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51C2F-046A-4CC5-9F5A-6C6B08D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D5B2-D617-491C-9919-47F6690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D616A-9B04-40EB-9FA0-BEAC486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B797A-A021-4146-A4E1-88F21EE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DBEA6-9ACE-4BCF-8DA4-4617C7B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889B-720F-471D-9338-975FEF4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DD23D-A419-4CA6-B983-0D3A4DEA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39F-4D77-4AA4-BC67-31CB7424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81E2B-FC08-40D1-B638-A277BBA8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6E09D-400A-4710-BDD0-B7A48ED0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FDE77-AA65-41F9-83A3-EB24220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14EC2-00F2-4D3A-85C8-75DEF307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32016-DF65-4D70-A365-18312CF7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5724A-21DF-4B18-83AE-404BFF6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02D6-526B-4A62-806D-9DA56DA3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BB765-BB28-4F4E-B40C-F9F6BC4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63E9B-F15D-4EC2-851E-527B774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870E7-5DDE-438D-9F93-EF82868E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528-6A1A-48AD-902F-8E218452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3FB13-953D-4412-B8C4-2A22171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700A-CFF9-46D4-B64D-30FA2D61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BC31C-0127-432E-8116-9081A2FF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724BE-B5DB-4912-861C-83D15287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0C7F-5763-4507-B399-FFCD15BA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9CAFC-000B-458A-A52E-B83056B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68C9-9984-4F87-A6FE-DBC42FF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19B63-ABD8-4BB9-B8DB-CEC2E416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50550-C765-45D9-82F9-30BB9A5C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7B93-6ACC-426C-A5F4-D8B215D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5F6-CB76-4F63-A37E-CFF540D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70D52-DBD9-44DC-ABD7-F729139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FF963-B401-4B33-8133-457D978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5DE09-6794-4FC4-AF14-242C0829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96E2D-670A-4392-A2E7-791449C8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22BD4-5765-4A90-BCAC-97F8AA2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9AD1-766D-46B2-8646-7D98CC4E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82FE-2ECE-4D6F-8868-9D7294A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8079-C941-4DF3-9697-43EB8EB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74F-9437-4EA8-8C78-80ADC504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1291-368E-48DD-B96D-E135ADE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A93-2A45-4E4C-B95E-584A438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DFC-27CB-4C9C-8D2D-13C11BD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2217-68A4-4D39-B0F2-752DB27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A1B0-DFA5-4C95-BA4F-FFDA1DC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57BB-5BCF-4A82-B6C4-0206955E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2E90-2D4E-4514-A05D-966BDAC2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2251-A8D0-4B52-9972-7DF9AAD7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7E16-9589-45D4-B386-C0DDEF31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A4F6-AD0B-43A8-9074-63C3FA30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1660-4F20-410C-AFD2-283F8D50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FECB-24F3-42CA-B8E5-CD08388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EFB-5314-41BE-B6E0-DB44296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5AAD-818E-40C3-848C-6B7ACF8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D158-59C1-4CAB-B5D0-146B339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D2DE-8579-401E-AF4B-5BE92A3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2D9A-1555-4CF8-8D46-2DDA5D5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820E-FE8D-46DB-AB9A-E4E2C13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9394-1066-417E-A8D1-CAEF051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68C3-567F-47E3-A344-11DD04EF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4726-387A-4772-BA59-4302C8C7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9855-EB01-42C5-8B66-BF4A33AB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D40C-8126-4F85-AD46-53A870A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E80-632A-4FBB-8434-E13922E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6AA2-9359-47D5-806B-50A1CE3A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FC5F-857C-448D-B022-5876A30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A967-91B2-4DC0-8284-0990E12B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152A-49CF-45F9-92DA-AA1BB4B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ADB1-90CB-4CE1-A865-20BD513D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9DB0-E642-414D-9E54-98E3CC9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1EAC-5EEA-4EF7-A9C1-B7ACBECD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5901-646A-41E7-9C12-168E5360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EDA1-6F27-41EC-BE89-08517584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0E49-0CE2-4E86-B428-0706CEA2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197-AC47-44AC-81AE-7F60C01C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5915-FA57-49D5-A43D-D8BFE73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AF7F-89AE-4FBD-B20C-B5E63C2C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BC6C-603D-4BD0-8B29-201636E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D680-D825-4BA8-8D06-4A0C01A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D444-4D94-4612-A2DF-45F3D910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61C1-CE19-4FDA-85FC-089E084C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B5A8-FEDB-4DE7-83C0-EDC7AB4F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0090-1B39-482B-ADC1-ACB1A91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06B7-261F-43AA-922A-EB5BF32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BF61-35B9-4486-A1F2-6235FAB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079-E9B2-47A5-A9B6-4DC7E2DB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B51CE-B59C-4953-9C6E-5BECD821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DF1F-17C1-4735-948D-7D3FE1F7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CE3F-E393-40C0-BE86-67A3F690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7B46-6B9B-4BD1-9191-588FE46C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6160-3BBC-4807-94F5-3F167507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16CA-277D-47C4-A1AB-AA27A68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3846-FA71-477E-AAD8-8D2358C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35DE-2855-49F0-ADD4-BA81AF2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BF5E-7245-4E37-A3B1-2EDB4A5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61BB4-1A11-4354-9AE4-3991F45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A1F-92AC-4351-A9E8-BAED78E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262C-8C9B-445A-9E77-9531E3D1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5123-C267-4531-8A72-7C58F0AD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F758-A192-47A5-AEDB-5F1445D0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0E9E-5B20-4EE2-B384-D6DB7134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35CDE-0CF2-4E6A-BAAD-AFB83A94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AD98-231C-4610-AFA1-36A0496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F40E1-B738-4091-A73E-F3AA3D8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AFD8-DD86-4D4B-9FA2-59896FC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F7FF6-9CCF-4530-BE60-621D43E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3A12-BDC6-4BEA-AB09-94599DA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4D3-35B7-4E4B-BC74-E9674B2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CB03-C5A5-44D4-9F02-339974D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44C0-5229-4551-AAA8-F976E3D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5611-AA91-481B-8CE2-02728A3B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EAF0-F33C-4066-A564-061AF599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7FB8-13DC-4117-BF04-240B1D94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6152-BCF8-4D97-9311-910CB34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57FC-2A0A-488D-8142-DEC1CB0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EC6EA-C6B7-4C0B-978A-81E811A3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9889E-DF9B-4594-B58C-2B263D1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E596-CCED-4A80-BA6B-0870059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E28-0F03-419D-9EC3-178D8C3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D99A0-0475-43B9-9DD4-B37DE69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CA6F-86A9-4004-A270-4BEC851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33DDE-DC9B-4C83-8263-C859693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11A94-7B29-4BCD-BE81-90CC5C1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B4ACF-4827-4745-908F-D705DF5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7F298-3FDA-4657-86FE-974AD44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E29E3-3206-403D-B2D0-BF0D4EB6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CCD13-1DB7-40AB-8EE0-1F789156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000DD-0AAA-4847-BA97-5FCAE7F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DDC0-C59C-4068-85C9-FCE0288C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552EB-C5E1-4C3B-B2D8-311C54BAB3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E8F71-62CB-4F2C-B70C-1029F440E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9E8AD9F6-A175-49AB-8E62-51344A7D4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54842-C767-478E-B9AF-B3E9B09810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2B798-0EFD-4ED3-A9DC-DB4FE19CB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4EBB1-55C3-4794-9289-17678509E4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0A2E1-4EFF-453E-97B1-9DA3EBA92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E627A-7FA3-4294-ABBD-F9858FE79C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6D5FF-EA01-4788-9DE7-972781DA5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A97CD-AD48-43DB-BCC8-588A40A826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438CF-4908-4890-A965-A2A3CEB3B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3221-E154-4076-9719-77EF64CDC2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27537-A801-4C94-96CA-7750192F9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0D128-5360-4188-96E8-599EA128ED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9F1C0-19D4-427A-A37C-83E1F48BC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B35DA-2797-4EC9-9A64-5E9CD53237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E1287-176A-4D31-87A4-52473062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27849-D447-47A9-8CE5-2D232A76D3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A183D-A484-4BAA-9E66-3B1FE128F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DFBCF-DD7F-4C3A-B212-6508F779A4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D4C76-A3B0-4E5B-9A13-1651246B8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A1EF4-319E-4879-89AD-9E65EA1A00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5F44A-D056-40DD-9FCE-BB8D06A2A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32C9A-DEFC-46E2-8AFD-07E8013C53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612E3-F7C1-4CCA-9328-BF6658B2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jak-vyplnit-webovou-zados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Benefit7</a:t>
            </a: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Jak vyplnit projektovou žádost“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55392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enisa Kolouchová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61640" y="1952640"/>
            <a:ext cx="69166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    a načtená data neodpovídala skutečnosti, je nutno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ADR (Ministerstvo práce a sociálních věcí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62537-0C0B-46C2-9297-16441E4F7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900000"/>
            <a:ext cx="64580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8CC45-8879-417E-BCED-5531755B7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Obrázek 5" descr="1.JPG"/>
          <p:cNvPicPr/>
          <p:nvPr/>
        </p:nvPicPr>
        <p:blipFill>
          <a:blip r:embed="rId1"/>
          <a:stretch/>
        </p:blipFill>
        <p:spPr>
          <a:xfrm>
            <a:off x="1073160" y="1658880"/>
            <a:ext cx="3516480" cy="3774960"/>
          </a:xfrm>
          <a:prstGeom prst="rect">
            <a:avLst/>
          </a:prstGeom>
          <a:ln w="0">
            <a:noFill/>
          </a:ln>
        </p:spPr>
      </p:pic>
      <p:sp>
        <p:nvSpPr>
          <p:cNvPr id="568" name="Obdélníkový popisek 5"/>
          <p:cNvSpPr/>
          <p:nvPr/>
        </p:nvSpPr>
        <p:spPr>
          <a:xfrm flipV="1" rot="10800000">
            <a:off x="5279760" y="2048400"/>
            <a:ext cx="2808360" cy="185724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íl žadatele na výdajích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případě, že žadatel nemá partnera = celkové výdaj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869760"/>
            <a:ext cx="64580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8BF25-A04C-4892-8F2C-D5903CE49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03440" y="155088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72" name="Obdélníkový popisek 5"/>
          <p:cNvSpPr/>
          <p:nvPr/>
        </p:nvSpPr>
        <p:spPr>
          <a:xfrm>
            <a:off x="6208560" y="1757520"/>
            <a:ext cx="2227320" cy="3168360"/>
          </a:xfrm>
          <a:prstGeom prst="wedgeRectCallout">
            <a:avLst>
              <a:gd name="adj1" fmla="val -156708"/>
              <a:gd name="adj2" fmla="val -16828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lipsa 6"/>
          <p:cNvSpPr/>
          <p:nvPr/>
        </p:nvSpPr>
        <p:spPr>
          <a:xfrm>
            <a:off x="1886040" y="3887640"/>
            <a:ext cx="372564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Šipka dolů 7"/>
          <p:cNvSpPr/>
          <p:nvPr/>
        </p:nvSpPr>
        <p:spPr>
          <a:xfrm rot="5400000">
            <a:off x="3657960" y="4617000"/>
            <a:ext cx="534960" cy="11523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884160"/>
            <a:ext cx="64580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FF881-05C3-457B-95DD-84FEC8A9C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 se zakulaceným příčným rohem 5"/>
          <p:cNvSpPr/>
          <p:nvPr/>
        </p:nvSpPr>
        <p:spPr>
          <a:xfrm>
            <a:off x="6477120" y="1693800"/>
            <a:ext cx="182556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automatický natažena po validaci AR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768240" y="1574640"/>
            <a:ext cx="52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958680"/>
            <a:ext cx="64580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7142C-B37A-46E1-8B03-4CAE4CEBF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1576440" y="1662120"/>
            <a:ext cx="5767200" cy="3759120"/>
          </a:xfrm>
          <a:prstGeom prst="rect">
            <a:avLst/>
          </a:prstGeom>
          <a:ln w="0">
            <a:noFill/>
          </a:ln>
        </p:spPr>
      </p:pic>
      <p:sp>
        <p:nvSpPr>
          <p:cNvPr id="582" name="Elipsa 7"/>
          <p:cNvSpPr/>
          <p:nvPr/>
        </p:nvSpPr>
        <p:spPr>
          <a:xfrm>
            <a:off x="3006720" y="513396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4897440" y="3908520"/>
            <a:ext cx="1655640" cy="59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3218E-B0A2-4086-9160-D4A6CC138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1"/>
          <a:stretch/>
        </p:blipFill>
        <p:spPr>
          <a:xfrm>
            <a:off x="687240" y="1784520"/>
            <a:ext cx="6116760" cy="372564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804000" y="1784520"/>
            <a:ext cx="166212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ormulář je aktivní pouze v případě, že žadatel na záložc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volil možnost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 má partnera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BAB36-414D-4764-9584-A566C88A9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4471920" cy="3776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ový popisek 5"/>
          <p:cNvSpPr/>
          <p:nvPr/>
        </p:nvSpPr>
        <p:spPr>
          <a:xfrm>
            <a:off x="5796000" y="1957320"/>
            <a:ext cx="2330280" cy="2865600"/>
          </a:xfrm>
          <a:prstGeom prst="wedgeRectCallout">
            <a:avLst>
              <a:gd name="adj1" fmla="val -99217"/>
              <a:gd name="adj2" fmla="val -521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ě, že se jedná o partnera s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finančním podílem na rozpočt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 vymezte částku, která   z celkového rozpočtu projektu připadá na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C131-C648-4165-95AF-CB2541A67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3020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5043600" y="1770120"/>
            <a:ext cx="2744640" cy="3716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ěnujte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aximální pozornos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lnění těchto záložek. Informace zde zadané slouží jako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základní nástroj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odnocení žádost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73FCA-143D-485E-AD22-2B288741B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délník se zakulaceným příčným rohem 5"/>
          <p:cNvSpPr/>
          <p:nvPr/>
        </p:nvSpPr>
        <p:spPr>
          <a:xfrm>
            <a:off x="5181480" y="2124000"/>
            <a:ext cx="2743200" cy="27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adané oblasti musejí být součástí definovaného prostoru pro Operační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Území určete co nejpřesněj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3508560" cy="3616200"/>
          </a:xfrm>
          <a:prstGeom prst="rect">
            <a:avLst/>
          </a:prstGeom>
          <a:ln w="0">
            <a:noFill/>
          </a:ln>
        </p:spPr>
      </p:pic>
      <p:sp>
        <p:nvSpPr>
          <p:cNvPr id="600" name="Elipsa 6"/>
          <p:cNvSpPr/>
          <p:nvPr/>
        </p:nvSpPr>
        <p:spPr>
          <a:xfrm>
            <a:off x="2397240" y="32986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B1FC1-BD04-4CA0-A7B5-F2EAFF465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3370320" y="1577880"/>
            <a:ext cx="4976640" cy="3716280"/>
          </a:xfrm>
          <a:prstGeom prst="rect">
            <a:avLst/>
          </a:prstGeom>
          <a:ln w="0">
            <a:noFill/>
          </a:ln>
        </p:spPr>
      </p:pic>
      <p:sp>
        <p:nvSpPr>
          <p:cNvPr id="604" name="Obdélník se zakulaceným příčným rohem 5"/>
          <p:cNvSpPr/>
          <p:nvPr/>
        </p:nvSpPr>
        <p:spPr>
          <a:xfrm>
            <a:off x="903240" y="1806480"/>
            <a:ext cx="2187720" cy="1881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všechny klíčové aktivity, které budete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jednotlivých fázích projektu realizovat vy nebo partner projekt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ový popisek 6"/>
          <p:cNvSpPr/>
          <p:nvPr/>
        </p:nvSpPr>
        <p:spPr>
          <a:xfrm>
            <a:off x="903240" y="3938760"/>
            <a:ext cx="2187720" cy="1355400"/>
          </a:xfrm>
          <a:prstGeom prst="wedgeRectCallout">
            <a:avLst>
              <a:gd name="adj1" fmla="val 75685"/>
              <a:gd name="adj2" fmla="val 2609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celkovou výši výdajů na danou aktivi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98120" y="1095120"/>
            <a:ext cx="7418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k vyplnit projektovou žádost</a:t>
            </a:r>
            <a:br>
              <a:rPr sz="2000"/>
            </a:br>
            <a:r>
              <a:rPr b="1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msmt.cz/strukturalni-fondy/jak-vyplnit-webovou-zadost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1CD0C-2984-4D92-85CC-A4098F72A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1430280" y="2146320"/>
            <a:ext cx="63104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8A75E-1BDC-4BEC-8457-2DEC9ADB4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861840" y="1770120"/>
            <a:ext cx="4915080" cy="3730680"/>
          </a:xfrm>
          <a:prstGeom prst="rect">
            <a:avLst/>
          </a:prstGeom>
          <a:ln w="0">
            <a:noFill/>
          </a:ln>
        </p:spPr>
      </p:pic>
      <p:sp>
        <p:nvSpPr>
          <p:cNvPr id="609" name="Obdélníkový popisek 5"/>
          <p:cNvSpPr/>
          <p:nvPr/>
        </p:nvSpPr>
        <p:spPr>
          <a:xfrm>
            <a:off x="6327720" y="1770120"/>
            <a:ext cx="2122560" cy="2609640"/>
          </a:xfrm>
          <a:prstGeom prst="wedgeRectCallout">
            <a:avLst>
              <a:gd name="adj1" fmla="val -86365"/>
              <a:gd name="adj2" fmla="val 5216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29840" y="1076040"/>
            <a:ext cx="645804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 HARMONOGRAM 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24CB2-7DAA-493B-AD45-C43526915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692360" y="1577880"/>
            <a:ext cx="5759280" cy="3154320"/>
          </a:xfrm>
          <a:prstGeom prst="rect">
            <a:avLst/>
          </a:prstGeom>
          <a:ln w="0">
            <a:noFill/>
          </a:ln>
        </p:spPr>
      </p:pic>
      <p:sp>
        <p:nvSpPr>
          <p:cNvPr id="613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harmonogram u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aždé klíčové aktivity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ejí být realizovány v časovém rozmezí, které jste uvedli na první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6"/>
          <p:cNvSpPr/>
          <p:nvPr/>
        </p:nvSpPr>
        <p:spPr>
          <a:xfrm>
            <a:off x="1692360" y="3071880"/>
            <a:ext cx="107136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972720"/>
            <a:ext cx="645804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83AEC-E19D-4EED-A121-9DF593460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2392200" y="1711440"/>
            <a:ext cx="5218200" cy="3456000"/>
          </a:xfrm>
          <a:prstGeom prst="rect">
            <a:avLst/>
          </a:prstGeom>
          <a:ln w="0">
            <a:noFill/>
          </a:ln>
        </p:spPr>
      </p:pic>
      <p:sp>
        <p:nvSpPr>
          <p:cNvPr id="619" name="Obdélník se zakulaceným příčným rohem 6"/>
          <p:cNvSpPr/>
          <p:nvPr/>
        </p:nvSpPr>
        <p:spPr>
          <a:xfrm>
            <a:off x="457200" y="1711440"/>
            <a:ext cx="1935000" cy="4027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tolikrát, kolik pozic plánujete (např. 10 metodiků jak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etodik1 (0,2 úv.) metodik2 (0,7 úv.) at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kud budete uvádět pozici kumulativně (např. „metodik 3,0 úv.“, pak 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ový popisek 7"/>
          <p:cNvSpPr/>
          <p:nvPr/>
        </p:nvSpPr>
        <p:spPr>
          <a:xfrm>
            <a:off x="6553080" y="2954160"/>
            <a:ext cx="2090880" cy="2576520"/>
          </a:xfrm>
          <a:prstGeom prst="wedgeRectCallout">
            <a:avLst>
              <a:gd name="adj1" fmla="val -62842"/>
              <a:gd name="adj2" fmla="val -1885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 nabídky vyberte typ pozi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anažerské a administrativní pozice, Odborné pozic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Vyberte subjekt, který bude danou pozici zajišťov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02960"/>
            <a:ext cx="645804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92988-E9EE-4883-97EA-1B2915E2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485640" y="1666800"/>
            <a:ext cx="5861160" cy="353232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ový popisek 7"/>
          <p:cNvSpPr/>
          <p:nvPr/>
        </p:nvSpPr>
        <p:spPr>
          <a:xfrm>
            <a:off x="6553080" y="2035080"/>
            <a:ext cx="2090880" cy="3164040"/>
          </a:xfrm>
          <a:prstGeom prst="wedgeRectCallout">
            <a:avLst>
              <a:gd name="adj1" fmla="val -71310"/>
              <a:gd name="adj2" fmla="val 552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tabulce kliknete na požadovanou položku, která se výběrem barevně zvýrazní          a načte se do polí umístěných pod tabulk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iz následující obráz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29840" y="1031400"/>
            <a:ext cx="6458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C3FF9-8047-4DA0-9E36-38AB6A1FC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501480" y="1755720"/>
            <a:ext cx="4194360" cy="3173400"/>
          </a:xfrm>
          <a:prstGeom prst="rect">
            <a:avLst/>
          </a:prstGeom>
          <a:ln w="0">
            <a:noFill/>
          </a:ln>
        </p:spPr>
      </p:pic>
      <p:sp>
        <p:nvSpPr>
          <p:cNvPr id="628" name="Obdélníkový popisek 5"/>
          <p:cNvSpPr/>
          <p:nvPr/>
        </p:nvSpPr>
        <p:spPr>
          <a:xfrm>
            <a:off x="5692680" y="1755720"/>
            <a:ext cx="2611440" cy="190188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ložka název nákladu se načte automaticky, dle Vašeho výběru. Viz předchozí obrázek. Vyplňte šedá pole: Počet jednotek, jednotka                 a jednotková 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ipsa 6"/>
          <p:cNvSpPr/>
          <p:nvPr/>
        </p:nvSpPr>
        <p:spPr>
          <a:xfrm>
            <a:off x="3573360" y="2149560"/>
            <a:ext cx="10717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7"/>
          <p:cNvSpPr/>
          <p:nvPr/>
        </p:nvSpPr>
        <p:spPr>
          <a:xfrm>
            <a:off x="795240" y="2149560"/>
            <a:ext cx="10699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délníkový popisek 8"/>
          <p:cNvSpPr/>
          <p:nvPr/>
        </p:nvSpPr>
        <p:spPr>
          <a:xfrm>
            <a:off x="5692680" y="3938760"/>
            <a:ext cx="2611440" cy="147456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Procentuální podíl nepřímých nákladů je specifikován ve výzvě a vypočítávají se </a:t>
            </a:r>
            <a:r>
              <a:rPr b="1" lang="cs-CZ" sz="1100" spc="-1" strike="noStrike">
                <a:solidFill>
                  <a:srgbClr val="000000"/>
                </a:solidFill>
                <a:latin typeface="Verdana"/>
              </a:rPr>
              <a:t>AUTOMATICKY 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dle hodnoty kapitoly 08 – Přímé způsobilé výdaj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1880" y="1091880"/>
            <a:ext cx="718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6AA12-2D81-4002-AAD6-88AEFBD2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26960" y="1784520"/>
            <a:ext cx="4989600" cy="3727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2"/>
          <a:stretch/>
        </p:blipFill>
        <p:spPr>
          <a:xfrm>
            <a:off x="4365720" y="3083040"/>
            <a:ext cx="3819600" cy="880920"/>
          </a:xfrm>
          <a:prstGeom prst="rect">
            <a:avLst/>
          </a:prstGeom>
          <a:ln w="0">
            <a:noFill/>
          </a:ln>
        </p:spPr>
      </p:pic>
      <p:cxnSp>
        <p:nvCxnSpPr>
          <p:cNvPr id="636" name="Přímá spojovací šipka 7"/>
          <p:cNvCxnSpPr/>
          <p:nvPr/>
        </p:nvCxnSpPr>
        <p:spPr>
          <a:xfrm flipH="1">
            <a:off x="4733640" y="2773080"/>
            <a:ext cx="457920" cy="664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7" name="Přímá spojovací šipka 11"/>
          <p:cNvCxnSpPr/>
          <p:nvPr/>
        </p:nvCxnSpPr>
        <p:spPr>
          <a:xfrm flipH="1" flipV="1">
            <a:off x="4733640" y="3642480"/>
            <a:ext cx="457920" cy="57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91F25-D473-485F-862C-B5ABD401C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78408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2"/>
          <a:stretch/>
        </p:blipFill>
        <p:spPr>
          <a:xfrm>
            <a:off x="784080" y="3465360"/>
            <a:ext cx="4510080" cy="1798920"/>
          </a:xfrm>
          <a:prstGeom prst="rect">
            <a:avLst/>
          </a:prstGeom>
          <a:ln w="0">
            <a:noFill/>
          </a:ln>
        </p:spPr>
      </p:pic>
      <p:sp>
        <p:nvSpPr>
          <p:cNvPr id="642" name="Obdélníkový popisek 6"/>
          <p:cNvSpPr/>
          <p:nvPr/>
        </p:nvSpPr>
        <p:spPr>
          <a:xfrm>
            <a:off x="5557680" y="2286000"/>
            <a:ext cx="2765520" cy="781200"/>
          </a:xfrm>
          <a:prstGeom prst="wedgeRectCallout">
            <a:avLst>
              <a:gd name="adj1" fmla="val -84625"/>
              <a:gd name="adj2" fmla="val 1827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berte z číselník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délníkový popisek 7"/>
          <p:cNvSpPr/>
          <p:nvPr/>
        </p:nvSpPr>
        <p:spPr>
          <a:xfrm>
            <a:off x="5557680" y="3465360"/>
            <a:ext cx="2765520" cy="1798920"/>
          </a:xfrm>
          <a:prstGeom prst="wedgeRectCallout">
            <a:avLst>
              <a:gd name="adj1" fmla="val -48671"/>
              <a:gd name="adj2" fmla="val 228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rostředky z EU v Kč 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musí být roven částce v poli Strukturální fond v záložce Přehled financování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Elipsa 8"/>
          <p:cNvSpPr/>
          <p:nvPr/>
        </p:nvSpPr>
        <p:spPr>
          <a:xfrm>
            <a:off x="1865160" y="4906800"/>
            <a:ext cx="1262160" cy="53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7D11B-BA39-4AFA-BFD0-A4B7FE74E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1065240" y="177012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48" name="Obdélník se zakulaceným příčným rohem 5"/>
          <p:cNvSpPr/>
          <p:nvPr/>
        </p:nvSpPr>
        <p:spPr>
          <a:xfrm>
            <a:off x="6054840" y="1838160"/>
            <a:ext cx="2278080" cy="3565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</a:t>
            </a:r>
            <a:r>
              <a:rPr b="0" lang="cs-CZ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Elipsa 7"/>
          <p:cNvSpPr/>
          <p:nvPr/>
        </p:nvSpPr>
        <p:spPr>
          <a:xfrm>
            <a:off x="4094280" y="2825640"/>
            <a:ext cx="142848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A7C95-893B-47C1-9B39-C0965F1A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53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      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BC1F8-363A-4CE6-8399-733904E72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57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9840" y="1211040"/>
            <a:ext cx="645804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10C20-6A45-40DB-8FE7-F2A23A3DB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736560" y="2171880"/>
            <a:ext cx="79502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76FC1-AE79-4194-98A0-3C629DCB1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779400" y="1784520"/>
            <a:ext cx="5961240" cy="3551040"/>
          </a:xfrm>
          <a:prstGeom prst="rect">
            <a:avLst/>
          </a:prstGeom>
          <a:ln w="0">
            <a:noFill/>
          </a:ln>
        </p:spPr>
      </p:pic>
      <p:sp>
        <p:nvSpPr>
          <p:cNvPr id="662" name="Obdélník se zakulaceným příčným rohem 5"/>
          <p:cNvSpPr/>
          <p:nvPr/>
        </p:nvSpPr>
        <p:spPr>
          <a:xfrm>
            <a:off x="6916680" y="1784520"/>
            <a:ext cx="190044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te        v oblasti rozvoje lidských zdrojů a které jsou financované      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        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        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4DA0F-AAA9-4836-802B-089CBBFDC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1"/>
          <a:stretch/>
        </p:blipFill>
        <p:spPr>
          <a:xfrm>
            <a:off x="644400" y="1701720"/>
            <a:ext cx="4065840" cy="3637080"/>
          </a:xfrm>
          <a:prstGeom prst="rect">
            <a:avLst/>
          </a:prstGeom>
          <a:ln w="0">
            <a:noFill/>
          </a:ln>
        </p:spPr>
      </p:pic>
      <p:sp>
        <p:nvSpPr>
          <p:cNvPr id="666" name="Obdélník se zakulaceným příčným rohem 5"/>
          <p:cNvSpPr/>
          <p:nvPr/>
        </p:nvSpPr>
        <p:spPr>
          <a:xfrm>
            <a:off x="4903920" y="1784520"/>
            <a:ext cx="3606840" cy="3554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řipoji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zde vyberte požadovaný  soubo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řílohy s povinným podpisem naskenujte a přiložte jako obrázek *.jpg, nebo soubor *.pdf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Každá příloha musí mít zaškrtnuto buď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doložena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neb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nerelevantní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Elipsa 6"/>
          <p:cNvSpPr/>
          <p:nvPr/>
        </p:nvSpPr>
        <p:spPr>
          <a:xfrm>
            <a:off x="2678040" y="5043600"/>
            <a:ext cx="121464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Elipsa 7"/>
          <p:cNvSpPr/>
          <p:nvPr/>
        </p:nvSpPr>
        <p:spPr>
          <a:xfrm>
            <a:off x="2070000" y="4013280"/>
            <a:ext cx="18226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ONTROL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38DBD-22EC-4839-97E1-346C283E5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278000" y="1569960"/>
            <a:ext cx="6562800" cy="2881440"/>
          </a:xfrm>
          <a:prstGeom prst="rect">
            <a:avLst/>
          </a:prstGeom>
          <a:ln w="0">
            <a:noFill/>
          </a:ln>
        </p:spPr>
      </p:pic>
      <p:sp>
        <p:nvSpPr>
          <p:cNvPr id="672" name="Obdélník se zakulaceným příčným rohem 5"/>
          <p:cNvSpPr/>
          <p:nvPr/>
        </p:nvSpPr>
        <p:spPr>
          <a:xfrm>
            <a:off x="1330200" y="3730680"/>
            <a:ext cx="6510600" cy="1682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utomaticky proběhne i při spuštění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iza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0472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119040" y="1816200"/>
            <a:ext cx="514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úspěšným ukončením kontroly je třeba 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finalizov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lizací je žádost uzavřena a chráněna proti další editac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má od svého založení přidělen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 žádosti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olečně s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em verze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ý se přiděluje až při finalizaci dochází jejich spojením k vytvoře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nikátního kódu HASH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A95CE-C53B-41C4-B36A-52DE6616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774720" y="1816200"/>
            <a:ext cx="2546280" cy="1944720"/>
          </a:xfrm>
          <a:prstGeom prst="rect">
            <a:avLst/>
          </a:prstGeom>
          <a:ln w="0">
            <a:noFill/>
          </a:ln>
        </p:spPr>
      </p:pic>
      <p:sp>
        <p:nvSpPr>
          <p:cNvPr id="677" name="Elipsa 6"/>
          <p:cNvSpPr/>
          <p:nvPr/>
        </p:nvSpPr>
        <p:spPr>
          <a:xfrm>
            <a:off x="833400" y="3083040"/>
            <a:ext cx="1112760" cy="309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délník 7"/>
          <p:cNvSpPr/>
          <p:nvPr/>
        </p:nvSpPr>
        <p:spPr>
          <a:xfrm>
            <a:off x="833400" y="464508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 důležité aby tištěná verze měla stejný HASH kód                         s elektronickou finálně uloženou webovou žádost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isk a předání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186000" y="1952280"/>
            <a:ext cx="460224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vytiskněte, uložte ve svém počítači a vypalte na CD, které spolu     s vytištěnou žádostí a přílohami odevzdáte na MŠM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doručení poštou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18 12  Praha 1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osobní odevzdání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řižíkova 34/14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86 00  Praha 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5B782-5B2B-40A2-AFEF-742E0861B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" descr=""/>
          <p:cNvPicPr/>
          <p:nvPr/>
        </p:nvPicPr>
        <p:blipFill>
          <a:blip r:embed="rId1"/>
          <a:stretch/>
        </p:blipFill>
        <p:spPr>
          <a:xfrm>
            <a:off x="861840" y="1952640"/>
            <a:ext cx="2544840" cy="1942920"/>
          </a:xfrm>
          <a:prstGeom prst="rect">
            <a:avLst/>
          </a:prstGeom>
          <a:ln w="0">
            <a:noFill/>
          </a:ln>
        </p:spPr>
      </p:pic>
      <p:sp>
        <p:nvSpPr>
          <p:cNvPr id="683" name="Elipsa 6"/>
          <p:cNvSpPr/>
          <p:nvPr/>
        </p:nvSpPr>
        <p:spPr>
          <a:xfrm>
            <a:off x="722160" y="3645000"/>
            <a:ext cx="1216080" cy="25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30200" y="3238560"/>
            <a:ext cx="608832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33575-CDDD-44E2-B83F-B18A485A6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délník 7"/>
          <p:cNvSpPr/>
          <p:nvPr/>
        </p:nvSpPr>
        <p:spPr>
          <a:xfrm>
            <a:off x="752400" y="231624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technických problémů při vyplňování žádosti se obraťt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2286000"/>
            <a:ext cx="6458040" cy="22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i za pozornost</a:t>
            </a:r>
            <a:br>
              <a:rPr sz="2800"/>
            </a:br>
            <a:r>
              <a:rPr b="0" lang="cs-C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8BD4A-59D1-4039-B490-289EE998B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Registr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rvní krok vytvoření žádosti</a:t>
            </a: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DE8EA-47E9-414C-9F88-E8E03B594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935000" y="2171880"/>
            <a:ext cx="5248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DA9A9-7BF4-48B3-A86D-A7B1657FF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61604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37" name="Podnadpis 7"/>
          <p:cNvSpPr/>
          <p:nvPr/>
        </p:nvSpPr>
        <p:spPr>
          <a:xfrm>
            <a:off x="1330200" y="4375080"/>
            <a:ext cx="6458040" cy="10731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 - přehled všech vytvořených žádostí, které žadatel vytvořil či k nim má přístu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6650E-FDE2-4963-BCEF-F79971B4F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odnadpis 7"/>
          <p:cNvSpPr/>
          <p:nvPr/>
        </p:nvSpPr>
        <p:spPr>
          <a:xfrm>
            <a:off x="905040" y="4290840"/>
            <a:ext cx="7333920" cy="1168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 nabídce jsou různé typy výzev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ždy je nutno vybrat správný typ výzvy, a to podle druhu projektu. Úplný název výzvy je vždy uveden ve výzvě samotn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905040" y="1770120"/>
            <a:ext cx="7333920" cy="2257200"/>
          </a:xfrm>
          <a:prstGeom prst="rect">
            <a:avLst/>
          </a:prstGeom>
          <a:ln w="0">
            <a:noFill/>
          </a:ln>
        </p:spPr>
      </p:pic>
      <p:sp>
        <p:nvSpPr>
          <p:cNvPr id="542" name="Elipsa 10"/>
          <p:cNvSpPr/>
          <p:nvPr/>
        </p:nvSpPr>
        <p:spPr>
          <a:xfrm>
            <a:off x="4040280" y="3710160"/>
            <a:ext cx="3747960" cy="31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E5BB2-6B2E-427A-A0A3-340B4F7AC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"/>
          <p:cNvPicPr/>
          <p:nvPr/>
        </p:nvPicPr>
        <p:blipFill>
          <a:blip r:embed="rId1"/>
          <a:stretch/>
        </p:blipFill>
        <p:spPr>
          <a:xfrm>
            <a:off x="1193760" y="1533600"/>
            <a:ext cx="6594480" cy="2867040"/>
          </a:xfrm>
          <a:prstGeom prst="rect">
            <a:avLst/>
          </a:prstGeom>
          <a:ln w="0">
            <a:noFill/>
          </a:ln>
        </p:spPr>
      </p:pic>
      <p:sp>
        <p:nvSpPr>
          <p:cNvPr id="546" name="Elipsa 6"/>
          <p:cNvSpPr/>
          <p:nvPr/>
        </p:nvSpPr>
        <p:spPr>
          <a:xfrm>
            <a:off x="3063960" y="2212920"/>
            <a:ext cx="2971800" cy="3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ipsa 7"/>
          <p:cNvSpPr/>
          <p:nvPr/>
        </p:nvSpPr>
        <p:spPr>
          <a:xfrm>
            <a:off x="1193760" y="3908520"/>
            <a:ext cx="2046240" cy="33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2"/>
          <a:stretch/>
        </p:blipFill>
        <p:spPr>
          <a:xfrm>
            <a:off x="3730680" y="409572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49" name="Šipka dolů 8"/>
          <p:cNvSpPr/>
          <p:nvPr/>
        </p:nvSpPr>
        <p:spPr>
          <a:xfrm rot="5400000">
            <a:off x="5190840" y="3671640"/>
            <a:ext cx="536760" cy="11527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odnadpis 7"/>
          <p:cNvSpPr/>
          <p:nvPr/>
        </p:nvSpPr>
        <p:spPr>
          <a:xfrm>
            <a:off x="1193760" y="4668840"/>
            <a:ext cx="6594480" cy="882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</a:t>
            </a:r>
            <a:r>
              <a:rPr b="1" lang="cs-CZ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62000"/>
            <a:ext cx="64580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80A77-F7CB-479D-A037-490833FCD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681200" y="1711440"/>
            <a:ext cx="2093760" cy="3173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774960" y="1711440"/>
            <a:ext cx="3695760" cy="3504960"/>
          </a:xfrm>
          <a:prstGeom prst="rect">
            <a:avLst/>
          </a:prstGeom>
          <a:ln w="0">
            <a:noFill/>
          </a:ln>
        </p:spPr>
      </p:pic>
      <p:sp>
        <p:nvSpPr>
          <p:cNvPr id="555" name="Elipsa 8"/>
          <p:cNvSpPr/>
          <p:nvPr/>
        </p:nvSpPr>
        <p:spPr>
          <a:xfrm>
            <a:off x="4508640" y="4710240"/>
            <a:ext cx="177480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3"/>
          <a:stretch/>
        </p:blipFill>
        <p:spPr>
          <a:xfrm>
            <a:off x="3541680" y="5216400"/>
            <a:ext cx="2305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17DEF-45A7-4977-8984-7F5E04188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063800" y="1941480"/>
            <a:ext cx="6927840" cy="3113280"/>
          </a:xfrm>
          <a:prstGeom prst="rect">
            <a:avLst/>
          </a:prstGeom>
          <a:ln w="0">
            <a:noFill/>
          </a:ln>
        </p:spPr>
      </p:pic>
      <p:sp>
        <p:nvSpPr>
          <p:cNvPr id="560" name="Elipsa 6"/>
          <p:cNvSpPr/>
          <p:nvPr/>
        </p:nvSpPr>
        <p:spPr>
          <a:xfrm>
            <a:off x="2768760" y="2852640"/>
            <a:ext cx="1773000" cy="53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Šipka dolů 7"/>
          <p:cNvSpPr/>
          <p:nvPr/>
        </p:nvSpPr>
        <p:spPr>
          <a:xfrm rot="5400000">
            <a:off x="6593760" y="2543760"/>
            <a:ext cx="534960" cy="1152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28T07:57:44Z</dcterms:modified>
  <cp:revision>154</cp:revision>
  <dc:subject/>
  <dc:title>Titulní strana – Titulek</dc:title>
</cp:coreProperties>
</file>