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3D8-F3F1-4325-8E6C-D8C8345A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64F-CEF0-44BC-B798-6C625A8E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0B87A-50A1-4301-AF09-880A06D0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2FCEF-DEE4-4E59-8CA3-316840EC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658A3-24A1-4898-9513-78F66FF4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CCA21-9019-42FE-AD7A-895B258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E6CB9-8792-4081-8D46-BEF4974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F6509-3760-481F-8EE8-6607D33D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5E4AB-1821-4F8E-BB33-BE4FFB99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B59E7-8694-4AA1-B105-CC072A8C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EE24F-BE0F-4459-8172-4BA476FD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705D-39BB-47D3-B081-E21B78A0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6F4-99E0-4BDC-ADD3-93591E1A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7A9F8-197A-44ED-B0F3-ACC80B02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650E8-B8E3-4F0E-91D5-0F31C939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60DAF-3FDB-4335-8298-01C6B3C8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85FBE-1748-45A1-BDD1-641A3148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95428-0E62-48BD-9B4F-FC780557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1F73C-3BA4-4DB2-942E-DF22A05C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D1124-6CEB-4D9F-A694-9602B9FF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B692A-F957-41B3-B402-8AB66DC3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F73B2-2053-4339-A686-55689B25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0E107-7225-4D9C-9EC7-C6534DCE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096-0A00-435A-96F5-3E0C5E0B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76A8D-9797-48D8-AEBC-4BF737C1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D3D1B-CED8-49CA-93C7-607A7AA7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77564-D90A-495D-A8FB-5DC19E0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7B99D-F6B4-45E5-9E41-41243002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E263F-B5B6-4C8D-A70B-B2E65E50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DF1FD-26EB-4BE1-A426-5E301216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DCD2E-FB1C-428D-B522-BB4B3470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526EF-8550-423B-8F58-39C3C90E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A365A-FC5D-4561-AE8F-D7239F0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DF86A-D549-4F43-9289-AF60DA6F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56E3-7948-43AD-BF75-B927B121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A373B-EF1D-483A-B361-3CD137FB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7AF89-4B79-477A-B101-5CCD2370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0BB44-4923-4FC3-AB1A-600FDBB9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714C7-27AA-4E3E-9704-9BC8D561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692FD-20E2-4A4A-B3E6-8C0EBD68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5CD42-3996-4FC9-8CD9-C8E53DFD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4375E-3D31-4EA1-B8AA-059905B3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0B245-6658-4950-A56E-AF325A00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745C0-6B44-4D17-96EE-34681553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D6C21-D21D-483E-8CDB-2B664DDD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A045-7B2C-43B1-9591-C8E2830D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8E398-4FC7-4373-BB6F-2B1E2D68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CAC01-0AF3-41C2-AD17-7FE064C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6D8DA-1110-480B-94CA-9E3B98C2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5B479-687A-4D97-AFDA-0430CDCE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F7DBD-294A-4283-AA24-7AE00047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A87D-658F-4533-9F47-5C93D61B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8E74-4C4D-453C-90E3-EA1EEAB7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92F2-9EDB-48DE-ADFE-F497B480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DF78-A2AA-4F68-B535-E0AC9771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D79D-53A5-4FB8-B070-4A7313DA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960-9232-4587-8B3E-41D5D0AF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F576-37A6-4C7C-B50C-49E94918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C5FC-4F19-4367-B56D-37B66994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BB24-9A77-49CB-8176-39EE4A9D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A933-8F0D-4840-8FBB-67A394D5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9D86-6200-4466-BAA8-A52B7B85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E0CE-1EF9-4FAC-ACC7-054DF4CF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6E09-E45E-4BCE-A92C-3C44CCD9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F484-9C02-4F14-9E1E-8FECB237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3D2C-A7CA-4F15-8D43-89EA7099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9AE3-0F2E-415E-B87E-869ACCE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9A5-0375-4FA4-9DAE-A25854C8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0D34B-DDD5-4AC4-B04A-5DF67DF1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6F32A-C6E0-4892-AB6E-6572A70A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E286-43DC-43D4-B896-4B46D301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3426-A2F1-419B-98A4-70880675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6F39-1E6A-498D-A19B-4E7AA276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4ECB-4887-4BC5-8FBB-86A6FA53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B74C5-0FCD-4F90-A40F-50DAFAA9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AAA7-7A3D-4F00-9FFD-8D6CBED0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8BCB-1878-4ED1-97CF-0BBE767F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F2FF-5660-4079-A464-01D2C7D1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46C-8BB1-4D5F-851D-5424F9B7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1444-3DDF-40E7-890C-77D797ED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B171-011F-4593-B092-77F6893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8A99-305F-4FD6-838A-38B57DDF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BCEF-5737-4DBA-B439-95ED5303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040A-C372-418F-B9F7-48081BD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4FC45-9E07-45B6-B9E8-679B18B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A60D-3C0D-4B9D-9A95-49432B4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F632-C6E7-4EAA-B5FB-F847A9F6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04B6B-7FF3-45AB-9BA4-7708F269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2B9E-17F5-4C32-8461-9BE71F43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D40-CFF3-4F23-8D8B-84A87C8B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8C8A-983B-41BE-B4DB-BC034762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3241-F2A5-4C3D-925B-B869E8F0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1A1C-7F00-4F71-9081-360EAE8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32A0E-EFC2-493B-86F5-190D6B31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13E47-39C9-4947-A834-E0EF8B11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EF0A-3AE0-4002-9C37-02EA48D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790D-1FB7-4CAF-B3B2-454D6C48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F519F-B0FE-4198-AF9A-9C72959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6DD4B-33D8-47F0-AD1F-423DD375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3B8F0-EA54-45EA-93E2-4C02FB42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47B-A333-4899-A275-2B283A46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CC92-D974-4BDC-A553-B871C8BD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DE42F-1616-476C-A848-80E6AD53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2DFDA-4545-49C6-88BA-FC0E3782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85B6C-D854-4E65-A39C-665E43B8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01407-1BF0-4C79-A0AA-A8462343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03264-D56E-43DF-A938-8380F988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9A44B-DCCF-4908-9E59-8B22F71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22848-8D2C-46EC-A541-347A243E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93045-6A59-4129-A738-68F3EC4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4DC72-7014-4659-888E-37828DA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BDB-2834-46A1-A097-CEC7A24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D85B-657B-4653-A0E3-E6333F20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5FF2-A306-496D-87F8-7EAE17DE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3B0C-800C-438B-B12C-1D559F56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7723F-C3A8-48D2-9AFC-F34E3F15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412E5-DAA8-456F-9A58-3E494ABE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DDF19-B9DB-42E5-8A9F-59BEE093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2BC41-19D2-4A0D-BB1A-3D9BB07D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7545F-4149-42A6-84D0-A663FF84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9F9B6-3AF9-4469-AE22-A7B4EA86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7482D-0D8C-4353-8D18-6E8DF17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FC1-7068-4EF1-ABC5-8ECBC538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22E65-59E9-4412-959B-677ACB45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2BBF6-B049-4108-B403-C30569B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3C8CA-685B-4236-BB6E-A9320472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0BD95-9366-40C1-86FE-86C54AF5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01BFF-8970-4C38-B2E5-1C2A45B1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E3BD6-5D64-4DF7-A56E-4E1A78FE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FAFEA-993E-4E04-87BB-C72944D0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F329-5A5E-41F8-A31D-C6D068D9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BDD3F-9950-4EB7-8445-49427AFE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19C39-5B67-4EBF-9CFB-AD9C41B6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49D-EC16-4AA7-A77B-67436D11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4BBB4-BA2C-4684-99BE-0CF43576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DD6B2-CCDA-41EB-A2CA-A1563A0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7DC2C-2979-4F32-AD32-CC3A2748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369BA-4315-438F-B169-560D67A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DB806-4A71-4280-9950-4B9580D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A25D1-1662-4865-BD1A-58069604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3DB4A-78DA-4E9E-8D12-43DAB3CA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3E5CC-15FF-48F8-8659-4E5455CC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3FF1B-22F0-46AA-A3C9-A2A53DDA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1449C-8765-495A-96DB-8B935560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E4781-4377-4D22-BB71-6D093C9F45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5BF8C-5626-41B9-93F2-A7A3151DA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6272580F-41CE-4A62-AABF-A11CD0F72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8590C-D0C5-42B2-9095-6294E60C89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E4483-4831-4EA0-AE13-D4C58AF5F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7BCB8-96EF-4392-A5AC-AA7A9DAF98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1B65B-6B0F-4313-A793-3BD90FDC0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C8618-D023-48F8-B8BF-E3E97AC6DE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0A619-D9B6-4BB6-96E1-3DA0BA17A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BF026-EFA7-454E-8559-007AEFB224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27178-4662-4DE2-AE27-B11CA0AE0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CAE24-EBBA-499A-9B32-45AD1F2C2B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CB573-BC3C-4DC6-AFA7-D990B5747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AA7BC-6A00-4F1E-B4A9-B8A2D30496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351EB-8BB6-4D4A-A689-473DA3957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49A2B-425C-4D37-A40D-5CA0CA3C8B3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B2EF1-FC45-44D5-A95D-2CFA46B65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71F95-B0CE-420D-A757-564D583B633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1B93E-6712-4050-90B7-D23FB36E2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95D5E-95DF-49C7-8430-6E292B4A20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10B0D-ADF7-4848-8869-552320018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8FC13-19D4-44CB-9A74-F549E3ED80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3B518-6EDE-4C23-98E3-60FC0490D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AC603-EE98-4F67-B7A1-F73C9BF31E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7FF02-C59B-4745-AC44-C98BA4186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rioritní osa 1 – počáteční vzdělává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blast podpory 1.2 –Rovné příležitosti dětí a žáků se speciálními vzdělávacími potřebam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Arial Narrow"/>
              </a:rPr>
              <a:t>Výzva IPo č. 27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1800" spc="-1" strike="noStrike">
                <a:solidFill>
                  <a:srgbClr val="898989"/>
                </a:solidFill>
                <a:latin typeface="Arial Narrow"/>
              </a:rPr>
              <a:t>Seminář pro žad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1800" spc="-1" strike="noStrike">
                <a:solidFill>
                  <a:srgbClr val="898989"/>
                </a:solidFill>
                <a:latin typeface="Arial Narrow"/>
              </a:rPr>
              <a:t>2. února 201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E7E9E-9AC9-4616-B5A8-B00D8E8208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</a:t>
            </a: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7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tvorbu inovovaných výukových programů zájmového a neformálního vzdělávání včetně pilotního ověření metod a forem zaměřených na prevenci rizikového chování dětí a mládeže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7012A-BC1D-4079-B199-CB47867CB9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8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zpracování a implementace vzdělávacího modulu pro pedagogy volného času zaměřeného na oblast primární prevence rizikového chová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86DBC-1B87-4005-B510-6A27F60534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známk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Součástí těchto projektů musí být </a:t>
            </a:r>
            <a:r>
              <a:rPr b="1" i="1" lang="cs-CZ" sz="1800" spc="-1" strike="noStrike">
                <a:solidFill>
                  <a:srgbClr val="000000"/>
                </a:solidFill>
                <a:latin typeface="Arial Narrow"/>
              </a:rPr>
              <a:t>klíčové aktivity 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zaměřené na </a:t>
            </a:r>
            <a:r>
              <a:rPr b="1" i="1" lang="cs-CZ" sz="1800" spc="-1" strike="noStrike">
                <a:solidFill>
                  <a:srgbClr val="000000"/>
                </a:solidFill>
                <a:latin typeface="Arial Narrow"/>
              </a:rPr>
              <a:t>přímou práci s dětmi a žáky  včetně dětí a žáků se speciálními vzdělávacími  potřebami,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 na praktické ověřování a evaluaci vzniklých metodik, vzdělávacích programů a forem výuky, které budou realizovat     proškolení pedagogičtí pracovníci nebo pracovníci organizací působících v oblasti  vzdělávání nebo asistenčních služeb a v oblasti volného času dětí a mládež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8586F-D64E-4F33-9DE3-308A17A839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rovaná aktivita č. 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odpora neformálního vzdělávání a kompetencí v něm získaných, zdokonalování systému vzdělávání pracovníků NNO a středisek volného času, vytváření vzdělávacích modulů uznatelných jako součást dalšího vzdělávání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45080-093B-4EBC-834D-F9537974A1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2.1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inovace vzdělávacích programů ve školských zařízeních pro všechny formy zájmového vzdělávání, tvorba metodik a učebních pomůcek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6B4F2-58B5-43C4-B74A-6FC120835D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2.2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zpracování nástrojů ověřujících kvalitu činnosti školských zařízení pro zájmové vzdělávání a nestátních neziskových organizací působících v oblasti neformálního vzdělávání dětí a mládež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CA45D-EEF5-426A-A4F5-8D932290DA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známk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 Narrow"/>
              </a:rPr>
              <a:t>Součástí těchto projektů musí být </a:t>
            </a:r>
            <a:r>
              <a:rPr b="1" i="1" lang="cs-CZ" sz="2000" spc="-1" strike="noStrike">
                <a:solidFill>
                  <a:srgbClr val="000000"/>
                </a:solidFill>
                <a:latin typeface="Arial Narrow"/>
              </a:rPr>
              <a:t>klíčové aktivity zaměřené na přímou práci s dětmi a žáky se speciálními vzdělávacími potřebami, </a:t>
            </a:r>
            <a:r>
              <a:rPr b="0" i="1" lang="cs-CZ" sz="2000" spc="-1" strike="noStrike">
                <a:solidFill>
                  <a:srgbClr val="000000"/>
                </a:solidFill>
                <a:latin typeface="Arial Narrow"/>
              </a:rPr>
              <a:t>na praktické ověřování a evaluaci vzniklých metodik, vzdělávacích programů a forem výuky, které budou realizovat proškolení pedagogičtí pracovníci nebo pracovníci organizací působících v oblasti vzdělávání nebo asistenčních služeb a v oblasti volného času dětí a mládeže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A1DE2-3AF6-4847-ABF1-86CB7CB588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Cílové skupiny pro podporované aktivity č. 1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děti a mládež, pokud jsou aktivity realizovaného projektu zaměřeny na prevenci sociálně patologických jevů a na vytváření inkluzívního prostředí ve škole, školském zařízení pro zájmové vzdělávání, základním článku organizací působících v oblasti volného času a zájmového vzdělávání dětí a mládeže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rodiče dětí a žáků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acovníci škol a školských zařízení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acovníci a dobrovolní pracovníci organizací působících v oblasti vzdělávání nebo asistenčních služeb a v oblasti volného času a zájmového vzdělávání dětí a mládež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C6A1F-F04A-4257-AF5D-CDA76A46B8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známka  k cílovým skupinám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Definice cílových skupin „dobrovolníci“ a „dětí a žáků“ sociokulturním znevýhodněním je podrobně uvedena v platné verzi Prováděcího dokumentu, v příloze č. 4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A5E5A-D1DD-4C28-B53C-0C58836981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  <a:ea typeface="Arial CE"/>
              </a:rPr>
              <a:t>Cílové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skupiny pro podporované aktivity č. 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edoucí pracovníci škol a školských zařízení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organizací působících v oblasti vzdělávání nebo asistenčních služeb a v oblasti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volného času dětí a mládeže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a dobrovolní pracovníci organizací působících v oblasti vzdělávání nebo asistenčních služeb a v oblasti volného času a zájmového vzdělávání dětí a mládeže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děti a žáci se speciálními vzdělávacími potřebami od 3 let (např. z mateřských škol a přípravných tříd základních škol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F2B6C-D395-4C82-9474-D037BFA3E2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ezentace aktivit č. 1 a 2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hDr. Marcela Svěrák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FF870-F387-4B5B-9E32-2C109CF8C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právnění žadatelé p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o podporované aktivity 1 a 2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školy a školská zařízení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(tj. právnická osoba vykonávající činnost školy a školského  zařízení zapsaná ve školském rejstříku)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nestátní neziskov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(založené nebo zřízené podle zákona č. 83/1990 Sb., o sdružování občanů ve znění pozdějších předpisů, zákona č. 248/1995 Sb., o obecně prospěšných společnostech a o změně a doplnění některých zákonů ve znění pozdějších atd. (viz výzva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AF4C8-192A-4859-8323-B10D0E4D8E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ezentace aktivity č. 3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etr Nečin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7E863-6106-485F-8F76-B4A5BD945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rovaná aktivita č. 3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Uplatňování a zlepšování organizačních forem výuky a vyučovacích metod podporujících rovný přístup ke vzdělávání, včetně tvorby individuálních vzdělávacích plánů, využití ICT a e-learningových aplikací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412CA-D082-4E62-A48E-D85FE0A04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 bude projekt zaměřený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znik místních strategických plánů vzdělávání zaměřených na začleňování dětí a žáků se SVP. Strategické plány budou obsahovat opatření, která budou pilotně ověřena. Plány musí být v souladu se strategiemi pro sociální začleňování. Doporučujeme při vzniku a implementaci plánů spolupracovat s Agenturou pro sociální začleňování při Úřadu vlády ČR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o realizaci této aktivity bude vybrán jediný projekt, který získá v rámci hodnocení nejvyšší počet bodů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E92C3-13A7-4838-8617-4C42A25D0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00160" y="1164960"/>
            <a:ext cx="718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  <a:ea typeface="Arial CE"/>
              </a:rPr>
              <a:t>Cílové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skupiny pro podporované aktivity č. 3/1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100160" y="2634840"/>
            <a:ext cx="6400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ěti se speciálními vzdělávacími potřebami z mateřských škol a přípravných tříd základních škol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ěti a mladiství (do 18 let), kteří předčasně opustili systém počátečního vzdělává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žáci základních a středních škol se speciálními vzdělávacími potřebami a ti žáci, kteří jsou ohroženi předčasným odchodem ze vzdělává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000DE-7933-4D94-AFFA-3E21B1A00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  <a:ea typeface="Arial CE"/>
              </a:rPr>
              <a:t>Cílové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skupiny pro podporované aktivity č. 3/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děti a žáci, pokud jsou aktivity realizovaného projektu zaměřeny na vytváření inkluzívního prostředí ve škole a třídě nebo na prevenci sociálně patologických jevů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rodiče dětí a žáků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škol a školských zaříze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edoucí pracovníci škol a školských zaříze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organizací působících v oblasti vzdělávání nebo asistenčních služeb a v oblasti volného času dětí a mládeže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B8C62-0921-4106-BEF6-87B30B678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právnění žadatelé p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o podporovan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u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 aktivit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ysoké školy podle zákona č. 111/1998 Sb. o vysokých školách a o změně a doplnění dalších zákonů (zákon o vysokých školách), ve znění pozdějších předpisů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nestátní neziskové organizace (založené nebo zřízené podle zákona č. 83/1990 Sb., o sdružování občanů ve znění pozdějších předpisů, zákona č. 248/1995 Sb., o obecně prospěšných společnostech a o změně a doplnění některých zákonů ve znění pozdějších předpisů atd. (viz výzva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35790-C845-449E-8319-4868A6B75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Podporovaná aktivita č. 1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evence sociálně-patologických jevů (záškoláctví, kriminalita, násilí,užívání návykových látek, HIV/AIDS…) prostřednictvím programů, které směrují k rozvoji osobnosti dítěte a žáka přes zvyšování klíčových kompetencí a vedou ke zlepšení sociálního klimatu ve skupině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7D455-95D1-41C8-A8D6-19B9F0A649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aktivity podporující zdravý životní styl a osvojení si pozitivního sociálního chování prostřednictvím smysluplného využívání volného času, aktivity směřující ke zdravému rozvoji osobnosti, k odpovědnosti za sebe sama a za své jednání a k dodržování základních společenských pravidel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49CBA-6058-4363-9366-EDC22050AB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2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y zaměřené na vytváření vhodných podmínek ve školských zařízeních pro zájmové vzdělávání a NNO pracujících s dětmi a mládeží pro širší inkluzi dětí a mládeže se speciálními vzdělávacími potřebami z pohledu znevýhodnění sociálního nebo zdravotního do oblasti zájmového a neformálního vzdělá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2257B-F316-4D13-8E73-A0FDFAD1EE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3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y zaměřené na posílení spolupráce škol, školských zařízení pro zájmové vzdělávání a NNO pracujících s dětmi a mládeží při zřizování „otevřených klubů pro děti a mládež“, v jejichž programech se realizují aktivity směřující k prevenci rizikového chování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71219-1982-4844-81EB-B4B318914C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</a:t>
            </a: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4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říprava a pilotáž vzdělávacích programů pro děti a mládež zaměřených na rozvoj metod a forem v oblasti zájmového a neformálního vzdělávání, který směřuje k primární prevenci rizikového chování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BFCB9-C862-4788-A11D-9475ECD98F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ytváření a implementace programů zaměřených na rozvoj metod osobnostní a sociální výchovy směřující k primární prevenci rizikového chování: adaptační a zážitkové programy, týmová spolupráce, řešení konfliktů, komunikace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322E6-036B-477C-92AC-1AD6E7CAEE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y zaměřené na oblast: finanční gramotnosti dětí a mládeže, právního vědomí, na ochranu před zneužitím osobnostních profilů na internetových sítích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FB041-33DC-41D9-A6E2-95931DFBC2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31T14:11:44Z</dcterms:modified>
  <cp:revision>40</cp:revision>
  <dc:subject/>
  <dc:title>Titulní strana – Titulek</dc:title>
</cp:coreProperties>
</file>