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664EC-437E-49BF-A4A1-C06F2E108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588C7-61E7-47D3-94FE-E895B0B77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AC469-4FC8-4307-BA55-FF52067D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B506E-330F-48D6-BB92-BAA613A2D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ED804-6232-4DDB-9BC2-4A2D49AC5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24CE0-4CC2-47ED-97C0-D476BD984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C471E-1F71-4F59-B564-58723F87A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165AF-573C-4F6B-B01C-9F228BC64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909AC-A2A6-43E7-A688-A21E8A2D3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79C61-0550-4696-A0F8-F6B793EB7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15730-5A49-4C93-A0AB-722765407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962C6-2311-47AC-9780-79F8FD103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92ABA-A3CD-4290-BA91-5B82F729F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AB248-91A3-4F64-AD9F-A7374C142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FB8E-1D19-42D4-A17F-A8E3F1B65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1E2FD-50DC-431F-AAF4-C15D0E9BC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D85DF-C53D-493A-8BF3-7D0321D31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2ADB8-7E5D-4758-AD27-8E54701AD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89A-56E4-4AF2-964F-27F6218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AEE-ACA4-40FD-B87B-43E826F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EAA-C665-47F5-90EF-BA645257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317-EC29-4D95-8DCE-455BE6C4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FFA-B190-42F2-9E44-B7181B11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B8E-DFE0-4ACA-9B2C-592AEFF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E76-79CC-4548-BD65-A5E76743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D78-959B-4F24-95B0-E298D44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DC9-4293-4FF5-A53A-91607B87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214-DE68-446E-A877-B016C285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20F-9BD6-425A-828A-A04CE3A8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9BE-2C88-4320-BBC0-BC463360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EE8B0-AFBC-4A10-83C4-0F0B58CCBA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F0865-2BFB-4441-A91D-416541A9F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098486A9-9F55-4EE9-942D-230CAD5D8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I. 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2400" spc="-1" strike="noStrike">
                <a:solidFill>
                  <a:srgbClr val="f39800"/>
                </a:solidFill>
                <a:latin typeface="Helvetica CE"/>
              </a:rPr>
              <a:t>Mgr. Eva Hekrle Mez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638A9-24D9-4AD4-88FA-EBF6D146B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29840" y="1712520"/>
            <a:ext cx="645804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1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2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doucí 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 se speciálními vzdělávacími potřebami od 3 le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7C4DB-2B5A-4E90-A015-C3E542D1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dobrovolní pracovníci organizací působících v oblasti vzdělávání nebo asistenčních služeb a v oblasti volného času a zájmového vzdělávání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3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se SVP z MŠ a přípravných tříd základních šk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mladiství (do 18 let), kteří předčasně opustili systém počátečního vzdělávání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ci ZŠ a SŠ se SVP a ti žáci, kteří jsou ohroženi předčasným odchodem ze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0B0B8-0CE3-43A3-91EB-0D4FD4B3F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870B4588-4C14-4F62-97B0-135B98319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7F4B5-DEBC-4850-9276-B56162AAD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ací indikátor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14 – počet podpořených osob v počátečním vzdělávání celkem – dětí, žáků včetně rodič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65 – počet podpořených osob v dalším vzdělávání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00 – počet žáků se speciálními vzdělávacími potřebami začleněných do integrova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10 – počet žáků se SVP zařazených do běž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20 – počet osob poskytujících služby nebo podporujících poskytování služeb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43.10 – počet nově vytvořených/inovovaných produkt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97533-E802-418E-9CDB-5ADB6F762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4B44B7F3-C51B-429C-BF4E-D0FD52F8A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zajistit, aby podpořené aktivy a výstupy byly udržován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 po ukončení financování projektu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pravidel stanovených ES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aktivit a výstupů vedoucích k udržitelnosti projektu musí být uvedena v žádosti o finanční podporu z OP 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kazování udržitelnosti po ukončení financování projektu z OP VK probíhá prostřednictvím ročních monitorovacích zpráv o udržitelnost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9DFF9-5F7D-44AC-A32A-4713FCF64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ACC96-2EEE-4B60-B806-74DE87FE8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a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2769-EE8D-4875-A5D5-6742B4B06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+  Přílohy č.1, 2, 5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09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F6A7C-6756-4A49-9F80-E51C9EB71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29840" y="1952280"/>
            <a:ext cx="659772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. 3. 2011, 13:00 hod.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0D1E6-AA70-4190-B73E-4167C8C62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0F7E6-F3C5-457B-A021-A806D7A35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33280" y="2222640"/>
            <a:ext cx="725004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27 (Prioritní osa 1 – Počáteční vzdělávání; Oblast podpory 1.2 – Rovné příležitosti dětí a žáků, včetně dětí a žáků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5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0. března 2011 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kol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58A49-B5D8-4053-884A-DBFC9472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Mgr. David Kříž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 814 29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david.kriz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B4598-153F-41A4-BC44-01315AC1D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9840" y="1136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4080" y="182844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např. žáci pražských škol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F424F-BFDC-4AEB-801E-E760615E4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ěkuji Vám za pozornost.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6C17E-302E-4D19-806E-B6589EEFF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2920A5C-8E49-4F6C-865C-FC53D1B53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27160" y="2374920"/>
            <a:ext cx="707544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trvání realizace projektů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aximálně 36 měsíců a ukončení nejpozději do 30. 6. 2015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Místo realizace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ídlo žadatele může být na celém území ČR včetně NUTS II hl. m.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9B0C7-E34F-46E2-8F56-1490D160E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0 000 000 Kč (aktivity 1 a 2 - 105 000 000 Kč, aktivita 3 - 15 000 000 K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0 000 000 Kč</a:t>
            </a:r>
            <a:r>
              <a:rPr b="0" lang="cs-CZ" sz="2000" spc="-1" strike="noStrike">
                <a:solidFill>
                  <a:srgbClr val="ff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aktivity 1 a 2), 15 000 000 Kč (aktivita 3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BBF8-9901-4D0F-950B-D155DF75D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y 1 a 2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školy a školská zaříze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a 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vysoké ško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4AE86-31B8-45B9-9138-33F1D6FFC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, s.2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ídlo na území České republi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3D6B9-FB0C-4E06-B6F5-FB8CDB7E8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0200" y="2228760"/>
            <a:ext cx="70502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3F650-1D72-404C-9F05-1B92785E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5051F-2742-4E88-9834-F2DF5204B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9840" y="1079640"/>
            <a:ext cx="64580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29840" y="1777680"/>
            <a:ext cx="645804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, pokud jsou aktivity realizovaného projektu zaměřeny na vytváření inkluzívního prostředí ve škole a třídě nebo na prevenci sociálně patologických jev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vedoucí pracovníci škol a školských zaříze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F72A6-85DF-47EC-A78D-1A35246A1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9A767E5-FF9B-4EF1-991C-E81980C2A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2-03T07:37:58Z</dcterms:modified>
  <cp:revision>198</cp:revision>
  <dc:subject/>
  <dc:title>Titulní strana – Titulek</dc:title>
</cp:coreProperties>
</file>