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7EA11-2092-45FC-853D-BB22DFD5F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045F3-64E5-4A78-9E46-9CEE4C39B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84E2F-EC52-4EE1-AC42-35A25C741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záložce žadatel opět vyplníte všechna povinná pole. Pole podíl na nákladech – zde uvedete výši podílu žadatele na výdajích projektu, v případě, že nemá žadatel partnera, bude se tato částka rovnat celkovým výdajů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3091B-AD03-4F48-BE57-037A262C0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sledními povinnými poli na této záložce jsou zkušennosti žadatele. Dbejte na konkrétnost uvedených dat vzhledem k projektu. Uvedené zkušenosti musí být ověřiteln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094FA-EF79-413D-A15C-3A231EC3E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je adresa pro doručení shodná s oficiální adresou, je možné použít tlačítko kopírovat záznam a po té už jen změnit typ adresy. V opačném případě zvolíte tlačítko nový záznam a adresu vyplníte. Nezapomeňte po vyplnění všech polí stránk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B3E64-7D0A-49CF-95E7-F125EBD57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 této záložky se uvádějí osoby, které budou zastupovat žadatele. Vždy je nutné uvést právě jednoho statutárního zástupce a kontaktní osobu. Musí být uvedeni všichni statutární zástupci se společným podpisovým práv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DD092-1818-4F02-AC29-792002274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ložka partner má podobná políčka jako záložka týkající se žadatele. V případě, že do projektu není zapojen žádný partner, záložky týkající se partnera se nezobrazí. V případě, že je do projektu zapojeno více partnerů je možné přidat příslušný počet polí pomocí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ový záznam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BF7F8-5F71-49BA-A276-4A2BC12AA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lňte zbylá povinná pole dle zadání. Nezapomeňte stránk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DB3DD-64AA-4EF1-A09F-DA0E4DBF2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vyplnění všech polí opět nezapomeňt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E0942-DB1D-443F-82BF-AFDBB77B0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záložce žadatel specifikuje konkrétní místo, na které bude mít projekt dopad – území jehož se dotknou přínosy projektu. Oblast území dopadu nemusí být identická s adresou žadatele. Označenými tlačítky probíhá výběr územ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78A0C-85A0-4F84-84CA-21833ABE7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elkem způsobilé výdaje se načítají automati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702C7-7328-4A46-8BBE-A69F614E4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ručka „Jak vyplnit projektovou žádost“ naleznete na webových stránkách MŠM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34490-AD56-4301-A389-A34344C8E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pište podrobně klíčovou aktivitu, dbejte n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KONKRÉTNOST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uvedených dat vzhledem k projektu. Veškeré uvedené skutečnosti jsou základním předmětem hodnocení projektu. KA obsahuje pouze aktivity hrazené z přímých náklad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FC6AA-9E76-424E-8457-8419ABAC3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armonogram vyplňujte po jednotlivých aktivitách a pro jednotlivé ro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EA303-1DCB-41ED-B307-3DE98795B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20AC3-4C6E-4BF6-B247-0ACE13472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záložce rozpočet projektu žadatel podrobně rozepíše finanční náležitosti jednotlivých relevantních položek.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 rozpočtu není nastavena automatická kontrola limitů jednotlivých kapito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0E7F2-5E6A-48C4-88BF-05C1DD2A2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berte z číselníku ze tří možností, jaký vliv má Váš projek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58CE0-E747-4B89-BFC0-C826BD387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zadání každého indikátoru je nutné záložku uložit a použít tlačítko Nový záznam k zadání dalšího indikátor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F6D11-7F44-4EEC-9303-2EDA2E581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onkrétní pravidla týkající se povinné publicity naleznete v Příručce pro žadatele a v Příručce pro příjemce. Po zadání každého prvku publicity je nutné záložku uložit a použít tlačítko Nový záznam k zadání dalšího prvku publ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C1BAC-B3B9-4EE6-BD26-3256CA344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Webová aplikace Benefit 7 je všem uživatelům přístupná na této internetové adr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7474C-87E6-4133-A915-27826D519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zadání každého projektu je nutné záložk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a použít tlačítk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ový záznam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zadání dalšího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0A21F-8F00-46B8-A992-9E872F757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zadání každého prvku publicity je nutné záložku uložit a použít tlačítko Nový záznam k zadání dalšího prvku publ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22940-1745-4299-9DC1-DA1CF9C09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je v žádosti vše v pořádku, objeví se tabulka s textem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Kontrola proběhla v pořádku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74BD2-D7F0-4DC4-9913-DEBAA3208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e důležité aby tištěná verze měla stejný HASH kód s elektronickou finálně uloženou webovou žádost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BF5C5-2F5E-494D-8965-3FF1C5D8F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vním krokem pro vytvoření žádosti o poskytnutí dotace v aplikaci Benefit7 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registrace uživatele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Na všech záložkách Benefitové žádosti je vždy nezbytné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yplnit žlutá pole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Po vyplnění registračního formuláře Vám bude na mailovou adresu zaslán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aktivační klíč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Na tento klíč kliknete a po té Vám bude účet aktivován.  Po úspěšné aktivaci se můžete přihlásit do aplikace Benefit7 vyplněním přihlašovacích údajů a kliknutím na tlačítk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řihlásit se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DEFC3-F4FD-42C0-A3F7-57F24A93B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9280" indent="0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Slouží jako seznam/přehled všech vytvořených žádostí, které žadatel vytvořil či k nim má příst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D356C-348C-4C75-8B7F-80993F7ED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e seznamu formulářů vyberete OP VK – OP Vzdělávání a konkurenceschopnost. Pak je nutné vybrat správný typ výzvy, který je uveden v samotné výzv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096E0-A13D-4F75-B8CC-F4DF0CB10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a žlutá pole jsou povinná, povinné pole musí být vždy vyplněno. Ostatní pole jsou nepovinná a nebo se vyplní automaticky s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růběžně ukládejte každou zálož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DB5C5-BD32-4B11-867C-E1806CBDE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této záložce je opět nezbytné doplnit všechna povinná pole. Některé údaje je možné doplnit pomocí číselník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by měl být jednoznačný, stručný a výstižný. Je možné zadat max.50 znaků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krácený název, název anglicky. Harmonogram projektu - po vyplnění předpokládaného data zahájení a ukonč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alizace projektu, a po stisknutí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se automaticky doplní předpokládaná doba trvání projektu v měsící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46C61-32EB-4F95-B7F5-FE9BADD8A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vním krokem k vyplnění této záložky je vyplnění IČ (osmimístné číslo). Správnost IČ je nutné zkontrolovat kliknutím na tlačítk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alidace ARES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Po úspěšné validaci, dojde k načtení základních údajů uvedených v registru ekonomických subjektů Ministerstva financí Č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64B08-AD1A-406D-8826-4CA84C0B3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0D7-D33D-41F7-AEA5-87FC8AD2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D45-D4D4-49BD-8619-A9E8AC36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4F082-B2EC-4294-B97E-2AD30548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E6064-EAA1-4C35-8A61-F8D15A48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B055F-D30B-4BFA-9FB2-9E18A3EC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79B34-5348-4518-9485-257ABF4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EEF19-2AE2-46DF-B070-981E544E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3CF82-357D-4C2C-9BE8-6E72C72A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BFC84-7F1F-4B60-BA68-D4FFD844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ECE0C-5AA3-41E0-8521-D39D58E5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AFEE7-3313-4B18-B4D6-57901877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75CD7-F60D-4C63-902E-87BCAC14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364-2C00-4907-8A65-9FEC5D71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CF582-8F9B-46FF-BDFA-CD21EDFB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BEFAC-FE63-4BA3-A527-7918CEE4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2F20D-AC19-4AFF-9A5D-A9AB08B9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039D4-6FCA-4564-8FD1-00BFE94F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1EA04-6EAD-4271-9BF6-670EB39F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B2907-E5C9-4BBE-A09C-72BCC177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AA8B0-9F15-4CBA-BB21-A78EC4B5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9E842-F240-482F-9B41-AD5CA57B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F9EAD-8930-4397-B999-3183A4AE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44C0F-98C7-4DC6-BDE3-453D77AF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D38-ECB6-4348-9CE9-F7A9F376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3402D-E189-4DA9-A836-E0F4D545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AC227-2543-42ED-AA90-564F1DC9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704B6-5E73-439B-98A5-75DBEA2A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B3D8B-35F5-41F3-85C0-5504E605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55DAF-4644-4115-A1E5-04D1C251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C8439-84EF-49C1-B8EA-9D2BBF60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86C4F-3DEE-461E-9EDF-5446DECB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8E0C1-5BD1-4856-96F9-6586BBA3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CD2A3-05B2-46B6-AC1F-EF1ACDC2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F0E4F-BF3C-40AA-8664-1EADFC4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EDE9-CA66-46B6-A21A-7A71D395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A1782-202A-4483-9A74-79F5C780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AE3E6-FB73-49C6-BD34-5CBF1564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CC4AE-9EAE-4F7E-820E-B2E3FE18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5601F-1C4D-4065-9A3D-7E02169E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F06C2-237C-419E-93ED-5EC342A6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5A2A3-A091-49BC-BB35-D6C8EC87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09F65-8CA8-4A32-8564-BFB96093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254E1-1A4D-48A7-B554-9DB290E0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D6E53-9B9E-4295-A05E-EF76C990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61D97-A3E8-4634-A81B-3106BA8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72A2-D507-4F26-8D4F-A7D3F2DD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E3249-4F5F-4A3E-AE55-9FEFB48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111C9-FB3D-46B9-8767-803225B2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CB292-6AF8-4729-8882-36F02240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AB8D3-566A-4138-8805-7FD2358F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AD260-56D3-4075-86A3-51666713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F585-B033-46DE-AE52-A564E037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9AD6-DE11-492D-8B7F-44F1A7BC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9C01-AB64-413F-82FC-735EA128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DC60-A2D0-41B2-8237-04C63BE8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94FE-7DF0-4A02-999C-EFA2DD7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4FB-DE63-4D1C-A963-8DEF37AB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7064-368E-45DC-952D-97F4E834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ED8C-0105-486A-BAB7-5907F1BA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3494-5C58-41ED-AA04-745A18A0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3E6E-CE05-450A-82B6-39AD86B9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B2F3-CD2F-4539-9B95-F0C3A2B1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49B9-F9B6-4484-9435-EB6A5C1E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626A-CAE0-4454-A6D9-BD5C3062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4733-490A-40E7-B1E5-01FF108E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3DD2-F5FD-48BB-B5EE-391DCE03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9226-3105-4498-9CC4-7622C250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05C-E1EA-4AD3-9A03-1F38326E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79D3-20D5-4994-B7D2-E4D75EB5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CD54-801A-43A5-B769-19FE31A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07917-FFFB-4BF6-9B80-7571898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0149F-CE58-4EA3-8A65-59BDA846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8E358-FAA0-4C01-8368-3E97A331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030E-79B4-44BD-8FFC-541D6DF5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AB0B4-FCAB-46A1-B4C7-0EEEF025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17133-8A85-4083-903C-D617A862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E26D1-FE21-4F62-ABC8-4137744D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FE21C-776D-497F-B95D-7D82AD7D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AAE-5432-4FE5-9FEC-7CA8D898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3F980-9696-4FC1-B8D7-191C5564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6B896-CAAE-483E-B77B-F1137620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0FC8-0829-4CA7-B32C-AFD59E83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D65CB-A521-4974-BB34-1406760E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17B7-90D3-4798-A7F2-BE5AC478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9D2C7-718D-4CA5-9665-E5A8C9DD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E8FE-EB8E-4457-A33A-40598A50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B5C9F-188E-490F-A368-29D40D7E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3A806-3A16-4320-8C55-F081B622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8CEE-904D-4CC1-8C7A-3C5561F1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85E-E536-4EC4-9972-29F43FD7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00539-D1D9-453C-9937-0D27AB94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AFD7F-6112-4D5D-A93A-6E9C9F87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4B499-C350-46E0-9D7E-F30BFAD4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80F79-878A-4F0C-BE61-DE504ECD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7A550-8C15-43D5-BA93-C3780868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BEBEE-BCCC-44A5-80C4-F845C9F8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8DF01-F185-4D31-897E-7D0AC31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98410-ABFE-4402-9795-708647C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5884A-A0C0-4E1E-A9BD-A214E54E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03BE1-F4B1-4114-9508-D606757D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C0A-EB43-471F-AA85-2F916FD3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A536C-C967-4494-B87F-6A56272B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4E268-6C07-4FDC-98B2-763CC9F1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95C36-E108-4728-9BE3-136FC06D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43968-214C-48A2-A693-05490A9B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9F5CE-F20F-4810-A4B2-D0F4E522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AA3D1-1243-4AC0-87F5-EEAD88C4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F8F62-D9AA-40B8-B3FB-71DB8AD0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F7237-3D9B-4312-8CE6-F99828ED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BB683-F3BC-430D-B7E1-E8FAA6B0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4483C-73D1-4664-B7F9-D8765033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CCB-4347-4963-9DBA-125D61C3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1E8BF-A164-4E59-9F55-FC42DB9E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1A74E-BCD8-4439-8F1A-FF02B0E0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BC48-68F5-4F31-B946-157A41FE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D1B65-B794-4D09-8837-B9C26856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9B2B6-6388-46C1-B04F-7E61479E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1583F-2BC6-4195-BB0D-AE2F55CA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F001D-843E-4461-827C-E8B6F721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29CF9-E08A-4A61-AEAC-2A50A052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CB11B-9844-43AE-9CB8-83B9CA41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55553-0D43-4972-A124-3FF18420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A48-E3D8-4988-8075-9C56AEB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F936F-298B-4C41-8424-3439DC4F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B7CB7-69B2-48B2-B7D5-12A375EC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991EE-D5EB-40EA-AD0A-06A572AB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142AA-0655-4A91-B536-90A38395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A8F32-6AA2-4E1E-96DC-FA477D4D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C02C3-E428-4653-949B-FA50C2BC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961CE-7512-4D04-A8EA-D3A36118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3FC4E-125B-47D7-9CC8-44F0A546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8D2A3-1CA7-471E-A0AA-4262BA45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1660E-CE82-4C3B-9797-EB66A707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FAC-307A-4E2B-B139-9A06C7DA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49EF1-7BAB-43BF-AA9F-8C077BC7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E8E69-2240-4962-A25C-E7DD5D76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FF931-5557-4B7B-B4C2-1E236D50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9DC28-CCA1-417F-B292-0758B6BE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F2E4A-A297-4FF1-9676-3AA0C744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CFAF2-D76E-46EB-804B-1CCE38DC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E1906-7585-4B68-8745-B990B3C6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74164-4E17-421A-83B4-244EBACE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844D4-6473-4C53-9846-7B33A588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8FA29-8F7D-4F3B-813A-9FFBB859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B0D71-260F-4C31-823A-EEA6226B77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1CF7C-4017-4A2F-B61D-A610308A4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EE0AE4F4-2CA4-497F-952E-953EBBAC0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0CF0A-3EF0-4F9D-81F5-D3E989E546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49B05-0035-450D-9EFE-22F4E413C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1BF4A-A2D5-4950-A281-9092B4A7B5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3BB59-1464-4523-8337-6E506DFC2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8B3B3-B968-4B47-8092-EE07B8440F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ADDB8-4EB6-4133-950E-E6C78E4FC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79A17-0159-4658-A9D0-93A9C52A9A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0A1AB-4F70-468C-90BF-20E57612C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24FAE-9831-411B-8996-847FA68FC8F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C7504-467D-4448-B4BE-F7DAC7B70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3E604-4D66-473A-BDA9-970A1E78C8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F129D-0020-4BCB-9749-7D05A7D9F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28D72-51E0-4F61-BE4D-33B2D4DDBE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A006B-C24C-48DC-877D-4C057E822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C7E33-5822-44AE-BB4B-D074FA4AA3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59C09-8D81-42A7-B132-89D973FFA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C5F95-794E-434B-9CD2-F392EA23A1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FD0A8-A7AF-4B73-A5E8-74DC1A31F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275F3-150E-4B62-81C3-AEDABB295B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94879-3452-40CF-9CE2-B30BA9CFD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75DF3-68FD-4E15-95D2-500FF1A834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FFB46-BEC3-4134-BA20-FE0FABB3E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jak-vyplnit-webovou-zadost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2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Verdana"/>
              </a:rPr>
              <a:t>Benefit7</a:t>
            </a:r>
            <a:r>
              <a:rPr b="1" lang="cs-CZ" sz="4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400"/>
            </a:b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Jak vyplnit projektovou žádost“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553920"/>
            <a:ext cx="64008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enisa Kolouchová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061640" y="1952640"/>
            <a:ext cx="69166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    a načtená data neodpovídala skutečnosti, je nutno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ADR (Ministerstvo práce a sociálních věcí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CDB76-E2B5-4A51-82D2-EF9181957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900000"/>
            <a:ext cx="64580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47BD2-0171-4F52-82EC-DB09F5F32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Obrázek 5" descr="1.JPG"/>
          <p:cNvPicPr/>
          <p:nvPr/>
        </p:nvPicPr>
        <p:blipFill>
          <a:blip r:embed="rId1"/>
          <a:stretch/>
        </p:blipFill>
        <p:spPr>
          <a:xfrm>
            <a:off x="1073160" y="1658880"/>
            <a:ext cx="3516480" cy="3774960"/>
          </a:xfrm>
          <a:prstGeom prst="rect">
            <a:avLst/>
          </a:prstGeom>
          <a:ln w="0">
            <a:noFill/>
          </a:ln>
        </p:spPr>
      </p:pic>
      <p:sp>
        <p:nvSpPr>
          <p:cNvPr id="568" name="Obdélníkový popisek 5"/>
          <p:cNvSpPr/>
          <p:nvPr/>
        </p:nvSpPr>
        <p:spPr>
          <a:xfrm flipV="1" rot="10800000">
            <a:off x="5279760" y="2048400"/>
            <a:ext cx="2808360" cy="185724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e9a3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díl žadatele na výdajích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 případě, že žadatel nemá partnera = celkové výdaj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29840" y="869760"/>
            <a:ext cx="64580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0C378-3E83-4D59-9318-0C8D149FB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703440" y="155088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72" name="Obdélníkový popisek 5"/>
          <p:cNvSpPr/>
          <p:nvPr/>
        </p:nvSpPr>
        <p:spPr>
          <a:xfrm>
            <a:off x="6208560" y="1757520"/>
            <a:ext cx="2227320" cy="3168360"/>
          </a:xfrm>
          <a:prstGeom prst="wedgeRectCallout">
            <a:avLst>
              <a:gd name="adj1" fmla="val -156708"/>
              <a:gd name="adj2" fmla="val -16828"/>
            </a:avLst>
          </a:prstGeom>
          <a:solidFill>
            <a:srgbClr val="ffe9a3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Elipsa 6"/>
          <p:cNvSpPr/>
          <p:nvPr/>
        </p:nvSpPr>
        <p:spPr>
          <a:xfrm>
            <a:off x="1886040" y="3887640"/>
            <a:ext cx="372564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Šipka dolů 7"/>
          <p:cNvSpPr/>
          <p:nvPr/>
        </p:nvSpPr>
        <p:spPr>
          <a:xfrm rot="5400000">
            <a:off x="3657960" y="4617000"/>
            <a:ext cx="534960" cy="11523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884160"/>
            <a:ext cx="64580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4227A-F64B-4593-9461-77DE5E6E4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 se zakulaceným příčným rohem 5"/>
          <p:cNvSpPr/>
          <p:nvPr/>
        </p:nvSpPr>
        <p:spPr>
          <a:xfrm>
            <a:off x="6477120" y="1693800"/>
            <a:ext cx="182556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– automatický natažena po validaci AR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1"/>
          <a:stretch/>
        </p:blipFill>
        <p:spPr>
          <a:xfrm>
            <a:off x="768240" y="1574640"/>
            <a:ext cx="529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958680"/>
            <a:ext cx="64580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19F53-F63B-4180-A5B4-37F693713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10" descr=""/>
          <p:cNvPicPr/>
          <p:nvPr/>
        </p:nvPicPr>
        <p:blipFill>
          <a:blip r:embed="rId1"/>
          <a:stretch/>
        </p:blipFill>
        <p:spPr>
          <a:xfrm>
            <a:off x="1576440" y="1662120"/>
            <a:ext cx="5767200" cy="3759120"/>
          </a:xfrm>
          <a:prstGeom prst="rect">
            <a:avLst/>
          </a:prstGeom>
          <a:ln w="0">
            <a:noFill/>
          </a:ln>
        </p:spPr>
      </p:pic>
      <p:sp>
        <p:nvSpPr>
          <p:cNvPr id="582" name="Elipsa 7"/>
          <p:cNvSpPr/>
          <p:nvPr/>
        </p:nvSpPr>
        <p:spPr>
          <a:xfrm>
            <a:off x="3006720" y="513396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4897440" y="3908520"/>
            <a:ext cx="1655640" cy="59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50500-1276-4AED-A7D7-0F5B45E95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6" descr=""/>
          <p:cNvPicPr/>
          <p:nvPr/>
        </p:nvPicPr>
        <p:blipFill>
          <a:blip r:embed="rId1"/>
          <a:stretch/>
        </p:blipFill>
        <p:spPr>
          <a:xfrm>
            <a:off x="687240" y="1784520"/>
            <a:ext cx="6116760" cy="372564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804000" y="1784520"/>
            <a:ext cx="166212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Formulář je aktivní pouze v případě, že žadatel na záložce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„Projek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volil možnost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„Projekt má partnera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61640"/>
            <a:ext cx="645804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5351B-1753-4C0C-91F5-5423BE0A1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9" descr=""/>
          <p:cNvPicPr/>
          <p:nvPr/>
        </p:nvPicPr>
        <p:blipFill>
          <a:blip r:embed="rId1"/>
          <a:stretch/>
        </p:blipFill>
        <p:spPr>
          <a:xfrm>
            <a:off x="946080" y="1600200"/>
            <a:ext cx="4471920" cy="3776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ový popisek 5"/>
          <p:cNvSpPr/>
          <p:nvPr/>
        </p:nvSpPr>
        <p:spPr>
          <a:xfrm>
            <a:off x="5796000" y="1957320"/>
            <a:ext cx="2330280" cy="2865600"/>
          </a:xfrm>
          <a:prstGeom prst="wedgeRectCallout">
            <a:avLst>
              <a:gd name="adj1" fmla="val -99217"/>
              <a:gd name="adj2" fmla="val -52138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případě, že se jedná o partnera s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finančním podílem na rozpočtu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, vymezte částku, která   z celkového rozpočtu projektu připadá na partn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0C0FA-A59B-4BBA-B543-1DEA7100D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3020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5043600" y="1770120"/>
            <a:ext cx="2744640" cy="3716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ěnujte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maximální pozornos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plnění těchto záložek. Informace zde zadané slouží jako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základní nástroj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hodnocení žádost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709B4-6774-4FD8-9F33-088CD6739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délník se zakulaceným příčným rohem 5"/>
          <p:cNvSpPr/>
          <p:nvPr/>
        </p:nvSpPr>
        <p:spPr>
          <a:xfrm>
            <a:off x="5181480" y="2124000"/>
            <a:ext cx="2743200" cy="27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adané oblasti musejí být součástí definovaného prostoru pro Operační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Území určete co nejpřesněji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3508560" cy="3616200"/>
          </a:xfrm>
          <a:prstGeom prst="rect">
            <a:avLst/>
          </a:prstGeom>
          <a:ln w="0">
            <a:noFill/>
          </a:ln>
        </p:spPr>
      </p:pic>
      <p:sp>
        <p:nvSpPr>
          <p:cNvPr id="600" name="Elipsa 6"/>
          <p:cNvSpPr/>
          <p:nvPr/>
        </p:nvSpPr>
        <p:spPr>
          <a:xfrm>
            <a:off x="2397240" y="32986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090440"/>
            <a:ext cx="64580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93FE4-0DAC-469B-833D-F98A2372B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3370320" y="1577880"/>
            <a:ext cx="4976640" cy="3716280"/>
          </a:xfrm>
          <a:prstGeom prst="rect">
            <a:avLst/>
          </a:prstGeom>
          <a:ln w="0">
            <a:noFill/>
          </a:ln>
        </p:spPr>
      </p:pic>
      <p:sp>
        <p:nvSpPr>
          <p:cNvPr id="604" name="Obdélník se zakulaceným příčným rohem 5"/>
          <p:cNvSpPr/>
          <p:nvPr/>
        </p:nvSpPr>
        <p:spPr>
          <a:xfrm>
            <a:off x="903240" y="1806480"/>
            <a:ext cx="2187720" cy="1881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všechny klíčové aktivity, které budete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jednotlivých fázích projektu realizovat vy nebo partner projekt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délníkový popisek 6"/>
          <p:cNvSpPr/>
          <p:nvPr/>
        </p:nvSpPr>
        <p:spPr>
          <a:xfrm>
            <a:off x="903240" y="3938760"/>
            <a:ext cx="2187720" cy="1355400"/>
          </a:xfrm>
          <a:prstGeom prst="wedgeRectCallout">
            <a:avLst>
              <a:gd name="adj1" fmla="val 75685"/>
              <a:gd name="adj2" fmla="val 2609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celkovou výši výdajů na danou aktivi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98120" y="1095120"/>
            <a:ext cx="7418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Jak vyplnit projektovou žádost</a:t>
            </a:r>
            <a:br>
              <a:rPr sz="2000"/>
            </a:br>
            <a:r>
              <a:rPr b="1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msmt.cz/strukturalni-fondy/jak-vyplnit-webovou-zadost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br>
              <a:rPr sz="2400"/>
            </a:br>
            <a:endParaRPr b="1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7510B-D520-43BA-B3A3-2D15742C0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1430280" y="2146320"/>
            <a:ext cx="63104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4ED4C-1473-4860-9768-2401F97CA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6" descr=""/>
          <p:cNvPicPr/>
          <p:nvPr/>
        </p:nvPicPr>
        <p:blipFill>
          <a:blip r:embed="rId1"/>
          <a:stretch/>
        </p:blipFill>
        <p:spPr>
          <a:xfrm>
            <a:off x="861840" y="1770120"/>
            <a:ext cx="4915080" cy="3730680"/>
          </a:xfrm>
          <a:prstGeom prst="rect">
            <a:avLst/>
          </a:prstGeom>
          <a:ln w="0">
            <a:noFill/>
          </a:ln>
        </p:spPr>
      </p:pic>
      <p:sp>
        <p:nvSpPr>
          <p:cNvPr id="609" name="Obdélníkový popisek 5"/>
          <p:cNvSpPr/>
          <p:nvPr/>
        </p:nvSpPr>
        <p:spPr>
          <a:xfrm>
            <a:off x="6327720" y="1770120"/>
            <a:ext cx="2122560" cy="2609640"/>
          </a:xfrm>
          <a:prstGeom prst="wedgeRectCallout">
            <a:avLst>
              <a:gd name="adj1" fmla="val -86365"/>
              <a:gd name="adj2" fmla="val 5216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29840" y="1076040"/>
            <a:ext cx="645804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 HARMONOGRAM 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F35BE-2A44-413A-80AC-DD4D1C506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1692360" y="1577880"/>
            <a:ext cx="5759280" cy="3154320"/>
          </a:xfrm>
          <a:prstGeom prst="rect">
            <a:avLst/>
          </a:prstGeom>
          <a:ln w="0">
            <a:noFill/>
          </a:ln>
        </p:spPr>
      </p:pic>
      <p:sp>
        <p:nvSpPr>
          <p:cNvPr id="613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harmonogram u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každé klíčové aktivity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ejí být realizovány v časovém rozmezí, které jste uvedli na první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6"/>
          <p:cNvSpPr/>
          <p:nvPr/>
        </p:nvSpPr>
        <p:spPr>
          <a:xfrm>
            <a:off x="1692360" y="3071880"/>
            <a:ext cx="1071360" cy="190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29840" y="972720"/>
            <a:ext cx="645804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8AF4B-47B9-4E29-9BA1-6E0301E89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2392200" y="1711440"/>
            <a:ext cx="5218200" cy="3456000"/>
          </a:xfrm>
          <a:prstGeom prst="rect">
            <a:avLst/>
          </a:prstGeom>
          <a:ln w="0">
            <a:noFill/>
          </a:ln>
        </p:spPr>
      </p:pic>
      <p:sp>
        <p:nvSpPr>
          <p:cNvPr id="619" name="Obdélník se zakulaceným příčným rohem 6"/>
          <p:cNvSpPr/>
          <p:nvPr/>
        </p:nvSpPr>
        <p:spPr>
          <a:xfrm>
            <a:off x="457200" y="1711440"/>
            <a:ext cx="1935000" cy="4027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tolikrát, kolik pozic plánujete (např. 10 metodiků jak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etodik1 (0,2 úv.) metodik2 (0,7 úv.) at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kud budete uvádět pozici kumulativně (např. „metodik 3,0 úv.“, pak 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ový popisek 7"/>
          <p:cNvSpPr/>
          <p:nvPr/>
        </p:nvSpPr>
        <p:spPr>
          <a:xfrm>
            <a:off x="6553080" y="2954160"/>
            <a:ext cx="2090880" cy="2576520"/>
          </a:xfrm>
          <a:prstGeom prst="wedgeRectCallout">
            <a:avLst>
              <a:gd name="adj1" fmla="val -62842"/>
              <a:gd name="adj2" fmla="val -1885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 nabídky vyberte typ pozic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anažerské a administrativní pozice, Odborné pozic</a:t>
            </a: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Vyberte subjekt, který bude danou pozici zajišťova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02960"/>
            <a:ext cx="645804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 ROZPOČET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A1095-B19D-48C6-BEDB-017E19470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1"/>
          <a:stretch/>
        </p:blipFill>
        <p:spPr>
          <a:xfrm>
            <a:off x="485640" y="1666800"/>
            <a:ext cx="5861160" cy="353232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ový popisek 7"/>
          <p:cNvSpPr/>
          <p:nvPr/>
        </p:nvSpPr>
        <p:spPr>
          <a:xfrm>
            <a:off x="6553080" y="2035080"/>
            <a:ext cx="2090880" cy="3164040"/>
          </a:xfrm>
          <a:prstGeom prst="wedgeRectCallout">
            <a:avLst>
              <a:gd name="adj1" fmla="val -71310"/>
              <a:gd name="adj2" fmla="val 552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tabulce kliknete na požadovanou položku, která se výběrem barevně zvýrazní          a načte se do polí umístěných pod tabulk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iz následující obráz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29840" y="1031400"/>
            <a:ext cx="645804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 ROZPOČET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40108-C35C-4E8C-93C8-55A77C289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501480" y="1755720"/>
            <a:ext cx="4194360" cy="3173400"/>
          </a:xfrm>
          <a:prstGeom prst="rect">
            <a:avLst/>
          </a:prstGeom>
          <a:ln w="0">
            <a:noFill/>
          </a:ln>
        </p:spPr>
      </p:pic>
      <p:sp>
        <p:nvSpPr>
          <p:cNvPr id="628" name="Obdélníkový popisek 5"/>
          <p:cNvSpPr/>
          <p:nvPr/>
        </p:nvSpPr>
        <p:spPr>
          <a:xfrm>
            <a:off x="5692680" y="1755720"/>
            <a:ext cx="2611440" cy="1901880"/>
          </a:xfrm>
          <a:prstGeom prst="wedgeRectCallout">
            <a:avLst>
              <a:gd name="adj1" fmla="val -82046"/>
              <a:gd name="adj2" fmla="val -1730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ložka název nákladu se načte automaticky, dle Vašeho výběru. Viz předchozí obrázek. Vyplňte šedá pole: Počet jednotek, jednotka                 a jednotková c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Elipsa 6"/>
          <p:cNvSpPr/>
          <p:nvPr/>
        </p:nvSpPr>
        <p:spPr>
          <a:xfrm>
            <a:off x="3573360" y="2149560"/>
            <a:ext cx="107172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7"/>
          <p:cNvSpPr/>
          <p:nvPr/>
        </p:nvSpPr>
        <p:spPr>
          <a:xfrm>
            <a:off x="795240" y="2149560"/>
            <a:ext cx="106992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bdélníkový popisek 8"/>
          <p:cNvSpPr/>
          <p:nvPr/>
        </p:nvSpPr>
        <p:spPr>
          <a:xfrm>
            <a:off x="5692680" y="3938760"/>
            <a:ext cx="2611440" cy="1474560"/>
          </a:xfrm>
          <a:prstGeom prst="wedgeRectCallout">
            <a:avLst>
              <a:gd name="adj1" fmla="val -82046"/>
              <a:gd name="adj2" fmla="val -1730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Procentuální podíl nepřímých nákladů je specifikován ve výzvě a vypočítávají se </a:t>
            </a:r>
            <a:r>
              <a:rPr b="1" lang="cs-CZ" sz="1100" spc="-1" strike="noStrike">
                <a:solidFill>
                  <a:srgbClr val="000000"/>
                </a:solidFill>
                <a:latin typeface="Verdana"/>
              </a:rPr>
              <a:t>AUTOMATICKY </a:t>
            </a: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dle hodnoty kapitoly 08 – Přímé způsobilé výdaj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01880" y="1091880"/>
            <a:ext cx="718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F667A-2128-45B8-8D5B-426291EAB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26960" y="1784520"/>
            <a:ext cx="4989600" cy="3727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2"/>
          <a:stretch/>
        </p:blipFill>
        <p:spPr>
          <a:xfrm>
            <a:off x="4365720" y="3083040"/>
            <a:ext cx="3819600" cy="880920"/>
          </a:xfrm>
          <a:prstGeom prst="rect">
            <a:avLst/>
          </a:prstGeom>
          <a:ln w="0">
            <a:noFill/>
          </a:ln>
        </p:spPr>
      </p:pic>
      <p:cxnSp>
        <p:nvCxnSpPr>
          <p:cNvPr id="636" name="Přímá spojovací šipka 7"/>
          <p:cNvCxnSpPr/>
          <p:nvPr/>
        </p:nvCxnSpPr>
        <p:spPr>
          <a:xfrm flipH="1">
            <a:off x="4733640" y="2773080"/>
            <a:ext cx="457920" cy="664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37" name="Přímá spojovací šipka 11"/>
          <p:cNvCxnSpPr/>
          <p:nvPr/>
        </p:nvCxnSpPr>
        <p:spPr>
          <a:xfrm flipH="1" flipV="1">
            <a:off x="4733640" y="3642480"/>
            <a:ext cx="457920" cy="575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29840" y="1090440"/>
            <a:ext cx="6458040" cy="6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FF71E-C7DD-4CF2-B9A8-6E791B274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5" descr=""/>
          <p:cNvPicPr/>
          <p:nvPr/>
        </p:nvPicPr>
        <p:blipFill>
          <a:blip r:embed="rId1"/>
          <a:stretch/>
        </p:blipFill>
        <p:spPr>
          <a:xfrm>
            <a:off x="78408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"/>
          <p:cNvPicPr/>
          <p:nvPr/>
        </p:nvPicPr>
        <p:blipFill>
          <a:blip r:embed="rId2"/>
          <a:stretch/>
        </p:blipFill>
        <p:spPr>
          <a:xfrm>
            <a:off x="784080" y="3465360"/>
            <a:ext cx="4510080" cy="1798920"/>
          </a:xfrm>
          <a:prstGeom prst="rect">
            <a:avLst/>
          </a:prstGeom>
          <a:ln w="0">
            <a:noFill/>
          </a:ln>
        </p:spPr>
      </p:pic>
      <p:sp>
        <p:nvSpPr>
          <p:cNvPr id="642" name="Obdélníkový popisek 6"/>
          <p:cNvSpPr/>
          <p:nvPr/>
        </p:nvSpPr>
        <p:spPr>
          <a:xfrm>
            <a:off x="5557680" y="2286000"/>
            <a:ext cx="2765520" cy="781200"/>
          </a:xfrm>
          <a:prstGeom prst="wedgeRectCallout">
            <a:avLst>
              <a:gd name="adj1" fmla="val -84625"/>
              <a:gd name="adj2" fmla="val 18273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yberte z číselníku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bdélníkový popisek 7"/>
          <p:cNvSpPr/>
          <p:nvPr/>
        </p:nvSpPr>
        <p:spPr>
          <a:xfrm>
            <a:off x="5557680" y="3465360"/>
            <a:ext cx="2765520" cy="1798920"/>
          </a:xfrm>
          <a:prstGeom prst="wedgeRectCallout">
            <a:avLst>
              <a:gd name="adj1" fmla="val -48671"/>
              <a:gd name="adj2" fmla="val 228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Prostředky z EU v Kč 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musí být roven částce v poli Strukturální fond v záložce Přehled financování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Elipsa 8"/>
          <p:cNvSpPr/>
          <p:nvPr/>
        </p:nvSpPr>
        <p:spPr>
          <a:xfrm>
            <a:off x="1865160" y="4906800"/>
            <a:ext cx="1262160" cy="53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21F51-B56F-4EDC-A955-40DF8FF39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1065240" y="177012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48" name="Obdélník se zakulaceným příčným rohem 5"/>
          <p:cNvSpPr/>
          <p:nvPr/>
        </p:nvSpPr>
        <p:spPr>
          <a:xfrm>
            <a:off x="6054840" y="1838160"/>
            <a:ext cx="2278080" cy="3565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</a:t>
            </a:r>
            <a:r>
              <a:rPr b="0" lang="cs-CZ" sz="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Elipsa 7"/>
          <p:cNvSpPr/>
          <p:nvPr/>
        </p:nvSpPr>
        <p:spPr>
          <a:xfrm>
            <a:off x="4094280" y="2825640"/>
            <a:ext cx="142848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3146E-0B98-4657-A209-1E897F536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53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      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37397-BBE9-4AFE-A25E-AAC29C4A7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57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29840" y="1211040"/>
            <a:ext cx="6458040" cy="106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D30A1-83E3-4D3C-BECD-F4DD898BB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"/>
          <p:cNvPicPr/>
          <p:nvPr/>
        </p:nvPicPr>
        <p:blipFill>
          <a:blip r:embed="rId2"/>
          <a:stretch/>
        </p:blipFill>
        <p:spPr>
          <a:xfrm>
            <a:off x="736560" y="2171880"/>
            <a:ext cx="795024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BC611-55A5-4A3C-BCD3-5178812E4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779400" y="1784520"/>
            <a:ext cx="5961240" cy="3551040"/>
          </a:xfrm>
          <a:prstGeom prst="rect">
            <a:avLst/>
          </a:prstGeom>
          <a:ln w="0">
            <a:noFill/>
          </a:ln>
        </p:spPr>
      </p:pic>
      <p:sp>
        <p:nvSpPr>
          <p:cNvPr id="662" name="Obdélník se zakulaceným příčným rohem 5"/>
          <p:cNvSpPr/>
          <p:nvPr/>
        </p:nvSpPr>
        <p:spPr>
          <a:xfrm>
            <a:off x="6916680" y="1784520"/>
            <a:ext cx="1900440" cy="45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te        v oblasti rozvoje lidských zdrojů a které jsou financované      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        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        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4A233-68B9-429B-8A87-AFF80B52F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7" descr=""/>
          <p:cNvPicPr/>
          <p:nvPr/>
        </p:nvPicPr>
        <p:blipFill>
          <a:blip r:embed="rId1"/>
          <a:stretch/>
        </p:blipFill>
        <p:spPr>
          <a:xfrm>
            <a:off x="644400" y="1701720"/>
            <a:ext cx="4065840" cy="3637080"/>
          </a:xfrm>
          <a:prstGeom prst="rect">
            <a:avLst/>
          </a:prstGeom>
          <a:ln w="0">
            <a:noFill/>
          </a:ln>
        </p:spPr>
      </p:pic>
      <p:sp>
        <p:nvSpPr>
          <p:cNvPr id="666" name="Obdélník se zakulaceným příčným rohem 5"/>
          <p:cNvSpPr/>
          <p:nvPr/>
        </p:nvSpPr>
        <p:spPr>
          <a:xfrm>
            <a:off x="4903920" y="1784520"/>
            <a:ext cx="3606840" cy="3554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Připoji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, zde vyberte požadovaný  soubo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Přílohy s povinným podpisem naskenujte a přiložte jako obrázek *.jpg, nebo soubor *.pdf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Každá příloha musí mít zaškrtnuto buď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doložena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, nebo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nerelevantní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Elipsa 6"/>
          <p:cNvSpPr/>
          <p:nvPr/>
        </p:nvSpPr>
        <p:spPr>
          <a:xfrm>
            <a:off x="2678040" y="5043600"/>
            <a:ext cx="1214640" cy="29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Elipsa 7"/>
          <p:cNvSpPr/>
          <p:nvPr/>
        </p:nvSpPr>
        <p:spPr>
          <a:xfrm>
            <a:off x="2070000" y="4013280"/>
            <a:ext cx="18226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29840" y="870120"/>
            <a:ext cx="645804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ONTROL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EB606-60FB-46BA-8BBF-2D94239BF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1278000" y="1569960"/>
            <a:ext cx="6562800" cy="2881440"/>
          </a:xfrm>
          <a:prstGeom prst="rect">
            <a:avLst/>
          </a:prstGeom>
          <a:ln w="0">
            <a:noFill/>
          </a:ln>
        </p:spPr>
      </p:pic>
      <p:sp>
        <p:nvSpPr>
          <p:cNvPr id="672" name="Obdélník se zakulaceným příčným rohem 5"/>
          <p:cNvSpPr/>
          <p:nvPr/>
        </p:nvSpPr>
        <p:spPr>
          <a:xfrm>
            <a:off x="1330200" y="3730680"/>
            <a:ext cx="6510600" cy="1682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utomaticky proběhne i při spuštění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izac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04724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119040" y="1816200"/>
            <a:ext cx="5140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úspěšným ukončením kontroly je třeba 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finalizov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lizací je žádost uzavřena a chráněna proti další editac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má od svého založení přidělen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líč žádosti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olečně s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líčem verze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ý se přiděluje až při finalizaci dochází jejich spojením k vytvoře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nikátního kódu HASH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4F3D9-44A4-4167-9B73-35951C927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3" descr=""/>
          <p:cNvPicPr/>
          <p:nvPr/>
        </p:nvPicPr>
        <p:blipFill>
          <a:blip r:embed="rId1"/>
          <a:stretch/>
        </p:blipFill>
        <p:spPr>
          <a:xfrm>
            <a:off x="774720" y="1816200"/>
            <a:ext cx="2546280" cy="1944720"/>
          </a:xfrm>
          <a:prstGeom prst="rect">
            <a:avLst/>
          </a:prstGeom>
          <a:ln w="0">
            <a:noFill/>
          </a:ln>
        </p:spPr>
      </p:pic>
      <p:sp>
        <p:nvSpPr>
          <p:cNvPr id="677" name="Elipsa 6"/>
          <p:cNvSpPr/>
          <p:nvPr/>
        </p:nvSpPr>
        <p:spPr>
          <a:xfrm>
            <a:off x="833400" y="3083040"/>
            <a:ext cx="1112760" cy="309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bdélník 7"/>
          <p:cNvSpPr/>
          <p:nvPr/>
        </p:nvSpPr>
        <p:spPr>
          <a:xfrm>
            <a:off x="833400" y="4645080"/>
            <a:ext cx="74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e důležité aby tištěná verze měla stejný HASH kód                         s elektronickou finálně uloženou webovou žádostí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isk a předání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186000" y="1952280"/>
            <a:ext cx="460224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vytiskněte, uložte ve svém počítači a vypalte na CD, které spolu     s vytištěnou žádostí a přílohami odevzdáte na MŠM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Adresa pro doručení poštou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Karmelitská 7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118 12  Praha 1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Adresa pro osobní odevzdání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Křižíkova 34/148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186 00  Praha 8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6D6A3-1340-4006-903A-64D9BDF9F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" descr=""/>
          <p:cNvPicPr/>
          <p:nvPr/>
        </p:nvPicPr>
        <p:blipFill>
          <a:blip r:embed="rId1"/>
          <a:stretch/>
        </p:blipFill>
        <p:spPr>
          <a:xfrm>
            <a:off x="861840" y="1952640"/>
            <a:ext cx="2544840" cy="1942920"/>
          </a:xfrm>
          <a:prstGeom prst="rect">
            <a:avLst/>
          </a:prstGeom>
          <a:ln w="0">
            <a:noFill/>
          </a:ln>
        </p:spPr>
      </p:pic>
      <p:sp>
        <p:nvSpPr>
          <p:cNvPr id="683" name="Elipsa 6"/>
          <p:cNvSpPr/>
          <p:nvPr/>
        </p:nvSpPr>
        <p:spPr>
          <a:xfrm>
            <a:off x="722160" y="3645000"/>
            <a:ext cx="1216080" cy="250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330200" y="3238560"/>
            <a:ext cx="608832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468000" indent="-468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468000" indent="-4680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603B9-7A5C-4DEE-B6C3-FFD191301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délník 7"/>
          <p:cNvSpPr/>
          <p:nvPr/>
        </p:nvSpPr>
        <p:spPr>
          <a:xfrm>
            <a:off x="752400" y="2316240"/>
            <a:ext cx="75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technických problémů při vyplňování žádosti se obraťt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29840" y="2286000"/>
            <a:ext cx="6458040" cy="22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i za pozornost</a:t>
            </a:r>
            <a:br>
              <a:rPr sz="2800"/>
            </a:br>
            <a:r>
              <a:rPr b="0" lang="cs-C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78487-B6F3-43AD-AE27-B6A6DFC78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Registrace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– první krok vytvoření žádosti</a:t>
            </a:r>
            <a:endParaRPr b="1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87361-3837-45CC-8705-FF1972359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935000" y="2171880"/>
            <a:ext cx="52484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5A4CC-826D-4F13-98A8-586EF122A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61604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37" name="Podnadpis 7"/>
          <p:cNvSpPr/>
          <p:nvPr/>
        </p:nvSpPr>
        <p:spPr>
          <a:xfrm>
            <a:off x="1330200" y="4375080"/>
            <a:ext cx="6458040" cy="10731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15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 - přehled všech vytvořených žádostí, které žadatel vytvořil či k nim má přístu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8D88C-4963-4743-8626-FA18FD50E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odnadpis 7"/>
          <p:cNvSpPr/>
          <p:nvPr/>
        </p:nvSpPr>
        <p:spPr>
          <a:xfrm>
            <a:off x="905040" y="4290840"/>
            <a:ext cx="7333920" cy="1168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 nabídce jsou různé typy výzev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ždy je nutno vybrat správný typ výzvy, a to podle druhu projektu. Úplný název výzvy je vždy uveden ve výzvě samotn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905040" y="1770120"/>
            <a:ext cx="7333920" cy="2257200"/>
          </a:xfrm>
          <a:prstGeom prst="rect">
            <a:avLst/>
          </a:prstGeom>
          <a:ln w="0">
            <a:noFill/>
          </a:ln>
        </p:spPr>
      </p:pic>
      <p:sp>
        <p:nvSpPr>
          <p:cNvPr id="542" name="Elipsa 10"/>
          <p:cNvSpPr/>
          <p:nvPr/>
        </p:nvSpPr>
        <p:spPr>
          <a:xfrm>
            <a:off x="4040280" y="3710160"/>
            <a:ext cx="3747960" cy="317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870120"/>
            <a:ext cx="64580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2BF05-F987-4BA0-AA24-D9AEAC1BE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" descr=""/>
          <p:cNvPicPr/>
          <p:nvPr/>
        </p:nvPicPr>
        <p:blipFill>
          <a:blip r:embed="rId1"/>
          <a:stretch/>
        </p:blipFill>
        <p:spPr>
          <a:xfrm>
            <a:off x="1193760" y="1533600"/>
            <a:ext cx="6594480" cy="2867040"/>
          </a:xfrm>
          <a:prstGeom prst="rect">
            <a:avLst/>
          </a:prstGeom>
          <a:ln w="0">
            <a:noFill/>
          </a:ln>
        </p:spPr>
      </p:pic>
      <p:sp>
        <p:nvSpPr>
          <p:cNvPr id="546" name="Elipsa 6"/>
          <p:cNvSpPr/>
          <p:nvPr/>
        </p:nvSpPr>
        <p:spPr>
          <a:xfrm>
            <a:off x="3063960" y="2212920"/>
            <a:ext cx="2971800" cy="32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Elipsa 7"/>
          <p:cNvSpPr/>
          <p:nvPr/>
        </p:nvSpPr>
        <p:spPr>
          <a:xfrm>
            <a:off x="1193760" y="3908520"/>
            <a:ext cx="2046240" cy="33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8" descr=""/>
          <p:cNvPicPr/>
          <p:nvPr/>
        </p:nvPicPr>
        <p:blipFill>
          <a:blip r:embed="rId2"/>
          <a:stretch/>
        </p:blipFill>
        <p:spPr>
          <a:xfrm>
            <a:off x="3730680" y="409572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49" name="Šipka dolů 8"/>
          <p:cNvSpPr/>
          <p:nvPr/>
        </p:nvSpPr>
        <p:spPr>
          <a:xfrm rot="5400000">
            <a:off x="5190840" y="3671640"/>
            <a:ext cx="536760" cy="11527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odnadpis 7"/>
          <p:cNvSpPr/>
          <p:nvPr/>
        </p:nvSpPr>
        <p:spPr>
          <a:xfrm>
            <a:off x="1193760" y="4668840"/>
            <a:ext cx="6594480" cy="882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</a:t>
            </a:r>
            <a:r>
              <a:rPr b="1" lang="cs-CZ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062000"/>
            <a:ext cx="64580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6C699-9BFF-48D9-92C6-30718FB3D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681200" y="1711440"/>
            <a:ext cx="2093760" cy="3173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"/>
          <p:cNvPicPr/>
          <p:nvPr/>
        </p:nvPicPr>
        <p:blipFill>
          <a:blip r:embed="rId2"/>
          <a:stretch/>
        </p:blipFill>
        <p:spPr>
          <a:xfrm>
            <a:off x="3774960" y="1711440"/>
            <a:ext cx="3695760" cy="3504960"/>
          </a:xfrm>
          <a:prstGeom prst="rect">
            <a:avLst/>
          </a:prstGeom>
          <a:ln w="0">
            <a:noFill/>
          </a:ln>
        </p:spPr>
      </p:pic>
      <p:sp>
        <p:nvSpPr>
          <p:cNvPr id="555" name="Elipsa 8"/>
          <p:cNvSpPr/>
          <p:nvPr/>
        </p:nvSpPr>
        <p:spPr>
          <a:xfrm>
            <a:off x="4508640" y="4710240"/>
            <a:ext cx="1774800" cy="349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8" descr=""/>
          <p:cNvPicPr/>
          <p:nvPr/>
        </p:nvPicPr>
        <p:blipFill>
          <a:blip r:embed="rId3"/>
          <a:stretch/>
        </p:blipFill>
        <p:spPr>
          <a:xfrm>
            <a:off x="3541680" y="5216400"/>
            <a:ext cx="23050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29840" y="1061640"/>
            <a:ext cx="64580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F7D50-030A-4ACF-965B-3F05B01FD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063800" y="1941480"/>
            <a:ext cx="6927840" cy="3113280"/>
          </a:xfrm>
          <a:prstGeom prst="rect">
            <a:avLst/>
          </a:prstGeom>
          <a:ln w="0">
            <a:noFill/>
          </a:ln>
        </p:spPr>
      </p:pic>
      <p:sp>
        <p:nvSpPr>
          <p:cNvPr id="560" name="Elipsa 6"/>
          <p:cNvSpPr/>
          <p:nvPr/>
        </p:nvSpPr>
        <p:spPr>
          <a:xfrm>
            <a:off x="2768760" y="2852640"/>
            <a:ext cx="1773000" cy="53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Šipka dolů 7"/>
          <p:cNvSpPr/>
          <p:nvPr/>
        </p:nvSpPr>
        <p:spPr>
          <a:xfrm rot="5400000">
            <a:off x="6593760" y="2543760"/>
            <a:ext cx="534960" cy="11527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28T07:57:44Z</dcterms:modified>
  <cp:revision>154</cp:revision>
  <dc:subject/>
  <dc:title>Titulní strana – Titulek</dc:title>
</cp:coreProperties>
</file>