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97BA-B725-4235-AFFD-A6814DCF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53A-AF37-42B0-B1E4-20C60CCD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3CDC8-5CB9-4271-AFF6-7971A95E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A9697-AB52-4D8F-AFFE-FE708523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66EF0-2EF1-4651-8651-B9B46061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9122B-452E-440C-A3B0-FA0F791D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DA3F8-6B35-47EA-9151-E7E49D12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494DB-10B5-4C28-8142-AE6A6633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B8BC4-EA65-4AD8-82D3-BF3B13E3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744ED-FC07-42B3-8941-E169EBBA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20383-9930-4C05-8C20-7D1B7D4D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4CE00-912E-4694-9C2E-D498E86C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025A-A610-49C0-B18C-F193430E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79B26-257D-47B5-A41E-EC0FEE70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24394-CDA4-481E-9345-6A0914B1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0B839-F7F1-43FB-847D-7362DF31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D0C85-A3FE-4020-B164-C92A753F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3D44B-EA48-4B04-9B99-EA43ED27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1DD91-A086-478F-9E2E-E9690EAD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FC5BE-DA41-4BC8-8718-07B8F000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995CC-E142-421E-916F-D20666C3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ECCCF-EC96-4FC5-A57E-5B54FBCD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E357E-22C0-4714-902C-152A5A2C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998-1F94-48FA-A9A4-BD11383D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85441-796E-453F-93D9-2BF3A709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C1763-BB64-4EC0-B482-5744043C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4492C-4940-4434-8D4F-7DBB869C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A6A76-7473-4AB5-AC4C-C5700764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94334-6BEB-4398-9C03-45CF0A36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68B56-9AAF-4533-80D5-F776B212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35BB1-B72B-4EB9-A22F-220EBED4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75AF0-71CB-4709-B623-384AE522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0AF2C-3286-4CD8-8E56-95E25E60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4A5D4-D0BE-4143-82CA-BD998246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AE30-982D-468F-8615-D4E3CA78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11734-25B7-496E-AFE9-B4D15E6E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EC000-37E2-45BF-B35C-DBC817CA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B8A10-55A9-48AB-880A-C20F9D62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14E51-6773-447B-94EC-20A00BF9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4A5F6-BFB5-4318-9CFD-5E1B0B5B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F077C-C46D-4E7E-A8B0-46EF268A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2B997-A0D9-49E2-8FA0-3F3719E8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99CAB-2C20-4B79-836A-5E631E3E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34662-25F3-42C9-A17D-BFB51218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8ED7C-5741-4086-8EFE-82DAB575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237F-C6FE-4D6D-8234-E47D317C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57EBF-8A78-4038-8C83-5F256676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7DA68-0702-439C-8D7A-12914246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744B4-D8BD-4F83-8442-70B2EF18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B3D5A-4243-4F0D-B404-8D8D885E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8C5E0-2B1F-4C21-BF64-72B5BF2C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2ECA-98D2-42CB-AF8D-8F45E1C5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498F-A5D4-44D7-9755-594479E4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1C96-2702-444A-A9E9-54FA2DEE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0FC0-BC20-4BD1-945C-D6F5E567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3E6E-2FE1-43BE-80C7-8364A169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83C-339C-442B-AD7F-EDD6F419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63D1-901E-4466-88F2-4B9B897D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0EF3-E245-4694-B585-BDA9AD3E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3C7F-A12A-42B5-B1EA-6519A989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198B-1DCA-4E6D-AD33-CFA32ACB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2F9C-D8A0-4CF1-B5E7-957D33BD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D65C8-E390-4EC9-BB18-373E0D19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D4062-B831-461D-9014-001839A6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B2084-36F4-4BDA-A525-529F9082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3161A-936C-49E5-8FC8-BB1DC567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81549-5F5B-4BEC-97A3-4273CCC7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F87-5993-4A8D-8C9B-522D5A1F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EE4DC-22CF-4C3F-BF72-9896EC7E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BF262-9FAC-4800-AEB1-CA184A85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56775-C687-449E-AD51-4484A025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825B1-1325-4EAB-A71F-EF0F2ED8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217B7-9DF7-4B9E-B32A-577C404D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205E0-CF0A-4EE8-9FF8-F2B3DE11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11C82-40D1-49EE-B07B-9241B04A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9DCA6-50C8-494B-AE7F-5E86FF53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4D9AA-240C-4A7E-94A0-46184464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26DA-2027-45A4-8CE7-A43DAAF1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FE0A-269D-4EC1-8178-CBDD5F51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1B9CF-3FF6-4AA7-BC86-CE1EFFB7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734EB-46B6-4582-AC97-971D7B74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7ABFD-2791-40BB-B8D9-E154F992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000BC-C2F1-4166-A86E-EA34D2CE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5EC4C-C750-44F0-8BF4-441A0187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73CF2-B434-45A6-A881-63D5F43B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8F874-9DAB-41F9-A355-3D0A9D37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323F7-3F25-4179-B988-65440E21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5F34D-7BC7-42A1-8EE6-F08185D0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4542C-B6FD-48B8-8719-910ADBD0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B673-0770-4360-A8BB-29CE7986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9C801-F997-4245-B4C4-E5779855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CC02E-5522-4E5F-B458-B7FE712C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731BB-930F-4464-AFEC-7D9F3487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BCEC2-050D-4E79-AE8B-2CCA6B09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A4D2F-2F53-4F74-A5C2-0349851D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E2CE7-D951-4EA6-8645-7086BDFF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D8E47-79FE-4482-8E49-57CE375C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990D2-BDF1-406F-A7E0-752D92F2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7EF69-92F4-4AD4-A877-FD691A9C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DE050-6FFF-4713-8350-BCB32322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AC5-1ADA-4831-8014-002B4B92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9BFB1-BFBF-47E3-B709-91CB095B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24F5D-456D-4A5C-BE1A-710DBC7D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364A4-B1B0-42FE-BE4E-13EDC979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D1829-B2C2-49BB-960A-252AB05A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F45FA-E570-4458-9CA0-80213029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6FA69-3520-4294-A7C1-51BFAB35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EC1A5-58D6-4DEE-97E4-103BD339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7F240-CC97-48EA-AD70-DE84C091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60C2C-9459-43E8-A46C-9B97A14F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38083-34C0-4BC5-81A1-82D3A87B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049-E800-47CB-87F3-9A448245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8D22A-BDC9-4345-B7D3-E83FBE65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F751B-E08B-4AE7-B699-5C597E0C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C10CD-C76E-434F-BBB8-ED6E1CD7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5B6D0-0197-4B8C-923D-CEBD7B41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ACD8B-8C68-4601-8747-872AFCDA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2BE41-A4A8-4AF1-B452-8FCB2BD0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00CC4-DA10-43DF-8897-CD91A007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6ADFB-3B93-4A4F-8DD1-8CD83BAA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346E5-3C47-48E7-B8B2-A9C70FFC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911F0-85C5-451E-8A5F-6D14286D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1EC3-0DC8-4C80-BC5F-2F346238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623BF-AC25-47B2-9E6E-20D0551A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B8094-AE7C-4965-9999-5A794D60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70AB0-54AF-46F2-A815-BE5496E5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9EBAD-7EE1-4C14-B23C-3AC29BB3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88914-2EC0-4F90-A606-A359A0A6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1D866-B465-4961-800C-99AD71BB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F22D9-000B-4F31-AE96-4CC717FD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231BE-E66C-49BD-840D-AEE7AA59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D4401-8056-4A03-94F5-841271E0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EF0FF-3417-45E8-842A-F01A306C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E41-9A0D-4CFF-9B8A-8062B242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21B96-7EC6-4717-8B60-063FFA79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2B33D-A14A-494D-B3B0-58A7AE9D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0BC82-BD5E-4B77-9EA3-F930B29E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2F107-B160-4F2C-AE12-5D4B5995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5E4B4-EEDA-49EE-82E4-657E4D76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22056-8E4C-4F86-A749-99215300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BEABA-9598-41C2-9834-0F99EF09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C0892-1329-4D3F-A24C-4CE873C6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0C4E4-B9BD-460D-A5FE-2B613CCE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5FDB4-AC6F-4760-BB9A-5951D23C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897DF-8239-4DE1-88C5-E7B4F3821A1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1E57B-6218-482D-92DB-0ACBB3834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D93C54BA-C9D6-4FAE-AA44-65D8F5E76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AA5F9-6B03-49A5-B867-42D73A1CB5C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574A7-9DFD-4F26-A793-96D1A8805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64865-31FE-4D18-A850-70862D52CBA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8C430-55C2-4DFA-BD65-DA26C5014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0DFF0-56E2-4400-AD4A-F1CB076C7FA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D81AD-7707-4F6A-A3A0-5FAA33493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9E371-A501-450C-AD04-CA8D008B9FA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52BE6-506C-41A2-B323-E2822D979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0F42D-053F-462E-A1AB-24ABAB80E45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8F161-C8B5-4EC4-A75A-B7D2FFAE0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DFAB2-DF5A-43ED-A99C-AD339D2929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8EB0B-7B7B-4D25-96F7-E746B6AAF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26307-A02F-44E6-ADE9-49CB1C1C45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96E77-85C1-48D5-9185-7435D8C1E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C18CF-BC7C-49AB-8F01-9E860E6D411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9E793-2036-48EB-861A-ECDBF41A6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C8564-0970-41E5-902C-10E7A5CCA22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29D80-00E0-4F35-B713-9442EDE09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0A5B7-5420-41CC-A273-C3A09914849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47AD8-57C5-40C8-A486-05920ED60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BC2B9-EDEF-40A2-ABFF-F4667C45C02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3FB06-2DD1-4888-8CDE-0EF3680D1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rioritní osa 1 – počáteční vzdělává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Oblast podpory 1.2 –Rovné příležitosti dětí a žáků se speciálními vzdělávacími potřebam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898989"/>
                </a:solidFill>
                <a:latin typeface="Arial Narrow"/>
              </a:rPr>
              <a:t>Výzva IPo č. 27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cs-CZ" sz="1800" spc="-1" strike="noStrike">
                <a:solidFill>
                  <a:srgbClr val="898989"/>
                </a:solidFill>
                <a:latin typeface="Arial Narrow"/>
              </a:rPr>
              <a:t>Seminář pro žadatel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cs-CZ" sz="1800" spc="-1" strike="noStrike">
                <a:solidFill>
                  <a:srgbClr val="898989"/>
                </a:solidFill>
                <a:latin typeface="Arial Narrow"/>
              </a:rPr>
              <a:t>2. února 201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D2910-2AC7-456F-A802-52F8E5709D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</a:t>
            </a:r>
            <a:r>
              <a:rPr b="1" lang="cs-CZ" sz="2800" spc="-1" strike="noStrike">
                <a:solidFill>
                  <a:srgbClr val="000000"/>
                </a:solidFill>
                <a:latin typeface="Helvetica CE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7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tvorbu inovovaných výukových programů zájmového a neformálního vzdělávání včetně pilotního ověření metod a forem zaměřených na prevenci rizikového chování dětí a mládeže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ADE9A-ED4F-4752-BADF-65AA15B966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8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zpracování a implementace vzdělávacího modulu pro pedagogy volného času zaměřeného na oblast primární prevence rizikového chování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D29F3-6F5C-4224-8A80-369582E56C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známk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i="1" lang="cs-CZ" sz="1800" spc="-1" strike="noStrike">
                <a:solidFill>
                  <a:srgbClr val="000000"/>
                </a:solidFill>
                <a:latin typeface="Arial Narrow"/>
              </a:rPr>
              <a:t>Součástí těchto projektů musí být </a:t>
            </a:r>
            <a:r>
              <a:rPr b="1" i="1" lang="cs-CZ" sz="1800" spc="-1" strike="noStrike">
                <a:solidFill>
                  <a:srgbClr val="000000"/>
                </a:solidFill>
                <a:latin typeface="Arial Narrow"/>
              </a:rPr>
              <a:t>klíčové aktivity </a:t>
            </a:r>
            <a:r>
              <a:rPr b="0" i="1" lang="cs-CZ" sz="1800" spc="-1" strike="noStrike">
                <a:solidFill>
                  <a:srgbClr val="000000"/>
                </a:solidFill>
                <a:latin typeface="Arial Narrow"/>
              </a:rPr>
              <a:t>zaměřené na </a:t>
            </a:r>
            <a:r>
              <a:rPr b="1" i="1" lang="cs-CZ" sz="1800" spc="-1" strike="noStrike">
                <a:solidFill>
                  <a:srgbClr val="000000"/>
                </a:solidFill>
                <a:latin typeface="Arial Narrow"/>
              </a:rPr>
              <a:t>přímou práci s dětmi a žáky  včetně dětí a žáků se speciálními vzdělávacími  potřebami,</a:t>
            </a:r>
            <a:r>
              <a:rPr b="0" i="1" lang="cs-CZ" sz="1800" spc="-1" strike="noStrike">
                <a:solidFill>
                  <a:srgbClr val="000000"/>
                </a:solidFill>
                <a:latin typeface="Arial Narrow"/>
              </a:rPr>
              <a:t> na praktické ověřování a evaluaci vzniklých metodik, vzdělávacích programů a forem výuky, které budou realizovat     proškolení pedagogičtí pracovníci nebo pracovníci organizací působících v oblasti  vzdělávání nebo asistenčních služeb a v oblasti volného času dětí a mládeže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8E35A-47AB-44D3-9848-40DD67B8F8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rovaná aktivita č. 2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odpora neformálního vzdělávání a kompetencí v něm získaných, zdokonalování systému vzdělávání pracovníků NNO a středisek volného času, vytváření vzdělávacích modulů uznatelných jako součást dalšího vzdělávání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2812C4-4B60-4CB7-823D-0C0DC88017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2.1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inovace vzdělávacích programů ve školských zařízeních pro všechny formy zájmového vzdělávání, tvorba metodik a učebních pomůcek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88E8E-C88D-4DD8-BE30-48A4E7BEDD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2.2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zpracování nástrojů ověřujících kvalitu činnosti školských zařízení pro zájmové vzdělávání a nestátních neziskových organizací působících v oblasti neformálního vzdělávání dětí a mládeže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33536-8C18-4362-BDDB-A4532683B8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známk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cs-CZ" sz="2000" spc="-1" strike="noStrike">
                <a:solidFill>
                  <a:srgbClr val="000000"/>
                </a:solidFill>
                <a:latin typeface="Arial Narrow"/>
              </a:rPr>
              <a:t>Součástí těchto projektů musí být </a:t>
            </a:r>
            <a:r>
              <a:rPr b="1" i="1" lang="cs-CZ" sz="2000" spc="-1" strike="noStrike">
                <a:solidFill>
                  <a:srgbClr val="000000"/>
                </a:solidFill>
                <a:latin typeface="Arial Narrow"/>
              </a:rPr>
              <a:t>klíčové aktivity zaměřené na přímou práci s dětmi a žáky se speciálními vzdělávacími potřebami, </a:t>
            </a:r>
            <a:r>
              <a:rPr b="0" i="1" lang="cs-CZ" sz="2000" spc="-1" strike="noStrike">
                <a:solidFill>
                  <a:srgbClr val="000000"/>
                </a:solidFill>
                <a:latin typeface="Arial Narrow"/>
              </a:rPr>
              <a:t>na praktické ověřování a evaluaci vzniklých metodik, vzdělávacích programů a forem výuky, které budou realizovat proškolení pedagogičtí pracovníci nebo pracovníci organizací působících v oblasti vzdělávání nebo asistenčních služeb a v oblasti volného času dětí a mládeže</a:t>
            </a:r>
            <a:r>
              <a:rPr b="0" i="1" lang="cs-CZ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ADD82-A73C-424A-A9B4-7079B98580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Cílové skupiny pro podporované aktivity č. 1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děti a mládež, pokud jsou aktivity realizovaného projektu zaměřeny na prevenci sociálně patologických jevů a na vytváření inkluzívního prostředí ve škole, školském zařízení pro zájmové vzdělávání, základním článku organizací působících v oblasti volného času a zájmového vzdělávání dětí a mládeže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rodiče dětí a žáků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acovníci škol a školských zařízení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acovníci a dobrovolní pracovníci organizací působících v oblasti vzdělávání nebo asistenčních služeb a v oblasti volného času a zájmového vzdělávání dětí a mládeže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F5440-F6E3-461D-898D-38855F06D9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známka  k cílovým skupinám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Definice cílových skupin „dobrovolníci“ a „dětí a žáků“ sociokulturním znevýhodněním je podrobně uvedena v platné verzi Prováděcího dokumentu, v příloze č. 4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8137D-2DA9-4FE9-8997-5CF6DDBCD3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  <a:ea typeface="Arial CE"/>
              </a:rPr>
              <a:t>Cílové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 skupiny pro podporované aktivity č. 2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vedoucí pracovníci škol a školských zařízení;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racovníci organizací působících v oblasti vzdělávání nebo asistenčních služeb a v oblasti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</a:rPr>
              <a:t>volného času dětí a mládeže;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racovníci a dobrovolní pracovníci organizací působících v oblasti vzdělávání nebo asistenčních služeb a v oblasti volného času a zájmového vzdělávání dětí a mládeže;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děti a žáci se speciálními vzdělávacími potřebami od 3 let (např. z mateřských škol a přípravných tříd základních škol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9153F-ACA0-419B-80B7-C532F5CED7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ezentace aktivit č. 1 a 2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hDr. Marcela Svěrákov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9CF0B-A211-4383-8B23-3E97D6C90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Oprávnění žadatelé p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ro podporované aktivity 1 a 2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školy a školská zařízení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(tj. právnická osoba vykonávající činnost školy a školského  zařízení zapsaná ve školském rejstříku);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nestátní neziskové organizace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(založené nebo zřízené podle zákona č. 83/1990 Sb., o sdružování občanů ve znění pozdějších předpisů, zákona č. 248/1995 Sb., o obecně prospěšných společnostech a o změně a doplnění některých zákonů ve znění pozdějších atd. (viz výzva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471E7-5C65-4A99-9233-773487F5CE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rezentace aktivity č. 3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etr Nečin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652B9-1CFD-46AF-8B37-837D20826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rovaná aktivita č. 3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Uplatňování a zlepšování organizačních forem výuky a vyučovacích metod podporujících rovný přístup ke vzdělávání, včetně tvorby individuálních vzdělávacích plánů, využití ICT a e-learningových aplikací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F54D5-72D0-48DB-9FDF-72760A0B1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 bude projekt zaměřený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vznik místních strategických plánů vzdělávání zaměřených na začleňování dětí a žáků se SVP. Strategické plány budou obsahovat opatření, která budou pilotně ověřena. Plány musí být v souladu se strategiemi pro sociální začleňování. Doporučujeme při vzniku a implementaci plánů spolupracovat s Agenturou pro sociální začleňování při Úřadu vlády ČR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ro realizaci této aktivity bude vybrán jediný projekt, který získá v rámci hodnocení nejvyšší počet bodů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F4F3E-E811-48D0-B21F-16C92EB14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00160" y="1164960"/>
            <a:ext cx="718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  <a:ea typeface="Arial CE"/>
              </a:rPr>
              <a:t>Cílové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 skupiny pro podporované aktivity č. 3/1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1100160" y="2634840"/>
            <a:ext cx="64008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ěti se speciálními vzdělávacími potřebami z mateřských škol a přípravných tříd základních škol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ěti a mladiství (do 18 let), kteří předčasně opustili systém počátečního vzdělávání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žáci základních a středních škol se speciálními vzdělávacími potřebami a ti žáci, kteří jsou ohroženi předčasným odchodem ze vzdělávání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9C0FA-DACF-46A3-BB0E-E6E1003C1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  <a:ea typeface="Arial CE"/>
              </a:rPr>
              <a:t>Cílové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 skupiny pro podporované aktivity č. 3/2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děti a žáci, pokud jsou aktivity realizovaného projektu zaměřeny na vytváření inkluzívního prostředí ve škole a třídě nebo na prevenci sociálně patologických jevů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rodiče dětí a žáků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racovníci škol a školských zařízení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vedoucí pracovníci škol a školských zařízení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racovníci organizací působících v oblasti vzdělávání nebo asistenčních služeb a v oblasti volného času dětí a mládeže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46A4F-B0AE-4C8C-B1F6-2FA28FBEC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Oprávnění žadatelé p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ro podporovan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ou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 aktivit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u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vysoké školy podle zákona č. 111/1998 Sb. o vysokých školách a o změně a doplnění dalších zákonů (zákon o vysokých školách), ve znění pozdějších předpisů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nestátní neziskové organizace (založené nebo zřízené podle zákona č. 83/1990 Sb., o sdružování občanů ve znění pozdějších předpisů, zákona č. 248/1995 Sb., o obecně prospěšných společnostech a o změně a doplnění některých zákonů ve znění pozdějších předpisů atd. (viz výzva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1CFF6-E48D-42CD-A8A1-9ECF91D89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Helvetica CE"/>
              </a:rPr>
              <a:t>Podporovaná aktivita č. 1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revence sociálně-patologických jevů (záškoláctví, kriminalita, násilí,užívání návykových látek, HIV/AIDS…) prostřednictvím programů, které směrují k rozvoji osobnosti dítěte a žáka přes zvyšování klíčových kompetencí a vedou ke zlepšení sociálního klimatu ve skupině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22873-F67D-43B5-AA22-1DD4026F65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aktivity podporující zdravý životní styl a osvojení si pozitivního sociálního chování prostřednictvím smysluplného využívání volného času, aktivity směřující ke zdravému rozvoji osobnosti, k odpovědnosti za sebe sama a za své jednání a k dodržování základních společenských pravidel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6D317-B85B-446C-B3A6-3BFE1E4C2A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2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ojekty zaměřené na vytváření vhodných podmínek ve školských zařízeních pro zájmové vzdělávání a NNO pracujících s dětmi a mládeží pro širší inkluzi dětí a mládeže se speciálními vzdělávacími potřebami z pohledu znevýhodnění sociálního nebo zdravotního do oblasti zájmového a neformálního vzdělá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1FD61-85CF-41A5-9E06-2A2493F080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3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ojekty zaměřené na posílení spolupráce škol, školských zařízení pro zájmové vzdělávání a NNO pracujících s dětmi a mládeží při zřizování „otevřených klubů pro děti a mládež“, v jejichž programech se realizují aktivity směřující k prevenci rizikového chování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BC5D0-8927-4E64-BA48-B8A0041985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</a:t>
            </a:r>
            <a:r>
              <a:rPr b="1" lang="cs-CZ" sz="2800" spc="-1" strike="noStrike">
                <a:solidFill>
                  <a:srgbClr val="000000"/>
                </a:solidFill>
                <a:latin typeface="Helvetica CE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4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říprava a pilotáž vzdělávacích programů pro děti a mládež zaměřených na rozvoj metod a forem v oblasti zájmového a neformálního vzdělávání, který směřuje k primární prevenci rizikového chování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8643F-4F37-490F-A6B6-639AFFA2E4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vytváření a implementace programů zaměřených na rozvoj metod osobnostní a sociální výchovy směřující k primární prevenci rizikového chování: adaptační a zážitkové programy, týmová spolupráce, řešení konfliktů, komunikace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23901-39EC-48CA-AF4B-C82AB339C9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6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ojekty zaměřené na oblast: finanční gramotnosti dětí a mládeže, právního vědomí, na ochranu před zneužitím osobnostních profilů na internetových sítích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8772D-1325-4DBF-A4BA-F16463DA61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31T14:11:44Z</dcterms:modified>
  <cp:revision>40</cp:revision>
  <dc:subject/>
  <dc:title>Titulní strana – Titulek</dc:title>
</cp:coreProperties>
</file>