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1F526-5229-4FA8-A62B-194D35C2F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4FE9C-4663-4F2F-A627-287F8F740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BE252-C48D-42FC-B73F-FC06B5A99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21EBC-4586-4640-92E0-6162D0E7E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04BDD-A20D-42C9-8904-C5FE3E06B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60042-D87E-4071-9E7F-E6C5EB2DF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500D6-5D7D-4456-B8F1-8A57C1F08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DD4D7-2AEA-40C5-B32A-E4F667A3C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EF96D-9189-4416-A233-467379775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2D615-0D5A-42DB-8E8D-770E22B47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EBFA5-063C-41AF-ACB3-7B6B8015B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7FA68-338B-45A8-8495-A35B3A3CF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04D35-72F3-4D72-B11F-369A89C5A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FA0C0-C95C-46B7-A024-E4084ED5A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F41E0-1AA1-47F8-BAA6-FD9F406BB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125E6-BCD5-4DDE-AFCA-62A05031C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E3A48-8E8F-4761-93DF-CA62F40E4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4D109-D8D6-4BCC-A788-6BBB4A6C2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98D-713F-45A2-9291-0B5B61EE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A74-E835-4AED-B706-17892270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CBC-2398-4887-8569-D60B6404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ADF-5CCE-4F0E-9EC9-9FF80858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D91-DAE7-4409-AB3E-A0049B00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267-70E0-4823-846B-CEFE6C2F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003-0C46-442E-B47B-C4F24C13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1D3-74D9-4751-89C0-2B6ED508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279-E9A4-4FCD-AE2C-9B12489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6EC-7D0A-446C-89F6-61C6773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EF3-4B27-4FF3-BC87-B05BDEEE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236-708C-400D-AEBE-DB796D0F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3DCC0-185A-4934-A8DE-C0E35B4E02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F8E10-AEE2-4B0E-A792-C31BBEBF4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FC8CEB64-544C-462A-AE83-06C662506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I. 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2400" spc="-1" strike="noStrike">
                <a:solidFill>
                  <a:srgbClr val="f39800"/>
                </a:solidFill>
                <a:latin typeface="Helvetica CE"/>
              </a:rPr>
              <a:t>Mgr. Eva Hekrle Mezkov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9B23A-E8DE-4327-BFA9-3D22AD36D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29840" y="1712520"/>
            <a:ext cx="645804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5680" indent="-3556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dporovanou aktivitu 1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žá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odiče dětí a žák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škol a školských za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dporovanou aktivitu 2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doucí pracovníci škol a školských za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organizací působících v oblasti vzdělávání nebo asistenčních služeb a v oblasti  volného času dě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žáci se speciálními vzdělávacími potřebami od 3 le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3D780-E4B9-45F3-B51E-3E10E0939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a dobrovolní pracovníci organizací působících v oblasti vzdělávání nebo asistenčních služeb a v oblasti volného času a zájmového vzdělávání dě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dporovanou aktivitu 3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se SVP z MŠ a přípravných tříd základních šk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mladiství (do 18 let), kteří předčasně opustili systém počátečního vzdělávání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ci ZŠ a SŠ se SVP a ti žáci, kteří jsou ohroženi předčasným odchodem ze vzdělá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B3B4A-189F-43DB-A057-789E286D1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564BC40B-8845-43C6-A100-BA9CAA50E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15496-8AEF-4C2E-ACBB-61367E5B4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ací indikátor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7.41.14 – počet podpořených osob v počátečním vzdělávání celkem – dětí, žáků včetně rodič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7.41.65 – počet podpořených osob v dalším vzdělávání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6.12.00 – počet žáků se speciálními vzdělávacími potřebami začleněných do integrovaných tříd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6.12.10 – počet žáků se SVP zařazených do běžných tříd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7.41.20 – počet osob poskytujících služby nebo podporujících poskytování služeb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6.43.10 – počet nově vytvořených/inovovaných produkt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ADC04-736D-44D9-9C9C-9F962B20F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7C7648DB-7114-4BF6-A006-DD066DFEF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zajistit, aby podpořené aktivy a výstupy byly udržován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 po ukončení financování projektu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pravidel stanovených ES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aktivit a výstupů vedoucích k udržitelnosti projektu musí být uvedena v žádosti o finanční podporu z OP 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kazování udržitelnosti po ukončení financování projektu z OP VK probíhá prostřednictvím ročních monitorovacích zpráv o udržitelnost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CD056-A9AA-43B2-87A3-D57566D60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1B5C2-C8EF-44C6-BAA0-26F3D958C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a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9DF81-5662-49D0-9AA2-BBF7682D7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+  Přílohy č.1, 2, 5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09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8CEE9-8ED8-4634-913B-94F180921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29840" y="1952280"/>
            <a:ext cx="659772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. 3. 2011, 13:00 hod.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40B55-281D-41B3-8E77-7E8A6CAA6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E2703-A5AA-483B-9270-04BBEB78B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33280" y="2222640"/>
            <a:ext cx="725004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27 (Prioritní osa 1 – Počáteční vzdělávání; Oblast podpory 1.2 – Rovné příležitosti dětí a žáků, včetně dětí a žáků se speciálními vzdělávacími potřebami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5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0. března 2011 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kol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0798E-A290-4C15-9A6C-2AC189BED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Mgr. David Kříž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 814 295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david.kriz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A72EF-52F5-4E4E-BFDD-7115D09B8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9840" y="1136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4080" y="182844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např. žáci pražských škol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BAEF6-FF24-4BC4-98F5-AEDF28B82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ěkuji Vám za pozornost.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Zástupný symbol pro číslo snímk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6A6DD-C79A-4C7E-98FA-214DB5C53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401D2603-56F4-484F-BB65-DC519D553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27160" y="2374920"/>
            <a:ext cx="707544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Doba trvání realizace projektů: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aximálně 36 měsíců a ukončení nejpozději do 30. 6. 2015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Místo realizace: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ídlo žadatele může být na celém území ČR včetně NUTS II hl. m.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59D23-AAEC-4DB7-B394-34FEF0C0D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20 000 000 Kč (aktivity 1 a 2 - 105 000 000 Kč, aktivita 3 - 15 000 000 K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0 000 000 Kč</a:t>
            </a:r>
            <a:r>
              <a:rPr b="0" lang="cs-CZ" sz="2000" spc="-1" strike="noStrike">
                <a:solidFill>
                  <a:srgbClr val="ff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aktivity 1 a 2), 15 000 000 Kč (aktivita 3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32416-3F92-49B2-B2C1-DB15BD2CD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tivity 1 a 2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školy a školská zaříze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estátní neziskové organizace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tivita 3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vysoké ško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estátní neziskové organizac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586B9-6BE5-4CD7-89C2-E172BB248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, s.23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ídlo na území České republi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6F97A-5E07-45CC-B027-A00C4603D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30200" y="2228760"/>
            <a:ext cx="70502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D3F98-67B1-4F8C-871A-92031C9AD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7D048-1460-4924-9BBE-7D24673CE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9840" y="1079640"/>
            <a:ext cx="64580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29840" y="1777680"/>
            <a:ext cx="645804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žáci, pokud jsou aktivity realizovaného projektu zaměřeny na vytváření inkluzívního prostředí ve škole a třídě nebo na prevenci sociálně patologických jev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odiče dětí a žák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a vedoucí pracovníci škol a školských zaříze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organizací působících v oblasti vzdělávání nebo asistenčních služeb a v oblasti volného času dě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B7755-59A9-4A9D-9A7A-82814614D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2C067C9E-73CC-4EA2-8230-80157739F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2-03T07:37:58Z</dcterms:modified>
  <cp:revision>198</cp:revision>
  <dc:subject/>
  <dc:title>Titulní strana – Titulek</dc:title>
</cp:coreProperties>
</file>