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191-7B42-4A4B-9275-5FDD7B9E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CD9-E707-4569-8E49-7BE858F9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180A5-83CE-4540-9903-F2D72C69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36A3A-B89A-4952-AB4D-50FC4354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B8B34-33F1-4E45-8755-42D20D40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428AC-3B1D-470F-8948-C5420972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51624-2C17-40B6-9C8B-F91FF47B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57A10-582F-4C96-9B74-B4CD8E07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F9413-4CD1-4BBA-9723-75C915CB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BDF3B-ED9B-4058-BB8F-CFDD75CB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46706-4700-4D7A-A762-05DF1BDB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4D51D-96CE-419A-8E08-BE6D95E9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E0AD-E3B9-4B9E-B738-9DC8E9B8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B1988-8DFB-4FC0-8561-EF445776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832FE-61E7-49C6-8CA9-240F2B4B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E261E-0DAB-48DF-AB3F-942ABE8D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3E750-D29A-4C1B-9942-4CCEC99E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6246B-8462-4392-9CCF-36A7DA7A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59768-149E-4BEC-ADAF-D7756E2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D5FA9-2A22-4C5E-8692-E514740D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DE712-4A0C-49C8-BFF1-019CBEB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88644-A54A-4C2B-A2F8-53895B5B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28714-B4B4-42A2-9252-7DFCBBF2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95A-9241-49ED-A2B8-678D5A72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83901-6592-4FFC-86CA-26D1AB44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FD760-D865-4F2F-8762-D7150CB5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736A1-5A3F-4177-9D0E-E7427EA7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B69B2-3EAF-4481-95C6-C2104503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0F691-8449-43C8-8322-63C4719C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1B51C-8BAE-49D4-B5A4-BE03EF47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3DF08-C885-4858-977D-3618E79F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F4783-277D-4D8B-A8E1-EC78EE6B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09A55-EA63-4DE9-9996-B15A1B5B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D45F1-D6FC-448A-B516-B83022D3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3EE0-64A6-4EE7-AF39-8967EAC2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10820-B61D-4AAB-B5EF-003DF1FB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CE15D-5898-4E60-A495-BEEF3A6C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1B8EB-019A-495A-93AE-179DC06D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D9833-E556-4F60-80B9-1A461657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C47EA-C196-445C-A577-22043E46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66B03-34D0-42E9-A26D-333A89DA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CC451-391B-47A9-890D-E522D1C1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6BA6F2-9863-410F-B950-711DE569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82F61-F5F8-4E34-B89C-89621087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87034-3E42-4CEB-8073-E7A94DAD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ADFB-14B9-456D-A545-F45B066B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333BB-B2BE-46D5-B399-45585F30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60B12-6E28-43E7-BCF9-F58E0A5F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E7B4D-5594-4619-B0C9-CA4A0E62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C8462-523F-4DD4-933B-3AD2D7E6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BF7BE-04BA-47C0-8FBD-29EF3EB7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6504-A47A-4C80-A885-7B252659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DC25-2140-4F1A-AA13-45ABCC75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874A-A72F-496D-A82F-9813C890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1C22-61B8-4B80-AC9A-CD40DBB0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93C7-5CE5-4EEB-BD26-111559C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6F69-67CD-4075-A43D-D57B8395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A83C-B2BF-45AA-9EA3-5E88260D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2BE1-CCB7-4BD6-B00E-0B17BA0B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65BE-699A-4207-972A-9630FFE3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EBB8-CBB0-479F-A45E-52282500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1BED-5304-4BE6-8BE6-F9DA9D65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ED92-E345-42A5-8454-82033AFF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85C8-4BA7-488A-B224-3E7A1918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79C3-AA8F-4DC4-95F0-252D0513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F19DE-1AF1-47BA-9F2B-8BDC5629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D7A2D-4E8A-427F-99DD-EAA25C7B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7BE-A1E7-4191-BF95-40C208CC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F83E3-519E-4D61-A5E1-40A75569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9CFF-442A-4708-80C3-E7E561C7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D0C7-F1F2-4CA3-BC89-63486CCE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A64AB-76E3-49B3-9454-148539C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8B1C-7E15-4D13-A112-CC878828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E064-F3B9-44DA-8ED4-80639630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DF5B-F27A-472B-8783-72290B0A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5E6A5-9F93-4414-8EBD-E6129175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9B046-AC13-43CB-989E-66E3680D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E45E-B457-4C6F-AC47-B1514FA7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2FC-7345-452B-A276-6136FC85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719DD-3FBD-4882-A0DB-C35FE092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8F6FA-14E6-4E17-8581-C8C8BA8E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9B33-1E4D-4FA2-BE16-B292A333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4186-E425-41EA-8D86-C166D3E1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E5497-E54F-41E6-8EB2-93A4FFC7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47F63-C4BB-4F78-BAD5-3F7C336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9CD0-3D8D-436F-9337-9778E46D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C7CC-57E0-45E5-B095-552B94AF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AA5DF-1A8A-4917-9E01-5076DF1E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08576-A74E-40EB-932B-85D5821D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B52F-FC91-4A9C-9070-73AE50F3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D1A05-F0F9-4008-BE59-EA5549E9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F0D29-1BC3-45EF-92DC-0DFDE5DB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AB52B-BE1A-4D0C-8FA0-0EA1893F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25C8F-DB9B-4B88-9E2B-AF245D9F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FCF61-F178-408E-82DC-E9207892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6B405-5413-4521-A930-D34C618A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32FD7-E451-4392-94DE-39CD0568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BA428-EA7B-487F-B3B1-922518B7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A89A8-762C-4633-8999-756BE3EE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7F28E-0136-4DEF-A6DE-08CB7491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9C6-35BB-4B6E-B0F0-F90368E0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3E849-4D6A-4E41-8917-87DD87C5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98BB0-AA85-4AB4-9304-280363C1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331CE-5AA3-4389-A158-EFB70C24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15973-FFCF-4E9E-90EF-AD0D85C9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454DD-D70C-4285-BBB5-F04644F2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431CD-50C7-40C6-A0D3-E1D82C62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26082-2B47-49FD-8942-0A048413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B564E-F32C-48D9-89FA-86C08BF3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C0517-E2CB-42CC-BAC5-95BBFD30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00D64-E211-43B1-9B4F-A87B17A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1A5-2D79-4DE5-A00A-D1DB7A11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AFB24-06FF-408C-A253-72A07ABB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90F83-8433-4A06-B375-5A5C50FA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31659-A04C-461B-AE18-872BB4C7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500B4-570D-4143-9CD9-30F1C1A4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7487E-4589-42C8-B7FD-5B81B1BF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B08C7-413D-49AC-805F-29514638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7EF47-6279-42B8-B0B8-FD109518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78E7A-E1A6-45A9-BE26-EC624E57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6648D-AC8C-4E3B-8C56-DD3FE7E8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0A849-8C16-4289-891C-2EFFE00D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1F7-BBD7-4ED1-A73B-BE618EBC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3BF36-7455-4A19-8B89-86DD041A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B2CA3-B9A8-4577-9B03-DFE0141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EF1E4-7150-42D0-AE6E-44CDD45F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F3C95-0A2E-412E-9964-E9AFD56E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84709-20E4-449F-96C4-AD42AD58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37789-9B38-4478-A41F-966976CD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4A855-7493-4946-B7D5-A52A6D7B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7606A-733E-4EBC-B179-F7AD810C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8ACEF-DF36-4242-8B1D-60DD9C06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1AE59-CA7F-4533-9203-59F6DFAF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396-3BC6-4FB5-B10A-792C2538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ED9E8-3522-4ED2-8C1F-D139F67B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C67E7-2B6E-4C49-8A6A-F2AB184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C2338-EA19-4B96-B69C-B59276C4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FE309-D6AA-4CF4-AF2B-8215B3F2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F63C8-AC0E-4E5A-8919-DDF08202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45529-F982-4CDA-A935-B7A7C8F6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A2500-791D-43EF-B79A-FB91443C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EC21F-EF3E-4E15-B6B4-71EB8D23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9A194-4D0F-463F-A668-E8D68572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6BD28-9A11-4D18-BF46-8407A61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0DDC0-20A4-4D85-BE56-4FED63750D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8FA16-D9EC-4953-9D70-3D1D695E66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D7586A2A-F35C-48D5-BF69-BD1BEED8E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61F7D-1821-4DE8-A029-31450ECE09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EB162-241E-4CC4-8E11-C5EE53ABA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90051-1166-428A-B5B0-AF48C40E640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B4068-1FBB-4BA2-870B-F7BA03409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76A61-48A4-4918-B310-4D3AC71C75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D2F63-11F8-4185-BBD1-B9DB318FE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09B42-1235-4A2E-8C81-CA9565FFD3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69885-9108-4EC1-84E2-AD45250DE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480E8-23E6-4AF2-8CA5-72EE00A668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4C010-FA23-48BD-B997-F6809D1CD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A82E4-7E05-4B2B-A5E1-F639DA39E5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49E7E5-13FF-467B-AD1E-CF0DEB527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AEE37-ADC1-4BD8-A0FE-08024775AB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53FB7-4A65-4820-8E5C-EEF881C89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9D521-8806-4FA7-A37D-92ED7EA0C4B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C9A25-D2AF-49FE-8F2B-28DBF1D89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B01E8-D3AD-4F08-8A1B-9C9351818D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44FF4-B0FD-45AC-96EE-984383789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CAE54-A7C5-4831-938A-234F06AA67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DCB23-21CD-412F-995E-28365B16A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8E790D-EB83-4C60-B36B-A300E7012F8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83A2A-982F-487A-8DDA-EAE9B225B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ana.baresova@msmt.cz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6E72B-51D1-4F04-9FA3-4FA1F1058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1238400" y="2176560"/>
            <a:ext cx="6283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2292480" y="2176560"/>
            <a:ext cx="4402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Jana Bareš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lužební cesty realizačního týmu – cestovné, ubytování, stravné, nutné vedlejší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Zahraniční expert v ČR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Per diems 230 €/den + doprava do ČR a zpě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růběhu realizace již nelze výdaje na zahraniční cesty navyšova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ímá vazba na realizaci klíčových aktiv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85840" y="1952640"/>
            <a:ext cx="714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6" name="Obrázek 6" descr="sluzebni cesty.JPG"/>
          <p:cNvPicPr/>
          <p:nvPr/>
        </p:nvPicPr>
        <p:blipFill>
          <a:blip r:embed="rId1"/>
          <a:srcRect l="0" t="0" r="24761" b="0"/>
          <a:stretch/>
        </p:blipFill>
        <p:spPr>
          <a:xfrm>
            <a:off x="1096920" y="2109960"/>
            <a:ext cx="6900840" cy="288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7" name="Šipka doprava 12"/>
          <p:cNvSpPr/>
          <p:nvPr/>
        </p:nvSpPr>
        <p:spPr>
          <a:xfrm>
            <a:off x="1811160" y="27129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Šipka doprava 12"/>
          <p:cNvSpPr/>
          <p:nvPr/>
        </p:nvSpPr>
        <p:spPr>
          <a:xfrm>
            <a:off x="1811160" y="36003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Šipka doprava 12"/>
          <p:cNvSpPr/>
          <p:nvPr/>
        </p:nvSpPr>
        <p:spPr>
          <a:xfrm>
            <a:off x="1811160" y="418320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30360" y="2335320"/>
          <a:ext cx="5792760" cy="297324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do zahraničí členů realizačního tý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realizačního týmu po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v zahranič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realizačního týmu v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a a per diems zahraničního exp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ouhodobý nehmotný majet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na opravy a údrž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částí 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068480"/>
            <a:ext cx="6758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– křížové financo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9 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ohou uplatnit pouze příjemci, kteří majetek daňově neodepisuj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Helvetica CE"/>
              </a:rPr>
              <a:t>investiční čá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 hmotný majetek nad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zařízení a vybavení hmotné povahy s 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ou použitelnosti nad 1 rok a pořizovací cenou nad 40 tis. Kč za položk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pokud není možné tento majetek pořídit v nezbytné kvalitě za cenu nižš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343160" y="1952280"/>
            <a:ext cx="64576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Helvetica CE"/>
              </a:rPr>
              <a:t>ne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by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ioritně by měl být pořízen pro potřebu cílové skupin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up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třeby realizačního tým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zvlášť zdůvodnit (vztahuje se na něj limi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 000 Kč/1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počtený pracovní úvaz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00AD3-F81A-4844-BE04-F18574CAE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"/>
          <p:cNvSpPr/>
          <p:nvPr/>
        </p:nvSpPr>
        <p:spPr>
          <a:xfrm>
            <a:off x="4572000" y="4430880"/>
            <a:ext cx="2692440" cy="703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(3 + 0,4 + 0,5 + 0,2) * 15 000 = 61 5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187EE6-2BF8-43C4-B621-389560E43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30360" y="2335320"/>
          <a:ext cx="5792760" cy="276048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ot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kancelářské potřeby pro administraci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up CD jak pro administraci, ta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zásoby drobného občerst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ublikace/školící materiály/manuá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pora účastníků (stravné/ubytování)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7" name="TextovéPole 4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4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E8F91-FFD7-4B93-B0A0-84F748182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17560" y="2752560"/>
          <a:ext cx="5792760" cy="21513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Pronájem prostor pro semin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daňové a práv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Tisk skript pro 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realizaci výběrových řízení nezbytných pro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Rozpočet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C64E5-34AE-4602-BEE7-0CF931D24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4760" y="1952280"/>
            <a:ext cx="7275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- nesmí přesáhnout částku za všechny dokončené staveb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úpravy v 1 zdaňovacím období v úhrnu 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pořizovací cena)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y jsou prováděny za účelem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usnadnění přístupu a pohybu osobám zdravotně postiženým, nebo úpravy výukových, tréninkových nebo pracovních prostor, používaných na realizaci aktivit s 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é jsou rekonstrukcí nebo modernizací,  pokud 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výšily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 jednotlivého  majetku v úhrnu ve zdaňovacím období částk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adají do </a:t>
            </a: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křížového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33640" y="2171880"/>
            <a:ext cx="7161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poskytovány jako náhrada mezd zaměstnavateli za  pracovníky po  dobu  jejich účasti na dalším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zdělává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až do výše 100% mzdových nákladů, nejvýše však do výše trojnásobku aktuální minimální mzdy)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, vstupenky,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Náklady vyplývající přímo z     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522440" y="2685960"/>
            <a:ext cx="6715080" cy="73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589" name=""/>
          <p:cNvGraphicFramePr/>
          <p:nvPr/>
        </p:nvGraphicFramePr>
        <p:xfrm>
          <a:off x="1808280" y="3736800"/>
          <a:ext cx="5792760" cy="14637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bankovní popla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ublicita projektu včetně úvodní a závěrečné kon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29840" y="2171880"/>
            <a:ext cx="64580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potřeba prokazovat účetními doklad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lady spojené s administrací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mohou být přiřazeny ke konkrétní aktivitě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klady: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up vody, paliv a energie, telefonní poplatky, poštovné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8880"/>
            <a:ext cx="64580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TextovéPole 8"/>
          <p:cNvSpPr/>
          <p:nvPr/>
        </p:nvSpPr>
        <p:spPr>
          <a:xfrm>
            <a:off x="1330200" y="3133800"/>
            <a:ext cx="60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plikaci Benefit 7 se po zadání % nepřímých nákladů dopočítá částka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1"/>
          <a:stretch/>
        </p:blipFill>
        <p:spPr>
          <a:xfrm>
            <a:off x="1111320" y="1952640"/>
            <a:ext cx="6676920" cy="11811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1330200" y="1644480"/>
            <a:ext cx="64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še stanovena ve výzvě proc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rázek 12" descr="nn_benefit.JPG"/>
          <p:cNvPicPr/>
          <p:nvPr/>
        </p:nvPicPr>
        <p:blipFill>
          <a:blip r:embed="rId2"/>
          <a:stretch/>
        </p:blipFill>
        <p:spPr>
          <a:xfrm>
            <a:off x="1220760" y="3780000"/>
            <a:ext cx="474516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7" name="TextovéPole 15"/>
          <p:cNvSpPr/>
          <p:nvPr/>
        </p:nvSpPr>
        <p:spPr>
          <a:xfrm>
            <a:off x="5122800" y="47973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Šipka doprava 12"/>
          <p:cNvSpPr/>
          <p:nvPr/>
        </p:nvSpPr>
        <p:spPr>
          <a:xfrm rot="10800000">
            <a:off x="6838560" y="260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Šipka doprava 12"/>
          <p:cNvSpPr/>
          <p:nvPr/>
        </p:nvSpPr>
        <p:spPr>
          <a:xfrm rot="10800000">
            <a:off x="6076440" y="4797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8"/>
          <p:cNvSpPr/>
          <p:nvPr/>
        </p:nvSpPr>
        <p:spPr>
          <a:xfrm>
            <a:off x="3959280" y="415440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440 000    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29840" y="2058840"/>
            <a:ext cx="64580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činnosti, které již v rámci jiných programů či Iniciativ Společenství financovaných z ESF či jiných programů financovaných Evropskou unií podporu dostávaj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výdaje na každodenní řízení, monitorování a kontroly žadatele, které by se prováděly i bez realizace projektu - sloužící k zajištění běžného chodu organizace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nákupy vozidel, infrastruktury, nemovitostí a pozemků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DPH nebo její část, pokud existuje zákonný nárok na její odpočet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přímé daně, daň z nemovitosti, daň dědická, darovací, silniční, cla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úroky z úvěrů a půjček, pokud se nejedná o schválenou formu podpory z fondu ESF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f79646"/>
                </a:solidFill>
                <a:latin typeface="Helvetica CE"/>
              </a:rPr>
              <a:t>stipendia nebo platby cílové skupině podobného charakteru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odstupné, peněžitá pomoc v mateřstv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výdaje vzniklé mimo časový rámec způsobilosti 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3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yužívejte komentář k rozpočtu či samostatnou příloh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uďte střídmí v odhadu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řípadě nejasností se na nás neváhejte obrát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Ing. Jana Barešová</a:t>
            </a:r>
            <a:br>
              <a:rPr sz="1800"/>
            </a:b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ea typeface="ＭＳ Ｐゴシック"/>
                <a:hlinkClick r:id="rId1"/>
              </a:rPr>
              <a:t>jana.baresova@msmt.c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Tel.: 234 814 293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řiměře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ospodár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úč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kazat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časová způsobil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4C239-7E28-4732-BE7E-C29147B600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počet v projektové žádosti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26" name="Obrázek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490760" y="2135160"/>
            <a:ext cx="2892240" cy="28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7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157640" y="2538360"/>
            <a:ext cx="2854440" cy="28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8" name="Šipka doprava 8"/>
          <p:cNvSpPr/>
          <p:nvPr/>
        </p:nvSpPr>
        <p:spPr>
          <a:xfrm>
            <a:off x="3949560" y="315432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Šipka doprava 10"/>
          <p:cNvSpPr/>
          <p:nvPr/>
        </p:nvSpPr>
        <p:spPr>
          <a:xfrm>
            <a:off x="1300320" y="4729320"/>
            <a:ext cx="380880" cy="16812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Šipka doprava 12"/>
          <p:cNvSpPr/>
          <p:nvPr/>
        </p:nvSpPr>
        <p:spPr>
          <a:xfrm>
            <a:off x="3949560" y="374508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ipka doprava 14"/>
          <p:cNvSpPr/>
          <p:nvPr/>
        </p:nvSpPr>
        <p:spPr>
          <a:xfrm>
            <a:off x="3949560" y="286236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Šipka doprava 15"/>
          <p:cNvSpPr/>
          <p:nvPr/>
        </p:nvSpPr>
        <p:spPr>
          <a:xfrm>
            <a:off x="3967200" y="3473280"/>
            <a:ext cx="380880" cy="16668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5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49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0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7 - Náklady vyplývající přímo z rozhodnu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8 - Přímé způsobilé výdaje cel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 -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rubá mzda v čase, oboru a místě obvykl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oručená výše mezd/platů Metodický</a:t>
            </a:r>
            <a:r>
              <a:rPr b="0" lang="cs-CZ" sz="2400" spc="-1" strike="noStrike">
                <a:solidFill>
                  <a:srgbClr val="898989"/>
                </a:solidFill>
                <a:latin typeface="Helvetica CE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is č. 4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vyse-mezd-platu-v-projektech-op-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0,8 * 40 000 = 32 000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39" name="Obrázek 3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853920" y="1973160"/>
            <a:ext cx="7105680" cy="28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0" name="Šipka doprava 4"/>
          <p:cNvSpPr/>
          <p:nvPr/>
        </p:nvSpPr>
        <p:spPr>
          <a:xfrm>
            <a:off x="353880" y="3606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1652760" y="5048280"/>
            <a:ext cx="6457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Arial"/>
              </a:rPr>
              <a:t>Projektový manažer 0,8 * 40 000 = 32 000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Šipka doprava 7"/>
          <p:cNvSpPr/>
          <p:nvPr/>
        </p:nvSpPr>
        <p:spPr>
          <a:xfrm rot="5400000">
            <a:off x="5590800" y="3249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44" name="Obrázek 9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1343160" y="1952640"/>
            <a:ext cx="6457680" cy="22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5" name="Obrázek 6" descr="komentar.JPG"/>
          <p:cNvPicPr/>
          <p:nvPr/>
        </p:nvPicPr>
        <p:blipFill>
          <a:blip r:embed="rId2"/>
          <a:stretch/>
        </p:blipFill>
        <p:spPr>
          <a:xfrm>
            <a:off x="1504800" y="4194000"/>
            <a:ext cx="6134400" cy="118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6" name="TextovéPole 8"/>
          <p:cNvSpPr/>
          <p:nvPr/>
        </p:nvSpPr>
        <p:spPr>
          <a:xfrm>
            <a:off x="1695600" y="44989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ová sazba lektora je lehce nadprůměrná, jelikož se jedná o výjimečného odborníka. Jeho zapojení do projektu je klíčové. Viz blíže příloha č.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ipka doprava 7"/>
          <p:cNvSpPr/>
          <p:nvPr/>
        </p:nvSpPr>
        <p:spPr>
          <a:xfrm>
            <a:off x="830160" y="4284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N nejsou nebo nemohou být jednoznačně spojené s konkrétní klíčovou aktivitou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25480" y="2814480"/>
          <a:ext cx="5792760" cy="2683080"/>
        </p:xfrm>
        <a:graphic>
          <a:graphicData uri="http://schemas.openxmlformats.org/drawingml/2006/table">
            <a:tbl>
              <a:tblPr/>
              <a:tblGrid>
                <a:gridCol w="2802240"/>
                <a:gridCol w="299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ová 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ta na povinnou public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ý zaměstna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echnik zajišťující běžnou správu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itel bezpečnosti a ochrany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raha, uklízeč, údržb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8:39:56Z</dcterms:modified>
  <cp:revision>181</cp:revision>
  <dc:subject/>
  <dc:title>Titulní strana – Titulek</dc:title>
</cp:coreProperties>
</file>