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 pro žadatele – oblast podpory 2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53718F-3539-44C0-8573-4D890B028F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kritéria – právnická osoba, nesmí být v úpadku, splňuje podmínky bezdlužnosti vůči veřejné správě a zdravotním pojišťovná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FBBAD-F4C7-4281-A4A9-88E144039C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182/2006 Sb., o úpadku a způsobech jeho řešení (insolvenční zák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E2435A-5437-49AE-A492-7676495957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ba udržitelnosti bude stanovena v právním aktu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D7C6D2-B8CC-4E53-9161-B2619B54EA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zor na nefinalizaci žádosti – neopraviteln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ritéria přijatelnosti: oprávněný žadatel, sídlo na území ČR, partner splňuje podmínky oprávněnosti, KA jsou v souladu s výzvou, CS jsou v souladu s CS stanovenými výzvou, doba trvání projektu, požadovaná výše finanční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B9F649-EF27-4E76-92F6-28BBB4C8F5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11/1998 Sb. o vysokých školách a o změně a doplnění dalších zákonů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341/2005 Sb., o veřejných výzkumných institucích, ve znění pozdějších předpis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kon č. 130/2002 Sb., o podpoře výzkumu, experimentálního vývoje a inovací z veřejných prostředků a o změně některých souvisejících zákon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0906DD-8F13-4D64-8465-5D5C82D6C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F76A-C11F-476A-81D1-22AB6B78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409-A9D6-49C8-8E10-5303E4135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849A-F571-4E84-AB97-0FFB7B2B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8C26-130C-4850-901D-B356F618A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6CC-5C87-407F-A0A1-66B8F6480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D547-F15F-4751-8429-525AAECE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53B6-FA8F-4E2F-BB8E-47E29B20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CF9-40EE-465D-8D1F-01376EF3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0D80-6692-4AC4-8C66-B8254B49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940-D641-4F15-95EC-0A78035C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F63E-34CD-4D48-9FC8-1F6B4217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DCD-E51D-4A33-AD6F-85F315C3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3D506D-7CB3-4121-96E6-9CF055CEFB2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F5FB61-AED9-4070-82ED-0DCAE58CCC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E48BA2CF-7955-484C-9020-C0305081BB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3020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590920" y="5495760"/>
            <a:ext cx="4267080" cy="84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60640"/>
            <a:ext cx="7434360" cy="26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800"/>
                </a:solidFill>
                <a:latin typeface="Helvetica CE"/>
              </a:rPr>
              <a:t>Seminář pro žadatele o finanční podporu – oblast podpory 2.2 Vysokoškolské vzdělávání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31680" y="3411000"/>
            <a:ext cx="7188120" cy="21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ba trvání a území dopadu podporovaných aktiv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127160" y="2565000"/>
            <a:ext cx="707544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Území dopadu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všechny regiony České republiky mimo území NUTS II hl. města Prah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</a:t>
            </a:r>
            <a:r>
              <a:rPr b="1" lang="cs-CZ" sz="2400" spc="-1" strike="noStrike">
                <a:solidFill>
                  <a:srgbClr val="e46c0a"/>
                </a:solidFill>
                <a:latin typeface="Helvetica CE"/>
              </a:rPr>
              <a:t>Místo realizace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: sídlo žadatele může být na celém území ČR včetně NUTS II hl. m. Prahy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589AED-51B3-4E49-B633-59D734EC04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stv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29840" y="2228760"/>
            <a:ext cx="645804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amostatně nebo ve spolupráci s partnerskými organizacemi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artnerství nesmí nahrazovat poskytování běžně dostupných služeb na trhu ani dodávku běžného zboží (partner nesmí být skrytým dodavatelem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9935A-3053-4979-8437-CFDC8C89D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artner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0200" y="1952640"/>
            <a:ext cx="686448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 finančním příspěvkem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bez finančního příspěvk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ávnická osob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ídlo na území ČR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AB19A1-3577-4FDF-AA0D-9088B1945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onitorov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330200" y="2147760"/>
            <a:ext cx="6632640" cy="31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vinnost v průběhu realizace projektu sledovat naplňování monitorovacích indikátor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eznam monitorovacích indikátorů je uveden v Příloze č. 2 této výzv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etodika monitorovacích indikátorů: http://www.msmt.cz/strukturalni-fondy/monitorovaci-zprava-a-jeji-prilohy-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255E72-EB9A-485B-A695-83C8DACF67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Udržitelnost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60280" y="1952280"/>
            <a:ext cx="704196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této výzvy se neuplatní podmínky udržitelnosti stanovené v kap. 6.4 Příručky pro žadatele OP VK, verze 6 účinné od 30.10.2009. V rámci této výzvy není udržitelnost projektů poskytovatelem vyžadována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E9F431-4FDF-4006-9D29-D89103A2D2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působ výběru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ormální náležitosti – 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ritéria přijatelnosti – neopravitel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grémium zpravo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konečné schválení – ministr/ministryně školství, mládeže a tělovýchov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Kritéria hodnocení – Příručka pro příjemce)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Helvetica CE"/>
              </a:rPr>
              <a:t>bodová bonifikace – potvrzení města o IPRM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0C248-1821-44B0-9577-3FAFA5B35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6B8DD-F407-4204-AC58-A82A7BB06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roces hodnoc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29840" y="2068560"/>
            <a:ext cx="645804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ijetí a registrace žád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Odbor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ormální hodnocení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PM/FM Odboru CERA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přijatelnosti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gestor ŘO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Hodnocení věcné </a:t>
            </a:r>
            <a:r>
              <a:rPr b="0" lang="cs-CZ" sz="1400" spc="-1" strike="noStrike">
                <a:solidFill>
                  <a:srgbClr val="7f7f7f"/>
                </a:solidFill>
                <a:latin typeface="Helvetica CE"/>
              </a:rPr>
              <a:t>(hodnotitelé, zpravodaj, Grémium zpravodajů)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yrozumění o výsledku hodnocení 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 uzavření právního a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Šipka doprava 6"/>
          <p:cNvSpPr/>
          <p:nvPr/>
        </p:nvSpPr>
        <p:spPr>
          <a:xfrm rot="5400000">
            <a:off x="4386240" y="245736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Šipka doprava 7"/>
          <p:cNvSpPr/>
          <p:nvPr/>
        </p:nvSpPr>
        <p:spPr>
          <a:xfrm rot="5400000">
            <a:off x="4387680" y="31417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Šipka doprava 8"/>
          <p:cNvSpPr/>
          <p:nvPr/>
        </p:nvSpPr>
        <p:spPr>
          <a:xfrm rot="5400000">
            <a:off x="4389480" y="380052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Šipka doprava 9"/>
          <p:cNvSpPr/>
          <p:nvPr/>
        </p:nvSpPr>
        <p:spPr>
          <a:xfrm rot="5400000">
            <a:off x="4390920" y="4441680"/>
            <a:ext cx="285840" cy="21600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f79646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3"/>
          <p:cNvSpPr/>
          <p:nvPr/>
        </p:nvSpPr>
        <p:spPr>
          <a:xfrm rot="16200000">
            <a:off x="-608400" y="35074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měsí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evá složená závorka 11"/>
          <p:cNvSpPr/>
          <p:nvPr/>
        </p:nvSpPr>
        <p:spPr>
          <a:xfrm>
            <a:off x="1330200" y="2209680"/>
            <a:ext cx="347760" cy="3108600"/>
          </a:xfrm>
          <a:custGeom>
            <a:avLst/>
            <a:gdLst>
              <a:gd name="textAreaLeft" fmla="*/ 222120 w 347760"/>
              <a:gd name="textAreaRight" fmla="*/ 348120 w 347760"/>
              <a:gd name="textAreaTop" fmla="*/ 9000 h 3108600"/>
              <a:gd name="textAreaBottom" fmla="*/ 3099600 h 310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"/>
                  <a:pt x="10800" y="201"/>
                </a:cubicBezTo>
                <a:lnTo>
                  <a:pt x="10800" y="10599"/>
                </a:lnTo>
                <a:cubicBezTo>
                  <a:pt x="10800" y="10700"/>
                  <a:pt x="5400" y="10800"/>
                  <a:pt x="0" y="10800"/>
                </a:cubicBezTo>
                <a:cubicBezTo>
                  <a:pt x="5400" y="10800"/>
                  <a:pt x="10800" y="10901"/>
                  <a:pt x="10800" y="11001"/>
                </a:cubicBezTo>
                <a:lnTo>
                  <a:pt x="10800" y="21399"/>
                </a:lnTo>
                <a:cubicBezTo>
                  <a:pt x="10800" y="215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jčastější chyb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44080" y="1952280"/>
            <a:ext cx="6907320" cy="36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 finalizovan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Žádost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byl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odevzdaná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 termín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A neodpovídají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aktivitám stanoveným ve výzvě (např. řízení projektu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ní právnickou osob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artner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e skrytým dodavatel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S nejsou v souladu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 výzvou (studenti pražských VŠ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a max. doba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rvání projektu (např. 37 měsíců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žadované fin. prostředky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jsou ve stanoveném limi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řekročeny limity kapito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dodrženo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stanovené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rocento nepřímých nákladů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57FAA-7AA2-4623-AED6-A48A031CA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dkládání projektů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329840" y="1952280"/>
            <a:ext cx="6458040" cy="32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sobně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Corso IIa, Křižíkova 34/148, Praha 8 –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ošt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ŠMT – odbor CERA, Karmelitská 7, 118 12 Praha 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11. února 2011 (15. dubna 2011, 25. listopadu 2011) v 13:00 hodin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– rozhoduje datum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ručení zásilky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, nikoliv datum odeslání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25BE8E-E420-408B-B9CC-32C67669D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sah obálk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finalizovaná projektová žádost vytištěna z Benefitu (stejný hash code jako elektronická verze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ojené přílohy (1. stránka: „Seznam příloh“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D-R: nahraná finalizovaná benefitová žádost a všechny přílohy ve formátu .pdf (naskenované s podpisy, včetně seznamu příloh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slední kontrola žádosti před odevzdáním – příručka pro žadatele (verze 6) – str. 50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688E6C-2C85-4CD2-8239-7A201B8963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Helvetica CE"/>
              </a:rPr>
              <a:t>Obsah semináře</a:t>
            </a:r>
            <a:endParaRPr b="1" lang="en-US" sz="3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371600" y="2681280"/>
            <a:ext cx="6283440" cy="25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Základní informace k výzvě 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Věcná část výzvy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Finanční řízení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399960" indent="-399960" algn="just">
              <a:spcBef>
                <a:spcPts val="700"/>
              </a:spcBef>
              <a:buClr>
                <a:srgbClr val="000000"/>
              </a:buClr>
              <a:buFont typeface="Helvetica CE"/>
              <a:buAutoNum type="romanU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Diskuze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8B55D4-4A51-4999-96B7-45D4CCB725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Materiály a zdroje informac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2200" y="1952640"/>
            <a:ext cx="7791480" cy="36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pro-zad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zvy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Text výzvy 2.2  +  Přílohy č. 1 až 8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íručka pro žadatele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říručka pro žadatele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verze 6, platná od 21.10.2010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Webová aplikace Benefit7: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Jak vyplnit webovou žádost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99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ttp://www.msmt.cz/strukturalni-fondy/zakladni-dokumenty-a-zpracovatel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00"/>
              </a:spcBef>
              <a:tabLst>
                <a:tab algn="l" pos="0"/>
                <a:tab algn="l" pos="2238480"/>
                <a:tab algn="l" pos="233352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váděcí dokument OP VK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(aktuální verze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AB3916-7032-484B-A4BD-876A2C577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oporuče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oulad projektu s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pravidly OP VK a pravidly stanovenými výzvou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nutné respektovat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rojekt by měl mít logickou posloupnost, řešit definovaný problém, jasně stanovené měřitelné a reálně dosažitelné cíle, vycházet z potřeb cílové skupiny a být </a:t>
            </a:r>
            <a:r>
              <a:rPr b="1" lang="cs-CZ" sz="2000" spc="-1" strike="noStrike">
                <a:solidFill>
                  <a:srgbClr val="e46c0a"/>
                </a:solidFill>
                <a:latin typeface="Helvetica CE"/>
              </a:rPr>
              <a:t>jasně napsaný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bez možnosti dalšího vysvětlování).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838E4-7405-484E-8210-10FE580DA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ontak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160280" y="2155680"/>
            <a:ext cx="686412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místo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odbor CERA (46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ost realizace osobních konzultací po telefonické či elektronické dohod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ontaktní osoba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tel.: 234 814 236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oblémy s vyplněním webové žádosti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e-mail: </a:t>
            </a:r>
            <a:r>
              <a:rPr b="1" lang="cs-CZ" sz="1800" spc="-1" strike="noStrike">
                <a:solidFill>
                  <a:srgbClr val="0070c0"/>
                </a:solidFill>
                <a:latin typeface="Helvetica CE"/>
              </a:rPr>
              <a:t>help_opvk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EC53D-5BE8-4F1D-B163-6CF7088D3F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347480"/>
            <a:ext cx="7434360" cy="21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000" spc="-1" strike="noStrike">
                <a:solidFill>
                  <a:srgbClr val="f39800"/>
                </a:solidFill>
                <a:latin typeface="Helvetica CE"/>
              </a:rPr>
              <a:t>Děkuji za pozornost</a:t>
            </a:r>
            <a:endParaRPr b="1" lang="en-US" sz="4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419200"/>
            <a:ext cx="6400800" cy="28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329840" y="1952640"/>
            <a:ext cx="6458040" cy="33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Helvetica CE"/>
              </a:rPr>
              <a:t>Základní informace k výzvě</a:t>
            </a:r>
            <a:endParaRPr b="0" lang="en-US" sz="4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4B7AC-F403-4304-8B8F-65228E638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Výzva, termíny výzvy, doba trván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133280" y="1815840"/>
            <a:ext cx="72500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číslo výzvy v informačním systému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8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(Prioritní osa: 2 – Terciární vzdělávání, výzkum a vývoj, Oblast podpory 2.2 – Vysokoškolské vzdělávání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vyhláš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led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atum ukončení výzvy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5. listopadu 2011ve 13:00 hod.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yp výzvy: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průběžn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ba trvání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ředkládaných projektů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: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36 měsíců, ukončení projektu nejpozději 30. 6. 2015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768292-9C27-408B-8C9D-984E7FFE0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79200" y="1248840"/>
            <a:ext cx="710892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Termíny předkládání žádostí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7. – 11. únor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1. – 15. dubna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1. – 25. listopadu 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ždy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o 13:00 hod.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v den ukončení příjmu žádost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E992E-8A43-40EA-97B8-4E3247E43F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Finanční alokac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60640" y="2155680"/>
            <a:ext cx="7526160" cy="33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elková částka alokovaná pro výzvu: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2 000 000 000,-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mezení výše finanční podpory </a:t>
            </a:r>
            <a:r>
              <a:rPr b="0" lang="cs-CZ" sz="2000" spc="-1" strike="noStrike">
                <a:solidFill>
                  <a:srgbClr val="e46c0a"/>
                </a:solidFill>
                <a:latin typeface="Helvetica CE"/>
              </a:rPr>
              <a:t>na 1 individuální projekt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(IPo)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in. výše finanční podpory na 1 projekt: 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max. výše finanční podpory na 1 projekt: 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100 000 000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FFA8AC-27C8-41D5-AD0B-98DA4F114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í žadatelé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330200" y="2306160"/>
            <a:ext cx="6640560" cy="30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Helvetica CE"/>
              </a:rPr>
              <a:t>vysoké školy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(dle zákona č.111/1998 Sb., o vysokých školách a o změně a doplnění dalších zákonů)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4E92A-6CD5-49F0-A387-69A665A56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právněnost žadatel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4440" y="2171520"/>
            <a:ext cx="68104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Další kritéria dle Příručky pro žadatele: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ení v úpadku podle zákona č. 182/2006 Sb., není proti němu vedena exekuce nebo výkon rozhodnutí nebo není v likvidaci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lňuje podmínky bezdlužnosti vůči státní správě a ZP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962D9-46F3-41FB-8829-6E4CF2946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29840" y="1095120"/>
            <a:ext cx="645804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Cílové skupin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329840" y="1952280"/>
            <a:ext cx="64580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tudent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Akademičt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tatní pracovníci V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lvl="1"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teří studují nebo pracují v regionech ČR </a:t>
            </a:r>
            <a:r>
              <a:rPr b="1" lang="cs-CZ" sz="1800" spc="-1" strike="noStrike">
                <a:solidFill>
                  <a:srgbClr val="e46c0a"/>
                </a:solidFill>
                <a:latin typeface="Helvetica CE"/>
              </a:rPr>
              <a:t>mimo území NUTS II hl. města Prahy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(tzn. v regionech ČR spadajících do Cíle Konvergence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B504E-FC70-4670-B195-E65106E87C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7T07:26:05Z</dcterms:modified>
  <cp:revision>138</cp:revision>
  <dc:subject/>
  <dc:title>Titulní strana – Titulek</dc:title>
</cp:coreProperties>
</file>