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minář pro žadatele – oblast podpory 2.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A9C77-4583-4ADC-9621-B5BFA9987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lší kritéria – právnická osoba, nesmí být v úpadku, splňuje podmínky bezdlužnosti vůči veřejné správě a zdravotním pojišťovná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96E65-6D27-4640-AF71-89CD9159D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182/2006 Sb., o úpadku a způsobech jeho řešení (insolvenční zák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D4C38-4253-46DF-8483-B4021730B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ba udržitelnosti bude stanovena v právním aktu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8606C-5D55-4216-9578-312214AA0D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zor na nefinalizaci žádosti – neopraviteln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ritéria přijatelnosti: oprávněný žadatel, sídlo na území ČR, partner splňuje podmínky oprávněnosti, KA jsou v souladu s výzvou, CS jsou v souladu s CS stanovenými výzvou, doba trvání projektu, požadovaná výše finanční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470F0-D4EB-4FD8-88BD-7D94C070B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111/1998 Sb. o vysokých školách a o změně a doplnění dalších zákonů, ve znění pozdějších předpis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341/2005 Sb., o veřejných výzkumných institucích, ve znění pozdějších předpis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130/2002 Sb., o podpoře výzkumu, experimentálního vývoje a inovací z veřejných prostředků a o změně některých souvisejících zákon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4F3F2C-7D85-46C0-B4BE-8713660F7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DFBE-5ACA-4D8D-A5B0-A1FCE602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FF1-9A27-41BE-8EB2-45E1ACEC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995-0A48-468C-A376-1F43E28D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E4F-CAC7-4938-9374-024CBA9A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94B-AEF5-478D-B088-12896287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01E8-76D4-4157-9254-AAA22E91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22F-BA2F-43F4-A3B8-E603C7C0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DF5-59EA-4207-995A-C3C166DA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140-40C5-4A80-BE43-7F6C4531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2BE-379C-4D2E-BCC6-7ED35CB5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F8E-0638-4906-9C77-194E1134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53A1-F849-4C14-AA65-1821D1FD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F0E53-8926-4305-86AB-13A8D9D563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39A1F-D8F6-4FFF-9203-4277831A3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1FDCB2A7-3DA3-4277-B0D6-526D1D35F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3020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590920" y="5495760"/>
            <a:ext cx="4267080" cy="84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60640"/>
            <a:ext cx="743436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800"/>
                </a:solidFill>
                <a:latin typeface="Helvetica CE"/>
              </a:rPr>
              <a:t>Seminář pro žadatele o finanční podporu – oblast podpory 2.2 Vysokoškolské vzdělávání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31680" y="3411000"/>
            <a:ext cx="718812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Veronika Šišperov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ba trvání a území dopadu podporovaných aktiv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27160" y="2565000"/>
            <a:ext cx="707544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Území dopadu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všechny regiony České republiky mimo území NUTS II hl. města Prah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</a:t>
            </a:r>
            <a:r>
              <a:rPr b="1" lang="cs-CZ" sz="2400" spc="-1" strike="noStrike">
                <a:solidFill>
                  <a:srgbClr val="e46c0a"/>
                </a:solidFill>
                <a:latin typeface="Helvetica CE"/>
              </a:rPr>
              <a:t>Místo realizace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sídlo žadatele může být na celém území ČR včetně NUTS II hl. m. Prahy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E77A8-B6CD-4E55-9B0A-B1AD6BBB4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stv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29840" y="2228760"/>
            <a:ext cx="645804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amostatně nebo ve spolupráci s partnerskými organizacemi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artnerství nesmí nahrazovat poskytování běžně dostupných služeb na trhu ani dodávku běžného zboží (partner nesmí být skrytým dodavatelem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E5436-4827-4617-BA51-20C43E147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330200" y="1952640"/>
            <a:ext cx="686448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 finančním příspěv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ez finančního příspěvk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ávnická osob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ídlo na území ČR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9BD52-2907-45E4-8068-B66630F08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onitorov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30200" y="2147760"/>
            <a:ext cx="66326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vinnost v průběhu realizace projektu sledovat naplňování monitorovacích indikátor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eznam monitorovacích indikátorů je uveden v Příloze č. 2 této výz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etodika monitorovacích indikátorů: http://www.msmt.cz/strukturalni-fondy/monitorovaci-zprava-a-jeji-prilohy-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39C3B-BF2C-4613-BCD7-0058950F0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Udržitelnost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60280" y="1952280"/>
            <a:ext cx="704196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této výzvy se neuplatní podmínky udržitelnosti stanovené v kap. 6.4 Příručky pro žadatele OP VK, verze 6 účinné od 30.10.2009. V rámci této výzvy není udržitelnost projektů poskytovatelem vyžadována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23041-7A03-4D53-A871-33FEAA1C6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působ výběru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ormální náležitosti – opravitel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kritéria přijatelnosti – neopravitel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grémium zpravo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konečné schválení – ministr/ministryně školství, mládeže a tělovýchov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Kritéria hodnocení – Příručka pro příjemce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Helvetica CE"/>
              </a:rPr>
              <a:t>bodová bonifikace – potvrzení města o IPRM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410AE-2FA8-440E-AD47-F96E1CA83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C0263-6042-4E22-8712-145C47FD9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roces hodnoc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29840" y="2068560"/>
            <a:ext cx="6458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jetí a registrace žád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Odbor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ormální hodnocení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PM/FM Odboru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přijateln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gestor ŘO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věcné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hodnotitelé, zpravodaj, Grémium zpravodajů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yrozumění o výsledku hodnocení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 uzavření právního a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Šipka doprava 6"/>
          <p:cNvSpPr/>
          <p:nvPr/>
        </p:nvSpPr>
        <p:spPr>
          <a:xfrm rot="5400000">
            <a:off x="4386240" y="245736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Šipka doprava 7"/>
          <p:cNvSpPr/>
          <p:nvPr/>
        </p:nvSpPr>
        <p:spPr>
          <a:xfrm rot="5400000">
            <a:off x="4387680" y="31417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Šipka doprava 8"/>
          <p:cNvSpPr/>
          <p:nvPr/>
        </p:nvSpPr>
        <p:spPr>
          <a:xfrm rot="5400000">
            <a:off x="4389480" y="38005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Šipka doprava 9"/>
          <p:cNvSpPr/>
          <p:nvPr/>
        </p:nvSpPr>
        <p:spPr>
          <a:xfrm rot="5400000">
            <a:off x="4390920" y="444168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3"/>
          <p:cNvSpPr/>
          <p:nvPr/>
        </p:nvSpPr>
        <p:spPr>
          <a:xfrm rot="16200000">
            <a:off x="-608400" y="3507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 měsí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evá složená závorka 11"/>
          <p:cNvSpPr/>
          <p:nvPr/>
        </p:nvSpPr>
        <p:spPr>
          <a:xfrm>
            <a:off x="1330200" y="2209680"/>
            <a:ext cx="347760" cy="3108600"/>
          </a:xfrm>
          <a:custGeom>
            <a:avLst/>
            <a:gdLst>
              <a:gd name="textAreaLeft" fmla="*/ 222120 w 347760"/>
              <a:gd name="textAreaRight" fmla="*/ 348120 w 347760"/>
              <a:gd name="textAreaTop" fmla="*/ 9000 h 3108600"/>
              <a:gd name="textAreaBottom" fmla="*/ 30996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jčastější chyb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4080" y="1952280"/>
            <a:ext cx="690732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 finalizovan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odevzdaná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 termín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A neodpovídají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ktivitám stanoveným ve výzvě (např. řízení projektu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ní právnickou osob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e skrytým dodavatel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S nejsou v soulad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výzvou (studenti pražských VŠ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a max. doba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rvání projektu (např. 37 měsíců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žadované fin. prostředky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jsou ve stanoveném limi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y limity kapito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dodrženo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stanovené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cento nepřímých náklad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C8E12-4292-4A07-8427-F4DBA1B6E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dklád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29840" y="1952280"/>
            <a:ext cx="645804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sobně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Corso IIa, Křižíkova 34/148, Praha 8 –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ošt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Karmelitská 7, 118 12 Praha 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11. února 2011 (15. dubna 2011, 25. listopadu 2011) v 13:00 hodin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– rozhoduje datum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ručení zásilky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nikoliv datum odeslání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B6F43-A13B-419C-96C6-969DC8459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 obálk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finalizovaná projektová žádost vytištěna z Benefitu (stejný hash code jako elektronická verze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ojené přílohy (1. stránka: „Seznam příloh“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D-R: nahraná finalizovaná benefitová žádost a všechny přílohy ve formátu .pdf (naskenované s podpisy, včetně seznamu příloh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slední kontrola žádosti před odevzdáním – příručka pro žadatele (verze 6) – str. 50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E5BCD-8410-4554-894C-0BD74E939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Helvetica CE"/>
              </a:rPr>
              <a:t>Obsah semináře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71600" y="2681280"/>
            <a:ext cx="6283440" cy="25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Základní informace k výzvě 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Věcná část výzvy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Finanční řízení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Diskuze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5C42F-9598-42B3-A1AB-DE622D8BC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ateriály a zdroje informac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2200" y="1952640"/>
            <a:ext cx="779148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pro-zad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zvy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Text výzvy 2.2  +  Přílohy č. 1 až 8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ručka pro žadatele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říručka pro žadatele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verze 6, platná od 21.10.2010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Webová aplikace Benefit7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Jak vyplnit webovou žádo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zakladni-dokumenty-a-zpracov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váděcí dokument OP VK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aktuální verze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BA11D-3E9A-4B20-B7FE-0DF71D0CA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poruč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oulad projektu s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pravidly OP VK a pravidly stanovenými výzv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nutné respektovat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rojekt by měl mít logickou posloupnost, řešit definovaný problém, jasně stanovené měřitelné a reálně dosažitelné cíle, vycházet z potřeb cílové skupiny a být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jasně napsaný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bez možnosti dalšího vysvětlování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7B6F3-D10C-40B8-830B-98EFF561C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ontak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60280" y="2155680"/>
            <a:ext cx="686412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místo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dbor CERA (46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žnost realizace osobních konzultací po telefonické či elektronické dohod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osoba: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Veronika Šišperov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el.: 234 814 236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veronika.sisper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blémy s vyplněním webové žádosti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>
                <a:solidFill>
                  <a:srgbClr val="0070c0"/>
                </a:solidFill>
                <a:latin typeface="Helvetica CE"/>
              </a:rPr>
              <a:t>help_opvk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8A861-6675-4616-8277-8F0C8B1FD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347480"/>
            <a:ext cx="7434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800"/>
                </a:solidFill>
                <a:latin typeface="Helvetica CE"/>
              </a:rPr>
              <a:t>Děkuji za pozornost</a:t>
            </a: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419200"/>
            <a:ext cx="6400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Základní informace k výzvě</a:t>
            </a:r>
            <a:endParaRPr b="0" lang="en-US" sz="4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466BD-F0B7-4BF3-9BEF-D7245AEB3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Výzva, termíny výzvy, doba tr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33280" y="1815840"/>
            <a:ext cx="72500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číslo výzvy v informačním systému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8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Prioritní osa: 2 – Terciární vzdělávání, výzkum a vývoj, Oblast podpory 2.2 – Vysokoškolské vzdělávání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vyhláš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1. led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ukonč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5. listopadu 2011ve 13:00 hod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yp výzvy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ůběžn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ba trvání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ředkládaných projektů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ax. 36 měsíců, ukončení projektu nejpozději 30. 6. 2015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5A2B1-8280-40F1-A047-0133D854D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Termíny předkládání žádost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7. – 11. únor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1. – 15. dub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1. – 25. listopadu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ždy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 13:00 hod.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v den ukončení příjmu žádost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2609D-C48E-4CCE-BFAA-4FA51F1BC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Finanční aloka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60640" y="2155680"/>
            <a:ext cx="752616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lková částka alokovaná pro výzvu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 000 000 000,-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mezení výše finanční podpory </a:t>
            </a:r>
            <a:r>
              <a:rPr b="0" lang="cs-CZ" sz="2000" spc="-1" strike="noStrike">
                <a:solidFill>
                  <a:srgbClr val="e46c0a"/>
                </a:solidFill>
                <a:latin typeface="Helvetica CE"/>
              </a:rPr>
              <a:t>na 1 individuální projekt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(IPo)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in. výše finanční podpory na 1 projekt: 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ax. výše finanční podpory na 1 projekt: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FDE34-9D31-4EF7-924E-F73932A03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í žadatelé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30200" y="2306160"/>
            <a:ext cx="6640560" cy="30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vysoké školy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dle zákona č.111/1998 Sb., o vysokých školách a o změně a doplnění dalších zákonů)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316C3-1137-4A16-B014-4AC605F4B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ost žadatel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4440" y="2171520"/>
            <a:ext cx="68104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alší 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E2358-D1E0-4044-B345-9E969628D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29840" y="1095120"/>
            <a:ext cx="64580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Cílové skupin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29840" y="1952280"/>
            <a:ext cx="64580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tudent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Akademičtí pracovníc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pracovníc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teří studují nebo pracují v regionech ČR </a:t>
            </a:r>
            <a:r>
              <a:rPr b="1" lang="cs-CZ" sz="1800" spc="-1" strike="noStrike">
                <a:solidFill>
                  <a:srgbClr val="e46c0a"/>
                </a:solidFill>
                <a:latin typeface="Helvetica CE"/>
              </a:rPr>
              <a:t>mimo území NUTS II hl. města Prahy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(tzn. v regionech ČR spadajících do Cíle Konvergence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2D19B-D9C5-49DC-A73F-FE94EAD39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7T07:26:05Z</dcterms:modified>
  <cp:revision>138</cp:revision>
  <dc:subject/>
  <dc:title>Titulní strana – Titulek</dc:title>
</cp:coreProperties>
</file>