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FADD-F68E-4B2C-A67C-E54AF341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112-04B9-44D2-9C36-93B176B6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E7781-6C20-46A0-8DB0-E9B3D6E1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62A30-4E68-446E-B12C-BAF1F5D2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BA496-6B38-4500-B834-6C6C59D5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70CC1-A63C-4D6E-8F54-C55B8001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3B66F-563D-4D63-86CE-A64349B5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857C5-3CF4-4430-919A-AD9FE7E0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04A07-291F-49E7-91DE-93102E1C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38DE8-8EA9-4871-A39D-53BD3851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BB50B-844E-4ADF-932D-E7936376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D14AF-897F-473D-8A8D-67E4666F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E35-EE04-4242-9D90-BB9AE5A7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69BF4-ECA2-4738-98E0-8DC07964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3B82A-8CE2-4DDF-A757-34F1A30E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5CD65-E6AE-471D-BE06-D78596C5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90220-3FB1-423A-9B33-8CEC1FF6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5AE40-D64F-494B-94C0-34C50510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1724F-A26F-400A-B148-5BAF6896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969BC-D984-4349-99AC-9AF39005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7EFC7-E5BE-449F-AF62-5FF7EEA0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B828B-566B-4F3C-98EA-8C1C7179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B0A1A-B6A7-4F8B-AE39-112BAFA8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308-1624-4893-9B10-A6A61133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4B7D3-E15E-4536-9A70-EFBDA22C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E9B73-0951-4FA7-BC21-168C3623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A088D-6C84-4744-B064-9B15635C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21241-5997-45DD-8E2C-8143E7CD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92CD5-3506-4908-919E-9B82F437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C494E-CFCA-4781-A21F-1F56F9A3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FF8EE-FB17-483D-A837-A6EC93CB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5C33D-D6BE-439E-980C-86811626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B92E7-973E-4559-B1F1-612C92A6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C7A0C-62C1-4FDD-BE41-51CD9E69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3350-EDD8-412B-AB62-658CAB35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F6468-582F-443C-AA1D-B5145F16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B634F-3DFA-4B0D-85B5-657B7AE8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89631-6505-42A4-8512-9695E238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9754F-6E2F-4C17-9EBB-7FFED210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2C9FF-F3A4-4B32-BCB5-07A9FFD8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74B77-FCC8-451E-9272-71367D64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B36C7-F6B4-4D7D-A5A3-9B6F20BF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0B330-EF1F-4AF3-84A6-9963D2A6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78D25-22F2-46D7-8157-AD6537CD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0CF4B-A909-4C9E-9F1E-A8196E79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7FED-C1E1-432E-99D0-925D779A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99CAD-385F-471A-8E1B-82CAECD5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31A1E-7F72-4655-82A5-20606DB1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962EF-4619-48F3-9C1A-51449648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F73B3-9393-449B-8347-3B8970A8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86D0C-C1CF-4C69-B795-D5E8CEFE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746E-8E36-4A8E-A1AB-22556A99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739B-749B-4322-B123-229C44A0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F55A-F6FF-4A2E-9B08-35BC53AE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8636-B205-4076-BBDB-12F823D0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024B-57EF-4CDF-8276-C6C7E01C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2F1-D2BE-4BB3-8543-401A11D3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1066-E396-4937-8FA3-79D1F0BD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1440-9A3C-425E-AD76-50C4C695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BCAF-13ED-4525-BF51-D16FCF3E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3FD4-9373-4174-A17D-67A7AE9B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0BD1-0FF4-4845-962C-806C91E0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786E2-F063-4831-9225-F1E7C76A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87A35-5DB8-4007-B65A-AF61617A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DDAB-7D1A-4A4A-AA15-3B08A958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C98F7-BD01-4F41-ADAE-D56D060F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2D8C-3C26-4D59-8AE0-5B98FF65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A3C-46F0-4D9E-88DE-B0360D0B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78B7A-4A89-47CB-A3EA-27423EDD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1D2E6-2D11-4399-B778-AA8BD1EE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5031-64BD-46FE-AA87-781E411A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F2951-171E-46E4-9138-0A5B94F4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F66B2-D3B2-4DF2-88ED-6A7B6206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37D02-CAB0-4609-ADA2-42D0C7AF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CA871-612F-4530-8AC1-B2DB8139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C629A-93AC-40FB-97D6-C4FB4DCD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C1A53-DC4C-4F8D-BBA4-4AECAF9E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9B4D5-82A6-47B2-A9DE-800C5E28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BE7-7A07-4010-B6E8-6279868F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14192-5DF6-4D6A-90F1-9D79327B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956DF-255A-4715-9C39-E69F81F5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60ABE-9FCB-4FF1-BCCA-B41CFC88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9A2DF-051D-4C62-9ADF-CDEBD802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3F8AC-1D1B-4643-AB84-55F129DF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3A2E9-8A9B-486C-8340-72A67A4F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1D2B9-64FD-4727-9BD4-81E2043E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FB614-A8A7-4B74-9D1A-8162EAF8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FE1E4-1EE7-4AB8-8C44-3994EB12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6154D-886C-4212-ACD1-8F236AFF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A38-4A55-4A21-8F9B-A8718F23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B578F-9E60-4168-AFDA-1FE0526C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31D09-F1D9-4E6A-8911-817C97D2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F4A4C-BF93-4CB6-8CBB-B55012DA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66CF4-6C76-4E71-9BF7-B2286321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C3D6E-52B5-47FF-938F-DE346B73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3E758-4556-4D18-A5BB-DDA9DA58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6EB78-085B-40AE-90F1-2987A34A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BC7C2-D8D0-43D2-90DB-C5E0EA98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08BDE-28AE-40C4-8C79-DC85B1E0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ADDAB-BA6F-4D14-A5EB-B4C384F1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ED1-CC15-44ED-AA17-FEC26479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AF964-5AC4-4003-994E-FFD71D80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A0747-6455-47D1-8404-9F610FBA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5A652-3F32-4535-AAC3-97315CF0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E5E38-EBD4-4F41-9172-04EFB71B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DD764-FF43-4534-9921-DDB6D5B5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62CFB-FAA8-4771-A69F-CF587F68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A2E68-C6C6-471A-88B3-817F909A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72B94-90F8-490E-A566-A97780DA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BF19B-F7FC-4661-9BAC-39750B4B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96864-A37A-4104-96D7-C5EC9E3F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76F-41D9-443F-8BEE-C8D1EA91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718D5-3D4C-4CED-B423-1BAC0A66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2976C-B64E-4DE7-BD21-75249930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07B85-F9A9-418A-BE58-A7812ABB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6999F-F4B3-430B-A25D-B56DC3D3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F6626-6121-4698-8016-4EEC9010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0E64F-10C4-432D-8DB9-744D238B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0E5B9-70A9-460A-A3B2-C2ACA3E8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1CB3D-5EB7-4A40-BEB8-4AF3A787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E3D93-70E6-457F-AE1E-797B00E6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06FAC-6989-4E86-90A5-68C9C639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770-34B7-472C-A0D1-151FC81C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75E0C-CA40-420D-BA39-52BE6289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1A4CD-78AA-42F3-BDFB-D60FED37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71AE4-6031-4736-9547-B4868F97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A5F6A-2E07-49BD-9B35-FD9BDE18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26C35-BEF2-46AF-9788-CA2D6ED8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7EA33-CEC6-4BE5-93D4-F7132707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28597-4459-4A6C-B3BF-1D6AD924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A4617-CDF3-4978-BFBD-1622640A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FBC23-689A-42D8-B469-11E7EEA3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481D1-BC36-4C9A-86CB-08CC388C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770-FB48-4071-ACC5-CE5299FE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8CA54-B9FF-4B6C-87F5-B8E2676A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2751D-FC13-46FA-8F1D-A7741861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688BB-B249-4B9E-952F-F6CEDC03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D0629-D2A4-453C-B80D-61099094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7F5B3-37C1-4B49-AA09-4A5EA99C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73A1D-FCC8-4F37-8356-7DF2568D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7E619-52EB-4390-B51C-310B25A3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53401-93A1-4E41-A88C-F2F50B0A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D490E-19BA-41ED-89EB-56385C7A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4668B-618B-4A70-A2C5-AEA4AE4D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4E9E3-9237-4299-ACE7-4C67AA98BC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D9CF7-7C6A-4575-8133-A571FC98C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E4491E28-D82C-49FB-8C1A-2B46018FE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2354A-8704-4692-A2B1-D5CBB41357D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C66F3-97BC-4D2B-9F15-BDE4403B6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962C1-53A6-4319-89E7-DC9314795B9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D2F47-E380-45CD-A61A-154964E73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0CAB4-5E56-4C3E-B13D-0C30D90E72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F400B-95D9-4C44-9C06-AD1241DC0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56EDE-D0B1-4B39-8B33-2232598D124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834D1-0AA0-4A16-A8B4-FEF586F97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F5F24-4369-44A0-A2D2-FFFA8A1151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F577C-2B5F-4BEC-9EF1-EA3A96D1B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154A0-7638-49D2-B296-A5ED352DF16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13578-54A2-499F-B1A6-795FB56A0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666BC-476F-4B78-8FB0-6CA0CE5203E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D3F8C-4221-46D2-8BEF-6967F070C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1180A-7CDE-4153-A1F9-3E704CD56D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90D4C-35D9-494A-BFDB-AE1D0907C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C8789-D8CC-4326-AC7F-CE649BD335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BCB45-D7F9-48CF-BCE6-DB7622F1D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3C469-4543-426F-9E83-F16BC3C179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46BF3-75F3-427E-BC28-F78FA86B2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E5D17-98E6-472C-B2F3-2AA3BCA10D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60664-CE74-4146-B53B-AB79B830D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jana.baresova@msmt.cz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B9795-88BB-4E79-87B2-7A23F00A4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tle 1"/>
          <p:cNvSpPr/>
          <p:nvPr/>
        </p:nvSpPr>
        <p:spPr>
          <a:xfrm>
            <a:off x="1238400" y="2176560"/>
            <a:ext cx="62830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tent Placeholder 2"/>
          <p:cNvSpPr/>
          <p:nvPr/>
        </p:nvSpPr>
        <p:spPr>
          <a:xfrm>
            <a:off x="2292480" y="2176560"/>
            <a:ext cx="44020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Jana Bareš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lužební cesty realizačního týmu – cestovné, ubytování, stravné, nutné vedlejší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Zahraniční expert v ČR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Per diems 230 €/den + doprava do ČR a zpě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růběhu realizace již nelze výdaje na zahraniční cesty navyšova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ímá vazba na realizaci klíčových aktiv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1185840" y="1952640"/>
            <a:ext cx="71499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6" name="Obrázek 6" descr="sluzebni cesty.JPG"/>
          <p:cNvPicPr/>
          <p:nvPr/>
        </p:nvPicPr>
        <p:blipFill>
          <a:blip r:embed="rId1"/>
          <a:srcRect l="0" t="0" r="24761" b="0"/>
          <a:stretch/>
        </p:blipFill>
        <p:spPr>
          <a:xfrm>
            <a:off x="1096920" y="2109960"/>
            <a:ext cx="6900840" cy="288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57" name="Šipka doprava 12"/>
          <p:cNvSpPr/>
          <p:nvPr/>
        </p:nvSpPr>
        <p:spPr>
          <a:xfrm>
            <a:off x="1811160" y="27129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Šipka doprava 12"/>
          <p:cNvSpPr/>
          <p:nvPr/>
        </p:nvSpPr>
        <p:spPr>
          <a:xfrm>
            <a:off x="1811160" y="36003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Šipka doprava 12"/>
          <p:cNvSpPr/>
          <p:nvPr/>
        </p:nvSpPr>
        <p:spPr>
          <a:xfrm>
            <a:off x="1811160" y="4183200"/>
            <a:ext cx="500400" cy="214200"/>
          </a:xfrm>
          <a:prstGeom prst="right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530360" y="2335320"/>
          <a:ext cx="5792760" cy="297324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do zahraničí členů realizačního tý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realizačního týmu po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v zahranič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realizačního týmu v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a a per diems zahraničního exper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louhodobý nehmotný majet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na opravy a údržb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částí 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068480"/>
            <a:ext cx="6758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– křížové financo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9 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ohou uplatnit pouze příjemci, kteří majetek daňově neodepisuj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Helvetica CE"/>
              </a:rPr>
              <a:t>investiční čá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 hmotný majetek nad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zařízení a vybavení hmotné povahy s 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ou použitelnosti nad 1 rok a pořizovací cenou nad 40 tis. Kč za položk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pokud není možné tento majetek pořídit v nezbytné kvalitě za cenu nižš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343160" y="1952280"/>
            <a:ext cx="64576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b050"/>
                </a:solidFill>
                <a:latin typeface="Helvetica CE"/>
              </a:rPr>
              <a:t>neinvestiční čás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by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ioritně by měl být pořízen pro potřebu cílové skupin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kup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třeby realizačního tým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 nutné zvlášť zdůvodnit (vztahuje se na něj limi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5 000 Kč/1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počtený pracovní úvaz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1B1CA-9675-4144-BCF8-9F140D313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ovéPole 4"/>
          <p:cNvSpPr/>
          <p:nvPr/>
        </p:nvSpPr>
        <p:spPr>
          <a:xfrm>
            <a:off x="4572000" y="4430880"/>
            <a:ext cx="2692440" cy="703800"/>
          </a:xfrm>
          <a:prstGeom prst="rect">
            <a:avLst/>
          </a:prstGeom>
          <a:noFill/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Arial"/>
              </a:rPr>
              <a:t>(3 + 0,4 + 0,5 + 0,2) * 15 000 = 61 5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929DA-B255-4EB9-84D7-B9F299FA5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530360" y="2335320"/>
          <a:ext cx="5792760" cy="276048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ote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kancelářské potřeby pro administraci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Odborná lit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up CD jak pro administraci, tak pro cílovou skupi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zásoby drobného občerstv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ublikace/školící materiály/manuál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dpora účastníků (stravné/ubytování)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7" name="TextovéPole 4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4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A8471-A4A8-44A2-8A1B-74CF35258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717560" y="2752560"/>
          <a:ext cx="5792760" cy="21513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Pronájem prostor pro semin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daňové a právní poraden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Tisk skript pro 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realizaci výběrových řízení nezbytných pro proje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Rozpočet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678F7-BD6F-4AF1-A54C-397633D2E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04760" y="1952280"/>
            <a:ext cx="727560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- nesmí přesáhnout částku za všechny dokončené stavební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úpravy v 1 zdaňovacím období v úhrnu 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pořizovací cena) na každou jednotlivou účetní položku majetk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y jsou prováděny za účelem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usnadnění přístupu a pohybu osobám zdravotně postiženým, nebo úpravy výukových, tréninkových nebo pracovních prostor, používaných na realizaci aktivit s 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které jsou rekonstrukcí nebo modernizací,  pokud 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výšily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  jednotlivého  majetku v úhrnu ve zdaňovacím období částku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spadají do </a:t>
            </a: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křížového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33640" y="2171880"/>
            <a:ext cx="71611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sou poskytovány jako náhrada mezd zaměstnavateli za  pracovníky po  dobu  jejich účasti na dalším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zdělává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až do výše 100% mzdových nákladů, nejvýše však do výše trojnásobku aktuální minimální mzdy)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placené přímo zástupcům cílové skupin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, vstupenky,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Náklady vyplývající přímo z     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udit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522440" y="2685960"/>
            <a:ext cx="6715080" cy="733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589" name=""/>
          <p:cNvGraphicFramePr/>
          <p:nvPr/>
        </p:nvGraphicFramePr>
        <p:xfrm>
          <a:off x="1808280" y="3736800"/>
          <a:ext cx="5792760" cy="14637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bankovní poplat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ublicita projektu včetně úvodní a závěrečné kon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29840" y="2171880"/>
            <a:ext cx="64580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ní potřeba prokazovat účetními doklad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lady spojené s administrací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mohou být přiřazeny ke konkrétní aktivitě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klady: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up vody, paliv a energie, telefonní poplatky, poštovné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8880"/>
            <a:ext cx="64580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TextovéPole 8"/>
          <p:cNvSpPr/>
          <p:nvPr/>
        </p:nvSpPr>
        <p:spPr>
          <a:xfrm>
            <a:off x="1330200" y="3133800"/>
            <a:ext cx="60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plikaci Benefit 7 se po zadání % nepřímých nákladů dopočítá částka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"/>
          <p:cNvPicPr/>
          <p:nvPr/>
        </p:nvPicPr>
        <p:blipFill>
          <a:blip r:embed="rId1"/>
          <a:stretch/>
        </p:blipFill>
        <p:spPr>
          <a:xfrm>
            <a:off x="1111320" y="1952640"/>
            <a:ext cx="6676920" cy="118116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1330200" y="1644480"/>
            <a:ext cx="6458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še stanovena ve výzvě procen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Obrázek 12" descr="nn_benefit.JPG"/>
          <p:cNvPicPr/>
          <p:nvPr/>
        </p:nvPicPr>
        <p:blipFill>
          <a:blip r:embed="rId2"/>
          <a:stretch/>
        </p:blipFill>
        <p:spPr>
          <a:xfrm>
            <a:off x="1220760" y="3780000"/>
            <a:ext cx="474516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97" name="TextovéPole 15"/>
          <p:cNvSpPr/>
          <p:nvPr/>
        </p:nvSpPr>
        <p:spPr>
          <a:xfrm>
            <a:off x="5122800" y="479736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Šipka doprava 12"/>
          <p:cNvSpPr/>
          <p:nvPr/>
        </p:nvSpPr>
        <p:spPr>
          <a:xfrm rot="10800000">
            <a:off x="6838560" y="2607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Šipka doprava 12"/>
          <p:cNvSpPr/>
          <p:nvPr/>
        </p:nvSpPr>
        <p:spPr>
          <a:xfrm rot="10800000">
            <a:off x="6076440" y="479700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ovéPole 18"/>
          <p:cNvSpPr/>
          <p:nvPr/>
        </p:nvSpPr>
        <p:spPr>
          <a:xfrm>
            <a:off x="3959280" y="415440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440 000     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329840" y="2058840"/>
            <a:ext cx="645804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činnosti, které již v rámci jiných programů či Iniciativ Společenství financovaných z ESF či jiných programů financovaných Evropskou unií podporu dostávaj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výdaje na každodenní řízení, monitorování a kontroly žadatele, které by se prováděly i bez realizace projektu - sloužící k zajištění běžného chodu organizace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nákupy vozidel, infrastruktury, nemovitostí a pozemků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DPH nebo její část, pokud existuje zákonný nárok na její odpočet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přímé daně, daň z nemovitosti, daň dědická, darovací, silniční, cla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úroky z úvěrů a půjček, pokud se nejedná o schválenou formu podpory z fondu ESF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f79646"/>
                </a:solidFill>
                <a:latin typeface="Helvetica CE"/>
              </a:rPr>
              <a:t>stipendia nebo platby cílové skupině podobného charakteru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odstupné, peněžitá pomoc v mateřstv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výdaje vzniklé mimo časový rámec způsobilosti 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3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yužívejte komentář k rozpočtu či samostatnou příloh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uďte střídmí v odhadu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řípadě nejasností se na nás neváhejte obrát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Ing. Jana Barešová</a:t>
            </a:r>
            <a:br>
              <a:rPr sz="1800"/>
            </a:b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ea typeface="ＭＳ Ｐゴシック"/>
                <a:hlinkClick r:id="rId1"/>
              </a:rPr>
              <a:t>jana.baresova@msmt.cz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Tel.: 234 814 293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řiměře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ospodár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úč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kazat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časová způsobil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A216D-6B12-4FF1-AF1A-F543814C9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počet v projektové žádosti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26" name="Obrázek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490760" y="2135160"/>
            <a:ext cx="2892240" cy="28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7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157640" y="2538360"/>
            <a:ext cx="2854440" cy="2806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28" name="Šipka doprava 8"/>
          <p:cNvSpPr/>
          <p:nvPr/>
        </p:nvSpPr>
        <p:spPr>
          <a:xfrm>
            <a:off x="3949560" y="315432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Šipka doprava 10"/>
          <p:cNvSpPr/>
          <p:nvPr/>
        </p:nvSpPr>
        <p:spPr>
          <a:xfrm>
            <a:off x="1300320" y="4729320"/>
            <a:ext cx="380880" cy="16812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Šipka doprava 12"/>
          <p:cNvSpPr/>
          <p:nvPr/>
        </p:nvSpPr>
        <p:spPr>
          <a:xfrm>
            <a:off x="3949560" y="374508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ipka doprava 14"/>
          <p:cNvSpPr/>
          <p:nvPr/>
        </p:nvSpPr>
        <p:spPr>
          <a:xfrm>
            <a:off x="3949560" y="286236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Šipka doprava 15"/>
          <p:cNvSpPr/>
          <p:nvPr/>
        </p:nvSpPr>
        <p:spPr>
          <a:xfrm>
            <a:off x="3967200" y="3473280"/>
            <a:ext cx="380880" cy="166680"/>
          </a:xfrm>
          <a:prstGeom prst="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5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49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0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7 - Náklady vyplývající přímo z rozhodnu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8 - Přímé způsobilé výdaje cel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 -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rubá mzda v čase, oboru a místě obvykl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oručená výše mezd/platů Metodický</a:t>
            </a:r>
            <a:r>
              <a:rPr b="0" lang="cs-CZ" sz="2400" spc="-1" strike="noStrike">
                <a:solidFill>
                  <a:srgbClr val="898989"/>
                </a:solidFill>
                <a:latin typeface="Helvetica CE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is č. 4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vyse-mezd-platu-v-projektech-op-v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jektový manažer 0,8 * 40 000 = 32 000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39" name="Obrázek 3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853920" y="1973160"/>
            <a:ext cx="7105680" cy="2890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0" name="Šipka doprava 4"/>
          <p:cNvSpPr/>
          <p:nvPr/>
        </p:nvSpPr>
        <p:spPr>
          <a:xfrm>
            <a:off x="353880" y="3606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1652760" y="5048280"/>
            <a:ext cx="6457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Arial"/>
              </a:rPr>
              <a:t>Projektový manažer 0,8 * 40 000 = 32 000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Šipka doprava 7"/>
          <p:cNvSpPr/>
          <p:nvPr/>
        </p:nvSpPr>
        <p:spPr>
          <a:xfrm rot="5400000">
            <a:off x="5590800" y="3249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44" name="Obrázek 9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1343160" y="1952640"/>
            <a:ext cx="6457680" cy="22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45" name="Obrázek 6" descr="komentar.JPG"/>
          <p:cNvPicPr/>
          <p:nvPr/>
        </p:nvPicPr>
        <p:blipFill>
          <a:blip r:embed="rId2"/>
          <a:stretch/>
        </p:blipFill>
        <p:spPr>
          <a:xfrm>
            <a:off x="1504800" y="4194000"/>
            <a:ext cx="6134400" cy="118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6" name="TextovéPole 8"/>
          <p:cNvSpPr/>
          <p:nvPr/>
        </p:nvSpPr>
        <p:spPr>
          <a:xfrm>
            <a:off x="1695600" y="449892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dinová sazba lektora je lehce nadprůměrná, jelikož se jedná o výjimečného odborníka. Jeho zapojení do projektu je klíčové. Viz blíže příloha č.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ipka doprava 7"/>
          <p:cNvSpPr/>
          <p:nvPr/>
        </p:nvSpPr>
        <p:spPr>
          <a:xfrm>
            <a:off x="830160" y="4284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N nejsou nebo nemohou být jednoznačně spojené s konkrétní klíčovou aktivitou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25480" y="2814480"/>
          <a:ext cx="5792760" cy="2683080"/>
        </p:xfrm>
        <a:graphic>
          <a:graphicData uri="http://schemas.openxmlformats.org/drawingml/2006/table">
            <a:tbl>
              <a:tblPr/>
              <a:tblGrid>
                <a:gridCol w="2802240"/>
                <a:gridCol w="2990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av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á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ová 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ista na povinnou public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ý zaměstna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technik zajišťující běžnou správu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itel bezpečnosti a ochrany zdra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raha, uklízeč, údržb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8:39:56Z</dcterms:modified>
  <cp:revision>181</cp:revision>
  <dc:subject/>
  <dc:title>Titulní strana – Titulek</dc:title>
</cp:coreProperties>
</file>