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6BA6-A48B-4E06-939E-E876651EB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B33F-71A1-4EBA-86FA-1C4C094A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3169C-D43D-4B5A-9496-7B397289C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04B70-FC30-43C7-A317-DDE23C25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AD6DF-AD46-4D4C-BDE5-1BA1871F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E9D0E-5022-4060-989F-192BA8C3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59842-E56C-402E-8EC2-718415666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7DD369-99F2-45BD-B98B-A7E554A8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35DF8-64EE-4807-9F19-C4B21D97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CFFA22-FFD1-4199-BF14-4EBBA8C9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6C831D-EA6B-4C12-9E8F-F13E4EB67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FD6A1-08AE-4EC4-BAAC-348B384C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C52C-9DD2-4734-B9B9-88426EABC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C30AD3-2F6F-43F7-86C6-E124B465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06008-ECA1-4B15-8D8D-671CE072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2CCAE1-25F5-410D-A841-3F3F3108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053EB-B89C-4C4E-8909-BE5E1FE6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63166-1C3E-4B97-A784-7A76F519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8B5CE-8DAD-4A4C-9C70-4A93C3DF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03145A-CE30-492C-A229-ACE7D0DB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2A7BC-65EB-47F9-B2D8-7E476E81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157F5F-67DD-4410-B7DF-0512CBFE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713DB-1AF3-4B29-895E-9A7C6314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075A-FC00-48DB-9AFA-74511025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94C9B-D604-4AC3-9412-2D4B8E70C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4A444B-6F49-4563-A33E-CAB60BE3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8C5F9-6F52-46C0-BDA8-BE9DD70B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735EE-228D-45F2-8A7C-41D17312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9E42B-E3A1-42D3-9CC2-D6FF0BCD3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BCE5A0-2DFC-4B95-89A4-96E192A4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D02B4-B74F-410A-8FE8-C6E5FA11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924A8-14EA-40BE-8FB1-20620446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AA4C6-F919-462B-BF45-1728727A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9E601-3540-4C06-BF8A-409BA552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ABC6-F50E-439E-AFBF-048A87C2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BAC9D-0BFE-4E8C-9418-C5298CBD3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747A8-B4B2-48B8-8467-061B4B95C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E1F47-9FCD-4A3A-A488-17E764FC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A83913-8EBC-4051-A61D-D43A5EC95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87F49-8982-4F7B-B403-89D9ABF2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2FB8F-9D5E-47CA-ADE4-2250FEFC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FE161-1996-4B51-AFD5-269A3349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8010B-8975-42F6-A767-6C2F4F0D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073E57-77AF-4CDA-890F-641EED7F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6C582-5668-42F9-9165-07246802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1E238-B0AE-4366-BFD8-74537AE4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A95B2D-CB05-44BB-8F0C-8F343A5C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94B499-436B-4807-9C91-D12E7FDF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8C189-B438-40A3-ABF2-D0AF9B20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90714-6B87-40F4-AA0D-DAB0CB4E6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2B202-EDE5-4D5C-8D4F-3BB3B9DA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F76E-8C66-4A25-95A3-5DA7F31B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496BD-18C4-416C-853F-F897A835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A50F-DF08-4980-A4A9-1EBC3044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8971-6227-4BA5-8028-2B8B3460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6DFC-5226-495D-9F12-01125209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4245-EFD4-44F7-B918-C41A5891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0AA0-3DD0-4615-BDD5-6BB9BE08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EB5D-26A4-412D-A330-CAACF6C9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0360-0E70-44AB-89B4-73FA02D9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B854-CD39-4BE8-928B-BF8DBE58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925E-E957-4E76-8F0B-97A9F847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7194D-4C19-4E86-B94E-EEC29FFEC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D5D29-D4BA-46E4-9530-7E1AB9AD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CF372-4DE3-41DD-8544-4E6FB237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AF650-1D93-4F72-BC0A-5B07EE5B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30F30-2189-4F58-8717-BA850D58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5614-6A79-4CE7-8FFB-4F0D74BD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F53E2-30D1-4AE0-A838-914210763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828AF-DFC4-48C1-978E-B9ED5C15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D393B-FBC9-411F-B18C-791216A8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85D5C-AE19-46F9-A951-7AD05799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FB98A-BBB7-4A14-95F3-E148A5F2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C4320-5F5B-481C-BA38-71A94881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1BBAD-E063-44AD-9A6D-BA3E8D1D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0B4CD-5DBE-4101-84AF-0A38DE271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4D154-8185-427D-A89F-193F1546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DE228-6B89-4AB8-B954-FE812103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3E47-161D-47E6-A510-EFDEF479B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AEAD1-B1D6-487B-9D55-7FF4A6C6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DAF18-98D4-489C-B16A-15F11CD13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96D99-32FF-4AFF-BAD8-9AFA22E4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6D0D4-C810-4BB6-8EDA-D5461F07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231B1-D3E5-4728-A2E9-CD88CFE1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9E7DF-FE85-4E6C-B86C-47B89B04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B9898-27A8-4966-82CE-583C712B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73348-19B4-4ED5-816F-92D8BABE7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66B71-B4BC-4B50-A15E-62557147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E9E60-1DFE-43A0-800E-90534D05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94B5-5A15-4DC2-AB08-38BCF263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0C3B9-4D2F-42C8-A7DA-D007C4B5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CC64A-7A09-443F-89FD-5EDC89B85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33B26-6C56-4568-B38D-172B604D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E0298-9338-4AF5-B08A-3E743E51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F6735-619F-4D31-98AB-C515249E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E1C17-A110-4D87-9F98-FFB77B52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8A684-4E1B-483A-9D60-3AE92384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A92DE-30EE-4CEB-87FF-4959AA539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9E633-DDBA-4DB5-9BAA-D93E6493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322F9-B500-470B-A681-C32CC2F2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4A47-0969-40B4-ADD1-EFA90F5E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A5F6F-11B4-4E86-AE53-7D3B2E44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1D865-329D-48BE-A209-66D31FBD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C1573-0E15-48F0-A3E1-3C75D67D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907BA-6033-4D74-9B6B-9C50C86C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25B04-D3BE-42F1-BB59-5979E9DF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4F493-2197-44AD-B385-2F3A3085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78E3B-307F-401E-ACE8-FE1B1E78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67E0F-A272-4AA1-A391-D16C303A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48BFE-0F1E-443E-A9C7-078BB166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F98F92-CF1C-4EB1-A316-CBC8EE25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91CE-F9AA-4C13-933F-C2EC7C19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BA792-B169-4CD2-B5F3-77FD2553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2FBDC-68C1-46A4-BE5B-1BD1115F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D09B3-D9C0-4DC7-BF63-210BB88B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17A3A-6698-41EF-BA4A-E67BC9B1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02C9E-22FD-4A9E-BD8B-AA4877AD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F0C69-8214-4EB0-A174-955057A2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F89C8-16A7-426C-8E58-6B43C9CB2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A0C5D-18A0-4825-A7F1-6EAF640D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F55BA-41D6-4E59-8769-A7494887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6FE31-7EC9-4EA1-BF35-6BC5B842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192B-DA08-470E-B981-DEE58C10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1E598-975E-4DE5-B9A8-B26CE892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40309-A306-4313-A178-8E7DA2B7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63317-6F6E-4313-B27F-092F2FA8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1312D-A8AE-46D7-BD34-843219E8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76B80-2ED3-44E6-AB89-7DCD350EB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27BCE-67E1-4979-BA63-DA890680D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F7AC1-6C64-473A-99AB-7B813DD6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B48A9-3359-4867-8732-83F3CC19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F606B-191B-4A19-99E0-86906C42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AB179-E026-4F70-BF8B-1F2DA5D8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13C3-3B9D-4C57-84D3-B23FDA5E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3923A-161B-4485-A30E-633A044A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70F2D-38FF-4849-A54A-0603BB23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CB279-866A-404A-A42C-28471F75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25806-2928-47DA-9BC8-040E54CA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BE7DC-D424-499F-80BD-820DB2163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8F94F-AD45-42CC-9316-7CCF432A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4DB03-C61B-4224-B0C5-50BB17264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C9E6C-6399-44B2-9E45-16A0B7D34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2CB2D-1474-4C45-A294-B649C9B7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5CD4B3-8F85-43E2-ADAD-3EE25D8B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C90FA9-D954-42CB-B18D-4614CB2381B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87618D-6F51-49F7-830A-B8244165C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BF769357-F38A-4062-AAD1-BDF1DA0885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CD301E-7C49-48F6-A053-B74A07A3B7A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F9BCB-BEF2-4B1A-BDA1-2CDAB17485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3DE5FC-B0F2-4E2D-9146-3F039577AA4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7BEECC-3C16-4DAD-B14B-65D4ED366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7BBAC-F382-487C-97EC-6656B7CD53D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300A05-0E46-4A61-A992-8DC0E3652F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1BF5D6-C2EF-42DD-A4EA-5193DDC3376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3C1846-A627-4149-B2C6-3293E9BD06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3C1F38-E764-4325-B92F-F95B5AE7EC4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3E8A1B-B07F-4E20-A78E-EE07BD6F2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413CF3-07EB-4B1D-97E5-D3F87E6E7E4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ADB5F8-3A01-47DE-8629-1AB2AADC58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1BF8ED-1E00-4E73-997A-627E86B590A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D3FD4-2F57-4418-9A50-8C94CB45F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04094C-A44A-4AF3-94C8-76016C35650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6698A0-C169-4F70-A9E7-6CFEA9B28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091AED-FD9C-4721-9B70-F4E78355E09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F89426-014C-4BFA-891E-F2DD5FE894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591D73-06EA-4E58-9D48-7E0534B121B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4DDDB1-44DA-4CF9-99A8-FCE9A0887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CEDDA7-1C0C-4FA9-A0C4-855038B6650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78927-1D0C-446A-95FB-2D827A897F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jana.baresova@msmt.cz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vyse-mezd-platu-v-projektech-op-vk" TargetMode="External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DE1433-1BDD-49CA-86B3-35AF37E38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itle 1"/>
          <p:cNvSpPr/>
          <p:nvPr/>
        </p:nvSpPr>
        <p:spPr>
          <a:xfrm>
            <a:off x="1238400" y="2176560"/>
            <a:ext cx="62830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Helvetica CE"/>
              </a:rPr>
              <a:t>Finanční řízen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Content Placeholder 2"/>
          <p:cNvSpPr/>
          <p:nvPr/>
        </p:nvSpPr>
        <p:spPr>
          <a:xfrm>
            <a:off x="2292480" y="2176560"/>
            <a:ext cx="4402080" cy="21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Ing. Jana Bareš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lužební cesty realizačního týmu – cestovné, ubytování, stravné, nutné vedlejší výdaj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ecifikace kdo, kam a pro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Zahraniční expert v ČR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Per diems 230 €/den + doprava do ČR a zpě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průběhu realizace již nelze výdaje na zahraniční cesty navyšova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římá vazba na realizaci klíčových aktivi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4" name="Picture 4" descr=""/>
          <p:cNvPicPr/>
          <p:nvPr/>
        </p:nvPicPr>
        <p:blipFill>
          <a:blip r:embed="rId1"/>
          <a:stretch/>
        </p:blipFill>
        <p:spPr>
          <a:xfrm>
            <a:off x="1185840" y="1952640"/>
            <a:ext cx="714996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6" name="Obrázek 6" descr="sluzebni cesty.JPG"/>
          <p:cNvPicPr/>
          <p:nvPr/>
        </p:nvPicPr>
        <p:blipFill>
          <a:blip r:embed="rId1"/>
          <a:srcRect l="0" t="0" r="24761" b="0"/>
          <a:stretch/>
        </p:blipFill>
        <p:spPr>
          <a:xfrm>
            <a:off x="1096920" y="2109960"/>
            <a:ext cx="6900840" cy="28890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57" name="Šipka doprava 12"/>
          <p:cNvSpPr/>
          <p:nvPr/>
        </p:nvSpPr>
        <p:spPr>
          <a:xfrm>
            <a:off x="1811160" y="2712960"/>
            <a:ext cx="500400" cy="214560"/>
          </a:xfrm>
          <a:prstGeom prst="right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Šipka doprava 12"/>
          <p:cNvSpPr/>
          <p:nvPr/>
        </p:nvSpPr>
        <p:spPr>
          <a:xfrm>
            <a:off x="1811160" y="3600360"/>
            <a:ext cx="500400" cy="214560"/>
          </a:xfrm>
          <a:prstGeom prst="rightArrow">
            <a:avLst>
              <a:gd name="adj1" fmla="val 50000"/>
              <a:gd name="adj2" fmla="val 49981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Šipka doprava 12"/>
          <p:cNvSpPr/>
          <p:nvPr/>
        </p:nvSpPr>
        <p:spPr>
          <a:xfrm>
            <a:off x="1811160" y="4183200"/>
            <a:ext cx="500400" cy="214200"/>
          </a:xfrm>
          <a:prstGeom prst="rightArrow">
            <a:avLst>
              <a:gd name="adj1" fmla="val 50000"/>
              <a:gd name="adj2" fmla="val 50065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4572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562" name=""/>
          <p:cNvGraphicFramePr/>
          <p:nvPr/>
        </p:nvGraphicFramePr>
        <p:xfrm>
          <a:off x="1530360" y="2335320"/>
          <a:ext cx="5792760" cy="297324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ovné do zahraničí členů realizačního tým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ovné realizačního týmu po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ytování a stravné v zahranič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ytování a stravné realizačního týmu v Č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sta a per diems zahraničního exper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hmotný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majetek do 6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louhodobý nehmotný majetek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i="1" lang="cs-CZ" sz="1800" spc="-1" strike="noStrike">
                <a:solidFill>
                  <a:srgbClr val="ff0000"/>
                </a:solidFill>
                <a:latin typeface="Helvetica CE"/>
              </a:rPr>
              <a:t>investi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robný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hmotný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majetek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užitý drobný hmotný majet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jem zařízení, operativní leasing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ňové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 na opravy a údržb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</a:t>
            </a:r>
            <a:r>
              <a:rPr b="0" i="1" lang="cs-CZ" sz="1800" spc="-1" strike="noStrike">
                <a:solidFill>
                  <a:srgbClr val="ff0000"/>
                </a:solidFill>
                <a:latin typeface="Helvetica CE"/>
              </a:rPr>
              <a:t>částí investi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5" name="TextovéPole 3"/>
          <p:cNvSpPr/>
          <p:nvPr/>
        </p:nvSpPr>
        <p:spPr>
          <a:xfrm>
            <a:off x="5748480" y="158760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limit kapitoly: 2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329840" y="1068480"/>
            <a:ext cx="67582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– Zařízení – křížové financová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329840" y="1952640"/>
            <a:ext cx="645804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9 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ohou uplatnit pouze příjemci, kteří majetek daňově neodepisuj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b050"/>
                </a:solidFill>
                <a:latin typeface="Helvetica CE"/>
              </a:rPr>
              <a:t>investiční čás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 hmotný majetek nad 40 tis. Kč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- zařízení a vybavení hmotné povahy s 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bou použitelnosti nad 1 rok a pořizovací cenou nad 40 tis. Kč za položk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, pokud není možné tento majetek pořídit v nezbytné kvalitě za cenu nižš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– Zaříze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343160" y="1952280"/>
            <a:ext cx="64576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b05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b050"/>
                </a:solidFill>
                <a:latin typeface="Helvetica CE"/>
              </a:rPr>
              <a:t>neinvestiční čás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bytek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ioritně by měl být pořízen pro potřebu cílové skupiny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ákup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 potřeby realizačního tým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e nutné zvlášť zdůvodnit (vztahuje se na něj limi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5 000 Kč/1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počtený pracovní úvazek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27C01-D0A9-429B-A507-0BBA297EE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ovéPole 4"/>
          <p:cNvSpPr/>
          <p:nvPr/>
        </p:nvSpPr>
        <p:spPr>
          <a:xfrm>
            <a:off x="4572000" y="4430880"/>
            <a:ext cx="2692440" cy="703800"/>
          </a:xfrm>
          <a:prstGeom prst="rect">
            <a:avLst/>
          </a:prstGeom>
          <a:noFill/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f7f7f"/>
                </a:solidFill>
                <a:latin typeface="Arial"/>
              </a:rPr>
              <a:t>(3 + 0,4 + 0,5 + 0,2) * 15 000 = 61 500 K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– Zaříze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7A84E-565B-43E6-878C-8EB5F9ED7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1530360" y="2335320"/>
          <a:ext cx="5792760" cy="276048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oteboo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kancelářské potřeby pro administraci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Odborná litera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ákup CD jak pro administraci, tak pro cílovou skupin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softwa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zásoby drobného občerstv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4 - Nákup služeb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ublikace/školící materiály/manuál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dborné služby/studie a výzku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ýdaje na konference/kurz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dpora účastníků (stravné/ubytování)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limit pro stravné 300 Kč/os/de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limit pro ubytování 1 500 Kč/os/noc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jiné výdaj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7" name="TextovéPole 4"/>
          <p:cNvSpPr/>
          <p:nvPr/>
        </p:nvSpPr>
        <p:spPr>
          <a:xfrm>
            <a:off x="5748480" y="158760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limit kapitoly: 4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4 - Nákup služeb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6D02D9-B3AF-444E-A9A0-13F87A429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1717560" y="2752560"/>
          <a:ext cx="5792760" cy="215136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Pronájem prostor pro semin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áklady na daňové a právní poradenst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Tisk skript pro 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náklady na realizaci výběrových řízení nezbytných pro proje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sah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Rozpočet projekt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CE6D5E-7C89-4420-8CC8-F415098C9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Stavební úprav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1004760" y="1952280"/>
            <a:ext cx="7275600" cy="36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robné stavební úpravy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- nesmí přesáhnout částku za všechny dokončené stavební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úpravy v 1 zdaňovacím období v úhrnu 40 tis. Kč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(pořizovací cena) na každou jednotlivou účetní položku majetk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Úpravy jsou prováděny za účelem </a:t>
            </a: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usnadnění přístupu a pohybu osobám zdravotně postiženým, nebo úpravy výukových, tréninkových nebo pracovních prostor, používaných na realizaci aktivit s cílovou skupin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, které jsou rekonstrukcí nebo modernizací,  pokud 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výšily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u  jednotlivého  majetku v úhrnu ve zdaňovacím období částku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40 tis. Kč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, spadají do </a:t>
            </a:r>
            <a:r>
              <a:rPr b="1" lang="cs-CZ" sz="1800" spc="-1" strike="noStrike">
                <a:solidFill>
                  <a:srgbClr val="ff0000"/>
                </a:solidFill>
                <a:latin typeface="Helvetica CE"/>
              </a:rPr>
              <a:t>křížového financ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6 - Přímá podpor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133640" y="2171880"/>
            <a:ext cx="716112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zdové příspěvk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jsou poskytovány jako náhrada mezd zaměstnavateli za  pracovníky po  dobu  jejich účasti na dalším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vzdělávání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až do výše 100% mzdových nákladů, nejvýše však do výše trojnásobku aktuální minimální mzdy)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estovné, ubytování a stravné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placené přímo zástupcům cílové skupin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provodné aktivit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asistentské služby žákům se speciálními potřebami, vstupenky,…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TextovéPole 3"/>
          <p:cNvSpPr/>
          <p:nvPr/>
        </p:nvSpPr>
        <p:spPr>
          <a:xfrm>
            <a:off x="5748480" y="1587600"/>
            <a:ext cx="30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b050"/>
                </a:solidFill>
                <a:latin typeface="Calibri"/>
              </a:rPr>
              <a:t>limit kapitoly: 20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7 - Náklady vyplývající přímo z     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ozhodnut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audit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1"/>
          <a:srcRect l="648" t="5400" r="1297" b="5400"/>
          <a:stretch/>
        </p:blipFill>
        <p:spPr>
          <a:xfrm>
            <a:off x="1522440" y="2685960"/>
            <a:ext cx="6715080" cy="7336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aphicFrame>
        <p:nvGraphicFramePr>
          <p:cNvPr id="589" name=""/>
          <p:cNvGraphicFramePr/>
          <p:nvPr/>
        </p:nvGraphicFramePr>
        <p:xfrm>
          <a:off x="1808280" y="3736800"/>
          <a:ext cx="5792760" cy="1463760"/>
        </p:xfrm>
        <a:graphic>
          <a:graphicData uri="http://schemas.openxmlformats.org/drawingml/2006/table">
            <a:tbl>
              <a:tblPr/>
              <a:tblGrid>
                <a:gridCol w="2801880"/>
                <a:gridCol w="29908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  <a:ea typeface="Helvetica CE"/>
                        </a:rPr>
                        <a:t>au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bankovní poplat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ublicita projektu včetně úvodní a závěrečné konfer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329840" y="2171880"/>
            <a:ext cx="645804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ení potřeba prokazovat účetními doklad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klady spojené s administrací projekt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emohou být přiřazeny ke konkrétní aktivitě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íklady: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tisk a kopírování, nájem kanceláře a nákup kancelářského materiálu pro administraci projekt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kup vody, paliv a energie, telefonní poplatky, poštovné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správa počítačových sítí a internetových stránek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118880"/>
            <a:ext cx="645804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TextovéPole 8"/>
          <p:cNvSpPr/>
          <p:nvPr/>
        </p:nvSpPr>
        <p:spPr>
          <a:xfrm>
            <a:off x="1330200" y="3133800"/>
            <a:ext cx="600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aplikaci Benefit 7 se po zadání % nepřímých nákladů dopočítá částka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7" descr=""/>
          <p:cNvPicPr/>
          <p:nvPr/>
        </p:nvPicPr>
        <p:blipFill>
          <a:blip r:embed="rId1"/>
          <a:stretch/>
        </p:blipFill>
        <p:spPr>
          <a:xfrm>
            <a:off x="1111320" y="1952640"/>
            <a:ext cx="6676920" cy="1181160"/>
          </a:xfrm>
          <a:prstGeom prst="rect">
            <a:avLst/>
          </a:prstGeom>
          <a:ln w="0">
            <a:noFill/>
          </a:ln>
        </p:spPr>
      </p:pic>
      <p:sp>
        <p:nvSpPr>
          <p:cNvPr id="595" name="Rectangle 3"/>
          <p:cNvSpPr/>
          <p:nvPr/>
        </p:nvSpPr>
        <p:spPr>
          <a:xfrm>
            <a:off x="1330200" y="1644480"/>
            <a:ext cx="64580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še stanovena ve výzvě procen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Obrázek 12" descr="nn_benefit.JPG"/>
          <p:cNvPicPr/>
          <p:nvPr/>
        </p:nvPicPr>
        <p:blipFill>
          <a:blip r:embed="rId2"/>
          <a:stretch/>
        </p:blipFill>
        <p:spPr>
          <a:xfrm>
            <a:off x="1220760" y="3780000"/>
            <a:ext cx="4745160" cy="164304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97" name="TextovéPole 15"/>
          <p:cNvSpPr/>
          <p:nvPr/>
        </p:nvSpPr>
        <p:spPr>
          <a:xfrm>
            <a:off x="5122800" y="4797360"/>
            <a:ext cx="4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Šipka doprava 12"/>
          <p:cNvSpPr/>
          <p:nvPr/>
        </p:nvSpPr>
        <p:spPr>
          <a:xfrm rot="10800000">
            <a:off x="6838560" y="260784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Šipka doprava 12"/>
          <p:cNvSpPr/>
          <p:nvPr/>
        </p:nvSpPr>
        <p:spPr>
          <a:xfrm rot="10800000">
            <a:off x="6076440" y="479700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ovéPole 18"/>
          <p:cNvSpPr/>
          <p:nvPr/>
        </p:nvSpPr>
        <p:spPr>
          <a:xfrm>
            <a:off x="3959280" y="4154400"/>
            <a:ext cx="211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1 440 000     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329840" y="2058840"/>
            <a:ext cx="6458040" cy="33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činnosti, které již v rámci jiných programů či Iniciativ Společenství financovaných z ESF či jiných programů financovaných Evropskou unií podporu dostávají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výdaje na každodenní řízení, monitorování a kontroly žadatele, které by se prováděly i bez realizace projektu - sloužící k zajištění běžného chodu organizace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nákupy vozidel, infrastruktury, nemovitostí a pozemků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DPH nebo její část, pokud existuje zákonný nárok na její odpočet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Helvetica CE"/>
              </a:rPr>
              <a:t>přímé daně, daň z nemovitosti, daň dědická, darovací, silniční, cla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úroky z úvěrů a půjček, pokud se nejedná o schválenou formu podpory z fondu ESF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300" spc="-1" strike="noStrike">
                <a:solidFill>
                  <a:srgbClr val="f79646"/>
                </a:solidFill>
                <a:latin typeface="Helvetica CE"/>
              </a:rPr>
              <a:t>stipendia nebo platby cílové skupině podobného charakteru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Helvetica CE"/>
              </a:rPr>
              <a:t>odstupné, peněžitá pomoc v mateřství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Helvetica CE"/>
              </a:rPr>
              <a:t>výdaje vzniklé mimo časový rámec způsobilosti </a:t>
            </a: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326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věre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ěnujte rozpočtu dostatek čas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nažte se být konkrét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yužívejte komentář k rozpočtu či samostatnou příloh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Buďte střídmí v odhadu výdaj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případě nejasností se na nás neváhejte obráti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347480"/>
            <a:ext cx="74343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000" spc="-1" strike="noStrike">
                <a:solidFill>
                  <a:srgbClr val="f39800"/>
                </a:solidFill>
                <a:latin typeface="Helvetica CE"/>
              </a:rPr>
              <a:t>Děkuji za pozornost</a:t>
            </a:r>
            <a:endParaRPr b="1" lang="en-US" sz="4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1371600" y="2419200"/>
            <a:ext cx="640080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indent="0" algn="ctr">
              <a:lnSpc>
                <a:spcPct val="100000"/>
              </a:lnSpc>
              <a:spcBef>
                <a:spcPts val="451"/>
              </a:spcBef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Ing. Jana Barešová</a:t>
            </a:r>
            <a:br>
              <a:rPr sz="1800"/>
            </a:br>
            <a:r>
              <a:rPr b="0" lang="cs-CZ" sz="1800" spc="-1" strike="noStrike" u="sng">
                <a:solidFill>
                  <a:srgbClr val="0000ff"/>
                </a:solidFill>
                <a:uFillTx/>
                <a:latin typeface="Helvetica CE"/>
                <a:ea typeface="ＭＳ Ｐゴシック"/>
                <a:hlinkClick r:id="rId1"/>
              </a:rPr>
              <a:t>jana.baresova@msmt.cz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Helvetica CE"/>
                <a:ea typeface="ＭＳ Ｐゴシック"/>
              </a:rPr>
              <a:t>Tel.: 234 814 293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kladní pravidl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řiměře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ospodár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účel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efektiv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okazateln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časová způsobilos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37B853-05FF-4300-8B5C-4BB4DA07B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ozpočet v projektové žádosti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26" name="Obrázek 5" descr="benefit.JPG"/>
          <p:cNvPicPr/>
          <p:nvPr/>
        </p:nvPicPr>
        <p:blipFill>
          <a:blip r:embed="rId1"/>
          <a:srcRect l="0" t="0" r="21781" b="49555"/>
          <a:stretch/>
        </p:blipFill>
        <p:spPr>
          <a:xfrm>
            <a:off x="1490760" y="2135160"/>
            <a:ext cx="2892240" cy="28447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27" name="Obrázek 6" descr="benefit.JPG"/>
          <p:cNvPicPr/>
          <p:nvPr/>
        </p:nvPicPr>
        <p:blipFill>
          <a:blip r:embed="rId2"/>
          <a:srcRect l="0" t="50395" r="23062" b="0"/>
          <a:stretch/>
        </p:blipFill>
        <p:spPr>
          <a:xfrm>
            <a:off x="4157640" y="2538360"/>
            <a:ext cx="2854440" cy="2806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28" name="Šipka doprava 8"/>
          <p:cNvSpPr/>
          <p:nvPr/>
        </p:nvSpPr>
        <p:spPr>
          <a:xfrm>
            <a:off x="3949560" y="3154320"/>
            <a:ext cx="381240" cy="16668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Šipka doprava 10"/>
          <p:cNvSpPr/>
          <p:nvPr/>
        </p:nvSpPr>
        <p:spPr>
          <a:xfrm>
            <a:off x="1300320" y="4729320"/>
            <a:ext cx="380880" cy="168120"/>
          </a:xfrm>
          <a:prstGeom prst="rightArrow">
            <a:avLst>
              <a:gd name="adj1" fmla="val 50000"/>
              <a:gd name="adj2" fmla="val 50030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Šipka doprava 12"/>
          <p:cNvSpPr/>
          <p:nvPr/>
        </p:nvSpPr>
        <p:spPr>
          <a:xfrm>
            <a:off x="3949560" y="3745080"/>
            <a:ext cx="381240" cy="16668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Šipka doprava 14"/>
          <p:cNvSpPr/>
          <p:nvPr/>
        </p:nvSpPr>
        <p:spPr>
          <a:xfrm>
            <a:off x="3949560" y="2862360"/>
            <a:ext cx="381240" cy="166680"/>
          </a:xfrm>
          <a:prstGeom prst="right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Šipka doprava 15"/>
          <p:cNvSpPr/>
          <p:nvPr/>
        </p:nvSpPr>
        <p:spPr>
          <a:xfrm>
            <a:off x="3967200" y="3473280"/>
            <a:ext cx="380880" cy="166680"/>
          </a:xfrm>
          <a:prstGeom prst="rightArrow">
            <a:avLst>
              <a:gd name="adj1" fmla="val 50000"/>
              <a:gd name="adj2" fmla="val 49986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apitoly rozpoč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25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4 - Nákup služeb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49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5 - Stavební úprav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6 - Přímá podpora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b050"/>
                </a:solidFill>
                <a:latin typeface="Helvetica CE"/>
              </a:rPr>
              <a:t>limit 20%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7 - Náklady vyplývající přímo z rozhodnut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8 - Přímé způsobilé výdaje celke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9 -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přímé výdaj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osoby, které mají v rámci projektu uzavřen pracovně právní vztah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rubá mzda v čase, oboru a místě obvyklá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doporučená výše mezd/platů Metodický</a:t>
            </a:r>
            <a:r>
              <a:rPr b="0" lang="cs-CZ" sz="2400" spc="-1" strike="noStrike">
                <a:solidFill>
                  <a:srgbClr val="898989"/>
                </a:solidFill>
                <a:latin typeface="Helvetica CE"/>
              </a:rPr>
              <a:t> 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dopis č. 4 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 u="sng">
                <a:solidFill>
                  <a:srgbClr val="0000ff"/>
                </a:solidFill>
                <a:uFillTx/>
                <a:latin typeface="Helvetica CE"/>
                <a:hlinkClick r:id="rId1"/>
              </a:rPr>
              <a:t>http://www.msmt.cz/strukturalni-fondy/vyse-mezd-platu-v-projektech-op-v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jektový manažer 0,8 * 40 000 = 32 000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39" name="Obrázek 3" descr="osobni naklady.JPG"/>
          <p:cNvPicPr/>
          <p:nvPr/>
        </p:nvPicPr>
        <p:blipFill>
          <a:blip r:embed="rId1"/>
          <a:srcRect l="1094" t="1465" r="9845" b="1465"/>
          <a:stretch/>
        </p:blipFill>
        <p:spPr>
          <a:xfrm>
            <a:off x="853920" y="1973160"/>
            <a:ext cx="7105680" cy="2890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0" name="Šipka doprava 4"/>
          <p:cNvSpPr/>
          <p:nvPr/>
        </p:nvSpPr>
        <p:spPr>
          <a:xfrm>
            <a:off x="353880" y="360684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4"/>
          <p:cNvSpPr/>
          <p:nvPr/>
        </p:nvSpPr>
        <p:spPr>
          <a:xfrm>
            <a:off x="1652760" y="5048280"/>
            <a:ext cx="64576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595959"/>
                </a:solidFill>
                <a:latin typeface="Arial"/>
              </a:rPr>
              <a:t>Projektový manažer 0,8 * 40 000 = 32 000K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Šipka doprava 7"/>
          <p:cNvSpPr/>
          <p:nvPr/>
        </p:nvSpPr>
        <p:spPr>
          <a:xfrm rot="5400000">
            <a:off x="5590800" y="32497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44" name="Obrázek 9" descr="osobni naklady.JPG"/>
          <p:cNvPicPr/>
          <p:nvPr/>
        </p:nvPicPr>
        <p:blipFill>
          <a:blip r:embed="rId1"/>
          <a:srcRect l="1094" t="1465" r="9845" b="1465"/>
          <a:stretch/>
        </p:blipFill>
        <p:spPr>
          <a:xfrm>
            <a:off x="1343160" y="1952640"/>
            <a:ext cx="6457680" cy="22413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45" name="Obrázek 6" descr="komentar.JPG"/>
          <p:cNvPicPr/>
          <p:nvPr/>
        </p:nvPicPr>
        <p:blipFill>
          <a:blip r:embed="rId2"/>
          <a:stretch/>
        </p:blipFill>
        <p:spPr>
          <a:xfrm>
            <a:off x="1504800" y="4194000"/>
            <a:ext cx="6134400" cy="1182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46" name="TextovéPole 8"/>
          <p:cNvSpPr/>
          <p:nvPr/>
        </p:nvSpPr>
        <p:spPr>
          <a:xfrm>
            <a:off x="1695600" y="4498920"/>
            <a:ext cx="5943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odinová sazba lektora je lehce nadprůměrná, jelikož se jedná o výjimečného odborníka. Jeho zapojení do projektu je klíčové. Viz blíže příloha č. 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Šipka doprava 7"/>
          <p:cNvSpPr/>
          <p:nvPr/>
        </p:nvSpPr>
        <p:spPr>
          <a:xfrm>
            <a:off x="830160" y="42847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gradFill rotWithShape="0">
            <a:gsLst>
              <a:gs pos="0">
                <a:srgbClr val="a0ca4a"/>
              </a:gs>
              <a:gs pos="100000">
                <a:srgbClr val="dcffa0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329840" y="1952640"/>
            <a:ext cx="64580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N nejsou nebo nemohou být jednoznačně spojené s konkrétní klíčovou aktivitou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725480" y="2814480"/>
          <a:ext cx="5792760" cy="2683080"/>
        </p:xfrm>
        <a:graphic>
          <a:graphicData uri="http://schemas.openxmlformats.org/drawingml/2006/table">
            <a:tbl>
              <a:tblPr/>
              <a:tblGrid>
                <a:gridCol w="2802240"/>
                <a:gridCol w="29905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PŘÍMÉ – např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600" spc="-1" strike="noStrike">
                          <a:solidFill>
                            <a:srgbClr val="f3912c"/>
                          </a:solidFill>
                          <a:latin typeface="Calibri"/>
                        </a:rPr>
                        <a:t>NEPŘÍM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lavní manaž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če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ministrá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dová úče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ční manaž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sonalis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ist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alista na povinnou publici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borný zaměstnan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 technik zajišťující běžnou správu I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k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kolitel bezpečnosti a ochrany zdrav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traha, uklízeč, údržbá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7T08:39:56Z</dcterms:modified>
  <cp:revision>181</cp:revision>
  <dc:subject/>
  <dc:title>Titulní strana – Titulek</dc:title>
</cp:coreProperties>
</file>