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B136-F9B9-4407-8656-DEF3A7D29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47F0-F2EF-48D2-8B5F-9C56FBB5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81E78-4ED6-49DC-874B-6BF363D8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83411-A155-4E91-96D8-4C75615D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49DC3-86B3-44A0-A11F-0E2A81B8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1AA6E-0561-478E-852C-FBA4FCB7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98BCE-5316-4020-B8F5-35D721B1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274FD-BE2D-46C8-82FA-90360F56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B4B43-0B28-4ADE-BC0B-1F1B9C83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63D21-D490-4A39-BD94-948430FD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6B924-C3CD-4E56-A1FE-8EDB65DE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5C6963-61C9-4775-9503-0300AFFCA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E3A2-5203-4344-8BCA-D5161D236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92D1D-951D-4E17-BE23-3F7CA717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FF123-5525-4037-A3FF-81FFDC46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E4D88-3372-4028-840D-1226408F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78AF9-8002-43CD-A9C7-207AA838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95F43-1CE0-4F00-A5C5-D0F176DF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3A883-BD26-44CB-A971-B7D0326C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D870F-E7B5-46DD-B819-9E983413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7E80F-3E8A-4E92-9953-D7EC3374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CC196-5693-4CB8-B702-511DD50B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AD85C-FD14-4452-BBB1-BC98D890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A437-3FD9-44B1-8FD0-D143CABDF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D1164E-AE04-4D60-9323-971EDF5C2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CE0C1-3D87-46A2-9EBC-3752F281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CEB45-EE42-439C-ABCD-19D3568F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D9F6B-8181-42F9-83B8-EB65C25C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75DF8-5370-463A-9AD5-10C9663B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6389D-75C7-4A75-8DCA-9F929B04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8DFBA-6966-4D77-A442-A3F5A49A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8B349-9A3A-40EC-8A8A-7E51BC2F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9E492-A5F7-4153-A81C-A1C7B003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86D25-7957-4F25-9B72-3D6B2CA6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BB9D-A73C-4FE3-A8A4-1F7107E2F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0BA44-E17C-45CD-83C9-D716744A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370D9-D86B-417A-BC99-F94FE514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D3577-736B-434A-8F3A-BA182720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B9FDD-A649-4316-A595-9B5AB1AF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614373-1C50-4F4F-9AC9-1F16F8E3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E10B0-6576-4132-8696-F10227CF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71AFF2-2327-4FEC-A252-9C7518D1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5811C-7C07-4913-93BD-14D2C14E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4546B1-62DB-41FD-9C5E-CD437014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11214-C74D-41FF-B6E7-F849BC02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D454-EB02-4C22-90F5-76D874AD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458AF6-59B8-4DEA-88D5-88E55D83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F9D1E-EA17-471F-9DB6-8B0D3261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350429-9223-4DBD-ACDC-66576747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B08E0-39E6-4750-99EE-4B7FACDE8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CCBFF4-65F0-4DAE-A5F7-1AA6BAC3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AD3F-4ABE-4CBC-8ED4-908293CA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F997-E64E-4A91-A086-6C6C81DC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BE20-B5CF-4770-92A2-7FC50361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2B95-C653-43B3-8EED-F27B6A6A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99DF-3F2F-44CC-B566-554013E8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C58A-F22B-43A6-B6B6-3E4505AB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205D-6EED-48B6-8E8B-6172B598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B402-5874-4ECE-AE95-815F9E57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3BE5-48BA-42C9-A300-07D33BDC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74E0-2E73-4455-8C32-884646DD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D34F-71E9-4897-81D9-F53CD691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683E1-82AD-4F39-835B-AD6F780F2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9D84E-C717-4FCF-A5F3-F9D08ED2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8B3BD-E00D-4FD0-919C-A000D680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68D31-B0E3-4449-9AB1-0F05C0C2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9D3E4-2046-4C3D-B282-0749B5BA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226B-C300-4C9E-A6CD-1ED6AA5C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3EA7C-FE8E-4A77-8B71-3A96185B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B4238-EFAF-4EB5-B316-4E7DC73D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4C59A-E0F2-4A5B-B9D2-A09DED87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B1EE9-1CF2-4B87-B5F3-73E2A668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A6618-AEE1-410C-8C5B-F9A712BD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B82DB-195B-427D-8AE2-8F332E782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50D0A-9C4D-4515-B590-7BC4BB45C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B4906-C76E-4C9D-91C9-44E56A86F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30C2D-3099-4E4A-A25F-F5C8B808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29B7E-2CD3-4076-ACD7-305C1A5F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1D45-D3DA-4E40-B250-6A770E0A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249B7-9109-4C6D-941F-BE62D390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3D159-CBD2-4736-9938-AD3D6CCB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855A5-BB4E-4829-90F3-BA51525D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A5C68-7E23-409B-9074-00A6EAC3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A614A-B422-4AAC-A046-6E1BDDC5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4E740-B227-4CAD-A872-66583BAD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76DE6-F3BF-4C00-921D-037456A5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F5D53-2EFB-4C79-8B7A-9FCB53AA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9B8A3-48A9-4C75-A2CA-8488C5761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BA5E2-DE6B-4F6F-9A17-90308205A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860F-F446-40FA-AE1C-8626ACA4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8A1AC-7570-43B6-814F-E3504D6F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8129E-7EBE-449F-9EC0-E9A11081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7E5B6-7B8E-41A2-B9F5-59B99459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75499-1214-4DF7-B7F5-D2189BEB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77F1C-F095-4198-B2CD-2B8AA9CD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E3D76-9000-400E-B120-0383A1D2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B8201-448F-4016-89A7-0FB9AD8F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64CBF-237D-476E-83C8-F8AEAD26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81D0F-A526-4A95-B60F-DE1E32A3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CB2E5-F51C-458C-81D9-715F5470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37B0-EE14-4F0C-BF52-5172A067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531FE-C903-4EEA-A231-7AB2BE047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C82D4-5FE1-4DB5-B021-66ABDA279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66004-DCD4-4E77-B912-6A6FAD0F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7425C-3194-43DE-BE0D-7B9B4F1C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57ABD-80B7-4D0B-9B66-76F16C39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C115B-A8EA-47CE-BC98-DD88256A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8833A-943E-42E7-A165-A4B21B8A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ACBC0-91BE-43F4-939F-99D19F30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D3626-9732-4B65-9D02-6C53E810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3E70C-E510-4CB7-A6EA-CF1C944C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F556-10B3-481A-A0E7-1CB244E7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6264A-F0CE-4DB6-BCCA-7DED620E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1DA50-EB49-4925-9A61-AE58A177D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4AD76-3D9C-4EDC-99C1-0F367D32C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66263-6098-4698-B853-A30906B3B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46DD8-B757-4DD3-A65E-355AFA8B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584A0-B0F9-416D-BA51-94CE288C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C8305-096F-4124-8528-C9B03100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2D61C-2270-4B5C-9CC9-15E7D42B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0CBB7-15CA-421F-AE51-5979B39B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47653-DA61-49E8-8731-B7B77B03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9B96-C9B4-45EA-8691-98C8BB11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57ABD-2A30-4804-9974-CEA24BD1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3A975-B887-4D38-B722-558EC82A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F4646-9098-47FF-B98E-5DB3E1A8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4D244-75E6-4311-A7F1-4A6CF0EC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DA82D-70B1-46DF-A117-05AEAF10A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A08C9-4F3A-4DAA-B2E1-2CFF502F0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AEF73-2105-4E49-A091-1BAF7CA6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DAD92-5017-4EBB-BC76-77D59395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FB3F7-0382-4FB1-ADE8-9C496884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16B55-02E5-4DE2-8CA8-79EE9083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309F-C8DA-4B5A-B601-AD23EAEE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D653A-D3AD-4606-804D-EBE8CEB8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D8886-4ED0-41EA-96A2-0D067AE9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A2E2F-EDB5-4B68-8698-36DBFFCD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6D727-9FF3-4E83-B9F5-75F3F6D3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24BD7-510C-48A0-88DD-36651B39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C4011-99C1-4D3D-8E80-34A993A2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50840-5AEC-404C-B352-E37C0404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77CE6-437B-4648-90E4-24F2659A4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1B7E0-7B42-4717-9AA5-53E25490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6C0D3-6E44-422E-9B5B-4C53D9D6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ADD21F-7903-45E3-95E4-7B5710F6ACF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5A46CF-3753-426D-9E00-01CF7A6856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E2616F80-9A55-4D66-AB28-D1832A86DB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2BF6E5-A39B-4863-B376-E2838E98DDB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008063-7738-450D-8770-039D460205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FF19E5-8A82-48CF-8BBF-0E374A84C20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04B030-2BD1-42B4-A0FA-BC07D71F0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B742D2-8404-4FAE-9AB7-5B730D72F2C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775D48-EA02-4DC0-A59E-0D9C40FA0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227B79-2AF7-4CCE-BB27-0499B3BA859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FC15EB-C9DD-4D86-874D-FD7D1812FA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E563D3-EA46-47AA-A102-9522A4364DE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E33560-DB0A-4727-987B-E070A744B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1D1565-505E-4276-A3D4-BF09B9F9A8B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B52968-B34B-41C6-A88F-F786753BE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746830-A0E5-42B3-9E11-4ECDB9ACCC6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6C6301-49BB-4C36-A0A9-CC0EE38E46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ECA14B-CCE1-4369-8060-50C15E3D411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5B3F14-0045-47F9-9EF3-6F1E38933D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9F5A21-7317-4CD7-8C1F-B31E72310A5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DAC5D0-DBB2-4EED-AFBF-80F6B39C6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A6EE66-1ACD-4BBB-B440-5A6C4D94A2D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218677-39EC-492A-B9E5-C2A584A2EF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C73D88-3C2D-48DC-B3ED-EFF8215440B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DA6AAA-FD87-48A7-B807-0C9AB3646F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jana.baresova@msmt.cz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vyse-mezd-platu-v-projektech-op-vk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7F47EA-0D11-4FEE-A776-434DDA85DB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itle 1"/>
          <p:cNvSpPr/>
          <p:nvPr/>
        </p:nvSpPr>
        <p:spPr>
          <a:xfrm>
            <a:off x="1238400" y="2176560"/>
            <a:ext cx="62830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Helvetica CE"/>
              </a:rPr>
              <a:t>Finanční řízen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Content Placeholder 2"/>
          <p:cNvSpPr/>
          <p:nvPr/>
        </p:nvSpPr>
        <p:spPr>
          <a:xfrm>
            <a:off x="2292480" y="2176560"/>
            <a:ext cx="4402080" cy="21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Ing. Jana Bareš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lužební cesty realizačního týmu – cestovné, ubytování, stravné, nutné vedlejší výdaj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ecifikace kdo, kam a pro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Zahraniční expert v ČR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Per diems 230 €/den + doprava do ČR a zpě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průběhu realizace již nelze výdaje na zahraniční cesty navyšova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římá vazba na realizaci klíčových aktivi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54" name="Picture 4" descr=""/>
          <p:cNvPicPr/>
          <p:nvPr/>
        </p:nvPicPr>
        <p:blipFill>
          <a:blip r:embed="rId1"/>
          <a:stretch/>
        </p:blipFill>
        <p:spPr>
          <a:xfrm>
            <a:off x="1185840" y="1952640"/>
            <a:ext cx="714996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56" name="Obrázek 6" descr="sluzebni cesty.JPG"/>
          <p:cNvPicPr/>
          <p:nvPr/>
        </p:nvPicPr>
        <p:blipFill>
          <a:blip r:embed="rId1"/>
          <a:srcRect l="0" t="0" r="24761" b="0"/>
          <a:stretch/>
        </p:blipFill>
        <p:spPr>
          <a:xfrm>
            <a:off x="1096920" y="2109960"/>
            <a:ext cx="6900840" cy="2889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57" name="Šipka doprava 12"/>
          <p:cNvSpPr/>
          <p:nvPr/>
        </p:nvSpPr>
        <p:spPr>
          <a:xfrm>
            <a:off x="1811160" y="2712960"/>
            <a:ext cx="500400" cy="214560"/>
          </a:xfrm>
          <a:prstGeom prst="rightArrow">
            <a:avLst>
              <a:gd name="adj1" fmla="val 50000"/>
              <a:gd name="adj2" fmla="val 49981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Šipka doprava 12"/>
          <p:cNvSpPr/>
          <p:nvPr/>
        </p:nvSpPr>
        <p:spPr>
          <a:xfrm>
            <a:off x="1811160" y="3600360"/>
            <a:ext cx="500400" cy="214560"/>
          </a:xfrm>
          <a:prstGeom prst="rightArrow">
            <a:avLst>
              <a:gd name="adj1" fmla="val 50000"/>
              <a:gd name="adj2" fmla="val 49981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Šipka doprava 12"/>
          <p:cNvSpPr/>
          <p:nvPr/>
        </p:nvSpPr>
        <p:spPr>
          <a:xfrm>
            <a:off x="1811160" y="4183200"/>
            <a:ext cx="500400" cy="214200"/>
          </a:xfrm>
          <a:prstGeom prst="rightArrow">
            <a:avLst>
              <a:gd name="adj1" fmla="val 50000"/>
              <a:gd name="adj2" fmla="val 50065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457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1530360" y="2335320"/>
          <a:ext cx="5792760" cy="2973240"/>
        </p:xfrm>
        <a:graphic>
          <a:graphicData uri="http://schemas.openxmlformats.org/drawingml/2006/table">
            <a:tbl>
              <a:tblPr/>
              <a:tblGrid>
                <a:gridCol w="2801880"/>
                <a:gridCol w="299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tovné do zahraničí členů realizačního tý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tovné realizačního týmu po Č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bytování a stravné v zahranič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bytování a stravné realizačního týmu v Č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ta a per diems zahraničního exper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hmotný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majetek do 6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louhodobý nehmotný majetek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i="1" lang="cs-CZ" sz="1800" spc="-1" strike="noStrike">
                <a:solidFill>
                  <a:srgbClr val="ff0000"/>
                </a:solidFill>
                <a:latin typeface="Helvetica CE"/>
              </a:rPr>
              <a:t>investi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robný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hmotný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majetek do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užitý drobný hmotný majete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ájem zařízení, operativní leasing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aňové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 na opravy a údržb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</a:t>
            </a:r>
            <a:r>
              <a:rPr b="0" i="1" lang="cs-CZ" sz="1800" spc="-1" strike="noStrike">
                <a:solidFill>
                  <a:srgbClr val="ff0000"/>
                </a:solidFill>
                <a:latin typeface="Helvetica CE"/>
              </a:rPr>
              <a:t>částí investi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5" name="TextovéPole 3"/>
          <p:cNvSpPr/>
          <p:nvPr/>
        </p:nvSpPr>
        <p:spPr>
          <a:xfrm>
            <a:off x="5748480" y="1587600"/>
            <a:ext cx="30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b050"/>
                </a:solidFill>
                <a:latin typeface="Calibri"/>
              </a:rPr>
              <a:t>limit kapitoly: 2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29840" y="1068480"/>
            <a:ext cx="67582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– Zařízení – křížové financová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329840" y="1952640"/>
            <a:ext cx="645804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b050"/>
                </a:solidFill>
                <a:latin typeface="Helvetica CE"/>
              </a:rPr>
              <a:t>limit 9 %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ohou uplatnit pouze příjemci, kteří majetek daňově neodepisuj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b050"/>
                </a:solidFill>
                <a:latin typeface="Helvetica CE"/>
              </a:rPr>
              <a:t>investiční čás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 hmotný majetek nad 40 tis. Kč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zařízení a vybavení hmotné povahy s 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bou použitelnosti nad 1 rok a pořizovací cenou nad 40 tis. Kč za položku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, pokud není možné tento majetek pořídit v nezbytné kvalitě za cenu nižš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– Zaříze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343160" y="1952280"/>
            <a:ext cx="645768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b050"/>
                </a:solidFill>
                <a:latin typeface="Helvetica CE"/>
              </a:rPr>
              <a:t>neinvestiční čás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ábytek do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ioritně by měl být pořízen pro potřebu cílové skupiny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ákup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ro potřeby realizačního týmu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e nutné zvlášť zdůvodnit (vztahuje se na něj limi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15 000 Kč/1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počtený pracovní úvazek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0C482B-046B-4234-8EDC-A2EB77DAAB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ovéPole 4"/>
          <p:cNvSpPr/>
          <p:nvPr/>
        </p:nvSpPr>
        <p:spPr>
          <a:xfrm>
            <a:off x="4572000" y="4430880"/>
            <a:ext cx="2692440" cy="703800"/>
          </a:xfrm>
          <a:prstGeom prst="rect">
            <a:avLst/>
          </a:prstGeom>
          <a:noFill/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7f7f7f"/>
                </a:solidFill>
                <a:latin typeface="Arial"/>
              </a:rPr>
              <a:t>(3 + 0,4 + 0,5 + 0,2) * 15 000 = 61 5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– Zaříze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665641-ECC8-4907-935B-3C40C4F19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1530360" y="2335320"/>
          <a:ext cx="5792760" cy="2760480"/>
        </p:xfrm>
        <a:graphic>
          <a:graphicData uri="http://schemas.openxmlformats.org/drawingml/2006/table">
            <a:tbl>
              <a:tblPr/>
              <a:tblGrid>
                <a:gridCol w="2801880"/>
                <a:gridCol w="299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Notebo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kancelářské potřeby pro administraci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Odborná litera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Nákup CD jak pro administraci, tak pro cílovou skupi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softw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zásoby drobného občerstv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4 - Nákup služeb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ublikace/školící materiály/manuál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dborné služby/studie a výzkum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ýdaje na konference/kurz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dpora účastníků (stravné/ubytování)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limit pro stravné 300 Kč/os/den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limit pro ubytování 1 500 Kč/os/noc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jiné výdaj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7" name="TextovéPole 4"/>
          <p:cNvSpPr/>
          <p:nvPr/>
        </p:nvSpPr>
        <p:spPr>
          <a:xfrm>
            <a:off x="5748480" y="1587600"/>
            <a:ext cx="30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b050"/>
                </a:solidFill>
                <a:latin typeface="Calibri"/>
              </a:rPr>
              <a:t>limit kapitoly: 4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4 - Nákup služeb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F437DD-9837-4F50-8A6D-023D4CDEEE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1717560" y="2752560"/>
          <a:ext cx="5792760" cy="2151360"/>
        </p:xfrm>
        <a:graphic>
          <a:graphicData uri="http://schemas.openxmlformats.org/drawingml/2006/table">
            <a:tbl>
              <a:tblPr/>
              <a:tblGrid>
                <a:gridCol w="2801880"/>
                <a:gridCol w="299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Pronájem prostor pro seminá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náklady na daňové a právní poradenstv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Tisk skript pro 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náklady na realizaci výběrových řízení nezbytných pro projek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sah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Rozpočet projekt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ezpůsobilé výdaje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51A697-7CAE-44A3-B904-FA1D782FB4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Stavební úprav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004760" y="1952280"/>
            <a:ext cx="7275600" cy="36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robné stavební úpravy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- nesmí přesáhnout částku za všechny dokončené stavební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úpravy v 1 zdaňovacím období v úhrnu 40 tis. Kč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(pořizovací cena) na každou jednotlivou účetní položku majetk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Úpravy jsou prováděny za účelem </a:t>
            </a:r>
            <a:r>
              <a:rPr b="1" i="1" lang="cs-CZ" sz="1800" spc="-1" strike="noStrike">
                <a:solidFill>
                  <a:srgbClr val="000000"/>
                </a:solidFill>
                <a:latin typeface="Helvetica CE"/>
              </a:rPr>
              <a:t>usnadnění přístupu a pohybu osobám zdravotně postiženým, nebo úpravy výukových, tréninkových nebo pracovních prostor, používaných na realizaci aktivit s cílovou skupino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, které jsou rekonstrukcí nebo modernizací,  pokud 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výšily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u  jednotlivého  majetku v úhrnu ve zdaňovacím období částku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40 tis. Kč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, spadají do </a:t>
            </a:r>
            <a:r>
              <a:rPr b="1" lang="cs-CZ" sz="1800" spc="-1" strike="noStrike">
                <a:solidFill>
                  <a:srgbClr val="ff0000"/>
                </a:solidFill>
                <a:latin typeface="Helvetica CE"/>
              </a:rPr>
              <a:t>křížového financ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6 - Přímá podpor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133640" y="2171880"/>
            <a:ext cx="716112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zdové příspěvk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jsou poskytovány jako náhrada mezd zaměstnavateli za  pracovníky po  dobu  jejich účasti na dalším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vzdělávání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až do výše 100% mzdových nákladů, nejvýše však do výše trojnásobku aktuální minimální mzdy)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estovné, ubytování a stravné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placené přímo zástupcům cílové skupin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provodné aktivit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asistentské služby žákům se speciálními potřebami, vstupenky,…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5" name="TextovéPole 3"/>
          <p:cNvSpPr/>
          <p:nvPr/>
        </p:nvSpPr>
        <p:spPr>
          <a:xfrm>
            <a:off x="5748480" y="1587600"/>
            <a:ext cx="30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b050"/>
                </a:solidFill>
                <a:latin typeface="Calibri"/>
              </a:rPr>
              <a:t>limit kapitoly: 2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7 - Náklady vyplývající přímo z     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ozhodnut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audit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88" name="Picture 2" descr=""/>
          <p:cNvPicPr/>
          <p:nvPr/>
        </p:nvPicPr>
        <p:blipFill>
          <a:blip r:embed="rId1"/>
          <a:srcRect l="648" t="5400" r="1297" b="5400"/>
          <a:stretch/>
        </p:blipFill>
        <p:spPr>
          <a:xfrm>
            <a:off x="1522440" y="2685960"/>
            <a:ext cx="6715080" cy="733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aphicFrame>
        <p:nvGraphicFramePr>
          <p:cNvPr id="589" name=""/>
          <p:cNvGraphicFramePr/>
          <p:nvPr/>
        </p:nvGraphicFramePr>
        <p:xfrm>
          <a:off x="1808280" y="3736800"/>
          <a:ext cx="5792760" cy="1463760"/>
        </p:xfrm>
        <a:graphic>
          <a:graphicData uri="http://schemas.openxmlformats.org/drawingml/2006/table">
            <a:tbl>
              <a:tblPr/>
              <a:tblGrid>
                <a:gridCol w="2801880"/>
                <a:gridCol w="299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aud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bankovní poplat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ublicita projektu včetně úvodní a závěrečné konfer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329840" y="2171880"/>
            <a:ext cx="645804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ení potřeba prokazovat účetními doklad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klady spojené s administrací projekt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emohou být přiřazeny ke konkrétní aktivitě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íklady: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tisk a kopírování, nájem kanceláře a nákup kancelářského materiálu pro administraci projekt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kup vody, paliv a energie, telefonní poplatky, poštovné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správa počítačových sítí a internetových stránek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118880"/>
            <a:ext cx="645804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TextovéPole 8"/>
          <p:cNvSpPr/>
          <p:nvPr/>
        </p:nvSpPr>
        <p:spPr>
          <a:xfrm>
            <a:off x="1330200" y="3133800"/>
            <a:ext cx="600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aplikaci Benefit 7 se po zadání % nepřímých nákladů dopočítá částka automat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7" descr=""/>
          <p:cNvPicPr/>
          <p:nvPr/>
        </p:nvPicPr>
        <p:blipFill>
          <a:blip r:embed="rId1"/>
          <a:stretch/>
        </p:blipFill>
        <p:spPr>
          <a:xfrm>
            <a:off x="1111320" y="1952640"/>
            <a:ext cx="6676920" cy="118116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3"/>
          <p:cNvSpPr/>
          <p:nvPr/>
        </p:nvSpPr>
        <p:spPr>
          <a:xfrm>
            <a:off x="1330200" y="1644480"/>
            <a:ext cx="6458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še stanovena ve výzvě procen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Obrázek 12" descr="nn_benefit.JPG"/>
          <p:cNvPicPr/>
          <p:nvPr/>
        </p:nvPicPr>
        <p:blipFill>
          <a:blip r:embed="rId2"/>
          <a:stretch/>
        </p:blipFill>
        <p:spPr>
          <a:xfrm>
            <a:off x="1220760" y="3780000"/>
            <a:ext cx="4745160" cy="1643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97" name="TextovéPole 15"/>
          <p:cNvSpPr/>
          <p:nvPr/>
        </p:nvSpPr>
        <p:spPr>
          <a:xfrm>
            <a:off x="5122800" y="4797360"/>
            <a:ext cx="4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Šipka doprava 12"/>
          <p:cNvSpPr/>
          <p:nvPr/>
        </p:nvSpPr>
        <p:spPr>
          <a:xfrm rot="10800000">
            <a:off x="6838560" y="260784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Šipka doprava 12"/>
          <p:cNvSpPr/>
          <p:nvPr/>
        </p:nvSpPr>
        <p:spPr>
          <a:xfrm rot="10800000">
            <a:off x="6076440" y="479700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ovéPole 18"/>
          <p:cNvSpPr/>
          <p:nvPr/>
        </p:nvSpPr>
        <p:spPr>
          <a:xfrm>
            <a:off x="3959280" y="4154400"/>
            <a:ext cx="211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 440 000     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způsobilé výda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329840" y="2058840"/>
            <a:ext cx="6458040" cy="33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činnosti, které již v rámci jiných programů či Iniciativ Společenství financovaných z ESF či jiných programů financovaných Evropskou unií podporu dostávají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výdaje na každodenní řízení, monitorování a kontroly žadatele, které by se prováděly i bez realizace projektu - sloužící k zajištění běžného chodu organizace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nákupy vozidel, infrastruktury, nemovitostí a pozemků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DPH nebo její část, pokud existuje zákonný nárok na její odpočet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300" spc="-1" strike="noStrike">
                <a:solidFill>
                  <a:srgbClr val="000000"/>
                </a:solidFill>
                <a:latin typeface="Helvetica CE"/>
              </a:rPr>
              <a:t>přímé daně, daň z nemovitosti, daň dědická, darovací, silniční, cla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úroky z úvěrů a půjček, pokud se nejedná o schválenou formu podpory z fondu ESF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300" spc="-1" strike="noStrike">
                <a:solidFill>
                  <a:srgbClr val="f79646"/>
                </a:solidFill>
                <a:latin typeface="Helvetica CE"/>
              </a:rPr>
              <a:t>stipendia nebo platby cílové skupině podobného charakteru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odstupné, peněžitá pomoc v mateřství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300" spc="-1" strike="noStrike">
                <a:solidFill>
                  <a:srgbClr val="000000"/>
                </a:solidFill>
                <a:latin typeface="Helvetica CE"/>
              </a:rPr>
              <a:t>výdaje vzniklé mimo časový rámec způsobilosti 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3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věre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ěnujte rozpočtu dostatek čas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nažte se být konkrét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yužívejte komentář k rozpočtu či samostatnou příloh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Buďte střídmí v odhadu výdaj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případě nejasností se na nás neváhejte obráti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1347480"/>
            <a:ext cx="743436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000" spc="-1" strike="noStrike">
                <a:solidFill>
                  <a:srgbClr val="f39800"/>
                </a:solidFill>
                <a:latin typeface="Helvetica CE"/>
              </a:rPr>
              <a:t>Děkuji za pozornost</a:t>
            </a:r>
            <a:endParaRPr b="1" lang="en-US" sz="4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371600" y="2419200"/>
            <a:ext cx="6400800" cy="28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indent="0" algn="ctr">
              <a:lnSpc>
                <a:spcPct val="10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indent="0" algn="ctr">
              <a:lnSpc>
                <a:spcPct val="10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indent="0" algn="ctr">
              <a:lnSpc>
                <a:spcPct val="10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indent="0" algn="ctr">
              <a:lnSpc>
                <a:spcPct val="10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Ing. Jana Barešová</a:t>
            </a:r>
            <a:br>
              <a:rPr sz="1800"/>
            </a:br>
            <a:r>
              <a:rPr b="0" lang="cs-CZ" sz="1800" spc="-1" strike="noStrike" u="sng">
                <a:solidFill>
                  <a:srgbClr val="0000ff"/>
                </a:solidFill>
                <a:uFillTx/>
                <a:latin typeface="Helvetica CE"/>
                <a:ea typeface="ＭＳ Ｐゴシック"/>
                <a:hlinkClick r:id="rId1"/>
              </a:rPr>
              <a:t>jana.baresova@msmt.cz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Tel.: 234 814 293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kladní pravidl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řiměře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hospodár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účel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efektiv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okazatel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časová způsobil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54EB01-4CC9-4885-9F12-23C2E31520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ozpočet v projektové žádosti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26" name="Obrázek 5" descr="benefit.JPG"/>
          <p:cNvPicPr/>
          <p:nvPr/>
        </p:nvPicPr>
        <p:blipFill>
          <a:blip r:embed="rId1"/>
          <a:srcRect l="0" t="0" r="21781" b="49555"/>
          <a:stretch/>
        </p:blipFill>
        <p:spPr>
          <a:xfrm>
            <a:off x="1490760" y="2135160"/>
            <a:ext cx="2892240" cy="2844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27" name="Obrázek 6" descr="benefit.JPG"/>
          <p:cNvPicPr/>
          <p:nvPr/>
        </p:nvPicPr>
        <p:blipFill>
          <a:blip r:embed="rId2"/>
          <a:srcRect l="0" t="50395" r="23062" b="0"/>
          <a:stretch/>
        </p:blipFill>
        <p:spPr>
          <a:xfrm>
            <a:off x="4157640" y="2538360"/>
            <a:ext cx="2854440" cy="2806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28" name="Šipka doprava 8"/>
          <p:cNvSpPr/>
          <p:nvPr/>
        </p:nvSpPr>
        <p:spPr>
          <a:xfrm>
            <a:off x="3949560" y="3154320"/>
            <a:ext cx="381240" cy="16668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Šipka doprava 10"/>
          <p:cNvSpPr/>
          <p:nvPr/>
        </p:nvSpPr>
        <p:spPr>
          <a:xfrm>
            <a:off x="1300320" y="4729320"/>
            <a:ext cx="380880" cy="168120"/>
          </a:xfrm>
          <a:prstGeom prst="rightArrow">
            <a:avLst>
              <a:gd name="adj1" fmla="val 50000"/>
              <a:gd name="adj2" fmla="val 50030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Šipka doprava 12"/>
          <p:cNvSpPr/>
          <p:nvPr/>
        </p:nvSpPr>
        <p:spPr>
          <a:xfrm>
            <a:off x="3949560" y="3745080"/>
            <a:ext cx="381240" cy="16668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Šipka doprava 14"/>
          <p:cNvSpPr/>
          <p:nvPr/>
        </p:nvSpPr>
        <p:spPr>
          <a:xfrm>
            <a:off x="3949560" y="2862360"/>
            <a:ext cx="381240" cy="16668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Šipka doprava 15"/>
          <p:cNvSpPr/>
          <p:nvPr/>
        </p:nvSpPr>
        <p:spPr>
          <a:xfrm>
            <a:off x="3967200" y="3473280"/>
            <a:ext cx="380880" cy="166680"/>
          </a:xfrm>
          <a:prstGeom prst="rightArrow">
            <a:avLst>
              <a:gd name="adj1" fmla="val 50000"/>
              <a:gd name="adj2" fmla="val 49986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apitoly rozpočt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3 - Zařízení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b050"/>
                </a:solidFill>
                <a:latin typeface="Helvetica CE"/>
              </a:rPr>
              <a:t>limit 25%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4 - Nákup služeb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b050"/>
                </a:solidFill>
                <a:latin typeface="Helvetica CE"/>
              </a:rPr>
              <a:t>limit 49%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5 - Stavební úprav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6 - Přímá podpora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b050"/>
                </a:solidFill>
                <a:latin typeface="Helvetica CE"/>
              </a:rPr>
              <a:t>limit 20%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7 - Náklady vyplývající přímo z rozhodnut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8 - Přímé způsobilé výdaje celkem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9 -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přímé výdaj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osoby, které mají v rámci projektu uzavřen pracovně právní vztah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hrubá mzda v čase, oboru a místě obvyklá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doporučená výše mezd/platů Metodický</a:t>
            </a:r>
            <a:r>
              <a:rPr b="0" lang="cs-CZ" sz="2400" spc="-1" strike="noStrike">
                <a:solidFill>
                  <a:srgbClr val="898989"/>
                </a:solidFill>
                <a:latin typeface="Helvetica CE"/>
              </a:rPr>
              <a:t> 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dopis č. 4 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 u="sng">
                <a:solidFill>
                  <a:srgbClr val="0000ff"/>
                </a:solidFill>
                <a:uFillTx/>
                <a:latin typeface="Helvetica CE"/>
                <a:hlinkClick r:id="rId1"/>
              </a:rPr>
              <a:t>http://www.msmt.cz/strukturalni-fondy/vyse-mezd-platu-v-projektech-op-vk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jektový manažer 0,8 * 40 000 = 32 000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39" name="Obrázek 3" descr="osobni naklady.JPG"/>
          <p:cNvPicPr/>
          <p:nvPr/>
        </p:nvPicPr>
        <p:blipFill>
          <a:blip r:embed="rId1"/>
          <a:srcRect l="1094" t="1465" r="9845" b="1465"/>
          <a:stretch/>
        </p:blipFill>
        <p:spPr>
          <a:xfrm>
            <a:off x="853920" y="1973160"/>
            <a:ext cx="7105680" cy="2890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40" name="Šipka doprava 4"/>
          <p:cNvSpPr/>
          <p:nvPr/>
        </p:nvSpPr>
        <p:spPr>
          <a:xfrm>
            <a:off x="353880" y="360684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4"/>
          <p:cNvSpPr/>
          <p:nvPr/>
        </p:nvSpPr>
        <p:spPr>
          <a:xfrm>
            <a:off x="1652760" y="5048280"/>
            <a:ext cx="6457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595959"/>
                </a:solidFill>
                <a:latin typeface="Arial"/>
              </a:rPr>
              <a:t>Projektový manažer 0,8 * 40 000 = 32 000K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Šipka doprava 7"/>
          <p:cNvSpPr/>
          <p:nvPr/>
        </p:nvSpPr>
        <p:spPr>
          <a:xfrm rot="5400000">
            <a:off x="5590800" y="32497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44" name="Obrázek 9" descr="osobni naklady.JPG"/>
          <p:cNvPicPr/>
          <p:nvPr/>
        </p:nvPicPr>
        <p:blipFill>
          <a:blip r:embed="rId1"/>
          <a:srcRect l="1094" t="1465" r="9845" b="1465"/>
          <a:stretch/>
        </p:blipFill>
        <p:spPr>
          <a:xfrm>
            <a:off x="1343160" y="1952640"/>
            <a:ext cx="6457680" cy="224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45" name="Obrázek 6" descr="komentar.JPG"/>
          <p:cNvPicPr/>
          <p:nvPr/>
        </p:nvPicPr>
        <p:blipFill>
          <a:blip r:embed="rId2"/>
          <a:stretch/>
        </p:blipFill>
        <p:spPr>
          <a:xfrm>
            <a:off x="1504800" y="4194000"/>
            <a:ext cx="6134400" cy="1182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46" name="TextovéPole 8"/>
          <p:cNvSpPr/>
          <p:nvPr/>
        </p:nvSpPr>
        <p:spPr>
          <a:xfrm>
            <a:off x="1695600" y="4498920"/>
            <a:ext cx="5943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odinová sazba lektora je lehce nadprůměrná, jelikož se jedná o výjimečného odborníka. Jeho zapojení do projektu je klíčové. Viz blíže příloha č. 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Šipka doprava 7"/>
          <p:cNvSpPr/>
          <p:nvPr/>
        </p:nvSpPr>
        <p:spPr>
          <a:xfrm>
            <a:off x="830160" y="42847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329840" y="1952640"/>
            <a:ext cx="6458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N nejsou nebo nemohou být jednoznačně spojené s konkrétní klíčovou aktivitou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725480" y="2814480"/>
          <a:ext cx="5792760" cy="2683080"/>
        </p:xfrm>
        <a:graphic>
          <a:graphicData uri="http://schemas.openxmlformats.org/drawingml/2006/table">
            <a:tbl>
              <a:tblPr/>
              <a:tblGrid>
                <a:gridCol w="2802240"/>
                <a:gridCol w="29905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lavní manaž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čet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ministrá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dová účet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ční manaž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i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ist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alista na povinnou publici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borný zaměstnan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technik zajišťující běžnou správu I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k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kolitel bezpečnosti a ochrany zdrav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traha, uklízeč, údržbá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17T08:39:56Z</dcterms:modified>
  <cp:revision>181</cp:revision>
  <dc:subject/>
  <dc:title>Titulní strana – Titulek</dc:title>
</cp:coreProperties>
</file>