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112C-5DDA-416C-8162-B84B59DC4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1BD3-0E02-4008-9FA4-6BA53A13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47DF80-AC8C-44EE-B852-E76CA800E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FCE88D-6665-4117-93BF-AEDB81FFF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8DC18C-6654-4EA4-967D-C59913371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28A68A-93D7-4981-BA15-5FD40EAD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60D3E6-2247-4C4E-88BE-EEA27704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167BED-D6A9-4276-ADFD-73B04524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AB2671-16C2-49F2-BDEA-AE90E89B0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5F861E-B347-42B8-9B28-19D22A829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FF0818-4CE5-4695-99A2-959A68E1A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BDC738-4FB6-4400-B4A8-496D62F9E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AF25-8F22-4D15-A464-25723E0FD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E38192-1375-4AE7-AE8A-F48094869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3A2037-44AD-44F0-808E-14623BCF5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4BA5A3-7B2D-4CBD-BCD5-5E26F908C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78964F-82E5-4C30-9DDE-F9F7C5A8E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9D530A-08D9-4210-9463-845D9B84B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20C383-F89E-4E21-8F08-57A256EC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855CFC-9975-4026-8261-B5B64893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4545FC-6A18-41C6-AC69-8D64A226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D6FFE8-37AF-41BF-B2AB-30669D420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4AF461-E5AB-4CD4-B435-6E39D536B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2D1F-2089-4EDB-867A-EC154E940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3774DD-CC57-4D68-8213-04F9E827B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BDD771-0799-40CD-9CCA-81B7C8A4D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634B9C-C1B1-410E-956E-2D9002276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F68D4B-6692-4E77-B5BE-7599CE9E7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534CFA-2E4D-4F6B-BDE6-83A609268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AA3EFA-0C97-473C-AC6E-BCDA76841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108885-1472-41B0-9C1E-0ADD59878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C39B42-8C28-4119-9A17-1C4056CF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457912-887C-41CC-AB5E-A067CAC2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CCFBC7-6687-48E4-9E74-E659C897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AF695-E517-49B0-89F0-03C81D4AD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7A62DC-F1DB-4734-B6D5-8DCB0D2C6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479553-8A27-4D00-BD87-54B7E2C01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FBEE15-8C6E-43F4-9E95-6EEA1297B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EF495D-A485-476C-A1C6-5111CA85D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0E7A3B-8603-4F7F-A718-1B1A7BCA1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8632CB-E32B-4B58-AE70-5963B9983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6054C6-A367-4966-B839-52EC8004F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890982-62D2-4BB4-A2C5-2DF3455A0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D82562-A108-466C-8225-06CA7700F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DFF6C2-A003-47DB-A230-C9C9C4CE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01E56-0EAB-42A2-8416-56036DEEC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27ADEC-83E2-4C91-8978-D143FF99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5FEB53-DFA4-4DF5-8E7D-600A338B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5DF7B2-2D9D-4F07-8C3E-96395FC5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D574A1-16E6-4033-AF48-C38F9E205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E97534-257C-4880-954B-FD02F0DA0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82451-2AE8-4E58-B00C-59C537B4C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BBD6E-991F-433F-8F7C-BCFEA1387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ADEE2-6D36-48F4-80A6-3A1C30D59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88022-9195-4D4D-A535-3EA0A7D19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47954-E1E3-4939-A02E-95DF12D0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37B8-39B6-4D59-B56A-FE5B34D1F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470A3-4172-421E-8A9A-2FAC8DB6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D4CF7-D3AE-41D8-84E0-1F7F04B9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E690D-70B4-4321-A0E3-1F2BD64C6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06808-856F-401A-B93C-B388BB453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B6C57-A6AF-4188-AE81-AB74AC358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D9EAB-77B3-4EE0-AD03-81A6159C8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60202-0C24-4ABB-8CB9-E5094B439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6864B-080F-4C92-9C21-494C4172F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D7A6A-3E07-494B-93F9-45712C575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F055B-F6A7-46C7-8651-C72A7F144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D1EE-3ED7-4281-A990-42B612077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22973-5DC7-43A9-AE25-44F3AA3E4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E4653-FE2F-4C0B-9910-2AF2688C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F2B1C-E857-4F51-A3A0-B1EB118E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CEAC0-DA81-49DC-90CC-0A88252B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A70C3-75CB-4803-8352-FBF10F9B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47291-BB40-4145-8242-5A52BAE98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7D8F6-D085-40AF-A769-2110C4BA5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B4718-DA1E-4D55-A7BF-6880B6BD0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5F02B-A258-45EF-873A-21CC1A834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563B7-A82A-441A-95B1-A620EC5F1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A2C2-57EE-49C0-BCBD-688468E5C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D0A89-9E6C-4A91-9574-98394CA0E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28E5C-F6A5-462B-B738-4429D64A4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7A8AA-8C52-4A98-A4A7-94C320832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00EDC-0F50-4D14-BC13-094250CF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FB688-935C-45BF-9B38-B9EC6103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EFDBB-6162-4C9F-A872-9254CF07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5CC08-A257-458C-AD4C-90999148F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EEAD1-9D2E-48CA-B9FE-7B2B89C62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2A1BE-435D-408A-AEE2-89CBA1C1E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A6D26-C23C-4272-A11A-76B7F7C95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A5FB-166A-4B69-9126-797AFDBCB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E0491-5ABE-4A11-B6FC-359F66EC9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8CF97-7FDD-4230-A0B4-6009BBFF9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767F7-52D9-4969-A26B-CD7E0EB72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4230A-19B1-48C2-BF4D-C12EF5963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663DA-6ADE-4128-BF62-E22B9755E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AD4B3-7746-4A35-A3FE-CA9EFD3E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70541-7026-4CDF-885A-3E915FA2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4498E-5C1D-47E5-ACE8-A6AE5E2C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E815B-8614-424D-A340-B33389ED1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08E24-CD8C-45F3-B905-AE94ECF0A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6116-86E9-4C61-8355-D3D3309F5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23AFA-0ABF-43AE-82FB-C1E21C94F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BA66C-54E5-4062-85A9-95BF323B7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3C481-3968-428D-B89A-1D4E2BA66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9FF52-E8C4-498C-BE80-A01E623EA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764DC-2F76-4EA9-AE58-550B036C0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25DC6-6B40-47D5-8D9F-31101510C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1F726-DC77-47F0-8636-F1BC7517E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C71819-E3C0-4027-BF16-509D5540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3D44F-63A3-485B-A52C-A6FF5661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46B0B-96A0-45ED-8E61-9A6DDA6B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9D52-6C99-4F2B-A5BA-B62CC390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F91FD-7F44-4785-9373-1AA321B28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B57AF-2785-4E06-8223-1655E8886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DC1C0-284D-45BD-BDD2-2F714F1DA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80EA7D-E56B-470B-B559-275A89325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EA236-CB56-4DD1-9FFA-351EA2C40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E7C2B-7352-43DE-B79A-C03D3FE1F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71321F-4C4E-4849-951A-E93ABC40E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BA986-6CC9-423D-9E81-CCF882378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947E3-1A82-433E-B8A5-5E0965916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F71007-9EB8-4529-8424-E63C075B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173B-69BE-4F94-836E-63F843F3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AFCC45-971E-4654-ABDC-A3339ED9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7C583-EF7E-48F6-9D78-A1D6C3C6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6F721D-DDE7-4D95-9126-2CFAA9459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969890-B298-4624-A102-073A1EDBD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9E922E-C839-4F75-B693-A5319B973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40A41A-DA3F-4C36-B8BB-167FA9F14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EA7752-9917-4DEA-AE3D-178AC9604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272F26-C248-4488-9C25-63DEB7F6F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B11254-AAB8-4569-903B-CD7A0458A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9391E6-6EC0-496D-874F-47D0CA6AF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0762-FD10-412E-BCA8-A72F9439C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9FC7C6-2E7C-411A-9F1D-7EED9018E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F96CF4-31A6-4B1E-9C5E-DABB3A92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813AB4-B84F-492A-B5C5-F3A9425F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B23697-6A5E-4C20-8ADB-C540BB96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DDF4F7-ED30-4403-A992-E668BDE49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DEE758-86E0-4353-87CB-891B3983F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91B4A5-CA76-4936-A85C-1265C26B4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6712AB-C2C8-4698-94DA-FB5E1D7F7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290912-E6DE-4848-AC4F-15BA065FF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517455-933A-4FF2-956C-50FD43A5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5F5CAE-43BC-4EE9-BFAA-DB9DC71C5C2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300F6C-E5E5-40A2-8946-CA3AC81FD2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fld id="{6965EA92-505E-4582-86AB-B6B21E3B3D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6C3F71-D971-4217-8C9A-4CA5C6615B1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B73462-2688-42C8-BE7E-4258CAF9B6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831E55-CE33-42BF-BF40-969F53B0037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64E9F0-BEC4-4EA4-AD3D-54C3924E70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514858-C75C-47EA-892F-7D1668CCE71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E28B88-5B26-42CF-8998-58CA1AE53C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B3D9F3-1E22-4566-B75B-DE4FAE73E72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2D7333-F15D-4A1C-B9F9-66FEBFE851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3C11C4-E905-4942-85AE-0CF0066D97E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146808-49E7-4700-923C-9E082DFE84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6737F5-FA90-4473-A73C-5DF35B9548D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81771C-DA85-4E1A-AF63-7DF456E36D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258755-1602-469F-8928-284553E8D66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EBBBC2-6BA0-4EF3-8C65-31CAC41C72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534992-A025-46D0-83E1-CA933C878E3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0E47A0-6824-493D-B192-FC45697151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0D78A0-D584-42CA-A21B-244726DAD07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B63C0B-65E1-4B7D-97D2-66407D044F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E8855E-57BC-4F8A-9287-1950A99DE1A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8673AE-BD23-4BF8-A7F5-B50BDEEA21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3CBB9D-6360-4E85-839B-DD5F084C2CD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DBEAC6-FBB9-4C29-A72D-244A02B409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mailto:jana.baresova@msmt.cz" TargetMode="Externa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smt.cz/strukturalni-fondy/vyse-mezd-platu-v-projektech-op-vk" TargetMode="External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486DCE-3FE4-49A3-AC5B-C33612F7F5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itle 1"/>
          <p:cNvSpPr/>
          <p:nvPr/>
        </p:nvSpPr>
        <p:spPr>
          <a:xfrm>
            <a:off x="1238400" y="2176560"/>
            <a:ext cx="62830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Helvetica CE"/>
              </a:rPr>
              <a:t>Finanční řízen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Content Placeholder 2"/>
          <p:cNvSpPr/>
          <p:nvPr/>
        </p:nvSpPr>
        <p:spPr>
          <a:xfrm>
            <a:off x="2292480" y="2176560"/>
            <a:ext cx="4402080" cy="21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Ing. Jana Bareš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329840" y="1952640"/>
            <a:ext cx="6458040" cy="33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lužební cesty realizačního týmu – cestovné, ubytování, stravné, nutné vedlejší výdaje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pecifikace kdo, kam a proč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Zahraniční expert v ČR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- Per diems 230 €/den + doprava do ČR a zpět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 průběhu realizace již nelze výdaje na zahraniční cesty navyšovat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římá vazba na realizaci klíčových aktivit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54" name="Picture 4" descr=""/>
          <p:cNvPicPr/>
          <p:nvPr/>
        </p:nvPicPr>
        <p:blipFill>
          <a:blip r:embed="rId1"/>
          <a:stretch/>
        </p:blipFill>
        <p:spPr>
          <a:xfrm>
            <a:off x="1185840" y="1952640"/>
            <a:ext cx="714996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56" name="Obrázek 6" descr="sluzebni cesty.JPG"/>
          <p:cNvPicPr/>
          <p:nvPr/>
        </p:nvPicPr>
        <p:blipFill>
          <a:blip r:embed="rId1"/>
          <a:srcRect l="0" t="0" r="24761" b="0"/>
          <a:stretch/>
        </p:blipFill>
        <p:spPr>
          <a:xfrm>
            <a:off x="1096920" y="2109960"/>
            <a:ext cx="6900840" cy="2889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57" name="Šipka doprava 12"/>
          <p:cNvSpPr/>
          <p:nvPr/>
        </p:nvSpPr>
        <p:spPr>
          <a:xfrm>
            <a:off x="1811160" y="2712960"/>
            <a:ext cx="500400" cy="214560"/>
          </a:xfrm>
          <a:prstGeom prst="rightArrow">
            <a:avLst>
              <a:gd name="adj1" fmla="val 50000"/>
              <a:gd name="adj2" fmla="val 49981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Šipka doprava 12"/>
          <p:cNvSpPr/>
          <p:nvPr/>
        </p:nvSpPr>
        <p:spPr>
          <a:xfrm>
            <a:off x="1811160" y="3600360"/>
            <a:ext cx="500400" cy="214560"/>
          </a:xfrm>
          <a:prstGeom prst="rightArrow">
            <a:avLst>
              <a:gd name="adj1" fmla="val 50000"/>
              <a:gd name="adj2" fmla="val 49981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Šipka doprava 12"/>
          <p:cNvSpPr/>
          <p:nvPr/>
        </p:nvSpPr>
        <p:spPr>
          <a:xfrm>
            <a:off x="1811160" y="4183200"/>
            <a:ext cx="500400" cy="214200"/>
          </a:xfrm>
          <a:prstGeom prst="rightArrow">
            <a:avLst>
              <a:gd name="adj1" fmla="val 50000"/>
              <a:gd name="adj2" fmla="val 50065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4572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1530360" y="2335320"/>
          <a:ext cx="5792760" cy="2973240"/>
        </p:xfrm>
        <a:graphic>
          <a:graphicData uri="http://schemas.openxmlformats.org/drawingml/2006/table">
            <a:tbl>
              <a:tblPr/>
              <a:tblGrid>
                <a:gridCol w="2801880"/>
                <a:gridCol w="29908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PŘÍMÉ – např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NEPŘÍM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stovné do zahraničí členů realizačního tým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stovné realizačního týmu po Č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bytování a stravné v zahranič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bytování a stravné realizačního týmu v Č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sta a per diems zahraničního exper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- Zaříze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hmotný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majetek do 60 tis. Kč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dlouhodobý nehmotný majetek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i="1" lang="cs-CZ" sz="1800" spc="-1" strike="noStrike">
                <a:solidFill>
                  <a:srgbClr val="ff0000"/>
                </a:solidFill>
                <a:latin typeface="Helvetica CE"/>
              </a:rPr>
              <a:t>investic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drobný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hmotný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majetek do 40 tis. Kč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užitý drobný hmotný majetek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ájem zařízení, operativní leasing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daňové odpis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ýdaje na opravy a údržb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křížové financování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</a:t>
            </a:r>
            <a:r>
              <a:rPr b="0" i="1" lang="cs-CZ" sz="1800" spc="-1" strike="noStrike">
                <a:solidFill>
                  <a:srgbClr val="ff0000"/>
                </a:solidFill>
                <a:latin typeface="Helvetica CE"/>
              </a:rPr>
              <a:t>částí investic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5" name="TextovéPole 3"/>
          <p:cNvSpPr/>
          <p:nvPr/>
        </p:nvSpPr>
        <p:spPr>
          <a:xfrm>
            <a:off x="5748480" y="1587600"/>
            <a:ext cx="30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b050"/>
                </a:solidFill>
                <a:latin typeface="Calibri"/>
              </a:rPr>
              <a:t>limit kapitoly: 2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329840" y="1068480"/>
            <a:ext cx="67582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– Zařízení – křížové financování 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329840" y="1952640"/>
            <a:ext cx="6458040" cy="36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b050"/>
                </a:solidFill>
                <a:latin typeface="Helvetica CE"/>
              </a:rPr>
              <a:t>limit 9 %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Mohou uplatnit pouze příjemci, kteří majetek daňově neodepisují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b050"/>
                </a:solidFill>
                <a:latin typeface="Helvetica CE"/>
              </a:rPr>
              <a:t>investiční část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-  hmotný majetek nad 40 tis. Kč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- zařízení a vybavení hmotné povahy s 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dobou použitelnosti nad 1 rok a pořizovací cenou nad 40 tis. Kč za položku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, pokud není možné tento majetek pořídit v nezbytné kvalitě za cenu nižší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– Zařízení 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1343160" y="1952280"/>
            <a:ext cx="6457680" cy="35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b05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b050"/>
                </a:solidFill>
                <a:latin typeface="Helvetica CE"/>
              </a:rPr>
              <a:t>neinvestiční čás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ábytek do 40 tis. Kč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ioritně by měl být pořízen pro potřebu cílové skupiny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ákup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ro potřeby realizačního týmu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je nutné zvlášť zdůvodnit (vztahuje se na něj limi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15 000 Kč/1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řepočtený pracovní úvazek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5470F6-14A8-4DF0-8143-0A0C133F04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ovéPole 4"/>
          <p:cNvSpPr/>
          <p:nvPr/>
        </p:nvSpPr>
        <p:spPr>
          <a:xfrm>
            <a:off x="4572000" y="4430880"/>
            <a:ext cx="2692440" cy="703800"/>
          </a:xfrm>
          <a:prstGeom prst="rect">
            <a:avLst/>
          </a:prstGeom>
          <a:noFill/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7f7f7f"/>
                </a:solidFill>
                <a:latin typeface="Arial"/>
              </a:rPr>
              <a:t>(3 + 0,4 + 0,5 + 0,2) * 15 000 = 61 500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– Zařízení 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1743FD-44B5-4CCF-8062-777100724C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1530360" y="2335320"/>
          <a:ext cx="5792760" cy="2760480"/>
        </p:xfrm>
        <a:graphic>
          <a:graphicData uri="http://schemas.openxmlformats.org/drawingml/2006/table">
            <a:tbl>
              <a:tblPr/>
              <a:tblGrid>
                <a:gridCol w="2801880"/>
                <a:gridCol w="29908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PŘÍMÉ – např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NEPŘÍM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Notebo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kancelářské potřeby pro administraci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Odborná litera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Nákup CD jak pro administraci, tak pro cílovou skupin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softw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zásoby drobného občerstv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4 - Nákup služeb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ublikace/školící materiály/manuál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odborné služby/studie a výzkum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ýdaje na konference/kurz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odpora účastníků (stravné/ubytování)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limit pro stravné 300 Kč/os/den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limit pro ubytování 1 500 Kč/os/noc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jiné výdaje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7" name="TextovéPole 4"/>
          <p:cNvSpPr/>
          <p:nvPr/>
        </p:nvSpPr>
        <p:spPr>
          <a:xfrm>
            <a:off x="5748480" y="1587600"/>
            <a:ext cx="30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b050"/>
                </a:solidFill>
                <a:latin typeface="Calibri"/>
              </a:rPr>
              <a:t>limit kapitoly: 4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4 - Nákup služeb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F88B4C-EADA-45AB-8FF5-EA2F6A8AC4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0" name=""/>
          <p:cNvGraphicFramePr/>
          <p:nvPr/>
        </p:nvGraphicFramePr>
        <p:xfrm>
          <a:off x="1717560" y="2752560"/>
          <a:ext cx="5792760" cy="2151360"/>
        </p:xfrm>
        <a:graphic>
          <a:graphicData uri="http://schemas.openxmlformats.org/drawingml/2006/table">
            <a:tbl>
              <a:tblPr/>
              <a:tblGrid>
                <a:gridCol w="2801880"/>
                <a:gridCol w="29908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PŘÍMÉ – např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NEPŘÍM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Pronájem prostor pro seminá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náklady na daňové a právní poradenstv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Tisk skript pro 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náklady na realizaci výběrových řízení nezbytných pro projek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bsah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Rozpočet projektu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ezpůsobilé výdaje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1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4C15C1-45BB-4310-A740-654CD68258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5 - Stavební úprav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004760" y="1952280"/>
            <a:ext cx="7275600" cy="36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Drobné stavební úpravy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- nesmí přesáhnout částku za všechny dokončené stavební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úpravy v 1 zdaňovacím období v úhrnu 40 tis. Kč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(pořizovací cena) na každou jednotlivou účetní položku majetku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Úpravy jsou prováděny za účelem </a:t>
            </a:r>
            <a:r>
              <a:rPr b="1" i="1" lang="cs-CZ" sz="1800" spc="-1" strike="noStrike">
                <a:solidFill>
                  <a:srgbClr val="000000"/>
                </a:solidFill>
                <a:latin typeface="Helvetica CE"/>
              </a:rPr>
              <a:t>usnadnění přístupu a pohybu osobám zdravotně postiženým, nebo úpravy výukových, tréninkových nebo pracovních prostor, používaných na realizaci aktivit s cílovou skupino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Stavební úpravy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, které jsou rekonstrukcí nebo modernizací,  pokud 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řevýšily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u  jednotlivého  majetku v úhrnu ve zdaňovacím období částku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40 tis. Kč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, spadají do </a:t>
            </a:r>
            <a:r>
              <a:rPr b="1" lang="cs-CZ" sz="1800" spc="-1" strike="noStrike">
                <a:solidFill>
                  <a:srgbClr val="ff0000"/>
                </a:solidFill>
                <a:latin typeface="Helvetica CE"/>
              </a:rPr>
              <a:t>křížového financová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6 - Přímá podpora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133640" y="2171880"/>
            <a:ext cx="716112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mzdové příspěvk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-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jsou poskytovány jako náhrada mezd zaměstnavateli za  pracovníky po  dobu  jejich účasti na dalším 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vzdělávání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- až do výše 100% mzdových nákladů, nejvýše však do výše trojnásobku aktuální minimální mzdy) 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cestovné, ubytování a stravné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- placené přímo zástupcům cílové skupiny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oprovodné aktivit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asistentské služby žákům se speciálními potřebami, vstupenky,…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5" name="TextovéPole 3"/>
          <p:cNvSpPr/>
          <p:nvPr/>
        </p:nvSpPr>
        <p:spPr>
          <a:xfrm>
            <a:off x="5748480" y="1587600"/>
            <a:ext cx="30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b050"/>
                </a:solidFill>
                <a:latin typeface="Calibri"/>
              </a:rPr>
              <a:t>limit kapitoly: 20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7 - Náklady vyplývající přímo z     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Rozhodnut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audit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88" name="Picture 2" descr=""/>
          <p:cNvPicPr/>
          <p:nvPr/>
        </p:nvPicPr>
        <p:blipFill>
          <a:blip r:embed="rId1"/>
          <a:srcRect l="648" t="5400" r="1297" b="5400"/>
          <a:stretch/>
        </p:blipFill>
        <p:spPr>
          <a:xfrm>
            <a:off x="1522440" y="2685960"/>
            <a:ext cx="6715080" cy="7336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aphicFrame>
        <p:nvGraphicFramePr>
          <p:cNvPr id="589" name=""/>
          <p:cNvGraphicFramePr/>
          <p:nvPr/>
        </p:nvGraphicFramePr>
        <p:xfrm>
          <a:off x="1808280" y="3736800"/>
          <a:ext cx="5792760" cy="1463760"/>
        </p:xfrm>
        <a:graphic>
          <a:graphicData uri="http://schemas.openxmlformats.org/drawingml/2006/table">
            <a:tbl>
              <a:tblPr/>
              <a:tblGrid>
                <a:gridCol w="2801880"/>
                <a:gridCol w="29908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PŘÍMÉ – např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NEPŘÍM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aud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bankovní poplat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publicita projektu včetně úvodní a závěrečné konfer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329840" y="2171880"/>
            <a:ext cx="6458040" cy="43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Není potřeba prokazovat účetními doklady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Náklady spojené s administrací projektu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Nemohou být přiřazeny ke konkrétní aktivitě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Příklady: 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tisk a kopírování, nájem kanceláře a nákup kancelářského materiálu pro administraci projektu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nákup vody, paliv a energie, telefonní poplatky, poštovné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správa počítačových sítí a internetových stránek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329840" y="1118880"/>
            <a:ext cx="645804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3" name="TextovéPole 8"/>
          <p:cNvSpPr/>
          <p:nvPr/>
        </p:nvSpPr>
        <p:spPr>
          <a:xfrm>
            <a:off x="1330200" y="3133800"/>
            <a:ext cx="600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aplikaci Benefit 7 se po zadání % nepřímých nákladů dopočítá částka automatic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7" descr=""/>
          <p:cNvPicPr/>
          <p:nvPr/>
        </p:nvPicPr>
        <p:blipFill>
          <a:blip r:embed="rId1"/>
          <a:stretch/>
        </p:blipFill>
        <p:spPr>
          <a:xfrm>
            <a:off x="1111320" y="1952640"/>
            <a:ext cx="6676920" cy="1181160"/>
          </a:xfrm>
          <a:prstGeom prst="rect">
            <a:avLst/>
          </a:prstGeom>
          <a:ln w="0">
            <a:noFill/>
          </a:ln>
        </p:spPr>
      </p:pic>
      <p:sp>
        <p:nvSpPr>
          <p:cNvPr id="595" name="Rectangle 3"/>
          <p:cNvSpPr/>
          <p:nvPr/>
        </p:nvSpPr>
        <p:spPr>
          <a:xfrm>
            <a:off x="1330200" y="1644480"/>
            <a:ext cx="64580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ýše stanovena ve výzvě procen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Obrázek 12" descr="nn_benefit.JPG"/>
          <p:cNvPicPr/>
          <p:nvPr/>
        </p:nvPicPr>
        <p:blipFill>
          <a:blip r:embed="rId2"/>
          <a:stretch/>
        </p:blipFill>
        <p:spPr>
          <a:xfrm>
            <a:off x="1220760" y="3780000"/>
            <a:ext cx="4745160" cy="16430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97" name="TextovéPole 15"/>
          <p:cNvSpPr/>
          <p:nvPr/>
        </p:nvSpPr>
        <p:spPr>
          <a:xfrm>
            <a:off x="5122800" y="4797360"/>
            <a:ext cx="4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Šipka doprava 12"/>
          <p:cNvSpPr/>
          <p:nvPr/>
        </p:nvSpPr>
        <p:spPr>
          <a:xfrm rot="10800000">
            <a:off x="6838560" y="260784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Šipka doprava 12"/>
          <p:cNvSpPr/>
          <p:nvPr/>
        </p:nvSpPr>
        <p:spPr>
          <a:xfrm rot="10800000">
            <a:off x="6076440" y="479700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ovéPole 18"/>
          <p:cNvSpPr/>
          <p:nvPr/>
        </p:nvSpPr>
        <p:spPr>
          <a:xfrm>
            <a:off x="3959280" y="4154400"/>
            <a:ext cx="211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1 440 000     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způsobilé výdaj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329840" y="2058840"/>
            <a:ext cx="6458040" cy="33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Helvetica CE"/>
              </a:rPr>
              <a:t>činnosti, které již v rámci jiných programů či Iniciativ Společenství financovaných z ESF či jiných programů financovaných Evropskou unií podporu dostávají</a:t>
            </a: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Helvetica CE"/>
              </a:rPr>
              <a:t>výdaje na každodenní řízení, monitorování a kontroly žadatele, které by se prováděly i bez realizace projektu - sloužící k zajištění běžného chodu organizace</a:t>
            </a: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Helvetica CE"/>
              </a:rPr>
              <a:t>nákupy vozidel, infrastruktury, nemovitostí a pozemků</a:t>
            </a: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Helvetica CE"/>
              </a:rPr>
              <a:t>DPH nebo její část, pokud existuje zákonný nárok na její odpočet</a:t>
            </a: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300" spc="-1" strike="noStrike">
                <a:solidFill>
                  <a:srgbClr val="000000"/>
                </a:solidFill>
                <a:latin typeface="Helvetica CE"/>
              </a:rPr>
              <a:t>přímé daně, daň z nemovitosti, daň dědická, darovací, silniční, cla</a:t>
            </a: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Helvetica CE"/>
              </a:rPr>
              <a:t>úroky z úvěrů a půjček, pokud se nejedná o schválenou formu podpory z fondu ESF</a:t>
            </a: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26"/>
              </a:spcBef>
              <a:buClr>
                <a:srgbClr val="f796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300" spc="-1" strike="noStrike">
                <a:solidFill>
                  <a:srgbClr val="f79646"/>
                </a:solidFill>
                <a:latin typeface="Helvetica CE"/>
              </a:rPr>
              <a:t>stipendia nebo platby cílové skupině podobného charakteru</a:t>
            </a: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Helvetica CE"/>
              </a:rPr>
              <a:t>odstupné, peněžitá pomoc v mateřství</a:t>
            </a: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300" spc="-1" strike="noStrike">
                <a:solidFill>
                  <a:srgbClr val="000000"/>
                </a:solidFill>
                <a:latin typeface="Helvetica CE"/>
              </a:rPr>
              <a:t>výdaje vzniklé mimo časový rámec způsobilosti </a:t>
            </a: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3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Závěrem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ěnujte rozpočtu dostatek času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nažte se být konkrétní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yužívejte komentář k rozpočtu či samostatnou přílohu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Buďte střídmí v odhadu výdajů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 případě nejasností se na nás neváhejte obrátit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440" y="1347480"/>
            <a:ext cx="743436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4000" spc="-1" strike="noStrike">
                <a:solidFill>
                  <a:srgbClr val="f39800"/>
                </a:solidFill>
                <a:latin typeface="Helvetica CE"/>
              </a:rPr>
              <a:t>Děkuji za pozornost</a:t>
            </a:r>
            <a:endParaRPr b="1" lang="en-US" sz="4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1371600" y="2419200"/>
            <a:ext cx="6400800" cy="28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4" indent="0" algn="ctr">
              <a:lnSpc>
                <a:spcPct val="100000"/>
              </a:lnSpc>
              <a:spcBef>
                <a:spcPts val="451"/>
              </a:spcBef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indent="0" algn="ctr">
              <a:lnSpc>
                <a:spcPct val="100000"/>
              </a:lnSpc>
              <a:spcBef>
                <a:spcPts val="451"/>
              </a:spcBef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indent="0" algn="ctr">
              <a:lnSpc>
                <a:spcPct val="100000"/>
              </a:lnSpc>
              <a:spcBef>
                <a:spcPts val="451"/>
              </a:spcBef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indent="0" algn="ctr">
              <a:lnSpc>
                <a:spcPct val="100000"/>
              </a:lnSpc>
              <a:spcBef>
                <a:spcPts val="451"/>
              </a:spcBef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  <a:ea typeface="ＭＳ Ｐゴシック"/>
              </a:rPr>
              <a:t>Ing. Jana Barešová</a:t>
            </a:r>
            <a:br>
              <a:rPr sz="1800"/>
            </a:br>
            <a:r>
              <a:rPr b="0" lang="cs-CZ" sz="1800" spc="-1" strike="noStrike" u="sng">
                <a:solidFill>
                  <a:srgbClr val="0000ff"/>
                </a:solidFill>
                <a:uFillTx/>
                <a:latin typeface="Helvetica CE"/>
                <a:ea typeface="ＭＳ Ｐゴシック"/>
                <a:hlinkClick r:id="rId1"/>
              </a:rPr>
              <a:t>jana.baresova@msmt.cz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Helvetica CE"/>
                <a:ea typeface="ＭＳ Ｐゴシック"/>
              </a:rPr>
              <a:t>Tel.: 234 814 293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Základní pravidla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přiměřenost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hospodárnost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účelnost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efektivnost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prokazatelnost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časová způsobilost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142E13-060F-4743-9866-59E4EAC334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Rozpočet v projektové žádosti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26" name="Obrázek 5" descr="benefit.JPG"/>
          <p:cNvPicPr/>
          <p:nvPr/>
        </p:nvPicPr>
        <p:blipFill>
          <a:blip r:embed="rId1"/>
          <a:srcRect l="0" t="0" r="21781" b="49555"/>
          <a:stretch/>
        </p:blipFill>
        <p:spPr>
          <a:xfrm>
            <a:off x="1490760" y="2135160"/>
            <a:ext cx="2892240" cy="2844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27" name="Obrázek 6" descr="benefit.JPG"/>
          <p:cNvPicPr/>
          <p:nvPr/>
        </p:nvPicPr>
        <p:blipFill>
          <a:blip r:embed="rId2"/>
          <a:srcRect l="0" t="50395" r="23062" b="0"/>
          <a:stretch/>
        </p:blipFill>
        <p:spPr>
          <a:xfrm>
            <a:off x="4157640" y="2538360"/>
            <a:ext cx="2854440" cy="2806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28" name="Šipka doprava 8"/>
          <p:cNvSpPr/>
          <p:nvPr/>
        </p:nvSpPr>
        <p:spPr>
          <a:xfrm>
            <a:off x="3949560" y="3154320"/>
            <a:ext cx="381240" cy="166680"/>
          </a:xfrm>
          <a:prstGeom prst="rightArrow">
            <a:avLst>
              <a:gd name="adj1" fmla="val 50000"/>
              <a:gd name="adj2" fmla="val 50034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Šipka doprava 10"/>
          <p:cNvSpPr/>
          <p:nvPr/>
        </p:nvSpPr>
        <p:spPr>
          <a:xfrm>
            <a:off x="1300320" y="4729320"/>
            <a:ext cx="380880" cy="168120"/>
          </a:xfrm>
          <a:prstGeom prst="rightArrow">
            <a:avLst>
              <a:gd name="adj1" fmla="val 50000"/>
              <a:gd name="adj2" fmla="val 50030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Šipka doprava 12"/>
          <p:cNvSpPr/>
          <p:nvPr/>
        </p:nvSpPr>
        <p:spPr>
          <a:xfrm>
            <a:off x="3949560" y="3745080"/>
            <a:ext cx="381240" cy="166680"/>
          </a:xfrm>
          <a:prstGeom prst="rightArrow">
            <a:avLst>
              <a:gd name="adj1" fmla="val 50000"/>
              <a:gd name="adj2" fmla="val 50034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Šipka doprava 14"/>
          <p:cNvSpPr/>
          <p:nvPr/>
        </p:nvSpPr>
        <p:spPr>
          <a:xfrm>
            <a:off x="3949560" y="2862360"/>
            <a:ext cx="381240" cy="166680"/>
          </a:xfrm>
          <a:prstGeom prst="rightArrow">
            <a:avLst>
              <a:gd name="adj1" fmla="val 50000"/>
              <a:gd name="adj2" fmla="val 50034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Šipka doprava 15"/>
          <p:cNvSpPr/>
          <p:nvPr/>
        </p:nvSpPr>
        <p:spPr>
          <a:xfrm>
            <a:off x="3967200" y="3473280"/>
            <a:ext cx="380880" cy="166680"/>
          </a:xfrm>
          <a:prstGeom prst="rightArrow">
            <a:avLst>
              <a:gd name="adj1" fmla="val 50000"/>
              <a:gd name="adj2" fmla="val 49986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Kapitoly rozpočtu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3 - Zařízení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b050"/>
                </a:solidFill>
                <a:latin typeface="Helvetica CE"/>
              </a:rPr>
              <a:t>limit 25%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4 - Nákup služeb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b050"/>
                </a:solidFill>
                <a:latin typeface="Helvetica CE"/>
              </a:rPr>
              <a:t>limit 49%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5 - Stavební úprav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6 - Přímá podpora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b050"/>
                </a:solidFill>
                <a:latin typeface="Helvetica CE"/>
              </a:rPr>
              <a:t>limit 20%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7 - Náklady vyplývající přímo z rozhodnutí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8 - Přímé způsobilé výdaje celkem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9 -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Nepřímé výdaje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osoby, které mají v rámci projektu uzavřen pracovně právní vztah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hrubá mzda v čase, oboru a místě obvyklá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doporučená výše mezd/platů Metodický</a:t>
            </a:r>
            <a:r>
              <a:rPr b="0" lang="cs-CZ" sz="2400" spc="-1" strike="noStrike">
                <a:solidFill>
                  <a:srgbClr val="898989"/>
                </a:solidFill>
                <a:latin typeface="Helvetica CE"/>
              </a:rPr>
              <a:t> 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dopis č. 4 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 u="sng">
                <a:solidFill>
                  <a:srgbClr val="0000ff"/>
                </a:solidFill>
                <a:uFillTx/>
                <a:latin typeface="Helvetica CE"/>
                <a:hlinkClick r:id="rId1"/>
              </a:rPr>
              <a:t>http://www.msmt.cz/strukturalni-fondy/vyse-mezd-platu-v-projektech-op-vk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ojektový manažer 0,8 * 40 000 = 32 000 Kč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39" name="Obrázek 3" descr="osobni naklady.JPG"/>
          <p:cNvPicPr/>
          <p:nvPr/>
        </p:nvPicPr>
        <p:blipFill>
          <a:blip r:embed="rId1"/>
          <a:srcRect l="1094" t="1465" r="9845" b="1465"/>
          <a:stretch/>
        </p:blipFill>
        <p:spPr>
          <a:xfrm>
            <a:off x="853920" y="1973160"/>
            <a:ext cx="7105680" cy="28908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40" name="Šipka doprava 4"/>
          <p:cNvSpPr/>
          <p:nvPr/>
        </p:nvSpPr>
        <p:spPr>
          <a:xfrm>
            <a:off x="353880" y="360684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4"/>
          <p:cNvSpPr/>
          <p:nvPr/>
        </p:nvSpPr>
        <p:spPr>
          <a:xfrm>
            <a:off x="1652760" y="5048280"/>
            <a:ext cx="64576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595959"/>
                </a:solidFill>
                <a:latin typeface="Arial"/>
              </a:rPr>
              <a:t>Projektový manažer 0,8 * 40 000 = 32 000K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Šipka doprava 7"/>
          <p:cNvSpPr/>
          <p:nvPr/>
        </p:nvSpPr>
        <p:spPr>
          <a:xfrm rot="5400000">
            <a:off x="5590800" y="324972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44" name="Obrázek 9" descr="osobni naklady.JPG"/>
          <p:cNvPicPr/>
          <p:nvPr/>
        </p:nvPicPr>
        <p:blipFill>
          <a:blip r:embed="rId1"/>
          <a:srcRect l="1094" t="1465" r="9845" b="1465"/>
          <a:stretch/>
        </p:blipFill>
        <p:spPr>
          <a:xfrm>
            <a:off x="1343160" y="1952640"/>
            <a:ext cx="6457680" cy="2241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45" name="Obrázek 6" descr="komentar.JPG"/>
          <p:cNvPicPr/>
          <p:nvPr/>
        </p:nvPicPr>
        <p:blipFill>
          <a:blip r:embed="rId2"/>
          <a:stretch/>
        </p:blipFill>
        <p:spPr>
          <a:xfrm>
            <a:off x="1504800" y="4194000"/>
            <a:ext cx="6134400" cy="11829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46" name="TextovéPole 8"/>
          <p:cNvSpPr/>
          <p:nvPr/>
        </p:nvSpPr>
        <p:spPr>
          <a:xfrm>
            <a:off x="1695600" y="4498920"/>
            <a:ext cx="5943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odinová sazba lektora je lehce nadprůměrná, jelikož se jedná o výjimečného odborníka. Jeho zapojení do projektu je klíčové. Viz blíže příloha č. 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Šipka doprava 7"/>
          <p:cNvSpPr/>
          <p:nvPr/>
        </p:nvSpPr>
        <p:spPr>
          <a:xfrm>
            <a:off x="830160" y="428472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329840" y="1952640"/>
            <a:ext cx="64580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N nejsou nebo nemohou být jednoznačně spojené s konkrétní klíčovou aktivitou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1725480" y="2814480"/>
          <a:ext cx="5792760" cy="2683080"/>
        </p:xfrm>
        <a:graphic>
          <a:graphicData uri="http://schemas.openxmlformats.org/drawingml/2006/table">
            <a:tbl>
              <a:tblPr/>
              <a:tblGrid>
                <a:gridCol w="2802240"/>
                <a:gridCol w="29905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PŘÍMÉ – např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NEPŘÍM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lavní manaž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čet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ministrá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dová účet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nční manaž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sonalis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ist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cialista na povinnou publici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borný zaměstnan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technik zajišťující běžnou správu I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k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Školitel bezpečnosti a ochrany zdrav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odi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traha, uklízeč, údržbá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7:09:51Z</dcterms:created>
  <dc:creator>Amos Amos</dc:creator>
  <dc:description/>
  <dc:language>en-US</dc:language>
  <cp:lastModifiedBy>ugh</cp:lastModifiedBy>
  <dcterms:modified xsi:type="dcterms:W3CDTF">2011-01-17T08:40:05Z</dcterms:modified>
  <cp:revision>181</cp:revision>
  <dc:subject/>
  <dc:title>Titulní strana – Titulek</dc:title>
</cp:coreProperties>
</file>