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171FD-FDEE-4D80-AFF2-0899DF4FF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BAF06-5A03-4617-A46B-DD51E1E19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13296-EBC7-4644-8FE7-16494B1CD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124FC-51A9-409F-BEE6-ADBD1CA6E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6B246-3794-43F9-8348-4FF9BFC35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FE653-09AE-4356-90DF-CFDDB9BED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0CD-446B-447E-8711-9A63FF14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7FB-12C9-4312-AC59-2031A434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77E-7108-48CB-97E8-C856A761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F73-C7DD-496E-AA03-9EE97825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E67-21FE-4B92-80F1-C6346813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400-24BD-4B81-93E6-7EAADEE4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5A6-6228-45B2-8376-48BB4185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D5C-F372-418B-ABBF-FC3C86DC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886-E25B-46BC-98C2-9D7291CB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051-04CA-4545-AEB1-2275CC6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8B5-D05B-4AA7-BF12-9259B8C6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E22-2516-41E2-A50F-A72F9AD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F671B-6ADB-4FBE-AC5B-131213E2B9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41C88-A639-402F-826E-C6B83A3BA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5FDA7CB0-FDE8-4AAE-B395-2169E1793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C6436-28C5-4E16-98DD-190B4FBFA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1B59B-B249-4B01-BBE3-DBEE7A613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ED48D-D709-48F9-AEDF-B149D35B3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ABE82-B52C-4B97-9365-A70862AC6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8EB96-1BB7-41C3-ACA0-88B1A4B3D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17252-78EA-419F-B250-38F20984A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22DC9-991C-4E5C-8D06-EC0AC876E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F0743-958F-4536-9B57-A9328790F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92FDA-3199-438C-BD76-600AC8F9A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78630-5A2E-4FA1-ABA8-AA053CBF0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922BC-81D9-4ED3-903D-16195727E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2A67E-8F28-4AA0-8A9C-3F10BAE80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FF7C82-C41E-4578-980E-CB653C533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17ED1-F1A8-491C-B3D0-B4FD7449A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B9D9D-1633-4023-B3B7-959433C9A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A4AB7-05BA-4D20-B2E2-C973F4566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20BD4-E8B5-467A-BF24-59890F688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5738F-12AD-4F30-81F0-2E6433702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616A2-33DE-4338-9DC3-46E153CF9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12C11-BEAD-4DFA-A65C-8E40958B3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7355F-4287-48E6-A327-CC639593E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31Z</dcterms:modified>
  <cp:revision>138</cp:revision>
  <dc:subject/>
  <dc:title>Titulní strana – Titulek</dc:title>
</cp:coreProperties>
</file>