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2CA-812F-48A6-8771-110A53FB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A73-A01E-4986-BBDD-DCEA36D2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2CAF9-D7DA-435A-9637-D0265CBF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11758-EFDF-468A-A187-DB81E032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D5122-1F77-4CA8-9DAF-9E3B624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A548A-F959-4D40-BB92-A5CD92E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048DE-B4EA-491F-A432-EF6587F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C66E8-1482-4E20-BC8F-EBAB087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368CF-9AF0-42A3-95AB-130F789C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E4B62-2F35-4642-AC8C-1820C43A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45CD2-CE76-4B44-A8DE-1E9F9E5E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6AF99-23BF-4945-9D7E-268B8842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1C9-5294-43C0-B3DA-8A5477AC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FD1A6-DB37-4F68-804B-F5D202B4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A7A50-3910-4133-BFE7-9ADC3686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B602D-2EA7-46D5-BF7C-3ABCFA56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5A710-4177-433F-BCCB-76F37C50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325F6-2D03-47F7-9818-04A33114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D372F-E18D-47F2-B687-2AC3923C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EF4EF-8337-44EB-8442-AAC9E00D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5CF5B-4D53-4D42-8D24-04B18BE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7F769-ED63-4E98-87A1-1AC546A3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028A0-2FAE-417D-8F95-9A87DC6E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09A-49C4-41BB-AD4A-90717962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6143B-E4CE-414E-8113-D9C7B3D3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9B9F7-71E9-44B4-8A2D-26A1C813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932C2-B5AD-4327-B9AA-A61C14D1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5F27F-42D1-422E-B6A6-7933056F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CC15-53B9-4156-B519-D587A31D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4A45E-D305-40D3-8956-BBC68B10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2A0F0-762C-4B07-AFD0-8F656125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DD54E-6111-46E3-A864-7A848556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6C591-A9A4-4F71-A1A7-4096A43C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8F235-162D-432F-89AA-2BBB768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5973-96EE-4EF4-8739-CF62BE7C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B5A45-64B4-4897-9623-E32CA0B1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B12DD-23DF-4935-8463-FA13E0F9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6BB60-299D-4BEA-91A8-3CE3764B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06710-C1AE-483F-852D-45647A4A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56EBF-6FB7-4204-9513-18E0848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F5E0E-D8D4-4DCD-9FD8-C1BF9288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09163-127E-44A3-B6E9-21B314AB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A3EA4-81DD-4097-8E01-FB70DE24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30EEA-300F-4737-87CD-E638DA26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B194C-9FF1-4098-8E1F-4564A55A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BABC-B672-41A1-8C3F-B48336CD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C67FE-3DB3-4D40-8B4C-BE046E0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71FE1-3424-47A2-9E97-4FC2ECB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CB1D0-7C26-4DA3-AF78-6A6301BB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FC0F8-A97F-4480-9653-C01012D4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0F599-89E5-4B28-9692-B8588A76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64BF-C4C5-4F6F-AEF3-FD42E433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CA33-4FC1-4433-A8DC-AE6933DA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267E-2E6A-4880-B297-E1D5BEE6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1AEF-A94E-4948-AA9F-8131EC5F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7FCB-4DD9-46AE-8821-7BF4DB69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CCC-2450-4F76-9ADB-032328D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0E6C-1135-4072-8369-998AA70F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231E-6C81-4E32-A0C2-C7879068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1185-7EAB-47E1-AE93-757CC801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5365-F7E8-41A0-AB9C-B9B8AA3A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2E23-6FEC-4188-A59D-35377433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BE0A-8B8D-4B47-8B05-B3694D61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8487-B54A-4417-A853-12554126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CFB1-0639-4A30-9357-47394679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23B6-9A3D-4C37-A093-270BEA2B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E783-F4C4-4151-89EC-99F3F2E0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22B-8AE4-40A1-B598-01288471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D701-D172-466F-A918-4B1A44A4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AF87-281B-4259-BFB0-027CA9FD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0962-0EDB-487D-A59C-631B21D7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E864-864B-4BC1-9D64-C575005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3572-7C3A-48E0-89B5-3EB91BE0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0493-1601-47CF-B5AB-1D8F0695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C4AF-0897-41CB-877A-A039B1F8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6D27-DF05-4184-BD81-3EE58BF9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A66C-4D83-4AD1-BE5D-BC2AA310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E6F2-D994-4E16-93E9-2E2ACC13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964-5711-4FFC-B564-BC7F9571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1C530-A697-40F3-A9B0-59632C6B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BA30C-7472-47B6-B31E-1B3290C5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0E00-75F4-40C1-91E0-0F6D6821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274A8-9652-46A5-BDF6-CA9F643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DD94-40EA-40E3-96A9-1115AF49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A4E76-6165-47E0-B391-8DAD0B77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DEF3-9C9C-450E-BEB3-9FB40D40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9DB3-8A63-46D4-9516-BB2C05A8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312B-0E85-4C98-94C4-379393E4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BBA7-36DD-4ADF-9F6B-77A86D21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018-27AA-4E94-824B-B4D41CEC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79B4-EAC6-44E5-8C05-177D8A80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87CF-315F-4725-A362-A662B344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52554-5161-4A53-A5FE-E44F78AA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3BA06-3D90-4D48-9386-90C4FFDF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C6CC-94B1-4E5E-8DC6-91165F0A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448B8-EB7B-429F-85A5-CD2B543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9DCB-D397-4110-8D1B-94E246A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5896-F917-4520-B93F-13CCE8B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98C05-93CC-4370-9952-3E0A2467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70F24-A643-49D4-A90F-D7E9A7D7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64D-636D-4FBA-856C-AAE1BED7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96A17-E425-4DCD-BCC6-1EFD7099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B34BB-B0C0-43CC-B519-D3613BF6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D8E85-E768-49BD-AE14-B8123F63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5C06-9AD0-4047-B6B0-701E957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E342-8C77-4614-8D37-659037EF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E721E-08A9-4F98-947F-533E8891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CD8C1-63E9-4EBD-B466-37A718ED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7BB66-08A0-49E6-8645-B7AE872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70B2-656F-4401-BF54-5E7312EC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05D23-C524-4B7A-A1B7-9DE4DADB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50C-B0DE-4492-95C6-263BBC5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A04DA-61FE-4C0B-85F2-F7B9BDC2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01316-230A-4591-8C34-0B2D7FFA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6777-C7DF-4321-A9B1-6A3F80E6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4A5C7-B72E-4DA7-834F-09710CAE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245EC-B38D-4DD1-975B-CFD7F4E8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AA4AA-3365-4E6F-9A3C-0EC9A9E1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4B53C-A4E6-4EF4-98CE-2FB0121C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BDC2E-D8EA-43EC-84AA-FB99ADFC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1C6EC-E087-494C-9B9F-B01952EA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607B-4D6A-47F1-A4B0-845E2EE5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8AE-F6F9-4FDE-A0B9-FB87BDE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08478-5018-47D4-AC8A-C8DE8B12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35AF-EE66-4AA9-A83A-5750B12D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33168-ACCB-4891-98D3-1D3B4AEF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2DAC4-EA3E-49EE-9687-D23FB647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77C1A-D9F6-4EAD-A0E3-6925AD13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EEB99-CD7E-423D-AD40-1D41D9EC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B6219-63B1-4BBB-94E5-E32809ED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2EF29-E8F8-4BB6-B47A-4C17E925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B8AB-3266-45B3-B786-DFBF4CAA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7998E-9E9D-4A56-9A56-9EB5CCA6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34E-9E09-4A8A-B383-68855B22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6B860-DB3A-41F8-9F6E-D583BB12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B116-7800-4C20-8456-315E321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1EAF-E273-46A7-9B6E-8E562B60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195B5-FD92-483A-9D5D-0114A7D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07026-218E-4021-9F0A-D3A9CCC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37DEB-20B4-4771-8E2D-6639A5F0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70900-284E-4472-B64C-B8F0509D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08000-8CAA-4CA9-83D8-DCD6C777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AAA07-AA4A-4C51-9149-7A9A57A2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C8B12-F8A0-4E30-8CE8-7584F7F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8D4EC-0D63-4C26-97E9-38AB7DD3A1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C3C8D-5731-435F-9959-BC582AA4B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A66AAF57-D7DE-4E1E-8941-79615943E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E7A0D-9A70-4D06-84C5-ACA109B0CC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3DCB8-FE34-4E4A-B51C-0895EAFFE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73574-611A-487F-9123-39747A1011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A9EAE-FE56-46D1-8CD5-F08E5C008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AE3E9-EFF8-44D4-8B2D-51893F2592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646F9-C55A-47AD-AF9F-A2DE7AC39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8C01C-1876-45E9-A265-C03752CB0B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9C85F-4A27-4A81-BCB7-C2475A1E0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CE88F-ED38-415B-A8F6-5111FE6C55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9A526-3668-49EB-A0D7-831B94702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D8B5C-433F-4282-B244-CB7FDCE8D8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3D205-8D46-40CB-B008-D79A3AF45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F61F7-4B3B-4DBE-9CA7-150769B8D1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DB6D6-809E-4E4F-B853-7191BA9A2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2EA4B-EA91-4C96-A530-E37033A8DF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173F5-E988-423A-BDC0-97583B23B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E03E8-5318-4AC8-8265-89DFA85921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A6971-B44C-4A34-A0F0-68DD54BAC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1C893-2FFC-4F9B-86B8-DE2C47EFFE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44AC2-59E8-44D3-A9D8-D93D95109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866B0-C618-46E2-B816-1BBABA3C91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A8AEB-81F7-45C9-98A4-41F86283E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B236A-F2FC-41A2-BF52-F34B2647C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09D29-722C-4B80-AAB6-9235303D9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4E72F-3BCA-4C98-8479-9D3491764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0CB2C-74A9-46FF-BD40-C8913851E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BA75B-D112-4D43-ADD9-2D9CF6281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D6781-0F7C-41C4-BABE-CAC193BC2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40:05Z</dcterms:modified>
  <cp:revision>181</cp:revision>
  <dc:subject/>
  <dc:title>Titulní strana – Titulek</dc:title>
</cp:coreProperties>
</file>