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C24-D0E6-4D98-A137-B03BA0D5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EFD-F66A-4B59-907C-59B8491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E730C-EDBB-4309-A722-C3F9996F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6C8E2-5934-44F4-8A80-4A6B32B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15092-3079-46F0-B706-78C4ADB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3FC47-3D76-43F6-9AE7-D59240F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C1453-161F-41DD-8DE2-301CC9B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CA709-D3B0-4EB5-AC3D-A869DB5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575F5-8D7D-4E47-95BA-D412EB2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856A8-84B5-41BF-96D5-57B7603C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9A08C-2D51-46D2-8DAA-89D91581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91319-11E1-4B4D-91AB-B35D4F44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5E5-6D84-4DBF-9488-BCF3FE01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F850-91CB-47CA-8172-98BEE83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6878E-003E-41BE-8321-69CBB36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BECA7-4BC8-4E80-9A15-D07A7F3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3CBEB-9937-4520-8DB8-8FD9C70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3868-B778-4D0F-A136-B120FA8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90A4A-3BD3-4AC6-A933-B132902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3503B-C56D-4899-A252-EF91FD5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A504-36CB-4461-BD02-31CB160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59312-5CCD-4419-9A8F-49FA7DE8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B573A-3D61-4400-B651-F8925652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C83-EA86-494B-829A-700C4229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8D491-0564-4921-BFCC-C029739B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5BD8-E514-432D-9E99-759101CD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1478C-68B2-448A-8419-F8E0D990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9E8A8-A78C-4EEE-BAF3-B157AC9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A59A8-D2CE-457B-A9BB-4EEB7F8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9501A-D35C-43DC-808F-A786572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31477-9924-4D9B-84DC-D6F9F62B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01FE-1036-463C-8E7F-3837582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2A69-58F0-4592-BDCA-6F9B51F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C2782-1914-4EC9-B574-E152D47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8D48-054C-47E6-9574-087B565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2241-ADD2-4AA4-93A7-C1383A5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8575-2F9D-48FC-90DC-D505660B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BB8A-CC07-4760-BFB8-B0686D4D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024F9-EE1E-45A6-9F2E-DB28240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49B06-913E-4985-9855-02A73503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4B8F5-9FFC-4EA5-82FD-70E5D3D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0B188-A127-4918-8C42-36B8ABEC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CC704-F14F-464B-86F7-5A7C4EB7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C9EEA-B9F0-4DF8-A53E-F88DE4A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3FEDA-33C2-479C-9862-63C71DE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5A6-FF68-4504-A30F-38F6322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BE16B-6A1A-424C-AD6B-EB12226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D9501-2B05-47A0-8F96-4FF17C0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60328-3EF6-425C-8F9C-56DFF87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367A2-87C0-48AF-84DB-36E5BF10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28FA7-3E72-4833-B839-648ED52E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B13-3FA1-4584-A743-A72911B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2247-231A-4906-AE53-10E316D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6D0-18F2-4E6E-BA20-5D435BE1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B7F9-A1D5-4C8C-863B-E6632122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8E0-DF8A-4AD9-A5FC-5FC602D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130-ED30-4E19-9142-3A05E82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06E6-353E-4712-8B4D-06ABF29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8C8B-9B84-437C-9406-E7D80CC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F43-E10A-4A4F-9B2B-1A2A4A6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7CD-B04B-48AD-AE1F-46C82FF0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74A7-2DA3-4B4D-BC96-63FA4B06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DB2C-B01A-43BC-8C66-2F2CB931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C886-A0CA-4E55-9C20-11D53FD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22D4-DBD6-4826-A133-6A62E0FB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CFB4-F131-4323-963B-1CF377F8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1832-C038-4058-B341-C15E65E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410-CFB6-400A-A9BB-8C8A4C7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B4B6-655F-4970-93E5-EA65C6CE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998E-6646-48B9-9A62-5143682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858F-5D30-43B0-8FE4-6B93273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0EBF-1692-404A-B596-9A08264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0BC0-AB70-4A44-B032-F6B5106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438D-2BC9-4C51-A56F-71F11E32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951E-63A0-440A-AA2C-1708A922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53EA-B2C4-4774-8036-33FC974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CD6A-34FC-4643-B5F4-DBDB1CC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5E39-D112-476A-8116-DDD588A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06F-1290-4DAB-AC99-2459CDF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FE56-3A46-470A-85E0-5D27D7A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4144-82BE-44DF-B801-F851E09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B8AF-6FD0-4592-B2EE-FE9A5503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F76F-2DDC-40A9-98B3-E7815DB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8695-2D8A-4615-BC44-4ED208B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C732-855D-43D1-BB2B-880C033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6D9D-B4CD-47AF-BBAE-7355930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C3CE-3B08-4418-875F-405AE201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DC1B-EB2F-439C-8BBB-86EAC708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3B1C-2133-4A4D-9AF9-70F3359E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361-DD87-4028-B65E-B0CE125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959DB-B9C1-45B4-A0AF-A2C41D67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F991-B383-4C47-AA30-B3541110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B13AD-70AA-4106-8CCB-B492D533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2365-CEE1-44DD-B2D7-13243C53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47EB-20C1-470A-A7A1-3C324864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64B6-15C4-4CAA-B154-E334EC5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AEF5-F05F-435F-80BF-1CC33A7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3B0C-2645-490C-8D6C-0867365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576F-782C-429E-B8FF-46A5555A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4501-4BC2-41F8-BEC9-560006CD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C44-9FA2-4AB2-B221-E1E88E9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62DF-F386-4EB4-B299-5E0DC4A5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AD5F-F6B9-4E71-9228-ABE295F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D980-99C2-491E-B37E-18B4DEC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A8B3-B920-4949-B93E-E6D15680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A9D5-BC18-46E2-B8E8-71FA1B8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77C21-451B-483A-BD7F-EA7E4BD8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913AF-1CBD-4585-B110-75CECB06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8437-84DC-4E73-ABA9-0C2F4D6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03B1-D533-4A5B-885D-E8DA8EA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917C-9A9E-4FA7-ABB6-9BDA50D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E94-1647-404E-930D-2FC34B3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AB20A-2F34-4E33-9502-79642D2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AFBEB-0144-4FFF-AF8A-F1E55C0C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64C1-1D05-4070-AE6B-52AC484F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BA97-D423-4C76-8068-BA404BFB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2246-A31D-4B72-AE5E-030566F9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1217B-A03F-4266-9EE4-EE7C693E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6649-CC04-43FA-82A6-FAD86A0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C55C-ADEF-4E9C-9B22-043C732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153A-EE84-4648-80F5-A75ED8F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8402B-C58C-4006-960F-11FBE5E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273-99CB-4CD9-8956-AAC684E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B8220-8453-49A8-BF56-C945574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6919-B57F-4A60-A7F1-778231E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7798-841B-411B-AC2D-8C3489C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66F75-8481-447F-9576-F782859A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9796-8536-4878-AFE6-E97C0349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94ED-9967-4253-9A9F-17835613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4198-0521-4346-9D1A-77A2D6C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DB2F4-F882-4BFF-8A30-743670B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14812-B4DF-449D-82C3-72548A46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72A5-E689-48BC-BE89-D10F3FA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93A-7F18-440E-8B8D-BE4CE915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D0D1-48CC-4F94-A4E0-1815489B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EBA52-07C9-4D3C-A1EC-C76C5CA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9D26-6F3F-4498-832D-979C684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DE6B-7166-4854-BFAD-DFE06AD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86F4-CED4-43AA-93B3-1766E91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757C-4A4D-4326-B402-7D7B9B80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CF585-43DB-4A8E-82B6-C7B49F3A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6030-AABE-42A0-B09C-0D56946B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666BD-38A1-4784-A5BC-57EEAF2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9546-77C0-47EE-8211-226B700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CFD41-2B51-4BBA-A8E7-788ACB5718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938D1-29CE-4D3B-949C-35BDA5D3A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05126CD-49B6-4602-8DC2-4ADFCB105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E9379-1644-4E5F-B8F0-A65610186D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0922-D369-4B6B-B6BB-CB3A5E739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D199F-A4AE-4111-81C5-EAB39F7BEC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AC785-293E-4926-97DC-3826DC38C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B4325-859D-4B2E-98AA-6C4927F445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2810-526C-4B26-93D1-A5A250B9D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E7AA1-5CDF-460A-A15B-BAE54C7BCE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A6462-F16D-4EC2-BD01-A460B2E32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AFBC7-A88C-4C84-B977-F7C24B8741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C604A-36D0-481E-BDCF-A3C9C9460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EA6EC-E8A3-4522-B697-CC26C3CD8A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130D4-791C-4EA1-B69F-2DC84BEED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2CE88-DAE2-44ED-8254-F9F5882215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C558A-98D6-4EAE-82D3-5DEA83522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8F871-0A70-4E99-BE74-7710E40401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2A7E3-F4AD-49D4-ADF4-301E9DC1E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56CD7-9583-4C1A-A232-5C328ADAE7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B4969-AB4A-4ACB-B3D7-A52AF3D9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8FDAB-4D38-4ACC-B31B-169CFAE9E7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21465-AFA4-459A-A3BE-FF5DB91D3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9FD45-61F8-43FF-8CCB-6E04784240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F842D-3F13-4CE7-846E-580504E5B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75BE-5A5E-4BC6-9696-DC904F8CF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E55DA-C66A-462F-AC8D-05A9FA209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0EFF-846A-4815-90EA-87E134B82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DB80B-92EB-4BA0-B28D-4B3BE3579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8B8BB-A22B-4167-B7C0-BE8C1F83E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37399-DC3A-4295-8623-C011F540B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40:05Z</dcterms:modified>
  <cp:revision>181</cp:revision>
  <dc:subject/>
  <dc:title>Titulní strana – Titulek</dc:title>
</cp:coreProperties>
</file>