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Seminář pro žadatele – oblast podpory 2.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DB6C9B-CE98-4854-A212-B682C9A66D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alší kritéria – právnická osoba, nesmí být v úpadku, splňuje podmínky bezdlužnosti vůči veřejné správě a zdravotním pojišťovná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662D2A-49FD-40AF-9F82-A2DF99BD6E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ákon 182/2006 Sb., o úpadku a způsobech jeho řešení (insolvenční zák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ED317A-B4F9-442F-B82A-98B6742CEB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ba udržitelnosti bude stanovena v právním aktu o poskytnutí do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99E132-BE8D-4704-BC26-1ACBA27756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zor na nefinalizaci žádosti – neopraviteln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Kritéria přijatelnosti: oprávněný žadatel, sídlo na území ČR, partner splňuje podmínky oprávněnosti, KA jsou v souladu s výzvou, CS jsou v souladu s CS stanovenými výzvou, doba trvání projektu, požadovaná výše finanční podp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50E186-2D7A-420B-9588-DDAE3C1B1D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ákon č. 111/1998 Sb. o vysokých školách a o změně a doplnění dalších zákonů, ve znění pozdějších předpis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ákon č. 341/2005 Sb., o veřejných výzkumných institucích, ve znění pozdějších předpis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ákon č. 130/2002 Sb., o podpoře výzkumu, experimentálního vývoje a inovací z veřejných prostředků a o změně některých souvisejících zákon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94B710-44B8-4EE8-A281-1EA3E644D1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FD15-21F7-4F02-8CC3-F240C030C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C563-C7B0-48B7-8CFE-0CDA0721C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008D-8984-49F9-9D80-A4D4D7680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1C84-D514-432D-A21A-CD51D1371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1D8A-5362-4AA6-9A43-576FB8916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7681-3A4B-410E-AEFD-0BA14D555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6E47-B009-41E2-B516-6DEAE4E2A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D078-B3E0-438F-BE70-D550F4D45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4E65-7EF2-451D-B092-A08E608FA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ED75-2E65-46BB-9881-59CE0F01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EA25-CAC9-4565-ADCF-CD76716A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3DF2-A1C5-4E4A-9C0E-A159DD42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F7B61F-FEE6-4A18-96A2-417B5259704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36E261-2F52-4194-BF4A-D25D20C57C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fld id="{21A82633-44C4-4A85-9CBA-C53E082BB1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MSMT_tecky_OK_RGB.ai"/>
          <p:cNvPicPr/>
          <p:nvPr/>
        </p:nvPicPr>
        <p:blipFill>
          <a:blip r:embed="rId2"/>
          <a:stretch/>
        </p:blipFill>
        <p:spPr>
          <a:xfrm>
            <a:off x="133020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590920" y="5495760"/>
            <a:ext cx="4267080" cy="84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160640"/>
            <a:ext cx="7434360" cy="26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600" spc="-1" strike="noStrike">
                <a:solidFill>
                  <a:srgbClr val="f39800"/>
                </a:solidFill>
                <a:latin typeface="Helvetica CE"/>
              </a:rPr>
              <a:t>Seminář pro žadatele o finanční podporu – oblast podpory 2.2 Vysokoškolské vzdělávání</a:t>
            </a:r>
            <a:endParaRPr b="1" lang="en-US" sz="3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31680" y="3411000"/>
            <a:ext cx="7188120" cy="21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Helvetica CE"/>
              </a:rPr>
              <a:t>Veronika Šišperová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29840" y="1260360"/>
            <a:ext cx="6458040" cy="91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Doba trvání a území dopadu podporovaných aktivi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127160" y="2565000"/>
            <a:ext cx="707544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Helvetica CE"/>
              </a:rPr>
              <a:t>Území dopadu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: všechny regiony České republiky mimo území NUTS II hl. města Prah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(</a:t>
            </a:r>
            <a:r>
              <a:rPr b="1" lang="cs-CZ" sz="2400" spc="-1" strike="noStrike">
                <a:solidFill>
                  <a:srgbClr val="e46c0a"/>
                </a:solidFill>
                <a:latin typeface="Helvetica CE"/>
              </a:rPr>
              <a:t>Místo realizace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: sídlo žadatele může být na celém území ČR včetně NUTS II hl. m. Prahy)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F96BE2-8610-490A-91CD-6F7B524DC9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Partnerstv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329840" y="2228760"/>
            <a:ext cx="6458040" cy="23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samostatně nebo ve spolupráci s partnerskými organizacemi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partnerství nesmí nahrazovat poskytování běžně dostupných služeb na trhu ani dodávku běžného zboží (partner nesmí být skrytým dodavatelem)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13F6BC-7D7E-418C-B87B-80C1D5C4C4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Partner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330200" y="1952640"/>
            <a:ext cx="6864480" cy="33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 finančním příspěvkem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bez finančního příspěvku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Kritéria dle Příručky pro žadatele: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ávnická osoba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ídlo na území ČR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ení v úpadku podle zákona č. 182/2006 Sb., není proti němu vedena exekuce nebo výkon rozhodnutí nebo není v likvidaci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plňuje podmínky bezdlužnosti vůči státní správě a ZP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F83AA4-1FE4-463B-A625-81D681EC93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Monitorování projektů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330200" y="2147760"/>
            <a:ext cx="6632640" cy="31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ovinnost v průběhu realizace projektu sledovat naplňování monitorovacích indikátorů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eznam monitorovacích indikátorů je uveden v Příloze č. 2 této výzv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Metodika monitorovacích indikátorů: http://www.msmt.cz/strukturalni-fondy/monitorovaci-zprava-a-jeji-prilohy-1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9CCD7F-6C26-405B-9AC0-D64E4E9F2C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Udržitelnost projektu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160280" y="1952280"/>
            <a:ext cx="704196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 rámci této výzvy se neuplatní podmínky udržitelnosti stanovené v kap. 6.4 Příručky pro žadatele OP VK, verze 6 účinné od 30.10.2009. V rámci této výzvy není udržitelnost projektů poskytovatelem vyžadována.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9839E8-2FA6-4B9D-A57B-F40375FA8F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Způsob výběru projektů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29840" y="1952640"/>
            <a:ext cx="6458040" cy="33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formální náležitosti – opravitelné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kritéria přijatelnosti – neopravitelné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grémium zpravodajů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konečné schválení – ministr/ministryně školství, mládeže a tělovýchov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(Kritéria hodnocení – Příručka pro příjemce)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Helvetica CE"/>
              </a:rPr>
              <a:t>bodová bonifikace – potvrzení města o IPRM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27C53A-C202-4F1F-B4F8-A82D31ED82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C44C69-9BBB-4DD0-80D0-F4CD8F7F26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Proces hodnoce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29840" y="2068560"/>
            <a:ext cx="645804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řijetí a registrace žádosti </a:t>
            </a:r>
            <a:r>
              <a:rPr b="0" lang="cs-CZ" sz="1400" spc="-1" strike="noStrike">
                <a:solidFill>
                  <a:srgbClr val="7f7f7f"/>
                </a:solidFill>
                <a:latin typeface="Helvetica CE"/>
              </a:rPr>
              <a:t>(Odbor CERA)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Formální hodnocení </a:t>
            </a:r>
            <a:r>
              <a:rPr b="0" lang="cs-CZ" sz="1400" spc="-1" strike="noStrike">
                <a:solidFill>
                  <a:srgbClr val="7f7f7f"/>
                </a:solidFill>
                <a:latin typeface="Helvetica CE"/>
              </a:rPr>
              <a:t>(PM/FM Odboru CERA)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Hodnocení přijatelnosti </a:t>
            </a:r>
            <a:r>
              <a:rPr b="0" lang="cs-CZ" sz="1400" spc="-1" strike="noStrike">
                <a:solidFill>
                  <a:srgbClr val="7f7f7f"/>
                </a:solidFill>
                <a:latin typeface="Helvetica CE"/>
              </a:rPr>
              <a:t>(gestor ŘO)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Hodnocení věcné </a:t>
            </a:r>
            <a:r>
              <a:rPr b="0" lang="cs-CZ" sz="1400" spc="-1" strike="noStrike">
                <a:solidFill>
                  <a:srgbClr val="7f7f7f"/>
                </a:solidFill>
                <a:latin typeface="Helvetica CE"/>
              </a:rPr>
              <a:t>(hodnotitelé, zpravodaj, Grémium zpravodajů)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Vyrozumění o výsledku hodnocení 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a uzavření právního a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6" name="Šipka doprava 6"/>
          <p:cNvSpPr/>
          <p:nvPr/>
        </p:nvSpPr>
        <p:spPr>
          <a:xfrm rot="5400000">
            <a:off x="4386240" y="2457360"/>
            <a:ext cx="285840" cy="2160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f7964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Šipka doprava 7"/>
          <p:cNvSpPr/>
          <p:nvPr/>
        </p:nvSpPr>
        <p:spPr>
          <a:xfrm rot="5400000">
            <a:off x="4387680" y="3141720"/>
            <a:ext cx="285840" cy="2160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f7964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Šipka doprava 8"/>
          <p:cNvSpPr/>
          <p:nvPr/>
        </p:nvSpPr>
        <p:spPr>
          <a:xfrm rot="5400000">
            <a:off x="4389480" y="3800520"/>
            <a:ext cx="285840" cy="2160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f7964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Šipka doprava 9"/>
          <p:cNvSpPr/>
          <p:nvPr/>
        </p:nvSpPr>
        <p:spPr>
          <a:xfrm rot="5400000">
            <a:off x="4390920" y="4441680"/>
            <a:ext cx="285840" cy="2160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f7964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3"/>
          <p:cNvSpPr/>
          <p:nvPr/>
        </p:nvSpPr>
        <p:spPr>
          <a:xfrm rot="16200000">
            <a:off x="-608400" y="350748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7 měsíc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evá složená závorka 11"/>
          <p:cNvSpPr/>
          <p:nvPr/>
        </p:nvSpPr>
        <p:spPr>
          <a:xfrm>
            <a:off x="1330200" y="2209680"/>
            <a:ext cx="347760" cy="3108600"/>
          </a:xfrm>
          <a:custGeom>
            <a:avLst/>
            <a:gdLst>
              <a:gd name="textAreaLeft" fmla="*/ 222120 w 347760"/>
              <a:gd name="textAreaRight" fmla="*/ 348120 w 347760"/>
              <a:gd name="textAreaTop" fmla="*/ 9000 h 3108600"/>
              <a:gd name="textAreaBottom" fmla="*/ 3099600 h 310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1"/>
                  <a:pt x="10800" y="201"/>
                </a:cubicBezTo>
                <a:lnTo>
                  <a:pt x="10800" y="10599"/>
                </a:lnTo>
                <a:cubicBezTo>
                  <a:pt x="10800" y="10700"/>
                  <a:pt x="5400" y="10800"/>
                  <a:pt x="0" y="10800"/>
                </a:cubicBezTo>
                <a:cubicBezTo>
                  <a:pt x="5400" y="10800"/>
                  <a:pt x="10800" y="10901"/>
                  <a:pt x="10800" y="11001"/>
                </a:cubicBezTo>
                <a:lnTo>
                  <a:pt x="10800" y="21399"/>
                </a:lnTo>
                <a:cubicBezTo>
                  <a:pt x="10800" y="215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jčastější chyb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144080" y="1952280"/>
            <a:ext cx="6907320" cy="36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Žádost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byla finalizovaná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Žádost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byla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odevzdaná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v termín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KA neodpovídají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aktivitám stanoveným ve výzvě (např. řízení projektu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artner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ní právnickou osobo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artner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je skrytým dodavatelem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CS nejsou v souladu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 výzvou (studenti pražských VŠ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řekročena max. doba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trvání projektu (např. 37 měsíců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žadované fin. prostředky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jsou ve stanoveném limi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řekročeny limity kapito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dodrženo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stanovené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rocento nepřímých nákladů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284C94-E5B2-4EC1-A985-208D8AE418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Předkládání projektů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329840" y="1952280"/>
            <a:ext cx="6458040" cy="32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Osobně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MŠMT – odbor CERA, Corso IIa, Křižíkova 34/148, Praha 8 – Karlín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Poštou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MŠMT – odbor CERA, Karmelitská 7, 118 12 Praha 1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o </a:t>
            </a:r>
            <a:r>
              <a:rPr b="1" lang="cs-CZ" sz="2000" spc="-1" strike="noStrike">
                <a:solidFill>
                  <a:srgbClr val="e46c0a"/>
                </a:solidFill>
                <a:latin typeface="Helvetica CE"/>
              </a:rPr>
              <a:t>11. února 2011 (15. dubna 2011, 25. listopadu 2011) v 13:00 hodin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– rozhoduje datum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doručení zásilky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, nikoliv datum odeslání.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9EF77B-1FC8-4812-BE7D-C24ACAE6FE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bsah obálk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finalizovaná projektová žádost vytištěna z Benefitu (stejný hash code jako elektronická verze)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pojené přílohy (1. stránka: „Seznam příloh“)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CD-R: nahraná finalizovaná benefitová žádost a všechny přílohy ve formátu .pdf (naskenované s podpisy, včetně seznamu příloh)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oslední kontrola žádosti před odevzdáním – příručka pro žadatele (verze 6) – str. 50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6DF076-0D70-430F-833B-891AD6F348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124884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Helvetica CE"/>
              </a:rPr>
              <a:t>Obsah semináře</a:t>
            </a:r>
            <a:endParaRPr b="1" lang="en-US" sz="3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371600" y="2681280"/>
            <a:ext cx="6283440" cy="25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99960" algn="just">
              <a:spcBef>
                <a:spcPts val="700"/>
              </a:spcBef>
              <a:buClr>
                <a:srgbClr val="000000"/>
              </a:buClr>
              <a:buFont typeface="Helvetica CE"/>
              <a:buAutoNum type="roman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Helvetica CE"/>
              </a:rPr>
              <a:t>Základní informace k výzvě </a:t>
            </a: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marL="399960" indent="-399960" algn="just">
              <a:spcBef>
                <a:spcPts val="700"/>
              </a:spcBef>
              <a:buClr>
                <a:srgbClr val="000000"/>
              </a:buClr>
              <a:buFont typeface="Helvetica CE"/>
              <a:buAutoNum type="roman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Helvetica CE"/>
              </a:rPr>
              <a:t>Věcná část výzvy</a:t>
            </a: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marL="399960" indent="-399960" algn="just">
              <a:spcBef>
                <a:spcPts val="700"/>
              </a:spcBef>
              <a:buClr>
                <a:srgbClr val="000000"/>
              </a:buClr>
              <a:buFont typeface="Helvetica CE"/>
              <a:buAutoNum type="roman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Helvetica CE"/>
              </a:rPr>
              <a:t>Finanční řízení</a:t>
            </a: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marL="399960" indent="-399960" algn="just">
              <a:spcBef>
                <a:spcPts val="700"/>
              </a:spcBef>
              <a:buClr>
                <a:srgbClr val="000000"/>
              </a:buClr>
              <a:buFont typeface="Helvetica CE"/>
              <a:buAutoNum type="roman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Helvetica CE"/>
              </a:rPr>
              <a:t>Diskuze</a:t>
            </a: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367C6D-00DA-4319-83E6-E56E73CC19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Materiály a zdroje informac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2200" y="1952640"/>
            <a:ext cx="7791480" cy="36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spcBef>
                <a:spcPts val="499"/>
              </a:spcBef>
              <a:tabLst>
                <a:tab algn="l" pos="0"/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http://www.msmt.cz/strukturalni-fondy/pro-zadatele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00"/>
              </a:spcBef>
              <a:tabLst>
                <a:tab algn="l" pos="0"/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     </a:t>
            </a:r>
            <a:r>
              <a:rPr b="0" lang="cs-CZ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Výzvy: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Text výzvy 2.2  +  Přílohy č. 1 až 8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Příručka pro žadatele: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Příručka pro žadatele 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(verze 6, platná od 21.10.2010)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Webová aplikace Benefit7: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Jak vyplnit webovou žádost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99"/>
              </a:spcBef>
              <a:tabLst>
                <a:tab algn="l" pos="0"/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http://www.msmt.cz/strukturalni-fondy/zakladni-dokumenty-a-zpracovatele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00"/>
              </a:spcBef>
              <a:tabLst>
                <a:tab algn="l" pos="0"/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Prováděcí dokument OP VK 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(aktuální verze)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7E3456-EFF7-4B28-ACA6-3A96D22656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Doporuče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29840" y="1952640"/>
            <a:ext cx="6458040" cy="33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oulad projektu s </a:t>
            </a:r>
            <a:r>
              <a:rPr b="1" lang="cs-CZ" sz="2000" spc="-1" strike="noStrike">
                <a:solidFill>
                  <a:srgbClr val="e46c0a"/>
                </a:solidFill>
                <a:latin typeface="Helvetica CE"/>
              </a:rPr>
              <a:t>pravidly OP VK a pravidly stanovenými výzvou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(nutné respektovat).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rojekt by měl mít logickou posloupnost, řešit definovaný problém, jasně stanovené měřitelné a reálně dosažitelné cíle, vycházet z potřeb cílové skupiny a být </a:t>
            </a:r>
            <a:r>
              <a:rPr b="1" lang="cs-CZ" sz="2000" spc="-1" strike="noStrike">
                <a:solidFill>
                  <a:srgbClr val="e46c0a"/>
                </a:solidFill>
                <a:latin typeface="Helvetica CE"/>
              </a:rPr>
              <a:t>jasně napsaný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(bez možnosti dalšího vysvětlování).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08128A-F0F1-492D-9BF8-45B9F5A7E9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Kontakt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160280" y="2155680"/>
            <a:ext cx="6864120" cy="33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kontaktní místo: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odbor CERA (46)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možnost realizace osobních konzultací po telefonické či elektronické dohodě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kontaktní osoba: 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Ing. Veronika Šišperová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tel.: 234 814 236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e-mail: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Helvetica CE"/>
              </a:rPr>
              <a:t>veronika.sisperova@msmt.cz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problémy s vyplněním webové žádosti: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e-mail: </a:t>
            </a:r>
            <a:r>
              <a:rPr b="1" lang="cs-CZ" sz="1800" spc="-1" strike="noStrike">
                <a:solidFill>
                  <a:srgbClr val="0070c0"/>
                </a:solidFill>
                <a:latin typeface="Helvetica CE"/>
              </a:rPr>
              <a:t>help_opvk@msmt.cz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6DD9C1-91DB-4B42-909D-15D82092DF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1347480"/>
            <a:ext cx="743436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4000" spc="-1" strike="noStrike">
                <a:solidFill>
                  <a:srgbClr val="f39800"/>
                </a:solidFill>
                <a:latin typeface="Helvetica CE"/>
              </a:rPr>
              <a:t>Děkuji za pozornost</a:t>
            </a:r>
            <a:endParaRPr b="1" lang="en-US" sz="4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2419200"/>
            <a:ext cx="6400800" cy="28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Helvetica CE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329840" y="1952640"/>
            <a:ext cx="6458040" cy="33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Helvetica CE"/>
              </a:rPr>
              <a:t>Základní informace k výzvě</a:t>
            </a:r>
            <a:endParaRPr b="0" lang="en-US" sz="4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31FF3A-CDEA-4D68-9AF9-EDF5B0EEA0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9200" y="1248840"/>
            <a:ext cx="710892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Výzva, termíny výzvy, doba trvání 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133280" y="1815840"/>
            <a:ext cx="72500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číslo výzvy v informačním systému: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28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(Prioritní osa: 2 – Terciární vzdělávání, výzkum a vývoj, Oblast podpory 2.2 – Vysokoškolské vzdělávání)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atum vyhlášení výzvy: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11. ledna 2011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atum ukončení výzvy: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25. listopadu 2011ve 13:00 hod.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typ výzvy: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průběžná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Doba trvání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ředkládaných projektů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: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max. 36 měsíců, ukončení projektu nejpozději 30. 6. 2015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FFFF1E-7C66-482F-BADE-FAB24D5EE5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79200" y="1248840"/>
            <a:ext cx="710892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Termíny předkládání žádostí 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7. – 11. února 2011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11. – 15. dubna 2011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21. – 25. listopadu 2011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ždy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do 13:00 hod.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v den ukončení příjmu žádostí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1CC710-701C-44DA-94DC-16D2779766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Finanční alokac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160640" y="2155680"/>
            <a:ext cx="7526160" cy="33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celková částka alokovaná pro výzvu: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2 000 000 000,- Kč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omezení výše finanční podpory </a:t>
            </a:r>
            <a:r>
              <a:rPr b="0" lang="cs-CZ" sz="2000" spc="-1" strike="noStrike">
                <a:solidFill>
                  <a:srgbClr val="e46c0a"/>
                </a:solidFill>
                <a:latin typeface="Helvetica CE"/>
              </a:rPr>
              <a:t>na 1 individuální projekt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ostatní (IPo):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min. výše finanční podpory na 1 projekt:  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10 000 000 Kč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max. výše finanční podpory na 1 projekt: 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100 000 000 Kč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954D3A-DBB2-4F5F-B182-7B06187BEE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právnění žadatelé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330200" y="2306160"/>
            <a:ext cx="6640560" cy="30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Helvetica CE"/>
              </a:rPr>
              <a:t>vysoké školy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(dle zákona č.111/1998 Sb., o vysokých školách a o změně a doplnění dalších zákonů)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DFAFDE-7B0F-4F73-B2DF-3BAFA0853E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právněnost žadatel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144440" y="2171520"/>
            <a:ext cx="681048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Další kritéria dle Příručky pro žadatele: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není v úpadku podle zákona č. 182/2006 Sb., není proti němu vedena exekuce nebo výkon rozhodnutí nebo není v likvidaci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plňuje podmínky bezdlužnosti vůči státní správě a ZP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1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A6F50B-5720-4E33-AA53-8E188EC45B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29840" y="1095120"/>
            <a:ext cx="645804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Cílové skupin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329840" y="1952280"/>
            <a:ext cx="645804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tudenti VŠ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Akademičtí pracovníci VŠ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Ostatní pracovníci VŠ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kteří studují nebo pracují v regionech ČR </a:t>
            </a:r>
            <a:r>
              <a:rPr b="1" lang="cs-CZ" sz="1800" spc="-1" strike="noStrike">
                <a:solidFill>
                  <a:srgbClr val="e46c0a"/>
                </a:solidFill>
                <a:latin typeface="Helvetica CE"/>
              </a:rPr>
              <a:t>mimo území NUTS II hl. města Prahy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(tzn. v regionech ČR spadajících do Cíle Konvergence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2C8643-6AD0-45AC-8D48-CD13560113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7:09:51Z</dcterms:created>
  <dc:creator>Amos Amos</dc:creator>
  <dc:description/>
  <dc:language>en-US</dc:language>
  <cp:lastModifiedBy>ugh</cp:lastModifiedBy>
  <dcterms:modified xsi:type="dcterms:W3CDTF">2011-01-17T07:26:31Z</dcterms:modified>
  <cp:revision>138</cp:revision>
  <dc:subject/>
  <dc:title>Titulní strana – Titulek</dc:title>
</cp:coreProperties>
</file>