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0723D-F868-449A-8A08-1E7173F1D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F1633-4BAA-4787-874D-A22130DFC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7F184-40B0-45AF-815E-890826504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DCF2B-C6C0-4009-AF42-A51FD9156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7C06D-4A1C-41DB-9736-21ACC5FD5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1D210-0180-403F-B04F-193B8AF59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4C5-987D-4538-9275-21874574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2F6-888F-45A6-8C42-19B872EB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3A7-7C1E-4633-8C02-CE96C46B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0DA-65EC-4DA7-845A-26A0CA26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678-0FD9-43CB-B6B3-341E1A79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515-2CE7-4117-B93D-1734D6D3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8F9-B5B7-422D-935B-E1C77D4B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B54-6A53-4E50-B62E-DEB7F960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1C2-F395-49C1-BCFE-CF322038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E59-87DB-4E91-BB63-3B404AD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A16-F904-4FD5-98E4-CDC49C33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340-B1E1-4D13-BCDA-D318235E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B1689-0F14-4E65-82F4-6B51853866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95DDE-C050-4700-A3AB-7FEA26665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7AEA394-8E17-4C3A-B8B1-C3D8250D6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16E26-DFC9-4C4A-B0E1-8B25B6EB8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8F221-FC3F-4EA6-8A53-A5BC70D4F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0A599-5319-4B6A-B0E7-54DA800DF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F1694-9D3A-473D-9CEF-9AE4C2279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AB96B-27CC-4407-B6BE-00417C255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FE0B9-2793-480A-8C1E-1CD52F102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1730B-943E-4263-A226-84BC2FC07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09E1D-4150-4D67-9867-0B8077EFC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CAB65-78AF-48E8-9668-FD7238969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1E7AF-FB34-4D57-AAD7-1654CA24F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6BD0B-C433-4075-8C2D-03D3F5FDD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036B7-6EB3-460D-9E43-BC7202F02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904AD-5DEA-4C07-BF31-453B12E0F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C168C-C84F-4FCD-8FBD-DA9D8BB21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A9F63-8C97-464D-B4B4-AFF328D88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BB957-EF6B-4AC7-9226-62016932F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CE544-F42E-4BE0-9C3B-5103AEF3B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8D56C-4EF0-4CEC-B814-5A8116E03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8195B-1EC8-4711-BA8A-876F98D78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7C94E-5ADF-4EC8-A45A-E07D66092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20CE1-8701-4CAC-9408-4DEF2D6D7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31Z</dcterms:modified>
  <cp:revision>138</cp:revision>
  <dc:subject/>
  <dc:title>Titulní strana – Titulek</dc:title>
</cp:coreProperties>
</file>