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4516A-931E-47A5-AB2C-86778DC1F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D9EC4-E8E8-4082-A05B-A07949C03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A7EA7-5EC1-445E-A58E-9B121B294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9EC68-6A51-4340-8ACF-30D52800E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B0ACB-99A8-4AB0-9940-54FA5ECC6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1CB02-0949-4D11-8F02-A6ACACC04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7CD-3B39-4177-B928-8D4CEB60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9EB-07D0-4A03-8031-7EB5619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9E3-2CC5-4955-B989-D92F24C1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CCF-E138-4E43-9F44-9DDA558D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041-BEA8-4FA1-96AE-C62578F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B5C-719A-4D27-8BA3-78712575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A29-9E14-4FE3-B7A0-187D0615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738-C97A-42CA-B02B-CC9961DD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8ED-6738-4811-916C-A2AD9253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353-16D2-4B17-A655-FE3C511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EE5-72CB-478D-8F66-CFF5C6C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53D-A95B-426C-A547-BB3B2AD5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CC83C-DE2E-4E79-97D6-9AFE56D1EB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13750-BEA8-4F2E-B5A1-A110E5221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62E6DE1C-8C9F-4AD4-95FD-CBE65428F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3359C-79B1-4360-955E-69FD6438F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EDF82-A529-41C0-B20F-A5ADCE711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1D8D3-8509-4291-A7C2-7CC482D03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71E3C-6E82-4EF4-BD06-73AA7981B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A8D44-F703-4D52-BD11-F000BEF38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97BC7-CF02-4375-8860-27A7AB96C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8C9EE-7BD6-402F-878F-DDF9673D2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FA713-C5A3-4DCB-B3C8-AF5D6A8DE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34C9B-476F-4529-A076-459B6FF00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B08A4-1CA9-4B9F-AEF0-BFAC1B42B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2BAC8-90A0-484E-AFAE-E7055EF69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4E74F-9DF9-4F6A-8AFA-A8B728E10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B4771-FE24-4B74-8DEC-CA54D5B12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9AF67-2362-47C3-9D8A-C80087510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18C9F-F6B6-45D7-A422-DB354E5AC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99B2D-3047-4A8C-B0E9-2837A5E5B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45AE7-1556-47ED-A031-F1D8A2101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1B3C2-471F-4B8A-8196-F70D87E61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795C7-C2CB-4A80-8054-BC9B24E60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2D554-549E-4B35-B3AE-9A8796550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F960F-5CB5-426D-B485-CC043ADDE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31Z</dcterms:modified>
  <cp:revision>138</cp:revision>
  <dc:subject/>
  <dc:title>Titulní strana – Titulek</dc:title>
</cp:coreProperties>
</file>