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124-1AE5-4088-B03A-B8C6D4CC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EC8-92AB-4DD0-A7DE-DD95AD2B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B06F0-B03B-4ACC-A942-4F54B024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10A1A-C22D-4C68-B227-8227BB52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00FB1-F4A3-42B9-AB5A-518454DA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FF4D1-62D9-4A73-ACF0-606B44C9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6B147-1C00-47D5-801C-0EF958C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0219C-E9A9-4159-95FF-B7F6E6D4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048F8-D093-42B5-8089-DD13A443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EE657-3A92-402B-AF61-C21833B0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01C63-DE87-45D1-9E3F-3EFB6D5A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E8C7E-0E4A-4DF5-80BC-ACF19348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91C-174D-4D56-BC89-A1D14946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5CB62-1D4E-4CAA-976C-C75D339F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C6CBF-A7D3-4CC4-8ECB-78194CB6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FDD1E-0C2B-424E-B283-C88E0473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42A9E-98FF-42E8-9F46-E76D0C6E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AC171-C3A2-4940-B3C2-AC1816AE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80F72-9DCB-4D87-B282-44B78528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73A50-15E6-4558-AA27-96FC8306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3AE3E-46BA-4160-A3D1-3E04BE20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F62CD-3E1D-4517-BBDB-6D299B5D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1B009-0DC3-4D4A-BB7E-EB5C15D5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56E-6836-4336-BB1E-07C86DE6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19C79-9756-4B12-AEF4-4E512F16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07457-474E-4F7B-8BF0-DC8C8C3C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9A652-D179-49E0-87AD-6725F65B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E6BB4-E6C1-421D-A8F1-079B88FF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A3DC1-5B31-45AE-BBAA-2C2C6C8E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E20F8-CBC4-4DF0-845C-988012AA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A11B3-873B-4E99-B833-A31B0458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D3E98-D844-4CE2-A322-E170FC9B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C7F51-E060-449A-A3C0-736B1B68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B4E03-4F20-4A7F-A0F6-9C051642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72CA-5A2C-4B23-B4B9-3AABD60C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AC775-0D21-469A-A55D-648A85FD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4E232-A0BE-4CA3-84A6-B869EAEC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04CC6-3E46-4FAA-B6D1-C07425C2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4F801-D6D3-443A-8C3F-6B35E09A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EAA69-F887-4051-A1BC-CB2C0587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AA601-150C-439A-B76F-D1765939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62879-A2FA-4174-9C9E-2611FD79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59577-047D-4016-B7F2-639B90BB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41828-A0A5-47D1-BDD4-F55685B9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B79A3-188A-4F4F-8E45-07034361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6846-6E11-4EEC-8301-4FC869EA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C886C-ABFE-421D-982D-82B51187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A292F-8DB5-42C3-8392-02472EF6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AEC6D-E9D3-41C0-AABA-CA58D755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9D411-0570-45AC-89CE-11CB0B76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C2DCE-2413-4F65-956C-143F8503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6B2E-D4F6-46F6-8DB1-B0A03956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E8AD-FDE2-4515-B83D-9AD6A7F7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8D44-F71D-4090-BD6C-DB835574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53C1-C1FD-4418-8EA5-132468D8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6822-2717-4383-9E53-5EE6EB5B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1E6-2BC6-4217-A963-D61137E8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D305-9FAA-4F55-9181-C8EBCE24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5D21-5DB3-4D75-A2A9-A13BBFA5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9449-57BB-4474-B83C-EC59FC63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712D-FD50-404F-AFD9-374258B5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AE81-E690-47A0-B3E9-7CBA4986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EB56B-ECF8-4715-923A-EEA7FB8E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4F32D-D35B-4713-92B4-D4FD4186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1E52-AD9C-42C9-8030-1BDA77A6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6404-20A2-4C88-8846-460C0049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1FDF9-EB9E-4CBB-9820-535ACB17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7E8-D153-492C-9A3E-713FD221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EEB38-EDE1-4269-BB73-14E5AE14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6D4E7-3BE5-4D27-8142-085243A1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EB7A0-A308-4006-B2BB-4E6BBFA3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1D74F-592A-465F-B093-011F169E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E1D44-1CB0-401D-9AF6-14F3E763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4211D-7EA2-4427-AEAF-605D93E7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C9391-9593-4681-8B89-50F99F8B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2F33A-4F2D-4853-86C6-0B35F7A8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5EA89-EC3F-421E-8F75-47D7D85C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E9A09-6F72-4B39-8FBB-14D05B24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ADB-7B09-4AEA-BC09-FE0899DF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915B4-01C5-484B-AD47-D89DF242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81993-8A69-4033-AD39-DF8D6337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5FD9B-1957-4045-8DB4-6E4D44AC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A4CFA-65B3-499E-8DBE-CF636EEC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377C5-BE20-44A5-93D4-AE0D50BF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3C089-92BF-4442-98F4-5FC7CD10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3EFE-649C-434A-A14F-26C30BF3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49D5F-8BB1-442B-9A66-07C71591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77F21-E297-4021-96BE-13170A5A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9F21-8AFC-47CB-942F-D13D8D4C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E07-161F-4ABE-A5AC-36D1C8C0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B7D71-25CB-4F96-9A99-C70F9BB1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939E4-7529-4D46-B252-C1FD3F91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20484-2ABF-4231-8768-DDEB7481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3E9AD-1175-4AD9-B23F-0C0739D7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146CC-7AFB-41BE-B8E6-09894955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862EC-CE22-4778-BA84-76BBC596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2099D-6DBE-4CB8-95CD-E98CE847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3F191-B90C-46AF-955E-EFAA871B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DF3CE-B44C-424A-A699-34A316EF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891EC-7124-4363-9502-91B378A4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697-586F-4C85-8D5D-20D9724A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55971-402D-4185-8DF6-35723397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0E288-8DA6-4E84-BFD1-9EACCC36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5AABD-0854-4857-A74D-2E33B18B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CE219-EB58-41DF-B610-1AD582DE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F5404-9A81-42EA-85AB-CF690F49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C287E-5024-4B02-AB07-0FCD2AE2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DF975-B0D0-45F7-A39D-4EA53319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4DF02-040D-4B6E-A988-11417533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61DBB-DB83-417D-9116-288F394C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3B2D8-4DA0-4E6B-9091-06CC0DAB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9EC-3657-456F-B9AD-B42017E9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3605A-D1BB-4EA6-9977-B4FA5067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89753-17A7-479C-BC89-A3E5FF1A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45E44-A1B0-4201-9BC2-0DDC3EA6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A1969-CC4A-4279-B13C-2C595665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B8689-CCCC-424E-921F-68662846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26801-525A-4223-B551-35B953B0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B2517-721D-4B01-A7A9-B88C9ED9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23CBE-9D31-4A46-8ABC-F35E46B5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2652D-6E59-4B59-8BA4-CB888C72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1A02E-5D9F-4804-8CA7-1523BB54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B75-8418-46C6-92CE-2F815072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6D3AB-0231-49AA-B83F-9255FB86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21919-778A-4161-8648-131FD400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CCD25-B563-4C13-8512-E0D58066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8ADCA-FEB0-45DD-82B2-8BD97AF7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DD79E-CD02-4537-8819-BFEAF57F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E9EB0-81C1-4959-874B-B95F010B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19366-3843-40EF-A8CC-FD02D353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63A23-C23B-4C65-AE9A-A25A0D5D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BAF40-1998-47D0-9B89-85ADBA02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CF3FE-B718-45C8-873B-3C3786D3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A9C-572F-4340-90AC-2616E3C7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43AB3-30E4-461D-B9FE-EFA0C346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978C7-F387-4139-A58D-0ED127FA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7EF7C-F03B-4E8A-8172-4322D857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58075-B2B2-419E-A6FA-2698E21C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8B198-5DCA-444B-86E9-F2680370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0B0D4-5E76-45A8-8678-58BFF823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306E5-3FFC-4A45-9CFF-1B331B4C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4203A-8FDA-4CAC-B96D-CE89C7F7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0FF1D-E12F-469C-AB25-DB195B4F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5FD48-3E2B-4750-BEC2-88C04EC4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12743-3330-4078-9A9D-A8DEF46F63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4E6B1-7254-4FA2-9614-1230F1A4C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8556FE3B-9270-4F33-AD0A-81815E8F1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C0711-C8B4-4562-B96E-C72BD0A2B9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3954E-3743-4B4F-839A-18A759C63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BD57A-01E2-49AA-895E-B22D80E6E71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49A63-100A-4456-8B71-2EAFEAE17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4DD9B-D22D-4EC2-9A9A-D7101A86106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0237C-0577-46B4-89B9-007EBABBE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69F13-7EE9-4BC6-BA36-0088BF62E70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5112B-9834-4DAE-B113-716DF4C9A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D3CF5-0BE6-4EAE-B0A9-50F18E2D240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02BB4-1DF2-4949-B115-77F634F55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EAAA6-E739-4D92-BC82-F260DD16465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A12D0-9DD6-4748-ABF8-071CAB3FF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4478C-1156-4827-89AC-CAFA7F2AE46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ECE0A-0EAE-4730-824E-33A72C8B0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A928A-5AEE-40E2-A58C-8C01D798E34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527E8-91DA-4BF8-A40B-C8C710909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49DDB-864D-4CFE-8654-355132EA085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3DE10-DA91-4754-B613-9EB19083B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8CB35-15DA-494F-8AC6-638A363ABC4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A5735-E9FA-4C11-BCDA-69EDBB52E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9FDE9-FECA-42F3-A111-E5F54A75A45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B4780-7433-4C9E-BC26-343D7F360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jana.baresova@msmt.cz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43231-6BF4-41AD-AB40-79444C248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tle 1"/>
          <p:cNvSpPr/>
          <p:nvPr/>
        </p:nvSpPr>
        <p:spPr>
          <a:xfrm>
            <a:off x="1238400" y="2176560"/>
            <a:ext cx="62830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tent Placeholder 2"/>
          <p:cNvSpPr/>
          <p:nvPr/>
        </p:nvSpPr>
        <p:spPr>
          <a:xfrm>
            <a:off x="2292480" y="2176560"/>
            <a:ext cx="44020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Jana Bareš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lužební cesty realizačního týmu – cestovné, ubytování, stravné, nutné vedlejší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Zahraniční expert v ČR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Per diems 230 €/den + doprava do ČR a zpě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růběhu realizace již nelze výdaje na zahraniční cesty navyšova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ímá vazba na realizaci klíčových aktiv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1185840" y="1952640"/>
            <a:ext cx="71499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6" name="Obrázek 6" descr="sluzebni cesty.JPG"/>
          <p:cNvPicPr/>
          <p:nvPr/>
        </p:nvPicPr>
        <p:blipFill>
          <a:blip r:embed="rId1"/>
          <a:srcRect l="0" t="0" r="24761" b="0"/>
          <a:stretch/>
        </p:blipFill>
        <p:spPr>
          <a:xfrm>
            <a:off x="1096920" y="2109960"/>
            <a:ext cx="6900840" cy="288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57" name="Šipka doprava 12"/>
          <p:cNvSpPr/>
          <p:nvPr/>
        </p:nvSpPr>
        <p:spPr>
          <a:xfrm>
            <a:off x="1811160" y="27129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Šipka doprava 12"/>
          <p:cNvSpPr/>
          <p:nvPr/>
        </p:nvSpPr>
        <p:spPr>
          <a:xfrm>
            <a:off x="1811160" y="36003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Šipka doprava 12"/>
          <p:cNvSpPr/>
          <p:nvPr/>
        </p:nvSpPr>
        <p:spPr>
          <a:xfrm>
            <a:off x="1811160" y="4183200"/>
            <a:ext cx="500400" cy="214200"/>
          </a:xfrm>
          <a:prstGeom prst="right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530360" y="2335320"/>
          <a:ext cx="5792760" cy="297324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do zahraničí členů realizačního tý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realizačního týmu po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v zahranič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realizačního týmu v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a a per diems zahraničního exper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louhodobý nehmotný majet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na opravy a údržb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částí 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068480"/>
            <a:ext cx="6758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– křížové financo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9 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ohou uplatnit pouze příjemci, kteří majetek daňově neodepisuj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Helvetica CE"/>
              </a:rPr>
              <a:t>investiční čá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 hmotný majetek nad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zařízení a vybavení hmotné povahy s 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ou použitelnosti nad 1 rok a pořizovací cenou nad 40 tis. Kč za položk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pokud není možné tento majetek pořídit v nezbytné kvalitě za cenu nižš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343160" y="1952280"/>
            <a:ext cx="64576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b050"/>
                </a:solidFill>
                <a:latin typeface="Helvetica CE"/>
              </a:rPr>
              <a:t>neinvestiční čás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by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ioritně by měl být pořízen pro potřebu cílové skupin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kup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třeby realizačního tým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 nutné zvlášť zdůvodnit (vztahuje se na něj limi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5 000 Kč/1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počtený pracovní úvaz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3D82D-56DA-4A46-9111-D0E6FC21D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ovéPole 4"/>
          <p:cNvSpPr/>
          <p:nvPr/>
        </p:nvSpPr>
        <p:spPr>
          <a:xfrm>
            <a:off x="4572000" y="4430880"/>
            <a:ext cx="2692440" cy="703800"/>
          </a:xfrm>
          <a:prstGeom prst="rect">
            <a:avLst/>
          </a:prstGeom>
          <a:noFill/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Arial"/>
              </a:rPr>
              <a:t>(3 + 0,4 + 0,5 + 0,2) * 15 000 = 61 5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EA919-1506-4445-9FB0-B0D2C599C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530360" y="2335320"/>
          <a:ext cx="5792760" cy="276048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ote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kancelářské potřeby pro administraci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Odborná lit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up CD jak pro administraci, tak pro cílovou skupi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zásoby drobného občerstv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ublikace/školící materiály/manuál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dpora účastníků (stravné/ubytování)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7" name="TextovéPole 4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4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90742-45C7-4262-8B83-00F1BE98D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717560" y="2752560"/>
          <a:ext cx="5792760" cy="21513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Pronájem prostor pro semin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daňové a právní poraden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Tisk skript pro 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realizaci výběrových řízení nezbytných pro proje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Rozpočet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53F08-769A-4202-88D4-9D898C662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04760" y="1952280"/>
            <a:ext cx="727560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- nesmí přesáhnout částku za všechny dokončené stavební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úpravy v 1 zdaňovacím období v úhrnu 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pořizovací cena) na každou jednotlivou účetní položku majetk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y jsou prováděny za účelem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usnadnění přístupu a pohybu osobám zdravotně postiženým, nebo úpravy výukových, tréninkových nebo pracovních prostor, používaných na realizaci aktivit s 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které jsou rekonstrukcí nebo modernizací,  pokud 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výšily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  jednotlivého  majetku v úhrnu ve zdaňovacím období částku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spadají do </a:t>
            </a: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křížového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33640" y="2171880"/>
            <a:ext cx="71611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sou poskytovány jako náhrada mezd zaměstnavateli za  pracovníky po  dobu  jejich účasti na dalším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zdělává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až do výše 100% mzdových nákladů, nejvýše však do výše trojnásobku aktuální minimální mzdy)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placené přímo zástupcům cílové skupin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, vstupenky,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Náklady vyplývající přímo z     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udit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522440" y="2685960"/>
            <a:ext cx="6715080" cy="733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589" name=""/>
          <p:cNvGraphicFramePr/>
          <p:nvPr/>
        </p:nvGraphicFramePr>
        <p:xfrm>
          <a:off x="1808280" y="3736800"/>
          <a:ext cx="5792760" cy="14637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bankovní poplat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ublicita projektu včetně úvodní a závěrečné kon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29840" y="2171880"/>
            <a:ext cx="64580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ní potřeba prokazovat účetními doklad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lady spojené s administrací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mohou být přiřazeny ke konkrétní aktivitě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klady: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up vody, paliv a energie, telefonní poplatky, poštovné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8880"/>
            <a:ext cx="64580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TextovéPole 8"/>
          <p:cNvSpPr/>
          <p:nvPr/>
        </p:nvSpPr>
        <p:spPr>
          <a:xfrm>
            <a:off x="1330200" y="3133800"/>
            <a:ext cx="60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plikaci Benefit 7 se po zadání % nepřímých nákladů dopočítá částka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"/>
          <p:cNvPicPr/>
          <p:nvPr/>
        </p:nvPicPr>
        <p:blipFill>
          <a:blip r:embed="rId1"/>
          <a:stretch/>
        </p:blipFill>
        <p:spPr>
          <a:xfrm>
            <a:off x="1111320" y="1952640"/>
            <a:ext cx="6676920" cy="118116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1330200" y="1644480"/>
            <a:ext cx="6458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še stanovena ve výzvě procen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Obrázek 12" descr="nn_benefit.JPG"/>
          <p:cNvPicPr/>
          <p:nvPr/>
        </p:nvPicPr>
        <p:blipFill>
          <a:blip r:embed="rId2"/>
          <a:stretch/>
        </p:blipFill>
        <p:spPr>
          <a:xfrm>
            <a:off x="1220760" y="3780000"/>
            <a:ext cx="474516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97" name="TextovéPole 15"/>
          <p:cNvSpPr/>
          <p:nvPr/>
        </p:nvSpPr>
        <p:spPr>
          <a:xfrm>
            <a:off x="5122800" y="479736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Šipka doprava 12"/>
          <p:cNvSpPr/>
          <p:nvPr/>
        </p:nvSpPr>
        <p:spPr>
          <a:xfrm rot="10800000">
            <a:off x="6838560" y="2607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Šipka doprava 12"/>
          <p:cNvSpPr/>
          <p:nvPr/>
        </p:nvSpPr>
        <p:spPr>
          <a:xfrm rot="10800000">
            <a:off x="6076440" y="479700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ovéPole 18"/>
          <p:cNvSpPr/>
          <p:nvPr/>
        </p:nvSpPr>
        <p:spPr>
          <a:xfrm>
            <a:off x="3959280" y="415440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440 000     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329840" y="2058840"/>
            <a:ext cx="645804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činnosti, které již v rámci jiných programů či Iniciativ Společenství financovaných z ESF či jiných programů financovaných Evropskou unií podporu dostávaj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výdaje na každodenní řízení, monitorování a kontroly žadatele, které by se prováděly i bez realizace projektu - sloužící k zajištění běžného chodu organizace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nákupy vozidel, infrastruktury, nemovitostí a pozemků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DPH nebo její část, pokud existuje zákonný nárok na její odpočet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přímé daně, daň z nemovitosti, daň dědická, darovací, silniční, cla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úroky z úvěrů a půjček, pokud se nejedná o schválenou formu podpory z fondu ESF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f79646"/>
                </a:solidFill>
                <a:latin typeface="Helvetica CE"/>
              </a:rPr>
              <a:t>stipendia nebo platby cílové skupině podobného charakteru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odstupné, peněžitá pomoc v mateřstv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výdaje vzniklé mimo časový rámec způsobilosti 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3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yužívejte komentář k rozpočtu či samostatnou příloh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uďte střídmí v odhadu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řípadě nejasností se na nás neváhejte obrát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Ing. Jana Barešová</a:t>
            </a:r>
            <a:br>
              <a:rPr sz="1800"/>
            </a:b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ea typeface="ＭＳ Ｐゴシック"/>
                <a:hlinkClick r:id="rId1"/>
              </a:rPr>
              <a:t>jana.baresova@msmt.cz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Tel.: 234 814 293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řiměře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ospodár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úč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kazat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časová způsobil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80C21-B708-4D07-97C2-6CC40D2AF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počet v projektové žádosti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26" name="Obrázek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490760" y="2135160"/>
            <a:ext cx="2892240" cy="28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7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157640" y="2538360"/>
            <a:ext cx="2854440" cy="2806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28" name="Šipka doprava 8"/>
          <p:cNvSpPr/>
          <p:nvPr/>
        </p:nvSpPr>
        <p:spPr>
          <a:xfrm>
            <a:off x="3949560" y="315432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Šipka doprava 10"/>
          <p:cNvSpPr/>
          <p:nvPr/>
        </p:nvSpPr>
        <p:spPr>
          <a:xfrm>
            <a:off x="1300320" y="4729320"/>
            <a:ext cx="380880" cy="16812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Šipka doprava 12"/>
          <p:cNvSpPr/>
          <p:nvPr/>
        </p:nvSpPr>
        <p:spPr>
          <a:xfrm>
            <a:off x="3949560" y="374508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ipka doprava 14"/>
          <p:cNvSpPr/>
          <p:nvPr/>
        </p:nvSpPr>
        <p:spPr>
          <a:xfrm>
            <a:off x="3949560" y="286236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Šipka doprava 15"/>
          <p:cNvSpPr/>
          <p:nvPr/>
        </p:nvSpPr>
        <p:spPr>
          <a:xfrm>
            <a:off x="3967200" y="3473280"/>
            <a:ext cx="380880" cy="166680"/>
          </a:xfrm>
          <a:prstGeom prst="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5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49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0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7 - Náklady vyplývající přímo z rozhodnu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8 - Přímé způsobilé výdaje cel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 -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rubá mzda v čase, oboru a místě obvykl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oručená výše mezd/platů Metodický</a:t>
            </a:r>
            <a:r>
              <a:rPr b="0" lang="cs-CZ" sz="2400" spc="-1" strike="noStrike">
                <a:solidFill>
                  <a:srgbClr val="898989"/>
                </a:solidFill>
                <a:latin typeface="Helvetica CE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is č. 4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vyse-mezd-platu-v-projektech-op-v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jektový manažer 0,8 * 40 000 = 32 000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39" name="Obrázek 3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853920" y="1973160"/>
            <a:ext cx="7105680" cy="2890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0" name="Šipka doprava 4"/>
          <p:cNvSpPr/>
          <p:nvPr/>
        </p:nvSpPr>
        <p:spPr>
          <a:xfrm>
            <a:off x="353880" y="3606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1652760" y="5048280"/>
            <a:ext cx="6457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Arial"/>
              </a:rPr>
              <a:t>Projektový manažer 0,8 * 40 000 = 32 000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Šipka doprava 7"/>
          <p:cNvSpPr/>
          <p:nvPr/>
        </p:nvSpPr>
        <p:spPr>
          <a:xfrm rot="5400000">
            <a:off x="5590800" y="3249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44" name="Obrázek 9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1343160" y="1952640"/>
            <a:ext cx="6457680" cy="22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45" name="Obrázek 6" descr="komentar.JPG"/>
          <p:cNvPicPr/>
          <p:nvPr/>
        </p:nvPicPr>
        <p:blipFill>
          <a:blip r:embed="rId2"/>
          <a:stretch/>
        </p:blipFill>
        <p:spPr>
          <a:xfrm>
            <a:off x="1504800" y="4194000"/>
            <a:ext cx="6134400" cy="118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6" name="TextovéPole 8"/>
          <p:cNvSpPr/>
          <p:nvPr/>
        </p:nvSpPr>
        <p:spPr>
          <a:xfrm>
            <a:off x="1695600" y="449892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dinová sazba lektora je lehce nadprůměrná, jelikož se jedná o výjimečného odborníka. Jeho zapojení do projektu je klíčové. Viz blíže příloha č.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ipka doprava 7"/>
          <p:cNvSpPr/>
          <p:nvPr/>
        </p:nvSpPr>
        <p:spPr>
          <a:xfrm>
            <a:off x="830160" y="4284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N nejsou nebo nemohou být jednoznačně spojené s konkrétní klíčovou aktivitou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25480" y="2814480"/>
          <a:ext cx="5792760" cy="2683080"/>
        </p:xfrm>
        <a:graphic>
          <a:graphicData uri="http://schemas.openxmlformats.org/drawingml/2006/table">
            <a:tbl>
              <a:tblPr/>
              <a:tblGrid>
                <a:gridCol w="2802240"/>
                <a:gridCol w="2990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av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á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ová 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ista na povinnou public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ý zaměstna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technik zajišťující běžnou správu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itel bezpečnosti a ochrany zdra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raha, uklízeč, údržb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8:40:05Z</dcterms:modified>
  <cp:revision>181</cp:revision>
  <dc:subject/>
  <dc:title>Titulní strana – Titulek</dc:title>
</cp:coreProperties>
</file>