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25F-7222-407A-9EDD-B55CAEB09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A1612-F35F-4B40-97B9-F6DC534A4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F8B0-31D9-47FF-AC5F-89C7E774B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A5E7-6F27-4439-B2D8-66E9854D0A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19E44-23F8-48C7-B138-5A13B903C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940E7-DD15-47AA-B72C-45FB0CAAB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450B-D9EE-411D-A38B-DB616BB6C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D6DC-0EAD-4315-9166-C634A5B58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B53D4-DBEC-4552-876E-1315418FEA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EFEDA-55B1-4491-A1BF-91B3D3CD1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3ED42-E9C7-4173-8B33-A75664D20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5E656-0ADC-472A-9045-8A8CD552A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89F67D-396F-40BD-8F9A-31FAD617868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Obrázek 3" descr="ZASEDAČKA 3a.jpg"/>
          <p:cNvPicPr/>
          <p:nvPr/>
        </p:nvPicPr>
        <p:blipFill>
          <a:blip r:embed="rId1"/>
          <a:stretch/>
        </p:blipFill>
        <p:spPr>
          <a:xfrm>
            <a:off x="349200" y="0"/>
            <a:ext cx="844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Obrázek 3" descr="ZASEDAČKA 3b.jpg"/>
          <p:cNvPicPr/>
          <p:nvPr/>
        </p:nvPicPr>
        <p:blipFill>
          <a:blip r:embed="rId1"/>
          <a:stretch/>
        </p:blipFill>
        <p:spPr>
          <a:xfrm>
            <a:off x="349200" y="0"/>
            <a:ext cx="844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Obrázek 3" descr="ZASEDAČKA 3c.jpg"/>
          <p:cNvPicPr/>
          <p:nvPr/>
        </p:nvPicPr>
        <p:blipFill>
          <a:blip r:embed="rId1"/>
          <a:stretch/>
        </p:blipFill>
        <p:spPr>
          <a:xfrm>
            <a:off x="349200" y="0"/>
            <a:ext cx="8445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ovéPole 1"/>
          <p:cNvSpPr/>
          <p:nvPr/>
        </p:nvSpPr>
        <p:spPr>
          <a:xfrm>
            <a:off x="1656720" y="928800"/>
            <a:ext cx="506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2400" spc="-1" strike="noStrike">
                <a:solidFill>
                  <a:srgbClr val="000000"/>
                </a:solidFill>
                <a:latin typeface="Calibri"/>
              </a:rPr>
              <a:t>Návrh na vybavení zasedací místnosti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ovéPole 2"/>
          <p:cNvSpPr/>
          <p:nvPr/>
        </p:nvSpPr>
        <p:spPr>
          <a:xfrm>
            <a:off x="2292840" y="1857240"/>
            <a:ext cx="359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Národní ústav odborného vzdělává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          </a:t>
            </a:r>
            <a:r>
              <a:rPr b="0" lang="cs-CZ" sz="1800" spc="-1" strike="noStrike">
                <a:solidFill>
                  <a:srgbClr val="000000"/>
                </a:solidFill>
                <a:latin typeface="Calibri"/>
              </a:rPr>
              <a:t>Weilova 1271/6, Praha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2-24T12:57:01Z</dcterms:created>
  <dc:creator>Dana Mokráčková</dc:creator>
  <dc:description/>
  <dc:language>en-US</dc:language>
  <cp:lastModifiedBy>Pitterlingová Monika</cp:lastModifiedBy>
  <dcterms:modified xsi:type="dcterms:W3CDTF">2011-04-15T08:13:38Z</dcterms:modified>
  <cp:revision>3</cp:revision>
  <dc:subject/>
  <dc:title>Snímek 1</dc:title>
</cp:coreProperties>
</file>