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9954-9B04-446C-BCB5-E2F37264B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3B04-C05A-4039-8099-E19351E01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F08D-238E-45F9-A8B2-3153737C2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680E-13E5-4DB6-8F88-3C684DF4F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A1F3-9DE9-4F9D-B7AA-C3049337F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64C4-654A-45D8-87BA-C1584678E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3354-9B67-41FA-80AE-8F9874C56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21BD-53CB-4DE7-8F21-BCDD8C29C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0F30-F9F4-4647-90B1-688494385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998A-A11B-4890-9BBF-4F7B9CE97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E98A-48DF-4F9C-8D78-5E8300A1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53C3-1D00-4CD6-B65C-C8950C2A1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AAE16-0D06-4528-AEB9-1B9DE1EDB34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ek 3" descr="ZASEDAČKA 3a.jpg"/>
          <p:cNvPicPr/>
          <p:nvPr/>
        </p:nvPicPr>
        <p:blipFill>
          <a:blip r:embed="rId1"/>
          <a:stretch/>
        </p:blipFill>
        <p:spPr>
          <a:xfrm>
            <a:off x="349200" y="0"/>
            <a:ext cx="8445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Obrázek 3" descr="ZASEDAČKA 3b.jpg"/>
          <p:cNvPicPr/>
          <p:nvPr/>
        </p:nvPicPr>
        <p:blipFill>
          <a:blip r:embed="rId1"/>
          <a:stretch/>
        </p:blipFill>
        <p:spPr>
          <a:xfrm>
            <a:off x="349200" y="0"/>
            <a:ext cx="8445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Obrázek 3" descr="ZASEDAČKA 3c.jpg"/>
          <p:cNvPicPr/>
          <p:nvPr/>
        </p:nvPicPr>
        <p:blipFill>
          <a:blip r:embed="rId1"/>
          <a:stretch/>
        </p:blipFill>
        <p:spPr>
          <a:xfrm>
            <a:off x="349200" y="0"/>
            <a:ext cx="8445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ovéPole 1"/>
          <p:cNvSpPr/>
          <p:nvPr/>
        </p:nvSpPr>
        <p:spPr>
          <a:xfrm>
            <a:off x="1656720" y="928800"/>
            <a:ext cx="50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Calibri"/>
              </a:rPr>
              <a:t>Návrh na vybavení zasedací místnosti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ovéPole 2"/>
          <p:cNvSpPr/>
          <p:nvPr/>
        </p:nvSpPr>
        <p:spPr>
          <a:xfrm>
            <a:off x="2292840" y="1857240"/>
            <a:ext cx="359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árodní ústav odborného vzděláv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Weilova 1271/6, Praha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4T12:57:01Z</dcterms:created>
  <dc:creator>Dana Mokráčková</dc:creator>
  <dc:description/>
  <dc:language>en-US</dc:language>
  <cp:lastModifiedBy>Pitterlingová Monika</cp:lastModifiedBy>
  <dcterms:modified xsi:type="dcterms:W3CDTF">2011-04-15T08:13:38Z</dcterms:modified>
  <cp:revision>3</cp:revision>
  <dc:subject/>
  <dc:title>Snímek 1</dc:title>
</cp:coreProperties>
</file>