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3D9E-ACAE-4E2B-871F-2B27A9005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2441-E482-4117-BD2A-581478090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E27C-CF6C-4224-95E8-ACB4D8BFF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19F-BA04-4454-B30A-4CD9E54C5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B6E9-810E-4DBD-A545-7DCB67C67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1B8A-21BF-4FA4-A3B7-C6CFC4176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480-6AD9-4C23-8C45-CC3867A42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09B7-7BC9-42A4-AC9C-4965B5275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86DF-84FE-4FC1-88C9-6D17DED50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277D-39EF-4A2E-815D-73E46C995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F205-4002-4549-AA6A-0E2A4AAF2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D6DF-575B-4EF6-90A6-ED2D0194D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3907-6521-43DB-97F7-F1B57B7F2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8E92-B145-4BD7-A071-A0110C021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B6F-3988-4E5B-86E7-016432B2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42B-7CF6-478A-BC18-B5BF2AE8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A3DE5-DEE9-4E92-A26B-E9AA412C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4B9C4-BC14-4911-A622-946708C4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B6DD5-BEBB-4BA3-89E7-2B90F139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1300C-553E-4E2D-806A-CECC9D2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58A2F-E56B-42DE-8A83-51CA1783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B727E-73C1-4801-925F-8C35681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385AF-377E-4C68-A45C-5638AB0B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1CED8-634B-4298-8502-83E630E6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698F5-EAA6-4676-BD33-93BADDE0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7EB-50AE-4591-B513-5702EE3E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CE7-D82F-47EA-B615-2220CDDF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62E3-0534-4AAA-9860-EF6ADEC2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0C2D-2C71-4A2B-835C-461F9473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DBD5-4173-413B-8566-47ABFDB1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4EBE-47E2-498C-8129-19F57EFF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9794-6E41-4BA1-8A3C-37953FFA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ECC2-C0CB-43C9-BA57-447CA6D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EE21-43D2-408E-974B-73BC1AC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39C-ED63-4777-AE6A-E890500B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FC1-7C42-4867-830E-306C51AD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B009-6ACF-4FA8-BCB8-FE5DF641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0A5A-06AB-4611-9576-68F104DF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5026-5EB0-4203-B418-0EEB0597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0668-3FB9-446B-B05C-77821C8A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ACEE-E905-4834-8628-32379A26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B10E-84EB-42C3-803A-4385D166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1AB6A-1434-4073-88B7-2F3825E2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9E9F-C4D0-433C-B001-81DB370B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DC36-47CD-4360-A5B5-09D63D8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EE7-AF95-44D0-8FEA-08A0380D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52920-8418-4BE1-B1F9-E997FD62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7D7E-EC3E-460E-A2CE-E2B0A13A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FE0C-BA3A-44F0-84C6-3C46983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99CC-D5A6-46FA-A8C0-D747FD29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4FF6-E7FB-4F9E-99B3-7EFDE579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1A04-1081-4D09-AAE7-5115FE68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0C85-8B66-4F0C-BEC7-1D1BBCC0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9B8C-06B2-4A09-8E4F-A1F46CEE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0C0F-BB12-4FC0-96FF-CFC8BE79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1181F-5727-4708-83F3-5C0D6A89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865B-9D05-4E0E-BB81-B29CE255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7921E-5BCF-4AE4-86B6-5EFA0A4F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7954-1F9A-4BA8-992D-4BB66EAE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D1F3-CEED-486C-9682-CAD230A8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219E8-311C-4800-A41E-38DB37B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89AB-982E-46E8-A7D1-B1139E05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8E4A-BDCC-429C-B5F2-7DFD19E7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B6484-67FE-4575-9EC2-8637D53E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90ED-6013-4293-A726-2BA000E8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B55C-B3AF-4146-B67C-11C2023D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D216A-85CA-4E5E-8ACD-5D5CD716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860-93BD-42E3-B24A-6642016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C1AFF-A1FF-4A44-935E-8034A4BF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C5B9E-5EB3-4C65-ACC3-20F9D9FD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8B2D-0B21-4E22-AB72-AF8E31B1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9CD4D-B9BC-4CCD-8311-063F5866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4949C-BC76-4C8D-B6EC-25BD4832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67A7-D88B-499A-BE58-E672B28B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0F69E-2A7E-4214-BCF3-9AB225FF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34807-9A1D-4E0B-90E0-F79E09DC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60AB0-B52A-4980-8A9A-D75168CC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C419-53F8-4DBF-9D84-00D9D322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D08-D914-49A8-9087-54AD2DDF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304E-F107-4142-8E2B-19598E2D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28FD6-A61A-48FF-8194-EE61723E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28CB8-3160-465C-9074-556F9BF8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030C2-4F45-40A6-9EE0-F5914748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E0D5A-9705-4986-93DF-BDC4FC03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78273-C983-4B83-904B-D0E1D4DD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3041-1FBD-4DD1-B427-35FB444A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E6C84-8DF9-4A3C-8369-7D135D04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7BC7E-2842-4043-B9FC-B477D408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663D2-1CD4-4CEE-A54E-5E0FB78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161-E388-440B-B94B-4EE361F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D3065-206F-4073-BE43-A11D62B9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0F55D-19E0-4D23-8EC3-9FA45DAF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34B10-2850-416A-A690-D7C998EB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A8EE-6D12-4A82-AC32-CD07F23F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639F9-2F39-4D73-AE7D-D3B8A9FF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CBDDB-D5D1-4B8F-A652-361F7107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097A3-F23D-4198-B3CE-BA64335F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1B048-CAC6-45F1-9245-99603C6B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1391-F7A8-4AA3-95F5-B2E566B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B2D4-5A1C-4CEA-B10F-1968DEAD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7F1-B181-4819-82FE-5F0B1022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8E34F-4DC6-4046-8FB5-04A2F1A3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A743-AE0F-4494-87A5-8E407EF5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54C63-7955-4C3D-A04A-F8BD258C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3688E-DE26-42F6-8F39-98BC7792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D7894-188D-4E39-83B9-68AE7B0B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B35AB-CFFB-4290-8A91-ADCDB070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54617-D0B1-4EC1-86F9-98E17A24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CF89D-9D14-4273-B732-FD44C8CB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15E4D-DC8B-43F1-BB58-069FBC9F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CDD2D-2CC9-4E23-8BC4-A48DBF94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91E-AC43-42D1-9558-DCAB677E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0DFA0-EB32-4BD2-B461-73D42385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96F05-06BC-4B02-AB32-2D81F4C5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FFA0B-3F94-4D1F-872E-E3A9A1EA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E78D2-F4D1-44FC-A77B-1525E25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826CB-CFFE-425C-B22C-E4879E02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2622-46E0-4FCE-B0BE-047A110D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F9C78-F340-4F21-9A91-0FB3645D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0236E-B770-4A97-AAFA-0368BFF2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96657-0AD4-4B44-BC99-C2D831D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5CC64-7A94-4A29-B2DC-61CBC7D7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AEC0-0C41-4A72-8C2C-8ED97AA50AD6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B3CB-9058-40AF-9B9F-7C57972F9503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2B2-9273-4A2A-A5D8-C0F491A2E31A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B2C7-164D-4BE6-9D20-1678194866E0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2D57-E631-4F52-BA58-9A7048DDD937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56FA-FA82-4AC0-9C32-41F92F3C6E05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3268-A19A-44D1-8EE1-83C3F3D38543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4EA2-6D75-49D0-AD8F-6FACD8920240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79E9-A38F-4CE4-A25F-9EE9D73C6E88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6520-633F-4736-B996-3297D8690AB2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35AB-5970-4E3A-A91A-C4902D204AF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E44-5BE5-4999-A49D-60CD06650122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0BF9-43AF-4E6B-B460-A6E2AD34172A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CEB6-E8CC-478A-9B66-FFB9FA16406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B83E-636B-4BB0-9FC8-EF1E6B33231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2161-88CB-4E83-BFF1-9CF39140FB1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,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</a:t>
            </a:r>
            <a:r>
              <a:rPr b="0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3F77-B610-4B7E-AD5C-303ACC66BCAD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484280"/>
            <a:ext cx="83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8120" indent="-2433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.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C2C2-915C-4ABD-A66E-0DBEDF7BABD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 délkou řešení určenou aktuální výzvou ERC, v jejímž rámci byl návrh projektu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plně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jíž návrh byl úspěš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07F-DDCE-4EBE-B89D-AF042614446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BDA9-F8E5-466E-96BB-210D78566C0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07C5-1C23-43BC-A9B8-DAAF826353F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projek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30F2-A0E7-4923-BE8D-6049F74AB0E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1-30T16:39:51Z</dcterms:modified>
  <cp:revision>252</cp:revision>
  <dc:subject>ERC CZ - vyhlášení 2012</dc:subject>
  <dc:title>ERC CZ- seminář pro žadatele</dc:title>
</cp:coreProperties>
</file>