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9EEB-218F-4152-A481-0D8207331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A75F-D9BB-479E-BA0B-CF46EC4EF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59CA-C979-475C-9410-E6D841A12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B90C-628B-4842-8382-5F6B6730F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037-2AF4-4598-BEF9-59063337C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1AAB-0F28-404F-BF24-D70852BDA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C37B-9DAA-47BA-BDFA-B0DF8A743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869-3656-4166-BB38-27030EEC0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FF48-F75E-4BA1-AD5E-DB32BC799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003B-CDCB-4EDF-BF79-24CD7C930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6710-BCCE-4664-BBD4-4D6352028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7888-5E19-4D32-8B6C-192C88A2B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094A-B5F7-4C60-B542-218C80A32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6D9-753D-450E-8EF9-94BE7BAE7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447-B5DC-43F1-BCCC-332FE02C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213-3466-4649-A749-EF623503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53DD5-2583-42A4-9372-73BD91B7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75897-0075-4A9E-8E22-B5278B20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97EC6-E8F0-4C56-BCA3-A58241A6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C26E6-A979-438D-8634-9CE4AB7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A9AA0-AA9F-4F59-A28E-E1A557A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2AD73-9496-42D1-9A8F-3B789D8E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A3C84-2DF9-4008-A903-B0491D56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BC738-629A-4C19-A717-B0870109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E0FF8-D4CF-4F0C-A1F8-242E8324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933-5A14-45DD-B101-E46CDEAD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635-C343-468F-ADD8-9C507373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BBD5-CBD3-4F78-B18C-910E55B8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CCB6-4D54-47D6-B57C-67EC25FB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C6DB-17A9-4EF7-99D7-B888611F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CFED-2F02-4ACB-832B-4EE3D465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3AF6-23F8-4525-8E40-428C02F5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A634-5F22-4245-977C-612A378D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2094-C1FA-4C22-8D81-E6C667C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CD6-6938-4798-95E6-0D81176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877D-E7BB-4A02-B2E8-CAC858CA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4487-CDC8-4E2B-ACF1-E85F96CE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1D60-0B11-4D8E-9569-E681597B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644B-619E-4E43-8022-E4874F6F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3DA9-FB22-4555-9581-E11ED4B8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5F7C0-59D0-4D0B-AA57-22CB5567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6159-8277-4F1E-A604-167EB198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7A31-8E0F-42F6-83F2-5CFF4D05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4765-89D1-42DB-BF27-110C91E6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FFCB9-E89F-430A-858C-EA82452C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74A-71CF-439A-AC5D-F552A42A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392F-58E6-4863-9747-97AC820A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0AF2-2BF0-4B07-B494-CC69CFC9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74D20-A7C9-4642-8AF7-9C19B1F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233BF-008B-4618-B699-7E58C453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2E47-CCD3-4940-A037-8025BF8C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4BE11-3D0D-4242-956D-8F18EB98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9D69-D77A-4605-A74E-84A2957C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51914-6C58-42DF-BEDA-7561D4C2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5BA4-A265-4FD9-BD5E-8DD35BA6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6269E-46BF-46AA-B37C-5E2A78F9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CB5-C18A-4CBF-B664-3B085E80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C626D-72DE-4599-AD93-ECECACC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0E9B-CFB6-4ACF-AB6C-B9F11D7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C460-B2D0-4A92-B94E-18469184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E524D-D8D2-4806-8124-C6443744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C05B-D587-4575-BB0D-E51496BD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70E9-49A4-4CED-9D97-BE23CAF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C17A-60A8-4E67-8318-1E0D8AA7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9194F-4F67-4FA6-9F1A-656564EA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661E4-C652-4841-BAAC-CF5051FC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4DBB3-8507-4DA6-BCBA-20A92161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404-D9C5-4D3A-9E9C-59235BF3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65619-235C-4EED-9DB0-5403640B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67841-1757-4003-96A3-42B596B4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644B0-C2C6-49C0-93E1-5D684F8E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42539-5222-4549-B730-6B60FD0F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8460F-C88B-4FF0-9342-F7995F24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2934-8241-4132-84B7-8B80E35C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A5F15-B265-4B59-A6A1-5B58A8C8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23A56-B10B-4EB5-81EF-349D163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190C-060E-47B1-B545-0425F46D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7D063-C07A-48E6-BD24-7B3E0674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53B-55CF-47C0-BF02-B7DCAD80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7E01-C0CD-4048-9D6E-83BDAC01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31AE7-FA59-430B-8789-A3CF98C8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715C-8B0A-4BAC-AC59-8B3A95E3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AF17-C47B-4C94-B2FE-79042B81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31716-BA02-4674-B48F-C6D8F20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34E87-457E-4BD2-BA75-A188FAE9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09F44-E8E2-4D1E-9A1E-D6803C6C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BDA3-5618-4897-9D16-07B18B4D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0C08-2F97-4FCE-8EE3-B4A28EB5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58201-45F8-46FF-A12A-94066A7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0DC-75CE-4585-B069-68F00B51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A98E2-409B-45A4-8E11-866BF81A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C42AC-BD52-48D2-93B6-810A8C7A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F02F5-D92C-4A4D-97E1-EE6D068F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BA44C-CF3B-4A75-B3AB-B7A7BAE9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A75C-83A0-4660-BF17-996BB9C1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F997C-DEF0-4B8C-9EF5-2A0B6532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9E9C-44B7-429A-BBB8-EB5CA105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19A4B-9369-4E7D-BE9B-5CB5D652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025B1-2C37-47A4-8FD1-2A535FF0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4B04A-9F1B-4B91-8E86-2FADC61D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850-997A-4CD1-BDDE-301E2669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0DC8A-A9B8-4520-9C7E-58C61FDA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6B95A-14F3-4B05-9C17-03DF3523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4923E-8BBF-45CE-BFEC-9559FC6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18723-CD09-4767-82C0-EF3FF59E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492C-F1B1-4D57-9652-2C10A803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CDF86-153E-4B41-BB6E-061D5466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87130-3FD5-44B0-8DD5-6C7BFD4B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C3214-503F-40CB-8130-A4E892F7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8DC20-F8EE-4A2A-97E2-27D3D6BB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E5AD1-273C-49E7-890F-6954C0B6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EE6-2BED-44F5-AE53-DDD78E7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6ACA1-7066-4D93-8CC0-49C4613A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93693-0E93-4213-B965-C0228979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A6306-B63A-43CE-997D-CC76CF1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2C57B-6916-4578-BCAC-F572BFF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952C9-F326-47E4-B74C-E6D5A9B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DE73E-9B9D-4C4D-A3DA-647FE413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5943-FBF3-4F41-B335-AE76C27A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E9313-4061-48F9-ACAF-E04D37BD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3F353-11E8-4967-81E0-C1F5E08F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8A5BA-2E14-48D1-90A3-7B3DC9DC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B09D-F768-4C2F-AD78-91D52C35718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1383-3839-468B-B705-B5699B8AC75D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C340-1724-4A65-999B-483E8B8DE99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6E89-03A3-4208-B69E-89CD5D0FB0B0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EFB2-77CD-44C6-B45D-493BB6D1570F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1872-D3B6-4FC6-A4EF-C28D99BB6561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050-BFEA-4E1F-B227-D45AFEEAC7CA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1575-F8A8-4369-A5EF-30352C45AE14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37C9-7EE6-462B-B6C1-FC0323C7BCCE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65BA-DB9C-4BEC-A919-29F9D7CFA4FC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87DD-E779-497C-B756-F37CAFA7056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5522-72CF-474A-8B80-FFE9807FE9C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8E2E-B855-4E00-B646-5CEEB53D537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EC8A-6D7C-498A-AF02-DE3FF773D14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F9E0-53B1-4112-AC74-2793D3E960E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62A4-440A-49AC-95CA-AC617122EF61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,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</a:t>
            </a:r>
            <a:r>
              <a:rPr b="0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69E6-872B-4AFC-8666-15961A9E16E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484280"/>
            <a:ext cx="83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8120" indent="-2433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.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B929-735B-4942-9A86-B0E8FEB3853A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 délkou řešení určenou aktuální výzvou ERC, v jejímž rámci byl návrh projektu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plně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jíž návrh byl úspěš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4F99-C477-4DE0-AF3B-214D93D59AEA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61EC-2315-4F9D-B25A-E79A649659E1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CA0F-9161-49D0-8759-6094887B962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projek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28CC-57E1-4250-B9AA-50D5868522E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1-30T16:39:51Z</dcterms:modified>
  <cp:revision>252</cp:revision>
  <dc:subject>ERC CZ - vyhlášení 2012</dc:subject>
  <dc:title>ERC CZ- seminář pro žadatele</dc:title>
</cp:coreProperties>
</file>