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63B5-ADA3-44A7-926E-B5399B3AA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07C2-DE90-42EB-AFAD-F151AA059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7FFC-5B36-4159-985A-468302236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1B51-C83E-48CA-8643-96773E0BD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AC10-629F-40FB-BE9F-793EC4765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3AD3-4304-4166-82F8-4839DAEB5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B8A1-BCCB-4F90-86CD-E28ED747C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DE77-0651-46D9-864C-F2A8B823A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6704-80B0-4443-B1B0-752744AE8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2420-D460-4064-B40C-124A60E04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E050-9509-4588-AC4A-C41BC02A5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52E-0106-489D-9F54-C9325ACD5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015E-D022-43A2-88B9-E4BF937C5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048B-82CF-47B4-BF95-1DDFFC319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FE9-5F5C-4E1F-9FAB-1A7FE416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3DC-F723-4E5B-B3C1-A9BC86E5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10183-9CD8-4A94-8AF4-4A66E82E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AFE7A-BED4-405B-A1BA-C3FC51E0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6B95D-82E9-4709-9E88-A05EB7F1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B8264-E647-41C5-9F92-079329D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A3E29-C974-49B5-960B-61235D5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FD4D9-A61D-41BE-825F-A25B07D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A8895-F7DA-4E09-B7D8-E7036FD8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AECEA-4430-4682-8080-5073E326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1AE0A-572C-4688-87EE-10C7B339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D17-8EB0-4785-A8A9-4A6391AD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209-FFC2-4BCD-A42E-F1D6E2B4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CDEF-22D6-410F-A743-CE7BA74B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17A1-971C-44CA-A14E-55BB4945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E2AF-5ABB-4DAD-B404-4BCA8CA9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DE40-1153-4204-A477-1465E344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CD51-AC34-447E-AF94-2D0B345B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FEDA-7D55-490E-8E49-2A3A5BED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EEA6-9122-49E3-996D-E73BCBE6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AFD-D043-4B12-8187-3E9C9829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3447-3ED1-4EE4-A308-18418197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C018-E338-497B-9947-899C92F8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6709-46E6-40DB-AE35-4F138163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823B-6AD0-47DC-80CD-54D82373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9247-16AB-4F83-9785-B9062648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F383-2F1E-4473-948D-E28CB62F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6AE2-B069-4512-BD2C-7996E623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891C-97E3-40BA-98B7-B480C402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4CFE-E323-4449-BA06-6B0EE91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7B28-62CA-4DA4-BAA6-57362172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D07-760B-4B35-BD4B-FC99370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C931-4517-49E3-95D4-F274B06F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59E0-80E2-435C-B584-53412942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D214-434A-4EE4-8611-348D24A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1114-D8FC-4A9C-AB2C-A4ACC71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B906-C6D4-4E40-B470-B63C472C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C88B-A812-45D5-B113-D30AFD79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7E1D-2205-44D3-82FB-806AAD25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D770E-1E26-4889-A06B-129480E4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C8F3-FAD3-442D-B501-FEADDA16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F06E-9BF1-459B-A44D-5297C533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DEC-1856-442A-B356-D9E5BD7D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C8F7-41F6-4720-AC54-E7565F3E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4CED-420F-49E9-BF18-856F2004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D5F1-087B-4347-AA9A-B6A221D7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AE5D-68C4-4DCB-99C7-197C8E1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3B57-ECBE-4C96-BFE0-5C54DB5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7FE6-DFF8-482B-8FAD-58FB8EE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46D2-D124-418C-94F7-B098B015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14376-0782-4EB6-A340-CF9BC5D4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A04A-FEC5-45CE-BB1B-94ACC96B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F56C-D770-4819-999C-E24AA3E9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FD3-657D-4B04-BBC1-CE3816DB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6E19-E17A-4245-8F4F-10345C12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26CE-8CA2-447B-8812-AE5B7119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3A80-66F1-40AC-B0FC-17C0AF9C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C6AE6-E2C4-41B3-A6C2-44F8F62B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D0E9-0378-4056-A393-0CE4A163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50C4-0803-411B-85D0-022089B2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58A1D-F082-4AFC-9381-4EB1169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F0D8B-E512-430D-B2D8-A70052B3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1566B-10E9-4662-BC32-51AB8606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0B751-FDAE-4F0E-AEF1-8B33F3C7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57C-CFD7-4D18-98D1-47C3F20E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A84EB-621F-424B-9BE5-2E677547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8B186-396B-4DFD-80D5-F82C9C52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09722-ECC4-431C-85A9-0388C12B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1C04-C6C0-4A79-ABB8-AD915219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6CE4-C68E-454D-843F-19AF38A7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6E4E1-4202-40FE-B853-E7F6C802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E6752-132B-4C5D-ADB5-CA2E76D8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3D365-29E8-4629-A839-9C289772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EC386-983F-424B-AF16-B58AC033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54481-5023-45B5-A2D4-2E6E4EF1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469-F044-46B2-B5C3-F9A263F1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7C03-E950-486B-AA69-A362CDE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6A003-0E59-4B59-92AF-FEADD39A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F9437-566C-49E4-9A6D-0CAF7F79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D8F4D-E326-4CC5-AFCD-1764DA7D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537EE-5415-483E-A624-A9D8BB7F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F586A-AA8B-4184-8A73-EA3C5569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5309D-F122-4952-B1D5-70EAAD82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7F271-94BC-484D-B37A-A5BA0B08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38849-963A-443B-B216-AF7E559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29952-B946-4DAC-91B0-1FA898CE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32F-5FC4-4863-82D0-6CEAF9B6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8E194-4FDF-488B-BE9E-5735E00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6FBA-C101-4B3E-8410-6774498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A4BDF-8912-4086-A21C-11C27C26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87942-AC8C-4436-B5FE-9BBD04DA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F295F-97A6-41BF-97EF-98FF18A8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2162D-A840-4E30-9D58-5178EAAF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302E9-22AD-4175-B2D6-787F29C2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939D-75EB-497E-A461-6399A472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94928-1C4F-4CA2-BF7E-54EFB128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01FBC-1501-48BB-A2A5-FBB592BB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3A9-1DA4-4773-A081-D2B1259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C6244-D76F-4541-B945-9E275B04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27AC7-9170-4E1C-B43C-4FE10628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9D034-C0EC-433E-BFE8-0B73B78B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BC754-DB77-436D-9FC8-CB9F110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A03DB-9122-4218-802C-A0065FE6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70455-F69E-493F-A034-2D43B20D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94EF-A740-436B-BB15-17ACB480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CC91B-C295-4296-9FBA-2F64983E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0660F-18C9-4B82-BBFA-D7D3D32D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8E70C-BD90-43C9-8B7D-52C4B202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3A35-DC3C-4D53-BFB5-139FDB4B95D0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A21B-DFC6-4237-84AC-981D35D72AA8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6AB0-0107-42C0-8BC1-E109D1EF6426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1EFA-D4A5-48FE-A7EB-0B9FB25B4A17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2798-533C-4B98-B1DA-E792257061C4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397A-5923-4A5D-A124-6327CFA0BCA5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E478-37A3-4F36-9816-8166C4B02F54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CA6D-EBC6-4339-97DA-BA3763E07CE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BA1B-4E56-4238-91E9-7CC882A4671F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FAED-9098-4261-A68C-E42EF9E93B87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B638-2FDE-479E-85C1-9369AACA77E1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62D5-5819-47EA-910A-ED8617637D0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C605-EBCB-40EC-8ADC-7B5EF1B301A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C593-4934-4247-B6CF-D58A79E742D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CECA-F349-46BE-B220-3E523B95606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AAEA-8922-46B5-9602-29D907AA722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,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</a:t>
            </a:r>
            <a:r>
              <a:rPr b="0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3D3-2756-4A1C-B008-50BA43D85492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484280"/>
            <a:ext cx="83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8120" indent="-2433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.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91A-9DC8-49A6-A4A9-B9B93AD3F0F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 délkou řešení určenou aktuální výzvou ERC, v jejímž rámci byl návrh projektu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plně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jíž návrh byl úspěš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7CEF-8680-4CC6-9947-AB5C92E80C4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EA8F-C07C-4F23-9956-5EC91DA1BB5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9C36-052B-48E6-B4A0-3E688D84F622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projek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8072-B787-4C05-946F-6B50CAF5277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1-30T16:39:51Z</dcterms:modified>
  <cp:revision>252</cp:revision>
  <dc:subject>ERC CZ - vyhlášení 2012</dc:subject>
  <dc:title>ERC CZ- seminář pro žadatele</dc:title>
</cp:coreProperties>
</file>