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4E8D-B6DB-4180-879B-4A58F24F4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5580-96AC-4834-92A0-69A03E07E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0349-9F62-4816-B955-C07D84468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3FE8-DA90-4924-8D6E-7B96358E3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9900-58F6-4BA0-A652-78C44F26F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ACE4-0A94-4A7A-8AA8-3B3DB4F54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5EDC-BC4C-486B-BC24-A43509F0B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1681-B667-4E03-8474-E3F1962A3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E08D-5A8E-4B34-96A3-6C556AC0F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C3CC-7585-4F64-B491-25177CED3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453C-97F5-457E-9F4E-64AC81865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18BB-7927-457E-BB15-8873BF615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3805-F1A5-454E-B087-E9D54AE53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35FE-9F88-43AB-8021-EFE90CEB8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C37-09CA-40B1-B655-03B935EC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FDF-DAF3-445C-AA25-D2EBC6EF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BB794-2856-4E64-97E3-FA051171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1E3E7-F244-437E-8D4A-B03B015B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E986D-DE52-4FD2-A6FA-C1D041CC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CB015-C649-482B-AFCB-AA49586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0FF1A-779C-4BFD-8F5C-C28B7C3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1F98B-FE17-4F6D-969D-EE6FE980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7CF8B-51D2-4B5E-9917-8665F9C1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A6D7E-C23D-44D3-80F2-99FA408E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5D565-C626-4781-B018-77CE4B45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489-77D4-4B7C-9E9F-E4B52A99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704-E7E2-43C4-ABE1-14E95965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2C99-A936-4893-883D-731A5241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F9CD-2E70-45E3-83A1-C90E686C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A694-A44D-4836-9966-62EA3E04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6AC2-A352-4A2C-B1B6-EB5912AF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E436-40CE-4FC7-A93E-9947EE9E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C236-02D2-4376-9D89-38DDC988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932C-BD92-4FA2-9F6B-AE62480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6AF-D590-4BCE-B68C-526103D7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604D-D59B-4129-8058-ECCA495F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FF7C-4C5C-44E2-983C-948482A3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6248-B0D5-4254-AED4-88CF89A5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4088-BD1F-4E3F-83E9-55762865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AB00-7BAC-49EB-835C-BF81C5EA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E1AA-FEC4-4593-8D4E-E20CA812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EEA1-CD32-4EE4-B255-EEB4D5B2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9C72-5D59-4659-984B-CACD36F3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D22A-D408-4AAB-9514-311ABA7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B3234-1714-4E9B-91A8-0A0FB180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29F-4FAC-4CDB-A25E-91D1E471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5153-48C9-4531-9D49-7BA3B496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0184-9F97-49B6-8239-7723F14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A50C-5A19-48BE-961B-708A1490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33A0-0EA9-41E2-B570-887702F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AE8B-A651-46DC-943A-8F072EC9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9DEC-A61E-4076-B8D1-64944D61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EC69-B404-4A03-A301-AA789D15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64C4-7FC4-40B8-B7F1-513584AC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F4D4-2766-4808-8B87-253DADD5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39C0E-44BC-4709-BF63-B2C07E40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FF2-23F0-4A7F-AB7F-8E2EAFE1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11BD3-D762-4A8D-9336-B0CAE6F2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6179-D8F6-46C4-B819-367CA221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93344-4687-4E10-8614-27EAA751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50605-06ED-487F-B26F-7F7602E8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0D5A3-6FFF-4095-B1D8-11666B31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8631F-4C76-41D3-8209-BC53A2CD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BB7F-7180-4EB7-B1B9-C84B3CEB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7A2BE-8E3D-4185-B3CF-42C1C22E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F060-B3CB-40CA-A7C4-35E5FB97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AB8B-261C-438F-B8C7-A26BD249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0B0-A0A5-4BD1-ACF2-C5187B3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5C7F-5BD2-483C-9424-E23C8783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EA9C4-8648-4D95-BC7B-86958A35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443D5-3FF5-4041-B6EE-017E9B36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4BE02-F30F-4557-B996-4D81735E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685B-92A0-4CBA-AA7B-F14DD22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6501B-E960-4920-AEB8-53C275D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3173A-A37D-436A-9C8F-9BA6E763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EEDBA-D3F8-4DA8-AE40-65EC1A7B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8F87-0F1B-4449-BAFD-E04DBDDB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D7707-EFCA-463E-B0C5-302E0FF5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E5C-6DF4-4F34-997F-CA02BD67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BE135-5C5C-4CC1-A77F-97BDFAAB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61419-3C0E-4375-910D-1C5BEFC0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C8B4D-DCF9-447D-BEE8-60FA4FEE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1D85F-8725-4934-A80D-E7D8BDE1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977AD-2A1D-49DB-96E1-C936ADA6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38391-6092-46F9-A72E-F898BE7E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313C2-CD04-4020-8BB8-192D0952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19616-9AF8-4E69-8228-7AB125A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D45F1-541F-41E5-ACFA-FD2D026D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87534-EC8C-44CD-9076-C9BBDBE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848-4070-4D99-89CB-ECD674CD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AFC20-BD83-4244-8F84-7D4FDB32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2068F-99E6-42E5-A698-9C61C0B1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2E48-7ACB-4E2F-AB5B-06722B86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2B30-B4D9-4CAC-ADFE-B2F9A9D7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ECE57-18E2-41BC-B2F7-66FD460A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779CA-BE7E-4C23-8BE0-5EF62F40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CB7F2-516B-43A6-A90F-F68824EC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8089B-32AC-4BA5-85D1-FB9BAD5D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0A46E-B326-4658-B160-54925D8C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FCCB-BEE6-48F6-A39F-9EC8BA8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ED1-B2E0-41E6-849D-25F86D39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285F2-B004-4B4A-A828-30F2926E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28A4-F3C5-4E7B-BAE9-EF8BC27E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3B66-5F12-48A8-87E0-FECEE46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65A2C-33AD-4817-9780-C0E58DB6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95EC-4A32-4D5F-A330-48431CF5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9C13E-F7DA-4CEF-BDC2-D52E8EC0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B878D-6A82-4D63-A5C8-449DC5D8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890D-5F7A-44B0-9634-CE022DF8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7521A-3AE0-4FDA-8F9F-4A3442EE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99A35-47CE-493A-996E-80CF6C39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7C0-B211-4C56-A6F2-62DF6545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95A61-31B6-4E38-9772-370C5F4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E8E22-B2B2-405A-803F-17F44FDA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B3540-E1A3-4735-BCB0-B5758AF0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EC267-FEB5-40EF-9148-71BD1624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C8C70-2E2D-495B-ADA5-0801B6B6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D0E31-5662-4964-BFCD-BD031CE3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F68F-C2A6-4FBF-9F76-42BC268E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A9F4A-C600-4C54-9143-D8417B63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BFAC3-E508-44E0-94C6-B403A833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0CB69-346F-46E5-8AAF-06513711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511C-3F24-4AEF-8F06-E1C639E402A0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DA81-D849-4570-86BE-A8CCA15620BE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6B5B-A62F-4F6C-880C-B0A0268EF0C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2BA9-192C-44D6-BAE3-4883BD32AC5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4EB6-AFE0-4C24-8195-061C62DF6091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E946-5CDD-4E5F-951D-4E7D321205E6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AF29-E74B-4329-AC0E-257012F7650D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CBB0-43D9-4A80-B59E-6353D58CDA14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13E6-2493-4DDE-9D0C-7FCD8B9910E1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0426-F4C1-4419-8044-BC3B3A10B385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8B20-3BE1-4699-BAAC-89F457CADDE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A36A-52D4-455E-989D-F1F70FC0A2C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222E-13C4-4F55-A3E3-E47A305B35DC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D30-5CDB-4314-9315-C3B02CE598C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D881-BA13-400F-8877-F9DDBAEB903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AF23-0533-4B30-9A22-32BB6B72C6A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,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</a:t>
            </a:r>
            <a:r>
              <a:rPr b="0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CC60-A37C-493F-85A6-1BA25971551A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484280"/>
            <a:ext cx="83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8120" indent="-2433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.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DA2E-10EA-45BE-B94C-294BEA0B83E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 délkou řešení určenou aktuální výzvou ERC, v jejímž rámci byl návrh projektu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plně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jíž návrh byl úspěš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651E-A2DD-4E28-8B52-8D7510CDEC9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4682-E31F-4087-B144-2AD86C4F144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715B-07EC-4636-8E6A-68BA67295DD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projek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A1D2-E74E-46B2-8078-7FCC87B89745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1-30T16:39:51Z</dcterms:modified>
  <cp:revision>252</cp:revision>
  <dc:subject>ERC CZ - vyhlášení 2012</dc:subject>
  <dc:title>ERC CZ- seminář pro žadatele</dc:title>
</cp:coreProperties>
</file>