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8B88-A843-4F97-A821-488F24847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765E-AC44-432E-8E8B-BFB992C22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C4CE-3167-49A3-B2A7-DB5701194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0431-2508-4B45-8A7E-01248C7B1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5F3C-F8D1-42F7-B1AB-8DB7F250C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B8DE-A646-4A0B-BCAF-92157EFE4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062E-01F5-488C-9E11-806FE5183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1B6C-9051-4C80-A784-655D4CA82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57BF-4C9B-4D7B-AE6F-DC7DFD5B8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27AE-03BB-414D-8A84-BED771F94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D068-7B40-4F50-B11E-36259CD02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A70E-2966-4442-8651-68F2967AB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773F-85B9-44FD-BF2A-DCB1B75DC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05D5-B4A4-4EEB-9B59-D4B032A8B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2DA-786C-4A9B-98C6-00DA5402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498-BF76-4004-9F35-A1F9A2DB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95A70-F5F1-455F-8396-6A1B5E34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5517E-5302-4B50-9B14-4501002B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FE193-A73B-4CC2-BD12-A8794E8E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03D56-E2B2-4BF2-BF68-13A2C717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DD18C-16DF-4000-9655-AD879109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CBB89-04BD-4932-83AD-73977F81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B33F2-CC5B-4183-A4FB-099E276E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1AE8A-4F7B-40A7-A677-CBB78757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A315D-B585-4292-99EC-F4F3783F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86A-2C89-4D25-9C7E-AD00DBD0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205-D4FE-4CE9-8944-D5E9F6CF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861A-B29A-4340-8951-444838A6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6989-E030-411F-8B25-FB034C2B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7817-8B18-4ED8-ADF0-DF18675A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6121-49C3-4933-969D-908D8B63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814C-FAB1-4C31-A259-51294477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CAB3-6DFC-42B9-AB66-BAE88C35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1774-1A7F-4AB1-8C5B-33734985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CFB-3FE4-441A-9E67-E50A07AC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23D5-3CC8-4B96-9DA0-9CC1CDA8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7B40-FBA3-49D3-9DD9-E1DEA82C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621D-5796-485C-B1B8-6842443F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9329-81C1-4A6B-A2C4-E09D9E56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144C-1856-4AE2-BCAE-6F6B35DB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410D-56DE-489B-BEC9-B3D4DC88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DF3B0-897F-447A-852A-99A55CC9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5D37-5CC9-4634-A4C2-B4C6B9FA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648A7-69CA-48EA-A072-D303A44A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3115-11E8-44F1-AF5A-A11B559E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DD4-80B2-4BA0-B895-ACD90720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BA86-5B67-42A2-AF7B-049E2588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F49A-5B62-4EBD-B357-BA3DCA3B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20000-0EFB-42B9-AB22-B608BFB5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5505-BFC1-43FA-AC05-8B5BECAC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09F1-3A71-46F0-B7BC-B45D6CE8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770B5-0395-4523-83AB-E896A0DA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4F84-DA51-4308-9863-82712FC8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EBEAB-1760-44DC-9010-4704CA74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255C5-E2CA-4500-BD05-578C69DD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F252C-3D57-44A9-9B2A-07AB53E6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0D7-5EB0-4F18-A5AB-8FAC4EE1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0961-BCB8-4143-8725-6BC4C5D1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51F4E-55A3-4C27-BF91-AC059D98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6E639-C170-4488-8E3F-DCA5F907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F2D89-1A69-4434-A3C9-88E1CB93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A46D1-E25B-42FB-847B-0EAFD150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80827-2428-49FB-AC81-EEA66B1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44648-A5CE-40E2-B22A-1EA95F28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1F670-B554-45FC-BC32-82A8B124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90F5A-D79E-4C22-8691-02A9DF20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E141C-34D9-4C3E-8E00-29BC8C40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341-FB43-4332-A7A4-E786F02E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B05E6-5FB0-4AD7-B1B3-73434247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6AA68-9587-40B2-8128-9D4963AB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75933-B03B-4C30-A5A7-79357C0B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08B8E-7043-49AA-AF14-A2AFBFEC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9AF82-3E2E-4E58-8D95-6EA634DF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2B87-7C10-4B0B-82D9-68150A80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4F34C-03CB-4DED-8DF8-41791B96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B80F6-526A-454D-ABE3-24910259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12C30-0E5A-424C-A3BA-CA202F83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D0812-627A-4275-8A4B-DBC82FE9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F75-6A7D-44CA-A4FB-BDDDF0E5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9143F-678B-430D-AE1E-EBA7AF54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10943-25B7-4BAC-B927-CA00B05C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261FD-DDC8-4731-8CC3-105B8B62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1F87F-3A26-4104-9EDD-52B273F3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3AB02-3D09-4349-9E4A-2ADA8667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B9C8F-634E-4FC8-8F04-927E2286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5E132-9CCD-4814-8399-2CF26A63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E21EB-58D5-477C-8CF4-808D7B5C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6F567-ED9C-4BAA-9FDC-5CB06154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B2B16-5102-4EEF-87F5-F9D5C75F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1D4-4BEF-4E53-8C0A-FD9F5D0C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41AF5-DE3B-426B-85F4-147569FD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61556-4022-49B6-A115-09DFABAD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DAFD2-8C42-4E5C-A493-44138017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99D46-B842-4286-A463-EA263A34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8BACC-0ADD-4A96-BEC4-4E77DCFF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8DD0B-C7DD-45F4-9E71-1484E865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7CCDC-8F4F-4970-AF7B-33717226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26E5F-38F1-43DE-A117-58F40029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90FAC-48BC-4052-A016-22FE55B1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A4CDD-3828-4D2A-ACA0-9E5CA26E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435-2A78-46F2-B796-D8572520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3901C-09CA-45D4-8994-520FE5C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811A9-3226-4AB9-97E0-349CA038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E4EF5-6627-4D8E-A8F0-397040E8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64F80-1077-4C9A-BFB9-D397DCFC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E3F57-71D6-4CEB-862A-CC2A0504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501D5-05C8-44A1-A0E0-DA015936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01AE2-836E-4363-B036-B3AFB4FD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F7675-FFC8-4944-A8B8-15F83838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44812-694E-40D7-AB2A-C14459FF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DF986-3449-413C-92F3-8F4CDF16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D31-66E7-4B6A-B425-C5FF76CA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69F6F-7296-4D82-BF2F-C9575869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AE77A-23D9-4166-8824-8CFE3487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5861B-928B-4A75-BCBD-C9CE84D3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D57EF-1C48-4C1D-9A79-32705E63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D2164-8173-4722-A9ED-A848CDDF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E01F2-BF18-41A9-820F-D405FADC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6E211-718F-4398-92C1-FBD99209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37E4D-A48B-4CE6-A7EB-9A817CBB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B24BD-F4AB-422F-9B9D-12DCCC99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21073-2EEE-4E12-805B-6C444CCC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5E9D-3DD1-4E49-ACB7-C19FED2EDC15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20C8-4D6B-4B03-9635-BCACF958CB59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3054-38ED-40BA-89C4-6DEC2DF9CE19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14C6-DB3F-4EAF-9048-212FD74F65E7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36DB-9599-4810-B137-C2F0D5354CCF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EAB5-BBB9-4754-90B5-133B76FDA25B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A199-C417-4C1B-8DF6-1EE876C5825B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5C4F-A703-484E-B45A-0CC3A85F033E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74EC-13C6-4B3F-8C23-95CA74B604EA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D5B8-2C1F-44F6-B8CA-29D198AF4E18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263B-2AAF-4025-BB9A-6CADFBDA8BC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DB25-035A-455A-87BB-705A5D193CA0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BF48-43DC-4727-9A9B-374933C1C100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6921-95A7-4002-BDE4-6783A8F5F799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8A11-A4B0-4DF6-8BDB-247ADE630C74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14EB-241B-4D73-8335-CD113D668B59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,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</a:t>
            </a:r>
            <a:r>
              <a:rPr b="0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D2A3-9289-48D3-9442-35C52164DCAF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484280"/>
            <a:ext cx="8390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8120" indent="-2433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.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4A67-7C7E-4E87-B79D-E7630C8B67EF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 délkou řešení určenou aktuální výzvou ERC, v jejímž rámci byl návrh projektu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oplně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jíž návrh byl úspěš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F199-4D20-4531-8978-05C014B80C9A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E55B-93ED-4EEA-936C-5F3AA9C26499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29C9-3649-4523-9C03-61C0B6201206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projek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03DA-D4E4-43DD-9AF3-8C99D8AE45B9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1-30T16:39:51Z</dcterms:modified>
  <cp:revision>252</cp:revision>
  <dc:subject>ERC CZ - vyhlášení 2012</dc:subject>
  <dc:title>ERC CZ- seminář pro žadatele</dc:title>
</cp:coreProperties>
</file>