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148A-1DE0-49AD-A137-7F134FBCE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hlaví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Zástupný symbol pro číslo snímku 4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AAB0-056D-4F2D-8547-362E610EE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znané náklady: investice, neinvestice, vč. mzdových (i na vytvoření nového týmu cca 10-15 osob) – požadavky jako u ER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1E38-DB9C-472B-A14C-0DF306E48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stupňované požadavky na výsledky (obdoba ERC) - Do konce 1. kalendářního roku řešení  - uplatnit alespoň 1 výsledek projektu, do konce 2. roku řešení 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alespoň 3 výsledky,…cc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na 1 projekt za celý tý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neuplatňování dílčích výsledků příjemcem poskytovatel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sníží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poru ve 3. roce řešení až o 10% z částky přiznané poskytovatelem pro daný kalendářní rok, ve 4. roce až o 20% a v následujících letech až o 50%, přičemž není dotčeno právo poskytovatele rozhodnout na základě zhodnocení dílčích výsledků o okamžitém ukončení projektu, popřípadě i o odnětí podpory nebo o jejím vrácen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9851-A1B1-47B2-A4C7-D50F3227C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85CB-0BA0-4B38-B9EB-741A7575C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4BC3-07FB-4CE1-853A-10547533E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BDBD-70B4-44EF-B15D-46159F250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458B-69CC-4C3D-BC90-ED13EE2FE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E6C9-AFA7-47B7-82E8-4098DA047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FA69-B2AD-44D5-B929-3D3BED7B0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493B-FA00-4B59-A1D9-9BF070536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AF15-C07E-476B-9833-E0378A6E9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DF34-14A8-4FFE-ABE2-99B0A5244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hodnotí se pokud hostitel=uchazeč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hodnotí se jen v případě, že uchazeč nebyl „hostitelskou organizací“ v původním návrhu, jinak se přihlíží k hodnocení ER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3BAB-9FF6-4F18-8768-6262C03EB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55D4-7C61-4C2D-9B77-0DEAE783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2E56-5CC6-4D79-9857-CA8DD67B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8E165-371B-40D1-9EE8-959BFC0E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ED13A-9F09-436B-AB3F-E7989C8D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07470-1F01-4EFE-A375-63A2404E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099A0-125E-487D-82C4-801457F0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E2BE7-B25E-47E4-BAD5-612FC017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CE5FC-AC75-495E-BC64-F97A65B2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0854F-0701-4164-8005-84E535D3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744BC-19CA-4119-84DA-0DD34AF4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70E8E-1E6C-404F-9481-4FD03181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E7B-46AC-4626-82BC-5FD985CE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9C7-8EAD-4229-9136-0F1490DB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00DB-228A-4D3A-9CBC-B1D5D8DB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85B9-8A38-4C8F-AE15-CBC1D10E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9C1C-1084-42D3-B533-9586D635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35F5-3002-4797-A074-5A06DB8A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C4E9-3092-4979-AC74-61C931AC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DDE0-B843-4C32-9A8B-CBF652EA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F844-FF6E-48E7-B8B9-9E7E2667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73FD-52C8-4DF3-9932-CC22FC5C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3E0B-1DA0-4B4F-BFCC-C3EC5F32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059C-4303-4DE7-BC0B-7C9C46D0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4873-B3F2-44E9-8834-A9155010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EF2F-1C0F-41FB-8CD3-FB08375A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EDCC-572E-4F52-B5F2-5AA4FF29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B421C-B7B9-478E-B309-F0579627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C5C11-4170-4A2A-98DC-AA2C4074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324F9-20D2-4C83-A17B-4CF0AD76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94C5C-03BA-4FAE-9F9F-F8EDD157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F9BBD-E56E-4801-AC43-092CFBE3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62B2-C0AE-4051-AE76-C45D8C88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33CD4-8713-4044-B8F4-19210C5D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EAEF5-AB5C-4D9C-8B85-FCDA6EB3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B19D5-1CB8-4389-B3BB-AB7C5A69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13DF7-11D4-4D5A-A692-46E233EC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65C7A-185E-43F0-A84A-466B19B7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F0CCE-A892-4273-9F22-CFA6BFB3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79836-6680-4485-8C4A-81D2103B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390AB-4745-488F-A68F-C6EF96D9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49437-ECB9-4795-BCD8-CB9F87B2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797D1-9440-4213-A34D-9E8E6F78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91E-341B-4577-82EB-D6419247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F8E2C-BDE6-447E-B2B9-F3CE446B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091E9-0C32-4B58-83B5-E1DEF3D7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51819-DA5B-45BE-8DAC-9357DED3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26503-1488-4DD6-83D1-71965285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386E4-E115-4CFC-B5CF-B2DE9E15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5B986-E3EF-45CA-8606-FD093FE5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795F0-DBEF-48DC-8334-40F28F0F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1A6F4-B25F-4BFC-88B4-1EFB764C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E8E44-044C-4B71-8724-9E3FA2F4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F1055-B13D-4005-8426-139B8E4B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8932-723B-4282-B112-CDACFAE8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794BB-2656-4802-AF4F-2089FDEA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13B18-1E8D-4DA6-8914-E6AAB416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C3546-FCD3-4615-83C3-00981BE4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578FB-90DD-4F8C-9887-68E9C83F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CD253-7794-4F4F-A292-9019435D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DBFF2-8733-481E-9D29-4F654B91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1EAF9-850F-48E7-BF68-55373B85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FF55F-8C63-4BC6-949A-BC558964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3F553-AE9E-4A10-A6D9-A7D956B6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BB1EE-814A-4D47-9F3F-16D99014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FB6-6B87-4FFA-95E2-BCD151A1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35DF4-8319-4C79-9BE2-700A68B3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A1D6C-7158-4CC0-847D-79A8A41B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52EB3-6D2A-4570-90CB-F595A0D8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F444D-F3AA-4E7D-82E5-EC4D3218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4F2FC-6738-4B29-AB98-2CE628E2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5F80B-B31C-4616-941B-7C25FB5C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129E6-8A29-4752-927C-61296A4D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7724B-C85F-432C-8394-9BEA64AB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C2308-C394-4383-8555-C744A68E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1DCA0-B371-4617-A4D2-B0E1F9F8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64A7-6924-4FC9-9FFA-2BFC3074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72BFF-5097-4BBA-BD6A-9A350D39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D165A-E830-4A43-86F4-E0968A3C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831E4-D106-4B35-B504-9FDE8B99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3885B-1855-404C-BC71-DCA1B2EC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B0894-6B9E-463F-87C4-07B00172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F9664-D6E8-46ED-B1A4-0B495564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482CF-631A-478F-BADF-21B62630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DC16F-2C74-4D67-AD70-808EE902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0BA8B-45D6-42FF-85D4-7749D79E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93228-CDE6-4EDB-BD28-E72E0C35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0CF-8F6A-45B9-B82E-59041325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BF1A1-3F6E-4119-8E11-A9E99537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F3B4C-EBBA-4A84-A219-B07D26BF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0F51E-F277-472A-9E5B-FF808B55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2BE00-A214-46CA-842A-EF77C0E8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229A3-F935-4375-B551-3D524AFA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04D0A-DD3F-4A7D-A571-E5D8B70F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2D882-3091-470E-B77D-AA31847E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25BDE-F24E-43A0-A46C-75937FD8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F8AF2-5B54-4AE4-9C09-F2F44396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AE393-3E9E-46B3-936B-78B8E8B3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3B6-73BF-42A2-8310-D5709D5D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ACD4E-F565-4713-A609-0C29C797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E958E-9998-4162-A557-D9F24829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C7471-E9D4-4B72-A600-F0C3E121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6C543-9545-4301-9656-280F241A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7ED1B-9CF5-4388-B143-35D52E47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3FAE7-678D-400E-BB99-45900C6D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E3B56-6EE2-4C0B-889A-8ED9765B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0972A-6995-4661-8F3F-5903423E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670D6-F5EF-4E08-AD87-E6581382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2EE0C-E397-4D6F-9D58-7B486BD0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8CCA-FEEE-4EDD-A056-B81CD27E101D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úhlý trojúhelní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15"/>
          <p:cNvGrpSpPr/>
          <p:nvPr/>
        </p:nvGrpSpPr>
        <p:grpSpPr>
          <a:xfrm>
            <a:off x="-3240" y="4946760"/>
            <a:ext cx="9147240" cy="1911240"/>
            <a:chOff x="-3240" y="4946760"/>
            <a:chExt cx="9147240" cy="1911240"/>
          </a:xfrm>
        </p:grpSpPr>
        <p:sp>
          <p:nvSpPr>
            <p:cNvPr id="49" name="Volný tvar 16"/>
            <p:cNvSpPr/>
            <p:nvPr/>
          </p:nvSpPr>
          <p:spPr>
            <a:xfrm>
              <a:off x="1693440" y="4946760"/>
              <a:ext cx="7444440" cy="4856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olný tvar 18"/>
            <p:cNvSpPr/>
            <p:nvPr/>
          </p:nvSpPr>
          <p:spPr>
            <a:xfrm>
              <a:off x="45360" y="5229720"/>
              <a:ext cx="9092880" cy="78624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olný tvar 19"/>
            <p:cNvGrpSpPr/>
            <p:nvPr/>
          </p:nvGrpSpPr>
          <p:grpSpPr>
            <a:xfrm>
              <a:off x="2520" y="4986360"/>
              <a:ext cx="9141480" cy="1871640"/>
              <a:chOff x="2520" y="4986360"/>
              <a:chExt cx="9141480" cy="1871640"/>
            </a:xfrm>
          </p:grpSpPr>
          <p:pic>
            <p:nvPicPr>
              <p:cNvPr id="52" name="Volný tvar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86360"/>
                <a:ext cx="9141480" cy="18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4994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Přímá spojovací čára 20" descr=""/>
            <p:cNvPicPr/>
            <p:nvPr/>
          </p:nvPicPr>
          <p:blipFill>
            <a:blip r:embed="rId3"/>
            <a:stretch/>
          </p:blipFill>
          <p:spPr>
            <a:xfrm>
              <a:off x="-3240" y="498024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3990-9428-47CB-8AF0-F9362F7D35E1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320" y="6408720"/>
            <a:ext cx="216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250920" y="630864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EACB-2217-4FF7-B7DA-60B92AA48C7A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Dvojitá šipk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vojitá šipk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F1A4-AFE7-479B-940E-E91FC42E4836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3E55-3299-43E5-BD1B-3073A7138F18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229B-F727-4D18-A2BE-979D404DA473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23D6-6B92-403C-85D4-186903B693CC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D3BE-7BFC-43DC-B0EC-FD9956A33644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Volný tvar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Volný tvar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Pravoúhlý trojúhelní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1" name="Pravoúhlý trojúhelní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Přímá spojovací čár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4" name="Dvojitá šipk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Dvojitá šipk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0D17-DEA1-4CA7-8E85-8AC375DAC6F7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636040" cy="287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PROGRAM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ERC CZ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veřejná soutěž ve VaVaI vyhlášená dne 25.1.2012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1785600" cy="1071360"/>
          </a:xfrm>
          <a:prstGeom prst="rect">
            <a:avLst/>
          </a:prstGeom>
          <a:ln w="0">
            <a:noFill/>
          </a:ln>
        </p:spPr>
      </p:pic>
      <p:sp>
        <p:nvSpPr>
          <p:cNvPr id="426" name="Zástupný symbol pro datum 3"/>
          <p:cNvSpPr/>
          <p:nvPr/>
        </p:nvSpPr>
        <p:spPr>
          <a:xfrm>
            <a:off x="6727680" y="6453360"/>
            <a:ext cx="2165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ástupný symbol pro číslo snímku 4"/>
          <p:cNvSpPr/>
          <p:nvPr/>
        </p:nvSpPr>
        <p:spPr>
          <a:xfrm>
            <a:off x="0" y="6492960"/>
            <a:ext cx="46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F4EE-2FC6-48FC-95F7-4E733CD36E05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14200" y="2421000"/>
            <a:ext cx="846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až 100% uznaných nákladů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oskytovatel je oprávně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konči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skytování podpory projektu, popř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íži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ši podpory pro následující kalendářní rok na základě výsledků průběžného vyhodnocení dílčích výsledků projektu uplatněných příjemcem v IS VaVaI - z důvodu jejich nedostatečného počtu nebo nízké kvalit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7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278F-0D87-47BD-A8D0-17E9A00FFD96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spěšně zahájit a ukončit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ojekt ve výzkumné organizaci na území Č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ůběž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plnit smluvní podmínk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vč. naplňo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dikátor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úrovni projektu – např. uplatnit 29 publikovaných nebo jiným oficiálním způsobem zveřejněných výsledků projektu a uplatněných v IS VaVaI, popř. nově zahájit projekt mezinárodní spolupráce/mezinárodního programu – nepovinné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07440" cy="1944720"/>
          </a:xfrm>
          <a:prstGeom prst="rect">
            <a:avLst/>
          </a:prstGeom>
          <a:ln w="0">
            <a:noFill/>
          </a:ln>
        </p:spPr>
      </p:pic>
      <p:sp>
        <p:nvSpPr>
          <p:cNvPr id="48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11E9-6109-4157-A1B1-066B8E0B8C9C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9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Zástupný symbol pro číslo snímku 4"/>
          <p:cNvSpPr/>
          <p:nvPr/>
        </p:nvSpPr>
        <p:spPr>
          <a:xfrm>
            <a:off x="179280" y="628668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54A7-7141-4921-975B-691A758605D8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  <p:cxnSp>
        <p:nvCxnSpPr>
          <p:cNvPr id="495" name="Přímá spojovací šipka 8"/>
          <p:cNvCxnSpPr/>
          <p:nvPr/>
        </p:nvCxnSpPr>
        <p:spPr>
          <a:xfrm>
            <a:off x="6803640" y="5229360"/>
            <a:ext cx="361080" cy="2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graphicFrame>
        <p:nvGraphicFramePr>
          <p:cNvPr id="496" name=""/>
          <p:cNvGraphicFramePr/>
          <p:nvPr/>
        </p:nvGraphicFramePr>
        <p:xfrm>
          <a:off x="611280" y="2060640"/>
          <a:ext cx="8064360" cy="3852720"/>
        </p:xfrm>
        <a:graphic>
          <a:graphicData uri="http://schemas.openxmlformats.org/drawingml/2006/table">
            <a:tbl>
              <a:tblPr/>
              <a:tblGrid>
                <a:gridCol w="3529080"/>
                <a:gridCol w="4535280"/>
              </a:tblGrid>
              <a:tr h="72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ýdaje na program ERC CZ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                          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v tis. Kč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kem na program ERC C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285480" y="114264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ana Hakenová,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akenova@msmt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tel.: 234 811 560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1128960" cy="738360"/>
          </a:xfrm>
          <a:prstGeom prst="rect">
            <a:avLst/>
          </a:prstGeom>
          <a:ln w="0">
            <a:noFill/>
          </a:ln>
        </p:spPr>
      </p:pic>
      <p:sp>
        <p:nvSpPr>
          <p:cNvPr id="49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Zástupný symbol pro číslo snímku 4"/>
          <p:cNvSpPr/>
          <p:nvPr/>
        </p:nvSpPr>
        <p:spPr>
          <a:xfrm>
            <a:off x="285840" y="6286680"/>
            <a:ext cx="428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9D7B-3F58-4AB5-B912-46A8B2F5AB31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214200" y="1915920"/>
            <a:ext cx="846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Proč a k čemu program slouží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žnost realizovat svůj mezinárodně úspěšný projekt v ČR a za finanční podpory ze státního rozpočtu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tivace a nepřímá podpora pro české výzkumníky – uchazeče o podporu u ERC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 základě čeho lze žádat o podporu ? - (právní rámec programu)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ákon č. 130/2002 Sb., o podpoře výzkumu, experimentálního vývoje a inovací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Nařízení Komise (ES) č. 800/2008 ze dne 6. srpna 2008, kterým se dle článků 87 a 88 Smlouvy o ES prohlašují určité kategorie za slučitelné se společným trhem (obecné nařízení o blokových výjimkách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ámec společenství pro státní podporu VaVaI (2006/C 323/01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Nadpis 2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1523880"/>
          </a:xfrm>
          <a:prstGeom prst="rect">
            <a:avLst/>
          </a:prstGeom>
          <a:ln w="0">
            <a:noFill/>
          </a:ln>
        </p:spPr>
      </p:pic>
      <p:sp>
        <p:nvSpPr>
          <p:cNvPr id="43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E430-82C9-4A63-98AA-A02FCF63CEBD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14200" y="1700280"/>
            <a:ext cx="8390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Na co lze žádat finanční podporu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Předmět podpory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: Projekty „hraničního výzkumu“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teré uspěl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výběrových řízeních organizovaných Evropskou radou pro výzkum (ERC) s výsledkem: </a:t>
            </a:r>
            <a:r>
              <a:rPr b="1" lang="en-GB" sz="2000" spc="-1" strike="noStrike">
                <a:solidFill>
                  <a:srgbClr val="1c9cb6"/>
                </a:solidFill>
                <a:latin typeface="Arial"/>
                <a:ea typeface="Arial"/>
              </a:rPr>
              <a:t>"The proposal is of good quality and fundable but not retained for funding due to budgetary constrains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 které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moh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být proto realizovány za finanční podpory ER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o může žádat – kdo má šanci na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íjemci podpory jen výzkumné organizac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smyslu Rámce Společenství pro státní podporu výzkumu, vývoje a inovací č. 2006/C 323/01, platného od 1. 1. 2007,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se sídlem na území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3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7ADB-F0EE-4BBA-805D-7CD6772D50EC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4920" y="170028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Jak a kdy doručit žádost o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uchazeč doručí osobně, poštou nebo jiným způsobem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do podateln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inisterstva školství, mládeže a tělovýchovy, v Karmelitské ul. 7, 118 12 Praha 1, v soutěžní lhůtě, tj,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nejpozději do 12.března 201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v úředních hodinách  (po – pá: od 7:30 do 15:30)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musí být doručen poskytovateli </a:t>
            </a:r>
            <a:r>
              <a:rPr b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v uzavřené obál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obsahující listinnou i elektronickou verzi návrhu projektu, a na této obálce musí být uvedena </a:t>
            </a:r>
            <a:r>
              <a:rPr b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adresa poskytovatele, adresa uchazeče jako odesílate</a:t>
            </a:r>
            <a:r>
              <a:rPr b="0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a zřetelný, výrazně vyznačený nápis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„ERC CZ – veřejná soutěž – NEOTVÍRAT!“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492D-4BDD-467B-965D-261839E99B8D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14200" y="1484280"/>
            <a:ext cx="8390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8120" indent="-24336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Kdo poskytuje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nisterstvo školství, mládeže a tělovýchovy, odbor programů výzkumu -31, Karmelitská 7, P. O. Box 78, 118 12 Praha 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.: 234 811 547 (sekretariát odboru programů výzkumu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-mail: odbor31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rogramu ERC CZ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oskytovatele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ww.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ontaktní osob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. Hakenová, tel.: 234 811 560, e-mail: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akenova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doporučení - vždy důsledně uvádět v předmětu e-mailové zprávy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ERC CZ“, 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po uzavření sml. pak ID projektu „LL120…“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y lze získat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soutěžní lhůtě tj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od 26. 1. 2012 do 12. března 201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(výsledky 16. května 2012 n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FC52-4002-4D44-A613-C13256E3CB19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214200" y="1915920"/>
            <a:ext cx="839016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ěcná shod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jektu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ná délka řeše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 délkou řešení určenou aktuální výzvou ERC, v jejímž rámci byl návrh projektu vyhodnocen na evropské úrovn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doplně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údajů pro IS VaVa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součást žádos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řešitelkou nebo řešitelem projektu ERC CZ 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táž fyzická osoba,  jíž návrh byl úspěš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e výzvě ERC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Nadpis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01480"/>
          </a:xfrm>
          <a:prstGeom prst="rect">
            <a:avLst/>
          </a:prstGeom>
          <a:ln w="0">
            <a:noFill/>
          </a:ln>
        </p:spPr>
      </p:pic>
      <p:sp>
        <p:nvSpPr>
          <p:cNvPr id="45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A789-EBBF-4C60-93B5-0AD26CA98A08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214200" y="1844640"/>
            <a:ext cx="83901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zavře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acovně právního vztah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ezi uchazečem a řešitelem na období zahrnující celou dobu řešení projektu a minimálně dalších 6 kalendářních měsíců následujících po dni ukončení řešení projektu v rozsahu 0,5 plného úvazku (resp. 0,3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ávazek, že řešitel/ka projekt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využij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o dobu následujících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 le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 zahájení řešení projektu možnost opětovně podat návrh věcně obdobného projektu k ERC v následujících výzvách vyhlašovaných ERC u 5-letého projekt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analogicky o 1 rok méně u projektů s kratší délkou řešení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EFDE-DA8D-4733-B74A-9636A88E7A84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13840" y="1915920"/>
            <a:ext cx="831852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ELZE ŽÁD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poru věcně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pravovaný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ávrhů původních projektů podaných k ER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 podporu projektů nových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vazujíc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a již podpořené projekty ER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dále viz ZD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EBB1-8EE0-4D04-BD60-A22B74593210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214200" y="2060280"/>
            <a:ext cx="8461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a věcného obsah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zkumné části návrhu projektu ERC CZ s projektem hodnoceným ERC (A/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valita výzkum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excelence) - převzetí výsledku hodnocení ERC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alizovatelnost projektu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ajištění podmínek pro řešení projektu ze strany uchazeče/příjemce podpory, zejména zajištění výzkumných a provozních kapacit, zahrnujících jak vyčlenění potřebných prostor a zařízení, tak i personálu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Nadpis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47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Zástupný symbol pro číslo snímku 4"/>
          <p:cNvSpPr/>
          <p:nvPr/>
        </p:nvSpPr>
        <p:spPr>
          <a:xfrm>
            <a:off x="179280" y="63770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B588-F8EC-4665-9E30-070F5609D867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5:01:25Z</dcterms:created>
  <dc:creator>Hakenová Jana</dc:creator>
  <dc:description/>
  <cp:keywords>podpora program VaVaI</cp:keywords>
  <dc:language>en-US</dc:language>
  <cp:lastModifiedBy>Hakenová</cp:lastModifiedBy>
  <dcterms:modified xsi:type="dcterms:W3CDTF">2012-01-30T16:39:51Z</dcterms:modified>
  <cp:revision>252</cp:revision>
  <dc:subject>ERC CZ - vyhlášení 2012</dc:subject>
  <dc:title>ERC CZ- seminář pro žadatele</dc:title>
</cp:coreProperties>
</file>