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41920" y="942768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9021-9881-4C79-A09A-302E23B0E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záhlaví 3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Zástupný symbol pro číslo snímku 4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5E79-4511-4746-8807-73297D476C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znané náklady: investice, neinvestice, vč. mzdových (i na vytvoření nového týmu cca 10-15 osob) – požadavky jako u ER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D175-B79A-48A4-9394-5C47DDCBD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stupňované požadavky na výsledky (obdoba ERC) - Do konce 1. kalendářního roku řešení  - uplatnit alespoň 1 výsledek projektu, do konce 2. roku řešení 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alespoň 3 výsledky,…cca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28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na 1 projekt za celý tý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neuplatňování dílčích výsledků příjemcem poskytovatel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sníží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poru ve 3. roce řešení až o 10% z částky přiznané poskytovatelem pro daný kalendářní rok, ve 4. roce až o 20% a v následujících letech až o 50%, přičemž není dotčeno právo poskytovatele rozhodnout na základě zhodnocení dílčích výsledků o okamžitém ukončení projektu, popřípadě i o odnětí podpory nebo o jejím vrácen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E3490-3A66-410B-B98B-044C486A3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CAA4-2BA7-42E3-B1CE-8DBD508FD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DFF9-26DF-473E-A980-79678399D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3D18-0995-4790-B383-3A905FE85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789F-3D79-49FA-B109-E38514E56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EAAA-B813-4F5C-8807-C15A2A2D6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6D41-FFEA-4FBF-BF89-B0FEAC57B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B88E-C60D-4741-9536-D715FA833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BA25-B109-4F53-B4CD-208ED947A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ro „zahajovací“ i  „pokročilé“ projek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době řešení a nebude-li zrušen/ ukončen- (eliminace duplicit, dokončení v Č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75C0-5203-4FF6-85EF-324EE39F5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hodnotí se pokud hostitel=uchazeč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hodnotí se jen v případě, že uchazeč nebyl „hostitelskou organizací“ v původním návrhu, jinak se přihlíží k hodnocení ER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Zástupný symbol pro číslo snímku 3"/>
          <p:cNvSpPr/>
          <p:nvPr/>
        </p:nvSpPr>
        <p:spPr>
          <a:xfrm>
            <a:off x="3841920" y="942804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4054-7AA2-43CD-83E5-0933C22E9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Zástupný symbol pro záhlaví 6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17C0-9A9A-42E3-B4B9-EC046F02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E307-C6DB-4D3B-9797-6B6B8265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5A12AF-21B4-4AEF-AD9D-EAAB3F95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9AE48-C8D9-4556-9581-3260C152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B53D3-AC94-4E3D-97FB-D502B0B9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BE934-045D-4DDE-99D6-7602CA8B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0A648-BF4C-4C8C-AA8E-8AE48523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2A925-448E-4B6F-88A8-2155155B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1FDFA-21F5-4267-89CF-5656CD47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FC35C-1621-401B-9FC6-0FC8E1F3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B1292-9CF5-4EA4-9FF1-A17B2FF3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1D6F-E34E-4356-B13D-A8C8B41E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3334-2C13-4241-816F-7B1C5B3B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83B9-641F-457D-8440-9EBE9904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8A5D-71DC-413C-9C05-49DE2CB5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9B0B-1E33-4F99-A259-77B702BF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74C6-A310-4CF5-9F06-AC0AC3A7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C3EA-F211-4061-9C82-7E2B95D4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336D-3BDE-4FB3-BB6D-98EBC28F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EEC4-6C65-4B28-9335-8DA1F747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E9D-D135-4D57-BAA5-3B80EE13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FC91-5C77-43EA-B867-04A658CB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8DC7-088C-4F4F-9FD7-1C9C0630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A418-DE87-4E4A-A724-E3D4D235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C80C-F304-4289-8921-8290F6E1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1AD0-E454-43E1-93B9-103443E2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528F1-AB78-4113-A48F-9E0FCEA5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B7B86-F35A-4327-8A66-DB67D69F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79DB3-CD85-4C35-B8CE-963BF9F6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567C4-658C-4382-978A-82BE0AD8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16CAB-7221-48FA-B243-0F90402CD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84C-8A4E-4262-8C96-CAECDDAF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59F71-117A-4A57-AE63-47A71B1F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4E78F-F82F-4F6E-8498-29D8A78A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5B6A6-8680-4B91-A3F6-79A59B56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2E918-C02E-4AED-92F3-DFFB042D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FBE59-EE8C-4CFF-8835-E89A04977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8B3D2-BBD8-44BD-B2CA-F7F14AE2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230FE-FBD3-4A94-8E75-739E264A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92F63-7905-459D-8291-122719B9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FE1F6-84AE-4674-A0DA-55A19961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8A214-41C9-49A4-A5D3-A0B4F767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C53C-4DC5-4FA0-9198-830D9754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D9E26-2CE4-48E5-96CF-7CF04417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8E8F0-DEAF-4D3F-A601-B5595F5E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B5CAC-8289-45C4-A28E-B44CEFA0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BB39A-CAFF-41B9-BADE-C9142598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3AF63-0CD1-4247-963A-AB986827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D6445-1BF4-47A9-8628-791CECE9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0092D-D1CE-4E3A-9D03-FBADE321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9BC62-3BB9-4480-B3CD-BA817C0B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CDD02-22F6-467E-B7F6-C2E3D5B6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6A9C9-3BAE-41E7-A460-DEA52E01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103-0E98-449C-ACED-5010D503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69DC8-2C06-45C6-A4B8-6631F1FF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84C3B-3254-4CF9-8AE6-4C1547B4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403DB5-5DCC-46C8-9D72-5311F577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D03D1-BEF2-4732-9872-A7485444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C12C1-F0F9-4311-A839-27007196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C641D-1C08-4A28-89E7-8EE70C59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3739A-75EB-48C3-8E05-6C9DFCA6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4A71F-52C3-450A-9FA9-4DFAFAEB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356DB-8D0B-49BC-A021-CBCB07BF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6F82B-2041-4B7E-AF86-6BCB54FF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9C40-77D9-4079-96CE-01C02E8B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FC8EC-9CE4-4C55-9EE9-B27ABDA4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554EF-0FDE-42EB-9775-BB78A42A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10C01-4776-4FED-85FE-25923FEC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96DED-AB82-4F71-8104-AB7BB1BC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3C618-0FBA-456F-AE5F-5EFE7C7B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681A6-B964-4051-A3A1-812B3496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4F400-F65A-4DAC-8FCF-0AD7C338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41FA4-6DC8-47F7-8C2F-921BE6FE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AE351-FB65-4962-A2EA-89E53885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47CC3-359D-400E-9414-8085C921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DDF-8128-4BF2-9789-6693A2DE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86C8D-2C2D-497B-97AB-F4AF322F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64E4C-8148-46C3-A82C-9500F494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FAB39-55DB-4284-BE3A-494B9AFB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C9016-8251-41AE-B71A-2EE075674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1C7E5-9462-442B-9186-BF2B8B00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1AB86-0E21-4653-8B16-4A13C92F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5F728-BEE4-4C49-84EF-BD33C46A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27D08-FA0E-4351-AF4C-D60A249F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1BA51-5D6F-466F-9E63-33878012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2B08E-4D83-4B0C-9A30-0ADB5C4B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E8A1-16A2-45D4-B113-541039B7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EE0DC-88F5-43FD-9831-1D309DF7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3C8E4-E8F7-4930-8E70-1E2EAABA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D1B20-5144-4750-AFFC-ED05AA64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7940D-0875-4613-8703-291643C2A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10F2A-A194-4FAF-B2C5-C0C0B07F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E5200-CB21-4F38-A97A-8BBE4AB4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99391-FAA2-4227-8D04-0E65FF43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7F4A8-1ECC-436E-B478-EC527AAA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11970-8CF0-4FA1-8469-0C9F8834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13B45-9E6C-4148-8C91-A9D4D9DA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9CF8-B840-43EA-BD0A-47A8FBE3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7F7C4-470B-4003-9523-E0D96BF9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9E322-29CC-40C6-A5E8-858F2BF3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48C6C-90B5-4A85-9339-5CA2C182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341D3-220F-4AF0-9AA1-93ECE204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1A156-F234-45BA-86D3-923777C3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379D6-C95E-47E4-B03E-76BB62A2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7E115-C140-46DC-84A3-23F9E121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1C818-D3CC-4DEA-9991-D6A43632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F86DF-21F2-44A3-9BF4-DFE9BB46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5A69F-80F2-4E7E-877C-B0722AF5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9839-3C7C-4C37-A1D3-035C2FDD63EE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ravoúhlý trojúhelní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Skupina 15"/>
          <p:cNvGrpSpPr/>
          <p:nvPr/>
        </p:nvGrpSpPr>
        <p:grpSpPr>
          <a:xfrm>
            <a:off x="-3240" y="4946760"/>
            <a:ext cx="9147240" cy="1911240"/>
            <a:chOff x="-3240" y="4946760"/>
            <a:chExt cx="9147240" cy="1911240"/>
          </a:xfrm>
        </p:grpSpPr>
        <p:sp>
          <p:nvSpPr>
            <p:cNvPr id="49" name="Volný tvar 16"/>
            <p:cNvSpPr/>
            <p:nvPr/>
          </p:nvSpPr>
          <p:spPr>
            <a:xfrm>
              <a:off x="1693440" y="4946760"/>
              <a:ext cx="7444440" cy="4856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olný tvar 18"/>
            <p:cNvSpPr/>
            <p:nvPr/>
          </p:nvSpPr>
          <p:spPr>
            <a:xfrm>
              <a:off x="45360" y="5229720"/>
              <a:ext cx="9092880" cy="78624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olný tvar 19"/>
            <p:cNvGrpSpPr/>
            <p:nvPr/>
          </p:nvGrpSpPr>
          <p:grpSpPr>
            <a:xfrm>
              <a:off x="2520" y="4986360"/>
              <a:ext cx="9141480" cy="1871640"/>
              <a:chOff x="2520" y="4986360"/>
              <a:chExt cx="9141480" cy="1871640"/>
            </a:xfrm>
          </p:grpSpPr>
          <p:pic>
            <p:nvPicPr>
              <p:cNvPr id="52" name="Volný tvar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86360"/>
                <a:ext cx="9141480" cy="187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49942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Přímá spojovací čára 20" descr=""/>
            <p:cNvPicPr/>
            <p:nvPr/>
          </p:nvPicPr>
          <p:blipFill>
            <a:blip r:embed="rId3"/>
            <a:stretch/>
          </p:blipFill>
          <p:spPr>
            <a:xfrm>
              <a:off x="-3240" y="498024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27F5-2770-47C1-9988-E755B532F6F0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Pravoúhlý trojúhelní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Přímá spojovací čára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320" y="6408720"/>
            <a:ext cx="2165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250920" y="630864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7CBC-8070-4C29-AC3B-472CD108EB0F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Dvojitá šipk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vojitá šipk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BD1A-DB45-4E2B-8FFC-DEE3F1AB74C1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E455-F6FB-4110-AA0F-E289006DFB1D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FEC8-EFF6-4AA3-8C21-84BB64B2E78A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Volný tvar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Volný tvar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Pravoúhlý trojúhelní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Pravoúhlý trojúhelní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Přímá spojovací čára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91A9-93A2-4AE3-9FCC-C94D013283DD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C1D8-FE9D-4D1D-B462-A2ADA82FEBC7}" type="slidenum"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Volný tvar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Volný tvar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Pravoúhlý trojúhelní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1" name="Pravoúhlý trojúhelní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Přímá spojovací čára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4" name="Dvojitá šipk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Dvojitá šipk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B2F3-B4A9-49B2-A433-B7E80DEA2F89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8636040" cy="2879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PROGRAM 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  <a:ea typeface="Arial"/>
              </a:rPr>
              <a:t>ERC CZ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veřejná soutěž ve VaVaI vyhlášená dne 25.1.2012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571680" y="428760"/>
            <a:ext cx="1785600" cy="1071360"/>
          </a:xfrm>
          <a:prstGeom prst="rect">
            <a:avLst/>
          </a:prstGeom>
          <a:ln w="0">
            <a:noFill/>
          </a:ln>
        </p:spPr>
      </p:pic>
      <p:sp>
        <p:nvSpPr>
          <p:cNvPr id="426" name="Zástupný symbol pro datum 3"/>
          <p:cNvSpPr/>
          <p:nvPr/>
        </p:nvSpPr>
        <p:spPr>
          <a:xfrm>
            <a:off x="6727680" y="6453360"/>
            <a:ext cx="2165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Zástupný symbol pro číslo snímku 4"/>
          <p:cNvSpPr/>
          <p:nvPr/>
        </p:nvSpPr>
        <p:spPr>
          <a:xfrm>
            <a:off x="0" y="6492960"/>
            <a:ext cx="46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075E-5D7B-42D4-8E00-3D83568F9EE5}" type="slidenum">
              <a:rPr b="0" lang="cs-CZ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e8f0f4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214200" y="2421000"/>
            <a:ext cx="84614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až 100% uznaných nákladů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oskytovatel je oprávněn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končit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skytování podpory projektu, popř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níži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ýši podpory pro následující kalendářní rok na základě výsledků průběžného vyhodnocení dílčích výsledků projektu uplatněných příjemcem v IS VaVaI - z důvodu jejich nedostatečného počtu nebo nízké kvality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7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8FBC-03AC-4E80-9CA1-93A6D87E5487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spěšně zahájit a ukončit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ojekt ve výzkumné organizaci na území Č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růběž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plnit smluvní podmínky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vč. naplňo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ndikátorů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 úrovni projektu – např. uplatnit 29 publikovaných nebo jiným oficiálním způsobem zveřejněných výsledků projektu a uplatněných v IS VaVaI, popř. nově zahájit projekt mezinárodní spolupráce/mezinárodního programu – nepovinné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07440" cy="1944720"/>
          </a:xfrm>
          <a:prstGeom prst="rect">
            <a:avLst/>
          </a:prstGeom>
          <a:ln w="0">
            <a:noFill/>
          </a:ln>
        </p:spPr>
      </p:pic>
      <p:sp>
        <p:nvSpPr>
          <p:cNvPr id="48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90CE-E550-48B2-AC80-6E8CC517F78A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214200" y="2421000"/>
            <a:ext cx="8715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0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44720"/>
          </a:xfrm>
          <a:prstGeom prst="rect">
            <a:avLst/>
          </a:prstGeom>
          <a:ln w="0">
            <a:noFill/>
          </a:ln>
        </p:spPr>
      </p:pic>
      <p:sp>
        <p:nvSpPr>
          <p:cNvPr id="49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Zástupný symbol pro číslo snímku 4"/>
          <p:cNvSpPr/>
          <p:nvPr/>
        </p:nvSpPr>
        <p:spPr>
          <a:xfrm>
            <a:off x="179280" y="6286680"/>
            <a:ext cx="4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8FC1-9424-4A48-B0DE-4814C055FDAD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  <p:cxnSp>
        <p:nvCxnSpPr>
          <p:cNvPr id="495" name="Přímá spojovací šipka 8"/>
          <p:cNvCxnSpPr/>
          <p:nvPr/>
        </p:nvCxnSpPr>
        <p:spPr>
          <a:xfrm>
            <a:off x="6803640" y="5229360"/>
            <a:ext cx="361080" cy="2160"/>
          </a:xfrm>
          <a:prstGeom prst="straightConnector1">
            <a:avLst/>
          </a:prstGeom>
          <a:ln w="9360">
            <a:solidFill>
              <a:srgbClr val="2da2bf"/>
            </a:solidFill>
            <a:miter/>
            <a:tailEnd len="med" type="arrow" w="med"/>
          </a:ln>
        </p:spPr>
      </p:cxnSp>
      <p:graphicFrame>
        <p:nvGraphicFramePr>
          <p:cNvPr id="496" name=""/>
          <p:cNvGraphicFramePr/>
          <p:nvPr/>
        </p:nvGraphicFramePr>
        <p:xfrm>
          <a:off x="611280" y="2060640"/>
          <a:ext cx="8064360" cy="3852720"/>
        </p:xfrm>
        <a:graphic>
          <a:graphicData uri="http://schemas.openxmlformats.org/drawingml/2006/table">
            <a:tbl>
              <a:tblPr/>
              <a:tblGrid>
                <a:gridCol w="3529080"/>
                <a:gridCol w="4535280"/>
              </a:tblGrid>
              <a:tr h="72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ýdaje na program ERC CZ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                                   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[v tis. Kč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15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lkem na program ERC C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cs-CZ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285480" y="114264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Jana Hakenová,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hakenova@msmt.c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tel.: 234 811 560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 algn="ctr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507960" indent="-399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8" name="Nadpis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1128960" cy="738360"/>
          </a:xfrm>
          <a:prstGeom prst="rect">
            <a:avLst/>
          </a:prstGeom>
          <a:ln w="0">
            <a:noFill/>
          </a:ln>
        </p:spPr>
      </p:pic>
      <p:sp>
        <p:nvSpPr>
          <p:cNvPr id="49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Zástupný symbol pro číslo snímku 4"/>
          <p:cNvSpPr/>
          <p:nvPr/>
        </p:nvSpPr>
        <p:spPr>
          <a:xfrm>
            <a:off x="285840" y="6286680"/>
            <a:ext cx="428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24B4-D08B-421A-B7E6-6465BCB40CCE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214200" y="1915920"/>
            <a:ext cx="846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Proč a k čemu program slouží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žnost realizovat svůj mezinárodně úspěšný projekt v ČR a za finanční podpory ze státního rozpočtu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motivace a nepřímá podpora pro české výzkumníky – uchazeče o podporu u ERC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Na základě čeho lze žádat o podporu ? - (právní rámec programu)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zákon č. 130/2002 Sb., o podpoře výzkumu, experimentálního vývoje a inovací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Nařízení Komise (ES) č. 800/2008 ze dne 6. srpna 2008, kterým se dle článků 87 a 88 Smlouvy o ES prohlašují určité kategorie za slučitelné se společným trhem (obecné nařízení o blokových výjimkách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  <a:ea typeface="Arial"/>
              </a:rPr>
              <a:t>Rámec společenství pro státní podporu VaVaI (2006/C 323/01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Nadpis 2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1523880"/>
          </a:xfrm>
          <a:prstGeom prst="rect">
            <a:avLst/>
          </a:prstGeom>
          <a:ln w="0">
            <a:noFill/>
          </a:ln>
        </p:spPr>
      </p:pic>
      <p:sp>
        <p:nvSpPr>
          <p:cNvPr id="43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F546-51D7-4028-821C-5FB0E584C6C7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214200" y="1700280"/>
            <a:ext cx="83901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Na co lze žádat finanční podporu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Předmět podpory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: Projekty „hraničního výzkumu“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teré uspěl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výběrových řízeních organizovaných Evropskou radou pro výzkum (ERC) s výsledkem: </a:t>
            </a:r>
            <a:r>
              <a:rPr b="1" lang="en-GB" sz="2000" spc="-1" strike="noStrike">
                <a:solidFill>
                  <a:srgbClr val="1c9cb6"/>
                </a:solidFill>
                <a:latin typeface="Arial"/>
                <a:ea typeface="Arial"/>
              </a:rPr>
              <a:t>"The proposal is of good quality and fundable but not retained for funding due to budgetary constrains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 které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mohl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být proto realizovány za finanční podpory ERC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o může žádat – kdo má šanci na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říjemci podpory jen výzkumné organizac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e smyslu Rámce Společenství pro státní podporu výzkumu, vývoje a inovací č. 2006/C 323/01, platného od 1. 1. 2007,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se sídlem na území Č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3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6780-8ED6-4B12-BE31-41135D88451C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94920" y="1700280"/>
            <a:ext cx="8209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250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Jak a kdy doručit žádost o podporu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uchazeč doručí osobně, poštou nebo jiným způsobem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do podatelny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inisterstva školství, mládeže a tělovýchovy, v Karmelitské ul. 7, 118 12 Praha 1, v soutěžní lhůtě, tj,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nejpozději do 12.března 201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v úředních hodinách  (po – pá: od 7:30 do 15:30)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85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ávrh projektu musí být doručen poskytovateli </a:t>
            </a:r>
            <a:r>
              <a:rPr b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v uzavřené obál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, obsahující listinnou i elektronickou verzi návrhu projektu, a na této obálce musí být uvedena </a:t>
            </a:r>
            <a:r>
              <a:rPr b="1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adresa poskytovatele, adresa uchazeče jako odesílate</a:t>
            </a:r>
            <a:r>
              <a:rPr b="0" lang="cs-CZ" sz="2000" spc="-1" strike="noStrike">
                <a:solidFill>
                  <a:srgbClr val="1c9cb6"/>
                </a:solidFill>
                <a:latin typeface="Arial"/>
                <a:ea typeface="Arial"/>
              </a:rPr>
              <a:t>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a zřetelný, výrazně vyznačený nápis 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„ERC CZ – veřejná soutěž – NEOTVÍRAT!“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8920" indent="-2509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FD26-E3F3-4DD8-BF20-D5911760357F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214200" y="1484280"/>
            <a:ext cx="83901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8120" indent="-24336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 u="sng">
                <a:solidFill>
                  <a:srgbClr val="1faecd"/>
                </a:solidFill>
                <a:uFillTx/>
                <a:latin typeface="Arial"/>
                <a:ea typeface="Arial"/>
              </a:rPr>
              <a:t>Kdo poskytuje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inisterstvo školství, mládeže a tělovýchovy, odbor programů výzkumu -31, Karmelitská 7, P. O. Box 78, 118 12 Praha 1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l.: 234 811 547 (sekretariát odboru programů výzkumu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-mail: odbor31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rogramu ERC CZ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ové stránky poskytovatele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www.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Kontaktní osoba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. Hakenová, tel.: 234 811 560, e-mail: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akenova@msmt.cz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doporučení - vždy důsledně uvádět v předmětu e-mailové zprávy </a:t>
            </a:r>
            <a:r>
              <a:rPr b="0" i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ERC CZ“, 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po uzavření sml. pak ID projektu „LL120…“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 u="sng">
                <a:solidFill>
                  <a:srgbClr val="1c9cb6"/>
                </a:solidFill>
                <a:uFillTx/>
                <a:latin typeface="Arial"/>
                <a:ea typeface="Arial"/>
              </a:rPr>
              <a:t>Kdy lze získat informace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soutěžní lhůtě tj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od 26. 1. 2012 do 12. března 201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(výsledky 16. května 2012 na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www.msmt.cz/vyzkum/erc-cz</a:t>
            </a:r>
            <a:r>
              <a:rPr b="0" i="1" lang="cs-CZ" sz="1800" spc="-1" strike="noStrike">
                <a:solidFill>
                  <a:srgbClr val="1c9cb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8120" indent="-2433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Nadpis 2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242560" cy="908280"/>
          </a:xfrm>
          <a:prstGeom prst="rect">
            <a:avLst/>
          </a:prstGeom>
          <a:ln w="0">
            <a:noFill/>
          </a:ln>
        </p:spPr>
      </p:pic>
      <p:sp>
        <p:nvSpPr>
          <p:cNvPr id="449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F6F3-C06B-428D-AE89-7EC4E050CD66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ástupný symbol pro zápatí 5"/>
          <p:cNvSpPr/>
          <p:nvPr/>
        </p:nvSpPr>
        <p:spPr>
          <a:xfrm>
            <a:off x="3995640" y="640872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214200" y="1915920"/>
            <a:ext cx="839016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ěcná shoda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jektu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ná délka řeše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 délkou řešení určenou aktuální výzvou ERC, v jejímž rámci byl návrh projektu vyhodnocen na evropské úrovni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doplně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údajů pro IS VaVa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součást žádosti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řešitelkou nebo řešitelem projektu ERC CZ 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táž fyzická osoba,  jíž návrh byl úspěš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ve výzvě ERC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Nadpis 2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01480"/>
          </a:xfrm>
          <a:prstGeom prst="rect">
            <a:avLst/>
          </a:prstGeom>
          <a:ln w="0">
            <a:noFill/>
          </a:ln>
        </p:spPr>
      </p:pic>
      <p:sp>
        <p:nvSpPr>
          <p:cNvPr id="455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ástupný symbol pro číslo snímku 4"/>
          <p:cNvSpPr/>
          <p:nvPr/>
        </p:nvSpPr>
        <p:spPr>
          <a:xfrm>
            <a:off x="179280" y="628668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9626-95F1-4379-9F60-B92F3491A3C0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214200" y="1844640"/>
            <a:ext cx="839016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uzavře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acovně právního vztah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ezi uchazečem a řešitelem na období zahrnující celou dobu řešení projektu a minimálně dalších 6 kalendářních měsíců následujících po dni ukončení řešení projektu v rozsahu 0,5 plného úvazku (resp. 0,3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ávazek, že řešitel/ka projektu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evyužij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po dobu následujících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 let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 zahájení řešení projektu možnost opětovně podat návrh věcně obdobného projektu k ERC v následujících výzvách vyhlašovaných ERC u 5-letého projekt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analogicky o 1 rok méně u projektů s kratší délkou řešení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1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B1F3-29F4-451D-84F5-CED0B7BC03A9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Zástupný symbol pro zápatí 5"/>
          <p:cNvSpPr/>
          <p:nvPr/>
        </p:nvSpPr>
        <p:spPr>
          <a:xfrm>
            <a:off x="3924360" y="6408720"/>
            <a:ext cx="280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13840" y="1915920"/>
            <a:ext cx="8318520" cy="40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ELZE ŽÁDA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dporu věcně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pravovaný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ávrhů původních projektů podaných k ER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 podporu projektů nových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navazujíc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na již podpořené projekty ERC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dále viz ZD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Nadpis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401840"/>
          </a:xfrm>
          <a:prstGeom prst="rect">
            <a:avLst/>
          </a:prstGeom>
          <a:ln w="0">
            <a:noFill/>
          </a:ln>
        </p:spPr>
      </p:pic>
      <p:sp>
        <p:nvSpPr>
          <p:cNvPr id="467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Zástupný symbol pro číslo snímku 4"/>
          <p:cNvSpPr/>
          <p:nvPr/>
        </p:nvSpPr>
        <p:spPr>
          <a:xfrm>
            <a:off x="179280" y="63086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41C4-0AA4-4B9A-812C-A5766C88C5CD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Zástupný symbol pro zápatí 5"/>
          <p:cNvSpPr/>
          <p:nvPr/>
        </p:nvSpPr>
        <p:spPr>
          <a:xfrm>
            <a:off x="4140360" y="6408720"/>
            <a:ext cx="2590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214200" y="2060280"/>
            <a:ext cx="8461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hoda věcného obsah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ýzkumné části návrhu projektu ERC CZ s projektem hodnoceným ERC (A/N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valita výzkum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excelence) - převzetí výsledku hodnocení ERC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realizovatelnost projektu -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zajištění podmínek pro řešení projektu ze strany uchazeče/příjemce podpory, zejména zajištění výzkumných a provozních kapacit, zahrnujících jak vyčlenění potřebných prostor a zařízení, tak i personálu (0-4 b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Nadpis 2" descr=""/>
          <p:cNvPicPr/>
          <p:nvPr/>
        </p:nvPicPr>
        <p:blipFill>
          <a:blip r:embed="rId1"/>
          <a:stretch/>
        </p:blipFill>
        <p:spPr>
          <a:xfrm>
            <a:off x="450720" y="139680"/>
            <a:ext cx="8242560" cy="1420920"/>
          </a:xfrm>
          <a:prstGeom prst="rect">
            <a:avLst/>
          </a:prstGeom>
          <a:ln w="0">
            <a:noFill/>
          </a:ln>
        </p:spPr>
      </p:pic>
      <p:sp>
        <p:nvSpPr>
          <p:cNvPr id="473" name="Zástupný symbol pro datum 3"/>
          <p:cNvSpPr/>
          <p:nvPr/>
        </p:nvSpPr>
        <p:spPr>
          <a:xfrm>
            <a:off x="7215120" y="6408720"/>
            <a:ext cx="143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Lucida Sans Unicode"/>
              </a:rPr>
              <a:t>3. 2. 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Zástupný symbol pro číslo snímku 4"/>
          <p:cNvSpPr/>
          <p:nvPr/>
        </p:nvSpPr>
        <p:spPr>
          <a:xfrm>
            <a:off x="179280" y="6377040"/>
            <a:ext cx="39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B18F-177F-43CB-A0F2-2C30AFEAF51B}" type="slidenum"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Zástupný symbol pro zápatí 5"/>
          <p:cNvSpPr/>
          <p:nvPr/>
        </p:nvSpPr>
        <p:spPr>
          <a:xfrm>
            <a:off x="4067280" y="6408720"/>
            <a:ext cx="2663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Lucida Sans Unicode"/>
              </a:rPr>
              <a:t>MŠMT; odbor programů výzkumu - 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2" descr=""/>
          <p:cNvPicPr/>
          <p:nvPr/>
        </p:nvPicPr>
        <p:blipFill>
          <a:blip r:embed="rId2"/>
          <a:stretch/>
        </p:blipFill>
        <p:spPr>
          <a:xfrm>
            <a:off x="571680" y="428760"/>
            <a:ext cx="6426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5:01:25Z</dcterms:created>
  <dc:creator>Hakenová Jana</dc:creator>
  <dc:description/>
  <cp:keywords>podpora program VaVaI</cp:keywords>
  <dc:language>en-US</dc:language>
  <cp:lastModifiedBy>Hakenová</cp:lastModifiedBy>
  <dcterms:modified xsi:type="dcterms:W3CDTF">2012-01-30T16:39:51Z</dcterms:modified>
  <cp:revision>252</cp:revision>
  <dc:subject>ERC CZ - vyhlášení 2012</dc:subject>
  <dc:title>ERC CZ- seminář pro žadatele</dc:title>
</cp:coreProperties>
</file>