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5698-F409-489C-8F5C-AC41D1757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hlaví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číslo snímku 4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9CFF-75F0-4122-A47A-74C83A9A4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znané náklady: investice, neinvestice, vč. mzdových (i na vytvoření nového týmu cca 10-15 osob) – požadavky jako u ER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9E8D-CBF4-462E-A9E2-90E811644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stupňované požadavky na výsledky (obdoba ERC) - Do konce 1. kalendářního roku řešení  - uplatnit alespoň 1 výsledek projektu, do konce 2. roku řešení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alespoň 3 výsledky,…cc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na 1 projekt za celý tý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neuplatňování dílčích výsledků příjemcem poskytovatel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sníž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poru ve 3. roce řešení až o 10% z částky přiznané poskytovatelem pro daný kalendářní rok, ve 4. roce až o 20% a v následujících letech až o 50%, přičemž není dotčeno právo poskytovatele rozhodnout na základě zhodnocení dílčích výsledků o okamžitém ukončení projektu, popřípadě i o odnětí podpory nebo o jejím vrác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8A70-825E-4C8D-9157-63BA8A6B1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4818-D326-4F69-B1C7-3A7376D39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9144-50E2-454B-BC6B-EFCF93EB3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FFE6-DDE7-46E1-8411-059946A03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3A09-DD97-455C-8286-B55E371C0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7161-30D0-44BC-88A2-89988103C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950B-88AC-473B-979D-26DDFBC8C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F447-91E0-4BD6-A9F1-D4A940552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AB2A-8E95-44C7-A6FD-6D056BFDA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3584-0095-455E-A185-0CC942E98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hodnotí se pokud hostitel=uchazeč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hodnotí se jen v případě, že uchazeč nebyl „hostitelskou organizací“ v původním návrhu, jinak se přihlíží k hodnocení ER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C7C3-18EB-4C9A-B7F8-76E39ADF6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7B8-6754-48E3-88FB-F0685D5C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5B85-252F-46F1-9673-774E92B3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93A51-4F34-41FD-AFD9-B4B5C2D5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15E0F-F88B-4BF1-B573-DC1CFD30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701FE-4FEA-4F99-8B0B-939949AA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5F7B0-218C-4801-8957-458ABC59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57A17-0DC0-4166-A27B-BEA3F68A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4E1B1-3E2B-461B-8CBA-FD4010AA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EC5E5-4361-40E0-9C4E-61D58075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05B48-F44B-4860-B9BA-B10DB845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1E195-FD28-4921-8F00-0DDBD135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F8E-49F9-4A3D-B154-AE2F689D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6CC-E501-44D7-95A8-6A3CCDB9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ED87-2CFC-42E5-B298-72DB8DE2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505E-4307-440E-8B7E-E9FD6F41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0F85-68B5-453C-9012-DD6B6F7E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3DB7-42F4-4BFE-B43F-95BFE3BD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FB0A-8718-4D91-9BD3-26D202A5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2BB2-6106-48B0-925C-AEFCC220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33A3-8EF8-41EB-BBFF-BB55CC01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242-CF7C-4190-B3EF-D142FA60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4243-9E90-45FC-8DB5-B0274395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F194-5959-4830-843C-3795A6B9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B2C7-39B1-48C6-9540-111DE0A7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2EEA-4709-4A14-8F2D-EB5228D7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F764-DB97-4368-9E0E-3F61FA39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E7CCF-0412-4924-A8A8-DCB466A9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2FB19-9DB3-4557-A68A-62AEEA11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73372-39DA-4288-94B3-E10B71E8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F824D-DE23-4386-8382-D84BE8A6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64E0E-67FC-4546-9E0B-BE36B8FD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1AD-7687-452E-8177-8C0BD630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8F12C-6068-4015-8088-2807B7F1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0927F-EB90-448B-A51D-7F6F2AF4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0346F-220D-43AC-8986-B4F4C11D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2BAB1-CA2A-4B41-88D0-1230CFE9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F3AC0-351E-4463-B414-218779EA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EE55F-4349-4C12-A491-B82A69F5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D99C2-0B13-470A-AB74-062DE43E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160C4-54F5-401E-92E9-DAFE8057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5D62C-49CD-4F01-B470-89D69792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D09C3-93D2-48A5-A4E5-1F67174B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A48-B65F-4238-A6C4-0709A934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E0FF5-1AB2-432B-8080-88C1DBC6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8BA09-D4BD-4DC0-B14C-43111AFC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3718-CF75-4227-B3E0-96B8A8EF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FFE9A-86B1-4F8A-981D-39A45E7E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AB4BE-A730-4E66-9E45-E8CEB999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1DE0E-993F-46C9-96F4-E32C304F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E6F16-585C-418F-9EAF-9DF22D26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3F066-E027-4707-88D2-6F9BAE1F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615E8-D4CF-4145-8EB3-5F17842B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AF885-F4AA-497E-B083-AAAC47DC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487-3A13-4DEC-838A-B6ADCFBE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3F459-562F-4229-B4DF-0530B76A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842C1-614A-4DBD-B950-40B30C5C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C2F07-93FB-46FE-ABE6-77B2017D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70C01-3639-4FC1-997C-1300D60D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19913-DC74-406A-A6A0-0A6A705C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7C425-6A50-4789-8F44-CFDD0E1E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B9A0C-5BC4-4D97-91D9-5D0F523B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1176A-3184-4058-916C-15859B01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15B29-82A3-4FC9-89EE-5C87B4E0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E22B4-A45B-4825-A46B-1DD833D0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DBD-D227-41E2-96B8-A859C649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B7983-F6D4-4E10-AB58-30B76314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7A0AF-EC4B-4D9F-A80A-1D96E9D5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CE424-FA8A-44ED-AC58-94CE3938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3996F-306C-47BF-80FD-465D292C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1BE22-A6D0-4094-82F4-91FDAD7E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2C6F2-5C64-43D8-BC03-2983245E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C8E20-D195-48C2-BB30-1616DBED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BFFA6-4F71-4D9E-94ED-12A05BD8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16C11-CF7F-4424-913A-B54FBD3D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28840-DADC-4DFD-B602-D184D96F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577-C44A-486E-BE70-4AB47D4B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70CE2-CD09-44FD-9603-305D667F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F7CC2-2A00-4416-AC2F-9E50DCB3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A0E68-4988-4942-9941-A49038F2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BB155-EBCB-479F-A4A4-037AE4B9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FB7F6-8F36-47B3-B634-EB44A167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41C96-0D26-4936-B13C-644651CF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FBD6E-43A1-44F4-A60C-5161DA7A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7EC6C-BF80-4130-A58E-A490ECE9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4F244-F971-44A1-A044-21466091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D7B72-3CEE-42E9-AF0F-8231FF74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E842-F9CA-4E6F-8498-1E407CDB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6849E-1E80-4E3E-A584-3D19F718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7E01B-5565-4FF0-9A44-2843AB18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79836-5D8A-4AA7-84BB-F2A9DA73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7F92A-5A4F-4F88-95EE-AE24E32F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FEC34-DDD7-498B-8576-4DBE2034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C0E04-9129-4B2B-8B11-E9187460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B6779-7EC4-48A1-89FB-024A7A3A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E3FE3-75EC-432F-9EB7-F7F50A7E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ADA37-8309-4E35-B9CD-86658D48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67114-66D0-4A79-9514-62B9DD9F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FFF-D153-4053-A697-44D3172D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2D6C5-D717-484F-98C0-78967556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4CD6D-774E-4D0A-A25F-FBB3B139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E5B5E-A667-4B50-93CD-EDB287D6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18DBE-7E10-4401-A57F-62E03D3B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1FA31-05CD-48A8-9046-37C7FF76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BA8C1-74E1-4E89-B612-3F437171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41517-679C-4964-BD6C-A93FA0C4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BE6B4-9DC0-4979-89C1-F49ED478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EA174-B1D5-4C2F-B758-49F5A99C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B6BB0-F6DA-4BE0-A6A4-246FF648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B2BB-860F-4DC0-AE28-49F1E123D00B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46760"/>
            <a:ext cx="9147240" cy="1911240"/>
            <a:chOff x="-3240" y="4946760"/>
            <a:chExt cx="9147240" cy="191124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46760"/>
              <a:ext cx="7444440" cy="4856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29720"/>
              <a:ext cx="9092880" cy="78624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86360"/>
              <a:ext cx="9141480" cy="1871640"/>
              <a:chOff x="2520" y="4986360"/>
              <a:chExt cx="9141480" cy="187164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86360"/>
                <a:ext cx="914148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4994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024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1353-BD0D-40EB-BE17-4972968D87ED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320" y="6408720"/>
            <a:ext cx="216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250920" y="630864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6494-52C2-4D55-8F3B-1546EEC524D1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B72C-5E1F-4596-938C-7BC6DC8DD048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D165-1FF9-455F-A445-1DA2C6AE729A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1F48-029B-44E2-B246-51E0AF6EE7B8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F000-4BDC-4F1E-8D12-526FFAAFD099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DD88-741F-407D-A500-DF3D63BB7D8F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Volný tvar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Volný tvar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30B2-9AFA-4951-8C0B-3EBF0A1FB21C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636040" cy="28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ERC CZ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veřejná soutěž ve VaVaI vyhlášená dne 25.1.2012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1785600" cy="1071360"/>
          </a:xfrm>
          <a:prstGeom prst="rect">
            <a:avLst/>
          </a:prstGeom>
          <a:ln w="0">
            <a:noFill/>
          </a:ln>
        </p:spPr>
      </p:pic>
      <p:sp>
        <p:nvSpPr>
          <p:cNvPr id="426" name="Zástupný symbol pro datum 3"/>
          <p:cNvSpPr/>
          <p:nvPr/>
        </p:nvSpPr>
        <p:spPr>
          <a:xfrm>
            <a:off x="6727680" y="6453360"/>
            <a:ext cx="2165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4"/>
          <p:cNvSpPr/>
          <p:nvPr/>
        </p:nvSpPr>
        <p:spPr>
          <a:xfrm>
            <a:off x="0" y="6492960"/>
            <a:ext cx="46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478D-971F-43EC-8E8D-5343FD82E50D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14200" y="2421000"/>
            <a:ext cx="846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ž 100% uznaných nákladů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oskytovatel je oprávně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konči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ování podpory projektu, popř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íž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ši podpory pro následující kalendářní rok na základě výsledků průběžného vyhodnocení dílčích výsledků projektu uplatněných příjemcem v IS VaVaI - z důvodu jejich nedostatečného počtu nebo nízké kv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7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22B2-6EF1-40C7-B153-6C34AE7D7FDC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spěšně zahájit a ukonči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ojekt ve výzkumné organizaci na území Č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ůběž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plnit smluvní podmínk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vč. naplňo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dikáto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úrovni projektu – např. uplatnit 29 publikovaných nebo jiným oficiálním způsobem zveřejněných výsledků projektu a uplatněných v IS VaVaI, popř. nově zahájit projekt mezinárodní spolupráce/mezinárodního programu – nepovinné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07440" cy="1944720"/>
          </a:xfrm>
          <a:prstGeom prst="rect">
            <a:avLst/>
          </a:prstGeom>
          <a:ln w="0">
            <a:noFill/>
          </a:ln>
        </p:spPr>
      </p:pic>
      <p:sp>
        <p:nvSpPr>
          <p:cNvPr id="48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8547-F0C9-4C56-8488-31D0533EE6C4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9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Zástupný symbol pro číslo snímku 4"/>
          <p:cNvSpPr/>
          <p:nvPr/>
        </p:nvSpPr>
        <p:spPr>
          <a:xfrm>
            <a:off x="179280" y="628668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A637-FDE0-4A61-ACE9-843D3E4CE5A8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  <p:cxnSp>
        <p:nvCxnSpPr>
          <p:cNvPr id="495" name="Přímá spojovací šipka 8"/>
          <p:cNvCxnSpPr/>
          <p:nvPr/>
        </p:nvCxnSpPr>
        <p:spPr>
          <a:xfrm>
            <a:off x="6803640" y="5229360"/>
            <a:ext cx="36108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graphicFrame>
        <p:nvGraphicFramePr>
          <p:cNvPr id="496" name=""/>
          <p:cNvGraphicFramePr/>
          <p:nvPr/>
        </p:nvGraphicFramePr>
        <p:xfrm>
          <a:off x="611280" y="2060640"/>
          <a:ext cx="8064360" cy="3852720"/>
        </p:xfrm>
        <a:graphic>
          <a:graphicData uri="http://schemas.openxmlformats.org/drawingml/2006/table">
            <a:tbl>
              <a:tblPr/>
              <a:tblGrid>
                <a:gridCol w="3529080"/>
                <a:gridCol w="4535280"/>
              </a:tblGrid>
              <a:tr h="72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ýdaje na program ERC CZ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v tis. Kč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em na program ERC C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285480" y="114264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ana Hakenová,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akenova@msmt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tel.: 234 811 560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1128960" cy="738360"/>
          </a:xfrm>
          <a:prstGeom prst="rect">
            <a:avLst/>
          </a:prstGeom>
          <a:ln w="0">
            <a:noFill/>
          </a:ln>
        </p:spPr>
      </p:pic>
      <p:sp>
        <p:nvSpPr>
          <p:cNvPr id="49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Zástupný symbol pro číslo snímku 4"/>
          <p:cNvSpPr/>
          <p:nvPr/>
        </p:nvSpPr>
        <p:spPr>
          <a:xfrm>
            <a:off x="285840" y="6286680"/>
            <a:ext cx="428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B207-52BF-4EA5-9674-EDABC0843B2E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14200" y="1915920"/>
            <a:ext cx="846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Proč a k čemu program slouží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žnost realizovat svůj mezinárodně úspěšný projekt v ČR a za finanční podpory ze státního rozpočtu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tivace a nepřímá podpora pro české výzkumníky – uchazeče o podporu u ERC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 základě čeho lze žádat o podporu ? - (právní rámec programu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ákon č. 130/2002 Sb., o podpoře výzkumu, experimentálního vývoje a inovací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ařízení Komise (ES) č. 800/2008 ze dne 6. srpna 2008, kterým se dle článků 87 a 88 Smlouvy o ES prohlašují určité kategorie za slučitelné se společným trhem (obecné nařízení o blokových výjimkách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ámec společenství pro státní podporu VaVaI (2006/C 323/01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Nadpis 2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1523880"/>
          </a:xfrm>
          <a:prstGeom prst="rect">
            <a:avLst/>
          </a:prstGeom>
          <a:ln w="0">
            <a:noFill/>
          </a:ln>
        </p:spPr>
      </p:pic>
      <p:sp>
        <p:nvSpPr>
          <p:cNvPr id="43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4FFD-A5E1-4BAC-BE86-F69EEE9B79E0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1700280"/>
            <a:ext cx="8390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Na co lze žádat finanční podporu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Předmět podpor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: Projekty „hraničního výzkumu“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teré uspěl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výběrových řízeních organizovaných Evropskou radou pro výzkum (ERC) s výsledkem: </a:t>
            </a:r>
            <a:r>
              <a:rPr b="1" lang="en-GB" sz="2000" spc="-1" strike="noStrike">
                <a:solidFill>
                  <a:srgbClr val="1c9cb6"/>
                </a:solidFill>
                <a:latin typeface="Arial"/>
                <a:ea typeface="Arial"/>
              </a:rPr>
              <a:t>"The proposal is of good quality and fundable but not retained for funding due to budgetary constrains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 které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moh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být proto realizovány za finanční podpory ER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o může žádat – kdo má šanci na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íjemci podpory jen výzkumné organiza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smyslu Rámce Společenství pro státní podporu výzkumu, vývoje a inovací č. 2006/C 323/01, platného od 1. 1. 2007,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se sídlem na území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3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FBE1-14C0-4C34-861B-4AD5AE582700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4920" y="1700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Jak a kdy doručit žádost o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uchazeč doručí osobně, poštou nebo jiným způsobem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do podatel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inisterstva školství, mládeže a tělovýchovy, v Karmelitské ul. 7, 118 12 Praha 1, v soutěžní lhůtě, tj.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nejpozději do 12.března 20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v úředních hodinách  (po – pá: od 7:30 do 15:30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musí být doručen poskytovateli </a:t>
            </a:r>
            <a:r>
              <a:rPr b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v uzavřené obál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obsahující listinnou i elektronickou verzi návrhu projektu, a na této obálce musí být uvedena </a:t>
            </a:r>
            <a:r>
              <a:rPr b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adresa poskytovatele, adresa uchazeče jako odesílate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a zřetelný, výrazně vyznačený nápis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„ERC CZ – veřejná soutěž – NEOTVÍRAT!“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0406-D611-4107-B3F5-EB8F5ED56C6B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14200" y="1197000"/>
            <a:ext cx="8390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Kdo poskytuje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stvo školství, mládeže a tělovýchovy, odbor programů výzkumu -31, Karmelitská 7, P. O. Box 78, 118 12 Praha 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.: 234 811 547 (sekretariát odboru programů výzkumu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-mail: odbor31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rogramu ERC CZ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oskytovatele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ontaktní osob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. Hakenová, tel.: 234 811 560, e-mail: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akenova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doporučení - vždy důsledně uvádět v předmětu e-mailové zprávy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ERC CZ“, 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po uzavření smlouvy pak ID projektu „LL120…“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y lze získat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soutěžní lhůtě tj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od 26. 1. 2012 do 12. března 201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(výsledky 16. května 2012 n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240E-E73B-4CFE-81F6-174AB44B06D2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14200" y="1915920"/>
            <a:ext cx="839016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ěcná shod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jektu s úspěšným grantem ER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ná délka řeše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 úspěšným grantem ERC dle příslušné výzvy ERC, v jejímž rámci byl grant ERC vyhodnocen na evropské úrovn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nutí doplňujících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údajů pro IS VaVa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součást žádos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řešitelkou nebo řešitelem projektu ERC CZ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áž fyzická osoba,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jíž návrh uspěl ve výzvě ERC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Nadpis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01480"/>
          </a:xfrm>
          <a:prstGeom prst="rect">
            <a:avLst/>
          </a:prstGeom>
          <a:ln w="0">
            <a:noFill/>
          </a:ln>
        </p:spPr>
      </p:pic>
      <p:sp>
        <p:nvSpPr>
          <p:cNvPr id="45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D509-7761-4740-BF36-1FE9801A390B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214200" y="1844640"/>
            <a:ext cx="83901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avře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acovně právního vztah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ezi uchazečem a řešitelem na období zahrnující celou dobu řešení projektu a minimálně dalších 6 kalendářních měsíců následujících po dni ukončení řešení projektu v rozsahu 0,5 plného úvazku (resp. 0,3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vazek, že řešitel/ka projekt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využij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o dobu následujících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 le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 zahájení řešení projektu možnost opětovně podat návrh věcně obdobného projektu k ERC v následujících výzvách vyhlašovaných ERC u 5-letého projekt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analogicky o 1 rok méně u projektů s kratší délkou řešení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E9BB-657E-435B-90AF-134191F2BA7C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13840" y="1915920"/>
            <a:ext cx="831852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LZE ŽÁ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poru věcn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pravovaný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ávrhů původních projektů podaných k ER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 podporu projektů nových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vazujíc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a již podpořené projekty ER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dále viz Z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4D82-F6D7-445F-ACC2-0203875AF783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14200" y="2060280"/>
            <a:ext cx="8461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a věcného obsah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zkumné části návrhu projektu ERC CZ s grantem hodnoceným ERC (A/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valita výzkum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excelence) - převzetí výsledku hodnocení ERC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alizovatelnost projektu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ajištění podmínek pro řešení projektu ze strany uchazeče/příjemce podpory, zejména zajištění výzkumných a provozních kapacit, zahrnujících jak vyčlenění potřebných prostor a zařízení, tak i personálu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Nadpis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47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Zástupný symbol pro číslo snímku 4"/>
          <p:cNvSpPr/>
          <p:nvPr/>
        </p:nvSpPr>
        <p:spPr>
          <a:xfrm>
            <a:off x="179280" y="63770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AAEB-B3AB-4A2F-82F0-6DE60085778A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5:01:25Z</dcterms:created>
  <dc:creator>Hakenová Jana</dc:creator>
  <dc:description/>
  <cp:keywords>podpora program VaVaI</cp:keywords>
  <dc:language>en-US</dc:language>
  <cp:lastModifiedBy>Hakenová</cp:lastModifiedBy>
  <dcterms:modified xsi:type="dcterms:W3CDTF">2012-02-29T14:17:38Z</dcterms:modified>
  <cp:revision>270</cp:revision>
  <dc:subject>ERC CZ - vyhlášení 2012</dc:subject>
  <dc:title>ERC CZ- seminář pro žadatele</dc:title>
</cp:coreProperties>
</file>