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DB3-D8CB-4722-9D85-BC4BAED73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D72A-81C5-4144-9003-BA6AEDE55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DCF-167B-4286-842B-D9C5C4174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4F1-4084-40F5-A892-1ACE81917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D83B-FB3E-49A8-8B15-A9D8E0361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373-9C24-4F61-A4E5-0A92B1B93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5DC-89B2-4B4E-ADE2-ED22FB791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C9B-C589-4D3F-ACA7-E640AD051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AB76-9329-4A3A-AA0D-1E5E511D0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01F-BE68-4328-9AD5-AB89AF8AC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3567-F02A-4488-AFF1-5EB317BAF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0911-FBEB-421C-BDF6-74E976090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1314-D8B9-4123-89A8-4D7CEC312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1721-0B8B-44AD-97A4-BDBFD34C8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F32-E1D3-4684-8DA5-E0F1CA98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204-C98C-4B1A-93B2-AA33A02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D769-A3B5-4F8E-A1D8-98EAC270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39144-2C4F-400F-94CA-67A05C5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FF5C1-D4A4-454A-B1F3-A2CB1597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4F89F-F183-4C8D-AFA0-D10D43A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F4494-EDC7-4DC7-8DE0-A3B6DF86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73D08-03B6-4C89-AEF4-00CB0335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9743-6A30-417A-9983-494E3CDD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9AB5-E126-4D9B-8B2B-C8420E8A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FA5EB-03B7-490E-AFA7-19A02E83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B99-4E15-4472-8B4C-DA627754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C15-499F-4E30-91B7-BEC14597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0CB8-E3AB-4113-A0A8-7D693833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E92C-119D-454C-B277-7BFFCC4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8E48-4D6A-404E-B76D-8E97402F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B363-E2E4-4C92-909A-208984D0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5EEC-08E7-4983-BDFF-09B36669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422D-243A-4AB4-913C-63116B4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0D02-CF38-4C67-B0D3-AE9A660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CA4-617A-4341-9575-A6A3084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93E1-890F-4D91-A79E-E09F40A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AC49-9EBA-435E-B8CA-6D3B50A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DCC8-BCBB-4651-8E0C-1412FF44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738-B2A0-429D-8CB0-BCDCA9D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2D8-BAC6-445B-89BA-EE12E1B5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78CA-29BE-452E-8F77-D39258C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90F9-6AA9-4335-ADD2-3BF5A71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05E9-EE95-4788-BF3A-F9B629BF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1A1B-AD41-404A-97BC-FF28DEF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CA52F-520B-4E29-B213-CC724A5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DF4-6674-4156-B946-1C6A4AA3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32AA0-EC77-4CCE-9C85-3E2A62CA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457B8-835A-445C-9516-6EB68CC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FB7A-B07C-4AC6-8BA6-47108837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2B6C-F467-416D-8AE7-48FC7B4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A0A0-CF0D-4842-BCCC-33D8B642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43CD-AF47-43EA-A5EE-5520ABF1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9DE7-6EAF-42E2-87FF-B4D1E97F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BB91-A2F1-45D8-8204-88F50737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4AFF-C080-444F-A90B-490BEDA3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BF42-169F-4598-8772-7C9D932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6BD-4A65-4A02-A1AF-91D6B1E8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3AF3D-1F13-4DF0-8481-867D82A9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8CC0-18A7-43AB-81AC-6C9CC287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DFB0-637E-43A4-92D8-72B4BF5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7A0E-FC29-4715-B2DE-09D1D94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B39D-D313-4E29-B20F-9FC3BE5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7CEF-DE15-453E-8726-155D2D75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6D3E-A324-45B9-833E-627F4F38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12D6-4472-44BD-80C8-8FA75E0E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71F1-0323-45FD-A881-C8EB6C86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57B2-D4FA-4B38-AEDE-7CED8532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859-EF4E-4662-940E-9FC829D7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35782-D3BF-424E-8560-5D4559D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669C8-AC7E-4F44-B79D-B21E9464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C3868-C600-4112-8E2B-34EE364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656E-2893-44B0-B956-554DD95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9646F-3371-4C6B-9A28-D0EA1666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737E-6E4C-476D-B4B1-72A18A9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78B80-012A-4462-B782-FFB4369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BAB10-069D-4191-AE89-779F81C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C6220-E821-4132-98DB-D2EBBE41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7C43-D691-4CC4-9C47-1895EDE3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D81-7EC6-44D3-AB96-576B35B5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D2C6-4465-4444-B9EB-5515A688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09380-D4DC-49B0-89FE-1CDF75C1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43F9-D06C-43EA-AB41-5066120D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8BB2F-8B34-465B-ACB0-6A3B118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D7B93-AFB6-4797-9D92-9974D82D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080B-104C-4237-8A95-4560DDD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D5E03-E1E6-4845-873B-9E9FA0C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B49D-60A9-49B7-A084-645654F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7B3B-CA2E-4E53-99C5-AEB7C72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43ED-19B3-4D3C-A90A-E756D56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191D-4B94-434E-BCA9-C1C528D0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13117-5E23-49B5-884B-DF499C07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BC8B7-2A63-459D-8478-BBAA4A9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04186-7C43-4FE3-857B-213E84FB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649F0-68AD-43BF-BE2E-0C059F5F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3EA23-9E80-40B5-92D8-D5967F3E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9EA80-A870-43A4-86FD-CFFD6B1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7784B-9BB3-4344-90B5-F2C7D5CB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BD42C-E64A-41ED-87C9-A655C7F4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1C5E2-3FEC-4F86-A490-9B240729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0C9E-44C6-4CB9-9524-D3744C4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5A7-6746-42E1-B3D6-CFB83F3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96306-6953-4CA8-A790-9BFA9D8F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CC1FE-5F59-400B-A8AC-CB714DC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21AB-1338-486B-B7C2-8B3ADB41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21BA2-E689-485C-AE28-FF7FE7A7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267B0-8766-43CE-8120-A2E5DBA5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E12B3-5B6B-475C-9AA0-9B3F7758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6A13B-325A-44DC-861B-94A3ED81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52141-3D89-4108-94D9-6E5F71E7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077F-2670-4AC8-B901-4796D9E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705C3-8060-43A0-93F8-6DF1786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4D8-1F53-4B2E-98C1-DC8E2DD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8E3BB-885E-469F-9CDD-41CCFA7D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6E38-48CA-4CF3-975B-47FBAC9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B88D9-04E8-44DA-A79C-1013469D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C966-AB4E-49A2-85A9-8116ED1D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566B5-9D41-4A93-B06B-C5C5A157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E3E8-C89A-43CF-BAE7-5B4A8A9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651C0-BA6E-4DDE-8D67-EB3166D1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46C65-CA03-4835-86E1-1020DE65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AC99-122D-4AED-A291-2732D24D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ADC95-080E-4866-937A-56DA3F67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269-E092-43BE-9E82-655023A8015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AF45-8B8F-4046-B47E-377A1AAA4016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FCE2-C60F-4C8E-ACC7-317D0FAAA6B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A6D8-501A-4BFD-B36C-B41D5E9D2770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3782-000E-40DD-BA09-23EBC3235F64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29FA-A59B-453B-96A9-82C6DF54233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D629-975E-480C-B8B9-6EEECBF9513C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EB0-EA02-4617-B0EE-826C903510C3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6A76-C7CC-4F24-A925-12D8DD3AF53F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066F-952C-4A6F-954E-3DF09D7081CC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A1BF-D82B-40B5-B6A4-59D64123FC9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CA3-044F-46CF-9264-11C5C17681E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EC1-9E75-44A0-A7F6-56CA116A8F2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90F2-90F6-42B8-B8B3-B611782A8D61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B475-CA1D-4A75-8EEF-54A081CF7AE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F6E5-B842-45A1-9AA8-C39200B4F91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.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E8D4-1AD9-4358-84E5-FAA868008DD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197000"/>
            <a:ext cx="839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ouvy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0A1-941D-409E-8A92-9B2E6C7509D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 s úspěšným grantem 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 úspěšným grantem ERC dle příslušné výzvy ERC, v jejímž rámci byl grant ERC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nutí doplňující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jíž návrh uspěl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9846-1198-4CF7-AA28-138B0A1FE984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5BA-3FC7-44E7-BB3A-E09FF7841D63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EDB2-C25B-4AA3-BBD4-F9D8233488F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gran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6EC-066E-4BCC-9BA1-647513A86A42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2-29T14:17:38Z</dcterms:modified>
  <cp:revision>270</cp:revision>
  <dc:subject>ERC CZ - vyhlášení 2012</dc:subject>
  <dc:title>ERC CZ- seminář pro žadatele</dc:title>
</cp:coreProperties>
</file>