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9B1B-449B-4A8C-AC47-8C979C8B7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B08E-1C2F-4DF5-960D-BDA405D86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0D72-D01D-467E-A6E7-7049512DC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589-5C35-42BE-82A2-251086495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CC96-A64E-4992-92CA-BC2E5E748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28F-B3E4-4543-9CFE-56D1FD92E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8E67-20E6-40DE-BC79-A269D341B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67A-FDBD-40E4-80F1-49E14528C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7CAD-E814-4661-A9A1-DAAA1A5F3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22F2-E3FA-4F10-A622-778515AE7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CA5-44D3-44D6-B802-5F82FFF81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DDD1-A9EE-44E0-B7C5-F31F8A64B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06F8-6D9F-4545-B4C2-76D2D8638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E24-E9AC-4AFA-A054-2A67A3C48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F75-7C7C-49CF-81B8-2BDBC7BC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C5E-4496-4348-BA85-D0E6E38C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BA953-A2D6-449E-97FC-FA16F93E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FA460-DF51-4792-8E84-DBEDA0D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3AAB2-D29E-44C1-AD97-00AADCD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B76B6-23BD-48A8-9D15-C94ED49B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F82FA-52E5-4EF4-85DD-BE8AC04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86D22-8E75-47A5-8A97-22D4162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87672-8CA8-4018-BB38-42EBCB9C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4EE02-61E7-438D-8543-8F6D12F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6D4E2-C655-404A-A181-1ACC1821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7DD-4E76-4ABF-9E1C-E4022492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1EE-80C5-4EBA-B968-102F7B81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0071-71E7-4A65-8C18-7AC6D01C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81CE-ADB8-47F6-8A9E-15E870EB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3E70-757C-4FE2-8AB7-6338CC36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2808-C84A-484F-8FA1-AADBA26F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D21E-E5F3-4AC1-9F3D-202F3422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F317-22C6-480F-9A58-2D914757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3AB9-273D-4101-B5B7-ABFE736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ABD-86B3-422D-91F0-20715926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807-287B-4FCE-8C44-B73D2EC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D8A2-9BA4-4D07-9BB8-89F5011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973F-ECF7-44BE-B94E-D8EB1A33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7A82-C6EA-4DF8-8F3B-558A5EDA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18A8-405F-46A8-B3D9-4B5893D0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3FB6-197C-4357-826A-06514804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8A16-1BA1-476E-B20B-033810F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5E33-EDF5-4227-B3E6-FBF53B63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5FFE-D156-4752-93A7-5A3FE18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A0C4-5C7A-4E46-AD4F-8EF5D8B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566-B0E3-47B3-9D47-3A1EAF07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9F12-6606-4CE7-AFAE-F42F0219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2E32-A121-46BC-A847-193CFEC9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4016-BDC0-418E-A039-CA008FBB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F953-7760-48D5-81CC-7438D73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DE97-E54A-4362-8C7E-05F22EF9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4FE2-B43B-4C62-9C4A-6DED618C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402B-05C2-4C5D-B03A-D4E30E92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CB3D-E8A3-43FD-87D3-A11E693B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DBFC-4382-4C59-BFA6-9935CB1A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502D-7B6F-4C9B-9795-8EB31006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904-D242-4234-97F7-C776E940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2861-56C7-47A2-9243-9160A96E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D015F-9049-47CA-815B-9BA5217E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CF93-5512-4F25-B3C2-1644BBBF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0FFF-674E-490E-A8B6-38C3A58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AD02-69A3-46BD-B2A5-0EC4D9D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8DDA-B951-4CB0-A863-6555DF6A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C1A3E-3CAC-4952-A2BF-C713065A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5335-1B42-448E-BB51-3E51FB13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6BED-4AE1-433F-BD68-E488C450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40930-A6EB-4263-BA8A-6C4B60C1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BBD-0834-4B4F-BCA8-71F50C4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7E431-2EB9-47AE-8596-0545A13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F615E-C7E4-446A-9E5C-A9EBF807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DE01-4C47-4B01-B1F1-C59A999E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A46AA-0B77-40C0-9D7A-1115076B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D9E8F-A382-4A4D-9665-206E553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738D-E2DE-429D-AEB8-13E2B8E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2D43D-45B8-4BC9-97D8-F9173F6A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F8D1-3AD0-486C-838E-ED2AF737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D8993-7CC1-476C-9FBB-83EF4739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37908-0410-4D11-B082-347ECCFD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9E5-5E40-49BC-814D-775AB4C5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A01D2-2631-4A6F-8EEB-DBA217AB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857E-BFD1-449D-82B9-1D59C8B2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23028-E4CA-499C-A386-C7DB2F3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27683-78AA-42F2-A0F4-AAF6A35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E437-E4F3-42B0-8199-C62EE6A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BF61-6AB2-4BD9-96FF-476D5462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EF8A-F176-40B8-97D0-3D81D32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B296F-875D-49B5-BE92-A1C81F8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3193-FC16-4802-A580-50A381D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21DE6-713C-4C33-B4E2-8B82C982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8FD-8D2B-4BF1-B13A-CB20015D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2311-79A5-487D-967B-C549B734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7965-1385-4A5D-825E-07A1FCED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20F1-E40E-4474-91D4-D2E5F6AC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10D6D-BCBE-48DB-8B02-3C661C70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1663D-E15A-4D32-B5B2-866D26C8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CF6F-F7BF-4E6E-81F5-F2DD4FC7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80E9-FF32-43F4-AD4A-58FDD49B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142BD-B909-45A4-AC57-0FF6C82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C0253-1734-46FF-99A4-10D4CD36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263EE-1BB7-44FD-8BD4-6B679CF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F80-CBF5-45C6-BD9F-31746333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144F3-9E7B-4333-898E-81C08FFD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54089-490B-436D-9E4B-2FCFC81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644F-BBA0-42BB-A2FF-2D33AA91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3DF2-43D8-4C21-A4F6-8874B469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22BB-98FF-48D0-A74E-155C7892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AF6C7-8E51-4CE9-A9EA-7DE23BE2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747FA-777C-4D2F-8632-154A653E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2A470-E2C8-44EA-BE3D-08D28DAF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18626-78D8-4439-8F03-AFED414B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42F15-7A83-4515-9AED-90E37C32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131-657D-45A6-9714-73D4A26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52FF9-07F7-4CCE-842F-33BC2D7C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56DA5-5A1E-46A8-971B-E7775E49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1D91-F45E-4554-B34F-F8E34C1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3CA3D-1C11-4054-A97E-18494F9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9EC21-8072-445F-9CEF-CDE326C6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D4A9-8253-4CCF-AA49-53F2378A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6251-2CCB-4C89-A893-EB43FC64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26780-E0D4-4592-846A-D1922A4B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9B8CD-ECEC-46CD-A37A-A86FE301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4FDC2-C231-48A0-A88F-5F9553A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0EE4-DEB0-4FF8-88EB-78D0C04E11B9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5AA4-DE2F-41B8-B04C-2B766661594D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1583-1679-48F5-97FF-DE1F38FD4C99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57E-F551-47F3-B49D-4A3ABF2E144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29E-928A-4A86-8466-9FDE6BC448E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E7A1-0390-4C44-9D53-2021C781C00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49D4-1AA1-4A90-BCAF-CCCA041909D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89D0-D8FA-4EFF-B634-018A10A96EB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596E-45ED-428A-8373-11D9CC79A67E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20A-98D5-4DE3-9EB9-8D0ABC8E0E66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3C08-1F6A-40F6-8059-B9F93E561BE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1E4-4BB5-43A3-BEEA-CCFDDDBE1C6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B6CE-C27E-4166-8A27-8D80DACBA4E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49D-871A-4077-A7DA-BA3A3818D01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5CA0-984E-45DE-8624-A5179F4EB9D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F008-4236-421D-A873-4794C2783C2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.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1918-4717-49A2-8802-BC4C9B0D73F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197000"/>
            <a:ext cx="839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ouvy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96D2-C48C-4802-9EE7-9A7AE9B8895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 s úspěšným grantem 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 úspěšným grantem ERC dle příslušné výzvy ERC, v jejímž rámci byl grant ERC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nutí doplňující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jíž návrh uspěl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DD9-80C7-4914-AADD-0EC070C0303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C60F-FF3C-4E09-84E9-663A3514FA9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9D0E-A3B3-4CCC-916B-60F31198BD7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gran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7480-D888-421A-B067-390947EF4B7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2-29T14:17:38Z</dcterms:modified>
  <cp:revision>270</cp:revision>
  <dc:subject>ERC CZ - vyhlášení 2012</dc:subject>
  <dc:title>ERC CZ- seminář pro žadatele</dc:title>
</cp:coreProperties>
</file>