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4192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67FB-D04E-4C24-A2C9-F14083D96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záhlaví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Zástupný symbol pro číslo snímku 4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9457-3281-472A-8DCF-434AC5063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znané náklady: investice, neinvestice, vč. mzdových (i na vytvoření nového týmu cca 10-15 osob) – požadavky jako u ER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7A42-D6C9-4013-B33E-5BA7644FC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dstupňované požadavky na výsledky (obdoba ERC) - Do konce 1. kalendářního roku řešení  - uplatnit alespoň 1 výsledek projektu, do konce 2. roku řešení 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alespoň 3 výsledky,…cc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28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na 1 projekt za celý tý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neuplatňování dílčích výsledků příjemcem poskytovatel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sníží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dporu ve 3. roce řešení až o 10% z částky přiznané poskytovatelem pro daný kalendářní rok, ve 4. roce až o 20% a v následujících letech až o 50%, přičemž není dotčeno právo poskytovatele rozhodnout na základě zhodnocení dílčích výsledků o okamžitém ukončení projektu, popřípadě i o odnětí podpory nebo o jejím vrácení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2E4D-8071-4B63-8C91-BD1D9466A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62A3-D696-4D28-87C9-966A26B12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BBD0-1512-4228-8638-E77881F14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2A29-FA39-4CF9-83A2-C3A191ECA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04B6-3483-494A-A21A-F7013CDF6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8F1C-EB2E-4CB8-81EB-1563CBF647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3C22-1EAB-44F9-B068-EBBA2CA25E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082D-58EF-4B33-8A3C-19DD8006D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o „zahajovací“ i  „pokročilé“ projek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době řešení a nebude-li zrušen/ ukončen- (eliminace duplicit, dokončení v Č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8F3D-34A6-426B-B763-99DA0C7A7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o „zahajovací“ i  „pokročilé“ projek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době řešení a nebude-li zrušen/ ukončen- (eliminace duplicit, dokončení v Č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471E-E38D-4C5D-A2A2-064685B68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hodnotí se pokud hostitel=uchazeč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hodnotí se jen v případě, že uchazeč nebyl „hostitelskou organizací“ v původním návrhu, jinak se přihlíží k hodnocení ER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C6B5-A01C-4F50-B333-6AA52B6700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50A8-1073-4275-B878-056777FB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CBE9-7756-4711-9599-CC752567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55DF0-513E-4057-A0CC-62CA976C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1B053-4663-4B76-815A-D6E349FE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B82A1-89DF-4685-9665-0C579BC7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D5D20-BFF6-47C8-AA46-7F28FA2B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F2DEF-E45F-461C-B673-D2CEB228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F1CC6-B008-4F70-BF1F-CD761D96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2E7B1-5567-4997-A6E5-9C1A6A2E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6AFBA-362B-4E75-93AC-06A598B8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88644-911F-40B8-8FDB-339B4406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D897-9899-4F5A-8F2E-8160D8AE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889B-69D1-4F2B-8B9B-1AB88F2A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63FA-3E30-409E-89F9-D734A409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A84B-B30C-47E3-8E9E-11291DB6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1314-4DB4-48F2-9BC8-6293FC79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344A-7B82-48E2-B9B2-21B4CC54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5C76-26C0-41F2-88A7-D9585940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BA24-F51A-4FB3-8FA6-05518E52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EA3B-49DA-4D34-9167-27315B25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3161-D592-4191-8AA6-3A5A633F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12FE-B8BA-4F0B-8426-7FFB0916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43C0-E8A3-4175-BF6C-06775E15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29A1-4C94-4F90-A1C5-EC0348BC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93B6-7B2B-4257-9037-657D18D0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C807-545B-4B04-9DC8-96219E79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F30F2-7E68-4113-AB5D-735DF0BD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EA81E-28D0-4E81-9848-348A5828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0D20D-F928-4047-9143-59288CF8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346D7-747D-45BD-B8FC-3C324618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66FBE-F05E-4EB0-88CE-3F46FB2C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3CA0-F122-4BA8-9AD4-A9C26D07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61C82-D571-4F3E-9AEA-643B6495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4FDEB-72E5-4ABB-B708-3BD2FDBE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27096-7139-46B5-A7E5-9611B182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B7551-176B-4F70-9CF0-0A1D221E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2C88B-521E-4844-AB12-9B23E251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E294D-B9C8-4DAE-912C-C003B896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A344A-6DF2-4429-B780-5CFB2BC87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3D941-7DD9-4AD4-9E07-7AAED9E1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4C261-7BC3-4E46-8F1A-5DCBB73F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0A522-F189-47B8-94F9-AF694884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AD25-2CC6-4053-9271-09BE0CCC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F568E-F5F6-41A7-84D5-FAA2D938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D166B-B865-4E25-ACD4-FD6DE5A2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B10DD-5B31-4B72-A555-68F806CF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D9C5C-4DEA-468F-B694-A6760717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3DEB6-1926-4271-9315-C88AB2E6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7C367-1F68-49D9-A6AA-6347AEA8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BD27B-5CFD-4D6A-894F-921B6204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F989E-227F-427A-9F1C-F63544FB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CED24-4274-417E-BFE3-90740A9F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1A332-8EFE-4AFD-BDF5-D310A31F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A916-B798-4526-A8B5-E18E362C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6949A-50F9-4C8D-AEE8-753E8EB3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451E4-5392-4AFF-B2A0-6011C667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7B8B4-A88B-426B-9C36-665E06B7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B47ED-6541-4FAC-9626-328FED43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02633-3AF3-477D-A5F2-D8B05D72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8EE25-3D54-43F9-BA9A-458B17FF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78DF7-D97D-4CAC-B0BF-B98BF0C5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1EFCE-9A53-47CB-90AE-1F71903E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8D4DC-AC19-419F-B2DA-FEDB5FD3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C72BD-2916-4523-967A-E8EA4454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48A7-C4FA-4556-B91A-BBE4ACCB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DC411-326F-44CA-8E63-9E72FF85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35FF9-71EB-4BC7-ACA7-C8FCEECA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F078D-D3FA-4E68-B542-E45FAA59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BFE05-3B7A-4565-8845-60A7C5B1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09460-F17D-40C4-8943-1150B3AF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D5927-A3AA-4619-ABEC-A37791A9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3C1A0-5150-42D1-86F5-3F2A8520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EBC4E-7933-4A3B-8AA5-0903905F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3459F-53D7-4C12-BAC8-109BD85A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4A614-587A-4CF4-B985-97C4AC16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315F-51F0-4497-8D9F-B2A88708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5539C-820C-4BBD-809D-8890098E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59B4E-585A-46FC-A8AA-78FB8418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CDE97-43ED-4E97-AC85-71376845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014DF-42D7-47E7-B3B4-48E02F2C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2E8E8-91D5-4BE3-8487-7D87DFEA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A2D1F-AC0D-496E-9685-C7AB92C9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C313D-E1B3-4D1E-8E1D-9F517B2C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744A2-7BC6-4176-8DBA-F11AF8F6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9E4DF-52AF-4F9D-8CAE-89EB2CCF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E8DD9-1C70-4C4A-8288-20DBD9AA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7359-EE9E-4692-A199-D9AFEE5D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16E81-7EA2-46CD-B162-831F806C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A6711-C348-4687-A10B-E8A0083C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D5EBD-6AFD-479A-BCEC-25CF2C86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42B45-3315-4B88-9EC4-F0B37C8E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F488C-AEB2-4A62-880B-A43B7CC7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5EE6F-B964-4CAD-AD0C-D1086DF2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C04DE-2AB5-4EFD-A84B-14B609C5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74191-EC3C-446E-9678-20044B15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CD850-7BEE-412F-8A78-572A2C32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5D485-0F61-43EA-AF92-53ED9F44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6A52-F8D3-47FD-97C7-665560B2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14C80-8EE7-49EA-9E49-CFF10021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5D22F-3826-4AB4-9D4A-5F9041F1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81754-C97B-4103-8F01-07064525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6DCA0-BE8A-4661-9B05-0DF2A7D7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8B41F-88C5-4E2C-BF85-AD9E3BD6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8D973-FC8E-4595-A443-E676B4B9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664F0-E922-4260-8468-5346E03F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5431C-BC2C-4022-86ED-88CDB489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E7C01-BEDC-44B9-96C7-B23333DF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9254E-D46E-4716-AF5B-B4961321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6CDD-319E-49BC-8436-3ADC04F94B1D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úhlý trojúhelní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Skupina 15"/>
          <p:cNvGrpSpPr/>
          <p:nvPr/>
        </p:nvGrpSpPr>
        <p:grpSpPr>
          <a:xfrm>
            <a:off x="-3240" y="4946760"/>
            <a:ext cx="9147240" cy="1911240"/>
            <a:chOff x="-3240" y="4946760"/>
            <a:chExt cx="9147240" cy="1911240"/>
          </a:xfrm>
        </p:grpSpPr>
        <p:sp>
          <p:nvSpPr>
            <p:cNvPr id="49" name="Volný tvar 16"/>
            <p:cNvSpPr/>
            <p:nvPr/>
          </p:nvSpPr>
          <p:spPr>
            <a:xfrm>
              <a:off x="1693440" y="4946760"/>
              <a:ext cx="7444440" cy="4856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olný tvar 18"/>
            <p:cNvSpPr/>
            <p:nvPr/>
          </p:nvSpPr>
          <p:spPr>
            <a:xfrm>
              <a:off x="45360" y="5229720"/>
              <a:ext cx="9092880" cy="78624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olný tvar 19"/>
            <p:cNvGrpSpPr/>
            <p:nvPr/>
          </p:nvGrpSpPr>
          <p:grpSpPr>
            <a:xfrm>
              <a:off x="2520" y="4986360"/>
              <a:ext cx="9141480" cy="1871640"/>
              <a:chOff x="2520" y="4986360"/>
              <a:chExt cx="9141480" cy="1871640"/>
            </a:xfrm>
          </p:grpSpPr>
          <p:pic>
            <p:nvPicPr>
              <p:cNvPr id="52" name="Volný tvar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86360"/>
                <a:ext cx="9141480" cy="187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49942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Přímá spojovací čára 20" descr=""/>
            <p:cNvPicPr/>
            <p:nvPr/>
          </p:nvPicPr>
          <p:blipFill>
            <a:blip r:embed="rId3"/>
            <a:stretch/>
          </p:blipFill>
          <p:spPr>
            <a:xfrm>
              <a:off x="-3240" y="498024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e8f0f4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349D-3C45-478A-BCF5-9A6F857F8943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320" y="6408720"/>
            <a:ext cx="2165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250920" y="630864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0F73-88DD-4689-AF10-1DF6702C352B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Dvojitá šipk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vojitá šipk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FC00-1CB7-4410-98B7-E805573C3FD7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00D3-457E-4E4A-A1F0-78BF272F72EE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E161-9703-4228-B977-D819FC492D55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53B8-6812-418B-B2F5-C6763CF452CE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33FF-35EC-4C6C-9C62-DAFD18569047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Volný tvar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Volný tvar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Pravoúhlý trojúhelní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1" name="Pravoúhlý trojúhelní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Přímá spojovací čára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4" name="Dvojitá šipk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Dvojitá šipk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F14B-8F34-44D2-BC57-832EEF6D29BB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636040" cy="287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PROGRAM 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ERC CZ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veřejná soutěž ve VaVaI vyhlášená dne 25.1.2012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571680" y="428760"/>
            <a:ext cx="1785600" cy="1071360"/>
          </a:xfrm>
          <a:prstGeom prst="rect">
            <a:avLst/>
          </a:prstGeom>
          <a:ln w="0">
            <a:noFill/>
          </a:ln>
        </p:spPr>
      </p:pic>
      <p:sp>
        <p:nvSpPr>
          <p:cNvPr id="426" name="Zástupný symbol pro datum 3"/>
          <p:cNvSpPr/>
          <p:nvPr/>
        </p:nvSpPr>
        <p:spPr>
          <a:xfrm>
            <a:off x="6727680" y="6453360"/>
            <a:ext cx="2165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Zástupný symbol pro číslo snímku 4"/>
          <p:cNvSpPr/>
          <p:nvPr/>
        </p:nvSpPr>
        <p:spPr>
          <a:xfrm>
            <a:off x="0" y="6492960"/>
            <a:ext cx="46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2459-B1EB-4216-959C-3319F75CB7E4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e8f0f4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214200" y="2421000"/>
            <a:ext cx="8461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až 100% uznaných nákladů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oskytovatel je oprávněn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konči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skytování podpory projektu, popř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íži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ýši podpory pro následující kalendářní rok na základě výsledků průběžného vyhodnocení dílčích výsledků projektu uplatněných příjemcem v IS VaVaI - z důvodu jejich nedostatečného počtu nebo nízké kvality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8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44720"/>
          </a:xfrm>
          <a:prstGeom prst="rect">
            <a:avLst/>
          </a:prstGeom>
          <a:ln w="0">
            <a:noFill/>
          </a:ln>
        </p:spPr>
      </p:pic>
      <p:sp>
        <p:nvSpPr>
          <p:cNvPr id="47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A230-BC28-481B-8965-6509B35AFF06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214200" y="2421000"/>
            <a:ext cx="8715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úspěšně zahájit a ukončit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rojekt ve výzkumné organizaci na území Č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růběžn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plnit smluvní podmínky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vč. naplňo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ndikátor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 úrovni projektu – např. uplatnit 29 publikovaných nebo jiným oficiálním způsobem zveřejněných výsledků projektu a uplatněných v IS VaVaI, popř. nově zahájit projekt mezinárodní spolupráce/mezinárodního programu – nepovinné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07440" cy="1944720"/>
          </a:xfrm>
          <a:prstGeom prst="rect">
            <a:avLst/>
          </a:prstGeom>
          <a:ln w="0">
            <a:noFill/>
          </a:ln>
        </p:spPr>
      </p:pic>
      <p:sp>
        <p:nvSpPr>
          <p:cNvPr id="485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BB17-1BAE-4ECC-9E1A-3E4144FD79C3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214200" y="2421000"/>
            <a:ext cx="8715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44720"/>
          </a:xfrm>
          <a:prstGeom prst="rect">
            <a:avLst/>
          </a:prstGeom>
          <a:ln w="0">
            <a:noFill/>
          </a:ln>
        </p:spPr>
      </p:pic>
      <p:sp>
        <p:nvSpPr>
          <p:cNvPr id="49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Zástupný symbol pro číslo snímku 4"/>
          <p:cNvSpPr/>
          <p:nvPr/>
        </p:nvSpPr>
        <p:spPr>
          <a:xfrm>
            <a:off x="179280" y="628668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AACB-59CE-43A7-800B-26251975A5B3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  <p:cxnSp>
        <p:nvCxnSpPr>
          <p:cNvPr id="495" name="Přímá spojovací šipka 8"/>
          <p:cNvCxnSpPr/>
          <p:nvPr/>
        </p:nvCxnSpPr>
        <p:spPr>
          <a:xfrm>
            <a:off x="6803640" y="5229360"/>
            <a:ext cx="361080" cy="2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graphicFrame>
        <p:nvGraphicFramePr>
          <p:cNvPr id="496" name=""/>
          <p:cNvGraphicFramePr/>
          <p:nvPr/>
        </p:nvGraphicFramePr>
        <p:xfrm>
          <a:off x="611280" y="2060640"/>
          <a:ext cx="8064360" cy="3852720"/>
        </p:xfrm>
        <a:graphic>
          <a:graphicData uri="http://schemas.openxmlformats.org/drawingml/2006/table">
            <a:tbl>
              <a:tblPr/>
              <a:tblGrid>
                <a:gridCol w="3529080"/>
                <a:gridCol w="4535280"/>
              </a:tblGrid>
              <a:tr h="72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ýdaje na program ERC CZ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                           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v tis. Kč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lkem na program ERC C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285480" y="114264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Děkuji Vám za pozornost!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ana Hakenová,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hakenova@msmt.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, tel.: 234 811 560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8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1128960" cy="738360"/>
          </a:xfrm>
          <a:prstGeom prst="rect">
            <a:avLst/>
          </a:prstGeom>
          <a:ln w="0">
            <a:noFill/>
          </a:ln>
        </p:spPr>
      </p:pic>
      <p:sp>
        <p:nvSpPr>
          <p:cNvPr id="49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Zástupný symbol pro číslo snímku 4"/>
          <p:cNvSpPr/>
          <p:nvPr/>
        </p:nvSpPr>
        <p:spPr>
          <a:xfrm>
            <a:off x="285840" y="6286680"/>
            <a:ext cx="428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8249-871C-4E64-B444-4041F660C1A7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214200" y="1915920"/>
            <a:ext cx="846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Proč a k čemu program slouží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možnost realizovat svůj mezinárodně úspěšný projekt v ČR a za finanční podpory ze státního rozpočtu Č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motivace a nepřímá podpora pro české výzkumníky – uchazeče o podporu u ERC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 základě čeho lze žádat o podporu ? - (právní rámec programu)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ákon č. 130/2002 Sb., o podpoře výzkumu, experimentálního vývoje a inovací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Nařízení Komise (ES) č. 800/2008 ze dne 6. srpna 2008, kterým se dle článků 87 a 88 Smlouvy o ES prohlašují určité kategorie za slučitelné se společným trhem (obecné nařízení o blokových výjimkách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Rámec společenství pro státní podporu VaVaI (2006/C 323/01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Nadpis 2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242200" cy="1523880"/>
          </a:xfrm>
          <a:prstGeom prst="rect">
            <a:avLst/>
          </a:prstGeom>
          <a:ln w="0">
            <a:noFill/>
          </a:ln>
        </p:spPr>
      </p:pic>
      <p:sp>
        <p:nvSpPr>
          <p:cNvPr id="43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24AA-1DC1-4671-A451-FE9430C36CE6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14200" y="1700280"/>
            <a:ext cx="8390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Na co lze žádat finanční podporu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Předmět podpory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: Projekty „hraničního výzkumu“,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teré uspěl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 výběrových řízeních organizovaných Evropskou radou pro výzkum (ERC) s výsledkem: </a:t>
            </a:r>
            <a:r>
              <a:rPr b="1" lang="en-GB" sz="2000" spc="-1" strike="noStrike">
                <a:solidFill>
                  <a:srgbClr val="1c9cb6"/>
                </a:solidFill>
                <a:latin typeface="Arial"/>
                <a:ea typeface="Arial"/>
              </a:rPr>
              <a:t>"The proposal is of good quality and fundable but not retained for funding due to budgetary constrains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 které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emohl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být proto realizovány za finanční podpory ER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Kdo může žádat – kdo má šanci na podporu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říjemci podpory jen výzkumné organizac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 smyslu Rámce Společenství pro státní podporu výzkumu, vývoje a inovací č. 2006/C 323/01, platného od 1. 1. 2007,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se sídlem na území Č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37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C3C5-8E6B-4560-BB97-BD43A6B2CF28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94920" y="1700280"/>
            <a:ext cx="820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Jak a kdy doručit žádost o podporu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vrh projektu uchazeč doručí osobně, poštou nebo jiným způsobem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do podateln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inisterstva školství, mládeže a tělovýchovy, v Karmelitské ul. 7, 118 12 Praha 1, v soutěžní lhůtě, tj.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nejpozději do 12.března 201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v úředních hodinách  (po – pá: od 7:30 do 15:30)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vrh projektu musí být doručen poskytovateli </a:t>
            </a:r>
            <a:r>
              <a:rPr b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v uzavřené obál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, obsahující listinnou i elektronickou verzi návrhu projektu, a na této obálce musí být uvedena </a:t>
            </a:r>
            <a:r>
              <a:rPr b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adresa poskytovatele, adresa uchazeče jako odesílate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a zřetelný, výrazně vyznačený nápis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„ERC CZ – veřejná soutěž – NEOTVÍRAT!“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43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75AD-AA3B-412C-A3D9-B07470F7EC7B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214200" y="1197000"/>
            <a:ext cx="8390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Kdo poskytuje informac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nisterstvo školství, mládeže a tělovýchovy, odbor programů výzkumu -31, Karmelitská 7, P. O. Box 78, 118 12 Praha 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l.: 234 811 547 (sekretariát odboru programů výzkumu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-mail: odbor31@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ové stránky programu ERC CZ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smt.cz/vyzkum/erc-c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ové stránky poskytovatele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ww.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ontaktní osoba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. Hakenová, tel.: 234 811 560, e-mail: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akenova@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doporučení - vždy důsledně uvádět v předmětu e-mailové zprávy </a:t>
            </a:r>
            <a:r>
              <a:rPr b="0" i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„ERC CZ“, </a:t>
            </a: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po uzavření smlouvy pak ID projektu „LL120…“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Kdy lze získat informac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soutěžní lhůtě tj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od 26. 1. 2012 do 12. března 201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(výsledky 16. května 2012 n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smt.cz/vyzkum/erc-cz</a:t>
            </a: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4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AE6D-7B3D-4944-A5C2-29EA55DBE12E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214200" y="1915920"/>
            <a:ext cx="839016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ěcná shod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jektu s úspěšným grantem ER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hodná délka řešení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 úspěšným grantem ERC dle příslušné výzvy ERC, v jejímž rámci byl grant ERC vyhodnocen na evropské úrovni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skytnutí doplňujících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údajů pro IS VaVa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součást žádosti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řešitelkou nebo řešitelem projektu ERC CZ 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táž fyzická osoba,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jejíž návrh uspěl ve výzvě ERC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Nadpis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01480"/>
          </a:xfrm>
          <a:prstGeom prst="rect">
            <a:avLst/>
          </a:prstGeom>
          <a:ln w="0">
            <a:noFill/>
          </a:ln>
        </p:spPr>
      </p:pic>
      <p:sp>
        <p:nvSpPr>
          <p:cNvPr id="455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68F2-E0FB-4195-82C1-075E61CB86BD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214200" y="1844640"/>
            <a:ext cx="83901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uzavřen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acovně právního vztah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ezi uchazečem a řešitelem na období zahrnující celou dobu řešení projektu a minimálně dalších 6 kalendářních měsíců následujících po dni ukončení řešení projektu v rozsahu 0,5 plného úvazku (resp. 0,3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ávazek, že řešitel/ka projektu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evyužij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o dobu následujících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 let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 zahájení řešení projektu možnost opětovně podat návrh věcně obdobného projektu k ERC v následujících výzvách vyhlašovaných ERC u 5-letého projektu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analogicky o 1 rok méně u projektů s kratší délkou řešení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Nadpis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46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Zástupný symbol pro číslo snímku 4"/>
          <p:cNvSpPr/>
          <p:nvPr/>
        </p:nvSpPr>
        <p:spPr>
          <a:xfrm>
            <a:off x="179280" y="63086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31A6-AF91-45A9-BE4F-5949F4C804E3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213840" y="1915920"/>
            <a:ext cx="831852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ELZE ŽÁD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poru věcně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pravovaný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návrhů původních projektů podaných k ER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 podporu projektů nových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vazující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na již podpořené projekty ER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dále viz ZD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6" name="Nadpis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467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Zástupný symbol pro číslo snímku 4"/>
          <p:cNvSpPr/>
          <p:nvPr/>
        </p:nvSpPr>
        <p:spPr>
          <a:xfrm>
            <a:off x="179280" y="63086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D059-BF68-44CA-9B33-CA6EC75A26F3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214200" y="2060280"/>
            <a:ext cx="8461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hoda věcného obsah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ýzkumné části návrhu projektu ERC CZ s grantem hodnoceným ERC (A/N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valita výzkum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excelence) - převzetí výsledku hodnocení ERC (0-4 b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realizovatelnost projektu -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ajištění podmínek pro řešení projektu ze strany uchazeče/příjemce podpory, zejména zajištění výzkumných a provozních kapacit, zahrnujících jak vyčlenění potřebných prostor a zařízení, tak i personálu (0-4 b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Nadpis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473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Zástupný symbol pro číslo snímku 4"/>
          <p:cNvSpPr/>
          <p:nvPr/>
        </p:nvSpPr>
        <p:spPr>
          <a:xfrm>
            <a:off x="179280" y="63770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B327-5B64-4DC1-BD61-BE851BFD936B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05:01:25Z</dcterms:created>
  <dc:creator>Hakenová Jana</dc:creator>
  <dc:description/>
  <cp:keywords>podpora program VaVaI</cp:keywords>
  <dc:language>en-US</dc:language>
  <cp:lastModifiedBy>Hakenová</cp:lastModifiedBy>
  <dcterms:modified xsi:type="dcterms:W3CDTF">2012-02-29T14:17:38Z</dcterms:modified>
  <cp:revision>270</cp:revision>
  <dc:subject>ERC CZ - vyhlášení 2012</dc:subject>
  <dc:title>ERC CZ- seminář pro žadatele</dc:title>
</cp:coreProperties>
</file>