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84192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D0B1-DA70-4398-80FD-6FF340BC90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záhlaví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Zástupný symbol pro číslo snímku 4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FF54-36CA-4BD2-9800-C0582E8143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uznané náklady: investice, neinvestice, vč. mzdových (i na vytvoření nového týmu cca 10-15 osob) – požadavky jako u ER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4ECD-C14B-4D23-ABFF-E8A9F7EF6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dstupňované požadavky na výsledky (obdoba ERC) - Do konce 1. kalendářního roku řešení  - uplatnit alespoň 1 výsledek projektu, do konce 2. roku řešení 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alespoň 3 výsledky,…cca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28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na 1 projekt za celý tý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neuplatňování dílčích výsledků příjemcem poskytovatel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sníží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dporu ve 3. roce řešení až o 10% z částky přiznané poskytovatelem pro daný kalendářní rok, ve 4. roce až o 20% a v následujících letech až o 50%, přičemž není dotčeno právo poskytovatele rozhodnout na základě zhodnocení dílčích výsledků o okamžitém ukončení projektu, popřípadě i o odnětí podpory nebo o jejím vrácení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281A-0A32-4501-B60F-872073128E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12B8-D719-42AC-99F4-A323D7A63F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BC54-5480-4912-B875-CF9A4F62B4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F4C4-6411-4E05-92B3-1A4B3172F4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6E28-F1C7-40D7-B60E-56F9C28F07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1040-016D-40DC-B1C1-0B13B690F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DEA4-50BA-4191-9565-6A9C2D9E6E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9B6A-05A9-4F84-98B1-2774A52186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o „zahajovací“ i  „pokročilé“ projek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 době řešení a nebude-li zrušen/ ukončen- (eliminace duplicit, dokončení v Č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20D5-D42B-47CC-8547-BF72CDB318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o „zahajovací“ i  „pokročilé“ projek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 době řešení a nebude-li zrušen/ ukončen- (eliminace duplicit, dokončení v Č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B8CD-FD7D-4150-94FA-2C47B0B6C7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hodnotí se pokud hostitel=uchazeč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hodnotí se jen v případě, že uchazeč nebyl „hostitelskou organizací“ v původním návrhu, jinak se přihlíží k hodnocení ER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FD99-7EF6-48C6-8D97-701D9EC4D9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BBA8-F891-4653-A4A0-EBA2AD265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31F7-044D-4FFC-A5DC-188B600D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9D43B-4F4F-4536-8FB3-F0959E49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56499-5D47-46E5-8871-210EF9DA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0D5A3-9C9E-480F-8EBF-F3068AA9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84B3F-FE56-4FD9-8935-89208537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AF31E-6E00-472A-8F67-88395EDC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83821-F11B-4E6B-82E8-29D82582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8AF2F-1218-4A3C-B0F8-4CA1955D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8B17E-E16F-4B13-A593-824CAFDC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A4B35-E635-4368-B3E4-8A6BA1299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E041-DFA6-45CD-9CD5-1364131B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C8AF-B0A1-49FB-BEAA-B5FBDDE2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DC99-0736-4012-B18F-96D447C4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1D21-15C1-4911-9299-1C8664BE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FFD5-2A96-4536-BBFD-FAD62EAF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C494-6128-4655-BF83-443E666A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1906-E6F5-42F6-8161-8DAE5A74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4E11-0824-40B2-91F5-59CE7B72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279D-33A1-4A76-8549-18F71D65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1CD1-BE16-4ED2-8A69-2889233E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5FFF-FC5C-4698-B648-550CE6EA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2097-E8E4-46B2-BDE7-81E6BAF3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0E69-DF28-4ACC-8ECE-3D3A4935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0DEF-8395-4016-9157-F47389F6C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C6D4-26A1-4A7F-8265-D980924AE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633A9-20F0-4339-A332-D88BF300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4A485-F0A7-403F-AA8A-B75166B8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C7D32-2763-4FB3-9B02-ED9686D7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F710E-8165-4A98-8B97-2D7CD81E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F4D26-8FA5-4C57-A62F-87F4B965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C0FD-52D5-451A-806A-99481CD2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37F51-E00B-462E-A515-EA7765AA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F3D58-843C-4511-B812-EFD14F99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89875-8AE2-4D5B-8C37-A142673E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8000A-2DE1-49C2-B628-7C4D002B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0AA47-4260-48B9-AFA4-B0D3F14A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94EF0-7B8C-4F50-9B4C-AE7F23FA5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50657-DD4E-431A-B206-76E3C0CC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7EA25-DD93-4484-8FE2-F37951D78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98C95-8EFF-4622-AB2E-461F4904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2A964-8C1B-4E5C-960A-49BB5962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E6A0-8CA7-455E-85AE-43032F02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1A50F-BDAA-4914-9D87-03425EA8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06FBF-2D2A-4763-BFA5-08981539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B68B2-3FAA-4BE0-B901-0EE61EE2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143FB-59A8-4610-A7B7-4153B83F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39226-3D9A-4F31-B72B-921502D0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11689-447E-4CAF-8FFD-50FCE121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CC080-BCC5-4789-B708-1329AE45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238DB-2665-4CA5-8E9C-58622D70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D4008-E7E6-4E73-98D8-2E0429E66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160E7-288A-414C-8816-93442651C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6E51-3D06-4CB9-8776-A9F74ED4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9BF7B-57F3-4AA9-9554-BFBAC9BF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5DFA1-AAAE-4761-B4F8-49B0654D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EE7DD-46FD-4C25-8F28-AE9242F8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2701A-1E6B-4155-9DDE-E75CB66E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30CD9-BF50-41EA-9936-2CB4C19E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55399-4680-4F36-871A-D7039391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44E74-12AA-4629-A8BA-44657B49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7AE90-688B-44E4-BFED-1C56F4F3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F13D1-FEB7-470C-A7DE-97B9B08C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32E63-AFDC-43E8-B63E-9F179CFC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223E-D465-473C-A2B7-825ACA01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9E2A1-56D4-43D7-B670-80FD57F79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57705-9215-439C-B3B9-5AD38C656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6DC6F-F041-4F85-897B-69CB9E42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37BFE-B9FE-41FB-BE2F-BE219040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5980C-2501-4402-8596-926B5475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D3275-B993-45EB-9B38-EC125EEF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3E23A-7B7A-4F52-B1EF-21BBD81F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E5B02-3C53-44A9-A174-70F920C8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B99AA-AF54-4EAA-A138-F39A209E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80937-76BD-490D-AEF0-086D0F15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B52D-2B71-4BB1-A6F9-1BA98F35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D8EA1-EA1D-4B39-A3D0-07C3D3BC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71022-1106-46C0-A46B-0775E8B21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83ABC-4242-4776-B9ED-F5BCAB64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9CE46-92A5-4113-B13A-C8538105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4B261-ADFA-4F2D-81FA-6AD09D0E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ECC09-FBB5-419E-8B18-CDBD4904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5D4FB-7598-477D-9746-E782AFF1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EC525-CEAE-4222-9FBA-72E4E8EA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F9C0B-28A4-4978-B51E-C8224A70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A148E-CF69-4476-9DE8-851DFCA8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95A9-BA96-4B04-9321-8DBC5757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8F11F-199E-4632-8D77-4A85E554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14B4A-695A-4250-AD59-E87398D4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EE986-0C8B-40A0-9003-695E19F4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581EC-30F1-4C5C-AF00-09E2351A3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3EDF9-3F5E-4970-91E3-D53C74477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296F1-8934-40B8-8BC8-CCD7A60B1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7A799-DF31-47F8-ADA9-204EA9C9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E3C97-A585-4990-BF75-B8C11C79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28F37-ACBB-4B81-BA4E-73BF258D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17737-CF50-4609-AB26-DFBABEA7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8C03-5D8B-4121-987B-C3994BF0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D6DF2-1F48-42AD-8B53-FD3B7F90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01B5A-913A-4D84-8AF6-E500CE72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636AB-55E2-47B3-BBC8-21F1D93B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7109D-FA32-43F4-A14A-173872DC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D0C43-AB0A-4C5B-888C-D68A933C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67302-466B-4D71-8EA0-14FD834C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8AE07-45E8-497C-ACB7-A5F427179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150ED-CA22-4DFC-86AC-E2D773DE0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1DD6C-A305-4474-B381-BB4D22E9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A7190-4031-4834-A6BC-233180D5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Pravoúhlý trojúhelní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Přímá spojovací čára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9937-4139-42BC-B465-60E716D4D5E7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avoúhlý trojúhelní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Skupina 15"/>
          <p:cNvGrpSpPr/>
          <p:nvPr/>
        </p:nvGrpSpPr>
        <p:grpSpPr>
          <a:xfrm>
            <a:off x="-3240" y="4946760"/>
            <a:ext cx="9147240" cy="1911240"/>
            <a:chOff x="-3240" y="4946760"/>
            <a:chExt cx="9147240" cy="1911240"/>
          </a:xfrm>
        </p:grpSpPr>
        <p:sp>
          <p:nvSpPr>
            <p:cNvPr id="49" name="Volný tvar 16"/>
            <p:cNvSpPr/>
            <p:nvPr/>
          </p:nvSpPr>
          <p:spPr>
            <a:xfrm>
              <a:off x="1693440" y="4946760"/>
              <a:ext cx="7444440" cy="4856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olný tvar 18"/>
            <p:cNvSpPr/>
            <p:nvPr/>
          </p:nvSpPr>
          <p:spPr>
            <a:xfrm>
              <a:off x="45360" y="5229720"/>
              <a:ext cx="9092880" cy="78624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olný tvar 19"/>
            <p:cNvGrpSpPr/>
            <p:nvPr/>
          </p:nvGrpSpPr>
          <p:grpSpPr>
            <a:xfrm>
              <a:off x="2520" y="4986360"/>
              <a:ext cx="9141480" cy="1871640"/>
              <a:chOff x="2520" y="4986360"/>
              <a:chExt cx="9141480" cy="1871640"/>
            </a:xfrm>
          </p:grpSpPr>
          <p:pic>
            <p:nvPicPr>
              <p:cNvPr id="52" name="Volný tvar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86360"/>
                <a:ext cx="9141480" cy="187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49942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Přímá spojovací čára 20" descr=""/>
            <p:cNvPicPr/>
            <p:nvPr/>
          </p:nvPicPr>
          <p:blipFill>
            <a:blip r:embed="rId3"/>
            <a:stretch/>
          </p:blipFill>
          <p:spPr>
            <a:xfrm>
              <a:off x="-3240" y="498024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e8f0f4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e8f0f4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29EE-4516-42D0-89AC-229A50CDD564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Pravoúhlý trojúhelní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římá spojovací čára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320" y="6408720"/>
            <a:ext cx="2165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250920" y="630864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5285-AF42-4D1B-8C90-88E6602F9F0A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Dvojitá šipka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vojitá šipka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356A-B77F-46BD-9443-AC0B503B558E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5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A2A5-D91C-44AC-8694-046437FC7942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1A15-301E-4557-AE5C-39FE6583B061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3BAE-909B-4748-A747-70CE1CEC94D5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E054-1684-439D-AF8E-82C5A1BD2425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Volný tvar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Volný tvar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Pravoúhlý trojúhelník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1" name="Pravoúhlý trojúhelník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3" name="Přímá spojovací čára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4" name="Dvojitá šipka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Dvojitá šipka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8153-7B95-4944-B396-B2F5F2CE8660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250560" y="1844280"/>
            <a:ext cx="8636040" cy="2879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  <a:ea typeface="Arial"/>
              </a:rPr>
              <a:t>PROGRAM 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  <a:ea typeface="Arial"/>
              </a:rPr>
              <a:t>ERC CZ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veřejná soutěž ve VaVaI vyhlášená dne 25.1.2012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571680" y="428760"/>
            <a:ext cx="1785600" cy="1071360"/>
          </a:xfrm>
          <a:prstGeom prst="rect">
            <a:avLst/>
          </a:prstGeom>
          <a:ln w="0">
            <a:noFill/>
          </a:ln>
        </p:spPr>
      </p:pic>
      <p:sp>
        <p:nvSpPr>
          <p:cNvPr id="426" name="Zástupný symbol pro datum 3"/>
          <p:cNvSpPr/>
          <p:nvPr/>
        </p:nvSpPr>
        <p:spPr>
          <a:xfrm>
            <a:off x="6727680" y="6453360"/>
            <a:ext cx="2165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Zástupný symbol pro číslo snímku 4"/>
          <p:cNvSpPr/>
          <p:nvPr/>
        </p:nvSpPr>
        <p:spPr>
          <a:xfrm>
            <a:off x="0" y="6492960"/>
            <a:ext cx="468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CA91-7530-4BFF-9FDC-876E1B755A6A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e8f0f4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214200" y="2421000"/>
            <a:ext cx="8461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až 100% uznaných nákladů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oskytovatel je oprávněn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končit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skytování podpory projektu, popř.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níži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ýši podpory pro následující kalendářní rok na základě výsledků průběžného vyhodnocení dílčích výsledků projektu uplatněných příjemcem v IS VaVaI - z důvodu jejich nedostatečného počtu nebo nízké kvality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8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944720"/>
          </a:xfrm>
          <a:prstGeom prst="rect">
            <a:avLst/>
          </a:prstGeom>
          <a:ln w="0">
            <a:noFill/>
          </a:ln>
        </p:spPr>
      </p:pic>
      <p:sp>
        <p:nvSpPr>
          <p:cNvPr id="479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FC5D-0B37-46B0-8731-325036D470AD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214200" y="2421000"/>
            <a:ext cx="8715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úspěšně zahájit a ukončit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rojekt ve výzkumné organizaci na území Č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růběžn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plnit smluvní podmínky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vč. naplňo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ndikátorů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 úrovni projektu – např. uplatnit 29 publikovaných nebo jiným oficiálním způsobem zveřejněných výsledků projektu a uplatněných v IS VaVaI, popř. nově zahájit projekt mezinárodní spolupráce/mezinárodního programu – nepovinné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4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07440" cy="1944720"/>
          </a:xfrm>
          <a:prstGeom prst="rect">
            <a:avLst/>
          </a:prstGeom>
          <a:ln w="0">
            <a:noFill/>
          </a:ln>
        </p:spPr>
      </p:pic>
      <p:sp>
        <p:nvSpPr>
          <p:cNvPr id="485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C824-7D38-4723-A238-E8A3DC6EA901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Zástupný symbol pro zápatí 5"/>
          <p:cNvSpPr/>
          <p:nvPr/>
        </p:nvSpPr>
        <p:spPr>
          <a:xfrm>
            <a:off x="4140360" y="64087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214200" y="2421000"/>
            <a:ext cx="8715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0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944720"/>
          </a:xfrm>
          <a:prstGeom prst="rect">
            <a:avLst/>
          </a:prstGeom>
          <a:ln w="0">
            <a:noFill/>
          </a:ln>
        </p:spPr>
      </p:pic>
      <p:sp>
        <p:nvSpPr>
          <p:cNvPr id="491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Zástupný symbol pro číslo snímku 4"/>
          <p:cNvSpPr/>
          <p:nvPr/>
        </p:nvSpPr>
        <p:spPr>
          <a:xfrm>
            <a:off x="179280" y="628668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98EC-3EFB-472D-835D-5694775C961A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Zástupný symbol pro zápatí 5"/>
          <p:cNvSpPr/>
          <p:nvPr/>
        </p:nvSpPr>
        <p:spPr>
          <a:xfrm>
            <a:off x="4140360" y="64087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  <p:cxnSp>
        <p:nvCxnSpPr>
          <p:cNvPr id="495" name="Přímá spojovací šipka 8"/>
          <p:cNvCxnSpPr/>
          <p:nvPr/>
        </p:nvCxnSpPr>
        <p:spPr>
          <a:xfrm>
            <a:off x="6803640" y="5229360"/>
            <a:ext cx="361080" cy="21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graphicFrame>
        <p:nvGraphicFramePr>
          <p:cNvPr id="496" name=""/>
          <p:cNvGraphicFramePr/>
          <p:nvPr/>
        </p:nvGraphicFramePr>
        <p:xfrm>
          <a:off x="611280" y="2060640"/>
          <a:ext cx="8064360" cy="3852720"/>
        </p:xfrm>
        <a:graphic>
          <a:graphicData uri="http://schemas.openxmlformats.org/drawingml/2006/table">
            <a:tbl>
              <a:tblPr/>
              <a:tblGrid>
                <a:gridCol w="3529080"/>
                <a:gridCol w="4535280"/>
              </a:tblGrid>
              <a:tr h="72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ýdaje na program ERC CZ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                              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v tis. Kč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10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lkem na program ERC C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285480" y="1142640"/>
            <a:ext cx="8429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Děkuji Vám za pozornost!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Jana Hakenová,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hakenova@msmt.c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, tel.: 234 811 560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8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1128960" cy="738360"/>
          </a:xfrm>
          <a:prstGeom prst="rect">
            <a:avLst/>
          </a:prstGeom>
          <a:ln w="0">
            <a:noFill/>
          </a:ln>
        </p:spPr>
      </p:pic>
      <p:sp>
        <p:nvSpPr>
          <p:cNvPr id="499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Zástupný symbol pro číslo snímku 4"/>
          <p:cNvSpPr/>
          <p:nvPr/>
        </p:nvSpPr>
        <p:spPr>
          <a:xfrm>
            <a:off x="285840" y="6286680"/>
            <a:ext cx="4284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2019-3C9B-43DD-BEC6-72A1C0DB3A65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Zástupný symbol pro zápatí 5"/>
          <p:cNvSpPr/>
          <p:nvPr/>
        </p:nvSpPr>
        <p:spPr>
          <a:xfrm>
            <a:off x="3924360" y="6408720"/>
            <a:ext cx="28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214200" y="1915920"/>
            <a:ext cx="846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Proč a k čemu program slouží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možnost realizovat svůj mezinárodně úspěšný projekt v ČR a za finanční podpory ze státního rozpočtu Č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motivace a nepřímá podpora pro české výzkumníky – uchazeče o podporu u ERC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 základě čeho lze žádat o podporu ? - (právní rámec programu)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ákon č. 130/2002 Sb., o podpoře výzkumu, experimentálního vývoje a inovací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Nařízení Komise (ES) č. 800/2008 ze dne 6. srpna 2008, kterým se dle článků 87 a 88 Smlouvy o ES prohlašují určité kategorie za slučitelné se společným trhem (obecné nařízení o blokových výjimkách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Rámec společenství pro státní podporu VaVaI (2006/C 323/01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Nadpis 2" descr=""/>
          <p:cNvPicPr/>
          <p:nvPr/>
        </p:nvPicPr>
        <p:blipFill>
          <a:blip r:embed="rId1"/>
          <a:stretch/>
        </p:blipFill>
        <p:spPr>
          <a:xfrm>
            <a:off x="463680" y="255600"/>
            <a:ext cx="8242200" cy="1523880"/>
          </a:xfrm>
          <a:prstGeom prst="rect">
            <a:avLst/>
          </a:prstGeom>
          <a:ln w="0">
            <a:noFill/>
          </a:ln>
        </p:spPr>
      </p:pic>
      <p:sp>
        <p:nvSpPr>
          <p:cNvPr id="431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EF6E-CEE6-4FB7-AE79-322CABD9A8D6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Zástupný symbol pro zápatí 5"/>
          <p:cNvSpPr/>
          <p:nvPr/>
        </p:nvSpPr>
        <p:spPr>
          <a:xfrm>
            <a:off x="4067280" y="6408720"/>
            <a:ext cx="26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14200" y="1700280"/>
            <a:ext cx="8390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Na co lze žádat finanční podporu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Předmět podpory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: Projekty „hraničního výzkumu“,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teré uspěl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e výběrových řízeních organizovaných Evropskou radou pro výzkum (ERC) s výsledkem: </a:t>
            </a:r>
            <a:r>
              <a:rPr b="1" lang="en-GB" sz="2000" spc="-1" strike="noStrike">
                <a:solidFill>
                  <a:srgbClr val="1c9cb6"/>
                </a:solidFill>
                <a:latin typeface="Arial"/>
                <a:ea typeface="Arial"/>
              </a:rPr>
              <a:t>"The proposal is of good quality and fundable but not retained for funding due to budgetary constrains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 které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emohl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být proto realizovány za finanční podpory ERC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1c9cb6"/>
                </a:solidFill>
                <a:uFillTx/>
                <a:latin typeface="Arial"/>
                <a:ea typeface="Arial"/>
              </a:rPr>
              <a:t>Kdo může žádat – kdo má šanci na podporu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říjemci podpory jen výzkumné organizac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e smyslu Rámce Společenství pro státní podporu výzkumu, vývoje a inovací č. 2006/C 323/01, platného od 1. 1. 2007,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se sídlem na území Č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Nadpis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908280"/>
          </a:xfrm>
          <a:prstGeom prst="rect">
            <a:avLst/>
          </a:prstGeom>
          <a:ln w="0">
            <a:noFill/>
          </a:ln>
        </p:spPr>
      </p:pic>
      <p:sp>
        <p:nvSpPr>
          <p:cNvPr id="437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613F-CB74-4EDA-9440-E48209B0FD28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94920" y="1700280"/>
            <a:ext cx="8209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Jak a kdy doručit žádost o podporu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ávrh projektu uchazeč doručí osobně, poštou nebo jiným způsobem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do podateln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inisterstva školství, mládeže a tělovýchovy, v Karmelitské ul. 7, 118 12 Praha 1, v soutěžní lhůtě, tj.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nejpozději do 12.března 201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v úředních hodinách  (po – pá: od 7:30 do 15:30)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ávrh projektu musí být doručen poskytovateli </a:t>
            </a:r>
            <a:r>
              <a:rPr b="1" lang="cs-CZ" sz="2000" spc="-1" strike="noStrike" u="sng">
                <a:solidFill>
                  <a:srgbClr val="1c9cb6"/>
                </a:solidFill>
                <a:uFillTx/>
                <a:latin typeface="Arial"/>
                <a:ea typeface="Arial"/>
              </a:rPr>
              <a:t>v uzavřené obál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, obsahující listinnou i elektronickou verzi návrhu projektu, a na této obálce musí být uvedena </a:t>
            </a:r>
            <a:r>
              <a:rPr b="1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adresa poskytovatele, adresa uchazeče jako odesílatel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a zřetelný, výrazně vyznačený nápis 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„ERC CZ – veřejná soutěž – NEOTVÍRAT!“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Nadpis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908280"/>
          </a:xfrm>
          <a:prstGeom prst="rect">
            <a:avLst/>
          </a:prstGeom>
          <a:ln w="0">
            <a:noFill/>
          </a:ln>
        </p:spPr>
      </p:pic>
      <p:sp>
        <p:nvSpPr>
          <p:cNvPr id="443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0ACA-2514-452F-A028-61C7863BB3F9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ástupný symbol pro zápatí 5"/>
          <p:cNvSpPr/>
          <p:nvPr/>
        </p:nvSpPr>
        <p:spPr>
          <a:xfrm>
            <a:off x="3924360" y="6408720"/>
            <a:ext cx="28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214200" y="1197000"/>
            <a:ext cx="8390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Kdo poskytuje informace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nisterstvo školství, mládeže a tělovýchovy, odbor programů výzkumu -31, Karmelitská 7, P. O. Box 78, 118 12 Praha 1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l.: 234 811 547 (sekretariát odboru programů výzkumu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-mail: odbor31@msmt.c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ové stránky programu ERC CZ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msmt.cz/vyzkum/erc-c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ové stránky poskytovatele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ww.msmt.c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ontaktní osoba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. Hakenová, tel.: 234 811 560, e-mail: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akenova@msmt.c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doporučení - vždy důsledně uvádět v předmětu e-mailové zprávy </a:t>
            </a:r>
            <a:r>
              <a:rPr b="0" i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„ERC CZ“, </a:t>
            </a: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po uzavření smlouvy pak ID projektu „LL120…“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1c9cb6"/>
                </a:solidFill>
                <a:uFillTx/>
                <a:latin typeface="Arial"/>
                <a:ea typeface="Arial"/>
              </a:rPr>
              <a:t>Kdy lze získat informace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soutěžní lhůtě tj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 od 26. 1. 2012 do 12. března 201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(výsledky 16. května 2012 na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msmt.cz/vyzkum/erc-cz</a:t>
            </a: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8" name="Nadpis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908280"/>
          </a:xfrm>
          <a:prstGeom prst="rect">
            <a:avLst/>
          </a:prstGeom>
          <a:ln w="0">
            <a:noFill/>
          </a:ln>
        </p:spPr>
      </p:pic>
      <p:sp>
        <p:nvSpPr>
          <p:cNvPr id="449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B6AB-B09B-40D9-9D9D-E90018C90CC7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214200" y="1915920"/>
            <a:ext cx="839016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ěcná shoda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jektu s úspěšným grantem ERC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hodná délka řešení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 úspěšným grantem ERC dle příslušné výzvy ERC, v jejímž rámci byl grant ERC vyhodnocen na evropské úrovni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skytnutí doplňujících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údajů pro IS VaVaI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součást žádosti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řešitelkou nebo řešitelem projektu ERC CZ j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táž fyzická osoba,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jejíž návrh uspěl ve výzvě ERC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4" name="Nadpis 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01480"/>
          </a:xfrm>
          <a:prstGeom prst="rect">
            <a:avLst/>
          </a:prstGeom>
          <a:ln w="0">
            <a:noFill/>
          </a:ln>
        </p:spPr>
      </p:pic>
      <p:sp>
        <p:nvSpPr>
          <p:cNvPr id="455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BF03-D518-43F0-8F3B-6EB5BC1DB39F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ástupný symbol pro zápatí 5"/>
          <p:cNvSpPr/>
          <p:nvPr/>
        </p:nvSpPr>
        <p:spPr>
          <a:xfrm>
            <a:off x="4067280" y="6408720"/>
            <a:ext cx="26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214200" y="1844640"/>
            <a:ext cx="83901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uzavřen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acovně právního vztah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ezi uchazečem a řešitelem na období zahrnující celou dobu řešení projektu a minimálně dalších 6 kalendářních měsíců následujících po dni ukončení řešení projektu v rozsahu 0,5 plného úvazku (resp. 0,3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ávazek, že řešitel/ka projektu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evyužij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po dobu následujících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 let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 zahájení řešení projektu možnost opětovně podat návrh věcně obdobného projektu k ERC v následujících výzvách vyhlašovaných ERC u 5-letého projektu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analogicky o 1 rok méně u projektů s kratší délkou řešení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0" name="Nadpis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461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Zástupný symbol pro číslo snímku 4"/>
          <p:cNvSpPr/>
          <p:nvPr/>
        </p:nvSpPr>
        <p:spPr>
          <a:xfrm>
            <a:off x="179280" y="630864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F864-8466-488B-BF32-556C0FC5B38B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Zástupný symbol pro zápatí 5"/>
          <p:cNvSpPr/>
          <p:nvPr/>
        </p:nvSpPr>
        <p:spPr>
          <a:xfrm>
            <a:off x="3924360" y="6408720"/>
            <a:ext cx="28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213840" y="1915920"/>
            <a:ext cx="831852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ELZE ŽÁDA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poru věcně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pravovaný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návrhů původních projektů podaných k ERC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 podporu projektů nových,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vazující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na již podpořené projekty ERC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dále viz ZD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6" name="Nadpis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467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Zástupný symbol pro číslo snímku 4"/>
          <p:cNvSpPr/>
          <p:nvPr/>
        </p:nvSpPr>
        <p:spPr>
          <a:xfrm>
            <a:off x="179280" y="630864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A9E1-F56F-4596-B5AF-FF47F61A9BE7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Zástupný symbol pro zápatí 5"/>
          <p:cNvSpPr/>
          <p:nvPr/>
        </p:nvSpPr>
        <p:spPr>
          <a:xfrm>
            <a:off x="4140360" y="64087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214200" y="2060280"/>
            <a:ext cx="8461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hoda věcného obsah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ýzkumné části návrhu projektu ERC CZ s grantem hodnoceným ERC (A/N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valita výzkum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excelence) - převzetí výsledku hodnocení ERC (0-4 b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realizovatelnost projektu -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zajištění podmínek pro řešení projektu ze strany uchazeče/příjemce podpory, zejména zajištění výzkumných a provozních kapacit, zahrnujících jak vyčlenění potřebných prostor a zařízení, tak i personálu (0-4 b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2" name="Nadpis 2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420920"/>
          </a:xfrm>
          <a:prstGeom prst="rect">
            <a:avLst/>
          </a:prstGeom>
          <a:ln w="0">
            <a:noFill/>
          </a:ln>
        </p:spPr>
      </p:pic>
      <p:sp>
        <p:nvSpPr>
          <p:cNvPr id="473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Zástupný symbol pro číslo snímku 4"/>
          <p:cNvSpPr/>
          <p:nvPr/>
        </p:nvSpPr>
        <p:spPr>
          <a:xfrm>
            <a:off x="179280" y="637704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E5F3-4C8E-47C6-80C0-644D5647631E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Zástupný symbol pro zápatí 5"/>
          <p:cNvSpPr/>
          <p:nvPr/>
        </p:nvSpPr>
        <p:spPr>
          <a:xfrm>
            <a:off x="4067280" y="6408720"/>
            <a:ext cx="26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05:01:25Z</dcterms:created>
  <dc:creator>Hakenová Jana</dc:creator>
  <dc:description/>
  <cp:keywords>podpora program VaVaI</cp:keywords>
  <dc:language>en-US</dc:language>
  <cp:lastModifiedBy>Hakenová</cp:lastModifiedBy>
  <dcterms:modified xsi:type="dcterms:W3CDTF">2012-02-29T14:17:38Z</dcterms:modified>
  <cp:revision>270</cp:revision>
  <dc:subject>ERC CZ - vyhlášení 2012</dc:subject>
  <dc:title>ERC CZ- seminář pro žadatele</dc:title>
</cp:coreProperties>
</file>