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28.png" ContentType="image/png"/>
  <Override PartName="/ppt/media/image44.png" ContentType="image/png"/>
  <Override PartName="/ppt/media/image13.jpeg" ContentType="image/jpeg"/>
  <Override PartName="/ppt/media/image33.jpeg" ContentType="image/jpeg"/>
  <Override PartName="/ppt/media/image27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4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32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60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FB79-664B-40E1-BF04-09BCFEAAE61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0B5B-FD6E-4C3B-BB51-D27F0C79397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650B-A736-473E-8A3B-975A1E91100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679F-93BF-469D-9817-891034EDC14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F6B6-D08E-49C4-BBCE-D5BC120913E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286C-F17F-45E6-A414-F5BDFC4C8F0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A23B-0226-4D71-A7C2-FE8C258E62D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2DD2-8E1A-4D3F-A23E-2E9718A0CD4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A024-2F73-443E-AD28-62EAA1A9173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539A-7DD6-4627-A3A1-7E0D8B44901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026F-47D2-4928-8EF6-1F3D26B27CA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0C2F-34FA-48BB-9B8D-D1B9B30F62A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277-012A-413D-A745-43B53439450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DE7D-20FB-4F9E-B775-CD04D3C9B75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6B44-6417-4635-84CD-940579A31CE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A2F8-825D-49C8-9C2C-DBAE1EFC618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F14D-1DC2-4B64-BD5F-101CD0F2F33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39C5-C7F2-4079-BDA3-09CDCB7899D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66E7-C40C-4772-8C0F-789898BB230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991F-EA85-4906-95AD-2378E6C99D9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3517-264A-4565-A1F3-7A323D207BA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153E-FA9D-47A5-A609-E084C630E45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82F5-CC38-4919-B347-C7F9FC992EA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E0A8-A07E-4344-97D4-3EBE035CC3D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7C33-9FF3-4EFE-8F21-7E27B9C06E9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C090-9E76-4390-A9B5-877308275C6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87EA-1E5A-42D4-BBBC-63DC879BCDB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B2BA-DAB7-428B-AB8B-F91F652F20A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05F-069E-4D11-9EC9-C5CD5E2E924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B08C-2C16-44A4-AD79-60077CC02FE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1C8C-4C08-4AF6-9F04-5DDC2A36973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9870-10DB-4315-890F-BB3A3847C30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44FA-577E-4802-96F9-254901C9E16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ACB-E5C4-403F-8C15-F98CC4A39A3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053D-F3A2-4923-BDFC-A0EFBC84BDE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D50D-4AA0-48FF-BCD5-C6703F6BE0B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46DF-2D65-4201-B959-D14A50E2F87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51FC-1A4F-4155-8E4E-50BD683C2DF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6E50-3348-49B2-8F11-0A5FBCAAF6A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7640" y="79056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9895-716D-4FC4-992F-1D1AD695DCB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83F2-A396-4513-BB11-81DAADDE765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1272-43B1-4A7F-815D-4B84F226F36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FEC3-E915-4337-95E7-1F947EB81F9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F52-7156-49D6-8193-05FF26647AA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D244-3309-4DD1-AA10-B172E28E404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B616-2F03-479B-AB49-ED01D6C5A2C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D7F6-F255-4B48-BF18-EDF09C954C1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23760" y="77796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6DE1-B4DE-4E3A-BDA7-C3AB7A1A13A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111F-9574-4D8B-A60A-F824D3927A0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646C-26ED-4AE7-85AF-BE6511959CB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2C4D-2409-4825-9D04-B2352FB414C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EE61-367D-446C-BBE6-788D67C073B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BB6D-A583-4F45-BC86-F55EB7E0791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F2B3-AC03-477E-91B0-965A9354154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5CF0-FC32-4EAF-930B-012DE815335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9CC1-9660-48D6-844D-0926B7C2498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BF8A-6521-4B14-89C3-C977C8B17FD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C23B-5FB7-46DA-BCBD-96E8F9E72FE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B289-F7B6-4FCD-AE95-1439BC38FD4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BB26-FB33-4094-8BD6-42C80DA39C2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58CB-9D66-41FF-B253-EA85638AB97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6C8F-5875-4CED-91A7-115219EC98C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9CFC-C7BC-4420-837E-67E89875754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2038-301E-422B-91AA-CBDA85B47CA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06A9-C2FB-48EE-97E3-76E50B695EB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0360" y="4140360"/>
            <a:ext cx="7796160" cy="15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  <a:ea typeface="Arial"/>
              </a:rPr>
              <a:t>5. 3.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  <a:ea typeface="Arial"/>
              </a:rPr>
              <a:t>Ing. Jana Wagnerov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50760" y="1290240"/>
            <a:ext cx="832032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alibri"/>
                <a:ea typeface="Arial"/>
              </a:rPr>
              <a:t>Se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min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  <a:ea typeface="Arial"/>
              </a:rPr>
              <a:t>ář pro příjemce finanční podpory z OP Vzdělávání pro konkurenceschopnost –      výzva 3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klady nepřímých náklad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publicity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ír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isk pro administraci projektu a public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tuzemské cestovní náhra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výkaz – vykazované činnosti nesmí obsahovat činnosti, které by měly být hrazeny z nepřímých nákladů (skanování, kopírování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vidla pro čerpání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iz PpP str.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ilé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jsou výdaje uskutečněné v souladu s podmínkami stanovenými v právním aktu o poskytnutí podpory a v souladu s příslušnými předpisy EU a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Způsobilé výdaje musí splňovat následující kritéria (PpP 5 str. 33 - 34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iměřenost, hospodárnost, účelnost a efek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kazatelnost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tum uskutečně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ZOR – Výzva 31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za zřízení a vedení projektového účtu jsou způsobilé ode dne, kdy byl projekt schválen k realizaci ministryní/ministrem školství, mládeže a tělovýcho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Způsobilost ná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poskytovatel podpory dojde na základě kontrol projektu k závěru, že výdaj prokazovaný v žádosti o platbu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splňuje některé z kritéri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, neuzná tento výdaj jako způsobilý, a to i v případě, že tento výdaj je uveden ve schváleném rozpočtu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způsobilé výdaje – podrobný výčet PpP 5 str. 66 – 6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dení běžného provozního účtu organizace a bankovní poplatky související s tímto úč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kupy vozidel, infrastruktury, nemovitostí a pozem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ankční poplatky, penále a pokuty, stornovací popla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způsobilost ná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474640"/>
            <a:ext cx="817884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  <a:ea typeface="Arial"/>
              </a:rPr>
              <a:t>Povinné přílohy 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i ELMZ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Možnosti dokladování k ELM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ástupný symbol pro text 3"/>
          <p:cNvSpPr/>
          <p:nvPr/>
        </p:nvSpPr>
        <p:spPr>
          <a:xfrm>
            <a:off x="270000" y="1766880"/>
            <a:ext cx="963108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ktuální formuláře k ELMZ jsou ke stažení na webu MŠM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msmt.cz/strukturalni-fondy/elektronicka-monitorovaci-zprava-a-jeji-prilohy-platna-od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přílohy musí být na CD uloženy ve formátu .xls + příloha žádosti o platbu v Benefit7+ ve formátu 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isy z účtů, kopie dokladů, výkazy práce, smlouvy – scan nebo listinná kop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 žádosti o platbu  v aplikaci Benefit7+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ahrá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aktuální verzi souboru Rozpisy/rozpočet.x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05000" y="274428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Projektový/provozní bankovní úč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před uzavřením právního aktu zřídit samostatný bankovní účet pro účel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ner s finančním příspě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x-ant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(zálohami) – povinnost zřídit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x-p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(zpětné proplacení) - samostatný projektový účet není nutné zaklá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 proplácení je zakotven v partnerské smlou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Projektový bankovní úč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text 3"/>
          <p:cNvSpPr/>
          <p:nvPr/>
        </p:nvSpPr>
        <p:spPr>
          <a:xfrm>
            <a:off x="0" y="1440000"/>
            <a:ext cx="9823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úhrady týkající se projektu musí být doloženy výpisem z projektového BÚ za předkládané monitorované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í projektu probíhá přednostně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by finančním partne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hrada 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od peněz do projektové pokl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značení odchozí platby pořadovým číslem výdaje ze Soupisky účetních dokladů, u odchozích plateb určených na nepřímé výdaje – označením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výpisu z projektového úč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i (partnerům) je umožněno výdaj prvotně uhradit z provozního účtu organizace a následně si dané prostředky refundovat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doložit doklad o prvotní úhradě (výpis z provozního účtu, VPD apod.) –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jimkou jsou mzdové výdaj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– viz dá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fundace z projektového účtu může být provedena jednou platební operací za více účetních polož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i refundaci příjemce dokládá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kaz k refund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ozní 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4"/>
          <p:cNvSpPr/>
          <p:nvPr/>
        </p:nvSpPr>
        <p:spPr>
          <a:xfrm>
            <a:off x="719280" y="2386080"/>
            <a:ext cx="85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681120" indent="-236520" algn="ctr">
              <a:lnSpc>
                <a:spcPct val="100000"/>
              </a:lnSpc>
              <a:spcBef>
                <a:spcPts val="1001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 je možné zahrnout do soupisky účetních dokladů a do žádosti o platbu v následujících případ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text 3"/>
          <p:cNvSpPr/>
          <p:nvPr/>
        </p:nvSpPr>
        <p:spPr>
          <a:xfrm>
            <a:off x="266760" y="1601640"/>
            <a:ext cx="837396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ční část ELMZ v aplikaci Benefit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a 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ilost x nezpůsobilost ná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dezření na porušení rozpočtové káz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6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Čárový popisek 2 10"/>
          <p:cNvSpPr/>
          <p:nvPr/>
        </p:nvSpPr>
        <p:spPr>
          <a:xfrm>
            <a:off x="206208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Čárový popisek 2 14"/>
          <p:cNvSpPr/>
          <p:nvPr/>
        </p:nvSpPr>
        <p:spPr>
          <a:xfrm>
            <a:off x="508464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6"/>
          <p:cNvSpPr/>
          <p:nvPr/>
        </p:nvSpPr>
        <p:spPr>
          <a:xfrm>
            <a:off x="584280" y="2001960"/>
            <a:ext cx="91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může být zahrnout do soupisky účetních dokladů a žádosti o platbu v dané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Čárový popisek 2 10"/>
          <p:cNvSpPr/>
          <p:nvPr/>
        </p:nvSpPr>
        <p:spPr>
          <a:xfrm>
            <a:off x="375120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Čárový popisek 2 14"/>
          <p:cNvSpPr/>
          <p:nvPr/>
        </p:nvSpPr>
        <p:spPr>
          <a:xfrm>
            <a:off x="699624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16"/>
          <p:cNvSpPr/>
          <p:nvPr/>
        </p:nvSpPr>
        <p:spPr>
          <a:xfrm>
            <a:off x="630360" y="19810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může být zahrnout do soupisky účetních dokladů a žádosti o platbu v dané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Čárový popisek 2 10"/>
          <p:cNvSpPr/>
          <p:nvPr/>
        </p:nvSpPr>
        <p:spPr>
          <a:xfrm>
            <a:off x="1035000" y="391644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2333"/>
              <a:gd name="adj4" fmla="val -3643"/>
              <a:gd name="adj5" fmla="val 173231"/>
              <a:gd name="adj6" fmla="val -4185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Čárový popisek 2 14"/>
          <p:cNvSpPr/>
          <p:nvPr/>
        </p:nvSpPr>
        <p:spPr>
          <a:xfrm>
            <a:off x="5535720" y="355608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16"/>
          <p:cNvSpPr/>
          <p:nvPr/>
        </p:nvSpPr>
        <p:spPr>
          <a:xfrm>
            <a:off x="630360" y="1709640"/>
            <a:ext cx="89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z minulých období může být zahrnout do soupisky účetních dokladů a do žádosti o platbu v dané MZ (+ slovní komentá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1"/>
          <p:cNvSpPr/>
          <p:nvPr/>
        </p:nvSpPr>
        <p:spPr>
          <a:xfrm>
            <a:off x="328680" y="5157720"/>
            <a:ext cx="71100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Čárový popisek 2 18"/>
          <p:cNvSpPr/>
          <p:nvPr/>
        </p:nvSpPr>
        <p:spPr>
          <a:xfrm>
            <a:off x="314280" y="283536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43217"/>
              <a:gd name="adj4" fmla="val 12685"/>
              <a:gd name="adj5" fmla="val 266527"/>
              <a:gd name="adj6" fmla="val 8981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Čárový popisek 2 10"/>
          <p:cNvSpPr/>
          <p:nvPr/>
        </p:nvSpPr>
        <p:spPr>
          <a:xfrm>
            <a:off x="47736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6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Čárový popisek 2 14"/>
          <p:cNvSpPr/>
          <p:nvPr/>
        </p:nvSpPr>
        <p:spPr>
          <a:xfrm>
            <a:off x="14400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na provoz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ovéPole 11"/>
          <p:cNvSpPr/>
          <p:nvPr/>
        </p:nvSpPr>
        <p:spPr>
          <a:xfrm>
            <a:off x="539640" y="1557360"/>
            <a:ext cx="909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římým výdajem nesmí nastat; nelze si na provozní účet předfinancovat např. nákup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15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17"/>
          <p:cNvSpPr/>
          <p:nvPr/>
        </p:nvSpPr>
        <p:spPr>
          <a:xfrm>
            <a:off x="1039680" y="2519280"/>
            <a:ext cx="78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jimka: předfinancování výdajů v rámci kapitoly č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pro text 3"/>
          <p:cNvSpPr/>
          <p:nvPr/>
        </p:nvSpPr>
        <p:spPr>
          <a:xfrm>
            <a:off x="0" y="1779480"/>
            <a:ext cx="992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hled účetních dokladů ke všem přímým výdajům projektu nárokovaným v rámci dané M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 jsou řazeny dle čísla kapitoly v rozpoč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, které jsou rozepsány ve vlastních přílohách, jsou v Soupisce uvedeny souhrnně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3 Rozpis mzdových/platových výdajů realizačního tým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4 Rozpis cestovních náhrad- zahraničn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5 Odpi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20/1 Rozpis mzdových příspěvků pro škole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rcRect l="0" t="0" r="10517" b="0"/>
          <a:stretch/>
        </p:blipFill>
        <p:spPr>
          <a:xfrm>
            <a:off x="239760" y="1541520"/>
            <a:ext cx="9494640" cy="2238480"/>
          </a:xfrm>
          <a:prstGeom prst="rect">
            <a:avLst/>
          </a:prstGeom>
          <a:ln w="0">
            <a:noFill/>
          </a:ln>
        </p:spPr>
      </p:pic>
      <p:pic>
        <p:nvPicPr>
          <p:cNvPr id="177" name="Obrázek 4" descr="Soupiska.JPG"/>
          <p:cNvPicPr/>
          <p:nvPr/>
        </p:nvPicPr>
        <p:blipFill>
          <a:blip r:embed="rId2"/>
          <a:srcRect l="285" t="7222" r="4279" b="0"/>
          <a:stretch/>
        </p:blipFill>
        <p:spPr>
          <a:xfrm>
            <a:off x="247680" y="4076640"/>
            <a:ext cx="95932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8" name="Zaoblený obdélníkový popisek 5"/>
          <p:cNvGrpSpPr/>
          <p:nvPr/>
        </p:nvGrpSpPr>
        <p:grpSpPr>
          <a:xfrm>
            <a:off x="8143920" y="5218200"/>
            <a:ext cx="1822320" cy="1249200"/>
            <a:chOff x="8143920" y="5218200"/>
            <a:chExt cx="1822320" cy="1249200"/>
          </a:xfrm>
        </p:grpSpPr>
        <p:pic>
          <p:nvPicPr>
            <p:cNvPr id="179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8143920" y="5218200"/>
              <a:ext cx="18223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247240" y="5630760"/>
              <a:ext cx="16268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ožadována částka dotace v Ž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Zaoblený obdélníkový popisek 7"/>
          <p:cNvGrpSpPr/>
          <p:nvPr/>
        </p:nvGrpSpPr>
        <p:grpSpPr>
          <a:xfrm>
            <a:off x="3067200" y="3121200"/>
            <a:ext cx="1796760" cy="1573200"/>
            <a:chOff x="3067200" y="3121200"/>
            <a:chExt cx="1796760" cy="1573200"/>
          </a:xfrm>
        </p:grpSpPr>
        <p:pic>
          <p:nvPicPr>
            <p:cNvPr id="182" name="Zaoblený obdélníkový popisek 7" descr=""/>
            <p:cNvPicPr/>
            <p:nvPr/>
          </p:nvPicPr>
          <p:blipFill>
            <a:blip r:embed="rId4"/>
            <a:stretch/>
          </p:blipFill>
          <p:spPr>
            <a:xfrm>
              <a:off x="3067200" y="3121200"/>
              <a:ext cx="179676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181320" y="3209760"/>
              <a:ext cx="14954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% NN uvedené v právním a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Elipsa 13"/>
          <p:cNvSpPr/>
          <p:nvPr/>
        </p:nvSpPr>
        <p:spPr>
          <a:xfrm>
            <a:off x="7396200" y="4046400"/>
            <a:ext cx="533520" cy="22248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lipsa 14"/>
          <p:cNvSpPr/>
          <p:nvPr/>
        </p:nvSpPr>
        <p:spPr>
          <a:xfrm>
            <a:off x="7396200" y="45356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lipsa 15"/>
          <p:cNvSpPr/>
          <p:nvPr/>
        </p:nvSpPr>
        <p:spPr>
          <a:xfrm>
            <a:off x="7396200" y="484668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Zakřivená spojovací čára 17"/>
          <p:cNvCxnSpPr>
            <a:stCxn id="184" idx="6"/>
            <a:endCxn id="185" idx="6"/>
          </p:cNvCxnSpPr>
          <p:nvPr/>
        </p:nvCxnSpPr>
        <p:spPr>
          <a:xfrm>
            <a:off x="7929720" y="4157640"/>
            <a:ext cx="2160" cy="489600"/>
          </a:xfrm>
          <a:prstGeom prst="curvedConnector5">
            <a:avLst>
              <a:gd name="adj1" fmla="val 14380000"/>
              <a:gd name="adj2" fmla="val 49963"/>
              <a:gd name="adj3" fmla="val 14380000"/>
            </a:avLst>
          </a:prstGeom>
          <a:ln w="25560">
            <a:solidFill>
              <a:srgbClr val="f79646"/>
            </a:solidFill>
            <a:miter/>
          </a:ln>
        </p:spPr>
      </p:cxnSp>
      <p:cxnSp>
        <p:nvCxnSpPr>
          <p:cNvPr id="188" name="Zakřivená spojovací čára 19"/>
          <p:cNvCxnSpPr>
            <a:stCxn id="185" idx="6"/>
            <a:endCxn id="186" idx="6"/>
          </p:cNvCxnSpPr>
          <p:nvPr/>
        </p:nvCxnSpPr>
        <p:spPr>
          <a:xfrm>
            <a:off x="7929720" y="4646160"/>
            <a:ext cx="2160" cy="311760"/>
          </a:xfrm>
          <a:prstGeom prst="curvedConnector5">
            <a:avLst>
              <a:gd name="adj1" fmla="val 14380000"/>
              <a:gd name="adj2" fmla="val 49942"/>
              <a:gd name="adj3" fmla="val 14380000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grpSp>
        <p:nvGrpSpPr>
          <p:cNvPr id="189" name="Zaoblený obdélníkový popisek 20"/>
          <p:cNvGrpSpPr/>
          <p:nvPr/>
        </p:nvGrpSpPr>
        <p:grpSpPr>
          <a:xfrm>
            <a:off x="311040" y="5541840"/>
            <a:ext cx="2340000" cy="1425600"/>
            <a:chOff x="311040" y="5541840"/>
            <a:chExt cx="2340000" cy="1425600"/>
          </a:xfrm>
        </p:grpSpPr>
        <p:pic>
          <p:nvPicPr>
            <p:cNvPr id="190" name="Zaoblený obdélníkový popisek 20" descr=""/>
            <p:cNvPicPr/>
            <p:nvPr/>
          </p:nvPicPr>
          <p:blipFill>
            <a:blip r:embed="rId5"/>
            <a:stretch/>
          </p:blipFill>
          <p:spPr>
            <a:xfrm>
              <a:off x="311040" y="5541840"/>
              <a:ext cx="2340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36680" y="5665680"/>
              <a:ext cx="16063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ŽoP- vyúčtování vynaložených celkových způsobil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Zaoblený obdélníkový popisek 12"/>
          <p:cNvGrpSpPr/>
          <p:nvPr/>
        </p:nvGrpSpPr>
        <p:grpSpPr>
          <a:xfrm>
            <a:off x="7186680" y="5194440"/>
            <a:ext cx="2249280" cy="2253960"/>
            <a:chOff x="7186680" y="5194440"/>
            <a:chExt cx="2249280" cy="2253960"/>
          </a:xfrm>
        </p:grpSpPr>
        <p:pic>
          <p:nvPicPr>
            <p:cNvPr id="193" name="Zaoblený obdélníkový popisek 12" descr=""/>
            <p:cNvPicPr/>
            <p:nvPr/>
          </p:nvPicPr>
          <p:blipFill>
            <a:blip r:embed="rId6"/>
            <a:stretch/>
          </p:blipFill>
          <p:spPr>
            <a:xfrm>
              <a:off x="7186680" y="5194440"/>
              <a:ext cx="2249280" cy="22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284960" y="6615000"/>
              <a:ext cx="205416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Úroky na projektovém účtu příjemce/partn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Zástupný symbol pro text 3" descr=""/>
          <p:cNvPicPr/>
          <p:nvPr/>
        </p:nvPicPr>
        <p:blipFill>
          <a:blip r:embed="rId1"/>
          <a:stretch/>
        </p:blipFill>
        <p:spPr>
          <a:xfrm>
            <a:off x="219240" y="1530360"/>
            <a:ext cx="9942480" cy="5145120"/>
          </a:xfrm>
          <a:prstGeom prst="rect">
            <a:avLst/>
          </a:prstGeom>
          <a:ln w="0">
            <a:noFill/>
          </a:ln>
        </p:spPr>
      </p:pic>
      <p:sp>
        <p:nvSpPr>
          <p:cNvPr id="19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Přepracovaný rozpočet projekt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 ELMZ v aplikaci Benefit7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pracovaný rozpočet projekt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506520" y="1671480"/>
            <a:ext cx="9165960" cy="1575000"/>
          </a:xfrm>
          <a:prstGeom prst="rect">
            <a:avLst/>
          </a:prstGeom>
          <a:ln w="0">
            <a:noFill/>
          </a:ln>
        </p:spPr>
      </p:pic>
      <p:sp>
        <p:nvSpPr>
          <p:cNvPr id="202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text 3"/>
          <p:cNvSpPr/>
          <p:nvPr/>
        </p:nvSpPr>
        <p:spPr>
          <a:xfrm>
            <a:off x="-27000" y="342432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válený rozpočet - vychází Rozhodnutí o poskytnutí dotace či z relevantního Dodatku k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 - kumulativně od začátku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 - pouze změny v daném monitorovaném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ůležité: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i provádění změn v rozpočtu je nutné aby počet jednotek, jednotková cena, celkové náklady na položku byly uvedeny na max. 2 desetinná čísla, není možné uvést  např. 2499,9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Přímá spojovací šipka 8"/>
          <p:cNvCxnSpPr/>
          <p:nvPr/>
        </p:nvCxnSpPr>
        <p:spPr>
          <a:xfrm flipH="1">
            <a:off x="2506320" y="2268000"/>
            <a:ext cx="978480" cy="1289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205" name="Přímá spojovací šipka 12"/>
          <p:cNvCxnSpPr/>
          <p:nvPr/>
        </p:nvCxnSpPr>
        <p:spPr>
          <a:xfrm flipH="1">
            <a:off x="3195360" y="2357280"/>
            <a:ext cx="2645280" cy="1874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206" name="Přímá spojovací šipka 15"/>
          <p:cNvCxnSpPr/>
          <p:nvPr/>
        </p:nvCxnSpPr>
        <p:spPr>
          <a:xfrm flipH="1">
            <a:off x="3914280" y="2295360"/>
            <a:ext cx="4828320" cy="24314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Nadpis 2"/>
          <p:cNvSpPr/>
          <p:nvPr/>
        </p:nvSpPr>
        <p:spPr>
          <a:xfrm>
            <a:off x="900000" y="990720"/>
            <a:ext cx="86947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klad nepodstatné změny roz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Zaoblený obdélníkový popisek 13"/>
          <p:cNvGrpSpPr/>
          <p:nvPr/>
        </p:nvGrpSpPr>
        <p:grpSpPr>
          <a:xfrm>
            <a:off x="208080" y="5200560"/>
            <a:ext cx="5716440" cy="1670040"/>
            <a:chOff x="208080" y="5200560"/>
            <a:chExt cx="5716440" cy="1670040"/>
          </a:xfrm>
        </p:grpSpPr>
        <p:pic>
          <p:nvPicPr>
            <p:cNvPr id="209" name="Zaoblený obdélníkový popisek 13" descr=""/>
            <p:cNvPicPr/>
            <p:nvPr/>
          </p:nvPicPr>
          <p:blipFill>
            <a:blip r:embed="rId1"/>
            <a:stretch/>
          </p:blipFill>
          <p:spPr>
            <a:xfrm>
              <a:off x="208080" y="5200560"/>
              <a:ext cx="57164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28680" y="5640480"/>
              <a:ext cx="226692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Aktuální výše položek po provedení nepodst. změn v rozpočtu kumulativně od začátku proje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Zaoblený obdélníkový popisek 14"/>
          <p:cNvGrpSpPr/>
          <p:nvPr/>
        </p:nvGrpSpPr>
        <p:grpSpPr>
          <a:xfrm>
            <a:off x="7553160" y="5205240"/>
            <a:ext cx="2462400" cy="2249640"/>
            <a:chOff x="7553160" y="5205240"/>
            <a:chExt cx="2462400" cy="2249640"/>
          </a:xfrm>
        </p:grpSpPr>
        <p:pic>
          <p:nvPicPr>
            <p:cNvPr id="212" name="Zaoblený obdélníkový popisek 14" descr=""/>
            <p:cNvPicPr/>
            <p:nvPr/>
          </p:nvPicPr>
          <p:blipFill>
            <a:blip r:embed="rId2"/>
            <a:stretch/>
          </p:blipFill>
          <p:spPr>
            <a:xfrm>
              <a:off x="7553160" y="5205240"/>
              <a:ext cx="246240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62960" y="6416640"/>
              <a:ext cx="2246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Nepodstatné změny rozpočtu provedené v daném monitorovacím obdob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Picture 10" descr=""/>
          <p:cNvPicPr/>
          <p:nvPr/>
        </p:nvPicPr>
        <p:blipFill>
          <a:blip r:embed="rId3"/>
          <a:stretch/>
        </p:blipFill>
        <p:spPr>
          <a:xfrm>
            <a:off x="406440" y="2341440"/>
            <a:ext cx="9448920" cy="28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2048040" y="1968480"/>
            <a:ext cx="779616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70000" y="1665360"/>
            <a:ext cx="9585360" cy="4619520"/>
          </a:xfrm>
          <a:prstGeom prst="rect">
            <a:avLst/>
          </a:prstGeom>
          <a:ln w="0">
            <a:noFill/>
          </a:ln>
        </p:spPr>
      </p:pic>
      <p:sp>
        <p:nvSpPr>
          <p:cNvPr id="217" name="Nadpis 2"/>
          <p:cNvSpPr/>
          <p:nvPr/>
        </p:nvSpPr>
        <p:spPr>
          <a:xfrm>
            <a:off x="225360" y="855720"/>
            <a:ext cx="6885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klad podstatné změny roz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Zaoblený obdélníkový popisek 4"/>
          <p:cNvGrpSpPr/>
          <p:nvPr/>
        </p:nvGrpSpPr>
        <p:grpSpPr>
          <a:xfrm>
            <a:off x="7095960" y="304920"/>
            <a:ext cx="2816280" cy="2609640"/>
            <a:chOff x="7095960" y="304920"/>
            <a:chExt cx="2816280" cy="2609640"/>
          </a:xfrm>
        </p:grpSpPr>
        <p:pic>
          <p:nvPicPr>
            <p:cNvPr id="219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7095960" y="304920"/>
              <a:ext cx="2816280" cy="26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219800" y="423720"/>
              <a:ext cx="25718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řesun přesahující 15 % objemu způsobilých výdajů  kapitoly dle platného rozpočtu, ze které jsou prostředky přesouvá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541440" y="1743120"/>
            <a:ext cx="9165960" cy="1574640"/>
          </a:xfrm>
          <a:prstGeom prst="rect">
            <a:avLst/>
          </a:prstGeom>
          <a:ln w="0">
            <a:noFill/>
          </a:ln>
        </p:spPr>
      </p:pic>
      <p:sp>
        <p:nvSpPr>
          <p:cNvPr id="223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423720" y="3875040"/>
            <a:ext cx="9274320" cy="17715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6"/>
          <p:cNvSpPr/>
          <p:nvPr/>
        </p:nvSpPr>
        <p:spPr>
          <a:xfrm rot="20862600">
            <a:off x="290520" y="1506600"/>
            <a:ext cx="35892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pracovaný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ovací šipka 10"/>
          <p:cNvCxnSpPr/>
          <p:nvPr/>
        </p:nvCxnSpPr>
        <p:spPr>
          <a:xfrm flipH="1">
            <a:off x="3563280" y="2409840"/>
            <a:ext cx="2445480" cy="1867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227" name="Obdélník 12"/>
          <p:cNvSpPr/>
          <p:nvPr/>
        </p:nvSpPr>
        <p:spPr>
          <a:xfrm rot="20862600">
            <a:off x="274680" y="3825720"/>
            <a:ext cx="35892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hled čerpání způsobilých výd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05000" y="2655360"/>
            <a:ext cx="7796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Přehled čerpání způsobilých výdaj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Nadpis 2"/>
          <p:cNvSpPr/>
          <p:nvPr/>
        </p:nvSpPr>
        <p:spPr>
          <a:xfrm>
            <a:off x="722160" y="103968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417600" y="2097000"/>
            <a:ext cx="9273960" cy="1771560"/>
          </a:xfrm>
          <a:prstGeom prst="rect">
            <a:avLst/>
          </a:prstGeom>
          <a:ln w="0">
            <a:noFill/>
          </a:ln>
        </p:spPr>
      </p:pic>
      <p:sp>
        <p:nvSpPr>
          <p:cNvPr id="232" name="Zástupný symbol pro text 3"/>
          <p:cNvSpPr/>
          <p:nvPr/>
        </p:nvSpPr>
        <p:spPr>
          <a:xfrm>
            <a:off x="-2700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ložky rozpočtu musí korespondovat s rozpočtem, který je přílohou Rozhodnutí o poskytnutí dotace, resp. aktuálního dodatku, a následně musí obsahovat položky, které byly vytvořeny na základě schválených nepodstatných změn rozpočtu a jsou zaznamenávány na příloze Přepracovaný rozpočet projektu od začátku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Zástupný symbol pro text 3" descr=""/>
          <p:cNvPicPr/>
          <p:nvPr/>
        </p:nvPicPr>
        <p:blipFill>
          <a:blip r:embed="rId1"/>
          <a:stretch/>
        </p:blipFill>
        <p:spPr>
          <a:xfrm>
            <a:off x="262080" y="1438200"/>
            <a:ext cx="9667800" cy="4816440"/>
          </a:xfrm>
          <a:prstGeom prst="rect">
            <a:avLst/>
          </a:prstGeom>
          <a:ln w="0">
            <a:noFill/>
          </a:ln>
        </p:spPr>
      </p:pic>
      <p:sp>
        <p:nvSpPr>
          <p:cNvPr id="23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okladování mzdových výdajů 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584280" y="1709640"/>
            <a:ext cx="8962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38" name="Zaoblený obdélníkový popisek 5"/>
          <p:cNvGrpSpPr/>
          <p:nvPr/>
        </p:nvGrpSpPr>
        <p:grpSpPr>
          <a:xfrm>
            <a:off x="255600" y="4316400"/>
            <a:ext cx="4297320" cy="1968480"/>
            <a:chOff x="255600" y="4316400"/>
            <a:chExt cx="4297320" cy="1968480"/>
          </a:xfrm>
        </p:grpSpPr>
        <p:pic>
          <p:nvPicPr>
            <p:cNvPr id="239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255600" y="4316400"/>
              <a:ext cx="42973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71520" y="5097600"/>
              <a:ext cx="3981240" cy="10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říjemce vyplní veškeré relevantní kolonky – základní informace o projektu, identifikaci pracovníka a jeho zapojení pro projekt a do dalších činností pro příjemce/partn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Elipsa 7"/>
          <p:cNvSpPr/>
          <p:nvPr/>
        </p:nvSpPr>
        <p:spPr>
          <a:xfrm>
            <a:off x="4726080" y="1890720"/>
            <a:ext cx="1935000" cy="674640"/>
          </a:xfrm>
          <a:prstGeom prst="ellipse">
            <a:avLst/>
          </a:prstGeom>
          <a:noFill/>
          <a:ln w="25560">
            <a:solidFill>
              <a:srgbClr val="f39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lipsa 8"/>
          <p:cNvSpPr/>
          <p:nvPr/>
        </p:nvSpPr>
        <p:spPr>
          <a:xfrm>
            <a:off x="7515360" y="2744640"/>
            <a:ext cx="1935000" cy="676440"/>
          </a:xfrm>
          <a:prstGeom prst="ellipse">
            <a:avLst/>
          </a:prstGeom>
          <a:noFill/>
          <a:ln w="25560">
            <a:solidFill>
              <a:srgbClr val="f39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lipsa 9"/>
          <p:cNvSpPr/>
          <p:nvPr/>
        </p:nvSpPr>
        <p:spPr>
          <a:xfrm>
            <a:off x="2519280" y="2610000"/>
            <a:ext cx="1935360" cy="676080"/>
          </a:xfrm>
          <a:prstGeom prst="ellipse">
            <a:avLst/>
          </a:prstGeom>
          <a:noFill/>
          <a:ln w="25560">
            <a:solidFill>
              <a:srgbClr val="f39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77840" y="2046240"/>
            <a:ext cx="9485280" cy="3159000"/>
          </a:xfrm>
          <a:prstGeom prst="rect">
            <a:avLst/>
          </a:prstGeom>
          <a:ln w="0">
            <a:noFill/>
          </a:ln>
        </p:spPr>
      </p:pic>
      <p:sp>
        <p:nvSpPr>
          <p:cNvPr id="246" name="Elipsa 5"/>
          <p:cNvSpPr/>
          <p:nvPr/>
        </p:nvSpPr>
        <p:spPr>
          <a:xfrm>
            <a:off x="312912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lipsa 6"/>
          <p:cNvSpPr/>
          <p:nvPr/>
        </p:nvSpPr>
        <p:spPr>
          <a:xfrm>
            <a:off x="637380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lipsa 7"/>
          <p:cNvSpPr/>
          <p:nvPr/>
        </p:nvSpPr>
        <p:spPr>
          <a:xfrm>
            <a:off x="6951600" y="46688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Zakřivená spojovací čára 9"/>
          <p:cNvCxnSpPr>
            <a:stCxn id="247" idx="6"/>
            <a:endCxn id="248" idx="6"/>
          </p:cNvCxnSpPr>
          <p:nvPr/>
        </p:nvCxnSpPr>
        <p:spPr>
          <a:xfrm>
            <a:off x="7262640" y="4290480"/>
            <a:ext cx="223200" cy="489600"/>
          </a:xfrm>
          <a:prstGeom prst="curvedConnector5">
            <a:avLst>
              <a:gd name="adj1" fmla="val 202746"/>
              <a:gd name="adj2" fmla="val 49963"/>
              <a:gd name="adj3" fmla="val 202746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cxnSp>
        <p:nvCxnSpPr>
          <p:cNvPr id="250" name="Přímá spojovací šipka 16"/>
          <p:cNvCxnSpPr>
            <a:stCxn id="246" idx="6"/>
            <a:endCxn id="247" idx="2"/>
          </p:cNvCxnSpPr>
          <p:nvPr/>
        </p:nvCxnSpPr>
        <p:spPr>
          <a:xfrm>
            <a:off x="4017960" y="4290480"/>
            <a:ext cx="2356560" cy="39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  <p:grpSp>
        <p:nvGrpSpPr>
          <p:cNvPr id="251" name="Zaoblený obdélníkový popisek 20"/>
          <p:cNvGrpSpPr/>
          <p:nvPr/>
        </p:nvGrpSpPr>
        <p:grpSpPr>
          <a:xfrm>
            <a:off x="5072040" y="4968720"/>
            <a:ext cx="4425840" cy="1425600"/>
            <a:chOff x="5072040" y="4968720"/>
            <a:chExt cx="4425840" cy="1425600"/>
          </a:xfrm>
        </p:grpSpPr>
        <p:pic>
          <p:nvPicPr>
            <p:cNvPr id="252" name="Zaoblený obdélníkový popisek 20" descr=""/>
            <p:cNvPicPr/>
            <p:nvPr/>
          </p:nvPicPr>
          <p:blipFill>
            <a:blip r:embed="rId2"/>
            <a:stretch/>
          </p:blipFill>
          <p:spPr>
            <a:xfrm>
              <a:off x="5072040" y="4968720"/>
              <a:ext cx="44258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186520" y="5232240"/>
              <a:ext cx="41655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očet hodin proplacených pro projekt v daném  měsíci se musí shodovat s počtem hodin na Rozpisu mzdov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Elipsa 10"/>
          <p:cNvSpPr/>
          <p:nvPr/>
        </p:nvSpPr>
        <p:spPr>
          <a:xfrm>
            <a:off x="5707080" y="275760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ovací šipka 12"/>
          <p:cNvCxnSpPr>
            <a:stCxn id="246" idx="7"/>
            <a:endCxn id="254" idx="3"/>
          </p:cNvCxnSpPr>
          <p:nvPr/>
        </p:nvCxnSpPr>
        <p:spPr>
          <a:xfrm flipV="1">
            <a:off x="3887640" y="3098160"/>
            <a:ext cx="1950480" cy="10515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– Rozpočet projek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14280" y="1620720"/>
            <a:ext cx="6634080" cy="4538880"/>
          </a:xfrm>
          <a:prstGeom prst="rect">
            <a:avLst/>
          </a:prstGeom>
          <a:ln w="0">
            <a:noFill/>
          </a:ln>
        </p:spPr>
      </p:pic>
      <p:grpSp>
        <p:nvGrpSpPr>
          <p:cNvPr id="91" name="Zaoblený obdélníkový popisek 5"/>
          <p:cNvGrpSpPr/>
          <p:nvPr/>
        </p:nvGrpSpPr>
        <p:grpSpPr>
          <a:xfrm>
            <a:off x="6467400" y="1719360"/>
            <a:ext cx="3475080" cy="3747960"/>
            <a:chOff x="6467400" y="1719360"/>
            <a:chExt cx="3475080" cy="3747960"/>
          </a:xfrm>
        </p:grpSpPr>
        <p:pic>
          <p:nvPicPr>
            <p:cNvPr id="92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6467400" y="1719360"/>
              <a:ext cx="34750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245360" y="1890720"/>
              <a:ext cx="2505240" cy="29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Rozpočet projektu má pouze informativní charakter. Jakmile příjemce zadá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Načíst náklady z Monit7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, doplní se rozpočet podle poslední platné verze rozpočtu, který je přílohou  Rozhodnutí nebo dodatku k Rozhodnut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Zástupný symbol pro text 3" descr=""/>
          <p:cNvPicPr/>
          <p:nvPr/>
        </p:nvPicPr>
        <p:blipFill>
          <a:blip r:embed="rId1"/>
          <a:stretch/>
        </p:blipFill>
        <p:spPr>
          <a:xfrm>
            <a:off x="171360" y="1352520"/>
            <a:ext cx="9753840" cy="5067360"/>
          </a:xfrm>
          <a:prstGeom prst="rect">
            <a:avLst/>
          </a:prstGeom>
          <a:ln w="0">
            <a:noFill/>
          </a:ln>
        </p:spPr>
      </p:pic>
      <p:sp>
        <p:nvSpPr>
          <p:cNvPr id="257" name="Nadpis 2"/>
          <p:cNvSpPr/>
          <p:nvPr/>
        </p:nvSpPr>
        <p:spPr>
          <a:xfrm>
            <a:off x="684360" y="8557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okladování mzdových výdajů 2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Rozpis mzdových/platových výda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Obrázek 6" descr="rozpis mezd_1.JPG"/>
          <p:cNvPicPr/>
          <p:nvPr/>
        </p:nvPicPr>
        <p:blipFill>
          <a:blip r:embed="rId1"/>
          <a:stretch/>
        </p:blipFill>
        <p:spPr>
          <a:xfrm>
            <a:off x="284040" y="2046240"/>
            <a:ext cx="9352080" cy="1225440"/>
          </a:xfrm>
          <a:prstGeom prst="rect">
            <a:avLst/>
          </a:prstGeom>
          <a:ln w="0">
            <a:noFill/>
          </a:ln>
        </p:spPr>
      </p:pic>
      <p:pic>
        <p:nvPicPr>
          <p:cNvPr id="260" name="Obrázek 6" descr="rozpis mezd_2.JPG"/>
          <p:cNvPicPr/>
          <p:nvPr/>
        </p:nvPicPr>
        <p:blipFill>
          <a:blip r:embed="rId2"/>
          <a:stretch/>
        </p:blipFill>
        <p:spPr>
          <a:xfrm>
            <a:off x="284040" y="3246480"/>
            <a:ext cx="7629480" cy="1422360"/>
          </a:xfrm>
          <a:prstGeom prst="rect">
            <a:avLst/>
          </a:prstGeom>
          <a:ln w="0">
            <a:noFill/>
          </a:ln>
        </p:spPr>
      </p:pic>
      <p:pic>
        <p:nvPicPr>
          <p:cNvPr id="261" name="Obrázek 8" descr="rozpis mezd_3.JPG"/>
          <p:cNvPicPr/>
          <p:nvPr/>
        </p:nvPicPr>
        <p:blipFill>
          <a:blip r:embed="rId3"/>
          <a:stretch/>
        </p:blipFill>
        <p:spPr>
          <a:xfrm>
            <a:off x="2587680" y="4713120"/>
            <a:ext cx="7075440" cy="1422720"/>
          </a:xfrm>
          <a:prstGeom prst="rect">
            <a:avLst/>
          </a:prstGeom>
          <a:ln w="0">
            <a:noFill/>
          </a:ln>
        </p:spPr>
      </p:pic>
      <p:grpSp>
        <p:nvGrpSpPr>
          <p:cNvPr id="262" name="Zaoblený obdélníkový popisek 5"/>
          <p:cNvGrpSpPr/>
          <p:nvPr/>
        </p:nvGrpSpPr>
        <p:grpSpPr>
          <a:xfrm>
            <a:off x="208080" y="2730600"/>
            <a:ext cx="2541600" cy="4633920"/>
            <a:chOff x="208080" y="2730600"/>
            <a:chExt cx="2541600" cy="4633920"/>
          </a:xfrm>
        </p:grpSpPr>
        <p:pic>
          <p:nvPicPr>
            <p:cNvPr id="263" name="Zaoblený obdélníkový popisek 5" descr=""/>
            <p:cNvPicPr/>
            <p:nvPr/>
          </p:nvPicPr>
          <p:blipFill>
            <a:blip r:embed="rId4"/>
            <a:stretch/>
          </p:blipFill>
          <p:spPr>
            <a:xfrm>
              <a:off x="208080" y="2730600"/>
              <a:ext cx="2541600" cy="46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79440" y="4791240"/>
              <a:ext cx="203040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říjemce vyplní veškeré relevantní kolonky – základní informace o projektu, identifikaci pracovníka a údaje  o složkách mzdy korespondující s dodanými mzdovými podklad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305000" y="2655360"/>
            <a:ext cx="7796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Obrázek 5" descr="cestovní.bmp"/>
          <p:cNvPicPr/>
          <p:nvPr/>
        </p:nvPicPr>
        <p:blipFill>
          <a:blip r:embed="rId1"/>
          <a:srcRect l="65" t="0" r="0" b="0"/>
          <a:stretch/>
        </p:blipFill>
        <p:spPr>
          <a:xfrm>
            <a:off x="179280" y="5040360"/>
            <a:ext cx="9612360" cy="1357200"/>
          </a:xfrm>
          <a:prstGeom prst="rect">
            <a:avLst/>
          </a:prstGeom>
          <a:ln w="0">
            <a:noFill/>
          </a:ln>
        </p:spPr>
      </p:pic>
      <p:sp>
        <p:nvSpPr>
          <p:cNvPr id="268" name="Zástupný symbol pro text 3"/>
          <p:cNvSpPr/>
          <p:nvPr/>
        </p:nvSpPr>
        <p:spPr>
          <a:xfrm>
            <a:off x="495360" y="1665360"/>
            <a:ext cx="91123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ŮLEŽITÉ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etodický dopis č. 19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– upravuje čerpání finančních prostředků z   kapitoly č. 2 Služební cesty zahraničn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msmt.cz/strukturalni-fondy/metodicky-dopis-c-19-upresneni-nekterych-podminek-realiz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ŮLEŽITÉ: Metodický dopis č. 1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– Podrobný výklad nezpůsobilosti kurzových rozdí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msmt.cz/strukturalni-fondy/metodickeho-dopisu-c-15-podrobny-vyklad-nezpusobil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Zástupný symbol pro text 3"/>
          <p:cNvSpPr/>
          <p:nvPr/>
        </p:nvSpPr>
        <p:spPr>
          <a:xfrm>
            <a:off x="495360" y="157464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doložit následující pod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ráva ze služební cesty zahrani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yplněný cestovní přík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yplněné vyúčtování pracovní ce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iz problematika cestovních náhrad – str.  39 -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náhrady tuzemské jsou součástí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ástupný symbol pro text 3"/>
          <p:cNvSpPr/>
          <p:nvPr/>
        </p:nvSpPr>
        <p:spPr>
          <a:xfrm>
            <a:off x="495360" y="162072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edná se o náhrady, které kryjí náklady na ubytování, stravné a cestovné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hraniční expert nesmí mít s příjemcem uzavřen pracovně-právní vzt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doložit následující podklady (PpP 5 str. 42-43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mlouva uzavřená se zahraničním expertem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čestné prohlášení expert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de bude uvedena identifikace akce, termín konání, prohlášení, že totožné náklady na tuto akci nebyly hrazeny expertovi jiným subjektem a specifikován bankovní účet, na který mají být prostředky vyplaceny (příp. VPD při vyplacení odměny v hotovos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nelze stanovit dobu pobytu experta na celé dny,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ohledňuje se doba zaokrouhlená na celé hodiny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. Per diems mohou být vypláceny v jakékoli měně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Nadpis 2"/>
          <p:cNvSpPr/>
          <p:nvPr/>
        </p:nvSpPr>
        <p:spPr>
          <a:xfrm>
            <a:off x="225360" y="846000"/>
            <a:ext cx="98553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Calibri"/>
              </a:rPr>
              <a:t>Cestovní náhrady pro zahraniční experty – „Per diems“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Zástupný symbol pro text 3"/>
          <p:cNvSpPr/>
          <p:nvPr/>
        </p:nvSpPr>
        <p:spPr>
          <a:xfrm>
            <a:off x="0" y="1574640"/>
            <a:ext cx="991224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395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aňové odpisy vlastního dlouhodobého hmotného nebo nehmotného majetku jsou způsobilými za splnění těchto podmín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nákupu dotčeného majetku nebyly využity veřejné prostřed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sou uplatňovány v alikvotní výši s ohledem na míru využití daného majetku v rámci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jsou uplatňovány pouze po dob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 možné doložit je účetním dokladem dokládajícím pořizovací cenu majet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jetek je odpisován dle odpisového plánu příjem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še ročních odpisů je stanovena jednou z metod daňového odpisu pro účely daně z příjmu pro jednotlivé druhy majetku a jsou způsobilé pouze po dobu, kdy je majetek využíván pro účel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si vybere formu odpisování, kterou bude používat po celou dob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rázek 4" descr=""/>
          <p:cNvPicPr/>
          <p:nvPr/>
        </p:nvPicPr>
        <p:blipFill>
          <a:blip r:embed="rId1"/>
          <a:srcRect l="1314" t="24203" r="24622" b="35832"/>
          <a:stretch/>
        </p:blipFill>
        <p:spPr>
          <a:xfrm>
            <a:off x="314280" y="1844640"/>
            <a:ext cx="9541080" cy="37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- Přehled finan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60360" y="1574640"/>
            <a:ext cx="6840720" cy="4681800"/>
          </a:xfrm>
          <a:prstGeom prst="rect">
            <a:avLst/>
          </a:prstGeom>
          <a:ln w="0">
            <a:noFill/>
          </a:ln>
        </p:spPr>
      </p:pic>
      <p:grpSp>
        <p:nvGrpSpPr>
          <p:cNvPr id="96" name="Zaoblený obdélníkový popisek 5"/>
          <p:cNvGrpSpPr/>
          <p:nvPr/>
        </p:nvGrpSpPr>
        <p:grpSpPr>
          <a:xfrm>
            <a:off x="5357880" y="2597040"/>
            <a:ext cx="4584600" cy="2425680"/>
            <a:chOff x="5357880" y="2597040"/>
            <a:chExt cx="4584600" cy="2425680"/>
          </a:xfrm>
        </p:grpSpPr>
        <p:pic>
          <p:nvPicPr>
            <p:cNvPr id="97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5357880" y="2597040"/>
              <a:ext cx="458460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223040" y="2766960"/>
              <a:ext cx="254952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Na tuto záložku se dotáhnou data z platného rozpočtu dle poslední smlouvy, resp. Dodatku – příjemce pouze provede rozpad financí přes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Rozpad financí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ástupný symbol pro text 3"/>
          <p:cNvSpPr/>
          <p:nvPr/>
        </p:nvSpPr>
        <p:spPr>
          <a:xfrm>
            <a:off x="314280" y="1890720"/>
            <a:ext cx="95742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322200" indent="-2347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sou poskytovány zaměstnavateli cílové skupiny jako náhrada části mzdových nákladů na pracovníka po dobu jeho účasti na dalším vzděláván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se týkat jen pracovníků specifikovaných v PpP 5 str. 5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být poskytovány až do výše 100 % skutečně  vyplacených mzdových nákladů, nejvýše však do výše trojnásobku částky minimální mzdy platné v době konání školen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za dobu, kdy se školené osoby skutečně účastnily vzdělávání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mlouva o vzdělávání  - PpP 5 viz str. 5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17600" y="1646280"/>
          <a:ext cx="7467480" cy="1401840"/>
        </p:xfrm>
        <a:graphic>
          <a:graphicData uri="http://schemas.openxmlformats.org/drawingml/2006/table">
            <a:tbl>
              <a:tblPr/>
              <a:tblGrid>
                <a:gridCol w="844560"/>
                <a:gridCol w="1778040"/>
                <a:gridCol w="1363680"/>
                <a:gridCol w="1027080"/>
                <a:gridCol w="1027080"/>
                <a:gridCol w="1427040"/>
              </a:tblGrid>
              <a:tr h="825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aměstnanc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c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ení dle kó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hodin 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ční fond pracovní doby v hodin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084320" y="3157560"/>
          <a:ext cx="7208640" cy="1733400"/>
        </p:xfrm>
        <a:graphic>
          <a:graphicData uri="http://schemas.openxmlformats.org/drawingml/2006/table">
            <a:tbl>
              <a:tblPr/>
              <a:tblGrid>
                <a:gridCol w="1527120"/>
                <a:gridCol w="1006560"/>
                <a:gridCol w="836640"/>
                <a:gridCol w="920520"/>
                <a:gridCol w="922320"/>
                <a:gridCol w="922320"/>
                <a:gridCol w="1073160"/>
              </a:tblGrid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účtovaná hrubá mzda 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é na sociální a zdravotní poji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odv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inový mzdový nákla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minimální mzdy za h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mínka uznatel-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ti v K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natelný mzdový náklad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284" name="Zástupný symbol pro text 3"/>
          <p:cNvSpPr/>
          <p:nvPr/>
        </p:nvSpPr>
        <p:spPr>
          <a:xfrm>
            <a:off x="-71280" y="5113440"/>
            <a:ext cx="9912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 29.9.2010-1.10.2010, každý den 5 ho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rubá mzda 18 000 Kč/měsí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Říjen - čerpaná dovolená 1 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Zaoblený obdélníkový popisek 10"/>
          <p:cNvGrpSpPr/>
          <p:nvPr/>
        </p:nvGrpSpPr>
        <p:grpSpPr>
          <a:xfrm>
            <a:off x="8352000" y="3017880"/>
            <a:ext cx="1596960" cy="1468440"/>
            <a:chOff x="8352000" y="3017880"/>
            <a:chExt cx="1596960" cy="1468440"/>
          </a:xfrm>
        </p:grpSpPr>
        <p:pic>
          <p:nvPicPr>
            <p:cNvPr id="286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8352000" y="3017880"/>
              <a:ext cx="159696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8553600" y="3114720"/>
              <a:ext cx="128556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100 % skutečných ná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Zaoblený obdélníkový popisek 11"/>
          <p:cNvGrpSpPr/>
          <p:nvPr/>
        </p:nvGrpSpPr>
        <p:grpSpPr>
          <a:xfrm>
            <a:off x="8253360" y="4675320"/>
            <a:ext cx="1689120" cy="1670040"/>
            <a:chOff x="8253360" y="4675320"/>
            <a:chExt cx="1689120" cy="1670040"/>
          </a:xfrm>
        </p:grpSpPr>
        <p:pic>
          <p:nvPicPr>
            <p:cNvPr id="289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8253360" y="4675320"/>
              <a:ext cx="1689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8361360" y="5297400"/>
              <a:ext cx="1474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Trojnásobek minimální mz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1" name=""/>
          <p:cNvGraphicFramePr/>
          <p:nvPr/>
        </p:nvGraphicFramePr>
        <p:xfrm>
          <a:off x="7218360" y="4890960"/>
          <a:ext cx="1073160" cy="371520"/>
        </p:xfrm>
        <a:graphic>
          <a:graphicData uri="http://schemas.openxmlformats.org/drawingml/2006/table">
            <a:tbl>
              <a:tblPr/>
              <a:tblGrid>
                <a:gridCol w="10731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Obdélník 18"/>
          <p:cNvGrpSpPr/>
          <p:nvPr/>
        </p:nvGrpSpPr>
        <p:grpSpPr>
          <a:xfrm>
            <a:off x="6066000" y="4187880"/>
            <a:ext cx="1846080" cy="1311120"/>
            <a:chOff x="6066000" y="4187880"/>
            <a:chExt cx="1846080" cy="1311120"/>
          </a:xfrm>
        </p:grpSpPr>
        <p:pic>
          <p:nvPicPr>
            <p:cNvPr id="293" name="Obdélník 18" descr=""/>
            <p:cNvPicPr/>
            <p:nvPr/>
          </p:nvPicPr>
          <p:blipFill>
            <a:blip r:embed="rId1"/>
            <a:stretch/>
          </p:blipFill>
          <p:spPr>
            <a:xfrm>
              <a:off x="6066000" y="4187880"/>
              <a:ext cx="1846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126120" y="4226040"/>
              <a:ext cx="1733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příspěvk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ázanost příloh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Obdélník 4"/>
          <p:cNvGrpSpPr/>
          <p:nvPr/>
        </p:nvGrpSpPr>
        <p:grpSpPr>
          <a:xfrm>
            <a:off x="3024360" y="2724120"/>
            <a:ext cx="1846080" cy="1397160"/>
            <a:chOff x="3024360" y="2724120"/>
            <a:chExt cx="1846080" cy="1397160"/>
          </a:xfrm>
        </p:grpSpPr>
        <p:pic>
          <p:nvPicPr>
            <p:cNvPr id="297" name="Obdélník 4" descr=""/>
            <p:cNvPicPr/>
            <p:nvPr/>
          </p:nvPicPr>
          <p:blipFill>
            <a:blip r:embed="rId2"/>
            <a:stretch/>
          </p:blipFill>
          <p:spPr>
            <a:xfrm>
              <a:off x="3024360" y="2724120"/>
              <a:ext cx="184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3083040" y="2759040"/>
              <a:ext cx="173520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oupiska účetních do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Obdélník 7"/>
          <p:cNvGrpSpPr/>
          <p:nvPr/>
        </p:nvGrpSpPr>
        <p:grpSpPr>
          <a:xfrm>
            <a:off x="536400" y="1878120"/>
            <a:ext cx="1401840" cy="1798560"/>
            <a:chOff x="536400" y="1878120"/>
            <a:chExt cx="1401840" cy="1798560"/>
          </a:xfrm>
        </p:grpSpPr>
        <p:pic>
          <p:nvPicPr>
            <p:cNvPr id="300" name="Obdélník 7" descr=""/>
            <p:cNvPicPr/>
            <p:nvPr/>
          </p:nvPicPr>
          <p:blipFill>
            <a:blip r:embed="rId3"/>
            <a:stretch/>
          </p:blipFill>
          <p:spPr>
            <a:xfrm>
              <a:off x="536400" y="187812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95440" y="1913040"/>
              <a:ext cx="128880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Obdélník 8"/>
          <p:cNvGrpSpPr/>
          <p:nvPr/>
        </p:nvGrpSpPr>
        <p:grpSpPr>
          <a:xfrm>
            <a:off x="669960" y="2054160"/>
            <a:ext cx="1403280" cy="1798560"/>
            <a:chOff x="669960" y="2054160"/>
            <a:chExt cx="1403280" cy="1798560"/>
          </a:xfrm>
        </p:grpSpPr>
        <p:pic>
          <p:nvPicPr>
            <p:cNvPr id="303" name="Obdélník 8" descr=""/>
            <p:cNvPicPr/>
            <p:nvPr/>
          </p:nvPicPr>
          <p:blipFill>
            <a:blip r:embed="rId4"/>
            <a:stretch/>
          </p:blipFill>
          <p:spPr>
            <a:xfrm>
              <a:off x="669960" y="205416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28640" y="2090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Obdélník 9"/>
          <p:cNvGrpSpPr/>
          <p:nvPr/>
        </p:nvGrpSpPr>
        <p:grpSpPr>
          <a:xfrm>
            <a:off x="822240" y="2206800"/>
            <a:ext cx="1403280" cy="1798560"/>
            <a:chOff x="822240" y="2206800"/>
            <a:chExt cx="1403280" cy="1798560"/>
          </a:xfrm>
        </p:grpSpPr>
        <p:pic>
          <p:nvPicPr>
            <p:cNvPr id="306" name="Obdélník 9" descr=""/>
            <p:cNvPicPr/>
            <p:nvPr/>
          </p:nvPicPr>
          <p:blipFill>
            <a:blip r:embed="rId5"/>
            <a:stretch/>
          </p:blipFill>
          <p:spPr>
            <a:xfrm>
              <a:off x="822240" y="220680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80920" y="224316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bdélník 13"/>
          <p:cNvGrpSpPr/>
          <p:nvPr/>
        </p:nvGrpSpPr>
        <p:grpSpPr>
          <a:xfrm>
            <a:off x="847800" y="5035680"/>
            <a:ext cx="1401840" cy="1798560"/>
            <a:chOff x="847800" y="5035680"/>
            <a:chExt cx="1401840" cy="1798560"/>
          </a:xfrm>
        </p:grpSpPr>
        <p:pic>
          <p:nvPicPr>
            <p:cNvPr id="309" name="Obdélník 13" descr=""/>
            <p:cNvPicPr/>
            <p:nvPr/>
          </p:nvPicPr>
          <p:blipFill>
            <a:blip r:embed="rId6"/>
            <a:stretch/>
          </p:blipFill>
          <p:spPr>
            <a:xfrm>
              <a:off x="847800" y="503568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906480" y="506880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vozní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bdélník 12"/>
          <p:cNvGrpSpPr/>
          <p:nvPr/>
        </p:nvGrpSpPr>
        <p:grpSpPr>
          <a:xfrm>
            <a:off x="2000160" y="4541760"/>
            <a:ext cx="1425600" cy="1803600"/>
            <a:chOff x="2000160" y="4541760"/>
            <a:chExt cx="1425600" cy="1803600"/>
          </a:xfrm>
        </p:grpSpPr>
        <p:pic>
          <p:nvPicPr>
            <p:cNvPr id="312" name="Obdélník 12" descr=""/>
            <p:cNvPicPr/>
            <p:nvPr/>
          </p:nvPicPr>
          <p:blipFill>
            <a:blip r:embed="rId7"/>
            <a:stretch/>
          </p:blipFill>
          <p:spPr>
            <a:xfrm>
              <a:off x="2000160" y="4541760"/>
              <a:ext cx="14256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2062080" y="457992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jektový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Obdélník 15"/>
          <p:cNvGrpSpPr/>
          <p:nvPr/>
        </p:nvGrpSpPr>
        <p:grpSpPr>
          <a:xfrm>
            <a:off x="5913360" y="3054240"/>
            <a:ext cx="1846440" cy="1335240"/>
            <a:chOff x="5913360" y="3054240"/>
            <a:chExt cx="1846440" cy="1335240"/>
          </a:xfrm>
        </p:grpSpPr>
        <p:pic>
          <p:nvPicPr>
            <p:cNvPr id="315" name="Obdélník 15" descr=""/>
            <p:cNvPicPr/>
            <p:nvPr/>
          </p:nvPicPr>
          <p:blipFill>
            <a:blip r:embed="rId8"/>
            <a:stretch/>
          </p:blipFill>
          <p:spPr>
            <a:xfrm>
              <a:off x="5913360" y="3054240"/>
              <a:ext cx="18464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973840" y="3112920"/>
              <a:ext cx="17334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cestovních náhrad zahraničn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Obdélník 16"/>
          <p:cNvGrpSpPr/>
          <p:nvPr/>
        </p:nvGrpSpPr>
        <p:grpSpPr>
          <a:xfrm>
            <a:off x="5688000" y="1968480"/>
            <a:ext cx="1852560" cy="1305000"/>
            <a:chOff x="5688000" y="1968480"/>
            <a:chExt cx="1852560" cy="1305000"/>
          </a:xfrm>
        </p:grpSpPr>
        <p:pic>
          <p:nvPicPr>
            <p:cNvPr id="318" name="Obdélník 16" descr=""/>
            <p:cNvPicPr/>
            <p:nvPr/>
          </p:nvPicPr>
          <p:blipFill>
            <a:blip r:embed="rId9"/>
            <a:stretch/>
          </p:blipFill>
          <p:spPr>
            <a:xfrm>
              <a:off x="5688000" y="1968480"/>
              <a:ext cx="1852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751360" y="2001960"/>
              <a:ext cx="173376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výdaj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Obdélník 17"/>
          <p:cNvGrpSpPr/>
          <p:nvPr/>
        </p:nvGrpSpPr>
        <p:grpSpPr>
          <a:xfrm>
            <a:off x="8047080" y="1163520"/>
            <a:ext cx="1401840" cy="1798920"/>
            <a:chOff x="8047080" y="1163520"/>
            <a:chExt cx="1401840" cy="1798920"/>
          </a:xfrm>
        </p:grpSpPr>
        <p:pic>
          <p:nvPicPr>
            <p:cNvPr id="321" name="Obdélník 17" descr=""/>
            <p:cNvPicPr/>
            <p:nvPr/>
          </p:nvPicPr>
          <p:blipFill>
            <a:blip r:embed="rId10"/>
            <a:stretch/>
          </p:blipFill>
          <p:spPr>
            <a:xfrm>
              <a:off x="8047080" y="1163520"/>
              <a:ext cx="14018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8107200" y="12016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acovní vý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Obdélník 20"/>
          <p:cNvGrpSpPr/>
          <p:nvPr/>
        </p:nvGrpSpPr>
        <p:grpSpPr>
          <a:xfrm>
            <a:off x="8265960" y="4943520"/>
            <a:ext cx="1408320" cy="1798560"/>
            <a:chOff x="8265960" y="4943520"/>
            <a:chExt cx="1408320" cy="1798560"/>
          </a:xfrm>
        </p:grpSpPr>
        <p:pic>
          <p:nvPicPr>
            <p:cNvPr id="324" name="Obdélník 20" descr=""/>
            <p:cNvPicPr/>
            <p:nvPr/>
          </p:nvPicPr>
          <p:blipFill>
            <a:blip r:embed="rId11"/>
            <a:stretch/>
          </p:blipFill>
          <p:spPr>
            <a:xfrm>
              <a:off x="8265960" y="4943520"/>
              <a:ext cx="1408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8329680" y="4979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eznam ško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6" name="Přímá spojovací šipka 22"/>
          <p:cNvCxnSpPr/>
          <p:nvPr/>
        </p:nvCxnSpPr>
        <p:spPr>
          <a:xfrm flipH="1" flipV="1">
            <a:off x="2169720" y="3087000"/>
            <a:ext cx="9136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Přímá spojovací šipka 25"/>
          <p:cNvCxnSpPr/>
          <p:nvPr/>
        </p:nvCxnSpPr>
        <p:spPr>
          <a:xfrm flipH="1">
            <a:off x="2706480" y="4047840"/>
            <a:ext cx="12434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Přímá spojovací šipka 28"/>
          <p:cNvCxnSpPr/>
          <p:nvPr/>
        </p:nvCxnSpPr>
        <p:spPr>
          <a:xfrm flipV="1">
            <a:off x="4818240" y="2601720"/>
            <a:ext cx="93384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Přímá spojovací šipka 30"/>
          <p:cNvCxnSpPr/>
          <p:nvPr/>
        </p:nvCxnSpPr>
        <p:spPr>
          <a:xfrm>
            <a:off x="4818240" y="3403440"/>
            <a:ext cx="11563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Přímá spojovací šipka 33"/>
          <p:cNvCxnSpPr/>
          <p:nvPr/>
        </p:nvCxnSpPr>
        <p:spPr>
          <a:xfrm>
            <a:off x="4817880" y="3403440"/>
            <a:ext cx="13086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Přímá spojovací šipka 37"/>
          <p:cNvCxnSpPr/>
          <p:nvPr/>
        </p:nvCxnSpPr>
        <p:spPr>
          <a:xfrm flipV="1">
            <a:off x="7485120" y="2045520"/>
            <a:ext cx="622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2" name="Přímá spojovací šipka 40"/>
          <p:cNvCxnSpPr/>
          <p:nvPr/>
        </p:nvCxnSpPr>
        <p:spPr>
          <a:xfrm>
            <a:off x="7859520" y="4825800"/>
            <a:ext cx="47052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  <a:ea typeface="Arial"/>
              </a:rPr>
              <a:t>Zadání žádosti o platbu EX-ANTE v aplikaci Benefit7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v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539640" y="1530360"/>
            <a:ext cx="6810480" cy="4772160"/>
          </a:xfrm>
          <a:prstGeom prst="rect">
            <a:avLst/>
          </a:prstGeom>
          <a:ln w="0">
            <a:noFill/>
          </a:ln>
        </p:spPr>
      </p:pic>
      <p:grpSp>
        <p:nvGrpSpPr>
          <p:cNvPr id="336" name="Zaoblený obdélníkový popisek 5"/>
          <p:cNvGrpSpPr/>
          <p:nvPr/>
        </p:nvGrpSpPr>
        <p:grpSpPr>
          <a:xfrm>
            <a:off x="6095880" y="4687920"/>
            <a:ext cx="3829320" cy="1998720"/>
            <a:chOff x="6095880" y="4687920"/>
            <a:chExt cx="3829320" cy="1998720"/>
          </a:xfrm>
        </p:grpSpPr>
        <p:pic>
          <p:nvPicPr>
            <p:cNvPr id="337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6095880" y="4687920"/>
              <a:ext cx="3829320" cy="19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383600" y="4818240"/>
              <a:ext cx="239220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Novou ŽOP vytvoříte přes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Nový záznam a uložit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. Následně zvolte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Načíst data z Monit7+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-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1"/>
          <a:stretch/>
        </p:blipFill>
        <p:spPr>
          <a:xfrm>
            <a:off x="630360" y="1530360"/>
            <a:ext cx="7065720" cy="4824360"/>
          </a:xfrm>
          <a:prstGeom prst="rect">
            <a:avLst/>
          </a:prstGeom>
          <a:ln w="0">
            <a:noFill/>
          </a:ln>
        </p:spPr>
      </p:pic>
      <p:grpSp>
        <p:nvGrpSpPr>
          <p:cNvPr id="341" name="Zaoblený obdélníkový popisek 4"/>
          <p:cNvGrpSpPr/>
          <p:nvPr/>
        </p:nvGrpSpPr>
        <p:grpSpPr>
          <a:xfrm>
            <a:off x="6967440" y="5303880"/>
            <a:ext cx="2584440" cy="1341360"/>
            <a:chOff x="6967440" y="5303880"/>
            <a:chExt cx="2584440" cy="1341360"/>
          </a:xfrm>
        </p:grpSpPr>
        <p:pic>
          <p:nvPicPr>
            <p:cNvPr id="342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6967440" y="5303880"/>
              <a:ext cx="2584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8024760" y="5415120"/>
              <a:ext cx="141120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epište číslo MZ, se kterou ŽOP předkládá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Zaoblený obdélníkový popisek 5"/>
          <p:cNvGrpSpPr/>
          <p:nvPr/>
        </p:nvGrpSpPr>
        <p:grpSpPr>
          <a:xfrm>
            <a:off x="6748560" y="3382920"/>
            <a:ext cx="3206520" cy="1371600"/>
            <a:chOff x="6748560" y="3382920"/>
            <a:chExt cx="3206520" cy="1371600"/>
          </a:xfrm>
        </p:grpSpPr>
        <p:pic>
          <p:nvPicPr>
            <p:cNvPr id="345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6748560" y="3382920"/>
              <a:ext cx="32065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8072280" y="3481560"/>
              <a:ext cx="1766880" cy="11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Aplikace B7 + sama přiřadí nejbližší volný řád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Zaoblený obdélníkový popisek 8"/>
          <p:cNvGrpSpPr/>
          <p:nvPr/>
        </p:nvGrpSpPr>
        <p:grpSpPr>
          <a:xfrm>
            <a:off x="7259760" y="2498760"/>
            <a:ext cx="2597040" cy="780840"/>
            <a:chOff x="7259760" y="2498760"/>
            <a:chExt cx="2597040" cy="780840"/>
          </a:xfrm>
        </p:grpSpPr>
        <p:pic>
          <p:nvPicPr>
            <p:cNvPr id="348" name="Zaoblený obdélníkový popisek 8" descr=""/>
            <p:cNvPicPr/>
            <p:nvPr/>
          </p:nvPicPr>
          <p:blipFill>
            <a:blip r:embed="rId4"/>
            <a:stretch/>
          </p:blipFill>
          <p:spPr>
            <a:xfrm>
              <a:off x="7259760" y="2498760"/>
              <a:ext cx="25970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265960" y="2595600"/>
              <a:ext cx="14684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yberte číslo úč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Zaoblený obdélníkový popisek 6"/>
          <p:cNvGrpSpPr/>
          <p:nvPr/>
        </p:nvGrpSpPr>
        <p:grpSpPr>
          <a:xfrm>
            <a:off x="7175520" y="1536840"/>
            <a:ext cx="2743200" cy="706320"/>
            <a:chOff x="7175520" y="1536840"/>
            <a:chExt cx="2743200" cy="706320"/>
          </a:xfrm>
        </p:grpSpPr>
        <p:pic>
          <p:nvPicPr>
            <p:cNvPr id="351" name="Zaoblený obdélníkový popisek 6" descr=""/>
            <p:cNvPicPr/>
            <p:nvPr/>
          </p:nvPicPr>
          <p:blipFill>
            <a:blip r:embed="rId5"/>
            <a:stretch/>
          </p:blipFill>
          <p:spPr>
            <a:xfrm>
              <a:off x="7175520" y="1536840"/>
              <a:ext cx="27432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8528040" y="1596960"/>
              <a:ext cx="13161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Ex-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 - přík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449280" y="1574640"/>
            <a:ext cx="919476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- přík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Zaoblený obdélníkový popisek 10"/>
          <p:cNvGrpSpPr/>
          <p:nvPr/>
        </p:nvGrpSpPr>
        <p:grpSpPr>
          <a:xfrm>
            <a:off x="5370480" y="4432320"/>
            <a:ext cx="4237200" cy="1706400"/>
            <a:chOff x="5370480" y="4432320"/>
            <a:chExt cx="4237200" cy="1706400"/>
          </a:xfrm>
        </p:grpSpPr>
        <p:pic>
          <p:nvPicPr>
            <p:cNvPr id="357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5370480" y="4432320"/>
              <a:ext cx="42372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024680" y="5091120"/>
              <a:ext cx="2479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 jaké struktuře jsou finanční prostředky požadovány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7" descr=""/>
          <p:cNvPicPr/>
          <p:nvPr/>
        </p:nvPicPr>
        <p:blipFill>
          <a:blip r:embed="rId2"/>
          <a:stretch/>
        </p:blipFill>
        <p:spPr>
          <a:xfrm>
            <a:off x="990720" y="2116080"/>
            <a:ext cx="799308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- přík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9" descr=""/>
          <p:cNvPicPr/>
          <p:nvPr/>
        </p:nvPicPr>
        <p:blipFill>
          <a:blip r:embed="rId1"/>
          <a:stretch/>
        </p:blipFill>
        <p:spPr>
          <a:xfrm>
            <a:off x="719280" y="1395360"/>
            <a:ext cx="6570360" cy="4935600"/>
          </a:xfrm>
          <a:prstGeom prst="rect">
            <a:avLst/>
          </a:prstGeom>
          <a:ln w="0">
            <a:noFill/>
          </a:ln>
        </p:spPr>
      </p:pic>
      <p:grpSp>
        <p:nvGrpSpPr>
          <p:cNvPr id="362" name="Zaoblený obdélníkový popisek 11"/>
          <p:cNvGrpSpPr/>
          <p:nvPr/>
        </p:nvGrpSpPr>
        <p:grpSpPr>
          <a:xfrm>
            <a:off x="7272360" y="2620800"/>
            <a:ext cx="2670120" cy="2584440"/>
            <a:chOff x="7272360" y="2620800"/>
            <a:chExt cx="2670120" cy="2584440"/>
          </a:xfrm>
        </p:grpSpPr>
        <p:pic>
          <p:nvPicPr>
            <p:cNvPr id="363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7272360" y="2620800"/>
              <a:ext cx="267012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8059680" y="2749680"/>
              <a:ext cx="17366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 jaké struktuře byly prostředky předloženy a doloženy v rámci MZ a  schváleny poskytovatelem podp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88520" y="3068640"/>
            <a:ext cx="91299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Nesrovnalosti při realizaci projek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– Harmonogram čerp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ázek 1" descr=""/>
          <p:cNvPicPr/>
          <p:nvPr/>
        </p:nvPicPr>
        <p:blipFill>
          <a:blip r:embed="rId1"/>
          <a:stretch/>
        </p:blipFill>
        <p:spPr>
          <a:xfrm>
            <a:off x="138240" y="1636560"/>
            <a:ext cx="8097840" cy="47548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4"/>
          <p:cNvSpPr/>
          <p:nvPr/>
        </p:nvSpPr>
        <p:spPr>
          <a:xfrm>
            <a:off x="3600360" y="3481560"/>
            <a:ext cx="990720" cy="801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591080" y="3222720"/>
            <a:ext cx="97308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Zaoblený obdélníkový popisek 7"/>
          <p:cNvGrpSpPr/>
          <p:nvPr/>
        </p:nvGrpSpPr>
        <p:grpSpPr>
          <a:xfrm>
            <a:off x="6516720" y="4334040"/>
            <a:ext cx="3395520" cy="2852640"/>
            <a:chOff x="6516720" y="4334040"/>
            <a:chExt cx="3395520" cy="2852640"/>
          </a:xfrm>
        </p:grpSpPr>
        <p:pic>
          <p:nvPicPr>
            <p:cNvPr id="104" name="Zaoblený obdélníkový popisek 7" descr=""/>
            <p:cNvPicPr/>
            <p:nvPr/>
          </p:nvPicPr>
          <p:blipFill>
            <a:blip r:embed="rId2"/>
            <a:stretch/>
          </p:blipFill>
          <p:spPr>
            <a:xfrm>
              <a:off x="6516720" y="4334040"/>
              <a:ext cx="339552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418520" y="4927680"/>
              <a:ext cx="232560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Součet částek z polí ŽOP schváleno a ŽOP plán musí být roven nebo nižší než celková částka dotace dle Rozhodnutí o poskytnutí dota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Zaoblený obdélníkový popisek 9"/>
          <p:cNvGrpSpPr/>
          <p:nvPr/>
        </p:nvGrpSpPr>
        <p:grpSpPr>
          <a:xfrm>
            <a:off x="3365640" y="1616040"/>
            <a:ext cx="6521400" cy="2401920"/>
            <a:chOff x="3365640" y="1616040"/>
            <a:chExt cx="6521400" cy="2401920"/>
          </a:xfrm>
        </p:grpSpPr>
        <p:pic>
          <p:nvPicPr>
            <p:cNvPr id="107" name="Zaoblený obdélníkový popisek 9" descr=""/>
            <p:cNvPicPr/>
            <p:nvPr/>
          </p:nvPicPr>
          <p:blipFill>
            <a:blip r:embed="rId3"/>
            <a:stretch/>
          </p:blipFill>
          <p:spPr>
            <a:xfrm>
              <a:off x="3365640" y="1616040"/>
              <a:ext cx="65214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170840" y="1762200"/>
              <a:ext cx="255096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Kliknutím na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Aktualizovat finanční plán  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dojde k načtení platných dat z monitorovacího systému poskytovatele podpor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Zástupný symbol pro text 3" descr=""/>
          <p:cNvPicPr/>
          <p:nvPr/>
        </p:nvPicPr>
        <p:blipFill>
          <a:blip r:embed="rId1"/>
          <a:stretch/>
        </p:blipFill>
        <p:spPr>
          <a:xfrm>
            <a:off x="274680" y="1560600"/>
            <a:ext cx="9588600" cy="5651280"/>
          </a:xfrm>
          <a:prstGeom prst="rect">
            <a:avLst/>
          </a:prstGeom>
          <a:ln w="0">
            <a:noFill/>
          </a:ln>
        </p:spPr>
      </p:pic>
      <p:sp>
        <p:nvSpPr>
          <p:cNvPr id="36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srovnalosti při realizaci proje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Zástupný symbol pro text 3"/>
          <p:cNvSpPr/>
          <p:nvPr/>
        </p:nvSpPr>
        <p:spPr>
          <a:xfrm>
            <a:off x="372960" y="1557360"/>
            <a:ext cx="97077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Nadpis 2"/>
          <p:cNvSpPr/>
          <p:nvPr/>
        </p:nvSpPr>
        <p:spPr>
          <a:xfrm>
            <a:off x="684360" y="8557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způsobilý výda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ástupný symbol pro text 3"/>
          <p:cNvSpPr/>
          <p:nvPr/>
        </p:nvSpPr>
        <p:spPr>
          <a:xfrm>
            <a:off x="372960" y="1557360"/>
            <a:ext cx="95281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 marL="262080" indent="-262080" algn="just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prostředky, které byly ze strany poskytovatele podpory klasifikovány jako nezpůsobilé výdaje, je povinen příjemce neprodleně vrátit na projektový účet a tomto navrácení informovat poskytovatele podp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 algn="just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a FÚ je zasláno hlášení na podezření na porušení rozpočtové kázně a žádost o platbu je ze strany poskytovatele podpory ponížena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5440" indent="-325440" algn="just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oporučený postup pro příjemce v případě nezpůsobilého výd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Zástupný symbol pro text 3" descr=""/>
          <p:cNvPicPr/>
          <p:nvPr/>
        </p:nvPicPr>
        <p:blipFill>
          <a:blip r:embed="rId1"/>
          <a:stretch/>
        </p:blipFill>
        <p:spPr>
          <a:xfrm>
            <a:off x="285840" y="1511280"/>
            <a:ext cx="9723240" cy="4810320"/>
          </a:xfrm>
          <a:prstGeom prst="rect">
            <a:avLst/>
          </a:prstGeom>
          <a:ln w="0">
            <a:noFill/>
          </a:ln>
        </p:spPr>
      </p:pic>
      <p:sp>
        <p:nvSpPr>
          <p:cNvPr id="372" name="Nadpis 2"/>
          <p:cNvSpPr/>
          <p:nvPr/>
        </p:nvSpPr>
        <p:spPr>
          <a:xfrm>
            <a:off x="684360" y="8557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ylná plat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44280" y="2025720"/>
            <a:ext cx="82818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Nejste-li si jisti při řešení konkrétní situace ve Vašem projektu, obraťte se na své finanční a projektové manažery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44640" y="1574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Mnoho úspěchů při realizaci Vašich projektů a trpělivost při zpracovávání monitorovacích zpráv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Děkuji za pozornost</a:t>
            </a:r>
            <a:br>
              <a:rPr sz="4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Ing. Jana Wagnerová, finanční manažerka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Ministerstvo školství mládeže a tělovýchovy, odbor CERA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email: jana.wagnerova@msmt.cz, 234 814 29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– Prioritní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14280" y="1574640"/>
            <a:ext cx="595476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11" name="Zaoblený obdélníkový popisek 5"/>
          <p:cNvGrpSpPr/>
          <p:nvPr/>
        </p:nvGrpSpPr>
        <p:grpSpPr>
          <a:xfrm>
            <a:off x="4853160" y="1719360"/>
            <a:ext cx="5089320" cy="4127400"/>
            <a:chOff x="4853160" y="1719360"/>
            <a:chExt cx="5089320" cy="4127400"/>
          </a:xfrm>
        </p:grpSpPr>
        <p:pic>
          <p:nvPicPr>
            <p:cNvPr id="112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4853160" y="1719360"/>
              <a:ext cx="5089320" cy="41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237440" y="1882800"/>
              <a:ext cx="2521080" cy="23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Zmáčknutím tlačítka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Doplnit částku EU 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dojde k načtení aktuální  hodnoty ze záložky Přehled financování a z daných údajů. V případě více prioritních témat je nutné částku doplnit ručně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mé a nepřímé ná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náklady (PN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– zpravidla přímo přiřaditelné k určité klíčové aktivitě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(NN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– spojené s administrac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řízeny k ulehčení realizace a kontroly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rámci NN nemohou být hrazeny investič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e strany poskytovatele podpory nebudou NN předmětem kontroly, i tak však musí být využity v souladu s pravidly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ručka pro příjemce, verze 5, str. 61 -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mé a 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/>
  <dc:description/>
  <dc:language>en-US</dc:language>
  <cp:lastModifiedBy>Jana Wagnerová</cp:lastModifiedBy>
  <dcterms:modified xsi:type="dcterms:W3CDTF">2012-02-21T12:17:00Z</dcterms:modified>
  <cp:revision>799</cp:revision>
  <dc:subject/>
  <dc:title>prezentace</dc:title>
</cp:coreProperties>
</file>