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3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dt" idx="3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ftr" idx="3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 type="sldNum" idx="3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F3FCEF-9DB7-49AD-B4FD-81CE22A6AA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F957BA-5140-4DAA-AC01-5F7049565A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  případě, že se příjemce rozhodne v souladu s Příručkou pro příjemce vztáhnout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začátek monitorovacího období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k prvnímu dni v měsíci, v němž začal realizovat, neprodleně (nejpozději však </a:t>
            </a:r>
            <a:r>
              <a:rPr b="1" lang="cs-CZ" sz="1200" spc="-1" strike="noStrike">
                <a:solidFill>
                  <a:srgbClr val="ff0000"/>
                </a:solidFill>
                <a:latin typeface="Calibri"/>
              </a:rPr>
              <a:t>10 pracovních dní před termínem odevzdáním monitorovací zprávy</a:t>
            </a:r>
            <a:r>
              <a:rPr b="0" lang="cs-CZ" sz="1200" spc="-1" strike="noStrike">
                <a:solidFill>
                  <a:srgbClr val="ff0000"/>
                </a:solidFill>
                <a:latin typeface="Calibri"/>
              </a:rPr>
              <a:t>)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ašle žádost na svého projektového manažera, který upraví v MONIT7+ Sledované období od a Sledované období do tak, aby se monitorovací období generovalo správně dle požadavků příjemce. Data sledovaného období není možné měnit pomocí pole „Načíst vybrané datové oblasti z M7+“. Pokud již příjemce MZ V B7 založil, je nutné ji smazat a znovu načíst data z Monit7+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 případě, že bude potřebovat příjemce změnit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Typ zprávy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(průběžná, mimořádná, závěrečná), musí rovněž požádat příslušného projektového manažera ZS/ŘO, aby typ zprávy změnil v IS Monit7+. Aby ZS/ŘO mohl tento typ zprávy změnit, musí příjemce opět původně založenou MZ v B7 smazat, pomocí tlačítka Smazat záznam. ZS/ŘO poté změní typ MZ a příjemce posléze může vytvořit novou MZ, uložit a znovu načíst data z Monit7+. Příjemce pošle svému PM (ZS kraj či odbor CERA) žádost o změnu typu monitorovací zprávy a to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nejpozději 10 pracovních dní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řed odevzdáním MZ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8388B3-DDCF-4422-8B79-55DE35C06D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 stisknutí tlačítka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Načíst data z MONIT7+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jde k automatickému vyplnění údajů v polích na právě založené monitorovací zprávě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máčknutím tlačítka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Načíst náklady z MONIT7+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se automaticky načte na záložce Rozpočet projektu aktuální podoba rozpočtu z právního aktu, popř. jeho dodatku. Zaktivní se další vybrané záložky finančního charakter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máčknutím tlačítka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Načíst vybrané datové oblasti z MONIT7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+ se vygeneruje seznam datových oblastí z monitorovací zprávy. Pole se používá v případě, že došlo k změně údajů/informací v období tvorby monitorovací zprávy, byl o tom informován ZS/odbor CERA a příslušný projektový manažer provedl změnu dat v systému MONIT7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OZOR! Aktualizace dat znamená přepsání všech dat vybrané oblasti daty z M7+, to znamená, že se smažou dosud zadané informa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341D7E-7448-4BF3-8226-4BA7BCFF4A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 případě zatržení checkboxu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„Přepracovaný harmonogram aktivit“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se zaktivní záložka Harmonogram aktiv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le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„Další informace o realizaci projektu“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bylo vytvořeno z důvodu, že v Benefit7 neexistuje záložka, kde by příjemci mohli uvádět další informace o projektu, které se udály během daného monitorovacího období. Toto pole je příjemcům tedy volně k dispozici v případě, že budete mít potřebu popsat nějakou situaci či obecné informace se sledovaným obdobím spjaté. Jedná se o takové informace, které nelze přiřadit k jednotlivým záložkám benefitového formulář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838B99-D0B6-4D58-AB8D-0DFD6CD1E6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říjemce musí v průběhu realizace projektu vykazovat také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detailní členění indikátorů (muži/ženy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, chlapci/dívky,..), bez ohledu na to, že v projektové žádosti uvedl pouze indikátory součtové. Slouží ke statistickým účelům, nedosažení cílové hodnoty muži/ženy není sankcionováno (závazná je součtová hodnota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Hodnoty indikátorů se musí uvádět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kumulativně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, tj. jako součet dosud vykazovaných MI + MI vykazované v daném monitorovacím období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 CE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Helvetica CE"/>
              </a:rPr>
              <a:t>Do </a:t>
            </a:r>
            <a:r>
              <a:rPr b="1" lang="cs-CZ" sz="1200" spc="-1" strike="noStrike">
                <a:solidFill>
                  <a:srgbClr val="000000"/>
                </a:solidFill>
                <a:latin typeface="Helvetica CE"/>
              </a:rPr>
              <a:t>popisu</a:t>
            </a:r>
            <a:r>
              <a:rPr b="0" lang="cs-CZ" sz="1200" spc="-1" strike="noStrike">
                <a:solidFill>
                  <a:srgbClr val="000000"/>
                </a:solidFill>
                <a:latin typeface="Helvetica CE"/>
              </a:rPr>
              <a:t> daného MI zároveň prosíme o uvedení dosažené hodnoty v daném M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Datum dosažené hodnoty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- vyplní se automaticky po uložení záznamu vždy k datu Sledovaného období MZ do. Dále se po uložení pole Dosažená hodnota zpovinní pole „Popis“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 CE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Helvetica CE"/>
              </a:rPr>
              <a:t>Vykazované indikátory se musí opírat o </a:t>
            </a:r>
            <a:r>
              <a:rPr b="1" lang="cs-CZ" sz="1200" spc="-1" strike="noStrike">
                <a:solidFill>
                  <a:srgbClr val="000000"/>
                </a:solidFill>
                <a:latin typeface="Helvetica CE"/>
              </a:rPr>
              <a:t>průkaznou evidenci</a:t>
            </a:r>
            <a:r>
              <a:rPr b="0" lang="cs-CZ" sz="1200" spc="-1" strike="noStrike">
                <a:solidFill>
                  <a:srgbClr val="000000"/>
                </a:solidFill>
                <a:latin typeface="Helvetica CE"/>
              </a:rPr>
              <a:t> vedenou příjemcem (Výkazy o provedené práci, prezenční listiny, certifikáty, atd. – tj. doklady, kterými můžete prokázat dosažené číselné hodnoty).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kumenty dokladující jednotlivé monitorovací indikátory jsou součástí skupiny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09_Vystupy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(viz struktura monitorovací zprávy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4912A4-2C8E-405E-8A78-0D933D1F04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Stav ZRUŠNO vs. NENAPLNĚ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Zrušeno“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– v případě, že příjemce v projektové žádosti uvedl plánovaná výběrová řízení, která již ale realizovat nebude (snížila se její hodnota, a tím pádem povinnost uskutečnit výběrové řízení/pozbyl důvod uskutečnit výběrové řízení apod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Nenaplněno“ -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 případě ukončení smlouvy s dodavatelem výpovědí, odstoupením od smlouvy, dohodou nebo v případě prohlásí-li soud smlouvu za neplatno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Do předpokládaného/skutečného data ukončení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Výběrového řízení se uvádí datum podpisu smlouvy s vítězným uchazeč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 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ředpokládané hodnotě a nasmlouvané ceně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eřejných zakázek by se měla uvádět hodnota vztahující se pouze k danému projektu, není-li možné uvést přesnou hodnotu, uveďte prosím co nejpřesnější odhad, skutečnou celou hodnotu za celou VŘ lze uvést v popis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U všech výběrových řízení prosím o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vyplnění popisu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k výběrovým řízením. Toto pole je povinné – příjemce musí uvést doplňující informace k plánovanému či již zahájenému VŘ, o průběhu a výsledku řízení, o předmětu VŘ, o ceně, o hodnotící komisi, výběrových kritériích ap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4AA307-F0CC-48AA-B410-57E136A90B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de příjemce zadává pouze dodavatele/é VŘ ve stavu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Ukončeno a Nenaplněno.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áložka je provázaná se záložkou Výběrová řízení a Detaily k VŘ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 případě více výherních dodavatelů je potřeba každého dodavatele postupně založit pomocí tlačítka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Nový záznam a Uloži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254A47-A065-4142-B841-71FE8C5097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říjemce zadaného (výherního) dodavatele, či dodavatelé (na záložce Dodavatelé k VŘ) aktivuje, tzn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. přenese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(přiřadí ke konkrétnímu Ukončenému či Nenaplněnému VŘ) zleva doprava pomocí (dvojitých šipek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8607DC-D038-4AF0-9826-EDE1E5B11E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798480" indent="0"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áložka obsahuje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načtené nástroje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ublicity, které příjemce uvedl v žádosti o finanční podporu. Závazné aktivity povinné publicity jsou tedy uvedeny v příloze č. 1 Rozhodnutí o poskytnutí dot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Checkbox Publicita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splněna je navázaná na celý projekt, nikoliv na dané MO. Proto by mělo být příjemcem zaškrtnuto až ve chvíli konečné splnění formy publi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 důvodů archivace je také potřebné dodat i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rtScr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zřízených internetových stránek projektu, který bude součástí skupiny 08_Publici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Informace k publicitě vyplňujte vždy prosím ve vztahu k danému monitorovacímu obdob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66C2B5-DB88-4E54-B618-44B9417CCE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Žlutá pole jsou povinná,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šedé pole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označené jako např. </a:t>
            </a:r>
            <a:r>
              <a:rPr b="0" i="1" lang="cs-CZ" sz="1200" spc="-1" strike="noStrike">
                <a:solidFill>
                  <a:srgbClr val="000000"/>
                </a:solidFill>
                <a:latin typeface="Calibri"/>
              </a:rPr>
              <a:t>Popis realizace klíčové aktivity v průběhu monitorovacího období II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slouží k doplnění či pokračování v informacích uvedených ve žlutém poli, tzn. využívají se  v případě, že příjemci k popisu realizace dané KA nestačí povinné žluté pole. V případě, že se text k dané problematice vejde do žlutého pole, není potřeba šedá pole vyplňova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Označení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Popis realizace/výstupu/plánované realizace v průběhu monitorovacího období I a II neoznačuje číslo monitorovacího období, ale pouze pořadové číslo po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Stav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„Ukončeno“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se zvolí v případě definitivního ukončení realizace dané klíčové aktivity. V případě, že je daná klíčová aktivita v daném MO pouze přerušena a v dalším MO bude opět pokračovat, vybere se stav „realizována“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ECADE6-27D8-4673-897D-69D027CD3E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áložka Harmonogram aktivit je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aktivní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v případě zatržení checkboxu na záložce Údaje o projektu a MZ. V opačném případě zůstávají pole bez možnosti edit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měna harmonogramu klíčových aktivit je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nepodstatnou změnou projektu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, kterou je potřeba popsat a řádně zdůvodnit v rámci záložky „podstatné/nepodstatné“ změn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zhledem k faktu, že nyní je přepracovaný harmonogram již přímo součástí samotné monitorovací zprávy, není třeba jej vypracovávat a dodávat jako zvláštní příloh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FCAACF-4EDC-4AB5-8815-BEF0F3F003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E09C32-D485-4FED-95BA-492704094A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Tato záložka slouží pro popis kontrol, které byly provedeny u příjemce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všemi kontrolními orgány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 souvislosti s realizací projektu. Povinně jsou zde uváděny kontroly prováděné např. Finančním úřadem, Českou školní inspekcí atd. Dále uvádí také kontroly provedené jeho poskytovatelem podpo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a této záložce se uvádí pouze kontroly na místě provedené a ukončené v daném M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 případě, že v době vytváření monitorovací zprávy u vás probíhá kontrola externím subjektem a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nebyla ještě ukončena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ahrňte tuto kontrolu a její výsledky do následujícího monitorovacího období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UPOZORNĚNÍ: dejte pozor, aby zde omylem nebyl založen nevyplněný řádek, což by znemožnilo finalizaci MZ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762704-061C-4B0F-B11F-CD6DA09BAD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měna, která má charakter podstatné změny projektu, nesmí být provedena před jejím schválením poskytovatelem podpory a před provedením úpravy nebo doplněním právního aktu o poskytnutí podpo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Jednotlivá pole se vyplní v případě, že k změnám došlo. U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odstatné změny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až po akceptaci dodatku k Rozhodnutí o poskytnutí dota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odstatné změny se mohou podávat i mimo režim monitorovacích zpráv,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a zvláštním formuláři zveřejněném na webu MŠMT. Je-li podána v rámci MZ, je žádost o podstatnou změnu součástí složky DalsiDokumenty, podsložky KPravnimuAkt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dstatné/nepodstatné změny se do Benefit7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zadávají každá zvlášť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, i když se např. týkají jednoho tématu (např. pro změnu harmonogramu v různých klíčových aktivitách se vytvoří vždy nový záznam pro každou z nich; stejně tak pro změnu rozpočtu se všechny nepodstatné změny neuvedou do jednoho záznamu, ale pro každou změnu se vytvoří nový záznam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UPOZORNĚNÍ: Pokud nemáte žádný záznam, stránku neukládejte, jinak dojde k vytvoření prázdného řádku, který znemožní finalizaci MZ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08F7EE-2BBC-4DB0-BBCD-839C851464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 aplikace Benefit7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nejsou nahrávány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žádné přílohy vyjma souboru Rozpisy/Rozpočet, který je přílohou Zjednodušené žádosti o platbu vyplňované v aplikaci Benefit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ytvořen je zde jen jakýsi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seznam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příloh, přičemž přílohy se označí číslem dle tabulky „struktura ELMZ“, tj. číslem 01-09 a názvem rovněž z této tabulky (např. Rozpisy/Rozpočet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archivační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účely prosím i o vyplňování polí „Počet listů“ a „Počet kopií“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56B1A5-A84C-42ED-9595-6CDB1B8FE7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63730C-6C46-44E0-A934-DD0259F6D3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B188BB-931E-4809-9D6B-77FBC1418C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8F2207-320D-4F9D-8F8D-6D0F5CC7EE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F4CDDB-8B54-4868-89B0-32308C22C5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D0EEC3-2C44-4950-8122-9CFBA72042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51BFA0-9642-4A8D-9E8D-A6876A6C6C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6F2C97-92E6-4477-ABD6-2ADD4F3A5B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7A2258-B753-4A11-950E-1044055714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D381D6-E27F-4BB3-BB42-D58242B7CE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7143FA-7898-4B60-A3D7-8BC4C729E7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657918-BC3A-4499-8F39-A3231E11D2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479CAE-EFCA-4391-A38A-E256596354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9D9012-5B73-4B06-BD5B-225822106B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973D97-B546-402A-B1B1-A6D296FB5A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3ED655-C85A-46CF-99C8-E34C6AAE4D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C90C35-1AC2-49EF-B804-5C464437B3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DF9BE1-C86F-4A7A-A81F-6740E55CD6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Co následuje po odevzdání MZ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Kontrola MZ poskytovatelem dotace (komunikace s projektovým a finančním manažere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 vyzvání je příjemce povinen případné chybějící nebo doplňující údaje poskytnout do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5 pracovních dnů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– vyzvání proběhne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e-mailem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a zhotovitele MZ a hlavní kontaktní osob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D856D8-A81D-416E-ABB4-B6CA6AB777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Výdaje za zřízení a vedení projektového účtu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ohou být způsobilé před datem zahájení realizace (nejdříve však ode dne, kdy byl projekt schválen k realizaci ministryní/ministrem školství, mládeže a tělovýchovy) pouze v případě, stanovuje-li to výzv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DAABA5-14D8-4419-BB03-EAFF067475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1D86E0-9B9F-4C4A-AEF9-DC6FE8D18E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42ABF1-5159-4A47-A61C-E2E0961712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471E8B-F6DE-4C03-AA98-800E8F3AF1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růběžná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monitorovací zpráva se odevzdává do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30 kalendářních dnů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od ukončení monitorovacího období (první MZ po 3 měsících, další MZ pak po 6 měsících realizace projektu), podepsaná statutárním zástupcem, v zalepené obálce s adresou poskytovatele, jménem příslušného PM a registračním číslem projektu. V případě, že není přesně dodržen termín doručení monitorovací zprávy, je daná skutečnost hlášena na místně příslušný FÚ jako podezření na porušení rozpočtové kázně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Kromě 1.MZ je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vždy její přílohou žádost o platbu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. (PpP, verze 5, str. 12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Mimořádná MZ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: monitorovací zpráva předložená mimo režim předem stanoveného intervalu, podaná v případě mimořádné žádosti o platbu. Termín následující průběžné MZ se řídí dle této mimořádné MZ, tj.  bude předložena opět po 6 měsících realizace projekt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Závěrečná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monitorovací zpráva se váže k ukončení projektu, tj. k datu, které je uvedeno v právním aktu. Příjemce je následně povinen zpracovat a předložit poskytovateli podpory závěrečnou monitorovací zprávu společně se závěrečnou žádostí o platbu. Součástí  závěrečné MZ je rovněž Souhrnná informace o realizaci projektu OP VK spolu se všemi výstupy doloženými na CD. Předkládá se do 2 měsíců od ukončení projekt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C0D41B-0C3D-4FC6-8BB5-140B4BBD77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39F01F-97BA-441B-AC2B-D32BD680D9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Benefit7 vs. Monit7+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 CE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Helvetica CE"/>
              </a:rPr>
              <a:t>Adresa systému Benefit7: www.eu-zadost.cz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E2AA47-0DC7-4641-98AF-A91F2FD75E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35F7F6-495A-4E9C-A2EF-6057DE6BBC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šeobecná pravidla Benefit7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vinná pole jsou žlutá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epovinná pole jsou šedá s ohraničením (uživatel vyplňuje dle svého uvážení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automaticky doplňovaná pole jsou šedá bez orámování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ezapomínat používat tlačítko „uložit záznam“ po každém zadání údajů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UPOZORNĚNÍ: V případě, že vložíte nový řádek, který ale zůstává nevyplněný, systém Vám neumožní projektovou žádost finalizov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90A095-3CBC-4918-96A1-089CF52ABE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42C1-2B6C-49E3-B744-7AA7BD2ED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EA86-52F4-4FAE-AE18-656D7016E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FFEDE5-64BF-4FFB-949F-525B51ED7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BCBE12-254B-4B58-877A-7ABA06739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0BA638-CD41-479A-A57E-B51009039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BC8F98-2113-47BC-B0AB-FFF5629C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7CEAD8-656A-46C0-9366-515A0D81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92E342-2A38-4D32-B5E5-DDBCA0E2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0A079F-9B64-4472-B019-0A5C259CD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1B77D0-5989-41CF-8A89-E171B3472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9095C2-E299-4F68-977C-EAB22BD08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12403C-1DF4-4BA3-AA62-0AAE86930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2E55-2022-40DC-8838-E8C457C32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03A7F7-82A0-4EF7-8884-6EF3714E9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54EED3-CE30-424A-BD03-B97D3BE27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7669DA-4B7D-48F9-9C3E-4A7927EEE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162F92-6F8B-456F-924A-069999C5E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5C67A3-EA25-4E3A-96F1-4EFCAF030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205007-0B03-4C49-9E50-A84B2991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25780B-4EF2-40A4-A837-62A06BE2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4B8EA4-914F-4836-88A8-3310F646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E46903-2784-4830-A5EF-A4EF635DF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05DA98-08D4-4CF8-BF9E-7A09F1CCA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474C-B841-4C5F-861B-EDF99F69F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9ACA04-B95D-49AD-86AC-D98643AD4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E6AC4B-CE91-4392-9588-CF36F3025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8C3EE0-9CD4-4C4D-ACF3-D3F7A823F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BD67F5-6BDB-449B-9BCB-13EAC8CAB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19D132-9A17-40E9-8C64-6670F3B15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F0DDBC-70FB-4B80-A859-A5518E607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CB5B89-CA3B-4B40-9B9F-D3C252EC3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25497C-8019-4A12-B156-79411FF4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748CAA-9304-4409-98A1-2C23A552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193ED6-37FA-42C8-B5DA-9423DBAF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79B3E-86C8-4700-9E27-D04C1C3EE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A72B30-8338-496A-858B-FA0589E23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21D4EE-69A8-4233-9F81-4E3C42E12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2E572C-A290-489B-84A3-B4D194A6E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0D2A7D-B17C-4835-909C-2D3501D6B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2096E0-2CDD-4D6C-A656-91A16C4C7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441AA6-667B-48EC-8AAB-8006F6075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8F2184-1248-4578-82B9-E2E2C7769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311ABD-60FB-4FF3-A6C7-C94A92E79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CBAB65-21DF-4D1F-A4E8-47AA81558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3CF8D8-3E3E-41D8-9F78-6C35030D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8BFF1-33B5-4BCE-BD24-5E5D56AC2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79DC53-2A29-4207-8967-69E0655A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244721-2890-4984-AE32-F9829B43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28B5CC-C22D-43F3-9671-8DFE15233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86037A-71C7-4B52-9BDD-629A60886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137644-D9D7-4AF2-B4DC-22E1C22FC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2B13B-6173-48B9-9AFA-8B934FD39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BFF7B-F5A9-41E3-9BE5-29D5E1E8B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08D97-B800-4653-8CBB-D47A7334F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F23B6-53DF-462C-BB6F-B2A6B5FD9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CB6B0-6A20-4E44-B8E3-91AC2EB9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07E5-B74A-4F31-B7EA-582189425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7D62D-9F1A-4542-AE7C-5ED9B3CA1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E0D4E-F1A2-4B17-A956-7A0EE0EA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A4F49-F3D6-4734-8FA2-A2C251A96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EC6D9-60C9-410F-A77C-2C2FF3FEB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B5CBD-DD48-4BC4-9F38-7AFAECD0D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7EECE-344C-4404-AC11-13631AE56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5046B-91B2-46E3-8898-2F99FD984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605F1-83EF-4A2C-9141-90583E3F0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C503C-ECDA-45F4-96F1-8A086068C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3B1EE-5A69-48C5-B035-4EB1AC9A2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F4D4-89C9-42D8-95E3-6B2ADBC35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4B333-BF7C-4DA1-AC28-F7C4C22A5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D31B7-CA51-478C-8941-77FF81E1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C371A-FD5E-448F-8A79-F90F1A1F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84E82-109B-41CC-A1E6-F70B311D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6F5CA-E33E-48F5-B922-C3E2A876F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FE6F4-11E2-4E1B-9761-A2FCA215C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46E9B-2253-4826-8E77-BC4734DBD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BC215-EA2C-46C0-8673-430D7434C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CEA99-43CE-4505-AD93-629D0A932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9F90B-5EFE-420E-8731-60D745C03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3C3A-C0BD-4225-BBF0-7CC976A5F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8AD5F-4DB9-4C0A-997C-37E477B99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F0CD8-6EF9-41C0-8871-C1F1EE928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4EF3F-14CB-4968-86F7-4AA4CE7C9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8D16D-A1E8-46A2-B219-AB479498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C6C23-9984-423C-8760-43946D45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68D9D-7E20-4EA1-9ABB-D6513233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B58E5-DAEB-4007-9808-B901B4C3B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F0AD5-F08E-474B-9D90-5F6CC47F4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E005C-98FB-4F87-A5A2-75E4EF0A0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55E88-0A7C-464A-B818-1B26697B8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96D5-1424-40C3-911D-CB5EDF67B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2C931C-B624-48DF-831A-5225B4FC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24F25-BD04-4E73-903E-5E4930DAD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B8DA9-BD9C-4424-BCD4-1A9A08675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E904F-A199-4FB3-9EFE-75D120D9F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8478F-2CF0-47F9-9462-E0B3ABFF7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84DBB-E4BA-4F2D-BFB5-76BF8A05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D70F4-E230-4AD7-A7C4-E8E4821B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12C5E-3C31-4506-9B8A-47CED378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2D902-7060-452E-9005-B5337D10E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527FF-76A5-44D9-8DC6-449B4C7F0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6F6D-5E6D-47F7-8315-19B44FCD6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97B7C-0023-41E3-9384-156A0FE23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11A17-299C-4417-B7C6-9A1517EBE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9E9555-EBD8-40D8-B7BD-3766CF72D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B563F-C4B4-473A-9096-FF84CBD71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FF4D9-C279-4212-8675-718C5F434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665FE-A188-4AFC-9586-643FBCE19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075E1-4B2A-48F3-872D-440069757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B8211-3D60-4862-B7DD-FF8DA249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253F3-AF96-4197-B1FA-E65A0AC6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F4F959-F71D-466F-B916-90DC8536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0BA0-AD22-4D04-B1F6-51E2455C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514813-C240-451B-80C9-545B839EA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7DDBB-7B48-4EE9-ABF3-0BD290398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86C6BB-C5A3-4FD2-850E-7F1742F99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9999A-21D3-4C46-8599-47B2FB4E1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FBC72-FA34-4A61-928D-DFD76F37C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0CE390-D9F7-4B6E-9084-76658C22D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67833-FCD1-4FDF-84D6-491375C85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FED80-E72D-4061-8FAB-8E3C73FE9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524DC-02B6-462F-ABA9-52E26B23E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32D727-531E-43C0-83F7-0A2F0026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96A8-AD9A-4BB8-A92E-CC3CD5C5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ADE2C-04CD-47DE-B9AA-43AE2994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48180-0338-4636-9591-EA7A14DC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92895-4994-4599-8EF2-78F549E8F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770C21-5DC3-42E8-B966-512F054F9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A0F69F-92C0-4408-9159-E3FDCE1A5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A8F33F-FC70-4080-B7A8-986FB9E20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14C564-D41C-4187-8F19-F6F0E1220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B6A447-831B-4015-B702-C0212EA73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904788-C6C4-4F5B-8B52-C8D7921AD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D6BAA6-F0E6-4D50-9302-960D8A568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C6A0-69ED-41FB-8747-909BB709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38794D-F0A1-42B3-8FAF-C855F3620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314E1A-9357-43D6-83BF-34CDBA06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186A5C-2EA0-4E67-8624-32B2F7D1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E7568C-8DE2-423A-90C4-9E941811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DBED37-31A7-490A-B8A8-6BFA7BF75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A9D5CC-A849-4595-9D74-FC54D4423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257E0-4B42-436D-BCC0-D2742C5A6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7BA347-8700-4521-A8EE-C115EF7C4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D01769-5F02-486D-8701-BDB6AEB6B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3F0109-D156-4BBA-B85A-4F14EBF8D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D02D57-7D1F-4793-9994-932ACFA3FA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fld id="{2A3F1C20-69FB-4418-B6CB-4EA7D5ED2E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E4110C-8CBC-475B-A723-B82A181323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8B9400-A702-4062-8D6F-EC1E1E338C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1A47AA-64A9-4EA3-8FC1-4B39E3387C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992EF5-C90F-4DE3-8D0A-5CA6057278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E57CC1-A077-478C-B959-55203378AD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D31A6C-2D1B-4CAC-8B55-C5C4619C53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532DBC-76BB-4A8C-91D9-C903447EFE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63F1BB-ACDC-4B9F-A71C-507AF5991B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2C2E99-1482-4B81-9BB9-1CF278B281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604CAB-BE57-40DC-8EF8-6A346645B9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999610-35AF-4FA1-BE83-05F9586F29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1793880"/>
            <a:ext cx="7772400" cy="17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cs-CZ" sz="3600" spc="-1" strike="noStrike">
                <a:solidFill>
                  <a:srgbClr val="f3912c"/>
                </a:solidFill>
                <a:latin typeface="Helvetica CE"/>
              </a:rPr>
              <a:t> </a:t>
            </a:r>
            <a:r>
              <a:rPr b="1" lang="cs-CZ" sz="3600" spc="-1" strike="noStrike">
                <a:solidFill>
                  <a:srgbClr val="f3912c"/>
                </a:solidFill>
                <a:latin typeface="Helvetica CE"/>
              </a:rPr>
              <a:t>Seminář pro příjemce</a:t>
            </a:r>
            <a:br>
              <a:rPr sz="3600"/>
            </a:br>
            <a:r>
              <a:rPr b="1" lang="cs-CZ" sz="3600" spc="-1" strike="noStrike">
                <a:solidFill>
                  <a:srgbClr val="f3912c"/>
                </a:solidFill>
                <a:latin typeface="Helvetica CE"/>
              </a:rPr>
              <a:t>finanční podpory z Operačního programu Vzdělávání pro konkurenceschopnost 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i="1" lang="cs-CZ" sz="2800" spc="-1" strike="noStrike">
                <a:solidFill>
                  <a:srgbClr val="7f7f7f"/>
                </a:solidFill>
                <a:latin typeface="Helvetica CE"/>
              </a:rPr>
              <a:t>Ing. Pavlína Vitásková</a:t>
            </a:r>
            <a:br>
              <a:rPr sz="2800"/>
            </a:br>
            <a:r>
              <a:rPr b="1" i="1" lang="cs-CZ" sz="2800" spc="-1" strike="noStrike">
                <a:solidFill>
                  <a:srgbClr val="7f7f7f"/>
                </a:solidFill>
                <a:latin typeface="Helvetica CE"/>
              </a:rPr>
              <a:t>5.3.2012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Harmonogram monitorovacích zpráv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FBC3D6-C39E-49B1-8F7D-754B5BAE4F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2" descr=""/>
          <p:cNvPicPr/>
          <p:nvPr/>
        </p:nvPicPr>
        <p:blipFill>
          <a:blip r:embed="rId1"/>
          <a:stretch/>
        </p:blipFill>
        <p:spPr>
          <a:xfrm>
            <a:off x="2063880" y="2171880"/>
            <a:ext cx="4991040" cy="3173400"/>
          </a:xfrm>
          <a:prstGeom prst="rect">
            <a:avLst/>
          </a:prstGeom>
          <a:ln w="0">
            <a:noFill/>
          </a:ln>
        </p:spPr>
      </p:pic>
      <p:sp>
        <p:nvSpPr>
          <p:cNvPr id="560" name="Zástupný symbol pro datum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99F872-1365-4413-BF15-EDB19A70EA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6" descr=""/>
          <p:cNvPicPr/>
          <p:nvPr/>
        </p:nvPicPr>
        <p:blipFill>
          <a:blip r:embed="rId1"/>
          <a:stretch/>
        </p:blipFill>
        <p:spPr>
          <a:xfrm>
            <a:off x="1371600" y="1798560"/>
            <a:ext cx="5316480" cy="395604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4" descr=""/>
          <p:cNvPicPr/>
          <p:nvPr/>
        </p:nvPicPr>
        <p:blipFill>
          <a:blip r:embed="rId2"/>
          <a:stretch/>
        </p:blipFill>
        <p:spPr>
          <a:xfrm>
            <a:off x="6319800" y="2052720"/>
            <a:ext cx="2001960" cy="28638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cxnSp>
        <p:nvCxnSpPr>
          <p:cNvPr id="564" name="Přímá spojovací šipka 5"/>
          <p:cNvCxnSpPr/>
          <p:nvPr/>
        </p:nvCxnSpPr>
        <p:spPr>
          <a:xfrm>
            <a:off x="4188960" y="2901960"/>
            <a:ext cx="197856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80720" y="1108080"/>
            <a:ext cx="7815240" cy="58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Údaje o projektu a monitorovací zprávě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6" name="Elipsa 12"/>
          <p:cNvSpPr/>
          <p:nvPr/>
        </p:nvSpPr>
        <p:spPr>
          <a:xfrm>
            <a:off x="4024440" y="5600880"/>
            <a:ext cx="330120" cy="153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Zástupný symbol pro datum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DCEE4C-4AEC-4C5E-B698-784EC5FDB5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Zástupný symbol pro datum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9" descr=""/>
          <p:cNvPicPr/>
          <p:nvPr/>
        </p:nvPicPr>
        <p:blipFill>
          <a:blip r:embed="rId1"/>
          <a:srcRect l="0" t="0" r="0" b="11181"/>
          <a:stretch/>
        </p:blipFill>
        <p:spPr>
          <a:xfrm>
            <a:off x="1701720" y="1130400"/>
            <a:ext cx="5740560" cy="4808520"/>
          </a:xfrm>
          <a:prstGeom prst="rect">
            <a:avLst/>
          </a:prstGeom>
          <a:ln w="0">
            <a:noFill/>
          </a:ln>
        </p:spPr>
      </p:pic>
      <p:sp>
        <p:nvSpPr>
          <p:cNvPr id="571" name="Elipsa 10"/>
          <p:cNvSpPr/>
          <p:nvPr/>
        </p:nvSpPr>
        <p:spPr>
          <a:xfrm>
            <a:off x="1959120" y="1130400"/>
            <a:ext cx="420480" cy="2048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371600" y="110916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Monitorovací indikátory</a:t>
            </a: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3" name="Slide Number Placeholder 8"/>
          <p:cNvSpPr/>
          <p:nvPr/>
        </p:nvSpPr>
        <p:spPr>
          <a:xfrm>
            <a:off x="6588000" y="617364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F88D98-D5A6-4B24-B746-0F4A81B48A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6" descr=""/>
          <p:cNvPicPr/>
          <p:nvPr/>
        </p:nvPicPr>
        <p:blipFill>
          <a:blip r:embed="rId1"/>
          <a:stretch/>
        </p:blipFill>
        <p:spPr>
          <a:xfrm>
            <a:off x="752400" y="1676520"/>
            <a:ext cx="6283440" cy="408456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7" descr=""/>
          <p:cNvPicPr/>
          <p:nvPr/>
        </p:nvPicPr>
        <p:blipFill>
          <a:blip r:embed="rId2"/>
          <a:stretch/>
        </p:blipFill>
        <p:spPr>
          <a:xfrm>
            <a:off x="5672160" y="3970440"/>
            <a:ext cx="3240000" cy="11095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576" name="Zástupný symbol pro datum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7" name="Přímá spojovací šipka 9"/>
          <p:cNvCxnSpPr/>
          <p:nvPr/>
        </p:nvCxnSpPr>
        <p:spPr>
          <a:xfrm flipV="1">
            <a:off x="3303360" y="4584240"/>
            <a:ext cx="2369160" cy="496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371600" y="96948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Výběrová řízení 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9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36FC8B-8ABD-4AE0-A471-D3F07DB8F8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6" descr=""/>
          <p:cNvPicPr/>
          <p:nvPr/>
        </p:nvPicPr>
        <p:blipFill>
          <a:blip r:embed="rId1"/>
          <a:stretch/>
        </p:blipFill>
        <p:spPr>
          <a:xfrm>
            <a:off x="1990800" y="1536840"/>
            <a:ext cx="5365800" cy="4224240"/>
          </a:xfrm>
          <a:prstGeom prst="rect">
            <a:avLst/>
          </a:prstGeom>
          <a:ln w="0">
            <a:noFill/>
          </a:ln>
        </p:spPr>
      </p:pic>
      <p:sp>
        <p:nvSpPr>
          <p:cNvPr id="581" name="Zástupný symbol pro datum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329840" y="91872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Dodavatelé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F3C6C0-DEAF-4C9A-ABDF-16350448B1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6" descr=""/>
          <p:cNvPicPr/>
          <p:nvPr/>
        </p:nvPicPr>
        <p:blipFill>
          <a:blip r:embed="rId1"/>
          <a:stretch/>
        </p:blipFill>
        <p:spPr>
          <a:xfrm>
            <a:off x="1685880" y="1611360"/>
            <a:ext cx="5772240" cy="4006800"/>
          </a:xfrm>
          <a:prstGeom prst="rect">
            <a:avLst/>
          </a:prstGeom>
          <a:ln w="0">
            <a:noFill/>
          </a:ln>
        </p:spPr>
      </p:pic>
      <p:sp>
        <p:nvSpPr>
          <p:cNvPr id="585" name="Zástupný symbol pro datum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329840" y="929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Výběrová řízení - detaily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47366D-C9C4-456B-A6A3-104382C6A2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7" descr=""/>
          <p:cNvPicPr/>
          <p:nvPr/>
        </p:nvPicPr>
        <p:blipFill>
          <a:blip r:embed="rId1"/>
          <a:stretch/>
        </p:blipFill>
        <p:spPr>
          <a:xfrm>
            <a:off x="254160" y="1528920"/>
            <a:ext cx="5922720" cy="417672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8" descr=""/>
          <p:cNvPicPr/>
          <p:nvPr/>
        </p:nvPicPr>
        <p:blipFill>
          <a:blip r:embed="rId2"/>
          <a:stretch/>
        </p:blipFill>
        <p:spPr>
          <a:xfrm>
            <a:off x="4618080" y="3618000"/>
            <a:ext cx="4362480" cy="2738520"/>
          </a:xfrm>
          <a:prstGeom prst="rect">
            <a:avLst/>
          </a:prstGeom>
          <a:ln w="0">
            <a:noFill/>
          </a:ln>
        </p:spPr>
      </p:pic>
      <p:sp>
        <p:nvSpPr>
          <p:cNvPr id="590" name="Obdélník 6"/>
          <p:cNvSpPr/>
          <p:nvPr/>
        </p:nvSpPr>
        <p:spPr>
          <a:xfrm>
            <a:off x="2073240" y="3763800"/>
            <a:ext cx="2190960" cy="1371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Zástupný symbol pro datum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371600" y="968400"/>
            <a:ext cx="6283440" cy="5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Publicita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3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F2B0A1-4A12-420C-B056-409E12FF1F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6" descr=""/>
          <p:cNvPicPr/>
          <p:nvPr/>
        </p:nvPicPr>
        <p:blipFill>
          <a:blip r:embed="rId1"/>
          <a:stretch/>
        </p:blipFill>
        <p:spPr>
          <a:xfrm>
            <a:off x="1616040" y="1535040"/>
            <a:ext cx="5851440" cy="4226040"/>
          </a:xfrm>
          <a:prstGeom prst="rect">
            <a:avLst/>
          </a:prstGeom>
          <a:ln w="0">
            <a:noFill/>
          </a:ln>
        </p:spPr>
      </p:pic>
      <p:sp>
        <p:nvSpPr>
          <p:cNvPr id="595" name="Zástupný symbol pro datum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329840" y="88056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Klíčové aktivity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97E27C-AF28-436E-A2AD-B1074A4C9A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6" descr=""/>
          <p:cNvPicPr/>
          <p:nvPr/>
        </p:nvPicPr>
        <p:blipFill>
          <a:blip r:embed="rId1"/>
          <a:stretch/>
        </p:blipFill>
        <p:spPr>
          <a:xfrm>
            <a:off x="549360" y="1573200"/>
            <a:ext cx="5475240" cy="397368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5" descr=""/>
          <p:cNvPicPr/>
          <p:nvPr/>
        </p:nvPicPr>
        <p:blipFill>
          <a:blip r:embed="rId2"/>
          <a:stretch/>
        </p:blipFill>
        <p:spPr>
          <a:xfrm>
            <a:off x="5367240" y="2330280"/>
            <a:ext cx="3319560" cy="3665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cxnSp>
        <p:nvCxnSpPr>
          <p:cNvPr id="600" name="Přímá spojovací šipka 6"/>
          <p:cNvCxnSpPr/>
          <p:nvPr/>
        </p:nvCxnSpPr>
        <p:spPr>
          <a:xfrm flipV="1">
            <a:off x="5027760" y="4795560"/>
            <a:ext cx="226080" cy="3564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01" name="Zástupný symbol pro datum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329840" y="1084320"/>
            <a:ext cx="645804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Harmonogram aktivi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07F3FB-01BB-4217-9BB4-71A5E9AF0A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Picture 2" descr=""/>
          <p:cNvPicPr/>
          <p:nvPr/>
        </p:nvPicPr>
        <p:blipFill>
          <a:blip r:embed="rId1"/>
          <a:stretch/>
        </p:blipFill>
        <p:spPr>
          <a:xfrm>
            <a:off x="1971720" y="1952640"/>
            <a:ext cx="5200560" cy="3828960"/>
          </a:xfrm>
          <a:prstGeom prst="rect">
            <a:avLst/>
          </a:prstGeom>
          <a:ln w="0">
            <a:noFill/>
          </a:ln>
        </p:spPr>
      </p:pic>
      <p:sp>
        <p:nvSpPr>
          <p:cNvPr id="605" name="Zástupný symbol pro datum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Obsah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 algn="just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Helvetica CE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Helvetica CE"/>
              </a:rPr>
              <a:t>Doba realizace projektu a pravidla monitorování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452520" indent="-452520" algn="just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Helvetica CE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Helvetica CE"/>
              </a:rPr>
              <a:t>Věcná část monitorovací zprávy – monitorovací zpráva v Benefit7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452520" indent="-452520" algn="just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Helvetica CE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Helvetica CE"/>
              </a:rPr>
              <a:t>Přílohy k monitorovací zprávě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452520" indent="-452520" algn="just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Helvetica CE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Helvetica CE"/>
              </a:rPr>
              <a:t>Nejčastější chyby, rady a doporučení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452520" indent="-4525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6" name="Zástupný symbol pro datum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Zástupný symbol pro číslo snímk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99FBEC-482E-4F18-A9B5-515842A0E7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371600" y="979560"/>
            <a:ext cx="6283440" cy="5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Kontroly na místě 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7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06154F-46A6-43DD-889A-0C15A13FDA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7" descr=""/>
          <p:cNvPicPr/>
          <p:nvPr/>
        </p:nvPicPr>
        <p:blipFill>
          <a:blip r:embed="rId1"/>
          <a:stretch/>
        </p:blipFill>
        <p:spPr>
          <a:xfrm>
            <a:off x="1828800" y="1546200"/>
            <a:ext cx="5506920" cy="4286160"/>
          </a:xfrm>
          <a:prstGeom prst="rect">
            <a:avLst/>
          </a:prstGeom>
          <a:ln w="0">
            <a:noFill/>
          </a:ln>
        </p:spPr>
      </p:pic>
      <p:sp>
        <p:nvSpPr>
          <p:cNvPr id="609" name="Zástupný symbol pro datum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330200" y="1109520"/>
            <a:ext cx="6283440" cy="56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Podstatné/Nepodstatné změny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1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196EDA-B42D-4C51-AA6A-712C0A0CEA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6" descr=""/>
          <p:cNvPicPr/>
          <p:nvPr/>
        </p:nvPicPr>
        <p:blipFill>
          <a:blip r:embed="rId1"/>
          <a:stretch/>
        </p:blipFill>
        <p:spPr>
          <a:xfrm>
            <a:off x="528480" y="1674720"/>
            <a:ext cx="5507280" cy="405612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5" descr=""/>
          <p:cNvPicPr/>
          <p:nvPr/>
        </p:nvPicPr>
        <p:blipFill>
          <a:blip r:embed="rId2"/>
          <a:stretch/>
        </p:blipFill>
        <p:spPr>
          <a:xfrm>
            <a:off x="5232240" y="3027240"/>
            <a:ext cx="3657600" cy="1760760"/>
          </a:xfrm>
          <a:prstGeom prst="rect">
            <a:avLst/>
          </a:prstGeom>
          <a:ln w="0">
            <a:noFill/>
          </a:ln>
        </p:spPr>
      </p:pic>
      <p:cxnSp>
        <p:nvCxnSpPr>
          <p:cNvPr id="614" name="Přímá spojovací šipka 6"/>
          <p:cNvCxnSpPr/>
          <p:nvPr/>
        </p:nvCxnSpPr>
        <p:spPr>
          <a:xfrm>
            <a:off x="3484080" y="3860280"/>
            <a:ext cx="1545480" cy="25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15" name="Zástupný symbol pro datum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330200" y="995400"/>
            <a:ext cx="6283440" cy="5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Přílohy monitorovací zprávy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7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E3CF07-6F98-40BE-837C-E22A745809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7" descr=""/>
          <p:cNvPicPr/>
          <p:nvPr/>
        </p:nvPicPr>
        <p:blipFill>
          <a:blip r:embed="rId1"/>
          <a:stretch/>
        </p:blipFill>
        <p:spPr>
          <a:xfrm>
            <a:off x="1727280" y="1562040"/>
            <a:ext cx="5648400" cy="4056120"/>
          </a:xfrm>
          <a:prstGeom prst="rect">
            <a:avLst/>
          </a:prstGeom>
          <a:ln w="0">
            <a:noFill/>
          </a:ln>
        </p:spPr>
      </p:pic>
      <p:sp>
        <p:nvSpPr>
          <p:cNvPr id="619" name="Zástupný symbol pro datum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371600" y="2641680"/>
            <a:ext cx="6283440" cy="89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Přílohy k Monitorovací zprávě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1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EDC43F-1AD5-4289-B18B-A1C7C9D600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Zástupný symbol pro datum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329840" y="10854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Struktura monitorovací zprávy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FD98ED-C3EB-4E24-ADD6-08917A190B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4" descr=""/>
          <p:cNvPicPr/>
          <p:nvPr/>
        </p:nvPicPr>
        <p:blipFill>
          <a:blip r:embed="rId1"/>
          <a:stretch/>
        </p:blipFill>
        <p:spPr>
          <a:xfrm>
            <a:off x="1330200" y="1778040"/>
            <a:ext cx="6142320" cy="3790800"/>
          </a:xfrm>
          <a:prstGeom prst="rect">
            <a:avLst/>
          </a:prstGeom>
          <a:ln w="0">
            <a:noFill/>
          </a:ln>
        </p:spPr>
      </p:pic>
      <p:sp>
        <p:nvSpPr>
          <p:cNvPr id="626" name="Zástupný symbol pro datum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DC4010-25DD-4124-9928-BC8A2B3567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Picture 4" descr=""/>
          <p:cNvPicPr/>
          <p:nvPr/>
        </p:nvPicPr>
        <p:blipFill>
          <a:blip r:embed="rId1"/>
          <a:stretch/>
        </p:blipFill>
        <p:spPr>
          <a:xfrm>
            <a:off x="1063800" y="1330200"/>
            <a:ext cx="7045200" cy="4075200"/>
          </a:xfrm>
          <a:prstGeom prst="rect">
            <a:avLst/>
          </a:prstGeom>
          <a:ln w="0">
            <a:noFill/>
          </a:ln>
        </p:spPr>
      </p:pic>
      <p:sp>
        <p:nvSpPr>
          <p:cNvPr id="629" name="Zástupný symbol pro datum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9D8FB0-7041-4A07-8050-4252527028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Picture 4" descr=""/>
          <p:cNvPicPr/>
          <p:nvPr/>
        </p:nvPicPr>
        <p:blipFill>
          <a:blip r:embed="rId1"/>
          <a:stretch/>
        </p:blipFill>
        <p:spPr>
          <a:xfrm>
            <a:off x="1220760" y="1311120"/>
            <a:ext cx="6674040" cy="4034160"/>
          </a:xfrm>
          <a:prstGeom prst="rect">
            <a:avLst/>
          </a:prstGeom>
          <a:ln w="0">
            <a:noFill/>
          </a:ln>
        </p:spPr>
      </p:pic>
      <p:sp>
        <p:nvSpPr>
          <p:cNvPr id="632" name="Zástupný symbol pro datum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Zástupný symbol pro číslo snímk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13B691-0F13-407F-ACB7-0EEBE2BD43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cture 8" descr=""/>
          <p:cNvPicPr/>
          <p:nvPr/>
        </p:nvPicPr>
        <p:blipFill>
          <a:blip r:embed="rId1"/>
          <a:srcRect l="0" t="0" r="0" b="3894"/>
          <a:stretch/>
        </p:blipFill>
        <p:spPr>
          <a:xfrm>
            <a:off x="633240" y="1212840"/>
            <a:ext cx="7709040" cy="4273560"/>
          </a:xfrm>
          <a:prstGeom prst="rect">
            <a:avLst/>
          </a:prstGeom>
          <a:ln w="0">
            <a:noFill/>
          </a:ln>
        </p:spPr>
      </p:pic>
      <p:sp>
        <p:nvSpPr>
          <p:cNvPr id="635" name="Zástupný symbol pro datum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 txBox="1"/>
          <p:nvPr/>
        </p:nvSpPr>
        <p:spPr>
          <a:xfrm>
            <a:off x="1371600" y="1655640"/>
            <a:ext cx="6283440" cy="37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eškeré materiály ze souborů 04-09 není nutné dodávat jak v listinné, tak v elektronické formě na CD. Postačí vybrat si jeden z těchto způsobů, avšak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rosím nekombinujte způsob scan nebo kopie u skupin materiálů 04 – 09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Dokumenty k zadávacím řízením a Rozpisy/rozpočet se dodávají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Helvetica CE"/>
              </a:rPr>
              <a:t>vždy elektronicky na CD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kud se rozhodnete MZ dodávat v listinné podobě, tzn. skupinu materiálů 04-09 dodávat v listinné kopii, pro oddělení jednotlivých skupin materiálů v rámci listinné MZ použijte, prosím, </a:t>
            </a:r>
            <a:r>
              <a:rPr b="1" i="1" lang="cs-CZ" sz="1800" spc="-1" strike="noStrike">
                <a:solidFill>
                  <a:srgbClr val="000000"/>
                </a:solidFill>
                <a:latin typeface="Helvetica CE"/>
              </a:rPr>
              <a:t>standardizované oddělovací listy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(viz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Helvetica CE"/>
              </a:rPr>
              <a:t>http://www.msmt.cz/file/17037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37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B9D148-A81D-4719-BDA9-2B853FC90B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196640" y="963720"/>
            <a:ext cx="645804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Struktura monitorovací zprávy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39" name="Zástupný symbol pro datum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Struktura monitorovací zprávy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1329840" y="212040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aopak rozhodnete-li se pro elektronické dodávání dokumentů formou scanu, při zpracování monitorovací zprávy prosím vycházejte z příruček a pokynů uveřejněných na webu MŠMT, zejména pak z dokumentů </a:t>
            </a:r>
            <a:r>
              <a:rPr b="1" i="1" lang="cs-CZ" sz="1800" spc="-1" strike="noStrike">
                <a:solidFill>
                  <a:srgbClr val="000000"/>
                </a:solidFill>
                <a:latin typeface="Helvetica CE"/>
              </a:rPr>
              <a:t>„Struktura CD“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(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Helvetica CE"/>
              </a:rPr>
              <a:t>http://www.msmt.cz/file/15765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) a </a:t>
            </a:r>
            <a:r>
              <a:rPr b="1" i="1" lang="cs-CZ" sz="1800" spc="-1" strike="noStrike">
                <a:solidFill>
                  <a:srgbClr val="000000"/>
                </a:solidFill>
                <a:latin typeface="Helvetica CE"/>
              </a:rPr>
              <a:t>„Struktura ELMZ“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(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Helvetica CE"/>
              </a:rPr>
              <a:t>http://www.msmt.cz/file/17147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), v nichž jsou uvedeny přesné pokyny pro podobu elektronické monitorovací zprávy a pojmenování dokumentů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Materiály s označením Zdrojové soubory musí být doloženy vždy elektronicky na CD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218A45-2C85-4358-9719-9EACD82D58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Zástupný symbol pro datum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371600" y="124884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Doba realizace projektu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1371600" y="1816200"/>
            <a:ext cx="628344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just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spcAft>
                <a:spcPts val="601"/>
              </a:spcAft>
              <a:buClr>
                <a:srgbClr val="f3912c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Zahájení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datum akceptace Rozhodnutí o poskytnutí dotace nebo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ozdější datum uvedené v Rozhodnutí o poskytnutí dotac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spcAft>
                <a:spcPts val="601"/>
              </a:spcAft>
              <a:buClr>
                <a:srgbClr val="f3912c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Ukončení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datum uvedené v právním a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0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802BB6-ED40-49E2-99BF-418E6DFBD2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Zástupný symbol pro datum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Struktura CD a označení elektronicky dokládaných souborů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5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A59673-7219-40BD-B171-8512B078A0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Picture 2" descr=""/>
          <p:cNvPicPr/>
          <p:nvPr/>
        </p:nvPicPr>
        <p:blipFill>
          <a:blip r:embed="rId1"/>
          <a:stretch/>
        </p:blipFill>
        <p:spPr>
          <a:xfrm>
            <a:off x="2549520" y="2198520"/>
            <a:ext cx="4537080" cy="3719520"/>
          </a:xfrm>
          <a:prstGeom prst="rect">
            <a:avLst/>
          </a:prstGeom>
          <a:ln w="0">
            <a:noFill/>
          </a:ln>
        </p:spPr>
      </p:pic>
      <p:sp>
        <p:nvSpPr>
          <p:cNvPr id="647" name="Zástupný symbol pro datum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Struktura CD a označení elektronicky dokládaných souborů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1329840" y="2198520"/>
            <a:ext cx="6458040" cy="33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Je nutné dodržet pravidla pro pojmenovávání souborů a dokumentů doložených na CD, která jsou uvedena v tabulce „Struktura ELMZ“ zveřejněné na webu MŠMT (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Helvetica CE"/>
              </a:rPr>
              <a:t>http://www.msmt.cz/file/17147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 případě, že v určité skupině materiálů nejsou v rámci monitorovací zprávy předkládány žádné soubory příloh, není požadováno definovanou složku na CD vytvářet. Vždy je však </a:t>
            </a:r>
            <a:r>
              <a:rPr b="1" i="1" lang="cs-CZ" sz="1800" spc="-1" strike="noStrike">
                <a:solidFill>
                  <a:srgbClr val="000000"/>
                </a:solidFill>
                <a:latin typeface="Helvetica CE"/>
              </a:rPr>
              <a:t>nutné zařadit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předkládaný soubor do některé z nadefinovaných složek. Není možné pouze vložit soubor na CD bez požadovaného </a:t>
            </a:r>
            <a:r>
              <a:rPr b="1" i="1" lang="cs-CZ" sz="1800" spc="-1" strike="noStrike">
                <a:solidFill>
                  <a:srgbClr val="000000"/>
                </a:solidFill>
                <a:latin typeface="Helvetica CE"/>
              </a:rPr>
              <a:t>pojmenování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a přiřazení ke skupině materiálů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21A1EE-E846-4CE9-9A51-929E783F10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Zástupný symbol pro datum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Struktura CD a označení elektronicky dokládaných souborů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3F85E4-5A97-4E07-9BCC-F824D9DD2E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Picture 5" descr=""/>
          <p:cNvPicPr/>
          <p:nvPr/>
        </p:nvPicPr>
        <p:blipFill>
          <a:blip r:embed="rId1"/>
          <a:stretch/>
        </p:blipFill>
        <p:spPr>
          <a:xfrm>
            <a:off x="890640" y="1952640"/>
            <a:ext cx="6645240" cy="4060800"/>
          </a:xfrm>
          <a:prstGeom prst="rect">
            <a:avLst/>
          </a:prstGeom>
          <a:ln w="0">
            <a:noFill/>
          </a:ln>
        </p:spPr>
      </p:pic>
      <p:sp>
        <p:nvSpPr>
          <p:cNvPr id="655" name="Zástupný symbol pro datum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329840" y="1023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Struktura CD a označení elektronicky dokládaných souborů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D148FF-56E0-4DB0-927B-71CE0E4EB6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Picture 6" descr=""/>
          <p:cNvPicPr/>
          <p:nvPr/>
        </p:nvPicPr>
        <p:blipFill>
          <a:blip r:embed="rId1"/>
          <a:stretch/>
        </p:blipFill>
        <p:spPr>
          <a:xfrm>
            <a:off x="484200" y="1716120"/>
            <a:ext cx="5735520" cy="362916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2" descr=""/>
          <p:cNvPicPr/>
          <p:nvPr/>
        </p:nvPicPr>
        <p:blipFill>
          <a:blip r:embed="rId2"/>
          <a:stretch/>
        </p:blipFill>
        <p:spPr>
          <a:xfrm>
            <a:off x="3895560" y="3759120"/>
            <a:ext cx="4791240" cy="1947960"/>
          </a:xfrm>
          <a:prstGeom prst="rect">
            <a:avLst/>
          </a:prstGeom>
          <a:ln w="0">
            <a:noFill/>
          </a:ln>
        </p:spPr>
      </p:pic>
      <p:sp>
        <p:nvSpPr>
          <p:cNvPr id="660" name="Zástupný symbol pro datum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329840" y="2746440"/>
            <a:ext cx="645804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Helvetica CE"/>
              </a:rPr>
              <a:t>Nejčastější chyby, </a:t>
            </a:r>
            <a:br>
              <a:rPr sz="3600"/>
            </a:br>
            <a:r>
              <a:rPr b="1" lang="cs-CZ" sz="3600" spc="-1" strike="noStrike">
                <a:solidFill>
                  <a:srgbClr val="f3912c"/>
                </a:solidFill>
                <a:latin typeface="Helvetica CE"/>
              </a:rPr>
              <a:t>rady a doporučení</a:t>
            </a:r>
            <a:endParaRPr b="1" lang="en-US" sz="3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2" name="Zástupný symbol pro datum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0ED9F8-DF82-438F-A566-F6E7C37CF3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329840" y="108072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Nejčastější chyby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1329840" y="1426680"/>
            <a:ext cx="6458040" cy="41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25800" indent="-32580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časné neinformování PM o změně typu MZ (mimořádná) či změně MO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25800" indent="-32580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euvedení statutárního zástupce v podpisových vzorech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25800" indent="-32580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ezatržení checkboxu </a:t>
            </a:r>
            <a:r>
              <a:rPr b="0" i="1" lang="cs-CZ" sz="1800" spc="-1" strike="noStrike">
                <a:solidFill>
                  <a:srgbClr val="000000"/>
                </a:solidFill>
                <a:latin typeface="Helvetica CE"/>
              </a:rPr>
              <a:t>„K této MZ bude zpracována Žádost o platbu“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v případě předložení ŽoP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25800" indent="-32580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ytvoření a uložení prázdného řádku, který znemožní finalizaci MZ (nejčastěji u záložky Kontrola na místě a Podstatné/nepodstatné změny).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25800" indent="-32580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euvádění zdůvodnění u zrušených výběrových řízení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25800" indent="-32580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edostatečně vyplněné pole „popis“ u VŘ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25800" indent="-32580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Chybné číslování příloh v bodě 13.monitorovací zprávy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25800" indent="-32580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25800" indent="-3258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25800" indent="-3258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5910CA-5303-4419-9C09-0DA05F6F07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Zástupný symbol pro datum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329840" y="1063800"/>
            <a:ext cx="645804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Nejčastější chyby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1329840" y="1914120"/>
            <a:ext cx="6458040" cy="37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edodržení pravidel pro pojmenování elektronicky dokládaných souborů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esprávné zařazení elektronicky dokládaných souborů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ezařazení skupin materiálů 01 – 09 do jedné složky na CD pojmenované MonitorovaciZprava 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edoložení formulářů skupiny materiálů Rozpisy/Rozpočet v jednom souboru, ale každého zvlášť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 případě doložení pracovních smluv/dohod formou scanů na CD jsou veškeré smlouvy naskenovány v jednom souboru, avšak každá smlouva/dohoda, za jednotlivou osobu se uvádí zvlášť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046E59-EF43-4FEA-8127-5BBB294197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Zástupný symbol pro datum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Rady a doporučení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1329840" y="1704960"/>
            <a:ext cx="645804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18960" indent="-31896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 založení MZ nezapomenout dát Načíst data z M7+/Náklady z M7+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18960" indent="-31896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Ukládat záznam po každém zadání údajů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18960" indent="-31896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Změnu osob na projektu a jejich údajů (statutární zástupce a kontaktní osoba) je povinné zaznamenat také na záložce Podstatné/Nepodstatné změny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18960" indent="-31896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le </a:t>
            </a:r>
            <a:r>
              <a:rPr b="0" i="1" lang="cs-CZ" sz="1800" spc="-1" strike="noStrike">
                <a:solidFill>
                  <a:srgbClr val="000000"/>
                </a:solidFill>
                <a:latin typeface="Helvetica CE"/>
              </a:rPr>
              <a:t>„Další informace o realizaci projektu“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louží k uvedení obecných informací, které se udály během daného monitorovacího období a které není možno přiřadit k žádné záložce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18960" indent="-31896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Do popisu MI  v B7 uvádět hodnotu dosaženou v tomto MO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18960" indent="-31896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18960" indent="-31896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18960" indent="-31896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730E29-A65D-46C6-8DA8-B03CBCCC5C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Zástupný symbol pro datum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Rady a doporučení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1329840" y="1952280"/>
            <a:ext cx="6458040" cy="36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 případě chybně zadaného VŘ v B7 není možné záznam smazat!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Monitorovací indikátory, veřejné zakázky a přepracovaný harmonogram již není třeba dodávat jako samostatné přílohy, jsou přímo součástí samotné monitorovací zprávy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eškerá dokumentace k ZŘ se dodává vždy v elektronické podobě na CD, stejně jako skupina materiálů Rozpisy/Rozpočet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Za povinnou část elektronického označení souboru lze doplnit libovolnou specifikaci dokumentu, avšak je potřeba se vyhnout příliš dlouhým názvům, diakritice a mezerám (místo nich používat dolní podtržítko)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B92003-6EE9-40BD-9F63-C6AA5C788E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Zástupný symbol pro datum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Rady a doporučení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1329840" y="215388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ři dodání MZ  ve formě scanů se nedoporučuje vytvářet vlastní označení souborů a dokumentů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25800" indent="-32580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ení také vhodné vytvářet spoustu do sebe vnořených složek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25800" indent="-32580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 textu MZ uvádět odkaz na konkrétní přílohu/název souboru, který dokládá popisovanou skutečnost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25800" indent="-32580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tatutární zástupce a Funkce statutárního zástupce se tiskne automaticky do čestného prohlášení tištěné sestavy monitorovací zprávy v Benefit7. V případě, že MZ podepisuje jiná pověřená osoba, stačí vygenerované údaje přeškrtnout a doplnit ty správné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25800" indent="-3258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14B6C7-5B91-452E-82A9-AF10CE08BB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Zástupný symbol pro datum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371600" y="966600"/>
            <a:ext cx="6283440" cy="56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Doba realizace projektu</a:t>
            </a:r>
            <a:br>
              <a:rPr sz="2800"/>
            </a:b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1371600" y="1816200"/>
            <a:ext cx="628344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spcAft>
                <a:spcPts val="601"/>
              </a:spcAft>
              <a:buClr>
                <a:srgbClr val="f3912c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Změna data ukonče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odstatná změna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možná pouze v řádně odůvodněných a schválených případech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spcAft>
                <a:spcPts val="601"/>
              </a:spcAft>
              <a:buClr>
                <a:srgbClr val="f3912c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Způsobilé výdaje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od data zahájení projektu do data ukončení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o datu ukončení pouze výdaje bezprostředně související s realizací projektu např. audit projektu, mzd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D43681-A75B-4A77-A840-2C6D5D8070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Zástupný symbol pro datum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Rady a doporučení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ři vrácení MZ v Benefit7 k dopracování stačí provést „storno finalizace“ a pole budou editovatelná. Před novou finalizací nezapomeňte, prosím, změnit pole „Předpokládané datum předložení ŘO/ZS“ na datum předpokládaného dodání připomínek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Korespondenční adresou pro doručení monitorovací zprávy je: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MŠMT, odbor CERA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Karmelitská 7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118 12 Praha 1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6" name="Zástupný symbol pro datum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Zástupný symbol pro číslo snímk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D922C8-4E27-4A52-A3BA-4169F9F3EA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Další zdroj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1329840" y="2171880"/>
            <a:ext cx="6458040" cy="24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Web MŠMT – sekce Strukturální fondy – OP VK – Pro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žadatele a příjemce – Příručka pro příjemce: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http://www.msmt.cz/strukturalni-fondy/prirucka-pro-prijemce-op-vk-verze-5-platna-od-9-8-2010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radenství v rámci individuálních konzultací                     s projektovými manažer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2F8090-E603-4C0C-BB1A-894347D197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Zástupný symbol pro datum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 txBox="1"/>
          <p:nvPr/>
        </p:nvSpPr>
        <p:spPr>
          <a:xfrm>
            <a:off x="1343160" y="1842840"/>
            <a:ext cx="645768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Helvetica CE"/>
              </a:rPr>
              <a:t>Prostor pro případné dotazy</a:t>
            </a:r>
            <a:endParaRPr b="0" lang="en-US" sz="4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3" name="Zástupný symbol pro datum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Zástupný symbol pro číslo snímk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DBCA1B-24AE-466D-9448-485880EE0F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371600" y="2376000"/>
            <a:ext cx="6283440" cy="102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Helvetica CE"/>
              </a:rPr>
              <a:t>Děkuji za pozornost</a:t>
            </a:r>
            <a:endParaRPr b="1" lang="en-US" sz="3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1371600" y="1695600"/>
            <a:ext cx="628344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2880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216000" indent="-21600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216000" indent="-21600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216000" indent="-21600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216000" indent="-21600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Helvetica CE"/>
              </a:rPr>
              <a:t>Ing. Pavlína Vitásková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216000" indent="-21600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216000" indent="-216000"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Ministerstvo školství, mládeže a tělovýchovy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216000" indent="-216000"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Odbor CERA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216000" indent="-216000"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email.: pavlina.vitaskova@msmt.cz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7" name="Zástupný symbol pro datum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Zástupný symbol pro číslo snímk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C4530D-59AF-4700-B517-3B49CF87F4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371600" y="124884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Pravidla monitorování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1371600" y="1816200"/>
            <a:ext cx="6283440" cy="34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lvl="1" marL="397440" algn="just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298440" indent="-298440" algn="just">
              <a:spcBef>
                <a:spcPts val="601"/>
              </a:spcBef>
              <a:buClr>
                <a:srgbClr val="f3912c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Monitorovací zpráv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974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růběžná monitorovací zpráva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974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mimořádná průběžná monitorovací zpráva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974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závěrečná monitorovací zpráva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97440" algn="just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298440" indent="-298440" algn="just">
              <a:spcBef>
                <a:spcPts val="601"/>
              </a:spcBef>
              <a:buClr>
                <a:srgbClr val="f3912c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Možnosti stanovení monitorovacího obdob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974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ode dne začátku realizace projektu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974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od prvního dne měsíce, v němž začal být projekt realizován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298440" indent="-298440"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298440" indent="-298440"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298440" indent="-298440"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8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39B2DD-CB1D-444B-951B-735A831E9F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Zástupný symbol pro datum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371600" y="2082960"/>
            <a:ext cx="628344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Helvetica CE"/>
              </a:rPr>
              <a:t>Věcná část Monitorovací zprávy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1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E6693E-81C5-47A1-8530-9846C790C0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Zástupný symbol pro datum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329840" y="1245960"/>
            <a:ext cx="645804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Elektronická monitorovací zpráva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1329840" y="2487600"/>
            <a:ext cx="6458040" cy="36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Předkládá se prostřednictvím aplikace Benefit7.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Příručka pro vytvoření elektronické monitorovací zprávy v B7  s technickým i metodickým postupem je uveřejněna na webu MŠMT 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viz: http://www.msmt.cz/strukturalni-fondy/elektronicka-monitorovaci-zprava-a-jeji-prilohy-platna-od-2 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Další informace (struktura, přílohy) k předkládání elektronické monitorovací zprávy jsou rovněž uveřejněny na webu MŠMT. 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5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57FF54-B4C7-43BB-9523-72E7D51307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Zástupný symbol pro datum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329840" y="1246320"/>
            <a:ext cx="6458040" cy="7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Elektronická monitorovací zpráva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806F2B-7E7A-46E0-A6DA-37C8BCE622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5" descr=""/>
          <p:cNvPicPr/>
          <p:nvPr/>
        </p:nvPicPr>
        <p:blipFill>
          <a:blip r:embed="rId1"/>
          <a:stretch/>
        </p:blipFill>
        <p:spPr>
          <a:xfrm>
            <a:off x="1330200" y="2205000"/>
            <a:ext cx="5668920" cy="3667320"/>
          </a:xfrm>
          <a:prstGeom prst="rect">
            <a:avLst/>
          </a:prstGeom>
          <a:ln w="0">
            <a:noFill/>
          </a:ln>
        </p:spPr>
      </p:pic>
      <p:sp>
        <p:nvSpPr>
          <p:cNvPr id="550" name="Zástupný symbol pro datum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329840" y="91404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Monitorovací zpráva v Benefit7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CA5972-F7CA-44AF-9199-F79966BD3C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4" descr=""/>
          <p:cNvPicPr/>
          <p:nvPr/>
        </p:nvPicPr>
        <p:blipFill>
          <a:blip r:embed="rId1"/>
          <a:stretch/>
        </p:blipFill>
        <p:spPr>
          <a:xfrm>
            <a:off x="538200" y="1800360"/>
            <a:ext cx="6014880" cy="405576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5" descr=""/>
          <p:cNvPicPr/>
          <p:nvPr/>
        </p:nvPicPr>
        <p:blipFill>
          <a:blip r:embed="rId2"/>
          <a:stretch/>
        </p:blipFill>
        <p:spPr>
          <a:xfrm>
            <a:off x="4297320" y="2921040"/>
            <a:ext cx="4511880" cy="18954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cxnSp>
        <p:nvCxnSpPr>
          <p:cNvPr id="555" name="Přímá spojovací šipka 14"/>
          <p:cNvCxnSpPr/>
          <p:nvPr/>
        </p:nvCxnSpPr>
        <p:spPr>
          <a:xfrm>
            <a:off x="1655280" y="3565440"/>
            <a:ext cx="2490120" cy="1231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56" name="Zástupný symbol pro datum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7:09:51Z</dcterms:created>
  <dc:creator>Amos Amos</dc:creator>
  <dc:description/>
  <dc:language>en-US</dc:language>
  <cp:lastModifiedBy>Pavlína Vitásková</cp:lastModifiedBy>
  <dcterms:modified xsi:type="dcterms:W3CDTF">2012-02-27T08:04:57Z</dcterms:modified>
  <cp:revision>473</cp:revision>
  <dc:subject/>
  <dc:title>Titulní strana – Titulek</dc:title>
</cp:coreProperties>
</file>