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89269-F5C6-4618-9359-C6B6458BB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B0E6B-FE4E-4DC5-9D87-1EB5A5CB1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 případě, že se příjemce rozhodne v souladu s Příručkou pro příjemce vztáhnout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začátek monitorovacího obdob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prvnímu dni v měsíci, v němž začal realizovat, neprodleně (nejpozději však </a:t>
            </a:r>
            <a:r>
              <a:rPr b="1" lang="cs-CZ" sz="1200" spc="-1" strike="noStrike">
                <a:solidFill>
                  <a:srgbClr val="ff0000"/>
                </a:solidFill>
                <a:latin typeface="Calibri"/>
              </a:rPr>
              <a:t>10 pracovních dní před termínem odevzdáním monitorovací zprávy</a:t>
            </a: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ašle žádost na svého projektového manažera, který upraví v MONIT7+ Sledované období od a Sledované období do tak, aby se monitorovací období generovalo správně dle požadavků příjemce. Data sledovaného období není možné měnit pomocí pole „Načíst vybrané datové oblasti z M7+“. Pokud již příjemce MZ V B7 založil, je nutné ji smazat a znovu načíst data z Monit7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, že bude potřebovat příjemce změnit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Typ zprávy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(průběžná, mimořádná, závěrečná), musí rovněž požádat příslušného projektového manažera ZS/ŘO, aby typ zprávy změnil v IS Monit7+. Aby ZS/ŘO mohl tento typ zprávy změnit, musí příjemce opět původně založenou MZ v B7 smazat, pomocí tlačítka Smazat záznam. ZS/ŘO poté změní typ MZ a příjemce posléze může vytvořit novou MZ, uložit a znovu načíst data z Monit7+. Příjemce pošle svému PM (ZS kraj či odbor CERA) žádost o změnu typu monitorovací zprávy a t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ejpozději 10 pracovních dn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ed odevzdáním M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7067A-4C03-4064-BD90-67F3459E2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stisknutí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ačíst data z MONIT7+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jde k automatickému vyplnění údajů v polích na právě založené monitorovací zprávě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áčknutím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ačíst náklady z MONIT7+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 automaticky načte na záložce Rozpočet projektu aktuální podoba rozpočtu z právního aktu, popř. jeho dodatku. Zaktivní se další vybrané záložky finančního charakter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áčknutím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ačíst vybrané datové oblasti z MONIT7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+ se vygeneruje seznam datových oblastí z monitorovací zprávy. Pole se používá v případě, že došlo k změně údajů/informací v období tvorby monitorovací zprávy, byl o tom informován ZS/odbor CERA a příslušný projektový manažer provedl změnu dat v systému MONIT7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OZOR! Aktualizace dat znamená přepsání všech dat vybrané oblasti daty z M7+, to znamená, že se smažou dosud zadané inform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ED260-CC90-4EB4-8945-669F8DCC1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atržení checkbox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„Přepracovaný harmonogram aktivit“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 zaktivní záložka Harmonogram aktiv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l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„Další informace o realizaci projektu“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bylo vytvořeno z důvodu, že v Benefit7 neexistuje záložka, kde by příjemci mohli uvádět další informace o projektu, které se udály během daného monitorovacího období. Toto pole je příjemcům tedy volně k dispozici v případě, že budete mít potřebu popsat nějakou situaci či obecné informace se sledovaným obdobím spjaté. Jedná se o takové informace, které nelze přiřadit k jednotlivým záložkám benefitového formulář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7C3FE-B9FB-4A95-9E1E-A5A6223A9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musí v průběhu realizace projektu vykazovat také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etailní členění indikátorů (muži/ženy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chlapci/dívky,..), bez ohledu na to, že v projektové žádosti uvedl pouze indikátory součtové. Slouží ke statistickým účelům, nedosažení cílové hodnoty muži/ženy není sankcionováno (závazná je součtová hodnot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odnoty indikátorů se musí uvádět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kumulativně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tj. jako součet dosud vykazovaných MI + MI vykazované v daném monitorovacím obdob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C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1200" spc="-1" strike="noStrike">
                <a:solidFill>
                  <a:srgbClr val="000000"/>
                </a:solidFill>
                <a:latin typeface="Helvetica CE"/>
              </a:rPr>
              <a:t>popisu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 daného MI zároveň prosíme o uvedení dosažené hodnoty v daném M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dosažené hodnoty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- vyplní se automaticky po uložení záznamu vždy k datu Sledovaného období MZ do. Dále se po uložení pole Dosažená hodnota zpovinní pole „Popis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C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Vykazované indikátory se musí opírat o </a:t>
            </a:r>
            <a:r>
              <a:rPr b="1" lang="cs-CZ" sz="1200" spc="-1" strike="noStrike">
                <a:solidFill>
                  <a:srgbClr val="000000"/>
                </a:solidFill>
                <a:latin typeface="Helvetica CE"/>
              </a:rPr>
              <a:t>průkaznou evidenci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 vedenou příjemcem (Výkazy o provedené práci, prezenční listiny, certifikáty, atd. – tj. doklady, kterými můžete prokázat dosažené číselné hodnoty).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umenty dokladující jednotlivé monitorovací indikátory jsou součástí skupiny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09_Vystupy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(viz struktura monitorovací zpráv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B369E-E102-40E4-9AE8-916F92990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tav ZRUŠNO vs. NENAPLNĚ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Zrušeno“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– v případě, že příjemce v projektové žádosti uvedl plánovaná výběrová řízení, která již ale realizovat nebude (snížila se její hodnota, a tím pádem povinnost uskutečnit výběrové řízení/pozbyl důvod uskutečnit výběrové řízení apo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enaplněno“ -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ukončení smlouvy s dodavatelem výpovědí, odstoupením od smlouvy, dohodou nebo v případě prohlásí-li soud smlouvu za neplatn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o předpokládaného/skutečného data ukončení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Výběrového řízení se uvádí datum podpisu smlouvy s vítězným uchazeč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 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ředpokládané hodnotě a nasmlouvané ceně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eřejných zakázek by se měla uvádět hodnota vztahující se pouze k danému projektu, není-li možné uvést přesnou hodnotu, uveďte prosím co nejpřesnější odhad, skutečnou celou hodnotu za celou VŘ lze uvést v popis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všech výběrových řízení prosím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yplnění popisu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k výběrovým řízením. Toto pole je povinné – příjemce musí uvést doplňující informace k plánovanému či již zahájenému VŘ, o průběhu a výsledku řízení, o předmětu VŘ, o ceně, o hodnotící komisi, výběrových kritériích ap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A670C-FA9C-4C14-9FD6-517E7FDB3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de příjemce zadává pouze dodavatele/é VŘ ve stav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končeno a Nenaplněno.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ložka je provázaná se záložkou Výběrová řízení a Detaily k VŘ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více výherních dodavatelů je potřeba každého dodavatele postupně založit pomocí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ový záznam a Ulož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9371F-FBD8-477D-B688-F3266C319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zadaného (výherního) dodavatele, či dodavatelé (na záložce Dodavatelé k VŘ) aktivuje, tzn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. přenese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(přiřadí ke konkrétnímu Ukončenému či Nenaplněnému VŘ) zleva doprava pomocí (dvojitých šipek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99804-25C5-4B9C-BF15-F220F089A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9848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ložka obsahuj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ačtené nástroje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ublicity, které příjemce uvedl v žádosti o finanční podporu. Závazné aktivity povinné publicity jsou tedy uvedeny v příloze č. 1 Rozhodnutí o poskytnutí dot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Checkbox Publicita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splněna je navázaná na celý projekt, nikoliv na dané MO. Proto by mělo být příjemcem zaškrtnuto až ve chvíli konečné splnění formy publ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 důvodů archivace je také potřebné dodat i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rtScr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zřízených internetových stránek projektu, který bude součástí skupiny 08_Publici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nformace k publicitě vyplňujte vždy prosím ve vztahu k danému monitorovací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7CAFD-33BC-45BB-8DE4-0E3553042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Žlutá pole jsou povinná,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šedé pole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značené jako např. </a:t>
            </a:r>
            <a:r>
              <a:rPr b="0" i="1" lang="cs-CZ" sz="1200" spc="-1" strike="noStrike">
                <a:solidFill>
                  <a:srgbClr val="000000"/>
                </a:solidFill>
                <a:latin typeface="Calibri"/>
              </a:rPr>
              <a:t>Popis realizace klíčové aktivity v průběhu monitorovacího období I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slouží k doplnění či pokračování v informacích uvedených ve žlutém poli, tzn. využívají se  v případě, že příjemci k popisu realizace dané KA nestačí povinné žluté pole. V případě, že se text k dané problematice vejde do žlutého pole, není potřeba šedá pole vyplňov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Označení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Popis realizace/výstupu/plánované realizace v průběhu monitorovacího období I a II neoznačuje číslo monitorovacího období, ale pouze pořadové číslo po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tav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„Ukončeno“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 zvolí v případě definitivního ukončení realizace dané klíčové aktivity. V případě, že je daná klíčová aktivita v daném MO pouze přerušena a v dalším MO bude opět pokračovat, vybere se stav „realizována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B3384-4E05-4FCB-810B-6FBFEC608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ložka Harmonogram aktivit j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aktivní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v případě zatržení checkboxu na záložce Údaje o projektu a MZ. V opačném případě zůstávají pole bez možnosti edit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ěna harmonogramu klíčových aktivit j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epodstatnou změnou projektu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kterou je potřeba popsat a řádně zdůvodnit v rámci záložky „podstatné/nepodstatné“ změ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zhledem k faktu, že nyní je přepracovaný harmonogram již přímo součástí samotné monitorovací zprávy, není třeba jej vypracovávat a dodávat jako zvláštní příloh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325C8-E07D-46DD-A6B7-0F7C9FF54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D5D29-2F63-4F81-976F-B387C8E44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ato záložka slouží pro popis kontrol, které byly provedeny u příjemc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šemi kontrolními orgány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souvislosti s realizací projektu. Povinně jsou zde uváděny kontroly prováděné např. Finančním úřadem, Českou školní inspekcí atd. Dále uvádí také kontroly provedené jeho poskytovatelem podp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a této záložce se uvádí pouze kontroly na místě provedené a ukončené v daném M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, že v době vytváření monitorovací zprávy u vás probíhá kontrola externím subjektem 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ebyla ještě ukončena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ahrňte tuto kontrolu a její výsledky do následujícího monitorovacího obdob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POZORNĚNÍ: dejte pozor, aby zde omylem nebyl založen nevyplněný řádek, což by znemožnilo finalizaci MZ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1BB6E-623E-4702-BE91-5C0C4EF43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ěna, která má charakter podstatné změny projektu, nesmí být provedena před jejím schválením poskytovatelem podpory a před provedením úpravy nebo doplněním právního aktu o poskytnutí podp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Jednotlivá pole se vyplní v případě, že k změnám došlo. 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odstatné změny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až po akceptaci dodatku k Rozhodnutí o poskytnutí dot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odstatné změny se mohou podávat i mimo režim monitorovacích zpráv,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a zvláštním formuláři zveřejněném na webu MŠMT. Je-li podána v rámci MZ, je žádost o podstatnou změnu součástí složky DalsiDokumenty, podsložky KPravnimuA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statné/nepodstatné změny se do Benefit7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zadávají každá zvlášť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i když se např. týkají jednoho tématu (např. pro změnu harmonogramu v různých klíčových aktivitách se vytvoří vždy nový záznam pro každou z nich; stejně tak pro změnu rozpočtu se všechny nepodstatné změny neuvedou do jednoho záznamu, ale pro každou změnu se vytvoří nový zázna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POZORNĚNÍ: Pokud nemáte žádný záznam, stránku neukládejte, jinak dojde k vytvoření prázdného řádku, který znemožní finalizaci MZ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EFC54-5164-4B13-AA9D-DF5A61A51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 aplikace Benefit7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ejsou nahrávány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žádné přílohy vyjma souboru Rozpisy/Rozpočet, který je přílohou Zjednodušené žádosti o platbu vyplňované v aplikaci Benefit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tvořen je zde jen jakýsi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eznam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příloh, přičemž přílohy se označí číslem dle tabulky „struktura ELMZ“, tj. číslem 01-09 a názvem rovněž z této tabulky (např. Rozpisy/Rozpočet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archivační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účely prosím i o vyplňování polí „Počet listů“ a „Počet kopií“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24F5D-0974-4088-B08F-69B17CE9E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60580-8BB9-425C-8CFE-6CE9AFF39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A779D-7ADB-47CD-A3AA-F13C2E33C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758C0-BB9D-40AD-9A9B-95AF5C1BD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3D847-5C2B-4DD0-8C54-1F5A55CD6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622C1-A08C-42F8-B3F3-7FA7F751A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CFB0F-307C-4CDB-816E-C9839FEE6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1CAB5-E4A1-408B-B24A-66674F66A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CFD09-85F5-4903-B814-B514C713C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8BC19-AE28-4626-983E-B9C897878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432B8-8CE4-4FED-8AC0-971CCF411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5305B-94DD-4226-A3D6-341F0C2AE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A508B-E6EA-4637-8D40-809C4F8A6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946AA-A20B-4DFA-BB7E-60E57C2ED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46D5C-F62E-47D8-BF6A-208E23ED5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2F4F3-4DF5-439F-8667-827CEF34D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1175C-39E3-44C0-90D8-32184B252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553E3-0190-4468-B3B6-6F7762FD1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o následuje po odevzdání M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ontrola MZ poskytovatelem dotace (komunikace s projektovým a finančním manažer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vyzvání je příjemce povinen případné chybějící nebo doplňující údaje poskytnout d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5 pracovních dnů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– vyzvání proběhn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e-mailem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a zhotovitele MZ a hlavní kontaktní osob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F20FB-EEC9-4ADE-8406-48BC3C6B4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ýdaje za zřízení a vedení projektového účtu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hou být způsobilé před datem zahájení realizace (nejdříve však ode dne, kdy byl projekt schválen k realizaci ministryní/ministrem školství, mládeže a tělovýchovy) pouze v případě, stanovuje-li to výz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6FADE-8515-4F22-B9AA-4BB4EF626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6960F-F816-4EF6-8E00-B13BE328D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CBCE3-A510-469B-9C83-56B41B23A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3E69C-4F76-4B52-8D60-62DEFB86B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růběžná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monitorovací zpráva se odevzdává d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30 kalendářních dnů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 ukončení monitorovacího období (první MZ po 3 měsících, další MZ pak po 6 měsících realizace projektu), podepsaná statutárním zástupcem, v zalepené obálce s adresou poskytovatele, jménem příslušného PM a registračním číslem projektu. V případě, že není přesně dodržen termín doručení monitorovací zprávy, je daná skutečnost hlášena na místně příslušný FÚ jako podezření na porušení rozpočtové kázn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romě 1.MZ j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ždy její přílohou žádost o platbu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 (PpP, verze 5, str. 1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Mimořádná MZ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: monitorovací zpráva předložená mimo režim předem stanoveného intervalu, podaná v případě mimořádné žádosti o platbu. Termín následující průběžné MZ se řídí dle této mimořádné MZ, tj.  bude předložena opět po 6 měsících realizace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Závěrečná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monitorovací zpráva se váže k ukončení projektu, tj. k datu, které je uvedeno v právním aktu. Příjemce je následně povinen zpracovat a předložit poskytovateli podpory závěrečnou monitorovací zprávu společně se závěrečnou žádostí o platbu. Součástí  závěrečné MZ je rovněž Souhrnná informace o realizaci projektu OP VK spolu se všemi výstupy doloženými na CD. Předkládá se do 2 měsíců od ukončení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2CE58-BD17-4431-BFBA-4369A1F09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018FC-B78D-4F15-B795-EB416BADC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Benefit7 vs. Monit7+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 C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Helvetica CE"/>
              </a:rPr>
              <a:t>Adresa systému Benefit7: www.eu-zadost.c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D907E-D0A6-414F-9F8C-CD6817FD9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BBAD3-3BC8-4854-922D-36368319D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obecná pravidla Benefit7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á pole jsou žlutá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vinná pole jsou šedá s ohraničením (uživatel vyplňuje dle svého uvážení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automaticky doplňovaná pole jsou šedá bez orámování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zapomínat používat tlačítko „uložit záznam“ po každém zadání údaj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POZORNĚNÍ: V případě, že vložíte nový řádek, který ale zůstává nevyplněný, systém Vám neumožní projektovou žádost finalizov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2A0B3-A87E-40CB-BD92-75BAF3663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EEB-0419-4608-B3E8-09EC5BD2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587-6C26-4C79-A7B6-A50BC433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77D67-D198-493D-9218-2F478D55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1513A-C70B-4A42-9A54-6861D4DA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1CB31-1CCB-42C5-9A4F-08D1B9CD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7641D-9D69-412E-90A7-ABD0C0E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AF0C7-4BED-4EC4-9ADF-2B0F0CDE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5017A-7801-4B53-BA19-0556BAC0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C7884-121A-4D10-A603-AF45C97B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16D5E-5932-4976-A1BA-31E2DD32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7F3B9-FDA2-4BEB-A92C-208FA003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4B808-3AB0-46F3-90DD-A1B76690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27C-9ABC-4F67-84BB-8C291CE2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02AA1-00B6-4867-B1F1-89E28339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7C1E4-C2D3-4D44-8203-9F38C534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298FB-E233-454A-9BBA-D0A11BEC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CD825-1150-4B07-8A86-E5FECFD9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25DB6-CACE-4351-8639-DDA86C6A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218CD-1224-4D94-8383-30C7D121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7F024-5C10-4781-A691-BA5F905B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8FAF0-EAB8-4295-8506-70A5A0AA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ECD9A-4666-448C-BB08-80FFF76A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006A1-0F1B-4AA1-8D18-CC62A4BF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81A-7829-4976-AD07-ADED588A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3A382-E54D-466E-BDA6-8FF8E580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87EB8-A166-4E7F-893E-C194B0D9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B900C-771A-4FBF-BB7C-E913AE1F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E061C-26AB-4AD0-903D-6467A061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4A78E-E38C-49A7-B0EF-07348F1C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011D8-671A-4925-813B-81C5979F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D23C4-AC6A-4803-B534-FF19F24B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48905-50FE-416C-8434-2EE90F5D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8E1B7-506C-42EA-85CB-7DCE09AB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6D60A-E558-4719-9F45-A40DF66F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E030-DBA4-451D-974D-8D787C4C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0A553-72E4-4BE3-8C6D-DBFFE9FE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BF47D-4448-4D45-A04D-C2C5244E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B0453-E4DE-476B-96ED-51BBAFE2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3D476-6C02-4D1F-9C91-AE5119BA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8C1B5-8D79-41C5-8B86-6F3017EC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01A68-B650-4200-94B4-DC8E3C7A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D9FD2-FD57-42C4-93EC-6F5B0D28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D128B-FB56-4A91-9AB2-C995AE87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9B4CC-B490-4F96-ABC6-E2B63F8D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958B0-78F7-49BA-9B6D-198BFB78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D42C-9DFD-49B2-A018-3F16378E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A0D0C-8178-41D4-854F-0ACD64A6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CA324-0EB6-42C5-BEEB-0508AE7E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8959A-7C0E-4710-BC67-991EDADF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B101B-2C16-46DF-B04B-72139BEC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8C1DF-3D91-497C-B799-C5E62CF7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4A71-7272-4E5F-851D-316061A0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B109-90DB-4328-A1F5-94303C7A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3D9C-3A37-4E2C-9FBE-A66E5AC6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2FF3-2398-4A3A-9B62-D11344A9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5D16-0974-4729-BD3A-3B99D39B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4FF-2522-4B59-B112-58410509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F6A3-6992-4D26-A164-CD2F2918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7C02-3760-4CB1-8554-FB426B9C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92C4-D36F-40DC-930A-447E5CAC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1382-AF6F-4329-97BE-66000893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B86D-BA87-4479-A133-5519F59E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012E6-662B-40E7-A8E3-FBC8348D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EC389-C8A2-4EC6-A8B4-CD643C45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59FE0-E7F9-4B45-9980-44FD5FB8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7465F-BA94-482F-BC4B-F6990FAB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52B80-79C7-4357-9097-C5193126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4A1-24BF-4F2C-83CB-8AB6AA68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4CA1-73B6-47D5-AA42-042AE636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48E3-9DC2-4677-9AEC-6DB6CC74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CCD7E-773C-4016-864B-784EF89B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6FFB-C7FE-45BC-A374-65AF9276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E2C3-5A40-4781-BD53-B8EE31E2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31953-6DF3-4DE4-BA76-2A1A2351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89041-C250-4DB4-BBB3-007971BB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D6169-4417-4F66-846F-4922DBE4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1E262-7C96-46DF-B62B-25A2EC68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D0D55-D27B-4D2D-864A-CCF1AC64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3A0-439B-4B17-A377-2D2384D1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C62D9-638D-4E48-AA3E-520763BE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17496-9ADA-4994-9544-4669603F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C1AF9-EBA7-44B4-909D-6024439B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A1D6F-DEFC-495E-975C-194BC74E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EF923-6D7A-434C-839A-3E6176BD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EB7F7-0552-4CF1-8677-1B410AB3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6F75F-50D1-4948-9FB4-6D9D9A51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7B7C8-50F5-4803-B171-D79F9A8B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DBBD8-4CE5-4D86-9C02-E896E1F4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34AEC-C3B3-43E0-8A0B-C6A9C12D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367-0993-4AF3-9C9A-74CB1A38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C6258-A501-4268-9515-A3236A4C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239CE-158B-4ACB-9474-52039F88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2E9DF-4077-4554-A610-C9D7D234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45D72-B9AA-4A43-99EF-CEDA697E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DFD68-6672-465C-80D5-1312B66F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7888E-B5AA-47C5-8312-2FA31A7F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4096E-776A-4789-8632-091258D2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71678-F49E-4973-BAD1-788F9289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216F0-4FB0-478A-8908-9AE67FEE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65427-D257-41EF-BC44-9CF1C17A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71F-0410-4401-992F-14D2C6B0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E9CA1-B215-4A16-80FC-EFD7240E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08FB4-2EF8-4266-BADC-99B13440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C16A9-2598-4681-AFC0-32FC5883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7A13B-2FAE-427F-A963-F97296E4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015FA-6963-450E-9919-DC374DB3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9C982-2188-435A-8B39-A7F4F759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534BE-4F06-4F55-BC3A-F08007FD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F7CD1-9039-42EF-ADCC-7D15B990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544E2-A21D-41CA-B182-DD599CEF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87228-DA20-40B6-A3E4-5B02AEF1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9BC-1D29-4C64-95B4-BB423A65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687EE-C449-4EEE-BD50-15A2DB24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B501D-8332-4779-B339-554548DF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8B0F6-A61D-4938-B377-47B8D74E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CF5F7-5AC2-43B0-9A6A-42B182C9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0FD39-6E8D-4633-B2AD-C87D36DB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ABA3C-4323-4981-B522-10DCB882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C3F5F-3B50-46E2-A504-8BE3FA9F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6D963-28E2-49B9-867D-C185FA6C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E0F35-2EB0-4080-994E-23E4215A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EC02F-CCAB-4855-A558-61C91497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48DF-035F-4185-9641-7A154897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218E1-97ED-4A5C-9A8B-A52356AD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9AC73-B624-45AD-B06C-AF95E5AA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33BC2-A694-4A6B-BF28-EFCAEBBD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21AEE-969D-4936-9BD8-E471F0EE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16263-8B01-426E-A9FD-F0DCF659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FF933-9C8D-4E41-9125-E5AC449D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06EFB-7CD8-465D-A978-BBC53D3E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F89FB-646E-4AE3-A0D1-46816C3F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3C984-F0A4-4E2A-8DBC-127A7F96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5947F-9127-4E30-BECC-BD528550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08C-2699-43BF-BE27-5112DD75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E191A-5817-44A9-9F56-93528622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45493-E9F1-4811-93AE-90D3A8C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3AE96-E3F9-4E28-9F71-7D4665CE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B81EE-82A5-4559-8D7F-042ED323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E1BEF-C602-4953-942B-F6DD1F38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91B6A-2C29-4B43-B5D2-0AA80CDE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C8FA2-ED79-48EB-872E-DFDDD652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A3807-275A-4146-90F5-147434F3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216F8-8839-4296-8887-866AA8D2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AD771-D84F-42E6-A312-ED696B78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2A83E-F859-440D-A930-314BC0AE9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FC356F86-0754-46B0-89B8-3C926D844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28A4F-8712-4DF4-B170-C1A36BF7A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0A190-0FCF-4611-896B-1D8E9CB40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35D03-E6C8-4F1D-AF9F-420FBACC4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98D69-DC94-4B2F-B1F0-EA81B651E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F2838-2056-4445-9EB0-B680ACE97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773E7-2D3B-4197-B1E4-018AF2767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33609-3E9A-4301-9948-93096B8BB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B9186-2675-43E0-AD9D-0667790EE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52C15-C283-4FEB-882D-73EE82E1D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DBA73-E6B8-49CD-8F01-9DF3BF936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ABA1B-D507-4976-9A64-8B4D54D0B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793880"/>
            <a:ext cx="777240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 </a:t>
            </a: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Seminář pro příjemce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finanční podpory z Operačního programu Vzdělávání pro konkurenceschopnost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cs-CZ" sz="2800" spc="-1" strike="noStrike">
                <a:solidFill>
                  <a:srgbClr val="7f7f7f"/>
                </a:solidFill>
                <a:latin typeface="Helvetica CE"/>
              </a:rPr>
              <a:t>Ing. Pavlína Vitásková</a:t>
            </a:r>
            <a:br>
              <a:rPr sz="2800"/>
            </a:br>
            <a:r>
              <a:rPr b="1" i="1" lang="cs-CZ" sz="2800" spc="-1" strike="noStrike">
                <a:solidFill>
                  <a:srgbClr val="7f7f7f"/>
                </a:solidFill>
                <a:latin typeface="Helvetica CE"/>
              </a:rPr>
              <a:t>5.3.2012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Harmonogram monitorovacích zpráv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AB8D3-F7EB-4B92-AE85-BAACD286B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2063880" y="2171880"/>
            <a:ext cx="4991040" cy="3173400"/>
          </a:xfrm>
          <a:prstGeom prst="rect">
            <a:avLst/>
          </a:prstGeom>
          <a:ln w="0">
            <a:noFill/>
          </a:ln>
        </p:spPr>
      </p:pic>
      <p:sp>
        <p:nvSpPr>
          <p:cNvPr id="560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32DAF-6EA0-48E2-9ACB-D36D384E9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6" descr=""/>
          <p:cNvPicPr/>
          <p:nvPr/>
        </p:nvPicPr>
        <p:blipFill>
          <a:blip r:embed="rId1"/>
          <a:stretch/>
        </p:blipFill>
        <p:spPr>
          <a:xfrm>
            <a:off x="1371600" y="1798560"/>
            <a:ext cx="5316480" cy="3956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2"/>
          <a:stretch/>
        </p:blipFill>
        <p:spPr>
          <a:xfrm>
            <a:off x="6319800" y="2052720"/>
            <a:ext cx="2001960" cy="2863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564" name="Přímá spojovací šipka 5"/>
          <p:cNvCxnSpPr/>
          <p:nvPr/>
        </p:nvCxnSpPr>
        <p:spPr>
          <a:xfrm>
            <a:off x="4188960" y="2901960"/>
            <a:ext cx="19785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80720" y="1108080"/>
            <a:ext cx="7815240" cy="5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Údaje o projektu a monitorovací zprávě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Elipsa 12"/>
          <p:cNvSpPr/>
          <p:nvPr/>
        </p:nvSpPr>
        <p:spPr>
          <a:xfrm>
            <a:off x="4024440" y="5600880"/>
            <a:ext cx="330120" cy="153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Zástupný symbol pro datum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70877-73EF-4E1D-BB39-497E8C8E7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Zástupný symbol pro datum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9" descr=""/>
          <p:cNvPicPr/>
          <p:nvPr/>
        </p:nvPicPr>
        <p:blipFill>
          <a:blip r:embed="rId1"/>
          <a:srcRect l="0" t="0" r="0" b="11181"/>
          <a:stretch/>
        </p:blipFill>
        <p:spPr>
          <a:xfrm>
            <a:off x="1701720" y="1130400"/>
            <a:ext cx="5740560" cy="4808520"/>
          </a:xfrm>
          <a:prstGeom prst="rect">
            <a:avLst/>
          </a:prstGeom>
          <a:ln w="0">
            <a:noFill/>
          </a:ln>
        </p:spPr>
      </p:pic>
      <p:sp>
        <p:nvSpPr>
          <p:cNvPr id="571" name="Elipsa 10"/>
          <p:cNvSpPr/>
          <p:nvPr/>
        </p:nvSpPr>
        <p:spPr>
          <a:xfrm>
            <a:off x="1959120" y="1130400"/>
            <a:ext cx="420480" cy="204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71600" y="110916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Monitorovací indikátory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Slide Number Placeholder 8"/>
          <p:cNvSpPr/>
          <p:nvPr/>
        </p:nvSpPr>
        <p:spPr>
          <a:xfrm>
            <a:off x="6588000" y="61736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3A094-70A4-47EE-906C-8FF592E87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"/>
          <p:cNvPicPr/>
          <p:nvPr/>
        </p:nvPicPr>
        <p:blipFill>
          <a:blip r:embed="rId1"/>
          <a:stretch/>
        </p:blipFill>
        <p:spPr>
          <a:xfrm>
            <a:off x="752400" y="1676520"/>
            <a:ext cx="6283440" cy="40845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"/>
          <p:cNvPicPr/>
          <p:nvPr/>
        </p:nvPicPr>
        <p:blipFill>
          <a:blip r:embed="rId2"/>
          <a:stretch/>
        </p:blipFill>
        <p:spPr>
          <a:xfrm>
            <a:off x="5672160" y="3970440"/>
            <a:ext cx="3240000" cy="1109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76" name="Zástupný symbol pro datum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Přímá spojovací šipka 9"/>
          <p:cNvCxnSpPr/>
          <p:nvPr/>
        </p:nvCxnSpPr>
        <p:spPr>
          <a:xfrm flipV="1">
            <a:off x="3303360" y="4584240"/>
            <a:ext cx="2369160" cy="496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71600" y="96948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2CF96-6E66-4115-AC30-BA2DD9C11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6" descr=""/>
          <p:cNvPicPr/>
          <p:nvPr/>
        </p:nvPicPr>
        <p:blipFill>
          <a:blip r:embed="rId1"/>
          <a:stretch/>
        </p:blipFill>
        <p:spPr>
          <a:xfrm>
            <a:off x="1990800" y="1536840"/>
            <a:ext cx="5365800" cy="4224240"/>
          </a:xfrm>
          <a:prstGeom prst="rect">
            <a:avLst/>
          </a:prstGeom>
          <a:ln w="0">
            <a:noFill/>
          </a:ln>
        </p:spPr>
      </p:pic>
      <p:sp>
        <p:nvSpPr>
          <p:cNvPr id="581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29840" y="918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Dodavatelé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D30A2-A718-4967-99C9-32D894D53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tretch/>
        </p:blipFill>
        <p:spPr>
          <a:xfrm>
            <a:off x="1685880" y="1611360"/>
            <a:ext cx="5772240" cy="4006800"/>
          </a:xfrm>
          <a:prstGeom prst="rect">
            <a:avLst/>
          </a:prstGeom>
          <a:ln w="0">
            <a:noFill/>
          </a:ln>
        </p:spPr>
      </p:pic>
      <p:sp>
        <p:nvSpPr>
          <p:cNvPr id="585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929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- detail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2995F-447E-4034-9648-EF6116770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7" descr=""/>
          <p:cNvPicPr/>
          <p:nvPr/>
        </p:nvPicPr>
        <p:blipFill>
          <a:blip r:embed="rId1"/>
          <a:stretch/>
        </p:blipFill>
        <p:spPr>
          <a:xfrm>
            <a:off x="254160" y="1528920"/>
            <a:ext cx="5922720" cy="4176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"/>
          <p:cNvPicPr/>
          <p:nvPr/>
        </p:nvPicPr>
        <p:blipFill>
          <a:blip r:embed="rId2"/>
          <a:stretch/>
        </p:blipFill>
        <p:spPr>
          <a:xfrm>
            <a:off x="4618080" y="3618000"/>
            <a:ext cx="4362480" cy="2738520"/>
          </a:xfrm>
          <a:prstGeom prst="rect">
            <a:avLst/>
          </a:prstGeom>
          <a:ln w="0">
            <a:noFill/>
          </a:ln>
        </p:spPr>
      </p:pic>
      <p:sp>
        <p:nvSpPr>
          <p:cNvPr id="590" name="Obdélník 6"/>
          <p:cNvSpPr/>
          <p:nvPr/>
        </p:nvSpPr>
        <p:spPr>
          <a:xfrm>
            <a:off x="2073240" y="3763800"/>
            <a:ext cx="219096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Zástupný symbol pro datum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71600" y="968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ublicita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803F9-50BB-4C24-AC78-E68B2FC05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6" descr=""/>
          <p:cNvPicPr/>
          <p:nvPr/>
        </p:nvPicPr>
        <p:blipFill>
          <a:blip r:embed="rId1"/>
          <a:stretch/>
        </p:blipFill>
        <p:spPr>
          <a:xfrm>
            <a:off x="1616040" y="1535040"/>
            <a:ext cx="5851440" cy="4226040"/>
          </a:xfrm>
          <a:prstGeom prst="rect">
            <a:avLst/>
          </a:prstGeom>
          <a:ln w="0">
            <a:noFill/>
          </a:ln>
        </p:spPr>
      </p:pic>
      <p:sp>
        <p:nvSpPr>
          <p:cNvPr id="595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8805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líčové aktivit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D20C5-65FC-4E49-99D2-C45F22668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6" descr=""/>
          <p:cNvPicPr/>
          <p:nvPr/>
        </p:nvPicPr>
        <p:blipFill>
          <a:blip r:embed="rId1"/>
          <a:stretch/>
        </p:blipFill>
        <p:spPr>
          <a:xfrm>
            <a:off x="549360" y="1573200"/>
            <a:ext cx="5475240" cy="39736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2"/>
          <a:stretch/>
        </p:blipFill>
        <p:spPr>
          <a:xfrm>
            <a:off x="5367240" y="2330280"/>
            <a:ext cx="3319560" cy="3665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600" name="Přímá spojovací šipka 6"/>
          <p:cNvCxnSpPr/>
          <p:nvPr/>
        </p:nvCxnSpPr>
        <p:spPr>
          <a:xfrm flipV="1">
            <a:off x="5027760" y="4795560"/>
            <a:ext cx="226080" cy="356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01" name="Zástupný symbol pro datum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29840" y="108432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Harmonogram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F4539-74B2-493C-A898-43B54F778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1971720" y="1952640"/>
            <a:ext cx="5200560" cy="3828960"/>
          </a:xfrm>
          <a:prstGeom prst="rect">
            <a:avLst/>
          </a:prstGeom>
          <a:ln w="0">
            <a:noFill/>
          </a:ln>
        </p:spPr>
      </p:pic>
      <p:sp>
        <p:nvSpPr>
          <p:cNvPr id="605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Obsa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just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Helvetica C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Doba realizace projektu a pravidla monitorován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452520" indent="-452520" algn="just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Helvetica C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Věcná část monitorovací zprávy – monitorovací zpráva v Benefit7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452520" indent="-452520" algn="just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Helvetica C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Přílohy k monitorovací zprávě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452520" indent="-452520" algn="just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Helvetica C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Nejčastější chyby, rady a doporučen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452520" indent="-45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3A680-2C9F-4898-B213-53D57679E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71600" y="97956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ontroly na místě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B6736-80CE-42C0-96D8-A359D14B7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7" descr=""/>
          <p:cNvPicPr/>
          <p:nvPr/>
        </p:nvPicPr>
        <p:blipFill>
          <a:blip r:embed="rId1"/>
          <a:stretch/>
        </p:blipFill>
        <p:spPr>
          <a:xfrm>
            <a:off x="1828800" y="1546200"/>
            <a:ext cx="5506920" cy="4286160"/>
          </a:xfrm>
          <a:prstGeom prst="rect">
            <a:avLst/>
          </a:prstGeom>
          <a:ln w="0">
            <a:noFill/>
          </a:ln>
        </p:spPr>
      </p:pic>
      <p:sp>
        <p:nvSpPr>
          <p:cNvPr id="609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30200" y="1109520"/>
            <a:ext cx="628344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odstatné/Nepodstatné změn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1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FC32F-B97D-460D-B693-3291AFC99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6" descr=""/>
          <p:cNvPicPr/>
          <p:nvPr/>
        </p:nvPicPr>
        <p:blipFill>
          <a:blip r:embed="rId1"/>
          <a:stretch/>
        </p:blipFill>
        <p:spPr>
          <a:xfrm>
            <a:off x="528480" y="1674720"/>
            <a:ext cx="5507280" cy="40561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5232240" y="3027240"/>
            <a:ext cx="3657600" cy="1760760"/>
          </a:xfrm>
          <a:prstGeom prst="rect">
            <a:avLst/>
          </a:prstGeom>
          <a:ln w="0">
            <a:noFill/>
          </a:ln>
        </p:spPr>
      </p:pic>
      <p:cxnSp>
        <p:nvCxnSpPr>
          <p:cNvPr id="614" name="Přímá spojovací šipka 6"/>
          <p:cNvCxnSpPr/>
          <p:nvPr/>
        </p:nvCxnSpPr>
        <p:spPr>
          <a:xfrm>
            <a:off x="3484080" y="3860280"/>
            <a:ext cx="154548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15" name="Zástupný symbol pro datum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30200" y="995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řílohy monitorovací zpráv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E23A1-6653-4CB8-B8FB-566267B84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7" descr=""/>
          <p:cNvPicPr/>
          <p:nvPr/>
        </p:nvPicPr>
        <p:blipFill>
          <a:blip r:embed="rId1"/>
          <a:stretch/>
        </p:blipFill>
        <p:spPr>
          <a:xfrm>
            <a:off x="1727280" y="1562040"/>
            <a:ext cx="5648400" cy="4056120"/>
          </a:xfrm>
          <a:prstGeom prst="rect">
            <a:avLst/>
          </a:prstGeom>
          <a:ln w="0">
            <a:noFill/>
          </a:ln>
        </p:spPr>
      </p:pic>
      <p:sp>
        <p:nvSpPr>
          <p:cNvPr id="619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371600" y="2641680"/>
            <a:ext cx="628344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řílohy k Monitorovací zprávě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1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95FB0-23EC-45CC-8F9C-191907ABD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29840" y="10854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monitorovací zpráv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2883C-FC50-42EA-BE40-D65CB021B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4" descr=""/>
          <p:cNvPicPr/>
          <p:nvPr/>
        </p:nvPicPr>
        <p:blipFill>
          <a:blip r:embed="rId1"/>
          <a:stretch/>
        </p:blipFill>
        <p:spPr>
          <a:xfrm>
            <a:off x="1330200" y="1778040"/>
            <a:ext cx="6142320" cy="3790800"/>
          </a:xfrm>
          <a:prstGeom prst="rect">
            <a:avLst/>
          </a:prstGeom>
          <a:ln w="0">
            <a:noFill/>
          </a:ln>
        </p:spPr>
      </p:pic>
      <p:sp>
        <p:nvSpPr>
          <p:cNvPr id="626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3582C-F523-43EE-A1F8-08E7810C4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063800" y="1330200"/>
            <a:ext cx="7045200" cy="4075200"/>
          </a:xfrm>
          <a:prstGeom prst="rect">
            <a:avLst/>
          </a:prstGeom>
          <a:ln w="0">
            <a:noFill/>
          </a:ln>
        </p:spPr>
      </p:pic>
      <p:sp>
        <p:nvSpPr>
          <p:cNvPr id="629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0FC9E-DD55-4003-9692-118948B3F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"/>
          <p:cNvPicPr/>
          <p:nvPr/>
        </p:nvPicPr>
        <p:blipFill>
          <a:blip r:embed="rId1"/>
          <a:stretch/>
        </p:blipFill>
        <p:spPr>
          <a:xfrm>
            <a:off x="1220760" y="1311120"/>
            <a:ext cx="6674040" cy="4034160"/>
          </a:xfrm>
          <a:prstGeom prst="rect">
            <a:avLst/>
          </a:prstGeom>
          <a:ln w="0">
            <a:noFill/>
          </a:ln>
        </p:spPr>
      </p:pic>
      <p:sp>
        <p:nvSpPr>
          <p:cNvPr id="632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8AE5A-DED4-493C-B242-34F0E8FF8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8" descr=""/>
          <p:cNvPicPr/>
          <p:nvPr/>
        </p:nvPicPr>
        <p:blipFill>
          <a:blip r:embed="rId1"/>
          <a:srcRect l="0" t="0" r="0" b="3894"/>
          <a:stretch/>
        </p:blipFill>
        <p:spPr>
          <a:xfrm>
            <a:off x="633240" y="1212840"/>
            <a:ext cx="7709040" cy="4273560"/>
          </a:xfrm>
          <a:prstGeom prst="rect">
            <a:avLst/>
          </a:prstGeom>
          <a:ln w="0">
            <a:noFill/>
          </a:ln>
        </p:spPr>
      </p:pic>
      <p:sp>
        <p:nvSpPr>
          <p:cNvPr id="635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1371600" y="1655640"/>
            <a:ext cx="628344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eškeré materiály ze souborů 04-09 není nutné dodávat jak v listinné, tak v elektronické formě na CD. Postačí vybrat si jeden z těchto způsobů, avšak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sím nekombinujte způsob scan nebo kopie u skupin materiálů 04 – 09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okumenty k zadávacím řízením a Rozpisy/rozpočet se dodávají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vždy elektronicky na CD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kud se rozhodnete MZ dodávat v listinné podobě, tzn. skupinu materiálů 04-09 dodávat v listinné kopii, pro oddělení jednotlivých skupin materiálů v rámci listinné MZ použijte, prosím,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standardizované oddělovací list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viz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http://www.msmt.cz/file/17037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A9285-216C-4191-86C1-E254502D1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96640" y="96372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monitorovací zpráv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9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monitorovací zpráv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329840" y="212040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aopak rozhodnete-li se pro elektronické dodávání dokumentů formou scanu, při zpracování monitorovací zprávy prosím vycházejte z příruček a pokynů uveřejněných na webu MŠMT, zejména pak z dokumentů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„Struktura CD“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http://www.msmt.cz/file/15765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 a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„Struktura ELMZ“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http://www.msmt.cz/file/17147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, v nichž jsou uvedeny přesné pokyny pro podobu elektronické monitorovací zprávy a pojmenování dokument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teriály s označením Zdrojové soubory musí být doloženy vždy elektronicky na CD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25746-4FC1-4AE7-8758-28CF21A66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aháj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tum akceptace Rozhodnutí o poskytnutí dotace nebo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zdější datum uvedené v Rozhodnutí o poskytnutí dot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tum uvedené v právním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EB4B3-B3C1-4E2F-BF28-149CBA9D0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CD a označení elektronicky dokládaných souborů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FAC7A-874F-413F-A96D-DE6178ED5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2549520" y="2198520"/>
            <a:ext cx="4537080" cy="3719520"/>
          </a:xfrm>
          <a:prstGeom prst="rect">
            <a:avLst/>
          </a:prstGeom>
          <a:ln w="0">
            <a:noFill/>
          </a:ln>
        </p:spPr>
      </p:pic>
      <p:sp>
        <p:nvSpPr>
          <p:cNvPr id="647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CD a označení elektronicky dokládaných souborů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9852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 nutné dodržet pravidla pro pojmenovávání souborů a dokumentů doložených na CD, která jsou uvedena v tabulce „Struktura ELMZ“ zveřejněné na webu MŠMT (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http://www.msmt.cz/file/17147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, že v určité skupině materiálů nejsou v rámci monitorovací zprávy předkládány žádné soubory příloh, není požadováno definovanou složku na CD vytvářet. Vždy je však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nutné zařadit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předkládaný soubor do některé z nadefinovaných složek. Není možné pouze vložit soubor na CD bez požadovaného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pojmenová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a přiřazení ke skupině materiál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A3B08-9730-49C6-95FC-622AAB209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CD a označení elektronicky dokládaných souborů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35CE4-CD17-4534-ADB6-BF3266727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5" descr=""/>
          <p:cNvPicPr/>
          <p:nvPr/>
        </p:nvPicPr>
        <p:blipFill>
          <a:blip r:embed="rId1"/>
          <a:stretch/>
        </p:blipFill>
        <p:spPr>
          <a:xfrm>
            <a:off x="890640" y="1952640"/>
            <a:ext cx="6645240" cy="4060800"/>
          </a:xfrm>
          <a:prstGeom prst="rect">
            <a:avLst/>
          </a:prstGeom>
          <a:ln w="0">
            <a:noFill/>
          </a:ln>
        </p:spPr>
      </p:pic>
      <p:sp>
        <p:nvSpPr>
          <p:cNvPr id="655" name="Zástupný symbol pro datum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023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CD a označení elektronicky dokládaných souborů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2AAC0-E280-4A32-AB91-7ECB7DFD5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6" descr=""/>
          <p:cNvPicPr/>
          <p:nvPr/>
        </p:nvPicPr>
        <p:blipFill>
          <a:blip r:embed="rId1"/>
          <a:stretch/>
        </p:blipFill>
        <p:spPr>
          <a:xfrm>
            <a:off x="484200" y="1716120"/>
            <a:ext cx="5735520" cy="36291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" descr=""/>
          <p:cNvPicPr/>
          <p:nvPr/>
        </p:nvPicPr>
        <p:blipFill>
          <a:blip r:embed="rId2"/>
          <a:stretch/>
        </p:blipFill>
        <p:spPr>
          <a:xfrm>
            <a:off x="3895560" y="3759120"/>
            <a:ext cx="4791240" cy="1947960"/>
          </a:xfrm>
          <a:prstGeom prst="rect">
            <a:avLst/>
          </a:prstGeom>
          <a:ln w="0">
            <a:noFill/>
          </a:ln>
        </p:spPr>
      </p:pic>
      <p:sp>
        <p:nvSpPr>
          <p:cNvPr id="660" name="Zástupný symbol pro datum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329840" y="27464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Nejčastější chyby, 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rady a doporučení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2" name="Zástupný symbol pro datum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F3DFE-DF0D-4D81-9A88-E27A2BC60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329840" y="1080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Nejčastější chyb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1426680"/>
            <a:ext cx="6458040" cy="41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časné neinformování PM o změně typu MZ (mimořádná) či změně MO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uvedení statutárního zástupce v podpisových vzorech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zatržení checkboxu </a:t>
            </a:r>
            <a:r>
              <a:rPr b="0" i="1" lang="cs-CZ" sz="1800" spc="-1" strike="noStrike">
                <a:solidFill>
                  <a:srgbClr val="000000"/>
                </a:solidFill>
                <a:latin typeface="Helvetica CE"/>
              </a:rPr>
              <a:t>„K této MZ bude zpracována Žádost o platbu“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v případě předložení ŽoP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ytvoření a uložení prázdného řádku, který znemožní finalizaci MZ (nejčastěji u záložky Kontrola na místě a Podstatné/nepodstatné změny)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uvádění zdůvodnění u zrušených výběrových řízen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dostatečně vyplněné pole „popis“ u VŘ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Chybné číslování příloh v bodě 13.monitorovací zprávy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FFD92-60FC-4977-A8C4-83716DBB2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329840" y="106380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Nejčastější chyb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1329840" y="1914120"/>
            <a:ext cx="645804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dodržení pravidel pro pojmenování elektronicky dokládaných soubor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správné zařazení elektronicky dokládaných soubor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zařazení skupin materiálů 01 – 09 do jedné složky na CD pojmenované MonitorovaciZprava 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doložení formulářů skupiny materiálů Rozpisy/Rozpočet v jednom souboru, ale každého zvlášť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doložení pracovních smluv/dohod formou scanů na CD jsou veškeré smlouvy naskenovány v jednom souboru, avšak každá smlouva/dohoda, za jednotlivou osobu se uvádí zvlášť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B83A3-A9B7-495D-8CAA-AD8C766A4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Rady a doporučení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329840" y="1704960"/>
            <a:ext cx="64580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 založení MZ nezapomenout dát Načíst data z M7+/Náklady z M7+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kládat záznam po každém zadání údaj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měnu osob na projektu a jejich údajů (statutární zástupce a kontaktní osoba) je povinné zaznamenat také na záložce Podstatné/Nepodstatné změny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le </a:t>
            </a:r>
            <a:r>
              <a:rPr b="0" i="1" lang="cs-CZ" sz="1800" spc="-1" strike="noStrike">
                <a:solidFill>
                  <a:srgbClr val="000000"/>
                </a:solidFill>
                <a:latin typeface="Helvetica CE"/>
              </a:rPr>
              <a:t>„Další informace o realizaci projektu“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louží k uvedení obecných informací, které se udály během daného monitorovacího období a které není možno přiřadit k žádné záložc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o popisu MI  v B7 uvádět hodnotu dosaženou v tomto MO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972A2-B0E7-47DF-80B2-34D942ABA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Rady a doporučení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1329840" y="1952280"/>
            <a:ext cx="645804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chybně zadaného VŘ v B7 není možné záznam smazat!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nitorovací indikátory, veřejné zakázky a přepracovaný harmonogram již není třeba dodávat jako samostatné přílohy, jsou přímo součástí samotné monitorovací zprávy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eškerá dokumentace k ZŘ se dodává vždy v elektronické podobě na CD, stejně jako skupina materiálů Rozpisy/Rozpoče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 povinnou část elektronického označení souboru lze doplnit libovolnou specifikaci dokumentu, avšak je potřeba se vyhnout příliš dlouhým názvům, diakritice a mezerám (místo nich používat dolní podtržítko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A0B60-9801-4A61-98A1-41F0A6CE3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Rady a doporučení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329840" y="215388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 dodání MZ  ve formě scanů se nedoporučuje vytvářet vlastní označení souborů a dokument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také vhodné vytvářet spoustu do sebe vnořených složek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textu MZ uvádět odkaz na konkrétní přílohu/název souboru, který dokládá popisovanou skutečnos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atutární zástupce a Funkce statutárního zástupce se tiskne automaticky do čestného prohlášení tištěné sestavy monitorovací zprávy v Benefit7. V případě, že MZ podepisuje jiná pověřená osoba, stačí vygenerované údaje přeškrtnout a doplnit ty správné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AAA29-3F4F-43EB-8ED8-CD1B51DCE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371600" y="966600"/>
            <a:ext cx="628344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371600" y="1816200"/>
            <a:ext cx="62834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měna data ukonč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statná změna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ožná pouze v řádně odůvodněných a schválených případec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působilé výdaje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 data zahájení projektu do data ukonč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 datu ukončení pouze výdaje bezprostředně související s realizací projektu např. audit projektu, mz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6E4B8-E68D-4FAD-B6F8-256A8A37A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Rady a doporučení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 vrácení MZ v Benefit7 k dopracování stačí provést „storno finalizace“ a pole budou editovatelná. Před novou finalizací nezapomeňte, prosím, změnit pole „Předpokládané datum předložení ŘO/ZS“ na datum předpokládaného dodání připomínek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orespondenční adresou pro doručení monitorovací zprávy je: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ŠMT, odbor CER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rmelitská 7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18 12 Praha 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6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2EFBE-9CEE-494E-8649-8C3D23446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alší zdro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329840" y="2171880"/>
            <a:ext cx="645804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Web MŠMT – sekce Strukturální fondy – OP VK – Pr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adatele a příjemce – Příručka pro příjemce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ttp://www.msmt.cz/strukturalni-fondy/prirucka-pro-prijemce-op-vk-verze-5-platna-od-9-8-2010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radenství v rámci individuálních konzultací                     s projektovými manažer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7E9AF-5214-4E09-A3A7-D37125881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1343160" y="1842840"/>
            <a:ext cx="64576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Helvetica CE"/>
              </a:rPr>
              <a:t>Prostor pro případné dotazy</a:t>
            </a:r>
            <a:endParaRPr b="0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3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B81A1-59B0-4F69-A09B-634D11567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71600" y="2376000"/>
            <a:ext cx="6283440" cy="10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Děkuji za pozornost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371600" y="1695600"/>
            <a:ext cx="6283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2880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Ing. Pavlína Vitáskov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inisterstvo školství, mládeže a tělovýchov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bor CER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email.: pavlina.vitask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7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98293-CC44-4613-8133-472A06961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71600" y="1816200"/>
            <a:ext cx="628344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39744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298440" indent="-298440" algn="just">
              <a:spcBef>
                <a:spcPts val="601"/>
              </a:spcBef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ací zprá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ůběžná monitorovací zprá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imořádná průběžná monitorovací zprá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závěrečná monitorovací zprá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8440" indent="-298440" algn="just">
              <a:spcBef>
                <a:spcPts val="601"/>
              </a:spcBef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žnosti stanovení monitorovacího obdob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e dne začátku realizace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 prvního dne měsíce, v němž začal být projekt realizová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8440" indent="-2984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8440" indent="-2984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8440" indent="-2984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787EC-2FB7-4BB4-B3DA-96DB7FC15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71600" y="2082960"/>
            <a:ext cx="6283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Věcná část Monitorovací zprávy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286B7-DBF1-4E67-9437-B7EA2722D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1245960"/>
            <a:ext cx="64580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Elektronická monitorovací zpráv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329840" y="2487600"/>
            <a:ext cx="645804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edkládá se prostřednictvím aplikace Benefit7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ručka pro vytvoření elektronické monitorovací zprávy v B7  s technickým i metodickým postupem je uveřejněna na webu MŠM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iz: http://www.msmt.cz/strukturalni-fondy/elektronicka-monitorovaci-zprava-a-jeji-prilohy-platna-od-2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Další informace (struktura, přílohy) k předkládání elektronické monitorovací zprávy jsou rovněž uveřejněny na webu MŠMT.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2F863-5233-4CCC-8803-5BECEDCC4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29840" y="1246320"/>
            <a:ext cx="645804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Elektronická monitorovací zpráv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2561B-94B4-48EB-9850-7FB9DBACD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1"/>
          <a:stretch/>
        </p:blipFill>
        <p:spPr>
          <a:xfrm>
            <a:off x="1330200" y="2205000"/>
            <a:ext cx="5668920" cy="3667320"/>
          </a:xfrm>
          <a:prstGeom prst="rect">
            <a:avLst/>
          </a:prstGeom>
          <a:ln w="0">
            <a:noFill/>
          </a:ln>
        </p:spPr>
      </p:pic>
      <p:sp>
        <p:nvSpPr>
          <p:cNvPr id="550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91404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Monitorovací zpráva v Benefit7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66A9B-6F94-429B-B616-ADDE2C09D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"/>
          <p:cNvPicPr/>
          <p:nvPr/>
        </p:nvPicPr>
        <p:blipFill>
          <a:blip r:embed="rId1"/>
          <a:stretch/>
        </p:blipFill>
        <p:spPr>
          <a:xfrm>
            <a:off x="538200" y="1800360"/>
            <a:ext cx="6014880" cy="40557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"/>
          <p:cNvPicPr/>
          <p:nvPr/>
        </p:nvPicPr>
        <p:blipFill>
          <a:blip r:embed="rId2"/>
          <a:stretch/>
        </p:blipFill>
        <p:spPr>
          <a:xfrm>
            <a:off x="4297320" y="2921040"/>
            <a:ext cx="4511880" cy="1895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555" name="Přímá spojovací šipka 14"/>
          <p:cNvCxnSpPr/>
          <p:nvPr/>
        </p:nvCxnSpPr>
        <p:spPr>
          <a:xfrm>
            <a:off x="1655280" y="3565440"/>
            <a:ext cx="2490120" cy="123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56" name="Zástupný symbol pro datum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Pavlína Vitásková</cp:lastModifiedBy>
  <dcterms:modified xsi:type="dcterms:W3CDTF">2012-02-27T08:04:57Z</dcterms:modified>
  <cp:revision>473</cp:revision>
  <dc:subject/>
  <dc:title>Titulní strana – Titulek</dc:title>
</cp:coreProperties>
</file>