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9978E-FD1C-42E6-A247-D70ADDA41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26E7A-EE8E-4E26-8DFB-9C4FF7266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 případě, že se příjemce rozhodne v souladu s Příručkou pro příjemce vztáhnout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ačátek monitorovacího obdob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prvnímu dni v měsíci, v němž začal realizovat, neprodleně (nejpozději však </a:t>
            </a:r>
            <a:r>
              <a:rPr b="1" lang="cs-CZ" sz="1200" spc="-1" strike="noStrike">
                <a:solidFill>
                  <a:srgbClr val="ff0000"/>
                </a:solidFill>
                <a:latin typeface="Calibri"/>
              </a:rPr>
              <a:t>10 pracovních dní před termínem odevzdáním monitorovací zprávy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šle žádost na svého projektového manažera, který upraví v MONIT7+ Sledované období od a Sledované období do tak, aby se monitorovací období generovalo správně dle požadavků příjemce. Data sledovaného období není možné měnit pomocí pole „Načíst vybrané datové oblasti z M7+“. Pokud již příjemce MZ V B7 založil, je nutné ji smazat a znovu načíst data z Monit7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bude potřebovat příjemce změnit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Typ zpráv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(průběžná, mimořádná, závěrečná), musí rovněž požádat příslušného projektového manažera ZS/ŘO, aby typ zprávy změnil v IS Monit7+. Aby ZS/ŘO mohl tento typ zprávy změnit, musí příjemce opět původně založenou MZ v B7 smazat, pomocí tlačítka Smazat záznam. ZS/ŘO poté změní typ MZ a příjemce posléze může vytvořit novou MZ, uložit a znovu načíst data z Monit7+. Příjemce pošle svému PM (ZS kraj či odbor CERA) žádost o změnu typu monitorovací zprávy a t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jpozději 10 pracovních dn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ed odevzdáním M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4F60C-1AEF-4ECA-A702-57EA8003C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stisknut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íst data z MONIT7+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jde k automatickému vyplnění údajů v polích na právě založené monitorovací zprávě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áčknutím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íst náklady z MONIT7+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 automaticky načte na záložce Rozpočet projektu aktuální podoba rozpočtu z právního aktu, popř. jeho dodatku. Zaktivní se další vybrané záložky finančního charakter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áčknutím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íst vybrané datové oblasti z MONIT7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+ se vygeneruje seznam datových oblastí z monitorovací zprávy. Pole se používá v případě, že došlo k změně údajů/informací v období tvorby monitorovací zprávy, byl o tom informován ZS/odbor CERA a příslušný projektový manažer provedl změnu dat v systému MONIT7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ZOR! Aktualizace dat znamená přepsání všech dat vybrané oblasti daty z M7+, to znamená, že se smažou dosud zadané inform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50157-F991-4E11-ADC7-50A7F679D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atržení checkbox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Přepracovaný harmonogram aktivit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 zaktivní záložka Harmonogram aktiv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l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Další informace o realizaci projektu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ylo vytvořeno z důvodu, že v Benefit7 neexistuje záložka, kde by příjemci mohli uvádět další informace o projektu, které se udály během daného monitorovacího období. Toto pole je příjemcům tedy volně k dispozici v případě, že budete mít potřebu popsat nějakou situaci či obecné informace se sledovaným obdobím spjaté. Jedná se o takové informace, které nelze přiřadit k jednotlivým záložkám benefitového formulář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276F5-2836-4937-802B-188A45ED6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musí v průběhu realizace projektu vykazovat také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etailní členění indikátorů (muži/žen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chlapci/dívky,..), bez ohledu na to, že v projektové žádosti uvedl pouze indikátory součtové. Slouží ke statistickým účelům, nedosažení cílové hodnoty muži/ženy není sankcionováno (závazná je součtová hodnot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noty indikátorů se musí uvádět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kumulativně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tj. jako součet dosud vykazovaných MI + MI vykazované v daném monitorovacím obdob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C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1200" spc="-1" strike="noStrike">
                <a:solidFill>
                  <a:srgbClr val="000000"/>
                </a:solidFill>
                <a:latin typeface="Helvetica CE"/>
              </a:rPr>
              <a:t>popisu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daného MI zároveň prosíme o uvedení dosažené hodnoty v daném 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dosažené hodnot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- vyplní se automaticky po uložení záznamu vždy k datu Sledovaného období MZ do. Dále se po uložení pole Dosažená hodnota zpovinní pole „Popis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C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ykazované indikátory se musí opírat o </a:t>
            </a:r>
            <a:r>
              <a:rPr b="1" lang="cs-CZ" sz="1200" spc="-1" strike="noStrike">
                <a:solidFill>
                  <a:srgbClr val="000000"/>
                </a:solidFill>
                <a:latin typeface="Helvetica CE"/>
              </a:rPr>
              <a:t>průkaznou evidenci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vedenou příjemcem (Výkazy o provedené práci, prezenční listiny, certifikáty, atd. – tj. doklady, kterými můžete prokázat dosažené číselné hodnoty).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umenty dokladující jednotlivé monitorovací indikátory jsou součástí skupiny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09_Vystup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(viz struktura monitorovací zpráv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E5E1C-1DA2-4493-8C61-963047426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tav ZRUŠNO vs. NENAPLNĚ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rušeno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– v případě, že příjemce v projektové žádosti uvedl plánovaná výběrová řízení, která již ale realizovat nebude (snížila se její hodnota, a tím pádem povinnost uskutečnit výběrové řízení/pozbyl důvod uskutečnit výběrové řízení apo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naplněno“ -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ukončení smlouvy s dodavatelem výpovědí, odstoupením od smlouvy, dohodou nebo v případě prohlásí-li soud smlouvu za neplat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o předpokládaného/skutečného data ukonče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Výběrového řízení se uvádí datum podpisu smlouvy s vítězným uchazeč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 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ředpokládané hodnotě a nasmlouvané ceně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eřejných zakázek by se měla uvádět hodnota vztahující se pouze k danému projektu, není-li možné uvést přesnou hodnotu, uveďte prosím co nejpřesnější odhad, skutečnou celou hodnotu za celou VŘ lze uvést v popis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všech výběrových řízení prosím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yplnění popis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k výběrovým řízením. Toto pole je povinné – příjemce musí uvést doplňující informace k plánovanému či již zahájenému VŘ, o průběhu a výsledku řízení, o předmětu VŘ, o ceně, o hodnotící komisi, výběrových kritériích ap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4F02F-1AD5-422F-8687-C8E2B2B85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e příjemce zadává pouze dodavatele/é VŘ ve stav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končeno a Nenaplněno.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je provázaná se záložkou Výběrová řízení a Detaily k VŘ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více výherních dodavatelů je potřeba každého dodavatele postupně založit pomoc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ový záznam a Ulož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60017-EE3C-4562-A250-3743601A7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zadaného (výherního) dodavatele, či dodavatelé (na záložce Dodavatelé k VŘ) aktivuje, tzn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. přenese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(přiřadí ke konkrétnímu Ukončenému či Nenaplněnému VŘ) zleva doprava pomocí (dvojitých šipe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F103B-8B8F-4C34-BE5A-C34FB9C23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9848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obsahu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ačtené nástroje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ublicity, které příjemce uvedl v žádosti o finanční podporu. Závazné aktivity povinné publicity jsou tedy uvedeny v příloze č. 1 Rozhodnutí o poskytnutí do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Checkbox Publicita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splněna je navázaná na celý projekt, nikoliv na dané MO. Proto by mělo být příjemcem zaškrtnuto až ve chvíli konečné splnění formy publ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 důvodů archivace je také potřebné dodat i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tScr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zřízených internetových stránek projektu, který bude součástí skupiny 08_Public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nformace k publicitě vyplňujte vždy prosím ve vztahu k danému monitorovací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C0E8D-A2FE-4CC1-9FA5-EC05B9731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Žlutá pole jsou povinná,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šedé pole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značené jako např. </a:t>
            </a: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Popis realizace klíčové aktivity v průběhu monitorovacího období I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slouží k doplnění či pokračování v informacích uvedených ve žlutém poli, tzn. využívají se  v případě, že příjemci k popisu realizace dané KA nestačí povinné žluté pole. V případě, že se text k dané problematice vejde do žlutého pole, není potřeba šedá pole vyplňov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Označe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Popis realizace/výstupu/plánované realizace v průběhu monitorovacího období I a II neoznačuje číslo monitorovacího období, ale pouze pořadové číslo po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tav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„Ukončeno“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 zvolí v případě definitivního ukončení realizace dané klíčové aktivity. V případě, že je daná klíčová aktivita v daném MO pouze přerušena a v dalším MO bude opět pokračovat, vybere se stav „realizována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C88DD-6D19-4B84-AD33-0F328C82C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Harmonogram aktivit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aktiv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v případě zatržení checkboxu na záložce Údaje o projektu a MZ. V opačném případě zůstávají pole bez možnosti edi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 harmonogramu klíčových aktivit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podstatnou změnou projekt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kterou je potřeba popsat a řádně zdůvodnit v rámci záložky „podstatné/nepodstatné“ změ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zhledem k faktu, že nyní je přepracovaný harmonogram již přímo součástí samotné monitorovací zprávy, není třeba jej vypracovávat a dodávat jako zvláštní příloh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C1FA9-2F51-4D10-A41A-11779F0B7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3A8BD-EBBA-41ED-B086-480F56456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ato záložka slouží pro popis kontrol, které byly provedeny u příjemc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šemi kontrolními orgán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souvislosti s realizací projektu. Povinně jsou zde uváděny kontroly prováděné např. Finančním úřadem, Českou školní inspekcí atd. Dále uvádí také kontroly provedené jeho poskytovatelem podp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této záložce se uvádí pouze kontroly na místě provedené a ukončené v daném M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v době vytváření monitorovací zprávy u vás probíhá kontrola externím subjektem 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byla ještě ukončena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hrňte tuto kontrolu a její výsledky do následujícího monitorovacího obdob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POZORNĚNÍ: dejte pozor, aby zde omylem nebyl založen nevyplněný řádek, což by znemožnilo finalizaci MZ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7D883-8AD6-4D40-8B7E-C97620EC9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, která má charakter podstatné změny projektu, nesmí být provedena před jejím schválením poskytovatelem podpory a před provedením úpravy nebo doplněním právního aktu o poskytnutí podp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ednotlivá pole se vyplní v případě, že k změnám došlo. 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dstatné změn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ž po akceptaci dodatku k Rozhodnutí o poskytnutí dot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dstatné změny se mohou podávat i mimo režim monitorovacích zpráv,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zvláštním formuláři zveřejněném na webu MŠMT. Je-li podána v rámci MZ, je žádost o podstatnou změnu součástí složky DalsiDokumenty, podsložky KPravnimuA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statné/nepodstatné změny se do Benefit7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adávají každá zvlášť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i když se např. týkají jednoho tématu (např. pro změnu harmonogramu v různých klíčových aktivitách se vytvoří vždy nový záznam pro každou z nich; stejně tak pro změnu rozpočtu se všechny nepodstatné změny neuvedou do jednoho záznamu, ale pro každou změnu se vytvoří nový zázna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POZORNĚNÍ: Pokud nemáte žádný záznam, stránku neukládejte, jinak dojde k vytvoření prázdného řádku, který znemožní finalizaci MZ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076B2-C60D-46DD-9CD0-424176583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 aplikace Benefit7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ejsou nahráván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žádné přílohy vyjma souboru Rozpisy/Rozpočet, který je přílohou Zjednodušené žádosti o platbu vyplňované v aplikaci Benefit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tvořen je zde jen jakýsi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eznam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příloh, přičemž přílohy se označí číslem dle tabulky „struktura ELMZ“, tj. číslem 01-09 a názvem rovněž z této tabulky (např. Rozpisy/Rozpočet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archivační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účely prosím i o vyplňování polí „Počet listů“ a „Počet kopií“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098FA-AE07-46F1-B133-1CDC21C5B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6B20D-D25E-4B89-B864-EA6BCE5B2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6F057-0519-4494-ACE0-F6E849911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D22DE-EFDA-4170-929B-8DF5175B3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9CB60-6CDC-4F13-80DF-7844559C0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C371B-4B8E-418D-819F-7DE4A72A1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53D9A-7B99-4CD6-BD23-9C685D8F3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4D410-2D73-4EA5-8C42-1D4D396A2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272D8-5AA0-4304-92A8-C026B21CE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191C6-FF18-40E5-AD9A-32A6908B6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42DB4-8D51-423B-94E3-C0D4235A4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F51CF-8983-47FB-8A28-B73CDC183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1E415-F01A-46B8-A2AF-239A40E89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6EE97-E821-42EC-937E-B83BE9E18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C021E-E260-4314-A750-E23619356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F3B60-E879-4F42-A3B3-AF1E1A7A0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F0757-793F-48D4-A161-69AD644C5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08E45-AB0E-4261-98FE-9DA23DD1A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o následuje po odevzdání M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trola MZ poskytovatelem dotace (komunikace s projektovým a finančním manažer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vyzvání je příjemce povinen případné chybějící nebo doplňující údaje poskytnout d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5 pracovních dnů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– vyzvání proběhn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e-mailem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zhotovitele MZ a hlavní kontaktní osob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CCE93-6BC5-4B58-86C2-37D52FF38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ýdaje za zřízení a vedení projektového účtu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hou být způsobilé před datem zahájení realizace (nejdříve však ode dne, kdy byl projekt schválen k realizaci ministryní/ministrem školství, mládeže a tělovýchovy) pouze v případě, stanovuje-li to výz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A2D67-3CCC-453B-BDCC-0CC2F7D4A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7989C-6018-4FD4-A512-56816A70D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275A5-3C60-4310-91BF-6F34561EF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E9D25-007B-4AC1-BD9C-C1DEBC8A0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ůběžná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monitorovací zpráva se odevzdává d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30 kalendářních dnů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 ukončení monitorovacího období (první MZ po 3 měsících, další MZ pak po 6 měsících realizace projektu), podepsaná statutárním zástupcem, v zalepené obálce s adresou poskytovatele, jménem příslušného PM a registračním číslem projektu. V případě, že není přesně dodržen termín doručení monitorovací zprávy, je daná skutečnost hlášena na místně příslušný FÚ jako podezření na porušení rozpočtové kázn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omě 1.MZ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ždy její přílohou žádost o platb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(PpP, verze 5, str. 1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imořádná MZ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: monitorovací zpráva předložená mimo režim předem stanoveného intervalu, podaná v případě mimořádné žádosti o platbu. Termín následující průběžné MZ se řídí dle této mimořádné MZ, tj.  bude předložena opět po 6 měsících realizace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Závěrečná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monitorovací zpráva se váže k ukončení projektu, tj. k datu, které je uvedeno v právním aktu. Příjemce je následně povinen zpracovat a předložit poskytovateli podpory závěrečnou monitorovací zprávu společně se závěrečnou žádostí o platbu. Součástí  závěrečné MZ je rovněž Souhrnná informace o realizaci projektu OP VK spolu se všemi výstupy doloženými na CD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460B6-23DB-402B-A2F8-FDC79E82B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AEED8-CB87-41F5-B41B-3504B3DF9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enefit7 vs. Monit7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 C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Helvetica CE"/>
              </a:rPr>
              <a:t>Adresa systému Benefit7: www.eu-zadost.c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99DFD-032F-46CA-9380-CA8CCA40E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B6F90-E788-4800-9DA6-800680661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obecná pravidla Benefit7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á pole jsou žlutá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vinná pole jsou šedá s ohraničením (uživatel vyplňuje dle svého uvážení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utomaticky doplňovaná pole jsou šedá bez orámování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zapomínat používat tlačítko „uložit záznam“ po každém zadání údaj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POZORNĚNÍ: V případě, že vložíte nový řádek, který ale zůstává nevyplněný, systém Vám neumožní projektovou žádost finalizov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63C9A-36AF-41A6-A718-98DA39321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20B-0005-43A5-88E0-A39CD15C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902-7152-4015-9409-28D64A87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0943D-09A0-4810-9082-AEE7ED2A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9F189-8268-4ACE-967B-34FD44DB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3695C-EC11-40C2-AE8B-C5716E7E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C2E5E-6F4F-4A08-9D37-AD7CE8F5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65870-F94B-4861-BCDF-B677DA8A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B3035-439C-457A-88DB-A8E65F5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96023-3C4D-4D6D-8B91-9F0A69AC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26CFF-A8A0-4BA1-AD35-EEEE6ED5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9B8DE-6F0F-4472-AD5A-D3B0A5F6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6EE8F-7D2C-46EE-97C4-6AD0C557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154-4D38-463F-A87A-DF3E7874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FEF27-C323-4064-A677-1801C4D9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15BAA-0876-45A3-89F6-11BB51F1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2C945-AF62-443D-B47B-6A4C4C59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E179D-745C-41D8-B324-B0E796D9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205BE-31FD-4DE5-9A34-D25C0BC2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33BBF-9570-47EA-B4DA-6A84AC58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E5266-5A6A-480A-87F3-CF8F8213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24CBF-9EB2-4D2D-AF99-2814CB9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BD324-EDAF-4F60-ACDF-8682A760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DA8F9-D634-46D4-9F2A-AA595C99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D7A-8F89-4A8A-A98E-3E0A7817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EB451-05C2-468F-B464-F392EDF4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53C8A-9791-4F32-9DC7-6C17B74C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F48AD-5D2A-4D90-94AC-C9763EB2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50770-A957-4D1A-A7FB-E6CFB1DA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6ED43-58FE-4255-A1A6-03AB648F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229E2-5836-4B1E-A817-B35CCA60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0E3B3-0483-4938-A211-04083382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1143B-8B3A-4BE6-8422-96A6ECE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6BAB9-84B3-4D11-A7F8-FF5F2D4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0DE4B-98C2-4DA9-B9A7-BD81C4E6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5668-DE73-4001-8785-E79F0023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E4B08-40E8-4EE1-8ED6-E074FE4D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442B9-D574-42BD-8A3F-72DB16CE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41ED3-8F10-48DC-A64C-70AE0310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2EC2B-092A-469D-A67A-C84DD061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8E64E-B18E-41FC-86F7-21537691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AA353-D44C-42DB-8E6A-C7EB870E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A1DCA-4409-4AA3-A0ED-4283F4C0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B0D3B-930A-486F-B130-95A6DDED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8C22B-71F5-4D8E-ACA6-40FAF8BA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1AC68-FF8B-4662-97A0-1084A684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3138-AF43-4F6C-97FC-B29EA8FF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AEEB3-6C05-4447-8324-F38DBD8B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B6BCB-331B-490D-AD10-9DA66CD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2FD50-4DD6-4583-BB9A-496CA345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3CC05-809D-4DE0-89CF-709242C4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27DD5-5B0D-4C76-B016-6F5A183D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8B7-9E82-4A98-A6AD-C5E79B10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12E6-3B23-436F-963A-90B3BD34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D462-B6D3-4811-B423-597222E5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30AD-AFB8-43A3-930B-66996E1A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A78D-ECB2-436C-A222-12AE151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26B-BD35-49A3-98B6-F6ED07D1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89EE-432A-4E71-B07C-D157B0D5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5893-C27C-44ED-BEF0-D35C88E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EF3B-A97C-41E0-847A-D13BC68A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047B-9B26-4AFA-96F4-895DF910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018F-C210-4D62-A430-56669193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5A21-6840-43F0-ADD2-538F1CED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29D8-CDF0-4375-AA22-9BB7A5F7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6191-7F1B-41C4-8339-0B2460BD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9E5F-E503-452C-BF62-440CEBB7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C25C-6442-495F-8E5D-FD70209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D97-AB82-4B8D-87EE-E51CF472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ECE2-27AB-4471-A0FF-3FA8DC97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F534-EF2D-437E-8590-5744A9A5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5373-EC98-4D74-82CD-23E0900C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D6E3-003D-450B-836E-BE2343B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7131-DFF0-4649-A72B-52EBC0F6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A7A4-2A89-47C4-8DD3-C483E7C3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87EE-7D7F-4126-AB68-70F86CCE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AE1F-9574-4B07-B37E-45CDA2EA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50799-569C-4FC7-9B41-BA91C90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7BBC7-7002-4329-A532-33FEE8A2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44B-C497-4A23-B30E-207A8BB4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8B6B-6DD0-4423-B54E-77F0BA9D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FC86-A751-4E8F-B5FF-A92F51F9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72CB-AA70-43E2-A65E-FDE5B86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9D773-0D38-412E-99CB-2D5F83A3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890D-02D1-44F3-A66A-ABDC372B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773B7-1647-4FEA-9FD3-5B1FA1D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11A5-3E67-4F42-AB3E-0AAB7DC0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BCEBC-8E77-42D9-8741-A24162EA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7146-D64C-475A-80F3-9E2FECE2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AC0AD-1969-4098-B23E-78A1074A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D8E-2BFC-47EF-A3B9-D79320D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496E-57A3-44C2-AC66-AD85CD1E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ACCBA-5C03-4A93-81BC-1CCD66AD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9419-EA52-4EBB-BF0F-CA59DECB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83644-A391-43CE-BA60-1E2409CD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7C764-4E5E-48EF-85E1-3F6509D7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2D80-422B-420C-9C47-017C970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8029-3498-492C-8149-F6F8ACCA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FF7D-40F6-4951-AA3A-1F3EFA7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ABDC-57BB-488A-BCC5-598D7F21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CD662-B61F-4E01-92B9-596C30BC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079-DB79-4D12-9A19-AD9FFB40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B5863-2DB7-4C90-9350-D69884FE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F2809-CEA9-4C5F-B896-4B1DD5A3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97816-534C-4610-94BB-7EFE558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748E-466D-4D89-B752-41C4E94C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5385-04F2-4E28-AB90-A0533242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C3191-3CF3-4663-A65D-61BD0B92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7733-50A1-4373-B321-7223C443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B2B4-4C05-41C2-A1DA-34607784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710EE-C581-49FF-96A8-928D8FEC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E1177-407C-4A5D-A35F-EA15A3B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BD1-F194-41A0-B917-5230816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C818-C73C-4CD2-9D34-C8901029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A14A3-ECBA-48BE-847E-BE12DF73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12CCE-ABAF-4D02-B1AB-E31D249E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2EAF-68F4-4CAA-864D-2DD9CC17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8DEF5-54B7-4C0C-89B5-A06A7BAF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BF487-0675-4FBE-BEB8-F7FEAF7C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CB865-3F9B-4156-A00B-E75B7A71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7AA22-B070-4660-AE5F-9D9CD8B9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786A-79DE-4CC4-907A-600265C2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B2DF-6102-42BC-B617-07187ECE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6F5-FAF6-4CDE-9C99-0FBD640B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B7DE7-2ED1-462A-9C04-D12CB7E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79CAA-F0AC-4140-97A3-00E4EFBC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65292-0409-4FF1-AE8B-E0CB666B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9295B-7B8C-49B3-BF0D-5C3FFB6C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43FD1-CD77-4A9D-8869-B5948D7C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09DD0-26CC-43D9-A1B4-C91DCB6F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DB268-B74F-4191-B7A9-696BE25E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86C39-2690-4E2F-84F9-AD15A102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A3F05-81E1-4017-8FFF-431671E2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6199C-E722-44EF-816F-CC5C53E4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F3D-AFEC-4985-9BFD-8D03820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8F7F1-8095-4CDC-8F11-C2537B4F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CCF64-8AA1-44D1-9EB7-C7BDF2D9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D47B1-C07B-4DD3-94E7-AC664113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BC42A-DC95-4EEB-9755-621FE022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DF581-CB26-4923-BB40-8CB2CCB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BB38F-8E00-4E24-93B7-C1EEF994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EA82-5051-4289-B49E-E0CB7C7D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01B15-EA8D-4D49-A691-0A276D36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C36C5-703A-4569-8FAA-E210442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247D2-015F-44C0-BBB6-E487A6EF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078E6-7286-42F3-BC37-1889AEFF8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89097E67-13B6-46FB-B674-2E20545C1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05C03-094F-4A7B-AACD-21760ACD4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0677F-49E8-4B3D-9C86-750F0F2F6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69755-10D6-4CBD-AD57-77D34CA5C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91D9F-9BD1-4809-8A85-C7B186425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9504D-584D-4D78-9EEB-470BA0859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33D74-9B81-4544-8E22-5BC7C8ABB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696BF-7BB2-44C4-A808-32DA46862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DEDFC-85D5-42BF-BB7E-6BF34909C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145A6-AA40-4213-9055-7E6269FD6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E8972-9644-4E88-9D0F-7F7050BA8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E65BE-EA70-489D-955B-B7A957E2D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79388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 </a:t>
            </a: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Seminář pro příjemce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finanční podpory z Operačního programu Vzdělávání pro konkurenceschopnost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cs-CZ" sz="2800" spc="-1" strike="noStrike">
                <a:solidFill>
                  <a:srgbClr val="7f7f7f"/>
                </a:solidFill>
                <a:latin typeface="Helvetica CE"/>
              </a:rPr>
              <a:t>Ing. Pavlína Vitásková</a:t>
            </a:r>
            <a:br>
              <a:rPr sz="2800"/>
            </a:br>
            <a:r>
              <a:rPr b="1" i="1" lang="cs-CZ" sz="2800" spc="-1" strike="noStrike">
                <a:solidFill>
                  <a:srgbClr val="7f7f7f"/>
                </a:solidFill>
                <a:latin typeface="Helvetica CE"/>
              </a:rPr>
              <a:t>5.3.201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Harmonogram monitorovacích zpráv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4C491-CE98-434E-A2EF-0B471A4A9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2063880" y="2171880"/>
            <a:ext cx="4991040" cy="3173400"/>
          </a:xfrm>
          <a:prstGeom prst="rect">
            <a:avLst/>
          </a:prstGeom>
          <a:ln w="0">
            <a:noFill/>
          </a:ln>
        </p:spPr>
      </p:pic>
      <p:sp>
        <p:nvSpPr>
          <p:cNvPr id="560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A78EB-FEA3-424C-A9F7-B1B686B99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"/>
          <p:cNvPicPr/>
          <p:nvPr/>
        </p:nvPicPr>
        <p:blipFill>
          <a:blip r:embed="rId1"/>
          <a:stretch/>
        </p:blipFill>
        <p:spPr>
          <a:xfrm>
            <a:off x="1371600" y="1798560"/>
            <a:ext cx="5316480" cy="3956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2"/>
          <a:stretch/>
        </p:blipFill>
        <p:spPr>
          <a:xfrm>
            <a:off x="6319800" y="2052720"/>
            <a:ext cx="2001960" cy="2863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564" name="Přímá spojovací šipka 5"/>
          <p:cNvCxnSpPr/>
          <p:nvPr/>
        </p:nvCxnSpPr>
        <p:spPr>
          <a:xfrm>
            <a:off x="4188960" y="2901960"/>
            <a:ext cx="19785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80720" y="1108080"/>
            <a:ext cx="7815240" cy="5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rojektu a monitorovací zprávě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Elipsa 12"/>
          <p:cNvSpPr/>
          <p:nvPr/>
        </p:nvSpPr>
        <p:spPr>
          <a:xfrm>
            <a:off x="4024440" y="5600880"/>
            <a:ext cx="330120" cy="153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9ABB0-479B-40A8-BED9-A0ACE2F37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9" descr=""/>
          <p:cNvPicPr/>
          <p:nvPr/>
        </p:nvPicPr>
        <p:blipFill>
          <a:blip r:embed="rId1"/>
          <a:srcRect l="0" t="0" r="0" b="11181"/>
          <a:stretch/>
        </p:blipFill>
        <p:spPr>
          <a:xfrm>
            <a:off x="1701720" y="1130400"/>
            <a:ext cx="5740560" cy="4808520"/>
          </a:xfrm>
          <a:prstGeom prst="rect">
            <a:avLst/>
          </a:prstGeom>
          <a:ln w="0">
            <a:noFill/>
          </a:ln>
        </p:spPr>
      </p:pic>
      <p:sp>
        <p:nvSpPr>
          <p:cNvPr id="571" name="Elipsa 10"/>
          <p:cNvSpPr/>
          <p:nvPr/>
        </p:nvSpPr>
        <p:spPr>
          <a:xfrm>
            <a:off x="1959120" y="1130400"/>
            <a:ext cx="420480" cy="204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716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Monitorovací indikátory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Slide Number Placeholder 8"/>
          <p:cNvSpPr/>
          <p:nvPr/>
        </p:nvSpPr>
        <p:spPr>
          <a:xfrm>
            <a:off x="6588000" y="6173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A9F7D-3C84-4DD6-A1E2-91145E151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tretch/>
        </p:blipFill>
        <p:spPr>
          <a:xfrm>
            <a:off x="752400" y="1676520"/>
            <a:ext cx="6283440" cy="4084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2"/>
          <a:stretch/>
        </p:blipFill>
        <p:spPr>
          <a:xfrm>
            <a:off x="5672160" y="3970440"/>
            <a:ext cx="3240000" cy="1109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76" name="Zástupný symbol pro datum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Přímá spojovací šipka 9"/>
          <p:cNvCxnSpPr/>
          <p:nvPr/>
        </p:nvCxnSpPr>
        <p:spPr>
          <a:xfrm flipV="1">
            <a:off x="3303360" y="4584240"/>
            <a:ext cx="2369160" cy="496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600" y="96948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8633A-3118-4B9A-87D0-8D740EEFD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"/>
          <p:cNvPicPr/>
          <p:nvPr/>
        </p:nvPicPr>
        <p:blipFill>
          <a:blip r:embed="rId1"/>
          <a:stretch/>
        </p:blipFill>
        <p:spPr>
          <a:xfrm>
            <a:off x="1990800" y="1536840"/>
            <a:ext cx="5365800" cy="4224240"/>
          </a:xfrm>
          <a:prstGeom prst="rect">
            <a:avLst/>
          </a:prstGeom>
          <a:ln w="0">
            <a:noFill/>
          </a:ln>
        </p:spPr>
      </p:pic>
      <p:sp>
        <p:nvSpPr>
          <p:cNvPr id="58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29840" y="918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Dodavatelé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41162-B066-403C-A7A2-22C36ACD0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1685880" y="1611360"/>
            <a:ext cx="5772240" cy="4006800"/>
          </a:xfrm>
          <a:prstGeom prst="rect">
            <a:avLst/>
          </a:prstGeom>
          <a:ln w="0">
            <a:noFill/>
          </a:ln>
        </p:spPr>
      </p:pic>
      <p:sp>
        <p:nvSpPr>
          <p:cNvPr id="58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929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- detail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284CB-17F0-443D-8492-003C95759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7" descr=""/>
          <p:cNvPicPr/>
          <p:nvPr/>
        </p:nvPicPr>
        <p:blipFill>
          <a:blip r:embed="rId1"/>
          <a:stretch/>
        </p:blipFill>
        <p:spPr>
          <a:xfrm>
            <a:off x="254160" y="1528920"/>
            <a:ext cx="5922720" cy="4176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2"/>
          <a:stretch/>
        </p:blipFill>
        <p:spPr>
          <a:xfrm>
            <a:off x="4618080" y="3618000"/>
            <a:ext cx="4362480" cy="2738520"/>
          </a:xfrm>
          <a:prstGeom prst="rect">
            <a:avLst/>
          </a:prstGeom>
          <a:ln w="0">
            <a:noFill/>
          </a:ln>
        </p:spPr>
      </p:pic>
      <p:sp>
        <p:nvSpPr>
          <p:cNvPr id="590" name="Obdélník 6"/>
          <p:cNvSpPr/>
          <p:nvPr/>
        </p:nvSpPr>
        <p:spPr>
          <a:xfrm>
            <a:off x="2073240" y="3763800"/>
            <a:ext cx="219096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71600" y="968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ublicita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88AA4-4FD8-4FBB-A97A-DB93AE088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"/>
          <p:cNvPicPr/>
          <p:nvPr/>
        </p:nvPicPr>
        <p:blipFill>
          <a:blip r:embed="rId1"/>
          <a:stretch/>
        </p:blipFill>
        <p:spPr>
          <a:xfrm>
            <a:off x="1616040" y="1535040"/>
            <a:ext cx="5851440" cy="4226040"/>
          </a:xfrm>
          <a:prstGeom prst="rect">
            <a:avLst/>
          </a:prstGeom>
          <a:ln w="0">
            <a:noFill/>
          </a:ln>
        </p:spPr>
      </p:pic>
      <p:sp>
        <p:nvSpPr>
          <p:cNvPr id="59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8805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líčové aktivit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5A907-8978-47CF-9FF0-9DD66EAC1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"/>
          <p:cNvPicPr/>
          <p:nvPr/>
        </p:nvPicPr>
        <p:blipFill>
          <a:blip r:embed="rId1"/>
          <a:stretch/>
        </p:blipFill>
        <p:spPr>
          <a:xfrm>
            <a:off x="549360" y="1573200"/>
            <a:ext cx="5475240" cy="39736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5367240" y="2330280"/>
            <a:ext cx="3319560" cy="366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600" name="Přímá spojovací šipka 6"/>
          <p:cNvCxnSpPr/>
          <p:nvPr/>
        </p:nvCxnSpPr>
        <p:spPr>
          <a:xfrm flipV="1">
            <a:off x="5027760" y="4795560"/>
            <a:ext cx="226080" cy="356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1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29840" y="10843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Harmonogram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D9D08-8EF8-4406-9F94-6E2A8D3B0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1971720" y="1952640"/>
            <a:ext cx="5200560" cy="3828960"/>
          </a:xfrm>
          <a:prstGeom prst="rect">
            <a:avLst/>
          </a:prstGeom>
          <a:ln w="0">
            <a:noFill/>
          </a:ln>
        </p:spPr>
      </p:pic>
      <p:sp>
        <p:nvSpPr>
          <p:cNvPr id="60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Doba realizace projektu a pravidla monitorován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ěcná část monitorovací zprávy – monitorovací zpráva v Benefit7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Přílohy k monitorovací zprávě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Helvetica C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Nejčastější chyby, rady a doporučen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452520" indent="-45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1D346-B473-40C7-B557-8C645B24A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71600" y="97956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ontroly na místě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620F8-C9FE-45ED-8BBB-4389F285F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1828800" y="1546200"/>
            <a:ext cx="5506920" cy="4286160"/>
          </a:xfrm>
          <a:prstGeom prst="rect">
            <a:avLst/>
          </a:prstGeom>
          <a:ln w="0">
            <a:noFill/>
          </a:ln>
        </p:spPr>
      </p:pic>
      <p:sp>
        <p:nvSpPr>
          <p:cNvPr id="60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30200" y="1109520"/>
            <a:ext cx="628344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odstatné/Nepodstatné změn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C006D-9232-4872-84DD-BDF147922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6" descr=""/>
          <p:cNvPicPr/>
          <p:nvPr/>
        </p:nvPicPr>
        <p:blipFill>
          <a:blip r:embed="rId1"/>
          <a:stretch/>
        </p:blipFill>
        <p:spPr>
          <a:xfrm>
            <a:off x="528480" y="1674720"/>
            <a:ext cx="5507280" cy="4056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5232240" y="3027240"/>
            <a:ext cx="3657600" cy="1760760"/>
          </a:xfrm>
          <a:prstGeom prst="rect">
            <a:avLst/>
          </a:prstGeom>
          <a:ln w="0">
            <a:noFill/>
          </a:ln>
        </p:spPr>
      </p:pic>
      <p:cxnSp>
        <p:nvCxnSpPr>
          <p:cNvPr id="614" name="Přímá spojovací šipka 6"/>
          <p:cNvCxnSpPr/>
          <p:nvPr/>
        </p:nvCxnSpPr>
        <p:spPr>
          <a:xfrm>
            <a:off x="3484080" y="3860280"/>
            <a:ext cx="154548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5" name="Zástupný symbol pro datum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30200" y="995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řílohy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F3389-A365-4AFE-988E-19BEEA643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7" descr=""/>
          <p:cNvPicPr/>
          <p:nvPr/>
        </p:nvPicPr>
        <p:blipFill>
          <a:blip r:embed="rId1"/>
          <a:stretch/>
        </p:blipFill>
        <p:spPr>
          <a:xfrm>
            <a:off x="1727280" y="1562040"/>
            <a:ext cx="5648400" cy="4056120"/>
          </a:xfrm>
          <a:prstGeom prst="rect">
            <a:avLst/>
          </a:prstGeom>
          <a:ln w="0">
            <a:noFill/>
          </a:ln>
        </p:spPr>
      </p:pic>
      <p:sp>
        <p:nvSpPr>
          <p:cNvPr id="61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71600" y="2641680"/>
            <a:ext cx="6283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řílohy k Monitorovací zprávě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5C4B6-8CA0-4EF1-9BBE-7BE167F23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29840" y="10854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monitorovací zpráv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95964-D6FA-4A3B-AD60-A3EA402E0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330200" y="1778040"/>
            <a:ext cx="6142320" cy="3790800"/>
          </a:xfrm>
          <a:prstGeom prst="rect">
            <a:avLst/>
          </a:prstGeom>
          <a:ln w="0">
            <a:noFill/>
          </a:ln>
        </p:spPr>
      </p:pic>
      <p:sp>
        <p:nvSpPr>
          <p:cNvPr id="626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DC20F-D648-40BE-B2B8-33B576DE9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063800" y="1330200"/>
            <a:ext cx="7045200" cy="4075200"/>
          </a:xfrm>
          <a:prstGeom prst="rect">
            <a:avLst/>
          </a:prstGeom>
          <a:ln w="0">
            <a:noFill/>
          </a:ln>
        </p:spPr>
      </p:pic>
      <p:sp>
        <p:nvSpPr>
          <p:cNvPr id="629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45A9B-0731-4B22-9BC9-06E060697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/>
          <a:stretch/>
        </p:blipFill>
        <p:spPr>
          <a:xfrm>
            <a:off x="1220760" y="1311120"/>
            <a:ext cx="6674040" cy="4034160"/>
          </a:xfrm>
          <a:prstGeom prst="rect">
            <a:avLst/>
          </a:prstGeom>
          <a:ln w="0">
            <a:noFill/>
          </a:ln>
        </p:spPr>
      </p:pic>
      <p:sp>
        <p:nvSpPr>
          <p:cNvPr id="63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AD1C8-8285-4E18-A1A5-3A07C8CA4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8" descr=""/>
          <p:cNvPicPr/>
          <p:nvPr/>
        </p:nvPicPr>
        <p:blipFill>
          <a:blip r:embed="rId1"/>
          <a:srcRect l="0" t="0" r="0" b="3894"/>
          <a:stretch/>
        </p:blipFill>
        <p:spPr>
          <a:xfrm>
            <a:off x="633240" y="1212840"/>
            <a:ext cx="7709040" cy="4273560"/>
          </a:xfrm>
          <a:prstGeom prst="rect">
            <a:avLst/>
          </a:prstGeom>
          <a:ln w="0">
            <a:noFill/>
          </a:ln>
        </p:spPr>
      </p:pic>
      <p:sp>
        <p:nvSpPr>
          <p:cNvPr id="635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1371600" y="1655640"/>
            <a:ext cx="628344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škeré materiály ze souborů 04-09 není nutné dodávat jak v listinné, tak v elektronické formě na CD. Postačí vybrat si jeden z těchto způsobů, avšak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sím nekombinujte způsob scan nebo kopie u skupin materiálů 04 – 09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kumenty k zadávacím řízením a Rozpisy/rozpočet se dodávají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ždy elektronicky na CD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kud se rozhodnete MZ dodávat v listinné podobě, tzn. skupinu materiálů 04-09 dodávat v listinné kopii, pro oddělení jednotlivých skupin materiálů v rámci listinné MZ použijte, prosím,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standardizované oddělovací list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viz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7037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A6A61-C006-403B-80EB-D0BB429F4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96640" y="9637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monitorovací zpráv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monitorovací zpráv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29840" y="212040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opak rozhodnete-li se pro elektronické dodávání dokumentů formou scanu, při zpracování monitorovací zprávy prosím vycházejte z příruček a pokynů uveřejněných na webu MŠMT, zejména pak z dokumentů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„Struktura CD“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5765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 a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„Struktura ELMZ“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7147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, v nichž jsou uvedeny přesné pokyny pro podobu elektronické monitorovací zprávy a pojmenování dokument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teriály s označením Zdrojové soubory musí být doloženy vždy elektronicky na CD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3333E-86C5-4636-B1C2-DEAED4F7A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 nebo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zdější datum uvedené v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42195-3B36-4285-A892-40EAF77F5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D0111-B243-4C9F-B0B5-650C81801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2549520" y="2198520"/>
            <a:ext cx="4537080" cy="3719520"/>
          </a:xfrm>
          <a:prstGeom prst="rect">
            <a:avLst/>
          </a:prstGeom>
          <a:ln w="0">
            <a:noFill/>
          </a:ln>
        </p:spPr>
      </p:pic>
      <p:sp>
        <p:nvSpPr>
          <p:cNvPr id="647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9852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dodržet pravidla pro pojmenovávání souborů a dokumentů doložených na CD, která jsou uvedena v tabulce „Struktura ELMZ“ zveřejněné na webu MŠMT 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file/17147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, že v určité skupině materiálů nejsou v rámci monitorovací zprávy předkládány žádné soubory příloh, není požadováno definovanou složku na CD vytvářet. Vždy je však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nutné zařadit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předkládaný soubor do některé z nadefinovaných složek. Není možné pouze vložit soubor na CD bez požadovaného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pojmen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a přiřazení ke skupině materiál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78EC4-5C08-413F-96C2-7082B60AD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122B9-800E-43B1-843B-EEF2A243D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1"/>
          <a:stretch/>
        </p:blipFill>
        <p:spPr>
          <a:xfrm>
            <a:off x="890640" y="1952640"/>
            <a:ext cx="6645240" cy="4060800"/>
          </a:xfrm>
          <a:prstGeom prst="rect">
            <a:avLst/>
          </a:prstGeom>
          <a:ln w="0">
            <a:noFill/>
          </a:ln>
        </p:spPr>
      </p:pic>
      <p:sp>
        <p:nvSpPr>
          <p:cNvPr id="655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023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Struktura CD a označení elektronicky dokládaných souborů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31528-0F4A-484B-A09E-52CE3D8D7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6" descr=""/>
          <p:cNvPicPr/>
          <p:nvPr/>
        </p:nvPicPr>
        <p:blipFill>
          <a:blip r:embed="rId1"/>
          <a:stretch/>
        </p:blipFill>
        <p:spPr>
          <a:xfrm>
            <a:off x="484200" y="1716120"/>
            <a:ext cx="5735520" cy="3629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" descr=""/>
          <p:cNvPicPr/>
          <p:nvPr/>
        </p:nvPicPr>
        <p:blipFill>
          <a:blip r:embed="rId2"/>
          <a:stretch/>
        </p:blipFill>
        <p:spPr>
          <a:xfrm>
            <a:off x="3895560" y="3759120"/>
            <a:ext cx="4791240" cy="1947960"/>
          </a:xfrm>
          <a:prstGeom prst="rect">
            <a:avLst/>
          </a:prstGeom>
          <a:ln w="0">
            <a:noFill/>
          </a:ln>
        </p:spPr>
      </p:pic>
      <p:sp>
        <p:nvSpPr>
          <p:cNvPr id="660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329840" y="27464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Nejčastější chyby, 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2" name="Zástupný symbol pro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CFB68-6839-4179-9102-9A4D92E54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29840" y="1080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Nejčastější chyb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1426680"/>
            <a:ext cx="645804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časné neinformování PM o změně typu MZ (mimořádná) či změně MO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uvedení statutárního zástupce v podpisových vzor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zatržení checkboxu </a:t>
            </a:r>
            <a:r>
              <a:rPr b="0" i="1" lang="cs-CZ" sz="1800" spc="-1" strike="noStrike">
                <a:solidFill>
                  <a:srgbClr val="000000"/>
                </a:solidFill>
                <a:latin typeface="Helvetica CE"/>
              </a:rPr>
              <a:t>„K této MZ bude zpracována Žádost o platbu“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v případě předložení ŽoP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tvoření a uložení prázdného řádku, který znemožní finalizaci MZ (nejčastěji u záložky Kontrola na místě a Podstatné/nepodstatné změny)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uvádění zdůvodnění u zrušených výběrových říze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statečně vyplněné pole „popis“ u VŘ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Chybné číslování příloh v bodě 13.monitorovací zpráv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0C513-5E31-45DF-ACA3-35F345D50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29840" y="106380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Nejčastější chyb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329840" y="1914120"/>
            <a:ext cx="64580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držení pravidel pro pojmenování elektronicky dokládaných soubor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správné zařazení elektronicky dokládaných soubor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zařazení skupin materiálů 01 – 09 do jedné složky na CD pojmenované MonitorovaciZprava 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ložení formulářů skupiny materiálů Rozpisy/Rozpočet v jednom souboru, ale každého zvlášť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doložení pracovních smluv/dohod formou scanů na CD jsou veškeré smlouvy naskenovány v jednom souboru, avšak každá smlouva/dohoda, za jednotlivou osobu se uvádí zvlášť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82EEC-F133-4DE7-8D5A-0BEE9B15E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329840" y="1704960"/>
            <a:ext cx="64580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založení MZ nezapomenout dát Načíst data z M7+/Náklady z M7+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kládat záznam po každém zadání údaj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měnu osob na projektu a jejich údajů (statutární zástupce a kontaktní osoba) je povinné zaznamenat také na záložce Podstatné/Nepodstatné změn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le </a:t>
            </a:r>
            <a:r>
              <a:rPr b="0" i="1" lang="cs-CZ" sz="1800" spc="-1" strike="noStrike">
                <a:solidFill>
                  <a:srgbClr val="000000"/>
                </a:solidFill>
                <a:latin typeface="Helvetica CE"/>
              </a:rPr>
              <a:t>„Další informace o realizaci projektu“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louží k uvedení obecných informací, které se udály během daného monitorovacího období a které není možno přiřadit k žádné záložc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 popisu MI  v B7 uvádět hodnotu dosaženou v tomto MO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8893E-3D4A-4AE4-92D0-7C85921BC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329840" y="1952280"/>
            <a:ext cx="645804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chybně zadaného VŘ v B7 není možné záznam smazat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indikátory, veřejné zakázky a přepracovaný harmonogram již není třeba dodávat jako samostatné přílohy, jsou přímo součástí samotné monitorovací zpráv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škerá dokumentace k ZŘ se dodává vždy v elektronické podobě na CD, stejně jako skupina materiálů Rozpisy/Rozpoče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 povinnou část elektronického označení souboru lze doplnit libovolnou specifikaci dokumentu, avšak je potřeba se vyhnout příliš dlouhým názvům, diakritice a mezerám (místo nich používat dolní podtržítko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20B4F-1616-4301-82CC-86887DF90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329840" y="215388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dodání MZ  ve formě scanů se nedoporučuje vytvářet vlastní označení souborů a dokument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také vhodné vytvářet spoustu do sebe vnořených složek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textu MZ uvádět odkaz na konkrétní přílohu/název souboru, který dokládá popisovanou skutečnos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atutární zástupce a Funkce statutárního zástupce se tiskne automaticky do čestného prohlášení tištěné sestavy monitorovací zprávy v Benefit7. V případě, že MZ podepisuje jiná pověřená osoba, stačí vygenerované údaje přeškrtnout a doplnit ty správné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7F047-8D00-4182-8F0A-B588F6C07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6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371600" y="1816200"/>
            <a:ext cx="62834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statná změna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8BCFD-F976-493A-BCB3-F6C6957C0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Rady a doporučení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vrácení MZ v Benefit7 k dopracování stačí provést „storno finalizace“ a pole budou editovatelná. Před novou finalizací nezapomeňte, prosím, změnit pole „Předpokládané datum předložení ŘO/ZS“ na datum předpokládaného dodání připomínek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orespondenční adresou pro doručení monitorovací zprávy je: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ŠMT, odbor CER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rmelitská 7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18 12 Praha 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6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5C9BE-F5B9-4F19-AE7C-F9F9CF6A9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329840" y="2171880"/>
            <a:ext cx="645804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ttp://www.msmt.cz/strukturalni-fondy/prirucka-pro-prijemce-op-vk-verze-5-platna-od-9-8-2010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                    s projektovými manaže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2F815-1ABA-4033-B455-BC85A4192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343160" y="1842840"/>
            <a:ext cx="64576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Helvetica CE"/>
              </a:rPr>
              <a:t>Prostor pro případné dotazy</a:t>
            </a:r>
            <a:endParaRPr b="0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3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7AC49-86B7-4AAA-98BB-3741303FB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600" y="2376000"/>
            <a:ext cx="6283440" cy="10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Děkuji za pozornost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371600" y="1695600"/>
            <a:ext cx="6283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2880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Ing. Pavlína Vitáskov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bor CER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16000" indent="-21600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email.: pavlina.vitask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7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889C5-0DEB-4540-931A-69D5C2726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71600" y="1816200"/>
            <a:ext cx="628344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39744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imořádná průběž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buClr>
                <a:srgbClr val="f3912c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žnosti stanovení monitorovacího obdob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e dne začátku realizace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7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 prvního dne měsíce, v němž začal být projekt realizová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57BED-4E79-4F55-A429-0A0C24E11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1600" y="2082960"/>
            <a:ext cx="6283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Věcná část Monitorovací zprávy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E4498-EDE2-4A4A-971B-40211EAE6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45960"/>
            <a:ext cx="64580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329840" y="2487600"/>
            <a:ext cx="64580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edkládá se prostřednictvím aplikace Benefit7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ručka pro vytvoření elektronické monitorovací zprávy v B7  s technickým i metodickým postupem je uveřejněna na webu MŠM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iz: http://www.msmt.cz/strukturalni-fondy/elektronicka-monitorovaci-zprava-a-jeji-prilohy-platna-od-2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Další informace (struktura, přílohy) k předkládání elektronické monitorovací zprávy jsou rovněž uveřejněny na webu MŠMT.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1DA8A-F5CB-417A-8C72-7E0BFB056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29840" y="1246320"/>
            <a:ext cx="645804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CB543-D5BD-4A94-B8E6-33FC45B3B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330200" y="2205000"/>
            <a:ext cx="5668920" cy="3667320"/>
          </a:xfrm>
          <a:prstGeom prst="rect">
            <a:avLst/>
          </a:prstGeom>
          <a:ln w="0">
            <a:noFill/>
          </a:ln>
        </p:spPr>
      </p:pic>
      <p:sp>
        <p:nvSpPr>
          <p:cNvPr id="550" name="Zástupný symbol pro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91404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Monitorovací zpráva v Benefit7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DC4E9-FB53-431E-9388-413919539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538200" y="1800360"/>
            <a:ext cx="6014880" cy="4055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"/>
          <p:cNvPicPr/>
          <p:nvPr/>
        </p:nvPicPr>
        <p:blipFill>
          <a:blip r:embed="rId2"/>
          <a:stretch/>
        </p:blipFill>
        <p:spPr>
          <a:xfrm>
            <a:off x="4297320" y="2921040"/>
            <a:ext cx="4511880" cy="1895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555" name="Přímá spojovací šipka 14"/>
          <p:cNvCxnSpPr/>
          <p:nvPr/>
        </p:nvCxnSpPr>
        <p:spPr>
          <a:xfrm>
            <a:off x="1655280" y="3565440"/>
            <a:ext cx="2490120" cy="123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6" name="Zástupný symbol pro datum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5.3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Pavlína Vitásková</cp:lastModifiedBy>
  <dcterms:modified xsi:type="dcterms:W3CDTF">2012-02-27T08:04:57Z</dcterms:modified>
  <cp:revision>473</cp:revision>
  <dc:subject/>
  <dc:title>Titulní strana – Titulek</dc:title>
</cp:coreProperties>
</file>