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28.png" ContentType="image/png"/>
  <Override PartName="/ppt/media/image44.png" ContentType="image/png"/>
  <Override PartName="/ppt/media/image13.jpeg" ContentType="image/jpeg"/>
  <Override PartName="/ppt/media/image33.jpeg" ContentType="image/jpeg"/>
  <Override PartName="/ppt/media/image27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4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32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8B32-FF1E-4C1D-A275-364BE2CB571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FAD9-AD15-44CA-B7BE-E2DD54BED0F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45F2-025E-4818-A8B7-6A9EDFB14DE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428F-38BD-4F5D-A59D-11E58CFF31A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71D8-ED59-4E57-BEC9-D644CFC917E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2401-05A9-4ACE-8F2E-8B508B6684C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4474-B9B3-4984-BDFA-E24338CB772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5BB9-56A6-4238-BF16-1CF1B3AF5B4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B5DD-EF7A-4677-932C-04061CFD723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1478-FF93-47B7-8081-0B4EB23C035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F5E7-C890-4D0D-93BD-D4591ACCF93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CFC9-702E-45CB-BD2E-D4258C20EED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597F-2233-420C-92C2-ED0C1960DDF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9EA-A814-4CCD-8603-624BE50F7B9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11ED-1C3C-4DD7-AA34-03C9E2DFB4B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EA21-D7D0-46D3-981D-D686C9731B3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D6E-AF6C-4315-B029-5181FCC9560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4B98-74F2-4367-9EE2-43D15564440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DA17-4505-4AFA-A9C6-7B6C438F338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BE08-3C85-4E3D-BD0F-11E940C9078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19D2-FE86-4C0E-9D32-DCA0A60965F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A777-7755-4F9F-9629-CBE76EBF9D8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A788-9C3C-4753-9266-6ABF8BA0EBE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412A-93DC-4FD5-9D7E-4907C892045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7BBC-C1C8-42A1-9F49-3CCCA0D3DAD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7A26-CA27-480C-B8C8-05D3AC7FCE9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4A3E-8DF9-4640-955D-A9DC00BA492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2051-966C-442C-84C1-6CE46C3CADC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E29-B3FE-4BD6-854F-CDE1FCDF959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3240-C355-46E9-94C7-393391040A3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66FD-A068-41D4-9590-8F2C1CCBE72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A8E2-D325-4E04-A8E9-194AA7E0296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A531-2513-47B8-AB05-871A26A8C03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FA78-2200-479C-BED9-4E2A0FBD5EB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277D-7813-4B64-8A69-8BEA05D1E35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789F-F373-42A0-BE3B-EE0D7F536BE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30E3-DAF8-4B54-950A-D05232D295B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AB29-D173-423B-92EA-7104F463352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CC7C-7263-4843-8C6B-23AD802A8EA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9056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F60E-3009-48DA-A288-A9E1BC88666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A18C-BA98-4817-9350-EC83D999CC0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C561-25AA-4445-A562-184768EA962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0EF7-0ACD-4F1B-8071-EEB04F40FC3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94A1-6EBB-4E12-91D9-5A13C8020B7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93B5-C571-4531-A6FE-C9BE331609D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F77C-FF9B-4522-9AF2-F15403DBE28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869D-84B8-458E-85A5-A8D088D6302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3760" y="77796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D634-22BE-4269-AF9A-5D9A9DFB5A6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B226-5FF2-4340-8EAA-A35D808F9D3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6710-D886-4DDC-BBE3-9A5BF3C5370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3941-E093-4B4A-A3ED-E97A834F59A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5EE-5494-43FD-AF1B-660E1616A2A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6DEF-D7CC-4378-9042-3DB11F562FD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8372-C572-44D9-BD3E-D7AB1CF3263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854C-73A6-404D-B203-FF686F63405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93EB-98FC-439C-A51B-D9D16CA62D1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5CF6-C5F3-4126-B67F-0FC8BA6ACE3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5785-57E8-4698-8024-DFF43C4110B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2CA4-1571-4CDA-B293-0E7985110A9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7E2D-DA42-4C85-805D-7F4E4B1A8C2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7E6D-43FC-4D61-AE10-7C9C2D51ACF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0AC0-4D44-4441-AC1A-0F6270B4BA1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1F97-170F-4303-8690-085851589E7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9A4E-33B1-4E92-97B8-1002C14D89A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D169-8E2A-46D2-BC05-D12A35B0B34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0360" y="4140360"/>
            <a:ext cx="7796160" cy="15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  <a:ea typeface="Arial"/>
              </a:rPr>
              <a:t>5. 3.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  <a:ea typeface="Arial"/>
              </a:rPr>
              <a:t>Ing. Jana Wagnerov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50760" y="1290240"/>
            <a:ext cx="832032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alibri"/>
                <a:ea typeface="Arial"/>
              </a:rPr>
              <a:t>Se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min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  <a:ea typeface="Arial"/>
              </a:rPr>
              <a:t>ář pro příjemce finanční podpory z OP Vzdělávání pro konkurenceschopnost –      výzva 3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klady nepřímých náklad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 a public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 – vykazované činnosti nesmí obsahovat činnosti, které by měly být hrazeny z nepřímých nákladů (skanování, kopírování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vidla pro čerpání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iz PpP str.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il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jsou výdaje uskutečněné v souladu s podmínkami stanovenými v právním aktu o poskytnutí podpory a v souladu s příslušnými předpisy EU 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Způsobilé výdaje musí splňovat následující kritéria (PpP 5 str. 33 - 34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iměřenost, hospodárnost, účelnost a 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kazatelnost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tum uskutečně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ZOR – Výzva 31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za zřízení a vedení projektového účtu jsou způsobilé ode dne, kdy byl projekt schválen k realizaci ministryní/ministrem školství, mládeže a tělovýcho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Způsobilost ná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oskytovatel podpory dojde na základě kontrol projektu k závěru, že výdaj prokazovaný v žádosti o platbu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splňuje některé z kritéri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 neuzná tento výdaj jako způsobilý, a to i v případě, že tento výdaj je uveden ve schváleném rozpočtu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způsobilé výdaje – podrobný výčet PpP 5 str. 66 – 6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dení běžného provozního účtu organizace a bankovní poplatky související s tímto úč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upy vozidel, infrastruktury, nemovitostí a pozem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ankční poplatky, penále a pokuty, stornovací popla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způsobilost ná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474640"/>
            <a:ext cx="817884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  <a:ea typeface="Arial"/>
              </a:rPr>
              <a:t>Povinné přílohy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i ELMZ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Možnosti dokladování k ELM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ástupný symbol pro text 3"/>
          <p:cNvSpPr/>
          <p:nvPr/>
        </p:nvSpPr>
        <p:spPr>
          <a:xfrm>
            <a:off x="270000" y="1766880"/>
            <a:ext cx="963108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ktuální formuláře k ELMZ jsou ke stažení na webu MŠM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msmt.cz/strukturalni-fondy/elektronicka-monitorovaci-zprava-a-jeji-prilohy-platna-od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přílohy musí být na CD uloženy ve formátu .xls + příloha žádosti o platbu v Benefit7+ ve formátu 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y z účtů, kopie dokladů, výkazy práce, smlouvy – scan nebo listinná kop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žádosti o platbu  v aplikaci Benefit7+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ahrá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aktuální verzi souboru Rozpisy/rozpočet.x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05000" y="274428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Projektový/provozní bankovní úč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před uzavřením právního aktu zřídit samostatný bankovní účet pro účel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x-ant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(zálohami) – povinnost zřídi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x-p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(zpětné proplacení) - samostatný projektový účet není nutné zaklá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je zakotven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rojektový bankovní úč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text 3"/>
          <p:cNvSpPr/>
          <p:nvPr/>
        </p:nvSpPr>
        <p:spPr>
          <a:xfrm>
            <a:off x="0" y="144000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Ú za předkládané monitorované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robíhá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značení odchozí platby pořadovým číslem výdaje ze Soupisky účetních dokladů, u odchozích plateb určených na nepřímé výdaje – označením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projektového úč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i (partnerům) je umožněno výdaj prvotně uhradit z provozního účtu organizace a následně si dané prostředky refundovat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doložit doklad o prvotní úhradě (výpis z provozního účtu, VPD apod.) –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jimkou jsou mzdové výdaj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– viz dá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fundace z projektového účtu může být provedena jednou platební operací za více účetních polož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i refundaci příjemce dokládá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kaz k refund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ozní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4"/>
          <p:cNvSpPr/>
          <p:nvPr/>
        </p:nvSpPr>
        <p:spPr>
          <a:xfrm>
            <a:off x="719280" y="2386080"/>
            <a:ext cx="85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681120" indent="-236520" algn="ctr">
              <a:lnSpc>
                <a:spcPct val="100000"/>
              </a:lnSpc>
              <a:spcBef>
                <a:spcPts val="1001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možné zahrnout do soupisky účetních dokladů a do žádosti o platbu v následujících případ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text 3"/>
          <p:cNvSpPr/>
          <p:nvPr/>
        </p:nvSpPr>
        <p:spPr>
          <a:xfrm>
            <a:off x="266760" y="1601640"/>
            <a:ext cx="837396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ční část ELMZ v aplikaci Benefit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ilost x nezpůsobilost ná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6"/>
          <p:cNvSpPr/>
          <p:nvPr/>
        </p:nvSpPr>
        <p:spPr>
          <a:xfrm>
            <a:off x="584280" y="2001960"/>
            <a:ext cx="91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může být zahrnout do soupisky účetních dokladů a žádosti o platbu v dané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16"/>
          <p:cNvSpPr/>
          <p:nvPr/>
        </p:nvSpPr>
        <p:spPr>
          <a:xfrm>
            <a:off x="630360" y="19810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může být zahrnout do soupisky účetních dokladů a žádosti o platbu v dané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Čárový popisek 2 10"/>
          <p:cNvSpPr/>
          <p:nvPr/>
        </p:nvSpPr>
        <p:spPr>
          <a:xfrm>
            <a:off x="1035000" y="391644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2333"/>
              <a:gd name="adj4" fmla="val -3643"/>
              <a:gd name="adj5" fmla="val 173231"/>
              <a:gd name="adj6" fmla="val -4185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Čárový popisek 2 14"/>
          <p:cNvSpPr/>
          <p:nvPr/>
        </p:nvSpPr>
        <p:spPr>
          <a:xfrm>
            <a:off x="5535720" y="355608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16"/>
          <p:cNvSpPr/>
          <p:nvPr/>
        </p:nvSpPr>
        <p:spPr>
          <a:xfrm>
            <a:off x="630360" y="1709640"/>
            <a:ext cx="89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out do soupisky účetních dokladů a do žádosti o platbu v dané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Čárový popisek 2 18"/>
          <p:cNvSpPr/>
          <p:nvPr/>
        </p:nvSpPr>
        <p:spPr>
          <a:xfrm>
            <a:off x="314280" y="283536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266527"/>
              <a:gd name="adj6" fmla="val 8981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6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ovéPole 11"/>
          <p:cNvSpPr/>
          <p:nvPr/>
        </p:nvSpPr>
        <p:spPr>
          <a:xfrm>
            <a:off x="539640" y="1557360"/>
            <a:ext cx="909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římým výdajem nesmí nastat; nelze si na provozní účet předfinancovat např. nákup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17"/>
          <p:cNvSpPr/>
          <p:nvPr/>
        </p:nvSpPr>
        <p:spPr>
          <a:xfrm>
            <a:off x="1039680" y="251928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jimka: předfinancování výdajů v rámci kapitoly č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výdajům projektu nárokovaným v rámci dané M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jsou řazeny dle čísla kapitoly v rozpoč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3 Rozpis mzdových/platových výdajů realizačního tým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4 Rozpis cestovních náhrad- zahraničn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5 Odpi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20/1 Rozpis mzdových příspěvků pro škole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77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8" name="Zaoblený obdélníkový popisek 5"/>
          <p:cNvGrpSpPr/>
          <p:nvPr/>
        </p:nvGrpSpPr>
        <p:grpSpPr>
          <a:xfrm>
            <a:off x="8143920" y="5218200"/>
            <a:ext cx="1822320" cy="1249200"/>
            <a:chOff x="8143920" y="5218200"/>
            <a:chExt cx="1822320" cy="1249200"/>
          </a:xfrm>
        </p:grpSpPr>
        <p:pic>
          <p:nvPicPr>
            <p:cNvPr id="179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43920" y="5218200"/>
              <a:ext cx="18223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247240" y="5630760"/>
              <a:ext cx="16268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ožadována částka dotace v Ž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Zaoblený obdélníkový popisek 7"/>
          <p:cNvGrpSpPr/>
          <p:nvPr/>
        </p:nvGrpSpPr>
        <p:grpSpPr>
          <a:xfrm>
            <a:off x="3067200" y="3121200"/>
            <a:ext cx="1796760" cy="1573200"/>
            <a:chOff x="3067200" y="3121200"/>
            <a:chExt cx="1796760" cy="1573200"/>
          </a:xfrm>
        </p:grpSpPr>
        <p:pic>
          <p:nvPicPr>
            <p:cNvPr id="182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21200"/>
              <a:ext cx="17967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%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Zakřivená spojovací čára 17"/>
          <p:cNvCxnSpPr>
            <a:stCxn id="184" idx="6"/>
            <a:endCxn id="185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88" name="Zakřivená spojovací čára 19"/>
          <p:cNvCxnSpPr>
            <a:stCxn id="185" idx="6"/>
            <a:endCxn id="186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grpSp>
        <p:nvGrpSpPr>
          <p:cNvPr id="189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90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Zaoblený obdélníkový popisek 12"/>
          <p:cNvGrpSpPr/>
          <p:nvPr/>
        </p:nvGrpSpPr>
        <p:grpSpPr>
          <a:xfrm>
            <a:off x="7186680" y="5194440"/>
            <a:ext cx="2249280" cy="2253960"/>
            <a:chOff x="7186680" y="5194440"/>
            <a:chExt cx="2249280" cy="2253960"/>
          </a:xfrm>
        </p:grpSpPr>
        <p:pic>
          <p:nvPicPr>
            <p:cNvPr id="193" name="Zaoblený obdélníkový popisek 12" descr=""/>
            <p:cNvPicPr/>
            <p:nvPr/>
          </p:nvPicPr>
          <p:blipFill>
            <a:blip r:embed="rId6"/>
            <a:stretch/>
          </p:blipFill>
          <p:spPr>
            <a:xfrm>
              <a:off x="7186680" y="5194440"/>
              <a:ext cx="224928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284960" y="6615000"/>
              <a:ext cx="205416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Úroky na projektovém účtu příjemce/partn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Zástupný symbol pro text 3" descr=""/>
          <p:cNvPicPr/>
          <p:nvPr/>
        </p:nvPicPr>
        <p:blipFill>
          <a:blip r:embed="rId1"/>
          <a:stretch/>
        </p:blipFill>
        <p:spPr>
          <a:xfrm>
            <a:off x="219240" y="1530360"/>
            <a:ext cx="9942480" cy="5145120"/>
          </a:xfrm>
          <a:prstGeom prst="rect">
            <a:avLst/>
          </a:prstGeom>
          <a:ln w="0">
            <a:noFill/>
          </a:ln>
        </p:spPr>
      </p:pic>
      <p:sp>
        <p:nvSpPr>
          <p:cNvPr id="1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ELMZ v aplikaci Benefit7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202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text 3"/>
          <p:cNvSpPr/>
          <p:nvPr/>
        </p:nvSpPr>
        <p:spPr>
          <a:xfrm>
            <a:off x="-27000" y="342432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 - vychází Rozhodnutí o poskytnutí dotace či z relevantního Dodatku k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 - kumulativně od začátku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 - pouze změny v daném monitorovaném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ůležité: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i provádění změn v rozpočtu je nutné aby počet jednotek, jednotková cena, celkové náklady na položku byly uvedeny na max. 2 desetinná čísla, není možné uvést  např. 2499,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205" name="Přímá spojovací šipka 12"/>
          <p:cNvCxnSpPr/>
          <p:nvPr/>
        </p:nvCxnSpPr>
        <p:spPr>
          <a:xfrm flipH="1">
            <a:off x="3195360" y="2357280"/>
            <a:ext cx="2645280" cy="1874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206" name="Přímá spojovací šipka 15"/>
          <p:cNvCxnSpPr/>
          <p:nvPr/>
        </p:nvCxnSpPr>
        <p:spPr>
          <a:xfrm flipH="1">
            <a:off x="3914280" y="2295360"/>
            <a:ext cx="4828320" cy="24314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Nadpis 2"/>
          <p:cNvSpPr/>
          <p:nvPr/>
        </p:nvSpPr>
        <p:spPr>
          <a:xfrm>
            <a:off x="900000" y="990720"/>
            <a:ext cx="86947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 nepodstatné změny roz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Zaoblený obdélníkový popisek 13"/>
          <p:cNvGrpSpPr/>
          <p:nvPr/>
        </p:nvGrpSpPr>
        <p:grpSpPr>
          <a:xfrm>
            <a:off x="208080" y="5200560"/>
            <a:ext cx="5716440" cy="1670040"/>
            <a:chOff x="208080" y="5200560"/>
            <a:chExt cx="5716440" cy="1670040"/>
          </a:xfrm>
        </p:grpSpPr>
        <p:pic>
          <p:nvPicPr>
            <p:cNvPr id="209" name="Zaoblený obdélníkový popisek 13" descr=""/>
            <p:cNvPicPr/>
            <p:nvPr/>
          </p:nvPicPr>
          <p:blipFill>
            <a:blip r:embed="rId1"/>
            <a:stretch/>
          </p:blipFill>
          <p:spPr>
            <a:xfrm>
              <a:off x="208080" y="5200560"/>
              <a:ext cx="57164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28680" y="5640480"/>
              <a:ext cx="226692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Aktuální výše položek po provedení nepodst. změn v rozpočtu kumulativně od začátku proje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Zaoblený obdélníkový popisek 14"/>
          <p:cNvGrpSpPr/>
          <p:nvPr/>
        </p:nvGrpSpPr>
        <p:grpSpPr>
          <a:xfrm>
            <a:off x="7553160" y="5205240"/>
            <a:ext cx="2462400" cy="2249640"/>
            <a:chOff x="7553160" y="5205240"/>
            <a:chExt cx="2462400" cy="2249640"/>
          </a:xfrm>
        </p:grpSpPr>
        <p:pic>
          <p:nvPicPr>
            <p:cNvPr id="212" name="Zaoblený obdélníkový popisek 14" descr=""/>
            <p:cNvPicPr/>
            <p:nvPr/>
          </p:nvPicPr>
          <p:blipFill>
            <a:blip r:embed="rId2"/>
            <a:stretch/>
          </p:blipFill>
          <p:spPr>
            <a:xfrm>
              <a:off x="7553160" y="5205240"/>
              <a:ext cx="246240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62960" y="6416640"/>
              <a:ext cx="2246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Nepodstatné změny rozpočtu provedené v daném monitorovacím obdob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406440" y="2341440"/>
            <a:ext cx="9448920" cy="28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048040" y="1968480"/>
            <a:ext cx="779616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70000" y="1665360"/>
            <a:ext cx="9585360" cy="4619520"/>
          </a:xfrm>
          <a:prstGeom prst="rect">
            <a:avLst/>
          </a:prstGeom>
          <a:ln w="0">
            <a:noFill/>
          </a:ln>
        </p:spPr>
      </p:pic>
      <p:sp>
        <p:nvSpPr>
          <p:cNvPr id="217" name="Nadpis 2"/>
          <p:cNvSpPr/>
          <p:nvPr/>
        </p:nvSpPr>
        <p:spPr>
          <a:xfrm>
            <a:off x="225360" y="855720"/>
            <a:ext cx="6885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 podstatné změny roz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Zaoblený obdélníkový popisek 4"/>
          <p:cNvGrpSpPr/>
          <p:nvPr/>
        </p:nvGrpSpPr>
        <p:grpSpPr>
          <a:xfrm>
            <a:off x="7095960" y="304920"/>
            <a:ext cx="2816280" cy="2609640"/>
            <a:chOff x="7095960" y="304920"/>
            <a:chExt cx="2816280" cy="2609640"/>
          </a:xfrm>
        </p:grpSpPr>
        <p:pic>
          <p:nvPicPr>
            <p:cNvPr id="219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7095960" y="304920"/>
              <a:ext cx="2816280" cy="26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219800" y="423720"/>
              <a:ext cx="25718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řesun přesahující 15 % objemu způsobilých výdajů  kapitoly dle platného rozpočtu, ze které jsou prostředky přesouvá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223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227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hled čerpání způsobilých výd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05000" y="2655360"/>
            <a:ext cx="7796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Přehled čerpání způsobilých výdaj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Nadpis 2"/>
          <p:cNvSpPr/>
          <p:nvPr/>
        </p:nvSpPr>
        <p:spPr>
          <a:xfrm>
            <a:off x="722160" y="103968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ložky rozpočtu musí korespondovat s rozpočtem, který je přílohou Rozhodnutí o poskytnutí dotace, resp. aktuálního dodatku, a následně musí obsahovat položky, které byly vytvořeny na základě schválených nepodstatných změn rozpočtu a jsou zaznamenávány na příloze Přepracovaný rozpočet projektu od začátku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Zástupný symbol pro text 3" descr=""/>
          <p:cNvPicPr/>
          <p:nvPr/>
        </p:nvPicPr>
        <p:blipFill>
          <a:blip r:embed="rId1"/>
          <a:stretch/>
        </p:blipFill>
        <p:spPr>
          <a:xfrm>
            <a:off x="262080" y="1438200"/>
            <a:ext cx="9667800" cy="4816440"/>
          </a:xfrm>
          <a:prstGeom prst="rect">
            <a:avLst/>
          </a:prstGeom>
          <a:ln w="0">
            <a:noFill/>
          </a:ln>
        </p:spPr>
      </p:pic>
      <p:sp>
        <p:nvSpPr>
          <p:cNvPr id="2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okladování mzdových výdajů 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584280" y="1709640"/>
            <a:ext cx="8962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38" name="Zaoblený obdélníkový popisek 5"/>
          <p:cNvGrpSpPr/>
          <p:nvPr/>
        </p:nvGrpSpPr>
        <p:grpSpPr>
          <a:xfrm>
            <a:off x="255600" y="4316400"/>
            <a:ext cx="4297320" cy="1968480"/>
            <a:chOff x="255600" y="4316400"/>
            <a:chExt cx="4297320" cy="1968480"/>
          </a:xfrm>
        </p:grpSpPr>
        <p:pic>
          <p:nvPicPr>
            <p:cNvPr id="239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255600" y="4316400"/>
              <a:ext cx="4297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71520" y="5097600"/>
              <a:ext cx="398124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říjemce vyplní veškeré relevantní kolonky – základní informace o projektu, identifikaci pracovníka a jeho zapojení pro projekt a do dalších činností pro příjemce/partn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Elipsa 7"/>
          <p:cNvSpPr/>
          <p:nvPr/>
        </p:nvSpPr>
        <p:spPr>
          <a:xfrm>
            <a:off x="4726080" y="1890720"/>
            <a:ext cx="1935000" cy="674640"/>
          </a:xfrm>
          <a:prstGeom prst="ellipse">
            <a:avLst/>
          </a:prstGeom>
          <a:noFill/>
          <a:ln w="25560">
            <a:solidFill>
              <a:srgbClr val="f39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lipsa 8"/>
          <p:cNvSpPr/>
          <p:nvPr/>
        </p:nvSpPr>
        <p:spPr>
          <a:xfrm>
            <a:off x="7515360" y="2744640"/>
            <a:ext cx="1935000" cy="676440"/>
          </a:xfrm>
          <a:prstGeom prst="ellipse">
            <a:avLst/>
          </a:prstGeom>
          <a:noFill/>
          <a:ln w="25560">
            <a:solidFill>
              <a:srgbClr val="f39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lipsa 9"/>
          <p:cNvSpPr/>
          <p:nvPr/>
        </p:nvSpPr>
        <p:spPr>
          <a:xfrm>
            <a:off x="2519280" y="2610000"/>
            <a:ext cx="1935360" cy="676080"/>
          </a:xfrm>
          <a:prstGeom prst="ellipse">
            <a:avLst/>
          </a:prstGeom>
          <a:noFill/>
          <a:ln w="25560">
            <a:solidFill>
              <a:srgbClr val="f39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246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Zakřivená spojovací čára 9"/>
          <p:cNvCxnSpPr>
            <a:stCxn id="247" idx="6"/>
            <a:endCxn id="248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250" name="Přímá spojovací šipka 16"/>
          <p:cNvCxnSpPr>
            <a:stCxn id="246" idx="6"/>
            <a:endCxn id="247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251" name="Zaoblený obdélníkový popisek 20"/>
          <p:cNvGrpSpPr/>
          <p:nvPr/>
        </p:nvGrpSpPr>
        <p:grpSpPr>
          <a:xfrm>
            <a:off x="5072040" y="4968720"/>
            <a:ext cx="4425840" cy="1425600"/>
            <a:chOff x="5072040" y="4968720"/>
            <a:chExt cx="4425840" cy="1425600"/>
          </a:xfrm>
        </p:grpSpPr>
        <p:pic>
          <p:nvPicPr>
            <p:cNvPr id="252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072040" y="4968720"/>
              <a:ext cx="44258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186520" y="5232240"/>
              <a:ext cx="41655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očet hodin proplacených pro projekt v daném  měsíci se musí shodovat s počtem hodin na Rozpisu mzdov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ovací šipka 12"/>
          <p:cNvCxnSpPr>
            <a:stCxn id="246" idx="7"/>
            <a:endCxn id="254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– Rozpočet projek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14280" y="1620720"/>
            <a:ext cx="6634080" cy="4538880"/>
          </a:xfrm>
          <a:prstGeom prst="rect">
            <a:avLst/>
          </a:prstGeom>
          <a:ln w="0">
            <a:noFill/>
          </a:ln>
        </p:spPr>
      </p:pic>
      <p:grpSp>
        <p:nvGrpSpPr>
          <p:cNvPr id="91" name="Zaoblený obdélníkový popisek 5"/>
          <p:cNvGrpSpPr/>
          <p:nvPr/>
        </p:nvGrpSpPr>
        <p:grpSpPr>
          <a:xfrm>
            <a:off x="6467400" y="1719360"/>
            <a:ext cx="3475080" cy="3747960"/>
            <a:chOff x="6467400" y="1719360"/>
            <a:chExt cx="3475080" cy="3747960"/>
          </a:xfrm>
        </p:grpSpPr>
        <p:pic>
          <p:nvPicPr>
            <p:cNvPr id="92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6467400" y="1719360"/>
              <a:ext cx="34750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245360" y="1890720"/>
              <a:ext cx="2505240" cy="29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Rozpočet projektu má pouze informativní charakter. Jakmile příjemce zadá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Načíst náklady z Monit7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, doplní se rozpočet podle poslední platné verze rozpočtu, který je přílohou  Rozhodnutí nebo dodatku k Rozhodnut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Zástupný symbol pro text 3" descr=""/>
          <p:cNvPicPr/>
          <p:nvPr/>
        </p:nvPicPr>
        <p:blipFill>
          <a:blip r:embed="rId1"/>
          <a:stretch/>
        </p:blipFill>
        <p:spPr>
          <a:xfrm>
            <a:off x="171360" y="1352520"/>
            <a:ext cx="9753840" cy="5067360"/>
          </a:xfrm>
          <a:prstGeom prst="rect">
            <a:avLst/>
          </a:prstGeom>
          <a:ln w="0">
            <a:noFill/>
          </a:ln>
        </p:spPr>
      </p:pic>
      <p:sp>
        <p:nvSpPr>
          <p:cNvPr id="257" name="Nadpis 2"/>
          <p:cNvSpPr/>
          <p:nvPr/>
        </p:nvSpPr>
        <p:spPr>
          <a:xfrm>
            <a:off x="684360" y="8557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okladování mzdových výdajů 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Rozpis mzdových/platových výda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60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61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  <p:grpSp>
        <p:nvGrpSpPr>
          <p:cNvPr id="262" name="Zaoblený obdélníkový popisek 5"/>
          <p:cNvGrpSpPr/>
          <p:nvPr/>
        </p:nvGrpSpPr>
        <p:grpSpPr>
          <a:xfrm>
            <a:off x="208080" y="2730600"/>
            <a:ext cx="2541600" cy="4633920"/>
            <a:chOff x="208080" y="2730600"/>
            <a:chExt cx="2541600" cy="4633920"/>
          </a:xfrm>
        </p:grpSpPr>
        <p:pic>
          <p:nvPicPr>
            <p:cNvPr id="263" name="Zaoblený obdélníkový popisek 5" descr=""/>
            <p:cNvPicPr/>
            <p:nvPr/>
          </p:nvPicPr>
          <p:blipFill>
            <a:blip r:embed="rId4"/>
            <a:stretch/>
          </p:blipFill>
          <p:spPr>
            <a:xfrm>
              <a:off x="208080" y="2730600"/>
              <a:ext cx="2541600" cy="46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79440" y="4791240"/>
              <a:ext cx="203040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říjemce vyplní veškeré relevantní kolonky – základní informace o projektu, identifikaci pracovníka a údaje  o složkách mzdy korespondující s dodanými mzdovými podklad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305000" y="2655360"/>
            <a:ext cx="7796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79280" y="5040360"/>
            <a:ext cx="9612360" cy="1357200"/>
          </a:xfrm>
          <a:prstGeom prst="rect">
            <a:avLst/>
          </a:prstGeom>
          <a:ln w="0">
            <a:noFill/>
          </a:ln>
        </p:spPr>
      </p:pic>
      <p:sp>
        <p:nvSpPr>
          <p:cNvPr id="268" name="Zástupný symbol pro text 3"/>
          <p:cNvSpPr/>
          <p:nvPr/>
        </p:nvSpPr>
        <p:spPr>
          <a:xfrm>
            <a:off x="495360" y="1665360"/>
            <a:ext cx="91123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ŮLEŽITÉ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etodický dopis č. 19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– upravuje čerpání finančních prostředků z   kapitoly č. 2 Služební cesty zahranič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msmt.cz/strukturalni-fondy/metodicky-dopis-c-19-upresneni-nekterych-podminek-real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ŮLEŽITÉ: Metodický dopis č. 1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– Podrobný výklad nezpůsobilosti kurzových rozdí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msmt.cz/strukturalni-fondy/metodickeho-dopisu-c-15-podrobny-vyklad-nezpusobil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Zástupný symbol pro text 3"/>
          <p:cNvSpPr/>
          <p:nvPr/>
        </p:nvSpPr>
        <p:spPr>
          <a:xfrm>
            <a:off x="495360" y="157464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doložit následující pod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yplněný cestovní přík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yplněné vyúčtování pracovní c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iz problematika cestovních náhrad – str.  39 -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text 3"/>
          <p:cNvSpPr/>
          <p:nvPr/>
        </p:nvSpPr>
        <p:spPr>
          <a:xfrm>
            <a:off x="495360" y="162072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dná se o náhrady, které kryjí náklady na ubytování, stravné a cestovné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hraniční expert nesmí mít s příjemcem uzavřen pracovně-právní vzt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doložit následující podklady (PpP 5 str. 42-43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mlouva uzavřená se zahraničním expertem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estné prohlášení exper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de bude uvedena identifikace akce, termín konání, prohlášení, že totožné náklady na tuto akci nebyly hrazeny expertovi jiným subjektem a specifikován bankovní účet, na který mají být prostředky vyplaceny (příp. VPD při vyplacení odměny v hotovos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nelze stanovit dobu pobytu experta na celé dny,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ohledňuje se doba zaokrouhlená na celé hodiny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 Per diems mohou být vypláceny v jakékoli měně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Nadpis 2"/>
          <p:cNvSpPr/>
          <p:nvPr/>
        </p:nvSpPr>
        <p:spPr>
          <a:xfrm>
            <a:off x="225360" y="846000"/>
            <a:ext cx="98553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Calibri"/>
              </a:rPr>
              <a:t>Cestovní náhrady pro zahraniční experty – „Per diems“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text 3"/>
          <p:cNvSpPr/>
          <p:nvPr/>
        </p:nvSpPr>
        <p:spPr>
          <a:xfrm>
            <a:off x="0" y="1574640"/>
            <a:ext cx="991224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 jsou způsobilými za splnění těchto podmín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ázek 4" descr=""/>
          <p:cNvPicPr/>
          <p:nvPr/>
        </p:nvPicPr>
        <p:blipFill>
          <a:blip r:embed="rId1"/>
          <a:srcRect l="1314" t="24203" r="24622" b="35832"/>
          <a:stretch/>
        </p:blipFill>
        <p:spPr>
          <a:xfrm>
            <a:off x="314280" y="1844640"/>
            <a:ext cx="954108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- Přehled finan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60360" y="1574640"/>
            <a:ext cx="6840720" cy="4681800"/>
          </a:xfrm>
          <a:prstGeom prst="rect">
            <a:avLst/>
          </a:prstGeom>
          <a:ln w="0">
            <a:noFill/>
          </a:ln>
        </p:spPr>
      </p:pic>
      <p:grpSp>
        <p:nvGrpSpPr>
          <p:cNvPr id="96" name="Zaoblený obdélníkový popisek 5"/>
          <p:cNvGrpSpPr/>
          <p:nvPr/>
        </p:nvGrpSpPr>
        <p:grpSpPr>
          <a:xfrm>
            <a:off x="5357880" y="2597040"/>
            <a:ext cx="4584600" cy="2425680"/>
            <a:chOff x="5357880" y="2597040"/>
            <a:chExt cx="4584600" cy="2425680"/>
          </a:xfrm>
        </p:grpSpPr>
        <p:pic>
          <p:nvPicPr>
            <p:cNvPr id="97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5357880" y="2597040"/>
              <a:ext cx="458460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223040" y="2766960"/>
              <a:ext cx="254952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Na tuto záložku se dotáhnou data z platného rozpočtu dle poslední smlouvy, resp. Dodatku – příjemce pouze provede rozpad financí přes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Rozpad financí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text 3"/>
          <p:cNvSpPr/>
          <p:nvPr/>
        </p:nvSpPr>
        <p:spPr>
          <a:xfrm>
            <a:off x="314280" y="189072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322200" indent="-2347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sou poskytovány zaměstnavateli cílové skupiny jako náhrada části mzdových nákladů na pracovníka po dobu jeho účasti na dalším vzdělává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se týkat jen pracovníků specifikovaných v PpP 5 str. 5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poskytovány až do výše 100 % skutečně  vyplacených mzdových nákladů, nejvýše však do výše trojnásobku částky minimální mzdy platné v době konání škole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, kdy se školené osoby skutečně účastnily vzdělávání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mlouva o vzdělávání  - PpP 5 viz str. 5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5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0520"/>
                <a:gridCol w="9223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84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Zaoblený obdélníkový popisek 10"/>
          <p:cNvGrpSpPr/>
          <p:nvPr/>
        </p:nvGrpSpPr>
        <p:grpSpPr>
          <a:xfrm>
            <a:off x="8352000" y="3017880"/>
            <a:ext cx="1596960" cy="1468440"/>
            <a:chOff x="8352000" y="3017880"/>
            <a:chExt cx="1596960" cy="1468440"/>
          </a:xfrm>
        </p:grpSpPr>
        <p:pic>
          <p:nvPicPr>
            <p:cNvPr id="286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696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89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1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93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97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300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303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306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309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312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315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318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321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324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6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2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 EX-ANTE v aplikaci Benefit7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v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539640" y="1530360"/>
            <a:ext cx="6810480" cy="4772160"/>
          </a:xfrm>
          <a:prstGeom prst="rect">
            <a:avLst/>
          </a:prstGeom>
          <a:ln w="0">
            <a:noFill/>
          </a:ln>
        </p:spPr>
      </p:pic>
      <p:grpSp>
        <p:nvGrpSpPr>
          <p:cNvPr id="336" name="Zaoblený obdélníkový popisek 5"/>
          <p:cNvGrpSpPr/>
          <p:nvPr/>
        </p:nvGrpSpPr>
        <p:grpSpPr>
          <a:xfrm>
            <a:off x="6095880" y="4687920"/>
            <a:ext cx="3829320" cy="1998720"/>
            <a:chOff x="6095880" y="4687920"/>
            <a:chExt cx="3829320" cy="1998720"/>
          </a:xfrm>
        </p:grpSpPr>
        <p:pic>
          <p:nvPicPr>
            <p:cNvPr id="337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6095880" y="4687920"/>
              <a:ext cx="382932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383600" y="4818240"/>
              <a:ext cx="23922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Novou ŽOP vytvoříte přes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Nový záznam a uložit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. Následně zvolte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Načíst data z Monit7+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1"/>
          <a:stretch/>
        </p:blipFill>
        <p:spPr>
          <a:xfrm>
            <a:off x="630360" y="1530360"/>
            <a:ext cx="7065720" cy="4824360"/>
          </a:xfrm>
          <a:prstGeom prst="rect">
            <a:avLst/>
          </a:prstGeom>
          <a:ln w="0">
            <a:noFill/>
          </a:ln>
        </p:spPr>
      </p:pic>
      <p:grpSp>
        <p:nvGrpSpPr>
          <p:cNvPr id="341" name="Zaoblený obdélníkový popisek 4"/>
          <p:cNvGrpSpPr/>
          <p:nvPr/>
        </p:nvGrpSpPr>
        <p:grpSpPr>
          <a:xfrm>
            <a:off x="6967440" y="5303880"/>
            <a:ext cx="2584440" cy="1341360"/>
            <a:chOff x="6967440" y="5303880"/>
            <a:chExt cx="2584440" cy="1341360"/>
          </a:xfrm>
        </p:grpSpPr>
        <p:pic>
          <p:nvPicPr>
            <p:cNvPr id="342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967440" y="5303880"/>
              <a:ext cx="2584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8024760" y="5415120"/>
              <a:ext cx="14112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epište číslo MZ, se kterou ŽOP předkládá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Zaoblený obdélníkový popisek 5"/>
          <p:cNvGrpSpPr/>
          <p:nvPr/>
        </p:nvGrpSpPr>
        <p:grpSpPr>
          <a:xfrm>
            <a:off x="6748560" y="3382920"/>
            <a:ext cx="3206520" cy="1371600"/>
            <a:chOff x="6748560" y="3382920"/>
            <a:chExt cx="3206520" cy="1371600"/>
          </a:xfrm>
        </p:grpSpPr>
        <p:pic>
          <p:nvPicPr>
            <p:cNvPr id="345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6748560" y="3382920"/>
              <a:ext cx="32065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8072280" y="3481560"/>
              <a:ext cx="1766880" cy="11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Aplikace B7 + sama přiřadí nejbližší volný řád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Zaoblený obdélníkový popisek 8"/>
          <p:cNvGrpSpPr/>
          <p:nvPr/>
        </p:nvGrpSpPr>
        <p:grpSpPr>
          <a:xfrm>
            <a:off x="7259760" y="2498760"/>
            <a:ext cx="2597040" cy="780840"/>
            <a:chOff x="7259760" y="2498760"/>
            <a:chExt cx="2597040" cy="780840"/>
          </a:xfrm>
        </p:grpSpPr>
        <p:pic>
          <p:nvPicPr>
            <p:cNvPr id="348" name="Zaoblený obdélníkový popisek 8" descr=""/>
            <p:cNvPicPr/>
            <p:nvPr/>
          </p:nvPicPr>
          <p:blipFill>
            <a:blip r:embed="rId4"/>
            <a:stretch/>
          </p:blipFill>
          <p:spPr>
            <a:xfrm>
              <a:off x="7259760" y="2498760"/>
              <a:ext cx="25970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265960" y="2595600"/>
              <a:ext cx="14684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yberte číslo úč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Zaoblený obdélníkový popisek 6"/>
          <p:cNvGrpSpPr/>
          <p:nvPr/>
        </p:nvGrpSpPr>
        <p:grpSpPr>
          <a:xfrm>
            <a:off x="7175520" y="1536840"/>
            <a:ext cx="2743200" cy="706320"/>
            <a:chOff x="7175520" y="1536840"/>
            <a:chExt cx="2743200" cy="706320"/>
          </a:xfrm>
        </p:grpSpPr>
        <p:pic>
          <p:nvPicPr>
            <p:cNvPr id="351" name="Zaoblený obdélníkový popisek 6" descr=""/>
            <p:cNvPicPr/>
            <p:nvPr/>
          </p:nvPicPr>
          <p:blipFill>
            <a:blip r:embed="rId5"/>
            <a:stretch/>
          </p:blipFill>
          <p:spPr>
            <a:xfrm>
              <a:off x="7175520" y="1536840"/>
              <a:ext cx="27432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8528040" y="1596960"/>
              <a:ext cx="13161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449280" y="1574640"/>
            <a:ext cx="919476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Zaoblený obdélníkový popisek 10"/>
          <p:cNvGrpSpPr/>
          <p:nvPr/>
        </p:nvGrpSpPr>
        <p:grpSpPr>
          <a:xfrm>
            <a:off x="5370480" y="4432320"/>
            <a:ext cx="4237200" cy="1706400"/>
            <a:chOff x="5370480" y="4432320"/>
            <a:chExt cx="4237200" cy="1706400"/>
          </a:xfrm>
        </p:grpSpPr>
        <p:pic>
          <p:nvPicPr>
            <p:cNvPr id="357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5370480" y="4432320"/>
              <a:ext cx="42372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024680" y="509112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 jaké struktuře jsou finanční prostředky požadovány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7" descr=""/>
          <p:cNvPicPr/>
          <p:nvPr/>
        </p:nvPicPr>
        <p:blipFill>
          <a:blip r:embed="rId2"/>
          <a:stretch/>
        </p:blipFill>
        <p:spPr>
          <a:xfrm>
            <a:off x="990720" y="2116080"/>
            <a:ext cx="799308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"/>
          <p:cNvPicPr/>
          <p:nvPr/>
        </p:nvPicPr>
        <p:blipFill>
          <a:blip r:embed="rId1"/>
          <a:stretch/>
        </p:blipFill>
        <p:spPr>
          <a:xfrm>
            <a:off x="719280" y="1395360"/>
            <a:ext cx="6570360" cy="4935600"/>
          </a:xfrm>
          <a:prstGeom prst="rect">
            <a:avLst/>
          </a:prstGeom>
          <a:ln w="0">
            <a:noFill/>
          </a:ln>
        </p:spPr>
      </p:pic>
      <p:grpSp>
        <p:nvGrpSpPr>
          <p:cNvPr id="362" name="Zaoblený obdélníkový popisek 11"/>
          <p:cNvGrpSpPr/>
          <p:nvPr/>
        </p:nvGrpSpPr>
        <p:grpSpPr>
          <a:xfrm>
            <a:off x="7272360" y="2620800"/>
            <a:ext cx="2670120" cy="2584440"/>
            <a:chOff x="7272360" y="2620800"/>
            <a:chExt cx="2670120" cy="2584440"/>
          </a:xfrm>
        </p:grpSpPr>
        <p:pic>
          <p:nvPicPr>
            <p:cNvPr id="363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72360" y="2620800"/>
              <a:ext cx="26701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8059680" y="2749680"/>
              <a:ext cx="17366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předloženy a doloženy v rámci MZ a  schváleny poskytovatelem podp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Nesrovnalosti při realizaci projek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– Harmonogram čerp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ázek 1" descr=""/>
          <p:cNvPicPr/>
          <p:nvPr/>
        </p:nvPicPr>
        <p:blipFill>
          <a:blip r:embed="rId1"/>
          <a:stretch/>
        </p:blipFill>
        <p:spPr>
          <a:xfrm>
            <a:off x="138240" y="1636560"/>
            <a:ext cx="8097840" cy="47548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/>
          <p:cNvSpPr/>
          <p:nvPr/>
        </p:nvSpPr>
        <p:spPr>
          <a:xfrm>
            <a:off x="3600360" y="3481560"/>
            <a:ext cx="990720" cy="801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591080" y="3222720"/>
            <a:ext cx="97308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Zaoblený obdélníkový popisek 7"/>
          <p:cNvGrpSpPr/>
          <p:nvPr/>
        </p:nvGrpSpPr>
        <p:grpSpPr>
          <a:xfrm>
            <a:off x="6516720" y="4334040"/>
            <a:ext cx="3395520" cy="2852640"/>
            <a:chOff x="6516720" y="4334040"/>
            <a:chExt cx="3395520" cy="2852640"/>
          </a:xfrm>
        </p:grpSpPr>
        <p:pic>
          <p:nvPicPr>
            <p:cNvPr id="104" name="Zaoblený obdélníkový popisek 7" descr=""/>
            <p:cNvPicPr/>
            <p:nvPr/>
          </p:nvPicPr>
          <p:blipFill>
            <a:blip r:embed="rId2"/>
            <a:stretch/>
          </p:blipFill>
          <p:spPr>
            <a:xfrm>
              <a:off x="6516720" y="4334040"/>
              <a:ext cx="339552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418520" y="4927680"/>
              <a:ext cx="232560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Součet částek z polí ŽOP schváleno a ŽOP plán musí být roven nebo nižší než celková částka dotace dle Rozhodnutí o poskytnutí dota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Zaoblený obdélníkový popisek 9"/>
          <p:cNvGrpSpPr/>
          <p:nvPr/>
        </p:nvGrpSpPr>
        <p:grpSpPr>
          <a:xfrm>
            <a:off x="3365640" y="1616040"/>
            <a:ext cx="6521400" cy="2401920"/>
            <a:chOff x="3365640" y="1616040"/>
            <a:chExt cx="6521400" cy="2401920"/>
          </a:xfrm>
        </p:grpSpPr>
        <p:pic>
          <p:nvPicPr>
            <p:cNvPr id="107" name="Zaoblený obdélníkový popisek 9" descr=""/>
            <p:cNvPicPr/>
            <p:nvPr/>
          </p:nvPicPr>
          <p:blipFill>
            <a:blip r:embed="rId3"/>
            <a:stretch/>
          </p:blipFill>
          <p:spPr>
            <a:xfrm>
              <a:off x="3365640" y="1616040"/>
              <a:ext cx="65214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170840" y="1762200"/>
              <a:ext cx="255096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Kliknutím na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Aktualizovat finanční plán  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dojde k načtení platných dat z monitorovacího systému poskytovatele podpor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Zástupný symbol pro text 3" descr=""/>
          <p:cNvPicPr/>
          <p:nvPr/>
        </p:nvPicPr>
        <p:blipFill>
          <a:blip r:embed="rId1"/>
          <a:stretch/>
        </p:blipFill>
        <p:spPr>
          <a:xfrm>
            <a:off x="274680" y="1560600"/>
            <a:ext cx="9588600" cy="5651280"/>
          </a:xfrm>
          <a:prstGeom prst="rect">
            <a:avLst/>
          </a:prstGeom>
          <a:ln w="0">
            <a:noFill/>
          </a:ln>
        </p:spPr>
      </p:pic>
      <p:sp>
        <p:nvSpPr>
          <p:cNvPr id="36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srovnalosti při realizaci proje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Zástupný symbol pro text 3"/>
          <p:cNvSpPr/>
          <p:nvPr/>
        </p:nvSpPr>
        <p:spPr>
          <a:xfrm>
            <a:off x="372960" y="1557360"/>
            <a:ext cx="97077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dpis 2"/>
          <p:cNvSpPr/>
          <p:nvPr/>
        </p:nvSpPr>
        <p:spPr>
          <a:xfrm>
            <a:off x="684360" y="8557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způsobilý výda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ástupný symbol pro text 3"/>
          <p:cNvSpPr/>
          <p:nvPr/>
        </p:nvSpPr>
        <p:spPr>
          <a:xfrm>
            <a:off x="372960" y="1557360"/>
            <a:ext cx="95281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 marL="262080" indent="-262080" algn="just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prostředky, které byly ze strany poskytovatele podpory klasifikovány jako nezpůsobilé výdaje, je povinen příjemce neprodleně vrátit na projektový účet a tomto navrácení informovat poskytovatele podp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 algn="just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a FÚ je zasláno hlášení na podezření na porušení rozpočtové kázně a žádost o platbu je ze strany poskytovatele podpory ponížena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 algn="just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poručený postup pro příjemce v případě nezpůsobilého výd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Zástupný symbol pro text 3" descr=""/>
          <p:cNvPicPr/>
          <p:nvPr/>
        </p:nvPicPr>
        <p:blipFill>
          <a:blip r:embed="rId1"/>
          <a:stretch/>
        </p:blipFill>
        <p:spPr>
          <a:xfrm>
            <a:off x="285840" y="1511280"/>
            <a:ext cx="9723240" cy="4810320"/>
          </a:xfrm>
          <a:prstGeom prst="rect">
            <a:avLst/>
          </a:prstGeom>
          <a:ln w="0">
            <a:noFill/>
          </a:ln>
        </p:spPr>
      </p:pic>
      <p:sp>
        <p:nvSpPr>
          <p:cNvPr id="372" name="Nadpis 2"/>
          <p:cNvSpPr/>
          <p:nvPr/>
        </p:nvSpPr>
        <p:spPr>
          <a:xfrm>
            <a:off x="684360" y="8557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ylná plat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44280" y="2025720"/>
            <a:ext cx="82818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Nejste-li si jisti při řešení konkrétní situace ve Vašem projektu, obraťte se na své finanční a projektové manažery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44640" y="1574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Mnoho úspěchů při realizaci Vašich projektů a trpělivost při zpracovávání monitorovacích zpráv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Děkuji za pozornost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g. Jana Wagnerová, finanční manažerka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Ministerstvo školství mládeže a tělovýchovy, odbor CERA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email: jana.wagnerova@msmt.cz, 234 814 29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– Prioritní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14280" y="1574640"/>
            <a:ext cx="595476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11" name="Zaoblený obdélníkový popisek 5"/>
          <p:cNvGrpSpPr/>
          <p:nvPr/>
        </p:nvGrpSpPr>
        <p:grpSpPr>
          <a:xfrm>
            <a:off x="4853160" y="1719360"/>
            <a:ext cx="5089320" cy="4127400"/>
            <a:chOff x="4853160" y="1719360"/>
            <a:chExt cx="5089320" cy="4127400"/>
          </a:xfrm>
        </p:grpSpPr>
        <p:pic>
          <p:nvPicPr>
            <p:cNvPr id="112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4853160" y="1719360"/>
              <a:ext cx="5089320" cy="41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237440" y="1882800"/>
              <a:ext cx="2521080" cy="23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Zmáčknutím tlačítka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Doplnit částku EU 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dojde k načtení aktuální  hodnoty ze záložky Přehled financování a z daných údajů. V případě více prioritních témat je nutné částku doplnit ručně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(PN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– zpravidla přímo přiřaditelné k určité klíčov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(NN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– spojené s administrac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řízeny k 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rámci NN nemohou být hrazeny investič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e strany poskytovatele podpory nebudou NN předmětem kontroly, i tak však musí být využity v souladu s pravidly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5, str. 61 -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mé a 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/>
  <dc:description/>
  <dc:language>en-US</dc:language>
  <cp:lastModifiedBy>Jana Wagnerová</cp:lastModifiedBy>
  <dcterms:modified xsi:type="dcterms:W3CDTF">2012-02-21T12:17:00Z</dcterms:modified>
  <cp:revision>799</cp:revision>
  <dc:subject/>
  <dc:title>prezentace</dc:title>
</cp:coreProperties>
</file>