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3FF9-1F96-42EF-BACC-204B05CA4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DF1D-E6B7-43AF-8E36-CEA657808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ED3A-C60F-4B53-9991-FBCF33154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5A89-BB98-4DAC-82E7-2958FB9AA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0B3A-AB4D-470F-9348-3A000755DA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5F8D-1892-4C8D-B7A9-715D3114F0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F209-D208-425B-AF5B-5D668C04D5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22A9-90C8-4AB8-8DD0-C625F4484B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8AC6-6A44-4A53-AA73-28BB466254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EE9F-FC88-44E3-9F0A-BA3AB77182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6852-DB86-4B6C-8CB0-0EB8F53284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609C-E027-4AFF-87A2-F0D269C4D4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8557-4F6B-4B47-A720-3133C64EE5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8522-2C00-46DF-B3C8-EC6D55EABB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1D62-67FF-48CA-9921-ECC69C1418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26B8-8814-49D3-840A-8E437E6710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96A97-6DE9-4C01-AD2B-161B4B3CDA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D4EEC-B32C-43EC-B9D8-933DDD2D53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01B83-00A6-41A7-98D5-9D3C9822B0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64C59-8A57-4E82-96F9-8F6ABE1403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CA61A-E7BC-4130-A556-15DC7BF6E9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FFD33-C09A-4CF8-A2F6-BF567EB689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C0155-49EF-444B-BA24-61039EE841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7CEBE-BD97-4C09-AE18-8214234E2E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A752-FE64-45CD-ABA2-569F2D7FB4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142FE-9B4C-45F3-A277-BAAD025BFD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94097-AAE8-4F69-8891-56068CF391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01EF7-127D-4153-958F-7514143152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84BC-DA82-4CEE-A96D-45D9F1BBF90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61D-515A-43B2-8C0C-F7FA7DD685D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B69-884C-4E66-87BC-010296F89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C402-5365-4667-A87E-74E466B196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D0F-7F88-4E17-B461-EF36576E08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758A-AE32-456E-B15A-9B07C88488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419-679E-4ED9-BBCC-0C6259D9FC5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A3D-3533-4784-B0CA-41582DF1FC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72D-BB2D-4557-B82F-66830AA795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5316-EB76-4DCC-83E6-CB067B1B21B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42C-80C5-439C-982D-AA0F386674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503-DF34-4F73-A1E1-68E95EC097F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AB91D-6363-4026-90C5-568A0B4B4A8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71000-05C4-4143-A7F7-620C500167A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81423-4C25-4F9C-A9AB-788641E99CF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EDD0D-F8D5-497A-BE7D-7BF875745F4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3D2BB-2748-4DB2-8DB7-8B7EF7070A6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4384A-8F83-46C2-955A-F0BA05BD456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61202-6113-46E8-9841-0F038E7C106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24E72-47E6-4A51-8311-4CBC8F0ADA1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F4695-02F9-442E-B3DB-787EB9AF0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AA3A9-033F-4724-9158-6DADABA7019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EED8A-097D-4ECC-A75E-54E2E315434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C4B3D-43AF-413C-A614-DFA07AA52BD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30758-173B-443A-B599-E9C6AAF9747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72472-E6A8-4510-8A46-27A541B9AAD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1A885-9291-46A7-B45D-6347CC7C911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58A4F-D06E-4645-9408-F3935634830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F039E-0295-4D0B-9608-E5B396FB60B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B74F3-C9D9-480B-B050-48356714134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B9E5F-7717-478C-95BC-A0C5C033F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717E4-E72B-41C9-99BA-1B8D7E189DE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A421F-50DB-450E-8405-999831789F4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70670-1482-4503-B9EC-6B1FF576865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B6302-664E-4E4D-9FBD-BDDE1A01552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B823D-D03D-4655-BF4B-182EAAFCA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51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9B92-3742-4AE8-989F-F61B0D1999F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Num" idx="2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1CAD-CB07-4DF7-97FC-24D3483B12C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Num" idx="3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71C9-56FD-4E97-90F7-6D91B723345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18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ástupný symbol pro datum 3"/>
          <p:cNvSpPr/>
          <p:nvPr/>
        </p:nvSpPr>
        <p:spPr>
          <a:xfrm>
            <a:off x="1285920" y="557208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232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Num" idx="4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16DE-CD17-4631-818D-58F84E5DBB8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27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Num" idx="5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A914-9900-487F-8700-6E081696E46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mailto:cera@msmt.cz" TargetMode="External"/><Relationship Id="rId2" Type="http://schemas.openxmlformats.org/officeDocument/2006/relationships/hyperlink" Target="mailto:cera@msmt.cz" TargetMode="External"/><Relationship Id="rId3" Type="http://schemas.openxmlformats.org/officeDocument/2006/relationships/hyperlink" Target="mailto:cera@msmt.cz" TargetMode="External"/><Relationship Id="rId4" Type="http://schemas.openxmlformats.org/officeDocument/2006/relationships/hyperlink" Target="mailto:cera@msmt.cz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213920" y="471456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prezentace vychází z Příručky pro žadatele OPVK ze dne 3. 9. 2008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přípravě žádostí je nutné vycházet z aktuálních informací uvedených v Příručce pro žadatele platné vždy pro danou výzvu a z podmínek stanovených ve výzvě k předkládání žádost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85920" y="1714680"/>
            <a:ext cx="4914720" cy="29286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8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0993-E6CC-41F6-9BC7-7AEE6F1BB87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Šrafovaná šipka doprava 5"/>
          <p:cNvSpPr/>
          <p:nvPr/>
        </p:nvSpPr>
        <p:spPr>
          <a:xfrm rot="5400000">
            <a:off x="3071520" y="46432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další projekty, které realizuje žadatel v oblasti rozvoje lidských zdrojů a které jsou financované z veřejných zdroj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rojekty, které jsou relevantní vzhledem k tomuto projektu a 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alizované nebo připravované v době podá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Zástupný symbol pro obsah 4" descr="04_zadost50_2_crop.jpg"/>
          <p:cNvPicPr/>
          <p:nvPr/>
        </p:nvPicPr>
        <p:blipFill>
          <a:blip r:embed="rId1"/>
          <a:srcRect l="3698" t="30463" r="0" b="0"/>
          <a:stretch/>
        </p:blipFill>
        <p:spPr>
          <a:xfrm>
            <a:off x="1285920" y="2071800"/>
            <a:ext cx="4792680" cy="3357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5FD7-C3E0-419F-A1E8-4881B259C0F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teprve plánovaného nebo připravovaného projektu uvádějte data plánovaná a očekáva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85920" y="1142640"/>
            <a:ext cx="78580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54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0D6E-BCC6-4BA9-8BB8-B1BAA1EFC63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mocí tlačítka „Nový záznam“ je možné zadat potřebný počet partnerů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Šrafovaná šipka doprava 6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Obrázek 8" descr="1.JPG"/>
          <p:cNvPicPr/>
          <p:nvPr/>
        </p:nvPicPr>
        <p:blipFill>
          <a:blip r:embed="rId1"/>
          <a:stretch/>
        </p:blipFill>
        <p:spPr>
          <a:xfrm>
            <a:off x="1500120" y="1428840"/>
            <a:ext cx="4662720" cy="4676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1357200" y="1500120"/>
            <a:ext cx="4238640" cy="47386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C4BD-364D-41A1-A7C6-318CDB33384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Šrafovaná šipka doprava 5"/>
          <p:cNvSpPr/>
          <p:nvPr/>
        </p:nvSpPr>
        <p:spPr>
          <a:xfrm rot="5400000">
            <a:off x="3643560" y="150012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ový popisek 6"/>
          <p:cNvSpPr/>
          <p:nvPr/>
        </p:nvSpPr>
        <p:spPr>
          <a:xfrm>
            <a:off x="5429160" y="1357200"/>
            <a:ext cx="3500640" cy="571680"/>
          </a:xfrm>
          <a:prstGeom prst="wedgeRectCallout">
            <a:avLst>
              <a:gd name="adj1" fmla="val -156407"/>
              <a:gd name="adj2" fmla="val 2605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Údaje o DPH zohledněte i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ový popisek 7"/>
          <p:cNvSpPr/>
          <p:nvPr/>
        </p:nvSpPr>
        <p:spPr>
          <a:xfrm>
            <a:off x="5429160" y="2000160"/>
            <a:ext cx="3500640" cy="571680"/>
          </a:xfrm>
          <a:prstGeom prst="wedgeRectCallout">
            <a:avLst>
              <a:gd name="adj1" fmla="val -60777"/>
              <a:gd name="adj2" fmla="val 5615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mezte částku, která z celkového rozpočtu projektu připadá na partn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bdélníkový popisek 8"/>
          <p:cNvSpPr/>
          <p:nvPr/>
        </p:nvSpPr>
        <p:spPr>
          <a:xfrm>
            <a:off x="5429160" y="2643120"/>
            <a:ext cx="3500640" cy="121464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zapojujete partnera do projektu, proč určité aktivity nerealizuje přímo žadatel? Proč je vhodný právě tento partner? Proč nelze činnost partnera realizovat formou dodávk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ový popisek 9"/>
          <p:cNvSpPr/>
          <p:nvPr/>
        </p:nvSpPr>
        <p:spPr>
          <a:xfrm>
            <a:off x="5429160" y="3929040"/>
            <a:ext cx="3500640" cy="64296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způsob zapojení partnerů v příslušn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bdélníkový popisek 10"/>
          <p:cNvSpPr/>
          <p:nvPr/>
        </p:nvSpPr>
        <p:spPr>
          <a:xfrm>
            <a:off x="5429160" y="4643280"/>
            <a:ext cx="3500640" cy="1500480"/>
          </a:xfrm>
          <a:prstGeom prst="wedgeRectCallout">
            <a:avLst>
              <a:gd name="adj1" fmla="val -71027"/>
              <a:gd name="adj2" fmla="val 3159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partner realizoval či realizuje. V případě velkého počtu projektů uveďte jen projekty obdobného charakteru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Zástupný symbol pro obsah 6" descr="1.JPG"/>
          <p:cNvPicPr/>
          <p:nvPr/>
        </p:nvPicPr>
        <p:blipFill>
          <a:blip r:embed="rId1"/>
          <a:stretch/>
        </p:blipFill>
        <p:spPr>
          <a:xfrm>
            <a:off x="1428840" y="1643040"/>
            <a:ext cx="3889440" cy="41432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0EDB-AB01-45D7-9C2E-653E998588F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bdélníkový popisek 10"/>
          <p:cNvSpPr/>
          <p:nvPr/>
        </p:nvSpPr>
        <p:spPr>
          <a:xfrm>
            <a:off x="5429160" y="4143240"/>
            <a:ext cx="3500640" cy="1500480"/>
          </a:xfrm>
          <a:prstGeom prst="wedgeRectCallout">
            <a:avLst>
              <a:gd name="adj1" fmla="val -67402"/>
              <a:gd name="adj2" fmla="val 2227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1285920" y="1500120"/>
            <a:ext cx="3897360" cy="46436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3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8013-7A9A-4F71-AD30-1799E0B3105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dresy partnerů jsou automaticky vloženy při validaci ARES na záložce „Partner projektu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maticky vložené údaje needitujte v  aplikaci BENEF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1285920" y="1571760"/>
            <a:ext cx="4817880" cy="43574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69CF-F27E-4115-8EF5-0D25A38664D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u každého partner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643040" y="1076400"/>
            <a:ext cx="4143240" cy="50245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7AE1-894E-428D-A260-0DD028F3E9A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bdélníkový popisek 5"/>
          <p:cNvSpPr/>
          <p:nvPr/>
        </p:nvSpPr>
        <p:spPr>
          <a:xfrm>
            <a:off x="6286680" y="1714680"/>
            <a:ext cx="2714400" cy="1571400"/>
          </a:xfrm>
          <a:prstGeom prst="wedgeRectCallout">
            <a:avLst>
              <a:gd name="adj1" fmla="val -156583"/>
              <a:gd name="adj2" fmla="val 15411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zev by měl popisovat projekt jednoznačně, stručně a výstižně. Pod tímto názvem bude projekt vystupovat od schvalování až po jeho realiza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bdélníkový popisek 6"/>
          <p:cNvSpPr/>
          <p:nvPr/>
        </p:nvSpPr>
        <p:spPr>
          <a:xfrm>
            <a:off x="6286680" y="3571920"/>
            <a:ext cx="2714400" cy="2071800"/>
          </a:xfrm>
          <a:prstGeom prst="wedgeRectCallout">
            <a:avLst>
              <a:gd name="adj1" fmla="val -127578"/>
              <a:gd name="adj2" fmla="val 6796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plňte základní popis projektu a jeho zaměření na cílovou skupinu. Vyjmenujte hlavní aktivity, cíle a výstup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ůkladně promyslete napsaný text, toto pole se následně používá při práci kontrolních orgán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Šrafovaná šipka doprava 9"/>
          <p:cNvSpPr/>
          <p:nvPr/>
        </p:nvSpPr>
        <p:spPr>
          <a:xfrm rot="5400000">
            <a:off x="3643200" y="57862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f3912c"/>
                </a:solidFill>
                <a:latin typeface="Calibri"/>
              </a:rPr>
              <a:t>Příprava projektové žádosti </a:t>
            </a:r>
            <a:br>
              <a:rPr sz="5000"/>
            </a:br>
            <a:r>
              <a:rPr b="1" lang="cs-CZ" sz="5000" spc="-1" strike="noStrike">
                <a:solidFill>
                  <a:srgbClr val="f3912c"/>
                </a:solidFill>
                <a:latin typeface="Calibri"/>
              </a:rPr>
              <a:t>v aplikaci BENEFIT7</a:t>
            </a:r>
            <a:endParaRPr b="1" lang="en-US" sz="5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Zástupný symbol pro obsah 4" descr="04_zadost5_crop.jpg"/>
          <p:cNvPicPr/>
          <p:nvPr/>
        </p:nvPicPr>
        <p:blipFill>
          <a:blip r:embed="rId1"/>
          <a:srcRect l="0" t="18182" r="0" b="0"/>
          <a:stretch/>
        </p:blipFill>
        <p:spPr>
          <a:xfrm>
            <a:off x="1285920" y="1571760"/>
            <a:ext cx="4414680" cy="38574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0E4E-6738-4D70-90D1-5429A040402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Šrafovaná šipka doprava 5"/>
          <p:cNvSpPr/>
          <p:nvPr/>
        </p:nvSpPr>
        <p:spPr>
          <a:xfrm rot="5400000">
            <a:off x="3643200" y="1285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ový popisek 6"/>
          <p:cNvSpPr/>
          <p:nvPr/>
        </p:nvSpPr>
        <p:spPr>
          <a:xfrm>
            <a:off x="6143760" y="1785960"/>
            <a:ext cx="2857320" cy="1500120"/>
          </a:xfrm>
          <a:prstGeom prst="wedgeRectCallout">
            <a:avLst>
              <a:gd name="adj1" fmla="val -150009"/>
              <a:gd name="adj2" fmla="val 51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škrtnutím voleb v zaškrtávacích polích se aktivují pole v odpovídajících záložkách, případně se propojené textové pole změní z nepovinného na povin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bdélníkový popisek 7"/>
          <p:cNvSpPr/>
          <p:nvPr/>
        </p:nvSpPr>
        <p:spPr>
          <a:xfrm>
            <a:off x="6143760" y="3500280"/>
            <a:ext cx="2857320" cy="2357640"/>
          </a:xfrm>
          <a:prstGeom prst="wedgeRectCallout">
            <a:avLst>
              <a:gd name="adj1" fmla="val -82458"/>
              <a:gd name="adj2" fmla="val -1584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atum zahájení a ukončení projektu se vkládá pomocí číselníku kalendář, který zobrazíte kliknutím na obrázek kalendáře v pravém rohu p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dané termíny musí být v souladu s výzvou, ve které bude projekt předkládá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6E4F-26FA-482E-A5F9-93E8D61CB72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ěnujte maximální pozornost vyplnění této záložky. Informace zde zadané slouží jako základní nástroj při hodnoce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CAC1-F231-484D-B3AF-BB1348EC77C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bdélníkový popisek 7"/>
          <p:cNvSpPr/>
          <p:nvPr/>
        </p:nvSpPr>
        <p:spPr>
          <a:xfrm>
            <a:off x="5572080" y="1714680"/>
            <a:ext cx="3500640" cy="1143000"/>
          </a:xfrm>
          <a:prstGeom prst="wedgeRectCallout">
            <a:avLst>
              <a:gd name="adj1" fmla="val -63268"/>
              <a:gd name="adj2" fmla="val -1622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cíle, kterých chcete v rámci projektu dosáhnout. Vyjádřete změnu, kterou přinese daný projekt a popište, co bude za dané prostředky vytvoř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C4C3-F6F4-4888-A08C-DCD88AC7066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bdélníkový popisek 8"/>
          <p:cNvSpPr/>
          <p:nvPr/>
        </p:nvSpPr>
        <p:spPr>
          <a:xfrm>
            <a:off x="5572080" y="1571760"/>
            <a:ext cx="3500640" cy="4714920"/>
          </a:xfrm>
          <a:prstGeom prst="wedgeRectCallout">
            <a:avLst>
              <a:gd name="adj1" fmla="val -66532"/>
              <a:gd name="adj2" fmla="val -1349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de 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aktuální situace v oblasti, na kterou je projekt zaměřen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chcete v této oblasti zlepšit nebo změnit a proč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je důležité realizovat projektové aktivity právě pro cílovou skupinu, se kterou chcete v projektu pracov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realizujete projekt s vybranými partnery/ bez partne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by měl být Váš projekt financován z veřejných zdroj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 čem je projekt inov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ý posun nastane ve vámi řešené problematice po úspěšném ukonče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základě jakých zdrojů (dokumentů či analýz) dokládáte potřebnost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04E7-3862-4354-91E4-D522F88F206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bdélníkový popisek 8"/>
          <p:cNvSpPr/>
          <p:nvPr/>
        </p:nvSpPr>
        <p:spPr>
          <a:xfrm>
            <a:off x="5572080" y="1571760"/>
            <a:ext cx="3500640" cy="2071440"/>
          </a:xfrm>
          <a:prstGeom prst="wedgeRectCallout">
            <a:avLst>
              <a:gd name="adj1" fmla="val -130750"/>
              <a:gd name="adj2" fmla="val 8317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měřte se na cílovou skupinu, na kterou jsou projektové aktivity cíle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jsou potřeby této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teré její potřeby bude projekt řeš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velikost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olik osob plánujete do projektu zapoji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bdélníkový popisek 6"/>
          <p:cNvSpPr/>
          <p:nvPr/>
        </p:nvSpPr>
        <p:spPr>
          <a:xfrm>
            <a:off x="5572080" y="3786120"/>
            <a:ext cx="3500640" cy="2500560"/>
          </a:xfrm>
          <a:prstGeom prst="wedgeRectCallout">
            <a:avLst>
              <a:gd name="adj1" fmla="val -93379"/>
              <a:gd name="adj2" fmla="val 784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ak jednotlivé cílové skupiny zapojíte a jak je budete motivovat k účasti na projektov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jste příslušníky cílové skupiny motivovali, aby do projektu vstoup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vybrané příslušníky cílové skupiny konkrétně do projektu zapojí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příslušníky cílové skupiny motivovat, aby svou účast v projektu dokonč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6078-8C92-49DA-A153-1B4815F9482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Šrafovaná šipka doprava 5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bdélníkový popisek 8"/>
          <p:cNvSpPr/>
          <p:nvPr/>
        </p:nvSpPr>
        <p:spPr>
          <a:xfrm>
            <a:off x="5572080" y="3214800"/>
            <a:ext cx="3500640" cy="2857320"/>
          </a:xfrm>
          <a:prstGeom prst="wedgeRectCallout">
            <a:avLst>
              <a:gd name="adj1" fmla="val -62907"/>
              <a:gd name="adj2" fmla="val 4273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pište konkrétní přínos pro cílovou skupinu, pokud bude projekt úspěšně realizován a ukončen. Popište tento přínos v širším kontextu pro celou skupinu, případně na konkrétním příkladu skupiny lidí či organiz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výhody bude mít cílová skupina z realizace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účast v projektu přinese příslušníkům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Zástupný symbol pro obsah 4" descr="04_zadost22_3_crop.jpg"/>
          <p:cNvPicPr/>
          <p:nvPr/>
        </p:nvPicPr>
        <p:blipFill>
          <a:blip r:embed="rId1"/>
          <a:srcRect l="4279" t="19696" r="0" b="26597"/>
          <a:stretch/>
        </p:blipFill>
        <p:spPr>
          <a:xfrm>
            <a:off x="1239840" y="3333600"/>
            <a:ext cx="4127400" cy="2452680"/>
          </a:xfrm>
          <a:prstGeom prst="rect">
            <a:avLst/>
          </a:prstGeom>
          <a:ln w="0">
            <a:noFill/>
          </a:ln>
        </p:spPr>
      </p:pic>
      <p:pic>
        <p:nvPicPr>
          <p:cNvPr id="425" name="Zástupný symbol pro obsah 4" descr="04_zadost22_2_crop.jpg"/>
          <p:cNvPicPr/>
          <p:nvPr/>
        </p:nvPicPr>
        <p:blipFill>
          <a:blip r:embed="rId2"/>
          <a:srcRect l="4840" t="53031" r="0" b="0"/>
          <a:stretch/>
        </p:blipFill>
        <p:spPr>
          <a:xfrm>
            <a:off x="1285920" y="1928880"/>
            <a:ext cx="4140000" cy="22143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B872-9CE9-4D08-8AF1-940B67E65BA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ový popisek 9"/>
          <p:cNvSpPr/>
          <p:nvPr/>
        </p:nvSpPr>
        <p:spPr>
          <a:xfrm>
            <a:off x="5572080" y="1643040"/>
            <a:ext cx="3500640" cy="785880"/>
          </a:xfrm>
          <a:prstGeom prst="wedgeRectCallout">
            <a:avLst>
              <a:gd name="adj1" fmla="val -88666"/>
              <a:gd name="adj2" fmla="val 8383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rizika, která jsou s realizací aktivit projektu spojena. Jaká opatření k jejich eliminaci máte připrave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Šrafovaná šipka doprava 6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ový popisek 8"/>
          <p:cNvSpPr/>
          <p:nvPr/>
        </p:nvSpPr>
        <p:spPr>
          <a:xfrm>
            <a:off x="5572080" y="2571840"/>
            <a:ext cx="3500640" cy="3714840"/>
          </a:xfrm>
          <a:prstGeom prst="wedgeRectCallout">
            <a:avLst>
              <a:gd name="adj1" fmla="val -70162"/>
              <a:gd name="adj2" fmla="val 875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naplňovat cíle a výstupy projektu v době udržitelnosti, což je 5 let ode dne ukončení projektu. Popište aktivity navazující na projekt, které jsou plánovány po ukončení financová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odpovědi na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ou aktivity projektu realizovány po ukončení financová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kud ano, tak které a v jakém rozsah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zajistíte další financování těchto aktivit po ukončení financová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e zachována, případně dále rozvíjena spolupráce s partne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Zástupný symbol pro obsah 4" descr="04_zadost22_4_crop.jpg"/>
          <p:cNvPicPr/>
          <p:nvPr/>
        </p:nvPicPr>
        <p:blipFill>
          <a:blip r:embed="rId1"/>
          <a:srcRect l="3120" t="27277" r="0" b="3034"/>
          <a:stretch/>
        </p:blipFill>
        <p:spPr>
          <a:xfrm>
            <a:off x="1285920" y="1538280"/>
            <a:ext cx="4292640" cy="30337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3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B9BD-EFC4-4FB1-B668-3490EEAF978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Šrafovaná šipka doprava 5"/>
          <p:cNvSpPr/>
          <p:nvPr/>
        </p:nvSpPr>
        <p:spPr>
          <a:xfrm rot="5400000">
            <a:off x="3792240" y="1571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bdélníkový popisek 6"/>
          <p:cNvSpPr/>
          <p:nvPr/>
        </p:nvSpPr>
        <p:spPr>
          <a:xfrm>
            <a:off x="5572080" y="1571760"/>
            <a:ext cx="3500640" cy="1428480"/>
          </a:xfrm>
          <a:prstGeom prst="wedgeRectCallout">
            <a:avLst>
              <a:gd name="adj1" fmla="val -64722"/>
              <a:gd name="adj2" fmla="val 2584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e-li projekt provázaný s jiným předkládaným projektem a jakým způsob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Obrázek 8" descr="popisProjektu.jpg"/>
          <p:cNvPicPr/>
          <p:nvPr/>
        </p:nvPicPr>
        <p:blipFill>
          <a:blip r:embed="rId2"/>
          <a:stretch/>
        </p:blipFill>
        <p:spPr>
          <a:xfrm>
            <a:off x="1285920" y="4595760"/>
            <a:ext cx="4357800" cy="1690920"/>
          </a:xfrm>
          <a:prstGeom prst="rect">
            <a:avLst/>
          </a:prstGeom>
          <a:ln w="0">
            <a:noFill/>
          </a:ln>
        </p:spPr>
      </p:pic>
      <p:sp>
        <p:nvSpPr>
          <p:cNvPr id="437" name="Obdélníkový popisek 9"/>
          <p:cNvSpPr/>
          <p:nvPr/>
        </p:nvSpPr>
        <p:spPr>
          <a:xfrm>
            <a:off x="5572080" y="5000760"/>
            <a:ext cx="3500640" cy="857160"/>
          </a:xfrm>
          <a:prstGeom prst="wedgeRectCallout">
            <a:avLst>
              <a:gd name="adj1" fmla="val -69800"/>
              <a:gd name="adj2" fmla="val 7782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berte podporované aktivity uvedené ve výzvě k předkládání žádostí, které odpovídají daném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bdélníkový popisek 7"/>
          <p:cNvSpPr/>
          <p:nvPr/>
        </p:nvSpPr>
        <p:spPr>
          <a:xfrm>
            <a:off x="5572080" y="3071880"/>
            <a:ext cx="3500640" cy="15714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má žadatel mechanismy a postupy pro říz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činnosti související s projektovým řízením včetně vazby na rozpoč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Zástupný symbol pro obsah 4" descr="04_zadost45_crop.jpg"/>
          <p:cNvPicPr/>
          <p:nvPr/>
        </p:nvPicPr>
        <p:blipFill>
          <a:blip r:embed="rId1"/>
          <a:srcRect l="3263" t="3723" r="0" b="0"/>
          <a:stretch/>
        </p:blipFill>
        <p:spPr>
          <a:xfrm>
            <a:off x="1357200" y="1714680"/>
            <a:ext cx="4857840" cy="341136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3011-6540-40C4-A343-3EEC3E0CC46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indikátory označené příznakem povinný. V případě, že takovýto indikátor není pro projekt relevantní, zadejte nulovou hodno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textu výzvy jsou povinné indikátory zvýrazněné tučným písm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428480" y="1714320"/>
            <a:ext cx="7715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adatel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artner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onitorovací indiká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ktivity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ealizační tý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Finanční tok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Obsah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6" name="Zástupný symbol pro číslo snímku 5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491B-7ED0-404F-9EEB-C281B7AA710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286240" y="1643040"/>
            <a:ext cx="35719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alší rozčlenění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Horizontální tém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ublici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ýběrová říze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ílohy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428840" y="1285920"/>
            <a:ext cx="4873680" cy="497052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B10E-00EA-48C7-A5D0-F0CFC32CCC9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bdélník se zakulaceným příčným rohem 6"/>
          <p:cNvSpPr/>
          <p:nvPr/>
        </p:nvSpPr>
        <p:spPr>
          <a:xfrm>
            <a:off x="6215040" y="264312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všechny klíčové aktivity, které bud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jednotlivých fázích projektu realizovat žadatel nebo partneři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27008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3FDB-D22D-4D00-A079-A91E9B117FA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Šrafovaná šipka doprava 5"/>
          <p:cNvSpPr/>
          <p:nvPr/>
        </p:nvSpPr>
        <p:spPr>
          <a:xfrm rot="5400000">
            <a:off x="3071520" y="6286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bdélníkový popisek 7"/>
          <p:cNvSpPr/>
          <p:nvPr/>
        </p:nvSpPr>
        <p:spPr>
          <a:xfrm>
            <a:off x="5857920" y="2714760"/>
            <a:ext cx="3214800" cy="2428920"/>
          </a:xfrm>
          <a:prstGeom prst="wedgeRectCallout">
            <a:avLst>
              <a:gd name="adj1" fmla="val -100513"/>
              <a:gd name="adj2" fmla="val 208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klady na klíčové aktivity rozložte na ESF způsobilé výdaje a výdaje spadající do křížového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Součet všech způsobilých výdajů za všechny klíčové aktivity musí odpovídat minimálně 70 % celkových způsobilých výdajů za celý projek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319040" y="2165400"/>
            <a:ext cx="5135760" cy="3906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3372-5C9E-45DF-AD45-904DA76FF70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bdélníkový popisek 7"/>
          <p:cNvSpPr/>
          <p:nvPr/>
        </p:nvSpPr>
        <p:spPr>
          <a:xfrm>
            <a:off x="5857920" y="3286080"/>
            <a:ext cx="3214800" cy="1071720"/>
          </a:xfrm>
          <a:prstGeom prst="wedgeRectCallout">
            <a:avLst>
              <a:gd name="adj1" fmla="val -43939"/>
              <a:gd name="adj2" fmla="val 13992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e každé klíčové aktivitě přiřaďte všechny subjekty, které se budou podílet na její realiz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Zástupný symbol pro obsah 4" descr="04_zadost31_crop.jpg"/>
          <p:cNvPicPr/>
          <p:nvPr/>
        </p:nvPicPr>
        <p:blipFill>
          <a:blip r:embed="rId1"/>
          <a:stretch/>
        </p:blipFill>
        <p:spPr>
          <a:xfrm>
            <a:off x="1357200" y="1928880"/>
            <a:ext cx="5896080" cy="27399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</a:t>
            </a: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Harmonogram aktivit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0827-443E-4F78-BBDC-6ECF8D131AC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bdélník se zakulaceným příčným rohem 5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 harmonogramu zahrňte všechny klíčové aktivity zadané na záložce „Klíčové aktivity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dené aktivity musí být realizovány v časovém rozmezí uvedeném na záložce „Projekt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1131840"/>
            <a:ext cx="4786560" cy="515484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12FE-82D7-478F-A9D4-5B53DC23174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bdélníkový popisek 5"/>
          <p:cNvSpPr/>
          <p:nvPr/>
        </p:nvSpPr>
        <p:spPr>
          <a:xfrm>
            <a:off x="6143760" y="1500120"/>
            <a:ext cx="2928960" cy="1285920"/>
          </a:xfrm>
          <a:prstGeom prst="wedgeRectCallout">
            <a:avLst>
              <a:gd name="adj1" fmla="val -115509"/>
              <a:gd name="adj2" fmla="val 12412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 nabídky lze rozlišit pracovníky dle typu 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anažerské a administrativní poz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dborné poz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95300"/>
              <a:gd name="adj2" fmla="val 73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volte žadatele nebo partnera,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kterého bude pracovní pozice zajiště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1131840"/>
            <a:ext cx="4786560" cy="5154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2026-7675-481A-AE8F-142223ACE8C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bdélníkový popisek 5"/>
          <p:cNvSpPr/>
          <p:nvPr/>
        </p:nvSpPr>
        <p:spPr>
          <a:xfrm>
            <a:off x="6072120" y="857160"/>
            <a:ext cx="2928960" cy="1285920"/>
          </a:xfrm>
          <a:prstGeom prst="wedgeRectCallout">
            <a:avLst>
              <a:gd name="adj1" fmla="val -149481"/>
              <a:gd name="adj2" fmla="val 291953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uvádějte úvazek v procentech (50 %,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00 % atd.), v případě DPČ nebo DPP uvádějte počet hodin za měsí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bdélníkový popisek 7"/>
          <p:cNvSpPr/>
          <p:nvPr/>
        </p:nvSpPr>
        <p:spPr>
          <a:xfrm>
            <a:off x="5786280" y="2786040"/>
            <a:ext cx="3214800" cy="857160"/>
          </a:xfrm>
          <a:prstGeom prst="wedgeRectCallout">
            <a:avLst>
              <a:gd name="adj1" fmla="val -117819"/>
              <a:gd name="adj2" fmla="val 22499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doplňte sazbu za měsíc, u DPČ nebo DPP sazbu za hodin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bdélníkový popisek 8"/>
          <p:cNvSpPr/>
          <p:nvPr/>
        </p:nvSpPr>
        <p:spPr>
          <a:xfrm>
            <a:off x="5286240" y="3786120"/>
            <a:ext cx="3714840" cy="2214720"/>
          </a:xfrm>
          <a:prstGeom prst="wedgeRectCallout">
            <a:avLst>
              <a:gd name="adj1" fmla="val -80402"/>
              <a:gd name="adj2" fmla="val 5041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bude převažující pracovní náplň této pozice v projektu? Popište nejčastější typy činn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jakých konkrétních aktivitách se bude v rámci projektu podílet a jakým způsob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náklady (jiné než osobní a režie) se budou k dané pozici váz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1131840"/>
            <a:ext cx="4786560" cy="51548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E16B-6690-4476-9456-5D69CCA9534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bdélník se zakulaceným příčným rohem 4"/>
          <p:cNvSpPr/>
          <p:nvPr/>
        </p:nvSpPr>
        <p:spPr>
          <a:xfrm>
            <a:off x="6215040" y="1357200"/>
            <a:ext cx="2714760" cy="4572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opisu pracovní náplně uveďte počet osob, které budou danou pozici zajišť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26F4-AF79-4DA3-A6FF-4A271159840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71360" y="2714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CC8D-B2B1-475C-ADF5-C056E567F8E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Zástupný symbol pro obsah 4" descr="04_zadost34_1_crop.jpg"/>
          <p:cNvPicPr/>
          <p:nvPr/>
        </p:nvPicPr>
        <p:blipFill>
          <a:blip r:embed="rId1"/>
          <a:stretch/>
        </p:blipFill>
        <p:spPr>
          <a:xfrm>
            <a:off x="1500120" y="1928880"/>
            <a:ext cx="7523280" cy="289548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8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ní nákl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F614-74D3-4854-815F-02614EA918A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 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Cestovní náhr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86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483320" cy="1998360"/>
          </a:xfrm>
          <a:prstGeom prst="rect">
            <a:avLst/>
          </a:prstGeom>
          <a:ln w="0">
            <a:noFill/>
          </a:ln>
        </p:spPr>
      </p:pic>
      <p:sp>
        <p:nvSpPr>
          <p:cNvPr id="487" name="TextovéPole 6"/>
          <p:cNvSpPr/>
          <p:nvPr/>
        </p:nvSpPr>
        <p:spPr>
          <a:xfrm>
            <a:off x="1285920" y="40719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é lim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bytování v ČR – max. 1 200 Kč za osobu a noc a zároveň dle interních předpisů dané organizace, pokud jsou nižší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A7EF-A0B7-452B-A754-F99C5A38FA7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90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857240"/>
            <a:ext cx="7396200" cy="2686320"/>
          </a:xfrm>
          <a:prstGeom prst="rect">
            <a:avLst/>
          </a:prstGeom>
          <a:ln w="0">
            <a:noFill/>
          </a:ln>
        </p:spPr>
      </p:pic>
      <p:sp>
        <p:nvSpPr>
          <p:cNvPr id="491" name="TextovéPole 4"/>
          <p:cNvSpPr/>
          <p:nvPr/>
        </p:nvSpPr>
        <p:spPr>
          <a:xfrm>
            <a:off x="1285920" y="47862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na pořízení zařízení a vybavení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25 % včetně křížového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819D-2175-4A69-9F41-0AACA9EC37D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Místní kancelář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94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405920" cy="687240"/>
          </a:xfrm>
          <a:prstGeom prst="rect">
            <a:avLst/>
          </a:prstGeom>
          <a:ln w="0">
            <a:noFill/>
          </a:ln>
        </p:spPr>
      </p:pic>
      <p:sp>
        <p:nvSpPr>
          <p:cNvPr id="495" name="TextovéPole 4"/>
          <p:cNvSpPr/>
          <p:nvPr/>
        </p:nvSpPr>
        <p:spPr>
          <a:xfrm>
            <a:off x="1285920" y="3000240"/>
            <a:ext cx="69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této kapitoly - Místní kancelář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8 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CCE4-9BF9-4E61-8235-AEB038ADF05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up služeb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98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76200" y="1857240"/>
            <a:ext cx="7081920" cy="1035360"/>
          </a:xfrm>
          <a:prstGeom prst="rect">
            <a:avLst/>
          </a:prstGeom>
          <a:ln w="0">
            <a:noFill/>
          </a:ln>
        </p:spPr>
      </p:pic>
      <p:sp>
        <p:nvSpPr>
          <p:cNvPr id="499" name="TextovéPole 4"/>
          <p:cNvSpPr/>
          <p:nvPr/>
        </p:nvSpPr>
        <p:spPr>
          <a:xfrm>
            <a:off x="1285920" y="328608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nákupu služeb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49 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ý lim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čerstv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av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celodenní občerstvení max. 300 Kč na osobu, částka se bude krátit při necelodenních akc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byt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ubytování v ČR – max. 1 200 Kč za osobu a noc (případně nižší dle interních předpisů dané organiza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B64E-79E1-4B52-AB6A-AA1CB0D7B38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tavební úpra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02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590840" y="1816200"/>
            <a:ext cx="6462720" cy="484200"/>
          </a:xfrm>
          <a:prstGeom prst="rect">
            <a:avLst/>
          </a:prstGeom>
          <a:ln w="0">
            <a:noFill/>
          </a:ln>
        </p:spPr>
      </p:pic>
      <p:sp>
        <p:nvSpPr>
          <p:cNvPr id="503" name="TextovéPole 4"/>
          <p:cNvSpPr/>
          <p:nvPr/>
        </p:nvSpPr>
        <p:spPr>
          <a:xfrm>
            <a:off x="1571760" y="2428920"/>
            <a:ext cx="650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smí přesáhnout částku za všechny dokončené stavební úpravy v jednom zdaňovacím období v úhrnu 40 tis.  Kč (pořizovací cena) na každou jednotlivou účetní položku majetku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vební úprava musí být provedena v souvislosti s úpravou pracovního místa nebo úpravou přístupu pro osoby se zdravotním postižením nebo úpravy výukových, tréninkových nebo pracovních prostor používaných na realizaci aktivit s 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BC49-F562-4E6E-A4E5-642872E2643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ímá podpo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06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07960" y="1857240"/>
            <a:ext cx="6756480" cy="663840"/>
          </a:xfrm>
          <a:prstGeom prst="rect">
            <a:avLst/>
          </a:prstGeom>
          <a:ln w="0">
            <a:noFill/>
          </a:ln>
        </p:spPr>
      </p:pic>
      <p:sp>
        <p:nvSpPr>
          <p:cNvPr id="507" name="TextovéPole 6"/>
          <p:cNvSpPr/>
          <p:nvPr/>
        </p:nvSpPr>
        <p:spPr>
          <a:xfrm>
            <a:off x="1428840" y="2714760"/>
            <a:ext cx="664344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Mzdové příspěvk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jsou poskytovány jako náhrada mzdy zaměstnavateli (ve výši hrubé mzdy včetně zákonných odvodů) pro pracovníka po dobu jeho účasti na dalším vzdělávání; mzdové náhrady se budou týkat pouze pedagogických, akademických a dalších pracovníků ve školství, a to maximálně do výše 70 % mzdových náhr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Ubytování, stravov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ubytování v ČR – max. 1 200 Kč za osobu a noc (případně nižší dle interních předpisů dané organiza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travné – celodenní občerstvení max. 300 Kč na osobu a zároveň dle interních předpisů dané organiza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ýdaje na přímou podporu jednotlivců mohou být poskytovány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ejvýše do 20%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celkových způsobilých výdajů projekt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0A0F-9201-4008-B67C-A5261BA131F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lady vyplývající přímo ze smlou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10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857240"/>
            <a:ext cx="6786360" cy="658800"/>
          </a:xfrm>
          <a:prstGeom prst="rect">
            <a:avLst/>
          </a:prstGeom>
          <a:ln w="0">
            <a:noFill/>
          </a:ln>
        </p:spPr>
      </p:pic>
      <p:sp>
        <p:nvSpPr>
          <p:cNvPr id="511" name="TextovéPole 4"/>
          <p:cNvSpPr/>
          <p:nvPr/>
        </p:nvSpPr>
        <p:spPr>
          <a:xfrm>
            <a:off x="1500120" y="2857680"/>
            <a:ext cx="657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případě, že rozpočet projektu je roven nebo vyšší než 3 000 000 Kč, je příjemce povinen zadat vybrané auditorské firmě zpracování závěrečného aud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4633-2560-4674-9F93-FA2AC38E18A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ouhrn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14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272360" cy="539640"/>
          </a:xfrm>
          <a:prstGeom prst="rect">
            <a:avLst/>
          </a:prstGeom>
          <a:ln w="0">
            <a:noFill/>
          </a:ln>
        </p:spPr>
      </p:pic>
      <p:pic>
        <p:nvPicPr>
          <p:cNvPr id="515" name="Zástupný symbol pro obsah 4" descr="04_zadost34_3_crop.jpg"/>
          <p:cNvPicPr/>
          <p:nvPr/>
        </p:nvPicPr>
        <p:blipFill>
          <a:blip r:embed="rId2"/>
          <a:stretch/>
        </p:blipFill>
        <p:spPr>
          <a:xfrm>
            <a:off x="1322280" y="2476440"/>
            <a:ext cx="7392960" cy="523800"/>
          </a:xfrm>
          <a:prstGeom prst="rect">
            <a:avLst/>
          </a:prstGeom>
          <a:ln w="0">
            <a:noFill/>
          </a:ln>
        </p:spPr>
      </p:pic>
      <p:pic>
        <p:nvPicPr>
          <p:cNvPr id="516" name="Zástupný symbol pro obsah 4" descr="04_zadost34_3_crop.jpg"/>
          <p:cNvPicPr/>
          <p:nvPr/>
        </p:nvPicPr>
        <p:blipFill>
          <a:blip r:embed="rId3"/>
          <a:stretch/>
        </p:blipFill>
        <p:spPr>
          <a:xfrm>
            <a:off x="1357200" y="3344760"/>
            <a:ext cx="7358040" cy="527040"/>
          </a:xfrm>
          <a:prstGeom prst="rect">
            <a:avLst/>
          </a:prstGeom>
          <a:ln w="0">
            <a:noFill/>
          </a:ln>
        </p:spPr>
      </p:pic>
      <p:pic>
        <p:nvPicPr>
          <p:cNvPr id="517" name="Zástupný symbol pro obsah 4" descr="04_zadost34_3_crop.jpg"/>
          <p:cNvPicPr/>
          <p:nvPr/>
        </p:nvPicPr>
        <p:blipFill>
          <a:blip r:embed="rId4"/>
          <a:stretch/>
        </p:blipFill>
        <p:spPr>
          <a:xfrm>
            <a:off x="1357200" y="4194000"/>
            <a:ext cx="7232760" cy="535320"/>
          </a:xfrm>
          <a:prstGeom prst="rect">
            <a:avLst/>
          </a:prstGeom>
          <a:ln w="0">
            <a:noFill/>
          </a:ln>
        </p:spPr>
      </p:pic>
      <p:pic>
        <p:nvPicPr>
          <p:cNvPr id="518" name="Zástupný symbol pro obsah 4" descr="04_zadost34_3_crop.jpg"/>
          <p:cNvPicPr/>
          <p:nvPr/>
        </p:nvPicPr>
        <p:blipFill>
          <a:blip r:embed="rId5"/>
          <a:stretch/>
        </p:blipFill>
        <p:spPr>
          <a:xfrm>
            <a:off x="1382760" y="4952880"/>
            <a:ext cx="7189920" cy="184320"/>
          </a:xfrm>
          <a:prstGeom prst="rect">
            <a:avLst/>
          </a:prstGeom>
          <a:ln w="0">
            <a:noFill/>
          </a:ln>
        </p:spPr>
      </p:pic>
      <p:pic>
        <p:nvPicPr>
          <p:cNvPr id="519" name="Zástupný symbol pro obsah 4" descr="04_zadost34_3_crop.jpg"/>
          <p:cNvPicPr/>
          <p:nvPr/>
        </p:nvPicPr>
        <p:blipFill>
          <a:blip r:embed="rId6"/>
          <a:stretch/>
        </p:blipFill>
        <p:spPr>
          <a:xfrm>
            <a:off x="1428840" y="5337000"/>
            <a:ext cx="6929280" cy="1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71360" y="271440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41A3-7F0A-49C3-835F-728E4710B60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AADA-E91B-4AF3-ACB0-A5AB104B1EC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bdélník se zakulaceným příčným rohem 8"/>
          <p:cNvSpPr/>
          <p:nvPr/>
        </p:nvSpPr>
        <p:spPr>
          <a:xfrm>
            <a:off x="5786280" y="3071880"/>
            <a:ext cx="3143520" cy="2571840"/>
          </a:xfrm>
          <a:prstGeom prst="pi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ložka žadatel projektu slouží k identifikaci subjektu, který o projekt žád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Obrázek 5" descr="1.JPG"/>
          <p:cNvPicPr/>
          <p:nvPr/>
        </p:nvPicPr>
        <p:blipFill>
          <a:blip r:embed="rId1"/>
          <a:stretch/>
        </p:blipFill>
        <p:spPr>
          <a:xfrm>
            <a:off x="1285920" y="1285920"/>
            <a:ext cx="4325760" cy="464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EDE4-472E-4DB0-A8C4-ED7D706018B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28592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5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částky předpokládaných způsobilých výdajů za každé monitorovací období rea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tum první platby se uvádí 3 měsíce od předpokládaného termínu vydání rozhodnutí o poskytnutí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4D24-FDE9-4BE2-B197-6B1955799C1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42884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9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y uvedené předpokládané platby se musí rovnat  celkové výši dot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62C6-F15A-49E5-AE27-B72FD536000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3" name="Obdélník se zakulaceným příčným rohem 6"/>
          <p:cNvSpPr/>
          <p:nvPr/>
        </p:nvSpPr>
        <p:spPr>
          <a:xfrm>
            <a:off x="6072120" y="1571760"/>
            <a:ext cx="2857680" cy="4357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říjmy, které vzniknou v době realizace projektu v bezprostřední souvislosti s jeho realizac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tří sem výnosy žadatele i partnerů získané díky tomu, že budou v rámci projektu poskytovat služby za úplatu, např. kurzov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rojekt nebude generovat příjmy, vyplní se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A15C-2907-4B85-A3F5-B7A962898C5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7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pad financí je závislý na záložkách: Projekt, Žadatel projektu, Rozpočet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, když provedete změny v těchto záložkách, proveďte znovu rozpad finan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Zástupný symbol pro obsah 9" descr="1.JPG"/>
          <p:cNvPicPr/>
          <p:nvPr/>
        </p:nvPicPr>
        <p:blipFill>
          <a:blip r:embed="rId1"/>
          <a:stretch/>
        </p:blipFill>
        <p:spPr>
          <a:xfrm>
            <a:off x="1357200" y="1514520"/>
            <a:ext cx="3929040" cy="47721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C1A2-5FF8-41CD-AE2B-BA4E39EAD78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dané oblasti musí být v souladu s prostorem  definovaným Operačním program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rámci jednoho kraje je nutné uvést vždy pouze jeden reg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ádějte nejvyšší typ území (region, kraj, okres, obec), který odpovídá zpracovávanému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Šrafovaná šipka doprava 15"/>
          <p:cNvSpPr/>
          <p:nvPr/>
        </p:nvSpPr>
        <p:spPr>
          <a:xfrm rot="5400000">
            <a:off x="3071520" y="5857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Obrázek 9" descr="3.JPG"/>
          <p:cNvPicPr/>
          <p:nvPr/>
        </p:nvPicPr>
        <p:blipFill>
          <a:blip r:embed="rId1"/>
          <a:stretch/>
        </p:blipFill>
        <p:spPr>
          <a:xfrm>
            <a:off x="1357200" y="1500120"/>
            <a:ext cx="4923000" cy="47484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DD31-3BDF-46D7-9E9A-C049C91A2C9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Šrafovaná šipka doprava 10"/>
          <p:cNvSpPr/>
          <p:nvPr/>
        </p:nvSpPr>
        <p:spPr>
          <a:xfrm rot="5400000">
            <a:off x="3785760" y="1785960"/>
            <a:ext cx="428400" cy="28548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Zástupný symbol pro obsah 4" descr="04_zadost44_1_crop.jpg"/>
          <p:cNvPicPr/>
          <p:nvPr/>
        </p:nvPicPr>
        <p:blipFill>
          <a:blip r:embed="rId1"/>
          <a:srcRect l="3289" t="0" r="0" b="0"/>
          <a:stretch/>
        </p:blipFill>
        <p:spPr>
          <a:xfrm>
            <a:off x="1285920" y="1442880"/>
            <a:ext cx="4143240" cy="36975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544D-1DF3-4E76-8902-55138A4AC2F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Šrafovaná šipka doprava 6"/>
          <p:cNvSpPr/>
          <p:nvPr/>
        </p:nvSpPr>
        <p:spPr>
          <a:xfrm rot="5400000">
            <a:off x="3071520" y="5000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Zástupný symbol pro obsah 4" descr="04_zadost44_2_crop.jpg"/>
          <p:cNvPicPr/>
          <p:nvPr/>
        </p:nvPicPr>
        <p:blipFill>
          <a:blip r:embed="rId1"/>
          <a:srcRect l="2852" t="3034" r="0" b="0"/>
          <a:stretch/>
        </p:blipFill>
        <p:spPr>
          <a:xfrm>
            <a:off x="1285920" y="1785960"/>
            <a:ext cx="5046480" cy="407196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875F-966D-4733-A825-81ADBE0041E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Šrafovaná šipka doprava 6"/>
          <p:cNvSpPr/>
          <p:nvPr/>
        </p:nvSpPr>
        <p:spPr>
          <a:xfrm rot="5400000">
            <a:off x="371484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Obrázek 8" descr="1.JPG"/>
          <p:cNvPicPr/>
          <p:nvPr/>
        </p:nvPicPr>
        <p:blipFill>
          <a:blip r:embed="rId1"/>
          <a:stretch/>
        </p:blipFill>
        <p:spPr>
          <a:xfrm>
            <a:off x="1285920" y="1285920"/>
            <a:ext cx="4714920" cy="4214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7E5F-87DF-4107-922F-DD4C5622B4A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337" name="Obdélníkový popisek 6"/>
          <p:cNvSpPr/>
          <p:nvPr/>
        </p:nvSpPr>
        <p:spPr>
          <a:xfrm>
            <a:off x="6143760" y="2571840"/>
            <a:ext cx="2857320" cy="785880"/>
          </a:xfrm>
          <a:prstGeom prst="wedgeRectCallout">
            <a:avLst>
              <a:gd name="adj1" fmla="val -181569"/>
              <a:gd name="adj2" fmla="val 12371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Částka, která připadne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 celkového rozpočtu na žadate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9787"/>
              <a:gd name="adj2" fmla="val -892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žadatel realizoval či realizuje. Popis by měl obsahovat cíle projektu, aktivity, program,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428840" y="1571760"/>
            <a:ext cx="5500440" cy="41767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12E3-0509-4187-9F5F-E4A5D921E3E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rizontální témata patří mezi vylučovací kritér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má projekt negativní dopad na některé z horizontálních témat, nemůže být doporučen k podpo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357200" y="1500120"/>
            <a:ext cx="5500800" cy="41767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31C3-6D2E-4BD4-96BE-82EA0FC8DB5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hrňte, v jakých klíčových aktivitách a jakým způsobem bude projekt ovlivňovat rovné příležitosti a udržitelný rozvo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ublicita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Zástupný symbol pro obsah 4" descr="04_zadost47_crop.jpg"/>
          <p:cNvPicPr/>
          <p:nvPr/>
        </p:nvPicPr>
        <p:blipFill>
          <a:blip r:embed="rId1"/>
          <a:srcRect l="2261" t="2090" r="0" b="0"/>
          <a:stretch/>
        </p:blipFill>
        <p:spPr>
          <a:xfrm>
            <a:off x="1857240" y="1714680"/>
            <a:ext cx="6286680" cy="438624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ublicit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40C1-C854-441A-907E-80B325EDFE5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992160"/>
            <a:ext cx="4786560" cy="529452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8038-7700-4CC2-96C7-4E5FF7EFB7A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informac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 chystaných nebo již probíhajících výběrových řízen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této záložce budou aktivní pouze v případě, že jste na záložce „Projekt“ zvolili příslušnou vol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Zástupný symbol pro obsah 4" descr="04_zadost51_1_crop.jpg"/>
          <p:cNvPicPr/>
          <p:nvPr/>
        </p:nvPicPr>
        <p:blipFill>
          <a:blip r:embed="rId1"/>
          <a:srcRect l="0" t="0" r="0" b="39569"/>
          <a:stretch/>
        </p:blipFill>
        <p:spPr>
          <a:xfrm>
            <a:off x="1349280" y="1643040"/>
            <a:ext cx="4905360" cy="32148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0E72-15E4-463D-AA66-E9E8C1BA08D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Šrafovaná šipka doprava 5"/>
          <p:cNvSpPr/>
          <p:nvPr/>
        </p:nvSpPr>
        <p:spPr>
          <a:xfrm rot="5400000">
            <a:off x="3071880" y="457200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požadované přílohy. Pokud je doložení přílohy vzhlede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 povaze projektu nepodstatné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nevhodné, zaškrtněte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á příloha musí mít zaškrtnuto buď doložena, nebo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Zástupný symbol pro obsah 4" descr="04_zadost51_2_crop.jpg"/>
          <p:cNvPicPr/>
          <p:nvPr/>
        </p:nvPicPr>
        <p:blipFill>
          <a:blip r:embed="rId1"/>
          <a:srcRect l="0" t="55725" r="0" b="0"/>
          <a:stretch/>
        </p:blipFill>
        <p:spPr>
          <a:xfrm>
            <a:off x="1357200" y="2071800"/>
            <a:ext cx="5072040" cy="243504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7E20-0C92-4595-BF8F-5AB8D8B646C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lektronickou přílohu vložte kliknutím na tlačítko Procházet, zde vyberte požadovaný  soub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šechny přílohy, které jsou v elektronické podobě dostupné,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utné k žádosti připoj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ílohy s povinným podpisem naskenujt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řiložte jako obrázek jpg, nebo soubor pd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71360" y="1499760"/>
            <a:ext cx="807228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eme za vaši pozornost</a:t>
            </a:r>
            <a:br>
              <a:rPr sz="4000"/>
            </a:b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elp_opvk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@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smt.cz</a:t>
            </a:r>
            <a:br>
              <a:rPr sz="4000"/>
            </a:b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cera@msmt.cz</a:t>
            </a:r>
            <a:br>
              <a:rPr sz="3200"/>
            </a:b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Obrázek 8" descr="1.JPG"/>
          <p:cNvPicPr/>
          <p:nvPr/>
        </p:nvPicPr>
        <p:blipFill>
          <a:blip r:embed="rId1"/>
          <a:stretch/>
        </p:blipFill>
        <p:spPr>
          <a:xfrm>
            <a:off x="1285920" y="1285920"/>
            <a:ext cx="4714920" cy="42148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3D4B-11D2-4AE3-92A7-4978C0D6701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343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6675"/>
              <a:gd name="adj2" fmla="val 464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B22F-2D67-4AA3-B9D4-B2A907B7603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bdélník se zakulaceným příčným rohem 5"/>
          <p:cNvSpPr/>
          <p:nvPr/>
        </p:nvSpPr>
        <p:spPr>
          <a:xfrm>
            <a:off x="6572160" y="2571840"/>
            <a:ext cx="2571840" cy="3357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ficiální adres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automaticky načtena při „Validaci ARES“.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akto načtené údaje needit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dresa pro doruč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povinný údaj, který zadává uživat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Zástupný symbol pro obsah 9" descr="1.JPG"/>
          <p:cNvPicPr/>
          <p:nvPr/>
        </p:nvPicPr>
        <p:blipFill>
          <a:blip r:embed="rId1"/>
          <a:stretch/>
        </p:blipFill>
        <p:spPr>
          <a:xfrm>
            <a:off x="1428840" y="1643040"/>
            <a:ext cx="5143320" cy="439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Zástupný symbol pro obsah 4" descr="04_zadost17_crop.jpg"/>
          <p:cNvPicPr/>
          <p:nvPr/>
        </p:nvPicPr>
        <p:blipFill>
          <a:blip r:embed="rId1"/>
          <a:srcRect l="2620" t="1516" r="0" b="0"/>
          <a:stretch/>
        </p:blipFill>
        <p:spPr>
          <a:xfrm>
            <a:off x="1285920" y="1500120"/>
            <a:ext cx="5065560" cy="464364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0CDC-85F3-4410-BF17-BADE276AD16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bdélník se zakulaceným příčným rohem 6"/>
          <p:cNvSpPr/>
          <p:nvPr/>
        </p:nvSpPr>
        <p:spPr>
          <a:xfrm>
            <a:off x="6215040" y="1857240"/>
            <a:ext cx="2714760" cy="4357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záložce „Osoby žadatele“ je nutné uvést všechn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, kteří mají společné podpisové právo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terá bude během hodnocení a realizace komunikovat s pracovníky ŘO ohledně projektu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11-19T16:19:35Z</dcterms:modified>
  <cp:revision>794</cp:revision>
  <dc:subject/>
  <dc:title>Snímek 1</dc:title>
</cp:coreProperties>
</file>