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5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0ABB-EEA7-4BB7-A857-F51077EC9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FEC-229B-4641-916B-94C059839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BC18-A9B8-4B88-964E-A474021514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FEC2-9DAD-435A-9672-F8653FFB64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0B5F-4D97-4403-B3EA-C74D41FD43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24F8-FDF9-4769-92D2-8406F7D21D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1F1D-C814-4373-8B41-167A62E77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BF60-C01F-4601-B9F5-1B40FDF5B5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A459-9D0A-4FA6-AF15-A181F0FDFA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8B99-B14D-412D-9425-B60CD868DB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1387-8488-4D0D-BBC5-51A9928023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A148-342E-4F65-B094-692D86D0CC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3B71-358D-4614-B350-D9EE1EA852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693E-B24B-4CE5-B44B-C304D37FF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F52D-84FE-4227-B655-55EBDFA88B2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msmt.cz/strukturalnifondy/rezijni-naklady-op-vk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80010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7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klíčové aktiv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7623360" cy="4797360"/>
          </a:xfrm>
          <a:prstGeom prst="rect">
            <a:avLst/>
          </a:prstGeom>
          <a:ln w="0">
            <a:noFill/>
          </a:ln>
        </p:spPr>
      </p:pic>
      <p:sp>
        <p:nvSpPr>
          <p:cNvPr id="17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E98A-F201-40D4-9208-ABA3601C0A9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756560" cy="207144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6"/>
          <p:cNvSpPr/>
          <p:nvPr/>
        </p:nvSpPr>
        <p:spPr>
          <a:xfrm>
            <a:off x="1285920" y="407196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nový li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bytování v ČR – max. 1 200 Kč za osobu a noc a zároveň dle interních předpisů dané organizace, pokud jsou nižš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177-7740-4C20-BAEE-38ADB7E3E56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estovní náhrad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3280" y="1143000"/>
            <a:ext cx="7129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tatečně rozepsány v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líčových aktivitá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 projektové žádosti by se mělo vyčí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č t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aniční služební cesty, které nejsou uvedeny ve schválené projektové žádosti, nebude možné vyko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97B0-98F4-46EC-B435-6454C81030D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</a:t>
            </a: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47760" y="1857240"/>
            <a:ext cx="7896240" cy="2936880"/>
          </a:xfrm>
          <a:prstGeom prst="rect">
            <a:avLst/>
          </a:prstGeom>
          <a:ln w="0">
            <a:noFill/>
          </a:ln>
        </p:spPr>
      </p:pic>
      <p:sp>
        <p:nvSpPr>
          <p:cNvPr id="186" name="Vývojový diagram: alternativní postup 6"/>
          <p:cNvSpPr/>
          <p:nvPr/>
        </p:nvSpPr>
        <p:spPr>
          <a:xfrm>
            <a:off x="1357200" y="3786120"/>
            <a:ext cx="778680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8AC6-0EC8-462F-AC44-0B491754273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–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389240" y="1285920"/>
            <a:ext cx="7754760" cy="4529160"/>
          </a:xfrm>
          <a:prstGeom prst="rect">
            <a:avLst/>
          </a:prstGeom>
          <a:ln w="0">
            <a:noFill/>
          </a:ln>
        </p:spPr>
      </p:pic>
      <p:sp>
        <p:nvSpPr>
          <p:cNvPr id="19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738-8F3E-4174-9110-DCF094CE186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689120"/>
            <a:ext cx="7858080" cy="285444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Vývojový diagram: alternativní postup 6"/>
          <p:cNvSpPr/>
          <p:nvPr/>
        </p:nvSpPr>
        <p:spPr>
          <a:xfrm>
            <a:off x="7858080" y="1643040"/>
            <a:ext cx="428760" cy="2253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C628-C4B2-466B-83AE-579B9FD511F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7547040" cy="3714480"/>
          </a:xfrm>
          <a:prstGeom prst="rect">
            <a:avLst/>
          </a:prstGeom>
          <a:ln w="0">
            <a:noFill/>
          </a:ln>
        </p:spPr>
      </p:pic>
      <p:sp>
        <p:nvSpPr>
          <p:cNvPr id="198" name="Vývojový diagram: alternativní postup 6"/>
          <p:cNvSpPr/>
          <p:nvPr/>
        </p:nvSpPr>
        <p:spPr>
          <a:xfrm>
            <a:off x="1427040" y="3571920"/>
            <a:ext cx="7500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ED89-EF2C-4362-976D-807568944A2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365120" y="2357280"/>
            <a:ext cx="7778880" cy="1638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4902-9FEB-4E23-AE37-FEADE8ED873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7702560" cy="4022640"/>
          </a:xfrm>
          <a:prstGeom prst="rect">
            <a:avLst/>
          </a:prstGeom>
          <a:ln w="0">
            <a:noFill/>
          </a:ln>
        </p:spPr>
      </p:pic>
      <p:sp>
        <p:nvSpPr>
          <p:cNvPr id="205" name="Vývojový diagram: alternativní postup 6"/>
          <p:cNvSpPr/>
          <p:nvPr/>
        </p:nvSpPr>
        <p:spPr>
          <a:xfrm>
            <a:off x="1357200" y="507204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57D4-CE6C-4D02-A7BE-3137DCE1451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1CA4-619A-4A42-941A-9EAA826A9EA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774396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provázanost 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 projektové žádost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440000" y="1785960"/>
            <a:ext cx="7489800" cy="4275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6"/>
          <p:cNvSpPr/>
          <p:nvPr/>
        </p:nvSpPr>
        <p:spPr>
          <a:xfrm>
            <a:off x="1428840" y="29289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428840" y="357192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8"/>
          <p:cNvSpPr/>
          <p:nvPr/>
        </p:nvSpPr>
        <p:spPr>
          <a:xfrm>
            <a:off x="1428840" y="50007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délník 9"/>
          <p:cNvSpPr/>
          <p:nvPr/>
        </p:nvSpPr>
        <p:spPr>
          <a:xfrm>
            <a:off x="1428840" y="571500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délník 10"/>
          <p:cNvSpPr/>
          <p:nvPr/>
        </p:nvSpPr>
        <p:spPr>
          <a:xfrm>
            <a:off x="5214960" y="221472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1"/>
          <p:cNvSpPr/>
          <p:nvPr/>
        </p:nvSpPr>
        <p:spPr>
          <a:xfrm>
            <a:off x="5214960" y="257184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délník 12"/>
          <p:cNvSpPr/>
          <p:nvPr/>
        </p:nvSpPr>
        <p:spPr>
          <a:xfrm>
            <a:off x="5214960" y="29289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3"/>
          <p:cNvSpPr/>
          <p:nvPr/>
        </p:nvSpPr>
        <p:spPr>
          <a:xfrm>
            <a:off x="5214960" y="3286080"/>
            <a:ext cx="3714840" cy="2858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4"/>
          <p:cNvSpPr/>
          <p:nvPr/>
        </p:nvSpPr>
        <p:spPr>
          <a:xfrm>
            <a:off x="5214960" y="4643280"/>
            <a:ext cx="3714840" cy="357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5"/>
          <p:cNvSpPr/>
          <p:nvPr/>
        </p:nvSpPr>
        <p:spPr>
          <a:xfrm>
            <a:off x="1428840" y="257184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6"/>
          <p:cNvSpPr/>
          <p:nvPr/>
        </p:nvSpPr>
        <p:spPr>
          <a:xfrm>
            <a:off x="5214960" y="50007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7"/>
          <p:cNvSpPr/>
          <p:nvPr/>
        </p:nvSpPr>
        <p:spPr>
          <a:xfrm>
            <a:off x="5214960" y="1785960"/>
            <a:ext cx="3714840" cy="4287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27E6-371D-441A-BA18-C16DFEFBAB9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f3912c"/>
                </a:solidFill>
                <a:latin typeface="Calibri"/>
              </a:rPr>
              <a:t>Křížové financování/odpisy</a:t>
            </a:r>
            <a:endParaRPr b="1" lang="en-US" sz="46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386840" cy="3857760"/>
          </a:xfrm>
          <a:prstGeom prst="rect">
            <a:avLst/>
          </a:prstGeom>
          <a:ln w="0">
            <a:noFill/>
          </a:ln>
        </p:spPr>
      </p:pic>
      <p:sp>
        <p:nvSpPr>
          <p:cNvPr id="212" name="Vývojový diagram: alternativní postup 8"/>
          <p:cNvSpPr/>
          <p:nvPr/>
        </p:nvSpPr>
        <p:spPr>
          <a:xfrm>
            <a:off x="1500120" y="4143240"/>
            <a:ext cx="735804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Vývojový diagram: alternativní postup 9"/>
          <p:cNvSpPr/>
          <p:nvPr/>
        </p:nvSpPr>
        <p:spPr>
          <a:xfrm>
            <a:off x="1500120" y="4572000"/>
            <a:ext cx="72867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E124-AF90-4A26-9D6C-2C8ECE789F1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7200" y="242892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řízení nebo vybavení musí být používá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realizaci aktivit, na kterých se podílí cí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upina (např. školení, výuka, praxe, prá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cvik atd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2640-06CA-430B-9D44-4E3A495A60A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3920" y="142848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0 tis. Kč za položku, pokud splňuje následujíc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95FD-4A07-4327-B9B1-5FA4374000A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38440"/>
            <a:ext cx="8215560" cy="761760"/>
          </a:xfrm>
          <a:prstGeom prst="rect">
            <a:avLst/>
          </a:prstGeom>
          <a:ln w="0">
            <a:noFill/>
          </a:ln>
        </p:spPr>
      </p:pic>
      <p:sp>
        <p:nvSpPr>
          <p:cNvPr id="223" name="TextovéPole 4"/>
          <p:cNvSpPr/>
          <p:nvPr/>
        </p:nvSpPr>
        <p:spPr>
          <a:xfrm>
            <a:off x="1285920" y="3000240"/>
            <a:ext cx="77151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íl výdajů této kapitoly – Místní kancelář na celkových způsobilých výdajích smí čini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žijní náklady v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smt.cz/strukturalnifondy/rezijni-naklady-op-v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Vývojový diagram: alternativní postup 5"/>
          <p:cNvSpPr/>
          <p:nvPr/>
        </p:nvSpPr>
        <p:spPr>
          <a:xfrm>
            <a:off x="778680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C772-EDCA-483A-AF41-C3C1C9E8D0C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7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743120"/>
            <a:ext cx="7867800" cy="1149480"/>
          </a:xfrm>
          <a:prstGeom prst="rect">
            <a:avLst/>
          </a:prstGeom>
          <a:ln w="0">
            <a:noFill/>
          </a:ln>
        </p:spPr>
      </p:pic>
      <p:sp>
        <p:nvSpPr>
          <p:cNvPr id="228" name="TextovéPole 4"/>
          <p:cNvSpPr/>
          <p:nvPr/>
        </p:nvSpPr>
        <p:spPr>
          <a:xfrm>
            <a:off x="1285920" y="3286080"/>
            <a:ext cx="7715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ubytování v ČR – max. 1 200 Kč za osob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noc (případně nižší dle interních předpisů dané organiza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Vývojový diagram: alternativní postup 6"/>
          <p:cNvSpPr/>
          <p:nvPr/>
        </p:nvSpPr>
        <p:spPr>
          <a:xfrm>
            <a:off x="785808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0D72-681A-42D4-BD42-5054B8F07D2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285920" y="1730520"/>
            <a:ext cx="7858080" cy="58716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4"/>
          <p:cNvSpPr/>
          <p:nvPr/>
        </p:nvSpPr>
        <p:spPr>
          <a:xfrm>
            <a:off x="1571760" y="2500200"/>
            <a:ext cx="72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mí přesáhnout částku za všechny dokončené stavební úpravy v jednom zdaňovacím období v úhrnu 40 tis.  Kč (pořizovací cena) na každou jednotlivou účetní položku majet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5511-0CA7-417C-ACA4-E18BC24F065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563840"/>
            <a:ext cx="7572240" cy="74268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4"/>
          <p:cNvSpPr/>
          <p:nvPr/>
        </p:nvSpPr>
        <p:spPr>
          <a:xfrm>
            <a:off x="1285920" y="2428920"/>
            <a:ext cx="78580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zároveň dle interních předpisů dané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Vývojový diagram: alternativní postup 5"/>
          <p:cNvSpPr/>
          <p:nvPr/>
        </p:nvSpPr>
        <p:spPr>
          <a:xfrm>
            <a:off x="7643880" y="1571760"/>
            <a:ext cx="642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8FD6-AFE2-41E7-935D-AB5241F26AB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7715160" cy="749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4"/>
          <p:cNvSpPr/>
          <p:nvPr/>
        </p:nvSpPr>
        <p:spPr>
          <a:xfrm>
            <a:off x="1500120" y="285768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FD9C-8DEE-4923-84D3-D9AA0111E70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246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248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43240"/>
            <a:ext cx="7232760" cy="586080"/>
          </a:xfrm>
          <a:prstGeom prst="rect">
            <a:avLst/>
          </a:prstGeom>
          <a:ln w="0">
            <a:noFill/>
          </a:ln>
        </p:spPr>
      </p:pic>
      <p:pic>
        <p:nvPicPr>
          <p:cNvPr id="249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29120"/>
            <a:ext cx="7189920" cy="208080"/>
          </a:xfrm>
          <a:prstGeom prst="rect">
            <a:avLst/>
          </a:prstGeom>
          <a:ln w="0">
            <a:noFill/>
          </a:ln>
        </p:spPr>
      </p:pic>
      <p:pic>
        <p:nvPicPr>
          <p:cNvPr id="250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286240"/>
            <a:ext cx="6929280" cy="214560"/>
          </a:xfrm>
          <a:prstGeom prst="rect">
            <a:avLst/>
          </a:prstGeom>
          <a:ln w="0">
            <a:noFill/>
          </a:ln>
        </p:spPr>
      </p:pic>
      <p:sp>
        <p:nvSpPr>
          <p:cNvPr id="251" name="Vývojový diagram: alternativní postup 9"/>
          <p:cNvSpPr/>
          <p:nvPr/>
        </p:nvSpPr>
        <p:spPr>
          <a:xfrm>
            <a:off x="6929280" y="5286240"/>
            <a:ext cx="78588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Vývojový diagram: alternativní postup 14"/>
          <p:cNvSpPr/>
          <p:nvPr/>
        </p:nvSpPr>
        <p:spPr>
          <a:xfrm>
            <a:off x="1357200" y="2500200"/>
            <a:ext cx="7000920" cy="14292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Vývojový diagram: alternativní postup 15"/>
          <p:cNvSpPr/>
          <p:nvPr/>
        </p:nvSpPr>
        <p:spPr>
          <a:xfrm>
            <a:off x="1428840" y="4143240"/>
            <a:ext cx="700092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Vývojový diagram: alternativní postup 16"/>
          <p:cNvSpPr/>
          <p:nvPr/>
        </p:nvSpPr>
        <p:spPr>
          <a:xfrm>
            <a:off x="1428840" y="3357720"/>
            <a:ext cx="7000920" cy="142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Vývojový diagram: alternativní postup 17"/>
          <p:cNvSpPr/>
          <p:nvPr/>
        </p:nvSpPr>
        <p:spPr>
          <a:xfrm>
            <a:off x="1428840" y="1714680"/>
            <a:ext cx="700092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7B5E-583D-493C-B08B-D0B35C5E1E2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1571760"/>
            <a:ext cx="7643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24C8-2E6D-47E9-8BC2-0BAB27D6927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428480" y="18568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é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Základní pravidla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 způsobilost výdajů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FDC0-8970-4150-89BE-7B929AC19CA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P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65120" y="1160640"/>
            <a:ext cx="7564680" cy="4798800"/>
          </a:xfrm>
          <a:prstGeom prst="rect">
            <a:avLst/>
          </a:prstGeom>
          <a:ln w="0">
            <a:noFill/>
          </a:ln>
        </p:spPr>
      </p:pic>
      <p:sp>
        <p:nvSpPr>
          <p:cNvPr id="26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9FFC-7E2D-4EFD-9123-8D034159766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FE7E-D12C-4A27-A1D2-DCEF2768D79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285560" y="150012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8808-1C7C-4DF3-94A0-0CAF6A963A3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02AB-A933-4C61-98AB-E540EE66C92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CF58-3184-4552-9D2A-417A32B156F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1A0D-EE7E-4A2C-B3CA-57ABE79DC9A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 Oblast příjmů je vždy upravena danou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6E1-AE8F-4030-865F-123A4FD266B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5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6BF4-668C-4ABA-8AFB-57AB136F51A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32000" y="5286240"/>
            <a:ext cx="756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e mezd/platů v projektech OP V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vyse-mezd-platu-v-projektech-op-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1486080" y="1571760"/>
            <a:ext cx="7300800" cy="3643200"/>
          </a:xfrm>
          <a:prstGeom prst="rect">
            <a:avLst/>
          </a:prstGeom>
          <a:ln w="0">
            <a:noFill/>
          </a:ln>
        </p:spPr>
      </p:pic>
      <p:sp>
        <p:nvSpPr>
          <p:cNvPr id="1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08CF-289C-437E-911C-A95133D1C25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7691400" cy="4071960"/>
          </a:xfrm>
          <a:prstGeom prst="rect">
            <a:avLst/>
          </a:prstGeom>
          <a:ln w="0">
            <a:noFill/>
          </a:ln>
        </p:spPr>
      </p:pic>
      <p:sp>
        <p:nvSpPr>
          <p:cNvPr id="158" name="Vývojový diagram: alternativní postup 4"/>
          <p:cNvSpPr/>
          <p:nvPr/>
        </p:nvSpPr>
        <p:spPr>
          <a:xfrm>
            <a:off x="1428840" y="3429000"/>
            <a:ext cx="7715160" cy="28584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9CED-D0A1-43D3-9D55-DBA51F6FD74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7143840" cy="521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ealizační tým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1285920" y="62866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FA7C-9C05-4E06-9442-D961D6CF50C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428840" y="2608200"/>
            <a:ext cx="7715160" cy="1690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popis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7317-37A4-4153-AC1F-A3A4961EB9E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7645680" cy="3714840"/>
          </a:xfrm>
          <a:prstGeom prst="rect">
            <a:avLst/>
          </a:prstGeom>
          <a:ln w="0">
            <a:noFill/>
          </a:ln>
        </p:spPr>
      </p:pic>
      <p:sp>
        <p:nvSpPr>
          <p:cNvPr id="169" name="Vývojový diagram: alternativní postup 6"/>
          <p:cNvSpPr/>
          <p:nvPr/>
        </p:nvSpPr>
        <p:spPr>
          <a:xfrm>
            <a:off x="1357200" y="228600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D139-3C72-4164-A767-742C2E53067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71760" y="928800"/>
            <a:ext cx="7000920" cy="521172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45AF-55CB-45DF-ADE4-A3C72A22E54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1:29:43Z</dcterms:modified>
  <cp:revision>83</cp:revision>
  <dc:subject/>
  <dc:title>Snímek 1</dc:title>
</cp:coreProperties>
</file>