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5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7547-3DB4-47B3-AEAD-8288CDA68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A7FC-CDB7-4F8A-A66A-5B484C38A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C6B1-F5C6-4601-9457-60061629DF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BE04-6C76-4F5A-9114-37B9220B1A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BF56-ED49-4678-A975-8E65829C0A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9D04-EB3A-43A9-A8A2-62F7E1C2A5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F564-603D-4262-95BB-F788D9F915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B3DA-355E-4322-BC9A-3C5452D226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6BC5-BF29-4F1C-8654-7228913045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A998-8D7F-4078-AAA0-4484CDECF5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87DF-5559-4628-8467-B24ED5D91C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18BF-BF59-4795-B344-C29E490E53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E833-FE27-4A5E-A1E7-419C3E7B54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FB77-A866-438F-94CA-ADEAA5D09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413D-4682-4EE3-9983-ECFA16EE7D1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msmt.cz/strukturalnifondy/rezijni-naklady-op-vk" TargetMode="Externa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80010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7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klíčové aktiv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7623360" cy="4797360"/>
          </a:xfrm>
          <a:prstGeom prst="rect">
            <a:avLst/>
          </a:prstGeom>
          <a:ln w="0">
            <a:noFill/>
          </a:ln>
        </p:spPr>
      </p:pic>
      <p:sp>
        <p:nvSpPr>
          <p:cNvPr id="17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B185-BE0D-4432-8783-2F25AF975DB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756560" cy="2071440"/>
          </a:xfrm>
          <a:prstGeom prst="rect">
            <a:avLst/>
          </a:prstGeom>
          <a:ln w="0">
            <a:noFill/>
          </a:ln>
        </p:spPr>
      </p:pic>
      <p:sp>
        <p:nvSpPr>
          <p:cNvPr id="179" name="TextovéPole 6"/>
          <p:cNvSpPr/>
          <p:nvPr/>
        </p:nvSpPr>
        <p:spPr>
          <a:xfrm>
            <a:off x="1285920" y="4071960"/>
            <a:ext cx="728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nový lim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bytování v ČR – max. 1 200 Kč za osobu a noc a zároveň dle interních předpisů dané organizace, pokud jsou nižš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2282-6BA8-4E76-A03A-9809544FA19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estovní náhrad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3280" y="1143000"/>
            <a:ext cx="7129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tatečně rozepsány v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líčových aktivitá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 projektové žádosti by se mělo vyčí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o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č t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aniční služební cesty, které nejsou uvedeny ve schválené projektové žádosti, nebude možné vyko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C3B3-405B-4F06-BDF3-E6D9979C209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</a:t>
            </a: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47760" y="1857240"/>
            <a:ext cx="7896240" cy="2936880"/>
          </a:xfrm>
          <a:prstGeom prst="rect">
            <a:avLst/>
          </a:prstGeom>
          <a:ln w="0">
            <a:noFill/>
          </a:ln>
        </p:spPr>
      </p:pic>
      <p:sp>
        <p:nvSpPr>
          <p:cNvPr id="186" name="Vývojový diagram: alternativní postup 6"/>
          <p:cNvSpPr/>
          <p:nvPr/>
        </p:nvSpPr>
        <p:spPr>
          <a:xfrm>
            <a:off x="1357200" y="3786120"/>
            <a:ext cx="778680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A1DC-FCA3-424D-A694-37EBC303014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–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389240" y="1285920"/>
            <a:ext cx="7754760" cy="4529160"/>
          </a:xfrm>
          <a:prstGeom prst="rect">
            <a:avLst/>
          </a:prstGeom>
          <a:ln w="0">
            <a:noFill/>
          </a:ln>
        </p:spPr>
      </p:pic>
      <p:sp>
        <p:nvSpPr>
          <p:cNvPr id="19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E892-C683-44BF-863A-FA1C4DD047D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689120"/>
            <a:ext cx="7858080" cy="285444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Vývojový diagram: alternativní postup 6"/>
          <p:cNvSpPr/>
          <p:nvPr/>
        </p:nvSpPr>
        <p:spPr>
          <a:xfrm>
            <a:off x="7858080" y="1643040"/>
            <a:ext cx="428760" cy="2253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28FC-4A31-48F0-88E1-945DCDE8F30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7547040" cy="3714480"/>
          </a:xfrm>
          <a:prstGeom prst="rect">
            <a:avLst/>
          </a:prstGeom>
          <a:ln w="0">
            <a:noFill/>
          </a:ln>
        </p:spPr>
      </p:pic>
      <p:sp>
        <p:nvSpPr>
          <p:cNvPr id="198" name="Vývojový diagram: alternativní postup 6"/>
          <p:cNvSpPr/>
          <p:nvPr/>
        </p:nvSpPr>
        <p:spPr>
          <a:xfrm>
            <a:off x="1427040" y="3571920"/>
            <a:ext cx="7500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7F14-46C1-4FC4-AABF-AE6DB85BC98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365120" y="2357280"/>
            <a:ext cx="7778880" cy="1638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6141-0AE9-49D2-A96F-A0C30D2EA72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7702560" cy="4022640"/>
          </a:xfrm>
          <a:prstGeom prst="rect">
            <a:avLst/>
          </a:prstGeom>
          <a:ln w="0">
            <a:noFill/>
          </a:ln>
        </p:spPr>
      </p:pic>
      <p:sp>
        <p:nvSpPr>
          <p:cNvPr id="205" name="Vývojový diagram: alternativní postup 6"/>
          <p:cNvSpPr/>
          <p:nvPr/>
        </p:nvSpPr>
        <p:spPr>
          <a:xfrm>
            <a:off x="1357200" y="507204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5B36-6CC6-409F-885F-57F2F3EE7CB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E79F-0D4A-4774-92BE-D635DE86C7B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774396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provázanost 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 projektové žádost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440000" y="1785960"/>
            <a:ext cx="7489800" cy="4275000"/>
          </a:xfrm>
          <a:prstGeom prst="rect">
            <a:avLst/>
          </a:prstGeom>
          <a:ln w="0">
            <a:noFill/>
          </a:ln>
        </p:spPr>
      </p:pic>
      <p:sp>
        <p:nvSpPr>
          <p:cNvPr id="137" name="Obdélník 6"/>
          <p:cNvSpPr/>
          <p:nvPr/>
        </p:nvSpPr>
        <p:spPr>
          <a:xfrm>
            <a:off x="1428840" y="29289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428840" y="357192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8"/>
          <p:cNvSpPr/>
          <p:nvPr/>
        </p:nvSpPr>
        <p:spPr>
          <a:xfrm>
            <a:off x="1428840" y="50007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délník 9"/>
          <p:cNvSpPr/>
          <p:nvPr/>
        </p:nvSpPr>
        <p:spPr>
          <a:xfrm>
            <a:off x="1428840" y="571500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délník 10"/>
          <p:cNvSpPr/>
          <p:nvPr/>
        </p:nvSpPr>
        <p:spPr>
          <a:xfrm>
            <a:off x="5214960" y="221472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délník 11"/>
          <p:cNvSpPr/>
          <p:nvPr/>
        </p:nvSpPr>
        <p:spPr>
          <a:xfrm>
            <a:off x="5214960" y="257184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délník 12"/>
          <p:cNvSpPr/>
          <p:nvPr/>
        </p:nvSpPr>
        <p:spPr>
          <a:xfrm>
            <a:off x="5214960" y="29289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délník 13"/>
          <p:cNvSpPr/>
          <p:nvPr/>
        </p:nvSpPr>
        <p:spPr>
          <a:xfrm>
            <a:off x="5214960" y="3286080"/>
            <a:ext cx="3714840" cy="2858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4"/>
          <p:cNvSpPr/>
          <p:nvPr/>
        </p:nvSpPr>
        <p:spPr>
          <a:xfrm>
            <a:off x="5214960" y="4643280"/>
            <a:ext cx="3714840" cy="357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15"/>
          <p:cNvSpPr/>
          <p:nvPr/>
        </p:nvSpPr>
        <p:spPr>
          <a:xfrm>
            <a:off x="1428840" y="257184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6"/>
          <p:cNvSpPr/>
          <p:nvPr/>
        </p:nvSpPr>
        <p:spPr>
          <a:xfrm>
            <a:off x="5214960" y="50007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7"/>
          <p:cNvSpPr/>
          <p:nvPr/>
        </p:nvSpPr>
        <p:spPr>
          <a:xfrm>
            <a:off x="5214960" y="1785960"/>
            <a:ext cx="3714840" cy="4287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B0C3-E615-41C4-9EDF-691830C7C20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f3912c"/>
                </a:solidFill>
                <a:latin typeface="Calibri"/>
              </a:rPr>
              <a:t>Křížové financování/odpisy</a:t>
            </a:r>
            <a:endParaRPr b="1" lang="en-US" sz="46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7386840" cy="3857760"/>
          </a:xfrm>
          <a:prstGeom prst="rect">
            <a:avLst/>
          </a:prstGeom>
          <a:ln w="0">
            <a:noFill/>
          </a:ln>
        </p:spPr>
      </p:pic>
      <p:sp>
        <p:nvSpPr>
          <p:cNvPr id="212" name="Vývojový diagram: alternativní postup 8"/>
          <p:cNvSpPr/>
          <p:nvPr/>
        </p:nvSpPr>
        <p:spPr>
          <a:xfrm>
            <a:off x="1500120" y="4143240"/>
            <a:ext cx="735804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Vývojový diagram: alternativní postup 9"/>
          <p:cNvSpPr/>
          <p:nvPr/>
        </p:nvSpPr>
        <p:spPr>
          <a:xfrm>
            <a:off x="1500120" y="4572000"/>
            <a:ext cx="72867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79C-7943-4C56-BBAB-4DFF169FBD6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57200" y="242892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řízení nebo vybavení musí být používá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realizaci aktivit, na kterých se podílí cí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kupina (např. školení, výuka, praxe, prác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cvik atd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31CD-329D-4D23-9B81-9ECF10C69EB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13920" y="142848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0 tis. Kč za položku, pokud splňuje následující podmín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FB49-B52A-4339-A01A-6DDC522B3B3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38440"/>
            <a:ext cx="8215560" cy="761760"/>
          </a:xfrm>
          <a:prstGeom prst="rect">
            <a:avLst/>
          </a:prstGeom>
          <a:ln w="0">
            <a:noFill/>
          </a:ln>
        </p:spPr>
      </p:pic>
      <p:sp>
        <p:nvSpPr>
          <p:cNvPr id="223" name="TextovéPole 4"/>
          <p:cNvSpPr/>
          <p:nvPr/>
        </p:nvSpPr>
        <p:spPr>
          <a:xfrm>
            <a:off x="1285920" y="3000240"/>
            <a:ext cx="77151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íl výdajů této kapitoly – Místní kancelář na celkových způsobilých výdajích smí čini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žijní náklady v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smt.cz/strukturalnifondy/rezijni-naklady-op-v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Vývojový diagram: alternativní postup 5"/>
          <p:cNvSpPr/>
          <p:nvPr/>
        </p:nvSpPr>
        <p:spPr>
          <a:xfrm>
            <a:off x="778680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BF1E-7A8B-4448-A37A-9B85443FFBA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7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743120"/>
            <a:ext cx="7867800" cy="1149480"/>
          </a:xfrm>
          <a:prstGeom prst="rect">
            <a:avLst/>
          </a:prstGeom>
          <a:ln w="0">
            <a:noFill/>
          </a:ln>
        </p:spPr>
      </p:pic>
      <p:sp>
        <p:nvSpPr>
          <p:cNvPr id="228" name="TextovéPole 4"/>
          <p:cNvSpPr/>
          <p:nvPr/>
        </p:nvSpPr>
        <p:spPr>
          <a:xfrm>
            <a:off x="1285920" y="3286080"/>
            <a:ext cx="7715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ubytování v ČR – max. 1 200 Kč za osob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noc (případně nižší dle interních předpisů dané organizac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Vývojový diagram: alternativní postup 6"/>
          <p:cNvSpPr/>
          <p:nvPr/>
        </p:nvSpPr>
        <p:spPr>
          <a:xfrm>
            <a:off x="785808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EDB2-84A6-4B2E-AEE6-3ECDE9E79CD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285920" y="1730520"/>
            <a:ext cx="7858080" cy="58716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4"/>
          <p:cNvSpPr/>
          <p:nvPr/>
        </p:nvSpPr>
        <p:spPr>
          <a:xfrm>
            <a:off x="1571760" y="2500200"/>
            <a:ext cx="72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mí přesáhnout částku za všechny dokončené stavební úpravy v jednom zdaňovacím období v úhrnu 40 tis.  Kč (pořizovací cena) na každou jednotlivou účetní položku majet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224D-0458-49DC-9DFA-14E86F0CC5A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563840"/>
            <a:ext cx="7572240" cy="74268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4"/>
          <p:cNvSpPr/>
          <p:nvPr/>
        </p:nvSpPr>
        <p:spPr>
          <a:xfrm>
            <a:off x="1285920" y="2428920"/>
            <a:ext cx="78580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zároveň dle interních předpisů dané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Vývojový diagram: alternativní postup 5"/>
          <p:cNvSpPr/>
          <p:nvPr/>
        </p:nvSpPr>
        <p:spPr>
          <a:xfrm>
            <a:off x="7643880" y="1571760"/>
            <a:ext cx="642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A03A-58F3-4C3D-A057-D9B96C793B0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7715160" cy="749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4"/>
          <p:cNvSpPr/>
          <p:nvPr/>
        </p:nvSpPr>
        <p:spPr>
          <a:xfrm>
            <a:off x="1500120" y="285768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CE93-F1BA-44B9-9014-48563FD6500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246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248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43240"/>
            <a:ext cx="7232760" cy="586080"/>
          </a:xfrm>
          <a:prstGeom prst="rect">
            <a:avLst/>
          </a:prstGeom>
          <a:ln w="0">
            <a:noFill/>
          </a:ln>
        </p:spPr>
      </p:pic>
      <p:pic>
        <p:nvPicPr>
          <p:cNvPr id="249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29120"/>
            <a:ext cx="7189920" cy="208080"/>
          </a:xfrm>
          <a:prstGeom prst="rect">
            <a:avLst/>
          </a:prstGeom>
          <a:ln w="0">
            <a:noFill/>
          </a:ln>
        </p:spPr>
      </p:pic>
      <p:pic>
        <p:nvPicPr>
          <p:cNvPr id="250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286240"/>
            <a:ext cx="6929280" cy="214560"/>
          </a:xfrm>
          <a:prstGeom prst="rect">
            <a:avLst/>
          </a:prstGeom>
          <a:ln w="0">
            <a:noFill/>
          </a:ln>
        </p:spPr>
      </p:pic>
      <p:sp>
        <p:nvSpPr>
          <p:cNvPr id="251" name="Vývojový diagram: alternativní postup 9"/>
          <p:cNvSpPr/>
          <p:nvPr/>
        </p:nvSpPr>
        <p:spPr>
          <a:xfrm>
            <a:off x="6929280" y="5286240"/>
            <a:ext cx="78588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Vývojový diagram: alternativní postup 14"/>
          <p:cNvSpPr/>
          <p:nvPr/>
        </p:nvSpPr>
        <p:spPr>
          <a:xfrm>
            <a:off x="1357200" y="2500200"/>
            <a:ext cx="7000920" cy="14292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Vývojový diagram: alternativní postup 15"/>
          <p:cNvSpPr/>
          <p:nvPr/>
        </p:nvSpPr>
        <p:spPr>
          <a:xfrm>
            <a:off x="1428840" y="4143240"/>
            <a:ext cx="700092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Vývojový diagram: alternativní postup 16"/>
          <p:cNvSpPr/>
          <p:nvPr/>
        </p:nvSpPr>
        <p:spPr>
          <a:xfrm>
            <a:off x="1428840" y="3357720"/>
            <a:ext cx="7000920" cy="142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Vývojový diagram: alternativní postup 17"/>
          <p:cNvSpPr/>
          <p:nvPr/>
        </p:nvSpPr>
        <p:spPr>
          <a:xfrm>
            <a:off x="1428840" y="1714680"/>
            <a:ext cx="700092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2D42-1F9A-4F6E-B9A0-F456E76327F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1571760"/>
            <a:ext cx="76438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F3D7-6E5C-4F94-B50F-03D4ACD1B63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428480" y="18568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é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Základní pravidla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 způsobilost výdajů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199C-AF3E-4602-AC92-1BED6B11C79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P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65120" y="1160640"/>
            <a:ext cx="7564680" cy="4798800"/>
          </a:xfrm>
          <a:prstGeom prst="rect">
            <a:avLst/>
          </a:prstGeom>
          <a:ln w="0">
            <a:noFill/>
          </a:ln>
        </p:spPr>
      </p:pic>
      <p:sp>
        <p:nvSpPr>
          <p:cNvPr id="26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3D3E-C54C-41B6-9521-0AD6D4364C1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5CFD-A37A-461F-BE9B-5118BBEB452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285560" y="150012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5B14-12FA-49EC-85A1-778F8744D42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0866-66DE-4E13-9B17-91DB4C3D352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2D90-BE03-4B9E-82D8-F0940E9D453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6D90-8EE7-464C-B99A-45D7423677D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 Oblast příjmů je vždy upravena danou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0662-4620-4C60-A7BF-71C70F602D9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5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95FD-D508-4B56-88C5-5A487AB1662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332000" y="5286240"/>
            <a:ext cx="756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e mezd/platů v projektech OP V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vyse-mezd-platu-v-projektech-op-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1486080" y="1571760"/>
            <a:ext cx="7300800" cy="3643200"/>
          </a:xfrm>
          <a:prstGeom prst="rect">
            <a:avLst/>
          </a:prstGeom>
          <a:ln w="0">
            <a:noFill/>
          </a:ln>
        </p:spPr>
      </p:pic>
      <p:sp>
        <p:nvSpPr>
          <p:cNvPr id="1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63F7-797A-42AE-AD33-519C9F6355D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7691400" cy="4071960"/>
          </a:xfrm>
          <a:prstGeom prst="rect">
            <a:avLst/>
          </a:prstGeom>
          <a:ln w="0">
            <a:noFill/>
          </a:ln>
        </p:spPr>
      </p:pic>
      <p:sp>
        <p:nvSpPr>
          <p:cNvPr id="158" name="Vývojový diagram: alternativní postup 4"/>
          <p:cNvSpPr/>
          <p:nvPr/>
        </p:nvSpPr>
        <p:spPr>
          <a:xfrm>
            <a:off x="1428840" y="3429000"/>
            <a:ext cx="7715160" cy="28584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EA0F-2F1C-4345-9C0D-84F570208AC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7143840" cy="521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ealizační tým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1285920" y="62866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E9AC-246D-4B76-95D4-470105041D2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428840" y="2608200"/>
            <a:ext cx="7715160" cy="16909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popis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D0A3-FF6A-4B0F-8462-E8B46DD0C17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7645680" cy="3714840"/>
          </a:xfrm>
          <a:prstGeom prst="rect">
            <a:avLst/>
          </a:prstGeom>
          <a:ln w="0">
            <a:noFill/>
          </a:ln>
        </p:spPr>
      </p:pic>
      <p:sp>
        <p:nvSpPr>
          <p:cNvPr id="169" name="Vývojový diagram: alternativní postup 6"/>
          <p:cNvSpPr/>
          <p:nvPr/>
        </p:nvSpPr>
        <p:spPr>
          <a:xfrm>
            <a:off x="1357200" y="228600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0B90-73D5-4A37-8F7B-8E25D87C8A8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71760" y="928800"/>
            <a:ext cx="7000920" cy="521172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CFB3-B351-48CF-BAD6-FE919ABD11D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1:29:43Z</dcterms:modified>
  <cp:revision>83</cp:revision>
  <dc:subject/>
  <dc:title>Snímek 1</dc:title>
</cp:coreProperties>
</file>