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DBE2-7B15-4324-8FFD-FA69B33B1B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E60B-6117-4F52-90B2-9822C2148C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3650-52D3-47B1-B2C5-0AD6A3CC2F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2013-FB03-4102-B6E2-3FEAE60EAA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4CA1-1390-4ECA-B6EB-532B95B90C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0BE2-2DF2-40CF-A2DB-4407938925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D5EC-7392-4D23-93E8-9CFCBED68D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A4E4-E988-45F1-BD2C-A21F17B39F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7C15-5E7B-4F14-A8D1-783A88B9DB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6A27-41B8-4C4B-A890-981EA9D90B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DEFE-6BF8-42C4-8061-CAAC1BA5ABE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FD77-F1EB-4884-956F-4B1B6B650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2000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PhDr. Alena Tří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022B-3E7A-4DCC-ACA4-729C27FBC451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Oblast podpory 2.3 </a:t>
            </a:r>
            <a:br>
              <a:rPr sz="48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Lidské zdroje ve výzkumu a vývoj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6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FC1D-49F5-4DB3-9786-B19A87958CC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85920" y="1499760"/>
            <a:ext cx="75009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voj vzdělanostní společnosti za účelem posílení konkurenceschopnosti ČR prostřednictvím modernizace systémů vzdělávání a zlepšení podmínek ve výzkumu a vývo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P VK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85920" y="171468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62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valitnění personálního zabezpečení výzkumu a vývo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tupy: proškolené a podpořené oso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dukty-metodiky, vzdělávací progra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Cíl oblasti podpory 2.3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751F-60D9-4C57-A636-EF15706B36B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8556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dělá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bor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 oblasti řízení, popularizace a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tváření týmů, zapojení do mezinárodních sítí, intersektorální mobilita (krátkodobé odborné stáž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4000" indent="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ce se studenty (žáky) – motivace ke studiu a práci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odporované aktivit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E998-7D64-4E07-8825-44CFA9698475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285920" y="1000080"/>
            <a:ext cx="785808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ora vědecké práce studen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covníků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zdy pro pracovníky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vá pracovní místa ve V a 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dávání vědeckých publik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43380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louhodobé zahraniční 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64BD-36B2-4DA0-86B8-C6B7B871368C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285920" y="1714320"/>
            <a:ext cx="7858080" cy="35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im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l. město Pra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ad na cílovou skupinu mimo Prahu (např. studenti VŠ se sídlem v Praze studující na fakultě mimo Prah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0560" indent="-4665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ze občané ČR, osoby s trvalým pobyt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dopadu, cílové skupiny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51A9-E6CE-4FBD-B6F7-249B747A56D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85920" y="1714680"/>
            <a:ext cx="785808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lá ČR včetně hl. m.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tnerství: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44800" indent="-14436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ávnické osoby se sídlem v Č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Území realizace</a:t>
            </a:r>
            <a:endParaRPr b="1" lang="en-US" sz="4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107172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C112-FC15-42F0-8E59-6EDD51980D6E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8T16:04:16Z</dcterms:modified>
  <cp:revision>54</cp:revision>
  <dc:subject/>
  <dc:title>Snímek 1</dc:title>
</cp:coreProperties>
</file>