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5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98C0-7D43-497A-B98A-CA1E48231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B4C5-944B-401A-951D-2EAA39B3B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ástupný symbol pro datum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20.6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0A4A-36C6-4504-9A4A-CB05A02EF8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D9DE-1AFA-4C82-BFAF-710EA43856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854D-FE96-4FDB-9430-84B09D0AB1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08BFD-1531-412E-B340-646C2A8CE8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A2BB-F622-46ED-BABB-8033369F8C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A851-EE6B-44E8-A2C0-3A4747CF77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5692-3621-4FE5-A691-AC24C1E3AD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BEA5-BB54-40A9-8105-19C5433CA8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0FD3-24B1-495B-B848-97EA2A92FE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8C42-0166-43DC-8727-0C4A308412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CC41-9DD7-4184-93AB-A48DDEA680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D5F0-8012-424A-8A40-D1F68BE12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46" name="Zástupný symbol pro datum 3"/>
          <p:cNvSpPr/>
          <p:nvPr/>
        </p:nvSpPr>
        <p:spPr>
          <a:xfrm>
            <a:off x="1071720" y="5572080"/>
            <a:ext cx="8072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572160" y="6215040"/>
            <a:ext cx="235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20. listopadu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ástupný symbol pro datum 3"/>
          <p:cNvSpPr/>
          <p:nvPr/>
        </p:nvSpPr>
        <p:spPr>
          <a:xfrm>
            <a:off x="1500120" y="6215040"/>
            <a:ext cx="314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898989"/>
                </a:solidFill>
                <a:latin typeface="Calibri"/>
              </a:rPr>
              <a:t>Ing. Helena Viktorie Barboř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000080" y="0"/>
            <a:ext cx="252360" cy="6867360"/>
          </a:xfrm>
          <a:prstGeom prst="rect">
            <a:avLst/>
          </a:prstGeom>
          <a:gradFill rotWithShape="0">
            <a:gsLst>
              <a:gs pos="0">
                <a:srgbClr val="f3912c"/>
              </a:gs>
              <a:gs pos="100000">
                <a:srgbClr val="f9cc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 rot="16200000">
            <a:off x="-189360" y="5052240"/>
            <a:ext cx="271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365f91"/>
                </a:solidFill>
                <a:latin typeface="Arial Narrow"/>
              </a:rPr>
              <a:t>I N V E S T I C E   D O   R O Z V O J E   V Z D Ě L Á V Á N 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9" descr=""/>
          <p:cNvPicPr/>
          <p:nvPr/>
        </p:nvPicPr>
        <p:blipFill>
          <a:blip r:embed="rId2"/>
          <a:stretch/>
        </p:blipFill>
        <p:spPr>
          <a:xfrm>
            <a:off x="285840" y="3981600"/>
            <a:ext cx="598320" cy="2476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ldNum" idx="1"/>
          </p:nvPr>
        </p:nvSpPr>
        <p:spPr>
          <a:xfrm>
            <a:off x="1071360" y="6215040"/>
            <a:ext cx="807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A1BC-0074-4D90-8CBF-DA8C3480C76F}" type="slidenum">
              <a:rPr b="0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msmt.cz/strukturalnifondy/rezijni-naklady-op-vk" TargetMode="Externa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80010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endParaRPr b="1" lang="en-US" sz="72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klíčové aktivit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357200" y="1000080"/>
            <a:ext cx="7623360" cy="4797360"/>
          </a:xfrm>
          <a:prstGeom prst="rect">
            <a:avLst/>
          </a:prstGeom>
          <a:ln w="0">
            <a:noFill/>
          </a:ln>
        </p:spPr>
      </p:pic>
      <p:sp>
        <p:nvSpPr>
          <p:cNvPr id="17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4170-7EE3-4C5F-BA4D-AEB266CE7FD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 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Cestovní náhr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8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714680"/>
            <a:ext cx="7756560" cy="2071440"/>
          </a:xfrm>
          <a:prstGeom prst="rect">
            <a:avLst/>
          </a:prstGeom>
          <a:ln w="0">
            <a:noFill/>
          </a:ln>
        </p:spPr>
      </p:pic>
      <p:sp>
        <p:nvSpPr>
          <p:cNvPr id="179" name="TextovéPole 6"/>
          <p:cNvSpPr/>
          <p:nvPr/>
        </p:nvSpPr>
        <p:spPr>
          <a:xfrm>
            <a:off x="1285920" y="4071960"/>
            <a:ext cx="7286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nový lim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bytování v ČR – max. 1 200 Kč za osobu a noc a zároveň dle interních předpisů dané organizace, pokud jsou nižší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0DF5-A7F1-4B48-9E47-CF94B407E39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85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Cestovní náhrad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3280" y="1143000"/>
            <a:ext cx="7129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tatečně rozepsány v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líčových aktivitá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 projektové žádosti by se mělo vyčí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o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3912c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č tam jed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aniční služební cesty, které nejsou uvedeny ve schválené projektové žádosti, nebude možné vykon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63C5-3E2C-494B-809B-58B2F6E34AB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</a:t>
            </a: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47760" y="1857240"/>
            <a:ext cx="7896240" cy="2936880"/>
          </a:xfrm>
          <a:prstGeom prst="rect">
            <a:avLst/>
          </a:prstGeom>
          <a:ln w="0">
            <a:noFill/>
          </a:ln>
        </p:spPr>
      </p:pic>
      <p:sp>
        <p:nvSpPr>
          <p:cNvPr id="186" name="Vývojový diagram: alternativní postup 6"/>
          <p:cNvSpPr/>
          <p:nvPr/>
        </p:nvSpPr>
        <p:spPr>
          <a:xfrm>
            <a:off x="1357200" y="3786120"/>
            <a:ext cx="778680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0A9B-9F22-4CB1-8A64-75057D05516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Cestovní náhrady –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389240" y="1285920"/>
            <a:ext cx="7754760" cy="4529160"/>
          </a:xfrm>
          <a:prstGeom prst="rect">
            <a:avLst/>
          </a:prstGeom>
          <a:ln w="0">
            <a:noFill/>
          </a:ln>
        </p:spPr>
      </p:pic>
      <p:sp>
        <p:nvSpPr>
          <p:cNvPr id="19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B68A-54B7-494A-9890-E4FE21B11FC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Zaříze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85920" y="1689120"/>
            <a:ext cx="7858080" cy="285444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4"/>
          <p:cNvSpPr/>
          <p:nvPr/>
        </p:nvSpPr>
        <p:spPr>
          <a:xfrm>
            <a:off x="1285920" y="47862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íl výdajů na pořízení zařízení a vybavení na celkových způsobilých výdajích smí čini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jvýše 25 % včetně křížového financ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Vývojový diagram: alternativní postup 6"/>
          <p:cNvSpPr/>
          <p:nvPr/>
        </p:nvSpPr>
        <p:spPr>
          <a:xfrm>
            <a:off x="7858080" y="1643040"/>
            <a:ext cx="428760" cy="2253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EB98-9E9C-4B3C-8C74-7A094BDCFF6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7547040" cy="3714480"/>
          </a:xfrm>
          <a:prstGeom prst="rect">
            <a:avLst/>
          </a:prstGeom>
          <a:ln w="0">
            <a:noFill/>
          </a:ln>
        </p:spPr>
      </p:pic>
      <p:sp>
        <p:nvSpPr>
          <p:cNvPr id="198" name="Vývojový diagram: alternativní postup 6"/>
          <p:cNvSpPr/>
          <p:nvPr/>
        </p:nvSpPr>
        <p:spPr>
          <a:xfrm>
            <a:off x="1427040" y="3571920"/>
            <a:ext cx="7500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0182-2B9A-4B8B-8E2E-E614D991C97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365120" y="2357280"/>
            <a:ext cx="7778880" cy="16383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Zařízení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CD85-289B-4A47-B8E1-A74B138BFE1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285920" y="1500120"/>
            <a:ext cx="7702560" cy="4022640"/>
          </a:xfrm>
          <a:prstGeom prst="rect">
            <a:avLst/>
          </a:prstGeom>
          <a:ln w="0">
            <a:noFill/>
          </a:ln>
        </p:spPr>
      </p:pic>
      <p:sp>
        <p:nvSpPr>
          <p:cNvPr id="205" name="Vývojový diagram: alternativní postup 6"/>
          <p:cNvSpPr/>
          <p:nvPr/>
        </p:nvSpPr>
        <p:spPr>
          <a:xfrm>
            <a:off x="1357200" y="507204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B831-174F-4E4E-9249-D09B3F43AD1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Zařízení </a:t>
            </a: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–</a:t>
            </a: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 klíčové aktivity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672A-2903-46B2-B2F0-F45EADE8828C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285920" y="1143000"/>
            <a:ext cx="7743960" cy="47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8580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provázanost 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v projektové žádosti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1440000" y="1785960"/>
            <a:ext cx="7489800" cy="4275000"/>
          </a:xfrm>
          <a:prstGeom prst="rect">
            <a:avLst/>
          </a:prstGeom>
          <a:ln w="0">
            <a:noFill/>
          </a:ln>
        </p:spPr>
      </p:pic>
      <p:sp>
        <p:nvSpPr>
          <p:cNvPr id="137" name="Obdélník 6"/>
          <p:cNvSpPr/>
          <p:nvPr/>
        </p:nvSpPr>
        <p:spPr>
          <a:xfrm>
            <a:off x="1428840" y="29289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428840" y="357192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8"/>
          <p:cNvSpPr/>
          <p:nvPr/>
        </p:nvSpPr>
        <p:spPr>
          <a:xfrm>
            <a:off x="1428840" y="500076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bdélník 9"/>
          <p:cNvSpPr/>
          <p:nvPr/>
        </p:nvSpPr>
        <p:spPr>
          <a:xfrm>
            <a:off x="1428840" y="571500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bdélník 10"/>
          <p:cNvSpPr/>
          <p:nvPr/>
        </p:nvSpPr>
        <p:spPr>
          <a:xfrm>
            <a:off x="5214960" y="221472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bdélník 11"/>
          <p:cNvSpPr/>
          <p:nvPr/>
        </p:nvSpPr>
        <p:spPr>
          <a:xfrm>
            <a:off x="5214960" y="257184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bdélník 12"/>
          <p:cNvSpPr/>
          <p:nvPr/>
        </p:nvSpPr>
        <p:spPr>
          <a:xfrm>
            <a:off x="5214960" y="29289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bdélník 13"/>
          <p:cNvSpPr/>
          <p:nvPr/>
        </p:nvSpPr>
        <p:spPr>
          <a:xfrm>
            <a:off x="5214960" y="3286080"/>
            <a:ext cx="3714840" cy="2858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4"/>
          <p:cNvSpPr/>
          <p:nvPr/>
        </p:nvSpPr>
        <p:spPr>
          <a:xfrm>
            <a:off x="5214960" y="4643280"/>
            <a:ext cx="3714840" cy="35748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bdélník 15"/>
          <p:cNvSpPr/>
          <p:nvPr/>
        </p:nvSpPr>
        <p:spPr>
          <a:xfrm>
            <a:off x="1428840" y="2571840"/>
            <a:ext cx="378612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6"/>
          <p:cNvSpPr/>
          <p:nvPr/>
        </p:nvSpPr>
        <p:spPr>
          <a:xfrm>
            <a:off x="5214960" y="5000760"/>
            <a:ext cx="3714840" cy="35712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7"/>
          <p:cNvSpPr/>
          <p:nvPr/>
        </p:nvSpPr>
        <p:spPr>
          <a:xfrm>
            <a:off x="5214960" y="1785960"/>
            <a:ext cx="3714840" cy="4287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83D1-B103-4030-A6C7-CB8103741B2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f3912c"/>
                </a:solidFill>
                <a:latin typeface="Calibri"/>
              </a:rPr>
              <a:t>Křížové financování/odpisy</a:t>
            </a:r>
            <a:endParaRPr b="1" lang="en-US" sz="46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7386840" cy="3857760"/>
          </a:xfrm>
          <a:prstGeom prst="rect">
            <a:avLst/>
          </a:prstGeom>
          <a:ln w="0">
            <a:noFill/>
          </a:ln>
        </p:spPr>
      </p:pic>
      <p:sp>
        <p:nvSpPr>
          <p:cNvPr id="212" name="Vývojový diagram: alternativní postup 8"/>
          <p:cNvSpPr/>
          <p:nvPr/>
        </p:nvSpPr>
        <p:spPr>
          <a:xfrm>
            <a:off x="1500120" y="4143240"/>
            <a:ext cx="735804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Vývojový diagram: alternativní postup 9"/>
          <p:cNvSpPr/>
          <p:nvPr/>
        </p:nvSpPr>
        <p:spPr>
          <a:xfrm>
            <a:off x="1500120" y="4572000"/>
            <a:ext cx="72867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7C44-D59D-4E54-8F31-1001F467A0E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57200" y="2428920"/>
            <a:ext cx="77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řízení nebo vybavení musí být používá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 realizaci aktivit, na kterých se podílí cí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kupina (např. školení, výuka, praxe, prác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cvik atd.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2799-E159-45A2-BA58-1C111536FBE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1360" y="285840"/>
            <a:ext cx="80722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Křížové financování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13920" y="1428480"/>
            <a:ext cx="79297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kup zařízení a vybavení hmotné povahy s dobou použitelnosti nad 1 rok a pořizovací cenou nad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40 tis. Kč za položku, pokud splňuje následující podmín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e na nábytek bez ohledu na výši pořizovací cen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y, které jsou rekonstrukcí nebo modernizací, pokud převýšily u jednotlivého majetku v úhrnu ve zdaňovacím období částku 40 tis. Kč a jsou prováděny za účelem usnadnění přístupu a pohybu osobám zdravotně postiženým, nebo úpravy výukových, tréninkových nebo pracovních prostor, používaných na realizaci aktivit s cílovou skupino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8616-E05E-40EE-8E90-F4FE2E845F6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Místní kancelář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2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357200" y="1738440"/>
            <a:ext cx="8215560" cy="761760"/>
          </a:xfrm>
          <a:prstGeom prst="rect">
            <a:avLst/>
          </a:prstGeom>
          <a:ln w="0">
            <a:noFill/>
          </a:ln>
        </p:spPr>
      </p:pic>
      <p:sp>
        <p:nvSpPr>
          <p:cNvPr id="223" name="TextovéPole 4"/>
          <p:cNvSpPr/>
          <p:nvPr/>
        </p:nvSpPr>
        <p:spPr>
          <a:xfrm>
            <a:off x="1285920" y="3000240"/>
            <a:ext cx="771516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íl výdajů této kapitoly – Místní kancelář na celkových způsobilých výdajích smí čini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jvýše 8 %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žijní náklady v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msmt.cz/strukturalnifondy/rezijni-naklady-op-v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Vývojový diagram: alternativní postup 5"/>
          <p:cNvSpPr/>
          <p:nvPr/>
        </p:nvSpPr>
        <p:spPr>
          <a:xfrm>
            <a:off x="778680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2A78-DA45-4C2F-9E85-5EC73C089EA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up služeb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27" name="Zástupný symbol pro obsah 4" descr="04_zadost34_2_crop.jpg"/>
          <p:cNvPicPr/>
          <p:nvPr/>
        </p:nvPicPr>
        <p:blipFill>
          <a:blip r:embed="rId1"/>
          <a:stretch/>
        </p:blipFill>
        <p:spPr>
          <a:xfrm>
            <a:off x="1276200" y="1743120"/>
            <a:ext cx="7867800" cy="1149480"/>
          </a:xfrm>
          <a:prstGeom prst="rect">
            <a:avLst/>
          </a:prstGeom>
          <a:ln w="0">
            <a:noFill/>
          </a:ln>
        </p:spPr>
      </p:pic>
      <p:sp>
        <p:nvSpPr>
          <p:cNvPr id="228" name="TextovéPole 4"/>
          <p:cNvSpPr/>
          <p:nvPr/>
        </p:nvSpPr>
        <p:spPr>
          <a:xfrm>
            <a:off x="1285920" y="3286080"/>
            <a:ext cx="7715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íl nákupu služeb na celkových způsobilých výdajích smí činit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jvýše 49 %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enový limi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bčerstve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travné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celodenní občerstvení max. 300 Kč na osobu, částka se bude krátit při necelodenních akcí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bytování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ubytování v ČR – max. 1 200 Kč za osob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noc (případně nižší dle interních předpisů dané organizac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Vývojový diagram: alternativní postup 6"/>
          <p:cNvSpPr/>
          <p:nvPr/>
        </p:nvSpPr>
        <p:spPr>
          <a:xfrm>
            <a:off x="7858080" y="1714680"/>
            <a:ext cx="50004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CB24-38F4-43AB-ACFA-50118B17A8B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tavební úpra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2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285920" y="1730520"/>
            <a:ext cx="7858080" cy="587160"/>
          </a:xfrm>
          <a:prstGeom prst="rect">
            <a:avLst/>
          </a:prstGeom>
          <a:ln w="0">
            <a:noFill/>
          </a:ln>
        </p:spPr>
      </p:pic>
      <p:sp>
        <p:nvSpPr>
          <p:cNvPr id="233" name="TextovéPole 4"/>
          <p:cNvSpPr/>
          <p:nvPr/>
        </p:nvSpPr>
        <p:spPr>
          <a:xfrm>
            <a:off x="1571760" y="2500200"/>
            <a:ext cx="721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smí přesáhnout částku za všechny dokončené stavební úpravy v jednom zdaňovacím období v úhrnu 40 tis.  Kč (pořizovací cena) na každou jednotlivou účetní položku majet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f7964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vební úprava musí být provedena v souvislosti s úpravou pracovního místa nebo úpravou přístupu pro osoby se zdravotním postižením nebo úpravy výukových, tréninkových nebo pracovních prostor používaných na realizaci aktivit s cílovou skup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5D32-3BF8-4D26-A271-EBEE0BCAF2EF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ímá podpora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36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563840"/>
            <a:ext cx="7572240" cy="74268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4"/>
          <p:cNvSpPr/>
          <p:nvPr/>
        </p:nvSpPr>
        <p:spPr>
          <a:xfrm>
            <a:off x="1285920" y="2428920"/>
            <a:ext cx="78580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zdové příspěvk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sou poskytovány jako náhrada mzdy zaměstnavateli (ve výši hrubé mzdy včetně zákonných odvodů) pro pracovníka po dobu jeho účasti na dalším vzdělávání; mzdové náhrady se budou týkat pouze pedagogických, akademických a dalších pracovníků ve školství, a to maximálně do výše 70 % mzdových náhr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bytování, stravov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bytování v ČR – max. 1 200 Kč za osobu a noc (případně nižší dle interních předpisů dané organiz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avné – celodenní občerstvení max. 300 Kč na osobu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zároveň dle interních předpisů dané organiz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daje na přímou podporu jednotlivců mohou být poskytován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jvýše do 20%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celkových způsobilých výdaj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Vývojový diagram: alternativní postup 5"/>
          <p:cNvSpPr/>
          <p:nvPr/>
        </p:nvSpPr>
        <p:spPr>
          <a:xfrm>
            <a:off x="7643880" y="1571760"/>
            <a:ext cx="64296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368E-4572-4A20-B939-E218DEE873A5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áklady vyplývající přímo ze smlouv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1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428840" y="1857240"/>
            <a:ext cx="7715160" cy="749520"/>
          </a:xfrm>
          <a:prstGeom prst="rect">
            <a:avLst/>
          </a:prstGeom>
          <a:ln w="0">
            <a:noFill/>
          </a:ln>
        </p:spPr>
      </p:pic>
      <p:sp>
        <p:nvSpPr>
          <p:cNvPr id="242" name="TextovéPole 4"/>
          <p:cNvSpPr/>
          <p:nvPr/>
        </p:nvSpPr>
        <p:spPr>
          <a:xfrm>
            <a:off x="1500120" y="2857680"/>
            <a:ext cx="714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případě, že rozpočet projektu je roven nebo vyšší než 3 000 000 Kč, je příjemce povinen zadat vybrané auditorské firmě zpracování závěrečného aud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7BC3-69BE-4E51-A42E-E11AD7652CA4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Souhrn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45" name="Zástupný symbol pro obsah 4" descr="04_zadost34_3_crop.jpg"/>
          <p:cNvPicPr/>
          <p:nvPr/>
        </p:nvPicPr>
        <p:blipFill>
          <a:blip r:embed="rId1"/>
          <a:stretch/>
        </p:blipFill>
        <p:spPr>
          <a:xfrm>
            <a:off x="1357200" y="1714680"/>
            <a:ext cx="7272360" cy="539640"/>
          </a:xfrm>
          <a:prstGeom prst="rect">
            <a:avLst/>
          </a:prstGeom>
          <a:ln w="0">
            <a:noFill/>
          </a:ln>
        </p:spPr>
      </p:pic>
      <p:pic>
        <p:nvPicPr>
          <p:cNvPr id="246" name="Zástupný symbol pro obsah 4" descr="04_zadost34_3_crop.jpg"/>
          <p:cNvPicPr/>
          <p:nvPr/>
        </p:nvPicPr>
        <p:blipFill>
          <a:blip r:embed="rId2"/>
          <a:stretch/>
        </p:blipFill>
        <p:spPr>
          <a:xfrm>
            <a:off x="1322280" y="2476440"/>
            <a:ext cx="7392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Zástupný symbol pro obsah 4" descr="04_zadost34_3_crop.jpg"/>
          <p:cNvPicPr/>
          <p:nvPr/>
        </p:nvPicPr>
        <p:blipFill>
          <a:blip r:embed="rId3"/>
          <a:stretch/>
        </p:blipFill>
        <p:spPr>
          <a:xfrm>
            <a:off x="1357200" y="3344760"/>
            <a:ext cx="7358040" cy="527040"/>
          </a:xfrm>
          <a:prstGeom prst="rect">
            <a:avLst/>
          </a:prstGeom>
          <a:ln w="0">
            <a:noFill/>
          </a:ln>
        </p:spPr>
      </p:pic>
      <p:pic>
        <p:nvPicPr>
          <p:cNvPr id="248" name="Zástupný symbol pro obsah 4" descr="04_zadost34_3_crop.jpg"/>
          <p:cNvPicPr/>
          <p:nvPr/>
        </p:nvPicPr>
        <p:blipFill>
          <a:blip r:embed="rId4"/>
          <a:stretch/>
        </p:blipFill>
        <p:spPr>
          <a:xfrm>
            <a:off x="1357200" y="4143240"/>
            <a:ext cx="7232760" cy="586080"/>
          </a:xfrm>
          <a:prstGeom prst="rect">
            <a:avLst/>
          </a:prstGeom>
          <a:ln w="0">
            <a:noFill/>
          </a:ln>
        </p:spPr>
      </p:pic>
      <p:pic>
        <p:nvPicPr>
          <p:cNvPr id="249" name="Zástupný symbol pro obsah 4" descr="04_zadost34_3_crop.jpg"/>
          <p:cNvPicPr/>
          <p:nvPr/>
        </p:nvPicPr>
        <p:blipFill>
          <a:blip r:embed="rId5"/>
          <a:stretch/>
        </p:blipFill>
        <p:spPr>
          <a:xfrm>
            <a:off x="1382760" y="4929120"/>
            <a:ext cx="7189920" cy="208080"/>
          </a:xfrm>
          <a:prstGeom prst="rect">
            <a:avLst/>
          </a:prstGeom>
          <a:ln w="0">
            <a:noFill/>
          </a:ln>
        </p:spPr>
      </p:pic>
      <p:pic>
        <p:nvPicPr>
          <p:cNvPr id="250" name="Zástupný symbol pro obsah 4" descr="04_zadost34_3_crop.jpg"/>
          <p:cNvPicPr/>
          <p:nvPr/>
        </p:nvPicPr>
        <p:blipFill>
          <a:blip r:embed="rId6"/>
          <a:stretch/>
        </p:blipFill>
        <p:spPr>
          <a:xfrm>
            <a:off x="1428840" y="5286240"/>
            <a:ext cx="6929280" cy="214560"/>
          </a:xfrm>
          <a:prstGeom prst="rect">
            <a:avLst/>
          </a:prstGeom>
          <a:ln w="0">
            <a:noFill/>
          </a:ln>
        </p:spPr>
      </p:pic>
      <p:sp>
        <p:nvSpPr>
          <p:cNvPr id="251" name="Vývojový diagram: alternativní postup 9"/>
          <p:cNvSpPr/>
          <p:nvPr/>
        </p:nvSpPr>
        <p:spPr>
          <a:xfrm>
            <a:off x="6929280" y="5286240"/>
            <a:ext cx="78588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Vývojový diagram: alternativní postup 14"/>
          <p:cNvSpPr/>
          <p:nvPr/>
        </p:nvSpPr>
        <p:spPr>
          <a:xfrm>
            <a:off x="1357200" y="2500200"/>
            <a:ext cx="7000920" cy="14292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Vývojový diagram: alternativní postup 15"/>
          <p:cNvSpPr/>
          <p:nvPr/>
        </p:nvSpPr>
        <p:spPr>
          <a:xfrm>
            <a:off x="1428840" y="4143240"/>
            <a:ext cx="7000920" cy="214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Vývojový diagram: alternativní postup 16"/>
          <p:cNvSpPr/>
          <p:nvPr/>
        </p:nvSpPr>
        <p:spPr>
          <a:xfrm>
            <a:off x="1428840" y="3357720"/>
            <a:ext cx="7000920" cy="14256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Vývojový diagram: alternativní postup 17"/>
          <p:cNvSpPr/>
          <p:nvPr/>
        </p:nvSpPr>
        <p:spPr>
          <a:xfrm>
            <a:off x="1428840" y="1714680"/>
            <a:ext cx="700092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2EF1-8980-4511-B594-F99BA6F95E4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85560" y="1571760"/>
            <a:ext cx="76438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PH není způsobilým výdajem, pokud příjemce plnění má v tomto případě nárok na odpočet DPH na vstupu. Nárok na odpočet DPH je vymezen zákonem č. 235/2004 Sb., o dani z přidané hodnoty, ve znění pozdějších předpisů (dále jen „zákon o DPH“). Přičemž se způsobilost DPH vztahuje pouze na tu část plnění, které je samo způsobilým výdaj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, které jsou plátci DPH (osobami registrovanými k DPH), je způsobilým výdajem ta část DPH, na kterou není u daného přijatého plnění nárok na odpočet v souladu se zákonem o DP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eplátce DP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 osoby neregistrované k DPH je daň z přidané hodnoty způsobilým výdajem, neboť tyto osoby si nemohou nárokovat odpočet DPH na vstup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DPH a jiné daně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59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EAE8-335C-47FA-A090-086A392ED3B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428480" y="1856880"/>
            <a:ext cx="77151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iměřen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podár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účel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fektiv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rokazatelné výdaj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tum uskuteč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Základní pravidla </a:t>
            </a:r>
            <a:br>
              <a:rPr sz="4000"/>
            </a:b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pro způsobilost výdajů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D042-A9A4-420D-93DF-F0F6618956B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PH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365120" y="1160640"/>
            <a:ext cx="7564680" cy="4798800"/>
          </a:xfrm>
          <a:prstGeom prst="rect">
            <a:avLst/>
          </a:prstGeom>
          <a:ln w="0">
            <a:noFill/>
          </a:ln>
        </p:spPr>
      </p:pic>
      <p:sp>
        <p:nvSpPr>
          <p:cNvPr id="26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34DB-7F7A-4D7F-9336-CA2C4908D33D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357200" y="157140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upy vozidel, infrastruktury, nemovitostí a pozemků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úroky z úvěrů a půjček, pokud se nejedná o schválenou formu podpory z fondu ESF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rávní poplatky (výpis z katastru nemovitostí, výpis z obchodního rejstříku apod.) bez přímé vazby na projek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udit v případě projektů s rozpočty nižšími než 3 mil. Kč vč. DP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zervy na možné budoucí ztráty a dluh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rzové ztrá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finančního leasing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látky operativního leasingu související s nájmem vybavení a zařízení, které nebude výhradně využíváno pro potřeby cílové skupiny (např. vozidel pro potřeby realizačního týmu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jemné, kdy je žadatel vlastníkem nemovitosti nebo ji užívá zdarma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5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503E-B18F-4C82-93B8-92D56A4232F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285560" y="1500120"/>
            <a:ext cx="76438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ást pořizovací ceny přesahující cenu zjištěnou znaleckým posudkem nebo přesahující cenu v místě a čase obvyklo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žijní náklady vztahující se k všeobecnému provozu organizace bez vazby na projek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 zaměstnanců, kteří se na realizaci projektu podílí, alikvotní část osobních nákladů, která neodpovídá pracovnímu vytížení zaměstnance na daném projekt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přípravou a řízením projektu (např. platby konzultantům, kteří pomáhají s vyplňováním žádostí o finanční podporu z OP VK, s vyplňováním monitorovacích zpráv a žádostí o platby) v případě, že se jedná o externího dodavate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spojené s administrací veřejných zakázek malého rozsahu, tzn. jejichž zadání se neřídí zákonem č. 137/2006 Sb., o veřejných zakázkách, ale postupy stanovenými Příručkou pro žadatele a Příručkou pro příjem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3912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daje na činnosti prováděné jakožto povinné ze zák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Nezpůsobilé výdaje – například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E106-C54A-4F82-81F5-EA345932F1D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360" y="1142640"/>
            <a:ext cx="807228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1F77-1307-4CD2-A813-A93725BD51B0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28592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3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částky předpokládaných způsobilých výdajů za každé monitorovací období realiz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tum první platby se uvádí 3 měsíce od předpokládaného termínu vydání rozhodnutí o poskytnutí dot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14B6-4C65-43AC-8792-4BC2974F07A6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Zástupný symbol pro obsah 4" descr="04_zadost40_crop.jpg"/>
          <p:cNvPicPr/>
          <p:nvPr/>
        </p:nvPicPr>
        <p:blipFill>
          <a:blip r:embed="rId1"/>
          <a:srcRect l="2700" t="3817" r="0" b="0"/>
          <a:stretch/>
        </p:blipFill>
        <p:spPr>
          <a:xfrm>
            <a:off x="1428840" y="1643040"/>
            <a:ext cx="5037120" cy="307188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 Harmonogram čerp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77" name="Obdélník se zakulaceným příčným rohem 5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čet částek za všechny uvedené předpokládané platby se musí rovnat  celkové výši dot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3D0E-85CA-464E-840C-23A0BC891B71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1" name="Obdélník se zakulaceným příčným rohem 10"/>
          <p:cNvSpPr/>
          <p:nvPr/>
        </p:nvSpPr>
        <p:spPr>
          <a:xfrm>
            <a:off x="6072120" y="1571760"/>
            <a:ext cx="2857680" cy="4357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veďte příjmy, které vzniknou v době realizace projektu v bezprostřední souvislosti s jeho realizac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tří sem výnosy žadatele i partnerů získané díky tomu, že budou v rámci projektu poskytovat služby za úplatu, např. kurzov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, že projekt nebude generovat příjmy, vyplní se 0. Oblast příjmů je vždy upravena danou výzv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8652-1331-4B65-BBA0-9C8A5B42A33B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Obrázek 8" descr="xxx_rozpadFinanci.jpg"/>
          <p:cNvPicPr/>
          <p:nvPr/>
        </p:nvPicPr>
        <p:blipFill>
          <a:blip r:embed="rId1"/>
          <a:stretch/>
        </p:blipFill>
        <p:spPr>
          <a:xfrm>
            <a:off x="1357200" y="1571760"/>
            <a:ext cx="4857840" cy="3843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Finanční toky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Přehled financování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85" name="Obdélník se zakulaceným příčným rohem 10"/>
          <p:cNvSpPr/>
          <p:nvPr/>
        </p:nvSpPr>
        <p:spPr>
          <a:xfrm>
            <a:off x="6215040" y="1928880"/>
            <a:ext cx="2714760" cy="4000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pad financí je závislý na záložkách: Projekt, Žadatel projektu, Rozpočet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, když provedete změny v těchto záložkách, proveďte znovu rozpad finan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A027-BF7D-4D3A-9FE1-408FA73153E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Rozpočet projektu</a:t>
            </a:r>
            <a:br>
              <a:rPr sz="4000"/>
            </a:br>
            <a:r>
              <a:rPr b="1" lang="cs-CZ" sz="3200" spc="-1" strike="noStrike">
                <a:solidFill>
                  <a:srgbClr val="bfbfbf"/>
                </a:solidFill>
                <a:latin typeface="Calibri"/>
              </a:rPr>
              <a:t>Osobní náklady</a:t>
            </a:r>
            <a:endParaRPr b="1" lang="en-US" sz="32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332000" y="5286240"/>
            <a:ext cx="756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e mezd/platů v projektech OP V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vyse-mezd-platu-v-projektech-op-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1486080" y="1571760"/>
            <a:ext cx="7300800" cy="3643200"/>
          </a:xfrm>
          <a:prstGeom prst="rect">
            <a:avLst/>
          </a:prstGeom>
          <a:ln w="0">
            <a:noFill/>
          </a:ln>
        </p:spPr>
      </p:pic>
      <p:sp>
        <p:nvSpPr>
          <p:cNvPr id="15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9201-20F9-4A30-B001-7506D89A368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7691400" cy="4071960"/>
          </a:xfrm>
          <a:prstGeom prst="rect">
            <a:avLst/>
          </a:prstGeom>
          <a:ln w="0">
            <a:noFill/>
          </a:ln>
        </p:spPr>
      </p:pic>
      <p:sp>
        <p:nvSpPr>
          <p:cNvPr id="158" name="Vývojový diagram: alternativní postup 4"/>
          <p:cNvSpPr/>
          <p:nvPr/>
        </p:nvSpPr>
        <p:spPr>
          <a:xfrm>
            <a:off x="1428840" y="3429000"/>
            <a:ext cx="7715160" cy="28584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CF36-9DF3-4A49-B72C-B2B1415B967E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7143840" cy="521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85920" y="28548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realizační tým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1285920" y="628668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B3B0-78D4-4450-946D-52483F99B052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428840" y="2608200"/>
            <a:ext cx="7715160" cy="16909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5560" y="28548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. Osobní náklady – popis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FD70-3637-413E-A10F-60EE4D3ED758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3912c"/>
                </a:solidFill>
                <a:latin typeface="Calibri"/>
              </a:rPr>
              <a:t>II. Osobní náklady – rozpočet projektu</a:t>
            </a:r>
            <a:endParaRPr b="1" lang="en-US" sz="38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7645680" cy="3714840"/>
          </a:xfrm>
          <a:prstGeom prst="rect">
            <a:avLst/>
          </a:prstGeom>
          <a:ln w="0">
            <a:noFill/>
          </a:ln>
        </p:spPr>
      </p:pic>
      <p:sp>
        <p:nvSpPr>
          <p:cNvPr id="169" name="Vývojový diagram: alternativní postup 6"/>
          <p:cNvSpPr/>
          <p:nvPr/>
        </p:nvSpPr>
        <p:spPr>
          <a:xfrm>
            <a:off x="1357200" y="2286000"/>
            <a:ext cx="7572600" cy="214200"/>
          </a:xfrm>
          <a:prstGeom prst="flowChartAlternateProcess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FC73-F433-4E77-BB91-2ADF7F9BE5B7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II. Osobní náklady – realizační tým</a:t>
            </a:r>
            <a:endParaRPr b="1" lang="en-US" sz="4000" spc="-1" strike="noStrike">
              <a:solidFill>
                <a:srgbClr val="f3912c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71760" y="928800"/>
            <a:ext cx="7000920" cy="521172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3"/>
          <p:cNvSpPr/>
          <p:nvPr/>
        </p:nvSpPr>
        <p:spPr>
          <a:xfrm>
            <a:off x="1285920" y="6215040"/>
            <a:ext cx="785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A471-0C88-4428-9FF4-8169AE861C9A}" type="slidenum">
              <a:rPr b="0" i="1" lang="cs-CZ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08:18:17Z</dcterms:created>
  <dc:creator>mencloval</dc:creator>
  <dc:description/>
  <dc:language>en-US</dc:language>
  <cp:lastModifiedBy>lenka menclová</cp:lastModifiedBy>
  <dcterms:modified xsi:type="dcterms:W3CDTF">2008-11-19T11:29:43Z</dcterms:modified>
  <cp:revision>83</cp:revision>
  <dc:subject/>
  <dc:title>Snímek 1</dc:title>
</cp:coreProperties>
</file>