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F6833-D6BA-4404-A830-FD7EFE313D7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99E3D-8BC6-4F1B-916D-307644BC2C3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489FF-4B55-4E7C-ACC4-F8A026B2148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59EDE-CE72-4F22-82DC-CFA7CDA3A18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59632-3826-45A9-9E40-72DD71B664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0D1A8-C13B-41AD-8227-3DBA9583D15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FED3B-B894-418D-B30E-9351E9E2C59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A98FC-AAD5-4D59-B203-82BA7D09A63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A8E80-4E4D-4988-B491-2400A0AEF6F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18921-2AB5-47A0-8ED9-C7D07491EED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CD510-6DA5-44CC-AFF6-067F4C23DB8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A702E-75D3-480A-BBCE-3BD3F63DDE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ástupný symbol pro datum 3"/>
          <p:cNvSpPr/>
          <p:nvPr/>
        </p:nvSpPr>
        <p:spPr>
          <a:xfrm>
            <a:off x="6572160" y="6215040"/>
            <a:ext cx="235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PhDr. Alena Tříšk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ástupný symbol pro datum 3"/>
          <p:cNvSpPr/>
          <p:nvPr/>
        </p:nvSpPr>
        <p:spPr>
          <a:xfrm>
            <a:off x="6572160" y="6215040"/>
            <a:ext cx="235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PhDr. Alena Tříšk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46" name="Zástupný symbol pro datum 3"/>
          <p:cNvSpPr/>
          <p:nvPr/>
        </p:nvSpPr>
        <p:spPr>
          <a:xfrm>
            <a:off x="1071720" y="55720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Calibri"/>
              </a:rPr>
              <a:t>Ministerstvo školství, mládeže a tělových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pro datum 3"/>
          <p:cNvSpPr/>
          <p:nvPr/>
        </p:nvSpPr>
        <p:spPr>
          <a:xfrm>
            <a:off x="6572160" y="6215040"/>
            <a:ext cx="235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PhDr. Alena Tříšk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sldNum" idx="1"/>
          </p:nvPr>
        </p:nvSpPr>
        <p:spPr>
          <a:xfrm>
            <a:off x="107136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75DA-FA8C-4F9D-8CA1-2A8F31F8775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edit the title text forma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3912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Oblast podpory 2.3 </a:t>
            </a:r>
            <a:br>
              <a:rPr sz="4800"/>
            </a:b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Lidské zdroje ve výzkumu a vývoji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Zástupný symbol pro číslo snímku 6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5AD3-C264-4AC0-A3B8-87BB6B05D1B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285920" y="1499760"/>
            <a:ext cx="7500960" cy="27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ozvoj vzdělanostní společnosti za účelem posílení konkurenceschopnosti ČR prostřednictvím modernizace systémů vzdělávání a zlepšení podmínek ve výzkumu a vývoj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Cíl OP VK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285920" y="1714680"/>
            <a:ext cx="78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62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kvalitnění personálního zabezpečení výzkumu a vývo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2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stupy: proškolené a podpořené oso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dukty-metodiky, vzdělávací progra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Cíl oblasti podpory 2.3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3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2736-7345-4E00-B4BA-40D94DD4470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285560" y="1142640"/>
            <a:ext cx="77151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An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4000" indent="46656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zdělá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4000" indent="466560"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born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24000" indent="466560"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 oblasti řízení, popularizace a komunik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24000" indent="46656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tváření týmů, zapojení do mezinárodních sítí, intersektorální mobilita (krátkodobé odborné stáž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4000" indent="46656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áce se studenty (žáky) – motivace ke studiu a práci ve V a 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odporované aktivity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65DC-FBC6-4BDB-83F3-8CA4287ED17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285920" y="1000080"/>
            <a:ext cx="785808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01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N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43380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pora vědecké práce studentů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covníků V a 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43380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zdy pro pracovníky V a 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43380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ová pracovní místa ve V a 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43380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dávání vědeckých publikac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43380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louhodobé zahraniční stáž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86D1-577A-4ECC-822B-E2B0F9EB43D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285920" y="1714320"/>
            <a:ext cx="7858080" cy="35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90560" indent="-46656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elá ČR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mimo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hl. město Pra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90560" indent="-46656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pad na cílovou skupinu mimo Prahu (např. studenti VŠ se sídlem v Praze studující na fakultě mimo Prah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90560" indent="-46656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uze občané ČR, osoby s trvalým pobytem v Č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85920" y="285840"/>
            <a:ext cx="78580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Území dopadu, cílové skupiny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966C-13A3-48BC-8702-FD00644B3C39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285920" y="1714680"/>
            <a:ext cx="785808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1000"/>
          </a:bodyPr>
          <a:p>
            <a:pPr lvl="1" marL="244800" indent="-14436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elá ČR včetně hl. m. Pra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0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0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artnerství: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44800" indent="-14436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ávnické osoby se sídlem v Č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Území realizace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145C-DE01-46C4-B6EF-CD2718EA80F6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8:18:17Z</dcterms:created>
  <dc:creator>mencloval</dc:creator>
  <dc:description/>
  <dc:language>en-US</dc:language>
  <cp:lastModifiedBy>lenka menclová</cp:lastModifiedBy>
  <dcterms:modified xsi:type="dcterms:W3CDTF">2008-11-18T16:04:16Z</dcterms:modified>
  <cp:revision>54</cp:revision>
  <dc:subject/>
  <dc:title>Snímek 1</dc:title>
</cp:coreProperties>
</file>