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5.png" ContentType="image/pn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9.png" ContentType="image/png"/>
  <Override PartName="/ppt/media/image21.jpeg" ContentType="image/jpeg"/>
  <Override PartName="/ppt/media/image12.png" ContentType="image/pn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9CA0-A673-452A-AD53-18F70026E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98F6-269C-4AD4-954D-621A2670E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2C5AE-C039-469B-9454-A39ECBE99B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BF9B5-C6EC-4797-8932-1D549FE00C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B8F6C-3D60-4D60-9129-3D0F433A7B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DA9C5-A64E-4F70-8BD0-0A365701FD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78470-F236-4E76-A6DE-D92CDEA424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B3956-8FA7-4967-9D48-DBE61545E4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37F22-95DE-4116-9312-135A82A807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F8B17-DBE8-4244-B2ED-73BB34986F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CD445-4693-46E0-A41E-571D435F02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D1230-4044-4D59-84F3-1FB89D11CF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84A9B-F11A-47BC-88B8-45B7A3A551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91E96-7F1D-4400-AD94-F836BFCD3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Zástupný symbol pro datum 3"/>
          <p:cNvSpPr/>
          <p:nvPr/>
        </p:nvSpPr>
        <p:spPr>
          <a:xfrm>
            <a:off x="1500120" y="6215040"/>
            <a:ext cx="314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Ing. Helena Viktorie Barboř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ástupný symbol pro datum 3"/>
          <p:cNvSpPr/>
          <p:nvPr/>
        </p:nvSpPr>
        <p:spPr>
          <a:xfrm>
            <a:off x="1500120" y="6215040"/>
            <a:ext cx="314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Ing. Helena Viktorie Barboř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46" name="Zástupný symbol pro datum 3"/>
          <p:cNvSpPr/>
          <p:nvPr/>
        </p:nvSpPr>
        <p:spPr>
          <a:xfrm>
            <a:off x="1071720" y="55720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ástupný symbol pro datum 3"/>
          <p:cNvSpPr/>
          <p:nvPr/>
        </p:nvSpPr>
        <p:spPr>
          <a:xfrm>
            <a:off x="1500120" y="6215040"/>
            <a:ext cx="314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Ing. Helena Viktorie Barboř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ldNum" idx="1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FD8C-544B-496F-9DDD-77F18CEBE9C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msmt.cz/strukturalnifondy/rezijni-naklady-op-vk" TargetMode="External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vyse-mezd-platu-v-projektech-op-vk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800100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endParaRPr b="1" lang="en-US" sz="72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II. Osobní náklady – klíčové aktivit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357200" y="1000080"/>
            <a:ext cx="7623360" cy="4797360"/>
          </a:xfrm>
          <a:prstGeom prst="rect">
            <a:avLst/>
          </a:prstGeom>
          <a:ln w="0">
            <a:noFill/>
          </a:ln>
        </p:spPr>
      </p:pic>
      <p:sp>
        <p:nvSpPr>
          <p:cNvPr id="17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2962-C415-4AC1-9CD9-DC2287E6300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 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Cestovní náhr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78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714680"/>
            <a:ext cx="7756560" cy="2071440"/>
          </a:xfrm>
          <a:prstGeom prst="rect">
            <a:avLst/>
          </a:prstGeom>
          <a:ln w="0">
            <a:noFill/>
          </a:ln>
        </p:spPr>
      </p:pic>
      <p:sp>
        <p:nvSpPr>
          <p:cNvPr id="179" name="TextovéPole 6"/>
          <p:cNvSpPr/>
          <p:nvPr/>
        </p:nvSpPr>
        <p:spPr>
          <a:xfrm>
            <a:off x="1285920" y="4071960"/>
            <a:ext cx="7286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cenový lim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bytování v ČR – max. 1 200 Kč za osobu a noc a zároveň dle interních předpisů dané organizace, pokud jsou nižší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5874-D921-471F-B7A6-21787D10FF0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85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Cestovní náhrad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03280" y="1143000"/>
            <a:ext cx="7129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statečně rozepsány v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líčových aktivitá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 projektové žádosti by se mělo vyčí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do je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am je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č tam je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hraniční služební cesty, které nejsou uvedeny ve schválené projektové žádosti, nebude možné vykon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08AE-42BA-42DA-806C-2470B5260CD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Cestovní náhrady </a:t>
            </a: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–</a:t>
            </a: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247760" y="1857240"/>
            <a:ext cx="7896240" cy="2936880"/>
          </a:xfrm>
          <a:prstGeom prst="rect">
            <a:avLst/>
          </a:prstGeom>
          <a:ln w="0">
            <a:noFill/>
          </a:ln>
        </p:spPr>
      </p:pic>
      <p:sp>
        <p:nvSpPr>
          <p:cNvPr id="186" name="Vývojový diagram: alternativní postup 6"/>
          <p:cNvSpPr/>
          <p:nvPr/>
        </p:nvSpPr>
        <p:spPr>
          <a:xfrm>
            <a:off x="1357200" y="3786120"/>
            <a:ext cx="7786800" cy="214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0FC7-0337-4AD5-A310-58E7F0B5245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Cestovní náhrady – klíčové aktivity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389240" y="1285920"/>
            <a:ext cx="7754760" cy="4529160"/>
          </a:xfrm>
          <a:prstGeom prst="rect">
            <a:avLst/>
          </a:prstGeom>
          <a:ln w="0">
            <a:noFill/>
          </a:ln>
        </p:spPr>
      </p:pic>
      <p:sp>
        <p:nvSpPr>
          <p:cNvPr id="19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4415-2B4C-4A14-8CC5-FEA5A9D1775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92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689120"/>
            <a:ext cx="7858080" cy="2854440"/>
          </a:xfrm>
          <a:prstGeom prst="rect">
            <a:avLst/>
          </a:prstGeom>
          <a:ln w="0">
            <a:noFill/>
          </a:ln>
        </p:spPr>
      </p:pic>
      <p:sp>
        <p:nvSpPr>
          <p:cNvPr id="193" name="TextovéPole 4"/>
          <p:cNvSpPr/>
          <p:nvPr/>
        </p:nvSpPr>
        <p:spPr>
          <a:xfrm>
            <a:off x="1285920" y="478620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na pořízení zařízení a vybavení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25 % včetně křížového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Vývojový diagram: alternativní postup 6"/>
          <p:cNvSpPr/>
          <p:nvPr/>
        </p:nvSpPr>
        <p:spPr>
          <a:xfrm>
            <a:off x="7858080" y="1643040"/>
            <a:ext cx="428760" cy="2253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09CD-27B1-4E3E-8629-E3E290D9BA9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Zařízení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–</a:t>
            </a: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7547040" cy="3714480"/>
          </a:xfrm>
          <a:prstGeom prst="rect">
            <a:avLst/>
          </a:prstGeom>
          <a:ln w="0">
            <a:noFill/>
          </a:ln>
        </p:spPr>
      </p:pic>
      <p:sp>
        <p:nvSpPr>
          <p:cNvPr id="198" name="Vývojový diagram: alternativní postup 6"/>
          <p:cNvSpPr/>
          <p:nvPr/>
        </p:nvSpPr>
        <p:spPr>
          <a:xfrm>
            <a:off x="1427040" y="3571920"/>
            <a:ext cx="750096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341F-7BAC-4C40-80FB-DA0033E8218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365120" y="2357280"/>
            <a:ext cx="7778880" cy="16383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Zařízení –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3A36-E821-4613-9EBA-F81C34A019D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I. Zařízení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–</a:t>
            </a: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285920" y="1500120"/>
            <a:ext cx="7702560" cy="4022640"/>
          </a:xfrm>
          <a:prstGeom prst="rect">
            <a:avLst/>
          </a:prstGeom>
          <a:ln w="0">
            <a:noFill/>
          </a:ln>
        </p:spPr>
      </p:pic>
      <p:sp>
        <p:nvSpPr>
          <p:cNvPr id="205" name="Vývojový diagram: alternativní postup 6"/>
          <p:cNvSpPr/>
          <p:nvPr/>
        </p:nvSpPr>
        <p:spPr>
          <a:xfrm>
            <a:off x="1357200" y="5072040"/>
            <a:ext cx="757260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9147-0CC8-4C01-8901-BF125813F91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I. Zařízení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–</a:t>
            </a: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 klíčové aktivity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5A55-C316-4F77-921E-A4B4015D739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1285920" y="1143000"/>
            <a:ext cx="7743960" cy="471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85920" y="285840"/>
            <a:ext cx="78580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provázanost  </a:t>
            </a:r>
            <a:br>
              <a:rPr sz="40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 projektové žádosti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1440000" y="1785960"/>
            <a:ext cx="7489800" cy="4275000"/>
          </a:xfrm>
          <a:prstGeom prst="rect">
            <a:avLst/>
          </a:prstGeom>
          <a:ln w="0">
            <a:noFill/>
          </a:ln>
        </p:spPr>
      </p:pic>
      <p:sp>
        <p:nvSpPr>
          <p:cNvPr id="137" name="Obdélník 6"/>
          <p:cNvSpPr/>
          <p:nvPr/>
        </p:nvSpPr>
        <p:spPr>
          <a:xfrm>
            <a:off x="1428840" y="292896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bdélník 7"/>
          <p:cNvSpPr/>
          <p:nvPr/>
        </p:nvSpPr>
        <p:spPr>
          <a:xfrm>
            <a:off x="1428840" y="357192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délník 8"/>
          <p:cNvSpPr/>
          <p:nvPr/>
        </p:nvSpPr>
        <p:spPr>
          <a:xfrm>
            <a:off x="1428840" y="500076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bdélník 9"/>
          <p:cNvSpPr/>
          <p:nvPr/>
        </p:nvSpPr>
        <p:spPr>
          <a:xfrm>
            <a:off x="1428840" y="571500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bdélník 10"/>
          <p:cNvSpPr/>
          <p:nvPr/>
        </p:nvSpPr>
        <p:spPr>
          <a:xfrm>
            <a:off x="5214960" y="2214720"/>
            <a:ext cx="371484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bdélník 11"/>
          <p:cNvSpPr/>
          <p:nvPr/>
        </p:nvSpPr>
        <p:spPr>
          <a:xfrm>
            <a:off x="5214960" y="2571840"/>
            <a:ext cx="371484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bdélník 12"/>
          <p:cNvSpPr/>
          <p:nvPr/>
        </p:nvSpPr>
        <p:spPr>
          <a:xfrm>
            <a:off x="5214960" y="2928960"/>
            <a:ext cx="371484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bdélník 13"/>
          <p:cNvSpPr/>
          <p:nvPr/>
        </p:nvSpPr>
        <p:spPr>
          <a:xfrm>
            <a:off x="5214960" y="3286080"/>
            <a:ext cx="3714840" cy="2858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bdélník 14"/>
          <p:cNvSpPr/>
          <p:nvPr/>
        </p:nvSpPr>
        <p:spPr>
          <a:xfrm>
            <a:off x="5214960" y="4643280"/>
            <a:ext cx="3714840" cy="3574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bdélník 15"/>
          <p:cNvSpPr/>
          <p:nvPr/>
        </p:nvSpPr>
        <p:spPr>
          <a:xfrm>
            <a:off x="1428840" y="257184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6"/>
          <p:cNvSpPr/>
          <p:nvPr/>
        </p:nvSpPr>
        <p:spPr>
          <a:xfrm>
            <a:off x="5214960" y="5000760"/>
            <a:ext cx="371484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7"/>
          <p:cNvSpPr/>
          <p:nvPr/>
        </p:nvSpPr>
        <p:spPr>
          <a:xfrm>
            <a:off x="5214960" y="1785960"/>
            <a:ext cx="3714840" cy="4287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911A-D0C3-4E97-A36D-4956EE7E4E9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600" spc="-1" strike="noStrike">
                <a:solidFill>
                  <a:srgbClr val="f3912c"/>
                </a:solidFill>
                <a:latin typeface="Calibri"/>
              </a:rPr>
              <a:t>Křížové financování/odpisy</a:t>
            </a:r>
            <a:endParaRPr b="1" lang="en-US" sz="46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7386840" cy="3857760"/>
          </a:xfrm>
          <a:prstGeom prst="rect">
            <a:avLst/>
          </a:prstGeom>
          <a:ln w="0">
            <a:noFill/>
          </a:ln>
        </p:spPr>
      </p:pic>
      <p:sp>
        <p:nvSpPr>
          <p:cNvPr id="212" name="Vývojový diagram: alternativní postup 8"/>
          <p:cNvSpPr/>
          <p:nvPr/>
        </p:nvSpPr>
        <p:spPr>
          <a:xfrm>
            <a:off x="1500120" y="4143240"/>
            <a:ext cx="7358040" cy="214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Vývojový diagram: alternativní postup 9"/>
          <p:cNvSpPr/>
          <p:nvPr/>
        </p:nvSpPr>
        <p:spPr>
          <a:xfrm>
            <a:off x="1500120" y="4572000"/>
            <a:ext cx="728676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83C0-0DCF-451A-B8BF-EE369352726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80722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Křížové financování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57200" y="2428920"/>
            <a:ext cx="77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řízení nebo vybavení musí být používá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 realizaci aktivit, na kterých se podílí cíl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kupina (např. školení, výuka, praxe, prác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cvik atd.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1E2D-6B35-44F1-BDBD-10813ECBDBC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71360" y="285840"/>
            <a:ext cx="80722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Křížové financová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213920" y="1428480"/>
            <a:ext cx="79297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e na nákup zařízení a vybavení hmotné povahy s dobou použitelnosti nad 1 rok a pořizovací cenou nad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0 tis. Kč za položku, pokud splňuje následující podmín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e na nábytek bez ohledu na výši pořizovací cen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avební úpravy, které jsou rekonstrukcí nebo modernizací, pokud převýšily u jednotlivého majetku v úhrnu ve zdaňovacím období částku 40 tis. Kč a jsou prováděny za účelem usnadnění přístupu a pohybu osobám zdravotně postiženým, nebo úpravy výukových, tréninkových nebo pracovních prostor, používaných na realizaci aktivit s cílovou skupino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C32B-AD35-4764-93A7-6710CFAA8DD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Místní kancelář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22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357200" y="1738440"/>
            <a:ext cx="8215560" cy="761760"/>
          </a:xfrm>
          <a:prstGeom prst="rect">
            <a:avLst/>
          </a:prstGeom>
          <a:ln w="0">
            <a:noFill/>
          </a:ln>
        </p:spPr>
      </p:pic>
      <p:sp>
        <p:nvSpPr>
          <p:cNvPr id="223" name="TextovéPole 4"/>
          <p:cNvSpPr/>
          <p:nvPr/>
        </p:nvSpPr>
        <p:spPr>
          <a:xfrm>
            <a:off x="1285920" y="3000240"/>
            <a:ext cx="771516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íl výdajů této kapitoly – Místní kancelář na celkových způsobilých výdajích smí čini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jvýše 8 %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žijní náklady v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msmt.cz/strukturalnifondy/rezijni-naklady-op-v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Vývojový diagram: alternativní postup 5"/>
          <p:cNvSpPr/>
          <p:nvPr/>
        </p:nvSpPr>
        <p:spPr>
          <a:xfrm>
            <a:off x="7786800" y="1714680"/>
            <a:ext cx="50004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C59B-346A-4D05-80E2-4C7B1A441CF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up služeb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27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76200" y="1743120"/>
            <a:ext cx="7867800" cy="1149480"/>
          </a:xfrm>
          <a:prstGeom prst="rect">
            <a:avLst/>
          </a:prstGeom>
          <a:ln w="0">
            <a:noFill/>
          </a:ln>
        </p:spPr>
      </p:pic>
      <p:sp>
        <p:nvSpPr>
          <p:cNvPr id="228" name="TextovéPole 4"/>
          <p:cNvSpPr/>
          <p:nvPr/>
        </p:nvSpPr>
        <p:spPr>
          <a:xfrm>
            <a:off x="1285920" y="3286080"/>
            <a:ext cx="7715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íl nákupu služeb na celkových způsobilých výdajích smí činit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nejvýše 49 %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Cenový limi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Občerstvení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stravné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celodenní občerstvení max. 300 Kč na osobu, částka se bude krátit při necelodenních akcí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Ubytování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ubytování v ČR – max. 1 200 Kč za osobu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 noc (případně nižší dle interních předpisů dané organizac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Vývojový diagram: alternativní postup 6"/>
          <p:cNvSpPr/>
          <p:nvPr/>
        </p:nvSpPr>
        <p:spPr>
          <a:xfrm>
            <a:off x="7858080" y="1714680"/>
            <a:ext cx="50004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62F8-42A7-4E24-A6BA-C97B993B43F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tavební úpra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32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285920" y="1730520"/>
            <a:ext cx="7858080" cy="587160"/>
          </a:xfrm>
          <a:prstGeom prst="rect">
            <a:avLst/>
          </a:prstGeom>
          <a:ln w="0">
            <a:noFill/>
          </a:ln>
        </p:spPr>
      </p:pic>
      <p:sp>
        <p:nvSpPr>
          <p:cNvPr id="233" name="TextovéPole 4"/>
          <p:cNvSpPr/>
          <p:nvPr/>
        </p:nvSpPr>
        <p:spPr>
          <a:xfrm>
            <a:off x="1571760" y="2500200"/>
            <a:ext cx="7215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buClr>
                <a:srgbClr val="f7964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smí přesáhnout částku za všechny dokončené stavební úpravy v jednom zdaňovacím období v úhrnu 40 tis.  Kč (pořizovací cena) na každou jednotlivou účetní položku majet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f7964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avební úprava musí být provedena v souvislosti s úpravou pracovního místa nebo úpravou přístupu pro osoby se zdravotním postižením nebo úpravy výukových, tréninkových nebo pracovních prostor používaných na realizaci aktivit s cílovou skupin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8EF0-4A8A-4D67-AC0A-98D79F464BA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ímá podpo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36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28840" y="1563840"/>
            <a:ext cx="7572240" cy="742680"/>
          </a:xfrm>
          <a:prstGeom prst="rect">
            <a:avLst/>
          </a:prstGeom>
          <a:ln w="0">
            <a:noFill/>
          </a:ln>
        </p:spPr>
      </p:pic>
      <p:sp>
        <p:nvSpPr>
          <p:cNvPr id="237" name="TextovéPole 4"/>
          <p:cNvSpPr/>
          <p:nvPr/>
        </p:nvSpPr>
        <p:spPr>
          <a:xfrm>
            <a:off x="1285920" y="2428920"/>
            <a:ext cx="785808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zdové příspěvk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sou poskytovány jako náhrada mzdy zaměstnavateli (ve výši hrubé mzdy včetně zákonných odvodů) pro pracovníka po dobu jeho účasti na dalším vzdělávání; mzdové náhrady se budou týkat pouze pedagogických, akademických a dalších pracovníků ve školství, a to maximálně do výše 70 % mzdových náhr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Ubytování, stravová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bytování v ČR – max. 1 200 Kč za osobu a noc (případně nižší dle interních předpisů dané organiza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ravné – celodenní občerstvení max. 300 Kč na osobu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zároveň dle interních předpisů dané organiz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daje na přímou podporu jednotlivců mohou být poskytovány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jvýše do 20%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celkových způsobilých výdajů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Vývojový diagram: alternativní postup 5"/>
          <p:cNvSpPr/>
          <p:nvPr/>
        </p:nvSpPr>
        <p:spPr>
          <a:xfrm>
            <a:off x="7643880" y="1571760"/>
            <a:ext cx="64296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AB74-BB12-4AC2-8EC2-502E1D52FF9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lady vyplývající přímo ze smlou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41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28840" y="1857240"/>
            <a:ext cx="7715160" cy="749520"/>
          </a:xfrm>
          <a:prstGeom prst="rect">
            <a:avLst/>
          </a:prstGeom>
          <a:ln w="0">
            <a:noFill/>
          </a:ln>
        </p:spPr>
      </p:pic>
      <p:sp>
        <p:nvSpPr>
          <p:cNvPr id="242" name="TextovéPole 4"/>
          <p:cNvSpPr/>
          <p:nvPr/>
        </p:nvSpPr>
        <p:spPr>
          <a:xfrm>
            <a:off x="1500120" y="2857680"/>
            <a:ext cx="714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případě, že rozpočet projektu je roven nebo vyšší než 3 000 000 Kč, je příjemce povinen zadat vybrané auditorské firmě zpracování závěrečného audi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0F7D-09B1-4567-9627-6D1C5AA9EF5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ouhrn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45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272360" cy="539640"/>
          </a:xfrm>
          <a:prstGeom prst="rect">
            <a:avLst/>
          </a:prstGeom>
          <a:ln w="0">
            <a:noFill/>
          </a:ln>
        </p:spPr>
      </p:pic>
      <p:pic>
        <p:nvPicPr>
          <p:cNvPr id="246" name="Zástupný symbol pro obsah 4" descr="04_zadost34_3_crop.jpg"/>
          <p:cNvPicPr/>
          <p:nvPr/>
        </p:nvPicPr>
        <p:blipFill>
          <a:blip r:embed="rId2"/>
          <a:stretch/>
        </p:blipFill>
        <p:spPr>
          <a:xfrm>
            <a:off x="1322280" y="2476440"/>
            <a:ext cx="7392960" cy="523800"/>
          </a:xfrm>
          <a:prstGeom prst="rect">
            <a:avLst/>
          </a:prstGeom>
          <a:ln w="0">
            <a:noFill/>
          </a:ln>
        </p:spPr>
      </p:pic>
      <p:pic>
        <p:nvPicPr>
          <p:cNvPr id="247" name="Zástupný symbol pro obsah 4" descr="04_zadost34_3_crop.jpg"/>
          <p:cNvPicPr/>
          <p:nvPr/>
        </p:nvPicPr>
        <p:blipFill>
          <a:blip r:embed="rId3"/>
          <a:stretch/>
        </p:blipFill>
        <p:spPr>
          <a:xfrm>
            <a:off x="1357200" y="3344760"/>
            <a:ext cx="7358040" cy="527040"/>
          </a:xfrm>
          <a:prstGeom prst="rect">
            <a:avLst/>
          </a:prstGeom>
          <a:ln w="0">
            <a:noFill/>
          </a:ln>
        </p:spPr>
      </p:pic>
      <p:pic>
        <p:nvPicPr>
          <p:cNvPr id="248" name="Zástupný symbol pro obsah 4" descr="04_zadost34_3_crop.jpg"/>
          <p:cNvPicPr/>
          <p:nvPr/>
        </p:nvPicPr>
        <p:blipFill>
          <a:blip r:embed="rId4"/>
          <a:stretch/>
        </p:blipFill>
        <p:spPr>
          <a:xfrm>
            <a:off x="1357200" y="4143240"/>
            <a:ext cx="7232760" cy="586080"/>
          </a:xfrm>
          <a:prstGeom prst="rect">
            <a:avLst/>
          </a:prstGeom>
          <a:ln w="0">
            <a:noFill/>
          </a:ln>
        </p:spPr>
      </p:pic>
      <p:pic>
        <p:nvPicPr>
          <p:cNvPr id="249" name="Zástupný symbol pro obsah 4" descr="04_zadost34_3_crop.jpg"/>
          <p:cNvPicPr/>
          <p:nvPr/>
        </p:nvPicPr>
        <p:blipFill>
          <a:blip r:embed="rId5"/>
          <a:stretch/>
        </p:blipFill>
        <p:spPr>
          <a:xfrm>
            <a:off x="1382760" y="4929120"/>
            <a:ext cx="7189920" cy="208080"/>
          </a:xfrm>
          <a:prstGeom prst="rect">
            <a:avLst/>
          </a:prstGeom>
          <a:ln w="0">
            <a:noFill/>
          </a:ln>
        </p:spPr>
      </p:pic>
      <p:pic>
        <p:nvPicPr>
          <p:cNvPr id="250" name="Zástupný symbol pro obsah 4" descr="04_zadost34_3_crop.jpg"/>
          <p:cNvPicPr/>
          <p:nvPr/>
        </p:nvPicPr>
        <p:blipFill>
          <a:blip r:embed="rId6"/>
          <a:stretch/>
        </p:blipFill>
        <p:spPr>
          <a:xfrm>
            <a:off x="1428840" y="5286240"/>
            <a:ext cx="6929280" cy="214560"/>
          </a:xfrm>
          <a:prstGeom prst="rect">
            <a:avLst/>
          </a:prstGeom>
          <a:ln w="0">
            <a:noFill/>
          </a:ln>
        </p:spPr>
      </p:pic>
      <p:sp>
        <p:nvSpPr>
          <p:cNvPr id="251" name="Vývojový diagram: alternativní postup 9"/>
          <p:cNvSpPr/>
          <p:nvPr/>
        </p:nvSpPr>
        <p:spPr>
          <a:xfrm>
            <a:off x="6929280" y="5286240"/>
            <a:ext cx="785880" cy="214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Vývojový diagram: alternativní postup 14"/>
          <p:cNvSpPr/>
          <p:nvPr/>
        </p:nvSpPr>
        <p:spPr>
          <a:xfrm>
            <a:off x="1357200" y="2500200"/>
            <a:ext cx="7000920" cy="14292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Vývojový diagram: alternativní postup 15"/>
          <p:cNvSpPr/>
          <p:nvPr/>
        </p:nvSpPr>
        <p:spPr>
          <a:xfrm>
            <a:off x="1428840" y="4143240"/>
            <a:ext cx="7000920" cy="214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Vývojový diagram: alternativní postup 16"/>
          <p:cNvSpPr/>
          <p:nvPr/>
        </p:nvSpPr>
        <p:spPr>
          <a:xfrm>
            <a:off x="1428840" y="3357720"/>
            <a:ext cx="7000920" cy="142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Vývojový diagram: alternativní postup 17"/>
          <p:cNvSpPr/>
          <p:nvPr/>
        </p:nvSpPr>
        <p:spPr>
          <a:xfrm>
            <a:off x="1428840" y="1714680"/>
            <a:ext cx="700092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9321-1547-43B7-956F-C9D31CAB286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285560" y="1571760"/>
            <a:ext cx="76438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PH není způsobilým výdajem, pokud příjemce plnění má v tomto případě nárok na odpočet DPH na vstupu. Nárok na odpočet DPH je vymezen zákonem č. 235/2004 Sb., o dani z přidané hodnoty, ve znění pozdějších předpisů (dále jen „zákon o DPH“). Přičemž se způsobilost DPH vztahuje pouze na tu část plnění, které je samo způsobilým výdaje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látce DP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osoby, které jsou plátci DPH (osobami registrovanými k DPH), je způsobilým výdajem ta část DPH, na kterou není u daného přijatého plnění nárok na odpočet v souladu se zákonem o DP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eplátce DP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osoby neregistrované k DPH je daň z přidané hodnoty způsobilým výdajem, neboť tyto osoby si nemohou nárokovat odpočet DPH na vstup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PH a jiné daně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9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706F-FA02-420E-836D-6FFAE9445DF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428480" y="1856880"/>
            <a:ext cx="77151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řiměřen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hospodár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účel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efektiv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okazatelné výdaj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atum uskuteč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Základní pravidla </a:t>
            </a:r>
            <a:br>
              <a:rPr sz="40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ro způsobilost výdajů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CD89-F402-4513-B7DE-021DA4486DDF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PH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1365120" y="1160640"/>
            <a:ext cx="7564680" cy="4798800"/>
          </a:xfrm>
          <a:prstGeom prst="rect">
            <a:avLst/>
          </a:prstGeom>
          <a:ln w="0">
            <a:noFill/>
          </a:ln>
        </p:spPr>
      </p:pic>
      <p:sp>
        <p:nvSpPr>
          <p:cNvPr id="262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1D64-335A-4A81-ABC6-A606CB41A30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357200" y="1571400"/>
            <a:ext cx="7786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upy vozidel, infrastruktury, nemovitostí a pozemků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úroky z úvěrů a půjček, pokud se nejedná o schválenou formu podpory z fondu ESF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rávní poplatky (výpis z katastru nemovitostí, výpis z obchodního rejstříku apod.) bez přímé vazby na projek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lady na audit v případě projektů s rozpočty nižšími než 3 mil. Kč vč. DP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zervy na možné budoucí ztráty a dluh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urzové ztrát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látky finančního leasingu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látky operativního leasingu související s nájmem vybavení a zařízení, které nebude výhradně využíváno pro potřeby cílové skupiny (např. vozidel pro potřeby realizačního týmu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jemné, kdy je žadatel vlastníkem nemovitosti nebo ji užívá zdar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ezpůsobilé výdaje – například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6E74-A90E-4C70-9ABE-87FA1813317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285560" y="1500120"/>
            <a:ext cx="76438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ást pořizovací ceny přesahující cenu zjištěnou znaleckým posudkem nebo přesahující cenu v místě a čase obvyklou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žijní náklady vztahující se k všeobecnému provozu organizace bez vazby na projek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 zaměstnanců, kteří se na realizaci projektu podílí, alikvotní část osobních nákladů, která neodpovídá pracovnímu vytížení zaměstnance na daném projektu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daje spojené s přípravou a řízením projektu (např. platby konzultantům, kteří pomáhají s vyplňováním žádostí o finanční podporu z OP VK, s vyplňováním monitorovacích zpráv a žádostí o platby) v případě, že se jedná o externího dodavatel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daje spojené s administrací veřejných zakázek malého rozsahu, tzn. jejichž zadání se neřídí zákonem č. 137/2006 Sb., o veřejných zakázkách, ale postupy stanovenými Příručkou pro žadatele a Příručkou pro příjemc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daje na činnosti prováděné jakožto povinné ze záko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ezpůsobilé výdaje – například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51FD-B929-4137-AEFE-276FB009832F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728D-2639-47DB-B5C3-539229AC37BF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28592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3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částky předpokládaných způsobilých výdajů za každé monitorovací období realiz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tum první platby se uvádí 3 měsíce od předpokládaného termínu vydání rozhodnutí o poskytnutí dot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BC2D-8024-42BC-B061-4292AD40935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42884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7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y uvedené předpokládané platby se musí rovnat  celkové výši dot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7F37-5624-4AD1-ABA7-D4C88B8F9DB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1" name="Obdélník se zakulaceným příčným rohem 10"/>
          <p:cNvSpPr/>
          <p:nvPr/>
        </p:nvSpPr>
        <p:spPr>
          <a:xfrm>
            <a:off x="6072120" y="1571760"/>
            <a:ext cx="2857680" cy="4357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říjmy, které vzniknou v době realizace projektu v bezprostřední souvislosti s jeho realizac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tří sem výnosy žadatele i partnerů získané díky tomu, že budou v rámci projektu poskytovat služby za úplatu, např. kurzovn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rojekt nebude generovat příjmy, vyplní se 0. Oblast příjmů je vždy upravena danou výzv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149B-73F8-4D00-A081-6B6AF95F862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5" name="Obdélník se zakulaceným příčným rohem 10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pad financí je závislý na záložkách: Projekt, Žadatel projektu, Rozpočet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, když provedete změny v těchto záložkách, proveďte znovu rozpad finan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7A1A-1930-4902-A8AE-F9B5931F501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ní nákl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332000" y="5286240"/>
            <a:ext cx="756108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še mezd/platů v projektech OP V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smt.cz/strukturalni-fondy/vyse-mezd-platu-v-projektech-op-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1486080" y="1571760"/>
            <a:ext cx="7300800" cy="3643200"/>
          </a:xfrm>
          <a:prstGeom prst="rect">
            <a:avLst/>
          </a:prstGeom>
          <a:ln w="0">
            <a:noFill/>
          </a:ln>
        </p:spPr>
      </p:pic>
      <p:sp>
        <p:nvSpPr>
          <p:cNvPr id="15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C322-CB53-4664-B1DF-0AD69EDDB35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428840" y="1285920"/>
            <a:ext cx="7691400" cy="4071960"/>
          </a:xfrm>
          <a:prstGeom prst="rect">
            <a:avLst/>
          </a:prstGeom>
          <a:ln w="0">
            <a:noFill/>
          </a:ln>
        </p:spPr>
      </p:pic>
      <p:sp>
        <p:nvSpPr>
          <p:cNvPr id="158" name="Vývojový diagram: alternativní postup 4"/>
          <p:cNvSpPr/>
          <p:nvPr/>
        </p:nvSpPr>
        <p:spPr>
          <a:xfrm>
            <a:off x="1428840" y="3429000"/>
            <a:ext cx="7715160" cy="28584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Osobní náklady –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990B-D5CF-41D9-8264-6EA7C2DE62A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643040" y="1071720"/>
            <a:ext cx="7143840" cy="52196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Osobní náklady – realizační tým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1285920" y="628668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9EF5-5544-41ED-AF81-A5B414A2AB9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428840" y="2608200"/>
            <a:ext cx="7715160" cy="16909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85560" y="28548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Osobní náklady – popis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5CC1-6BF5-4D5F-AAC9-7BEE273EE5B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I. Osobní náklady –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357200" y="1500120"/>
            <a:ext cx="7645680" cy="3714840"/>
          </a:xfrm>
          <a:prstGeom prst="rect">
            <a:avLst/>
          </a:prstGeom>
          <a:ln w="0">
            <a:noFill/>
          </a:ln>
        </p:spPr>
      </p:pic>
      <p:sp>
        <p:nvSpPr>
          <p:cNvPr id="169" name="Vývojový diagram: alternativní postup 6"/>
          <p:cNvSpPr/>
          <p:nvPr/>
        </p:nvSpPr>
        <p:spPr>
          <a:xfrm>
            <a:off x="1357200" y="2286000"/>
            <a:ext cx="757260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F44F-4C95-4DC2-AF23-6F88034732A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II. Osobní náklady – 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571760" y="928800"/>
            <a:ext cx="7000920" cy="5211720"/>
          </a:xfrm>
          <a:prstGeom prst="rect">
            <a:avLst/>
          </a:prstGeom>
          <a:ln w="0">
            <a:noFill/>
          </a:ln>
        </p:spPr>
      </p:pic>
      <p:sp>
        <p:nvSpPr>
          <p:cNvPr id="173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8E73-60A4-450D-8D7E-96FBD350F45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8:18:17Z</dcterms:created>
  <dc:creator>mencloval</dc:creator>
  <dc:description/>
  <dc:language>en-US</dc:language>
  <cp:lastModifiedBy>lenka menclová</cp:lastModifiedBy>
  <dcterms:modified xsi:type="dcterms:W3CDTF">2008-11-19T11:29:43Z</dcterms:modified>
  <cp:revision>83</cp:revision>
  <dc:subject/>
  <dc:title>Snímek 1</dc:title>
</cp:coreProperties>
</file>