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2358-2016-4B1A-9BE0-4AC7760DF5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46EB-B07C-47D3-90D2-B759EFD96D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123F-1FAD-4663-BC0B-ED3A40B95D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8D52-52F6-409C-B0B2-34CA381F88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824B-3716-4FA4-818B-429EFA762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A939-4876-438B-B11E-66DBD9FD9C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2D8F-EB3C-4210-84EB-341884F75E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1AB3-C102-423B-B030-D3D35A019B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D737-99B5-4CE1-A597-CC5FEAA718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54D8-3315-47C6-818F-DA08C26273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2664-912D-427B-9098-26D11BADAA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9759-37A0-4056-937C-CED98CA71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A1D-A729-4966-B17B-E9C58092F87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last podpory 2.3 </a:t>
            </a:r>
            <a:br>
              <a:rPr sz="48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Lidské zdroje ve výzkumu a vývoj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6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844B-8E33-4D76-92DB-924D3DE001B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85920" y="1499760"/>
            <a:ext cx="75009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voj vzdělanostní společnosti za účelem posílení konkurenceschopnosti ČR prostřednictvím modernizace systémů vzdělávání a zlepšení podmínek ve výzkumu a vývo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P VK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85920" y="171468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62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valitnění personálního zabezpečení výzkumu a výv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y: proškolené a podpořené os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ukty-metodiky, vzdělávací progr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blasti podpory 2.3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380-4EBD-4FCC-BC83-AACF2E43909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56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 oblasti řízení, popularizace a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áření týmů, zapojení do mezinárodních sítí, intersektorální mobilita (krátkodobé odborné stáž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ce se studenty (žáky) – motivace ke studiu a práci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odporované aktivit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2BD-78F9-4E27-8D31-EAE7990DF8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85920" y="1000080"/>
            <a:ext cx="78580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vědecké práce studen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covníků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zdy pro pracovníky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vá pracovní místa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dávání vědeckých publik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louhodobé zahraniční 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B22C-1267-47A9-82C6-662E630C307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8592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i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l. město Pra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ad na cílovou skupinu mimo Prahu (např. studenti VŠ se sídlem v Praze studující na fakultě mimo Prah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ze občané ČR, osoby s trvalým pobyt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dopadu, cílové skupin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2649-73F6-4DAA-9C78-D0C39704714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85920" y="1714680"/>
            <a:ext cx="78580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včetně hl. m.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ství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vnické osoby se sídl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realizace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584F-18B5-44E0-8CC1-39E832647F6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8T16:04:16Z</dcterms:modified>
  <cp:revision>54</cp:revision>
  <dc:subject/>
  <dc:title>Snímek 1</dc:title>
</cp:coreProperties>
</file>