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5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BB93-6A8E-4326-9B59-196B6AC23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641C-8798-4D0D-B16E-4660BB621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031E-CF3B-4EF9-BD2C-4309762F46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EE3C-7E1B-4E3E-A89B-9B959EADDD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1D67-0E15-418A-8947-12BE06163F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6CC2-40EC-4199-B34C-6B92C9EF77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B166-B4E0-459F-A5E4-F4A5BBB80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5FDE-05E6-4321-B284-F1A00DC776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3C39-6444-4154-97A3-810830E845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08F1-EA97-4909-81E5-5FD7A8685A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824E-E4BF-4D26-8309-511FDC109A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D4C5-FE12-4572-BB92-229DFB0DF2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923B-5B56-47EC-A4C5-A949E84CBD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A50B-F8F9-439B-BB75-6A3B072F1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CAB2-0CCA-4B32-970F-5513E3DF135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msmt.cz/strukturalnifondy/rezijni-naklady-op-vk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80010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7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klíčové aktiv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7623360" cy="4797360"/>
          </a:xfrm>
          <a:prstGeom prst="rect">
            <a:avLst/>
          </a:prstGeom>
          <a:ln w="0">
            <a:noFill/>
          </a:ln>
        </p:spPr>
      </p:pic>
      <p:sp>
        <p:nvSpPr>
          <p:cNvPr id="17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026-BEA7-43E3-985A-37A93FE32D9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756560" cy="207144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6"/>
          <p:cNvSpPr/>
          <p:nvPr/>
        </p:nvSpPr>
        <p:spPr>
          <a:xfrm>
            <a:off x="1285920" y="407196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nový li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bytování v ČR – max. 1 200 Kč za osobu a noc a zároveň dle interních předpisů dané organizace, pokud jsou nižš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E13-284F-4A21-862D-3C3BB5B016D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estovní náhrad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3280" y="1143000"/>
            <a:ext cx="7129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tatečně rozepsány v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líčových aktivitá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 projektové žádosti by se mělo vyčí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č t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aniční služební cesty, které nejsou uvedeny ve schválené projektové žádosti, nebude možné vyko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872-DD1D-4D55-9B5B-A2917B6EF0C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</a:t>
            </a: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47760" y="1857240"/>
            <a:ext cx="7896240" cy="2936880"/>
          </a:xfrm>
          <a:prstGeom prst="rect">
            <a:avLst/>
          </a:prstGeom>
          <a:ln w="0">
            <a:noFill/>
          </a:ln>
        </p:spPr>
      </p:pic>
      <p:sp>
        <p:nvSpPr>
          <p:cNvPr id="186" name="Vývojový diagram: alternativní postup 6"/>
          <p:cNvSpPr/>
          <p:nvPr/>
        </p:nvSpPr>
        <p:spPr>
          <a:xfrm>
            <a:off x="1357200" y="3786120"/>
            <a:ext cx="778680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D311-E4B5-4801-A9C8-3CADD01A52B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–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389240" y="1285920"/>
            <a:ext cx="7754760" cy="4529160"/>
          </a:xfrm>
          <a:prstGeom prst="rect">
            <a:avLst/>
          </a:prstGeom>
          <a:ln w="0">
            <a:noFill/>
          </a:ln>
        </p:spPr>
      </p:pic>
      <p:sp>
        <p:nvSpPr>
          <p:cNvPr id="19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8867-CD2F-42ED-8644-44AF51093C5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689120"/>
            <a:ext cx="7858080" cy="285444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Vývojový diagram: alternativní postup 6"/>
          <p:cNvSpPr/>
          <p:nvPr/>
        </p:nvSpPr>
        <p:spPr>
          <a:xfrm>
            <a:off x="7858080" y="1643040"/>
            <a:ext cx="428760" cy="2253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706E-2FE9-426E-B005-04C64C4D0CB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7547040" cy="3714480"/>
          </a:xfrm>
          <a:prstGeom prst="rect">
            <a:avLst/>
          </a:prstGeom>
          <a:ln w="0">
            <a:noFill/>
          </a:ln>
        </p:spPr>
      </p:pic>
      <p:sp>
        <p:nvSpPr>
          <p:cNvPr id="198" name="Vývojový diagram: alternativní postup 6"/>
          <p:cNvSpPr/>
          <p:nvPr/>
        </p:nvSpPr>
        <p:spPr>
          <a:xfrm>
            <a:off x="1427040" y="3571920"/>
            <a:ext cx="7500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F8F9-7095-42D9-A12E-CB8DC38F924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365120" y="2357280"/>
            <a:ext cx="7778880" cy="1638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FF78-6DA5-4E52-8C26-1397C6111B5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7702560" cy="4022640"/>
          </a:xfrm>
          <a:prstGeom prst="rect">
            <a:avLst/>
          </a:prstGeom>
          <a:ln w="0">
            <a:noFill/>
          </a:ln>
        </p:spPr>
      </p:pic>
      <p:sp>
        <p:nvSpPr>
          <p:cNvPr id="205" name="Vývojový diagram: alternativní postup 6"/>
          <p:cNvSpPr/>
          <p:nvPr/>
        </p:nvSpPr>
        <p:spPr>
          <a:xfrm>
            <a:off x="1357200" y="507204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0588-D215-411C-8FC4-92AFAD48A35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35F2-E543-498B-A274-C17C3C7CE07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774396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provázanost 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 projektové žádost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440000" y="1785960"/>
            <a:ext cx="7489800" cy="4275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6"/>
          <p:cNvSpPr/>
          <p:nvPr/>
        </p:nvSpPr>
        <p:spPr>
          <a:xfrm>
            <a:off x="1428840" y="29289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428840" y="357192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8"/>
          <p:cNvSpPr/>
          <p:nvPr/>
        </p:nvSpPr>
        <p:spPr>
          <a:xfrm>
            <a:off x="1428840" y="50007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délník 9"/>
          <p:cNvSpPr/>
          <p:nvPr/>
        </p:nvSpPr>
        <p:spPr>
          <a:xfrm>
            <a:off x="1428840" y="571500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délník 10"/>
          <p:cNvSpPr/>
          <p:nvPr/>
        </p:nvSpPr>
        <p:spPr>
          <a:xfrm>
            <a:off x="5214960" y="221472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1"/>
          <p:cNvSpPr/>
          <p:nvPr/>
        </p:nvSpPr>
        <p:spPr>
          <a:xfrm>
            <a:off x="5214960" y="257184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délník 12"/>
          <p:cNvSpPr/>
          <p:nvPr/>
        </p:nvSpPr>
        <p:spPr>
          <a:xfrm>
            <a:off x="5214960" y="29289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3"/>
          <p:cNvSpPr/>
          <p:nvPr/>
        </p:nvSpPr>
        <p:spPr>
          <a:xfrm>
            <a:off x="5214960" y="3286080"/>
            <a:ext cx="3714840" cy="2858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4"/>
          <p:cNvSpPr/>
          <p:nvPr/>
        </p:nvSpPr>
        <p:spPr>
          <a:xfrm>
            <a:off x="5214960" y="4643280"/>
            <a:ext cx="3714840" cy="357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5"/>
          <p:cNvSpPr/>
          <p:nvPr/>
        </p:nvSpPr>
        <p:spPr>
          <a:xfrm>
            <a:off x="1428840" y="257184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6"/>
          <p:cNvSpPr/>
          <p:nvPr/>
        </p:nvSpPr>
        <p:spPr>
          <a:xfrm>
            <a:off x="5214960" y="50007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7"/>
          <p:cNvSpPr/>
          <p:nvPr/>
        </p:nvSpPr>
        <p:spPr>
          <a:xfrm>
            <a:off x="5214960" y="1785960"/>
            <a:ext cx="3714840" cy="4287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484C-B630-4F6A-8DD4-F792B43F84B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f3912c"/>
                </a:solidFill>
                <a:latin typeface="Calibri"/>
              </a:rPr>
              <a:t>Křížové financování/odpisy</a:t>
            </a:r>
            <a:endParaRPr b="1" lang="en-US" sz="46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386840" cy="3857760"/>
          </a:xfrm>
          <a:prstGeom prst="rect">
            <a:avLst/>
          </a:prstGeom>
          <a:ln w="0">
            <a:noFill/>
          </a:ln>
        </p:spPr>
      </p:pic>
      <p:sp>
        <p:nvSpPr>
          <p:cNvPr id="212" name="Vývojový diagram: alternativní postup 8"/>
          <p:cNvSpPr/>
          <p:nvPr/>
        </p:nvSpPr>
        <p:spPr>
          <a:xfrm>
            <a:off x="1500120" y="4143240"/>
            <a:ext cx="735804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Vývojový diagram: alternativní postup 9"/>
          <p:cNvSpPr/>
          <p:nvPr/>
        </p:nvSpPr>
        <p:spPr>
          <a:xfrm>
            <a:off x="1500120" y="4572000"/>
            <a:ext cx="72867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86D7-2F16-49D2-B265-C9873203843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7200" y="242892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řízení nebo vybavení musí být používá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realizaci aktivit, na kterých se podílí cí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upina (např. školení, výuka, praxe, prá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cvik atd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97B3-BC6F-473A-8164-F8EC74E138B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3920" y="142848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0 tis. Kč za položku, pokud splňuje následujíc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9324-C2EF-4987-B412-7E0D6D471B3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38440"/>
            <a:ext cx="8215560" cy="761760"/>
          </a:xfrm>
          <a:prstGeom prst="rect">
            <a:avLst/>
          </a:prstGeom>
          <a:ln w="0">
            <a:noFill/>
          </a:ln>
        </p:spPr>
      </p:pic>
      <p:sp>
        <p:nvSpPr>
          <p:cNvPr id="223" name="TextovéPole 4"/>
          <p:cNvSpPr/>
          <p:nvPr/>
        </p:nvSpPr>
        <p:spPr>
          <a:xfrm>
            <a:off x="1285920" y="3000240"/>
            <a:ext cx="77151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íl výdajů této kapitoly – Místní kancelář na celkových způsobilých výdajích smí čini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žijní náklady v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smt.cz/strukturalnifondy/rezijni-naklady-op-v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Vývojový diagram: alternativní postup 5"/>
          <p:cNvSpPr/>
          <p:nvPr/>
        </p:nvSpPr>
        <p:spPr>
          <a:xfrm>
            <a:off x="778680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E328-3ADB-423C-8671-E5E4BC19793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7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743120"/>
            <a:ext cx="7867800" cy="1149480"/>
          </a:xfrm>
          <a:prstGeom prst="rect">
            <a:avLst/>
          </a:prstGeom>
          <a:ln w="0">
            <a:noFill/>
          </a:ln>
        </p:spPr>
      </p:pic>
      <p:sp>
        <p:nvSpPr>
          <p:cNvPr id="228" name="TextovéPole 4"/>
          <p:cNvSpPr/>
          <p:nvPr/>
        </p:nvSpPr>
        <p:spPr>
          <a:xfrm>
            <a:off x="1285920" y="3286080"/>
            <a:ext cx="7715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ubytování v ČR – max. 1 200 Kč za osob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noc (případně nižší dle interních předpisů dané organiza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Vývojový diagram: alternativní postup 6"/>
          <p:cNvSpPr/>
          <p:nvPr/>
        </p:nvSpPr>
        <p:spPr>
          <a:xfrm>
            <a:off x="785808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3DFA-17D0-4FCB-9F11-C1AAD2F30AF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285920" y="1730520"/>
            <a:ext cx="7858080" cy="58716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4"/>
          <p:cNvSpPr/>
          <p:nvPr/>
        </p:nvSpPr>
        <p:spPr>
          <a:xfrm>
            <a:off x="1571760" y="2500200"/>
            <a:ext cx="72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mí přesáhnout částku za všechny dokončené stavební úpravy v jednom zdaňovacím období v úhrnu 40 tis.  Kč (pořizovací cena) na každou jednotlivou účetní položku majet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C7DE-55AC-4732-8B51-7FE507B7A79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563840"/>
            <a:ext cx="7572240" cy="74268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4"/>
          <p:cNvSpPr/>
          <p:nvPr/>
        </p:nvSpPr>
        <p:spPr>
          <a:xfrm>
            <a:off x="1285920" y="2428920"/>
            <a:ext cx="78580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zároveň dle interních předpisů dané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Vývojový diagram: alternativní postup 5"/>
          <p:cNvSpPr/>
          <p:nvPr/>
        </p:nvSpPr>
        <p:spPr>
          <a:xfrm>
            <a:off x="7643880" y="1571760"/>
            <a:ext cx="642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7988-D278-415F-9A9E-D1B89F72209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7715160" cy="749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4"/>
          <p:cNvSpPr/>
          <p:nvPr/>
        </p:nvSpPr>
        <p:spPr>
          <a:xfrm>
            <a:off x="1500120" y="285768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D55E-9B14-46E3-B250-24F4D4FDCE1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246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248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43240"/>
            <a:ext cx="7232760" cy="586080"/>
          </a:xfrm>
          <a:prstGeom prst="rect">
            <a:avLst/>
          </a:prstGeom>
          <a:ln w="0">
            <a:noFill/>
          </a:ln>
        </p:spPr>
      </p:pic>
      <p:pic>
        <p:nvPicPr>
          <p:cNvPr id="249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29120"/>
            <a:ext cx="7189920" cy="208080"/>
          </a:xfrm>
          <a:prstGeom prst="rect">
            <a:avLst/>
          </a:prstGeom>
          <a:ln w="0">
            <a:noFill/>
          </a:ln>
        </p:spPr>
      </p:pic>
      <p:pic>
        <p:nvPicPr>
          <p:cNvPr id="250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286240"/>
            <a:ext cx="6929280" cy="214560"/>
          </a:xfrm>
          <a:prstGeom prst="rect">
            <a:avLst/>
          </a:prstGeom>
          <a:ln w="0">
            <a:noFill/>
          </a:ln>
        </p:spPr>
      </p:pic>
      <p:sp>
        <p:nvSpPr>
          <p:cNvPr id="251" name="Vývojový diagram: alternativní postup 9"/>
          <p:cNvSpPr/>
          <p:nvPr/>
        </p:nvSpPr>
        <p:spPr>
          <a:xfrm>
            <a:off x="6929280" y="5286240"/>
            <a:ext cx="78588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Vývojový diagram: alternativní postup 14"/>
          <p:cNvSpPr/>
          <p:nvPr/>
        </p:nvSpPr>
        <p:spPr>
          <a:xfrm>
            <a:off x="1357200" y="2500200"/>
            <a:ext cx="7000920" cy="14292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Vývojový diagram: alternativní postup 15"/>
          <p:cNvSpPr/>
          <p:nvPr/>
        </p:nvSpPr>
        <p:spPr>
          <a:xfrm>
            <a:off x="1428840" y="4143240"/>
            <a:ext cx="700092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Vývojový diagram: alternativní postup 16"/>
          <p:cNvSpPr/>
          <p:nvPr/>
        </p:nvSpPr>
        <p:spPr>
          <a:xfrm>
            <a:off x="1428840" y="3357720"/>
            <a:ext cx="7000920" cy="142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Vývojový diagram: alternativní postup 17"/>
          <p:cNvSpPr/>
          <p:nvPr/>
        </p:nvSpPr>
        <p:spPr>
          <a:xfrm>
            <a:off x="1428840" y="1714680"/>
            <a:ext cx="700092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905C-F3D2-4E2F-BFEC-ED793E66865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1571760"/>
            <a:ext cx="7643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1BB7-B132-4317-9323-363A7BB4D85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428480" y="18568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é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Základní pravidla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 způsobilost výdajů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30B3-88DC-4937-9C74-6B49AEA1F38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P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65120" y="1160640"/>
            <a:ext cx="7564680" cy="4798800"/>
          </a:xfrm>
          <a:prstGeom prst="rect">
            <a:avLst/>
          </a:prstGeom>
          <a:ln w="0">
            <a:noFill/>
          </a:ln>
        </p:spPr>
      </p:pic>
      <p:sp>
        <p:nvSpPr>
          <p:cNvPr id="26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FE5C-0C3D-4A44-BE6C-CAABD2325F7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CC2F-22FA-416A-BC33-B594ABD1F1C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285560" y="150012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7EC6-8C9A-4FB0-98F1-4342A957860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6366-3FC9-4F4D-8B7C-F7A1E4ACFFC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F212-C88C-4ED2-968D-959C67BB40D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6C1E-D801-4F34-9239-CF7D38C41E8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 Oblast příjmů je vždy upravena danou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FE39-A103-4F17-AED0-7A4BD069AAD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5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0FCF-7B7D-480F-BC76-907E0592A26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32000" y="5286240"/>
            <a:ext cx="756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e mezd/platů v projektech OP V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vyse-mezd-platu-v-projektech-op-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1486080" y="1571760"/>
            <a:ext cx="7300800" cy="3643200"/>
          </a:xfrm>
          <a:prstGeom prst="rect">
            <a:avLst/>
          </a:prstGeom>
          <a:ln w="0">
            <a:noFill/>
          </a:ln>
        </p:spPr>
      </p:pic>
      <p:sp>
        <p:nvSpPr>
          <p:cNvPr id="1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6F9F-FF44-4A21-A686-07D886043A3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7691400" cy="4071960"/>
          </a:xfrm>
          <a:prstGeom prst="rect">
            <a:avLst/>
          </a:prstGeom>
          <a:ln w="0">
            <a:noFill/>
          </a:ln>
        </p:spPr>
      </p:pic>
      <p:sp>
        <p:nvSpPr>
          <p:cNvPr id="158" name="Vývojový diagram: alternativní postup 4"/>
          <p:cNvSpPr/>
          <p:nvPr/>
        </p:nvSpPr>
        <p:spPr>
          <a:xfrm>
            <a:off x="1428840" y="3429000"/>
            <a:ext cx="7715160" cy="28584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E480-35C0-4CDD-BB73-55C6A06DEE2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7143840" cy="521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ealizační tým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1285920" y="62866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82B2-8B15-405B-855D-312E7D28D4D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428840" y="2608200"/>
            <a:ext cx="7715160" cy="1690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popis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FA49-0EBF-4F71-A2DE-443159741D4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7645680" cy="3714840"/>
          </a:xfrm>
          <a:prstGeom prst="rect">
            <a:avLst/>
          </a:prstGeom>
          <a:ln w="0">
            <a:noFill/>
          </a:ln>
        </p:spPr>
      </p:pic>
      <p:sp>
        <p:nvSpPr>
          <p:cNvPr id="169" name="Vývojový diagram: alternativní postup 6"/>
          <p:cNvSpPr/>
          <p:nvPr/>
        </p:nvSpPr>
        <p:spPr>
          <a:xfrm>
            <a:off x="1357200" y="228600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5D77-E5B3-42B3-9CF1-4B8D85A5F7E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71760" y="928800"/>
            <a:ext cx="7000920" cy="521172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ED9-728C-416D-BB16-7480857C913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1:29:43Z</dcterms:modified>
  <cp:revision>83</cp:revision>
  <dc:subject/>
  <dc:title>Snímek 1</dc:title>
</cp:coreProperties>
</file>