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061B-E05B-4A71-AB44-316EC02A08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7FF8-CA93-4B50-93F6-268A364625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6256-F3A1-404A-859B-F138D36E2E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8171-CC87-4E40-9FD3-106E64D002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B6660-69E2-4708-8617-2524BD6B39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EE72-1AA8-4F73-B898-0253C8135B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7D972-791F-476A-AAF5-D21978EF23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BC58-247A-4E82-9F47-117DDE8348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E616-D696-4105-9038-675DCE38D9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BAD8-9668-4E9C-912C-11EF68A688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789D-A71E-4796-962E-CC63DE9199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3ED8-CF8F-46B5-841E-28610F954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PhDr. Alena Tří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PhDr. Alena Tří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46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PhDr. Alena Tří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BD7D-F0B7-43D5-9890-F808F8E4A87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Oblast podpory 2.3 </a:t>
            </a:r>
            <a:br>
              <a:rPr sz="48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Lidské zdroje ve výzkumu a vývoji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Zástupný symbol pro číslo snímku 6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4C81-CEEF-410C-AA99-CAD31B07148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85920" y="1499760"/>
            <a:ext cx="750096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voj vzdělanostní společnosti za účelem posílení konkurenceschopnosti ČR prostřednictvím modernizace systémů vzdělávání a zlepšení podmínek ve výzkumu a vývo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Cíl OP VK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85920" y="171468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62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kvalitnění personálního zabezpečení výzkumu a vývo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stupy: proškolené a podpořené oso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dukty-metodiky, vzdělávací progra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Cíl oblasti podpory 2.3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B523-150E-4056-AE82-33079A455D2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85560" y="1142640"/>
            <a:ext cx="77151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n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dělá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born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 oblasti řízení, popularizace a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tváření týmů, zapojení do mezinárodních sítí, intersektorální mobilita (krátkodobé odborné stáž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áce se studenty (žáky) – motivace ke studiu a práci ve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odporované aktivit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D00B-BAEB-42D9-9B05-8CAD47CB87D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285920" y="1000080"/>
            <a:ext cx="785808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01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ora vědecké práce studentů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covníků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zdy pro pracovníky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vá pracovní místa ve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dávání vědeckých publika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louhodobé zahraniční stáž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684E-02E4-415E-A6D1-751D05EE3B4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285920" y="1714320"/>
            <a:ext cx="7858080" cy="35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0560" indent="-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lá ČR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imo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hl. město Pra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ad na cílovou skupinu mimo Prahu (např. studenti VŠ se sídlem v Praze studující na fakultě mimo Prah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uze občané ČR, osoby s trvalým pobytem v Č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858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Území dopadu, cílové skupin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4476-B556-43F1-A9E8-300B18D01F5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85920" y="1714680"/>
            <a:ext cx="785808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lvl="1" marL="244800" indent="-1443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lá ČR včetně hl. m. Pra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0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0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tnerství: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44800" indent="-1443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ávnické osoby se sídlem v Č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Území realizace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2D0C-B8B2-4CD3-9E30-1857B5F7668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11-18T16:04:16Z</dcterms:modified>
  <cp:revision>54</cp:revision>
  <dc:subject/>
  <dc:title>Snímek 1</dc:title>
</cp:coreProperties>
</file>