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6.xml.rels" ContentType="application/vnd.openxmlformats-package.relationships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9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5.png" ContentType="image/png"/>
  <Override PartName="/ppt/media/image30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29.png" ContentType="image/png"/>
  <Override PartName="/ppt/media/image21.jpeg" ContentType="image/jpeg"/>
  <Override PartName="/ppt/media/image12.png" ContentType="image/png"/>
  <Override PartName="/ppt/media/image23.jpeg" ContentType="image/jpeg"/>
  <Override PartName="/ppt/media/image2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3912c"/>
                </a:solidFill>
                <a:latin typeface="Calibri"/>
              </a:rPr>
              <a:t>Click to move the slide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7FB31-242F-41F3-A5EC-2C42BFB2BF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67CD6-95FB-40F8-9A4D-1D8B5BC450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Zástupný symbol pro datum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20.6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6CD3F-96DA-4F6B-876A-398DE140BA0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009C3-2348-412F-9A77-35B26EEB4A0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9170C-FABE-43D9-8CAA-2C9842B2178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0082B-2785-4A9F-A837-02394A30227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29A9C-6C29-41A5-BC1A-890330F5F4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CB035-78AA-46F2-80E9-D8F6344170A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EA3DF-BF7D-4778-9D7D-E69B302B382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6D404-B0FD-4A70-9934-9499A1B31AE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A7725-8233-4E0D-88CF-D71AEA92C83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90BA7-2FCF-4A5C-8A4A-FB0D0F65F1A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0150E-B048-477C-9C98-B939105FAC0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BEED5-37E6-47EC-B414-AE26DD1DA5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Zástupný symbol pro datum 3"/>
          <p:cNvSpPr/>
          <p:nvPr/>
        </p:nvSpPr>
        <p:spPr>
          <a:xfrm>
            <a:off x="6572160" y="6215040"/>
            <a:ext cx="235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20. listopadu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Zástupný symbol pro datum 3"/>
          <p:cNvSpPr/>
          <p:nvPr/>
        </p:nvSpPr>
        <p:spPr>
          <a:xfrm>
            <a:off x="1500120" y="6215040"/>
            <a:ext cx="3143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Ing. Helena Viktorie Barbořák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20"/>
          <p:cNvSpPr/>
          <p:nvPr/>
        </p:nvSpPr>
        <p:spPr>
          <a:xfrm rot="16200000">
            <a:off x="-189360" y="5052240"/>
            <a:ext cx="27144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365f91"/>
                </a:solidFill>
                <a:latin typeface="Arial Narrow"/>
              </a:rPr>
              <a:t>I N V E S T I C E   D O   R O Z V O J E   V Z D Ě L Á V Á N 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9" descr=""/>
          <p:cNvPicPr/>
          <p:nvPr/>
        </p:nvPicPr>
        <p:blipFill>
          <a:blip r:embed="rId2"/>
          <a:stretch/>
        </p:blipFill>
        <p:spPr>
          <a:xfrm>
            <a:off x="285840" y="3981600"/>
            <a:ext cx="598320" cy="2476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ástupný symbol pro datum 3"/>
          <p:cNvSpPr/>
          <p:nvPr/>
        </p:nvSpPr>
        <p:spPr>
          <a:xfrm>
            <a:off x="6572160" y="6215040"/>
            <a:ext cx="235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20. listopadu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ástupný symbol pro datum 3"/>
          <p:cNvSpPr/>
          <p:nvPr/>
        </p:nvSpPr>
        <p:spPr>
          <a:xfrm>
            <a:off x="1500120" y="6215040"/>
            <a:ext cx="3143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Ing. Helena Viktorie Barbořák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20"/>
          <p:cNvSpPr/>
          <p:nvPr/>
        </p:nvSpPr>
        <p:spPr>
          <a:xfrm rot="16200000">
            <a:off x="-189360" y="5052240"/>
            <a:ext cx="27144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365f91"/>
                </a:solidFill>
                <a:latin typeface="Arial Narrow"/>
              </a:rPr>
              <a:t>I N V E S T I C E   D O   R O Z V O J E   V Z D Ě L Á V Á N 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9" descr=""/>
          <p:cNvPicPr/>
          <p:nvPr/>
        </p:nvPicPr>
        <p:blipFill>
          <a:blip r:embed="rId2"/>
          <a:stretch/>
        </p:blipFill>
        <p:spPr>
          <a:xfrm>
            <a:off x="285840" y="3981600"/>
            <a:ext cx="598320" cy="2476440"/>
          </a:xfrm>
          <a:prstGeom prst="rect">
            <a:avLst/>
          </a:prstGeom>
          <a:ln w="0">
            <a:noFill/>
          </a:ln>
        </p:spPr>
      </p:pic>
      <p:sp>
        <p:nvSpPr>
          <p:cNvPr id="46" name="Zástupný symbol pro datum 3"/>
          <p:cNvSpPr/>
          <p:nvPr/>
        </p:nvSpPr>
        <p:spPr>
          <a:xfrm>
            <a:off x="1071720" y="55720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Calibri"/>
              </a:rPr>
              <a:t>Ministerstvo školství, mládeže a tělovýcho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Zástupný symbol pro datum 3"/>
          <p:cNvSpPr/>
          <p:nvPr/>
        </p:nvSpPr>
        <p:spPr>
          <a:xfrm>
            <a:off x="6572160" y="6215040"/>
            <a:ext cx="235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20. listopadu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Zástupný symbol pro datum 3"/>
          <p:cNvSpPr/>
          <p:nvPr/>
        </p:nvSpPr>
        <p:spPr>
          <a:xfrm>
            <a:off x="1500120" y="6215040"/>
            <a:ext cx="3143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Ing. Helena Viktorie Barbořák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0"/>
          <p:cNvSpPr/>
          <p:nvPr/>
        </p:nvSpPr>
        <p:spPr>
          <a:xfrm rot="16200000">
            <a:off x="-189360" y="5052240"/>
            <a:ext cx="27144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365f91"/>
                </a:solidFill>
                <a:latin typeface="Arial Narrow"/>
              </a:rPr>
              <a:t>I N V E S T I C E   D O   R O Z V O J E   V Z D Ě L Á V Á N 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9" descr=""/>
          <p:cNvPicPr/>
          <p:nvPr/>
        </p:nvPicPr>
        <p:blipFill>
          <a:blip r:embed="rId2"/>
          <a:stretch/>
        </p:blipFill>
        <p:spPr>
          <a:xfrm>
            <a:off x="285840" y="3981600"/>
            <a:ext cx="598320" cy="24764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sldNum" idx="1"/>
          </p:nvPr>
        </p:nvSpPr>
        <p:spPr>
          <a:xfrm>
            <a:off x="107136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DED49-34EE-4BE0-8A27-02E0CD502713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3912c"/>
                </a:solidFill>
                <a:latin typeface="Calibri"/>
              </a:rPr>
              <a:t>Click to edit the title text format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3912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3912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msmt.cz/strukturalnifondy/rezijni-naklady-op-vk" TargetMode="External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msmt.cz/strukturalni-fondy/vyse-mezd-platu-v-projektech-op-vk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800100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endParaRPr b="1" lang="en-US" sz="72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II. Osobní náklady – klíčové aktivity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357200" y="1000080"/>
            <a:ext cx="7623360" cy="4797360"/>
          </a:xfrm>
          <a:prstGeom prst="rect">
            <a:avLst/>
          </a:prstGeom>
          <a:ln w="0">
            <a:noFill/>
          </a:ln>
        </p:spPr>
      </p:pic>
      <p:sp>
        <p:nvSpPr>
          <p:cNvPr id="176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23ED1-1BE9-42FE-B79A-E6A3D49D7129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 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Cestovní náhrad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178" name="Zástupný symbol pro obsah 4" descr="04_zadost34_2_crop.jpg"/>
          <p:cNvPicPr/>
          <p:nvPr/>
        </p:nvPicPr>
        <p:blipFill>
          <a:blip r:embed="rId1"/>
          <a:stretch/>
        </p:blipFill>
        <p:spPr>
          <a:xfrm>
            <a:off x="1285920" y="1714680"/>
            <a:ext cx="7756560" cy="2071440"/>
          </a:xfrm>
          <a:prstGeom prst="rect">
            <a:avLst/>
          </a:prstGeom>
          <a:ln w="0">
            <a:noFill/>
          </a:ln>
        </p:spPr>
      </p:pic>
      <p:sp>
        <p:nvSpPr>
          <p:cNvPr id="179" name="TextovéPole 6"/>
          <p:cNvSpPr/>
          <p:nvPr/>
        </p:nvSpPr>
        <p:spPr>
          <a:xfrm>
            <a:off x="1285920" y="4071960"/>
            <a:ext cx="7286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cenový limi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ubytování v ČR – max. 1 200 Kč za osobu a noc a zároveň dle interních předpisů dané organizace, pokud jsou nižší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6BEE1-4DEF-4846-BA5D-3861D8324DBF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85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Cestovní náhrady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03280" y="1143000"/>
            <a:ext cx="712944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ostatečně rozepsány v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klíčových aktivitá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 projektové žádosti by se mělo vyčí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3912c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do jed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3912c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am jed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3912c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č tam jed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hraniční služební cesty, které nejsou uvedeny ve schválené projektové žádosti, nebude možné vykon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3AA2F-D717-44CF-8C9B-6AD25A6AE582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85920" y="28548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Cestovní náhrady </a:t>
            </a: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–</a:t>
            </a: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 rozpočet projektu</a:t>
            </a:r>
            <a:endParaRPr b="1" lang="en-US" sz="38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1247760" y="1857240"/>
            <a:ext cx="7896240" cy="2936880"/>
          </a:xfrm>
          <a:prstGeom prst="rect">
            <a:avLst/>
          </a:prstGeom>
          <a:ln w="0">
            <a:noFill/>
          </a:ln>
        </p:spPr>
      </p:pic>
      <p:sp>
        <p:nvSpPr>
          <p:cNvPr id="186" name="Vývojový diagram: alternativní postup 6"/>
          <p:cNvSpPr/>
          <p:nvPr/>
        </p:nvSpPr>
        <p:spPr>
          <a:xfrm>
            <a:off x="1357200" y="3786120"/>
            <a:ext cx="7786800" cy="21456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913A1-2F0C-4C14-B0F9-3D944235032E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85920" y="28548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Cestovní náhrady – klíčové aktivity</a:t>
            </a:r>
            <a:endParaRPr b="1" lang="en-US" sz="38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1389240" y="1285920"/>
            <a:ext cx="7754760" cy="4529160"/>
          </a:xfrm>
          <a:prstGeom prst="rect">
            <a:avLst/>
          </a:prstGeom>
          <a:ln w="0">
            <a:noFill/>
          </a:ln>
        </p:spPr>
      </p:pic>
      <p:sp>
        <p:nvSpPr>
          <p:cNvPr id="190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71F5B-72C4-418B-944A-790666C22565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Zaříze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192" name="Zástupný symbol pro obsah 4" descr="04_zadost34_2_crop.jpg"/>
          <p:cNvPicPr/>
          <p:nvPr/>
        </p:nvPicPr>
        <p:blipFill>
          <a:blip r:embed="rId1"/>
          <a:stretch/>
        </p:blipFill>
        <p:spPr>
          <a:xfrm>
            <a:off x="1285920" y="1689120"/>
            <a:ext cx="7858080" cy="2854440"/>
          </a:xfrm>
          <a:prstGeom prst="rect">
            <a:avLst/>
          </a:prstGeom>
          <a:ln w="0">
            <a:noFill/>
          </a:ln>
        </p:spPr>
      </p:pic>
      <p:sp>
        <p:nvSpPr>
          <p:cNvPr id="193" name="TextovéPole 4"/>
          <p:cNvSpPr/>
          <p:nvPr/>
        </p:nvSpPr>
        <p:spPr>
          <a:xfrm>
            <a:off x="1285920" y="4786200"/>
            <a:ext cx="72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íl výdajů na pořízení zařízení a vybavení na celkových způsobilých výdajích smí činit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ejvýše 25 % včetně křížového financová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Vývojový diagram: alternativní postup 6"/>
          <p:cNvSpPr/>
          <p:nvPr/>
        </p:nvSpPr>
        <p:spPr>
          <a:xfrm>
            <a:off x="7858080" y="1643040"/>
            <a:ext cx="428760" cy="22536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CD2E7-0860-4026-8A7E-2C6B8866D9A5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I. Zařízení </a:t>
            </a: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–</a:t>
            </a: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 rozpočet projektu</a:t>
            </a:r>
            <a:endParaRPr b="1" lang="en-US" sz="38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1428840" y="1714680"/>
            <a:ext cx="7547040" cy="3714480"/>
          </a:xfrm>
          <a:prstGeom prst="rect">
            <a:avLst/>
          </a:prstGeom>
          <a:ln w="0">
            <a:noFill/>
          </a:ln>
        </p:spPr>
      </p:pic>
      <p:sp>
        <p:nvSpPr>
          <p:cNvPr id="198" name="Vývojový diagram: alternativní postup 6"/>
          <p:cNvSpPr/>
          <p:nvPr/>
        </p:nvSpPr>
        <p:spPr>
          <a:xfrm>
            <a:off x="1427040" y="3571920"/>
            <a:ext cx="7500960" cy="21420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4AE5A-4EBF-4738-A96E-3DE090DA274A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365120" y="2357280"/>
            <a:ext cx="7778880" cy="163836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I. Zařízení – rozpočet projektu</a:t>
            </a:r>
            <a:endParaRPr b="1" lang="en-US" sz="3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D3834-11CF-4AE1-9F61-7D705C443AC3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II. Zařízení </a:t>
            </a: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–</a:t>
            </a: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 rozpočet projektu</a:t>
            </a:r>
            <a:endParaRPr b="1" lang="en-US" sz="38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1285920" y="1500120"/>
            <a:ext cx="7702560" cy="4022640"/>
          </a:xfrm>
          <a:prstGeom prst="rect">
            <a:avLst/>
          </a:prstGeom>
          <a:ln w="0">
            <a:noFill/>
          </a:ln>
        </p:spPr>
      </p:pic>
      <p:sp>
        <p:nvSpPr>
          <p:cNvPr id="205" name="Vývojový diagram: alternativní postup 6"/>
          <p:cNvSpPr/>
          <p:nvPr/>
        </p:nvSpPr>
        <p:spPr>
          <a:xfrm>
            <a:off x="1357200" y="5072040"/>
            <a:ext cx="7572600" cy="21420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AB51E-3C1A-4474-8319-3E800FF51D50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II. Zařízení </a:t>
            </a: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–</a:t>
            </a: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 klíčové aktivity</a:t>
            </a:r>
            <a:endParaRPr b="1" lang="en-US" sz="3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8EB84-92A4-4684-B85D-D80FDBB43610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" descr=""/>
          <p:cNvPicPr/>
          <p:nvPr/>
        </p:nvPicPr>
        <p:blipFill>
          <a:blip r:embed="rId1"/>
          <a:stretch/>
        </p:blipFill>
        <p:spPr>
          <a:xfrm>
            <a:off x="1285920" y="1143000"/>
            <a:ext cx="7743960" cy="4714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85920" y="285840"/>
            <a:ext cx="78580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provázanost  </a:t>
            </a:r>
            <a:br>
              <a:rPr sz="4000"/>
            </a:b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 projektové žádosti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136" name="Picture 6" descr=""/>
          <p:cNvPicPr/>
          <p:nvPr/>
        </p:nvPicPr>
        <p:blipFill>
          <a:blip r:embed="rId1"/>
          <a:stretch/>
        </p:blipFill>
        <p:spPr>
          <a:xfrm>
            <a:off x="1440000" y="1785960"/>
            <a:ext cx="7489800" cy="4275000"/>
          </a:xfrm>
          <a:prstGeom prst="rect">
            <a:avLst/>
          </a:prstGeom>
          <a:ln w="0">
            <a:noFill/>
          </a:ln>
        </p:spPr>
      </p:pic>
      <p:sp>
        <p:nvSpPr>
          <p:cNvPr id="137" name="Obdélník 6"/>
          <p:cNvSpPr/>
          <p:nvPr/>
        </p:nvSpPr>
        <p:spPr>
          <a:xfrm>
            <a:off x="1428840" y="2928960"/>
            <a:ext cx="3786120" cy="3571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bdélník 7"/>
          <p:cNvSpPr/>
          <p:nvPr/>
        </p:nvSpPr>
        <p:spPr>
          <a:xfrm>
            <a:off x="1428840" y="3571920"/>
            <a:ext cx="3786120" cy="3571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bdélník 8"/>
          <p:cNvSpPr/>
          <p:nvPr/>
        </p:nvSpPr>
        <p:spPr>
          <a:xfrm>
            <a:off x="1428840" y="5000760"/>
            <a:ext cx="3786120" cy="3571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bdélník 9"/>
          <p:cNvSpPr/>
          <p:nvPr/>
        </p:nvSpPr>
        <p:spPr>
          <a:xfrm>
            <a:off x="1428840" y="5715000"/>
            <a:ext cx="3786120" cy="3571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bdélník 10"/>
          <p:cNvSpPr/>
          <p:nvPr/>
        </p:nvSpPr>
        <p:spPr>
          <a:xfrm>
            <a:off x="5214960" y="2214720"/>
            <a:ext cx="3714840" cy="3571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bdélník 11"/>
          <p:cNvSpPr/>
          <p:nvPr/>
        </p:nvSpPr>
        <p:spPr>
          <a:xfrm>
            <a:off x="5214960" y="2571840"/>
            <a:ext cx="3714840" cy="3571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bdélník 12"/>
          <p:cNvSpPr/>
          <p:nvPr/>
        </p:nvSpPr>
        <p:spPr>
          <a:xfrm>
            <a:off x="5214960" y="2928960"/>
            <a:ext cx="3714840" cy="3571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bdélník 13"/>
          <p:cNvSpPr/>
          <p:nvPr/>
        </p:nvSpPr>
        <p:spPr>
          <a:xfrm>
            <a:off x="5214960" y="3286080"/>
            <a:ext cx="3714840" cy="28584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bdélník 14"/>
          <p:cNvSpPr/>
          <p:nvPr/>
        </p:nvSpPr>
        <p:spPr>
          <a:xfrm>
            <a:off x="5214960" y="4643280"/>
            <a:ext cx="3714840" cy="35748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bdélník 15"/>
          <p:cNvSpPr/>
          <p:nvPr/>
        </p:nvSpPr>
        <p:spPr>
          <a:xfrm>
            <a:off x="1428840" y="2571840"/>
            <a:ext cx="3786120" cy="3571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bdélník 16"/>
          <p:cNvSpPr/>
          <p:nvPr/>
        </p:nvSpPr>
        <p:spPr>
          <a:xfrm>
            <a:off x="5214960" y="5000760"/>
            <a:ext cx="3714840" cy="3571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bdélník 17"/>
          <p:cNvSpPr/>
          <p:nvPr/>
        </p:nvSpPr>
        <p:spPr>
          <a:xfrm>
            <a:off x="5214960" y="1785960"/>
            <a:ext cx="3714840" cy="4287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FC847-64F0-4AD1-8376-FFA7F5D79EB2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600" spc="-1" strike="noStrike">
                <a:solidFill>
                  <a:srgbClr val="f3912c"/>
                </a:solidFill>
                <a:latin typeface="Calibri"/>
              </a:rPr>
              <a:t>Křížové financování/odpisy</a:t>
            </a:r>
            <a:endParaRPr b="1" lang="en-US" sz="46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1500120" y="1643040"/>
            <a:ext cx="7386840" cy="3857760"/>
          </a:xfrm>
          <a:prstGeom prst="rect">
            <a:avLst/>
          </a:prstGeom>
          <a:ln w="0">
            <a:noFill/>
          </a:ln>
        </p:spPr>
      </p:pic>
      <p:sp>
        <p:nvSpPr>
          <p:cNvPr id="212" name="Vývojový diagram: alternativní postup 8"/>
          <p:cNvSpPr/>
          <p:nvPr/>
        </p:nvSpPr>
        <p:spPr>
          <a:xfrm>
            <a:off x="1500120" y="4143240"/>
            <a:ext cx="7358040" cy="21456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Vývojový diagram: alternativní postup 9"/>
          <p:cNvSpPr/>
          <p:nvPr/>
        </p:nvSpPr>
        <p:spPr>
          <a:xfrm>
            <a:off x="1500120" y="4572000"/>
            <a:ext cx="7286760" cy="21420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C5C74-8386-4AF5-8A45-CCC26A976059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71360" y="500040"/>
            <a:ext cx="80722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Křížové financování</a:t>
            </a:r>
            <a:endParaRPr b="1" lang="en-US" sz="3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57200" y="2428920"/>
            <a:ext cx="7786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2" marL="332640" indent="-3326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ařízení nebo vybavení musí být používá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2640" indent="-3326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 realizaci aktivit, na kterých se podílí cíl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2640" indent="-3326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kupina (např. školení, výuka, praxe, práce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2640" indent="-3326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cvik atd.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163F3-3A1B-4923-892B-7B5337508135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71360" y="285840"/>
            <a:ext cx="80722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Křížové financování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213920" y="1428480"/>
            <a:ext cx="79297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daje na nákup zařízení a vybavení hmotné povahy s dobou použitelnosti nad 1 rok a pořizovací cenou nad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40 tis. Kč za položku, pokud splňuje následující podmín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daje na nábytek bez ohledu na výši pořizovací ceny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tavební úpravy, které jsou rekonstrukcí nebo modernizací, pokud převýšily u jednotlivého majetku v úhrnu ve zdaňovacím období částku 40 tis. Kč a jsou prováděny za účelem usnadnění přístupu a pohybu osobám zdravotně postiženým, nebo úpravy výukových, tréninkových nebo pracovních prostor, používaných na realizaci aktivit s cílovou skupinou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5A937-577B-40E0-AE92-AA758FFAE379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Místní kancelář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222" name="Zástupný symbol pro obsah 4" descr="04_zadost34_2_crop.jpg"/>
          <p:cNvPicPr/>
          <p:nvPr/>
        </p:nvPicPr>
        <p:blipFill>
          <a:blip r:embed="rId1"/>
          <a:stretch/>
        </p:blipFill>
        <p:spPr>
          <a:xfrm>
            <a:off x="1357200" y="1738440"/>
            <a:ext cx="8215560" cy="761760"/>
          </a:xfrm>
          <a:prstGeom prst="rect">
            <a:avLst/>
          </a:prstGeom>
          <a:ln w="0">
            <a:noFill/>
          </a:ln>
        </p:spPr>
      </p:pic>
      <p:sp>
        <p:nvSpPr>
          <p:cNvPr id="223" name="TextovéPole 4"/>
          <p:cNvSpPr/>
          <p:nvPr/>
        </p:nvSpPr>
        <p:spPr>
          <a:xfrm>
            <a:off x="1285920" y="3000240"/>
            <a:ext cx="7715160" cy="26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íl výdajů této kapitoly – Místní kancelář na celkových způsobilých výdajích smí činit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ejvýše 8 %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žijní náklady v OP V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msmt.cz/strukturalnifondy/rezijni-naklady-op-v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Vývojový diagram: alternativní postup 5"/>
          <p:cNvSpPr/>
          <p:nvPr/>
        </p:nvSpPr>
        <p:spPr>
          <a:xfrm>
            <a:off x="7786800" y="1714680"/>
            <a:ext cx="500040" cy="21420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8BCAF-B3A4-4752-9B18-D9D9145241E5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Nákup služeb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227" name="Zástupný symbol pro obsah 4" descr="04_zadost34_2_crop.jpg"/>
          <p:cNvPicPr/>
          <p:nvPr/>
        </p:nvPicPr>
        <p:blipFill>
          <a:blip r:embed="rId1"/>
          <a:stretch/>
        </p:blipFill>
        <p:spPr>
          <a:xfrm>
            <a:off x="1276200" y="1743120"/>
            <a:ext cx="7867800" cy="1149480"/>
          </a:xfrm>
          <a:prstGeom prst="rect">
            <a:avLst/>
          </a:prstGeom>
          <a:ln w="0">
            <a:noFill/>
          </a:ln>
        </p:spPr>
      </p:pic>
      <p:sp>
        <p:nvSpPr>
          <p:cNvPr id="228" name="TextovéPole 4"/>
          <p:cNvSpPr/>
          <p:nvPr/>
        </p:nvSpPr>
        <p:spPr>
          <a:xfrm>
            <a:off x="1285920" y="3286080"/>
            <a:ext cx="77151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odíl nákupu služeb na celkových způsobilých výdajích smí činit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nejvýše 49 %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Cenový limi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Občerstvení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stravné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– celodenní občerstvení max. 300 Kč na osobu, částka se bude krátit při necelodenních akcíc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Ubytování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– ubytování v ČR – max. 1 200 Kč za osobu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a noc (případně nižší dle interních předpisů dané organizace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Vývojový diagram: alternativní postup 6"/>
          <p:cNvSpPr/>
          <p:nvPr/>
        </p:nvSpPr>
        <p:spPr>
          <a:xfrm>
            <a:off x="7858080" y="1714680"/>
            <a:ext cx="500040" cy="21420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408D-FEBA-4D35-9147-A5D5C03DD688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Stavební úprav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232" name="Zástupný symbol pro obsah 4" descr="04_zadost34_3_crop.jpg"/>
          <p:cNvPicPr/>
          <p:nvPr/>
        </p:nvPicPr>
        <p:blipFill>
          <a:blip r:embed="rId1"/>
          <a:stretch/>
        </p:blipFill>
        <p:spPr>
          <a:xfrm>
            <a:off x="1285920" y="1730520"/>
            <a:ext cx="7858080" cy="587160"/>
          </a:xfrm>
          <a:prstGeom prst="rect">
            <a:avLst/>
          </a:prstGeom>
          <a:ln w="0">
            <a:noFill/>
          </a:ln>
        </p:spPr>
      </p:pic>
      <p:sp>
        <p:nvSpPr>
          <p:cNvPr id="233" name="TextovéPole 4"/>
          <p:cNvSpPr/>
          <p:nvPr/>
        </p:nvSpPr>
        <p:spPr>
          <a:xfrm>
            <a:off x="1571760" y="2500200"/>
            <a:ext cx="7215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buClr>
                <a:srgbClr val="f7964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esmí přesáhnout částku za všechny dokončené stavební úpravy v jednom zdaňovacím období v úhrnu 40 tis.  Kč (pořizovací cena) na každou jednotlivou účetní položku majetk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f7964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tavební úprava musí být provedena v souvislosti s úpravou pracovního místa nebo úpravou přístupu pro osoby se zdravotním postižením nebo úpravy výukových, tréninkových nebo pracovních prostor používaných na realizaci aktivit s cílovou skupin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AD9C-D1A8-46D8-8D2E-508FD0C87009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Přímá podpora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236" name="Zástupný symbol pro obsah 4" descr="04_zadost34_3_crop.jpg"/>
          <p:cNvPicPr/>
          <p:nvPr/>
        </p:nvPicPr>
        <p:blipFill>
          <a:blip r:embed="rId1"/>
          <a:stretch/>
        </p:blipFill>
        <p:spPr>
          <a:xfrm>
            <a:off x="1428840" y="1563840"/>
            <a:ext cx="7572240" cy="742680"/>
          </a:xfrm>
          <a:prstGeom prst="rect">
            <a:avLst/>
          </a:prstGeom>
          <a:ln w="0">
            <a:noFill/>
          </a:ln>
        </p:spPr>
      </p:pic>
      <p:sp>
        <p:nvSpPr>
          <p:cNvPr id="237" name="TextovéPole 4"/>
          <p:cNvSpPr/>
          <p:nvPr/>
        </p:nvSpPr>
        <p:spPr>
          <a:xfrm>
            <a:off x="1285920" y="2428920"/>
            <a:ext cx="785808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zdové příspěvk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sou poskytovány jako náhrada mzdy zaměstnavateli (ve výši hrubé mzdy včetně zákonných odvodů) pro pracovníka po dobu jeho účasti na dalším vzdělávání; mzdové náhrady se budou týkat pouze pedagogických, akademických a dalších pracovníků ve školství, a to maximálně do výše 70 % mzdových náhr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Ubytování, stravová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bytování v ČR – max. 1 200 Kč za osobu a noc (případně nižší dle interních předpisů dané organiza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travné – celodenní občerstvení max. 300 Kč na osobu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 zároveň dle interních předpisů dané organiz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ýdaje na přímou podporu jednotlivců mohou být poskytovány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ejvýše do 20%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celkových způsobilých výdajů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Vývojový diagram: alternativní postup 5"/>
          <p:cNvSpPr/>
          <p:nvPr/>
        </p:nvSpPr>
        <p:spPr>
          <a:xfrm>
            <a:off x="7643880" y="1571760"/>
            <a:ext cx="642960" cy="21420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D9D94-5D62-4EF1-BBD2-347573575626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Náklady vyplývající přímo ze smlouv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241" name="Zástupný symbol pro obsah 4" descr="04_zadost34_3_crop.jpg"/>
          <p:cNvPicPr/>
          <p:nvPr/>
        </p:nvPicPr>
        <p:blipFill>
          <a:blip r:embed="rId1"/>
          <a:stretch/>
        </p:blipFill>
        <p:spPr>
          <a:xfrm>
            <a:off x="1428840" y="1857240"/>
            <a:ext cx="7715160" cy="749520"/>
          </a:xfrm>
          <a:prstGeom prst="rect">
            <a:avLst/>
          </a:prstGeom>
          <a:ln w="0">
            <a:noFill/>
          </a:ln>
        </p:spPr>
      </p:pic>
      <p:sp>
        <p:nvSpPr>
          <p:cNvPr id="242" name="TextovéPole 4"/>
          <p:cNvSpPr/>
          <p:nvPr/>
        </p:nvSpPr>
        <p:spPr>
          <a:xfrm>
            <a:off x="1500120" y="2857680"/>
            <a:ext cx="714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u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případě, že rozpočet projektu je roven nebo vyšší než 3 000 000 Kč, je příjemce povinen zadat vybrané auditorské firmě zpracování závěrečného audi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4FADC-42DA-448D-B328-D14B72645FFE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Souhrn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245" name="Zástupný symbol pro obsah 4" descr="04_zadost34_3_crop.jpg"/>
          <p:cNvPicPr/>
          <p:nvPr/>
        </p:nvPicPr>
        <p:blipFill>
          <a:blip r:embed="rId1"/>
          <a:stretch/>
        </p:blipFill>
        <p:spPr>
          <a:xfrm>
            <a:off x="1357200" y="1714680"/>
            <a:ext cx="7272360" cy="539640"/>
          </a:xfrm>
          <a:prstGeom prst="rect">
            <a:avLst/>
          </a:prstGeom>
          <a:ln w="0">
            <a:noFill/>
          </a:ln>
        </p:spPr>
      </p:pic>
      <p:pic>
        <p:nvPicPr>
          <p:cNvPr id="246" name="Zástupný symbol pro obsah 4" descr="04_zadost34_3_crop.jpg"/>
          <p:cNvPicPr/>
          <p:nvPr/>
        </p:nvPicPr>
        <p:blipFill>
          <a:blip r:embed="rId2"/>
          <a:stretch/>
        </p:blipFill>
        <p:spPr>
          <a:xfrm>
            <a:off x="1322280" y="2476440"/>
            <a:ext cx="7392960" cy="523800"/>
          </a:xfrm>
          <a:prstGeom prst="rect">
            <a:avLst/>
          </a:prstGeom>
          <a:ln w="0">
            <a:noFill/>
          </a:ln>
        </p:spPr>
      </p:pic>
      <p:pic>
        <p:nvPicPr>
          <p:cNvPr id="247" name="Zástupný symbol pro obsah 4" descr="04_zadost34_3_crop.jpg"/>
          <p:cNvPicPr/>
          <p:nvPr/>
        </p:nvPicPr>
        <p:blipFill>
          <a:blip r:embed="rId3"/>
          <a:stretch/>
        </p:blipFill>
        <p:spPr>
          <a:xfrm>
            <a:off x="1357200" y="3344760"/>
            <a:ext cx="7358040" cy="527040"/>
          </a:xfrm>
          <a:prstGeom prst="rect">
            <a:avLst/>
          </a:prstGeom>
          <a:ln w="0">
            <a:noFill/>
          </a:ln>
        </p:spPr>
      </p:pic>
      <p:pic>
        <p:nvPicPr>
          <p:cNvPr id="248" name="Zástupný symbol pro obsah 4" descr="04_zadost34_3_crop.jpg"/>
          <p:cNvPicPr/>
          <p:nvPr/>
        </p:nvPicPr>
        <p:blipFill>
          <a:blip r:embed="rId4"/>
          <a:stretch/>
        </p:blipFill>
        <p:spPr>
          <a:xfrm>
            <a:off x="1357200" y="4143240"/>
            <a:ext cx="7232760" cy="586080"/>
          </a:xfrm>
          <a:prstGeom prst="rect">
            <a:avLst/>
          </a:prstGeom>
          <a:ln w="0">
            <a:noFill/>
          </a:ln>
        </p:spPr>
      </p:pic>
      <p:pic>
        <p:nvPicPr>
          <p:cNvPr id="249" name="Zástupný symbol pro obsah 4" descr="04_zadost34_3_crop.jpg"/>
          <p:cNvPicPr/>
          <p:nvPr/>
        </p:nvPicPr>
        <p:blipFill>
          <a:blip r:embed="rId5"/>
          <a:stretch/>
        </p:blipFill>
        <p:spPr>
          <a:xfrm>
            <a:off x="1382760" y="4929120"/>
            <a:ext cx="7189920" cy="208080"/>
          </a:xfrm>
          <a:prstGeom prst="rect">
            <a:avLst/>
          </a:prstGeom>
          <a:ln w="0">
            <a:noFill/>
          </a:ln>
        </p:spPr>
      </p:pic>
      <p:pic>
        <p:nvPicPr>
          <p:cNvPr id="250" name="Zástupný symbol pro obsah 4" descr="04_zadost34_3_crop.jpg"/>
          <p:cNvPicPr/>
          <p:nvPr/>
        </p:nvPicPr>
        <p:blipFill>
          <a:blip r:embed="rId6"/>
          <a:stretch/>
        </p:blipFill>
        <p:spPr>
          <a:xfrm>
            <a:off x="1428840" y="5286240"/>
            <a:ext cx="6929280" cy="214560"/>
          </a:xfrm>
          <a:prstGeom prst="rect">
            <a:avLst/>
          </a:prstGeom>
          <a:ln w="0">
            <a:noFill/>
          </a:ln>
        </p:spPr>
      </p:pic>
      <p:sp>
        <p:nvSpPr>
          <p:cNvPr id="251" name="Vývojový diagram: alternativní postup 9"/>
          <p:cNvSpPr/>
          <p:nvPr/>
        </p:nvSpPr>
        <p:spPr>
          <a:xfrm>
            <a:off x="6929280" y="5286240"/>
            <a:ext cx="785880" cy="21456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Vývojový diagram: alternativní postup 14"/>
          <p:cNvSpPr/>
          <p:nvPr/>
        </p:nvSpPr>
        <p:spPr>
          <a:xfrm>
            <a:off x="1357200" y="2500200"/>
            <a:ext cx="7000920" cy="14292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Vývojový diagram: alternativní postup 15"/>
          <p:cNvSpPr/>
          <p:nvPr/>
        </p:nvSpPr>
        <p:spPr>
          <a:xfrm>
            <a:off x="1428840" y="4143240"/>
            <a:ext cx="7000920" cy="21456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Vývojový diagram: alternativní postup 16"/>
          <p:cNvSpPr/>
          <p:nvPr/>
        </p:nvSpPr>
        <p:spPr>
          <a:xfrm>
            <a:off x="1428840" y="3357720"/>
            <a:ext cx="7000920" cy="14256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Vývojový diagram: alternativní postup 17"/>
          <p:cNvSpPr/>
          <p:nvPr/>
        </p:nvSpPr>
        <p:spPr>
          <a:xfrm>
            <a:off x="1428840" y="1714680"/>
            <a:ext cx="7000920" cy="21420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E09BC-C454-4B37-A846-1C9BF914F9A8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1285560" y="1571760"/>
            <a:ext cx="76438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DPH není způsobilým výdajem, pokud příjemce plnění má v tomto případě nárok na odpočet DPH na vstupu. Nárok na odpočet DPH je vymezen zákonem č. 235/2004 Sb., o dani z přidané hodnoty, ve znění pozdějších předpisů (dále jen „zákon o DPH“). Přičemž se způsobilost DPH vztahuje pouze na tu část plnění, které je samo způsobilým výdajem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Plátce DP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o osoby, které jsou plátci DPH (osobami registrovanými k DPH), je způsobilým výdajem ta část DPH, na kterou není u daného přijatého plnění nárok na odpočet v souladu se zákonem o DP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Neplátce DP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o osoby neregistrované k DPH je daň z přidané hodnoty způsobilým výdajem, neboť tyto osoby si nemohou nárokovat odpočet DPH na vstup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DPH a jiné daně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59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A2462-1316-4BE6-AF9E-CD0A224FE08A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1428480" y="1856880"/>
            <a:ext cx="771516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řiměřen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hospodárn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účeln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efektivní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rokazatelné výdaje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datum uskutečně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85920" y="28548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Základní pravidla </a:t>
            </a:r>
            <a:br>
              <a:rPr sz="4000"/>
            </a:b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ro způsobilost výdajů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2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E965E-94C7-4A07-BD7B-9E438E7B3540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PH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1365120" y="1160640"/>
            <a:ext cx="7564680" cy="4798800"/>
          </a:xfrm>
          <a:prstGeom prst="rect">
            <a:avLst/>
          </a:prstGeom>
          <a:ln w="0">
            <a:noFill/>
          </a:ln>
        </p:spPr>
      </p:pic>
      <p:sp>
        <p:nvSpPr>
          <p:cNvPr id="262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75232-FAD3-4FA2-B758-A935A638C46B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1357200" y="1571400"/>
            <a:ext cx="778680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ákupy vozidel, infrastruktury, nemovitostí a pozemků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úroky z úvěrů a půjček, pokud se nejedná o schválenou formu podpory z fondu ESF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právní poplatky (výpis z katastru nemovitostí, výpis z obchodního rejstříku apod.) bez přímé vazby na projek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áklady na audit v případě projektů s rozpočty nižšími než 3 mil. Kč vč. DPH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rezervy na možné budoucí ztráty a dluhy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kurzové ztráty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plátky finančního leasingu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plátky operativního leasingu související s nájmem vybavení a zařízení, které nebude výhradně využíváno pro potřeby cílové skupiny (např. vozidel pro potřeby realizačního týmu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ájemné, kdy je žadatel vlastníkem nemovitosti nebo ji užívá zdarm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Nezpůsobilé výdaje – například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65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E744-BEDC-45C3-826F-3E7BF1157F93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1285560" y="1500120"/>
            <a:ext cx="7643880" cy="47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ást pořizovací ceny přesahující cenu zjištěnou znaleckým posudkem nebo přesahující cenu v místě a čase obvyklou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ežijní náklady vztahující se k všeobecnému provozu organizace bez vazby na projek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 zaměstnanců, kteří se na realizaci projektu podílí, alikvotní část osobních nákladů, která neodpovídá pracovnímu vytížení zaměstnance na daném projektu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ýdaje spojené s přípravou a řízením projektu (např. platby konzultantům, kteří pomáhají s vyplňováním žádostí o finanční podporu z OP VK, s vyplňováním monitorovacích zpráv a žádostí o platby) v případě, že se jedná o externího dodavatel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ýdaje spojené s administrací veřejných zakázek malého rozsahu, tzn. jejichž zadání se neřídí zákonem č. 137/2006 Sb., o veřejných zakázkách, ale postupy stanovenými Příručkou pro žadatele a Příručkou pro příjemc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ýdaje na činnosti prováděné jakožto povinné ze zákon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Nezpůsobilé výdaje – například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68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198D-ACCF-4A47-B1FA-7A47720E3A9F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70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2759C-6864-4138-B150-B1FD46C81638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Zástupný symbol pro obsah 4" descr="04_zadost40_crop.jpg"/>
          <p:cNvPicPr/>
          <p:nvPr/>
        </p:nvPicPr>
        <p:blipFill>
          <a:blip r:embed="rId1"/>
          <a:srcRect l="2700" t="3817" r="0" b="0"/>
          <a:stretch/>
        </p:blipFill>
        <p:spPr>
          <a:xfrm>
            <a:off x="1285920" y="1643040"/>
            <a:ext cx="5037120" cy="307188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Harmonogram čerpá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73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částky předpokládaných způsobilých výdajů za každé monitorovací období realiz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tum první platby se uvádí 3 měsíce od předpokládaného termínu vydání rozhodnutí o poskytnutí dot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5D4EC-0ED1-4810-9AAB-913040E208BB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Zástupný symbol pro obsah 4" descr="04_zadost40_crop.jpg"/>
          <p:cNvPicPr/>
          <p:nvPr/>
        </p:nvPicPr>
        <p:blipFill>
          <a:blip r:embed="rId1"/>
          <a:srcRect l="2700" t="3817" r="0" b="0"/>
          <a:stretch/>
        </p:blipFill>
        <p:spPr>
          <a:xfrm>
            <a:off x="1428840" y="1643040"/>
            <a:ext cx="5037120" cy="307188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Harmonogram čerpá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77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oučet částek za všechny uvedené předpokládané platby se musí rovnat  celkové výši dot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7BA72-352C-43B7-A04D-36A4A544108C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Obrázek 8" descr="xxx_rozpadFinanci.jpg"/>
          <p:cNvPicPr/>
          <p:nvPr/>
        </p:nvPicPr>
        <p:blipFill>
          <a:blip r:embed="rId1"/>
          <a:stretch/>
        </p:blipFill>
        <p:spPr>
          <a:xfrm>
            <a:off x="1357200" y="1571760"/>
            <a:ext cx="4857840" cy="384336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Přehled financová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81" name="Obdélník se zakulaceným příčným rohem 10"/>
          <p:cNvSpPr/>
          <p:nvPr/>
        </p:nvSpPr>
        <p:spPr>
          <a:xfrm>
            <a:off x="6072120" y="1571760"/>
            <a:ext cx="2857680" cy="43574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příjmy, které vzniknou v době realizace projektu v bezprostřední souvislosti s jeho realizací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tří sem výnosy žadatele i partnerů získané díky tomu, že budou v rámci projektu poskytovat služby za úplatu, např. kurzovné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ípadě, že projekt nebude generovat příjmy, vyplní se 0. Oblast příjmů je vždy upravena danou výzv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90774-DEAF-4A26-B904-B1365DA272D0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Obrázek 8" descr="xxx_rozpadFinanci.jpg"/>
          <p:cNvPicPr/>
          <p:nvPr/>
        </p:nvPicPr>
        <p:blipFill>
          <a:blip r:embed="rId1"/>
          <a:stretch/>
        </p:blipFill>
        <p:spPr>
          <a:xfrm>
            <a:off x="1357200" y="1571760"/>
            <a:ext cx="4857840" cy="38433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Přehled financová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85" name="Obdélník se zakulaceným příčným rohem 10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zpad financí je závislý na záložkách: Projekt, Žadatel projektu, Rozpočet projek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, když provedete změny v těchto záložkách, proveďte znovu rozpad finan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AC4F9-4CC3-43CA-BE1C-6A463ECC28FA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Osobní náklad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1332000" y="5286240"/>
            <a:ext cx="756108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še mezd/platů v projektech OP V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msmt.cz/strukturalni-fondy/vyse-mezd-platu-v-projektech-op-v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7" descr=""/>
          <p:cNvPicPr/>
          <p:nvPr/>
        </p:nvPicPr>
        <p:blipFill>
          <a:blip r:embed="rId2"/>
          <a:stretch/>
        </p:blipFill>
        <p:spPr>
          <a:xfrm>
            <a:off x="1486080" y="1571760"/>
            <a:ext cx="7300800" cy="3643200"/>
          </a:xfrm>
          <a:prstGeom prst="rect">
            <a:avLst/>
          </a:prstGeom>
          <a:ln w="0">
            <a:noFill/>
          </a:ln>
        </p:spPr>
      </p:pic>
      <p:sp>
        <p:nvSpPr>
          <p:cNvPr id="156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D0E53-3C79-4B12-87B7-4A8F34B310EB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1428840" y="1285920"/>
            <a:ext cx="7691400" cy="4071960"/>
          </a:xfrm>
          <a:prstGeom prst="rect">
            <a:avLst/>
          </a:prstGeom>
          <a:ln w="0">
            <a:noFill/>
          </a:ln>
        </p:spPr>
      </p:pic>
      <p:sp>
        <p:nvSpPr>
          <p:cNvPr id="158" name="Vývojový diagram: alternativní postup 4"/>
          <p:cNvSpPr/>
          <p:nvPr/>
        </p:nvSpPr>
        <p:spPr>
          <a:xfrm>
            <a:off x="1428840" y="3429000"/>
            <a:ext cx="7715160" cy="28584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85920" y="28548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I. Osobní náklady – rozpočet projektu</a:t>
            </a:r>
            <a:endParaRPr b="1" lang="en-US" sz="3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CF0A2-E5F4-4137-A1B5-351A3D2D072D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1643040" y="1071720"/>
            <a:ext cx="7143840" cy="52196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85920" y="28548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I. Osobní náklady – realizační tým</a:t>
            </a:r>
            <a:endParaRPr b="1" lang="en-US" sz="3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1285920" y="628668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801E3-BB5D-4461-B28A-EE3CEE289C7B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428840" y="2608200"/>
            <a:ext cx="7715160" cy="169092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85560" y="28548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I. Osobní náklady – popis projektu</a:t>
            </a:r>
            <a:endParaRPr b="1" lang="en-US" sz="3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6DBD6-75CB-4A8D-870A-6C726EBBBB92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II. Osobní náklady – rozpočet projektu</a:t>
            </a:r>
            <a:endParaRPr b="1" lang="en-US" sz="38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1357200" y="1500120"/>
            <a:ext cx="7645680" cy="3714840"/>
          </a:xfrm>
          <a:prstGeom prst="rect">
            <a:avLst/>
          </a:prstGeom>
          <a:ln w="0">
            <a:noFill/>
          </a:ln>
        </p:spPr>
      </p:pic>
      <p:sp>
        <p:nvSpPr>
          <p:cNvPr id="169" name="Vývojový diagram: alternativní postup 6"/>
          <p:cNvSpPr/>
          <p:nvPr/>
        </p:nvSpPr>
        <p:spPr>
          <a:xfrm>
            <a:off x="1357200" y="2286000"/>
            <a:ext cx="7572600" cy="21420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0FB0B-447F-4599-9C0E-1C503DC523A1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II. Osobní náklady – realizační tým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1571760" y="928800"/>
            <a:ext cx="7000920" cy="5211720"/>
          </a:xfrm>
          <a:prstGeom prst="rect">
            <a:avLst/>
          </a:prstGeom>
          <a:ln w="0">
            <a:noFill/>
          </a:ln>
        </p:spPr>
      </p:pic>
      <p:sp>
        <p:nvSpPr>
          <p:cNvPr id="173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CC1AC-CB2C-4996-8EFE-E7902F0B3E06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8T08:18:17Z</dcterms:created>
  <dc:creator>mencloval</dc:creator>
  <dc:description/>
  <dc:language>en-US</dc:language>
  <cp:lastModifiedBy>lenka menclová</cp:lastModifiedBy>
  <dcterms:modified xsi:type="dcterms:W3CDTF">2008-11-19T11:29:43Z</dcterms:modified>
  <cp:revision>83</cp:revision>
  <dc:subject/>
  <dc:title>Snímek 1</dc:title>
</cp:coreProperties>
</file>