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Seminář pro žadatele o finanční podporu z OP VK k první výzvě pro předkládání žádostí IPO - oblast podpory 2.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 type="sldNum" idx="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8FE3-77A1-4154-A104-58DF15FDA68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4D8B-D75D-4EDF-93DD-0BC09F26AD3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Zástupný symbol pro záhlaví 4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eminář pro žadatele o finanční podporu z OP VK k první výzvě pro předkládání žádostí IPO - oblast podpory 2.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33EEC-C2C5-450D-95AA-09A723FDDB7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89C91-F7F5-4A82-9883-DAA705E9BD3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C770C-D7C6-495C-882C-B6A2024CE1A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7057A-22BD-40E6-9E08-7E562BE71C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46BB0-1126-478F-A80B-DCF99AB46D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D11E1-9055-46CB-BBF5-591A70DDC95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D7D70-51E6-4054-8791-986F3795163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49B09-5F63-4EDA-A845-30C85627118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2D2D5-3860-4D73-B920-EA99E4E3F99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5ABB5-1DBD-4E7A-9888-B37120030BC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68A7B-434E-4675-B808-52FB66553B8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E0396-7F09-4621-B7CE-300950B5D61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18DC5-B66F-48F1-9E9F-5EEFA307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BCEDE-CF3D-49E7-BCD5-298DF86B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DC526-2272-443D-8E91-FCE97188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9670C-E5A4-43BE-85A4-129883D2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949B6-05B4-4A5C-8BB0-FE4D9982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5D0E5-DF17-4698-9761-51769B8D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68BBF-62EE-4C4F-AE09-8B0070E1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B8056-AE35-4FE0-AA71-1CED0BB4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14DDE-E12F-422D-B84E-E77402AA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3673A-23DD-4301-B752-3AF8FFEA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86FE29-46A3-4736-9BAF-7851C95E9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BDDDA-D6D2-497C-986C-CE590565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ástupný symbol pro datum 3"/>
          <p:cNvSpPr/>
          <p:nvPr/>
        </p:nvSpPr>
        <p:spPr>
          <a:xfrm>
            <a:off x="1357200" y="6215040"/>
            <a:ext cx="778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Karolína Gondková                                                   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4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Zástupný symbol pro datum 3"/>
          <p:cNvSpPr/>
          <p:nvPr/>
        </p:nvSpPr>
        <p:spPr>
          <a:xfrm>
            <a:off x="1357200" y="6215040"/>
            <a:ext cx="778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Karolína Gondková                                                   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48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Zástupný symbol pro datum 3"/>
          <p:cNvSpPr/>
          <p:nvPr/>
        </p:nvSpPr>
        <p:spPr>
          <a:xfrm>
            <a:off x="1071720" y="55720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ástupný symbol pro datum 3"/>
          <p:cNvSpPr/>
          <p:nvPr/>
        </p:nvSpPr>
        <p:spPr>
          <a:xfrm>
            <a:off x="1357200" y="6215040"/>
            <a:ext cx="778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Karolína Gondková                                                   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93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Zástupný symbol pro číslo snímku 4"/>
          <p:cNvSpPr/>
          <p:nvPr/>
        </p:nvSpPr>
        <p:spPr>
          <a:xfrm>
            <a:off x="1071720" y="6215040"/>
            <a:ext cx="80722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004B-20FD-4DF6-A601-0C5C6D2EB024}" type="slidenum">
              <a:rPr b="0" lang="cs-CZ" sz="16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Num" idx="1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ástupný symbol pro datum 3"/>
          <p:cNvSpPr/>
          <p:nvPr/>
        </p:nvSpPr>
        <p:spPr>
          <a:xfrm>
            <a:off x="1357200" y="6215040"/>
            <a:ext cx="778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Karolína Gondková                                                   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139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F180-217E-4807-88AA-07AAD4FF12F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5"/>
          <p:cNvSpPr/>
          <p:nvPr/>
        </p:nvSpPr>
        <p:spPr>
          <a:xfrm>
            <a:off x="1071720" y="1197000"/>
            <a:ext cx="8072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zva k předkládání žádostí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finanční podporu z OP VK</a:t>
            </a:r>
            <a:br>
              <a:rPr sz="4000"/>
            </a:b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blast podpory 2.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sokoškolské vzdělá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357200" y="571680"/>
            <a:ext cx="77868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Oprávnění partneři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musí mít sídlo na území Č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OŠ, školy a školská zařízení, instituce Vav, vývojová a inovační centr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mořízené organizace státní správ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aje, města, obc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dravotnická zařízení, NN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městnavatelé, profesní organizace zaměstnavatelů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borové, zaměstnanecké a oborové profesní organiz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rganizace působící ve vzdělávání a kariérovém poradenstv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357200" y="1714680"/>
            <a:ext cx="778680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Místo realizace projektů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zemí ČR vyjma území NUTS II hl. m. Pr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Hodnotící kritér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důvodnění projektu (záměr, přín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ílová skupi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ealizace projektu (klíčové aktivity, management rizik,předchozí zkušenosti, publicit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udržitelnost (5 let po ukončení financování projektu z prostředků ES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inanční řízení (přiměřenost rozpočtu, provázanost rozpočtu s klíčovými aktivitami, nastavení vnitřního kontrolního systém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sledky a výstup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orizontální témata – rovné příležitosti, udržitelný rozvo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pecifická subkritéria (stanovená pro každou výzv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 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.1  zdůvodnění záměru a jeho vazba na danou oblast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pory    10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.2  potřebnost a očekávaný přínos projektu pro cílovo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kupinu    8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2.1  vymezení a přiměřenost cílových skupin   5 bodů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2.2  způsob zapojení cílových skupin  5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1  klíčové aktivity a stádia realizace  9 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2  připravenost na možná rizika a jejich řešení   2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3  předchozí zkušenosti žadatele s řízením či realizací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bdobných projektů  2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4  publicita   2 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5  udržitelnost projektu po skončení financování z OP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K    3 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4.1  přiměřenost rozpočtu vzhledem k cílům a obsah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jektu   8 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4.2  provázanost rozpočtu s klíčovými aktivitami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jektu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8 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4.3  nastavení vnitřního kontrolního systému   4 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5.1  kvantifikace výsledků a výstupů   5 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5.2  způsob zajištění plánovaných výsledků a výstupů  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5 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5.3  monitorování projektu   5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6.1  aktivity podporující rovné příležitosti   2 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6.2  aktivity podporující udržitelný rozvoj   2 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pecifická kritéria pro 1. výzv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66"/>
                </a:solidFill>
                <a:latin typeface="Calibri"/>
              </a:rPr>
              <a:t>7.1  zapojení relevantních partnerů a potenciálních odběratelů absolventů do projektu  10  bo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66"/>
                </a:solidFill>
                <a:latin typeface="Calibri"/>
              </a:rPr>
              <a:t>7.2  přiměřenost harmonogramu a doby řešení   </a:t>
            </a:r>
            <a:br>
              <a:rPr sz="2800"/>
            </a:br>
            <a:r>
              <a:rPr b="0" lang="cs-CZ" sz="2800" spc="-1" strike="noStrike">
                <a:solidFill>
                  <a:srgbClr val="ff0066"/>
                </a:solidFill>
                <a:latin typeface="Calibri"/>
              </a:rPr>
              <a:t>5  bo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ekce 4 – řízení operačních programů E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bor řízení OP Vzdělávání pro konkurenceschop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bor CERA – Implementace projektů strukturálních fond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bor vysokých škol – gesce za věcný obsah oblasti podpory 2.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ŠMT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ěkuji za pozornost </a:t>
            </a:r>
            <a:r>
              <a:rPr b="1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arolina.gondkova@msmt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357200" y="1356840"/>
            <a:ext cx="7786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Celková finanční částk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 209 000 000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Finanční podpora na 1 projek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min. 1 000 000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max. 20 000 000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Doba trvání projekt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max. 36 měsíců  od data účinnosti Rozhodnutí o poskytnutí dot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285920" y="1356840"/>
            <a:ext cx="785808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Možnost tzv. křížového financování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ž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9 % celkového rozpočtu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projektu lze využít jako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inves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Termíny výzv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yhlášení: 19. 5.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Ukončení: 19. 9. 2008 v 15:00 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357200" y="1928520"/>
            <a:ext cx="778680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Podporované aktivit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Inovace studijních programů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ovace v souladu s požadavky znalostní ekonomiky a potřebami trhu práce prostřednictvím modularizace, rozšiřování nabídky kombinovaného a distančního studia, modernizace didaktických metod, realizace výuky v cizích jazycích, podpory podnikatelského přístupu at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blast podpory 2.2 </a:t>
            </a:r>
            <a:br>
              <a:rPr sz="4000"/>
            </a:b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sokoškolské vzdělává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ovace, které přesahují rámec jednoho studijního programu a které zvyšují možnosti mezioborového stud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pojení odborníků z praxe a zahraničí při vytváření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 realizaci inovovaných studijních program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pora praxí a stáží studentů VŠ u budoucích zaměstnavatelů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vorba, zavádění, realizace a vyhodnocování systémů zajišťování kval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vádění a inovace systémů monitoringu potřeb trhu práce pro absolventy studijních obor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pora spolupráce VŠ se ZŠ a SŠ v rámci poskytování poradenských služeb a podpory talentovaných žák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odpora tvorby tý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pora intersektorální mobility akademických pracovník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vyšování manažerských dovedností v oblasti řízení V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dokonalování gramotnosti ICT akademických a ostatních pracovníků V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vyšování jazykových kompetencí akademických a ostatních pracovníků V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357200" y="1356840"/>
            <a:ext cx="7786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vyšování odborných kompetencí akademických pracovníků V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pora spolupráce se zahraničními vzdělávacími a vědeckými institucemi, příprava zapojení jednotlivců do mezinárodních projektů a sít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357200" y="1285560"/>
            <a:ext cx="778680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udenti VŠ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jemci o studium na VŠ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kademičtí pracovníci VŠ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statní pracovníci VŠ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edagogičtí pracovníci ZŠ a SŠ (v případě poskytování poradenských služeb a podpory talentovaných žáků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Cílové skupin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357200" y="1285560"/>
            <a:ext cx="742968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říjemci podpory (žadatelé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soké školy podle zákona č. 111/1998 Sb. o vysokých školá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o změně a doplnění dalších zákonů (zákon o vysokých školách), ve znění pozdějších předpis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7:33:50Z</dcterms:created>
  <dc:creator>gondkova</dc:creator>
  <dc:description/>
  <dc:language>en-US</dc:language>
  <cp:lastModifiedBy>lenka menclová</cp:lastModifiedBy>
  <dcterms:modified xsi:type="dcterms:W3CDTF">2008-07-03T07:22:39Z</dcterms:modified>
  <cp:revision>35</cp:revision>
  <dc:subject/>
  <dc:title>Snímek 1</dc:title>
</cp:coreProperties>
</file>