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566-597C-40BD-B6CA-73F43A4F8C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051-28A9-4626-8695-201CBD655A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hlaví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eminář pro žadatele o finanční podporu z OP VK k první výzvě pro předkládání žádostí IPO - oblast podpory 2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2383-6F01-4E41-BEE0-3FBAD3F1B3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3AF5-E0DB-4ECB-86B4-C54BB8405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8691-EA79-4763-A9A2-B3D6A024EB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0CBB-6126-4EDC-BC14-A73325CBCD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F093-B0C7-44E4-8F23-085D8A550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2A7E-97B3-4603-A3B5-BEE67725630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6580-DCA5-4CCD-8D3C-9B74E2C6A2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D80C-D88D-4F18-82D0-4A329F933B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F1FC-80DA-4A89-A43D-9EE38C56D9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F2D1-DFE2-4267-A3DC-FD776CFE8E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41FB-4757-4675-8EE2-765A5EF896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11C4-6EC8-42FA-8ABE-A0C03833EE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0374D-AA94-4F1F-A821-C3D7AD8E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8AA6-DCCB-40F7-9495-4F6DE54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88218-9E2A-4D08-86E8-21F82619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ECC0-5FE1-4C2A-8D4A-2F716C39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CF699-2DF3-4BED-B4D3-61C4CB5A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E03A-3FB8-4FB0-933F-9725144B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1AD99-19B2-4687-9883-E892947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FC16B-525F-413C-9335-616E40C7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A22FA-602B-4514-A269-1064D646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5ABF2-8CB8-4D21-B956-A68A9225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70D41-A4C8-496D-B442-0FC73ADD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BAE13-A014-477D-A8D4-665CFC52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Zástupný symbol pro číslo snímku 4"/>
          <p:cNvSpPr/>
          <p:nvPr/>
        </p:nvSpPr>
        <p:spPr>
          <a:xfrm>
            <a:off x="1071720" y="6215040"/>
            <a:ext cx="8072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832-E125-438C-A568-9DDF83AAB57B}" type="slidenum">
              <a:rPr b="0" lang="cs-CZ" sz="16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357200" y="6215040"/>
            <a:ext cx="778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Karolína Gondková                                                   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39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8D4-B2F5-4567-A8F0-77BAF31C73B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1071720" y="1197000"/>
            <a:ext cx="8072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zva k předkládání žádost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finanční podporu z OP VK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357200" y="571680"/>
            <a:ext cx="77868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právnění partneř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musí mít sídlo na území Č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OŠ, školy a školská zařízení, instituce Vav, vývojová a inovační cent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ořízené organizace státní sprá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aje, města, ob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ická zařízení, NN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městnavatelé, profesní organizace zaměstnavatelů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ové, zaměstnanecké a oborové profesní organiz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působící ve vzdělávání a kariérovém poradenstv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357200" y="1714680"/>
            <a:ext cx="778680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realizace projekt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emí ČR vyjma území NUTS II hl. m. Pr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odnotící krité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ůvodnění projektu (záměr, přín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skup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alizace projektu (klíčové aktivity, management rizik,předchozí zkušenosti, publici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udržitelnost (5 let po ukončení financování projektu z prostředků ES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řízení (přiměřenost rozpočtu, provázanost rozpočtu s klíčovými aktivitami, nastavení vnitřního kontrolního systém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sledky a výstu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 – rovné příležitosti, udržiteln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subkritéria (stanovená pro každou výzv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1  zdůvodnění záměru a jeho vazba na danou obla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y    10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2  potřebnost a očekávaný přínos projektu pro cílov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kupinu    8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1  vymezení a přiměřenost cílových skupin   5 bod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2  způsob zapojení cílových skupin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1  klíčové aktivity a stádia realizace  9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2  připravenost na možná rizika a jejich řešení 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3  předchozí zkušenosti žadatele s řízením či real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dobných projektů  2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4  publicita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5  udržitelnost projektu po skončení financování z O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K    3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1  přiměřenost rozpočtu vzhledem k cílům a obsa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2  provázanost rozpočtu s klíčovými aktivitami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ktu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8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3  nastavení vnitřního kontrolního systému   4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1  kvantifikace výsledků a výstupů   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2  způsob zajištění plánovaných výsledků a výstupů  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 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3  monitorování projektu   5 b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1  aktivity podporující rovné příležitosti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2  aktivity podporující udržitelný rozvoj   2 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ecifická kritéria pro 1. výz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1  zapojení relevantních partnerů a potenciálních odběratelů absolventů do projektu  10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7.2  přiměřenost harmonogramu a doby řešení   </a:t>
            </a:r>
            <a:br>
              <a:rPr sz="2800"/>
            </a:br>
            <a:r>
              <a:rPr b="0" lang="cs-CZ" sz="2800" spc="-1" strike="noStrike">
                <a:solidFill>
                  <a:srgbClr val="ff0066"/>
                </a:solidFill>
                <a:latin typeface="Calibri"/>
              </a:rPr>
              <a:t>5  bo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kce 4 – řízení operačních programů 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řízení OP Vzdělávání pro konkurencescho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CERA – Implementace projektů strukturálních fond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 vysokých škol – gesce za věcný obsah oblasti podpory 2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ŠM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ěkuji za pozornost </a:t>
            </a:r>
            <a:r>
              <a:rPr b="1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rolina.gondkova@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elková finanční část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209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nanční podpora na 1 projek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in. 1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20 000 000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ba trvání projekt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ax. 36 měsíců  od data účinnosti Rozhodnutí o poskytnutí dot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285920" y="13568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ožnost tzv. křížového financování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9 % celkového rozpočtu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projektu lze využít jak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inves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ermíny výzv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hlášení: 19. 5.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Ukončení: 19. 9. 2008 v 15:00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357200" y="1928520"/>
            <a:ext cx="77868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dporované aktiv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ovace studijních program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ovace v souladu s požadavky znalostní ekonomiky a potřebami trhu práce prostřednictvím modularizace, rozšiřování nabídky kombinovaného a distančního studia, modernizace didaktických metod, realizace výuky v cizích jazycích, podpory podnikatelského přístupu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last podpory 2.2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sokoškolské vzdělá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ace, které přesahují rámec jednoho studijního programu a které zvyšují možnosti mezioborového stud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ojení odborníků z praxe a zahraničí při vytváření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realizaci inovovaných studijních program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praxí a stáží studentů VŠ u budoucích zaměstnavatel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rba, zavádění, realizace a vyhodnocování systémů zajišťování kva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vádění a inovace systémů monitoringu potřeb trhu práce pro absolventy studijních obo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pora spolupráce VŠ se ZŠ a SŠ v rámci poskytování poradenských služeb a podpory talentovaných žák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357200" y="1143000"/>
            <a:ext cx="7786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dpora tvorby tý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intersektorální mobility akademických pracovník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manažerských dovedností v oblasti řízení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okonalování gramotnosti ICT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jazykových kompetencí akademických a ostatní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57200" y="1356840"/>
            <a:ext cx="7786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yšování odborných kompetencí akademických pracovníků V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a spolupráce se zahraničními vzdělávacími a vědeckými institucemi, příprava zapojení jednotlivců do mezinárodních projektů a sí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357200" y="1285560"/>
            <a:ext cx="77868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udent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jemci o studium na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ademičt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tatní pracovníci VŠ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dagogičtí pracovníci ZŠ a SŠ (v případě poskytování poradenských služeb a podpory talentovaných žák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ílové skupin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357200" y="128556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říjemci podpory (žadatelé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é školy podle zákona č. 111/1998 Sb. o vysokých školá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o změně a doplnění dalších zákonů (zákon o vysokých školách), ve znění pozdějších předpis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7:33:50Z</dcterms:created>
  <dc:creator>gondkova</dc:creator>
  <dc:description/>
  <dc:language>en-US</dc:language>
  <cp:lastModifiedBy>lenka menclová</cp:lastModifiedBy>
  <dcterms:modified xsi:type="dcterms:W3CDTF">2008-07-03T07:22:39Z</dcterms:modified>
  <cp:revision>35</cp:revision>
  <dc:subject/>
  <dc:title>Snímek 1</dc:title>
</cp:coreProperties>
</file>