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95C-1F22-42E5-B102-F849B03A5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7442-EAEC-411A-83AC-D632C4C9C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7025-E1D0-407B-B3A1-A614A2D71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6784-9129-4F8F-B604-E389DA232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1C78-F8BB-480A-A51E-0CF3D979E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2C8C-BA41-4D4F-A1BE-ACFA364D8E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4BBE-0B64-4C14-B2F6-63BF87399C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B522-C3BB-44A4-A68D-E0D66750D4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B60F-E50A-4CD6-89CE-242DE81949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23AC-9766-4F0F-963B-7026A8C9C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3916-F246-4CDB-89E9-923E27D0D8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051B-7F8D-4F12-BA96-AC87BB0BD7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20FA-1D1D-47F5-A6BE-CA75340729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EB8B-5116-4440-9511-1262F7D650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7F9D-F0E4-4D4A-AE2F-D71FF49F46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AA64-E7C9-4A1C-BD46-3574DB4109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21DF-FA56-4A06-858A-AC7ED736BE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8197-901F-458C-8C51-6B2DF23FA6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DFC8-7F38-4F64-94DF-A42F78F7E9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D39C-AF27-42B9-882F-16C39C710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5A8CA-CD09-41B9-B4EA-DD101D5C3E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DF5A-410B-418B-B103-8A9715FC12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874E-8CA7-4C13-9F4A-9B93833DD3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E12E-0698-4E2E-8F38-0AD6B6D73A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8AF8-9C1E-4192-9057-A4E96E44E9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81987-CC01-4A97-B980-3ABB4993FB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F7C3-E556-490A-BAD3-100637E85D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6933-9586-4195-9741-F2BB073BAC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3DCD-D455-4D66-BE20-1846D195B32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0AB-F1E5-47A6-B0DB-DCAA40E92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885-E247-47CC-8A36-02377BABCF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C27-F3ED-410C-9A8A-088C379E34F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B55-9EB9-4D2E-9A24-FA8DE4D35A2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A4C-0621-4B29-B2EB-E4F8479E80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13F-5520-45EA-A429-25E59867B76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27D-C912-48CC-97DB-A926A6FEB71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B4A-1C93-484F-BD38-603B84C4A6C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9F5-5D7D-478C-979C-E3F2841232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571-B889-4F49-A60E-5BA8474C96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AFB-AE06-4927-BAC2-A26DC28E2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565-21E3-4E39-A071-784271F18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sldNum" idx="1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FDB7-5B21-4100-83C3-CA9E56DE854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40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sldNum" idx="2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D45E-7A3C-422C-B88C-9A8DA283188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85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sldNum" idx="3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02AE-C8AD-493E-B98C-F07EEC247D2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prava projektové žádosti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1071720" y="649296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B654-202E-460F-8CAA-6EC8DCC93AE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56B2-B95D-4BAA-8007-A66B8CF939D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i je nezbytně nutné provést před tím, než je žádost odevzd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í je žádost uzavřena a chráněna oproti další edit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yní můžete žádost vytisknout a uložit ve formátu .pdf na 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16A5-1B19-49E8-8E04-C55D3C6DF17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ádost je možné opět odemknout tlačítkem Storno finaliz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provedení Storno finalizace se musí opět žádost Finalizovat, vytisknout a uložit na CD-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odevzdání žádosti již Storno finalizace neprovádějte bez předchozí konzultace s Ř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3280-8B1E-4D9F-A0F9-F73C3B5A01D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5920" y="1125000"/>
            <a:ext cx="7400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áze hodnocení a schvalování IPo (orientační termí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ormální hodnocení a hodnocení přijatelnosti do 2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ěcné hodnocen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cení Výběrovou komisí do 2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valování projektů do 1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ace podkladů, vydání Rozhodnut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A6AF-CDED-4F9D-8BB1-6563D66AEC0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57200" y="1197000"/>
            <a:ext cx="73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. fáze hodnocení - Formální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dostatky jsou odstranitel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adné formální nedostatky se odstraňují až po hodnocení přijatel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odstranění má žadatel 10 pracovních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2. fáze hodnocení - Hodnocení přijatel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adatel, partneři, aktivity, výdaje a cílové skupiny jsou v souladu s výzv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nitelné nedostat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F25B-0CB1-41A5-9C62-FA8E9834149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3. fáze hodnocení - věcné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cné hodnocení, které je prováděno na základě posuzování žádosti ve vztahu ke stanoveným výběrovým kritérií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va individuální hodnotitelé, kteří jsou proškoleni a získali certifikát nebo hodnotitelská komise, která je složena z proškolených hodnotitel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0E02-396A-41CB-B6AC-EE5EE441088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4. fáze: hodnocení výběrovou komisí (V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usí mít nejméně 9 členů s hlasovacím práv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lenové výběrových komisí nesmí být současně hodnotiteli projednávaných žádos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doporučuje projekty k finanční podpoře na základě výše finančních prostředků, přidělených na danou výzv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při svém rozhodování respektuje pořadí vzniklé na základě bodového ohodnoc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EC36-3584-4659-923E-9E84D4329AC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5. Fáze -  schvalování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ada vedení MŠMT a následně ministr školství, mládeže a tělovýchov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inistr, vrchní ředitel sekce IV či odbor CERA mohou do výsledků jednání VK zasahovat pouze v případě, že bylo prokazatelně porušeno některé z pravidel schvalování 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eřejnění výsledků na www.msmt.c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40D7-DE0B-497D-9DDB-0A7EB4284D0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.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2" name="Zástupný symbol pro číslo snímku 2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8D8-EDB0-4CFF-9939-FF16CD74A73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9E73-910D-4F96-AD91-049A4BE17E8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F3F0-9488-4661-9A34-39CE2103916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2372-D083-475D-BF5C-0D1C98EB014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428480" y="1428480"/>
            <a:ext cx="74293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ávnická osoba se sídlem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ní v úpadku, exekuci nebo likvid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plňuje podmínky bezdlužnosti vůči veřejné správě a zdravotním pojišťovná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jemce dotace společně s partnery realizují alespoň 51 % aktivit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společně se žadatelem projekt vytváří, koordinuje, realizuje a vyhodnocu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nesmí být pouze skrytý dodavatel, nebo administrá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7BF9-A69A-4E48-8CD5-12C5700A0F0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357200" y="1285920"/>
            <a:ext cx="77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s finančním příspěvkem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řijímá prostřednictvím příjemce část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odpory na realizaci věcných projektových aktiv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bez finančního příspěvk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ílí se na realizaci věcných aktivit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,  ale není mu poskytován žádný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říspěvek za účast na realizaci projektu např. Konzultace, odborné g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B121-525A-4420-8C84-5F6C83B6B27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Zástupný symbol pro obsah 4" descr="04_zadost20_1_crop.jpg"/>
          <p:cNvPicPr/>
          <p:nvPr/>
        </p:nvPicPr>
        <p:blipFill>
          <a:blip r:embed="rId1"/>
          <a:srcRect l="3792" t="3031" r="0" b="16665"/>
          <a:stretch/>
        </p:blipFill>
        <p:spPr>
          <a:xfrm>
            <a:off x="1357200" y="1571760"/>
            <a:ext cx="4537080" cy="37861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68AE-FF35-448A-94F3-9A08FFADA6E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357200" y="2214720"/>
            <a:ext cx="4341960" cy="4000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C468-599C-48C4-9C53-5F0C263EB65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Šrafovaná šipka doprava 5"/>
          <p:cNvSpPr/>
          <p:nvPr/>
        </p:nvSpPr>
        <p:spPr>
          <a:xfrm rot="5400000">
            <a:off x="3643200" y="1714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délníkový popisek 6"/>
          <p:cNvSpPr/>
          <p:nvPr/>
        </p:nvSpPr>
        <p:spPr>
          <a:xfrm>
            <a:off x="5429160" y="1571760"/>
            <a:ext cx="3500640" cy="571320"/>
          </a:xfrm>
          <a:prstGeom prst="wedgeRectCallout">
            <a:avLst>
              <a:gd name="adj1" fmla="val -108879"/>
              <a:gd name="adj2" fmla="val 7494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ový popisek 7"/>
          <p:cNvSpPr/>
          <p:nvPr/>
        </p:nvSpPr>
        <p:spPr>
          <a:xfrm>
            <a:off x="5429160" y="2214720"/>
            <a:ext cx="3500640" cy="571320"/>
          </a:xfrm>
          <a:prstGeom prst="wedgeRectCallout">
            <a:avLst>
              <a:gd name="adj1" fmla="val -75291"/>
              <a:gd name="adj2" fmla="val 2059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délníkový popisek 8"/>
          <p:cNvSpPr/>
          <p:nvPr/>
        </p:nvSpPr>
        <p:spPr>
          <a:xfrm>
            <a:off x="5429160" y="2857680"/>
            <a:ext cx="3500640" cy="1214280"/>
          </a:xfrm>
          <a:prstGeom prst="wedgeRectCallout">
            <a:avLst>
              <a:gd name="adj1" fmla="val -68657"/>
              <a:gd name="adj2" fmla="val -1994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élníkový popisek 9"/>
          <p:cNvSpPr/>
          <p:nvPr/>
        </p:nvSpPr>
        <p:spPr>
          <a:xfrm>
            <a:off x="5429160" y="4143240"/>
            <a:ext cx="3500640" cy="642960"/>
          </a:xfrm>
          <a:prstGeom prst="wedgeRectCallout">
            <a:avLst>
              <a:gd name="adj1" fmla="val -63680"/>
              <a:gd name="adj2" fmla="val -2685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763"/>
              <a:gd name="adj2" fmla="val -3697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285920" y="2214720"/>
            <a:ext cx="4341600" cy="4000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943A-19E2-4668-A150-56630DEC1DB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341A-C296-4318-862B-6C6892F8B7A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357200" y="1428480"/>
            <a:ext cx="3786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zpočet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143320" y="1428480"/>
            <a:ext cx="3857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kládá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běh hodnoce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3E73-9672-4FD1-88A6-0A51E610F54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B752-AE61-416F-8BAB-74C439C0FC8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potřeby doplňte i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rtnera. K jejich rozlišení využijte pole funkce os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5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2FDB-7206-4E7E-8599-92DAC3C442E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jekt mus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v souladu s odpovídající prioritní osou O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a oblastí podpor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ešit definovaný problé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stanovené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ěřitel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reálně dosažitelné cíl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logickou posloupnost sestávající se z řady specifických činností nezbytných k dosažení stanovených cíl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F5E3-22BC-4DCE-9F6C-3EB886E7B09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zahájen nejdříve ke dni vydání Rozhodnutí o poskytnutí dotac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vat maximálně 36 měsíc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109B-37B1-4006-8782-41889EFC4E0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Zástupný symbol pro obsah 4" descr="04_zadost4_crop.jpg"/>
          <p:cNvPicPr/>
          <p:nvPr/>
        </p:nvPicPr>
        <p:blipFill>
          <a:blip r:embed="rId1"/>
          <a:srcRect l="2591" t="3029" r="0" b="1514"/>
          <a:stretch/>
        </p:blipFill>
        <p:spPr>
          <a:xfrm>
            <a:off x="1357200" y="1571760"/>
            <a:ext cx="4916520" cy="45003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75CA-801E-43A4-824E-10EE2B8A2D8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délníkový popisek 5"/>
          <p:cNvSpPr/>
          <p:nvPr/>
        </p:nvSpPr>
        <p:spPr>
          <a:xfrm>
            <a:off x="6286680" y="2071800"/>
            <a:ext cx="2714400" cy="1571400"/>
          </a:xfrm>
          <a:prstGeom prst="wedgeRectCallout">
            <a:avLst>
              <a:gd name="adj1" fmla="val -141615"/>
              <a:gd name="adj2" fmla="val 133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délníkový popisek 6"/>
          <p:cNvSpPr/>
          <p:nvPr/>
        </p:nvSpPr>
        <p:spPr>
          <a:xfrm>
            <a:off x="6286680" y="3929040"/>
            <a:ext cx="2714400" cy="2071800"/>
          </a:xfrm>
          <a:prstGeom prst="wedgeRectCallout">
            <a:avLst>
              <a:gd name="adj1" fmla="val -111671"/>
              <a:gd name="adj2" fmla="val 5263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Šrafovaná šipka doprava 9"/>
          <p:cNvSpPr/>
          <p:nvPr/>
        </p:nvSpPr>
        <p:spPr>
          <a:xfrm rot="5400000">
            <a:off x="3643200" y="6143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92888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4DD9-0C7D-4D70-9D38-53E14F642B2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Šrafovaná šipka doprava 5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délníkový popisek 6"/>
          <p:cNvSpPr/>
          <p:nvPr/>
        </p:nvSpPr>
        <p:spPr>
          <a:xfrm>
            <a:off x="6143760" y="214308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délníkový popisek 7"/>
          <p:cNvSpPr/>
          <p:nvPr/>
        </p:nvSpPr>
        <p:spPr>
          <a:xfrm>
            <a:off x="6143760" y="3857760"/>
            <a:ext cx="2857320" cy="235728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2C4D-28EE-4B7A-A1A4-74EDAE1C634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A4BE-11B4-4EF7-801D-E5598C3C98E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FC88-FD50-4556-9A1F-0217E48C059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52E6-8D1E-4ED6-8CB2-A61223529BD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0263-1AE4-45B7-BD11-BDA0FB627C4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77CD-5A8F-45E4-80C8-6E61E8AC28A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357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35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36AA-BB23-475C-985C-37BDB7D0ED7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9288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5224-CBE1-4038-87BA-9909DF020F1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5"/>
          <p:cNvSpPr/>
          <p:nvPr/>
        </p:nvSpPr>
        <p:spPr>
          <a:xfrm rot="5400000">
            <a:off x="379260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délníkový popisek 6"/>
          <p:cNvSpPr/>
          <p:nvPr/>
        </p:nvSpPr>
        <p:spPr>
          <a:xfrm>
            <a:off x="5572080" y="1928880"/>
            <a:ext cx="3500640" cy="142884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délníkový popisek 7"/>
          <p:cNvSpPr/>
          <p:nvPr/>
        </p:nvSpPr>
        <p:spPr>
          <a:xfrm>
            <a:off x="5572080" y="3643200"/>
            <a:ext cx="3500640" cy="78588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F391-D839-4556-8171-A8A1F409D57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357200" y="1428480"/>
            <a:ext cx="77868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ánovanou hodnotu  dosažených monitorovacích indikátorů si žadatel musí stanovit již při zpracování projektové žád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ůležité je stanovit si výstupy, které budou v rámci projektu podpořeny - ty se budou muset po dobu 5 let udržovat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D8A9-C94D-4DDB-80B9-0F5956E7BB9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Stanovím si, že vytvořím školící modul pro vzdělávání pedagogických pracovníků. V tomto případě jako monitorovací indikátor j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e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vytvořený školící modul. Ten se pak bude po dobu 5 let od ukončení projektu nabízet pedagogickým pracovníkům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udržitel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Výstupem je také např. počet proškolených řídících pracovníků škol a školských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robně jsou monitorovací indikátory uvedeny ve výzv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6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E0EF-6647-4052-B2F8-30C6696E1D0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6287-366D-4EA8-9855-FCE30CE5665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D552-0571-428C-A465-FA5B7CF5BC7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tivity projektu musí být provázány s rozpočtem projektu a časovým harmon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dané aktivity musí být jasné zapojení realizačního týmu a popřípadě partner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7857-1003-4707-BAA9-230271492EA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57200" y="1052280"/>
            <a:ext cx="73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robný popis realizace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činnosti budete v rámci této klíčové aktivity realizova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ří členové realizačního týmu se budou na realizaci aktivity podíle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pozice se budou podílet a jakým způsobem? Bude část aktivity realizována formou dodávky? Bude vyhlášeno výběrové řízení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budete v rámci této aktivity pracovat s cílovou skupinou? Jak bude cílová skupina zapojena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je tato aktivita plánována z časového hlediska? Napište, zda se jedná o jednorázovou aktivitu, či průběžnou, která se bude v projektu opakov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typy nákladů se k aktivitě vztahují? Zaměřte se na popis nákladů specifických pro danou aktivitu (př. náklady na lekto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AAD-2F5A-4F0F-802E-2FF17C30950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71760" y="1428480"/>
            <a:ext cx="7572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rávněný žadat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ávnická oso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á sídlo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nikající subjekt, sdružení a asociace škol nebo NNO 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řízena nebo založena za účelem vzdělávání nebo vědecké a výzkumné činnost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přímo zodpovědný za přípravu a řízení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ho typ je specifikován ve výčtu oprávněných příjemců ve výzv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B2D7-8D80-49BB-B634-4CD2596E040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28480" y="11970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tup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Uveďte výstup nebo výstupy klíčové aktivity a pokuste se zodpovědět na všechny tyto otázk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v rámci této aktivity vznikne nového? (Popište, zda v rámci této aktivity bylo ně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tvoř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ováno; pokud jste inovovali, napište, k jakému došlo posunu a jak tento posun můžete doložit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stupem může být např. počet proškolených osob, nebo osob, kterým bylo poskytnuto poradenství, vytvořený nebo inovovaný studijní materiál, publikace, interaktivní webové stránky projektu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8C7A-FD62-45FC-B314-690272214BB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1C32-C6CE-4967-B942-52C609791EE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délník se zakulaceným příčným rohem 6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6930-91F3-4C36-AE80-7D795DAAD34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7"/>
          <p:cNvSpPr/>
          <p:nvPr/>
        </p:nvSpPr>
        <p:spPr>
          <a:xfrm>
            <a:off x="5857920" y="2714760"/>
            <a:ext cx="3214800" cy="1857240"/>
          </a:xfrm>
          <a:prstGeom prst="wedgeRectCallout">
            <a:avLst>
              <a:gd name="adj1" fmla="val -98064"/>
              <a:gd name="adj2" fmla="val 4225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elkové způsobilé výdaje a celkové výdaje spadající do křížového financování musí odpovídat údajům zadaným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5B4-DC0D-4DE2-97D3-FA5461F3E50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4B82-0ED6-4E86-BB24-F94CF141B79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élník 9"/>
          <p:cNvSpPr/>
          <p:nvPr/>
        </p:nvSpPr>
        <p:spPr>
          <a:xfrm>
            <a:off x="3978360" y="270036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 8"/>
          <p:cNvSpPr/>
          <p:nvPr/>
        </p:nvSpPr>
        <p:spPr>
          <a:xfrm>
            <a:off x="2124000" y="269568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4" descr="04_zadost31_crop.jpg"/>
          <p:cNvPicPr/>
          <p:nvPr/>
        </p:nvPicPr>
        <p:blipFill>
          <a:blip r:embed="rId1"/>
          <a:srcRect l="2613" t="3034" r="0" b="0"/>
          <a:stretch/>
        </p:blipFill>
        <p:spPr>
          <a:xfrm>
            <a:off x="1357200" y="1571760"/>
            <a:ext cx="5896080" cy="3786120"/>
          </a:xfrm>
          <a:prstGeom prst="rect">
            <a:avLst/>
          </a:prstGeom>
          <a:ln w="0">
            <a:noFill/>
          </a:ln>
        </p:spPr>
      </p:pic>
      <p:sp>
        <p:nvSpPr>
          <p:cNvPr id="411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07EA-7550-4CA1-B045-34C7C751FE1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428480" y="1142640"/>
            <a:ext cx="771516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ýt složen z pracovníků s dostatečnými zkušenostmi s realizací projektů a rovněž z odborníků v dané problema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ůže se jednat o pracovníky žadatele, popřípadě i pracovníky partnerských organiza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oručené typové pozice a činnosti realizačního týmu jsou rozpracovány v Příručce pro žadate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7CA4-1505-42DE-A9A7-36400607198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lenové realizačního týmu zajišťuj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ordinaci projektových aktivi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rganizační a provozní stránku projekt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í plánovaných monitorovacích indikátor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fektivní komunikaci na všech úrovních realizace projektu (poskytovatel, příjemce, partner, pracovníci projekt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AAD6-E2FB-4058-A0B6-565ACB87898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3313-C660-46FB-90E7-A0EB2FA8AC5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3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94416"/>
              <a:gd name="adj2" fmla="val 7743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81078"/>
              <a:gd name="adj2" fmla="val 424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3948-22EA-4930-A9DE-26E6EFCD35D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8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139944"/>
              <a:gd name="adj2" fmla="val 18173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%, 300% ad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117027"/>
              <a:gd name="adj2" fmla="val 9906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357880" y="4286160"/>
            <a:ext cx="3714840" cy="2214720"/>
          </a:xfrm>
          <a:prstGeom prst="wedgeRectCallout">
            <a:avLst>
              <a:gd name="adj1" fmla="val -69805"/>
              <a:gd name="adj2" fmla="val -29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356840" y="1428480"/>
            <a:ext cx="7572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Žadatel nesplní kritérium oprávněnos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kud je v úpadku, je proti němu vedena exekuce nebo výkon rozhodnutí, nebo je v likvidac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bezdlužnosti vůči veřejné správě a zdravotním pojišťovná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oprávněných žadatelů stanovených výzvo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ý subjekt, NNO, obecně prospěšná společnost, nadace, nadační fond, církevní právnická osoba nebyla </a:t>
            </a: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aložena dříve než před dvěma lety od data odevzdání žádosti na ŘO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FD01-C8CC-43D5-9DBB-EC0AE294818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057D-AF17-4046-9B11-76A5E7BB5E6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357200" y="1500120"/>
            <a:ext cx="4929480" cy="4048200"/>
          </a:xfrm>
          <a:prstGeom prst="rect">
            <a:avLst/>
          </a:prstGeom>
          <a:ln w="0">
            <a:noFill/>
          </a:ln>
        </p:spPr>
      </p:pic>
      <p:sp>
        <p:nvSpPr>
          <p:cNvPr id="434" name="Obdélník se zakulaceným příčným rohem 4"/>
          <p:cNvSpPr/>
          <p:nvPr/>
        </p:nvSpPr>
        <p:spPr>
          <a:xfrm>
            <a:off x="6215040" y="2714760"/>
            <a:ext cx="2714760" cy="3214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19DE-BC8A-401A-BF0B-B06E2D9E7FD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ravidla pro způsobilost výdaj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arakter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–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osti - účel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 výdaje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ost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BA6C-3FC6-4C9D-9633-C73CA343DBE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50AA-95DA-4C0D-8E1A-00317D4C189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15E2-DDE5-4900-9EC3-B6B0C52DA01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46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E5A3-17A2-44E3-80D8-A54F526E71B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50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9C2F-A88D-4610-9838-2E798F5A82E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57200" y="142884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40 tis. Kč za položku, pokud splňuje následující podmín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se jednat o speciální vybavení nebo zařízení, které není možné pořídit v nezbytné kvalitě za cenu nižší než 40 tis. K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řízení nebo vybavení musí být používáno k realizaci aktivit, na kterých se podílí cílová skupina (např. školení, výuka, praxe, práce, výcvik atd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E347-F047-4BAB-9A8B-D8248D0F212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213920" y="1428840"/>
            <a:ext cx="7929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4703-3A9D-47E9-994D-C0E700FA81A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60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EC41-AD62-42FA-AB6C-7DFA499B907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64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Zástupný symbol pro obsah 4" descr="04_zadost7_crop.jpg"/>
          <p:cNvPicPr/>
          <p:nvPr/>
        </p:nvPicPr>
        <p:blipFill>
          <a:blip r:embed="rId1"/>
          <a:srcRect l="3641" t="3030" r="3641" b="3030"/>
          <a:stretch/>
        </p:blipFill>
        <p:spPr>
          <a:xfrm>
            <a:off x="1357200" y="157176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B72A-C59D-4D74-BA55-7BBE080CDB5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se zakulaceným příčným rohem 8"/>
          <p:cNvSpPr/>
          <p:nvPr/>
        </p:nvSpPr>
        <p:spPr>
          <a:xfrm>
            <a:off x="5786280" y="3357720"/>
            <a:ext cx="3143520" cy="257148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6372-553F-4153-9844-255EFF19DEB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468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ADF0-1828-40FA-9F78-F70DC2ACEE2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472" name="TextovéPole 4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FF30-1A47-4696-AA77-25D0780C949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476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2B25-E070-4D2F-B84B-96D20247D50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480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481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482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483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484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85920" y="1643040"/>
            <a:ext cx="7858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6C4B-7E7C-4CB3-9A80-3054CE11CAB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C42F-A32B-41D0-AA5A-8CF9025DAB2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285920" y="1499760"/>
            <a:ext cx="7858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64B-E0E6-4ECC-8F9C-A4AEBFC5250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650C-2A23-482F-887C-AA8BFAD291D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B7E3-6A3B-41EC-8819-53254348567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885A-B492-467D-82CE-690B5E5C8BD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816E-39F2-41E3-8ED2-4D7E009ADF8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55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86013"/>
              <a:gd name="adj2" fmla="val 67143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BBB4-CCBB-4C59-A14D-45B7B3AFAB7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79DA-4467-4A5D-AC30-6DBA229F046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3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9160-B49C-4A08-8B1D-2B4CE1EB82F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C39A-EC00-40EA-88CD-136E7D04352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1357200" y="1557360"/>
            <a:ext cx="72471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regiony s výjimkou hl. m. Prahy (regiony soudržnosti NUTS II na území ČR, zařazení pod Cíl Konverg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odůvodněných případech může být činnost projektu uskutečněna na území hl. m. Prahy – účastníci projektu musí být zaměstnaní nebo mít místo trvalého bydliště mimo hl. město Pr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5D09-7714-4C3C-A674-E1C99D9179E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Zástupný symbol pro obsah 6" descr="XX_uzemiDopadu1.jpg"/>
          <p:cNvPicPr/>
          <p:nvPr/>
        </p:nvPicPr>
        <p:blipFill>
          <a:blip r:embed="rId1"/>
          <a:stretch/>
        </p:blipFill>
        <p:spPr>
          <a:xfrm>
            <a:off x="1285920" y="1428840"/>
            <a:ext cx="51768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Obrázek 7" descr="XX_uzemiDopadu1_1.jpg"/>
          <p:cNvPicPr/>
          <p:nvPr/>
        </p:nvPicPr>
        <p:blipFill>
          <a:blip r:embed="rId2"/>
          <a:stretch/>
        </p:blipFill>
        <p:spPr>
          <a:xfrm>
            <a:off x="3857760" y="1928880"/>
            <a:ext cx="2377800" cy="1143000"/>
          </a:xfrm>
          <a:prstGeom prst="rect">
            <a:avLst/>
          </a:prstGeom>
          <a:ln w="0">
            <a:noFill/>
          </a:ln>
        </p:spPr>
      </p:pic>
      <p:sp>
        <p:nvSpPr>
          <p:cNvPr id="521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, nebo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zemí zadávejte v úrovni, která odpovídá zpracovávanému projektu (region, kraje, okresy, ob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36B3-78F0-45DF-8CB1-B670E12949F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Obrázek 8" descr="XX_uzemiDopadu1_2.jpg"/>
          <p:cNvPicPr/>
          <p:nvPr/>
        </p:nvPicPr>
        <p:blipFill>
          <a:blip r:embed="rId1"/>
          <a:srcRect l="0" t="41605" r="0" b="0"/>
          <a:stretch/>
        </p:blipFill>
        <p:spPr>
          <a:xfrm>
            <a:off x="1357200" y="1857240"/>
            <a:ext cx="4500720" cy="2311560"/>
          </a:xfrm>
          <a:prstGeom prst="rect">
            <a:avLst/>
          </a:prstGeom>
          <a:ln w="0">
            <a:noFill/>
          </a:ln>
        </p:spPr>
      </p:pic>
      <p:sp>
        <p:nvSpPr>
          <p:cNvPr id="526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209F-1FE7-4745-9234-C3003894E23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F589-BF34-4074-AF7F-CBA26CB662C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61B1-7AD4-4E7B-BA1F-351D610EA5B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F120-13B4-40F4-8A6B-1E7D93A2435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21FD-27F6-441D-A5E4-19F1CE5590A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61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4768-5C49-49AC-B889-68C64C6CE4F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5D31-45C9-47A8-AB06-25266295240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ecná pravidla zajišťování public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2D80-208C-4A2B-870F-A5C29B7DA47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Zástupný symbol pro obsah 12"/>
          <p:cNvSpPr/>
          <p:nvPr/>
        </p:nvSpPr>
        <p:spPr>
          <a:xfrm>
            <a:off x="1571760" y="1785960"/>
            <a:ext cx="7072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realizace informačních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ropagačních aktiv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avidelné předkládání monitorovacích zpráv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ůběhu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držování pravidel podle Manuálu vizuální identit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 V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informovanosti o zdrojích financová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las se začleněním na veřejně přístupný seznam příjemců a na žádost poskytovatele souhlas se zveřejněním informace o průběhu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34B5-098A-40E1-A6B4-D42652CC408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571400" y="164268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a volba je plně v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kompetenci příjemce do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váděny v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žádosti o finanční podp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ávního a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ání a realizace publicity je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dmětem kontr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klady na publicitu jsou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způsobilými náklad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642600"/>
            <a:ext cx="73580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olba propagačních nástrojů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net (webové stránky projekt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ublikace, školicí a informační materiá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zprávy, články, rozhov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k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táky a plaká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z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Nástroje propagačních aktivi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E0AA-8FF0-4BBE-8D57-A506DBBCF6C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nuál vizuální identity (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vinná sděl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vropské Unie + odkaz na Evropskou un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S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MŠM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OP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poručen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lajka ČR nebo text „Tento projekt je spolufinancován Evropským sociálním fondem a státním rozpočtem České republiky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daná hodnota OP VK – „Investice do rozvoje vzdělávání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Zprostředkujícího subjektu, příjem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avidla vizuální ident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F70E-D539-4AD4-B50B-E1294652501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spoluúčast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U (ESF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rámci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musí být zdůrazně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29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ěhem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šech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činností realizace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každém dokument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ztahujícím s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 školicích místnostech, na zařízeních a materiálech zakoupených z prostředků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a každé akci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lufinancované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E9D4-36F3-4D6C-92F1-884B861B9D0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285920" y="1714680"/>
            <a:ext cx="4925880" cy="34369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9370-F28F-41C9-8084-5E758673065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23B9-8C0E-4FFB-9B7A-78BA86C6A38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0 – 1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musí být VŘ provádě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0 001 – 5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minimálně 5 pracovních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00 001 – 1 999 999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ne kratší 10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8867-8A46-4AF5-BB40-B6C62EF2C39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Zástupný symbol pro obsah 4" descr="04_zadost10_crop.jpg"/>
          <p:cNvPicPr/>
          <p:nvPr/>
        </p:nvPicPr>
        <p:blipFill>
          <a:blip r:embed="rId1"/>
          <a:srcRect l="3371" t="3032" r="0" b="3032"/>
          <a:stretch/>
        </p:blipFill>
        <p:spPr>
          <a:xfrm>
            <a:off x="1285920" y="1571760"/>
            <a:ext cx="5551560" cy="4429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53C1-F964-4018-A9EA-DA54C7F6972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000 000 Kč a vý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není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ísemná výzva minimálně 5 dodavatel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hůta pro podávání nabídek ne kratší 21 dn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je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chází ze zákona č. 137/2006 Sb., o veřejných zakázk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3DFA-FF43-45E7-838D-D03ACC92DC7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Zástupný symbol pro obsah 4" descr="04_zadost46_1_crop.jpg"/>
          <p:cNvPicPr/>
          <p:nvPr/>
        </p:nvPicPr>
        <p:blipFill>
          <a:blip r:embed="rId1"/>
          <a:srcRect l="2520" t="3033" r="0" b="61058"/>
          <a:stretch/>
        </p:blipFill>
        <p:spPr>
          <a:xfrm>
            <a:off x="1357200" y="1571760"/>
            <a:ext cx="4732560" cy="12859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D063-DDC4-459C-8425-9690FDA913F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Zástupný symbol pro obsah 4" descr="04_zadost46_2_crop.jpg"/>
          <p:cNvPicPr/>
          <p:nvPr/>
        </p:nvPicPr>
        <p:blipFill>
          <a:blip r:embed="rId2"/>
          <a:srcRect l="4405" t="15150" r="0" b="7578"/>
          <a:stretch/>
        </p:blipFill>
        <p:spPr>
          <a:xfrm>
            <a:off x="1446120" y="2857680"/>
            <a:ext cx="5018040" cy="3643200"/>
          </a:xfrm>
          <a:prstGeom prst="rect">
            <a:avLst/>
          </a:prstGeom>
          <a:ln w="0">
            <a:noFill/>
          </a:ln>
        </p:spPr>
      </p:pic>
      <p:sp>
        <p:nvSpPr>
          <p:cNvPr id="578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40CF-4F9A-4593-9E2E-4C43F857D63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8FC1-A2E4-4DAF-A545-21EC2F249D0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rafovaná šipka doprava 5"/>
          <p:cNvSpPr/>
          <p:nvPr/>
        </p:nvSpPr>
        <p:spPr>
          <a:xfrm rot="5400000">
            <a:off x="3071520" y="4714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k povaze projektu nepodstatné 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FBC9-EB9E-419F-B056-D1298F2BA6C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93EA-7873-4542-961D-0562FB09075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356840" y="142848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 19.9.2008 do 15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ě, doporučeně poštou nebo kurý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zalepené obálce, označené NEOTVÍRAT a  s údaji požadovanými ve výzvy (je možné na zadní stranu nalepit štítek s údaji o výzvě a žadateli – viz. Benefitová žád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BA58-9CFC-4518-A263-0B84B08C6D1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obálk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lizovaná projektová žádost vytištěná z Benefitu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loh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D (nahraná finalizovaná Benefitová žádost ve formát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pdf, vč. nahraných přílo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5F92-4639-494F-A753-F2B56C0ACC6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428840" y="15717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lačítko tisk žádosti slouží zároveň k vygenerování elektronické verze ve formátu pd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isknutá žádost musí mít stejný Hash kód jako elektronická ve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títek na obálku se vytiskne po finalizaci společně se žádostí jako poslední strán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Tisk a odevzdání žádost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7E80-3CE7-4792-A3F5-A378387DB3F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Zástupný symbol pro obsah 4" descr="04_zadost53_crop.jpg"/>
          <p:cNvPicPr/>
          <p:nvPr/>
        </p:nvPicPr>
        <p:blipFill>
          <a:blip r:embed="rId1"/>
          <a:srcRect l="1772" t="11075" r="0" b="0"/>
          <a:stretch/>
        </p:blipFill>
        <p:spPr>
          <a:xfrm>
            <a:off x="1285920" y="2143080"/>
            <a:ext cx="7072200" cy="231624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ontrol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C56A-7E92-4A67-986D-8A38C4889BE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kontrola proběhla v pořádku, byly splněny podmínky požadované automatickými kontrol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zor, tyto kontroly jsou pouze technického charakteru . I v případě úspěšné kontroly je nutné žádost prověř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07-09T12:57:22Z</dcterms:modified>
  <cp:revision>675</cp:revision>
  <dc:subject/>
  <dc:title>Snímek 1</dc:title>
</cp:coreProperties>
</file>