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A74F-1455-45AB-BD7D-7717214FD62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37C-C6FC-467E-83B8-8C9A88A5D8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hlaví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4E8B-8523-4890-B4DB-6ABDD190D9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9C08-D43C-431C-8FD9-A54A6FC539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90CF-F1A4-4DE6-B670-213B152E3D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31F3-1EE5-4821-9E1C-25B673EC51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72D0-DE50-4DA7-9355-E19F34CACA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848F-A6D0-4FB8-9F20-35D9CAB69B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F473-6CDC-4F75-9831-6E63060D95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5B32-BAB3-45E7-B88C-028B930FE4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8415-C90A-4AA1-8304-21D0BA18BD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D995-F3C5-4FBD-A93A-A48B16F050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6FBF-EFD0-4A8E-99C4-B39B864850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511B-33CC-45FF-AF8C-9C8C42430C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364B6-81DE-4684-8D52-DD77DC89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D7F55-3F70-4688-8218-2ED2480E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8BBB8-F77B-435B-A8E1-BCA76380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2B980-08BE-417E-9F13-A594A27B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769E2-2CC4-43F2-ABBD-ECD4280B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26F32-CA79-4B44-B1D2-20A27B41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79504-5057-4D94-85CA-E3F6F1A1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45FBA-E7EE-4E3E-B7ED-0466276C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328A2-9414-4021-913C-E9D25B1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6FB6C-D53E-41DF-B008-C86B8AD1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AED20-DDF4-4F19-BF84-D019173C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F4A6B-0CDE-462E-97A0-B0557EFA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Zástupný symbol pro číslo snímku 4"/>
          <p:cNvSpPr/>
          <p:nvPr/>
        </p:nvSpPr>
        <p:spPr>
          <a:xfrm>
            <a:off x="1071720" y="6215040"/>
            <a:ext cx="8072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A0F8-BF10-4230-9D30-9F4747197C3B}" type="slidenum">
              <a:rPr b="0" lang="cs-CZ" sz="16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39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6B39-B1F0-4952-A8C9-6A978ED3049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071720" y="119700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zva k předkládání žádos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finanční podporu z OP VK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357200" y="571680"/>
            <a:ext cx="7786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právnění partneř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musí mít sídlo na území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OŠ, školy a školská zařízení, instituce Vav, vývojová a inovační cent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ořízené organizace státní správ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aje, města, ob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ická zařízení, NN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městnavatelé, profesní organizace zaměstnavatelů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ové, zaměstnanecké a oborové profesní organ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rganizace působící ve vzdělávání a kariérovém poradenstv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57200" y="1714680"/>
            <a:ext cx="77868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realizace projekt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emí ČR vyjma území NUTS II hl. m. Pr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odnotící kritér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ůvodnění projektu (záměr, pří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skup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alizace projektu (klíčové aktivity, management rizik,předchozí zkušenosti, publici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udržitelnost (5 let po ukončení financování projektu z prostředků ES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řízení (přiměřenost rozpočtu, provázanost rozpočtu s klíčovými aktivitami, nastavení vnitřního kontrolního systé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a výstu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 – rovné příležitosti, udržiteln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subkritéria (stanovená pro každou výzv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1  zdůvodnění záměru a jeho vazba na danou obla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y    10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2  potřebnost a očekávaný přínos projektu pro cílovo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pinu    8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1  vymezení a přiměřenost cílových skupin   5 bod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2  způsob zapojení cílových skupin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1  klíčové aktivity a stádia realizace  9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2  připravenost na možná rizika a jejich řešení 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3  předchozí zkušenosti žadatele s řízením či realizac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dobných projektů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4  publicita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5  udržitelnost projektu po skončení financování z OP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K    3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1  přiměřenost rozpočtu vzhledem k cílům a obsah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2  provázanost rozpočtu s klíčovými aktivitami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3  nastavení vnitřního kontrolního systému   4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1  kvantifikace výsledků a výstupů   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2  způsob zajištění plánovaných výsledků a výstupů 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3  monitorování projektu 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1  aktivity podporující rovné příležitosti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2  aktivity podporující udržitelný rozvoj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kritéria pro 1. výz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1  zapojení relevantních partnerů a potenciálních odběratelů absolventů do projektu  10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2  přiměřenost harmonogramu a doby řešení   </a:t>
            </a:r>
            <a:br>
              <a:rPr sz="2800"/>
            </a:b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5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kce 4 – řízení operačních programů 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řízení OP Vzdělávání pro konkurenceschop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CERA – Implementace projektů strukturálních fond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vysokých škol – gesce za věcný obsah oblasti podpory 2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ŠM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ěkuji za pozornost </a:t>
            </a:r>
            <a:r>
              <a:rPr b="1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rolina.gondkova@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elková finanční část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209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Finanční podpora na 1 projek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in. 1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20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ba trvání projekt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36 měsíců  od data účinnosti Rozhodnutí o poskytnutí dot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285920" y="13568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ožnost tzv. křížového financování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9 % celkového rozpočtu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projektu lze využít jak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inves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ermíny výzv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hlášení: 19. 5.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Ukončení: 19. 9. 2008 v 15:00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357200" y="1928520"/>
            <a:ext cx="77868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odporované aktiv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ovace studijních program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ovace v souladu s požadavky znalostní ekonomiky a potřebami trhu práce prostřednictvím modularizace, rozšiřování nabídky kombinovaného a distančního studia, modernizace didaktických metod, realizace výuky v cizích jazycích, podpory podnikatelského přístupu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ace, které přesahují rámec jednoho studijního programu a které zvyšují možnosti mezioborového stu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ojení odborníků z praxe a zahraničí při vytvářen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realizaci inovovaných studijních program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praxí a stáží studentů VŠ u budoucích zaměstnavatel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orba, zavádění, realizace a vyhodnocování systémů zajišťování kv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vádění a inovace systémů monitoringu potřeb trhu práce pro absolventy studijních obor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spolupráce VŠ se ZŠ a SŠ v rámci poskytování poradenských služeb a podpory talentovaných žák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dpora tvorby tý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intersektorální mobility akademických pracovník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manažerských dovedností v oblasti řízení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okonalování gramotnosti ICT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jazykových kompetencí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odborných kompetencí akademický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spolupráce se zahraničními vzdělávacími a vědeckými institucemi, příprava zapojení jednotlivců do mezinárodních projektů a sí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357200" y="1285560"/>
            <a:ext cx="77868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ent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jemci o studium na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ademičt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tatn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dagogičtí pracovníci ZŠ a SŠ (v případě poskytování poradenských služeb a podpory talentovaných žák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ílové skupin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357200" y="128556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říjemci podpory (žadatelé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soké školy podle zákona č. 111/1998 Sb. o vysokých školá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o změně a doplnění dalších zákonů (zákon o vysokých školách), ve znění pozdějších předpis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7:33:50Z</dcterms:created>
  <dc:creator>gondkova</dc:creator>
  <dc:description/>
  <dc:language>en-US</dc:language>
  <cp:lastModifiedBy>lenka menclová</cp:lastModifiedBy>
  <dcterms:modified xsi:type="dcterms:W3CDTF">2008-07-03T07:22:39Z</dcterms:modified>
  <cp:revision>35</cp:revision>
  <dc:subject/>
  <dc:title>Snímek 1</dc:title>
</cp:coreProperties>
</file>