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BD7C-677E-4B5F-8599-3838A9822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FB9D-CEAE-402C-9877-6887583EF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B270-1F9B-4783-BBE7-417453EE9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070-A391-41D3-8041-45FE3A95E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079C-C7E9-4136-851B-63CCE11A6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8084-B36C-48AA-B94D-F227549B30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DC02-8535-4244-9260-1626AC4A6F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8B1F-CFFE-4C62-B3BF-DADE626D40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D8F2-3B28-4859-9BC5-F035494F23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6CBB-39A2-4F5A-B1B4-90E0036F5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5FB7-69C9-477F-87EB-F5C3171089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2259-5164-4252-BF1D-786CEE57BB0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ABA3-4607-4887-94AA-61BF10DAC2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63AA-BE59-4399-B5FD-413CF4C9ED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35676-9A47-46AC-B525-8AF717A16D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4B9B-98DA-4CEA-85C6-D19F19E8D0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D398-3415-4437-A6BD-AA531E70A6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824A-CAA7-4288-A5C2-8FAC0CDC82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6326-DBAC-4940-8A07-004FAA926E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5D93-4FF4-471A-A3E2-434B8767E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AC8D-1297-4B27-81AB-CE04DCDB43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D1C9-5554-4EE3-8404-377813D9E4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7499-67E6-43B2-83E1-2E41EFFEAC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61C6-6C88-436D-96A4-7EB05CDE15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7802-3987-492F-9D0A-40416D7ECF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4F2C-35C8-44F8-9EB7-1AE891957E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D0D1-8724-49AB-A468-5F5F172F8B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0169-0530-40F7-A6BC-5E8CD3F5B6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3F86-CB74-4EA4-AF76-52814DC45B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E4E-8783-4729-AB6B-FF48BA075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B3E-C88B-4135-B4C2-CB2B3A2266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C20-DA52-480F-8E07-9DE5BA7A44A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246-9314-41D4-920D-BBF133E7F7E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A01-4C4A-4D33-B3E7-48E0E1C0FC6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287-7631-4341-94EB-0243F34ACF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7DD-9B2D-46C2-BCA8-8C87AAEFFA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63A-F0AC-44F7-B86D-3A635784A1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31E-6139-4390-85BF-7A2A5FFEBD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A495-0004-419F-BBA1-66C505825E4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8AF-233A-4DF4-BC7C-83CF705B1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809-4504-4835-93BF-92D841138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48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93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sldNum" idx="1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201A-5B85-4F36-9245-A3E6578DF06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40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sldNum" idx="2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25E2-1026-4925-B0D7-873FAFE6208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173160" y="4162320"/>
            <a:ext cx="705960" cy="2030040"/>
            <a:chOff x="173160" y="4162320"/>
            <a:chExt cx="705960" cy="2030040"/>
          </a:xfrm>
        </p:grpSpPr>
        <p:pic>
          <p:nvPicPr>
            <p:cNvPr id="185" name="Picture 22" descr="doluvyskladane_eu_esf_msmt_opvk"/>
            <p:cNvPicPr/>
            <p:nvPr/>
          </p:nvPicPr>
          <p:blipFill>
            <a:blip r:embed="rId2"/>
            <a:srcRect l="0" t="26578" r="0" b="46968"/>
            <a:stretch/>
          </p:blipFill>
          <p:spPr>
            <a:xfrm>
              <a:off x="190440" y="4614480"/>
              <a:ext cx="688680" cy="71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3" descr="doluvyskladane_eu_esf_msmt_opvk"/>
            <p:cNvPicPr/>
            <p:nvPr/>
          </p:nvPicPr>
          <p:blipFill>
            <a:blip r:embed="rId3"/>
            <a:srcRect l="0" t="0" r="0" b="77677"/>
            <a:stretch/>
          </p:blipFill>
          <p:spPr>
            <a:xfrm>
              <a:off x="190440" y="4162320"/>
              <a:ext cx="5115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4" descr="doluvyskladane_eu_esf_msmt_opvk"/>
            <p:cNvPicPr/>
            <p:nvPr/>
          </p:nvPicPr>
          <p:blipFill>
            <a:blip r:embed="rId4"/>
            <a:srcRect l="-668" t="75143" r="0" b="0"/>
            <a:stretch/>
          </p:blipFill>
          <p:spPr>
            <a:xfrm>
              <a:off x="173160" y="5685840"/>
              <a:ext cx="52524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5" descr="doluvyskladane_eu_esf_msmt_opvk"/>
            <p:cNvPicPr/>
            <p:nvPr/>
          </p:nvPicPr>
          <p:blipFill>
            <a:blip r:embed="rId5"/>
            <a:srcRect l="0" t="52454" r="0" b="24869"/>
            <a:stretch/>
          </p:blipFill>
          <p:spPr>
            <a:xfrm>
              <a:off x="199800" y="5261760"/>
              <a:ext cx="502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sldNum" idx="3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C069-21CD-4D4D-8BD1-3EC14CDC543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3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prava projektové žádosti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1071720" y="649296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ACDF-2979-4E07-B521-3295F077FFD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8EA7-0323-4558-8BCA-F281A46FEA2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i je nezbytně nutné provést před tím, než je žádost odevzd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lizací je žádost uzavřena a chráněna oproti další edit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yní můžete žádost vytisknout a uložit ve formátu .pdf na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Zástupný symbol pro obsah 4" descr="04_zadost54_crop.jpg"/>
          <p:cNvPicPr/>
          <p:nvPr/>
        </p:nvPicPr>
        <p:blipFill>
          <a:blip r:embed="rId1"/>
          <a:srcRect l="1715" t="4430" r="0" b="0"/>
          <a:stretch/>
        </p:blipFill>
        <p:spPr>
          <a:xfrm>
            <a:off x="1285920" y="2071800"/>
            <a:ext cx="6357960" cy="29383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Fin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6D05-37F3-44D5-B28E-E0D8C3595C4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ádost je možné opět odemknout tlačítkem Storno finaliz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provedení Storno finalizace se musí opět žádost Finalizovat, vytisknout a uložit na CD-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 odevzdání žádosti již Storno finalizace neprovádějte bez předchozí konzultace s Ř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B4A5-87BD-4FBF-AEDD-8E2D6FA53B6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5920" y="1125000"/>
            <a:ext cx="7400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hodnocení a schvalování IPo (orientační termí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ormální hodnocení a hodnocení přijatelnosti do 2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ěcné hodnocen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cení Výběrovou komisí do 2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valování projektů do 15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tace podkladů, vydání Rozhodnutí do 30 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84EE-7C27-4A0D-B5F5-281F3F81488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57200" y="1197000"/>
            <a:ext cx="73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. fáze hodnocení - Formální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dostatky jsou odstraniteln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adné formální nedostatky se odstraňují až po hodnocení přijatel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odstranění má žadatel 10 pracovních dn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2. fáze hodnocení - Hodnocení přijatel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adatel, partneři, aktivity, výdaje a cílové skupiny jsou v souladu s výzv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nitelné nedostat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5238-5043-4881-866D-F5C90B97E3E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3. fáze hodnocení - věcné hodnoc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cné hodnocení, které je prováděno na základě posuzování žádosti ve vztahu ke stanoveným výběrovým kritéri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va individuální hodnotitelé, kteří jsou proškoleni a získali certifikát nebo hodnotitelská komise, která je složena z proškolených hodnotitel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F4EE-6B49-44D2-8969-E991ADFBFC8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4. fáze: hodnocení výběrovou komisí (V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usí mít nejméně 9 členů s hlasovacím práv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lenové výběrových komisí nesmí být současně hodnotiteli projednávaných žádos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doporučuje projekty k finanční podpoře na základě výše finančních prostředků, přidělených na danou výzv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K při svém rozhodování respektuje pořadí vzniklé na základě bodového ohodnoc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568F-F366-45CB-9826-1F4803D669C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ůběh hodnocení žádost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5920" y="1268280"/>
            <a:ext cx="740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5. Fáze -  schvalování proje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ada vedení MŠMT a následně ministr školství, mládeže a tělovýchov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inistr, vrchní ředitel sekce IV či odbor CERA mohou do výsledků jednání VK zasahovat pouze v případě, že bylo prokazatelně porušeno některé z pravidel schvalování 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veřejnění výsledků na www.msmt.c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0A93-74E8-46D7-BAF8-456809B297E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.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32" name="Zástupný symbol pro číslo snímku 2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D020-BB8C-47F8-9093-8A6356290AD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B7F0-A0F0-4C6E-87F6-143BF224D4D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D21A-4918-41E5-8DD8-92A521D77C1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915C-2ADE-4A97-A9A4-D9E8CA76C7A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428480" y="1428480"/>
            <a:ext cx="74293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ávnická osoba se sídlem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ní v úpadku, exekuci nebo likvid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plňuje podmínky bezdlužnosti vůči veřejné správě a zdravotním pojišťovná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jemce dotace společně s partnery realizují alespoň 51 % aktivit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společně se žadatelem projekt vytváří, koordinuje, realizuje a vyhodnocu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artner nesmí být pouze skrytý dodavatel, nebo administrá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69D0-AD9A-43B5-8CFC-565BD12FA03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357200" y="1285920"/>
            <a:ext cx="77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s finančním příspěvkem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řijímá prostřednictvím příjemce část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odpory na realizaci věcných projektových aktiv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 bez finančního příspěvku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ílí se na realizaci věcných aktivi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,  ale není mu poskytován žádný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nanční příspěvek za účast na realizaci projektu např. Konzultace, odborné g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05A5-61ED-4071-ACE3-C6705CA6042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Zástupný symbol pro obsah 4" descr="04_zadost20_1_crop.jpg"/>
          <p:cNvPicPr/>
          <p:nvPr/>
        </p:nvPicPr>
        <p:blipFill>
          <a:blip r:embed="rId1"/>
          <a:srcRect l="3792" t="3031" r="0" b="16665"/>
          <a:stretch/>
        </p:blipFill>
        <p:spPr>
          <a:xfrm>
            <a:off x="1357200" y="1571760"/>
            <a:ext cx="4537080" cy="37861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969-481B-42F9-B17C-05085532B21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357200" y="2214720"/>
            <a:ext cx="4341960" cy="4000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1228-1F25-4E3F-A573-3B3608CA325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Šrafovaná šipka doprava 5"/>
          <p:cNvSpPr/>
          <p:nvPr/>
        </p:nvSpPr>
        <p:spPr>
          <a:xfrm rot="5400000">
            <a:off x="3643200" y="1714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élníkový popisek 6"/>
          <p:cNvSpPr/>
          <p:nvPr/>
        </p:nvSpPr>
        <p:spPr>
          <a:xfrm>
            <a:off x="5429160" y="1571760"/>
            <a:ext cx="3500640" cy="571320"/>
          </a:xfrm>
          <a:prstGeom prst="wedgeRectCallout">
            <a:avLst>
              <a:gd name="adj1" fmla="val -108879"/>
              <a:gd name="adj2" fmla="val 7494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délníkový popisek 7"/>
          <p:cNvSpPr/>
          <p:nvPr/>
        </p:nvSpPr>
        <p:spPr>
          <a:xfrm>
            <a:off x="5429160" y="2214720"/>
            <a:ext cx="3500640" cy="571320"/>
          </a:xfrm>
          <a:prstGeom prst="wedgeRectCallout">
            <a:avLst>
              <a:gd name="adj1" fmla="val -75291"/>
              <a:gd name="adj2" fmla="val 2059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délníkový popisek 8"/>
          <p:cNvSpPr/>
          <p:nvPr/>
        </p:nvSpPr>
        <p:spPr>
          <a:xfrm>
            <a:off x="5429160" y="2857680"/>
            <a:ext cx="3500640" cy="1214280"/>
          </a:xfrm>
          <a:prstGeom prst="wedgeRectCallout">
            <a:avLst>
              <a:gd name="adj1" fmla="val -68657"/>
              <a:gd name="adj2" fmla="val -1994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élníkový popisek 9"/>
          <p:cNvSpPr/>
          <p:nvPr/>
        </p:nvSpPr>
        <p:spPr>
          <a:xfrm>
            <a:off x="5429160" y="4143240"/>
            <a:ext cx="3500640" cy="642960"/>
          </a:xfrm>
          <a:prstGeom prst="wedgeRectCallout">
            <a:avLst>
              <a:gd name="adj1" fmla="val -63680"/>
              <a:gd name="adj2" fmla="val -2685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763"/>
              <a:gd name="adj2" fmla="val -3697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Zástupný symbol pro obsah 4" descr="04_zadost20_2_crop.jpg"/>
          <p:cNvPicPr/>
          <p:nvPr/>
        </p:nvPicPr>
        <p:blipFill>
          <a:blip r:embed="rId1"/>
          <a:srcRect l="2839" t="12123" r="0" b="3029"/>
          <a:stretch/>
        </p:blipFill>
        <p:spPr>
          <a:xfrm>
            <a:off x="1285920" y="2214720"/>
            <a:ext cx="4341600" cy="4000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8B37-8EDF-445F-B7AD-F6E09277B10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délníkový popisek 10"/>
          <p:cNvSpPr/>
          <p:nvPr/>
        </p:nvSpPr>
        <p:spPr>
          <a:xfrm>
            <a:off x="5429160" y="4857840"/>
            <a:ext cx="3500640" cy="150012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9E7-AB55-4E59-A820-717ADD4F77A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357200" y="1428480"/>
            <a:ext cx="3786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zpočet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143320" y="1428480"/>
            <a:ext cx="3857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kládá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běh hodnocení žád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280C-5D31-48C1-9EED-084C69FC47D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E7BF-3DDC-403C-84EF-4A9D7BC3707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potřeby doplňte i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tnera. K jejich rozlišení využijte pole funkce osob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5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9AE8-B09E-43B5-8E5E-13B0127D95C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jekt mus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v souladu s odpovídající prioritní osou O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a oblastí podpor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ešit definovaný problé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stanovené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ěřitel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reálně dosažitelné cíl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t logickou posloupnost sestávající se z řady specifických činností nezbytných k dosažení stanovených cíl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7F1A-F322-46AE-BC48-BD03E3991CC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7200" y="1428480"/>
            <a:ext cx="77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ýt zahájen nejdříve ke dni vydání Rozhodnutí o poskytnutí dotac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vat maximálně 36 měsíc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DC72-36DF-461E-86F1-36B4410C4E1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Zástupný symbol pro obsah 4" descr="04_zadost4_crop.jpg"/>
          <p:cNvPicPr/>
          <p:nvPr/>
        </p:nvPicPr>
        <p:blipFill>
          <a:blip r:embed="rId1"/>
          <a:srcRect l="2591" t="3029" r="0" b="1514"/>
          <a:stretch/>
        </p:blipFill>
        <p:spPr>
          <a:xfrm>
            <a:off x="1357200" y="1571760"/>
            <a:ext cx="4916520" cy="45003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448E-C8EB-4F9D-B26C-71A18146518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délníkový popisek 5"/>
          <p:cNvSpPr/>
          <p:nvPr/>
        </p:nvSpPr>
        <p:spPr>
          <a:xfrm>
            <a:off x="6286680" y="2071800"/>
            <a:ext cx="2714400" cy="1571400"/>
          </a:xfrm>
          <a:prstGeom prst="wedgeRectCallout">
            <a:avLst>
              <a:gd name="adj1" fmla="val -141615"/>
              <a:gd name="adj2" fmla="val 133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délníkový popisek 6"/>
          <p:cNvSpPr/>
          <p:nvPr/>
        </p:nvSpPr>
        <p:spPr>
          <a:xfrm>
            <a:off x="6286680" y="3929040"/>
            <a:ext cx="2714400" cy="2071800"/>
          </a:xfrm>
          <a:prstGeom prst="wedgeRectCallout">
            <a:avLst>
              <a:gd name="adj1" fmla="val -111671"/>
              <a:gd name="adj2" fmla="val 52638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Šrafovaná šipka doprava 9"/>
          <p:cNvSpPr/>
          <p:nvPr/>
        </p:nvSpPr>
        <p:spPr>
          <a:xfrm rot="5400000">
            <a:off x="3643200" y="6143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92888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5CE8-5FDD-49C3-A891-82C060FFA28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Šrafovaná šipka doprava 5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délníkový popisek 6"/>
          <p:cNvSpPr/>
          <p:nvPr/>
        </p:nvSpPr>
        <p:spPr>
          <a:xfrm>
            <a:off x="6143760" y="214308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délníkový popisek 7"/>
          <p:cNvSpPr/>
          <p:nvPr/>
        </p:nvSpPr>
        <p:spPr>
          <a:xfrm>
            <a:off x="6143760" y="3857760"/>
            <a:ext cx="2857320" cy="235728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CD26-D478-4A64-82FD-21E453B0B7F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6B39-4F17-4A02-AC19-9F22DFC7CF9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1D4-D3F0-44BA-9C20-05DE7DD996B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EBE7-F4CC-4DAF-A317-2D9B00610CA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F74E-95A2-415F-8CF6-B68030F21BE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20CA-C538-4F95-8F53-ED156B1D220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357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35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38B4-1002-4C9B-9582-E8C5EB1937F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9288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7806-464A-4092-A852-3043F09CA9C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5"/>
          <p:cNvSpPr/>
          <p:nvPr/>
        </p:nvSpPr>
        <p:spPr>
          <a:xfrm rot="5400000">
            <a:off x="379260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délníkový popisek 6"/>
          <p:cNvSpPr/>
          <p:nvPr/>
        </p:nvSpPr>
        <p:spPr>
          <a:xfrm>
            <a:off x="5572080" y="1928880"/>
            <a:ext cx="3500640" cy="142884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délníkový popisek 7"/>
          <p:cNvSpPr/>
          <p:nvPr/>
        </p:nvSpPr>
        <p:spPr>
          <a:xfrm>
            <a:off x="5572080" y="3643200"/>
            <a:ext cx="3500640" cy="78588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43BE-B372-43F8-8913-C11123D60F3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57200" y="1428480"/>
            <a:ext cx="77868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lánovanou hodnotu  dosažených monitorovacích indikátorů si žadatel musí stanovit již při zpracování projektové žád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ůležité je stanovit si výstupy, které budou v rámci projektu podpořeny - ty se budou muset po dobu 5 let udržovat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A9BE-FC19-4997-83C8-B8A2325C3FB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kl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Stanovím si, že vytvořím školící modul pro vzdělávání pedagogických pracovníků. V tomto případě jako monitorovací indikátor 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e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ytvořený školící modul. Ten se pak bude po dobu 5 let od ukončení projektu nabízet pedagogickým pracovníkům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držit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Výstupem je také např. počet proškolených řídících pracovníků škol a školských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robně jsou monitorovací indikátory uvedeny ve výzv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6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178A-8D1E-4FA5-9790-671514DF495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C62A-8A9A-4A31-BD1F-F7310B9A9DA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4F2C-E5C6-4B64-9757-04A9C753F7E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tivity projektu musí být provázány s rozpočtem projektu a časovým harmonogram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dané aktivity musí být jasné zapojení realizačního týmu a popřípadě partner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85A7-8133-441D-A603-C5ABF2296A0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57200" y="1052280"/>
            <a:ext cx="73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ý popis realizace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činnosti budete v rámci této klíčové aktivity realizova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ří členové realizačního týmu se budou na realizaci aktivity podíl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pozice se budou podílet a jakým způsobem? Bude část aktivity realizována formou dodávky? Bude vyhlášeno výběrové řízení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budete v rámci této aktivity pracovat s cílovou skupinou? Jak bude cílová skupina zapojena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je tato aktivita plánována z časového hlediska? Napište, zda se jedná o jednorázovou aktivitu, či průběžnou, která se bude v projektu opakov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typy nákladů se k aktivitě vztahují? Zaměřte se na popis nákladů specifických pro danou aktivitu (př. náklady na lektor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C455-ADE7-45B5-AA4D-AB753E0F51E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71760" y="1428480"/>
            <a:ext cx="7572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rávněný žadat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ávnická oso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á sídlo na území Č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nikající subjekt, sdružení a asociace škol nebo NNO 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řízena nebo založena za účelem vzdělávání nebo vědecké a výzkumné činnost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přímo zodpovědný za přípravu a řízení projek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ho typ je specifikován ve výčtu oprávněných příjemců ve výzv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5320-C8FD-47D6-BD6C-AEC84C444D1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28480" y="11970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tup klíčové aktivi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Uveďte výstup nebo výstupy klíčové aktivity a pokuste se zodpovědět na všechny tyto otázk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v rámci této aktivity vznikne nového? (Popište, zda v rámci této aktivity bylo ně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tvoř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ovováno; pokud jste inovovali, napište, k jakému došlo posunu a jak tento posun můžete doložit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stupem může být např. počet proškolených osob, nebo osob, kterým bylo poskytnuto poradenství, vytvořený nebo inovovaný studijní materiál, publikace, interaktivní webové stránky projektu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3BE0-BB4B-4F99-9ED3-3FE85149D2F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C72A-4E81-4858-91FF-43E1067B3E0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délník se zakulaceným příčným rohem 6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AC7E-67D0-4FCA-ACC2-03E6AF8C72E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7"/>
          <p:cNvSpPr/>
          <p:nvPr/>
        </p:nvSpPr>
        <p:spPr>
          <a:xfrm>
            <a:off x="5857920" y="2714760"/>
            <a:ext cx="3214800" cy="1857240"/>
          </a:xfrm>
          <a:prstGeom prst="wedgeRectCallout">
            <a:avLst>
              <a:gd name="adj1" fmla="val -98064"/>
              <a:gd name="adj2" fmla="val 4225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lkové způsobilé výdaje a celkové výdaje spadající do křížového financování musí odpovídat údajům zadaným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987-2F73-4978-ABBD-05E26B6932D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8678-CD45-474C-8654-BD670AF906A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délník 9"/>
          <p:cNvSpPr/>
          <p:nvPr/>
        </p:nvSpPr>
        <p:spPr>
          <a:xfrm>
            <a:off x="3978360" y="270036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 8"/>
          <p:cNvSpPr/>
          <p:nvPr/>
        </p:nvSpPr>
        <p:spPr>
          <a:xfrm>
            <a:off x="2124000" y="2695680"/>
            <a:ext cx="892080" cy="162000"/>
          </a:xfrm>
          <a:prstGeom prst="rect">
            <a:avLst/>
          </a:prstGeom>
          <a:solidFill>
            <a:srgbClr val="ffc000">
              <a:alpha val="36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Zástupný symbol pro obsah 4" descr="04_zadost31_crop.jpg"/>
          <p:cNvPicPr/>
          <p:nvPr/>
        </p:nvPicPr>
        <p:blipFill>
          <a:blip r:embed="rId1"/>
          <a:srcRect l="2613" t="3034" r="0" b="0"/>
          <a:stretch/>
        </p:blipFill>
        <p:spPr>
          <a:xfrm>
            <a:off x="1357200" y="1571760"/>
            <a:ext cx="5896080" cy="3786120"/>
          </a:xfrm>
          <a:prstGeom prst="rect">
            <a:avLst/>
          </a:prstGeom>
          <a:ln w="0">
            <a:noFill/>
          </a:ln>
        </p:spPr>
      </p:pic>
      <p:sp>
        <p:nvSpPr>
          <p:cNvPr id="411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4E16-A099-40B9-92F1-DF5EFFA10B2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428480" y="1142640"/>
            <a:ext cx="7715160" cy="63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ýt složen z pracovníků s dostatečnými zkušenostmi s realizací projektů a rovněž z odborníků v dané problema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ůže se jednat o pracovníky žadatele, popřípadě i pracovníky partnerských organiza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oručené typové pozice a činnosti realizačního týmu jsou rozpracovány v Příručce pro žadate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478-FF84-446B-BDAF-710732DA190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lenové realizačního týmu zajišťuj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ordinaci projektových aktivi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rganizační a provozní stránku projekt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í plánovaných monitorovacích indikátorů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fektivní komunikaci na všech úrovních realizace projektu (poskytovatel, příjemce, partner, pracovníci projekt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FB04-386C-4AF0-812A-DA212D208BF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CB83-70A6-4779-AD24-52320A6650C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3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94416"/>
              <a:gd name="adj2" fmla="val 7743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81078"/>
              <a:gd name="adj2" fmla="val 424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7021-C96C-48CB-A2F2-EA1965CA854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285920" y="1500120"/>
            <a:ext cx="4929120" cy="4048200"/>
          </a:xfrm>
          <a:prstGeom prst="rect">
            <a:avLst/>
          </a:prstGeom>
          <a:ln w="0">
            <a:noFill/>
          </a:ln>
        </p:spPr>
      </p:pic>
      <p:sp>
        <p:nvSpPr>
          <p:cNvPr id="428" name="Obdélníkový popisek 5"/>
          <p:cNvSpPr/>
          <p:nvPr/>
        </p:nvSpPr>
        <p:spPr>
          <a:xfrm>
            <a:off x="6143760" y="1714680"/>
            <a:ext cx="2928960" cy="1071360"/>
          </a:xfrm>
          <a:prstGeom prst="wedgeRectCallout">
            <a:avLst>
              <a:gd name="adj1" fmla="val -139944"/>
              <a:gd name="adj2" fmla="val 18173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%, 300% ad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117027"/>
              <a:gd name="adj2" fmla="val 9906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357880" y="4286160"/>
            <a:ext cx="3714840" cy="2214720"/>
          </a:xfrm>
          <a:prstGeom prst="wedgeRectCallout">
            <a:avLst>
              <a:gd name="adj1" fmla="val -69805"/>
              <a:gd name="adj2" fmla="val -29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356840" y="1428480"/>
            <a:ext cx="7572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Žadatel nesplní kritérium oprávněnost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kud je v úpadku, je proti němu vedena exekuce nebo výkon rozhodnutí, nebo je v likvida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bezdlužnosti vůči veřejné správě a zdravotním pojišťovná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splňuje podmínky oprávněných žadatelů stanovených výzvo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dnikatelský subjekt, NNO, obecně prospěšná společnost, nadace, nadační fond, církevní právnická osoba nebyla </a:t>
            </a: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aložena dříve než před dvěma lety od data odevzdání žádosti na ŘO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4442-FF12-48DD-9370-0CE5DBA25FB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3CC6-2F45-4190-9E28-71F2FA62338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Zástupný symbol pro obsah 6" descr="04_zadost32_crop.jpg"/>
          <p:cNvPicPr/>
          <p:nvPr/>
        </p:nvPicPr>
        <p:blipFill>
          <a:blip r:embed="rId1"/>
          <a:srcRect l="2650" t="1517" r="0" b="0"/>
          <a:stretch/>
        </p:blipFill>
        <p:spPr>
          <a:xfrm>
            <a:off x="1357200" y="1500120"/>
            <a:ext cx="4929480" cy="4048200"/>
          </a:xfrm>
          <a:prstGeom prst="rect">
            <a:avLst/>
          </a:prstGeom>
          <a:ln w="0">
            <a:noFill/>
          </a:ln>
        </p:spPr>
      </p:pic>
      <p:sp>
        <p:nvSpPr>
          <p:cNvPr id="434" name="Obdélník se zakulaceným příčným rohem 4"/>
          <p:cNvSpPr/>
          <p:nvPr/>
        </p:nvSpPr>
        <p:spPr>
          <a:xfrm>
            <a:off x="6215040" y="2714760"/>
            <a:ext cx="2714760" cy="3214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3F1B-D355-423D-85D2-28DBC5009462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428480" y="14284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ravidla pro způsobilost výdajů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arakter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–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osti - účel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 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 výdaje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ost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6DE5-E23F-4C54-B289-EA894B4C029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3563-3B71-4EEC-B07E-D99AAF31EA9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E3A4-0AFF-4BD0-9E01-6BEA3A6092C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46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2127-E106-4F81-B62A-F2365AC18F2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50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5D8F-E37E-4574-87CE-9870DA24CC5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357200" y="142884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40 tis. Kč za položku, pokud splňuje následující podmín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se jednat o speciální vybavení nebo zařízení, které není možné pořídit v nezbytné kvalitě za cenu nižší než 40 tis. K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550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řízení nebo vybavení musí být používáno k realizaci aktivit, na kterých se podílí cílová skupina (např. školení, výuka, praxe, práce, výcvik atd.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F0FD-6159-48FC-89E6-76723EFCF02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213920" y="142884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ýdaje spadající do křížového financo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7BB1-8B63-4B9A-A56C-4F16B989B45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60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2F47-A7F5-4F84-B094-7C4FD5FD9CB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64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Zástupný symbol pro obsah 4" descr="04_zadost7_crop.jpg"/>
          <p:cNvPicPr/>
          <p:nvPr/>
        </p:nvPicPr>
        <p:blipFill>
          <a:blip r:embed="rId1"/>
          <a:srcRect l="3641" t="3030" r="3641" b="3030"/>
          <a:stretch/>
        </p:blipFill>
        <p:spPr>
          <a:xfrm>
            <a:off x="1357200" y="157176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8E7A-35C8-4D16-A061-4A4C00A4B74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délník se zakulaceným příčným rohem 8"/>
          <p:cNvSpPr/>
          <p:nvPr/>
        </p:nvSpPr>
        <p:spPr>
          <a:xfrm>
            <a:off x="5786280" y="3357720"/>
            <a:ext cx="3143520" cy="257148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921A-EE19-454E-8B38-4E3E6DEA2C8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468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E42E-E666-41B7-93E2-31FEE8E2D2D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472" name="TextovéPole 4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A17E-D672-4B52-B3A2-A293B273789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476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5F11-C80D-4C81-887A-ACCBB168A81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480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481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482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483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484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85920" y="1643040"/>
            <a:ext cx="785808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DB9E-0BC4-4710-AF2F-54A120A441F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E47-2986-4D1A-94CA-A4A8B05A7C4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1285920" y="1499760"/>
            <a:ext cx="7858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-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5857-E67B-44EB-9E4E-52243FE1C7D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64DD-0DEA-492E-AE1B-56644306BFD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FBDC-9145-4D7F-B3F5-6C414DA767B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5A9-7DA0-4D53-9E09-783C3185664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3367-8C68-40A3-A628-5F216FFA082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55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86013"/>
              <a:gd name="adj2" fmla="val 67143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AAFB-CBEA-4800-9619-C8DE9ADF9F8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84D2-3D04-46DD-93BD-7F74C27B593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3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B28B-7376-4040-9CCE-F811C0598A0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C35-0E9D-46F4-A518-C54EA766EBE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1357200" y="1557360"/>
            <a:ext cx="72471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regiony s výjimkou hl. m. Prahy (regiony soudržnosti NUTS II na území ČR, zařazení pod Cíl Konverg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odůvodněných případech může být činnost projektu uskutečněna na území hl. m. Prahy – účastníci projektu musí být zaměstnaní nebo mít místo trvalého bydliště mimo hl. město Pra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1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3A38-EE27-4FE8-BAC9-AEE2F5B2018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Zástupný symbol pro obsah 6" descr="XX_uzemiDopadu1.jpg"/>
          <p:cNvPicPr/>
          <p:nvPr/>
        </p:nvPicPr>
        <p:blipFill>
          <a:blip r:embed="rId1"/>
          <a:stretch/>
        </p:blipFill>
        <p:spPr>
          <a:xfrm>
            <a:off x="1285920" y="1428840"/>
            <a:ext cx="51768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Obrázek 7" descr="XX_uzemiDopadu1_1.jpg"/>
          <p:cNvPicPr/>
          <p:nvPr/>
        </p:nvPicPr>
        <p:blipFill>
          <a:blip r:embed="rId2"/>
          <a:stretch/>
        </p:blipFill>
        <p:spPr>
          <a:xfrm>
            <a:off x="3857760" y="1928880"/>
            <a:ext cx="2377800" cy="1143000"/>
          </a:xfrm>
          <a:prstGeom prst="rect">
            <a:avLst/>
          </a:prstGeom>
          <a:ln w="0">
            <a:noFill/>
          </a:ln>
        </p:spPr>
      </p:pic>
      <p:sp>
        <p:nvSpPr>
          <p:cNvPr id="521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, nebo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zemí zadávejte v úrovni, která odpovídá zpracovávanému projektu (region, kraje, okresy, ob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19AB-6EE9-4DD1-902B-0A4C11CCF7B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rázek 8" descr="XX_uzemiDopadu1_2.jpg"/>
          <p:cNvPicPr/>
          <p:nvPr/>
        </p:nvPicPr>
        <p:blipFill>
          <a:blip r:embed="rId1"/>
          <a:srcRect l="0" t="41605" r="0" b="0"/>
          <a:stretch/>
        </p:blipFill>
        <p:spPr>
          <a:xfrm>
            <a:off x="1357200" y="1857240"/>
            <a:ext cx="4500720" cy="2311560"/>
          </a:xfrm>
          <a:prstGeom prst="rect">
            <a:avLst/>
          </a:prstGeom>
          <a:ln w="0">
            <a:noFill/>
          </a:ln>
        </p:spPr>
      </p:pic>
      <p:sp>
        <p:nvSpPr>
          <p:cNvPr id="526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0A27-F6EA-449D-AB84-28E729BE7C9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ACD5-6EF0-4897-8B6D-144638D0249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6FB6-4688-4EB0-8723-DDF9937C208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0565-6735-4252-B6F7-7249BB7C4913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Zástupný symbol pro obsah 4" descr="04_zadost9_crop.jpg"/>
          <p:cNvPicPr/>
          <p:nvPr/>
        </p:nvPicPr>
        <p:blipFill>
          <a:blip r:embed="rId1"/>
          <a:srcRect l="2677" t="3034" r="0" b="1513"/>
          <a:stretch/>
        </p:blipFill>
        <p:spPr>
          <a:xfrm>
            <a:off x="1285920" y="1500120"/>
            <a:ext cx="4643280" cy="3897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6B5-E32C-4400-8189-8225E8F7C2A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261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C098-E9E0-4806-AD74-1A15390DF7C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4C02-FA8C-434B-83BD-D36396B0F76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becná pravidla zajišťování public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6231-F624-40AE-8D63-721E5AF142E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Zástupný symbol pro obsah 12"/>
          <p:cNvSpPr/>
          <p:nvPr/>
        </p:nvSpPr>
        <p:spPr>
          <a:xfrm>
            <a:off x="1571760" y="1785960"/>
            <a:ext cx="7072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realizace informačních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ropagačních aktiv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videlné předkládání monitorovacích zpráv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ůběhu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ržování pravidel podle Manuálu vizuální identit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 V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jištění informovanosti o zdrojích financování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las se začleněním na veřejně přístupný seznam příjemců a na žádost poskytovatele souhlas se zveřejněním informace o průběhu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8401-C509-4C6E-AA62-CBAF6F26447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71400" y="1642680"/>
            <a:ext cx="70722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a volba je plně v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 kompetenci příjemce dot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váděny v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žádosti o finanční podp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ávního a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ání a realizace publicity je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dmětem kontr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klady na publicitu jsou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způsobilými náklad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3580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olba propagačních nástrojů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net (webové stránky projekt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ublikace, školicí a informační materiá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zprávy, články, rozhov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iskové kon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etáky a plaká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z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Nástroje propagačních aktivit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DDB3-BAE8-45FB-B72D-354665E9216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nuál vizuální identity (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vinná sděl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vropské Unie + odkaz na Evropskou u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ES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MŠM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OP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poručen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lajka ČR nebo text „Tento projekt je spolufinancován Evropským sociálním fondem a státním rozpočtem České republiky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daná hodnota OP VK – „Investice do rozvoje vzdělávání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ogo Zprostředkujícího subjektu, příjem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avidla vizuální ident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D78D-DEB7-4D47-A3C5-E307A7B5DD0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428840" y="1428480"/>
            <a:ext cx="75009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ční spoluúčast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U (ESF)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rámci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musí být zdůrazně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29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ěhem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še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činností realizace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každém dokument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ztahujícím s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 školicích místnostech, na zařízeních a materiálech zakoupených z prostředků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a každé akc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lufinancované </a:t>
            </a:r>
            <a:r>
              <a:rPr b="1" lang="cs-CZ" sz="2800" spc="-1" strike="noStrike">
                <a:solidFill>
                  <a:srgbClr val="4f81bd"/>
                </a:solidFill>
                <a:latin typeface="Calibri"/>
              </a:rPr>
              <a:t>ES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2800" spc="-1" strike="noStrike">
                <a:solidFill>
                  <a:srgbClr val="f79646"/>
                </a:solidFill>
                <a:latin typeface="Calibri"/>
              </a:rPr>
              <a:t>OP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E03D-5C39-493C-8C3F-B5C3981CF0B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285920" y="1714680"/>
            <a:ext cx="4925880" cy="34369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9400-E676-4A71-A3FE-A18605FA2AC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7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4973-E5B6-46DC-875C-B6CE1F83F2F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0 – 1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usí být VŘ provádě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0 001 – 500 000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minimálně 5 pracovních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00 001 – 1 999 999 K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ísemná výzva minimálně 3 dodavatel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12080" indent="-3553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hůta pro podávání nabídek ne kratší 10 d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6D6C-FDBC-410C-838C-8D9B21CE90C0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Zástupný symbol pro obsah 4" descr="04_zadost10_crop.jpg"/>
          <p:cNvPicPr/>
          <p:nvPr/>
        </p:nvPicPr>
        <p:blipFill>
          <a:blip r:embed="rId1"/>
          <a:srcRect l="3371" t="3032" r="0" b="3032"/>
          <a:stretch/>
        </p:blipFill>
        <p:spPr>
          <a:xfrm>
            <a:off x="1285920" y="1571760"/>
            <a:ext cx="5551560" cy="4429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98A9-C28D-40EF-871D-2D1951868E34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285920" y="1428480"/>
            <a:ext cx="78580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000 000 Kč a výš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není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ísemná výzva minimálně 5 dodavatel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veřejnění na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hůta pro podávání nabídek ne kratší 21 dn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01"/>
              </a:spcBef>
              <a:buClr>
                <a:srgbClr val="f3912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ce je veřejným zadava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71640" indent="-250920">
              <a:spcBef>
                <a:spcPts val="499"/>
              </a:spcBef>
              <a:buClr>
                <a:srgbClr val="f3912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e zákona č. 137/2006 Sb., o veřejných zakázk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7E11-8400-45CC-B4F2-A8F907E44FB9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Zástupný symbol pro obsah 4" descr="04_zadost46_1_crop.jpg"/>
          <p:cNvPicPr/>
          <p:nvPr/>
        </p:nvPicPr>
        <p:blipFill>
          <a:blip r:embed="rId1"/>
          <a:srcRect l="2520" t="3033" r="0" b="61058"/>
          <a:stretch/>
        </p:blipFill>
        <p:spPr>
          <a:xfrm>
            <a:off x="1357200" y="1571760"/>
            <a:ext cx="4732560" cy="128592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6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8E22-E676-45E4-8D11-D6E2CE83539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Zástupný symbol pro obsah 4" descr="04_zadost46_2_crop.jpg"/>
          <p:cNvPicPr/>
          <p:nvPr/>
        </p:nvPicPr>
        <p:blipFill>
          <a:blip r:embed="rId2"/>
          <a:srcRect l="4405" t="15150" r="0" b="7578"/>
          <a:stretch/>
        </p:blipFill>
        <p:spPr>
          <a:xfrm>
            <a:off x="1446120" y="2857680"/>
            <a:ext cx="5018040" cy="3643200"/>
          </a:xfrm>
          <a:prstGeom prst="rect">
            <a:avLst/>
          </a:prstGeom>
          <a:ln w="0">
            <a:noFill/>
          </a:ln>
        </p:spPr>
      </p:pic>
      <p:sp>
        <p:nvSpPr>
          <p:cNvPr id="578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0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C47C-5B4B-4B80-95A3-B4E348C7B1BA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3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EC0C-76D1-4B8B-8F1A-FEFB19E0BBC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rafovaná šipka doprava 5"/>
          <p:cNvSpPr/>
          <p:nvPr/>
        </p:nvSpPr>
        <p:spPr>
          <a:xfrm rot="5400000">
            <a:off x="3071520" y="4714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k povaze projektu nepodstatné 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8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B2C1-DEEF-4572-9EF1-9ECA30FA9237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A517-A168-4322-A7B9-78EBE66F913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356840" y="1428480"/>
            <a:ext cx="73580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 19.9.2008 do 15 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ě, doporučeně poštou nebo kurýr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zalepené obálce, označené NEOTVÍRAT a  s údaji požadovanými ve výzvy (je možné na zadní stranu nalepit štítek s údaji o výzvě a žadateli – viz. Benefitová žád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5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0FF5-C8D0-4F0D-9528-ECB2D708A1BD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endParaRPr b="1" lang="en-US" sz="44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sah obálk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lizovaná projektová žádost vytištěná z Benefitu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loh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D (nahraná finalizovaná Benefitová žádost ve formátu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pdf, vč. nahraných přílo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5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44E3-3496-473C-B731-92481476708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42884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lačítko tisk žádosti slouží zároveň k vygenerování elektronické verze ve formátu pd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isknutá žádost musí mít stejný Hash kód jako elektronická verz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títek na obálku se vytiskne po finalizaci společně se žádostí jako poslední strán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Tisk a odevzdání žádost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F4CC-88EB-4485-B14F-3317C1710ADB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Zástupný symbol pro obsah 4" descr="04_zadost53_crop.jpg"/>
          <p:cNvPicPr/>
          <p:nvPr/>
        </p:nvPicPr>
        <p:blipFill>
          <a:blip r:embed="rId1"/>
          <a:srcRect l="1772" t="11075" r="0" b="0"/>
          <a:stretch/>
        </p:blipFill>
        <p:spPr>
          <a:xfrm>
            <a:off x="1285920" y="2143080"/>
            <a:ext cx="7072200" cy="231624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edkládání žádostí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ontrol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107172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6116-FB85-482A-B6E3-7216F652D8E6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kontrola proběhla v pořádku, byly splněny podmínky požadované automatickými kontrol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zor, tyto kontroly jsou pouze technického charakteru . I v případě úspěšné kontroly je nutné žádost prověř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07-09T12:57:22Z</dcterms:modified>
  <cp:revision>675</cp:revision>
  <dc:subject/>
  <dc:title>Snímek 1</dc:title>
</cp:coreProperties>
</file>