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eminář pro žadatele o finanční podporu z OP VK k první výzvě pro předkládání žádostí IPO - oblast podpory 2.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3FFF-74D8-49C1-960D-171AAECFAF2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337C-4D50-4294-B6D6-5A5359B9AF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záhlaví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minář pro žadatele o finanční podporu z OP VK k první výzvě pro předkládání žádostí IPO - oblast podpory 2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4B63-3B62-4C28-A6B1-5A5081614B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3FB5-21F3-4104-8F3B-914202EBA9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2567-F2D5-4E54-A7B1-758FA4E185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5548-B70D-40DD-8CDC-8D45AC68EC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ACBA-69FE-4430-AA9D-38C8D636DD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A8DE-DB9B-4025-8754-54437EA975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1C9B-8D58-41E3-8B1A-FE4D9F9401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9A54-42D2-4C81-93C4-5F122A3973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9BA8-5EC2-4D56-BCD4-C8B8A81887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6B3B-A629-41D2-A902-26E80568AB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2D1F-5E4A-42B7-B6ED-4643716F77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77A9-02EE-4793-9CE9-D2949F6823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5F7D9-E0EA-46F4-A7F1-395BAD67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0A4E6-4E9E-4DEA-9D34-2B755CDF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E1784-9120-49F3-B0F4-3B8CBB60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297B3-D9B2-4C5E-8B97-0C36D6B7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99C25-F7C4-4649-A07E-807CFBE0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D5FDA-87FC-4318-AFA0-C8B9DBC7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10E99-333B-4556-B9E6-13FB4263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C442B-5A1E-4CBC-B3E5-E3E1110E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A0B80-83FE-4657-8D47-A4DB51BD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17C53-E470-4005-96B1-381AD4A8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132DA-E943-49B9-8964-1C9563AB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88B91-1D99-40EA-8225-51C14901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8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93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Zástupný symbol pro číslo snímku 4"/>
          <p:cNvSpPr/>
          <p:nvPr/>
        </p:nvSpPr>
        <p:spPr>
          <a:xfrm>
            <a:off x="1071720" y="6215040"/>
            <a:ext cx="8072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2047-52BB-4A25-8AC8-CDA4D088C026}" type="slidenum">
              <a:rPr b="0" lang="cs-CZ" sz="16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39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DD33-23DF-4F42-835C-996E796EAAF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1071720" y="1197000"/>
            <a:ext cx="8072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zva k předkládání žádos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finanční podporu z OP VK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last podpory 2.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sokoškolské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357200" y="571680"/>
            <a:ext cx="7786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právnění partneř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musí mít sídlo na území Č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OŠ, školy a školská zařízení, instituce Vav, vývojová a inovační cent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ořízené organizace státní správ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aje, města, ob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ravotnická zařízení, NN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městnavatelé, profesní organizace zaměstnavatelů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borové, zaměstnanecké a oborové profesní organiz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rganizace působící ve vzdělávání a kariérovém poradenstv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57200" y="1714680"/>
            <a:ext cx="77868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realizace projekt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zemí ČR vyjma území NUTS II hl. m. Pr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odnotící kritér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ůvodnění projektu (záměr, přín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ová skup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alizace projektu (klíčové aktivity, management rizik,předchozí zkušenosti, publici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udržitelnost (5 let po ukončení financování projektu z prostředků ES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ční řízení (přiměřenost rozpočtu, provázanost rozpočtu s klíčovými aktivitami, nastavení vnitřního kontrolního systém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sledky a výstu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izontální témata – rovné příležitosti, udržiteln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ecifická subkritéria (stanovená pro každou výzv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1  zdůvodnění záměru a jeho vazba na danou obla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y    10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2  potřebnost a očekávaný přínos projektu pro cílovo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kupinu    8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1  vymezení a přiměřenost cílových skupin   5 bod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2  způsob zapojení cílových skupin  5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1  klíčové aktivity a stádia realizace  9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2  připravenost na možná rizika a jejich řešení   2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3  předchozí zkušenosti žadatele s řízením či realizac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dobných projektů  2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4  publicita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5  udržitelnost projektu po skončení financování z OP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K    3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1  přiměřenost rozpočtu vzhledem k cílům a obsah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u   8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2  provázanost rozpočtu s klíčovými aktivitami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u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8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3  nastavení vnitřního kontrolního systému   4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1  kvantifikace výsledků a výstupů   5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2  způsob zajištění plánovaných výsledků a výstupů  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3  monitorování projektu   5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.1  aktivity podporující rovné příležitosti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.2  aktivity podporující udržitelný rozvoj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ecifická kritéria pro 1. výz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7.1  zapojení relevantních partnerů a potenciálních odběratelů absolventů do projektu  10  bo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7.2  přiměřenost harmonogramu a doby řešení   </a:t>
            </a:r>
            <a:br>
              <a:rPr sz="2800"/>
            </a:b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5  bo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kce 4 – řízení operačních programů 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řízení OP Vzdělávání pro konkurenceschop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CERA – Implementace projektů strukturálních fond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vysokých škol – gesce za věcný obsah oblasti podpory 2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ŠMT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ěkuji za pozornost </a:t>
            </a:r>
            <a:r>
              <a:rPr b="1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rolina.gondkova@msm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357200" y="13568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Celková finanční částk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209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Finanční podpora na 1 projek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in. 1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ax. 20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ba trvání projekt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ax. 36 měsíců  od data účinnosti Rozhodnutí o poskytnutí dot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285920" y="13568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ožnost tzv. křížového financování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9 % celkového rozpočtu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projektu lze využít jak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inves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ermíny výzv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hlášení: 19. 5.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Ukončení: 19. 9. 2008 v 15:00 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357200" y="1928520"/>
            <a:ext cx="77868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odporované aktivi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Inovace studijních program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ovace v souladu s požadavky znalostní ekonomiky a potřebami trhu práce prostřednictvím modularizace, rozšiřování nabídky kombinovaného a distančního studia, modernizace didaktických metod, realizace výuky v cizích jazycích, podpory podnikatelského přístupu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last podpory 2.2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sokoškolské vzdělává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ovace, které přesahují rámec jednoho studijního programu a které zvyšují možnosti mezioborového stud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pojení odborníků z praxe a zahraničí při vytváření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realizaci inovovaných studijních program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praxí a stáží studentů VŠ u budoucích zaměstnavatel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vorba, zavádění, realizace a vyhodnocování systémů zajišťování kva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vádění a inovace systémů monitoringu potřeb trhu práce pro absolventy studijních obor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spolupráce VŠ se ZŠ a SŠ v rámci poskytování poradenských služeb a podpory talentovaných žák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dpora tvorby tý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a intersektorální mobility akademických pracovník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manažerských dovedností v oblasti řízení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okonalování gramotnosti ICT akademických a ostatní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jazykových kompetencí akademických a ostatní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357200" y="13568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odborných kompetencí akademický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a spolupráce se zahraničními vzdělávacími a vědeckými institucemi, příprava zapojení jednotlivců do mezinárodních projektů a sí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357200" y="1285560"/>
            <a:ext cx="77868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udent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jemci o studium na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ademičtí pracovníc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tatní pracovníc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dagogičtí pracovníci ZŠ a SŠ (v případě poskytování poradenských služeb a podpory talentovaných žák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Cílové skupin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357200" y="1285560"/>
            <a:ext cx="74296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říjemci podpory (žadatelé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soké školy podle zákona č. 111/1998 Sb. o vysokých školá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o změně a doplnění dalších zákonů (zákon o vysokých školách), ve znění pozdějších předpis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7:33:50Z</dcterms:created>
  <dc:creator>gondkova</dc:creator>
  <dc:description/>
  <dc:language>en-US</dc:language>
  <cp:lastModifiedBy>lenka menclová</cp:lastModifiedBy>
  <dcterms:modified xsi:type="dcterms:W3CDTF">2008-07-03T07:22:39Z</dcterms:modified>
  <cp:revision>35</cp:revision>
  <dc:subject/>
  <dc:title>Snímek 1</dc:title>
</cp:coreProperties>
</file>