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46E5-74B9-462C-A4F3-106A90E43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0DD8-F80B-4247-8714-DB153FEFC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6EC5-B9CC-4AF9-98FD-7A3E0832C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AECC-1993-466E-A7E4-8DC2ED106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C0F8-AC3C-497D-A332-DB8131A26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2C84-CE69-42CE-A9DE-91674070C8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EB35-F7F6-474F-9ACF-1CC90E504B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FB38-8B87-4DD3-A447-C50F98745B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3416-DE89-492B-AC70-A1074C6675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4299-3110-4893-ADAC-942F172D71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50E4-ECEB-40BC-9BA1-FA336A63D6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8299-21FB-4CAC-8C55-EC6FE56543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FCFF-7D47-4CE0-980A-3EDC5D59BF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E700-5B4B-46E7-BF6A-CF477AD468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4DE8-74A8-4B76-AED4-F92AC75257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ACC4-065D-4122-9133-BDEE5EB46E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166B-41A2-4082-8268-93A48F3C6B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DDEC-FC0F-430A-8B5D-13169C3E8F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C276-5D79-436B-9BF8-5F249505FA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DD4D3-E201-45D1-BE09-C5E06F6A8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0C7E-48A6-474E-810E-0A233BDB56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BFA9-E5DF-4C30-BF04-AFE665AA79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9BE8-584F-4F78-988B-ECD0755B39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6BFB-EFD3-44D0-ADF1-1C5488C5CE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2C29-46EF-4808-9F67-A603EB1F68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6255-B61A-4F8E-BC31-A892FAC397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A432-5D58-49DA-80F5-9175DE86CA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5A4F-5920-4D71-8B9B-ADD48FB568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AE31-EEBB-4B19-948E-282AE3CBCE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742-7C71-421C-972F-DD7B06E96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0C4-BCCF-451F-8084-AE690962999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948-AA29-483F-B844-5FB74C17EB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CC6-4A47-400C-8C89-838A673B57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DB4-6723-4AEB-ACF9-D77ED8C0C2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F9C-00EA-4A98-963E-DB0F6118E84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94F-8B7C-4F6A-BCFD-7E2272AC83F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D27-E993-41EE-99D4-F055C4650B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9DC-100B-492D-A22A-20A0BFD29F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0E1-66F8-4944-A6CD-2230F617CFB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A5D-F9DB-464F-BB5B-CBD6830BA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0E7-42B7-476E-A6FA-FD95D5084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sldNum" idx="1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70DA-F929-4447-BD0F-6EF78077B7D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40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sldNum" idx="2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8ADA-C3C3-4447-B561-9737A455B0E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85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sldNum" idx="3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1136-3F3B-43C9-9533-BA8D2E0DD27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prava projektové žádosti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1071720" y="649296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7710-5797-4A82-9758-08CC1C52F0A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D753-84D6-46FC-9564-9A5987B7FBF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i je nezbytně nutné provést před tím, než je žádost odevzdá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í je žádost uzavřena a chráněna oproti další edit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yní můžete žádost vytisknout a uložit ve formátu .pdf na 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0EFE-180F-48F9-BE20-BCAE30B911D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ádost je možné opět odemknout tlačítkem Storno finaliz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provedení Storno finalizace se musí opět žádost Finalizovat, vytisknout a uložit na CD-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odevzdání žádosti již Storno finalizace neprovádějte bez předchozí konzultace s Ř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DE2A-189B-441D-978C-69F26998137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5920" y="1125000"/>
            <a:ext cx="7400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áze hodnocení a schvalování IPo (orientační termí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ormální hodnocení a hodnocení přijatelnosti do 2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ěcné hodnocen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cení Výběrovou komisí do 2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valování projektů do 1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tace podkladů, vydání Rozhodnut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BF59-6CFD-4D9B-8153-1CBD0BB7A15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57200" y="1197000"/>
            <a:ext cx="73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. fáze hodnocení - Formální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dostatky jsou odstraniteln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adné formální nedostatky se odstraňují až po hodnocení přijatel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odstranění má žadatel 10 pracovních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2. fáze hodnocení - Hodnocení přijatel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adatel, partneři, aktivity, výdaje a cílové skupiny jsou v souladu s výzv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stranitelné nedostat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034D-A83C-4065-869F-99558192560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3. fáze hodnocení - věcné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cné hodnocení, které je prováděno na základě posuzování žádosti ve vztahu ke stanoveným výběrovým kritérií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va individuální hodnotitelé, kteří jsou proškoleni a získali certifikát nebo hodnotitelská komise, která je složena z proškolených hodnotitel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7776-5445-4F78-9492-EBF0ED1C4CB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4. fáze: hodnocení výběrovou komisí (V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usí mít nejméně 9 členů s hlasovacím práv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lenové výběrových komisí nesmí být současně hodnotiteli projednávaných žádos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doporučuje projekty k finanční podpoře na základě výše finančních prostředků, přidělených na danou výzv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při svém rozhodování respektuje pořadí vzniklé na základě bodového ohodnoc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4A56-8AC0-4835-9F23-1056F8DB388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5. Fáze -  schvalování proje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ada vedení MŠMT a následně ministr školství, mládeže a tělovýchov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inistr, vrchní ředitel sekce IV či odbor CERA mohou do výsledků jednání VK zasahovat pouze v případě, že bylo prokazatelně porušeno některé z pravidel schvalování 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eřejnění výsledků na www.msmt.c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11F0-E804-4B45-98DE-5A121E80593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.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2" name="Zástupný symbol pro číslo snímku 2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C5BC-A9C7-4680-9E99-A886A611CD3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767B-9FA1-4BAC-8248-CCB3E86643F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5B2A-39FE-445F-BCAE-3CC939E2207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9581-C47C-4983-9BA9-227E2625EA0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428480" y="1428480"/>
            <a:ext cx="74293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ávnická osoba se sídlem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ení v úpadku, exekuci nebo likvid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plňuje podmínky bezdlužnosti vůči veřejné správě a zdravotním pojišťovná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jemce dotace společně s partnery realizují alespoň 51 % aktivit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společně se žadatelem projekt vytváří, koordinuje, realizuje a vyhodnocu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nesmí být pouze skrytý dodavatel, nebo administrá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6B6D-9987-4D5D-A128-DDF3ED69CA8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357200" y="1285920"/>
            <a:ext cx="77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s finančním příspěvkem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řijímá prostřednictvím příjemce část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odpory na realizaci věcných projektových aktivi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bez finančního příspěvk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ílí se na realizaci věcných aktivit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,  ale není mu poskytován žádný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říspěvek za účast na realizaci projektu např. Konzultace, odborné gar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A188-27A0-42EF-85FC-8A17F7C0929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Zástupný symbol pro obsah 4" descr="04_zadost20_1_crop.jpg"/>
          <p:cNvPicPr/>
          <p:nvPr/>
        </p:nvPicPr>
        <p:blipFill>
          <a:blip r:embed="rId1"/>
          <a:srcRect l="3792" t="3031" r="0" b="16665"/>
          <a:stretch/>
        </p:blipFill>
        <p:spPr>
          <a:xfrm>
            <a:off x="1357200" y="1571760"/>
            <a:ext cx="4537080" cy="37861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EF1A-8973-410A-AFAC-44415234F72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357200" y="2214720"/>
            <a:ext cx="4341960" cy="40003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25A4-9792-48E6-8FAC-7573E2869B3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Šrafovaná šipka doprava 5"/>
          <p:cNvSpPr/>
          <p:nvPr/>
        </p:nvSpPr>
        <p:spPr>
          <a:xfrm rot="5400000">
            <a:off x="3643200" y="1714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délníkový popisek 6"/>
          <p:cNvSpPr/>
          <p:nvPr/>
        </p:nvSpPr>
        <p:spPr>
          <a:xfrm>
            <a:off x="5429160" y="1571760"/>
            <a:ext cx="3500640" cy="571320"/>
          </a:xfrm>
          <a:prstGeom prst="wedgeRectCallout">
            <a:avLst>
              <a:gd name="adj1" fmla="val -108879"/>
              <a:gd name="adj2" fmla="val 7494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ový popisek 7"/>
          <p:cNvSpPr/>
          <p:nvPr/>
        </p:nvSpPr>
        <p:spPr>
          <a:xfrm>
            <a:off x="5429160" y="2214720"/>
            <a:ext cx="3500640" cy="571320"/>
          </a:xfrm>
          <a:prstGeom prst="wedgeRectCallout">
            <a:avLst>
              <a:gd name="adj1" fmla="val -75291"/>
              <a:gd name="adj2" fmla="val 2059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bdélníkový popisek 8"/>
          <p:cNvSpPr/>
          <p:nvPr/>
        </p:nvSpPr>
        <p:spPr>
          <a:xfrm>
            <a:off x="5429160" y="2857680"/>
            <a:ext cx="3500640" cy="1214280"/>
          </a:xfrm>
          <a:prstGeom prst="wedgeRectCallout">
            <a:avLst>
              <a:gd name="adj1" fmla="val -68657"/>
              <a:gd name="adj2" fmla="val -1994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élníkový popisek 9"/>
          <p:cNvSpPr/>
          <p:nvPr/>
        </p:nvSpPr>
        <p:spPr>
          <a:xfrm>
            <a:off x="5429160" y="4143240"/>
            <a:ext cx="3500640" cy="642960"/>
          </a:xfrm>
          <a:prstGeom prst="wedgeRectCallout">
            <a:avLst>
              <a:gd name="adj1" fmla="val -63680"/>
              <a:gd name="adj2" fmla="val -2685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763"/>
              <a:gd name="adj2" fmla="val -3697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285920" y="2214720"/>
            <a:ext cx="4341600" cy="4000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F732-C13C-4DE8-AB66-5223833D19E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9838-6411-46BF-9618-21C97479428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357200" y="1428480"/>
            <a:ext cx="3786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zpočet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143320" y="1428480"/>
            <a:ext cx="3857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kládá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ůběh hodnoce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E484-90AE-4BC6-A8D0-72DBB192033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8E6A-A0E1-475B-96F0-AF85915CDF7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potřeby doplňte i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rtnera. K jejich rozlišení využijte pole funkce osob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5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2863-92A0-4AFF-8ACF-77E14866F58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jekt mus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v souladu s odpovídající prioritní osou O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a oblastí podpor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ešit definovaný problé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stanovené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ěřitel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reálně dosažitelné cíl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logickou posloupnost sestávající se z řady specifických činností nezbytných k dosažení stanovených cíl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0F4C-696F-4C02-94FB-E10040D7622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zahájen nejdříve ke dni vydání Rozhodnutí o poskytnutí dotac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vat maximálně 36 měsíc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2342-763C-49EC-8B68-5436AE1FD77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Zástupný symbol pro obsah 4" descr="04_zadost4_crop.jpg"/>
          <p:cNvPicPr/>
          <p:nvPr/>
        </p:nvPicPr>
        <p:blipFill>
          <a:blip r:embed="rId1"/>
          <a:srcRect l="2591" t="3029" r="0" b="1514"/>
          <a:stretch/>
        </p:blipFill>
        <p:spPr>
          <a:xfrm>
            <a:off x="1357200" y="1571760"/>
            <a:ext cx="4916520" cy="45003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4154-BA09-42B5-B2A8-E44207BF60F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délníkový popisek 5"/>
          <p:cNvSpPr/>
          <p:nvPr/>
        </p:nvSpPr>
        <p:spPr>
          <a:xfrm>
            <a:off x="6286680" y="2071800"/>
            <a:ext cx="2714400" cy="1571400"/>
          </a:xfrm>
          <a:prstGeom prst="wedgeRectCallout">
            <a:avLst>
              <a:gd name="adj1" fmla="val -141615"/>
              <a:gd name="adj2" fmla="val 133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délníkový popisek 6"/>
          <p:cNvSpPr/>
          <p:nvPr/>
        </p:nvSpPr>
        <p:spPr>
          <a:xfrm>
            <a:off x="6286680" y="3929040"/>
            <a:ext cx="2714400" cy="2071800"/>
          </a:xfrm>
          <a:prstGeom prst="wedgeRectCallout">
            <a:avLst>
              <a:gd name="adj1" fmla="val -111671"/>
              <a:gd name="adj2" fmla="val 52638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Šrafovaná šipka doprava 9"/>
          <p:cNvSpPr/>
          <p:nvPr/>
        </p:nvSpPr>
        <p:spPr>
          <a:xfrm rot="5400000">
            <a:off x="3643200" y="6143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92888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1AD1-AED6-46C5-9EAC-4DD561B9CBF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Šrafovaná šipka doprava 5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délníkový popisek 6"/>
          <p:cNvSpPr/>
          <p:nvPr/>
        </p:nvSpPr>
        <p:spPr>
          <a:xfrm>
            <a:off x="6143760" y="214308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délníkový popisek 7"/>
          <p:cNvSpPr/>
          <p:nvPr/>
        </p:nvSpPr>
        <p:spPr>
          <a:xfrm>
            <a:off x="6143760" y="3857760"/>
            <a:ext cx="2857320" cy="235728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A76F-5B03-4C3D-955E-649614E577B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0398-6319-4CE8-8C60-4CE6E17D38B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38D3-FB1C-4153-A86D-645A09887E7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E17F-F8A6-447E-96BF-C7CBEC7F3AD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ECC6-1933-4E02-B899-A59D0051289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CD8B-51CC-407E-9843-C3540529BC6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357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35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D3FB-922E-44B6-8334-DD26445AEA8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9288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0939-1281-4F0F-8777-BA2D87F7B41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5"/>
          <p:cNvSpPr/>
          <p:nvPr/>
        </p:nvSpPr>
        <p:spPr>
          <a:xfrm rot="5400000">
            <a:off x="379260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délníkový popisek 6"/>
          <p:cNvSpPr/>
          <p:nvPr/>
        </p:nvSpPr>
        <p:spPr>
          <a:xfrm>
            <a:off x="5572080" y="1928880"/>
            <a:ext cx="3500640" cy="142884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délníkový popisek 7"/>
          <p:cNvSpPr/>
          <p:nvPr/>
        </p:nvSpPr>
        <p:spPr>
          <a:xfrm>
            <a:off x="5572080" y="3643200"/>
            <a:ext cx="3500640" cy="78588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EC34-FD2D-4AF0-85FC-9DD5494FE12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357200" y="1428480"/>
            <a:ext cx="77868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ánovanou hodnotu  dosažených monitorovacích indikátorů si žadatel musí stanovit již při zpracování projektové žád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ůležité je stanovit si výstupy, které budou v rámci projektu podpořeny - ty se budou muset po dobu 5 let udržovat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C645-070B-42D4-A915-100A4E3D564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Stanovím si, že vytvořím školící modul pro vzdělávání pedagogických pracovníků. V tomto případě jako monitorovací indikátor j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e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vytvořený školící modul. Ten se pak bude po dobu 5 let od ukončení projektu nabízet pedagogickým pracovníkům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udržitel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Výstupem je také např. počet proškolených řídících pracovníků škol a školských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robně jsou monitorovací indikátory uvedeny ve výzv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6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A469-E8ED-4187-85B1-EA5272F0172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6FC7-5BD3-4257-A5D5-C1039C833A0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9849-921B-42D8-BD23-8B9E9C8F2C6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tivity projektu musí být provázány s rozpočtem projektu a časovým harmon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dané aktivity musí být jasné zapojení realizačního týmu a popřípadě partner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176E-4B57-4C96-97C4-87026F95136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57200" y="1052280"/>
            <a:ext cx="73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robný popis realizace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činnosti budete v rámci této klíčové aktivity realizova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ří členové realizačního týmu se budou na realizaci aktivity podíle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pozice se budou podílet a jakým způsobem? Bude část aktivity realizována formou dodávky? Bude vyhlášeno výběrové řízení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budete v rámci této aktivity pracovat s cílovou skupinou? Jak bude cílová skupina zapojena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je tato aktivita plánována z časového hlediska? Napište, zda se jedná o jednorázovou aktivitu, či průběžnou, která se bude v projektu opakov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typy nákladů se k aktivitě vztahují? Zaměřte se na popis nákladů specifických pro danou aktivitu (př. náklady na lekto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B1D1-92D9-4C6D-9AB8-439DE2D8567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71760" y="1428480"/>
            <a:ext cx="7572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rávněný žadat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ávnická oso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á sídlo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nikající subjekt, sdružení a asociace škol nebo NNO 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řízena nebo založena za účelem vzdělávání nebo vědecké a výzkumné činnost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přímo zodpovědný za přípravu a řízení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ho typ je specifikován ve výčtu oprávněných příjemců ve výzv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4EBB-868B-4E21-9767-FF422B5DDD3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28480" y="11970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tup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Uveďte výstup nebo výstupy klíčové aktivity a pokuste se zodpovědět na všechny tyto otázk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v rámci této aktivity vznikne nového? (Popište, zda v rámci této aktivity bylo ně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tvoř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ováno; pokud jste inovovali, napište, k jakému došlo posunu a jak tento posun můžete doložit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stupem může být např. počet proškolených osob, nebo osob, kterým bylo poskytnuto poradenství, vytvořený nebo inovovaný studijní materiál, publikace, interaktivní webové stránky projektu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29CC-2D9A-4EE7-AAB0-E921AFF663E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805A-62C5-4F56-993A-D92D39CAB49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délník se zakulaceným příčným rohem 6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C7F7-36D2-4893-8960-9E239CE7D29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7"/>
          <p:cNvSpPr/>
          <p:nvPr/>
        </p:nvSpPr>
        <p:spPr>
          <a:xfrm>
            <a:off x="5857920" y="2714760"/>
            <a:ext cx="3214800" cy="1857240"/>
          </a:xfrm>
          <a:prstGeom prst="wedgeRectCallout">
            <a:avLst>
              <a:gd name="adj1" fmla="val -98064"/>
              <a:gd name="adj2" fmla="val 4225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elkové způsobilé výdaje a celkové výdaje spadající do křížového financování musí odpovídat údajům zadaným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4278-62C1-4676-BA3E-99F06ECABBA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E715-344C-4C50-A20A-D2019CFE5D4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délník 9"/>
          <p:cNvSpPr/>
          <p:nvPr/>
        </p:nvSpPr>
        <p:spPr>
          <a:xfrm>
            <a:off x="3978360" y="270036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 8"/>
          <p:cNvSpPr/>
          <p:nvPr/>
        </p:nvSpPr>
        <p:spPr>
          <a:xfrm>
            <a:off x="2124000" y="269568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4" descr="04_zadost31_crop.jpg"/>
          <p:cNvPicPr/>
          <p:nvPr/>
        </p:nvPicPr>
        <p:blipFill>
          <a:blip r:embed="rId1"/>
          <a:srcRect l="2613" t="3034" r="0" b="0"/>
          <a:stretch/>
        </p:blipFill>
        <p:spPr>
          <a:xfrm>
            <a:off x="1357200" y="1571760"/>
            <a:ext cx="5896080" cy="3786120"/>
          </a:xfrm>
          <a:prstGeom prst="rect">
            <a:avLst/>
          </a:prstGeom>
          <a:ln w="0">
            <a:noFill/>
          </a:ln>
        </p:spPr>
      </p:pic>
      <p:sp>
        <p:nvSpPr>
          <p:cNvPr id="411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2E85-64CB-46AF-88D0-F89BFBC6453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428480" y="1142640"/>
            <a:ext cx="771516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ýt složen z pracovníků s dostatečnými zkušenostmi s realizací projektů a rovněž z odborníků v dané problema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ůže se jednat o pracovníky žadatele, popřípadě i pracovníky partnerských organiza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oručené typové pozice a činnosti realizačního týmu jsou rozpracovány v Příručce pro žadate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5EF2-F534-49EB-8DD0-C2D1F9A95B3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lenové realizačního týmu zajišťuj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ordinaci projektových aktivi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rganizační a provozní stránku projekt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í plánovaných monitorovacích indikátor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fektivní komunikaci na všech úrovních realizace projektu (poskytovatel, příjemce, partner, pracovníci projekt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41D2-3249-4C3F-9C3B-7E770E3D318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3F62-6469-406A-9F30-7BF297208CD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3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94416"/>
              <a:gd name="adj2" fmla="val 7743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81078"/>
              <a:gd name="adj2" fmla="val 424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B257-2669-4E90-A4A1-D4016F73B45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8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139944"/>
              <a:gd name="adj2" fmla="val 18173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%, 300% ad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117027"/>
              <a:gd name="adj2" fmla="val 9906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357880" y="4286160"/>
            <a:ext cx="3714840" cy="2214720"/>
          </a:xfrm>
          <a:prstGeom prst="wedgeRectCallout">
            <a:avLst>
              <a:gd name="adj1" fmla="val -69805"/>
              <a:gd name="adj2" fmla="val -29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356840" y="1428480"/>
            <a:ext cx="7572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Žadatel nesplní kritérium oprávněnost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kud je v úpadku, je proti němu vedena exekuce nebo výkon rozhodnutí, nebo je v likvidac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bezdlužnosti vůči veřejné správě a zdravotním pojišťovná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oprávněných žadatelů stanovených výzvo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ý subjekt, NNO, obecně prospěšná společnost, nadace, nadační fond, církevní právnická osoba nebyla </a:t>
            </a: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aložena dříve než před dvěma lety od data odevzdání žádosti na ŘO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A561-AC79-4923-B81A-CC51F011250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A974-E0CB-4262-B44C-8D5A597245D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357200" y="1500120"/>
            <a:ext cx="4929480" cy="4048200"/>
          </a:xfrm>
          <a:prstGeom prst="rect">
            <a:avLst/>
          </a:prstGeom>
          <a:ln w="0">
            <a:noFill/>
          </a:ln>
        </p:spPr>
      </p:pic>
      <p:sp>
        <p:nvSpPr>
          <p:cNvPr id="434" name="Obdélník se zakulaceným příčným rohem 4"/>
          <p:cNvSpPr/>
          <p:nvPr/>
        </p:nvSpPr>
        <p:spPr>
          <a:xfrm>
            <a:off x="6215040" y="2714760"/>
            <a:ext cx="2714760" cy="3214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6E29-C76F-4B77-A926-FE81B24F8D2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ravidla pro způsobilost výdaj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arakter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–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osti - účel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 výdaje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ost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B36E-4E5F-4B61-98C2-48184E28774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BD6D-A754-470F-A3FA-46C404D1A18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2C65-51A8-4612-AFC6-40FBDECBC30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46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7D7E-D10A-434B-8C05-37FFDC5B832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50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7A1B-F71A-4A16-AEC3-E2731DA59E7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57200" y="142884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40 tis. Kč za položku, pokud splňuje následující podmín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se jednat o speciální vybavení nebo zařízení, které není možné pořídit v nezbytné kvalitě za cenu nižší než 40 tis. Kč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řízení nebo vybavení musí být používáno k realizaci aktivit, na kterých se podílí cílová skupina (např. školení, výuka, praxe, práce, výcvik atd.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D5FA-5FC8-40C6-B980-CA3567CE29F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213920" y="1428840"/>
            <a:ext cx="7929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47F2-9B1B-4E43-BE98-14548C850C1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60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74A3-9301-47B5-B5DA-F6EC281FC48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64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Zástupný symbol pro obsah 4" descr="04_zadost7_crop.jpg"/>
          <p:cNvPicPr/>
          <p:nvPr/>
        </p:nvPicPr>
        <p:blipFill>
          <a:blip r:embed="rId1"/>
          <a:srcRect l="3641" t="3030" r="3641" b="3030"/>
          <a:stretch/>
        </p:blipFill>
        <p:spPr>
          <a:xfrm>
            <a:off x="1357200" y="157176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AB32-6199-4474-8C74-0FF40B56923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se zakulaceným příčným rohem 8"/>
          <p:cNvSpPr/>
          <p:nvPr/>
        </p:nvSpPr>
        <p:spPr>
          <a:xfrm>
            <a:off x="5786280" y="3357720"/>
            <a:ext cx="3143520" cy="257148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0BBA-DABA-4718-9079-31907BC8438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468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5E01-42E0-4F62-A299-CE5880CAF9C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472" name="TextovéPole 4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2C96-A3B6-4966-9881-55185435AA3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476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99BE-2A97-49F1-A836-F8C25218651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480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481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482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483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484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285920" y="1643040"/>
            <a:ext cx="7858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2B8A-38EB-4BEC-BB1B-E1B720601B4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9AAF-2668-4776-80BF-BC3536CEBA5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285920" y="1499760"/>
            <a:ext cx="7858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AF2F-35DB-4AAE-8538-E72E2D42BD7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7A1D-2285-4854-BA45-92E4FF1691B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C22A-316F-454A-9878-989C16F7726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1E67-D319-4A76-BC7A-EF314400DA6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FD73-A275-4D8B-8CFE-189C5DEEBA6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55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86013"/>
              <a:gd name="adj2" fmla="val 67143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8030-228C-4A6D-A1B4-076F975BEB2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D383-38A3-4ABF-93C0-31BF1DB7F04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3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0717-6898-480E-A4BC-10BD37D8860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296F-C28A-4FAB-87EE-1F8FC07DD48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1357200" y="1557360"/>
            <a:ext cx="72471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regiony s výjimkou hl. m. Prahy (regiony soudržnosti NUTS II na území ČR, zařazení pod Cíl Konverg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odůvodněných případech může být činnost projektu uskutečněna na území hl. m. Prahy – účastníci projektu musí být zaměstnaní nebo mít místo trvalého bydliště mimo hl. město Pr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F947-8F9B-4CBA-B4FB-6D8F71C22F1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Zástupný symbol pro obsah 6" descr="XX_uzemiDopadu1.jpg"/>
          <p:cNvPicPr/>
          <p:nvPr/>
        </p:nvPicPr>
        <p:blipFill>
          <a:blip r:embed="rId1"/>
          <a:stretch/>
        </p:blipFill>
        <p:spPr>
          <a:xfrm>
            <a:off x="1285920" y="1428840"/>
            <a:ext cx="5176800" cy="4714920"/>
          </a:xfrm>
          <a:prstGeom prst="rect">
            <a:avLst/>
          </a:prstGeom>
          <a:ln w="0">
            <a:noFill/>
          </a:ln>
        </p:spPr>
      </p:pic>
      <p:pic>
        <p:nvPicPr>
          <p:cNvPr id="520" name="Obrázek 7" descr="XX_uzemiDopadu1_1.jpg"/>
          <p:cNvPicPr/>
          <p:nvPr/>
        </p:nvPicPr>
        <p:blipFill>
          <a:blip r:embed="rId2"/>
          <a:stretch/>
        </p:blipFill>
        <p:spPr>
          <a:xfrm>
            <a:off x="3857760" y="1928880"/>
            <a:ext cx="2377800" cy="1143000"/>
          </a:xfrm>
          <a:prstGeom prst="rect">
            <a:avLst/>
          </a:prstGeom>
          <a:ln w="0">
            <a:noFill/>
          </a:ln>
        </p:spPr>
      </p:pic>
      <p:sp>
        <p:nvSpPr>
          <p:cNvPr id="521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, nebo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zemí zadávejte v úrovni, která odpovídá zpracovávanému projektu (region, kraje, okresy, ob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7A7F-C187-4A63-8CE0-647634D5302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Obrázek 8" descr="XX_uzemiDopadu1_2.jpg"/>
          <p:cNvPicPr/>
          <p:nvPr/>
        </p:nvPicPr>
        <p:blipFill>
          <a:blip r:embed="rId1"/>
          <a:srcRect l="0" t="41605" r="0" b="0"/>
          <a:stretch/>
        </p:blipFill>
        <p:spPr>
          <a:xfrm>
            <a:off x="1357200" y="1857240"/>
            <a:ext cx="4500720" cy="2311560"/>
          </a:xfrm>
          <a:prstGeom prst="rect">
            <a:avLst/>
          </a:prstGeom>
          <a:ln w="0">
            <a:noFill/>
          </a:ln>
        </p:spPr>
      </p:pic>
      <p:sp>
        <p:nvSpPr>
          <p:cNvPr id="526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5981-0E0F-4C4D-BE38-73DE4137C21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2E7F-9069-4938-B1D5-C83A5ABB63D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568D-1832-4709-8A49-D42E34A5F44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9672-4D02-4937-B8B4-E1E12718571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F423-FEE0-4FCB-B9D3-E243D6081B7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61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BEB5-62EC-4380-8DC2-3FBDE806318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848A-C585-457F-BAD6-4C76585952E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ecná pravidla zajišťování public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6C24-04DA-4966-A653-F19536D8BE9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Zástupný symbol pro obsah 12"/>
          <p:cNvSpPr/>
          <p:nvPr/>
        </p:nvSpPr>
        <p:spPr>
          <a:xfrm>
            <a:off x="1571760" y="1785960"/>
            <a:ext cx="7072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realizace informačních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propagačních aktiv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avidelné předkládání monitorovacích zpráv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ůběhu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držování pravidel podle Manuálu vizuální identit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 V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informovanosti o zdrojích financová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las se začleněním na veřejně přístupný seznam příjemců a na žádost poskytovatele souhlas se zveřejněním informace o průběhu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8A23-B5F5-4D37-8AE1-F6E72249835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571400" y="164268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a volba je plně v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kompetenci příjemce do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váděny v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žádosti o finanční podp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ás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ávního a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ání a realizace publicity je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dmětem kontr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klady na publicitu jsou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způsobilými náklad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99760" y="642600"/>
            <a:ext cx="73580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olba propagačních nástrojů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net (webové stránky projekt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ublikace, školicí a informační materiá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zprávy, články, rozhov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k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etáky a plaká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z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Nástroje propagačních aktivi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FDAC-C396-4874-988C-FE4D1C55EBF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nuál vizuální identity (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vinná sdělen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vropské Unie + odkaz na Evropskou uni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S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MŠM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OP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poručen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lajka ČR nebo text „Tento projekt je spolufinancován Evropským sociálním fondem a státním rozpočtem České republiky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daná hodnota OP VK – „Investice do rozvoje vzdělávání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Zprostředkujícího subjektu, příjem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avidla vizuální ident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050A-1792-460B-8B69-753ECEE32D8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spoluúčast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U (ESF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rámci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musí být zdůrazně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29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ěhem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šech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činností realizace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každém dokument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ztahujícím s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 školicích místnostech, na zařízeních a materiálech zakoupených z prostředků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a každé akci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lufinancované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E1B8-602B-4B6E-8A4F-5FF31D5F588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285920" y="1714680"/>
            <a:ext cx="4925880" cy="34369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6F2E-10D1-4C0D-818A-60354D89A24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396A-9C3E-4232-A460-37EA67C7C10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0 – 1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musí být VŘ provádě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0 001 – 5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minimálně 5 pracovních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00 001 – 1 999 999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ne kratší 10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E290-83C8-4298-9129-E23D2D4C485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Zástupný symbol pro obsah 4" descr="04_zadost10_crop.jpg"/>
          <p:cNvPicPr/>
          <p:nvPr/>
        </p:nvPicPr>
        <p:blipFill>
          <a:blip r:embed="rId1"/>
          <a:srcRect l="3371" t="3032" r="0" b="3032"/>
          <a:stretch/>
        </p:blipFill>
        <p:spPr>
          <a:xfrm>
            <a:off x="1285920" y="1571760"/>
            <a:ext cx="5551560" cy="4429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90E8-49C2-4B9C-AAF2-543DCE6426A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000 000 Kč a vý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není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ísemná výzva minimálně 5 dodavatel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hůta pro podávání nabídek ne kratší 21 dn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je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chází ze zákona č. 137/2006 Sb., o veřejných zakázk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027A-E77F-4E0D-9F81-88BAD73047C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Zástupný symbol pro obsah 4" descr="04_zadost46_1_crop.jpg"/>
          <p:cNvPicPr/>
          <p:nvPr/>
        </p:nvPicPr>
        <p:blipFill>
          <a:blip r:embed="rId1"/>
          <a:srcRect l="2520" t="3033" r="0" b="61058"/>
          <a:stretch/>
        </p:blipFill>
        <p:spPr>
          <a:xfrm>
            <a:off x="1357200" y="1571760"/>
            <a:ext cx="4732560" cy="128592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BF65-BFFB-4E81-A732-728FDA550B6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Zástupný symbol pro obsah 4" descr="04_zadost46_2_crop.jpg"/>
          <p:cNvPicPr/>
          <p:nvPr/>
        </p:nvPicPr>
        <p:blipFill>
          <a:blip r:embed="rId2"/>
          <a:srcRect l="4405" t="15150" r="0" b="7578"/>
          <a:stretch/>
        </p:blipFill>
        <p:spPr>
          <a:xfrm>
            <a:off x="1446120" y="2857680"/>
            <a:ext cx="5018040" cy="3643200"/>
          </a:xfrm>
          <a:prstGeom prst="rect">
            <a:avLst/>
          </a:prstGeom>
          <a:ln w="0">
            <a:noFill/>
          </a:ln>
        </p:spPr>
      </p:pic>
      <p:sp>
        <p:nvSpPr>
          <p:cNvPr id="578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371B-DB9D-4D09-B920-EBD09E44882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1F4D-EFC2-4739-8305-963B0023CC8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rafovaná šipka doprava 5"/>
          <p:cNvSpPr/>
          <p:nvPr/>
        </p:nvSpPr>
        <p:spPr>
          <a:xfrm rot="5400000">
            <a:off x="3071520" y="4714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k povaze projektu nepodstatné 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DBD1-9528-4209-A681-08F7CF0DF36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BF80-CEB0-417E-AA62-76C9C48BD4F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356840" y="142848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 19.9.2008 do 15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ě, doporučeně poštou nebo kurý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zalepené obálce, označené NEOTVÍRAT a  s údaji požadovanými ve výzvy (je možné na zadní stranu nalepit štítek s údaji o výzvě a žadateli – viz. Benefitová žád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A29C-754E-44FE-9211-73B0092B55E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obálk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lizovaná projektová žádost vytištěná z Benefitu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loh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D (nahraná finalizovaná Benefitová žádost ve formátu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pdf, vč. nahraných přílo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0687-4780-4587-98EA-B39F55218B1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428840" y="157176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lačítko tisk žádosti slouží zároveň k vygenerování elektronické verze ve formátu pd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isknutá žádost musí mít stejný Hash kód jako elektronická ve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títek na obálku se vytiskne po finalizaci společně se žádostí jako poslední strán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Tisk a odevzdání žádost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4670-8391-4945-8C67-13626186678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Zástupný symbol pro obsah 4" descr="04_zadost53_crop.jpg"/>
          <p:cNvPicPr/>
          <p:nvPr/>
        </p:nvPicPr>
        <p:blipFill>
          <a:blip r:embed="rId1"/>
          <a:srcRect l="1772" t="11075" r="0" b="0"/>
          <a:stretch/>
        </p:blipFill>
        <p:spPr>
          <a:xfrm>
            <a:off x="1285920" y="2143080"/>
            <a:ext cx="7072200" cy="231624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ontrol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3A92-CE62-4DCD-833C-B2DFD2392C0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kontrola proběhla v pořádku, byly splněny podmínky požadované automatickými kontrol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zor, tyto kontroly jsou pouze technického charakteru . I v případě úspěšné kontroly je nutné žádost prověř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07-09T12:57:22Z</dcterms:modified>
  <cp:revision>675</cp:revision>
  <dc:subject/>
  <dc:title>Snímek 1</dc:title>
</cp:coreProperties>
</file>