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BD1F-E08C-465C-A1B4-A1A0110304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692-5397-4F85-9B17-AB289B8C9A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hlaví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6C7F-1EED-4E20-AF6E-CEAE92F90F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BBA6-127F-4790-9413-EA0C233451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D64F-D326-4643-874F-3A9836E8A2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23C5-2257-4929-9A08-710EFD1F4C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F8FF-A4B3-4D9C-9CED-854E85B79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F78B-DF0C-4F04-9168-9A408EF8D5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EC74-44FE-4A1B-A0FD-9C3F4B24D0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C853-90AE-42E3-9F31-FE55BE66B3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1DBC-66AA-486B-96B6-23733B4E30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6B59-1872-41B7-B995-C5B9FF44CD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E458-6C97-48B6-B00F-3425D4A9B6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594A-77E6-4AA9-969B-6783E5FF24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4AE56-3700-4D2F-98D4-2330BEB7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2F14A-E10C-4D7C-805B-5C659563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FC9CE-6B4C-49D5-8054-E51D0416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B5F29-1D17-44CF-A3A7-8FB3AA8A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29451-1320-425B-967D-0A48B90C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BF57E-9EB1-4E54-BB24-28FFCFE4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1FAD1-D169-4DD4-92AA-2207327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72279-2CCC-412F-A453-998CB39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C48ED-4DA8-4AFA-9594-46B77576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B6C9D-EB03-4248-B812-38808E3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177E6-1D0B-46D1-B365-F371CD9C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AC391-BB6E-4099-8F7B-6D9A201B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Zástupný symbol pro číslo snímku 4"/>
          <p:cNvSpPr/>
          <p:nvPr/>
        </p:nvSpPr>
        <p:spPr>
          <a:xfrm>
            <a:off x="1071720" y="6215040"/>
            <a:ext cx="8072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6300-6054-4068-85E0-488968924731}" type="slidenum">
              <a:rPr b="0" lang="cs-CZ" sz="16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39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DBF4-C6F9-4CEC-9607-8362FFF3667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071720" y="11970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zva k předkládání žádos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finanční podporu z OP VK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357200" y="571680"/>
            <a:ext cx="7786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právnění partneř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musí mít sídlo na území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OŠ, školy a školská zařízení, instituce Vav, vývojová a inovační cent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ořízené organizace státní správ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aje, města, ob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ická zařízení, NN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městnavatelé, profesní organizace zaměstnavatelů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ové, zaměstnanecké a oborové profesní org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rganizace působící ve vzdělávání a kariérovém poradenstv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5720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realizace projekt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emí ČR vyjma území NUTS II hl. m. Pr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odnotící krité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ůvodnění projektu (záměr, pří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skup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alizace projektu (klíčové aktivity, management rizik,předchozí zkušenosti, publici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udržitelnost (5 let po ukončení financování projektu z prostředků ES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řízení (přiměřenost rozpočtu, provázanost rozpočtu s klíčovými aktivitami, nastavení vnitřního kontrolního syst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a výstu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 – rovné příležitosti, udržiteln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subkritéria (stanovená pro každou výzv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1  zdůvodnění záměru a jeho vazba na danou obla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y    10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2  potřebnost a očekávaný přínos projektu pro cílov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pinu    8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1  vymezení a přiměřenost cílových skupin   5 bod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2  způsob zapojení cílových skupin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1  klíčové aktivity a stádia realizace  9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2  připravenost na možná rizika a jejich řešení 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3  předchozí zkušenosti žadatele s řízením či realiz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dobných projektů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4  publicita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5  udržitelnost projektu po skončení financování z O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K    3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1  přiměřenost rozpočtu vzhledem k cílům a obsa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2  provázanost rozpočtu s klíčovými aktivitami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3  nastavení vnitřního kontrolního systému   4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1  kvantifikace výsledků a výstupů   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2  způsob zajištění plánovaných výsledků a výstupů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3  monitorování projektu 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1  aktivity podporující rovné příležitosti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2  aktivity podporující udržitelný rozvoj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kritéria pro 1. výz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1  zapojení relevantních partnerů a potenciálních odběratelů absolventů do projektu  10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2  přiměřenost harmonogramu a doby řešení   </a:t>
            </a:r>
            <a:br>
              <a:rPr sz="2800"/>
            </a:b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5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kce 4 – řízení operačních programů 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řízení OP Vzdělávání pro konkurenceschop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CERA – Implementace projektů strukturálních fond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vysokých škol – gesce za věcný obsah oblasti podpory 2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ŠM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ěkuji za pozornost </a:t>
            </a:r>
            <a:r>
              <a:rPr b="1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olina.gondkova@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elková finanční část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209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nanční podpora na 1 projek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in. 1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20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ba trvání projek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36 měsíců  od data účinnosti Rozhodnutí o poskytnutí dot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285920" y="13568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žnost tzv. křížového financování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9 % celkového rozpočtu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projektu lze využít jak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inves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ermíny výzv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hlášení: 19. 5.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Ukončení: 19. 9. 2008 v 15:00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57200" y="1928520"/>
            <a:ext cx="77868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dporované aktiv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ovace studijních program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ovace v souladu s požadavky znalostní ekonomiky a potřebami trhu práce prostřednictvím modularizace, rozšiřování nabídky kombinovaného a distančního studia, modernizace didaktických metod, realizace výuky v cizích jazycích, podpory podnikatelského přístupu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ace, které přesahují rámec jednoho studijního programu a které zvyšují možnosti mezioborového stu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ojení odborníků z praxe a zahraničí při vytvář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realizaci inovovaných studijních program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praxí a stáží studentů VŠ u budoucích zaměstnavatel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rba, zavádění, realizace a vyhodnocování systémů zajišťování kv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vádění a inovace systémů monitoringu potřeb trhu práce pro absolventy studijních obor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spolupráce VŠ se ZŠ a SŠ v rámci poskytování poradenských služeb a podpory talentovaných žá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dpora tvorby tý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intersektorální mobility akademických pracovník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manažerských dovedností v oblasti řízení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konalování gramotnosti ICT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jazykových kompetencí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odborných kompetencí akademický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spolupráce se zahraničními vzdělávacími a vědeckými institucemi, příprava zapojení jednotlivců do mezinárodních projektů a sí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57200" y="128556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jemci o studium na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ademičt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tatn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dagogičtí pracovníci ZŠ a SŠ (v případě poskytování poradenských služeb a podpory talentovaných ž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ílové skupin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57200" y="128556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říjemci podpory (žadatelé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oké školy podle zákona č. 111/1998 Sb. o vysokých školá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o změně a doplnění dalších zákonů (zákon o vysokých školách), ve znění pozdějších předpi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7:33:50Z</dcterms:created>
  <dc:creator>gondkova</dc:creator>
  <dc:description/>
  <dc:language>en-US</dc:language>
  <cp:lastModifiedBy>lenka menclová</cp:lastModifiedBy>
  <dcterms:modified xsi:type="dcterms:W3CDTF">2008-07-03T07:22:39Z</dcterms:modified>
  <cp:revision>35</cp:revision>
  <dc:subject/>
  <dc:title>Snímek 1</dc:title>
</cp:coreProperties>
</file>