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eminář pro žadatele o finanční podporu z OP VK k první výzvě pro předkládání žádostí IPO - oblast podpory 2.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D8F8-AEBE-4107-9D5B-1120B08C6DA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88EE-27B2-480B-8895-B497FD5D968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ro záhlaví 4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minář pro žadatele o finanční podporu z OP VK k první výzvě pro předkládání žádostí IPO - oblast podpory 2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B125-5327-44E0-9FBD-2CFAFDACA1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1099-C6DA-4908-A56A-100AA286BF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E2EE-A33F-4634-B0A0-32B09207AD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6CEBD-F722-432D-A865-41ABA4D347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6462-C9F2-478C-B4A5-9973779FA8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42BD-3956-4078-B41C-9C8B90AE40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1B6C4-8866-4AC2-99DB-E62C7C67DC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381DB-0BE6-4CC6-BF7F-E099F1E733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A3A5-1EB0-4C13-8826-E40934D190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A503-1CD5-402E-B2F9-EA1F4D7036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A672-A72F-426F-8009-7F28DE9317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9993-AFB8-4D6C-A39E-15A3FB9FAC0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78195-547B-4782-A2A8-2A72DC72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9EF6B-647B-45E0-89F4-DE6CD429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8FB71-E743-424B-B070-6FB22FBB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63E08-3ED3-4B4A-9B0C-F24A5178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566E2-2FC2-4F27-B4AB-80B43F3B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15B86-1140-49FB-B273-1B52A1C2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91289-B7BC-4807-9679-F8AA8E7D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6D73B-2E9F-451A-B3EF-EDB50125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05977-6CDE-432A-BFD2-DD90713A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BF0E1-2123-40FC-A2C0-F1145794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4FCA4-B9B5-4BA9-B931-6689BD94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78F4D-EFDA-4997-BFFD-B7521E1F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8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93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Zástupný symbol pro číslo snímku 4"/>
          <p:cNvSpPr/>
          <p:nvPr/>
        </p:nvSpPr>
        <p:spPr>
          <a:xfrm>
            <a:off x="1071720" y="6215040"/>
            <a:ext cx="8072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3D1B-9391-478D-8568-390F255410F4}" type="slidenum">
              <a:rPr b="0" lang="cs-CZ" sz="16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139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14CB-D7A1-4CE0-81F9-3AC3456641E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1071720" y="1197000"/>
            <a:ext cx="8072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zva k předkládání žádost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finanční podporu z OP VK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last podpory 2.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sokoškolské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357200" y="571680"/>
            <a:ext cx="7786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právnění partneři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musí mít sídlo na území Č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OŠ, školy a školská zařízení, instituce Vav, vývojová a inovační centr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ořízené organizace státní správ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aje, města, ob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ravotnická zařízení, NN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městnavatelé, profesní organizace zaměstnavatelů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borové, zaměstnanecké a oborové profesní organiz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rganizace působící ve vzdělávání a kariérovém poradenstv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57200" y="1714680"/>
            <a:ext cx="77868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ísto realizace projektů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zemí ČR vyjma území NUTS II hl. m. Pr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Hodnotící kritér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ůvodnění projektu (záměr, přín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ílová skup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alizace projektu (klíčové aktivity, management rizik,předchozí zkušenosti, publici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udržitelnost (5 let po ukončení financování projektu z prostředků ES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ční řízení (přiměřenost rozpočtu, provázanost rozpočtu s klíčovými aktivitami, nastavení vnitřního kontrolního systém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sledky a výstup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rizontální témata – rovné příležitosti, udržitelný rozv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ecifická subkritéria (stanovená pro každou výzv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 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1  zdůvodnění záměru a jeho vazba na danou oblas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y    10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2  potřebnost a očekávaný přínos projektu pro cílovo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kupinu    8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1  vymezení a přiměřenost cílových skupin   5 bod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2  způsob zapojení cílových skupin  5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1  klíčové aktivity a stádia realizace  9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2  připravenost na možná rizika a jejich řešení   2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3  předchozí zkušenosti žadatele s řízením či realizac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dobných projektů  2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4  publicita   2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5  udržitelnost projektu po skončení financování z OP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K    3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1  přiměřenost rozpočtu vzhledem k cílům a obsah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jektu   8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2  provázanost rozpočtu s klíčovými aktivitami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jektu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8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3  nastavení vnitřního kontrolního systému   4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1  kvantifikace výsledků a výstupů   5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2  způsob zajištění plánovaných výsledků a výstupů  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3  monitorování projektu   5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6.1  aktivity podporující rovné příležitosti   2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6.2  aktivity podporující udržitelný rozvoj   2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ecifická kritéria pro 1. výz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Calibri"/>
              </a:rPr>
              <a:t>7.1  zapojení relevantních partnerů a potenciálních odběratelů absolventů do projektu  10  bo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Calibri"/>
              </a:rPr>
              <a:t>7.2  přiměřenost harmonogramu a doby řešení   </a:t>
            </a:r>
            <a:br>
              <a:rPr sz="2800"/>
            </a:br>
            <a:r>
              <a:rPr b="0" lang="cs-CZ" sz="2800" spc="-1" strike="noStrike">
                <a:solidFill>
                  <a:srgbClr val="ff0066"/>
                </a:solidFill>
                <a:latin typeface="Calibri"/>
              </a:rPr>
              <a:t>5  bo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kce 4 – řízení operačních programů E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 řízení OP Vzdělávání pro konkurenceschop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 CERA – Implementace projektů strukturálních fond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 vysokých škol – gesce za věcný obsah oblasti podpory 2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ŠMT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ěkuji za pozornost </a:t>
            </a:r>
            <a:r>
              <a:rPr b="1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rolina.gondkova@msmt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357200" y="1356840"/>
            <a:ext cx="7786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Celková finanční částk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 209 000 000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Finanční podpora na 1 projek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in. 1 000 000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ax. 20 000 000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oba trvání projekt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ax. 36 měsíců  od data účinnosti Rozhodnutí o poskytnutí dot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285920" y="13568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ožnost tzv. křížového financování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ž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9 % celkového rozpočtu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projektu lze využít jako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inves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Termíny výzv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yhlášení: 19. 5.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Ukončení: 19. 9. 2008 v 15:00 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357200" y="1928520"/>
            <a:ext cx="778680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odporované aktivi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Inovace studijních programů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ovace v souladu s požadavky znalostní ekonomiky a potřebami trhu práce prostřednictvím modularizace, rozšiřování nabídky kombinovaného a distančního studia, modernizace didaktických metod, realizace výuky v cizích jazycích, podpory podnikatelského přístupu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last podpory 2.2 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sokoškolské vzdělává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ovace, které přesahují rámec jednoho studijního programu a které zvyšují možnosti mezioborového stud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pojení odborníků z praxe a zahraničí při vytváření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realizaci inovovaných studijních program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a praxí a stáží studentů VŠ u budoucích zaměstnavatelů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vorba, zavádění, realizace a vyhodnocování systémů zajišťování kva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vádění a inovace systémů monitoringu potřeb trhu práce pro absolventy studijních obor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a spolupráce VŠ se ZŠ a SŠ v rámci poskytování poradenských služeb a podpory talentovaných žák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dpora tvorby tý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ora intersektorální mobility akademických pracovník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yšování manažerských dovedností v oblasti řízení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okonalování gramotnosti ICT akademických a ostatních pracovníků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yšování jazykových kompetencí akademických a ostatních pracovníků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357200" y="1356840"/>
            <a:ext cx="7786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yšování odborných kompetencí akademických pracovníků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ora spolupráce se zahraničními vzdělávacími a vědeckými institucemi, příprava zapojení jednotlivců do mezinárodních projektů a sí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357200" y="1285560"/>
            <a:ext cx="778680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udenti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jemci o studium na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ademičtí pracovníci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tatní pracovníci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dagogičtí pracovníci ZŠ a SŠ (v případě poskytování poradenských služeb a podpory talentovaných žák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Cílové skupin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357200" y="1285560"/>
            <a:ext cx="742968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říjemci podpory (žadatelé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soké školy podle zákona č. 111/1998 Sb. o vysokých školá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o změně a doplnění dalších zákonů (zákon o vysokých školách), ve znění pozdějších předpis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7:33:50Z</dcterms:created>
  <dc:creator>gondkova</dc:creator>
  <dc:description/>
  <dc:language>en-US</dc:language>
  <cp:lastModifiedBy>lenka menclová</cp:lastModifiedBy>
  <dcterms:modified xsi:type="dcterms:W3CDTF">2008-07-03T07:22:39Z</dcterms:modified>
  <cp:revision>35</cp:revision>
  <dc:subject/>
  <dc:title>Snímek 1</dc:title>
</cp:coreProperties>
</file>