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94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11.jpeg" ContentType="image/jpe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  <p:sldId id="318" r:id="rId70"/>
    <p:sldId id="319" r:id="rId71"/>
    <p:sldId id="320" r:id="rId72"/>
    <p:sldId id="321" r:id="rId73"/>
    <p:sldId id="322" r:id="rId74"/>
    <p:sldId id="323" r:id="rId75"/>
    <p:sldId id="324" r:id="rId76"/>
    <p:sldId id="325" r:id="rId77"/>
    <p:sldId id="326" r:id="rId78"/>
    <p:sldId id="327" r:id="rId79"/>
    <p:sldId id="328" r:id="rId80"/>
    <p:sldId id="329" r:id="rId81"/>
    <p:sldId id="330" r:id="rId82"/>
    <p:sldId id="331" r:id="rId83"/>
    <p:sldId id="332" r:id="rId84"/>
    <p:sldId id="333" r:id="rId85"/>
    <p:sldId id="334" r:id="rId86"/>
    <p:sldId id="335" r:id="rId87"/>
    <p:sldId id="336" r:id="rId88"/>
    <p:sldId id="337" r:id="rId89"/>
    <p:sldId id="338" r:id="rId90"/>
    <p:sldId id="339" r:id="rId91"/>
    <p:sldId id="340" r:id="rId92"/>
    <p:sldId id="341" r:id="rId93"/>
    <p:sldId id="342" r:id="rId94"/>
    <p:sldId id="343" r:id="rId95"/>
    <p:sldId id="344" r:id="rId96"/>
    <p:sldId id="345" r:id="rId97"/>
    <p:sldId id="346" r:id="rId98"/>
    <p:sldId id="347" r:id="rId99"/>
    <p:sldId id="348" r:id="rId100"/>
    <p:sldId id="349" r:id="rId101"/>
    <p:sldId id="350" r:id="rId102"/>
    <p:sldId id="351" r:id="rId103"/>
    <p:sldId id="352" r:id="rId104"/>
    <p:sldId id="353" r:id="rId105"/>
    <p:sldId id="354" r:id="rId106"/>
    <p:sldId id="355" r:id="rId107"/>
    <p:sldId id="356" r:id="rId108"/>
    <p:sldId id="357" r:id="rId109"/>
    <p:sldId id="358" r:id="rId110"/>
    <p:sldId id="359" r:id="rId111"/>
    <p:sldId id="360" r:id="rId112"/>
    <p:sldId id="361" r:id="rId113"/>
    <p:sldId id="362" r:id="rId114"/>
    <p:sldId id="363" r:id="rId1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slide" Target="slides/slide63.xml"/><Relationship Id="rId71" Type="http://schemas.openxmlformats.org/officeDocument/2006/relationships/slide" Target="slides/slide64.xml"/><Relationship Id="rId72" Type="http://schemas.openxmlformats.org/officeDocument/2006/relationships/slide" Target="slides/slide65.xml"/><Relationship Id="rId73" Type="http://schemas.openxmlformats.org/officeDocument/2006/relationships/slide" Target="slides/slide66.xml"/><Relationship Id="rId74" Type="http://schemas.openxmlformats.org/officeDocument/2006/relationships/slide" Target="slides/slide67.xml"/><Relationship Id="rId75" Type="http://schemas.openxmlformats.org/officeDocument/2006/relationships/slide" Target="slides/slide68.xml"/><Relationship Id="rId76" Type="http://schemas.openxmlformats.org/officeDocument/2006/relationships/slide" Target="slides/slide69.xml"/><Relationship Id="rId77" Type="http://schemas.openxmlformats.org/officeDocument/2006/relationships/slide" Target="slides/slide70.xml"/><Relationship Id="rId78" Type="http://schemas.openxmlformats.org/officeDocument/2006/relationships/slide" Target="slides/slide71.xml"/><Relationship Id="rId79" Type="http://schemas.openxmlformats.org/officeDocument/2006/relationships/slide" Target="slides/slide72.xml"/><Relationship Id="rId80" Type="http://schemas.openxmlformats.org/officeDocument/2006/relationships/slide" Target="slides/slide73.xml"/><Relationship Id="rId81" Type="http://schemas.openxmlformats.org/officeDocument/2006/relationships/slide" Target="slides/slide74.xml"/><Relationship Id="rId82" Type="http://schemas.openxmlformats.org/officeDocument/2006/relationships/slide" Target="slides/slide75.xml"/><Relationship Id="rId83" Type="http://schemas.openxmlformats.org/officeDocument/2006/relationships/slide" Target="slides/slide76.xml"/><Relationship Id="rId84" Type="http://schemas.openxmlformats.org/officeDocument/2006/relationships/slide" Target="slides/slide77.xml"/><Relationship Id="rId85" Type="http://schemas.openxmlformats.org/officeDocument/2006/relationships/slide" Target="slides/slide78.xml"/><Relationship Id="rId86" Type="http://schemas.openxmlformats.org/officeDocument/2006/relationships/slide" Target="slides/slide79.xml"/><Relationship Id="rId87" Type="http://schemas.openxmlformats.org/officeDocument/2006/relationships/slide" Target="slides/slide80.xml"/><Relationship Id="rId88" Type="http://schemas.openxmlformats.org/officeDocument/2006/relationships/slide" Target="slides/slide81.xml"/><Relationship Id="rId89" Type="http://schemas.openxmlformats.org/officeDocument/2006/relationships/slide" Target="slides/slide82.xml"/><Relationship Id="rId90" Type="http://schemas.openxmlformats.org/officeDocument/2006/relationships/slide" Target="slides/slide83.xml"/><Relationship Id="rId91" Type="http://schemas.openxmlformats.org/officeDocument/2006/relationships/slide" Target="slides/slide84.xml"/><Relationship Id="rId92" Type="http://schemas.openxmlformats.org/officeDocument/2006/relationships/slide" Target="slides/slide85.xml"/><Relationship Id="rId93" Type="http://schemas.openxmlformats.org/officeDocument/2006/relationships/slide" Target="slides/slide86.xml"/><Relationship Id="rId94" Type="http://schemas.openxmlformats.org/officeDocument/2006/relationships/slide" Target="slides/slide87.xml"/><Relationship Id="rId95" Type="http://schemas.openxmlformats.org/officeDocument/2006/relationships/slide" Target="slides/slide88.xml"/><Relationship Id="rId96" Type="http://schemas.openxmlformats.org/officeDocument/2006/relationships/slide" Target="slides/slide89.xml"/><Relationship Id="rId97" Type="http://schemas.openxmlformats.org/officeDocument/2006/relationships/slide" Target="slides/slide90.xml"/><Relationship Id="rId98" Type="http://schemas.openxmlformats.org/officeDocument/2006/relationships/slide" Target="slides/slide91.xml"/><Relationship Id="rId99" Type="http://schemas.openxmlformats.org/officeDocument/2006/relationships/slide" Target="slides/slide92.xml"/><Relationship Id="rId100" Type="http://schemas.openxmlformats.org/officeDocument/2006/relationships/slide" Target="slides/slide93.xml"/><Relationship Id="rId101" Type="http://schemas.openxmlformats.org/officeDocument/2006/relationships/slide" Target="slides/slide94.xml"/><Relationship Id="rId102" Type="http://schemas.openxmlformats.org/officeDocument/2006/relationships/slide" Target="slides/slide95.xml"/><Relationship Id="rId103" Type="http://schemas.openxmlformats.org/officeDocument/2006/relationships/slide" Target="slides/slide96.xml"/><Relationship Id="rId104" Type="http://schemas.openxmlformats.org/officeDocument/2006/relationships/slide" Target="slides/slide97.xml"/><Relationship Id="rId105" Type="http://schemas.openxmlformats.org/officeDocument/2006/relationships/slide" Target="slides/slide98.xml"/><Relationship Id="rId106" Type="http://schemas.openxmlformats.org/officeDocument/2006/relationships/slide" Target="slides/slide99.xml"/><Relationship Id="rId107" Type="http://schemas.openxmlformats.org/officeDocument/2006/relationships/slide" Target="slides/slide100.xml"/><Relationship Id="rId108" Type="http://schemas.openxmlformats.org/officeDocument/2006/relationships/slide" Target="slides/slide101.xml"/><Relationship Id="rId109" Type="http://schemas.openxmlformats.org/officeDocument/2006/relationships/slide" Target="slides/slide102.xml"/><Relationship Id="rId110" Type="http://schemas.openxmlformats.org/officeDocument/2006/relationships/slide" Target="slides/slide103.xml"/><Relationship Id="rId111" Type="http://schemas.openxmlformats.org/officeDocument/2006/relationships/slide" Target="slides/slide104.xml"/><Relationship Id="rId112" Type="http://schemas.openxmlformats.org/officeDocument/2006/relationships/slide" Target="slides/slide105.xml"/><Relationship Id="rId113" Type="http://schemas.openxmlformats.org/officeDocument/2006/relationships/slide" Target="slides/slide106.xml"/><Relationship Id="rId114" Type="http://schemas.openxmlformats.org/officeDocument/2006/relationships/slide" Target="slides/slide107.xml"/><Relationship Id="rId115" Type="http://schemas.openxmlformats.org/officeDocument/2006/relationships/slide" Target="slides/slide108.xml"/><Relationship Id="rId1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move the slide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E7BC-6ECB-4E64-81A5-2CF33A558E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FAED-6442-4DD5-B5A0-48B0F54629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Zástupný symbol pro datum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E517-99CC-4123-971B-9001261A9C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Zástupný symbol pro datum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400D-CF43-4763-9C3C-C5E298CFA9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Zástupný symbol pro datum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CD2E-C7B9-4718-B71B-0FABE880EE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Zástupný symbol pro datum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4D860-4871-426F-9781-57A86973E3C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9E0D9-0F0E-43F7-9953-5E0C94C36FB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EDAD5-48CE-4607-A072-74E2809B858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CC265-DC67-4C9D-9938-B7EFB64F8B0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C6804-0827-434F-8B18-3C4E328A08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154AD-F641-476B-BB44-2C580557B4B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DABF6-9D62-4825-824A-C195FD90BE1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AF6FC-1BD5-45E0-925C-3A2A2AE524D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92716-E449-4FB0-AD3A-03C7134BAA5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DEC41-4AA1-4BD0-863C-BDEE5E80BA0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278DF-1911-4647-ACAF-793301A07F8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AA359-E086-42EC-950F-BEE3798C8C3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1B513-0FC3-45CF-AB8B-3DB827DF0B7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81204-21B0-4DE3-8BAC-E3A7F182C91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4BB70-405F-43E6-917C-EA01FFD7D0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5690F-33CD-4BE0-8542-380E9C44A58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D56E5-57BF-4120-829E-92EC63EEBA7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7FD17-E267-4389-9EFB-D2B4E57C396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A65EA-4267-4D53-B6DC-549715DA477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723C4-EC38-433E-8E44-B61A7BA0DE7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18B37-1BA9-4A69-80A8-6685442FCC0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62D25-6E4B-4D7E-964F-2FDAAC2C11B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44133-697A-4447-9D4F-3889BA508A2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48691-7C59-4A24-8638-E151B9A48BC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AF42-EA5A-4A92-91DB-7C6D4D4D14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AD92-949E-4B73-BF55-C3D38A57B38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D0CD-58EE-444B-A2DA-C3A28051B36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80D4-9012-4E12-B714-0AAED29B323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2A90-B6FE-4947-9A17-6DD4947A507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A279-45DA-43F9-B311-EF780FA78E0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B424-A669-4EB1-9556-8EE30F5C1F3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9E36-B905-49B0-8C20-91DF9CD3131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017E-10AA-4C2C-BD94-08A72B35DA3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E5E6-305A-4146-9D5F-A0D17FCFE96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AF68-E47D-49E0-9933-B538D41B19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256C-EA78-41E6-B3B5-954A4D5C29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4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48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Zástupný symbol pro datum 3"/>
          <p:cNvSpPr/>
          <p:nvPr/>
        </p:nvSpPr>
        <p:spPr>
          <a:xfrm>
            <a:off x="1285920" y="557208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Calibri"/>
              </a:rPr>
              <a:t>Ministerstvo školství, mládeže a tělových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93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PlaceHolder 1"/>
          <p:cNvSpPr>
            <a:spLocks noGrp="1"/>
          </p:cNvSpPr>
          <p:nvPr>
            <p:ph type="sldNum" idx="1"/>
          </p:nvPr>
        </p:nvSpPr>
        <p:spPr>
          <a:xfrm>
            <a:off x="107136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65BD-6890-455F-8436-37C1FF98AD74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edit the title text format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3912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140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PlaceHolder 1"/>
          <p:cNvSpPr>
            <a:spLocks noGrp="1"/>
          </p:cNvSpPr>
          <p:nvPr>
            <p:ph type="sldNum" idx="2"/>
          </p:nvPr>
        </p:nvSpPr>
        <p:spPr>
          <a:xfrm>
            <a:off x="107136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A534-4FEB-483B-9AED-89F69144B269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185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sldNum" idx="3"/>
          </p:nvPr>
        </p:nvSpPr>
        <p:spPr>
          <a:xfrm>
            <a:off x="107136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383F-1D7A-48AA-96D1-921DD5EA9572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7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3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hyperlink" Target="http://www.msmt.cz/" TargetMode="External"/><Relationship Id="rId2" Type="http://schemas.openxmlformats.org/officeDocument/2006/relationships/slideLayout" Target="../slideLayouts/slideLayout3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hyperlink" Target="http://www.msmt.cz/" TargetMode="External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hyperlink" Target="http://www.msmt.cz/" TargetMode="External"/><Relationship Id="rId2" Type="http://schemas.openxmlformats.org/officeDocument/2006/relationships/slideLayout" Target="../slideLayouts/slideLayout3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85920" y="1142640"/>
            <a:ext cx="78580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Příprava projektové žádosti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4" name="Zástupný symbol pro číslo snímku 5"/>
          <p:cNvSpPr/>
          <p:nvPr/>
        </p:nvSpPr>
        <p:spPr>
          <a:xfrm>
            <a:off x="1071720" y="649296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Zástupný symbol pro obsah 4" descr="04_zadost17_crop.jpg"/>
          <p:cNvPicPr/>
          <p:nvPr/>
        </p:nvPicPr>
        <p:blipFill>
          <a:blip r:embed="rId1"/>
          <a:srcRect l="2620" t="1516" r="0" b="0"/>
          <a:stretch/>
        </p:blipFill>
        <p:spPr>
          <a:xfrm>
            <a:off x="1285920" y="1500120"/>
            <a:ext cx="5065560" cy="464364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Osoby žadatel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BB48-CD90-4144-B053-1D89ACB8DFD0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bdélník se zakulaceným příčným rohem 6"/>
          <p:cNvSpPr/>
          <p:nvPr/>
        </p:nvSpPr>
        <p:spPr>
          <a:xfrm>
            <a:off x="6215040" y="1857240"/>
            <a:ext cx="2714760" cy="4357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záložce „Osoby žadatele“ je nutné uvést všechny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tatutární zástupce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Kontaktní osob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terá bude během hodnocení a realizace komunikovat s pracovníky ŘO ohledně projektu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Zástupný symbol pro obsah 4" descr="04_zadost54_crop.jpg"/>
          <p:cNvPicPr/>
          <p:nvPr/>
        </p:nvPicPr>
        <p:blipFill>
          <a:blip r:embed="rId1"/>
          <a:srcRect l="1715" t="4430" r="0" b="0"/>
          <a:stretch/>
        </p:blipFill>
        <p:spPr>
          <a:xfrm>
            <a:off x="1285920" y="2071800"/>
            <a:ext cx="6357960" cy="293832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edkládání žádostí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Finalizac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0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64D3-B3B6-4A7C-B1B9-357DC03E441A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inalizaci je nezbytně nutné provést před tím, než je žádost odevzdá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inalizací je žádost uzavřena a chráněna oproti další edita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yní můžete žádost vytisknout a uložit ve formátu .pdf na CD-R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Zástupný symbol pro obsah 4" descr="04_zadost54_crop.jpg"/>
          <p:cNvPicPr/>
          <p:nvPr/>
        </p:nvPicPr>
        <p:blipFill>
          <a:blip r:embed="rId1"/>
          <a:srcRect l="1715" t="4430" r="0" b="0"/>
          <a:stretch/>
        </p:blipFill>
        <p:spPr>
          <a:xfrm>
            <a:off x="1285920" y="2071800"/>
            <a:ext cx="6357960" cy="293832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edkládání žádostí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Finalizac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1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61A4-7337-4D33-91CE-9E8AC38B32F5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ádost je možné opět odemknout tlačítkem Storno finaliz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 provedení Storno finalizace se musí opět žádost Finalizovat, vytisknout a uložit na CD-RO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 odevzdání žádosti již Storno finalizace neprovádějte bez předchozí konzultace s Ř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růběh hodnocení žádost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1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504F-7137-49A5-AA1A-633974A200F4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</a:rPr>
              <a:t>Průběh hodnocení žádostí</a:t>
            </a:r>
            <a:endParaRPr b="1" lang="en-US" sz="44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85920" y="1125000"/>
            <a:ext cx="74008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Fáze hodnocení a schvalování IPo (orientační termín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Formální hodnocení a hodnocení přijatelnosti do 25 P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ěcné hodnocení do 30 P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odnocení Výběrovou komisí do 20 P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chvalování projektů do 15 P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ompletace podkladů, vydání Rozhodnutí do 30 P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B76E-5D40-4A49-98FF-132D549DC0E3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Průběh hodnocení žádostí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357200" y="1197000"/>
            <a:ext cx="73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1. fáze hodnocení - Formální hodnoc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dostatky jsou odstraniteln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padné formální nedostatky se odstraňují až po hodnocení přijatelnost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a odstranění má žadatel 10 pracovních dn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2. fáze hodnocení - Hodnocení přijatel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Žadatel, partneři, aktivity, výdaje a cílové skupiny jsou v souladu s výzv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odstranitelné nedostatk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39A5-7E94-446C-A99E-1C8929C1E60C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Průběh hodnocení žádostí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3. fáze hodnocení - věcné hodnoc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ěcné hodnocení, které je prováděno na základě posuzování žádosti ve vztahu ke stanoveným výběrovým kritérií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va individuální hodnotitelé, kteří jsou proškoleni a získali certifikát nebo hodnotitelská komise, která je složena z proškolených hodnotitel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4D74-2242-4204-8D09-8F607B1EEE61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Průběh hodnocení žádostí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285920" y="1268280"/>
            <a:ext cx="740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4. fáze: hodnocení výběrovou komisí (VK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usí mít nejméně 9 členů s hlasovacím práv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Členové výběrových komisí nesmí být současně hodnotiteli projednávaných žádost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K doporučuje projekty k finanční podpoře na základě výše finančních prostředků, přidělených na danou výzv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K při svém rozhodování respektuje pořadí vzniklé na základě bodového ohodnocen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23F9-6801-4DEB-B8FC-29EB046E0390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Průběh hodnocení žádostí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85920" y="1268280"/>
            <a:ext cx="740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5. Fáze -  schvalování projekt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rada vedení MŠMT a následně ministr školství, mládeže a tělovýchov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inistr, vrchní ředitel sekce IV či odbor CERA mohou do výsledků jednání VK zasahovat pouze v případě, že bylo prokazatelně porušeno některé z pravidel schvalování I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veřejnění výsledků na www.msmt.c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1391-2608-45E3-AAE3-2271C3EA2F6F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ěkujeme za vaši pozornost.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32" name="Zástupný symbol pro číslo snímku 2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139F-F118-4D97-AF2B-F452F8D49397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Zástupný symbol pro obsah 4" descr="04_zadost50_1_crop.jpg"/>
          <p:cNvPicPr/>
          <p:nvPr/>
        </p:nvPicPr>
        <p:blipFill>
          <a:blip r:embed="rId1"/>
          <a:srcRect l="4686" t="3034" r="0" b="25762"/>
          <a:stretch/>
        </p:blipFill>
        <p:spPr>
          <a:xfrm>
            <a:off x="1285920" y="1714680"/>
            <a:ext cx="4914720" cy="292860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yplnění projektové žádosti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Další projek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7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245B-73F0-41D7-B1B9-E71347ABF955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Šrafovaná šipka doprava 5"/>
          <p:cNvSpPr/>
          <p:nvPr/>
        </p:nvSpPr>
        <p:spPr>
          <a:xfrm rot="5400000">
            <a:off x="3071520" y="464328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další projekty, které realizuje žadatel v oblasti rozvoje lidských zdrojů a které jsou financované z veřejných zdroj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projekty, které jsou relevantní vzhledem k tomuto projektu a js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ealizované nebo připravované v době podání žád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Zástupný symbol pro obsah 4" descr="04_zadost50_2_crop.jpg"/>
          <p:cNvPicPr/>
          <p:nvPr/>
        </p:nvPicPr>
        <p:blipFill>
          <a:blip r:embed="rId1"/>
          <a:srcRect l="3698" t="30463" r="0" b="0"/>
          <a:stretch/>
        </p:blipFill>
        <p:spPr>
          <a:xfrm>
            <a:off x="1285920" y="2071800"/>
            <a:ext cx="4792680" cy="335736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yplnění projektové žádosti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Další projek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77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E9AD-37BF-4397-888F-3B1BAD2001C8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Šrafovaná šipka doprava 5"/>
          <p:cNvSpPr/>
          <p:nvPr/>
        </p:nvSpPr>
        <p:spPr>
          <a:xfrm rot="5400000">
            <a:off x="3643560" y="178596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 teprve plánovaného nebo připravovaného projektu uvádějte data plánovaná a očekávan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1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0A76-F30B-435D-AC8D-BD66365E0092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1428480" y="1428480"/>
            <a:ext cx="74293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rávnická osoba se sídlem na území Č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Není v úpadku, exekuci nebo likvidac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Splňuje podmínky bezdlužnosti vůči veřejné správě a zdravotním pojišťovná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jemce dotace společně s partnery realizují alespoň 51 % aktivit projekt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artner společně se žadatelem projekt vytváří, koordinuje, realizuje a vyhodnocuj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artner nesmí být pouze skrytý dodavatel, nebo administrá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491E-0023-4CFB-87BC-B9F822A5BF8E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1357200" y="1285920"/>
            <a:ext cx="7786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artner s finančním příspěvkem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přijímá prostřednictvím příjemce část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finanční podpory na realizaci věcných projektových aktivit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artner bez finančního příspěvku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dílí se na realizaci věcných aktivit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jektu,  ale není mu poskytován žádný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finanční příspěvek za účast na realizaci projektu např. Konzultace, odborné garanc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7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4262-3532-417D-BDC0-BE30BC811545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Zástupný symbol pro obsah 4" descr="04_zadost20_1_crop.jpg"/>
          <p:cNvPicPr/>
          <p:nvPr/>
        </p:nvPicPr>
        <p:blipFill>
          <a:blip r:embed="rId1"/>
          <a:srcRect l="3792" t="3031" r="0" b="16665"/>
          <a:stretch/>
        </p:blipFill>
        <p:spPr>
          <a:xfrm>
            <a:off x="1357200" y="1571760"/>
            <a:ext cx="4537080" cy="37861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9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CE2F-3EDC-47E1-B7F8-3D09B0EFF826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bdélník se zakulaceným příčným rohem 5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ormuláře na záložce „Partner projektu“ jsou přístupné pouze v případě, že žadatel na záložce „Projekt“ zvolil možnost „Projekt má partnera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mocí tlačítka „Nový záznam“ je možné zadat potřebný počet partnerů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Šrafovaná šipka doprava 6"/>
          <p:cNvSpPr/>
          <p:nvPr/>
        </p:nvSpPr>
        <p:spPr>
          <a:xfrm rot="5400000">
            <a:off x="3643200" y="600048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Zástupný symbol pro obsah 4" descr="04_zadost20_2_crop.jpg"/>
          <p:cNvPicPr/>
          <p:nvPr/>
        </p:nvPicPr>
        <p:blipFill>
          <a:blip r:embed="rId1"/>
          <a:srcRect l="2839" t="12123" r="0" b="3029"/>
          <a:stretch/>
        </p:blipFill>
        <p:spPr>
          <a:xfrm>
            <a:off x="1357200" y="2214720"/>
            <a:ext cx="4341960" cy="400032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9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BD18-43DE-4DF5-ADD0-AB952128C666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Šrafovaná šipka doprava 5"/>
          <p:cNvSpPr/>
          <p:nvPr/>
        </p:nvSpPr>
        <p:spPr>
          <a:xfrm rot="5400000">
            <a:off x="3643200" y="171432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bdélníkový popisek 6"/>
          <p:cNvSpPr/>
          <p:nvPr/>
        </p:nvSpPr>
        <p:spPr>
          <a:xfrm>
            <a:off x="5429160" y="1571760"/>
            <a:ext cx="3500640" cy="571320"/>
          </a:xfrm>
          <a:prstGeom prst="wedgeRectCallout">
            <a:avLst>
              <a:gd name="adj1" fmla="val -108879"/>
              <a:gd name="adj2" fmla="val 74944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Údaje o DPH zohledněte i v rozpočtu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bdélníkový popisek 7"/>
          <p:cNvSpPr/>
          <p:nvPr/>
        </p:nvSpPr>
        <p:spPr>
          <a:xfrm>
            <a:off x="5429160" y="2214720"/>
            <a:ext cx="3500640" cy="571320"/>
          </a:xfrm>
          <a:prstGeom prst="wedgeRectCallout">
            <a:avLst>
              <a:gd name="adj1" fmla="val -75291"/>
              <a:gd name="adj2" fmla="val 20597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ymezte částku, která z celkového rozpočtu projektu připadá na partne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bdélníkový popisek 8"/>
          <p:cNvSpPr/>
          <p:nvPr/>
        </p:nvSpPr>
        <p:spPr>
          <a:xfrm>
            <a:off x="5429160" y="2857680"/>
            <a:ext cx="3500640" cy="1214280"/>
          </a:xfrm>
          <a:prstGeom prst="wedgeRectCallout">
            <a:avLst>
              <a:gd name="adj1" fmla="val -68657"/>
              <a:gd name="adj2" fmla="val -19949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č zapojujete partnera do projektu, proč určité aktivity nerealizuje přímo žadatel? Proč je vhodný právě tento partner? Proč nelze činnost partnera realizovat formou dodávk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bdélníkový popisek 9"/>
          <p:cNvSpPr/>
          <p:nvPr/>
        </p:nvSpPr>
        <p:spPr>
          <a:xfrm>
            <a:off x="5429160" y="4143240"/>
            <a:ext cx="3500640" cy="642960"/>
          </a:xfrm>
          <a:prstGeom prst="wedgeRectCallout">
            <a:avLst>
              <a:gd name="adj1" fmla="val -63680"/>
              <a:gd name="adj2" fmla="val -26851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způsob zapojení partnerů v příslušných aktivitá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bdélníkový popisek 10"/>
          <p:cNvSpPr/>
          <p:nvPr/>
        </p:nvSpPr>
        <p:spPr>
          <a:xfrm>
            <a:off x="5429160" y="4857840"/>
            <a:ext cx="3500640" cy="1500120"/>
          </a:xfrm>
          <a:prstGeom prst="wedgeRectCallout">
            <a:avLst>
              <a:gd name="adj1" fmla="val -67763"/>
              <a:gd name="adj2" fmla="val -36976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projekty v oblasti RLZ již partner realizoval či realizuje. V případě velkého počtu projektů uveďte jen projekty obdobného charakteru. Popis by měl obsahovat cíle projektu, aktivity, program, z něhož byl podpoř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Zástupný symbol pro obsah 4" descr="04_zadost20_2_crop.jpg"/>
          <p:cNvPicPr/>
          <p:nvPr/>
        </p:nvPicPr>
        <p:blipFill>
          <a:blip r:embed="rId1"/>
          <a:srcRect l="2839" t="12123" r="0" b="3029"/>
          <a:stretch/>
        </p:blipFill>
        <p:spPr>
          <a:xfrm>
            <a:off x="1285920" y="2214720"/>
            <a:ext cx="4341600" cy="4000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9A82-B0DE-4C0E-979B-1F6812487DA1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bdélníkový popisek 10"/>
          <p:cNvSpPr/>
          <p:nvPr/>
        </p:nvSpPr>
        <p:spPr>
          <a:xfrm>
            <a:off x="5429160" y="4857840"/>
            <a:ext cx="3500640" cy="1500120"/>
          </a:xfrm>
          <a:prstGeom prst="wedgeRectCallout">
            <a:avLst>
              <a:gd name="adj1" fmla="val -67402"/>
              <a:gd name="adj2" fmla="val 22277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stručný popis cílové skupiny se kterou máte zkušenosti. Jakým způsobem jste s cílovou skupinou pracovali a případně s jakým výsledk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Zástupný symbol pro obsah 4" descr="xxx_adresaPartnera.jpg"/>
          <p:cNvPicPr/>
          <p:nvPr/>
        </p:nvPicPr>
        <p:blipFill>
          <a:blip r:embed="rId1"/>
          <a:srcRect l="0" t="0" r="0" b="1517"/>
          <a:stretch/>
        </p:blipFill>
        <p:spPr>
          <a:xfrm>
            <a:off x="1285920" y="1500120"/>
            <a:ext cx="3897360" cy="464364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Adresa partner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1BA2-3E8B-474E-9649-705FEA4C3599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bdélník se zakulaceným příčným rohem 6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dresy partnerů jsou automaticky vloženy při validaci ARES na záložce „Partner projektu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utomaticky vložené údaje needitujte v  aplikaci BENEF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bsah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357200" y="1428480"/>
            <a:ext cx="37864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Žadatel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artner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O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Monitorovací indikáto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Aktivity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Realizační tý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Rozpočet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Finanční tok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Další rozčlenění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143320" y="1428480"/>
            <a:ext cx="38574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Horizontální tém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ublici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běrová říz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lohy projek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edkládání žádost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ůběh hodnocení žádost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6836-2E42-4EC1-AF7B-9FDD8C6CDFF4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Zástupný symbol pro obsah 4" descr="04_zadost21_crop.jpg"/>
          <p:cNvPicPr/>
          <p:nvPr/>
        </p:nvPicPr>
        <p:blipFill>
          <a:blip r:embed="rId1"/>
          <a:srcRect l="3504" t="3029" r="0" b="4543"/>
          <a:stretch/>
        </p:blipFill>
        <p:spPr>
          <a:xfrm>
            <a:off x="1285920" y="1571760"/>
            <a:ext cx="4817880" cy="43574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Osoby partner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1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28D9-8729-469A-BB42-240A3BA9FAB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bdélník se zakulaceným příčným rohem 5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lňte u každého partner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tatutární zástupce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 potřeby doplňte i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kontaktní osobu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rtnera. K jejich rozlišení využijte pole funkce osob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15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A44A-40BF-4357-B043-6F1D908BCBE6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1357200" y="1428480"/>
            <a:ext cx="7786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rojekt musí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ýt v souladu s odpovídající prioritní osou OP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K a oblastí podpory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řešit definovaný problém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ít stanovené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měřiteln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a reálně dosažitelné cíl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ít logickou posloupnost sestávající se z řady specifických činností nezbytných k dosažení stanovených cílů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18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627F-2D4B-4B02-AEDB-E988A39A57B8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1357200" y="1428480"/>
            <a:ext cx="7786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ýt zahájen nejdříve ke dni vydání Rozhodnutí o poskytnutí dotac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rvat maximálně 36 měsíců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21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582C-8874-4882-80A1-275D3D5649CA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Zástupný symbol pro obsah 4" descr="04_zadost4_crop.jpg"/>
          <p:cNvPicPr/>
          <p:nvPr/>
        </p:nvPicPr>
        <p:blipFill>
          <a:blip r:embed="rId1"/>
          <a:srcRect l="2591" t="3029" r="0" b="1514"/>
          <a:stretch/>
        </p:blipFill>
        <p:spPr>
          <a:xfrm>
            <a:off x="1357200" y="1571760"/>
            <a:ext cx="4916520" cy="450036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2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8D54-C665-4B9D-B998-C62EDEDAF265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bdélníkový popisek 5"/>
          <p:cNvSpPr/>
          <p:nvPr/>
        </p:nvSpPr>
        <p:spPr>
          <a:xfrm>
            <a:off x="6286680" y="2071800"/>
            <a:ext cx="2714400" cy="1571400"/>
          </a:xfrm>
          <a:prstGeom prst="wedgeRectCallout">
            <a:avLst>
              <a:gd name="adj1" fmla="val -141615"/>
              <a:gd name="adj2" fmla="val 133106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ázev by měl popisovat projekt jednoznačně, stručně a výstižně. Pod tímto názvem bude projekt vystupovat od schvalování až po jeho realiza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bdélníkový popisek 6"/>
          <p:cNvSpPr/>
          <p:nvPr/>
        </p:nvSpPr>
        <p:spPr>
          <a:xfrm>
            <a:off x="6286680" y="3929040"/>
            <a:ext cx="2714400" cy="2071800"/>
          </a:xfrm>
          <a:prstGeom prst="wedgeRectCallout">
            <a:avLst>
              <a:gd name="adj1" fmla="val -111671"/>
              <a:gd name="adj2" fmla="val 52638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yplňte základní popis projektu a jeho zaměření na cílovou skupinu. Vyjmenujte hlavní aktivity, cíle a výstup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Důkladně promyslete napsaný text, toto pole se následně používá při práci kontrolních orgán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Šrafovaná šipka doprava 9"/>
          <p:cNvSpPr/>
          <p:nvPr/>
        </p:nvSpPr>
        <p:spPr>
          <a:xfrm rot="5400000">
            <a:off x="3643200" y="614340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Zástupný symbol pro obsah 4" descr="04_zadost5_crop.jpg"/>
          <p:cNvPicPr/>
          <p:nvPr/>
        </p:nvPicPr>
        <p:blipFill>
          <a:blip r:embed="rId1"/>
          <a:srcRect l="0" t="18182" r="0" b="0"/>
          <a:stretch/>
        </p:blipFill>
        <p:spPr>
          <a:xfrm>
            <a:off x="1285920" y="1928880"/>
            <a:ext cx="4414680" cy="38574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3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4151-EAEF-44AC-9148-D64568129F95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Šrafovaná šipka doprava 5"/>
          <p:cNvSpPr/>
          <p:nvPr/>
        </p:nvSpPr>
        <p:spPr>
          <a:xfrm rot="5400000">
            <a:off x="3643560" y="164304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bdélníkový popisek 6"/>
          <p:cNvSpPr/>
          <p:nvPr/>
        </p:nvSpPr>
        <p:spPr>
          <a:xfrm>
            <a:off x="6143760" y="2143080"/>
            <a:ext cx="2857320" cy="1500120"/>
          </a:xfrm>
          <a:prstGeom prst="wedgeRectCallout">
            <a:avLst>
              <a:gd name="adj1" fmla="val -150009"/>
              <a:gd name="adj2" fmla="val 51106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škrtnutím voleb v zaškrtávacích polích se aktivují pole v odpovídajících záložkách, případně se propojené textové pole změní z nepovinného na povinné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bdélníkový popisek 7"/>
          <p:cNvSpPr/>
          <p:nvPr/>
        </p:nvSpPr>
        <p:spPr>
          <a:xfrm>
            <a:off x="6143760" y="3857760"/>
            <a:ext cx="2857320" cy="2357280"/>
          </a:xfrm>
          <a:prstGeom prst="wedgeRectCallout">
            <a:avLst>
              <a:gd name="adj1" fmla="val -82458"/>
              <a:gd name="adj2" fmla="val -15847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Datum zahájení a ukončení projektu se vkládá pomocí číselníku kalendář, který zobrazíte kliknutím na obrázek kalendáře v pravém rohu po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dané termíny musí být v souladu s výzvou, ve které bude projekt předkládá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357200" y="1428840"/>
            <a:ext cx="4280040" cy="464328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36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4C37-669C-4944-A8E1-0287F1597627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bdélník se zakulaceným příčným rohem 6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ěnujte maximální pozornost vyplnění této záložky. Informace zde zadané slouží jako základní nástroj při hodnocení žád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357200" y="1428840"/>
            <a:ext cx="4280040" cy="464328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4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52DC-F70A-4E41-82F5-6BD16A036485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bdélníkový popisek 7"/>
          <p:cNvSpPr/>
          <p:nvPr/>
        </p:nvSpPr>
        <p:spPr>
          <a:xfrm>
            <a:off x="5572080" y="1714680"/>
            <a:ext cx="3500640" cy="1143000"/>
          </a:xfrm>
          <a:prstGeom prst="wedgeRectCallout">
            <a:avLst>
              <a:gd name="adj1" fmla="val -63268"/>
              <a:gd name="adj2" fmla="val -16226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cíle, kterých chcete v rámci projektu dosáhnout. Vyjádřete změnu, kterou přinese daný projekt a popište, co bude za dané prostředky vytvoře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285920" y="1428840"/>
            <a:ext cx="4279680" cy="464328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4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0118-E88A-4AE0-9D72-800D0A79A709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bdélníkový popisek 8"/>
          <p:cNvSpPr/>
          <p:nvPr/>
        </p:nvSpPr>
        <p:spPr>
          <a:xfrm>
            <a:off x="5572080" y="1571760"/>
            <a:ext cx="3500640" cy="4714920"/>
          </a:xfrm>
          <a:prstGeom prst="wedgeRectCallout">
            <a:avLst>
              <a:gd name="adj1" fmla="val -66532"/>
              <a:gd name="adj2" fmla="val -13495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de zodpovězte následující otázk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á je aktuální situace v oblasti, na kterou je projekt zaměřený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Co chcete v této oblasti zlepšit nebo změnit a proč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č je důležité realizovat projektové aktivity právě pro cílovou skupinu, se kterou chcete v projektu pracova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č realizujete projekt s vybranými partnery/ bez partner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č by měl být Váš projekt financován z veřejných zdrojů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 čem je projekt inovativní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ý posun nastane ve vámi řešené problematice po úspěšném ukončení projekt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a základě jakých zdrojů (dokumentů či analýz) dokládáte potřebnost projekt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357200" y="1428840"/>
            <a:ext cx="4280040" cy="464328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4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B2A4-7BC9-4F9D-99BE-D0A07BF6D1CF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bdélníkový popisek 8"/>
          <p:cNvSpPr/>
          <p:nvPr/>
        </p:nvSpPr>
        <p:spPr>
          <a:xfrm>
            <a:off x="5572080" y="1571760"/>
            <a:ext cx="3500640" cy="2071440"/>
          </a:xfrm>
          <a:prstGeom prst="wedgeRectCallout">
            <a:avLst>
              <a:gd name="adj1" fmla="val -130750"/>
              <a:gd name="adj2" fmla="val 83175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měřte se na cílovou skupinu, na kterou jsou projektové aktivity cílen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jsou potřeby této cílové skupin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Které její potřeby bude projekt řeši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á je velikost cílové skupin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Kolik osob plánujete do projektu zapojit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bdélníkový popisek 6"/>
          <p:cNvSpPr/>
          <p:nvPr/>
        </p:nvSpPr>
        <p:spPr>
          <a:xfrm>
            <a:off x="5572080" y="3786120"/>
            <a:ext cx="3500640" cy="2500560"/>
          </a:xfrm>
          <a:prstGeom prst="wedgeRectCallout">
            <a:avLst>
              <a:gd name="adj1" fmla="val -93379"/>
              <a:gd name="adj2" fmla="val 7847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, jak jednotlivé cílové skupiny zapojíte a jak je budete motivovat k účasti na projektových aktivitá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jste příslušníky cílové skupiny motivovali, aby do projektu vstoupili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vybrané příslušníky cílové skupiny konkrétně do projektu zapojít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budete příslušníky cílové skupiny motivovat, aby svou účast v projektu dokončili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40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40D1-18EB-45F1-85A0-03B86D1C3E65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285920" y="1428840"/>
            <a:ext cx="4279680" cy="464328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5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50C8-5038-4228-9188-44492D7207BA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Šrafovaná šipka doprava 5"/>
          <p:cNvSpPr/>
          <p:nvPr/>
        </p:nvSpPr>
        <p:spPr>
          <a:xfrm rot="5400000">
            <a:off x="3643200" y="600048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bdélníkový popisek 8"/>
          <p:cNvSpPr/>
          <p:nvPr/>
        </p:nvSpPr>
        <p:spPr>
          <a:xfrm>
            <a:off x="5572080" y="3214800"/>
            <a:ext cx="3500640" cy="2857320"/>
          </a:xfrm>
          <a:prstGeom prst="wedgeRectCallout">
            <a:avLst>
              <a:gd name="adj1" fmla="val -62907"/>
              <a:gd name="adj2" fmla="val 42736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opište konkrétní přínos pro cílovou skupinu, pokud bude projekt úspěšně realizován a ukončen. Popište tento přínos v širším kontextu pro celou skupinu, případně na konkrétním příkladu skupiny lidí či organiz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výhody bude mít cílová skupina z realizace projekt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Co účast v projektu přinese příslušníkům cílové skupin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Zástupný symbol pro obsah 4" descr="04_zadost22_3_crop.jpg"/>
          <p:cNvPicPr/>
          <p:nvPr/>
        </p:nvPicPr>
        <p:blipFill>
          <a:blip r:embed="rId1"/>
          <a:srcRect l="4279" t="19696" r="0" b="26597"/>
          <a:stretch/>
        </p:blipFill>
        <p:spPr>
          <a:xfrm>
            <a:off x="1239840" y="3333600"/>
            <a:ext cx="4127400" cy="2452680"/>
          </a:xfrm>
          <a:prstGeom prst="rect">
            <a:avLst/>
          </a:prstGeom>
          <a:ln w="0">
            <a:noFill/>
          </a:ln>
        </p:spPr>
      </p:pic>
      <p:pic>
        <p:nvPicPr>
          <p:cNvPr id="357" name="Zástupný symbol pro obsah 4" descr="04_zadost22_2_crop.jpg"/>
          <p:cNvPicPr/>
          <p:nvPr/>
        </p:nvPicPr>
        <p:blipFill>
          <a:blip r:embed="rId2"/>
          <a:srcRect l="4840" t="53031" r="0" b="0"/>
          <a:stretch/>
        </p:blipFill>
        <p:spPr>
          <a:xfrm>
            <a:off x="1285920" y="1928880"/>
            <a:ext cx="4140000" cy="2214360"/>
          </a:xfrm>
          <a:prstGeom prst="rect">
            <a:avLst/>
          </a:prstGeom>
          <a:ln w="0">
            <a:noFill/>
          </a:ln>
        </p:spPr>
      </p:pic>
      <p:sp>
        <p:nvSpPr>
          <p:cNvPr id="358" name="Obdélníkový popisek 9"/>
          <p:cNvSpPr/>
          <p:nvPr/>
        </p:nvSpPr>
        <p:spPr>
          <a:xfrm>
            <a:off x="5572080" y="1643040"/>
            <a:ext cx="3500640" cy="785880"/>
          </a:xfrm>
          <a:prstGeom prst="wedgeRectCallout">
            <a:avLst>
              <a:gd name="adj1" fmla="val -88666"/>
              <a:gd name="adj2" fmla="val 83837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rizika, která jsou s realizací aktivit projektu spojena. Jaká opatření k jejich eliminaci máte připraven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6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1A80-669B-4BDA-937F-B73E467D77B1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Šrafovaná šipka doprava 6"/>
          <p:cNvSpPr/>
          <p:nvPr/>
        </p:nvSpPr>
        <p:spPr>
          <a:xfrm rot="5400000">
            <a:off x="3643560" y="164304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bdélníkový popisek 8"/>
          <p:cNvSpPr/>
          <p:nvPr/>
        </p:nvSpPr>
        <p:spPr>
          <a:xfrm>
            <a:off x="5572080" y="2571840"/>
            <a:ext cx="3500640" cy="3714840"/>
          </a:xfrm>
          <a:prstGeom prst="wedgeRectCallout">
            <a:avLst>
              <a:gd name="adj1" fmla="val -70162"/>
              <a:gd name="adj2" fmla="val 8750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budete naplňovat cíle a výstupy projektu v době udržitelnosti, což je 5 let ode dne ukončení projektu. Popište aktivity navazující na projekt, které jsou plánovány po ukončení financování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Budou aktivity projektu realizovány po ukončení financování projekt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okud ano, tak které a v jakém rozsah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zajistíte další financování těchto aktivit po ukončení financování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Bude zachována, případně dále rozvíjena spolupráce s partner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Zástupný symbol pro obsah 4" descr="04_zadost22_4_crop.jpg"/>
          <p:cNvPicPr/>
          <p:nvPr/>
        </p:nvPicPr>
        <p:blipFill>
          <a:blip r:embed="rId1"/>
          <a:srcRect l="3120" t="27277" r="0" b="3034"/>
          <a:stretch/>
        </p:blipFill>
        <p:spPr>
          <a:xfrm>
            <a:off x="1285920" y="1928880"/>
            <a:ext cx="4292640" cy="303372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6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67C6-112B-453B-8E85-A35DF901B7F2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Šrafovaná šipka doprava 5"/>
          <p:cNvSpPr/>
          <p:nvPr/>
        </p:nvSpPr>
        <p:spPr>
          <a:xfrm rot="5400000">
            <a:off x="3792600" y="164304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bdélníkový popisek 6"/>
          <p:cNvSpPr/>
          <p:nvPr/>
        </p:nvSpPr>
        <p:spPr>
          <a:xfrm>
            <a:off x="5572080" y="1928880"/>
            <a:ext cx="3500640" cy="1428840"/>
          </a:xfrm>
          <a:prstGeom prst="wedgeRectCallout">
            <a:avLst>
              <a:gd name="adj1" fmla="val -64722"/>
              <a:gd name="adj2" fmla="val 2584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, je-li projekt provázaný s jiným předkládaným projektem a jakým způsob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bdélníkový popisek 7"/>
          <p:cNvSpPr/>
          <p:nvPr/>
        </p:nvSpPr>
        <p:spPr>
          <a:xfrm>
            <a:off x="5572080" y="3643200"/>
            <a:ext cx="3500640" cy="785880"/>
          </a:xfrm>
          <a:prstGeom prst="wedgeRectCallout">
            <a:avLst>
              <a:gd name="adj1" fmla="val -67625"/>
              <a:gd name="adj2" fmla="val -2571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má žadatel mechanismy a postupy pro řízení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Monitorovací indikátor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7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1F36-8BCD-4E47-90B7-1FA3C3F6E85D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1357200" y="1428480"/>
            <a:ext cx="7786800" cy="45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lánovanou hodnotu  dosažených monitorovacích indikátorů si žadatel musí stanovit již při zpracování projektové žádost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Důležité je stanovit si výstupy, které budou v rámci projektu podpořeny - ty se budou muset po dobu 5 let udržovat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Monitorovací indikátor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7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BF99-1974-48B4-962A-CFC520435908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14284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. Stanovím si, že vytvořím školící modul pro vzdělávání pedagogických pracovníků. V tomto případě jako monitorovací indikátor je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jeden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vytvořený školící modul. Ten se pak bude po dobu 5 let od ukončení projektu nabízet pedagogickým pracovníkům -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udržitelnost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2. Výstupem je také např. počet proškolených řídících pracovníků škol a školských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drobně jsou monitorovací indikátory uvedeny ve výzv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Monitorovací</a:t>
            </a: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 </a:t>
            </a: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indikátor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76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A8C0-D5AB-4820-B941-CEC5576244D7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Zástupný symbol pro obsah 4" descr="04_zadost45_crop.jpg"/>
          <p:cNvPicPr/>
          <p:nvPr/>
        </p:nvPicPr>
        <p:blipFill>
          <a:blip r:embed="rId1"/>
          <a:srcRect l="3263" t="3723" r="0" b="0"/>
          <a:stretch/>
        </p:blipFill>
        <p:spPr>
          <a:xfrm>
            <a:off x="1357200" y="1714680"/>
            <a:ext cx="4857840" cy="34113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Monitorovací indikátor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79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80A2-F008-44F9-8258-AA7C91D477FC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lňte všechny indikátory označené příznakem povinný. V případě, že takovýto indikátor není pro projekt relevantní, zadejte nulovou hodno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8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0752-261E-4312-9552-998E3FED9D2E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1428480" y="1428480"/>
            <a:ext cx="77151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ktivity projektu musí být provázány s rozpočtem projektu a časovým harmonogram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 dané aktivity musí být jasné zapojení realizačního týmu a popřípadě partnerů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8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FF31-477B-432B-A941-FEE772631456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endParaRPr b="1" lang="en-US" sz="44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357200" y="1052280"/>
            <a:ext cx="73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odrobný popis realizace klíčové aktivit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aké činnosti budete v rámci této klíčové aktivity realizovat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teří členové realizačního týmu se budou na realizaci aktivity podílet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aké pozice se budou podílet a jakým způsobem? Bude část aktivity realizována formou dodávky? Bude vyhlášeno výběrové řízení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ak budete v rámci této aktivity pracovat s cílovou skupinou? Jak bude cílová skupina zapojena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ak je tato aktivita plánována z časového hlediska? Napište, zda se jedná o jednorázovou aktivitu, či průběžnou, která se bude v projektu opakova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aké typy nákladů se k aktivitě vztahují? Zaměřte se na popis nákladů specifických pro danou aktivitu (př. náklady na lektora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B320-24BB-4ABC-9F1E-DC2D58CE14DD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571760" y="1428480"/>
            <a:ext cx="757224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Oprávněný žadate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ávnická osob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á sídlo na území Č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dnikající subjekt, sdružení a asociace škol nebo NNO (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zřízena nebo založena za účelem vzdělávání nebo vědecké a výzkumné činnosti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Je přímo zodpovědný za přípravu a řízení projekt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Jeho typ je specifikován ve výčtu oprávněných příjemců ve výzvě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4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EF70-23C3-48D5-95E4-344EADF29D09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endParaRPr b="1" lang="en-US" sz="44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28480" y="11970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ýstup klíčové aktivit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Uveďte výstup nebo výstupy klíčové aktivity a pokuste se zodpovědět na všechny tyto otázk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o v rámci této aktivity vznikne nového? (Popište, zda v rámci této aktivity bylo něc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3912c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tvoře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3912c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ovováno; pokud jste inovovali, napište, k jakému došlo posunu a jak tento posun můžete doložit.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stupem může být např. počet proškolených osob, nebo osob, kterým bylo poskytnuto poradenství, vytvořený nebo inovovaný studijní materiál, publikace, interaktivní webové stránky projektu apo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1AE1-A236-44B6-8248-873F7A721095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Zástupný symbol pro obsah 4" descr="04_zadost27_1_crop.jpg"/>
          <p:cNvPicPr/>
          <p:nvPr/>
        </p:nvPicPr>
        <p:blipFill>
          <a:blip r:embed="rId1"/>
          <a:stretch/>
        </p:blipFill>
        <p:spPr>
          <a:xfrm>
            <a:off x="1428840" y="1571760"/>
            <a:ext cx="4873680" cy="49701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Klíčové aktivi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9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8331-41BA-4BF7-8921-1CEDA0015EB0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bdélník se zakulaceným příčným rohem 6"/>
          <p:cNvSpPr/>
          <p:nvPr/>
        </p:nvSpPr>
        <p:spPr>
          <a:xfrm>
            <a:off x="6215040" y="2928960"/>
            <a:ext cx="2714760" cy="3214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všechny klíčové aktivity, které bude v jednotlivých fázích projektu realizovat žadatel nebo partneři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Zástupný symbol pro obsah 4" descr="04_zadost27_1_crop.jpg"/>
          <p:cNvPicPr/>
          <p:nvPr/>
        </p:nvPicPr>
        <p:blipFill>
          <a:blip r:embed="rId1"/>
          <a:stretch/>
        </p:blipFill>
        <p:spPr>
          <a:xfrm>
            <a:off x="1270080" y="1571760"/>
            <a:ext cx="4873680" cy="497016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Klíčové aktivi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9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2598-E868-403A-A836-6D66B612A001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Šrafovaná šipka doprava 5"/>
          <p:cNvSpPr/>
          <p:nvPr/>
        </p:nvSpPr>
        <p:spPr>
          <a:xfrm rot="5400000">
            <a:off x="3071520" y="628632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bdélníkový popisek 7"/>
          <p:cNvSpPr/>
          <p:nvPr/>
        </p:nvSpPr>
        <p:spPr>
          <a:xfrm>
            <a:off x="5857920" y="2714760"/>
            <a:ext cx="3214800" cy="1857240"/>
          </a:xfrm>
          <a:prstGeom prst="wedgeRectCallout">
            <a:avLst>
              <a:gd name="adj1" fmla="val -98064"/>
              <a:gd name="adj2" fmla="val 42254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áklady na klíčové aktivity rozložte na způsobilé výdaje a výdaje spadající do křížového financová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Celkové způsobilé výdaje a celkové výdaje spadající do křížového financování musí odpovídat údajům zadaným v rozpočtu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Zástupný symbol pro obsah 4" descr="04_zadost27_2_crop.jpg"/>
          <p:cNvPicPr/>
          <p:nvPr/>
        </p:nvPicPr>
        <p:blipFill>
          <a:blip r:embed="rId1"/>
          <a:stretch/>
        </p:blipFill>
        <p:spPr>
          <a:xfrm>
            <a:off x="1319040" y="2165400"/>
            <a:ext cx="5135760" cy="390672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Klíčové aktivi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0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A532-5D7A-4B2E-AB00-01D7396A2C0F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Šrafovaná šipka doprava 5"/>
          <p:cNvSpPr/>
          <p:nvPr/>
        </p:nvSpPr>
        <p:spPr>
          <a:xfrm rot="5400000">
            <a:off x="3643560" y="178596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bdélníkový popisek 7"/>
          <p:cNvSpPr/>
          <p:nvPr/>
        </p:nvSpPr>
        <p:spPr>
          <a:xfrm>
            <a:off x="5857920" y="3286080"/>
            <a:ext cx="3214800" cy="1071720"/>
          </a:xfrm>
          <a:prstGeom prst="wedgeRectCallout">
            <a:avLst>
              <a:gd name="adj1" fmla="val -43939"/>
              <a:gd name="adj2" fmla="val 139921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Ke každé klíčové aktivitě přiřaďte všechny subjekty, které se budou podílet na její realizac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Harmonogram aktivit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07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6C54-5FD2-46A3-8C62-9A8E26BF91B2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bdélník 9"/>
          <p:cNvSpPr/>
          <p:nvPr/>
        </p:nvSpPr>
        <p:spPr>
          <a:xfrm>
            <a:off x="3978360" y="2700360"/>
            <a:ext cx="892080" cy="162000"/>
          </a:xfrm>
          <a:prstGeom prst="rect">
            <a:avLst/>
          </a:prstGeom>
          <a:solidFill>
            <a:srgbClr val="ffc000">
              <a:alpha val="36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bdélník 8"/>
          <p:cNvSpPr/>
          <p:nvPr/>
        </p:nvSpPr>
        <p:spPr>
          <a:xfrm>
            <a:off x="2124000" y="2695680"/>
            <a:ext cx="892080" cy="162000"/>
          </a:xfrm>
          <a:prstGeom prst="rect">
            <a:avLst/>
          </a:prstGeom>
          <a:solidFill>
            <a:srgbClr val="ffc000">
              <a:alpha val="36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Zástupný symbol pro obsah 4" descr="04_zadost31_crop.jpg"/>
          <p:cNvPicPr/>
          <p:nvPr/>
        </p:nvPicPr>
        <p:blipFill>
          <a:blip r:embed="rId1"/>
          <a:srcRect l="2613" t="3034" r="0" b="0"/>
          <a:stretch/>
        </p:blipFill>
        <p:spPr>
          <a:xfrm>
            <a:off x="1357200" y="1571760"/>
            <a:ext cx="5896080" cy="3786120"/>
          </a:xfrm>
          <a:prstGeom prst="rect">
            <a:avLst/>
          </a:prstGeom>
          <a:ln w="0">
            <a:noFill/>
          </a:ln>
        </p:spPr>
      </p:pic>
      <p:sp>
        <p:nvSpPr>
          <p:cNvPr id="411" name="Obdélník se zakulaceným příčným rohem 5"/>
          <p:cNvSpPr/>
          <p:nvPr/>
        </p:nvSpPr>
        <p:spPr>
          <a:xfrm>
            <a:off x="6215040" y="2928960"/>
            <a:ext cx="2714760" cy="3214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o harmonogramu zahrňte všechny klíčové aktivity zadané na záložce „Klíčové aktivity“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dené aktivity musí být realizovány v časovém rozmezí uvedeném na záložce „Projekt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1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06A1-BD74-4FE5-9BC1-D7498532463D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1428480" y="1142640"/>
            <a:ext cx="771516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usí být složen z pracovníků s dostatečnými zkušenostmi s realizací projektů a rovněž z odborníků v dané problemat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ůže se jednat o pracovníky žadatele, popřípadě i pracovníky partnerských organizac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poručené typové pozice a činnosti realizačního týmu jsou rozpracovány v Příručce pro žadate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16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2BAC-D063-4C96-A3B5-C6C53D1C2790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4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4284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Členové realizačního týmu zajišťují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oordinaci projektových aktivi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rganizační a provozní stránku projektu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sažení plánovaných monitorovacích indikátorů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fektivní komunikaci na všech úrovních realizace projektu (poskytovatel, příjemce, partner, pracovníci projektu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ACDA-C4F0-4DA3-9413-463497EEA814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21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5E26-85BF-4EAC-A688-B44BE6C3803D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Zástupný symbol pro obsah 6" descr="04_zadost32_crop.jpg"/>
          <p:cNvPicPr/>
          <p:nvPr/>
        </p:nvPicPr>
        <p:blipFill>
          <a:blip r:embed="rId1"/>
          <a:srcRect l="2650" t="1517" r="0" b="0"/>
          <a:stretch/>
        </p:blipFill>
        <p:spPr>
          <a:xfrm>
            <a:off x="1285920" y="1500120"/>
            <a:ext cx="4929120" cy="4048200"/>
          </a:xfrm>
          <a:prstGeom prst="rect">
            <a:avLst/>
          </a:prstGeom>
          <a:ln w="0">
            <a:noFill/>
          </a:ln>
        </p:spPr>
      </p:pic>
      <p:sp>
        <p:nvSpPr>
          <p:cNvPr id="423" name="Obdélníkový popisek 5"/>
          <p:cNvSpPr/>
          <p:nvPr/>
        </p:nvSpPr>
        <p:spPr>
          <a:xfrm>
            <a:off x="6143760" y="1714680"/>
            <a:ext cx="2928960" cy="1071360"/>
          </a:xfrm>
          <a:prstGeom prst="wedgeRectCallout">
            <a:avLst>
              <a:gd name="adj1" fmla="val -94416"/>
              <a:gd name="adj2" fmla="val 77435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Z nabídky lze rozlišit pracovníky dle typu n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Manažerské a administrativní pozi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Odborné pozi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bdélníkový popisek 7"/>
          <p:cNvSpPr/>
          <p:nvPr/>
        </p:nvSpPr>
        <p:spPr>
          <a:xfrm>
            <a:off x="5857920" y="3286080"/>
            <a:ext cx="3214800" cy="857160"/>
          </a:xfrm>
          <a:prstGeom prst="wedgeRectCallout">
            <a:avLst>
              <a:gd name="adj1" fmla="val -81078"/>
              <a:gd name="adj2" fmla="val 4249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volte žadatele nebo partnera, u kterého bude pracovní pozice zajiště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26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A75A-14F0-495A-B5D9-17AFDCB544DE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Zástupný symbol pro obsah 6" descr="04_zadost32_crop.jpg"/>
          <p:cNvPicPr/>
          <p:nvPr/>
        </p:nvPicPr>
        <p:blipFill>
          <a:blip r:embed="rId1"/>
          <a:srcRect l="2650" t="1517" r="0" b="0"/>
          <a:stretch/>
        </p:blipFill>
        <p:spPr>
          <a:xfrm>
            <a:off x="1285920" y="1500120"/>
            <a:ext cx="4929120" cy="4048200"/>
          </a:xfrm>
          <a:prstGeom prst="rect">
            <a:avLst/>
          </a:prstGeom>
          <a:ln w="0">
            <a:noFill/>
          </a:ln>
        </p:spPr>
      </p:pic>
      <p:sp>
        <p:nvSpPr>
          <p:cNvPr id="428" name="Obdélníkový popisek 5"/>
          <p:cNvSpPr/>
          <p:nvPr/>
        </p:nvSpPr>
        <p:spPr>
          <a:xfrm>
            <a:off x="6143760" y="1714680"/>
            <a:ext cx="2928960" cy="1071360"/>
          </a:xfrm>
          <a:prstGeom prst="wedgeRectCallout">
            <a:avLst>
              <a:gd name="adj1" fmla="val -139944"/>
              <a:gd name="adj2" fmla="val 181731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 pracovní smlouvy uvádějte úvazek v procentech (50%, 300% ad), v případě DPČ nebo DPP uvádějte počet hodin za měsí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bdélníkový popisek 7"/>
          <p:cNvSpPr/>
          <p:nvPr/>
        </p:nvSpPr>
        <p:spPr>
          <a:xfrm>
            <a:off x="5857920" y="3286080"/>
            <a:ext cx="3214800" cy="857160"/>
          </a:xfrm>
          <a:prstGeom prst="wedgeRectCallout">
            <a:avLst>
              <a:gd name="adj1" fmla="val -117027"/>
              <a:gd name="adj2" fmla="val 99064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 pracovní smlouvy doplňte sazbu za měsíc, u DPČ nebo DPP sazbu za hodin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délníkový popisek 8"/>
          <p:cNvSpPr/>
          <p:nvPr/>
        </p:nvSpPr>
        <p:spPr>
          <a:xfrm>
            <a:off x="5357880" y="4286160"/>
            <a:ext cx="3714840" cy="2214720"/>
          </a:xfrm>
          <a:prstGeom prst="wedgeRectCallout">
            <a:avLst>
              <a:gd name="adj1" fmla="val -69805"/>
              <a:gd name="adj2" fmla="val -2916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odpovězte následující otázk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á bude převažující pracovní náplň této pozice v projektu? Popište nejčastější typy činnost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a jakých konkrétních aktivitách se bude v rámci projektu podílet a jakým způsob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náklady (jiné než osobní a režie) se budou k dané pozici váza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1356840" y="1428480"/>
            <a:ext cx="7572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Žadatel nesplní kritérium oprávněnost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okud je v úpadku, je proti němu vedena exekuce nebo výkon rozhodnutí, nebo je v likvidaci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Nesplňuje podmínky bezdlužnosti vůči veřejné správě a zdravotním pojišťovnám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Nesplňuje podmínky oprávněných žadatelů stanovených výzvou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odnikatelský subjekt, NNO, obecně prospěšná společnost, nadace, nadační fond, církevní právnická osoba nebyla </a:t>
            </a:r>
            <a:r>
              <a:rPr b="1" lang="cs-CZ" sz="2700" spc="-1" strike="noStrike">
                <a:solidFill>
                  <a:srgbClr val="000000"/>
                </a:solidFill>
                <a:latin typeface="Calibri"/>
              </a:rPr>
              <a:t>založena dříve než před dvěma lety od data odevzdání žádosti na ŘO</a:t>
            </a: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46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FD689-E317-4476-A2E8-802997900C46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3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D30C-28A1-4077-90A8-AAE1CC96FB44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Zástupný symbol pro obsah 6" descr="04_zadost32_crop.jpg"/>
          <p:cNvPicPr/>
          <p:nvPr/>
        </p:nvPicPr>
        <p:blipFill>
          <a:blip r:embed="rId1"/>
          <a:srcRect l="2650" t="1517" r="0" b="0"/>
          <a:stretch/>
        </p:blipFill>
        <p:spPr>
          <a:xfrm>
            <a:off x="1357200" y="1500120"/>
            <a:ext cx="4929480" cy="4048200"/>
          </a:xfrm>
          <a:prstGeom prst="rect">
            <a:avLst/>
          </a:prstGeom>
          <a:ln w="0">
            <a:noFill/>
          </a:ln>
        </p:spPr>
      </p:pic>
      <p:sp>
        <p:nvSpPr>
          <p:cNvPr id="434" name="Obdélník se zakulaceným příčným rohem 4"/>
          <p:cNvSpPr/>
          <p:nvPr/>
        </p:nvSpPr>
        <p:spPr>
          <a:xfrm>
            <a:off x="6215040" y="2714760"/>
            <a:ext cx="2714760" cy="32144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, že plánujete pro určitý typ pozice více zaměstnanců, vyplňte tuto pozici jako jeden záznam a v poli „Úvazek“ uveďte kumulovanou hodnotu úvazků všech zaměstnanc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36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B695-A4A7-4D1C-8AB4-D7CF12CC7112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1428480" y="1428480"/>
            <a:ext cx="77151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kladní pravidla pro způsobilost výdajů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charakter výdaj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řiměřené –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hospodárnosti - účelnosti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-  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efektivnosti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účel výdaje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rokazatelnost výdaj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atum uskutečnění výdaj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39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14F3-056A-4DDD-B6DD-6BA35D36D34E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Zástupný symbol pro obsah 4" descr="04_zadost34_1_crop.jpg"/>
          <p:cNvPicPr/>
          <p:nvPr/>
        </p:nvPicPr>
        <p:blipFill>
          <a:blip r:embed="rId1"/>
          <a:stretch/>
        </p:blipFill>
        <p:spPr>
          <a:xfrm>
            <a:off x="1285920" y="1714680"/>
            <a:ext cx="7523280" cy="289548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Osobní náklad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4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0524-4BE1-4761-9EAC-CB49160C9EB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 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Cestovní náhrad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4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9364-5906-4323-AC46-141D08D5A3A3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85920" y="1714680"/>
            <a:ext cx="7483320" cy="1998360"/>
          </a:xfrm>
          <a:prstGeom prst="rect">
            <a:avLst/>
          </a:prstGeom>
          <a:ln w="0">
            <a:noFill/>
          </a:ln>
        </p:spPr>
      </p:pic>
      <p:sp>
        <p:nvSpPr>
          <p:cNvPr id="446" name="TextovéPole 6"/>
          <p:cNvSpPr/>
          <p:nvPr/>
        </p:nvSpPr>
        <p:spPr>
          <a:xfrm>
            <a:off x="1285920" y="407196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enové lim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bytování v ČR – max. 1 200 Kč za osobu a noc a zároveň dle interních předpisů dané organizace, pokud jsou nižší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Zaříze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4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CFCB-E868-4B13-9FB1-BE6F9F5BA341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85920" y="1857240"/>
            <a:ext cx="7396200" cy="2686320"/>
          </a:xfrm>
          <a:prstGeom prst="rect">
            <a:avLst/>
          </a:prstGeom>
          <a:ln w="0">
            <a:noFill/>
          </a:ln>
        </p:spPr>
      </p:pic>
      <p:sp>
        <p:nvSpPr>
          <p:cNvPr id="450" name="TextovéPole 4"/>
          <p:cNvSpPr/>
          <p:nvPr/>
        </p:nvSpPr>
        <p:spPr>
          <a:xfrm>
            <a:off x="1285920" y="478620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výdajů na pořízení zařízení a vybavení na celkových způsobilých výdajích smí činit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jvýše 25 % včetně křížového financ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Zaříze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5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4A8B-8D62-4E65-AB49-DE8347F73184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357200" y="1428840"/>
            <a:ext cx="7786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ýdaje spadající do křížového financo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výdaje na nákup zařízení a vybavení hmotné povahy s dobou použitelnosti nad 1 rok a pořizovací cenou nad 40 tis. Kč za položku, pokud splňuje následující podmínky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550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usí se jednat o speciální vybavení nebo zařízení, které není možné pořídit v nezbytné kvalitě za cenu nižší než 40 tis. Kč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550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zařízení nebo vybavení musí být používáno k realizaci aktivit, na kterých se podílí cílová skupina (např. školení, výuka, praxe, práce, výcvik atd.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Zaříze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5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45EB-7659-4582-A151-219B5E66EDD5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1213920" y="1428840"/>
            <a:ext cx="7929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ýdaje spadající do křížového financo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výdaje na nábytek bez ohledu na výši pořizovací ceny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stavební úpravy, které jsou rekonstrukcí nebo modernizací, pokud převýšily u jednotlivého majetku v úhrnu ve zdaňovacím období částku 40 tis. Kč a jsou prováděny za účelem usnadnění přístupu a pohybu osobám zdravotně postiženým, nebo úpravy výukových, tréninkových nebo pracovních prostor, používaných na realizaci aktivit s cílovou skupinou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Místní kancelář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5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D73D-C790-4735-90C0-0293CB956C32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357200" y="1714680"/>
            <a:ext cx="7405920" cy="687240"/>
          </a:xfrm>
          <a:prstGeom prst="rect">
            <a:avLst/>
          </a:prstGeom>
          <a:ln w="0">
            <a:noFill/>
          </a:ln>
        </p:spPr>
      </p:pic>
      <p:sp>
        <p:nvSpPr>
          <p:cNvPr id="460" name="TextovéPole 4"/>
          <p:cNvSpPr/>
          <p:nvPr/>
        </p:nvSpPr>
        <p:spPr>
          <a:xfrm>
            <a:off x="1285920" y="3000240"/>
            <a:ext cx="692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výdajů této kapitoly - Místní kancelář na celkových způsobilých výdajích smí činit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jvýše 8 %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ákup služeb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6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66F4-0C37-4CC6-9CF9-A78953615EAC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76200" y="1857240"/>
            <a:ext cx="7081920" cy="1035360"/>
          </a:xfrm>
          <a:prstGeom prst="rect">
            <a:avLst/>
          </a:prstGeom>
          <a:ln w="0">
            <a:noFill/>
          </a:ln>
        </p:spPr>
      </p:pic>
      <p:sp>
        <p:nvSpPr>
          <p:cNvPr id="464" name="TextovéPole 4"/>
          <p:cNvSpPr/>
          <p:nvPr/>
        </p:nvSpPr>
        <p:spPr>
          <a:xfrm>
            <a:off x="1285920" y="3286080"/>
            <a:ext cx="700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nákupu služeb na celkových způsobilých výdajích smí činit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jvýše 49 %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enový limi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bčerstv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rav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celodenní občerstvení max. 300 Kč na osobu, částka se bude krátit při necelodenních akcí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byt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ubytování v ČR – max. 1 200 Kč za osobu a noc (případně nižší dle interních předpisů dané organizac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Zástupný symbol pro obsah 4" descr="04_zadost7_crop.jpg"/>
          <p:cNvPicPr/>
          <p:nvPr/>
        </p:nvPicPr>
        <p:blipFill>
          <a:blip r:embed="rId1"/>
          <a:srcRect l="3641" t="3030" r="3641" b="3030"/>
          <a:stretch/>
        </p:blipFill>
        <p:spPr>
          <a:xfrm>
            <a:off x="1357200" y="1571760"/>
            <a:ext cx="4500720" cy="44290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49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3BAE-3202-46A6-B05E-762FFC2B43A3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bdélník se zakulaceným příčným rohem 8"/>
          <p:cNvSpPr/>
          <p:nvPr/>
        </p:nvSpPr>
        <p:spPr>
          <a:xfrm>
            <a:off x="5786280" y="3357720"/>
            <a:ext cx="3143520" cy="2571480"/>
          </a:xfrm>
          <a:prstGeom prst="pie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áložka žadatel projektu slouží k identifikaci subjektu, který o projekt žádá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adatelem je hlavní odpovědná osoba za projek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Stavební úprav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66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96E2-6FEE-46CC-BEFB-BD478B405D1D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590840" y="1816200"/>
            <a:ext cx="6462720" cy="484200"/>
          </a:xfrm>
          <a:prstGeom prst="rect">
            <a:avLst/>
          </a:prstGeom>
          <a:ln w="0">
            <a:noFill/>
          </a:ln>
        </p:spPr>
      </p:pic>
      <p:sp>
        <p:nvSpPr>
          <p:cNvPr id="468" name="TextovéPole 4"/>
          <p:cNvSpPr/>
          <p:nvPr/>
        </p:nvSpPr>
        <p:spPr>
          <a:xfrm>
            <a:off x="1571760" y="2428920"/>
            <a:ext cx="6500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smí přesáhnout částku za všechny dokončené stavební úpravy v jednom zdaňovacím období v úhrnu 40 tis.  Kč (pořizovací cena) na každou jednotlivou účetní položku majetku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avební úprava musí být provedena v souvislosti s úpravou pracovního místa nebo úpravou přístupu pro osoby se zdravotním postižením nebo úpravy výukových, tréninkových nebo pracovních prostor používaných na realizaci aktivit s cílovou skupin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ímá podpor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7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4F8D-8D1B-4996-8D2C-ED1476B86FF8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407960" y="1857240"/>
            <a:ext cx="6756480" cy="663840"/>
          </a:xfrm>
          <a:prstGeom prst="rect">
            <a:avLst/>
          </a:prstGeom>
          <a:ln w="0">
            <a:noFill/>
          </a:ln>
        </p:spPr>
      </p:pic>
      <p:sp>
        <p:nvSpPr>
          <p:cNvPr id="472" name="TextovéPole 4"/>
          <p:cNvSpPr/>
          <p:nvPr/>
        </p:nvSpPr>
        <p:spPr>
          <a:xfrm>
            <a:off x="1428840" y="2714760"/>
            <a:ext cx="6643440" cy="37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Mzdové příspěvk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jsou poskytovány jako náhrada mzdy zaměstnavateli (ve výši hrubé mzdy včetně zákonných odvodů) pro pracovníka po dobu jeho účasti na dalším vzdělávání; mzdové náhrady se budou týkat pouze pedagogických, akademických a dalších pracovníků ve školství, a to maximálně do výše 70 % mzdových náhra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Ubytování, stravování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ubytování v ČR – max. 1 200 Kč za osobu a noc (případně nižší dle interních předpisů dané organizac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stravné – celodenní občerstvení max. 300 Kč na osobu a zároveň dle interních předpisů dané organizac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Výdaje na přímou podporu jednotlivců mohou být poskytovány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ejvýše do 20%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celkových způsobilých výdajů projektu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áklady vyplývající přímo ze smlouv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7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3DA4-D447-407A-8BEF-9DE075778D6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428840" y="1857240"/>
            <a:ext cx="6786360" cy="658800"/>
          </a:xfrm>
          <a:prstGeom prst="rect">
            <a:avLst/>
          </a:prstGeom>
          <a:ln w="0">
            <a:noFill/>
          </a:ln>
        </p:spPr>
      </p:pic>
      <p:sp>
        <p:nvSpPr>
          <p:cNvPr id="476" name="TextovéPole 4"/>
          <p:cNvSpPr/>
          <p:nvPr/>
        </p:nvSpPr>
        <p:spPr>
          <a:xfrm>
            <a:off x="1500120" y="2857680"/>
            <a:ext cx="657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případě, že rozpočet projektu je roven nebo vyšší než 3 000 000 Kč, je příjemce povinen zadat vybrané auditorské firmě zpracování závěrečného aud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Souhrn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7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91C0-BC75-44C2-A0AA-0F153068F0A6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357200" y="1714680"/>
            <a:ext cx="7272360" cy="539640"/>
          </a:xfrm>
          <a:prstGeom prst="rect">
            <a:avLst/>
          </a:prstGeom>
          <a:ln w="0">
            <a:noFill/>
          </a:ln>
        </p:spPr>
      </p:pic>
      <p:pic>
        <p:nvPicPr>
          <p:cNvPr id="480" name="Zástupný symbol pro obsah 4" descr="04_zadost34_3_crop.jpg"/>
          <p:cNvPicPr/>
          <p:nvPr/>
        </p:nvPicPr>
        <p:blipFill>
          <a:blip r:embed="rId2"/>
          <a:stretch/>
        </p:blipFill>
        <p:spPr>
          <a:xfrm>
            <a:off x="1322280" y="2476440"/>
            <a:ext cx="7392960" cy="523800"/>
          </a:xfrm>
          <a:prstGeom prst="rect">
            <a:avLst/>
          </a:prstGeom>
          <a:ln w="0">
            <a:noFill/>
          </a:ln>
        </p:spPr>
      </p:pic>
      <p:pic>
        <p:nvPicPr>
          <p:cNvPr id="481" name="Zástupný symbol pro obsah 4" descr="04_zadost34_3_crop.jpg"/>
          <p:cNvPicPr/>
          <p:nvPr/>
        </p:nvPicPr>
        <p:blipFill>
          <a:blip r:embed="rId3"/>
          <a:stretch/>
        </p:blipFill>
        <p:spPr>
          <a:xfrm>
            <a:off x="1357200" y="3344760"/>
            <a:ext cx="7358040" cy="527040"/>
          </a:xfrm>
          <a:prstGeom prst="rect">
            <a:avLst/>
          </a:prstGeom>
          <a:ln w="0">
            <a:noFill/>
          </a:ln>
        </p:spPr>
      </p:pic>
      <p:pic>
        <p:nvPicPr>
          <p:cNvPr id="482" name="Zástupný symbol pro obsah 4" descr="04_zadost34_3_crop.jpg"/>
          <p:cNvPicPr/>
          <p:nvPr/>
        </p:nvPicPr>
        <p:blipFill>
          <a:blip r:embed="rId4"/>
          <a:stretch/>
        </p:blipFill>
        <p:spPr>
          <a:xfrm>
            <a:off x="1357200" y="4194000"/>
            <a:ext cx="7232760" cy="535320"/>
          </a:xfrm>
          <a:prstGeom prst="rect">
            <a:avLst/>
          </a:prstGeom>
          <a:ln w="0">
            <a:noFill/>
          </a:ln>
        </p:spPr>
      </p:pic>
      <p:pic>
        <p:nvPicPr>
          <p:cNvPr id="483" name="Zástupný symbol pro obsah 4" descr="04_zadost34_3_crop.jpg"/>
          <p:cNvPicPr/>
          <p:nvPr/>
        </p:nvPicPr>
        <p:blipFill>
          <a:blip r:embed="rId5"/>
          <a:stretch/>
        </p:blipFill>
        <p:spPr>
          <a:xfrm>
            <a:off x="1382760" y="4952880"/>
            <a:ext cx="7189920" cy="184320"/>
          </a:xfrm>
          <a:prstGeom prst="rect">
            <a:avLst/>
          </a:prstGeom>
          <a:ln w="0">
            <a:noFill/>
          </a:ln>
        </p:spPr>
      </p:pic>
      <p:pic>
        <p:nvPicPr>
          <p:cNvPr id="484" name="Zástupný symbol pro obsah 4" descr="04_zadost34_3_crop.jpg"/>
          <p:cNvPicPr/>
          <p:nvPr/>
        </p:nvPicPr>
        <p:blipFill>
          <a:blip r:embed="rId6"/>
          <a:stretch/>
        </p:blipFill>
        <p:spPr>
          <a:xfrm>
            <a:off x="1428840" y="5337000"/>
            <a:ext cx="6929280" cy="182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1285920" y="1643040"/>
            <a:ext cx="785808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PH není způsobilým výdajem, pokud příjemce plnění má v tomto případě nárok na odpočet DPH na vstupu. Nárok na odpočet DPH je vymezen zákonem č. 235/2004 Sb., o dani z přidané hodnoty, ve znění pozdějších předpisů (dále jen „zákon o DPH“). Přičemž se způsobilost DPH vztahuje pouze na tu část plnění, které je samo způsobilým výdaje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látce DP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 osoby, které jsou plátci DPH (osobami registrovanými k DPH), je způsobilým výdajem ta část DPH, na kterou není u daného přijatého plnění nárok na odpočet v souladu se zákonem o DP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Neplátce DP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 osoby neregistrované k DPH je daň z přidané hodnoty způsobilým výdajem, neboť tyto osoby si nemohou nárokovat odpočet DPH na vstup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DPH a jiné daně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87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733E-9844-4DFE-B2ED-CA5C1CC4B96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1357200" y="1571400"/>
            <a:ext cx="77868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kupy vozidel, infrastruktury, nemovitostí a pozemků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úroky z úvěrů a půjček, pokud se nejedná o schválenou formu podpory z fondu ESF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právní poplatky (výpis z katastru nemovitostí, výpis z obchodního rejstříku apod.) bez přímé vazby na projek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klady na audit v případě projektů s rozpočty nižšími než 3 mil. Kč vč. DPH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ezervy na možné budoucí ztráty a dluhy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urzové ztráty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plátky finančního leasingu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plátky operativního leasingu související s nájmem vybavení a zařízení, které nebude výhradně využíváno pro potřeby cílové skupiny (např. vozidel pro potřeby realizačního týmu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jemné, kdy je žadatel vlastníkem nemovitosti nebo ji užívá zdarm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ezpůsobilé výdaje - například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9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1A4A-F4E1-4854-A212-A0F9A1169C21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1285920" y="1499760"/>
            <a:ext cx="785808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ást pořizovací ceny přesahující cenu zjištěnou znaleckým posudkem nebo přesahující cenu v místě a čase obvyklou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režijní náklady vztahující se k všeobecnému provozu organizace bez vazby na projek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u zaměstnanců, kteří se na realizaci projektu podílí, alikvotní část osobních nákladů, která neodpovídá pracovnímu vytížení zaměstnance na daném projektu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daje spojené s přípravou a řízením projektu (např. platby konzultantům, kteří pomáhají s vyplňováním žádostí o finanční podporu z OP VK, s vyplňováním monitorovacích zpráv a žádostí o platby) v případě, že se jedná o externího dodavatel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daje spojené s administrací veřejných zakázek malého rozsahu, tzn. jejichž zadání se neřídí zákonem č. 137/2006 Sb., o veřejných zakázkách, ale postupy stanovenými Příručkou pro žadatele a Příručkou pro příjemc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daje na činnosti prováděné jakožto povinné ze záko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ezpůsobilé výdaje - například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9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E1D4-E8AC-4247-8CB7-7A52C6CFB101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9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3D13-9E9E-4481-AD1B-4D4CDF61CE92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Zástupný symbol pro obsah 4" descr="04_zadost40_crop.jpg"/>
          <p:cNvPicPr/>
          <p:nvPr/>
        </p:nvPicPr>
        <p:blipFill>
          <a:blip r:embed="rId1"/>
          <a:srcRect l="2700" t="3817" r="0" b="0"/>
          <a:stretch/>
        </p:blipFill>
        <p:spPr>
          <a:xfrm>
            <a:off x="1285920" y="1643040"/>
            <a:ext cx="5037120" cy="307188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Harmonogram čerp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9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AA3E-525D-4DFC-9181-0230006FD64F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částky předpokládaných způsobilých výdajů za každé monitorovací období realiz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tum první platby se uvádí 3 měsíce od předpokládaného termínu vydání rozhodnutí o poskytnutí dot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Zástupný symbol pro obsah 4" descr="04_zadost40_crop.jpg"/>
          <p:cNvPicPr/>
          <p:nvPr/>
        </p:nvPicPr>
        <p:blipFill>
          <a:blip r:embed="rId1"/>
          <a:srcRect l="2700" t="3817" r="0" b="0"/>
          <a:stretch/>
        </p:blipFill>
        <p:spPr>
          <a:xfrm>
            <a:off x="1428840" y="1643040"/>
            <a:ext cx="5037120" cy="3071880"/>
          </a:xfrm>
          <a:prstGeom prst="rect">
            <a:avLst/>
          </a:prstGeom>
          <a:ln w="0">
            <a:noFill/>
          </a:ln>
        </p:spPr>
      </p:pic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Harmonogram čerp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0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1CA9-FE56-4056-97C5-875985826AF8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oučet částek za všechny uvedené předpokládané platby se musí rovnat  celkové výši dot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Zástupný symbol pro obsah 4" descr="04_zadost9_crop.jpg"/>
          <p:cNvPicPr/>
          <p:nvPr/>
        </p:nvPicPr>
        <p:blipFill>
          <a:blip r:embed="rId1"/>
          <a:srcRect l="2677" t="3034" r="0" b="1513"/>
          <a:stretch/>
        </p:blipFill>
        <p:spPr>
          <a:xfrm>
            <a:off x="1285920" y="1500120"/>
            <a:ext cx="4643280" cy="38973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5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39D5-6982-4821-A633-3E8EE716E7C9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Zástupný symbol pro obsah 4" descr="04_zadost7_crop.jpg"/>
          <p:cNvPicPr/>
          <p:nvPr/>
        </p:nvPicPr>
        <p:blipFill>
          <a:blip r:embed="rId2"/>
          <a:srcRect l="3641" t="84857" r="3641" b="3030"/>
          <a:stretch/>
        </p:blipFill>
        <p:spPr>
          <a:xfrm>
            <a:off x="1285920" y="5500800"/>
            <a:ext cx="4572000" cy="581040"/>
          </a:xfrm>
          <a:prstGeom prst="rect">
            <a:avLst/>
          </a:prstGeom>
          <a:ln w="0">
            <a:noFill/>
          </a:ln>
        </p:spPr>
      </p:pic>
      <p:sp>
        <p:nvSpPr>
          <p:cNvPr id="255" name="Obdélníkový popisek 6"/>
          <p:cNvSpPr/>
          <p:nvPr/>
        </p:nvSpPr>
        <p:spPr>
          <a:xfrm>
            <a:off x="6143760" y="2571840"/>
            <a:ext cx="2857320" cy="785880"/>
          </a:xfrm>
          <a:prstGeom prst="wedgeRectCallout">
            <a:avLst>
              <a:gd name="adj1" fmla="val -86013"/>
              <a:gd name="adj2" fmla="val 67143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Částka, která připadne z celkového rozpočtu na žadate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bdélníkový popisek 7"/>
          <p:cNvSpPr/>
          <p:nvPr/>
        </p:nvSpPr>
        <p:spPr>
          <a:xfrm>
            <a:off x="6143760" y="4143240"/>
            <a:ext cx="2857320" cy="1857600"/>
          </a:xfrm>
          <a:prstGeom prst="wedgeRectCallout">
            <a:avLst>
              <a:gd name="adj1" fmla="val -79787"/>
              <a:gd name="adj2" fmla="val -8921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projekty v oblasti RLZ již žadatel realizoval či realizuje. Popis by měl obsahovat cíle projektu, aktivity, program, z něhož byl podpoř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Obrázek 8" descr="xxx_rozpadFinanci.jpg"/>
          <p:cNvPicPr/>
          <p:nvPr/>
        </p:nvPicPr>
        <p:blipFill>
          <a:blip r:embed="rId1"/>
          <a:stretch/>
        </p:blipFill>
        <p:spPr>
          <a:xfrm>
            <a:off x="1357200" y="1571760"/>
            <a:ext cx="4857840" cy="384336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ehled financov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06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035F-D621-40FA-94A3-721B55712217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bdélník se zakulaceným příčným rohem 10"/>
          <p:cNvSpPr/>
          <p:nvPr/>
        </p:nvSpPr>
        <p:spPr>
          <a:xfrm>
            <a:off x="6072120" y="1571760"/>
            <a:ext cx="2857680" cy="43574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příjmy, které vzniknou v době realizace projektu v bezprostřední souvislosti s jeho realizac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tří sem výnosy žadatele i partnerů získané díky tomu, že budou v rámci projektu poskytovat služby za úplatu, např. kurzovné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, že projekt nebude generovat příjmy, vyplní se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Obrázek 8" descr="xxx_rozpadFinanci.jpg"/>
          <p:cNvPicPr/>
          <p:nvPr/>
        </p:nvPicPr>
        <p:blipFill>
          <a:blip r:embed="rId1"/>
          <a:stretch/>
        </p:blipFill>
        <p:spPr>
          <a:xfrm>
            <a:off x="1357200" y="1571760"/>
            <a:ext cx="4857840" cy="384336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ehled financov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1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15C6-CBFA-43D4-80B8-CAC09DACFA29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bdélník se zakulaceným příčným rohem 10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zpad financí je závislý na záložkách: Projekt, Žadatel projektu, Rozpočet projek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, když provedete změny v těchto záložkách, proveďte znovu rozpad finan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13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2938-1D72-4B30-8E3F-BCE0E6E7844F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Území dopadu a realizac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1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8AAA-075E-45E1-AA2C-FCEA3A45B77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9"/>
          <p:cNvSpPr/>
          <p:nvPr/>
        </p:nvSpPr>
        <p:spPr>
          <a:xfrm>
            <a:off x="1357200" y="1557360"/>
            <a:ext cx="724716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šechny regiony s výjimkou hl. m. Prahy (regiony soudržnosti NUTS II na území ČR, zařazení pod Cíl Konverge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odůvodněných případech může být činnost projektu uskutečněna na území hl. m. Prahy – účastníci projektu musí být zaměstnaní nebo mít místo trvalého bydliště mimo hl. město Pra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Území dopadu a realizac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1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7174-38C7-49A5-81F9-61D35A4531C3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Zástupný symbol pro obsah 6" descr="XX_uzemiDopadu1.jpg"/>
          <p:cNvPicPr/>
          <p:nvPr/>
        </p:nvPicPr>
        <p:blipFill>
          <a:blip r:embed="rId1"/>
          <a:stretch/>
        </p:blipFill>
        <p:spPr>
          <a:xfrm>
            <a:off x="1285920" y="1428840"/>
            <a:ext cx="5176800" cy="4714920"/>
          </a:xfrm>
          <a:prstGeom prst="rect">
            <a:avLst/>
          </a:prstGeom>
          <a:ln w="0">
            <a:noFill/>
          </a:ln>
        </p:spPr>
      </p:pic>
      <p:pic>
        <p:nvPicPr>
          <p:cNvPr id="520" name="Obrázek 7" descr="XX_uzemiDopadu1_1.jpg"/>
          <p:cNvPicPr/>
          <p:nvPr/>
        </p:nvPicPr>
        <p:blipFill>
          <a:blip r:embed="rId2"/>
          <a:stretch/>
        </p:blipFill>
        <p:spPr>
          <a:xfrm>
            <a:off x="3857760" y="1928880"/>
            <a:ext cx="2377800" cy="1143000"/>
          </a:xfrm>
          <a:prstGeom prst="rect">
            <a:avLst/>
          </a:prstGeom>
          <a:ln w="0">
            <a:noFill/>
          </a:ln>
        </p:spPr>
      </p:pic>
      <p:sp>
        <p:nvSpPr>
          <p:cNvPr id="521" name="Obdélník se zakulaceným příčným rohem 11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dané oblasti musí být v souladu s prostorem  definovaným Operačním programem, nebo výzv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Území zadávejte v úrovni, která odpovídá zpracovávanému projektu (region, kraje, okresy, obc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Šrafovaná šipka doprava 15"/>
          <p:cNvSpPr/>
          <p:nvPr/>
        </p:nvSpPr>
        <p:spPr>
          <a:xfrm rot="5400000">
            <a:off x="3071520" y="585756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Území dopadu a realizac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2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F216-AAE4-4A30-8EF5-60E0FBB9CD73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Obrázek 8" descr="XX_uzemiDopadu1_2.jpg"/>
          <p:cNvPicPr/>
          <p:nvPr/>
        </p:nvPicPr>
        <p:blipFill>
          <a:blip r:embed="rId1"/>
          <a:srcRect l="0" t="41605" r="0" b="0"/>
          <a:stretch/>
        </p:blipFill>
        <p:spPr>
          <a:xfrm>
            <a:off x="1357200" y="1857240"/>
            <a:ext cx="4500720" cy="2311560"/>
          </a:xfrm>
          <a:prstGeom prst="rect">
            <a:avLst/>
          </a:prstGeom>
          <a:ln w="0">
            <a:noFill/>
          </a:ln>
        </p:spPr>
      </p:pic>
      <p:sp>
        <p:nvSpPr>
          <p:cNvPr id="526" name="Šrafovaná šipka doprava 10"/>
          <p:cNvSpPr/>
          <p:nvPr/>
        </p:nvSpPr>
        <p:spPr>
          <a:xfrm rot="5400000">
            <a:off x="3785760" y="1785960"/>
            <a:ext cx="428400" cy="28548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bdélník se zakulaceným příčným rohem 11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díl plánované částky způsobilých výdajů projektu (v %) vztahující se k NUTS3, v němž je projekt realizován. Součet procentních podílů ze všech zadaných oblastí se musí rovnat 10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Zástupný symbol pro obsah 4" descr="04_zadost44_1_crop.jpg"/>
          <p:cNvPicPr/>
          <p:nvPr/>
        </p:nvPicPr>
        <p:blipFill>
          <a:blip r:embed="rId1"/>
          <a:srcRect l="3289" t="0" r="0" b="0"/>
          <a:stretch/>
        </p:blipFill>
        <p:spPr>
          <a:xfrm>
            <a:off x="1285920" y="1442880"/>
            <a:ext cx="4143240" cy="369756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Kategorizace pomoci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3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2FC3-AD4F-443A-96FB-9301300042CD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Šrafovaná šipka doprava 6"/>
          <p:cNvSpPr/>
          <p:nvPr/>
        </p:nvSpPr>
        <p:spPr>
          <a:xfrm rot="5400000">
            <a:off x="3071520" y="500040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Zástupný symbol pro obsah 4" descr="04_zadost44_2_crop.jpg"/>
          <p:cNvPicPr/>
          <p:nvPr/>
        </p:nvPicPr>
        <p:blipFill>
          <a:blip r:embed="rId1"/>
          <a:srcRect l="2852" t="3034" r="0" b="0"/>
          <a:stretch/>
        </p:blipFill>
        <p:spPr>
          <a:xfrm>
            <a:off x="1285920" y="1785960"/>
            <a:ext cx="5046480" cy="407196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Kategorizace pomoci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3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3F8F-1502-447E-BE13-4A96CE1584F6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oučet částek za všechna zvolená prioritní témata v poli Prostředky z EU v Kč musí být roven částce v poli Strukturální fond v záložce Přehled financ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Šrafovaná šipka doprava 6"/>
          <p:cNvSpPr/>
          <p:nvPr/>
        </p:nvSpPr>
        <p:spPr>
          <a:xfrm rot="5400000">
            <a:off x="3714840" y="178596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Horizontální témata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3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E965-CA84-48E0-8144-A71C0AC09A05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Zástupný symbol pro obsah 4" descr="04_zadost41_crop.jpg"/>
          <p:cNvPicPr/>
          <p:nvPr/>
        </p:nvPicPr>
        <p:blipFill>
          <a:blip r:embed="rId1"/>
          <a:srcRect l="3746" t="3031" r="0" b="0"/>
          <a:stretch/>
        </p:blipFill>
        <p:spPr>
          <a:xfrm>
            <a:off x="1428840" y="1571760"/>
            <a:ext cx="5500440" cy="417672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Horizontální témata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41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4CCD-C770-417F-B539-9456D14771DD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rizontální témata patří mezi vylučovací kritéri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má projekt negativní dopad na některé z horizontálních témat, nemůže být doporučen k podpoř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Zástupný symbol pro obsah 4" descr="04_zadost9_crop.jpg"/>
          <p:cNvPicPr/>
          <p:nvPr/>
        </p:nvPicPr>
        <p:blipFill>
          <a:blip r:embed="rId1"/>
          <a:srcRect l="2677" t="3034" r="0" b="1513"/>
          <a:stretch/>
        </p:blipFill>
        <p:spPr>
          <a:xfrm>
            <a:off x="1285920" y="1500120"/>
            <a:ext cx="4643280" cy="389736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59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C33D-9B43-4014-A368-1BA0E281EB2D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Zástupný symbol pro obsah 4" descr="04_zadost7_crop.jpg"/>
          <p:cNvPicPr/>
          <p:nvPr/>
        </p:nvPicPr>
        <p:blipFill>
          <a:blip r:embed="rId2"/>
          <a:srcRect l="3641" t="84857" r="3641" b="3030"/>
          <a:stretch/>
        </p:blipFill>
        <p:spPr>
          <a:xfrm>
            <a:off x="1285920" y="5500800"/>
            <a:ext cx="4572000" cy="581040"/>
          </a:xfrm>
          <a:prstGeom prst="rect">
            <a:avLst/>
          </a:prstGeom>
          <a:ln w="0">
            <a:noFill/>
          </a:ln>
        </p:spPr>
      </p:pic>
      <p:sp>
        <p:nvSpPr>
          <p:cNvPr id="261" name="Obdélníkový popisek 7"/>
          <p:cNvSpPr/>
          <p:nvPr/>
        </p:nvSpPr>
        <p:spPr>
          <a:xfrm>
            <a:off x="6143760" y="4143240"/>
            <a:ext cx="2857320" cy="1857600"/>
          </a:xfrm>
          <a:prstGeom prst="wedgeRectCallout">
            <a:avLst>
              <a:gd name="adj1" fmla="val -76675"/>
              <a:gd name="adj2" fmla="val 4646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stručný popis cílové skupiny se kterou máte zkušenosti. Jakým způsobem jste s cílovou skupinou pracovali a případně s jakým výsledk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Zástupný symbol pro obsah 4" descr="04_zadost41_crop.jpg"/>
          <p:cNvPicPr/>
          <p:nvPr/>
        </p:nvPicPr>
        <p:blipFill>
          <a:blip r:embed="rId1"/>
          <a:srcRect l="3746" t="3031" r="0" b="0"/>
          <a:stretch/>
        </p:blipFill>
        <p:spPr>
          <a:xfrm>
            <a:off x="1357200" y="1500120"/>
            <a:ext cx="5500800" cy="417672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Horizontální témata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4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CDAA-6682-4302-B90A-3605F34B5798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hrňte, v jakých klíčových aktivitách a jakým způsobem bude projekt ovlivňovat rovné příležitosti a udržitelný rozvo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ublicita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4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82C1-4200-4E47-ACBC-75E94F2628FA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499760" y="28548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becná pravidla zajišťování publicit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5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05B8-7209-45C3-A5B8-90B195ED09CA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Zástupný symbol pro obsah 12"/>
          <p:cNvSpPr/>
          <p:nvPr/>
        </p:nvSpPr>
        <p:spPr>
          <a:xfrm>
            <a:off x="1571760" y="1785960"/>
            <a:ext cx="707220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ajištění realizace informačních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 propagačních aktivit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avidelné předkládání monitorovacích zpráv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ůběhu realizace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održování pravidel podle Manuálu vizuální identity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P V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ajištění informovanosti o zdrojích financování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ouhlas se začleněním na veřejně přístupný seznam příjemců a na žádost poskytovatele souhlas se zveřejněním informace o průběhu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E52C-E65F-4823-8420-2A98D1A7033C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1571400" y="1642680"/>
            <a:ext cx="70722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sah a volba je plně v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 kompetenci příjemce dot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váděny v 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žádosti o finanční podpor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část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rávního akt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držování a realizace publicity je 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předmětem kontro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áklady na publicitu jsou 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způsobilými náklady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jekt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499760" y="642600"/>
            <a:ext cx="735804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olba propagačních nástrojů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1428840" y="1428480"/>
            <a:ext cx="75009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ternet (webové stránky projekt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ublikace, školicí a informační materiá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iskové zprávy, články, rozhov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iskové konfe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etáky a plaká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z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pagační předmě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750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Nástroje propagačních aktivit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57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F5A8-E638-4F4F-97F8-CD70130976D7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1428840" y="1428480"/>
            <a:ext cx="75009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anuál vizuální identity (</a:t>
            </a:r>
            <a:r>
              <a:rPr b="0" lang="cs-CZ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msmt.cz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vinná sdělen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Logo Evropské Unie + odkaz na Evropskou uni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Logo ES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Logo MŠM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Logo OP V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oporučené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lajka ČR nebo text „Tento projekt je spolufinancován Evropským sociálním fondem a státním rozpočtem České republiky“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řidaná hodnota OP VK – „Investice do rozvoje vzdělávání“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Logo Zprostředkujícího subjektu, příjem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750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ravidla vizuální identit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6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E3D6-BB9C-4A1F-97E2-451E6C691CF4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1428840" y="1428480"/>
            <a:ext cx="75009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inanční spoluúčast </a:t>
            </a:r>
            <a:r>
              <a:rPr b="1" lang="cs-CZ" sz="2800" spc="-1" strike="noStrike">
                <a:solidFill>
                  <a:srgbClr val="4f81bd"/>
                </a:solidFill>
                <a:latin typeface="Calibri"/>
              </a:rPr>
              <a:t>EU (ESF)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 rámci </a:t>
            </a:r>
            <a:br>
              <a:rPr sz="2800"/>
            </a:br>
            <a:r>
              <a:rPr b="1" lang="cs-CZ" sz="2800" spc="-1" strike="noStrike">
                <a:solidFill>
                  <a:srgbClr val="f79646"/>
                </a:solidFill>
                <a:latin typeface="Calibri"/>
              </a:rPr>
              <a:t>OP VK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musí být zdůrazněn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29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během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všech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činností realizace projek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 každém dokumentu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vztahujícím se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 projek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e školicích místnostech, na zařízeních a materiálech zakoupených z prostředků </a:t>
            </a:r>
            <a:r>
              <a:rPr b="1" lang="cs-CZ" sz="2800" spc="-1" strike="noStrike">
                <a:solidFill>
                  <a:srgbClr val="4f81bd"/>
                </a:solidFill>
                <a:latin typeface="Calibri"/>
              </a:rPr>
              <a:t>ESF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1" lang="cs-CZ" sz="2800" spc="-1" strike="noStrike">
                <a:solidFill>
                  <a:srgbClr val="f79646"/>
                </a:solidFill>
                <a:latin typeface="Calibri"/>
              </a:rPr>
              <a:t>OP VK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na každé akci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polufinancované </a:t>
            </a:r>
            <a:r>
              <a:rPr b="1" lang="cs-CZ" sz="2800" spc="-1" strike="noStrike">
                <a:solidFill>
                  <a:srgbClr val="4f81bd"/>
                </a:solidFill>
                <a:latin typeface="Calibri"/>
              </a:rPr>
              <a:t>ESF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1" lang="cs-CZ" sz="2800" spc="-1" strike="noStrike">
                <a:solidFill>
                  <a:srgbClr val="f79646"/>
                </a:solidFill>
                <a:latin typeface="Calibri"/>
              </a:rPr>
              <a:t>OP V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D1E1-5008-42AD-9410-ABD1B5F8953A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Zástupný symbol pro obsah 4" descr="04_zadost47_crop.jpg"/>
          <p:cNvPicPr/>
          <p:nvPr/>
        </p:nvPicPr>
        <p:blipFill>
          <a:blip r:embed="rId1"/>
          <a:srcRect l="2261" t="2090" r="0" b="0"/>
          <a:stretch/>
        </p:blipFill>
        <p:spPr>
          <a:xfrm>
            <a:off x="1285920" y="1714680"/>
            <a:ext cx="4925880" cy="343692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yplnění projektové žádosti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ublicit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6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F832-EB83-4163-B27B-45827059199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ýběrová řízen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67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FB53-42EF-48F0-8E3E-1002C2352A5A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1285920" y="1428480"/>
            <a:ext cx="78580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0 – 100 000 K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12080" indent="-355320">
              <a:spcBef>
                <a:spcPts val="601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musí být VŘ prováděn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00 001 – 500 000 K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12080" indent="-355320">
              <a:spcBef>
                <a:spcPts val="601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ísemná výzva minimálně 3 dodavatelů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12080" indent="-355320">
              <a:spcBef>
                <a:spcPts val="601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Lhůta pro podávání nabídek minimálně 5 pracovních dn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500 001 – 1 999 999 K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12080" indent="-355320">
              <a:spcBef>
                <a:spcPts val="601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ísemná výzva minimálně 3 dodavatelů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12080" indent="-355320">
              <a:spcBef>
                <a:spcPts val="601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Uveřejnění na 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msmt.c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12080" indent="-355320">
              <a:spcBef>
                <a:spcPts val="601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Lhůta pro podávání nabídek ne kratší 10 dn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ýběrová řízen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D8E6-4649-4CB1-B149-286E6A16D627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Zástupný symbol pro obsah 4" descr="04_zadost10_crop.jpg"/>
          <p:cNvPicPr/>
          <p:nvPr/>
        </p:nvPicPr>
        <p:blipFill>
          <a:blip r:embed="rId1"/>
          <a:srcRect l="3371" t="3032" r="0" b="3032"/>
          <a:stretch/>
        </p:blipFill>
        <p:spPr>
          <a:xfrm>
            <a:off x="1285920" y="1571760"/>
            <a:ext cx="5551560" cy="44290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Adresa žadatel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A881-8CEA-4C31-8332-B1117136A9F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bdélník se zakulaceným příčným rohem 5"/>
          <p:cNvSpPr/>
          <p:nvPr/>
        </p:nvSpPr>
        <p:spPr>
          <a:xfrm>
            <a:off x="6572160" y="2571840"/>
            <a:ext cx="2571840" cy="33573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ficiální adres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automaticky načtena při „Validaci ARES“.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Takto načtené údaje needituj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Adresa pro doručení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povinný údaj, který zadává uživat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1285920" y="1428480"/>
            <a:ext cx="78580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2 000 000 Kč a výš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01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íjemce není veřejným zadavate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971640" indent="-250920">
              <a:spcBef>
                <a:spcPts val="4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ísemná výzva minimálně 5 dodavatelů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971640" indent="-250920">
              <a:spcBef>
                <a:spcPts val="4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Uveřejnění na </a:t>
            </a:r>
            <a:r>
              <a:rPr b="0" lang="cs-CZ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msmt.c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971640" indent="-250920">
              <a:spcBef>
                <a:spcPts val="4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Lhůta pro podávání nabídek ne kratší 21 dn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01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íjemce je veřejným zadavate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971640" indent="-250920">
              <a:spcBef>
                <a:spcPts val="4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ychází ze zákona č. 137/2006 Sb., o veřejných zakázká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ýběrová řízen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1B34-5B1D-4E0E-B610-5166F8B68DA6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Zástupný symbol pro obsah 4" descr="04_zadost46_1_crop.jpg"/>
          <p:cNvPicPr/>
          <p:nvPr/>
        </p:nvPicPr>
        <p:blipFill>
          <a:blip r:embed="rId1"/>
          <a:srcRect l="2520" t="3033" r="0" b="61058"/>
          <a:stretch/>
        </p:blipFill>
        <p:spPr>
          <a:xfrm>
            <a:off x="1357200" y="1571760"/>
            <a:ext cx="4732560" cy="128592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ýběrová řízen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6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EBC2-D889-40A8-BD67-9BD063E503FE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Zástupný symbol pro obsah 4" descr="04_zadost46_2_crop.jpg"/>
          <p:cNvPicPr/>
          <p:nvPr/>
        </p:nvPicPr>
        <p:blipFill>
          <a:blip r:embed="rId2"/>
          <a:srcRect l="4405" t="15150" r="0" b="7578"/>
          <a:stretch/>
        </p:blipFill>
        <p:spPr>
          <a:xfrm>
            <a:off x="1446120" y="2857680"/>
            <a:ext cx="5018040" cy="3643200"/>
          </a:xfrm>
          <a:prstGeom prst="rect">
            <a:avLst/>
          </a:prstGeom>
          <a:ln w="0">
            <a:noFill/>
          </a:ln>
        </p:spPr>
      </p:pic>
      <p:sp>
        <p:nvSpPr>
          <p:cNvPr id="578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informace o chystaných nebo již probíhajících výběrových řízení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ormuláře na této záložce budou aktivní pouze v případě, že jste na záložce „Projekt“ zvolili příslušnou volb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ílohy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80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FCAD-7B6B-4B74-A999-B6C25F60DC73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Zástupný symbol pro obsah 4" descr="04_zadost51_1_crop.jpg"/>
          <p:cNvPicPr/>
          <p:nvPr/>
        </p:nvPicPr>
        <p:blipFill>
          <a:blip r:embed="rId1"/>
          <a:srcRect l="0" t="0" r="0" b="39569"/>
          <a:stretch/>
        </p:blipFill>
        <p:spPr>
          <a:xfrm>
            <a:off x="1349280" y="1643040"/>
            <a:ext cx="4905360" cy="321480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ílohy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8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4BBF-2886-4299-BFD2-F5746D51987D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Šrafovaná šipka doprava 5"/>
          <p:cNvSpPr/>
          <p:nvPr/>
        </p:nvSpPr>
        <p:spPr>
          <a:xfrm rot="5400000">
            <a:off x="3071520" y="471456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lňte všechny požadované přílohy. Pokud je doložení přílohy vzhledem k povaze projektu nepodstatné a nevhodné, zaškrtněte nerelevant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aždá příloha musí mít zaškrtnuto buď doložena, nebo nerelevant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Zástupný symbol pro obsah 4" descr="04_zadost51_2_crop.jpg"/>
          <p:cNvPicPr/>
          <p:nvPr/>
        </p:nvPicPr>
        <p:blipFill>
          <a:blip r:embed="rId1"/>
          <a:srcRect l="0" t="55725" r="0" b="0"/>
          <a:stretch/>
        </p:blipFill>
        <p:spPr>
          <a:xfrm>
            <a:off x="1357200" y="2071800"/>
            <a:ext cx="5072040" cy="243504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ílohy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8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4683-A6E0-4CAB-9A03-0FDDC4248533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Šrafovaná šipka doprava 5"/>
          <p:cNvSpPr/>
          <p:nvPr/>
        </p:nvSpPr>
        <p:spPr>
          <a:xfrm rot="5400000">
            <a:off x="3643560" y="178596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lektronickou přílohu vložte kliknutím na tlačítko Procházet, zde vyberte požadovaný  soub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šechny přílohy, které jsou v elektronické podobě dostupné,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utné k žádosti připoj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ílohy s povinným podpisem naskenujte a přiložte jako obrázek jpg, nebo soubor pd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edkládání žádost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9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D6D3-7608-4EE5-B964-C07502BEC12C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1356840" y="1428480"/>
            <a:ext cx="735804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 19.9.2008 do 15 h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sobně, doporučeně poštou nebo kurýr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zalepené obálce, označené NEOTVÍRAT a  s údaji požadovanými ve výzvy (je možné na zadní stranu nalepit štítek s údaji o výzvě a žadateli – viz. Benefitová žádost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edkládání žádostí</a:t>
            </a:r>
            <a:br>
              <a:rPr sz="4000"/>
            </a:b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9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F945-595D-4247-84FF-1832FCB7AB5E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</a:rPr>
              <a:t>Předkládání žádostí</a:t>
            </a:r>
            <a:endParaRPr b="1" lang="en-US" sz="44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4284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sah obálk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nalizovaná projektová žádost vytištěná z Benefitu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lohy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D (nahraná finalizovaná Benefitová žádost ve formátu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.pdf, vč. nahraných příloh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DB13-55B4-49DB-9924-7004AC7783B3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1428840" y="1571760"/>
            <a:ext cx="7500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lačítko tisk žádosti slouží zároveň k vygenerování elektronické verze ve formátu pd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tisknutá žádost musí mít stejný Hash kód jako elektronická verz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Štítek na obálku se vytiskne po finalizaci společně se žádostí jako poslední strán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edkládání žádostí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Tisk a odevzdání žádosti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01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CAB4-58D9-4CC4-B7DF-427A838FAC4A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Zástupný symbol pro obsah 4" descr="04_zadost53_crop.jpg"/>
          <p:cNvPicPr/>
          <p:nvPr/>
        </p:nvPicPr>
        <p:blipFill>
          <a:blip r:embed="rId1"/>
          <a:srcRect l="1772" t="11075" r="0" b="0"/>
          <a:stretch/>
        </p:blipFill>
        <p:spPr>
          <a:xfrm>
            <a:off x="1285920" y="2143080"/>
            <a:ext cx="7072200" cy="231624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edkládání žádostí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Kontrol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0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1C3C-2385-4B22-AA89-A051F5E0151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, že kontrola proběhla v pořádku, byly splněny podmínky požadované automatickými kontrola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zor, tyto kontroly jsou pouze technického charakteru . I v případě úspěšné kontroly je nutné žádost prověř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08:18:17Z</dcterms:created>
  <dc:creator>mencloval</dc:creator>
  <dc:description/>
  <dc:language>en-US</dc:language>
  <cp:lastModifiedBy>lenka menclová</cp:lastModifiedBy>
  <dcterms:modified xsi:type="dcterms:W3CDTF">2008-07-09T12:57:22Z</dcterms:modified>
  <cp:revision>675</cp:revision>
  <dc:subject/>
  <dc:title>Snímek 1</dc:title>
</cp:coreProperties>
</file>