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C6DBE-C21A-47AD-B45E-6A6DDF23F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72493-6F9F-4E4D-A2F0-594359203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6D7-BCC3-46C3-82FA-0D720FAB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7A2-E76D-4D60-814B-350B28D2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913-20FE-406E-BD93-68C69A37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510-373B-4985-8FBD-B2E586DF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54F-B1BC-48E0-B3AC-E95883D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7D6-5B99-405E-89B7-085F3FE4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9EE-4986-4A08-AA33-58B9F00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E91-86FA-409F-9C99-EB7BEE20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48D-4DB0-40E1-8245-7950F815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699-A912-4C12-A2B0-D93D7650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CEA-5428-48A9-9CA9-C1437C5D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F1E-2E79-43FA-9E29-27F9C370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9B3A20-E368-4FDD-ACCA-E20DAFDAA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2T10:03:57Z</dcterms:modified>
  <cp:revision>1</cp:revision>
  <dc:subject/>
  <dc:title>Snímek 1</dc:title>
</cp:coreProperties>
</file>