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F8FA2-0EC8-49C0-ABF0-68D3BA587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898EC-1242-4EF2-B19F-CA36B37E07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D14-C0FD-46AE-8368-895DA7D9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2A2-6733-497D-8089-0254C6A9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5B0-A6B5-4999-BF4F-44187AFB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D36-985F-428E-ADA3-3240B8CE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2D1-5876-419C-A784-1F29D58C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05C-0077-42B8-A201-7F2B8B66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3A3-DAAA-4CB1-845F-83630039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0C9-DBC0-4F97-84F5-64F3BB3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A0F-80DB-4924-B57B-9BB9069D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77C-CDF3-4553-B8B2-5C68FA45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428-5F5D-4F7D-A4DC-308900A7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7E8-4D40-441D-89E9-83C979C8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DF3316-CB2B-4B90-A645-C0FE08D901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8:59:29Z</dcterms:modified>
  <cp:revision>2</cp:revision>
  <dc:subject/>
  <dc:title>Snímek 1</dc:title>
</cp:coreProperties>
</file>