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6D3F0-1E1C-4198-9B93-71E417DC4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1C48A-0FB0-422B-B7AD-380A785439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7DB-5DD0-4507-8F94-23F88B73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449-7576-4283-8E90-A2A6EB07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8B5-098D-43CD-9AFF-8C676D85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0C4-AEFC-4C52-A392-8007D06F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547-B159-4843-801B-9F4AA43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306-0C0D-4642-8E39-8526FD8D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2BF-D821-4D21-8D60-5AD40784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F9D-F71C-4CDD-8758-128155E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E13-73DC-48A5-9FAF-671123FC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688-C147-4A8C-A2DB-AC3617E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D5F-3CB2-40B6-8EE6-5EB4032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040-16A6-4D67-88A1-BD18306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C2B9E0-0411-4796-B961-049942CDD5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2T10:03:57Z</dcterms:modified>
  <cp:revision>1</cp:revision>
  <dc:subject/>
  <dc:title>Snímek 1</dc:title>
</cp:coreProperties>
</file>