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734F64-A607-4B1B-9006-87A977B42E3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358367-4536-4F22-A170-71DB387ED87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Text Box 1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A66AA-60C3-4F1E-90A3-7BDBE9707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0FF0C-56CC-4D4D-A7EC-0FA9570A9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8546A-D842-49D1-8C82-E1AC96F8C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87EDF-647B-4E5E-A150-3E85DE255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620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01644-6548-4C6A-8D3E-C17819391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2F6AD-A8B1-4061-A17E-9BE342E51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12C76-70DF-4487-BCFA-BBD9216E2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EA60A-B590-4BCE-8302-A32248886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62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38646-80F1-4095-A83E-FD066541C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89F6F-6BB2-4F81-BF8F-75D7C7096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5947E-C554-4A60-810E-EA7EA1314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DBD24-2AED-44F0-BD29-C6B864323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921B541-99B1-42D5-8738-153E8FF0AEF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78920" cy="75596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6948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cs-CZ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694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ový snímek vložíte přes pravé tlačítko a volbou Duplikát snímk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gh</cp:lastModifiedBy>
  <dcterms:modified xsi:type="dcterms:W3CDTF">2009-06-02T10:03:57Z</dcterms:modified>
  <cp:revision>1</cp:revision>
  <dc:subject/>
  <dc:title>Snímek 1</dc:title>
</cp:coreProperties>
</file>