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CB49-8F32-4D10-9C52-0C6370E833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79FE7-5044-42AA-95A5-D4597970E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054-7AB7-4D44-98D3-48C70EF4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821-F9F2-4CF6-818F-F44274D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C12-641F-47D6-8277-CC755A55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869-6620-4105-A081-3D4D8AF8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89C-92B8-4006-825E-131B9E6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C4A-B83C-4601-9592-8BF8692D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636-0A43-4F61-8EF8-0FD8157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358-7DD8-41B1-A8A2-4F03E8B0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200-DA96-473D-98E6-80BBA13C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54C-417D-464C-BD7A-DF7EBF7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FA4-9920-4047-A300-758FBE2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D82-BCA0-4209-9A19-0C24453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4CA70D-126E-4451-8064-F2B6947216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4T08:59:29Z</dcterms:modified>
  <cp:revision>2</cp:revision>
  <dc:subject/>
  <dc:title>Snímek 1</dc:title>
</cp:coreProperties>
</file>