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6D6DD-8652-4F5D-81E7-C59376785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B631-D491-461B-870D-55555747F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FB5-6C00-4041-BEDE-939818AB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6AC-80FD-43A5-BB83-0DAA330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B7A-09BF-4843-95EB-9440D83D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637-F062-44CF-88AB-4E81928F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0A0-261C-47FC-A0B1-8115909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85E-5DC5-4B9F-AB60-9431479C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266-8BDD-4C0C-9197-BE17086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F01-D797-4824-836C-8F8E807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D3-1867-4D78-9BE8-7DC5C51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1B9-9E9F-46AF-AD08-A6DBFD7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35B-8835-4085-BB50-E6BEFC9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5BB-9EF0-4DA1-847F-92B913C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E6815C-0973-4C97-90B4-1358917A1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8:59:29Z</dcterms:modified>
  <cp:revision>2</cp:revision>
  <dc:subject/>
  <dc:title>Snímek 1</dc:title>
</cp:coreProperties>
</file>