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01B3A-02BD-451D-8F3F-BDAC3952F2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E6B09-095C-4B65-9B89-3181E56759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BDC-ED18-4385-BD13-3C3C089F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DDA-1C7D-43BD-921C-C3FA8701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2AE-3A2B-4428-8E5F-0E145213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23D6-2942-4DF7-9865-3C7F637A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4DED-DEF0-497B-9E9A-93CEF52D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F5B-EBC6-4F5E-8CDC-DAA5C38F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2B8-5154-4917-93AB-3564CED5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31FA-A73A-4F33-AA9F-610B1182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694-E2CA-4F32-ACB6-4C58E335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A1D0-AD30-4435-960E-3438D038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98DD-D153-4FDB-B0DC-B20D3187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813-1746-4D76-9BDF-19519EDD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2CA06C-9DDC-419F-AA35-23832A4C14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280" y="301680"/>
            <a:ext cx="78836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280" y="1768320"/>
            <a:ext cx="788364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 snímek vložíte přes pravé tlačítko a volbou Duplikát sním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06-04T09:06:07Z</dcterms:modified>
  <cp:revision>2</cp:revision>
  <dc:subject/>
  <dc:title>Snímek 1</dc:title>
</cp:coreProperties>
</file>