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20225-7FE3-4A23-9D07-80A2CCECCF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3D5BD-39DC-48F2-9DE2-52E6B8C715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BCC-D2FB-47F2-8E41-1053988C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1F1-BAB1-4947-AE00-91D20B04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414-122E-45FA-8989-4A0C090B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F40-3396-473E-B33B-6E8DD932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2A2-5E68-41A3-A3C4-21C63C11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97B-C49E-4603-8006-1552C965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708-B585-441E-9BEA-65E45251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704-05C8-44C1-BE84-7694E98A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D98-F009-40B4-8A81-1E1A3D39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74A-0C5B-428C-85A4-9DDAE0AF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08D-851D-420C-8993-FEE15BCA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663-F93C-438D-8F3C-760DD33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48A27D-1126-471B-84FE-8742952D08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280" y="301680"/>
            <a:ext cx="78836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280" y="1768320"/>
            <a:ext cx="78836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07Z</dcterms:modified>
  <cp:revision>2</cp:revision>
  <dc:subject/>
  <dc:title>Snímek 1</dc:title>
</cp:coreProperties>
</file>