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7EA5F-54C9-4C36-962B-1DF014441D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1AA0B-4743-4727-B73E-D97C4F1C8C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242-56CD-4747-BB61-BEC1D573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EC3-831A-46FC-A298-D385D65B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94D-D5CC-4764-A4E4-51532EC7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5E2-4C40-4149-96AB-544A84A7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4EA-1E4A-496A-9D6F-2D9E5E00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F68-C6C6-4ADA-826E-0631BB84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2B2-F179-443E-876C-67FDB7E6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90C-54A6-4184-B1FB-073D39C7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192-B26C-44CC-A369-64AF80F0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0CA-D35F-45A0-B8F4-9754CBA9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388-E178-4B72-B11F-292F65F3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7E8-6019-4CFA-ACAE-455CFA13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69AFE2-32DD-47CA-9FB0-065CA39845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9720" y="301680"/>
            <a:ext cx="8026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39720" y="1768320"/>
            <a:ext cx="80265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39Z</dcterms:modified>
  <cp:revision>2</cp:revision>
  <dc:subject/>
  <dc:title>Snímek 1</dc:title>
</cp:coreProperties>
</file>