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FADA1-79CE-41E1-8EB5-B23FE0F5CF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08F29-9FC7-48BF-AA3F-20E03F6ED5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202-FA1B-4656-9577-BABC0122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886-01C8-4B35-9273-5C36D1B9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7A5-9D81-43DA-BD85-7271D515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604B-E3C6-4ABC-AF57-BFB140ED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393-5286-4564-AF5B-CBC86876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554A-C121-4ED7-B246-053248A7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F192-5F67-4CB9-88AE-BF1486F5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490A-977E-4BBE-B762-8529127B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2BE-BDA2-41A7-B90D-5246B3CC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908F-357A-4317-B83F-746DC5BF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0840-55AD-4744-9DD9-25074363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600-80C5-4928-A86A-19EE047C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FAFEAB-62A3-42A9-8A80-4B1260D130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9720" y="301680"/>
            <a:ext cx="8026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39720" y="1768320"/>
            <a:ext cx="80265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 snímek vložíte přes pravé tlačítko volbou Duplikát sním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06-04T09:06:39Z</dcterms:modified>
  <cp:revision>2</cp:revision>
  <dc:subject/>
  <dc:title>Snímek 1</dc:title>
</cp:coreProperties>
</file>