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1CEE8-24F4-4D45-8D72-52B6A949C1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3A788-2684-455D-A5CF-06E9723754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794-2CAF-4ABC-A052-582DEB85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329-0DD5-458F-A5B6-E5E43700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81E-0BCF-4DFB-8493-A23A3F3E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8A5-4A40-4FE2-9465-200F31CD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8FA-C203-42BD-9918-EBB9313F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DA5-3FF4-4C58-AA2F-3C5FC820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96B-5426-44DA-989E-76D934AE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C2F-2BD3-46A8-92A5-58D7A23A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4E5-8F5A-4215-B0A2-5A5B2DA9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391-9FE6-40F1-802C-4A8DE03F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B06-A813-4BD4-BC37-F4DF86C5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F47-4C70-4F08-BF86-A354815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B98ECA-0828-4519-A91A-A503AA591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720" y="301680"/>
            <a:ext cx="8026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9720" y="1768320"/>
            <a:ext cx="80265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39Z</dcterms:modified>
  <cp:revision>2</cp:revision>
  <dc:subject/>
  <dc:title>Snímek 1</dc:title>
</cp:coreProperties>
</file>