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23CFD-F24D-4F43-B9A2-C00FD20CE2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68D84-89BA-4DA3-A3AC-A318CA3D01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B6A-BDF0-4C4F-A336-D4A9E647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1E5-B8A7-4D9A-9625-E7F9AB6A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8F3-805B-4875-B2B5-420036B8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8E1-AB37-46F3-965E-FD465E43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31F-87E9-46DC-9432-EF5D671F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3A7-B60E-417F-A37A-9A587CB9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FF2-02B5-467B-B377-3CAD47D2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3DC-E81C-4411-9AE2-E3C1761F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F7F-8FB7-43B7-9222-54BB65D0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2F8F-D172-4B08-B235-0B37D1D4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556-02B4-48EF-8894-DC46AADA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8D7-2C03-4FF7-B110-9E690957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E8AB40-700D-4C9F-A52D-86B89AF970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280" y="301680"/>
            <a:ext cx="78836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280" y="1768320"/>
            <a:ext cx="78836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a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9:06:07Z</dcterms:modified>
  <cp:revision>2</cp:revision>
  <dc:subject/>
  <dc:title>Snímek 1</dc:title>
</cp:coreProperties>
</file>