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01392-C438-4FF2-AF8B-455326AF95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BE465-FA92-45E2-8016-D64BB6171F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0A39-A445-4CF4-8A5D-2C6634E6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288E-2B81-47AD-91F9-74088785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0785-C740-416C-BE2C-EACF9AFD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8EA8-351C-4453-93E8-5266047C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75AA-6BFC-472F-96B2-9DA3619F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C96E-DA87-41D3-9248-4D6A5BA1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0FDA-4586-4643-84A2-428588A9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C135-BB5C-437D-9872-2D1A0B35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AD3D-05D6-467D-91FB-6651E3DA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1D08-DF3A-406C-BB58-39081163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654-BBCC-40D9-9E62-6FFA5221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A431-4109-417A-94FF-F2DC0EF7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CB33DA-D20E-46AF-8436-D698E1E356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9720" y="301680"/>
            <a:ext cx="8026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39720" y="1768320"/>
            <a:ext cx="80265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ý snímek vložíte přes pravé tlačítko volbou Duplikát sním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06-04T09:06:39Z</dcterms:modified>
  <cp:revision>2</cp:revision>
  <dc:subject/>
  <dc:title>Snímek 1</dc:title>
</cp:coreProperties>
</file>