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B0D9F-7680-4530-A67F-DDCF8A012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72BE1-EE69-4A7B-A21E-EF08E0AF6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9D4-5BB9-4E35-94CC-B6268C71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AC8-BC9F-4E58-AA02-4CD549E2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E6D-BD2B-42DC-8F0C-ABC76DD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6B0-AE6F-4988-8AAC-0FC4884C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221-5FC8-4E03-B5FD-02C5569F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014-32A8-4BE4-997B-DCE0D456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BB4-A066-4B7D-9E02-78AE9CDB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141-FDF4-48E8-AAEA-08C083F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93F-A1C8-4521-AFE2-0B5F4A1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C51-1012-4D0B-BDA0-4C2BF5C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EEC-FD94-43EA-B6F5-02689997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579-DEC9-4435-B72A-1F96AC7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DCB09A-284E-4B2E-9F8D-DEA4BDFD4B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301680"/>
            <a:ext cx="78836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280" y="1768320"/>
            <a:ext cx="7883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07Z</dcterms:modified>
  <cp:revision>2</cp:revision>
  <dc:subject/>
  <dc:title>Snímek 1</dc:title>
</cp:coreProperties>
</file>