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4489-F179-4FC0-A0B4-CBF347B0AD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9B831-CC80-495E-954E-1E76109152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44C-690C-441C-B4D0-8D77363B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B68-AA3D-4923-8BC0-54DE1AF2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F9D-D69D-4786-AE32-046082DC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331-A181-494D-887F-807E842D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B9E-ABA6-4E83-9237-1EEA98ED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E85-0E2F-4A0A-A867-FFD68CA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714-5070-40B9-B63B-43458A2B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C5F6-BB17-4C47-B9D7-F36B31C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4FF-9F90-4870-8541-6D94FB76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37D-78B9-4BE3-9BF8-4D20E0D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C4B-5442-4BF7-9EED-77E6D87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20F-F95A-4C00-B1B6-61C3BCE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601B99-3A53-4287-9896-D58DB600E7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280" y="301680"/>
            <a:ext cx="78836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280" y="1768320"/>
            <a:ext cx="788364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07Z</dcterms:modified>
  <cp:revision>2</cp:revision>
  <dc:subject/>
  <dc:title>Snímek 1</dc:title>
</cp:coreProperties>
</file>