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3A7A0-19F3-4DE3-87E8-EA207126C2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FF2BE-0513-4678-B77F-FBD1999552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652A-A415-4562-B439-FBFDE68E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FC69-7631-4608-AAEA-F8FF9FB1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F50E-375C-4961-9A7D-D0CB9C5B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6549-4587-44FA-ADE5-302D998D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EE81-252E-4886-A9EF-CBE5657B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57A2-7E70-4412-ACCF-0A9395C8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93AA-A711-4886-A6C2-989EDAE4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74C6-5B36-435E-B0B1-4394008B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7AA8-9282-4AE8-8B39-4D6F33F5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CA7A-ACF3-4A4B-A1DC-ACF118ED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F05B-C766-484E-B9C3-73C16677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E21D-02D8-47B4-972E-95E35A1F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2800" indent="-21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31472A-1178-438B-8CDD-AEC8286C35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9720" y="301680"/>
            <a:ext cx="8026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39720" y="1768320"/>
            <a:ext cx="80265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ý snímek vložíte přes pravé tlačítko volbou Duplikát sním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06-04T09:06:39Z</dcterms:modified>
  <cp:revision>2</cp:revision>
  <dc:subject/>
  <dc:title>Snímek 1</dc:title>
</cp:coreProperties>
</file>