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10080625" cy="7559675"/>
  <p:notesSz cx="6764338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644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6765840" cy="9867960"/>
          </a:xfrm>
          <a:custGeom>
            <a:avLst/>
            <a:gdLst>
              <a:gd name="textAreaLeft" fmla="*/ 360 w 6765840"/>
              <a:gd name="textAreaRight" fmla="*/ 6765480 w 6765840"/>
              <a:gd name="textAreaTop" fmla="*/ 360 h 9867960"/>
              <a:gd name="textAreaBottom" fmla="*/ 9867600 h 9867960"/>
            </a:gdLst>
            <a:ahLst/>
            <a:rect l="textAreaLeft" t="textAreaTop" r="textAreaRight" b="textAreaBottom"/>
            <a:pathLst>
              <a:path w="21600" h="31503">
                <a:moveTo>
                  <a:pt x="4" y="0"/>
                </a:moveTo>
                <a:arcTo wR="4" hR="4" stAng="16200000" swAng="-5400000"/>
                <a:lnTo>
                  <a:pt x="0" y="31499"/>
                </a:lnTo>
                <a:arcTo wR="4" hR="4" stAng="10800000" swAng="-5400000"/>
                <a:lnTo>
                  <a:pt x="21596" y="3150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6765840" cy="9867960"/>
          </a:xfrm>
          <a:custGeom>
            <a:avLst/>
            <a:gdLst>
              <a:gd name="textAreaLeft" fmla="*/ 360 w 6765840"/>
              <a:gd name="textAreaRight" fmla="*/ 6765480 w 6765840"/>
              <a:gd name="textAreaTop" fmla="*/ 360 h 9867960"/>
              <a:gd name="textAreaBottom" fmla="*/ 9867600 h 9867960"/>
            </a:gdLst>
            <a:ahLst/>
            <a:rect l="textAreaLeft" t="textAreaTop" r="textAreaRight" b="textAreaBottom"/>
            <a:pathLst>
              <a:path w="21600" h="31503">
                <a:moveTo>
                  <a:pt x="4" y="0"/>
                </a:moveTo>
                <a:arcTo wR="4" hR="4" stAng="16200000" swAng="-5400000"/>
                <a:lnTo>
                  <a:pt x="0" y="31499"/>
                </a:lnTo>
                <a:arcTo wR="4" hR="4" stAng="10800000" swAng="-5400000"/>
                <a:lnTo>
                  <a:pt x="21596" y="3150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sldImg"/>
          </p:nvPr>
        </p:nvSpPr>
        <p:spPr>
          <a:xfrm>
            <a:off x="915480" y="749160"/>
            <a:ext cx="4929480" cy="36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76080" y="4686120"/>
            <a:ext cx="540828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hdr"/>
          </p:nvPr>
        </p:nvSpPr>
        <p:spPr>
          <a:xfrm>
            <a:off x="-360" y="0"/>
            <a:ext cx="2932200" cy="48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dt" idx="4"/>
          </p:nvPr>
        </p:nvSpPr>
        <p:spPr>
          <a:xfrm>
            <a:off x="3828600" y="0"/>
            <a:ext cx="2932200" cy="48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19.11.2009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9373680"/>
            <a:ext cx="2932200" cy="4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28600" y="9373680"/>
            <a:ext cx="2932200" cy="4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D46971-37E8-4B52-894F-07DDABAC5DF9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D0FEE9-1756-4C98-BEF9-72AEEBAA25BD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6A9096-B3D9-4D12-82F6-B6EBA20AF925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3727EE-36AD-456A-ADE5-DC3320022C31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7CE1D9-067D-44B6-BE84-3BAC440EEEA9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4B94C3-14A3-472E-8019-503F8B1A8422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743773-3A71-44E8-AA9A-3A532C6409B5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257214-E3D2-4478-97FC-98884F5FC85A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7EEAC4-E9DC-466A-809E-FD735F68000B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0C5D58-8C33-4D2A-A351-3CDB6AFF3EE5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0C303C-CB51-48BC-8E8E-E3DD11EB3113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DBCFB6-D74C-40DF-8777-1A854542CA3B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F1C60F-D38E-4A99-B55C-DB3363DD9049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0EDE79-63F3-4202-A29E-6386A4582913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3E13C7-C599-4F0E-A5EA-2DB2C928D796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1107DB-AB0A-48A9-ACA3-56FEA3C6B1FD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3E0BF4-8F48-4DD9-9A55-D35E6413AC09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F3B95-0EC8-405B-93F3-D8EDE0175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6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1480"/>
            <a:ext cx="9066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62C63-39BA-4018-8517-A15FF6778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5A7AE-FE49-44B3-B796-A227ACF5C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796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796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148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148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148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FD808-5BAD-4512-B2B2-F279FEA32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76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E9163-4970-43AE-BA1D-A57EB705E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12402-8E13-435E-B8C4-847D320E1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BF416-6161-4A22-BA00-C890A2C64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8A919-99F4-49E8-A788-6C1B90695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76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68C6D-EFA9-420D-BFF7-55C811C22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F148E-8211-4CCB-A0F4-E51B6174B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62CAA-E898-434D-A9DD-4241C2C2E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1480"/>
            <a:ext cx="9066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78382-8B1F-4041-9ADD-A0BE63E30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145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4040" indent="-212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5680" indent="-2142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5680" indent="-2142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5680" indent="-2142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4F9C177-2FA6-48CD-B4A9-D18B8C4DB0E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" descr=""/>
          <p:cNvPicPr/>
          <p:nvPr/>
        </p:nvPicPr>
        <p:blipFill>
          <a:blip r:embed="rId1"/>
          <a:stretch/>
        </p:blipFill>
        <p:spPr>
          <a:xfrm>
            <a:off x="1440" y="0"/>
            <a:ext cx="10079280" cy="755964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682640" y="301320"/>
            <a:ext cx="7886880" cy="183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cs-CZ" sz="6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1682640" y="2279160"/>
            <a:ext cx="78868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400" spc="-1" strike="noStrike">
                <a:solidFill>
                  <a:srgbClr val="ff9900"/>
                </a:solidFill>
                <a:latin typeface="Arial"/>
              </a:rPr>
              <a:t>Archiv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000" spc="-1" strike="noStrike">
                <a:solidFill>
                  <a:srgbClr val="ff9900"/>
                </a:solidFill>
                <a:latin typeface="Arial"/>
              </a:rPr>
              <a:t>Helena Matasov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Tato prezentace je spolufinancována Evropským sociálním fondem a státním rozpočtem České republik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1" descr=""/>
          <p:cNvPicPr/>
          <p:nvPr/>
        </p:nvPicPr>
        <p:blipFill>
          <a:blip r:embed="rId1"/>
          <a:stretch/>
        </p:blipFill>
        <p:spPr>
          <a:xfrm>
            <a:off x="1440" y="0"/>
            <a:ext cx="10079280" cy="75596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82640" y="301320"/>
            <a:ext cx="7886880" cy="183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Co 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také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bude zajímat orgány   s právem náhledu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1682640" y="2136240"/>
            <a:ext cx="7886880" cy="492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ověří, zda má příjemce zavedeny vhodné a přiměřené systémy pro dokladování projektových výdajů a aktiv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ověří, zda je vedena řádná archivace dokumentů souvisejících s projektem realizovaným               za podpory OP V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v případě, že je v projektu zahrnut partner, proběhnou i u něho stejné kontroly jako u příjemce a dále u něj ověří plnění partnerství stanovené    ve schváleném projektu a uzavřeném smluvním vztahu mezi příjemcem a partnere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ověří udržitelnost projekt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" descr=""/>
          <p:cNvPicPr/>
          <p:nvPr/>
        </p:nvPicPr>
        <p:blipFill>
          <a:blip r:embed="rId1"/>
          <a:stretch/>
        </p:blipFill>
        <p:spPr>
          <a:xfrm>
            <a:off x="1440" y="0"/>
            <a:ext cx="10079280" cy="755964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682640" y="301680"/>
            <a:ext cx="814392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Jaké jsou stanoveny lhůty pro archivování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1682640" y="1636200"/>
            <a:ext cx="7886880" cy="511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říjemci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usí pro účely kontroly ze strany Evropské komise, Evropského účetního dvora, Nejvyššího kontrolního úřadu a dalších oprávněných osob archivovat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do konce roku 2025,                          pokud český právní systém nestanovuje           lhůtu delší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(*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30 let mzdové listy nebo účetní záznamy, které slouží pro důchodové zabezpečení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Skartační znak bude v rozmezí – A/V/S /17 nebo /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= archiv, V = výběr,S = stoupa/skart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/ = délka uložení dokumentu před dalším zpracováním (počíná běžet 1. dnem následujícího roku, ve kterém byla vyřízena nebo pozbyla význa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78920" cy="755964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682640" y="351000"/>
            <a:ext cx="7886880" cy="100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Co je povinnost uchováva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1682640" y="1708200"/>
            <a:ext cx="8072640" cy="55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ýběr dokumentů a dokladů, které je potřeba uchovávat, se musí řídit zejména hlediskem prokazatelnosti, tzn.,  že je zapotřebí uchovávat všechny dokumenty a doklady způsobilé jednoznačně prokázat kontrolujícímu orgánu, že poskytnuté prostředky byly využity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v souladu s účelem a pravid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 Rozhodnutí o poskytnutí dotace je pro příjemce stanovena povinnost uchovávat dokumenty a doklady vztahující se k projektům odděleně, se zvláštní lhůtou a zvláštním režimem práce uvedené v Obecném naříze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říjemce ponechá originály dokladů jako součást svého účetnictví, daňové evidence a ostatních evidencí a při jejich uchovávání se řídí českými právními předpisy a nařízeními 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1" descr=""/>
          <p:cNvPicPr/>
          <p:nvPr/>
        </p:nvPicPr>
        <p:blipFill>
          <a:blip r:embed="rId1"/>
          <a:stretch/>
        </p:blipFill>
        <p:spPr>
          <a:xfrm>
            <a:off x="1440" y="0"/>
            <a:ext cx="10079280" cy="755964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82640" y="301680"/>
            <a:ext cx="7886880" cy="97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Co je povinnost uchováva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1682640" y="1922400"/>
            <a:ext cx="788688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klady a záznamy o realizaci projek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účetní záznamy a dokumenty týkající se výdajů a auditů OP V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šechny originály dokladů týkajících se implementace a čerpání z OP V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ddělené účetnictví s originálními účetními doklady, které prokazují uskutečnění uznatelných výdajů nebo na základě kterých se uznatelné výdaje realizuj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eškerou korespondenci s poskytovate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právy o výsledcích zadávacích řízení (výběr dodavatele) včetně související dokument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1" descr=""/>
          <p:cNvPicPr/>
          <p:nvPr/>
        </p:nvPicPr>
        <p:blipFill>
          <a:blip r:embed="rId1"/>
          <a:stretch/>
        </p:blipFill>
        <p:spPr>
          <a:xfrm>
            <a:off x="1440" y="0"/>
            <a:ext cx="10079280" cy="75596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82640" y="301320"/>
            <a:ext cx="7886880" cy="104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Co je povinnost uchováva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682640" y="1564920"/>
            <a:ext cx="7886880" cy="50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opie zkontrolované, autorizované žádosti příjemce     o platbu, včetně přílo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onitorovací zpráv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riginály zápisů z provedených kontrol a potvrzení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o schválení a příkaz k proplacení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způsobilých výdajů projektu (podle finančních toků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eškerou další dokumentaci vzniklou při implementaci z úrovně příjem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1" descr=""/>
          <p:cNvPicPr/>
          <p:nvPr/>
        </p:nvPicPr>
        <p:blipFill>
          <a:blip r:embed="rId1"/>
          <a:stretch/>
        </p:blipFill>
        <p:spPr>
          <a:xfrm>
            <a:off x="1440" y="0"/>
            <a:ext cx="10079280" cy="755964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682640" y="301680"/>
            <a:ext cx="78868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Legislativní rámec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1682640" y="1564920"/>
            <a:ext cx="7786800" cy="56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ákon č. 499/2004 Sb., o archivnictví a spisové služb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Byla schválena novela č.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190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ZÁKON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e dne 28. května 2009,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kterým se mění zákon č. 499/2004 Sb., o archivnictví a spisové službě a o změně některých zákonů, ve znění pozdějších předpisů, a další související zákony (účinnost od 1. 7.200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yhláška č. 646/2004 Sb., o podrobnostech výkonu spisové služby, v platném zně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yhláška č. 645/2004 Sb., kterou se provádějí některá stanovení zákona o archivnictví a spisové služb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1" descr=""/>
          <p:cNvPicPr/>
          <p:nvPr/>
        </p:nvPicPr>
        <p:blipFill>
          <a:blip r:embed="rId1"/>
          <a:stretch/>
        </p:blipFill>
        <p:spPr>
          <a:xfrm>
            <a:off x="1440" y="0"/>
            <a:ext cx="10079280" cy="755964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682640" y="301680"/>
            <a:ext cx="78868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cs-CZ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682640" y="1922040"/>
            <a:ext cx="788688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24440" indent="-32076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6600" spc="-1" strike="noStrike">
                <a:solidFill>
                  <a:srgbClr val="f3912c"/>
                </a:solidFill>
                <a:latin typeface="Arial"/>
              </a:rPr>
              <a:t>Děkuji za pozornost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ntak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Helena Matasov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helena.matasova@msmt.cz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el.: +420 234 814 25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obil: +420 602 545 77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" descr=""/>
          <p:cNvPicPr/>
          <p:nvPr/>
        </p:nvPicPr>
        <p:blipFill>
          <a:blip r:embed="rId1"/>
          <a:stretch/>
        </p:blipFill>
        <p:spPr>
          <a:xfrm>
            <a:off x="1440" y="0"/>
            <a:ext cx="10079280" cy="75596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682640" y="301680"/>
            <a:ext cx="78868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Co se v prezentaci dozvít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1682640" y="1767960"/>
            <a:ext cx="788688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ákladní informace k procesu uchovávání dokumentů a dokladů vzniklých při implementaci pomoci                z Evropského sociálního fondu a státního rozpočtu České republi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ákladní informace k tvorbě, vedení a ukládání dokument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de o informace charakteru doporučujícího,                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 návaznosti na vytvoření vlastních interních předpisů, přičemž tyto nesmí být v rozporu s platnou Příručkou pro příjemce a Rozhodnutím o poskytnutí dot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" descr=""/>
          <p:cNvPicPr/>
          <p:nvPr/>
        </p:nvPicPr>
        <p:blipFill>
          <a:blip r:embed="rId1"/>
          <a:stretch/>
        </p:blipFill>
        <p:spPr>
          <a:xfrm>
            <a:off x="1440" y="0"/>
            <a:ext cx="10079280" cy="755964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82640" y="301680"/>
            <a:ext cx="78868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4400"/>
            </a:b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Kdo je povinen archivovat?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1682640" y="1767960"/>
            <a:ext cx="7886880" cy="51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šechny subjekty zapojené                    do implementační struktury Operačního programu Vzdělávání pro konkurenceschopnost  (OP VK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příjemce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= subjekt realizující projekt       z OP V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1" descr=""/>
          <p:cNvPicPr/>
          <p:nvPr/>
        </p:nvPicPr>
        <p:blipFill>
          <a:blip r:embed="rId1"/>
          <a:stretch/>
        </p:blipFill>
        <p:spPr>
          <a:xfrm>
            <a:off x="1440" y="0"/>
            <a:ext cx="10079280" cy="755964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82640" y="136440"/>
            <a:ext cx="788688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Za co je zodpovědný příjemc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1682640" y="1351080"/>
            <a:ext cx="7886880" cy="56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marL="398520" indent="-3013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8520" indent="-3013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ajišťuje archivaci písemností a dokumentů spojených s projek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8520" indent="-3013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avazuje i dodavatele, aby umožnil všem subjektům oprávněným k výkonu kontroly provést kontrolu dokladů souvisejících s plněním zakázky pro projekt, a to po dobu danou právními předpisy ČR k jejich archivac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8520" indent="-30132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odavatel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= osoba povinná spolupůsobit dle zákona č. 563/1991 Sb., o účetnictví, a zákona č. 235/2004 Sb., o dani z přidané hodnoty, je povinen uchovávat doklady spojené s dodávkou a spolupůsobit při kontrole dle zákona č. 320/2001 Sb. o finanční kontrole bez omezení, pokud k tomu bude vyzvá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8520" indent="-3013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8520" indent="-30132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8520" indent="-3013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8520" indent="-30132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98520" indent="-30132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98520" indent="-30132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98520" indent="-30132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98520" indent="-30132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98520" indent="-30132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1" descr=""/>
          <p:cNvPicPr/>
          <p:nvPr/>
        </p:nvPicPr>
        <p:blipFill>
          <a:blip r:embed="rId1"/>
          <a:stretch/>
        </p:blipFill>
        <p:spPr>
          <a:xfrm>
            <a:off x="1440" y="0"/>
            <a:ext cx="10079280" cy="755964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682640" y="136440"/>
            <a:ext cx="788688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Co je archivace dokumentů a da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1682640" y="1351080"/>
            <a:ext cx="7886880" cy="56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uložení těch dokumentů,  jejichž oběh byl ukončen, zkontrolován   a vyhodnocen, pro možnost jejich opětovného použití a rychlého přístupu   k ni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ŘO doporučuje všem příjemcům, aby stanovili jednu osobu zodpovědnou za vedení a spravování „předběžného archivu“ realizovaného projektu dle těchto archivačních pravidel – tato odpovědnost nemusí být její jediná, vedení a spravování archivu může být její vedlejší činností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1" descr=""/>
          <p:cNvPicPr/>
          <p:nvPr/>
        </p:nvPicPr>
        <p:blipFill>
          <a:blip r:embed="rId1"/>
          <a:stretch/>
        </p:blipFill>
        <p:spPr>
          <a:xfrm>
            <a:off x="1440" y="0"/>
            <a:ext cx="10079280" cy="75596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39720" y="279360"/>
            <a:ext cx="7886880" cy="100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Jaká jsou základní pravidla archivace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1682640" y="1564920"/>
            <a:ext cx="7886880" cy="50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u příjemce a partnera/ů, v případě že projekt má partnera/y, jsou uloženy všechny originály doklad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uschování a zabezpečení před ztráto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šechny účetní dokumenty a smluvní písemnosti musí být uloženy na jednom místě, z důvodu zpřístupnění jednotlivých dokladů v případě k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ruhopisy některých dokumentů, případně ověřené fotokopie jsou uloženy u ŘO a F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1" descr=""/>
          <p:cNvPicPr/>
          <p:nvPr/>
        </p:nvPicPr>
        <p:blipFill>
          <a:blip r:embed="rId1"/>
          <a:stretch/>
        </p:blipFill>
        <p:spPr>
          <a:xfrm>
            <a:off x="1440" y="0"/>
            <a:ext cx="10079280" cy="755964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611000" y="136440"/>
            <a:ext cx="7886520" cy="12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Při použití IT </a:t>
            </a:r>
            <a:br>
              <a:rPr sz="3600"/>
            </a:b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se archivací myslí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1682640" y="1351080"/>
            <a:ext cx="788688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ytváření kopií dokumentů a jejich ukládání na různá místa disku PC nebo na další nosiče dat (CD-R, DVD, příp. další), a to z důvodů, např.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škození pevných disků počítače, případně jiné poruchy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dcizení techniky, případně jejího zničení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eúmyslného vymazání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eúmyslné aktualizace dat a informac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1" descr=""/>
          <p:cNvPicPr/>
          <p:nvPr/>
        </p:nvPicPr>
        <p:blipFill>
          <a:blip r:embed="rId1"/>
          <a:stretch/>
        </p:blipFill>
        <p:spPr>
          <a:xfrm>
            <a:off x="1440" y="0"/>
            <a:ext cx="10079280" cy="755964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611000" y="707760"/>
            <a:ext cx="788652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Co musíte uděla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1682640" y="1493640"/>
            <a:ext cx="7886880" cy="51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kumenty v digitální podobě určené ke skartačnímu řízení musí být opatřeny metadaty podle národního standardu pro elektronické systémy spisové služby – není-li tomu tak, převedou se po uzavření spisu          do analogové podoby (§ 69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metadata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= data popisující souvislosti, obsah a strukturu dokumentů a jejich správu v průběhu čas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avidelně (min.1x za dva roky) kontrolovat stav médií k zálohování a zálohovacích mechani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ři archivovaní a zálohování vždy porovnat  zálohovaná data s originálem – verifik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ajistit trvalost uložených dat s ohledem na použitá média v průběhu stanovené archivační do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1" descr=""/>
          <p:cNvPicPr/>
          <p:nvPr/>
        </p:nvPicPr>
        <p:blipFill>
          <a:blip r:embed="rId1"/>
          <a:stretch/>
        </p:blipFill>
        <p:spPr>
          <a:xfrm>
            <a:off x="1440" y="0"/>
            <a:ext cx="10079280" cy="755964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682640" y="301320"/>
            <a:ext cx="7886880" cy="183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Kdo je orgánem s právem náhledu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1682640" y="2136600"/>
            <a:ext cx="7886880" cy="461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úředníci nebo pověření zástupci Komise, Evropské investiční banky, Evropského účetního dvora, Evropského úřadu pro potírání podvodného jednání (OLAF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ezávislé auditní orgá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věření zaměstnanci Platebního a certifikačního orgánu (PC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věření zaměstnanci ŘO – Sekce řízení Operačních programů EU (O 41, 42, 46), pracovníci věcných útvarů přizvaní na kontrolu pracovníky Odboru CERA, Odboru řízení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OP VK a Odboru T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auditní orgány Ř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ejvyšší kontrolní úřad (NKÚ), Ministerstvo financí ČR a finanční úřa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řípadně další orgány s pověřením ke kontrole (FÚ, ÚHOS apod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gh</cp:lastModifiedBy>
  <dcterms:modified xsi:type="dcterms:W3CDTF">2009-11-18T11:21:02Z</dcterms:modified>
  <cp:revision>158</cp:revision>
  <dc:subject/>
  <dc:title>Snímek 1</dc:title>
</cp:coreProperties>
</file>