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6FE5B-CA45-41FE-9469-C26ECEBC546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8FADF-8EB4-459B-8477-7E510A587BC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F1A10-5754-4269-9953-B1878F9CF89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DDD0B-4F80-4DFE-82AA-8982E2A94C8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C38F-F0BD-476B-90AB-7A8BF987645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CCB85-6D71-427C-B740-05AC7A94AA5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ECB8C-D012-451E-A939-4079B47F5CC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33462-D673-4F6E-9ACB-398ED359112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168BF-C4D5-4825-BDE5-8FCB7E3B4CF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BDA78-FA4C-4E79-A8AA-7B58052FD3B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2DD7D-007D-40DD-B50A-AA7979CC76E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D0144-1AC7-4EF9-B19B-511D01C70A4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0B088-8B06-4C35-B14B-5CF2A916C54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F68C2-F5A1-4D07-BB68-20218501CA6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66DD8-7D71-447D-B6E9-A99DEC324EA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53389-11E5-4F03-8540-5F9040EFC6B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D630F-8DF9-4799-BC0E-7AB24983663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5FC-1A75-4063-BB93-33D10327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923-EC7C-4247-A389-90B92B1B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AD4-4745-4C01-8046-6F987AC6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56E-540A-4398-A7F6-A6F22953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BF4-00B8-4534-B567-3321C086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0FF-0217-409D-8932-0CC06285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E3A-9C80-406E-897E-62EEA3BA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849-D6AB-430E-B399-E54F7D65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07E-D761-447B-8349-4A3FB60B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E82-219D-4487-8A22-65243C49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8D6-9C99-4CFF-8987-9CB7FBA8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D0A-E4AD-4A5A-A731-BCD4046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020B66-C8B8-49D8-94FC-26D557729F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ké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procesu 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, a zákona č. 235/2004 Sb., o dani z přidané hodnoty, je povinen uchovávat doklady spojené s dodávkou a spolupůsobit při kontrole dle zákona č. 320/2001 Sb.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21:02Z</dcterms:modified>
  <cp:revision>158</cp:revision>
  <dc:subject/>
  <dc:title>Snímek 1</dc:title>
</cp:coreProperties>
</file>