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D682E-359A-4068-A702-484C9393349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F1645-8866-451C-9F22-0BFB21CA2C7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4B24C-918E-4BD1-8884-904831DAE06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0D605-C2C2-4D53-BB45-E50912B0772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4A4AB-54A0-4B16-814F-52D99176648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2E211-8F1E-45F6-8C97-719CABC55E4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D4222-490B-4D4E-B535-C796C611CBB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6422B-76DF-4FD8-9928-CC634965454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314A1-8B0B-4EAF-8D40-AE4B05FD7D5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1ADC7-B045-4C24-800F-206C77066F7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AF25E-895F-4C05-BF68-A739412F415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98667-AAF0-4B03-B4A7-59CE83036CD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A7B1B-A4C7-4670-8365-22BC952DC5B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D058E-DB7C-4F10-908F-B066DF2A529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9D714-9C84-445F-B3B0-B4F51CC80B1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01EE0-3F56-4783-BA22-37C30303D34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CD2DF-A2F5-4788-A00F-6CC2062E713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499-DA2C-44D2-89BC-385E568A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D26-B436-4602-9ACC-356AFC5E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14C-12A5-4B7F-9E9E-825D54E3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DB2-DBAB-4AAF-A013-2A901B67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FED-D72C-4755-A8EC-7EB463EF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AED-EC26-49AC-A0FC-91AE4BEF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5D2-5353-4D31-BCFA-F6676D74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892-E2FB-4EB7-A069-3C9484D0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E2F7-4120-4B06-9D1E-8BEC7113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533-84B0-4E51-B380-F951D636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9D6-2E47-46A1-BADD-22C966A0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56D-EE42-4B5A-8330-73C656E3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2D0470-4790-4F37-96AE-2E9A98C593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cs-CZ" sz="6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2279160"/>
            <a:ext cx="7886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Arial"/>
              </a:rPr>
              <a:t>Helena Matas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aké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bude zajímat orgány  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2136240"/>
            <a:ext cx="78868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má příjemce zavedeny vhodné a přiměřené systémy pro dokladování projektových výdajů a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je vedena řádná archivace dokumentů souvisejících s projektem realizovaným               za podpory OP V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řípadě, že je v projektu zahrnut partner, proběhnou i u něho stejné kontroly jako u příjemce a dále u něj ověří plnění partnerství stanovené    ve schváleném projektu a uzavřeném smluvním vztahu mezi příjemcem a partne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 udržitelnost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é jsou stanoveny lhůty pro archivování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82640" y="1636200"/>
            <a:ext cx="788688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pro účely kontroly ze strany Evropské komise, Evropského účetního dvora, Nejvyššího kontrolního úřadu a dalších oprávněných osob archiv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 konce roku 2025,                          pokud český právní systém nestanovuje           lhůtu delš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30 let mzdové listy nebo účetní záznamy, které slouží pro důchodové zabezpe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artační znak bude v rozmezí – A/V/S /17 nebo 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archiv, V = výběr,S = stoupa/skar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 = délka uložení dokumentu před dalším zpracováním (počíná běžet 1. dnem následujícího roku, ve kterém byla vyřízena nebo pozbyla vý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82640" y="35100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82640" y="1708200"/>
            <a:ext cx="807264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 dokumentů a dokladů, které je potřeba uchovávat, se musí řídit zejména hlediskem prokazatelnosti, tzn.,  že je zapotřebí uchovávat všechny dokumenty a doklady způsobilé jednoznačně prokázat kontrolujícímu orgánu, že poskytnuté prostředky byly využit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souladu s účelem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zhodnutí o poskytnutí dotace je pro příjemce stanovena povinnost uchovávat dokumenty a doklady vztahující se k projektům odděleně, se zvláštní lhůtou a zvláštním režimem práce uvedené v Obecném n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onechá originály dokladů jako součást svého účetnictví, daňové evidence a ostatních evidencí a při jejich uchovávání se řídí českými právními předpisy a nařízeními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82640" y="1922400"/>
            <a:ext cx="7886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lady a záznamy o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záznamy a dokumenty týkající se výdajů a auditů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originály dokladů týkajících se implementace a čerpání z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é účetnictví s originálními účetními doklady, které prokazují uskutečnění uznatelných výdajů nebo na základě kterých se uznatelné výdaje reali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korespondenci s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ávy o výsledcích zadávacích řízení (výběr dodavatele) včetně související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pie zkontrolované, autorizované žádosti příjemce     o platbu, včetně pří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ly zápisů z provedených kontrol a potvr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schválení a příkaz k propla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ých výdajů projektu (podle finančních to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další dokumentaci vzniklou při implementaci z úrovně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egislativní ráme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82640" y="1564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499/2004 Sb.,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schválena novela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dne 28. května 2009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terým se mění zákon č. 499/2004 Sb., o archivnictví a spisové službě a o změně některých zákonů, ve znění pozdějších předpisů, a další související zákony (účinnost od 1. 7.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6/2004 Sb., o podrobnostech výkonu spisové služby, v platném 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5/2004 Sb., kterou se provádějí některá stanovení zákona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82640" y="1922040"/>
            <a:ext cx="7886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6600" spc="-1" strike="noStrike">
                <a:solidFill>
                  <a:srgbClr val="f3912c"/>
                </a:solidFill>
                <a:latin typeface="Arial"/>
              </a:rPr>
              <a:t>Děkuji za pozornos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lena.matasova@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.: +420 234 814 2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bil: +420 602 545 7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se v prezentaci dozví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procesu uchovávání dokumentů a dokladů vzniklých při implementaci pomoci                z Evropského sociálního fondu a státního rozpočtu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tvorbě, vedení a uklád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informace charakteru doporučujícího,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vaznosti na vytvoření vlastních interních předpisů, přičemž tyto nesmí být v rozporu s platnou Příručkou pro příjemce a Rozhodnutím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povinen archivov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chny subjekty zapojené                    do implementační struktury Operačního programu Vzdělávání pro konkurenceschopnost  (OP V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em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subjekt realizující projekt       z OP V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a co je zodpovědný příjem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e archivaci písemností a dokumentů spojených s projek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azuje i dodavatele, aby umožnil všem subjektům oprávněným k výkonu kontroly provést kontrolu dokladů souvisejících s plněním zakázky pro projekt, a to po dobu danou právními předpisy ČR k jejich archiv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a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soba povinná spolupůsobit dle zákona č. 563/1991 Sb., o účetnictví, a zákona č. 235/2004 Sb., o dani z přidané hodnoty, je povinen uchovávat doklady spojené s dodávkou a spolupůsobit při kontrole dle zákona č. 320/2001 Sb. o finanční kontrole bez omezení, pokud k tomu bude vyzv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archivace dokumentů a d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ložení těch dokumentů,  jejichž oběh byl ukončen, zkontrolován   a vyhodnocen, pro možnost jejich opětovného použití a rychlého přístupu   k 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O doporučuje všem příjemcům, aby stanovili jednu osobu zodpovědnou za vedení a spravování „předběžného archivu“ realizovaného projektu dle těchto archivačních pravidel – tato odpovědnost nemusí být její jediná, vedení a spravování archivu může být její vedlejší č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9720" y="27936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á jsou základní pravidla archiva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říjemce a partnera/ů, v případě že projekt má partnera/y, jsou uloženy všechny originály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chování a zabezpečení před ztrá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účetní dokumenty a smluvní písemnosti musí být uloženy na jednom místě, z důvodu zpřístupnění jednotlivých dokladů v případě k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opisy některých dokumentů, případně ověřené fotokopie jsou uloženy u ŘO a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000" y="13644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i použití IT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e archivací mysl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2640" y="1351080"/>
            <a:ext cx="78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kopií dokumentů a jejich ukládání na různá místa disku PC nebo na další nosiče dat (CD-R, DVD, příp. další), a to z důvodů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škození pevných disků počítače, případně jiné poruch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izení techniky, případně jejího znič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ho vymaz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 aktualizace dat 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1000" y="707760"/>
            <a:ext cx="78865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musíte uděl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49364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y v digitální podobě určené ke skartačnímu řízení musí být opatřeny metadaty podle národního standardu pro elektronické systémy spisové služby – není-li tomu tak, převedou se po uzavření spisu          do analogové podoby (§ 6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ata popisující souvislosti, obsah a strukturu dokumentů a jejich správu v průběhu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ě (min.1x za dva roky) kontrolovat stav médií k zálohování a zálohovacích mech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archivovaní a zálohování vždy porovnat  zálohovaná data s originálem – ver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stit trvalost uložených dat s ohledem na použitá média v průběhu stanovené archivační d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orgánem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2136600"/>
            <a:ext cx="788688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ředníci nebo pověření zástupci Komise, Evropské investiční banky, Evropského účetního dvora, Evropského úřadu pro potírání podvodného jednání (OLA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ávislé auditní org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Platebního a certifikačního orgánu (P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ŘO – Sekce řízení Operačních programů EU (O 41, 42, 46), pracovníci věcných útvarů přizvaní na kontrolu pracovníky Odboru CERA, Odboru řízení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 VK a Odboru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ní orgány Ř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kontrolní úřad (NKÚ), Ministerstvo financí ČR a finanční úř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adně další orgány s pověřením ke kontrole (FÚ, ÚHOS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21:02Z</dcterms:modified>
  <cp:revision>158</cp:revision>
  <dc:subject/>
  <dc:title>Snímek 1</dc:title>
</cp:coreProperties>
</file>