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6E774-B275-4A61-B1FC-79168A6D69F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9113C-B459-4EFF-98D6-4690FC6EB0A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6FD41-9318-47F6-97B0-CE8B364289D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B3459-DAB7-4CAC-AFFF-6D494862A46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6D1F9-F78C-4EED-98AF-C25FB51DF3E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B7155-6C62-40AA-AF3C-19A65653996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2700A-5CBB-4AD1-92DD-DDBF1D4A466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0E852-998E-4EC0-B9E3-3F8B2EE3942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8B264-4549-484D-8CEF-73423C8C4FA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B0354-9D2B-4D57-97B2-C63201858F6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E40F5-9F6E-48DC-97A0-94A358292D1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5FD67-D463-4B7F-9CED-172B3585AC3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D78D0-6202-4AA2-A778-F1022F4B01F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62FEE-B44F-4BA5-9AF1-3D7982B26C1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A9860-4DB0-4A0E-A020-68B786D7392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51980-DCF9-4AE2-8AE2-4D5749EE30D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56E41-D6AA-4CA4-98BA-96F86D89A17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15E-C891-4A5F-ACB0-49483A2F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652-218C-4A30-BCF3-4DD43873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89B-9070-4961-8302-C5EF3BF7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1B0-96D7-4F51-9FF4-4B37CDAC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509-CF0C-4F23-A346-01F8C905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920-6506-40E1-9796-446E466E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E6D-0C76-4542-9627-85727F52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AC2-238F-466B-A851-EF854330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B45-16EC-443E-A939-26F7463F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6CD-2000-4E61-B393-527F02C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B50-B075-4CDE-A441-A2066ABB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575-7607-43A9-87B6-08141C2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27CB67-9DA4-4D05-AA60-9F31D7349D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aké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procesu 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, a zákona č. 235/2004 Sb., o dani z přidané hodnoty, je povinen uchovávat doklady spojené s dodávkou a spolupůsobit při kontrole dle zákona č. 320/2001 Sb.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21:02Z</dcterms:modified>
  <cp:revision>158</cp:revision>
  <dc:subject/>
  <dc:title>Snímek 1</dc:title>
</cp:coreProperties>
</file>