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9.11.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0560" y="850680"/>
            <a:ext cx="49546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AF865-C046-4AFD-B03C-DC867C4E2F8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9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441C3-FB50-42E4-82A6-8B15E128E78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475B8-6031-47A0-BA0D-E9B6C796D50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o dále podepisuje MZ - v dalších prezentací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8E203-0D4E-4F9D-8BDD-478B6ECAFF0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19A49-29C4-47E6-AC7D-9D00FA4CC97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CD8FF-F4C4-4FFC-A89A-7F9128F82C2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AA394-DBA5-4ED2-B25A-D3E5CB2AB17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105A0-A61C-4939-9120-654BCD2BB59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40A92-3BB5-45C5-88B9-FD83EC4762A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4DBE8-1975-498E-99B6-D6343B02BB3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24118-16BA-48E6-8E82-6AFD689BA96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97FD5-0DEC-4619-9BC9-B1C7C8E564B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E8F-4155-4BFA-81ED-CFCB771F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068-5E0C-4A3A-8FFD-1D79ADDA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976-B30C-4E21-83FC-69BC1C7B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D39-814F-40F3-A4DB-4EFBB582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1DB-E1C6-4E40-A6BF-363DDF8A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544-338D-4087-AD9B-6D1793AF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A44-34A7-4349-8103-43B074D4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0D2-5457-4035-82BC-92BE44E5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3ED-A39F-43AE-B928-02C1244F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D3F-3873-4C43-AFB9-0CFC0DE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6E3-9498-4FEB-AB81-FBB29719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AC3-858C-4A4A-9537-E95F3D1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A9AB21-57E5-43A5-BA11-065AEF940C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o podepisuje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779120"/>
            <a:ext cx="78152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žádost o platb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odepisuje statutární zástupce nebo oprávněná osoba (přiložené pověření statutárního zástupce uvedeného v právním akt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zor: datum podpisu statutárního zástupce nemůže být dřívější než datum vyhotovení zpráv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47:23Z</dcterms:modified>
  <cp:revision>96</cp:revision>
  <dc:subject/>
  <dc:title>Snímek 1</dc:title>
</cp:coreProperties>
</file>