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4273-B6F8-4335-AA54-4A66BFFDB09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3500-739B-4E5C-839F-009FAB46CF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7827-B973-4DAE-82CC-04F6FE6F4D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5650-96A2-42E0-A377-C5ABBFD3A9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8F78-5FF2-40F7-890C-2DDD8BF95B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B3A6-C7C4-466B-838C-5875EF58A1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ABAE-E98C-47AF-BE4D-13DA26086B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8124-B5ED-419C-9E69-E632F7F06A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C287-20E2-46F6-8EBF-F8DE001D4F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5DB2-E014-426A-A70A-B0EDF1F379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4C31-389D-459C-A26D-1AB45F650C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D25C-148E-4349-8370-9BEA3F95F3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CF26-298D-44BD-AC56-B7ADD31342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FEA0-2B89-4DA5-A10F-757CC383B8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3070-C68B-47A3-B7AB-3F89C23637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666C-F91F-4116-A237-74102392EE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B4BB-0292-4446-B4FB-992C0174FF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D38E-8DFA-4C91-83BE-4611584CF6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142560"/>
            <a:ext cx="6357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429000"/>
            <a:ext cx="700056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320" y="285480"/>
            <a:ext cx="7143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18T10:46:54Z</dcterms:modified>
  <cp:revision>257</cp:revision>
  <dc:subject/>
  <dc:title>Snímek 1</dc:title>
</cp:coreProperties>
</file>