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19.11.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move the slide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BD13-42B6-4A7E-8009-F093CCCABBE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E678-B050-4330-B299-DA67138AE9F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Uvádějte informace o všech prováděných i již provedených kontrolách projektu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v průběhu sledovaného období, za které je předkládána tato monitorovací zpráva, a to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všemi subjekty oprávněnými ke kontrole (např. poskytovatel podpory - ŘO/ZS, EK,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interní audit MPSV). Další subjekty oprávněné ke kontrole v rámci OP VK – MF, NKÚ, ÚOHS,…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FD91-605A-415E-9F42-CD79EED78E0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podstatné změny v rozpočtu, např:. o změnu kontaktních údajů, vytvoření nové podpoložky v rozpočtu do výše stanoveného limitu, změnu časového harmonogramu projektu týkající se jednotlivých aktivit atd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íjemce je oprávněn projekt upravit a pozměnit bez předchozího souhlasu poskytovatele pouze za předpokladu, že taková změna neovlivní dosažení cílů projektu, včetně naplňování schválených MI (= ukazatelé výstupů a výsledků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ovedené nepodstatné změny musí být vždy popsány v nejbližší M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D08E-A989-40B7-8B2F-0472B242D3D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Sledování výsledků, výstupů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B213-1AB2-431C-90EC-8C2ACF6FB3F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U jednotlivých příloh, kde je vyžadován podpis doporučujeme napsat nejprve jméno příslušné osoby hůlkovým písmem a poté samotná podp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BFA9-5169-402A-9C28-24493B75D06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Reg. číslo – uveďte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projektu – celý název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íslo OP = číslo OP VK, vždy stejné pro všechny prioritní osy a oblasti podp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íslo prioritní osy = číslo prioritní osy, v rámci které je projekt realizová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prioritní osy dle Operačního programu (PO 1 = Počáteční vzdělávání, PO 2 = Terciární vzdělávání, výzkum a vývo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íslo výzvy = číslo výzvy, v rámci které je projekt realizován, je vidět z registračního čísla, které je uvedeno v Rozhodnut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výzvy = Žádost o finanční podporu z OP VK – IP – oblast podpory 2.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ód indikátoru – stanoveno ve výzvě + bude vyvěšeno na stránkách MŠMT v záložce Monitorovací zprá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indikátoru – v Žádosti, případně v příloze č. 7  Rozhodnutí (= Prohlášení o změnách v projekt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ěrná jednotka – stanoveno v Žádosti (např. počet osob nebo obecně počet např. inovovaných kurzů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sažená hodnota – ke stanovenému datu vypracování MZ, vyplňuje se jako kumulativní hodno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730F-278C-49AC-8DDE-D4E857195B8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ód indikátoru – stanoveno ve výzvě + bude vyvěšeno na stránkách MŠMT v záložce Monitorovací zprá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indikátoru – v Žádosti, případně v příloze č. 7  Rozhodnutí (= Prohlášení o změnách v projekt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ěrná jednotka – stanoveno v Žádosti (např. počet osob nebo obecně počet např. inovovaných kurzů), případně v příloze č. 7 – Prohlášení o změnách v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sažená hodnota – ke stanovenému datu vypracování MZ, vyplňuje se jako kumulativní hodnota – načítává 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 datu uvedenému na konci této přílohy = datum vypracování tabulky, př: v 1 MZ je uvedeno např. 20 úspěšně podpořených osob, za 2 monitorovací období bylo podpořeno 10 osob, tzn. do 2 monitor. Zprávy píši celkovou  hodnotu od začátku projektu, tzn. 30 oso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vinnost sledovat naplňování MI podle podrobnějšího členění (např. dle pohlaví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1836-F25F-4A10-AA99-F0B901EA873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Tabulka dostupná na stránkách MŠM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Reg. číslo – uveďte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projektu – celý název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yhlašovatel zadávacího řízen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řadové číslo zadávacího řízení – mělo by být shodné s číslem, uvedeným v monitorovací zprávě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dodavatele – název vybraného dodavatele tak, jak je uvedeno v uzavřené smlouv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IČ dodavatele – uveďte 8místní IČ vybraného dodavatele tak, jak je uvedeno v uzavřené smlouv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Typ zadávacího řízení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tum podpisu smlouvy s dodavatelem – tak, jak je uvedeno ve smlouv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astá chyba: hodnota MI musí být uváděna kumulativně v návaznosti na předchozí MZ, nebývá často dodržová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92A6-7E6C-444E-91EF-AC3F46C6777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devzdává se za celý projekt, tzn. obsahuje zadávací řízení příjemce i jednotlivých partner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Pokud je ZŘ zrušeno, nevyplňuje se do této přílohy x pouze do textu věcné části MZ – viz. tabulka č.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9DF9-0BF1-48F7-AAEE-E93EA62E30D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tum zahájení realizace projektu: jedná se o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datum akceptace, popřípadě, datum zahájení realizace projektu,  je-li pozdější než datum akcep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Ukázat na Rozhodnut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3739-D059-45BE-AA6C-C55BA813E74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šechny uvedené doklady musí být poskytovateli předloženy nejpozději s 1 ŽoP po ukončení výběru, poskytovateli se předkládají kopie uvedených dokumentů, originály uchovává příjemce a předkládají se na vyžádání kontrolním subjektů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o kontrolu na místě jsou důležité i doklady prokazující odeslání oznámení o zahájení VŘ dostatečnému počtu uchazečů (dodejkou, podacím lístkem, emailovou doručenkou, předávacím protokolem) + zadávací dokumen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klad o uveřejnění výzvy na stránkách MŠMT, tedy při plnění nejméně 500 000 Kč bez DPH – vytištěním příslušné stránky pomocí funkce Printscree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smlouva včetně dodatků uzavřená s vybraným dodavate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ílohou zápisu je čestné prohlášení  o nepodjatosti a mlčenlivosti, zápis musí obsahovat náležitosti uvedené v PpP – zejména seznam posouzených a vyřazených nabídek; zdůvodnění vyloučení předložené nabídky; popis způsobu hodnocení nabídek; výsledek hodnocen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astá chyba: zadávací řízení uvedená v příslušném bodě MZ neodpovídají monitorovanému obdob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91FB-0E87-40A4-95D7-09C28C40F26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dává se v případě, kdy se mění harmonogram klíčových aktivit nebo začátek či konec realizace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potřeby je možné přidat tabulku pro následující rok, kterého se dotkne změna schváleného harmonogramu projektu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dává se při jakékoliv změně realizace KA oproti schválenému projekt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této prezentaci jsem již neudávala, je to v soubor xls. ,aktivní list, je možné s tím pracov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80F9-4912-4512-93BD-7B323D939F0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2057400" indent="-228600">
              <a:buClr>
                <a:srgbClr val="000000"/>
              </a:buClr>
              <a:buFont typeface="Calibri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Rozsah oprávnění – co je osoba oprávněná podepisovat a schvalov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Calibri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latnost – datum platnosti – od kdy, případně do kdy, pokud má pověření omezenou platn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63BE-5565-403E-A45F-397EC12C939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asto se opakující chyby v MZ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změny realizace KA není dodán přepracovaný harmonogram = příloha č. 10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dostatečně popsány skutečnosti v KA, některé skutečnosti zařazené do jednotlivých KA neodpovídají obsahu 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tum vypracování MZ je pozdější než datum podpisu statutárního zástupce, u podpisu statutárního zástupce chybí místo, případně razítk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onitorovací období  neodpovídá délce stanovené v projektu (je delší než 3 měsí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 VŘ nejsou doloženy všechny relevantní dokumen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Chybně zařazená VŘ v části vyhlášená nebo uzavřená VŘ v monitorovacím obdob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chybí identifikace projektu – i na nepovinné přílohy je třeba uvádět základní identifikační údaje, datum vypracování, jméno a podpis osoby, která přílohu vypracova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8133-5C2F-4F22-A457-09B3AEF13B0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imořádná MZ – při předkládání mimořádné ŽoP (termín následující průběžné MZ se pak řídí podle mimořádné MZ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: 1.6.2009 – zač. realizace, tzn. že 1. monitorovací období končí 31.8.2009 a předloženo musí být nejpozději do 30.9.2009. 2 MZ popisuje období 1.9.-30.11.2009 x chci podat mimořádnou ŽoP, tím pádem i mimořádnou ŽoP, zkrátím předchozí monitorovací období od 1.9.-30.10  a další počítám od tohoto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Závěrečná MZ – předkládá se nejpozději do 2 měsíců po ukončení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A0CA-4F3E-44ED-8CC0-DE699AAB300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poručujeme dokládat vzorové přihlášky, pozvánky, programy akcí. Obsah dokládání věcné části je na zvážení příjemce a partnera, jak mají nastaveno v samotné žádosti. Těmito přílohami příjemce prezentuje důležité, významné metody v realizaci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B1CE-075B-46C0-B3B3-16256D0D65F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Stačí pouze vypsat, zda se jedná o VŘ za dodávku, službu nebo stavební práce, název VŘ, případně kdy byla vyhlášena, pod jakým číslem byla zveřejněna, na jakou částku. Do poznámek je možné uvést, kdy budou VŘ uzavřen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2EDE-E18C-4F85-9A0B-95D6BC11A74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Zástupný symbol pro datum 3"/>
          <p:cNvSpPr/>
          <p:nvPr/>
        </p:nvSpPr>
        <p:spPr>
          <a:xfrm>
            <a:off x="1714680" y="6072120"/>
            <a:ext cx="7072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Zástupný symbol pro číslo snímku 5"/>
          <p:cNvSpPr/>
          <p:nvPr/>
        </p:nvSpPr>
        <p:spPr>
          <a:xfrm>
            <a:off x="4286160" y="6286680"/>
            <a:ext cx="15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edit the title text forma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3912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Zástupný symbol pro číslo snímku 5"/>
          <p:cNvSpPr/>
          <p:nvPr/>
        </p:nvSpPr>
        <p:spPr>
          <a:xfrm>
            <a:off x="7358040" y="6278400"/>
            <a:ext cx="1500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7f7f7f"/>
                </a:solidFill>
                <a:latin typeface="Calibri"/>
              </a:rPr>
              <a:t>11. 6.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ástupný symbol pro číslo snímku 5"/>
          <p:cNvSpPr/>
          <p:nvPr/>
        </p:nvSpPr>
        <p:spPr>
          <a:xfrm>
            <a:off x="4286160" y="6286680"/>
            <a:ext cx="15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ástupný symbol pro text 8"/>
          <p:cNvSpPr/>
          <p:nvPr/>
        </p:nvSpPr>
        <p:spPr>
          <a:xfrm>
            <a:off x="1714680" y="6286680"/>
            <a:ext cx="3492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7f7f7f"/>
                </a:solidFill>
                <a:latin typeface="Calibri"/>
              </a:rPr>
              <a:t>Ing. Veronika Sup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veronika.supova@msmt.cz" TargetMode="External"/><Relationship Id="rId2" Type="http://schemas.openxmlformats.org/officeDocument/2006/relationships/hyperlink" Target="mailto:cera@msmt.cz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99760" y="1214280"/>
            <a:ext cx="7000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Věcná část Monitorovací zprávy</a:t>
            </a:r>
            <a:br>
              <a:rPr sz="8000"/>
            </a:b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3" name="TextovéPole 2"/>
          <p:cNvSpPr/>
          <p:nvPr/>
        </p:nvSpPr>
        <p:spPr>
          <a:xfrm>
            <a:off x="3429000" y="492912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3912c"/>
                </a:solidFill>
                <a:latin typeface="Calibri"/>
              </a:rPr>
              <a:t>Ing. Veronika Sup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ovéPole 4"/>
          <p:cNvSpPr/>
          <p:nvPr/>
        </p:nvSpPr>
        <p:spPr>
          <a:xfrm>
            <a:off x="1714680" y="6215040"/>
            <a:ext cx="72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8. Veřejná podpora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071800" y="1214280"/>
          <a:ext cx="5643360" cy="2438640"/>
        </p:xfrm>
        <a:graphic>
          <a:graphicData uri="http://schemas.openxmlformats.org/drawingml/2006/table">
            <a:tbl>
              <a:tblPr/>
              <a:tblGrid>
                <a:gridCol w="3316320"/>
                <a:gridCol w="622080"/>
                <a:gridCol w="627120"/>
                <a:gridCol w="622440"/>
                <a:gridCol w="455400"/>
              </a:tblGrid>
              <a:tr h="4870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řejná podpora poskytnutá přímo příjemc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444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veřejné podpor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4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row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še veřejné podpory poskytnuté příjemc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kytování veřejné podpory dalším subjektů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444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et čerpaných veřejných podp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4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gridSpan="5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up při poskytování veřejné podpory dalším subjektů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gridSpan="5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2" name="TextovéPole 6"/>
          <p:cNvSpPr/>
          <p:nvPr/>
        </p:nvSpPr>
        <p:spPr>
          <a:xfrm>
            <a:off x="2071800" y="3841920"/>
            <a:ext cx="5786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áložku vyplňujte pouze v případě, kdy vám, partnerovi projektu nebo dalším subjektům byla v rámci projektu poskytnuta veřejná podpora podle blokových výjimek nebo podle pravidla de minim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- Záložku také vyplní příjemce/partner finanční podpory, který poskytuje některé služby podle blokových výjimek nebo pravidla de minim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- Podrobnosti o poskytnutí a čerpání jednotlivých veřejných podpor uveďte v příloze č. 3A Monitorovací zprávy a/nebo v příloze č. 3B Monitorovací zpráv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14680" y="357120"/>
            <a:ext cx="6357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9. Kontrola na místě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857240" y="1143000"/>
          <a:ext cx="7000920" cy="5459400"/>
        </p:xfrm>
        <a:graphic>
          <a:graphicData uri="http://schemas.openxmlformats.org/drawingml/2006/table">
            <a:tbl>
              <a:tblPr/>
              <a:tblGrid>
                <a:gridCol w="2214720"/>
                <a:gridCol w="4786200"/>
              </a:tblGrid>
              <a:tr h="42696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ola provedená v monitorovaném obdob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4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Označte křížkem „X“ ANO pokud byla/je ve sledovaném období provedena/prováděna kontrola projektu. (v opačném případě označte křížkem „X“ NE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subjektu, který provádí/provedl kontrol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sný název subjektu/subjektů, který kontrolu provádí/proved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11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ontrol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ontroly podle Pověření ke kontrole (Protokolu o výsledku kontroly, případně podle Oznámení o kontrole apod.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kontro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, kdy byla kontrola zahájena. Uvádějte datum podle Protokolu o výsledku kontroly. Pokud kontrola ještě nebyla ukončena, uveďte tuto skutečnost do poznámk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13480">
                <a:tc rowSpan="2"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pravná opatření splněn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NE                ČÁSTEČNĚ                NEBYLA ULOŽE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85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plňujte pouze v případě ukončené kontroly. Označte křížkem „X“ relevantní odpověď (ANO, NE, ČÁSTEČNĚ, NEBYLA ULOŽENA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73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hůta ke splnění nápravných opat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5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nám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informace vztahující se k provedeným kontrolám, např. informaci o tom, že kontrola dosud probíhá, informaci o průběhu plnění nápravných opatření, apod. Uveďte hlavní zjištění z kontroly, uložená nápravná opatření, doporučení apod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14680" y="142560"/>
            <a:ext cx="6357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10. Podstatné a nepodstatné změny projektu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857240" y="1500120"/>
          <a:ext cx="7000920" cy="4892760"/>
        </p:xfrm>
        <a:graphic>
          <a:graphicData uri="http://schemas.openxmlformats.org/drawingml/2006/table">
            <a:tbl>
              <a:tblPr/>
              <a:tblGrid>
                <a:gridCol w="3500640"/>
                <a:gridCol w="3500280"/>
              </a:tblGrid>
              <a:tr h="274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statné změny v 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62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 případě podstatných změn projektu se postupuje podle Rozhodnutí o poskytnutí dotace a verze Příručky pro příjemce, která je uvedena ve výše jmenovaném dokumentu. 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vést, zda byla požadovaná změna poskytovatelem podpory odsouhlasena a zda byl vytvořen dodatek k Rozhodnutí o poskytnutí dota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odstatné změ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Formální změny v 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ěcné změny v 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a adresy pro doruč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a kontaktní oso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a názvu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smějí mít vliv na charakter projektu a dosažení cíl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y pracovně právního vztah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y realizačního týmu (rozdělení, slučování pozic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74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Změny rozpočtu v 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Vyplňují se do přílohy č. 9 Monitorovací zprá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11. Monitorovací indikát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928880" y="1500120"/>
          <a:ext cx="7000920" cy="4818240"/>
        </p:xfrm>
        <a:graphic>
          <a:graphicData uri="http://schemas.openxmlformats.org/drawingml/2006/table">
            <a:tbl>
              <a:tblPr/>
              <a:tblGrid>
                <a:gridCol w="7000920"/>
              </a:tblGrid>
              <a:tr h="428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oje dat pro monitorovací indikátory a komentá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3894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sažené hodnoty se vykazují pomocí tabulky v Excelu – viz Příloha č.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kazované indikátory se musí opírat o průkaznou evidenci vedenou příjemc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výkazy o provedené práci, prezenční listiny, certifikáty, atd. – tj. doklady, kterými můžete prokázat dosažené číselné hodno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zenční listi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dané certifiká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nástroje, které používáte v rámci projektu pro sledování monitorovacích ukazatelů – výstupů a výsledk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jetiny z informačního systém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99760" y="785880"/>
            <a:ext cx="700092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Přílohy věcné části Monitorovací zprávy</a:t>
            </a:r>
            <a:br>
              <a:rPr sz="8000"/>
            </a:b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642680" y="1499760"/>
            <a:ext cx="73580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onitorovací indikátory (Příloha č.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hled uzavřených zadávacích řízení              (Příloha č.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pracovaný harmonogram projektu   (Příloha č. 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dpisové vzory (Příloha č. 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ádost o schválení podstatných změn               ( Příloha č. 1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ovéPole 2"/>
          <p:cNvSpPr/>
          <p:nvPr/>
        </p:nvSpPr>
        <p:spPr>
          <a:xfrm>
            <a:off x="1714680" y="142920"/>
            <a:ext cx="66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79646"/>
                </a:solidFill>
                <a:latin typeface="Calibri"/>
              </a:rPr>
              <a:t>Seznam příloh – věcná část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42680" y="142560"/>
            <a:ext cx="63579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- Monitorovací indikát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643040" y="1143000"/>
          <a:ext cx="7143840" cy="5548320"/>
        </p:xfrm>
        <a:graphic>
          <a:graphicData uri="http://schemas.openxmlformats.org/drawingml/2006/table">
            <a:tbl>
              <a:tblPr/>
              <a:tblGrid>
                <a:gridCol w="1190520"/>
                <a:gridCol w="1506600"/>
                <a:gridCol w="424080"/>
                <a:gridCol w="1690560"/>
                <a:gridCol w="233208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e operačního programu a výz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operačního program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operačního program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ční program vzdělávání pro konkurenceschopn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ioritní os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1 nebo PO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ioritní os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áteční vzdělávání/Terciární vzdělávání, výzkum a výv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výzv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výzvy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vedeno v Žádosti (viz Příloha č. 1 Rozhodnut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v ke dni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viduální projekt ostat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datum, ke kterému jsou vyplněny dosažené hodnoty 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tupy a výsled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ód indikát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indikát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ěrná jednot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sažená hodno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14680" y="356760"/>
            <a:ext cx="6357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- Monitorovací indikát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856880" y="1428480"/>
            <a:ext cx="70009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ód indikát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ázev indikát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ěrná jednot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sažená hodnota - ke stanovenému datu, kumulativní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atum = datum vypracování tabu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pis oprávněné osoby = podpis oprávněné osoby dle podpisového vzoru (viz. příloha č. 11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6357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2- Přehled uzavřených zadávacích řízení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643040" y="1785960"/>
          <a:ext cx="7358040" cy="4194000"/>
        </p:xfrm>
        <a:graphic>
          <a:graphicData uri="http://schemas.openxmlformats.org/drawingml/2006/table">
            <a:tbl>
              <a:tblPr/>
              <a:tblGrid>
                <a:gridCol w="882720"/>
                <a:gridCol w="1177920"/>
                <a:gridCol w="809640"/>
                <a:gridCol w="344520"/>
                <a:gridCol w="1052280"/>
                <a:gridCol w="1177920"/>
                <a:gridCol w="955800"/>
                <a:gridCol w="957240"/>
              </a:tblGrid>
              <a:tr h="3758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hled uzavřených zadávacích říz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hlašovatel zadávacího říz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jemce/part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 Z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dodava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Č dodava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zadávacího říz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podpisu smlouvy s dodavate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zakázky bez DP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zakázky s DP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58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                                                                                    …… Kč             …. Kč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= datum vypracování tabu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pis oprávněné osoby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dle podpisového vz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14680" y="356760"/>
            <a:ext cx="66434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2- Přehled uzavřených zadávacích řízení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856880" y="1571400"/>
            <a:ext cx="70009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stupná na 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smt.cz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zavřené zadávací řízení = podpis smlouvy s dodavate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lňuje se kumulativně – pokračování v číselné řadě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ikládá se ke každé MZ, ve které dochází k jakékoliv změ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42680" y="285840"/>
            <a:ext cx="62866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1. Údaje o projektu a Monitorovací zprávě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571760" y="1096920"/>
          <a:ext cx="7000920" cy="5546880"/>
        </p:xfrm>
        <a:graphic>
          <a:graphicData uri="http://schemas.openxmlformats.org/drawingml/2006/table">
            <a:tbl>
              <a:tblPr/>
              <a:tblGrid>
                <a:gridCol w="3500280"/>
                <a:gridCol w="3500640"/>
              </a:tblGrid>
              <a:tr h="853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     .     .     /    . .   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ojektu, tak jak je uvedeno v Rozhodnutí o poskytnutí dotace, např.: CZ.1.07/4.1.01/01.0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 tak, jak je uveden v Rozhodnutí o poskytnutí dota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273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ioritní os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ioritní osy OP VK, ve které je projekt realizován, např. 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finanční podpory [Kč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přidělené finanční podpory na projekt tak, jak je uvedena v Rozhodnutí o poskytnutí dota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853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ástka ESF [Kč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ástka financovaná z ESF. Tato částka je uvedena v Rozhodnutí o poskytnutí dotace v tab. č. 1, řádku aa) prostředky z ESF (§ 44 odst. 2 písm. f) rozpočtových pravide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řížové financování [Kč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še křížového financování tak, jak je uvedena v Rozhodnutí o poskytnutí dotace v tabulce č. 2, řádku 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269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zahájení realizace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zahájení realizace projektu tak, jak je uvedeno v Rozhodnutí o poskytnutí dotace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853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ukončení realizace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ukončení realizace projektu tak, jak je uvedeno v Rozhodnutí o poskytnutí dotace, případně datum uvedený v Dodatku k rozhodnut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2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ávního aktu (Rozhodnutí/Smlouvy/Opatřen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Rozhodnutí o poskytnutí dota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př. 07/17/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14680" y="356760"/>
            <a:ext cx="66434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2- Přehled uzavřených zadávacích řízení - dokladování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856880" y="2143080"/>
            <a:ext cx="7000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xt oznámení o zahájení Z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pis o posouzení a hodnocení podaných nabíd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mlouva s vybraným dodavate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xt oznámení o výsledku Z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63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0- Přepracovaný harmonogram projektu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785960" y="1714680"/>
          <a:ext cx="7143840" cy="4895640"/>
        </p:xfrm>
        <a:graphic>
          <a:graphicData uri="http://schemas.openxmlformats.org/drawingml/2006/table">
            <a:tbl>
              <a:tblPr/>
              <a:tblGrid>
                <a:gridCol w="1357200"/>
                <a:gridCol w="357120"/>
                <a:gridCol w="428760"/>
                <a:gridCol w="428760"/>
                <a:gridCol w="549000"/>
                <a:gridCol w="439920"/>
                <a:gridCol w="439560"/>
                <a:gridCol w="500400"/>
                <a:gridCol w="571320"/>
                <a:gridCol w="571680"/>
                <a:gridCol w="357120"/>
                <a:gridCol w="571320"/>
                <a:gridCol w="571680"/>
              </a:tblGrid>
              <a:tr h="370440"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pracovaný harmonogram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říjemce podp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íčová aktivita (2009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X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íčová aktivita (2010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X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63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1- Podpisové vz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071800" y="1785960"/>
          <a:ext cx="6060960" cy="3743280"/>
        </p:xfrm>
        <a:graphic>
          <a:graphicData uri="http://schemas.openxmlformats.org/drawingml/2006/table">
            <a:tbl>
              <a:tblPr/>
              <a:tblGrid>
                <a:gridCol w="1571400"/>
                <a:gridCol w="906480"/>
                <a:gridCol w="1094040"/>
                <a:gridCol w="1000080"/>
                <a:gridCol w="1488960"/>
              </a:tblGrid>
              <a:tr h="580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pisový vzor osob oprávněných  k podepisování a schvalování dokumentů a operací v rámci OP V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9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říjemce  finanční podpory/partn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0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 a příjm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sah oprávně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tn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p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714680" y="3429000"/>
            <a:ext cx="700056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ontak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Veronika Sup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veronika.supova@msmt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cera@msmt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57240" y="571320"/>
            <a:ext cx="621504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Děkuji za pozornos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1785960" y="500040"/>
          <a:ext cx="7000920" cy="5761080"/>
        </p:xfrm>
        <a:graphic>
          <a:graphicData uri="http://schemas.openxmlformats.org/drawingml/2006/table">
            <a:tbl>
              <a:tblPr/>
              <a:tblGrid>
                <a:gridCol w="2214720"/>
                <a:gridCol w="4786200"/>
              </a:tblGrid>
              <a:tr h="1066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 zprá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 předkládané monitorovací zprávy – číslujte postupně od začátku realizace projektu ve tvaru: číslo zprávy/rrrr, např.: 01/2009 – 1. monitorovací zpráva od počátku realizace projektu, předložená v roce 2009, následně 02/2009, 03/2009, 04/2009, 05/2010, 06/20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70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ované období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átek                                                      Kon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, která ohraničují období, ke kterému se vztahuje předkládaná Monitorovací zpráva ve tvaru dd/mm/rrrr; např. začátek: 01/05/2009; konec: 31/07/200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4936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zpráv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ůběžná                Závěrečná                Mimořádn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te křížkem „X“ o jaký typ předkládané zprávy se jedná  </a:t>
                      </a: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růběžná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pravidelná MZ předkládaná za období 3 měsíců realizace projektu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Závěrečná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 po ukončení projektu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Mimořádná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předkládaná mimo režim průběžné M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70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ádost o platb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        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te křížkem „X“ Ano pokud je zároveň s Monitorovací zprávou předkládána Žádost o platbu (pokud ne, označte křížkem „X“ Ne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6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vypracování zprá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, kdy bylo dokončeno vypracování monitorovací zprávy ve tvaru dd/mm/rrrr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o datum musí být </a:t>
                      </a: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nejpozději do 30 kalendářních dnů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d ukončení daného monitorovacího období. V případě nedodržení se jedná o porušení právního aktu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14320" y="285480"/>
            <a:ext cx="71434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2. Údaje o příjemci a zhotoviteli MZ 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928880" y="1214280"/>
          <a:ext cx="7000920" cy="5107320"/>
        </p:xfrm>
        <a:graphic>
          <a:graphicData uri="http://schemas.openxmlformats.org/drawingml/2006/table">
            <a:tbl>
              <a:tblPr/>
              <a:tblGrid>
                <a:gridCol w="2786040"/>
                <a:gridCol w="4214880"/>
              </a:tblGrid>
              <a:tr h="785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jem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říjemce finanční podpory z OP VK tak, jak je uveden v Rozhodnutí o poskytnutí dotace (pokud nedošlo např. Dodatkem ke změně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765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Č/DI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Č/DIČ příjemce finanční podpory z OP VK tak, jak je uvedeno v Rozhodnutí o poskytnutí dotace (případně Dodatk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9745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utární zástup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jméno a příjmení, funk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, příjmení a funkci statutárního zástupce příjemce finanční podpory tak, jak je uvedeno v Rozhodnutí o poskytnutí dotace (případně Dodatk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4760">
                <a:tc gridSpan="2"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hotovitel M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 a příjmení zhotovitele zpráv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, příjmení osoby, která MZ zpracovala a je schopna zodpovědět případné dotazy či poskytnout požadovaná doplněn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efonní číslo/F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uální telefonní číslo/fax na osobu, která MZ zpracovala a je schopna zodpovědět případné dotazy či poskytnout požadovaná doplněn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-ma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uální e-mail  na osobu, která MZ zpracovala a je schopna zodpovědět případné dotazy či poskytnout požadovaná doplněn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3. Realizované klíčové aktivity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857240" y="1071720"/>
          <a:ext cx="7000920" cy="5376600"/>
        </p:xfrm>
        <a:graphic>
          <a:graphicData uri="http://schemas.openxmlformats.org/drawingml/2006/table">
            <a:tbl>
              <a:tblPr/>
              <a:tblGrid>
                <a:gridCol w="3500640"/>
                <a:gridCol w="3500280"/>
              </a:tblGrid>
              <a:tr h="48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, tak jak je uvedeno v Žádosti (viz. příloha č. 1 Rozhodnutí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0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líčové aktivity, tak jak je uveden v Žádosti (viz. příloha č. 1 Rozhodnutí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dobí realizace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dobí, kdy byla klíčová aktivita realizována v daném monitorovacím obdob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7067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robný popis realizace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izace klíčové aktivity s ohledem na zapojení cílové skupiny, činnost realizačního týmu. V případě, že je společně s MZ předkládána i ŽoP, věnujte se dostatečně i popisu efektivnosti, účelnosti a hospodárnosti požadovaných výdaj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874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hodnocení a výsledky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ky, přínos pro cílovou skupinu apo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4634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émy při realizaci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 problémy, které nastaly při realizaci klíčové aktivity, popište také řešení daných problémů např. časově náročný proces financování projektu, problémy s realizací aktivit, neplnění indikátorů, nezájem cílové skupiny at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4. Další informace o realizaci projektu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714680" y="1571760"/>
          <a:ext cx="7000560" cy="2468520"/>
        </p:xfrm>
        <a:graphic>
          <a:graphicData uri="http://schemas.openxmlformats.org/drawingml/2006/table">
            <a:tbl>
              <a:tblPr/>
              <a:tblGrid>
                <a:gridCol w="7000560"/>
              </a:tblGrid>
              <a:tr h="274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 další skutečnosti týkající se jednotlivých kroků realizace projektu, které nejsou zahrnuty v popisu klíčových aktivit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daje týkající se řízení projektu včetně popisu nákladů na řízení projekt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žení projektového tým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 případě, že je monitorovací zpráva předkládána  bez žádosti o platbu informujte o důvod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5. Plánované klíčové aktivity projektu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000160" y="1643040"/>
          <a:ext cx="6357960" cy="4451400"/>
        </p:xfrm>
        <a:graphic>
          <a:graphicData uri="http://schemas.openxmlformats.org/drawingml/2006/table">
            <a:tbl>
              <a:tblPr/>
              <a:tblGrid>
                <a:gridCol w="3179880"/>
                <a:gridCol w="3178080"/>
              </a:tblGrid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, tak jak je uvedeno v Žádosti (v příloze č. 1 Rozhodnutí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A, tak jak je uveden v příloze Žádosti (v příloze č. 1 Rozhodnutí o poskytnutí dotace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07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dobí realizace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sledující monitorovací období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206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a cíl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 plánované klíčové aktivity s ohledem na zapojení cílové skupiny, činnost realizačního týmu, vazbu na rozpočet projektu a na plánovanou výši nové Žádosti o platbu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6. Publicita projektu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000160" y="1357200"/>
          <a:ext cx="6500880" cy="5092920"/>
        </p:xfrm>
        <a:graphic>
          <a:graphicData uri="http://schemas.openxmlformats.org/drawingml/2006/table">
            <a:tbl>
              <a:tblPr/>
              <a:tblGrid>
                <a:gridCol w="6500880"/>
              </a:tblGrid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zajištění publicity a informování o EU, ESF a o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66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, jakým způsobem jste ve sledovaném období informovali cílovou skupinu a širší veřejnost o Vašem projektu a jaké nástroje publicity jste využi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bové strán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štěné materi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diovizuální materi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lmové materi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agační předmě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ináře, kon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zerce v médiích (tisk, TV, rozhlas, internet, ostatní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né aktivity povinné publicity jsou uvedeny v příloze č. 1 Rozhodnutí o poskytnutí dota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ud je součástí MZ Žádost o platbu, popište náklady spojené s povinnou publicito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71400" y="285480"/>
            <a:ext cx="635796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7. Zadávací řízení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857240" y="785880"/>
          <a:ext cx="7000920" cy="5770440"/>
        </p:xfrm>
        <a:graphic>
          <a:graphicData uri="http://schemas.openxmlformats.org/drawingml/2006/table">
            <a:tbl>
              <a:tblPr/>
              <a:tblGrid>
                <a:gridCol w="1714680"/>
                <a:gridCol w="5286240"/>
              </a:tblGrid>
              <a:tr h="4266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DÁVACÍ ŘÍZENÍ (ZŘ) vyhlášená v monitorovaném období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85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Označte křížkem „X“ ANO pokud byla ve sledovaném období vyhlášena zadávací říz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Označte křížkem NE, pokud nebyla vyhlášen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1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vyhlášených ZŘ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ud jste označili křížkem „X“ ANO, stručně popište jednotlivá zadávací řízení vyhlášená ve sledovaném období (zda se jedná o dodávku zboží nebo služeb, předpokládanou cenu dodávek apod.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 případě, že bylo uvedené zadávací řízení zrušeno, uveďte důvod zruš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ždému vyhlášenému zadávacímu řízení přidělte pořadové číslo ve tvaru: číslo zadávacího řízení/rrrr, kde rrrr je rok vyhlášení, např.: 01/2008, 02/2008 atd. Pokud bylo zadávací řízení zrušeno, jeho číslo již nepoužívejte pro nově vyhlášené zadávací říz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66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dávací řízení uzavřená v monitorovaném obdob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   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te křížkem „X“ ANO pokud byla ve sledovaném období zadávací řízení uzavřena, tj. zda byla u zadávacích řízení podepsána smlouva s dodavatele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27908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uzavřených Z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ud jste označili „X“ ANO, stručně popište průběh a výsledek uzavřených zadávacích řízení, tj. zadávací řízení, u kterých byla ve sledovaném období podepsána smlouva s dodavatelem (uveďte počet uzavřených zadávacích řízení a jejich objem v Kč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robnosti o jednotlivých uzavřených zadávacích řízeních uveďte do přílohy č. 2 monitorovací zprávy – Přehled zadávacích říz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66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nám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informace o zadávacích řízeních – např., která byla ve sledovaném období zrušena apo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1:02:56Z</dcterms:created>
  <dc:creator>doubalj</dc:creator>
  <dc:description/>
  <dc:language>en-US</dc:language>
  <cp:lastModifiedBy>ugh</cp:lastModifiedBy>
  <dcterms:modified xsi:type="dcterms:W3CDTF">2009-11-18T10:46:54Z</dcterms:modified>
  <cp:revision>257</cp:revision>
  <dc:subject/>
  <dc:title>Snímek 1</dc:title>
</cp:coreProperties>
</file>