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9.11.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880560" y="850680"/>
            <a:ext cx="4954680" cy="37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0" y="94294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46600" y="94294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C65A7-0350-478B-8466-B6E67A87714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9.11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FD8C4-0F49-4C9E-9376-9670A66424E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372FC-1A2C-44A4-82E1-F5EDCC783DA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do dále podepisuje MZ - v dalších prezentací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F4CC2-D0D2-41C4-B3E4-7771CCD29A9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e písemně na statutárního zástupce. Celý proces se znovu opakuj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5887F-C4D9-400E-9D6B-3C1005A02FD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F46A1-83CB-4D87-8CD5-430BEB634AE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imořádná průběžná MZ – z důvodu vyčerpání finančních prostředků; termín následující MZ se pak řídí podle této mimořádné průběžné MZ, tj. další průběžná MZ musí být předložena opět po třech měsících realizace projektu (Pravidla monitorování, Příručka pro příjem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9E247-92A2-461E-B6AE-2365ACC0C2A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7D10F-FB2C-4876-B70B-A693A6A9388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563A7-970F-46A7-9D15-81B1536DA08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2202F-6076-4466-9625-BBCF40B9B99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D84B9-01EC-447B-A717-C3B38F3D251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Z se až do odvolání předkládá v listinné podobě (nezadává se do Monitu). TABULK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2898F-5908-4A49-84BE-0CCF0620545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7241-DE12-4637-B6AE-C15F065A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5DEE-E316-4C6D-BEC3-98F60E63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E85-9DCF-44EA-BE80-2CF2184C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1C68-4D4F-4F16-895B-27726817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BA47-6D17-4275-BAC8-0500FDD2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8BAE-DFF1-4635-939E-10F7CE14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EFF9-1E10-4DFB-9055-AAC24AB1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1EF3-11F8-4C28-B3D0-BF4A6E52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C2C4-AB07-4D50-86C7-E184DCB3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A0DF-A020-4513-8B83-9919B01B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99F5-BA5A-44F7-A74D-FC315E47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68CE-A01E-4F26-8394-EFE412B8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7C40F6-E9B3-4FB9-B5D3-7F2B27C9DC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mt.cz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0"/>
            <a:ext cx="788688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cs-CZ" sz="4800" spc="-1" strike="noStrike">
                <a:solidFill>
                  <a:srgbClr val="ff9900"/>
                </a:solidFill>
                <a:latin typeface="Arial"/>
              </a:rPr>
              <a:t>Základní informace k předkládání monitorovacích zprav (MZ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82640" y="4208040"/>
            <a:ext cx="78868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248400" indent="-187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f9900"/>
                </a:solidFill>
                <a:latin typeface="Arial"/>
              </a:rPr>
              <a:t>Mgr. Martina Špa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o podepisuje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3920" y="1779120"/>
            <a:ext cx="7815240" cy="52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M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žádost o platbu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podepisuje statutární zástupce nebo oprávněná osoba (přiložené pověření statutárního zástupce uvedeného v právním akt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zor: datum podpisu statutárního zástupce nemůže být dřívější než datum vyhotovení zprávy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Co následuje po odevzdání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753920" y="1994040"/>
            <a:ext cx="78152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rola MZ poskytovatelem dotace (komunikace s projektovým manažere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 vyzvání je příjemce povinen případné chybějící nebo doplňující údaje poskytnout do 15 pracovních dnů – vyzvání proběhne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e-mailem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a zhotovitele MZ a hlavní kontaktní oso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82280" y="921960"/>
            <a:ext cx="781524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5400" spc="-1" strike="noStrike">
                <a:solidFill>
                  <a:srgbClr val="ff9900"/>
                </a:solidFill>
                <a:latin typeface="Arial"/>
              </a:rPr>
              <a:t>Děkuji za pozorn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825200" y="3637080"/>
            <a:ext cx="7815240" cy="31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ak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gr. Martina Špakov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262699"/>
                </a:solidFill>
                <a:uFillTx/>
                <a:latin typeface="Arial"/>
              </a:rPr>
              <a:t>martina.spakova@msmt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262699"/>
                </a:solidFill>
                <a:uFillTx/>
                <a:latin typeface="Arial"/>
              </a:rPr>
              <a:t>cera@msmt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3920" y="301320"/>
            <a:ext cx="781524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Co je potřeba předklád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3920" y="1564920"/>
            <a:ext cx="80722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ůběžná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věrečná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 ukončení: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MZ o udržitelnosti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  (1x ročně po ukončení projektu po dobu 5 le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průběžná M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: bez žádosti o platbu nebo se žádostí o platbu (v případě, že příjemce provedl vyúčtování způsobilých výdajů a žádá o jejich proplacení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imořádná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y odevzdáva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53920" y="1565280"/>
            <a:ext cx="807228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méně jednou za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 resp. 6 měsíc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od zahájení projektu (dle Rozhodnutí resp. Dodatku), vždy do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0 kalendářních dnů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konce monitorovacího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1. monitorovací obdob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) ode dne začátku realizac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) v souladu s kalendářními měsíci (od prvního dne měsíce, v němž začal projek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olená možnost se používá během celého období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825200" y="779040"/>
            <a:ext cx="757260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v Rozhodnutí je uvedeno datum zahájení projektu 1.5. 2009, datum podpisu akceptace je 8.5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ovací období: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7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edložení MZ: do 6. 9.20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lší MZ za období 8. 8. – 7. 11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ovací období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31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7.,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edložení MZ: do 30. 8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lší MZ za období 1. 8. – 31. 10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3"/>
          <p:cNvSpPr/>
          <p:nvPr/>
        </p:nvSpPr>
        <p:spPr>
          <a:xfrm>
            <a:off x="1825560" y="565200"/>
            <a:ext cx="7643880" cy="1857240"/>
          </a:xfrm>
          <a:prstGeom prst="rect">
            <a:avLst/>
          </a:pr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3920" y="207720"/>
            <a:ext cx="781524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e najít MZ?</a:t>
            </a:r>
            <a:br>
              <a:rPr sz="4400"/>
            </a:br>
            <a:r>
              <a:rPr b="1" lang="cs-CZ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Strukturální fondy – OP VK: Pro žadatele a příjem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1539720" y="2065320"/>
            <a:ext cx="8286840" cy="5286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5" name="Elipsa 9"/>
          <p:cNvSpPr/>
          <p:nvPr/>
        </p:nvSpPr>
        <p:spPr>
          <a:xfrm>
            <a:off x="3325680" y="4565520"/>
            <a:ext cx="185760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Přímá spojovací šipka 13"/>
          <p:cNvCxnSpPr/>
          <p:nvPr/>
        </p:nvCxnSpPr>
        <p:spPr>
          <a:xfrm flipH="1">
            <a:off x="7683120" y="4995720"/>
            <a:ext cx="2160" cy="15012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e nají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1754280" y="1351080"/>
            <a:ext cx="8072280" cy="6000480"/>
          </a:xfrm>
          <a:prstGeom prst="rect">
            <a:avLst/>
          </a:prstGeom>
          <a:ln w="0">
            <a:noFill/>
          </a:ln>
        </p:spPr>
      </p:pic>
      <p:sp>
        <p:nvSpPr>
          <p:cNvPr id="70" name="Elipsa 5"/>
          <p:cNvSpPr/>
          <p:nvPr/>
        </p:nvSpPr>
        <p:spPr>
          <a:xfrm>
            <a:off x="1754280" y="3351240"/>
            <a:ext cx="1428480" cy="285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Elipsa 6"/>
          <p:cNvSpPr/>
          <p:nvPr/>
        </p:nvSpPr>
        <p:spPr>
          <a:xfrm>
            <a:off x="3468600" y="2279520"/>
            <a:ext cx="2286000" cy="357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3920" y="-360"/>
            <a:ext cx="78152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V jaké formě odevzdat MZ a její přílo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611360" y="1564920"/>
            <a:ext cx="8215200" cy="57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stinná verz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vně spojena v jednom svaz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á příloha samostatně spo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livé přílohy je možné vyjm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ektronická verz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četně relevantních příloh na nepřepisovatelném CD – viz tabul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žádost o platbu a některé přílohy – viz tabu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8360" y="422280"/>
          <a:ext cx="9072360" cy="6786720"/>
        </p:xfrm>
        <a:graphic>
          <a:graphicData uri="http://schemas.openxmlformats.org/drawingml/2006/table">
            <a:tbl>
              <a:tblPr/>
              <a:tblGrid>
                <a:gridCol w="936720"/>
                <a:gridCol w="3238200"/>
                <a:gridCol w="2087640"/>
                <a:gridCol w="955800"/>
                <a:gridCol w="981000"/>
                <a:gridCol w="873000"/>
              </a:tblGrid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Číslo příloh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teriá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dp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stinná verz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enefit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itorovací zprá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d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582840">
                <a:tc gridSpan="6"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ílohy monitorovací zpráv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itorovací indikátory 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3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hled uzavřených zadávacích říze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A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A. Přehled čerpání veřejné podpory podle blokových výjime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B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B. Přehled čerpání veřejné podpory podle de minim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Žádost o platb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inalizovaná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upiska účetních dokladů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pie účetních dokladů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pie výpisu z účtu projektu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hled čerpání způsobilých výdajů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pracovaný rozpočet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pracovaný harmonogram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dpisové vzor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Sc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pracovní výkaz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aměstnanec, Nadřízený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mzdové náklad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cestovní náklad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odpis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žadavek na strukturu zaslané platby (u organizací se závaznými limity v oblasti mezd)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Sc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Žádost schválení podstatných změn GP/IP OPV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alší relevantní přílohy – prezenční listiny, výstupy z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/NE Relevant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/NE Relevant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  <p:sp>
        <p:nvSpPr>
          <p:cNvPr id="76" name="Rectangle 1"/>
          <p:cNvSpPr/>
          <p:nvPr/>
        </p:nvSpPr>
        <p:spPr>
          <a:xfrm>
            <a:off x="4950000" y="-311400"/>
            <a:ext cx="1807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33274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3920" y="301320"/>
            <a:ext cx="78152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Jak odevzda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82640" y="1279080"/>
            <a:ext cx="8143920" cy="628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oporučeně poštou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náležit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resa poskytovatele podpory včetně kontaktní oso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méno příslušného PM, odbor C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18 12 Praha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zev a registrační číslo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pozornění „Neotvírat – Monitorovací zpráva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sobně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po domluvě s PM, potvrzení o převz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Rozhoduje datum doručení poskytovateli podpor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délník 4"/>
          <p:cNvSpPr/>
          <p:nvPr/>
        </p:nvSpPr>
        <p:spPr>
          <a:xfrm>
            <a:off x="3040200" y="2708280"/>
            <a:ext cx="5643360" cy="1928880"/>
          </a:xfrm>
          <a:prstGeom prst="rect">
            <a:avLst/>
          </a:prstGeom>
          <a:noFill/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1-18T11:47:23Z</dcterms:modified>
  <cp:revision>96</cp:revision>
  <dc:subject/>
  <dc:title>Snímek 1</dc:title>
</cp:coreProperties>
</file>