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D10B-25A4-41CD-A906-BDDC527094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D007-ECC9-40B9-8A0B-9BCA77281A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09F3-C0D7-47F0-8166-461CF78955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C79E-4306-427E-A984-00D48A814C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6CC4-68A9-4301-A669-F8BF5851C1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A85B-3FE5-4135-8998-2398605EB9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9098-2423-41D5-B16C-5ABC329BAA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E4E4-A211-44D9-A0AF-E855C28729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239-BCA6-44E7-91F0-01BE4631E6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421D-E3A6-4FA0-BDB6-D7CD271544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24B-C4A6-41AE-BA46-FACF7C781C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FE61-571F-4B7A-A72A-1FCAC2E848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98DA-91FC-43CD-BE7C-23F4E58B96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9049-4A1F-44D5-B17D-9B6F7973AD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A6B5-4493-4E13-AF88-EBBB233A77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2B1C-EA62-4945-9690-05182535F3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932F-F2CC-4B65-A7E1-2F58B9DAAC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7E78-2086-4629-89D5-B3F29FA95F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142560"/>
            <a:ext cx="6357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429000"/>
            <a:ext cx="700056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7143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18T10:46:54Z</dcterms:modified>
  <cp:revision>257</cp:revision>
  <dc:subject/>
  <dc:title>Snímek 1</dc:title>
</cp:coreProperties>
</file>