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AC85-7F22-4BC4-8686-A70197FA3A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2995-1757-4C71-8EF0-2486199167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F4FD-E52A-4E44-988F-30F9B1D2E9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DF55-E81B-4482-82EC-E775AC3D0B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52B8-9C6B-4D19-931A-80209E402E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AB1A-D7C3-4640-8E99-D48E30FC87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64EB-9542-49C0-8293-5DBD5A10E3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2CF0-51F9-4349-BE61-C8E97AA56F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B9A3-CF90-4F28-8D97-C030EE23B9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6C28-4E1E-42F0-81F6-FE14107E82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94CF-A5BF-49BB-A181-2777C36120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E11F-6A14-49C3-B007-A0D3FD7637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BFF0-FE05-4F74-9741-4A29043338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8395-D188-43E7-89D7-B6278C139D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0E8C-4789-41F4-84E2-D904DE2C6A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A68C-5D97-402D-A4B1-8EC6153C7C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7C93-9C4E-47F2-9814-A6C5CF016E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9E47-F104-433D-99F3-18DB463784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14680" y="142560"/>
            <a:ext cx="6357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429000"/>
            <a:ext cx="700056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14320" y="285480"/>
            <a:ext cx="7143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18T10:46:54Z</dcterms:modified>
  <cp:revision>257</cp:revision>
  <dc:subject/>
  <dc:title>Snímek 1</dc:title>
</cp:coreProperties>
</file>