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7FF1B-D249-4431-88B1-8810E639AA5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42D79-5811-4626-8F6E-0989969B694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0231B-143C-43B1-997B-33C908ED573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9DAA5-EC0E-4808-B8C6-DEF92E4483C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77F49-3F25-471B-BEC7-80D5F65D695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FDCA2-CA48-4677-BFCA-9BD7645E821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EADD7-8228-4A8E-A4B5-B5BF48F39AB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0AD01-09D7-490A-8ACB-612F1056190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78A6D-7FF6-4015-A469-066C546A04F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64887-C1FD-4C3E-9420-F4442C28F75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BE3B2-4643-4146-91F5-6D8ACBA3FE0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A4D88-5CA5-49C2-BF76-297A7127F67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02EB8-D82B-41D5-8F09-F39E835CCBB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B5D1F-45DE-4496-9B30-063993ED420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25628-D77D-408F-A5C1-B15AC92E470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8BEA2-D007-4D58-A1E3-178B5C05021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7B5B5-E773-4F8C-ADE8-193C5B76F0F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453-DBB9-487D-9E4E-36DAB22B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56D-78FF-4826-85ED-B3782C26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F6C-E403-48BD-905C-FDCDE564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CEF-9E71-4D39-A19B-704DED17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23B-0316-4180-A6AB-2B431A2F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A33-72F5-4E45-AD02-51C47D0F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B85-5BBB-402D-BE44-826831BB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710-C7A5-4C00-99CC-0D1245B4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FED-CDDE-446A-BDA9-31ED479F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D3E-4D0F-43CB-9C9F-81175728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91F-14A8-4416-ACA5-81D8821A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D9F-683A-43EE-B25C-B6A00950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FA8C36-C307-4EC7-B2E2-B3E8BF0390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aké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procesu 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, a zákona č. 235/2004 Sb., o dani z přidané hodnoty, je povinen uchovávat doklady spojené s dodávkou a spolupůsobit při kontrole dle zákona č. 320/2001 Sb.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21:02Z</dcterms:modified>
  <cp:revision>158</cp:revision>
  <dc:subject/>
  <dc:title>Snímek 1</dc:title>
</cp:coreProperties>
</file>