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9.11.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0560" y="850680"/>
            <a:ext cx="49546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8E282-D899-4159-AFF4-BB061BC9D57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9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D45A7-18DE-4D45-9CE8-AE5DB7C8497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3F31B-C1E6-4FAE-B2E2-1598E183745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o dále podepisuje MZ - v dalších prezenta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148C3-0D2A-47DA-B315-0FFEDDC809F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C6E3C-29FD-43ED-B2CC-0706F9A7FCD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4CC8D-E58F-4112-958E-780DD371F59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374F3-4789-4462-8459-7FC7D847ACF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280DB-F782-4D33-B793-EDEFFA9D79A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C507C-1E6F-4EDB-88BB-48761939B5F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7DCC7-3467-4749-9651-C43FBC7B6CC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5E861-E7C6-4E38-AB6F-AAD89F14428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A5304-0EE0-472A-BEF9-A00DBBD1A6D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B93-2516-410E-8A87-9FEE5E02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DE0-6A6F-479C-AD32-0A293C68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0B4-6DAA-415B-ABA5-E6410E48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CEF-5993-44C7-AC06-B0A73753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C62-17B0-46FE-B3D9-057CAE76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C5F-7602-4AC1-B387-7C77EC02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5D3-9911-4167-928B-854049A7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E06-3F41-4CAB-9773-2FBCDB47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A15-1A35-4B6F-BB45-778D863E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2E4-FFDB-4372-A9BD-C4BBA397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539-1638-42EB-8268-A1D139C6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292-2A90-47C6-B701-ADF4EB0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A01C26-CB89-4405-9ED0-DC052FF2E8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o podepisuje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77912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žádost o platb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odepisuje statutární zástupce nebo oprávněná osoba (přiložené pověření statutárního zástupce uvedeného v právním akt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zor: datum podpisu statutárního zástupce nemůže být dřívější než datum vyhotovení zpráv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47:23Z</dcterms:modified>
  <cp:revision>96</cp:revision>
  <dc:subject/>
  <dc:title>Snímek 1</dc:title>
</cp:coreProperties>
</file>