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3E429-53FC-4D7A-B131-43CA97CCF84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44360-D041-40C0-A23A-B171276CA32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AF079-47D2-4D94-B479-5583DA2F646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8C080-9797-4D80-B1D5-F1E913059D2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4D518-5FAF-4FD4-8D8B-107C389DCBA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BB630-F0CE-4230-872F-1CF9CD02D2B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A15B7-8EF3-42C6-AF9C-50DB9DD6F8B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DDCB1-690A-4DB7-87E0-4D36D520D16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B665B-AF62-4B22-BE02-0B223F9177F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5E258-C7D2-41C3-B699-52FEA5B63A6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DA4D8-793B-46CF-85EC-03B19B11F0F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B0A12-D60A-48AD-8178-8B36B5A6B87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4F964-3F50-4BA9-8235-3706F7465F7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D6A91-8F45-4D70-ABAE-9F7D53DA50A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19DB0-53D1-4217-B7B7-C6DFF81E573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6B20A-C6A2-46D4-8C0F-C575D2F7ECD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45030-E0A3-459C-842C-2BAC3E3DE8C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24F-927A-47E3-8029-192A6FF5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123-7912-4F7C-918E-78737BFB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2E1-8BCB-42A3-8ADA-8670795A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E52-A394-4FB2-82FC-A2F0A3BA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702-BEBB-41E4-AA26-F94AEA98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C29-E7F8-435A-9791-01FC010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56C-B336-4C01-B0E1-41255F2D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B30-390D-4D3D-8362-469B8908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FD0-86D9-4B65-A29F-32E3E7A6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D29-60C9-4844-8192-6DDF0F6F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DDB-3171-4B5D-A7C3-0FDF5296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079-59E3-481D-A656-9C03C7CA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6A37D4-B99F-47FD-AAC8-AC4A65B3A5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aké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procesu 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, a zákona č. 235/2004 Sb., o dani z přidané hodnoty, je povinen uchovávat doklady spojené s dodávkou a spolupůsobit při kontrole dle zákona č. 320/2001 Sb.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21:02Z</dcterms:modified>
  <cp:revision>158</cp:revision>
  <dc:subject/>
  <dc:title>Snímek 1</dc:title>
</cp:coreProperties>
</file>