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9.11.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0560" y="850680"/>
            <a:ext cx="49546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F4CA6-C6A2-467E-8C22-B687F63E293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9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221C7-6739-4950-9234-A3FF64D9F3B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C85A8-ECCD-4390-9C16-DE37AE393F9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o dále podepisuje MZ - v dalších prezentací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DA004-107F-4498-8754-6C76D11FFC8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2578F-117C-456F-B4D3-BA1126141A6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C40FB-F15D-402D-83A2-265CFFE9615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9B174-030A-4F19-B6C4-3C5DA27AA3D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77884-B8C2-45EB-9700-DFB155F7655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8C241-66A8-4957-9656-6FEFECA1B51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463E2-1FFB-45C1-A6AF-76385255198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02187-2D2E-4F02-98DB-F5D569CF10C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2E69C-BA98-4A04-8ECC-09D3CEED1E6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9E9-01C7-4FE1-B368-AC22631F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735-F519-45D6-ADEC-C93D38C9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BDF-99F9-484D-B7EE-58E6A4BB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872-4121-45B3-B237-740DD838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B39-305E-4F13-A01B-C49FBAB3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56E-49C5-41FE-A3A8-90EF248A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96E-F00D-4521-9D37-17000B9C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9D6-9B97-4459-A989-64B4DA0E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16B-73DD-45EC-83DA-6DEEC08F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439-7B62-4DA7-B6F2-05E946E4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F1B-4E17-4C4A-B5DF-21C34F9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69E-040A-4D4C-9DC9-70975B0A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09FFC7-6491-4671-8F41-050C2AAD08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o podepisuje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779120"/>
            <a:ext cx="78152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žádost o platb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odepisuje statutární zástupce nebo oprávněná osoba (přiložené pověření statutárního zástupce uvedeného v právním akt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zor: datum podpisu statutárního zástupce nemůže být dřívější než datum vyhotovení zpráv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47:23Z</dcterms:modified>
  <cp:revision>96</cp:revision>
  <dc:subject/>
  <dc:title>Snímek 1</dc:title>
</cp:coreProperties>
</file>