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DC07-91FF-47FE-A73D-570462FF78F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5.11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AE33-D8C0-440C-BB5C-D5C43A63755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Tabulka dostupná na stránkách MŠM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yhlašovatel zadávacího říz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řadové číslo zadávacího řízení – mělo by být shodné s číslem, uvedeným v monitorovací zprávě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dodavatele – název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IČ dodavatele – uveďte 8místní IČ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yp zadávacího řízení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podpisu smlouvy s dodavatelem – tak, jak je uvedeno ve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hodnota MI musí být uváděna kumulativně v návaznosti na předchozí MZ, nebývá často dodržová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16EA-F03A-45D2-98AF-0C70B415342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evzdává se za celý projekt, tzn. obsahuje zadávací řízení příjemce i jednotlivých partner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Pokud je ZŘ zrušeno, nevyplňuje se do této přílohy x pouze do textu věcné části MZ – viz. tabulka č.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8AC6-673D-44AD-A3EE-1E095765AB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šechny uvedené doklady musí být poskytovateli předloženy nejpozději s 1 ŽoP po ukončení výběru, poskytovateli se předkládají kopie uvedených dokumentů, originály uchovává příjemce a předkládají se na vyžádání kontrolním subjektů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 kontrolu na místě jsou důležité i doklady prokazující odeslání oznámení o zahájení VŘ dostatečnému počtu uchazečů (dodejkou, podacím lístkem, emailovou doručenkou, předávacím protokolem) + zadávací dokumen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klad o uveřejnění výzvy na stránkách MŠMT, tedy při plnění nejméně 500 000 Kč bez DPH – vytištěním příslušné stránky pomocí funkce Printscre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mlouva včetně dodatků uzavřená s vybraným dodavate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lohou zápisu je čestné prohlášení  o nepodjatosti a mlčenlivosti, zápis musí obsahovat náležitosti uvedené v PpP – zejména seznam posouzených a vyřazených nabídek; zdůvodnění vyloučení předložené nabídky; popis způsobu hodnocení nabídek; výsledek hodnoc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zadávací řízení uvedená v příslušném bodě MZ neodpovídají monitorovanému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84C4-F4AF-46C0-80BF-3ECB20D3F4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Uvádějte informace o všech prováděných i již provedených kontrolách projektu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 průběhu sledovaného období, za které je předkládána tato monitorovací zpráva, a to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šemi subjekty oprávněnými ke kontrole (např. poskytovatel podpory - ŘO/ZS, EK,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interní audit MPSV). Další subjekty oprávněné ke kontrole v rámci OP VK – MF, NKÚ, ÚOHS,…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7237-AD8B-4BA9-BF9C-78D575300D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dstatné změny v rozpočtu, např:. o změnu kontaktních údajů, vytvoření nové podpoložky v rozpočtu do výše stanoveného limitu, změnu časového harmonogramu projektu týkající se jednotlivých aktivit atd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jemce je oprávněn projekt upravit a pozměnit bez předchozího souhlasu poskytovatele pouze za předpokladu, že taková změna neovlivní dosažení cílů projektu, včetně naplňování schválených MI (= ukazatelé výstupů a výsledk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vedené nepodstatné změny musí být vždy popsány v nejbližší M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9F9F-876F-4B1E-80DC-430F7847650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ledování výsledků, výstupů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2051-0F62-4C21-957C-EDF2101B046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OP = číslo OP VK, vždy stejné pro všechny prioritní osy a oblasti podp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prioritní osy = číslo prioritní osy, v rámci které je projekt realizová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ioritní osy dle Operačního programu (PO 1 = Počáteční vzdělávání, PO 2 = Terciární vzdělávání, výzkum a vývo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výzvy = číslo výzvy, v rámci které je projekt realizován, je vidět z registračního čísla, které je uvedeno v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výzvy = Žádost o finanční podporu z OP VK – IP – oblast podpory 2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1CC9-28B6-43AB-BEF5-4A4CA4603DE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, případně v příloze č. 7 – Prohlášení o změnách v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 – načítává 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datu uvedenému na konci této přílohy = datum vypracování tabulky, př: v 1 MZ je uvedeno např. 20 úspěšně podpořených osob, za 2 monitorovací období bylo podpořeno 10 osob, tzn. do 2 monitor. Zprávy píši celkovou  hodnotu od začátku projektu, tzn. 30 oso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vinnost sledovat naplňování MI podle podrobnějšího členění (např. dle pohlav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0B0C-6DD3-4481-87E6-164B004925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zahájení realizace projektu: jedná se 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atum akceptace, popřípadě, datum zahájení realizace projektu,  je-li pozdější než datum akcep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Ukázat na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B7E5-2D56-41E0-B234-F226BB8BD0C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 jednotlivých příloh, kde je vyžadován podpis doporučujeme napsat nejprve jméno příslušné osoby hůlkovým písmem a poté samotná podp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9CD6-CD1C-4835-8D53-9E63481A14A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v případě, kdy se mění harmonogram klíčových aktivit nebo začátek či konec realizace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potřeby je možné přidat tabulku pro následující rok, kterého se dotkne změna schváleného harmonogramu projekt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při jakékoliv změně realizace KA oproti schválenému projekt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této prezentaci jsem již neudávala, je to v soubor xls. ,aktivní list, je možné s tím prac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2784-4234-40D6-98F3-899ED225915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ozsah oprávnění – co je osoba oprávněná podepisovat a schval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latnost – datum platnosti – od kdy, případně do kdy, pokud má pověření omezenou plat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C8CF-A31F-4764-BAD2-B6E8FF6923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o se opakující chyby v MZ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změny realizace KA není dodán přepracovaný harmonogram = příloha č. 10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dostatečně popsány skutečnosti v KA, některé skutečnosti zařazené do jednotlivých KA neodpovídají obsahu 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vypracování MZ je pozdější než datum podpisu statutárního zástupce, u podpisu statutárního zástupce chybí místo, případně razítk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ací období  neodpovídá délce stanovené v projektu (je delší než 3 měsí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VŘ nejsou doloženy všechny relevantní dokumen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ně zařazená VŘ v části vyhlášená nebo uzavřená VŘ v monitorovacím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í identifikace projektu – i na nepovinné přílohy je třeba uvádět základní identifikační údaje, datum vypracování, jméno a podpis osoby, která přílohu vypracov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2694-CBB5-498F-9326-4E08C42C659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imořádná MZ – při předkládání mimořádné ŽoP (termín následující průběžné MZ se pak řídí podle mimořádné M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: 1.6.2009 – zač. realizace, tzn. že 1. monitorovací období končí 31.8.2009 a předloženo musí být nejpozději do 30.9.2009. 2 MZ popisuje období 1.9.-30.11.2009 x chci podat mimořádnou ŽoP, tím pádem i mimořádnou ŽoP, zkrátím předchozí monitorovací období od 1.9.-30.10  a další počítám od tohoto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Závěrečná MZ – předkládá se nejpozději do 2 měsíců po ukončení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B338-150F-4E23-8F38-8B570DCE1A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poručujeme dokládat vzorové přihlášky, pozvánky, programy akcí. Obsah dokládání věcné části je na zvážení příjemce a partnera, jak mají nastaveno v samotné žádosti. Těmito přílohami příjemce prezentuje důležité, významné metody v realizaci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7767-E9EC-43C1-9964-76F67302D8A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tačí pouze vypsat, zda se jedná o VŘ za dodávku, službu nebo stavební práce, název VŘ, případně kdy byla vyhlášena, pod jakým číslem byla zveřejněna, na jakou částku. Do poznámek je možné uvést, kdy budou VŘ uzavřen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744C-30EC-4F10-953E-C0A213E1CA1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Zástupný symbol pro datum 3"/>
          <p:cNvSpPr/>
          <p:nvPr/>
        </p:nvSpPr>
        <p:spPr>
          <a:xfrm>
            <a:off x="1714680" y="6072120"/>
            <a:ext cx="70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11. 6.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ástupný symbol pro text 8"/>
          <p:cNvSpPr/>
          <p:nvPr/>
        </p:nvSpPr>
        <p:spPr>
          <a:xfrm>
            <a:off x="1714680" y="6286680"/>
            <a:ext cx="34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Ing. Veronika Sup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hyperlink" Target="mailto:cera@msmt.cz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99760" y="12142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Věcná část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TextovéPole 2"/>
          <p:cNvSpPr/>
          <p:nvPr/>
        </p:nvSpPr>
        <p:spPr>
          <a:xfrm>
            <a:off x="3429000" y="49291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912c"/>
                </a:solidFill>
                <a:latin typeface="Calibri"/>
              </a:rPr>
              <a:t>Ing. Veronika Sup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ovéPole 4"/>
          <p:cNvSpPr/>
          <p:nvPr/>
        </p:nvSpPr>
        <p:spPr>
          <a:xfrm>
            <a:off x="1714680" y="6215040"/>
            <a:ext cx="72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5600" y="642600"/>
            <a:ext cx="63579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43040" y="1785960"/>
          <a:ext cx="7358040" cy="4194000"/>
        </p:xfrm>
        <a:graphic>
          <a:graphicData uri="http://schemas.openxmlformats.org/drawingml/2006/table">
            <a:tbl>
              <a:tblPr/>
              <a:tblGrid>
                <a:gridCol w="882720"/>
                <a:gridCol w="1177920"/>
                <a:gridCol w="809640"/>
                <a:gridCol w="344520"/>
                <a:gridCol w="1052280"/>
                <a:gridCol w="1177920"/>
                <a:gridCol w="955800"/>
                <a:gridCol w="957240"/>
              </a:tblGrid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hled uzavřených zadávacích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hlašovatel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/part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podpisu smlouvy s dodavate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bez DP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s D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                                                                                …… Kč             …. Kč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= datum vypracování tabu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 oprávněné osoby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dle podpisového vz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14680" y="571680"/>
            <a:ext cx="664344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856880" y="1571400"/>
            <a:ext cx="70009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tupná na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zavřené zadávací řízení = podpis smlouvy s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lňuje se kumulativně – pokračování v číselné řad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kládá se ke každé MZ, ve které dochází k jakékoliv změ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85600" y="642600"/>
            <a:ext cx="66438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 - dokladová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856880" y="21430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zahájení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pis o posouzení a hodnocení podaných nabíd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louva s vybraným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výsledku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8. Veřejná podpora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071800" y="1214280"/>
          <a:ext cx="5643360" cy="2438640"/>
        </p:xfrm>
        <a:graphic>
          <a:graphicData uri="http://schemas.openxmlformats.org/drawingml/2006/table">
            <a:tbl>
              <a:tblPr/>
              <a:tblGrid>
                <a:gridCol w="3316320"/>
                <a:gridCol w="622080"/>
                <a:gridCol w="627120"/>
                <a:gridCol w="622440"/>
                <a:gridCol w="455400"/>
              </a:tblGrid>
              <a:tr h="487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řejná podpora poskytnutá přímo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veřejné podpor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row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veřejné podpory poskytnuté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čerpaných veřejných podp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up při 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TextovéPole 6"/>
          <p:cNvSpPr/>
          <p:nvPr/>
        </p:nvSpPr>
        <p:spPr>
          <a:xfrm>
            <a:off x="2071800" y="3841920"/>
            <a:ext cx="5786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ložku vyplňujte pouze v případě, kdy vám, partnerovi projektu nebo dalším subjektům byla v rámci projektu poskytnuta veřejná podpora podle blokových výjimek nebo podle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Záložku také vyplní příjemce/partner finanční podpory, který poskytuje některé služby podle blokových výjimek nebo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Podrobnosti o poskytnutí a čerpání jednotlivých veřejných podpor uveďte v příloze č. 3A Monitorovací zprávy a/nebo v příloze č. 3B Monitorovací zprá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14680" y="357120"/>
            <a:ext cx="6357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9. Kontrola na místě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857240" y="1143000"/>
          <a:ext cx="7000920" cy="545940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4269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a proved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/je ve sledovaném období provedena/prováděna kontrola projektu. (v opačném případě označte křížkem „X“ NE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subjektu, který provádí/provedl kontrol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sný název subjektu/subjektů, který kontrolu provádí/proved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1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podle Pověření ke kontrole (Protokolu o výsledku kontroly, případně podle Oznámení o kontrole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kontr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a kontrola zahájena. Uvádějte datum podle Protokolu o výsledku kontroly. Pokud kontrola ještě nebyla ukončena, uveďte tuto skutečnost do poznámk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13480">
                <a:tc row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pravná opatření splně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NE                ČÁSTEČNĚ                NEBYLA ULOŽ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plňujte pouze v případě ukončené kontroly. Označte křížkem „X“ relevantní odpověď (ANO, NE, ČÁSTEČNĚ, NEBYLA ULOŽEN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73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hůta ke splnění nápravných opat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5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vztahující se k provedeným kontrolám, např. informaci o tom, že kontrola dosud probíhá, informaci o průběhu plnění nápravných opatření, apod. Uveďte hlavní zjištění z kontroly, uložená nápravná opatření, doporučení apod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5600" y="356760"/>
            <a:ext cx="63579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0. Podstatné a nepodstatné změn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857240" y="1500120"/>
          <a:ext cx="7000920" cy="489276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statné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6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 podstatných změn projektu se postupuje podle Rozhodnutí o poskytnutí dotace a verze Příručky pro příjemce, která je uvedena ve výše jmenovaném dokumentu.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ést, zda byla požadovaná změna poskytovatelem podpory odsouhlasena a zda byl vytvořen dodatek k 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odstatné změ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Formální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ěcné změny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adresy pro doruč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kontaktní oso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názvu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mějí mít vliv na charakter projektu a dosažení cíl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pracovně právního vzta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realizačního týmu (rozdělení, slučování pozic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4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měny rozpočtu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yplňují se do přílohy č. 9 Monitorovací z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1.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928880" y="1500120"/>
          <a:ext cx="7000920" cy="4818240"/>
        </p:xfrm>
        <a:graphic>
          <a:graphicData uri="http://schemas.openxmlformats.org/drawingml/2006/table">
            <a:tbl>
              <a:tblPr/>
              <a:tblGrid>
                <a:gridCol w="7000920"/>
              </a:tblGrid>
              <a:tr h="428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oje dat pro monitorovací indikátory a komentá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3894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é hodnoty se vykazují pomocí tabulky v Excelu – viz Příloha č.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kazované indikátory se musí opírat o průkaznou evidenci vedenou příjemc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ýkazy o provedené práci, prezenční listiny, certifikáty, atd. – tj. doklady, kterými můžete prokázat dosažené číselné hodn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zenční list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dané certifiká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nástroje, které používáte v rámci projektu pro sledování monitorovacích ukazatelů – výstupů a výsledk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jetiny z informačního systé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42680" y="142560"/>
            <a:ext cx="63579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643040" y="1143000"/>
          <a:ext cx="7143840" cy="5548320"/>
        </p:xfrm>
        <a:graphic>
          <a:graphicData uri="http://schemas.openxmlformats.org/drawingml/2006/table">
            <a:tbl>
              <a:tblPr/>
              <a:tblGrid>
                <a:gridCol w="1190520"/>
                <a:gridCol w="1506600"/>
                <a:gridCol w="424080"/>
                <a:gridCol w="1690560"/>
                <a:gridCol w="233208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e operačního programu a výz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ční program vzdělávání pro konkurenceschopn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1 nebo P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áteční vzdělávání/Terciární vzdělávání, výzkum a vý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výzv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výzvy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edeno v Žádosti (viz Příloha č. 1 Rozhodnut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ke dni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viduální projekt osta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datum, ke kterému jsou vyplněny dosažené hodnoty 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tupy a výsled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ód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rná jednot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á hodn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3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856880" y="1428480"/>
            <a:ext cx="70009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ód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zev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ěrná jednot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ažená hodnota - ke stanovenému datu, kumulativní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atum = datum vypracování tabu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pis oprávněné osoby = podpis oprávněné osoby dle podpisového vzoru (viz. příloha č. 11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99760" y="785880"/>
            <a:ext cx="70009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Přílohy věcné části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42680" y="285840"/>
            <a:ext cx="62866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. Údaje o projektu a Monitorovací zprávě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71760" y="1096920"/>
          <a:ext cx="7000920" cy="5546880"/>
        </p:xfrm>
        <a:graphic>
          <a:graphicData uri="http://schemas.openxmlformats.org/drawingml/2006/table">
            <a:tbl>
              <a:tblPr/>
              <a:tblGrid>
                <a:gridCol w="3500280"/>
                <a:gridCol w="3500640"/>
              </a:tblGrid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     .     .     /    . .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ojektu, tak jak je uvedeno v Rozhodnutí o poskytnutí dotace, např.: CZ.1.07/4.1.01/01.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 tak, jak je uveden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7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OP VK, ve které je projekt realizován, např. 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finanční podpory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přidělené finanční podpory na projekt tak, jak je uvedena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53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ESF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financovaná z ESF. Tato částka je uvedena v Rozhodnutí o poskytnutí dotace v tab. č. 1, řádku aa) prostředky z ESF (§ 44 odst. 2 písm. f) rozpočtových pravid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řížové financování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křížového financování tak, jak je uvedena v Rozhodnutí o poskytnutí dotace v tabulce č. 2, řádku 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 tak, jak je uvedeno v Rozhodnutí o poskytnutí dotace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 tak, jak je uvedeno v Rozhodnutí o poskytnutí dotace, případně datum uvedený v Dodatku k rozhodnut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ávního aktu (Rozhodnutí/Smlouvy/Opatř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př. 07/17/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642680" y="1499760"/>
            <a:ext cx="73580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nitorovací indikátory (Příloha č.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hled uzavřených zadávacích řízení              (Příloha č.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pracovaný harmonogram projektu   (Příloha č. 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isové vzory (Příloha č. 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dost o schválení podstatných změn               ( Příloha č. 1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ovéPole 2"/>
          <p:cNvSpPr/>
          <p:nvPr/>
        </p:nvSpPr>
        <p:spPr>
          <a:xfrm>
            <a:off x="1714680" y="142920"/>
            <a:ext cx="66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79646"/>
                </a:solidFill>
                <a:latin typeface="Calibri"/>
              </a:rPr>
              <a:t>Seznam příloh – věcná 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0- Přepracovaný harmonogram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5960" y="1714680"/>
          <a:ext cx="7143840" cy="4895640"/>
        </p:xfrm>
        <a:graphic>
          <a:graphicData uri="http://schemas.openxmlformats.org/drawingml/2006/table">
            <a:tbl>
              <a:tblPr/>
              <a:tblGrid>
                <a:gridCol w="1357200"/>
                <a:gridCol w="357120"/>
                <a:gridCol w="428760"/>
                <a:gridCol w="428760"/>
                <a:gridCol w="549000"/>
                <a:gridCol w="439920"/>
                <a:gridCol w="439560"/>
                <a:gridCol w="500400"/>
                <a:gridCol w="571320"/>
                <a:gridCol w="571680"/>
                <a:gridCol w="357120"/>
                <a:gridCol w="571320"/>
                <a:gridCol w="571680"/>
              </a:tblGrid>
              <a:tr h="37044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pracovaný harmonogram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podp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09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1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1- Podpisové vz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071800" y="1785960"/>
          <a:ext cx="6060960" cy="3743280"/>
        </p:xfrm>
        <a:graphic>
          <a:graphicData uri="http://schemas.openxmlformats.org/drawingml/2006/table">
            <a:tbl>
              <a:tblPr/>
              <a:tblGrid>
                <a:gridCol w="1571400"/>
                <a:gridCol w="906480"/>
                <a:gridCol w="1094040"/>
                <a:gridCol w="1000080"/>
                <a:gridCol w="1488960"/>
              </a:tblGrid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ový vzor osob oprávněných  k podepisování a schvalování dokumentů a operací v rámci OP V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 finanční podpory/partn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sah oprávn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714680" y="3071520"/>
            <a:ext cx="700056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ntak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Veronika Sup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l. číslo: 234 814 19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eronika.supov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er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57240" y="571320"/>
            <a:ext cx="621504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785960" y="500040"/>
          <a:ext cx="7000920" cy="576108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předkládané monitorovací zprávy – číslujte postupně od začátku realizace projektu ve tvaru: číslo zprávy/rrrr, např.: 01/2009 – 1. monitorovací zpráva od počátku realizace projektu, předložená v roce 2009, následně 02/2009, 03/2009, 04/2009, 05/2010, 06/20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ané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átek                                                      Kon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, která ohraničují období, ke kterému se vztahuje předkládaná Monitorovací zpráva ve tvaru dd/mm/rrrr; např. začátek: 01/05/2009; konec: 31/07/200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936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práv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ůběžná                Závěrečná                Mimořádn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o jaký typ předkládané zprávy se jedná 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ůběžná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ravidelná MZ předkládaná za období 3 měsíců realizace projektu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ávěreč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 po ukončení projektu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Mimořád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ředkládaná mimo režim průběžné M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ádost o platb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     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je zároveň s Monitorovací zprávou předkládána Žádost o platbu (pokud ne, označte křížkem „X“ Ne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vypracování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o dokončeno vypracování monitorovací zprávy ve tvaru dd/mm/rrr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o datum musí být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ejpozději do 30 kalendářních dnů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d ukončení daného monitorovacího období. V případě nedodržení se jedná o porušení právního aktu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43040" y="642600"/>
            <a:ext cx="71438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2. Údaje o příjemci a zhotoviteli MZ 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28880" y="1214280"/>
          <a:ext cx="7000920" cy="5107320"/>
        </p:xfrm>
        <a:graphic>
          <a:graphicData uri="http://schemas.openxmlformats.org/drawingml/2006/table">
            <a:tbl>
              <a:tblPr/>
              <a:tblGrid>
                <a:gridCol w="2786040"/>
                <a:gridCol w="4214880"/>
              </a:tblGrid>
              <a:tr h="785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finanční podpory z OP VK tak, jak je uveden v Rozhodnutí o poskytnutí dotace (pokud nedošlo např. Dodatkem ke změně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6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 příjemce finanční podpory z OP VK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74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utární zástup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jméno a příjmení, funk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a funkci statutárního zástupce příjemce finanční podpory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4760"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tovitel M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 zhotovitele zpráv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osoby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fonní číslo/F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telefonní číslo/fax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-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e-mail 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3. Realizované klíčové aktivity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857240" y="1071720"/>
          <a:ext cx="7000920" cy="537660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, tak jak je uveden v 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, kdy byla klíčová aktivita realizována v daném monitorovacím obdob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706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ý popis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ce klíčové aktivity s ohledem na zapojení cílové skupiny, činnost realizačního týmu. V případě, že je společně s MZ předkládána i ŽoP, věnujte se dostatečně i popisu efektivnosti, účelnosti a hospodárnosti požadovaných výdaj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87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dnocení a výsledky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ky, přínos pro cílovou skupinu apo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634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émy při realizaci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roblémy, které nastaly při realizaci klíčové aktivity, popište také řešení daných problémů např. časově náročný proces financování projektu, problémy s realizací aktivit, neplnění indikátorů, nezájem cílové skupiny at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14680" y="857160"/>
            <a:ext cx="6357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4. Další informace o realizaci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714680" y="1571760"/>
          <a:ext cx="7000560" cy="2468520"/>
        </p:xfrm>
        <a:graphic>
          <a:graphicData uri="http://schemas.openxmlformats.org/drawingml/2006/table">
            <a:tbl>
              <a:tblPr/>
              <a:tblGrid>
                <a:gridCol w="7000560"/>
              </a:tblGrid>
              <a:tr h="274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další skutečnosti týkající se jednotlivých kroků realizace projektu, které nejsou zahrnuty v popisu klíčových aktivit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daje týkající se řízení projektu včetně popisu nákladů na řízení projekt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žení projektového tý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je monitorovací zpráva předkládána  bez žádosti o platbu informujte o důvo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14680" y="7855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5. Plánované klíčové aktivit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000160" y="1643040"/>
          <a:ext cx="6357960" cy="4451400"/>
        </p:xfrm>
        <a:graphic>
          <a:graphicData uri="http://schemas.openxmlformats.org/drawingml/2006/table">
            <a:tbl>
              <a:tblPr/>
              <a:tblGrid>
                <a:gridCol w="3179880"/>
                <a:gridCol w="317808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 příloze č. 1 Rozhodnutí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A, tak jak je uveden v příloze Žádosti (v příloze č. 1 Rozhodnutí o poskytnutí dotac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0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sledující monitorovací období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206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a cíl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lánované klíčové aktivity s ohledem na zapojení cílové skupiny, činnost realizačního týmu, vazbu na rozpočet projektu a na plánovanou výši nové Žádosti o platbu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6. Publicita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000160" y="1357200"/>
          <a:ext cx="6500880" cy="5092920"/>
        </p:xfrm>
        <a:graphic>
          <a:graphicData uri="http://schemas.openxmlformats.org/drawingml/2006/table">
            <a:tbl>
              <a:tblPr/>
              <a:tblGrid>
                <a:gridCol w="6500880"/>
              </a:tblGrid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zajištění publicity a informování o EU, ESF a o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6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, jakým způsobem jste ve sledovaném období informovali cílovou skupinu a širší veřejnost o Vašem projektu a jaké nástroje publicity jste využi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ové strán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štěn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ovizuální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mov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ční předmě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ináře, kon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zerce v médiích (tisk, TV, rozhlas, internet, ostatní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né aktivity povinné publicity jsou uvedeny v příloze č. 1 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e součástí MZ Žádost o platbu, popište náklady spojené s povinnou publicito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71400" y="285480"/>
            <a:ext cx="63579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7. Zadávací řízení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857240" y="785880"/>
          <a:ext cx="7000920" cy="5770440"/>
        </p:xfrm>
        <a:graphic>
          <a:graphicData uri="http://schemas.openxmlformats.org/drawingml/2006/table">
            <a:tbl>
              <a:tblPr/>
              <a:tblGrid>
                <a:gridCol w="1714680"/>
                <a:gridCol w="5286240"/>
              </a:tblGrid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(ZŘ) vyhlášená v monitorovaném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 ve sledovaném období vyhlášena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NE, pokud nebyla vyhlášen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1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vyhlášených ZŘ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křížkem „X“ ANO, stručně popište jednotlivá zadávací řízení vyhlášená ve sledovaném období (zda se jedná o dodávku zboží nebo služeb, předpokládanou cenu dodávek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bylo uvedené zadávací řízení zrušeno, uveďte důvod zruš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ždému vyhlášenému zadávacímu řízení přidělte pořadové číslo ve tvaru: číslo zadávacího řízení/rrrr, kde rrrr je rok vyhlášení, např.: 01/2008, 02/2008 atd. Pokud bylo zadávací řízení zrušeno, jeho číslo již nepoužívejte pro nově vyhlášené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uzavř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byla ve sledovaném období zadávací řízení uzavřena, tj. zda byla u zadávacích řízení podepsána smlouva s dodavatel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2790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uzavřených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„X“ ANO, stručně popište průběh a výsledek uzavřených zadávacích řízení, tj. zadávací řízení, u kterých byla ve sledovaném období podepsána smlouva s dodavatelem (uveďte počet uzavřených zadávacích řízení a jejich objem v Kč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osti o jednotlivých uzavřených zadávacích řízeních uveďte do přílohy č. 2 monitorovací zprávy – Přehled zadávacích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o zadávacích řízeních – např., která byla ve sledovaném období zrušena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1:02:56Z</dcterms:created>
  <dc:creator>doubalj</dc:creator>
  <dc:description/>
  <dc:language>en-US</dc:language>
  <cp:lastModifiedBy>ugh</cp:lastModifiedBy>
  <dcterms:modified xsi:type="dcterms:W3CDTF">2009-11-23T12:20:39Z</dcterms:modified>
  <cp:revision>256</cp:revision>
  <dc:subject/>
  <dc:title>Snímek 1</dc:title>
</cp:coreProperties>
</file>