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DD5E-ECDD-427C-8BE9-B35609FB80B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944E-B8CD-4DDA-A640-9D8D499394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7158-B65A-433E-9203-E03AB52AF1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C6D2-7995-47A2-B26D-14E46C355F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A80E-0B07-4266-86EC-6743D6DF73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9164-C4B5-4E80-AEFA-7766CD0C7C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6A50-27A1-485D-B7A4-51C7853551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8C8D-F314-4A52-99E0-3BB2395E9A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8B76-B61C-4DBE-A9C9-02487BE333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B36F-EC71-41A9-AEA1-82EB7BB9CF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C34F-115A-4133-9E29-B45C1DC573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6499-CD51-4364-A588-16499D6CA4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741A-B619-40DC-9E8A-E5EC3A8A6B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2FB7-B94C-4A2B-B0A2-528F2F3B6E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3F2B-BAB2-4684-BA4F-CDA0DDEF2F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153F-D76B-4D2D-9FA9-A2BE4CFA35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957F-A669-47FB-B11D-60E23C297E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A3D-3D11-442F-81C5-74855CF174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14680" y="571680"/>
            <a:ext cx="66434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643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5600" y="3567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071520"/>
            <a:ext cx="70005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l. číslo: 234 814 1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3040" y="642600"/>
            <a:ext cx="71438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85716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7855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23T12:20:39Z</dcterms:modified>
  <cp:revision>256</cp:revision>
  <dc:subject/>
  <dc:title>Snímek 1</dc:title>
</cp:coreProperties>
</file>