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F790F-1244-44E5-8934-84345B66DC6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25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680C-2540-4142-BFA5-2ABDFB9B6C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4F88B-09E5-43BB-A537-A269CEEA710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EDE1-EA5A-42AB-BCB9-AB649AE6DCD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CEA57-5312-450C-A0C3-7ED32E1A3BA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DC1A4-1C22-4687-9093-F752144FAD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5F677-DCBA-4BD1-8AA5-E591BF3901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96A6-9803-479A-ACD4-6C78BF2F414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EAC1-A172-4D60-9D33-7B6D5CED4D5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4E02-7530-4A86-8742-C07FA625FC2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EDD0F-E277-4CE9-8521-281E61097BD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B3B-0270-4BEE-9F0C-3AEC3FB6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875-C274-4638-9C3F-3FA644A3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D87-5B26-4F54-ABAE-1C11AACF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EC3-483D-42E2-892F-221B794F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0F4-18BA-4528-8671-F9E9E9D3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5C1-DC8F-449E-8470-A6CB4391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DA7-5607-413D-A145-4ADE623D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821-6602-4A76-9449-05DE5B6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C68-2D73-4828-847E-2C41E684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743-5365-4D01-A384-211146C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40A-A64E-4408-80F4-B506010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35A-27AB-40D9-926E-3631FFE8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3FCA8F-41B7-46A1-B076-1AA88D13BD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10:01:37Z</dcterms:modified>
  <cp:revision>97</cp:revision>
  <dc:subject/>
  <dc:title>Snímek 1</dc:title>
</cp:coreProperties>
</file>