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move the slide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1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2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C8960-F942-4C16-89B4-C4D51AF820DA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dt" idx="3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25.11.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A22DD-4289-4E6F-AEB5-24AB316181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Tabulka dostupná na stránkách MŠM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yhlašovatel zadávacího říz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řadové číslo zadávacího řízení – mělo by být shodné s číslem, uvedeným v monitorovací zprávě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dodavatele – název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IČ dodavatele – uveďte 8místní IČ vybraného dodavatele tak, jak je uvedeno v uzavřené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Typ zadávacího řízení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podpisu smlouvy s dodavatelem – tak, jak je uvedeno ve smlouvě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hodnota MI musí být uváděna kumulativně v návaznosti na předchozí MZ, nebývá často dodržován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DCC5-957D-4201-B10D-5255D575ECB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Odevzdává se za celý projekt, tzn. obsahuje zadávací řízení příjemce i jednotlivých partnerů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Pokud je ZŘ zrušeno, nevyplňuje se do této přílohy x pouze do textu věcné části MZ – viz. tabulka č.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7A564-A2CA-4D30-84BA-E3DEC8214E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šechny uvedené doklady musí být poskytovateli předloženy nejpozději s 1 ŽoP po ukončení výběru, poskytovateli se předkládají kopie uvedených dokumentů, originály uchovává příjemce a předkládají se na vyžádání kontrolním subjektů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 kontrolu na místě jsou důležité i doklady prokazující odeslání oznámení o zahájení VŘ dostatečnému počtu uchazečů (dodejkou, podacím lístkem, emailovou doručenkou, předávacím protokolem) + zadávací dokumen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klad o uveřejnění výzvy na stránkách MŠMT, tedy při plnění nejméně 500 000 Kč bez DPH – vytištěním příslušné stránky pomocí funkce Printscreen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smlouva včetně dodatků uzavřená s vybraným dodavatel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lohou zápisu je čestné prohlášení  o nepodjatosti a mlčenlivosti, zápis musí obsahovat náležitosti uvedené v PpP – zejména seznam posouzených a vyřazených nabídek; zdůvodnění vyloučení předložené nabídky; popis způsobu hodnocení nabídek; výsledek hodnocen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á chyba: zadávací řízení uvedená v příslušném bodě MZ neodpovídají monitorovanému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4B838-5C94-4F2A-A066-E2B4ED8F1AD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Uvádějte informace o všech prováděných i již provedených kontrolách projektu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 průběhu sledovaného období, za které je předkládána tato monitorovací zpráva, a to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všemi subjekty oprávněnými ke kontrole (např. poskytovatel podpory - ŘO/ZS, EK,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cs-CZ" sz="1200" spc="-1" strike="noStrike">
                <a:solidFill>
                  <a:srgbClr val="000000"/>
                </a:solidFill>
                <a:latin typeface="Calibri"/>
              </a:rPr>
              <a:t>interní audit MPSV). Další subjekty oprávněné ke kontrole v rámci OP VK – MF, NKÚ, ÚOHS,…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00C1-DEFC-420A-A36C-9A36DDB1DA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dstatné změny v rozpočtu, např:. o změnu kontaktních údajů, vytvoření nové podpoložky v rozpočtu do výše stanoveného limitu, změnu časového harmonogramu projektu týkající se jednotlivých aktivit atd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íjemce je oprávněn projekt upravit a pozměnit bez předchozího souhlasu poskytovatele pouze za předpokladu, že taková změna neovlivní dosažení cílů projektu, včetně naplňování schválených MI (= ukazatelé výstupů a výsledk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rovedené nepodstatné změny musí být vždy popsány v nejbližší MZ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D64C7-7F13-4E63-B054-C0CD094C9B9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ledování výsledků, výstupů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9EE7-A449-43D5-B267-39F6FAA9A1F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eg. číslo – uveďte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ojektu – celý název tak, jak je uvedeno v Rozhodnutí o poskytnutí do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OP = číslo OP VK, vždy stejné pro všechny prioritní osy a oblasti podp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prioritní osy = číslo prioritní osy, v rámci které je projekt realizová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prioritní osy dle Operačního programu (PO 1 = Počáteční vzdělávání, PO 2 = Terciární vzdělávání, výzkum a vývo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íslo výzvy = číslo výzvy, v rámci které je projekt realizován, je vidět z registračního čísla, které je uvedeno v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výzvy = Žádost o finanční podporu z OP VK – IP – oblast podpory 2.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68BB6-696E-4672-9BDA-776E040B943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ód indikátoru – stanoveno ve výzvě + bude vyvěšeno na stránkách MŠMT v záložce Monitorovací zpráv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ázev indikátoru – v Žádosti, případně v příloze č. 7  Rozhodnutí (= Prohlášení o změnách v projekt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ěrná jednotka – stanoveno v Žádosti (např. počet osob nebo obecně počet např. inovovaných kurzů), případně v příloze č. 7 – Prohlášení o změnách v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sažená hodnota – ke stanovenému datu vypracování MZ, vyplňuje se jako kumulativní hodnota – načítává 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datu uvedenému na konci této přílohy = datum vypracování tabulky, př: v 1 MZ je uvedeno např. 20 úspěšně podpořených osob, za 2 monitorovací období bylo podpořeno 10 osob, tzn. do 2 monitor. Zprávy píši celkovou  hodnotu od začátku projektu, tzn. 30 oso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ovinnost sledovat naplňování MI podle podrobnějšího členění (např. dle pohlaví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5B307-889A-4B08-AC7D-287A7F02BE4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zahájení realizace projektu: jedná se o </a:t>
            </a:r>
            <a:r>
              <a:rPr b="1" lang="cs-CZ" sz="1200" spc="-1" strike="noStrike">
                <a:solidFill>
                  <a:srgbClr val="000000"/>
                </a:solidFill>
                <a:latin typeface="Calibri"/>
              </a:rPr>
              <a:t>datum akceptace, popřípadě, datum zahájení realizace projektu,  je-li pozdější než datum akcept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Ukázat na Rozhodnut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423F-AD12-40B7-B02C-459A6CB55B2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U jednotlivých příloh, kde je vyžadován podpis doporučujeme napsat nejprve jméno příslušné osoby hůlkovým písmem a poté samotná podp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F697-A828-4905-BB85-876A9822944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v případě, kdy se mění harmonogram klíčových aktivit nebo začátek či konec realizace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potřeby je možné přidat tabulku pro následující rok, kterého se dotkne změna schváleného harmonogramu projektu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dává se při jakékoliv změně realizace KA oproti schválenému projekt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této prezentaci jsem již neudávala, je to v soubor xls. ,aktivní list, je možné s tím prac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6D1E-C7DA-4932-A23F-EE062F5993D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Rozsah oprávnění – co je osoba oprávněná podepisovat a schvalov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buClr>
                <a:srgbClr val="000000"/>
              </a:buClr>
              <a:buFont typeface="Calibri"/>
              <a:buChar char="-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latnost – datum platnosti – od kdy, případně do kdy, pokud má pověření omezenou platn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62FD-57BE-4D13-8341-4EBD35D727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Často se opakující chyby v MZ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V případě změny realizace KA není dodán přepracovaný harmonogram = příloha č. 10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dostatečně popsány skutečnosti v KA, některé skutečnosti zařazené do jednotlivých KA neodpovídají obsahu K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atum vypracování MZ je pozdější než datum podpisu statutárního zástupce, u podpisu statutárního zástupce chybí místo, případně razítk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ací období  neodpovídá délce stanovené v projektu (je delší než 3 měsíc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k VŘ nejsou doloženy všechny relevantní dokumen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ně zařazená VŘ v části vyhlášená nebo uzavřená VŘ v monitorovacím období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chybí identifikace projektu – i na nepovinné přílohy je třeba uvádět základní identifikační údaje, datum vypracování, jméno a podpis osoby, která přílohu vypracoval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0D7F-3AE4-409E-9997-ABF13EFFCB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imořádná MZ – při předkládání mimořádné ŽoP (termín následující průběžné MZ se pak řídí podle mimořádné MZ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Př: 1.6.2009 – zač. realizace, tzn. že 1. monitorovací období končí 31.8.2009 a předloženo musí být nejpozději do 30.9.2009. 2 MZ popisuje období 1.9.-30.11.2009 x chci podat mimořádnou ŽoP, tím pádem i mimořádnou ŽoP, zkrátím předchozí monitorovací období od 1.9.-30.10  a další počítám od tohoto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Závěrečná MZ – předkládá se nejpozději do 2 měsíců po ukončení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7239-7846-437D-B116-64BF4466428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Doporučujeme dokládat vzorové přihlášky, pozvánky, programy akcí. Obsah dokládání věcné části je na zvážení příjemce a partnera, jak mají nastaveno v samotné žádosti. Těmito přílohami příjemce prezentuje důležité, významné metody v realizaci projekt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04DF-98A6-46DA-9E67-2AE37014C2A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- Stačí pouze vypsat, zda se jedná o VŘ za dodávku, službu nebo stavební práce, název VŘ, případně kdy byla vyhlášena, pod jakým číslem byla zveřejněna, na jakou částku. Do poznámek je možné uvést, kdy budou VŘ uzavřen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Zástupný symbol pro číslo snímku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773EB-A727-41A8-8FE4-8671BDA645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6520"/>
            <a:ext cx="822924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Zástupný symbol pro datum 3"/>
          <p:cNvSpPr/>
          <p:nvPr/>
        </p:nvSpPr>
        <p:spPr>
          <a:xfrm>
            <a:off x="1714680" y="6072120"/>
            <a:ext cx="7072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6699"/>
                </a:solidFill>
                <a:latin typeface="Calibri"/>
              </a:rPr>
              <a:t>Ministerstvo školství, mládeže a tělových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3912c"/>
                </a:solidFill>
                <a:latin typeface="Calibri"/>
              </a:rPr>
              <a:t>Click to edit the title text forma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3912c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f3912c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182088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11. 6.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Zástupný symbol pro text 8"/>
          <p:cNvSpPr/>
          <p:nvPr/>
        </p:nvSpPr>
        <p:spPr>
          <a:xfrm>
            <a:off x="1714680" y="6286680"/>
            <a:ext cx="349236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Ing. Veronika Supov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smt.cz/" TargetMode="External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veronika.supova@msmt.cz" TargetMode="External"/><Relationship Id="rId2" Type="http://schemas.openxmlformats.org/officeDocument/2006/relationships/hyperlink" Target="mailto:cera@msmt.cz" TargetMode="External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99760" y="12142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Věcná část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63" name="TextovéPole 2"/>
          <p:cNvSpPr/>
          <p:nvPr/>
        </p:nvSpPr>
        <p:spPr>
          <a:xfrm>
            <a:off x="3429000" y="4929120"/>
            <a:ext cx="314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3912c"/>
                </a:solidFill>
                <a:latin typeface="Calibri"/>
              </a:rPr>
              <a:t>Ing. Veronika Sup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ovéPole 4"/>
          <p:cNvSpPr/>
          <p:nvPr/>
        </p:nvSpPr>
        <p:spPr>
          <a:xfrm>
            <a:off x="1714680" y="6215040"/>
            <a:ext cx="72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Tato prezentace je spolufinancována Evropským sociálním fondem a státním rozpočtem České republik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643040" y="1785960"/>
          <a:ext cx="7358040" cy="4194000"/>
        </p:xfrm>
        <a:graphic>
          <a:graphicData uri="http://schemas.openxmlformats.org/drawingml/2006/table">
            <a:tbl>
              <a:tblPr/>
              <a:tblGrid>
                <a:gridCol w="882720"/>
                <a:gridCol w="1177920"/>
                <a:gridCol w="809640"/>
                <a:gridCol w="344520"/>
                <a:gridCol w="1052280"/>
                <a:gridCol w="1177920"/>
                <a:gridCol w="955800"/>
                <a:gridCol w="957240"/>
              </a:tblGrid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hled uzavřených zadávacích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74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912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620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hlašovatel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/partn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 dodavate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adávacího říz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podpisu smlouvy s dodavatel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bez DPH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zakázky s DP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5840"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e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                                                                                                                       …… Kč             …. Kč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44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= datum vypracování tabul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 oprávněné osoby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– dle podpisového vz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14680" y="571680"/>
            <a:ext cx="6643440" cy="78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856880" y="1571400"/>
            <a:ext cx="7000920" cy="45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tupná na </a:t>
            </a: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msmt.cz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zavřené zadávací řízení = podpis smlouvy s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Vyplňuje se kumulativně – pokračování v číselné řadě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řikládá se ke každé MZ, ve které dochází k jakékoliv změn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85600" y="642600"/>
            <a:ext cx="66438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2- Přehled uzavřených zadávacích řízení - dokladování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856880" y="2143080"/>
            <a:ext cx="700092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zahájení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pis o posouzení a hodnocení podaných nabíde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Smlouva s vybraným dodavate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xt oznámení o výsledku ZŘ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8. Veřejná podpora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2071800" y="1214280"/>
          <a:ext cx="5643360" cy="2438640"/>
        </p:xfrm>
        <a:graphic>
          <a:graphicData uri="http://schemas.openxmlformats.org/drawingml/2006/table">
            <a:tbl>
              <a:tblPr/>
              <a:tblGrid>
                <a:gridCol w="3316320"/>
                <a:gridCol w="622080"/>
                <a:gridCol w="627120"/>
                <a:gridCol w="622440"/>
                <a:gridCol w="455400"/>
              </a:tblGrid>
              <a:tr h="487080"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řejná podpora poskytnutá přímo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veřejné podpory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row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veřejné podpory poskytnuté příjemci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K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 EU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70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4444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et čerpaných veřejných podp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4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tup při poskytování veřejné podpory dalším subjektů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720">
                <a:tc gridSpan="5"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   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8" name="TextovéPole 6"/>
          <p:cNvSpPr/>
          <p:nvPr/>
        </p:nvSpPr>
        <p:spPr>
          <a:xfrm>
            <a:off x="2071800" y="3841920"/>
            <a:ext cx="57862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áložku vyplňujte pouze v případě, kdy vám, partnerovi projektu nebo dalším subjektům byla v rámci projektu poskytnuta veřejná podpora podle blokových výjimek nebo podle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Záložku také vyplní příjemce/partner finanční podpory, který poskytuje některé služby podle blokových výjimek nebo pravidla de minim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- Podrobnosti o poskytnutí a čerpání jednotlivých veřejných podpor uveďte v příloze č. 3A Monitorovací zprávy a/nebo v příloze č. 3B Monitorovací zpráv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714680" y="35712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9. Kontrola na místě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1857240" y="1143000"/>
          <a:ext cx="7000920" cy="545940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42696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ontrola proved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4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/je ve sledovaném období provedena/prováděna kontrola projektu. (v opačném případě označte křížkem „X“ NE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subjektu, který provádí/provedl kontrol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sný název subjektu/subjektů, který kontrolu provádí/proved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11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ontroly podle Pověření ke kontrole (Protokolu o výsledku kontroly, případně podle Oznámení o kontrole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kontrol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a kontrola zahájena. Uvádějte datum podle Protokolu o výsledku kontroly. Pokud kontrola ještě nebyla ukončena, uveďte tuto skutečnost do poznámky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213480">
                <a:tc rowSpan="2"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pravná opatření splněn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NE                ČÁSTEČNĚ                NEBYLA ULOŽE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plňujte pouze v případě ukončené kontroly. Označte křížkem „X“ relevantní odpověď (ANO, NE, ČÁSTEČNĚ, NEBYLA ULOŽENA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73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hůta ke splnění nápravných opatře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596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vztahující se k provedeným kontrolám, např. informaci o tom, že kontrola dosud probíhá, informaci o průběhu plnění nápravných opatření, apod. Uveďte hlavní zjištění z kontroly, uložená nápravná opatření, doporučení apod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85600" y="356760"/>
            <a:ext cx="63579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0. Podstatné a nepodstatné změn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857240" y="1500120"/>
          <a:ext cx="7000920" cy="489276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statné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462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 podstatných změn projektu se postupuje podle Rozhodnutí o poskytnutí dotace a verze Příručky pro příjemce, která je uvedena ve výše jmenovaném dokumentu. 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ést, zda byla požadovaná změna poskytovatelem podpory odsouhlasena a zda byl vytvořen dodatek k 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4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odstatné změ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Formální změny v 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Věcné změny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3719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adresy pro doruče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kontaktní osob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a názvu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smějí mít vliv na charakter projektu a dosažení cíl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pracovně právního vztah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měny realizačního týmu (rozdělení, slučování pozi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4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měny rozpočtu v monitorovaném obdob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yplňují se do přílohy č. 9 Monitorovací zpráv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1.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928880" y="1500120"/>
          <a:ext cx="7000920" cy="4818240"/>
        </p:xfrm>
        <a:graphic>
          <a:graphicData uri="http://schemas.openxmlformats.org/drawingml/2006/table">
            <a:tbl>
              <a:tblPr/>
              <a:tblGrid>
                <a:gridCol w="7000920"/>
              </a:tblGrid>
              <a:tr h="4287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oje dat pro monitorovací indikátory a komentá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3894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é hodnoty se vykazují pomocí tabulky v Excelu – viz Příloha č.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kazované indikátory se musí opírat o průkaznou evidenci vedenou příjemc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výkazy o provedené práci, prezenční listiny, certifikáty, atd. – tj. doklady, kterými můžete prokázat dosažené číselné hodno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zenční listi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ydané certifiká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nástroje, které používáte v rámci projektu pro sledování monitorovacích ukazatelů – výstupů a výsledk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jetiny z informačního systé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642680" y="142560"/>
            <a:ext cx="63579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643040" y="1143000"/>
          <a:ext cx="7143840" cy="5548320"/>
        </p:xfrm>
        <a:graphic>
          <a:graphicData uri="http://schemas.openxmlformats.org/drawingml/2006/table">
            <a:tbl>
              <a:tblPr/>
              <a:tblGrid>
                <a:gridCol w="1190520"/>
                <a:gridCol w="1506600"/>
                <a:gridCol w="424080"/>
                <a:gridCol w="1690560"/>
                <a:gridCol w="2332080"/>
              </a:tblGrid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e operačního programu a výz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operačního program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erační program vzdělávání pro konkurenceschopnos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 nebo PO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ioritní os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čáteční vzdělávání/Terciární vzdělávání, výzkum a vývoj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výzvy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výzvy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vedeno v Žádosti (viz Příloha č. 1 Rozhodnut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á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projektu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v ke dni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dividuální projekt ostatn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datum, ke kterému jsou vyplněny dosažené hodnoty M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tupy a výsled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ód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indikátor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ěrná jednotk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sažená hodno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714680" y="356760"/>
            <a:ext cx="635760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- Monitorovací indikát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856880" y="1428480"/>
            <a:ext cx="7000920" cy="50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ód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Název indikáto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Měrná jednot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sažená hodnota - ke stanovenému datu, kumulativní hodno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atum = datum vypracování tabulk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3912c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pis oprávněné osoby = podpis oprávněné osoby dle podpisového vzoru (viz. příloha č. 11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99760" y="785880"/>
            <a:ext cx="7000920" cy="52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Přílohy věcné části Monitorovací zprávy</a:t>
            </a:r>
            <a:br>
              <a:rPr sz="8000"/>
            </a:b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642680" y="285840"/>
            <a:ext cx="62866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1. Údaje o projektu a Monitorovací zprávě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71760" y="1096920"/>
          <a:ext cx="7000920" cy="5546880"/>
        </p:xfrm>
        <a:graphic>
          <a:graphicData uri="http://schemas.openxmlformats.org/drawingml/2006/table">
            <a:tbl>
              <a:tblPr/>
              <a:tblGrid>
                <a:gridCol w="3500280"/>
                <a:gridCol w="3500640"/>
              </a:tblGrid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     .     .     /    . .    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ojektu, tak jak je uvedeno v Rozhodnutí o poskytnutí dotace, např.: CZ.1.07/4.1.01/01.0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 tak, jak je uveden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73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ioritní osy OP VK, ve které je projekt realizován, např. 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finanční podpory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ková výše přidělené finanční podpory na projekt tak, jak je uvedena v 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535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ESF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financovaná z ESF. Tato částka je uvedena v Rozhodnutí o poskytnutí dotace v tab. č. 1, řádku aa) prostředky z ESF (§ 44 odst. 2 písm. f) rozpočtových pravide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řížové financování [Kč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še křížového financování tak, jak je uvedena v Rozhodnutí o poskytnutí dotace v tabulce č. 2, řádku 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96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zahájení realizace projektu tak, jak je uvedeno v Rozhodnutí o poskytnutí dotace.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392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ukončení realizace projektu tak, jak je uvedeno v Rozhodnutí o poskytnutí dotace, případně datum uvedený v Dodatku k rozhodnut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2660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právního aktu (Rozhodnutí/Smlouvy/Opatření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Rozhodnutí o poskytnutí dotac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př. 07/17/20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1642680" y="1499760"/>
            <a:ext cx="735804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Monitorovací indikátory (Příloha č.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hled uzavřených zadávacích řízení              (Příloha č. 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řepracovaný harmonogram projektu   (Příloha č. 10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Podpisové vzory (Příloha č. 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f3912c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Žádost o schválení podstatných změn               ( Příloha č. 17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ovéPole 2"/>
          <p:cNvSpPr/>
          <p:nvPr/>
        </p:nvSpPr>
        <p:spPr>
          <a:xfrm>
            <a:off x="1714680" y="142920"/>
            <a:ext cx="664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79646"/>
                </a:solidFill>
                <a:latin typeface="Calibri"/>
              </a:rPr>
              <a:t>Seznam příloh – věcná 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0- Přepracovaný harmonogram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785960" y="1714680"/>
          <a:ext cx="7143840" cy="4895640"/>
        </p:xfrm>
        <a:graphic>
          <a:graphicData uri="http://schemas.openxmlformats.org/drawingml/2006/table">
            <a:tbl>
              <a:tblPr/>
              <a:tblGrid>
                <a:gridCol w="1357200"/>
                <a:gridCol w="357120"/>
                <a:gridCol w="428760"/>
                <a:gridCol w="428760"/>
                <a:gridCol w="549000"/>
                <a:gridCol w="439920"/>
                <a:gridCol w="439560"/>
                <a:gridCol w="500400"/>
                <a:gridCol w="571320"/>
                <a:gridCol w="571680"/>
                <a:gridCol w="357120"/>
                <a:gridCol w="571320"/>
                <a:gridCol w="571680"/>
              </a:tblGrid>
              <a:tr h="37044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epracovaný harmonogram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5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2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podp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1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09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líčová aktivita (2010)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X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II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14680" y="213840"/>
            <a:ext cx="6357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říloha č. 11- Podpisové vzory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071800" y="1785960"/>
          <a:ext cx="6060960" cy="3743280"/>
        </p:xfrm>
        <a:graphic>
          <a:graphicData uri="http://schemas.openxmlformats.org/drawingml/2006/table">
            <a:tbl>
              <a:tblPr/>
              <a:tblGrid>
                <a:gridCol w="1571400"/>
                <a:gridCol w="906480"/>
                <a:gridCol w="1094040"/>
                <a:gridCol w="1000080"/>
                <a:gridCol w="1488960"/>
              </a:tblGrid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ový vzor osob oprávněných  k podepisování a schvalování dokumentů a operací v rámci OP V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2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gistrační číslo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Z.1.07/2.2.00/07.01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895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rojektu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ý název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 finanční podpory/partne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02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zsah oprávně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latno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pi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4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1714680" y="3071520"/>
            <a:ext cx="7000560" cy="31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Kontakt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Ing. Veronika Supová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el. číslo: 234 814 19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veronika.supov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cera@msmt.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857240" y="571320"/>
            <a:ext cx="6215040" cy="22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endParaRPr b="1" lang="en-US" sz="8000" spc="-1" strike="noStrike">
              <a:solidFill>
                <a:srgbClr val="f3912c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1785960" y="500040"/>
          <a:ext cx="7000920" cy="5761080"/>
        </p:xfrm>
        <a:graphic>
          <a:graphicData uri="http://schemas.openxmlformats.org/drawingml/2006/table">
            <a:tbl>
              <a:tblPr/>
              <a:tblGrid>
                <a:gridCol w="2214720"/>
                <a:gridCol w="4786200"/>
              </a:tblGrid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řadové číslo předkládané monitorovací zprávy – číslujte postupně od začátku realizace projektu ve tvaru: číslo zprávy/rrrr, např.: 01/2009 – 1. monitorovací zpráva od počátku realizace projektu, předložená v roce 2009, následně 02/2009, 03/2009, 04/2009, 05/2010, 06/2010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nitorované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átek                                                      Kone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a, která ohraničují období, ke kterému se vztahuje předkládaná Monitorovací zpráva ve tvaru dd/mm/rrrr; např. začátek: 01/05/2009; konec: 31/07/2009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936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yp zprávy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ůběžná                Závěrečná                Mimořádn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o jaký typ předkládané zprávy se jedná 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ůběžná 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ravidelná MZ předkládaná za období 3 měsíců realizace projektu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Závěreč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 po ukončení projektu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Mimořádná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= předkládaná mimo režim průběžné MZ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704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ádost o platb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     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je zároveň s Monitorovací zprávou předkládána Žádost o platbu (pokud ne, označte křížkem „X“ Ne)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66680">
                <a:tc>
                  <a:txBody>
                    <a:bodyPr lIns="44280" rIns="442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 vypracování zpráv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um, kdy bylo dokončeno vypracování monitorovací zprávy ve tvaru dd/mm/rrrr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o datum musí být </a:t>
                      </a:r>
                      <a:r>
                        <a:rPr b="0" lang="cs-CZ" sz="14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nejpozději do 30 kalendářních dnů</a:t>
                      </a: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od ukončení daného monitorovacího období. V případě nedodržení se jedná o porušení právního aktu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43040" y="642600"/>
            <a:ext cx="7143840" cy="42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2. Údaje o příjemci a zhotoviteli MZ 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928880" y="1214280"/>
          <a:ext cx="7000920" cy="5107320"/>
        </p:xfrm>
        <a:graphic>
          <a:graphicData uri="http://schemas.openxmlformats.org/drawingml/2006/table">
            <a:tbl>
              <a:tblPr/>
              <a:tblGrid>
                <a:gridCol w="2786040"/>
                <a:gridCol w="4214880"/>
              </a:tblGrid>
              <a:tr h="785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říjem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příjemce finanční podpory z OP VK tak, jak je uveden v Rozhodnutí o poskytnutí dotace (pokud nedošlo např. Dodatkem ke změně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76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Č/DIČ příjemce finanční podpory z OP VK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97452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utární zástup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jméno a příjmení, funkce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a funkci statutárního zástupce příjemce finanční podpory tak, jak je uvedeno v Rozhodnutí o poskytnutí dotace (případně Dodatku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374760">
                <a:tc gridSpan="2"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tovitel M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 a příjmení zhotovitele zpráv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méno, příjmení osoby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lefonní číslo/Fa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telefonní číslo/fax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-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uální e-mail  na osobu, která MZ zpracovala a je schopna zodpovědět případné dotazy či poskytnout požadovaná doplněn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3. Realizované klíčové aktivity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857240" y="1071720"/>
          <a:ext cx="7000920" cy="5376600"/>
        </p:xfrm>
        <a:graphic>
          <a:graphicData uri="http://schemas.openxmlformats.org/drawingml/2006/table">
            <a:tbl>
              <a:tblPr/>
              <a:tblGrid>
                <a:gridCol w="3500640"/>
                <a:gridCol w="3500280"/>
              </a:tblGrid>
              <a:tr h="487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00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, tak jak je uveden v Žádosti (viz. příloha č. 1 Rozhodnutí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, kdy byla klíčová aktivita realizována v daném monitorovacím období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70676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ý popis realizace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alizace klíčové aktivity s ohledem na zapojení cílové skupiny, činnost realizačního týmu. V případě, že je společně s MZ předkládána i ŽoP, věnujte se dostatečně i popisu efektivnosti, účelnosti a hospodárnosti požadovaných výdajů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8744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hodnocení a výsledky klíčové aktiv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sledky, přínos pro cílovou skupinu apo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4634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blémy při realizaci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roblémy, které nastaly při realizaci klíčové aktivity, popište také řešení daných problémů např. časově náročný proces financování projektu, problémy s realizací aktivit, neplnění indikátorů, nezájem cílové skupiny atd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14680" y="857160"/>
            <a:ext cx="6357600" cy="5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4. Další informace o realizaci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714680" y="1571760"/>
          <a:ext cx="7000560" cy="2468520"/>
        </p:xfrm>
        <a:graphic>
          <a:graphicData uri="http://schemas.openxmlformats.org/drawingml/2006/table">
            <a:tbl>
              <a:tblPr/>
              <a:tblGrid>
                <a:gridCol w="7000560"/>
              </a:tblGrid>
              <a:tr h="2743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další skutečnosti týkající se jednotlivých kroků realizace projektu, které nejsou zahrnuty v popisu klíčových aktivit 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daje týkající se řízení projektu včetně popisu nákladů na řízení projekt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ložení projektového týmu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je monitorovací zpráva předkládána  bez žádosti o platbu informujte o dův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14680" y="7855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5. Plánované klíčové aktivity projektu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2000160" y="1643040"/>
          <a:ext cx="6357960" cy="4451400"/>
        </p:xfrm>
        <a:graphic>
          <a:graphicData uri="http://schemas.openxmlformats.org/drawingml/2006/table">
            <a:tbl>
              <a:tblPr/>
              <a:tblGrid>
                <a:gridCol w="3179880"/>
                <a:gridCol w="3178080"/>
              </a:tblGrid>
              <a:tr h="823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íslo klíčové aktivity, tak jak je uvedeno v Žádosti (v příloze č. 1 Rozhodnutí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zev KA, tak jak je uveden v příloze Žádosti (v příloze č. 1 Rozhodnutí o poskytnutí dotace)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07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bdobí realizace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ásledující monitorovací období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2060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a cíl klíčové aktivi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 plánované klíčové aktivity s ohledem na zapojení cílové skupiny, činnost realizačního týmu, vazbu na rozpočet projektu a na plánovanou výši nové Žádosti o platbu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14680" y="571320"/>
            <a:ext cx="63576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6. Publicita projektu</a:t>
            </a: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000160" y="1357200"/>
          <a:ext cx="6500880" cy="5092920"/>
        </p:xfrm>
        <a:graphic>
          <a:graphicData uri="http://schemas.openxmlformats.org/drawingml/2006/table">
            <a:tbl>
              <a:tblPr/>
              <a:tblGrid>
                <a:gridCol w="6500880"/>
              </a:tblGrid>
              <a:tr h="428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zajištění publicity a informování o EU, ESF a o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664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šte, jakým způsobem jste ve sledovaném období informovali cílovou skupinu a širší veřejnost o Vašem projektu a jaké nástroje publicity jste využi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ebové strán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ištěn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udiovizuální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ilmové materiál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agační předmě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mináře, kon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zerce v médiích (tisk, TV, rozhlas, internet, ostatní)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ávazné aktivity povinné publicity jsou uvedeny v příloze č. 1 Rozhodnutí o poskytnutí dotac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e součástí MZ Žádost o platbu, popište náklady spojené s povinnou publicitou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71400" y="285480"/>
            <a:ext cx="635796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7. Zadávací řízení</a:t>
            </a:r>
            <a:br>
              <a:rPr sz="3600"/>
            </a:br>
            <a:endParaRPr b="1" lang="en-US" sz="3600" spc="-1" strike="noStrike">
              <a:solidFill>
                <a:srgbClr val="f3912c"/>
              </a:solidFill>
              <a:latin typeface="Calibri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857240" y="785880"/>
          <a:ext cx="7000920" cy="5770440"/>
        </p:xfrm>
        <a:graphic>
          <a:graphicData uri="http://schemas.openxmlformats.org/drawingml/2006/table">
            <a:tbl>
              <a:tblPr/>
              <a:tblGrid>
                <a:gridCol w="1714680"/>
                <a:gridCol w="5286240"/>
              </a:tblGrid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(ZŘ) vyhlášená v monitorovaném období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852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„X“ ANO pokud byla ve sledovaném období vyhlášena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 Označte křížkem NE, pokud nebyla vyhláše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918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vyhlášených ZŘ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křížkem „X“ ANO, stručně popište jednotlivá zadávací řízení vyhlášená ve sledovaném období (zda se jedná o dodávku zboží nebo služeb, předpokládanou cenu dodávek apod.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 případě, že bylo uvedené zadávací řízení zrušeno, uveďte důvod zruš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aždému vyhlášenému zadávacímu řízení přidělte pořadové číslo ve tvaru: číslo zadávacího řízení/rrrr, kde rrrr je rok vyhlášení, např.: 01/2008, 02/2008 atd. Pokud bylo zadávací řízení zrušeno, jeho číslo již nepoužívejte pro nově vyhlášené zadávací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 rowSpan="2"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dávací řízení uzavřená v monitorovaném období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O                                        N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značte křížkem „X“ ANO pokud byla ve sledovaném období zadávací řízení uzavřena, tj. zda byla u zadávacích řízení podepsána smlouva s dodavatelem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1279080"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pis uzavřených Z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kud jste označili „X“ ANO, stručně popište průběh a výsledek uzavřených zadávacích řízení, tj. zadávací řízení, u kterých byla ve sledovaném období podepsána smlouva s dodavatelem (uveďte počet uzavřených zadávacích řízení a jejich objem v Kč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drobnosti o jednotlivých uzavřených zadávacích řízeních uveďte do přílohy č. 2 monitorovací zprávy – Přehled zadávacích řízení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426600">
                <a:tc>
                  <a:txBody>
                    <a:bodyPr lIns="44280" rIns="44280" tIns="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známk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lIns="44280" rIns="44280" tIns="0" bIns="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lší informace o zadávacích řízeních – např., která byla ve sledovaném období zrušena apo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4280" marR="44280">
                    <a:lnL w="5760">
                      <a:solidFill>
                        <a:srgbClr val="f79646"/>
                      </a:solidFill>
                    </a:lnL>
                    <a:lnR w="5760">
                      <a:solidFill>
                        <a:srgbClr val="f79646"/>
                      </a:solidFill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solidFill>
                      <a:srgbClr val="fdefe9"/>
                    </a:solidFill>
                  </a:tcPr>
                </a:tc>
              </a:tr>
            </a:tbl>
          </a:graphicData>
        </a:graphic>
      </p:graphicFrame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1T11:02:56Z</dcterms:created>
  <dc:creator>doubalj</dc:creator>
  <dc:description/>
  <dc:language>en-US</dc:language>
  <cp:lastModifiedBy>ugh</cp:lastModifiedBy>
  <dcterms:modified xsi:type="dcterms:W3CDTF">2009-11-23T12:20:39Z</dcterms:modified>
  <cp:revision>256</cp:revision>
  <dc:subject/>
  <dc:title>Snímek 1</dc:title>
</cp:coreProperties>
</file>