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46010-5EFC-48FE-ACB6-9F04532A753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25.11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29574A-29A7-4709-9B23-8ABB8B52D57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3A70EC-5779-4D93-B48F-80EC45B71FB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e písemně na statutárního zástupce. Celý proces se znovu opakuj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3081AA-BACB-4954-8244-9492D4FF9F6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F9E4B3-13EE-40F8-824B-B8C1A9718DE5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imořádná průběžná MZ – z důvodu vyčerpání finančních prostředků; termín následující MZ se pak řídí podle této mimořádné průběžné MZ, tj. další průběžná MZ musí být předložena opět po třech měsících realizace projektu (Pravidla monitorování, Příručka pro příjem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6D542A-E249-4331-A5B8-ED21B2DD57C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7CAC2-EF72-4A35-9CCA-22786CE1BC0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96593A-1740-41D9-9564-D4088A3A148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8321C7-7207-42FB-AB2B-1F4A621D53C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23F3DD-E46B-4C21-8DC9-DD52AFFA282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MZ se až do odvolání předkládá v listinné podobě (nezadává se do Monitu). TABULKA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C9BA17-3B25-4017-9F04-0D9400318C8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7D34-98C2-48F1-945D-53356B89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9999-05B5-4D37-B4BF-ABDEB506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5FBC-D4A3-4120-BB62-6057CCB3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DE06-B5B7-4A64-B1AF-001FA072D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0E32-3DCF-4F90-970E-67E83E69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1D49-9062-46D3-A4BF-6431A9842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183F-285A-4A6F-8114-51B4AFCCC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3A22-43A4-46A7-BF24-396214E8B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B80B-2ED8-43A5-8992-8A57E6326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ED4B-C6E3-48B8-B0EE-6848E120A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B5FDA-D1F4-49BA-B176-E8CF7E9D0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4890-8F2E-4740-A7E1-B495AA3D4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A51C0FE-5FC0-472E-A442-BF951CDAF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msmt.cz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0"/>
            <a:ext cx="7886880" cy="420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1" lang="cs-CZ" sz="4800" spc="-1" strike="noStrike">
                <a:solidFill>
                  <a:srgbClr val="ff9900"/>
                </a:solidFill>
                <a:latin typeface="Arial"/>
              </a:rPr>
              <a:t>Základní informace k předkládání monitorovacích zprav (MZ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4208040"/>
            <a:ext cx="7886880" cy="14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8000"/>
          </a:bodyPr>
          <a:p>
            <a:pPr marL="248400" indent="-1879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f9900"/>
                </a:solidFill>
                <a:latin typeface="Arial"/>
              </a:rPr>
              <a:t>Mgr. Martina Špak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48400" indent="-1879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následuje po odevzdání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1753920" y="1994040"/>
            <a:ext cx="7815240" cy="475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rola MZ poskytovatelem dotace (komunikace s projektovým manažerem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vyzvání je příjemce povinen případné chybějící nebo doplňující údaje poskytnout do 15 pracovních dnů – vyzvání proběhne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e-mailem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na zhotovitele MZ a hlavní kontaktní oso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82280" y="921960"/>
            <a:ext cx="7815240" cy="17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5400" spc="-1" strike="noStrike">
                <a:solidFill>
                  <a:srgbClr val="ff9900"/>
                </a:solidFill>
                <a:latin typeface="Arial"/>
              </a:rPr>
              <a:t>Děkuji za pozorno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825200" y="3637080"/>
            <a:ext cx="7815240" cy="31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akt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gr. Martina Špakov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martina.spakov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262699"/>
                </a:solidFill>
                <a:uFillTx/>
                <a:latin typeface="Arial"/>
              </a:rPr>
              <a:t>cera@msmt.c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Co je potřeba předkláda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753920" y="1564920"/>
            <a:ext cx="80722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ůběžná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věreč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o ukončení: 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MZ o udržitelnosti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  (1x ročně po ukončení projektu po dobu 5 let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 u="sng">
                <a:solidFill>
                  <a:srgbClr val="000000"/>
                </a:solidFill>
                <a:uFillTx/>
                <a:latin typeface="Arial"/>
              </a:rPr>
              <a:t>průběžná MZ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: bez žádosti o platbu nebo se žádostí o platbu (v případě, že příjemce provedl vyúčtování způsobilých výdajů a žádá o jejich proplacení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mimořádná M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y odevzdáv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753920" y="1565280"/>
            <a:ext cx="8072280" cy="55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méně jednou za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 resp. 6 měsíců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od zahájení projektu (dle Rozhodnutí resp. Dodatku), vždy do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30 kalendářních dnů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d konce monitorovacího obdob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. monitorovací obdob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) ode dne začátku realizace projek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) v souladu s kalendářními měsíci (od prvního dne měsíce, v němž začal projek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volená možnost se používá během celého období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1825200" y="779040"/>
            <a:ext cx="757260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íklad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v Rozhodnutí je uvedeno datum zahájení projektu 1.5. 2009, datum podpisu akceptace je 8.5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: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8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7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6. 9.200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8. 8. – 7. 11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nitorovací období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– 31.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7., </a:t>
            </a:r>
            <a:r>
              <a:rPr b="0" i="1" lang="cs-CZ" sz="3200" spc="-1" strike="noStrike">
                <a:solidFill>
                  <a:srgbClr val="000000"/>
                </a:solidFill>
                <a:latin typeface="Arial"/>
              </a:rPr>
              <a:t>předložení MZ: do 30. 8.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(další MZ za období 1. 8. – 31. 10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19200" indent="-5144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bdélník 3"/>
          <p:cNvSpPr/>
          <p:nvPr/>
        </p:nvSpPr>
        <p:spPr>
          <a:xfrm>
            <a:off x="1825560" y="565200"/>
            <a:ext cx="7643880" cy="1857240"/>
          </a:xfrm>
          <a:prstGeom prst="rect">
            <a:avLst/>
          </a:prstGeom>
          <a:noFill/>
          <a:ln w="381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53920" y="207720"/>
            <a:ext cx="7815240" cy="185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br>
              <a:rPr sz="4400"/>
            </a:br>
            <a:r>
              <a:rPr b="1" lang="cs-CZ" sz="32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: Strukturální fondy – OP VK: Pro žadatele a příjem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"/>
          <p:cNvPicPr/>
          <p:nvPr/>
        </p:nvPicPr>
        <p:blipFill>
          <a:blip r:embed="rId3"/>
          <a:stretch/>
        </p:blipFill>
        <p:spPr>
          <a:xfrm>
            <a:off x="1539720" y="2065320"/>
            <a:ext cx="8286840" cy="528624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65" name="Elipsa 9"/>
          <p:cNvSpPr/>
          <p:nvPr/>
        </p:nvSpPr>
        <p:spPr>
          <a:xfrm>
            <a:off x="3325680" y="4565520"/>
            <a:ext cx="1857600" cy="5000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6" name="Přímá spojovací šipka 13"/>
          <p:cNvCxnSpPr/>
          <p:nvPr/>
        </p:nvCxnSpPr>
        <p:spPr>
          <a:xfrm flipH="1">
            <a:off x="7683120" y="4995720"/>
            <a:ext cx="2160" cy="1501200"/>
          </a:xfrm>
          <a:prstGeom prst="straightConnector1">
            <a:avLst/>
          </a:prstGeom>
          <a:ln w="5724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3920" y="301680"/>
            <a:ext cx="7815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Kde nají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"/>
          <p:cNvPicPr/>
          <p:nvPr/>
        </p:nvPicPr>
        <p:blipFill>
          <a:blip r:embed="rId2"/>
          <a:stretch/>
        </p:blipFill>
        <p:spPr>
          <a:xfrm>
            <a:off x="1754280" y="1351080"/>
            <a:ext cx="8072280" cy="6000480"/>
          </a:xfrm>
          <a:prstGeom prst="rect">
            <a:avLst/>
          </a:prstGeom>
          <a:ln w="0">
            <a:noFill/>
          </a:ln>
        </p:spPr>
      </p:pic>
      <p:sp>
        <p:nvSpPr>
          <p:cNvPr id="70" name="Elipsa 5"/>
          <p:cNvSpPr/>
          <p:nvPr/>
        </p:nvSpPr>
        <p:spPr>
          <a:xfrm>
            <a:off x="1754280" y="3351240"/>
            <a:ext cx="1428480" cy="2858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Elipsa 6"/>
          <p:cNvSpPr/>
          <p:nvPr/>
        </p:nvSpPr>
        <p:spPr>
          <a:xfrm>
            <a:off x="3468600" y="2279520"/>
            <a:ext cx="2286000" cy="357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53920" y="-360"/>
            <a:ext cx="781524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V jaké formě odevzdat MZ a její přílo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611360" y="1564920"/>
            <a:ext cx="8215200" cy="57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Listinn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evně spojena v jednom svaz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aždá příloha samostatně spoj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jednotlivé přílohy je možné vyjmou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Elektronická verze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četně relevantních příloh na nepřepisovatelném CD – viz tabul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žádost o platbu a některé přílohy – viz tabu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468360" y="422280"/>
          <a:ext cx="9072360" cy="6786720"/>
        </p:xfrm>
        <a:graphic>
          <a:graphicData uri="http://schemas.openxmlformats.org/drawingml/2006/table">
            <a:tbl>
              <a:tblPr/>
              <a:tblGrid>
                <a:gridCol w="936720"/>
                <a:gridCol w="3238200"/>
                <a:gridCol w="2087640"/>
                <a:gridCol w="955800"/>
                <a:gridCol w="981000"/>
                <a:gridCol w="873000"/>
              </a:tblGrid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íslo příloh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ateriál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istinná verz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D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Benefit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zpráv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doc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582840">
                <a:tc gridSpan="6"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ílohy monitorovací zpráv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onitorovací indikátory 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3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uzavřených zadávacích říze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A. Přehled čerpání veřejné podpory podle blokových výjime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3B. Přehled čerpání veřejné podpory podle de minimi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o platb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inalizovaná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oupiska účetních dokladů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účetních doklad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pie výpisu z účtu projektu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hled čerpání způsobilých výdajů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9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rozpočet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řepracovaný harmonogram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dpisové vzory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2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pracovní výkaz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Zaměstnanec, Nadřízený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912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3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mzdové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cestovní náklad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5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okladování způsobilých výdajů – odpisy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.xls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680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6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ožadavek na strukturu zaslané platby (u organizací se závaznými limity v oblasti mezd)</a:t>
                      </a:r>
                      <a:r>
                        <a:rPr b="0" lang="cs-CZ" sz="1100" spc="-1" strike="noStrike" baseline="30000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1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právněná osoba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  Scan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  <a:tr h="24768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7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Žádost schválení podstatných změn GP/IP OPVK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tatutární zástupce příjem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 w="5760">
                      <a:solidFill>
                        <a:srgbClr val="9bbb59"/>
                      </a:solidFill>
                    </a:lnL>
                    <a:lnR w="5760">
                      <a:solidFill>
                        <a:srgbClr val="9bbb59"/>
                      </a:solidFill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noFill/>
                  </a:tcPr>
                </a:tc>
              </a:tr>
              <a:tr h="497160"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8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alší relevantní přílohy – prezenční listiny, výstupy z projektu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ANO/NE Relevantní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  <a:tc>
                  <a:txBody>
                    <a:bodyPr lIns="48960" rIns="489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48960" marR="489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9bbb59"/>
                      </a:solidFill>
                    </a:lnT>
                    <a:lnB w="5760">
                      <a:solidFill>
                        <a:srgbClr val="9bbb59"/>
                      </a:solidFill>
                    </a:lnB>
                    <a:solidFill>
                      <a:srgbClr val="e6eed5"/>
                    </a:solidFill>
                  </a:tcPr>
                </a:tc>
              </a:tr>
            </a:tbl>
          </a:graphicData>
        </a:graphic>
      </p:graphicFrame>
      <p:sp>
        <p:nvSpPr>
          <p:cNvPr id="76" name="Rectangle 1"/>
          <p:cNvSpPr/>
          <p:nvPr/>
        </p:nvSpPr>
        <p:spPr>
          <a:xfrm>
            <a:off x="4950000" y="-311400"/>
            <a:ext cx="18072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0" y="0"/>
            <a:ext cx="3327480" cy="9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7440" bIns="-3744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53920" y="301320"/>
            <a:ext cx="7815240" cy="83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Jak odevzdat MZ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1682640" y="1279080"/>
            <a:ext cx="8143920" cy="628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Doporučeně poštou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náležitost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resa poskytovatele podpory včetně kontaktní osob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Jméno příslušného PM, odbor CE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armelitská 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18 12 Praha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a registrační číslo projek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pozornění „Neotvírat – Monitorovací zpráva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Osobně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po domluvě s PM, potvrzení o převze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800" spc="-1" strike="noStrike" u="sng">
                <a:solidFill>
                  <a:srgbClr val="000000"/>
                </a:solidFill>
                <a:uFillTx/>
                <a:latin typeface="Arial"/>
              </a:rPr>
              <a:t>Rozhoduje datum doručení poskytovateli podpory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bdélník 4"/>
          <p:cNvSpPr/>
          <p:nvPr/>
        </p:nvSpPr>
        <p:spPr>
          <a:xfrm>
            <a:off x="3040200" y="2708280"/>
            <a:ext cx="5643360" cy="1928880"/>
          </a:xfrm>
          <a:prstGeom prst="rect">
            <a:avLst/>
          </a:prstGeom>
          <a:noFill/>
          <a:ln w="2844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10:01:37Z</dcterms:modified>
  <cp:revision>97</cp:revision>
  <dc:subject/>
  <dc:title>Snímek 1</dc:title>
</cp:coreProperties>
</file>