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E98B9-ACAD-469C-A6C3-C9E4130D4BA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25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8BB89-B8AC-4D27-9031-70D33437A92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F0E3B-5B61-4107-98E9-6D62B71227B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972F-D463-42CD-AA43-40B54E85F28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2032E-024A-4491-8E90-6A5DE322DA7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E0FDA-C55A-4DB5-AC17-3D254B7B7B2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443A9-D6C3-4A81-B18E-035176E9749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280DE-E26D-4603-8415-A081E387DCA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5ADF2-60F9-4676-B148-6EF79970EAC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4C3C7-454F-4513-8AFF-C06DA1A2945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DD17A-1F13-4476-AD73-C306D80542F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BF0-206D-4582-A707-5344A2DE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011-9084-4C44-B36D-371B45B1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53A-A0A7-40D0-9220-90F1E64F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2DE-394F-4DD4-9732-D573AB52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69D-2A01-439D-B488-4693CDD5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48F-F911-4DA9-BD4D-60A828FD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08F-0C6D-4B29-B6BC-64F58578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B49-463C-4B4C-A51D-B824323B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D46-105F-4078-B8CE-0762DAAD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1FC-5E2C-4C43-8B1E-596216FC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A73-4167-4433-AED4-D84897E3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78A-0C34-455D-812C-B63137F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DA6273-ADB0-4D19-8F56-EE5F95B670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10:01:37Z</dcterms:modified>
  <cp:revision>97</cp:revision>
  <dc:subject/>
  <dc:title>Snímek 1</dc:title>
</cp:coreProperties>
</file>