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10080625" cy="755967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97520" cy="992664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6640"/>
              <a:gd name="textAreaBottom" fmla="*/ 9926280 h 9926640"/>
            </a:gdLst>
            <a:ahLst/>
            <a:rect l="textAreaLeft" t="textAreaTop" r="textAreaRight" b="textAreaBottom"/>
            <a:pathLst>
              <a:path w="21600" h="31543">
                <a:moveTo>
                  <a:pt x="4" y="0"/>
                </a:moveTo>
                <a:arcTo wR="4" hR="4" stAng="16200000" swAng="-5400000"/>
                <a:lnTo>
                  <a:pt x="0" y="31539"/>
                </a:lnTo>
                <a:arcTo wR="4" hR="4" stAng="10800000" swAng="-5400000"/>
                <a:lnTo>
                  <a:pt x="21596" y="3154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8720" y="753840"/>
            <a:ext cx="4954680" cy="37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46600" y="-36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25.11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46600" y="9429480"/>
            <a:ext cx="294624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9680"/>
                <a:tab algn="l" pos="820800"/>
                <a:tab algn="l" pos="1231920"/>
                <a:tab algn="l" pos="1644480"/>
                <a:tab algn="l" pos="2055960"/>
                <a:tab algn="l" pos="2467080"/>
                <a:tab algn="l" pos="2879640"/>
                <a:tab algn="l" pos="3290760"/>
                <a:tab algn="l" pos="3701880"/>
                <a:tab algn="l" pos="4113360"/>
                <a:tab algn="l" pos="4525920"/>
                <a:tab algn="l" pos="4937040"/>
                <a:tab algn="l" pos="5348160"/>
                <a:tab algn="l" pos="5759280"/>
                <a:tab algn="l" pos="6172200"/>
                <a:tab algn="l" pos="6583320"/>
                <a:tab algn="l" pos="6994440"/>
                <a:tab algn="l" pos="7407360"/>
                <a:tab algn="l" pos="7818480"/>
                <a:tab algn="l" pos="822960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2F5411-6A82-4454-B22A-8247DBCBA2B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1FBC60-1B71-4705-92BA-4FD0C1F7238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0CBDC9-7260-422F-8509-34234B8BAABB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4A2A8C-4835-40A9-8B0D-9511F1D554B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B3366-2DCC-4181-91A9-11BE8C3BB5B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8BA9F-A9D2-4F70-B54B-ABA6D2989AC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B580D1-BBCE-4413-8FCD-B1044D97C068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08C9DE-331F-4C97-95BD-4DCC4FD3450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C432DD-DC73-4BB2-96C6-FA9E8448F229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5D7EFE-0517-4F15-BC9E-1021FCA98BD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00BD1-46C7-4ACE-8A54-0458FBB121B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BBEF5-12A2-494C-831B-61279B05140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3F6A19-35B3-4EBB-AAF7-8D897607418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F22CA-C7A8-4E38-9122-667A853FE5A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599636-9E76-43F5-8FCA-CCED0BE212B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34E88-290D-4694-B728-86EF27521F2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8"/>
          <p:cNvSpPr/>
          <p:nvPr/>
        </p:nvSpPr>
        <p:spPr>
          <a:xfrm>
            <a:off x="3846600" y="9429840"/>
            <a:ext cx="294624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7880"/>
                <a:tab algn="l" pos="819000"/>
                <a:tab algn="l" pos="1231920"/>
                <a:tab algn="l" pos="1643040"/>
                <a:tab algn="l" pos="2054160"/>
                <a:tab algn="l" pos="2467080"/>
                <a:tab algn="l" pos="2878200"/>
                <a:tab algn="l" pos="3290760"/>
                <a:tab algn="l" pos="3701880"/>
                <a:tab algn="l" pos="4111560"/>
                <a:tab algn="l" pos="4524480"/>
                <a:tab algn="l" pos="4935600"/>
                <a:tab algn="l" pos="5348160"/>
                <a:tab algn="l" pos="5759280"/>
                <a:tab algn="l" pos="6170760"/>
                <a:tab algn="l" pos="6583320"/>
                <a:tab algn="l" pos="6994440"/>
                <a:tab algn="l" pos="7407360"/>
                <a:tab algn="l" pos="7816680"/>
                <a:tab algn="l" pos="822816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2DF3E5-347C-4040-A59D-997C8BADA11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1"/>
          <p:cNvSpPr/>
          <p:nvPr/>
        </p:nvSpPr>
        <p:spPr>
          <a:xfrm>
            <a:off x="995400" y="755640"/>
            <a:ext cx="480528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880" rIns="8388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564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4B0C-B0F4-4148-913F-D55655BB0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63C1-321C-4ED3-B2FD-23BFA6F6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8E55-3ED2-4062-A8CC-88675E9A03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6F8C-54C1-4E05-890E-5B7F8A625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7C03-7000-47E7-B114-0C7E9824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776A-F485-48A2-A115-4A6019FA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69D2-81FF-4BA0-A76B-6168DE1F1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3C87-02CE-4437-B404-388592422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454B-0ECF-4C0B-A110-9290F5A0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7029-7D42-4C93-A845-A6A8265E8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00FA-9B71-4F9B-8390-EC220C8D5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99A16-ABE7-48DF-9945-B5DB3C44A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AB3ABF4-BEFB-4C83-92CE-49AC3D1A6C3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cs-CZ" sz="6600" spc="-1" strike="noStrike">
              <a:solidFill>
                <a:srgbClr val="ffc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682640" y="2279160"/>
            <a:ext cx="78868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f9900"/>
                </a:solidFill>
                <a:latin typeface="Arial"/>
              </a:rPr>
              <a:t>Archiva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Arial"/>
              </a:rPr>
              <a:t>Helena Matasov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Co také bude zajímat orgány  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2136240"/>
            <a:ext cx="7886880" cy="492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má příjemce zavedeny vhodné a přiměřené systémy pro dokladování projektových výdajů a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, zda je vedena řádná archivace dokumentů souvisejících s projektem realizovaným               za podpory OP V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v případě, že je v projektu zahrnut partner, proběhnou i u něho stejné kontroly jako u příjemce a dále u něj ověří plnění partnerství stanovené    ve schváleném projektu a uzavřeném smluvním vztahu mezi příjemcem a partner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ověří udržitelnost projek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814392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é jsou stanoveny lhůty pro archivování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1682640" y="1636200"/>
            <a:ext cx="7886880" cy="511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i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usí pro účely kontroly ze strany Evropské komise, Evropského účetního dvora, Nejvyššího kontrolního úřadu a dalších oprávněných osob archivovat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 konce roku 2025,                          pokud český právní systém nestanovuje           lhůtu delší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(*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30 let mzdové listy nebo účetní záznamy, které slouží pro důchodové zabezpečen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kartační znak bude v rozmezí – A/V/S /17 nebo /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l-P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= archiv, V = výběr,S = stoupa/skar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/ = délka uložení dokumentu před dalším zpracováním (počíná běžet 1. dnem následujícího roku, ve kterém byla vyřízena nebo pozbyla význa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78920" cy="75596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82640" y="35100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682640" y="1708200"/>
            <a:ext cx="8072640" cy="55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běr dokumentů a dokladů, které je potřeba uchovávat, se musí řídit zejména hlediskem prokazatelnosti, tzn.,  že je zapotřebí uchovávat všechny dokumenty a doklady způsobilé jednoznačně prokázat kontrolujícímu orgánu, že poskytnuté prostředky byly využity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 souladu s účelem a pravid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Rozhodnutí o poskytnutí dotace je pro příjemce stanovena povinnost uchovávat dokumenty a doklady vztahující se k projektům odděleně, se zvláštní lhůtou a zvláštním režimem práce uvedené v Obecném na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íjemce ponechá originály dokladů jako součást svého účetnictví, daňové evidence a ostatních evidencí a při jejich uchovávání se řídí českými právními předpisy a nařízeními 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97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682640" y="1922400"/>
            <a:ext cx="788688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lady a záznamy o realizac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četní záznamy a dokumenty týkající se výdajů a auditů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originály dokladů týkajících se implementace a čerpání z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dělené účetnictví s originálními účetními doklady, které prokazují uskutečnění uznatelných výdajů nebo na základě kterých se uznatelné výdaje realizu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korespondenci s poskytovate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právy o výsledcích zadávacích řízení (výběr dodavatele) včetně související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04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povinnost uchováv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pie zkontrolované, autorizované žádosti příjemce     o platbu, včetně příl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iginály zápisů z provedených kontrol a potvrz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 schválení a příkaz k proplacení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způsobilých výdajů projektu (podle finančních toků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eškerou další dokumentaci vzniklou při implementaci z úrovně příjem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Legislativní rámec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682640" y="1564920"/>
            <a:ext cx="778680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on č. 499/2004 Sb.,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Byla schválena novela č.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190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ÁKON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e dne 28. května 2009,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terým se mění zákon č. 499/2004 Sb., o archivnictví a spisové službě a o změně některých zákonů, ve znění pozdějších předpisů, a další související zákony (účinnost od 1. 7.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6/2004 Sb., o podrobnostech výkonu spisové služby, v platném zně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hláška č. 645/2004 Sb., kterou se provádějí některá stanovení zákona o archivnictví a spisové služb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cs-CZ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682640" y="1922040"/>
            <a:ext cx="788688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6600" spc="-1" strike="noStrike">
                <a:solidFill>
                  <a:srgbClr val="f3912c"/>
                </a:solidFill>
                <a:latin typeface="Arial"/>
              </a:rPr>
              <a:t>Děkuji za pozornost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elena Matasov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helena.matasova@msmt.cz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l.: +420 234 814 2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4440" indent="-320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mobil: +420 602 545 7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se v prezentaci dozvít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682640" y="1767960"/>
            <a:ext cx="788688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k procesu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chovávání dokumentů a dokladů vzniklých při implementaci pomoci                z Evropského sociálního fondu a státního rozpočtu České republi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kladní informace </a:t>
            </a:r>
            <a:r>
              <a:rPr b="0" lang="cs-CZ" sz="2400" spc="-1" strike="noStrike">
                <a:solidFill>
                  <a:srgbClr val="ff0000"/>
                </a:solidFill>
                <a:latin typeface="Arial"/>
              </a:rPr>
              <a:t>k tvorbě, vedení a uklád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de o informace charakteru doporučujícího,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 návaznosti na vytvoření vlastních interních předpisů, přičemž tyto nesmí být v rozporu s platnou Příručkou pro příjemce a Rozhodnutím o poskytnutí dot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povinen archivovat?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šechny subjekty zapojené                    do implementační struktury Operačního programu Vzdělávání pro konkurenceschopnost  (OP VK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příjemce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= subjekt realizující projekt       z OP V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Za co je zodpovědný příjemc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šťuje archivaci písemností a dokumentů spojených s projek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azuje i dodavatele, aby umožnil všem subjektům oprávněným k výkonu kontroly provést kontrolu dokladů souvisejících s plněním zakázky pro projekt, a to po dobu danou právními předpisy ČR k jejich archivac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davatel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= osoba povinná spolupůsobit dle zákona č. 563/1991 Sb., o účetnictví a zákona č. 235/2004 Sb., o dani z přidané hodnoty, je dále povinná uchovávat doklady spojené s dodávkou a spolupůsobit při kontrole dle zákona č. 320/2001 Sb., o finanční kontrole bez omezení, pokud k tomu bude vyzvá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98520" indent="-3013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82640" y="136440"/>
            <a:ext cx="788688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je archivace dokumentů a d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82640" y="1351080"/>
            <a:ext cx="7886880" cy="564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ložení těch dokumentů,  jejichž oběh byl ukončen, zkontrolován   a vyhodnocen, pro možnost jejich opětovného použití a rychlého přístupu   k n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ŘO doporučuje všem příjemcům, aby stanovili jednu osobu zodpovědnou za vedení a spravování „předběžného archivu“ realizovaného projektu dle těchto archivačních pravidel – tato odpovědnost nemusí být její jediná, vedení a spravování archivu může být její vedlejší činnost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39720" y="279360"/>
            <a:ext cx="7886880" cy="100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Jaká jsou základní pravidla archivace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564920"/>
            <a:ext cx="7886880" cy="50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 příjemce a partnera/ů, v případě že projekt má partnera/y, jsou uloženy všechny originály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schování a zabezpečení před ztrát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šechny účetní dokumenty a smluvní písemnosti musí být uloženy na jednom místě, z důvodu zpřístupnění jednotlivých dokladů v případě k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ruhopisy některých dokumentů, případně ověřené fotokopie jsou uloženy u ŘO a F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11000" y="136440"/>
            <a:ext cx="7886520" cy="12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i použití IT </a:t>
            </a:r>
            <a:br>
              <a:rPr sz="36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se archivací myslí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682640" y="1351080"/>
            <a:ext cx="7886880" cy="52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ytváření kopií dokumentů a jejich ukládání na různá místa disku PC nebo na další nosiče dat (CD-R, DVD, příp. další), a to z důvodů, např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škození pevných disků počítače, případně jiné poruchy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cizení techniky, případně jejího zniče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ho vymazání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úmyslné aktualizace dat a inform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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11000" y="707760"/>
            <a:ext cx="788652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Co musíte uděla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493640"/>
            <a:ext cx="7886880" cy="514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kumenty v digitální podobě určené ke skartačnímu řízení musí být opatřeny metadaty podle národního standardu pro elektronické systémy spisové služby – není-li tomu tak, převedou se po uzavření spisu          do analogové podoby (§ 69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metadata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= data popisující souvislosti, obsah a strukturu dokumentů a jejich správu v průběhu ča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videlně (min.1x za dva roky) kontrolovat stav médií k zálohování a zálohovacích mechani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archivovaní a zálohování vždy porovnat  zálohovaná data s originálem – verifik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jistit trvalost uložených dat s ohledem na použitá média v průběhu stanovené archivační do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" descr=""/>
          <p:cNvPicPr/>
          <p:nvPr/>
        </p:nvPicPr>
        <p:blipFill>
          <a:blip r:embed="rId1"/>
          <a:stretch/>
        </p:blipFill>
        <p:spPr>
          <a:xfrm>
            <a:off x="1440" y="0"/>
            <a:ext cx="10079280" cy="7559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320"/>
            <a:ext cx="7886880" cy="183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Kdo je orgánem s právem náhledu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640" y="2136600"/>
            <a:ext cx="7886880" cy="46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úředníci nebo pověření zástupci Komise, Evropské investiční banky, Evropského účetního dvora, Evropského úřadu pro potírání podvodného jednání (OLAF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závislé auditní org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Platebního a certifikačního orgánu (PC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věření zaměstnanci ŘO – Sekce řízení Operačních programů EU (O 41, 42, 46), pracovníci věcných útvarů přizvaní na kontrolu pracovníky Odboru CERA, Odboru řízení </a:t>
            </a:r>
            <a:r>
              <a:rPr b="0" lang="pl-PL" sz="2000" spc="-1" strike="noStrike">
                <a:solidFill>
                  <a:srgbClr val="000000"/>
                </a:solidFill>
                <a:latin typeface="Arial"/>
              </a:rPr>
              <a:t>OP VK a Odboru T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ditní orgány Ř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jvyšší kontrolní úřad (NKÚ), Ministerstvo financí ČR a finanční úř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ípadně další orgány s pověřením ke kontrole (FÚ, ÚHOS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1-23T07:57:59Z</dcterms:modified>
  <cp:revision>159</cp:revision>
  <dc:subject/>
  <dc:title>Snímek 1</dc:title>
</cp:coreProperties>
</file>