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8720" y="753840"/>
            <a:ext cx="495468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EB2BC-9F56-4854-9E64-F1D8E89A5B9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C1C5-C119-46EF-A9D8-D8C1818A20C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3C27-8570-40D8-BF50-4090C9DB0AB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FD93A-930C-4A7B-9A57-BC4075339F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FE9ED-72C2-4024-8312-684AC309ED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085C-18C5-4C3E-9FC8-869BA33BE7B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E2FC0-0257-49FF-ABCE-73590F04558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22E16-96A7-442E-8B23-9925C212ED8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085E9-7977-4775-82FE-E2A9991D70E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42A4-9360-4B76-84D6-7B859FE9F90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3ADA6-7B81-4547-9873-BC26A52A76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FCD2-33EA-42CF-B2F9-28D8D7B7166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163C0-6DC2-40D0-A042-08F37AA4E6B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3F906-B871-4EAF-8BDF-0A3A80AFF9B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CD6BC-6036-4C59-A1E7-EA123D9BB2B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F0E5-C3EE-458F-8B42-05DDDAFFD32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9C37A-A05B-437E-9A2A-74BBBE11FF6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669-A452-4320-B58A-75A91DD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866-012E-4655-8A42-1C48256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EC4-489D-43B4-ADB6-2A1D922B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40A-1A20-4F50-93B7-8F94E325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684-5FA1-4CC0-903C-E680ED8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254-5BD7-4487-94A8-E07F056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2A7-410E-475C-838C-F70DC48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158-FF5E-4C33-902D-00AD8065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86F-23A1-4350-AECB-A296F6C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26F-D805-4243-8AB5-0E9833D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5AC-C4E7-4864-806C-1EB59191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AF7-1AA4-43D9-A10F-082B535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3BDF0D-F884-453A-9407-DEE7BED31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aké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proces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 a zákona č. 235/2004 Sb., o dani z přidané hodnoty, je dále povinná uchovávat doklady spojené s dodávkou a spolupůsobit při kontrole dle zákona č. 320/2001 Sb.,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07:57:59Z</dcterms:modified>
  <cp:revision>159</cp:revision>
  <dc:subject/>
  <dc:title>Snímek 1</dc:title>
</cp:coreProperties>
</file>