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3FED-30A8-4AE9-B186-0DEDD982FE9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5.11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B0C4-A656-4A73-B2A1-CA62AE70C22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Tabulka dostupná na stránkách MŠM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g. číslo – uveďte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– celý název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yhlašovatel zadávacího říz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řadové číslo zadávacího řízení – mělo by být shodné s číslem, uvedeným v monitorovací zprávě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dodavatele – název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IČ dodavatele – uveďte 8místní IČ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Typ zadávacího řízení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podpisu smlouvy s dodavatelem – tak, jak je uvedeno ve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á chyba: hodnota MI musí být uváděna kumulativně v návaznosti na předchozí MZ, nebývá často dodržová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ECB2-CFC4-4D51-9243-F851B967A5F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devzdává se za celý projekt, tzn. obsahuje zadávací řízení příjemce i jednotlivých partner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Pokud je ZŘ zrušeno, nevyplňuje se do této přílohy x pouze do textu věcné části MZ – viz. tabulka č.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E594-8B45-4EC3-B47E-0320479C02C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šechny uvedené doklady musí být poskytovateli předloženy nejpozději s 1 ŽoP po ukončení výběru, poskytovateli se předkládají kopie uvedených dokumentů, originály uchovává příjemce a předkládají se na vyžádání kontrolním subjektů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 kontrolu na místě jsou důležité i doklady prokazující odeslání oznámení o zahájení VŘ dostatečnému počtu uchazečů (dodejkou, podacím lístkem, emailovou doručenkou, předávacím protokolem) + zadávací dokumen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klad o uveřejnění výzvy na stránkách MŠMT, tedy při plnění nejméně 500 000 Kč bez DPH – vytištěním příslušné stránky pomocí funkce Printscre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mlouva včetně dodatků uzavřená s vybraným dodavate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lohou zápisu je čestné prohlášení  o nepodjatosti a mlčenlivosti, zápis musí obsahovat náležitosti uvedené v PpP – zejména seznam posouzených a vyřazených nabídek; zdůvodnění vyloučení předložené nabídky; popis způsobu hodnocení nabídek; výsledek hodnoc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á chyba: zadávací řízení uvedená v příslušném bodě MZ neodpovídají monitorovanému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99FE-4165-4F33-B8FE-8E5CA4C4DAD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Uvádějte informace o všech prováděných i již provedených kontrolách projektu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v průběhu sledovaného období, za které je předkládána tato monitorovací zpráva, a to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všemi subjekty oprávněnými ke kontrole (např. poskytovatel podpory - ŘO/ZS, EK,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interní audit MPSV). Další subjekty oprávněné ke kontrole v rámci OP VK – MF, NKÚ, ÚOHS,…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6BD8-A9D2-4BF6-8BD6-ABAF55A4651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podstatné změny v rozpočtu, např:. o změnu kontaktních údajů, vytvoření nové podpoložky v rozpočtu do výše stanoveného limitu, změnu časového harmonogramu projektu týkající se jednotlivých aktivit atd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jemce je oprávněn projekt upravit a pozměnit bez předchozího souhlasu poskytovatele pouze za předpokladu, že taková změna neovlivní dosažení cílů projektu, včetně naplňování schválených MI (= ukazatelé výstupů a výsledků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vedené nepodstatné změny musí být vždy popsány v nejbližší M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7ADC-9A75-4F5D-ADA7-EEDE95431CC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Sledování výsledků, výstupů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93D0-A40E-4ACB-ABCA-5B6BE11B4B5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g. číslo – uveďte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– celý název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OP = číslo OP VK, vždy stejné pro všechny prioritní osy a oblasti podp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prioritní osy = číslo prioritní osy, v rámci které je projekt realizová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ioritní osy dle Operačního programu (PO 1 = Počáteční vzdělávání, PO 2 = Terciární vzdělávání, výzkum a vývo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výzvy = číslo výzvy, v rámci které je projekt realizován, je vidět z registračního čísla, které je uvedeno v Rozhodnu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výzvy = Žádost o finanční podporu z OP VK – IP – oblast podpory 2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ód indikátoru – stanoveno ve výzvě + bude vyvěšeno na stránkách MŠMT v záložce Monitorovací zprá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indikátoru – v Žádosti, případně v příloze č. 7  Rozhodnutí (= Prohlášení o změnách v projek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rná jednotka – stanoveno v Žádosti (např. počet osob nebo obecně počet např. inovovaných kurzů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ažená hodnota – ke stanovenému datu vypracování MZ, vyplňuje se jako kumulativní hodn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FE79-03C7-4191-BB34-E5EA97FAEF7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ód indikátoru – stanoveno ve výzvě + bude vyvěšeno na stránkách MŠMT v záložce Monitorovací zprá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indikátoru – v Žádosti, případně v příloze č. 7  Rozhodnutí (= Prohlášení o změnách v projek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rná jednotka – stanoveno v Žádosti (např. počet osob nebo obecně počet např. inovovaných kurzů), případně v příloze č. 7 – Prohlášení o změnách v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ažená hodnota – ke stanovenému datu vypracování MZ, vyplňuje se jako kumulativní hodnota – načítává 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datu uvedenému na konci této přílohy = datum vypracování tabulky, př: v 1 MZ je uvedeno např. 20 úspěšně podpořených osob, za 2 monitorovací období bylo podpořeno 10 osob, tzn. do 2 monitor. Zprávy píši celkovou  hodnotu od začátku projektu, tzn. 30 oso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vinnost sledovat naplňování MI podle podrobnějšího členění (např. dle pohlav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7D8E-074F-47DD-89A6-9BA61DDB148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zahájení realizace projektu: jedná se 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datum akceptace, popřípadě, datum zahájení realizace projektu,  je-li pozdější než datum akcep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Ukázat na Rozhodnu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1771-AD82-4382-81FE-542BDCF41BA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 jednotlivých příloh, kde je vyžadován podpis doporučujeme napsat nejprve jméno příslušné osoby hůlkovým písmem a poté samotná podp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9010-1421-43CC-B31A-0E8D73710D5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dává se v případě, kdy se mění harmonogram klíčových aktivit nebo začátek či konec realizace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potřeby je možné přidat tabulku pro následující rok, kterého se dotkne změna schváleného harmonogramu projekt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dává se při jakékoliv změně realizace KA oproti schválenému projekt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této prezentaci jsem již neudávala, je to v soubor xls. ,aktivní list, je možné s tím pracov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737D-31B0-4D66-B4BA-C268601210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-228600"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ozsah oprávnění – co je osoba oprávněná podepisovat a schvalov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latnost – datum platnosti – od kdy, případně do kdy, pokud má pověření omezenou platn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FFBB-C16E-48CA-995C-2CA9DCC825A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o se opakující chyby v MZ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změny realizace KA není dodán přepracovaný harmonogram = příloha č. 10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dostatečně popsány skutečnosti v KA, některé skutečnosti zařazené do jednotlivých KA neodpovídají obsahu 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vypracování MZ je pozdější než datum podpisu statutárního zástupce, u podpisu statutárního zástupce chybí místo, případně razítk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ací období  neodpovídá délce stanovené v projektu (je delší než 3 měsí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VŘ nejsou doloženy všechny relevantní dokumen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hybně zařazená VŘ v části vyhlášená nebo uzavřená VŘ v monitorovacím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hybí identifikace projektu – i na nepovinné přílohy je třeba uvádět základní identifikační údaje, datum vypracování, jméno a podpis osoby, která přílohu vypracov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4893-6FC5-4C26-940F-150297EDEC7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imořádná MZ – při předkládání mimořádné ŽoP (termín následující průběžné MZ se pak řídí podle mimořádné MZ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: 1.6.2009 – zač. realizace, tzn. že 1. monitorovací období končí 31.8.2009 a předloženo musí být nejpozději do 30.9.2009. 2 MZ popisuje období 1.9.-30.11.2009 x chci podat mimořádnou ŽoP, tím pádem i mimořádnou ŽoP, zkrátím předchozí monitorovací období od 1.9.-30.10  a další počítám od tohoto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Závěrečná MZ – předkládá se nejpozději do 2 měsíců po ukončení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461C-D28C-4826-8C4D-40A88587A43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poručujeme dokládat vzorové přihlášky, pozvánky, programy akcí. Obsah dokládání věcné části je na zvážení příjemce a partnera, jak mají nastaveno v samotné žádosti. Těmito přílohami příjemce prezentuje důležité, významné metody v realizaci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6C70-AF32-4C4B-B564-2F97C402DED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Stačí pouze vypsat, zda se jedná o VŘ za dodávku, službu nebo stavební práce, název VŘ, případně kdy byla vyhlášena, pod jakým číslem byla zveřejněna, na jakou částku. Do poznámek je možné uvést, kdy budou VŘ uzavřen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CD6B-B010-4AE0-AA15-B4936BFC4BB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Zástupný symbol pro datum 3"/>
          <p:cNvSpPr/>
          <p:nvPr/>
        </p:nvSpPr>
        <p:spPr>
          <a:xfrm>
            <a:off x="1714680" y="6072120"/>
            <a:ext cx="7072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Zástupný symbol pro číslo snímku 5"/>
          <p:cNvSpPr/>
          <p:nvPr/>
        </p:nvSpPr>
        <p:spPr>
          <a:xfrm>
            <a:off x="7358040" y="6278400"/>
            <a:ext cx="15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11. 6.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ástupný symbol pro text 8"/>
          <p:cNvSpPr/>
          <p:nvPr/>
        </p:nvSpPr>
        <p:spPr>
          <a:xfrm>
            <a:off x="1714680" y="6286680"/>
            <a:ext cx="34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Ing. Veronika Sup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hyperlink" Target="mailto:cera@msmt.cz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99760" y="1214280"/>
            <a:ext cx="7000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Věcná část Monitorovací zprávy</a:t>
            </a:r>
            <a:br>
              <a:rPr sz="8000"/>
            </a:b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3" name="TextovéPole 2"/>
          <p:cNvSpPr/>
          <p:nvPr/>
        </p:nvSpPr>
        <p:spPr>
          <a:xfrm>
            <a:off x="3429000" y="492912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912c"/>
                </a:solidFill>
                <a:latin typeface="Calibri"/>
              </a:rPr>
              <a:t>Ing. Veronika Sup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ovéPole 4"/>
          <p:cNvSpPr/>
          <p:nvPr/>
        </p:nvSpPr>
        <p:spPr>
          <a:xfrm>
            <a:off x="1714680" y="6215040"/>
            <a:ext cx="72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5600" y="642600"/>
            <a:ext cx="63579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643040" y="1785960"/>
          <a:ext cx="7358040" cy="4194000"/>
        </p:xfrm>
        <a:graphic>
          <a:graphicData uri="http://schemas.openxmlformats.org/drawingml/2006/table">
            <a:tbl>
              <a:tblPr/>
              <a:tblGrid>
                <a:gridCol w="882720"/>
                <a:gridCol w="1177920"/>
                <a:gridCol w="809640"/>
                <a:gridCol w="344520"/>
                <a:gridCol w="1052280"/>
                <a:gridCol w="1177920"/>
                <a:gridCol w="955800"/>
                <a:gridCol w="957240"/>
              </a:tblGrid>
              <a:tr h="3758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hled uzavřených zadávacích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hlašovatel zadávacího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/part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Z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dodava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 dodava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zadávacího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podpisu smlouvy s dodavate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zakázky bez DP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zakázky s DP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58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                                                                                   …… Kč             …. Kč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= datum vypracování tabu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 oprávněné osoby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dle podpisového vz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14680" y="571680"/>
            <a:ext cx="664344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856880" y="1571400"/>
            <a:ext cx="70009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tupná na 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zavřené zadávací řízení = podpis smlouvy s dodavate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lňuje se kumulativně – pokračování v číselné řadě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kládá se ke každé MZ, ve které dochází k jakékoliv změ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85600" y="642600"/>
            <a:ext cx="66438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 - dokladová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856880" y="2143080"/>
            <a:ext cx="7000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xt oznámení o zahájení Z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pis o posouzení a hodnocení podaných nabíd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mlouva s vybraným dodavate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xt oznámení o výsledku Z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8. Veřejná podpora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071800" y="1214280"/>
          <a:ext cx="5643360" cy="2438640"/>
        </p:xfrm>
        <a:graphic>
          <a:graphicData uri="http://schemas.openxmlformats.org/drawingml/2006/table">
            <a:tbl>
              <a:tblPr/>
              <a:tblGrid>
                <a:gridCol w="3316320"/>
                <a:gridCol w="622080"/>
                <a:gridCol w="627120"/>
                <a:gridCol w="622440"/>
                <a:gridCol w="455400"/>
              </a:tblGrid>
              <a:tr h="4870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řejná podpora poskytnutá přímo příjem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veřejné podpor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4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row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veřejné podpory poskytnuté příjem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kytování veřejné podpory dalším subjektů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čerpaných veřejných podp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4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up při poskytování veřejné podpory dalším subjektů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TextovéPole 6"/>
          <p:cNvSpPr/>
          <p:nvPr/>
        </p:nvSpPr>
        <p:spPr>
          <a:xfrm>
            <a:off x="2071800" y="3841920"/>
            <a:ext cx="5786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ložku vyplňujte pouze v případě, kdy vám, partnerovi projektu nebo dalším subjektům byla v rámci projektu poskytnuta veřejná podpora podle blokových výjimek nebo podle pravidla de minim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- Záložku také vyplní příjemce/partner finanční podpory, který poskytuje některé služby podle blokových výjimek nebo pravidla de minim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- Podrobnosti o poskytnutí a čerpání jednotlivých veřejných podpor uveďte v příloze č. 3A Monitorovací zprávy a/nebo v příloze č. 3B Monitorovací zprá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14680" y="357120"/>
            <a:ext cx="6357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9. Kontrola na místě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857240" y="1143000"/>
          <a:ext cx="7000920" cy="5459400"/>
        </p:xfrm>
        <a:graphic>
          <a:graphicData uri="http://schemas.openxmlformats.org/drawingml/2006/table">
            <a:tbl>
              <a:tblPr/>
              <a:tblGrid>
                <a:gridCol w="2214720"/>
                <a:gridCol w="4786200"/>
              </a:tblGrid>
              <a:tr h="4269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ola provedená v monitorovaném obdob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4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„X“ ANO pokud byla/je ve sledovaném období provedena/prováděna kontrola projektu. (v opačném případě označte křížkem „X“ NE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subjektu, který provádí/provedl kontrol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sný název subjektu/subjektů, který kontrolu provádí/proved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1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ontro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ontroly podle Pověření ke kontrole (Protokolu o výsledku kontroly, případně podle Oznámení o kontrole apod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kontr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, kdy byla kontrola zahájena. Uvádějte datum podle Protokolu o výsledku kontroly. Pokud kontrola ještě nebyla ukončena, uveďte tuto skutečnost do poznámk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13480">
                <a:tc rowSpan="2"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pravná opatření splně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NE                ČÁSTEČNĚ                NEBYLA ULOŽ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plňujte pouze v případě ukončené kontroly. Označte křížkem „X“ relevantní odpověď (ANO, NE, ČÁSTEČNĚ, NEBYLA ULOŽEN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73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hůta ke splnění nápravných opat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5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ám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informace vztahující se k provedeným kontrolám, např. informaci o tom, že kontrola dosud probíhá, informaci o průběhu plnění nápravných opatření, apod. Uveďte hlavní zjištění z kontroly, uložená nápravná opatření, doporučení apod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5600" y="356760"/>
            <a:ext cx="63579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0. Podstatné a nepodstatné změny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857240" y="1500120"/>
          <a:ext cx="7000920" cy="4892760"/>
        </p:xfrm>
        <a:graphic>
          <a:graphicData uri="http://schemas.openxmlformats.org/drawingml/2006/table">
            <a:tbl>
              <a:tblPr/>
              <a:tblGrid>
                <a:gridCol w="3500640"/>
                <a:gridCol w="3500280"/>
              </a:tblGrid>
              <a:tr h="27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statné změny v 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6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 podstatných změn projektu se postupuje podle Rozhodnutí o poskytnutí dotace a verze Příručky pro příjemce, která je uvedena ve výše jmenovaném dokumentu.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ést, zda byla požadovaná změna poskytovatelem podpory odsouhlasena a zda byl vytvořen dodatek k Rozhodnutí o poskytnutí dot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odstatné změ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Formální změny v 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ěcné změny v 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adresy pro doruč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kontaktní oso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názvu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smějí mít vliv na charakter projektu a dosažení cíl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y pracovně právního vzta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y realizačního týmu (rozdělení, slučování pozic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74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měny rozpočtu v 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yplňují se do přílohy č. 9 Monitorovací zprá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1.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928880" y="1500120"/>
          <a:ext cx="7000920" cy="4818240"/>
        </p:xfrm>
        <a:graphic>
          <a:graphicData uri="http://schemas.openxmlformats.org/drawingml/2006/table">
            <a:tbl>
              <a:tblPr/>
              <a:tblGrid>
                <a:gridCol w="7000920"/>
              </a:tblGrid>
              <a:tr h="428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oje dat pro monitorovací indikátory a komentá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3894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ažené hodnoty se vykazují pomocí tabulky v Excelu – viz Příloha č.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kazované indikátory se musí opírat o průkaznou evidenci vedenou příjemc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ýkazy o provedené práci, prezenční listiny, certifikáty, atd. – tj. doklady, kterými můžete prokázat dosažené číselné hodn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zenční list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dané certifiká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nástroje, které používáte v rámci projektu pro sledování monitorovacích ukazatelů – výstupů a výsledk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jetiny z informačního systé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42680" y="142560"/>
            <a:ext cx="63579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-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643040" y="1143000"/>
          <a:ext cx="7143840" cy="5548320"/>
        </p:xfrm>
        <a:graphic>
          <a:graphicData uri="http://schemas.openxmlformats.org/drawingml/2006/table">
            <a:tbl>
              <a:tblPr/>
              <a:tblGrid>
                <a:gridCol w="1190520"/>
                <a:gridCol w="1506600"/>
                <a:gridCol w="424080"/>
                <a:gridCol w="1690560"/>
                <a:gridCol w="233208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e operačního programu a výz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operačního program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operačního program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ční program vzdělávání pro konkurenceschopn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1 nebo P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ioritní os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áteční vzdělávání/Terciární vzdělávání, výzkum a výv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výzv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výzvy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edeno v Žádosti (viz Příloha č. 1 Rozhodnut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 ke dni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viduální projekt osta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datum, ke kterému jsou vyplněny dosažené hodnoty 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tupy a výsled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ód indiká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indiká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rná jednot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ažená hodn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3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-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856880" y="1428480"/>
            <a:ext cx="70009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ód indiká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zev indiká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ěrná jednot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ažená hodnota - ke stanovenému datu, kumulativní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atum = datum vypracování tabu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pis oprávněné osoby = podpis oprávněné osoby dle podpisového vzoru (viz. příloha č. 11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99760" y="785880"/>
            <a:ext cx="700092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Přílohy věcné části Monitorovací zprávy</a:t>
            </a:r>
            <a:br>
              <a:rPr sz="8000"/>
            </a:b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42680" y="285840"/>
            <a:ext cx="62866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. Údaje o projektu a Monitorovací zprávě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71760" y="1096920"/>
          <a:ext cx="7000920" cy="5546880"/>
        </p:xfrm>
        <a:graphic>
          <a:graphicData uri="http://schemas.openxmlformats.org/drawingml/2006/table">
            <a:tbl>
              <a:tblPr/>
              <a:tblGrid>
                <a:gridCol w="3500280"/>
                <a:gridCol w="3500640"/>
              </a:tblGrid>
              <a:tr h="853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     .     .     /    . .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ojektu, tak jak je uvedeno v Rozhodnutí o poskytnutí dotace, např.: CZ.1.07/4.1.01/01.0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 tak, jak je uveden v 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7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 OP VK, ve které je projekt realizován, např. 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finanční podpory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přidělené finanční podpory na projekt tak, jak je uvedena v 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53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ESF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financovaná z ESF. Tato částka je uvedena v Rozhodnutí o poskytnutí dotace v tab. č. 1, řádku aa) prostředky z ESF (§ 44 odst. 2 písm. f) rozpočtových pravid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řížové financování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křížového financování tak, jak je uvedena v Rozhodnutí o poskytnutí dotace v tabulce č. 2, řádku 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6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zahájení realizace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zahájení realizace projektu tak, jak je uvedeno v Rozhodnutí o poskytnutí dotace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3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ukončení realizace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ukončení realizace projektu tak, jak je uvedeno v Rozhodnutí o poskytnutí dotace, případně datum uvedený v Dodatku k rozhodnut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ávního aktu (Rozhodnutí/Smlouvy/Opatř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př. 07/17/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642680" y="1499760"/>
            <a:ext cx="73580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nitorovací indikátory (Příloha č.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hled uzavřených zadávacích řízení              (Příloha č.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pracovaný harmonogram projektu   (Příloha č. 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isové vzory (Příloha č. 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dost o schválení podstatných změn               ( Příloha č. 1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ovéPole 2"/>
          <p:cNvSpPr/>
          <p:nvPr/>
        </p:nvSpPr>
        <p:spPr>
          <a:xfrm>
            <a:off x="1714680" y="142920"/>
            <a:ext cx="66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79646"/>
                </a:solidFill>
                <a:latin typeface="Calibri"/>
              </a:rPr>
              <a:t>Seznam příloh – věcná 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0- Přepracovaný harmonogram projektu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85960" y="1714680"/>
          <a:ext cx="7143840" cy="4895640"/>
        </p:xfrm>
        <a:graphic>
          <a:graphicData uri="http://schemas.openxmlformats.org/drawingml/2006/table">
            <a:tbl>
              <a:tblPr/>
              <a:tblGrid>
                <a:gridCol w="1357200"/>
                <a:gridCol w="357120"/>
                <a:gridCol w="428760"/>
                <a:gridCol w="428760"/>
                <a:gridCol w="549000"/>
                <a:gridCol w="439920"/>
                <a:gridCol w="439560"/>
                <a:gridCol w="500400"/>
                <a:gridCol w="571320"/>
                <a:gridCol w="571680"/>
                <a:gridCol w="357120"/>
                <a:gridCol w="571320"/>
                <a:gridCol w="571680"/>
              </a:tblGrid>
              <a:tr h="37044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pracovaný harmonogram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podp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íčová aktivita (2009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íčová aktivita (2010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1- Podpisové vz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071800" y="1785960"/>
          <a:ext cx="6060960" cy="3743280"/>
        </p:xfrm>
        <a:graphic>
          <a:graphicData uri="http://schemas.openxmlformats.org/drawingml/2006/table">
            <a:tbl>
              <a:tblPr/>
              <a:tblGrid>
                <a:gridCol w="1571400"/>
                <a:gridCol w="906480"/>
                <a:gridCol w="1094040"/>
                <a:gridCol w="1000080"/>
                <a:gridCol w="1488960"/>
              </a:tblGrid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ový vzor osob oprávněných  k podepisování a schvalování dokumentů a operací v rámci OP V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 finanční podpory/partn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sah oprávně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714680" y="3071520"/>
            <a:ext cx="700056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ntak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Veronika Sup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l. číslo: 234 814 19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veronika.supova@msmt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era@msmt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57240" y="571320"/>
            <a:ext cx="621504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785960" y="500040"/>
          <a:ext cx="7000920" cy="5761080"/>
        </p:xfrm>
        <a:graphic>
          <a:graphicData uri="http://schemas.openxmlformats.org/drawingml/2006/table">
            <a:tbl>
              <a:tblPr/>
              <a:tblGrid>
                <a:gridCol w="2214720"/>
                <a:gridCol w="4786200"/>
              </a:tblGrid>
              <a:tr h="1066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zprá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předkládané monitorovací zprávy – číslujte postupně od začátku realizace projektu ve tvaru: číslo zprávy/rrrr, např.: 01/2009 – 1. monitorovací zpráva od počátku realizace projektu, předložená v roce 2009, následně 02/2009, 03/2009, 04/2009, 05/2010, 06/20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70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ované obdob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átek                                                      Kon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, která ohraničují období, ke kterému se vztahuje předkládaná Monitorovací zpráva ve tvaru dd/mm/rrrr; např. začátek: 01/05/2009; konec: 31/07/200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936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zpráv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ůběžná                Závěrečná                Mimořádn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o jaký typ předkládané zprávy se jedná  </a:t>
                      </a: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růběžná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pravidelná MZ předkládaná za období 3 měsíců realizace projektu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ávěrečná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 po ukončení projektu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Mimořádná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předkládaná mimo režim průběžné M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70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ádost o platb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        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Ano pokud je zároveň s Monitorovací zprávou předkládána Žádost o platbu (pokud ne, označte křížkem „X“ Ne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6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vypracování zprá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, kdy bylo dokončeno vypracování monitorovací zprávy ve tvaru dd/mm/rrrr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o datum musí být </a:t>
                      </a: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nejpozději do 30 kalendářních dnů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d ukončení daného monitorovacího období. V případě nedodržení se jedná o porušení právního aktu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43040" y="642600"/>
            <a:ext cx="71438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2. Údaje o příjemci a zhotoviteli MZ 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28880" y="1214280"/>
          <a:ext cx="7000920" cy="5107320"/>
        </p:xfrm>
        <a:graphic>
          <a:graphicData uri="http://schemas.openxmlformats.org/drawingml/2006/table">
            <a:tbl>
              <a:tblPr/>
              <a:tblGrid>
                <a:gridCol w="2786040"/>
                <a:gridCol w="4214880"/>
              </a:tblGrid>
              <a:tr h="785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finanční podpory z OP VK tak, jak je uveden v Rozhodnutí o poskytnutí dotace (pokud nedošlo např. Dodatkem ke změně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76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/DI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/DIČ příjemce finanční podpory z OP VK tak, jak je uvedeno v Rozhodnutí o poskytnutí dotace (případně Dodatk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974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utární zástup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jméno a příjmení, funk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, příjmení a funkci statutárního zástupce příjemce finanční podpory tak, jak je uvedeno v Rozhodnutí o poskytnutí dotace (případně Dodatk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4760">
                <a:tc gridSpan="2"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hotovitel M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 zhotovitele zpráv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, příjmení osoby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fonní číslo/F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uální telefonní číslo/fax na osobu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-m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uální e-mail  na osobu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3. Realizované klíčové aktivity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857240" y="1071720"/>
          <a:ext cx="7000920" cy="5376600"/>
        </p:xfrm>
        <a:graphic>
          <a:graphicData uri="http://schemas.openxmlformats.org/drawingml/2006/table">
            <a:tbl>
              <a:tblPr/>
              <a:tblGrid>
                <a:gridCol w="3500640"/>
                <a:gridCol w="3500280"/>
              </a:tblGrid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, tak jak je uvedeno v Žádosti (viz. příloha č. 1 Rozhodnutí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, tak jak je uveden v Žádosti (viz. příloha č. 1 Rozhodnutí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 realizace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, kdy byla klíčová aktivita realizována v daném monitorovacím obdob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706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robný popis realizace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zace klíčové aktivity s ohledem na zapojení cílové skupiny, činnost realizačního týmu. V případě, že je společně s MZ předkládána i ŽoP, věnujte se dostatečně i popisu efektivnosti, účelnosti a hospodárnosti požadovaných výdaj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87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hodnocení a výsledky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ky, přínos pro cílovou skupinu apo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634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émy při realizaci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problémy, které nastaly při realizaci klíčové aktivity, popište také řešení daných problémů např. časově náročný proces financování projektu, problémy s realizací aktivit, neplnění indikátorů, nezájem cílové skupiny at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14680" y="857160"/>
            <a:ext cx="6357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4. Další informace o realizaci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714680" y="1571760"/>
          <a:ext cx="7000560" cy="2468520"/>
        </p:xfrm>
        <a:graphic>
          <a:graphicData uri="http://schemas.openxmlformats.org/drawingml/2006/table">
            <a:tbl>
              <a:tblPr/>
              <a:tblGrid>
                <a:gridCol w="7000560"/>
              </a:tblGrid>
              <a:tr h="274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další skutečnosti týkající se jednotlivých kroků realizace projektu, které nejsou zahrnuty v popisu klíčových aktivit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daje týkající se řízení projektu včetně popisu nákladů na řízení projekt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žení projektového tý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, že je monitorovací zpráva předkládána  bez žádosti o platbu informujte o důvo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14680" y="7855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5. Plánované klíčové aktivity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000160" y="1643040"/>
          <a:ext cx="6357960" cy="4451400"/>
        </p:xfrm>
        <a:graphic>
          <a:graphicData uri="http://schemas.openxmlformats.org/drawingml/2006/table">
            <a:tbl>
              <a:tblPr/>
              <a:tblGrid>
                <a:gridCol w="3179880"/>
                <a:gridCol w="317808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, tak jak je uvedeno v Žádosti (v příloze č. 1 Rozhodnutí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A, tak jak je uveden v příloze Žádosti (v příloze č. 1 Rozhodnutí o poskytnutí dotac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0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 realizace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sledující monitorovací období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206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a cíl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plánované klíčové aktivity s ohledem na zapojení cílové skupiny, činnost realizačního týmu, vazbu na rozpočet projektu a na plánovanou výši nové Žádosti o platbu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6. Publicita projektu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000160" y="1357200"/>
          <a:ext cx="6500880" cy="5092920"/>
        </p:xfrm>
        <a:graphic>
          <a:graphicData uri="http://schemas.openxmlformats.org/drawingml/2006/table">
            <a:tbl>
              <a:tblPr/>
              <a:tblGrid>
                <a:gridCol w="6500880"/>
              </a:tblGrid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zajištění publicity a informování o EU, ESF a o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6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, jakým způsobem jste ve sledovaném období informovali cílovou skupinu a širší veřejnost o Vašem projektu a jaké nástroje publicity jste využi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ové strán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štěné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ovizuální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mové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gační předmě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ináře, kon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zerce v médiích (tisk, TV, rozhlas, internet, ostatní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né aktivity povinné publicity jsou uvedeny v příloze č. 1 Rozhodnutí o poskytnutí dot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e součástí MZ Žádost o platbu, popište náklady spojené s povinnou publicito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71400" y="285480"/>
            <a:ext cx="63579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7. Zadávací řízení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857240" y="785880"/>
          <a:ext cx="7000920" cy="5770440"/>
        </p:xfrm>
        <a:graphic>
          <a:graphicData uri="http://schemas.openxmlformats.org/drawingml/2006/table">
            <a:tbl>
              <a:tblPr/>
              <a:tblGrid>
                <a:gridCol w="1714680"/>
                <a:gridCol w="5286240"/>
              </a:tblGrid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ÁVACÍ ŘÍZENÍ (ZŘ) vyhlášená v monitorovaném obdob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„X“ ANO pokud byla ve sledovaném období vyhlášena zadávací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NE, pokud nebyla vyhlášen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1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vyhlášených ZŘ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ste označili křížkem „X“ ANO, stručně popište jednotlivá zadávací řízení vyhlášená ve sledovaném období (zda se jedná o dodávku zboží nebo služeb, předpokládanou cenu dodávek apod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, že bylo uvedené zadávací řízení zrušeno, uveďte důvod zruš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ždému vyhlášenému zadávacímu řízení přidělte pořadové číslo ve tvaru: číslo zadávacího řízení/rrrr, kde rrrr je rok vyhlášení, např.: 01/2008, 02/2008 atd. Pokud bylo zadávací řízení zrušeno, jeho číslo již nepoužívejte pro nově vyhlášené zadávací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ávací řízení uzavřená v monitorovaném obdob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ANO pokud byla ve sledovaném období zadávací řízení uzavřena, tj. zda byla u zadávacích řízení podepsána smlouva s dodavatele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2790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uzavřených Z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ste označili „X“ ANO, stručně popište průběh a výsledek uzavřených zadávacích řízení, tj. zadávací řízení, u kterých byla ve sledovaném období podepsána smlouva s dodavatelem (uveďte počet uzavřených zadávacích řízení a jejich objem v Kč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robnosti o jednotlivých uzavřených zadávacích řízeních uveďte do přílohy č. 2 monitorovací zprávy – Přehled zadávacích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ám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informace o zadávacích řízeních – např., která byla ve sledovaném období zrušena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1:02:56Z</dcterms:created>
  <dc:creator>doubalj</dc:creator>
  <dc:description/>
  <dc:language>en-US</dc:language>
  <cp:lastModifiedBy>ugh</cp:lastModifiedBy>
  <dcterms:modified xsi:type="dcterms:W3CDTF">2009-11-23T12:20:39Z</dcterms:modified>
  <cp:revision>256</cp:revision>
  <dc:subject/>
  <dc:title>Snímek 1</dc:title>
</cp:coreProperties>
</file>