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8720" y="753840"/>
            <a:ext cx="495468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4660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192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3360"/>
                <a:tab algn="l" pos="4525920"/>
                <a:tab algn="l" pos="4937040"/>
                <a:tab algn="l" pos="5348160"/>
                <a:tab algn="l" pos="5759280"/>
                <a:tab algn="l" pos="6172200"/>
                <a:tab algn="l" pos="6583320"/>
                <a:tab algn="l" pos="6994440"/>
                <a:tab algn="l" pos="7407360"/>
                <a:tab algn="l" pos="7818480"/>
                <a:tab algn="l" pos="82296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192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3360"/>
                <a:tab algn="l" pos="4525920"/>
                <a:tab algn="l" pos="4937040"/>
                <a:tab algn="l" pos="5348160"/>
                <a:tab algn="l" pos="5759280"/>
                <a:tab algn="l" pos="6172200"/>
                <a:tab algn="l" pos="6583320"/>
                <a:tab algn="l" pos="6994440"/>
                <a:tab algn="l" pos="7407360"/>
                <a:tab algn="l" pos="7818480"/>
                <a:tab algn="l" pos="82296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25.11.200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48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6600" y="942948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192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3360"/>
                <a:tab algn="l" pos="4525920"/>
                <a:tab algn="l" pos="4937040"/>
                <a:tab algn="l" pos="5348160"/>
                <a:tab algn="l" pos="5759280"/>
                <a:tab algn="l" pos="6172200"/>
                <a:tab algn="l" pos="6583320"/>
                <a:tab algn="l" pos="6994440"/>
                <a:tab algn="l" pos="7407360"/>
                <a:tab algn="l" pos="7818480"/>
                <a:tab algn="l" pos="82296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192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3360"/>
                <a:tab algn="l" pos="4525920"/>
                <a:tab algn="l" pos="4937040"/>
                <a:tab algn="l" pos="5348160"/>
                <a:tab algn="l" pos="5759280"/>
                <a:tab algn="l" pos="6172200"/>
                <a:tab algn="l" pos="6583320"/>
                <a:tab algn="l" pos="6994440"/>
                <a:tab algn="l" pos="7407360"/>
                <a:tab algn="l" pos="7818480"/>
                <a:tab algn="l" pos="82296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E77DB-D522-42F4-AB5F-27F17A2C659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5B4B0-5CC0-4966-BE00-4D590B26034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6B09D-56A2-41D6-A95B-07817BCBFF8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33C42-C1B4-490C-805B-1963682CF53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202BC-A906-4A8C-8BF3-5E69C4A67F5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AD9A4-EA98-4B56-9C9C-17D8AFB7733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ADE1E-87D4-490D-913A-3B60DDF38E1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98CEC-A7B8-41F4-B0DA-D5B8D2896EF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18E39-AB92-42B2-9704-3DDBD62C74A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E0C14-ABEF-4BF0-A12A-C3299172253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7EC74-00C2-4DBB-A473-BC2BE78960F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7C850-971A-4CCA-984E-2B9C8C56FD8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63283-9347-4BDC-B75A-52DFC183BFC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40304-435C-4983-B3CF-9E795033D56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1E4C5-8276-4617-A28E-4DD6C5EBD6A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146C2-450E-4633-8AC3-A67E2204FD0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33268-B722-4379-82BF-DE4B39ADB82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425E-545E-409F-B6F1-589E0A4F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E1DA-4563-4276-B8D0-98B5697E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9613-940F-4604-B042-22DB7F0F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4196-A371-44F4-850B-E2946A13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F930-718F-42EF-A88F-598D4E09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942D-476C-426B-8754-0FE669B2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8BE6-3096-413C-91D3-0B0AB63D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7437-8758-4294-A659-8D54B67A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866B-96E4-4256-B3BD-602E590F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E00B-2B10-4C15-BBC3-1262A050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2D74-B6B5-4824-8A58-5A40E595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3857-784A-49B9-B2B7-F8AFF780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7A6434-1E8C-4169-B38A-4051D3E0A3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cs-CZ" sz="6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82640" y="2279160"/>
            <a:ext cx="78868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Archiv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Arial"/>
              </a:rPr>
              <a:t>Helena Matasov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také bude zajímat orgány   s právem náhled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2136240"/>
            <a:ext cx="7886880" cy="492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, zda má příjemce zavedeny vhodné a přiměřené systémy pro dokladování projektových výdajů a aktiv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, zda je vedena řádná archivace dokumentů souvisejících s projektem realizovaným               za podpory OP V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 případě, že je v projektu zahrnut partner, proběhnou i u něho stejné kontroly jako u příjemce a dále u něj ověří plnění partnerství stanovené    ve schváleném projektu a uzavřeném smluvním vztahu mezi příjemcem a partne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 udržitelnost pro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8143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aké jsou stanoveny lhůty pro archivování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82640" y="1636200"/>
            <a:ext cx="7886880" cy="51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sí pro účely kontroly ze strany Evropské komise, Evropského účetního dvora, Nejvyššího kontrolního úřadu a dalších oprávněných osob archivova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 konce roku 2025,                          pokud český právní systém nestanovuje           lhůtu delš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*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30 let mzdové listy nebo účetní záznamy, které slouží pro důchodové zabezpeč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artační znak bude v rozmezí – A/V/S /17 nebo /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= archiv, V = výběr,S = stoupa/skar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 = délka uložení dokumentu před dalším zpracováním (počíná běžet 1. dnem následujícího roku, ve kterém byla vyřízena nebo pozbyla význ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82640" y="351000"/>
            <a:ext cx="78868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82640" y="1708200"/>
            <a:ext cx="807264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běr dokumentů a dokladů, které je potřeba uchovávat, se musí řídit zejména hlediskem prokazatelnosti, tzn.,  že je zapotřebí uchovávat všechny dokumenty a doklady způsobilé jednoznačně prokázat kontrolujícímu orgánu, že poskytnuté prostředky byly využity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 souladu s účelem a prav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ozhodnutí o poskytnutí dotace je pro příjemce stanovena povinnost uchovávat dokumenty a doklady vztahující se k projektům odděleně, se zvláštní lhůtou a zvláštním režimem práce uvedené v Obecném n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ponechá originály dokladů jako součást svého účetnictví, daňové evidence a ostatních evidencí a při jejich uchovávání se řídí českými právními předpisy a nařízeními 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82640" y="1922400"/>
            <a:ext cx="7886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lady a záznamy o realiz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záznamy a dokumenty týkající se výdajů a auditů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originály dokladů týkajících se implementace a čerpání z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dělené účetnictví s originálními účetními doklady, které prokazují uskutečnění uznatelných výdajů nebo na základě kterých se uznatelné výdaje realizu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ou korespondenci s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rávy o výsledcích zadávacích řízení (výběr dodavatele) včetně související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82640" y="1564920"/>
            <a:ext cx="78868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pie zkontrolované, autorizované žádosti příjemce     o platbu, včetně příl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iginály zápisů z provedených kontrol a potvrz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 schválení a příkaz k proplac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působilých výdajů projektu (podle finančních to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ou další dokumentaci vzniklou při implementaci z úrovně příje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Legislativní ráme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82640" y="1564920"/>
            <a:ext cx="778680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 č. 499/2004 Sb., o archivnictví a spisové služ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yla schválena novela č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9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ÁKON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 dne 28. května 2009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terým se mění zákon č. 499/2004 Sb., o archivnictví a spisové službě a o změně některých zákonů, ve znění pozdějších předpisů, a další související zákony (účinnost od 1. 7.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č. 646/2004 Sb., o podrobnostech výkonu spisové služby, v platném zn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č. 645/2004 Sb., kterou se provádějí některá stanovení zákona o archivnictví a spisové služ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82640" y="1922040"/>
            <a:ext cx="78868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6600" spc="-1" strike="noStrike">
                <a:solidFill>
                  <a:srgbClr val="f3912c"/>
                </a:solidFill>
                <a:latin typeface="Arial"/>
              </a:rPr>
              <a:t>Děkuji za pozornost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lena Matas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elena.matasova@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.: +420 234 814 2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bil: +420 602 545 7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se v prezentaci dozví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682640" y="1767960"/>
            <a:ext cx="78868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informace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k proces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chovávání dokumentů a dokladů vzniklých při implementaci pomoci                z Evropského sociálního fondu a státního rozpočtu České republ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informace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k tvorbě, vedení a ukládání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de o informace charakteru doporučujícího,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návaznosti na vytvoření vlastních interních předpisů, přičemž tyto nesmí být v rozporu s platnou Příručkou pro příjemce a Rozhodnutím o poskytnutí dot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o je povinen archivova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šechny subjekty zapojené                    do implementační struktury Operačního programu Vzdělávání pro konkurenceschopnost  (OP V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jemc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 subjekt realizující projekt       z OP V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82640" y="136440"/>
            <a:ext cx="78868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a co je zodpovědný příjem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82640" y="1351080"/>
            <a:ext cx="788688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šťuje archivaci písemností a dokumentů spojených s projek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vazuje i dodavatele, aby umožnil všem subjektům oprávněným k výkonu kontroly provést kontrolu dokladů souvisejících s plněním zakázky pro projekt, a to po dobu danou právními předpisy ČR k jejich archiva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davate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osoba povinná spolupůsobit dle zákona č. 563/1991 Sb., o účetnictví a zákona č. 235/2004 Sb., o dani z přidané hodnoty, je dále povinná uchovávat doklady spojené s dodávkou a spolupůsobit při kontrole dle zákona č. 320/2001 Sb., o finanční kontrole bez omezení, pokud k tomu bude vyzvá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82640" y="136440"/>
            <a:ext cx="78868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archivace dokumentů a d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682640" y="1351080"/>
            <a:ext cx="788688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ložení těch dokumentů,  jejichž oběh byl ukončen, zkontrolován   a vyhodnocen, pro možnost jejich opětovného použití a rychlého přístupu   k n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O doporučuje všem příjemcům, aby stanovili jednu osobu zodpovědnou za vedení a spravování „předběžného archivu“ realizovaného projektu dle těchto archivačních pravidel – tato odpovědnost nemusí být její jediná, vedení a spravování archivu může být její vedlejší činnos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39720" y="279360"/>
            <a:ext cx="78868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aká jsou základní pravidla archivac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2640" y="1564920"/>
            <a:ext cx="78868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příjemce a partnera/ů, v případě že projekt má partnera/y, jsou uloženy všechny originály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schování a zabezpečení před ztrát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účetní dokumenty a smluvní písemnosti musí být uloženy na jednom místě, z důvodu zpřístupnění jednotlivých dokladů v případě k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ruhopisy některých dokumentů, případně ověřené fotokopie jsou uloženy u ŘO a F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1000" y="136440"/>
            <a:ext cx="78865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i použití IT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e archivací myslí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682640" y="1351080"/>
            <a:ext cx="78868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áření kopií dokumentů a jejich ukládání na různá místa disku PC nebo na další nosiče dat (CD-R, DVD, příp. další), a to z důvodů,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škození pevných disků počítače, případně jiné poruch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cizení techniky, případně jejího zniče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myslného vymazá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myslné aktualizace dat a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1000" y="707760"/>
            <a:ext cx="788652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musíte uděl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493640"/>
            <a:ext cx="7886880" cy="51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umenty v digitální podobě určené ke skartačnímu řízení musí být opatřeny metadaty podle národního standardu pro elektronické systémy spisové služby – není-li tomu tak, převedou se po uzavření spisu          do analogové podoby (§ 69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etada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data popisující souvislosti, obsah a strukturu dokumentů a jejich správu v průběhu ča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videlně (min.1x za dva roky) kontrolovat stav médií k zálohování a zálohovacích mecha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archivovaní a zálohování vždy porovnat  zálohovaná data s originálem – ver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stit trvalost uložených dat s ohledem na použitá média v průběhu stanovené archivační d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o je orgánem s právem náhled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640" y="2136600"/>
            <a:ext cx="788688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ředníci nebo pověření zástupci Komise, Evropské investiční banky, Evropského účetního dvora, Evropského úřadu pro potírání podvodného jednání (OLA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ávislé auditní org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ěření zaměstnanci Platebního a certifikačního orgánu (P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ěření zaměstnanci ŘO – Sekce řízení Operačních programů EU (O 41, 42, 46), pracovníci věcných útvarů přizvaní na kontrolu pracovníky Odboru CERA, Odboru řízení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P VK a Odboru 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ditní orgány Ř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vyšší kontrolní úřad (NKÚ), Ministerstvo financí ČR a finanční úř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padně další orgány s pověřením ke kontrole (FÚ, ÚHOS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1-23T07:57:59Z</dcterms:modified>
  <cp:revision>159</cp:revision>
  <dc:subject/>
  <dc:title>Snímek 1</dc:title>
</cp:coreProperties>
</file>