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8720" y="753840"/>
            <a:ext cx="495468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80AB9-EAA5-428E-BB32-F8A35B33502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64F6B-14BB-4146-9BF6-F2099B52B14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B253-0650-4FAB-A6D6-730F1950A44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C2B51-075F-4BFB-97F1-2A0753B27E9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C126B-65B4-4239-A267-131262E4D32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91814-231E-445E-A6FD-95F010B7F99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8E9CF-7F63-4558-923F-A4B819C83BF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0FFA0-8B0B-452B-ABF5-F06AB07716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DED9B-B576-4B1D-9294-49236905B67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2AE2-C51A-47B5-A3E3-5185C4AEBAE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5FDF8-DB82-430E-AB87-9F60191F18C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B437D-987A-453F-B558-0F6F07FEAC8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8F519-0ABB-4DC9-B005-1EE9D73F1DB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DFDBB-EB72-4253-B571-DF0949C5724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8843-80E1-4C58-94ED-3CB282F0E74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8C8E2-C84E-4613-A5F1-5AD53693185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3D0E0-714B-4A31-BD97-DA31F810956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B2A-017C-4F1B-B31D-61C923B5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387-B73D-4AFE-A92E-2156763F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0A9-E791-4436-B505-E49AC04B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5D9-2A85-419B-B167-E1BE2F9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108-C72A-4B17-B315-CDE4678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3F9-65EB-40B8-9B3F-00E29997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B1A-4E61-480C-B88F-2A88838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1DD-A326-456C-A63D-8A0436C9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90D-AE2C-4F3D-8AE7-4B60EC3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2AA-1B9F-4F10-8839-5ABD6FF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74A-94CA-436A-9C8D-F2BBDDC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9BC-876C-4D29-B81E-94DC478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5E3E15-DF28-4B7A-8567-6EA8E86F0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aké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proces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 a zákona č. 235/2004 Sb., o dani z přidané hodnoty, je dále povinná uchovávat doklady spojené s dodávkou a spolupůsobit při kontrole dle zákona č. 320/2001 Sb.,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07:57:59Z</dcterms:modified>
  <cp:revision>159</cp:revision>
  <dc:subject/>
  <dc:title>Snímek 1</dc:title>
</cp:coreProperties>
</file>