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10080625" cy="7559675"/>
  <p:notesSz cx="6764338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644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765840" cy="9867960"/>
          </a:xfrm>
          <a:custGeom>
            <a:avLst/>
            <a:gdLst>
              <a:gd name="textAreaLeft" fmla="*/ 360 w 6765840"/>
              <a:gd name="textAreaRight" fmla="*/ 6765480 w 6765840"/>
              <a:gd name="textAreaTop" fmla="*/ 360 h 9867960"/>
              <a:gd name="textAreaBottom" fmla="*/ 9867600 h 9867960"/>
            </a:gdLst>
            <a:ahLst/>
            <a:rect l="textAreaLeft" t="textAreaTop" r="textAreaRight" b="textAreaBottom"/>
            <a:pathLst>
              <a:path w="21600" h="31503">
                <a:moveTo>
                  <a:pt x="4" y="0"/>
                </a:moveTo>
                <a:arcTo wR="4" hR="4" stAng="16200000" swAng="-5400000"/>
                <a:lnTo>
                  <a:pt x="0" y="31499"/>
                </a:lnTo>
                <a:arcTo wR="4" hR="4" stAng="10800000" swAng="-5400000"/>
                <a:lnTo>
                  <a:pt x="21596" y="3150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6765840" cy="9867960"/>
          </a:xfrm>
          <a:custGeom>
            <a:avLst/>
            <a:gdLst>
              <a:gd name="textAreaLeft" fmla="*/ 360 w 6765840"/>
              <a:gd name="textAreaRight" fmla="*/ 6765480 w 6765840"/>
              <a:gd name="textAreaTop" fmla="*/ 360 h 9867960"/>
              <a:gd name="textAreaBottom" fmla="*/ 9867600 h 9867960"/>
            </a:gdLst>
            <a:ahLst/>
            <a:rect l="textAreaLeft" t="textAreaTop" r="textAreaRight" b="textAreaBottom"/>
            <a:pathLst>
              <a:path w="21600" h="31503">
                <a:moveTo>
                  <a:pt x="4" y="0"/>
                </a:moveTo>
                <a:arcTo wR="4" hR="4" stAng="16200000" swAng="-5400000"/>
                <a:lnTo>
                  <a:pt x="0" y="31499"/>
                </a:lnTo>
                <a:arcTo wR="4" hR="4" stAng="10800000" swAng="-5400000"/>
                <a:lnTo>
                  <a:pt x="21596" y="3150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ldImg"/>
          </p:nvPr>
        </p:nvSpPr>
        <p:spPr>
          <a:xfrm>
            <a:off x="915480" y="749160"/>
            <a:ext cx="4929480" cy="36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76080" y="4686120"/>
            <a:ext cx="54082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2932200" cy="48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4"/>
          </p:nvPr>
        </p:nvSpPr>
        <p:spPr>
          <a:xfrm>
            <a:off x="-360" y="9373680"/>
            <a:ext cx="2932200" cy="4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5"/>
          </p:nvPr>
        </p:nvSpPr>
        <p:spPr>
          <a:xfrm>
            <a:off x="3828600" y="9373680"/>
            <a:ext cx="2932200" cy="4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EBB8D3-D42C-4F62-8B17-182B7D6FCEE6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dt" idx="6"/>
          </p:nvPr>
        </p:nvSpPr>
        <p:spPr>
          <a:xfrm>
            <a:off x="3831840" y="-360"/>
            <a:ext cx="2932200" cy="493560"/>
          </a:xfrm>
          <a:prstGeom prst="rect">
            <a:avLst/>
          </a:prstGeom>
          <a:noFill/>
          <a:ln w="0">
            <a:noFill/>
          </a:ln>
        </p:spPr>
        <p:txBody>
          <a:bodyPr lIns="83160" rIns="83160" tIns="41760" bIns="4176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25.11.2009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4F0085-1E04-4010-AE4C-41DBF93C0FD3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F6D9D6-C85C-43CF-AAFC-49D84C9B1AE3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Ne písemně na statutárního zástupce. Celý proces se znovu opakuj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8E2C19-83CE-4C6A-BD52-C0BEEB874B02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3E2383-0D8E-4BA6-9FA2-3AA8ED845C15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imořádná průběžná MZ – z důvodu vyčerpání finančních prostředků; termín následující MZ se pak řídí podle této mimořádné průběžné MZ, tj. další průběžná MZ musí být předložena opět po třech měsících realizace projektu (Pravidla monitorování, Příručka pro příjem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D8DB04-DBAA-4855-82BC-6687F49E1271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1CD842-AA3C-41E9-B1A6-CAC0B80D847C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979DDF-60C5-40A6-8803-C9545365C4C7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BF00A4-7ED2-4E47-9BD6-217E4511C28F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0B8F58-E9D2-4884-8EC5-80B8FF546E08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Z se až do odvolání předkládá v listinné podobě (nezadává se do Monitu). TABULKA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94D63F-FD79-428E-A603-111DE7EC0D84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BDB4D-5A2C-4AF9-A419-31A98A189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148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7C5B8-DFE0-496D-BF43-770F37330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424D1-3EC8-4C85-B947-63C956072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5713A-E0FC-4081-B5E5-5F80328A4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76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7C3EA-13C4-4220-97D3-60B4464DE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F64E3-77C5-4B62-9B4B-0B361610E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BDADE-6E1E-4226-8DF5-97039FDF4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C2DA5-3B13-402C-88E7-10DB67F3A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76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54AAE-19F6-42BF-BAE4-C9172D54A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73864-8392-4793-BC02-FAFCB3531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890C6-05C5-4A05-BC92-480E3F242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1E512-4067-4EE1-9B3B-8FD69B7A7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4040" indent="-212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5680" indent="-214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5680" indent="-214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5680" indent="-214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BD69556-8708-41AA-95D1-949E5D0EE78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msmt.cz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78920" cy="755964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682640" y="0"/>
            <a:ext cx="788688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4400"/>
            </a:br>
            <a:r>
              <a:rPr b="1" lang="cs-CZ" sz="4800" spc="-1" strike="noStrike">
                <a:solidFill>
                  <a:srgbClr val="ff9900"/>
                </a:solidFill>
                <a:latin typeface="Arial"/>
              </a:rPr>
              <a:t>Základní informace k předkládání monitorovacích zprav (MZ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1682640" y="4208040"/>
            <a:ext cx="7886880" cy="14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marL="248400" indent="-1879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8400" indent="-18792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>
                <a:solidFill>
                  <a:srgbClr val="ff9900"/>
                </a:solidFill>
                <a:latin typeface="Arial"/>
              </a:rPr>
              <a:t>Mgr. Martina Špakov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8400" indent="-18792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8400" indent="-18792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48400" indent="-18792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Tato prezentace je spolufinancována Evropským sociálním fondem a státním rozpočtem České republik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48400" indent="-18792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78920" cy="755964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53920" y="301680"/>
            <a:ext cx="7815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f9900"/>
                </a:solidFill>
                <a:latin typeface="Arial"/>
              </a:rPr>
              <a:t>Co následuje po odevzdání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1753920" y="1994040"/>
            <a:ext cx="781524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kontrola MZ poskytovatelem dotace (komunikace s projektovým manažerem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po vyzvání je příjemce povinen případné chybějící nebo doplňující údaje poskytnout do 15 pracovních dnů – vyzvání proběhne </a:t>
            </a: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e-mailem </a:t>
            </a: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na zhotovitele MZ a hlavní kontaktní osob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78920" cy="755964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82280" y="921960"/>
            <a:ext cx="7815240" cy="17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5400" spc="-1" strike="noStrike">
                <a:solidFill>
                  <a:srgbClr val="ff9900"/>
                </a:solidFill>
                <a:latin typeface="Arial"/>
              </a:rPr>
              <a:t>Děkuji za pozornos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825200" y="3637080"/>
            <a:ext cx="7815240" cy="311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Kontakt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Mgr. Martina Špakov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600" spc="-1" strike="noStrike" u="sng">
                <a:solidFill>
                  <a:srgbClr val="262699"/>
                </a:solidFill>
                <a:uFillTx/>
                <a:latin typeface="Arial"/>
              </a:rPr>
              <a:t>martina.spakova@msmt.c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600" spc="-1" strike="noStrike" u="sng">
                <a:solidFill>
                  <a:srgbClr val="262699"/>
                </a:solidFill>
                <a:uFillTx/>
                <a:latin typeface="Arial"/>
              </a:rPr>
              <a:t>cera@msmt.c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78920" cy="75596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53920" y="301320"/>
            <a:ext cx="7815240" cy="104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f9900"/>
                </a:solidFill>
                <a:latin typeface="Arial"/>
              </a:rPr>
              <a:t>Co je potřeba předkláda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1753920" y="1564920"/>
            <a:ext cx="8072280" cy="56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průběžná</a:t>
            </a: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závěrečná M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po ukončení: </a:t>
            </a: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MZ o udržitelnosti</a:t>
            </a: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   (1x ročně po ukončení projektu po dobu 5 let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600" spc="-1" strike="noStrike" u="sng">
                <a:solidFill>
                  <a:srgbClr val="000000"/>
                </a:solidFill>
                <a:uFillTx/>
                <a:latin typeface="Arial"/>
              </a:rPr>
              <a:t>průběžná MZ</a:t>
            </a: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: bez žádosti o platbu nebo se žádostí o platbu (v případě, že příjemce provedl vyúčtování způsobilých výdajů a žádá o jejich proplacení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mimořádná M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78920" cy="755964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53920" y="301680"/>
            <a:ext cx="7815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f9900"/>
                </a:solidFill>
                <a:latin typeface="Arial"/>
              </a:rPr>
              <a:t>Kdy odevzdávat MZ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1753920" y="1565280"/>
            <a:ext cx="8072280" cy="55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jméně jednou za 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3 resp. 6 měsíců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od zahájení projektu (dle Rozhodnutí resp. Dodatku), vždy do 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30 kalendářních dnů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d konce monitorovacího obdob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 u="sng">
                <a:solidFill>
                  <a:srgbClr val="000000"/>
                </a:solidFill>
                <a:uFillTx/>
                <a:latin typeface="Arial"/>
              </a:rPr>
              <a:t>1. monitorovací období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) ode dne začátku realizace projek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) v souladu s kalendářními měsíci (od prvního dne měsíce, v němž začal projek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volená možnost se používá během celého období realiz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78920" cy="755964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 txBox="1"/>
          <p:nvPr/>
        </p:nvSpPr>
        <p:spPr>
          <a:xfrm>
            <a:off x="1825200" y="779040"/>
            <a:ext cx="7572600" cy="628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19200" indent="-5144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Příklad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: v Rozhodnutí je uvedeno datum zahájení projektu 1.5. 2009, datum podpisu akceptace je 8.5.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19200" indent="-5144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19200" indent="-5144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onitorovací období: 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8.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– 7.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8.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předložení MZ: do 6. 9.2009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19200" indent="-5144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(další MZ za období 8. 8. – 7. 11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19200" indent="-5144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onitorovací období 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– 31.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7., 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předložení MZ: do 30. 8.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19200" indent="-5144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(další MZ za období 1. 8. – 31. 10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19200" indent="-5144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19200" indent="-5144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19200" indent="-5144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19200" indent="-51444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19200" indent="-5144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bdélník 3"/>
          <p:cNvSpPr/>
          <p:nvPr/>
        </p:nvSpPr>
        <p:spPr>
          <a:xfrm>
            <a:off x="1825560" y="565200"/>
            <a:ext cx="7643880" cy="1857240"/>
          </a:xfrm>
          <a:prstGeom prst="rect">
            <a:avLst/>
          </a:prstGeom>
          <a:noFill/>
          <a:ln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78920" cy="755964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53920" y="207720"/>
            <a:ext cx="7815240" cy="18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f9900"/>
                </a:solidFill>
                <a:latin typeface="Arial"/>
              </a:rPr>
              <a:t>Kde najít MZ?</a:t>
            </a:r>
            <a:br>
              <a:rPr sz="4400"/>
            </a:br>
            <a:r>
              <a:rPr b="1" lang="cs-CZ" sz="32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www.msmt.cz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: Strukturální fondy – OP VK: Pro žadatele a příjem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3"/>
          <a:stretch/>
        </p:blipFill>
        <p:spPr>
          <a:xfrm>
            <a:off x="1539720" y="2065320"/>
            <a:ext cx="8286840" cy="528624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65" name="Elipsa 9"/>
          <p:cNvSpPr/>
          <p:nvPr/>
        </p:nvSpPr>
        <p:spPr>
          <a:xfrm>
            <a:off x="3325680" y="4565520"/>
            <a:ext cx="1857600" cy="5000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66" name="Přímá spojovací šipka 13"/>
          <p:cNvCxnSpPr/>
          <p:nvPr/>
        </p:nvCxnSpPr>
        <p:spPr>
          <a:xfrm flipH="1">
            <a:off x="7683120" y="4995720"/>
            <a:ext cx="2160" cy="150120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arrow" w="med"/>
          </a:ln>
        </p:spPr>
      </p:cxn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78920" cy="75596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53920" y="301680"/>
            <a:ext cx="7815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f9900"/>
                </a:solidFill>
                <a:latin typeface="Arial"/>
              </a:rPr>
              <a:t>Kde najít MZ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" descr=""/>
          <p:cNvPicPr/>
          <p:nvPr/>
        </p:nvPicPr>
        <p:blipFill>
          <a:blip r:embed="rId2"/>
          <a:stretch/>
        </p:blipFill>
        <p:spPr>
          <a:xfrm>
            <a:off x="1754280" y="1351080"/>
            <a:ext cx="8072280" cy="6000480"/>
          </a:xfrm>
          <a:prstGeom prst="rect">
            <a:avLst/>
          </a:prstGeom>
          <a:ln w="0">
            <a:noFill/>
          </a:ln>
        </p:spPr>
      </p:pic>
      <p:sp>
        <p:nvSpPr>
          <p:cNvPr id="70" name="Elipsa 5"/>
          <p:cNvSpPr/>
          <p:nvPr/>
        </p:nvSpPr>
        <p:spPr>
          <a:xfrm>
            <a:off x="1754280" y="3351240"/>
            <a:ext cx="1428480" cy="2858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Elipsa 6"/>
          <p:cNvSpPr/>
          <p:nvPr/>
        </p:nvSpPr>
        <p:spPr>
          <a:xfrm>
            <a:off x="3468600" y="2279520"/>
            <a:ext cx="2286000" cy="3574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78920" cy="755964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53920" y="-360"/>
            <a:ext cx="7815240" cy="14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f9900"/>
                </a:solidFill>
                <a:latin typeface="Arial"/>
              </a:rPr>
              <a:t>V jaké formě odevzdat MZ a její příloh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1611360" y="1564920"/>
            <a:ext cx="8215200" cy="57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24440" indent="-32076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Listinná verze M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vně spojena v jednom svazk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aždá příloha samostatně spoje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jednotlivé přílohy je možné vyjmou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Elektronická verze M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četně relevantních příloh na nepřepisovatelném CD – viz tabulk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Benefit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žádost o platbu a některé přílohy – viz tabul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468360" y="422280"/>
          <a:ext cx="9072360" cy="6786720"/>
        </p:xfrm>
        <a:graphic>
          <a:graphicData uri="http://schemas.openxmlformats.org/drawingml/2006/table">
            <a:tbl>
              <a:tblPr/>
              <a:tblGrid>
                <a:gridCol w="936720"/>
                <a:gridCol w="3238200"/>
                <a:gridCol w="2087640"/>
                <a:gridCol w="955800"/>
                <a:gridCol w="981000"/>
                <a:gridCol w="873000"/>
              </a:tblGrid>
              <a:tr h="247680"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Číslo přílohy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Materiál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Podpi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Listinná verz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CD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Benefit7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249120"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Monitorovací zpráva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Statutární zástupce příjem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   .doc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N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</a:tr>
              <a:tr h="582840">
                <a:tc gridSpan="6"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Přílohy monitorovací zprávy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7680"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Monitorovací indikátory 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Oprávněná osoba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    .xl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N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</a:tr>
              <a:tr h="247320"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Přehled uzavřených zadávacích řízení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Oprávněná osoba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    .xl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N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497160"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A.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A. Přehled čerpání veřejné podpory podle blokových výjimek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Oprávněná osoba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    .xl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N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</a:tr>
              <a:tr h="247680"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B.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B. Přehled čerpání veřejné podpory podle de minimi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Oprávněná osoba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    .xl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N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496800"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Žádost o platbu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Statutární zástupce příjem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N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finalizovaná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</a:tr>
              <a:tr h="247680"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Soupiska účetních dokladů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Oprávněná osoba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    .xl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 .xl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249120"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Kopie účetních dokladů</a:t>
                      </a:r>
                      <a:r>
                        <a:rPr b="0" lang="cs-CZ" sz="11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N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N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</a:tr>
              <a:tr h="247680"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Kopie výpisu z účtu projektu</a:t>
                      </a:r>
                      <a:r>
                        <a:rPr b="0" lang="cs-CZ" sz="11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N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N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Přehled čerpání způsobilých výdajů</a:t>
                      </a:r>
                      <a:r>
                        <a:rPr b="0" lang="cs-CZ" sz="11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Oprávněná osoba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   .xl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 .xl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</a:tr>
              <a:tr h="247680"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Přepracovaný rozpočet projektu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Oprávněná osoba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   .xl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N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249120"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Přepracovaný harmonogram projektu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Oprávněná osoba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   .xl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N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</a:tr>
              <a:tr h="247680"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Podpisové vzory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Statutární zástupce příjem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   Scan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N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Dokladování způsobilých výdajů – pracovní výkazy</a:t>
                      </a:r>
                      <a:r>
                        <a:rPr b="0" lang="cs-CZ" sz="11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Zaměstnanec, Nadřízený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N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N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</a:tr>
              <a:tr h="249120"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Dokladování způsobilých výdajů – mzdové náklady</a:t>
                      </a:r>
                      <a:r>
                        <a:rPr b="0" lang="cs-CZ" sz="11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Oprávněná osoba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   .xl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 .xl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4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Dokladování způsobilých výdajů – cestovní náklady</a:t>
                      </a:r>
                      <a:r>
                        <a:rPr b="0" lang="cs-CZ" sz="11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Oprávněná osoba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   .xl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 .xl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</a:tr>
              <a:tr h="247680"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5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Dokladování způsobilých výdajů – odpisy</a:t>
                      </a:r>
                      <a:r>
                        <a:rPr b="0" lang="cs-CZ" sz="11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Oprávněná osoba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   .xl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 .xl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496800"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6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Požadavek na strukturu zaslané platby (u organizací se závaznými limity v oblasti mezd)</a:t>
                      </a:r>
                      <a:r>
                        <a:rPr b="0" lang="cs-CZ" sz="11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Oprávněná osoba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  Scan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N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</a:tr>
              <a:tr h="247680"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7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Žádost schválení podstatných změn GP/IP OPVK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Statutární zástupce příjem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N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N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497160"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8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Další relevantní přílohy – prezenční listiny, výstupy z projektu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/NE Relevantní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/NE Relevantní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N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</a:tr>
            </a:tbl>
          </a:graphicData>
        </a:graphic>
      </p:graphicFrame>
      <p:sp>
        <p:nvSpPr>
          <p:cNvPr id="76" name="Rectangle 1"/>
          <p:cNvSpPr/>
          <p:nvPr/>
        </p:nvSpPr>
        <p:spPr>
          <a:xfrm>
            <a:off x="4950000" y="-311400"/>
            <a:ext cx="180720" cy="6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0" y="0"/>
            <a:ext cx="3327480" cy="9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78920" cy="755964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53920" y="301320"/>
            <a:ext cx="7815240" cy="83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f9900"/>
                </a:solidFill>
                <a:latin typeface="Arial"/>
              </a:rPr>
              <a:t>Jak odevzdat MZ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1682640" y="1279080"/>
            <a:ext cx="8143920" cy="628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Doporučeně poštou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– náležitost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dresa poskytovatele podpory včetně kontaktní osoby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inisterstvo školství, mládeže a tělovýchovy Č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méno příslušného PM, odbor CE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100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armelitská 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100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118 12 Praha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ázev a registrační číslo projek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Upozornění „Neotvírat – Monitorovací zpráva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Osobně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– po domluvě s PM, potvrzení o převzet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Rozhoduje datum doručení poskytovateli podpory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Obdélník 4"/>
          <p:cNvSpPr/>
          <p:nvPr/>
        </p:nvSpPr>
        <p:spPr>
          <a:xfrm>
            <a:off x="3040200" y="2708280"/>
            <a:ext cx="5643360" cy="1928880"/>
          </a:xfrm>
          <a:prstGeom prst="rect">
            <a:avLst/>
          </a:prstGeom>
          <a:noFill/>
          <a:ln w="2844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gh</cp:lastModifiedBy>
  <dcterms:modified xsi:type="dcterms:W3CDTF">2009-11-23T10:01:37Z</dcterms:modified>
  <cp:revision>97</cp:revision>
  <dc:subject/>
  <dc:title>Snímek 1</dc:title>
</cp:coreProperties>
</file>