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sldImg"/>
          </p:nvPr>
        </p:nvSpPr>
        <p:spPr>
          <a:xfrm>
            <a:off x="896400" y="742680"/>
            <a:ext cx="4924440" cy="36939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9" name="PlaceHolder 4"/>
          <p:cNvSpPr>
            <a:spLocks noGrp="1"/>
          </p:cNvSpPr>
          <p:nvPr>
            <p:ph type="ftr" idx="7"/>
          </p:nvPr>
        </p:nvSpPr>
        <p:spPr>
          <a:xfrm>
            <a:off x="-360" y="9373680"/>
            <a:ext cx="2932200" cy="4892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5"/>
          <p:cNvSpPr>
            <a:spLocks noGrp="1"/>
          </p:cNvSpPr>
          <p:nvPr>
            <p:ph type="dt" idx="8"/>
          </p:nvPr>
        </p:nvSpPr>
        <p:spPr>
          <a:xfrm>
            <a:off x="3831840" y="-360"/>
            <a:ext cx="2932200" cy="493560"/>
          </a:xfrm>
          <a:prstGeom prst="rect">
            <a:avLst/>
          </a:prstGeom>
          <a:noFill/>
          <a:ln w="0">
            <a:noFill/>
          </a:ln>
        </p:spPr>
        <p:txBody>
          <a:bodyPr lIns="91080" rIns="91080" tIns="45360" bIns="45360" anchor="t">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200" spc="-1" strike="noStrike">
                <a:solidFill>
                  <a:srgbClr val="000000"/>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11.12.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n&#225;bytke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6760" y="743040"/>
            <a:ext cx="4924440" cy="3693960"/>
          </a:xfrm>
          <a:prstGeom prst="rect">
            <a:avLst/>
          </a:prstGeom>
          <a:ln w="0">
            <a:noFill/>
          </a:ln>
        </p:spPr>
      </p:sp>
      <p:sp>
        <p:nvSpPr>
          <p:cNvPr id="17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3AE8AD2-2AF6-40EC-BE40-2E2D60E0CD0C}"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3040"/>
            <a:ext cx="4924440" cy="3693960"/>
          </a:xfrm>
          <a:prstGeom prst="rect">
            <a:avLst/>
          </a:prstGeom>
          <a:ln w="0">
            <a:noFill/>
          </a:ln>
        </p:spPr>
      </p:sp>
      <p:sp>
        <p:nvSpPr>
          <p:cNvPr id="197"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C95D101-4112-428E-99B1-19F0C952EC1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6760" y="743040"/>
            <a:ext cx="4924440" cy="3693960"/>
          </a:xfrm>
          <a:prstGeom prst="rect">
            <a:avLst/>
          </a:prstGeom>
          <a:ln w="0">
            <a:noFill/>
          </a:ln>
        </p:spPr>
      </p:sp>
      <p:sp>
        <p:nvSpPr>
          <p:cNvPr id="20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acovní výkaz musí minimálně obsah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dentifikaci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zev subjektu (příjemce/partn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značnou identifikaci pracovníka a zastávané funkce (odkaz na položku roz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e které jsou osobní náklady hraz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é vymezení (měsíc a rok, ve kterém byla činnost provádě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daje o úvazku v projektu, případně o zapojení do dalších projektů v téže organ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ý rozsah práce dle smlouvy a popis činností, které jsou vykonávány v rámc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jektu v jednotlivých dnech konkrétního měsí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pis činností musí být podrobně zpracován vzhledem ke konkrétním prováděný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em, nestačí obecné formulace typu „administrativní práce“ nebo „vede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dále obsahovat informace o čerpání dovolené, pracovní neschopnosti, případ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lší relevantní údaje, vztahující se k vykonávané činn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být podepsán odpovědnou osobou (nadřízeným příslušného pracovník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oordinátorem projektu, ředitelem, statutárním zástupcem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úvazky zaměstnance v rámci organizace se nesmějí překrývat a není mož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by byl placen za stejnou práci vícekrát, tj. současně vykazoval stejnou práci v rám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OP VK a v rámci jiného projektu nebo úkol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en pracovník nemůže být v rámci projektu a současně v rámci vykonávání dalš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í pro příjemce a jeho partnery zaměstnán na více než 1,5 úvazku cel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acovní poměr v rámci pracovní smlouvy a práce podle dohod vykonávaná mimo pracovní pomě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ednotkové mzdy, které jsou stanovené ve schváleném rozpočtu projektu v závislost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a pracovní pozici a typu pracovního poměru hodinovou sazbou nebo měsíční sazbo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sou průměrovými ukazateli a jsou po celou dobu realizace projektu závaz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 možnost využívání motivačních prvků v odměňování zaměstnanců lze tyto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ostředky určené na jednotlivé pracovní pozice čerpat během doby real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jektu nerovnoměrně.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v projektu je plánováno více pracovních pozic, než mají příjemce a jeho partneř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ů, není možné rozdělit částky z přebývajících položek mezi současn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na základě stávajících smluv. Buď je nutné přijmout/zaměstnat nov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ří budou tyto pozice zastávat, nebo u stávajících pracovníků navýšit pracovní úvaz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 omezením při dodržení pravidla o vykonávání max. 1,5 pracovního úvazku pro zaměstna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a jeho partnery viz výše), tzn. není možné tímto způsobem navyš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tkové mzdy pracovník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0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0628AE1-352A-42E2-BAE9-1168ECCA7EB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6760" y="743040"/>
            <a:ext cx="4924440" cy="3693960"/>
          </a:xfrm>
          <a:prstGeom prst="rect">
            <a:avLst/>
          </a:prstGeom>
          <a:ln w="0">
            <a:noFill/>
          </a:ln>
        </p:spPr>
      </p:sp>
      <p:sp>
        <p:nvSpPr>
          <p:cNvPr id="20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i vyúčtování způsobilých výdajů projektu při předkládání monitorovacích zpráv a žádostí o platb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dokládá příjemce a případní partneři osobní náklady např. následujícími dokumenty, případně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ejich kopiemi (s jednoznačnou identifikací pracovníka a zastávané funkce - specifikace bud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rovedena poskytovatelem podpor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smlouvami (nebo odpovídajícími typy smluv) v monitorovací zprávě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ve které budou odpovídající osobní výdaje daného pracovníka poprvé uplatňová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latní listinou nebo výplatní páskou zapojených pracovníků, případně mzdovými list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isem z projektového účtu/z provozního účtu organizace, ve kterém jsou identifikova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evody výplat jednotlivým pracovníkům a převody zákonných odvodů a daní</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výkazy za jednotlivé pracovní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rozpisem mzdových nákladů pracovníků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adně dalšími doklady, které jsou v souladu s platnou legislativou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ové pokladní doklady u mzdy vyplácené v hotovosti apod.).</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Nominální (hrubá) mzda – zahrnuje všechny pracovní příjmy (základní mzda nebo plat,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latky a doplatky ke mzdě nebo platu, prémie a odměny, náhrady mezd a platů, odmě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a pracovní pohotovost a jiné složky mzdy nebo platu, výdaje spojené s dovolenou a zákonnými překážkami v práci),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které byly v daném období zaměstnancům zúčtovány k výplatě, a představuje podíl připadající na</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jednoho  zaměstnance na měsíc. Jedná se o hrubou mzdu, tj. před snížením o pojistné na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šeobecné zdravotní pojištění a sociální zabezpečení, o zálohové splátky daně z příjmu fyzických osob a další zákon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nebo se zaměstnancem dohodnuté sráž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lat – podle zákona č. 262/2006 Sb., zákoník prá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Zákonné odvody na sociální a zdravotní pojištění hrazené zaměstnavatelem za své zaměstnan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méno, příjmení nebo osobní číslo.</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Times New Roman"/>
            </a:endParaRPr>
          </a:p>
        </p:txBody>
      </p:sp>
      <p:sp>
        <p:nvSpPr>
          <p:cNvPr id="20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B7B5F4D-F2ED-49E2-840E-A405BA4926F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6760" y="743040"/>
            <a:ext cx="4924440" cy="3693960"/>
          </a:xfrm>
          <a:prstGeom prst="rect">
            <a:avLst/>
          </a:prstGeom>
          <a:ln w="0">
            <a:noFill/>
          </a:ln>
        </p:spPr>
      </p:sp>
      <p:sp>
        <p:nvSpPr>
          <p:cNvPr id="20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a:solidFill>
                  <a:srgbClr val="000000"/>
                </a:solidFill>
                <a:latin typeface="Times New Roman"/>
              </a:rPr>
              <a:t>Kapitola rozpočtu 2 – Cestovní náhrady související s realizací projektu</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a:t>
            </a:r>
            <a:r>
              <a:rPr b="1" lang="cs-CZ" sz="1200" spc="-1" strike="noStrike">
                <a:solidFill>
                  <a:srgbClr val="000000"/>
                </a:solidFill>
                <a:latin typeface="Times New Roman"/>
              </a:rPr>
              <a:t>, </a:t>
            </a:r>
            <a:r>
              <a:rPr b="0" lang="cs-CZ" sz="1200" spc="-1" strike="noStrike">
                <a:solidFill>
                  <a:srgbClr val="000000"/>
                </a:solidFill>
                <a:latin typeface="Times New Roman"/>
              </a:rPr>
              <a:t>že ve schváleném rozpočtu projektu jsou definovány způsobilé výdaje v této kapitole, je potřeba, aby se příjemce a jeho partneři řídili při vykazování těchto výdajů podmínkami, které byly zohledněny již při přípravě projektové žádosti.</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ždy se musí jednat o výdaje na pracovní cesty zaměstnanců příjemce nebo partnera projektu, a to pouze osob zapojených do realizace projektu (na základě uzavřeného pracovněprávního vztahu). Cestovní výdaje osob, které se na realizaci projektu nepodílejí, není možné v rámci projektového rozpočtu hradit – cestovné zástupců cílové skupiny spadá do Přímé podpory – Kapitola rozpočtu 7, případně do Kapitoly 5.</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počet cestovních náhrad pracovníkům projektu se řídí:</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em č. 262/2006, zákoník práce, v platném znění, Hlava II, Díl 1.;</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latnou vyhláškou MPSV, kterou MPSV vydává v pravidelném termínu 1. ledna na základě §189 zákona č. 262/2006, zákoníku práce;</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nterními předpisy organizace, které přesně stanovují stravné pro pracovníky organizace na pracovní cestě, popř. popřípadě vnitřní směrnice organizace, která určuje míru krácení stravného za bezplatně poskytnutá jídla;</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zahraničních pracovních cest vyhláškou MF, vydávanou vždy k 1. lednu kalendářního roku, která stanovuje výši základních sazeb zahraničního stravného v celých měnových jednotkách příslušné cizí měny;</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pecifickými pravidly OP VK.</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A6609D9-1ED4-4279-85FD-D941E972BFD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6760" y="743040"/>
            <a:ext cx="4924440" cy="3693960"/>
          </a:xfrm>
          <a:prstGeom prst="rect">
            <a:avLst/>
          </a:prstGeom>
          <a:ln w="0">
            <a:noFill/>
          </a:ln>
        </p:spPr>
      </p:sp>
      <p:sp>
        <p:nvSpPr>
          <p:cNvPr id="20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l pracovní cesty musí vždy souviset s projekt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cestovními náhradami musejí odpovídat cenám obvyklým v místě a čase realizace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Náhrada prokázaných jízdních výdajů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ýdaje, které jsou spojené s dopravou na služební cestě (výdaje za jízdenky veřejné dopravy ve 2. třídě, místenky, lehátka nebo lůžka, letenky, jízdenky místní veřejné dopravy, výdaje související s použitím soukromého vozidla) jsou v rámci schváleného rozpočtu způsobilé.</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letadla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Při použití letadla je způsobilým výdajem letenka v ekonomické třídě a přímo související poplatky (např. letištní) při letu na vzdálenost větší než 500 km. Pokud jde o kratší vzdálenost, je třeba k zakoupení letenky souhlas poskytovatele podpory. Pokud poskytovatel souhlas nedá, lze z projektu uhradit jen výdaj odpovídající ceně jízdenky v 2. třídě vlaku vyšší kvality (SuperCity, EuroCity, InterCity, Express apod.).</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místní veřejné dopravy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 rámci cestovného je možné hradit výdaje na místní veřejnou dopravu. Při zakoupení časových kuponů musí být doloženo, že nákup kuponu je v rámci realizace projektu levnější než proplácení jednotlivých jízdenek.</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oukromého vozidla – </a:t>
            </a:r>
            <a:r>
              <a:rPr b="0" lang="cs-CZ" sz="300" spc="-1" strike="noStrike">
                <a:solidFill>
                  <a:srgbClr val="000000"/>
                </a:solidFill>
                <a:latin typeface="Times New Roman"/>
              </a:rPr>
              <a:t>Způsobilé jso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základní náhrada vyjadřující odhad míry opotřebení vozidla, jejíž výše vychází z vyhlášky ministerstva práce a sociálních věcí;</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náhrada za spotřebované pohonné hmoty; výše se vypočítá z ceny pohonných hmot a spotřeby vozidla podle § 158, odst. 4, zákona č. 262/2006 Sb. Neprokáže-li pracovník cenu pohonné hmoty, vypočte se výše náhrady z průměrné ceny pohonné hmoty, která je stanovena vyhláškou ministerstva práce a sociálních věcí. Pro údaj o spotřebě vozidla se použije údaj z technického průkazu.</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lužebního vozidla – </a:t>
            </a:r>
            <a:r>
              <a:rPr b="0" lang="cs-CZ" sz="300" spc="-1" strike="noStrike">
                <a:solidFill>
                  <a:srgbClr val="000000"/>
                </a:solidFill>
                <a:latin typeface="Times New Roman"/>
              </a:rPr>
              <a:t>V případě používání služebního vozidla je způsobilým výdajem cena pohonných hmot spotřebovaných na cestách podle ujeté vzdálenosti. Hodnota se vypočte obdobně jako při použití soukromého vozidla buď podle průměrné ceny pohonných hmot na dané období stanovené Vyhláškou MPSV nebo je doložena účetním dokladem dokladujícím nákup pohonných hmot. Ujetá vzdálenost bude doložena výpisem z knihy jíz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Ubytování/noclež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způsobilé výdaje za ubytování během služebních cest platí, že musejí odpovídat cenám v místě obvyklým. V případě výdajů za tuzemské ubytování je nutné dodržovat cenový limit pro ubytování v ČR – maximálně 1200 Kč za osobu a noc a zároveň se řídit dle interních předpisů dané organizace, pokud stanovují nižší cenový lim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travné </a:t>
            </a:r>
            <a:r>
              <a:rPr b="0" lang="cs-CZ" sz="300" spc="-1" strike="noStrike">
                <a:solidFill>
                  <a:srgbClr val="000000"/>
                </a:solidFill>
                <a:latin typeface="Times New Roman"/>
              </a:rPr>
              <a:t>– Přísluší zaměstnanci v závislosti na době trvání pracovní cesty. Výši stravného na základě zákona č. 262/2006 Sb., zákoník práce, ve znění pozdějších předpisů, a podle odpovídajících vyhlášek ministerstva práce a sociálních věcí určuje zaměstnavatel zaměstnanci před vysláním na pracovní cestu. Zákoník práce (popřípadě vnitřní směrnice organizace) také určuje míru krácení stravného za bezplatně poskytnutá jídla. Stravné lze hradit maximálně do výše 300 Kč na osobu za celý d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romě výše uvedených jsou způsobilým výdajem také další úhrady související s předmětem pracovní cesty, např. parkovné, poplatky spojené s pracovní cestou, konferenční poplatky, poplatky za použití telefonu, dálniční poplatek, vstupenky na veletrh, poplatky za úschovu zavazadel apod. Tyto poplatky lze hradit pouze na základě prokázaných úhrad.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 pro služební cesty zahranič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jsou výdaje spojené s pracovními cestami zaměstnanců příjemce a zaměstnanců partnerů při zahraničních cestách, přičemž zaměstnancem se rozumí také osoba, která má s příjemcem, popř. partnerem uzavřenu dohodu o provedení práce či o pracovní činnosti, pokud je v této dohodě stanoveno, že tato osoba bude vykonávat služeb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ahraniční pracovní cesty mohou být propláceny jen v odůvodněných případech a pouze v případě, že jsou obsaženy ve schválené verzi projektové žádosti a zahrnuty v rozpočtu, který je součástí právního a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avyšovat položky rozpočtu související se zahraniční služební cestou není možné.</a:t>
            </a:r>
            <a:r>
              <a:rPr b="0" lang="cs-CZ" sz="300" spc="-1" strike="noStrike">
                <a:solidFill>
                  <a:srgbClr val="000000"/>
                </a:solidFill>
                <a:latin typeface="Times New Roman"/>
              </a:rPr>
              <a:t> Veškeré výdaje musejí být naplánovány při přípravě rozpočtu v projektové žádosti a musejí být řádně zdůvodněny. Výjimku tvoří případy, kdy příjemce jednoznačně poskytovateli prokáže, že se hodnota plánovaných výdajů změnila v důsledku neočekávaného hospodářského vývoje (zejm. zvýšení c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vyúčtování zahraničních pracovních cest se postupuje podle Vyhlášky Ministerstva financí o základních sazbách stravného v cizí měně platné pro daný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bytování v hotelu v zahraničí může být zajištěno maximálně v kategori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ým nákladem je i kapesné, které může zaměstnavatel poskytnout zaměstnancům při zahraniční pracovní cestě v cizí měně do výše 40 % stravného (toto kapesné může poskytovat pouze za předpokladu, že to odpovídá interním předpisům dané organizace, které mohou stanovovat kapesné nižš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í náhrady pro zahraniční exper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roplácení cestovních náhrad zaměstnancům zahraničních subjektů je nutné vycházet z platných sazeb EU. Tyto náhrady, tzv. „per diems“, kryjí náklady na ubytování, stravné a cestovné v Č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pro cizince v ČR se stanovuje podle sazeb EU publikovaných v poslední aktualizaci na stránce: http://europa.eu.int/comm/europeaid/perdiem/index_en.ht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nto postup se uplatní v případě např. expertů přizvaných na konference, vzdělávací kurzy, krátkodobě hostujícím zahraničním specialistům apod. Nejedná se o vyplácení cestovních náhrad např. dlouhodobě hostujícím učitelům cizích jazyků a expertům podílejícím se na realizaci projektu, tzn., že nejsou hrazeny zahraničním expertům, kteří s příjemcem uzavřeli pracovní smlouvu (či jinou obdobnou smlouvu) dle českých právn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mohou být expertovi hrazeny v plné výši. Pouze s jeho souhlasem mohou být „per diems“ stanoveny nižší, mohou být také proplaceny jen jako doplatek po zaplacení ubytování přímo příjemcem, příp. po poskytnutí stravování v rámci aktivity, na kterou byl expert pozván. V rámci tohoto způsobu stravování (tj. není-li proplaceno expertovi přímo) nejsou propláceny výdaje za alkohol a cigare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Dále je způsobilým výdajem výdaj za dopravu experta do ČR a zpě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ro vyúčtování výdajů</a:t>
            </a:r>
            <a:r>
              <a:rPr b="0" lang="cs-CZ" sz="300" spc="-1" strike="noStrike">
                <a:solidFill>
                  <a:srgbClr val="000000"/>
                </a:solidFill>
                <a:latin typeface="Times New Roman"/>
              </a:rPr>
              <a:t> tuzemských i zahraničních pracovních cest </a:t>
            </a:r>
            <a:r>
              <a:rPr b="1" lang="cs-CZ" sz="300" spc="-1" strike="noStrike">
                <a:solidFill>
                  <a:srgbClr val="000000"/>
                </a:solidFill>
                <a:latin typeface="Times New Roman"/>
              </a:rPr>
              <a:t>v rámci monitorovací zprávy</a:t>
            </a:r>
            <a:r>
              <a:rPr b="0" lang="cs-CZ" sz="300" spc="-1" strike="noStrike">
                <a:solidFill>
                  <a:srgbClr val="000000"/>
                </a:solidFill>
                <a:latin typeface="Times New Roman"/>
              </a:rPr>
              <a:t> je nutné dolo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Rozpis cestovních náhrad (standardizovaný formulář).</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i dokladu o úhradách cestovních náhrad pracovníkovi projektu (např. výpis z účtu, pokladní výdajové doklady, daňové doklady – účty, faktur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skytovatel dotace (ŘO nebo ZS) může specifikovat jiný rozsah dokladů, který bude předkládán s monitorovací zprávo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 výše uvedeným dokladům musí příjemce archivovat a na vyzvání poskytovatele nebo při kontrole na místě předložit ještě následující doklady: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plněný standardní formulář „Cestovní příkaz“, (v případě, že pracovník vyjíždí na pracovní cesty vícekrát do měsíce, je možné použít formulář „Měsíční cestovní příkaz“), který obsahuje tyto údaj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ý cestovní příkaz,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říjmení, jméno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ouhlas s vysláním na služební cestu s podpisem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očátek cesty, místo jednání, účel cesty, konec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určený dopravní prostředek. V případě vlastního vozidla: SPZ, druh, prům. spotřeba dle technického průkazu, druh pohonných hmot.</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é vyúčtování pracovní cesty,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hodina a místo odjezdu a příjezd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veřejného dopravního prostředku cena jízdného / případně místní přeprav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soukromého vozidla vzdálenost v km,</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travné za dob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oclež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celková částka cestovních náhrad,</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zodpovědného právníka, který převzal zprávu o výsledk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číslo účetního dokladu o úhradě cestovních výdajů (číslo výdajového pokladního dokladu, nebo výpisu z účt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pracovníka projektu, pokladníka a nadřízeného pracovníka organizace při úhradě cestovních náhr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riginály účetních dokladů souvisejících s výdaji pracov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oklady o úhradách výdajů (výpis z účtu, výdajové doklady, daňové doklady – účty, faktury, jízdenk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e velkého technického průkazu vozidla při použití soukromého vozidl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á zpráva z každé pracovní cesty, která bude prokaz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do, kdy a kam cestu uskutečni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ouvislost cesty s realizací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ě popsaný výsledek cesty (závěry jednání, uskutečnění aktivity – např. školen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lší doklady dle zákona č. 262/2006 Sb., zákoník práce,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MPSV, kterou se pro účely poskytování cestovních náhrad stanoví výše sazeb stravného, výše sazeb základních náhrad za používání silničních motorových vozidel a výše průměrných cen pohonných hmo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zakoupení časové dálniční známky nutno doložit, že vozidlo bylo používáno po celou dobu jen pro účely projektu a dálniční známka byla pro jeho provoz nutná, v případě, že vozidlo bylo využíváno jen z části, provést a doložit výpočet pro uhrazení oprávněné čá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C09964E-E8F8-4CB0-B358-49FB8BFAC24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6760" y="743040"/>
            <a:ext cx="4924440" cy="3693960"/>
          </a:xfrm>
          <a:prstGeom prst="rect">
            <a:avLst/>
          </a:prstGeom>
          <a:ln w="0">
            <a:noFill/>
          </a:ln>
        </p:spPr>
      </p:sp>
      <p:sp>
        <p:nvSpPr>
          <p:cNvPr id="212" name="PlaceHolder 2"/>
          <p:cNvSpPr>
            <a:spLocks noGrp="1"/>
          </p:cNvSpPr>
          <p:nvPr>
            <p:ph type="body"/>
          </p:nvPr>
        </p:nvSpPr>
        <p:spPr>
          <a:xfrm>
            <a:off x="676080" y="4686120"/>
            <a:ext cx="569268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Kapitola rozpočtu 3 – Zařízení související s realizac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výdaje pro nákup zařízení nezbytného pro realizaci projektu jsou součástí schváleného rozpočtu. Při čerpání finančních prostředků v rámci této kapitoly je potřeba, aby příjemce zvážil rozsah a charakter položek v souladu s požadavky na realizaci případných zadávacích 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projektu je možné pořídit zařízení, které je způsobilé k financování z ESF nebo zařízení a vybavení způsobilé v rámci křížového financování. Odepisovatelný hmotný majetek podle zákona č. 586/1992 Sb., o daních z příjmů, v platném znění, lze financovat prostřednictvím odpisů, nájmu nebo v rámci křížového financování (za splnění podmínek, které vymezují možnosti užívání křížového financování). Hodnota pořízeného majetku se vyjadřuje v pořizovací ceně, která se řídí zákonem 563/1991 Sb., o účetnictv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izovaný majetek musí být využíván pro projekt, pokud je využíván pro projekt pouze částečně, je způsobilá k financování pouze poměrná část nákladů.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nesmí zapůjčovat </a:t>
            </a:r>
            <a:r>
              <a:rPr b="0" lang="cs-CZ" sz="300" spc="-1" strike="noStrike">
                <a:solidFill>
                  <a:srgbClr val="000000"/>
                </a:solidFill>
                <a:latin typeface="Times New Roman"/>
              </a:rPr>
              <a:t>vybavení, zařízení nebo učební pomůcky pořízené z projektu dalším subjektům v případě, že se nejedná o partnery uvedené ve schváleném projektu. V případě finančního partnerství se majetek pořízený partnerem z finančních prostředků projektu stává jeho vlastnictvím ihned po jeho po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nefinančního partnerství je majetek příjemcem podpory po dobu realizace a udržitelnosti zapůjčen partnerovi na základě smlouvy o výpůjčce (může být přímo součástí Smlouvy o partnerství). Po skončení udržitelnosti projektu může být majetek bezúplatně převeden do vlastnictví nefinančního partnera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Do kapitoly rozpočtu 3 -  Zařízení související s realizací projektu patří následující polož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hmotný majetek do 60 000 Kč</a:t>
            </a:r>
            <a:r>
              <a:rPr b="0" lang="cs-CZ" sz="300" spc="-1" strike="noStrike">
                <a:solidFill>
                  <a:srgbClr val="000000"/>
                </a:solidFill>
                <a:latin typeface="Times New Roman"/>
              </a:rPr>
              <a:t> – (Software, Ostatní) – zahrnuje nákup drobného nehmotného majetku do 60 000 Kč za kus (pořizovací cena). Může se jednat o nákup softwaru, know-how, licence, studijního programu, případně dalších položek drobného ne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louhodobý nehmotný majetek</a:t>
            </a:r>
            <a:r>
              <a:rPr b="0" lang="cs-CZ" sz="300" spc="-1" strike="noStrike">
                <a:solidFill>
                  <a:srgbClr val="000000"/>
                </a:solidFill>
                <a:latin typeface="Times New Roman"/>
              </a:rPr>
              <a:t> (Software, Ostatní) – zahrnuje celkovou úhradu za nákup dlouhodobého nehmotného majetku nad 60 000 Kč za kus (pořizovací cena), např. licence, know-how, studijní programy, software a další. Jedná se o investiční majetek, který však nebude zahrnut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robný hmotný majetek</a:t>
            </a:r>
            <a:r>
              <a:rPr b="0" lang="cs-CZ" sz="300" spc="-1" strike="noStrike">
                <a:solidFill>
                  <a:srgbClr val="000000"/>
                </a:solidFill>
                <a:latin typeface="Times New Roman"/>
              </a:rPr>
              <a:t> </a:t>
            </a:r>
            <a:r>
              <a:rPr b="1" lang="cs-CZ" sz="300" spc="-1" strike="noStrike">
                <a:solidFill>
                  <a:srgbClr val="000000"/>
                </a:solidFill>
                <a:latin typeface="Times New Roman"/>
              </a:rPr>
              <a:t>do 40 000 Kč</a:t>
            </a:r>
            <a:r>
              <a:rPr b="0" lang="cs-CZ" sz="300" spc="-1" strike="noStrike">
                <a:solidFill>
                  <a:srgbClr val="000000"/>
                </a:solidFill>
                <a:latin typeface="Times New Roman"/>
              </a:rPr>
              <a:t> za kus (pořizovací cena) – tato položka zahrnuje zejména nákup výukového a spotřebního materiálu (tzn. pomůcky pro výuku, které budou spotřebovány v době realizace projektu cílovou skupinou – např. chemikálie), dále nákup PC sestav (počítač, monitor, klávesnice, myš) nebo notebooků, tiskáren, multifunkčních zařízení, mobilů, dataprojektorů, vybavení k výuce (učebnice a materiál pro výuku, tedy materiál používaný při výuce), zařízení a přístroje pro výuku a další vybavení a zařízení, která jsou pro realizaci projektu nezbytná a spojená výhradně s realizací projektu, a další. Do této položky nelze zahrnout nábytek bez ohledu na výši pořizovací ceny (patří vždy do položky Křížové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užitý drobný hmotný majetek</a:t>
            </a:r>
            <a:r>
              <a:rPr b="0" lang="cs-CZ" sz="300" spc="-1" strike="noStrike">
                <a:solidFill>
                  <a:srgbClr val="000000"/>
                </a:solidFill>
                <a:latin typeface="Times New Roman"/>
              </a:rPr>
              <a:t> – tato položka zahrnuje nákup použitého drobného hmotného majetku, zařízení, které je uvedeno výše. Pro nákup použitého majetku 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použitého drobného hmotného majetku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použitého drobného hmotného majetku nesmí přesáhnout jeho tržní cenu v čase a místě pořízení obvyklou a musí být nižší než výdaje na pořízení nového drobného hmotného majetku,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 výdaje na nákup jedné položky použitého drobného hmotného majetku a zařízení nesmějí přesáhnout částku 40 000 Kč za kus (v pořizovací cen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nedodržení těchto podmínek poskytovatel podpory neuzná způsobilost těchto výdajů a výdaje následně nebudou příjemci podpory proplace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jem zařízení, operativní leasing – </a:t>
            </a:r>
            <a:r>
              <a:rPr b="0" lang="cs-CZ" sz="300" spc="-1" strike="noStrike">
                <a:solidFill>
                  <a:srgbClr val="000000"/>
                </a:solidFill>
                <a:latin typeface="Times New Roman"/>
              </a:rPr>
              <a:t>nájem zařízení, vybavení, případně nehmotného majetku a budov, případně splátky operativního leasingu (např. zajištění strojního zařízení pro školy) jsou způsobilým výdajem pouze za dodržení následujících podmín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a:t>
            </a:r>
            <a:r>
              <a:rPr b="0" lang="cs-CZ" sz="300" spc="-1" strike="noStrike">
                <a:solidFill>
                  <a:srgbClr val="000000"/>
                </a:solidFill>
                <a:latin typeface="Times New Roman"/>
              </a:rPr>
              <a:t>	</a:t>
            </a:r>
            <a:r>
              <a:rPr b="0" lang="cs-CZ" sz="300" spc="-1" strike="noStrike">
                <a:solidFill>
                  <a:srgbClr val="000000"/>
                </a:solidFill>
                <a:latin typeface="Times New Roman"/>
              </a:rPr>
              <a:t>budova nebo předmět nájmu musejí být využívány pro projekt, pokud jsou využívány pouze částečně, způsobilá bude pouze poměrná část nákladů vypočtených podle stanovené metodiky. Metodika výpočtu musí být zachována po celou dobu realizace projektu (tedy do závěrečného vyúčt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a:t>
            </a:r>
            <a:r>
              <a:rPr b="0" lang="cs-CZ" sz="300" spc="-1" strike="noStrike">
                <a:solidFill>
                  <a:srgbClr val="000000"/>
                </a:solidFill>
                <a:latin typeface="Times New Roman"/>
              </a:rPr>
              <a:t>	</a:t>
            </a:r>
            <a:r>
              <a:rPr b="0" lang="cs-CZ" sz="300" spc="-1" strike="noStrike">
                <a:solidFill>
                  <a:srgbClr val="000000"/>
                </a:solidFill>
                <a:latin typeface="Times New Roman"/>
              </a:rPr>
              <a:t>je zřejmá skutečná roční výše nájemného nebo splát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a:t>
            </a:r>
            <a:r>
              <a:rPr b="0" lang="cs-CZ" sz="300" spc="-1" strike="noStrike">
                <a:solidFill>
                  <a:srgbClr val="000000"/>
                </a:solidFill>
                <a:latin typeface="Times New Roman"/>
              </a:rPr>
              <a:t>	</a:t>
            </a:r>
            <a:r>
              <a:rPr b="0" lang="cs-CZ" sz="300" spc="-1" strike="noStrike">
                <a:solidFill>
                  <a:srgbClr val="000000"/>
                </a:solidFill>
                <a:latin typeface="Times New Roman"/>
              </a:rPr>
              <a:t>je zřejmá doba, po kterou je předmět nájmu nebo operativního leasingu využíván k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t>
            </a:r>
            <a:r>
              <a:rPr b="0" lang="cs-CZ" sz="300" spc="-1" strike="noStrike">
                <a:solidFill>
                  <a:srgbClr val="000000"/>
                </a:solidFill>
                <a:latin typeface="Times New Roman"/>
              </a:rPr>
              <a:t>	</a:t>
            </a:r>
            <a:r>
              <a:rPr b="0" lang="cs-CZ" sz="300" spc="-1" strike="noStrike">
                <a:solidFill>
                  <a:srgbClr val="000000"/>
                </a:solidFill>
                <a:latin typeface="Times New Roman"/>
              </a:rPr>
              <a:t> podpora je používána na výdaje nájm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e)</a:t>
            </a:r>
            <a:r>
              <a:rPr b="0" lang="cs-CZ" sz="300" spc="-1" strike="noStrike">
                <a:solidFill>
                  <a:srgbClr val="000000"/>
                </a:solidFill>
                <a:latin typeface="Times New Roman"/>
              </a:rPr>
              <a:t>	</a:t>
            </a:r>
            <a:r>
              <a:rPr b="0" lang="cs-CZ" sz="300" spc="-1" strike="noStrike">
                <a:solidFill>
                  <a:srgbClr val="000000"/>
                </a:solidFill>
                <a:latin typeface="Times New Roman"/>
              </a:rPr>
              <a:t>smlouva o nájmu nebo operativním leasingu je uzavřena přímo s příjemcem podpory, případně s partnerem, bude-li předmět nájmu nebo operativního leasingu využívat partner a bude-li tato možnost ošetřena v partnerské smlouvě nebo jejím doda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f)</a:t>
            </a:r>
            <a:r>
              <a:rPr b="0" lang="cs-CZ" sz="300" spc="-1" strike="noStrike">
                <a:solidFill>
                  <a:srgbClr val="000000"/>
                </a:solidFill>
                <a:latin typeface="Times New Roman"/>
              </a:rPr>
              <a:t>	</a:t>
            </a:r>
            <a:r>
              <a:rPr b="0" lang="cs-CZ" sz="300" spc="-1" strike="noStrike">
                <a:solidFill>
                  <a:srgbClr val="000000"/>
                </a:solidFill>
                <a:latin typeface="Times New Roman"/>
              </a:rPr>
              <a:t>smlouva operativního leasingu je uzavřena s pevným/uzavřeným koncem (tzn. není umožněn volný nebo otevřený konec leasingového vztahu), který neumožňuje odkup zařízení a budov za zůstatkovou cenu (způsobilé jsou pouze splátky, které se vztahují k období realizace projektu a současně k období, po které byl předmět leasingu pro daný projekt využívá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g) na vyžádání musí příjemce prokázat hospodárnost využití nájmu nebo operativního leasingu ve srovnání s jinými alternativam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h) část nákladů, o kterou výdaje na operativní leasing přesahují výdaje, které by představoval běžný pronájem, je neuznatel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Motorové vozidlo lze v rámci operativního leasingu nebo nájmu (vždy je nutno vybrat finančně výhodnější variantu) </a:t>
            </a:r>
            <a:r>
              <a:rPr b="0" lang="cs-CZ" sz="300" spc="-1" strike="noStrike">
                <a:solidFill>
                  <a:srgbClr val="000000"/>
                </a:solidFill>
                <a:latin typeface="Times New Roman"/>
              </a:rPr>
              <a:t>zajistit pouze pro projekty podporované v Oblasti podpory 1.2 – Rovné příležitosti dětí a žáků, včetně dětí a žáků se speciálními vzdělávacími potřebami, a to pouze v případě, že vozidlo bude v rámci projektu využíváno pro realizaci aktivit pro cílové skupiny se speciálními vzdělávacími potřebami (např. přeprava handicapovaných žáků do školy nebo na místa, kde se aktivity realizuj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pořízením či nájmem vozidla, které by sloužilo např. k přepravě realizačního týmu či k jiným účelům, jsou ve všech případech nezpůsobil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aňové odpisy – odpisy neboli amortizace vlastního dlouhodobého hmotného nebo nehmotného majetku </a:t>
            </a:r>
            <a:r>
              <a:rPr b="0" lang="cs-CZ" sz="300" spc="-1" strike="noStrike">
                <a:solidFill>
                  <a:srgbClr val="000000"/>
                </a:solidFill>
                <a:latin typeface="Times New Roman"/>
              </a:rPr>
              <a:t>(pořízeného před začátkem realizace projektu nebo i v průběhu realizace) jsou způsobilými výdaji projektu, jestliže jsou splněny následující podmínky:</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k nákupu dotčeného majetku nebyly využity veřejné prostředky (tj. současný či některý z předcházejících vlastníků zařízení neobdržel prostředky z veřejných zdrojů (v rámci jiného projektu) na nákup daného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v alikvotní výši s ohledem na míru využití daného majetku v rámci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pouze po dobu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e možné je doložit účetním dokladem dokládajícím pořizovací cenu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majetek je odpisován dle odpisového plánu příjemc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ýše ročních odpisů je stanovena jednou z metod daňového odpisu pro účely daně z příjmu pro jednotlivé druhy majetku a jsou způsobilé pouze po dobu, kdy je majetek využíván pro účely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odpisy se zaokrouhlují na celé koruny nahor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příjemce si vybere formu odpisování (v souladu se zákonem č. 586/1992 Sb., o daních z příjmů ve znění pozdějších předpisů), kterou bude používat po celou dobu realizace projektu, tuto nastavenou formu již nebude moci měnit (tuto formu nastaví ve chvíli, kdy započne odpis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depisování motorových vozidel není způsobilým výdaj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stup při vykazování způsobilých výdajů souvisejících s pořízením hmotného majetku v pořizovací ceně nad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 který uplatňuje daňové odpisy</a:t>
            </a:r>
            <a:r>
              <a:rPr b="0" lang="cs-CZ" sz="300" spc="-1" strike="noStrike">
                <a:solidFill>
                  <a:srgbClr val="000000"/>
                </a:solidFill>
                <a:latin typeface="Times New Roman"/>
              </a:rPr>
              <a:t>, vykáže způsobilé výdaje ve výši daňových odpisů daného majetku za poslední zdaňovací období. Přitom zohlední jak dobu trvání projektu, tak dobu využívání majetku, a to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rvním roce si zahrne do způsobilých výdajů pouze poměrnou výši odpisů. Podíl na odpisech je dán počtem měsíců, v nichž je daný majetek používán v rámci projektu (např. v případě, že projekt začíná 1. března, vybavení je zakoupeno 28. července téhož roku, daňové odpisy budou vykázány podle zákona a do způsobilých výdajů bude zahrnuto po ukončení zdaňovacího období 6/12 takto vykázaných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řípadě, že je daný majetek využíván i v posledním roce trvání projektu a projekt končí před koncem zdaňovacího období, stanoví se výše způsobilých výdajů v závěrečné žádosti o platbu jako odpovídající část předpokládaných daňových odpisů. Podíl na odpisech je dán počtem započatých měsíců, po které projekt trvá, k počtu měsíců ve zdaňovacím období (např. v případě, že projekt končí v říjnu daného roku, je způsobilým výdajem v tomto roce 10/12 předpokládaných daňových odpisů vykázaných na konci roku, pokud byl majetek využíván nejpozději od 1. 1. daného ro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klad 1:</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zakoupil pro účely projektu vybavení v pořizovací ceně 5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 byl zahájen k 1. 1. 2008 a trvá do 30. 6. 2010. Zařízení bylo zakoupeno ke dni 15. 3. 2008 a příjemce předpokládá jeho využití po celou zbývající dob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ízený majetek spadá podle zákona č. 586/1992 Sb., o daních z příjmů, ve znění pozdějších předpisů, do odpisové skupiny 1 s dobou odpisování 3 let. Příjemce uplatňuje daňové odpisy v jednotlivých letech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8 odpisy ve výši 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9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10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stanovených odpisů uplatní výši způsobilých výdajů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8 způsobilé výdaje ve výši 8333 (10/12*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9 způsobilé výdaje ve výši 20 000 (12/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závěrečné žádosti o platbu předložené v roce 2010 způsobilé výdaje ve výši 10 000 Kč (6/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u="sng">
                <a:solidFill>
                  <a:srgbClr val="000000"/>
                </a:solidFill>
                <a:uFillTx/>
                <a:latin typeface="Times New Roman"/>
              </a:rPr>
              <a:t>Odpisové sazby pro jednotlivé odpisové skupiny stanovuje § 31 zákona č.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opravy a údržbu – </a:t>
            </a:r>
            <a:r>
              <a:rPr b="0" lang="cs-CZ" sz="300" spc="-1" strike="noStrike">
                <a:solidFill>
                  <a:srgbClr val="000000"/>
                </a:solidFill>
                <a:latin typeface="Times New Roman"/>
              </a:rPr>
              <a:t>v této položce jsou za způsobilé považovány pouze ty výdaje, které se vážou k položkám (majetku), jež byly pořízeny ze způsobilých výdajů daného projektu (pořízené z dotace, odepisované v rámci projektu) a jsou využívány pro účely projektu. Výdaje na opravu a údržbu majetku používaného v projektu, který nevstupuje žádným způsobem do způsobilých výdajů, nelze zahrnout do způsobilých výdaj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 (Investiční část, Neinvestiční část) – </a:t>
            </a:r>
            <a:r>
              <a:rPr b="0" lang="cs-CZ" sz="300" spc="-1" strike="noStrike">
                <a:solidFill>
                  <a:srgbClr val="000000"/>
                </a:solidFill>
                <a:latin typeface="Times New Roman"/>
              </a:rPr>
              <a:t>další vybavení a nábytek, který není možné zahrnout do výše uvedených položek, může příjemce pořizovat v rámci tzv. křížového financování, ale to opět pouze za předpokladu, že „křížové financování“ je schváleno v žádosti o dotaci a potvrzeno v právním aktu s poskytovatelem dota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a:t>
            </a:r>
            <a:r>
              <a:rPr b="0" lang="cs-CZ" sz="300" spc="-1" strike="noStrike">
                <a:solidFill>
                  <a:srgbClr val="000000"/>
                </a:solidFill>
                <a:latin typeface="Times New Roman"/>
              </a:rPr>
              <a:t> umožňuje v projektech financovaných z ESF realizovat některé výdaje, které jsou způsobilé pouze v rámci pravidel financování z Evropského fondu pro regionální rozvoj. Použitím křížového financování je možné hradit pouze výdaje nezbytné pro dosažení cílů projektu, tj. tyto výdaje musejí mít přímou vazbu na realizaci projektových aktiv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 v položce křížového financování může uplatnit pouze </a:t>
            </a:r>
            <a:r>
              <a:rPr b="1" lang="cs-CZ" sz="300" spc="-1" strike="noStrike">
                <a:solidFill>
                  <a:srgbClr val="000000"/>
                </a:solidFill>
                <a:latin typeface="Times New Roman"/>
              </a:rPr>
              <a:t>příjemce/partner, který majetek daňově neodepisuje</a:t>
            </a:r>
            <a:r>
              <a:rPr b="0" lang="cs-CZ" sz="300" spc="-1" strike="noStrike">
                <a:solidFill>
                  <a:srgbClr val="000000"/>
                </a:solidFill>
                <a:latin typeface="Times New Roman"/>
              </a:rPr>
              <a:t>,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který daný majetek daňově odepisuje</a:t>
            </a:r>
            <a:r>
              <a:rPr b="0" lang="cs-CZ" sz="300" spc="-1" strike="noStrike">
                <a:solidFill>
                  <a:srgbClr val="000000"/>
                </a:solidFill>
                <a:latin typeface="Times New Roman"/>
              </a:rPr>
              <a:t>, nemá možnost využít křížového financování pro pořízení vybavení nad 40 tis Kč a uplatňuje v jednotlivých letech daňové odpisy (viz. Bod F – Daňové odpisy). </a:t>
            </a:r>
            <a:r>
              <a:rPr b="1" lang="cs-CZ" sz="300" spc="-1" strike="noStrike">
                <a:solidFill>
                  <a:srgbClr val="000000"/>
                </a:solidFill>
                <a:latin typeface="Times New Roman"/>
              </a:rPr>
              <a:t>V případě pořízení nábytku v hodnotě do 40 tis. Kč, který nelze odepisovat, bude využita položka rozpočtu 3.8.2 Křížové financování –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uplatnění křížového financování musejí být splněny následující základn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aximální procentní podíly křížového financování na celkových způsobilých výdajích projektu jsou pro jednotlivé projekty stanoveny v příslušné výzvě k předkládání projekt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ašovatel může v textu výzvy vymezit, za jakým účelem bude v jednotlivých prioritních osách křížové financování využito, případně může limity ve výjimečných a odůvodněných případech navýšit či sní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jednotlivého projektu nesmí být překročen schválený maximální procentuální podíl křížového financování na objemu celkových způsobilých výdajů, a to ani při závěrečném vyúčtování projektu, tj. musí být zachován stanovený podíl i na objemu celkových skutečně vynaložených a prokázaných způsobilých výdajů v rámci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a nábytek financovaný z prostředků OP VK by měl být pořízen prioritně pro potřebu cílové skupiny. V případě, kdy je křížové financování využito k pořízení vybavení nebo nábytku pro potřeby realizačního/projektového týmu, je nutné takový požadavek zvlášť zdůvodnit; také je potřeba vyčíslit výši prostředků připadající na jeden přepočtený pracovní úvazek členů projektového týmu. Při čemž limit na jeden přepočtený pracovní úvazek činí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mezení pojmů souvisejících s křížovým financová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se v rámci křížového financování bez ohledu na velikost a účel použití rozumí zejmén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oly, lavice, pracovní des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židle, křesla, pohovky, postele včetně matrac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kříně, police, závěsné skříňky včetně kuchyňských, truhli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é skříně s pořizovací cenou do 40 tis.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ěšáky a zrcadla volně stojící i závěs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ové stěny a podobné sestav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nejso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xtilní a jiné doplňky, které nejsou pevnou součástí nábytku a bez nichž je nábytek plně funkční (např. sedáky, lůžkoviny, ubrusy at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dlahové krytiny včetně koberců bez ohledu na jejich veliko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clony a závěsy včetně zařízení sloužícího k jejich uchy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m</a:t>
            </a:r>
            <a:r>
              <a:rPr b="0" lang="cs-CZ" sz="300" spc="-1" strike="noStrike">
                <a:solidFill>
                  <a:srgbClr val="000000"/>
                </a:solidFill>
                <a:latin typeface="Times New Roman"/>
              </a:rPr>
              <a:t> se pro účely křížového financování rozumí hmotný majetek v pořizovací ceně ve smyslu § 29 zákona č. 586/1992 Sb., o daních z příjmů, ve znění pozdějších předpisů, vyšší než 40 000 Kč a doba použitelnosti delší než 1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dnotlivé rozpočtové položky křížového financování jsou rozděleny na Investiční část a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má charakter investice a mohou z něj být realizovány následujíc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nábytek v pořizovací ceně od 40 000 Kč.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 účetního hlediska jde o výdaje na nákup vybavení hmotné povahy s dobou použitelnosti nad 1 rok a pořizovací cenou nad 40 000 Kč za kus. Pro způsobilost výdajů je nutné respektovat ještě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usí se jednat o speciální vybavení, které není možné pořídit v nezbytné kvalitě za cenu nižší než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musí být používáno k realizaci aktivit, na kterých se podílí cílová skupina (např. školení, výuka, praxe, práce, výcvik atd.); nebo je respektováno výše uvedené finanční omezení pro projektový tým (15 000 tis. Kč pro jeden přepočtený úvaz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 případě pořízení použitého vybavení </a:t>
            </a:r>
            <a:r>
              <a:rPr b="0" lang="cs-CZ" sz="300" spc="-1" strike="noStrike">
                <a:solidFill>
                  <a:srgbClr val="000000"/>
                </a:solidFill>
                <a:latin typeface="Times New Roman"/>
              </a:rPr>
              <a:t>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vybavení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tohoto vybavení nesmí přesáhnout jeho tržní cenu v čase a místě pořízení obvyklou a musí být nižší než výdaje na pořízení vybavení,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ořízení interaktivní tabule bude veškeré další současně pořízené zařízení sloužící k zajištění funkčnosti interaktivní tabule považováno za součást souboru movitých věcí se samostatným technicko-ekonomickým určením. Pokud takto zjištěná cena překročí 40 tis., spadá majetek do křížového financování (v případě, že příjemce majetek daňově neodepisuje). To znamená, že pokud takto zjištěná cena překročí 40 tis. Kč, není možno tento soubor movitých věcí zahrnout do položky rozpočtu č. 3 Zařízení, ale je nutno jej zahrnout do křížového financování (v případě, že příjemce/partner majetek daňově neodepisuj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kud se jedná o nákup samostatné tabule (předpokládá se, že ostatními náležitostmi pro funkčnost tabule je příjemce již vybaven) a pořizovací cena nepřesáhne 40 tis. Kč, nespadá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nemá charakter investice a je možné z něj realizovat výdaje spojené s poříze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u v pořizovací ceně do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ých skříní s pořizovací cenou do 40 000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espadající do křížového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patřící do oblasti pomoci ESF, a to včetně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pozemk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budov, domů a bytových či nebytových prosto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vozide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zařízení a vybavení s dobou použitelnosti nad 1 rok a pořizovací cenou nad 40 000 Kč, pokud je možné je pořídit v nezbytné kvalitě za cenu nižší než 40 000 Kč nebo není používáno k realizaci aktivit, na kterých se podílí cílová skupina (např. kopírovací zaříz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díl výdajů na pořízení zařízení a vybavení, včetně křížového financování v této kapitole, na celkových způsobilých výdajích smí činit nejvýše 25 %. Tento limit musí být dodržen i při závěrečném vyúčtován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majetku financovaného v režimu křížového financování může být jeho zbývající čás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před zahájením čerpání z této kapitoly posoudit, jaká je předpokládaná cena pořizovaných dodávek obdobného charakteru a zda zakládá povinnost realizovat zadávací řízení podle pravidel OP VK uvedených v této příručce či podle zákona č. 137/2006 Sb., o veřejných zakázká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rozpočtu projektu se spotřebním materiálem např. u škol a NNO, rozumí také majetek s dobou životnosti do 1 roku a pořizovací cenou do 3000 Kč, který je určen pro cílovou skupin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erativní leasing – forma nájmu, po jehož ukončení se pronajatá věc vrací pronajímateli, vlastnické právo na nájemce nepřecház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ňové odpisy se řídí zákonem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ravou se odstraňují účinky částečného fyzického opotřebení nebo poškození za účelem uvedení do předchozího nebo provozuschopného stavu. Uvedením do provozuschopného stavu se rozumí provedení opravy i s použitím jiných než původních materiálů, dílů, součástí nebo technologií, pokud tím nedojde k technickému zhodno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držbou se rozumí soustavná činnost, kterou se zpomaluje fyzické opotřebení a předchází poruchám a odstraňují se drobnější záv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Částečné a plné úvazky pracovníků se sečtou (např. 0,5 částečný + 0,75 částečný + 3 plné = 4,25 přepočtených) a limit se uplatňuje k takto přepočteným úvazkům, tj. v tomto případě 4,25 *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že pořizovací cena nepřesáhne 40 000 Kč a položky jsou nakupovány pro potřeby cílové skupiny, je možné tyto položky uhradit po splnění dalších podmínek způsobilosti mimo křížové financování,  a to v rámci položky rozpočtu drobného 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neplátce DPH se pořizovací cenou rozumí cena včetně DPH a pro plátce cena bez DPH, případně je v ceně zahrnuta ta část DPH,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EF55650-60B1-4AAF-B828-63220601FDD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30D72B9-8649-4C98-BDFD-EFA05669E7F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4"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PlaceHolder 1"/>
          <p:cNvSpPr>
            <a:spLocks noGrp="1"/>
          </p:cNvSpPr>
          <p:nvPr>
            <p:ph type="body"/>
          </p:nvPr>
        </p:nvSpPr>
        <p:spPr>
          <a:xfrm>
            <a:off x="676080" y="4686120"/>
            <a:ext cx="5692680" cy="4438440"/>
          </a:xfrm>
          <a:prstGeom prst="rect">
            <a:avLst/>
          </a:prstGeom>
          <a:noFill/>
          <a:ln w="0">
            <a:noFill/>
          </a:ln>
        </p:spPr>
        <p:txBody>
          <a:bodyPr lIns="0" rIns="0" tIns="35820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Rozpočet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růběhu realizace projektu je nutné vždy vycházet z rozpočtu, který byl schvále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skytovatelem podpory a je součástí právního aktu mezi poskytovatelem podpory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m. Tento rozpočet je nedílnou součástí právního aktu o poskytnutí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i jeho partneři musejí mít tento schválený rozpočet k dispozici a jsou povinn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rámci realizace projektu stále sledovat, zda jsou jednotlivé výdaje v souladu s tím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em. Při čerpání rozpočtu je nutné sledovat nejen to, zda konkrétní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dpovídají kapitolám rozpočtu, ale zda jsou také v souladu s charakterem a výš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ednotlivých polož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 tohoto důvodu je požadováno, aby již při zahájení realizace projektu příjemce a je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ři zpracovali plán čerpání projektového rozpočtu, který jim bude slouž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jako pomůcka pro správné a včasné čerpání jednotlivých položek rozpočtu, napomůž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časné indikaci případné potřeby dílčí změny v rámci 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napomůže také při plánování např. výběrových říze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6760" y="743040"/>
            <a:ext cx="4924440" cy="3693960"/>
          </a:xfrm>
          <a:prstGeom prst="rect">
            <a:avLst/>
          </a:prstGeom>
          <a:ln w="0">
            <a:noFill/>
          </a:ln>
        </p:spPr>
      </p:sp>
      <p:sp>
        <p:nvSpPr>
          <p:cNvPr id="21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4 – Místní kancelář</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této kapitole rozpočtu je možno čerpat finanční prostředky na zabezpečení provozu kancelář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á slouží k řízení projektu. Za způsobilé výdaje jsou považovány výdaje za materiál a služb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é souvisejí s řízením projektu a jsou pro zabezpečení realizace projektu nezbyt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o této kapitoly se nezahrnuje pronájem místností určených pro práci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př. školicí prostory a související nákl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na místní kancelář mohou buď souviset výhradně s projektem a nesmějí mít vztah 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jiným aktivitám, nebo mohou s projektem souviset částečně a mít vztah i k jiným aktivitá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říjemce – v takovém případě je možné do způsobilých výdajů započítat pouze podíl připadající 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ktivity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ezi výdaje na místní kancelář patř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ní zboží a provozní materiál</a:t>
            </a:r>
            <a:r>
              <a:rPr b="0" lang="cs-CZ" sz="800" spc="-1" strike="noStrike">
                <a:solidFill>
                  <a:srgbClr val="000000"/>
                </a:solidFill>
                <a:latin typeface="Times New Roman"/>
              </a:rPr>
              <a:t> – papír do tiskáren, šanony, kancelářské potřeby, tonery, CD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telefon, poštovné, fax</a:t>
            </a:r>
            <a:r>
              <a:rPr b="0" lang="cs-CZ" sz="800" spc="-1" strike="noStrike">
                <a:solidFill>
                  <a:srgbClr val="000000"/>
                </a:solidFill>
                <a:latin typeface="Times New Roman"/>
              </a:rPr>
              <a:t> – včetně internetu – u poplatku za telefon a fax musí být možné provedení položkové kontroly za konkrétní telefon a fax;</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a vody, paliv a energie</a:t>
            </a:r>
            <a:r>
              <a:rPr b="0" lang="cs-CZ" sz="800" spc="-1" strike="noStrike">
                <a:solidFill>
                  <a:srgbClr val="000000"/>
                </a:solidFill>
                <a:latin typeface="Times New Roman"/>
              </a:rPr>
              <a:t> – nákup energie, vody, paliv (kromě pohonných hmo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jemné</a:t>
            </a:r>
            <a:r>
              <a:rPr b="0" lang="cs-CZ" sz="800" spc="-1" strike="noStrike">
                <a:solidFill>
                  <a:srgbClr val="000000"/>
                </a:solidFill>
                <a:latin typeface="Times New Roman"/>
              </a:rPr>
              <a:t> – nájem kanceláře a úklid a údržba kanceláře, která je využívána k řízení projektu (alternativně např. podíl z odpisů budo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 výpočtu částky by měla být zřejmá skutečná roční výše nájemného, dále doba, po kterou byla kancelář/část budovy pro projekt využívána. Výsledné způsobilé výdaje na poplatky za nákup vody, paliv a energie, internet, úklid a údržbu by měly být stanoveny obdob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místní kancelář jsou způsobilé za podmínky, že jejich základem jsou skutečné a nezbytné výdaje, které jsou určeny v poměru k dané činnosti za pomoci nestranné a oprávněné metody (např. rozpočet spotřebované elektrické energie na jednotlivé spotřebiče, rozpočet spotřebovaného tepla podle vytápěné plochy kanceláří, dílen apod.). Tyto výdaje musejí být prokazatelně dolož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Ke stanovení výše výdajů je nutné použít odpovídající metodiku výpočtu, která musí být zachována po celou dobu realizace projektu včetně závěrečného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organizace podílí na více projektech v rámci OP VK, uplatní ve všech stejnou metodiku vý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se při uplatňování výdajů v rámci této kapitoly řídí Metodickým dopisem č. 5 Režijní náklady OP VK uveřejněným na </a:t>
            </a:r>
            <a:r>
              <a:rPr b="0" lang="cs-CZ" sz="800" spc="-1" strike="noStrike" u="sng">
                <a:solidFill>
                  <a:srgbClr val="ccccff"/>
                </a:solidFill>
                <a:uFillTx/>
                <a:latin typeface="Times New Roman"/>
                <a:hlinkClick r:id="rId1"/>
              </a:rPr>
              <a:t>www.msmt.cz</a:t>
            </a:r>
            <a:r>
              <a:rPr b="0" lang="cs-CZ" sz="800" spc="-1" strike="noStrike">
                <a:solidFill>
                  <a:srgbClr val="000000"/>
                </a:solidFill>
                <a:latin typeface="Times New Roman"/>
              </a:rPr>
              <a:t>. Příjemce musí před zahájením čerpání z této kapitoly posoudit, jaká je předpokládaná cena pořizovaných dodávek či služeb obdobného charakteru a zda zakládá povinnost realizovat zadávací řízení podle pravidel OP VK uvedených v této Příručce či podle zákona č. 137/2006 Sb., o veřejných zakázká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íl výdajů celé kapitoly Místní kancelář na celkových způsobilých výdajích projektu smí činit nejvýše 8 % a tento limit musí být zachován i při závěrečném vyúčtov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8DCAF4E-7E3E-4909-A964-589D53A39E6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96760" y="743040"/>
            <a:ext cx="4924440" cy="3693960"/>
          </a:xfrm>
          <a:prstGeom prst="rect">
            <a:avLst/>
          </a:prstGeom>
          <a:ln w="0">
            <a:noFill/>
          </a:ln>
        </p:spPr>
      </p:sp>
      <p:sp>
        <p:nvSpPr>
          <p:cNvPr id="21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5 – Nákup služeb souvisejících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i čerpání finančních prostředků v rámci této kapitoly musejí mít příjemce a jeho případní partneři na paměti, že pro pořizování služeb souvisejících s realizací projektu platí obdobná pravidla jako v případě pořizování zařízení a vybavení. Příjemce musí před zahájením čerpání z této kapitoly posoudit, jaká je předpokládaná cena pořizovaných služeb obdobného charakteru a zda zakládá povinnost realizovat zadávací řízení podle pravidel OP VK uvedených v této Příručce či podle zákona č. 137/2006 Sb., o veřejných zakázkách.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nákupem služeb jsou způsobilé pouze za dodržení následujících podmín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veškerých služeb musejí být v souladu s cíli projektu a musejí přispívat k jejich naplň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služeb musejí bezprostředně souviset s realizací projektu (časově i míst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běr dodavatelů pro dodávky zboží, služeb a drobných stavebních prací musí být proveden v souladu s Postupy pro zadávání zakázek při pořizování zboží, služeb či stavebních prací z prostředků finanční podpory OP VK, uvedených v části 7 této příruč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odavatelem služeb v rámci projektu nemůže být osoba, která má uzavřen pracovně právní vztah s příjemcem/partnerem, a výdaje na něj jsou hrazeny v rámci kapitoly rozpočtu 1 – Osobní výdaje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jsou v rámci kapitoly dále členěny do polož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ublikace/školicí materiály/manuály</a:t>
            </a:r>
            <a:r>
              <a:rPr b="0" lang="cs-CZ" sz="800" spc="-1" strike="noStrike">
                <a:solidFill>
                  <a:srgbClr val="000000"/>
                </a:solidFill>
                <a:latin typeface="Times New Roman"/>
              </a:rPr>
              <a:t> – jedná se o nákup </a:t>
            </a:r>
            <a:r>
              <a:rPr b="1" lang="cs-CZ" sz="800" spc="-1" strike="noStrike">
                <a:solidFill>
                  <a:srgbClr val="000000"/>
                </a:solidFill>
                <a:latin typeface="Times New Roman"/>
              </a:rPr>
              <a:t>na zakázku vyvíjených nebo vytvářených </a:t>
            </a:r>
            <a:r>
              <a:rPr b="0" lang="cs-CZ" sz="800" spc="-1" strike="noStrike">
                <a:solidFill>
                  <a:srgbClr val="000000"/>
                </a:solidFill>
                <a:latin typeface="Times New Roman"/>
              </a:rPr>
              <a:t>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borné služby/Studie a výzkum</a:t>
            </a:r>
            <a:r>
              <a:rPr b="0" lang="cs-CZ" sz="800" spc="-1" strike="noStrike">
                <a:solidFill>
                  <a:srgbClr val="000000"/>
                </a:solidFill>
                <a:latin typeface="Times New Roman"/>
              </a:rPr>
              <a:t> – zahrnuje výdaje na zpracování studií, analýz, sběr dat a zajištění dílčích výzkumných úkolů nezbytných pro realizaci projektu.</a:t>
            </a:r>
            <a:r>
              <a:rPr b="1" lang="cs-CZ" sz="800" spc="-1" strike="noStrike">
                <a:solidFill>
                  <a:srgbClr val="000000"/>
                </a:solidFill>
                <a:latin typeface="Times New Roman"/>
              </a:rPr>
              <a:t>	</a:t>
            </a:r>
            <a:r>
              <a:rPr b="0" lang="cs-CZ" sz="800" spc="-1" strike="noStrike">
                <a:solidFill>
                  <a:srgbClr val="000000"/>
                </a:solidFill>
                <a:latin typeface="Times New Roman"/>
              </a:rPr>
              <a:t>V této položce se také vykazuje zajištění účetnictví/mzdového účetnictví externím </a:t>
            </a:r>
            <a:r>
              <a:rPr b="0" lang="cs-CZ" sz="800" spc="-1" strike="noStrike">
                <a:solidFill>
                  <a:srgbClr val="000000"/>
                </a:solidFill>
                <a:latin typeface="Times New Roman"/>
              </a:rPr>
              <a:t>	</a:t>
            </a:r>
            <a:r>
              <a:rPr b="0" lang="cs-CZ" sz="800" spc="-1" strike="noStrike">
                <a:solidFill>
                  <a:srgbClr val="000000"/>
                </a:solidFill>
                <a:latin typeface="Times New Roman"/>
              </a:rPr>
              <a:t>dodavatel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daje na konference/kurzy</a:t>
            </a:r>
            <a:r>
              <a:rPr b="0" lang="cs-CZ" sz="800" spc="-1" strike="noStrike">
                <a:solidFill>
                  <a:srgbClr val="000000"/>
                </a:solidFill>
                <a:latin typeface="Times New Roman"/>
              </a:rPr>
              <a:t> – 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pora účastníků (stravné, ubytování)</a:t>
            </a:r>
            <a:r>
              <a:rPr b="0" lang="cs-CZ" sz="800" spc="-1" strike="noStrike">
                <a:solidFill>
                  <a:srgbClr val="000000"/>
                </a:solidFill>
                <a:latin typeface="Times New Roman"/>
              </a:rPr>
              <a:t> – v této položce jsou zahrnuty výdaje spojené se zajištěním občerstvení a ubytování účastníků konferencí nebo kurzů, které jsou rozpočtované v předchozí položce. Ubytování účastníků je možné hradit jen cílové skupině nebo členům realizačního týmu. Stravné je možné poskytnout i dalším účastníkům akce, pokud bude zdůvodněna souvislost s realizací projektu. Stravné realizačního týmu je zahrnuto v rozpočtu v kapitole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a:t>
            </a:r>
            <a:r>
              <a:rPr b="0" lang="cs-CZ" sz="800" spc="-1" strike="noStrike">
                <a:solidFill>
                  <a:srgbClr val="000000"/>
                </a:solidFill>
                <a:latin typeface="Times New Roman"/>
              </a:rPr>
              <a:t> </a:t>
            </a:r>
            <a:r>
              <a:rPr b="1" lang="cs-CZ" sz="800" spc="-1" strike="noStrike">
                <a:solidFill>
                  <a:srgbClr val="000000"/>
                </a:solidFill>
                <a:latin typeface="Times New Roman"/>
              </a:rPr>
              <a:t>pro stravné</a:t>
            </a:r>
            <a:r>
              <a:rPr b="0" lang="cs-CZ" sz="800" spc="-1" strike="noStrike">
                <a:solidFill>
                  <a:srgbClr val="000000"/>
                </a:solidFill>
                <a:latin typeface="Times New Roman"/>
              </a:rPr>
              <a:t>, tedy občerstvení účastníků, je stanoven na 300 Kč na den a osobu v případě celodenní akce a zároveň je limitován případnými interními předpisy dané organizace. V případě, že se nebude jednat o celodenní akci (akce, která se odehraje v rámci jednoho dne a trvá minimálně 8 běžných hodin), musí být limitní částka v odpovídajícím poměru zkrácena. Do těchto výdajů patří i občerstvení těch osob, které nejsou cílovou skupinou ani realizačním týmem, ale jsou např. účastníky konfere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 pro ubytování v ČR</a:t>
            </a:r>
            <a:r>
              <a:rPr b="0" lang="cs-CZ" sz="800" spc="-1" strike="noStrike">
                <a:solidFill>
                  <a:srgbClr val="000000"/>
                </a:solidFill>
                <a:latin typeface="Times New Roman"/>
              </a:rPr>
              <a:t> – max. 1200 Kč za osobu a noc (případně nižší dle interních předpisů dané organ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iné výdaje</a:t>
            </a:r>
            <a:r>
              <a:rPr b="0" lang="cs-CZ" sz="800" spc="-1" strike="noStrike">
                <a:solidFill>
                  <a:srgbClr val="000000"/>
                </a:solidFill>
                <a:latin typeface="Times New Roman"/>
              </a:rPr>
              <a:t> – výdaje na právní poradenství, znalecké posudky, na administraci veřejných zakázek podle zákona č. 137/2006 Sb., o veřejných zakázkách, zajišťovanou externím dodavatelem (nevztahuje se na administraci zakázek malého rozsahu) a další výše nespecifikované služby, pokud přímo souvisejí s činnostmi projektu a pokud jsou nezbytné pro jeho real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lkové výdaje v rámci této kapitoly rozpočtu nesmějí převýšit 49 % celkových způsobilých výdajů projektu, pokud poskytovatel podpory nestanoví na základě výjimky jinak </a:t>
            </a:r>
            <a:r>
              <a:rPr b="0" lang="cs-CZ" sz="800" spc="-1" strike="noStrike">
                <a:solidFill>
                  <a:srgbClr val="000000"/>
                </a:solidFill>
                <a:latin typeface="Times New Roman"/>
              </a:rPr>
              <a:t>(tato výjimka by musela být zakotvena již ve výzvě k předkládání projektů a po schválení projektu v právním aktu uzavřeném s poskytovatelem podpory). Limit 49 % pro tuto kapitolu se vztahuje i na způsobilé výdaje při závěrečném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38888ED-B16A-4844-AF15-9D8CE084AF4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6760" y="743040"/>
            <a:ext cx="4924440" cy="3693960"/>
          </a:xfrm>
          <a:prstGeom prst="rect">
            <a:avLst/>
          </a:prstGeom>
          <a:ln w="0">
            <a:noFill/>
          </a:ln>
        </p:spPr>
      </p:sp>
      <p:sp>
        <p:nvSpPr>
          <p:cNvPr id="22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cs-CZ" sz="800" spc="-1" strike="noStrike">
              <a:solidFill>
                <a:srgbClr val="000000"/>
              </a:solidFill>
              <a:latin typeface="Times New Roman"/>
            </a:endParaRPr>
          </a:p>
        </p:txBody>
      </p:sp>
      <p:sp>
        <p:nvSpPr>
          <p:cNvPr id="22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6FC058B-27AC-486A-BD89-D74E4DCA306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96760" y="743040"/>
            <a:ext cx="4924440" cy="3693960"/>
          </a:xfrm>
          <a:prstGeom prst="rect">
            <a:avLst/>
          </a:prstGeom>
          <a:ln w="0">
            <a:noFill/>
          </a:ln>
        </p:spPr>
      </p:sp>
      <p:sp>
        <p:nvSpPr>
          <p:cNvPr id="22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6 – Stavební úpravy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oučástí projektu mohou být drobné stavební úpravy, které bezprostředně souvisejí s realizovaným projekt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ložky rozpočtu v této kapito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robné stavební úpravy</a:t>
            </a:r>
            <a:r>
              <a:rPr b="0" lang="cs-CZ" sz="800" spc="-1" strike="noStrike">
                <a:solidFill>
                  <a:srgbClr val="000000"/>
                </a:solidFill>
                <a:latin typeface="Times New Roman"/>
              </a:rPr>
              <a:t> – Podmínkou způsobilosti těchto výdajů je, že nesmějí přesáhnout částku za všechny dokončené stavební úpravy v jednom zdaňovacím období v úhrnu 40 000 Kč (pořizovací cena) na každou jednotlivou účetní položku majetku. Stavební úprava musí být provedena v souvislosti s úpravou pracovního místa pro osoby se zdravotním postižením nebo úpravou přístupu pro osoby se zdravotním postižením nebo úpravou výukových, tréninkových nebo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tavební úpravy v rámci křížového financování</a:t>
            </a:r>
            <a:r>
              <a:rPr b="0" lang="cs-CZ" sz="800" spc="-1" strike="noStrike">
                <a:solidFill>
                  <a:srgbClr val="000000"/>
                </a:solidFill>
                <a:latin typeface="Times New Roman"/>
              </a:rPr>
              <a:t> – stavební úpravy, pokud převýšily u jednotlivého majetku v úhrnu ve zdaňovacím období částku 40 000 Kč (pořizovací cena) spadají do této polož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á se o</a:t>
            </a:r>
            <a:r>
              <a:rPr b="1" lang="cs-CZ" sz="800" spc="-1" strike="noStrike">
                <a:solidFill>
                  <a:srgbClr val="000000"/>
                </a:solidFill>
                <a:latin typeface="Times New Roman"/>
              </a:rPr>
              <a:t> </a:t>
            </a:r>
            <a:r>
              <a:rPr b="0" lang="cs-CZ" sz="800" spc="-1" strike="noStrike">
                <a:solidFill>
                  <a:srgbClr val="000000"/>
                </a:solidFill>
                <a:latin typeface="Times New Roman"/>
              </a:rPr>
              <a:t>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tavební úpravy nad 40 000 Kč lze provádět pouze na majetku příjemce, případně partnerů projektu, nikoli na majetku, který má příjemce/partneři v pronájm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škol a školských zařízení je možné stavební úpravy nad 40 000 Kč realizovat na majetku zřizovate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a stavební úpravy v rámci křížového financování nelze považ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nepřevýšily u jednotlivého majetku v úhrnu ve zdaňovacím období částku 40 000 Kč;</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převýšily u jednotlivého majetku v úhrnu ve zdaňovacím období částku 40 000 Kč, a jejichž účelem </a:t>
            </a:r>
            <a:r>
              <a:rPr b="1" lang="cs-CZ" sz="800" spc="-1" strike="noStrike">
                <a:solidFill>
                  <a:srgbClr val="000000"/>
                </a:solidFill>
                <a:latin typeface="Times New Roman"/>
              </a:rPr>
              <a:t>není</a:t>
            </a:r>
            <a:r>
              <a:rPr b="0" lang="cs-CZ" sz="800" spc="-1" strike="noStrike">
                <a:solidFill>
                  <a:srgbClr val="000000"/>
                </a:solidFill>
                <a:latin typeface="Times New Roman"/>
              </a:rPr>
              <a:t> usnadnění přístupu a pohybu osobám zdravotně postiženým, nebo úpravy výukových, tréninkových a pracovních prostor používaných na realizaci aktivit s cílovou skupinou, ale např. pouze úprava prostor kanceláře projektu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součástí budou stavební úpravy, rekonstrukce či modernizace, je nezbytné, aby tyto záměry byly v souladu s platnou územně plánovací dokumentací kraje a příslušných obcí, jak to stanoví např. § 43 odst. 5 zákona č. 183/2006 Sb., o územním plánování a stavebním řádu (stavební zákon), ve znění pozdějších předpisů, pokud se na tyto projekty vztahuj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vydat rozhodnutí o umístění stavby (příp. územní souhlas nebo obdobný doklad dle stavebního zákona), žadatel musí tyto doklady doložit již k žád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stavební povolení nebo ohlášení stavby, pak je nutno doložit pravomocné stavební povolení nebo ohlášení stavby nebo obdobný doklad dle stavebního zákona, na jehož základě lze projekt realizovat nejpozději s žádostí o platbu, ve které jsou poprvé zahrnuty výdaje související se stavb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stavebních úprav není třeba stavební povolení nebo ohlášení stavby ani obdobný doklad dle stavebního zákona, pak žadatel doloží čestné prohlášení žadatele, že na daný projekt není dle zákona č. 183/2006 Sb., o územním plánování a stavebním řádu (stavební zákon), ve znění pozdějších předpisů, zapotřebí stavební povolení, ohlášení ani obdobný doklad dle stavebního záko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partner majetek odepisuje, a proto nevyužívá křížové financování, zařadí odpisy výše uvedených stavebních úprav (pokud převýšily u jednotlivého majetku v úhrnu ve zdaňovacím období částku 40 000 Kč), do podkapitoly 6.3 Stavební úpravy -  odpis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PH je součástí pořizovací ceny u neplátců DPH, u plátců je to pouze ta část, u níž není nárok na odpočet na vstup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četní položka majetku – stanovena prováděcími vyhláškami  k zákonu o účetnictví (vyhlášky č. 500/2002 Sb., č. 504/2002 Sb., č. 505/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Rekonstrukcí se rozumí zásahy do majetku, které mají za následek změnu jeho účelu nebo technických parametrů. Za změnu technických parametrů se nepovažuje pouhá záměna použitého materiál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odernizací se rozumí rozšíření vybavenosti nebo použitelnosti majetk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2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D5AF86A-2D57-47CE-9FA6-8D74C9ACA10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6760" y="743040"/>
            <a:ext cx="4924440" cy="3693960"/>
          </a:xfrm>
          <a:prstGeom prst="rect">
            <a:avLst/>
          </a:prstGeom>
          <a:ln w="0">
            <a:noFill/>
          </a:ln>
        </p:spPr>
      </p:sp>
      <p:sp>
        <p:nvSpPr>
          <p:cNvPr id="22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Kapitola rozpočtu 7 – Přímá podpor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ato kapitola zahrnuje výdaje týkající se přímo cílové skupiny projektu, jedná se te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výdaje spojené se zapojením cílové skupiny do projektových aktivit.</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Mzdové příspěvky</a:t>
            </a:r>
            <a:r>
              <a:rPr b="0" lang="cs-CZ" sz="700" spc="-1" strike="noStrike">
                <a:solidFill>
                  <a:srgbClr val="000000"/>
                </a:solidFill>
                <a:latin typeface="Times New Roman"/>
              </a:rPr>
              <a:t> – jsou poskytovány zaměstnavateli jako náhrada části mzdových nákla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e výši hrubé mzdy včetně zákonných odvodů) na jejich pracovníka po dobu jeho účasti n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alším vzdělávání. Mzdové náhrady se v rámci programu OP VK mohou týkat pouze pedagogick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akademických a dalších pracovníků ve školství a mohou být poskytovány maximálně do výš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70 % skutečně vyplacených mzdových nákladů</a:t>
            </a:r>
            <a:r>
              <a:rPr b="0" lang="cs-CZ" sz="700" spc="-1" strike="noStrike">
                <a:solidFill>
                  <a:srgbClr val="000000"/>
                </a:solidFill>
                <a:latin typeface="Times New Roman"/>
              </a:rPr>
              <a:t> (tj. hrubé mzdy včetně zákonných odvo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1" lang="cs-CZ" sz="700" spc="-1" strike="noStrike">
                <a:solidFill>
                  <a:srgbClr val="000000"/>
                </a:solidFill>
                <a:latin typeface="Times New Roman"/>
              </a:rPr>
              <a:t>nejvýše však do výše číselně odpovídající dvojnásobku minimální mzdy plat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 době konání školení. </a:t>
            </a:r>
            <a:r>
              <a:rPr b="0" lang="cs-CZ" sz="700" spc="-1" strike="noStrike">
                <a:solidFill>
                  <a:srgbClr val="000000"/>
                </a:solidFill>
                <a:latin typeface="Times New Roman"/>
              </a:rPr>
              <a:t>Tato náhrada se vyplácí zaměstnavateli pouze za dobu (v hodiná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kdy se školené osoby skutečně účastnily školení. Cesta na školení a zpět se do této doby nezapočítává.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bývajících 30 % není uznatelným nákladem a hradí je zaměstnavatel, který účastníka na školení vyslal.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zdové příspěvky se poskytují pouze na pracovníka účastnícího se projektových aktivi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nikoli na pracovníka, který v průběhu nepřítomnosti tohoto pracovníka vykonává</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eho práci jako náhradník/zástupc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Cestovné, ubytování a stravné</a:t>
            </a:r>
            <a:r>
              <a:rPr b="0" lang="cs-CZ" sz="700" spc="-1" strike="noStrike">
                <a:solidFill>
                  <a:srgbClr val="000000"/>
                </a:solidFill>
                <a:latin typeface="Times New Roman"/>
              </a:rPr>
              <a:t> – v programu OP VK je možné použít přím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dporu na pokrytí nákladů spojených s realizací praxí, stáží, exkurzí a vícedenn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zdělávacích pobytů, kdy je jednorázově hrazeno ubytování, cestovné a strav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yto výdaje budou uznány jako způsobilé pouze v případě, pokud vznikn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i při realizaci projektu. Výdaje spojené se zahraničními praxemi a stáže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imo země EU a ESVO jsou způsobilé jen ve výjimečných případech, vyžaduje-l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o podstata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účastníků kurzů, kteří jsou na školení vysíláni na základě cestovního příkazu zaměstnavatelem,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e kterým má příjemce dotace uzavřenou smlouvu o vzdělávání, je možné prokazovat a propláce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ízdné, ubytování a stravné podle zákoníku práce. Zaměstnavatel je povinen příjemci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předložit rozpis cestovních náhrad za své zaměstnance a doložit jej kopiemi příslušných dokladů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stovní příkaz, jízdenky, doklady o ubytování apod.).</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cestovného dětí, žáků a studentů se cestovné vyúčtovává na základě doložených jízdní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ýdajů a stravné podle podmínek uvedených dále. Hradí se pouze ta část výdajů, která přímo souvis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 realizací projektu, tedy ta část, která by např. vznikla studentům/žákům v rámci odborné praxe př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ojíždění do jiného místa, než kde sídlí jejich škol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áků/studentů se za adekvátní ubytování v souvislosti s realizací projektu pokládá ubyt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rodinách, v internátech, hostelech, turistických ubytovnách nebo na VŠ kolejích (jiných, než kde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ák/student běžně ubytová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mou podporu lze poskytnout jen na úhradu skutečně vynaložených nákladů na účastníky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 </a:t>
            </a:r>
            <a:r>
              <a:rPr b="0" lang="cs-CZ" sz="700" spc="-1" strike="noStrike">
                <a:solidFill>
                  <a:srgbClr val="000000"/>
                </a:solidFill>
                <a:latin typeface="Times New Roman"/>
              </a:rPr>
              <a:t>zástupce cílových skupi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ako přímou podporu účastníkům projektů je možné hradit jeji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ízdní výdaje </a:t>
            </a:r>
            <a:r>
              <a:rPr b="0" lang="cs-CZ" sz="700" spc="-1" strike="noStrike">
                <a:solidFill>
                  <a:srgbClr val="000000"/>
                </a:solidFill>
                <a:latin typeface="Times New Roman"/>
              </a:rPr>
              <a:t>(např. na základě předložených cestovních dokladů pro hromadnou dopravu v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2. třídě, nebo na základě vyúčtování předloženého dopravcem). V případě použití vozidla js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ůsobilé výdaje omezeny částkou odpovídající jízdence 2. třídy hromadné dopravy násobe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čtem osob, které se v autě přepravovaly. Výjimku tvoří použití vozidla v případě, že bude doloženo,</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e hromadnou dopravu nebylo možno použít, např. při přepravě handicapovaných osob nebo když</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ízdní řády hromadné dopravy nenabízejí vhodný použitelný spoj.</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ubytování </a:t>
            </a:r>
            <a:r>
              <a:rPr b="0" lang="cs-CZ" sz="700" spc="-1" strike="noStrike">
                <a:solidFill>
                  <a:srgbClr val="000000"/>
                </a:solidFill>
                <a:latin typeface="Times New Roman"/>
              </a:rPr>
              <a:t>–</a:t>
            </a:r>
            <a:r>
              <a:rPr b="1" lang="cs-CZ" sz="700" spc="-1" strike="noStrike">
                <a:solidFill>
                  <a:srgbClr val="000000"/>
                </a:solidFill>
                <a:latin typeface="Times New Roman"/>
              </a:rPr>
              <a:t> </a:t>
            </a:r>
            <a:r>
              <a:rPr b="0" lang="cs-CZ" sz="700" spc="-1" strike="noStrike">
                <a:solidFill>
                  <a:srgbClr val="000000"/>
                </a:solidFill>
                <a:latin typeface="Times New Roman"/>
              </a:rPr>
              <a:t>zástupcům cílových skupin</a:t>
            </a:r>
            <a:r>
              <a:rPr b="1" lang="cs-CZ" sz="700" spc="-1" strike="noStrike">
                <a:solidFill>
                  <a:srgbClr val="000000"/>
                </a:solidFill>
                <a:latin typeface="Times New Roman"/>
              </a:rPr>
              <a:t> </a:t>
            </a:r>
            <a:r>
              <a:rPr b="0" lang="cs-CZ" sz="700" spc="-1" strike="noStrike">
                <a:solidFill>
                  <a:srgbClr val="000000"/>
                </a:solidFill>
                <a:latin typeface="Times New Roman"/>
              </a:rPr>
              <a:t>je možné hradit výdaje v úrovni cen v místě obvykl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ČR nejvýše však 1200 Kč za osobu a noc, případně cenu nižší dle interních předpisů dané organizac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ubytování v zahraničí se u dospělých osob pokládá za adekvátní ubytování v hotelu nejvýše kategori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u žáků a studentů se za vhodné pokládá ubytování v rodinách, hostelech, internáte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uristických ubytovnách nebo VŠ kolej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stravné</a:t>
            </a:r>
            <a:r>
              <a:rPr b="0" lang="cs-CZ" sz="700" spc="-1" strike="noStrike">
                <a:solidFill>
                  <a:srgbClr val="000000"/>
                </a:solidFill>
                <a:latin typeface="Times New Roman"/>
              </a:rPr>
              <a:t> – lze hradit nejvýše do úrovně 300 Kč na osobu za celodenní stravování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kud interní předpisy příjemce nestanoví nižší limit). Lze hradit též stravování v soulad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e zákoníkem práce č. 262/2006 Sb. Pouze v odůvodněných případech (pouze pokud není mož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zabezpečit stravování jiným způsobem) můžou být poskytnuty stravenky v odpovídající výš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vyúčtování zahraničních pracovních cest se postupuje podle vyhlášky ministerstva financ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základních sazbách stravného v cizí měně platné pro daný ro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proplácení přímé podpory cílovým skupinám je třeba dokládat jednotlivé částky adekvátním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ýdajovými doklady s podpisy podpořených osob.</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oprovodné aktivity</a:t>
            </a:r>
            <a:r>
              <a:rPr b="0" lang="cs-CZ" sz="700" spc="-1" strike="noStrike">
                <a:solidFill>
                  <a:srgbClr val="000000"/>
                </a:solidFill>
                <a:latin typeface="Times New Roman"/>
              </a:rPr>
              <a:t> – z této položky je možné hradit výdaje spojené se zajištěním asistent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asistentských služeb poskytovaných přímo zástupcům cílových skupin, např. žákům se speciální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třebami, handicapovaným apod., dále pak i pro úhradu nutných nákladů (ve výši místně obvykl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pojených s péčí o děti nebo jiné závislé osoby tak, aby se tato osoba mohla zapojit do aktivit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yto služby budou poskytovány na základě smlouvy uzavřené mezi příjemcem a poskytovatelem asistentské služb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ýdaje na přímou podporu jednotlivců mohou být poskytovány nejvýše do úrovně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20 % celkových způsobilých výdajů projektu. Limit 20 % platí i pro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r>
              <a:rPr b="1" lang="cs-CZ" sz="700" spc="-1" strike="noStrike">
                <a:solidFill>
                  <a:srgbClr val="000000"/>
                </a:solidFill>
                <a:latin typeface="Times New Roman"/>
              </a:rPr>
              <a:t>při závěrečném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2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0F22A6E-41CF-41FF-B7B3-98598BB97E6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76440" y="4686480"/>
            <a:ext cx="5410080" cy="4722480"/>
          </a:xfrm>
          <a:prstGeom prst="rect">
            <a:avLst/>
          </a:prstGeom>
          <a:noFill/>
          <a:ln w="0">
            <a:noFill/>
          </a:ln>
        </p:spPr>
        <p:txBody>
          <a:bodyPr lIns="0" rIns="0" tIns="358200" bIns="0" anchor="ctr">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ozpočet projektu, tedy výdaje, které jsou schváleny pro projekt a jsou uvede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 právním aktu, vycházejí z rozpočtu, který příjemce předložil v projektové žádosti,</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a z případných dalších úprav rozpočtu, které navrhla a schválila Výběrová komis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či které požadoval poskytovatel podpory na základě hodnocení projektu před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ydáním nebo podpisem právního aktu. Tento rozpočet je kvalifikovaným odhadem</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ýdajů projektu a je pravděpodobné, že v průběhu realizace projektu dojd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k určitým odchylkám. Proto musí příjemce počítat s tím, že skutečná výš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prostředků na úhradu způsobilých výdajů projektu bude vypočítána až př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schvalování žádosti o závěrečnou platbu (schválená výše celkových způsobilých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dajů však nesmí být vyšší než maximální výše podpory uvedená v právním a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Celkový schválený rozpočet projektu je závazný a nelze jej překročit.</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v následující části stanoveny pro jednotlivé kapitol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dkapitoly či položky) omezující limity, musí být tyto limity dodrže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jak při sestavování rozpočtu, tak při závěrečném vyúčtování projektu.</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 toho plyne, že když některé položky schváleného rozpočtu nebudou do konce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ealizace projektu dočerpány, sníží se tak celkový rozpočet projektu a tudíž i způsobilá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še položek, které jsou omezeny příslušnými limity. Limity rozpočtu musí být dodrženy t</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ké vždy při provádění podstatných či nepodstatných změn rozpoč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i přečerpání stanovených limitů, nebo když kontrolou poskytovatel označí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ýdaj jako nezpůsobilý a tento výdaj nebude proplacen, což bude mít za následek</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k snížení celkové sumy způsobilých výdajů při závěrečném vyúčtování projektu a</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 </a:t>
            </a:r>
            <a:r>
              <a:rPr b="1" lang="cs-CZ" sz="1000" spc="-1" strike="noStrike">
                <a:solidFill>
                  <a:srgbClr val="000000"/>
                </a:solidFill>
                <a:latin typeface="Times New Roman"/>
              </a:rPr>
              <a:t>tedy nedodržení stanovených limitů, je částka, o kterou jsou tyto limity přečerpá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važována za nezpůsobilý výdaj, a nemůže být součástí proplacené podpor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 případě, že při realizaci projektu nedojde k vyčerpání schválené částky podpor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nemá příjemce na tuto nevyčerpanou částku nárok a nemůže ji vůč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skytovateli podpory uplatňovat ve vyúčtování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6760" y="743040"/>
            <a:ext cx="4924440" cy="3693960"/>
          </a:xfrm>
          <a:prstGeom prst="rect">
            <a:avLst/>
          </a:prstGeom>
          <a:ln w="0">
            <a:noFill/>
          </a:ln>
        </p:spPr>
      </p:sp>
      <p:sp>
        <p:nvSpPr>
          <p:cNvPr id="23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100" spc="-1" strike="noStrike">
                <a:solidFill>
                  <a:srgbClr val="000000"/>
                </a:solidFill>
                <a:latin typeface="Times New Roman"/>
              </a:rPr>
              <a:t>Kapitola rozpočtu 8 – Náklady vyplývající přímo ze Smlouvy/Opatření/ Rozhodnutí</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 této kapitoly rozpočtu jsou hrazeny veškeré výdaje projektu, které souvisejí s povinnostmi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stanovenými právním aktem uzavřeným s poskytovatelem podpory, které by však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i nevznikly, pokud by projekt realizoval bez finanční podpory OP VK. Tyto náklady jso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působilé v případě, že splňují podmínky dané programem OP VK.</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Audit projektu</a:t>
            </a:r>
            <a:r>
              <a:rPr b="0" lang="cs-CZ" sz="1100" spc="-1" strike="noStrike">
                <a:solidFill>
                  <a:srgbClr val="000000"/>
                </a:solidFill>
                <a:latin typeface="Times New Roman"/>
              </a:rPr>
              <a:t> – v případě, že schválená podpora je rovna 3 000 000 Kč nebo vyšší, je příjemce</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ovinen zadat vybrané auditorské firmě (fyzické či právnické osobě) zpracová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musí nejpozději 6 měsíců před ukončením projektu podle právního aktu vybrat vhodného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auditora (musí se jednat o auditora nebo o auditorskou firmu, kteří jsou zapsáni v Komoře auditorů ČR)</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a uzavřít s ním smlouvu o provede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Finanční dokumentace projektu je poměrně rozsáhlá a cenové relace se u jednotlivých auditorů mohou lišit, proto je vhodné obeznámit auditora s předpokládaným rozsahem dokladů a s podmínkami programu, pro který je projekt auditován. V případě, že částka odhadovaná při přípravě projektové žádosti se liší od aktuálního cenového návrhu auditora, je vhodné co nejdříve provést změnu rozpočtu, která částku v této položce vyrovná a umožní uhradit náklady spojené s povinným auditem.</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Publicita </a:t>
            </a:r>
            <a:r>
              <a:rPr b="0" lang="cs-CZ" sz="1100" spc="-1" strike="noStrike">
                <a:solidFill>
                  <a:srgbClr val="000000"/>
                </a:solidFill>
                <a:latin typeface="Times New Roman"/>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Ostatní</a:t>
            </a:r>
            <a:r>
              <a:rPr b="0" lang="cs-CZ" sz="1100" spc="-1" strike="noStrike">
                <a:solidFill>
                  <a:srgbClr val="000000"/>
                </a:solidFill>
                <a:latin typeface="Times New Roman"/>
              </a:rPr>
              <a:t> – tato položka zahrnuje nezbytné další výdaje spojené s realizací projektu. Jedná se o správní poplatky, notářské poplatky, které jsou pro realizaci projektu nezbytné. Dále sem např. spadají také poplatky za zřízení a vedení zvláštního samostatného účtu projektu. V souvislosti se samostatným účtem projektu do způsobilých výdajů patří výdaje za vedení účtu nebo účtů a za finanční transakce na tomto účtu (včetně případných poplatků za zřízení platební karty k projektovému účt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e za zřízení projektového účtu a za vedení tohoto účtu v období mezi zřízením účtu a zahájením projektu podle právního aktu nejsou způsobilé.</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Do vyúčtování lze zahrnout výdaje za vedení projektového účtu, které vznikly v době po ukončení projektu podle právního aktu do předložení závěrečné monitorovací zprávy a závěrečné žádosti o platbu.</a:t>
            </a:r>
            <a:endParaRPr b="0" lang="en-US" sz="1100" spc="-1" strike="noStrike">
              <a:solidFill>
                <a:srgbClr val="000000"/>
              </a:solidFill>
              <a:latin typeface="Times New Roman"/>
            </a:endParaRPr>
          </a:p>
        </p:txBody>
      </p:sp>
      <p:sp>
        <p:nvSpPr>
          <p:cNvPr id="23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90C1542-4E52-4DA0-9F07-9172C920EB7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6760" y="743040"/>
            <a:ext cx="4924440" cy="3693960"/>
          </a:xfrm>
          <a:prstGeom prst="rect">
            <a:avLst/>
          </a:prstGeom>
          <a:ln w="0">
            <a:noFill/>
          </a:ln>
        </p:spPr>
      </p:sp>
      <p:sp>
        <p:nvSpPr>
          <p:cNvPr id="23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ed poskytnutím podpory, resp. ještě v procesu před uzavřením právního aktu o poskytnutí podpory je příjemce povinen zřídit </a:t>
            </a:r>
            <a:r>
              <a:rPr b="1" lang="cs-CZ" sz="800" spc="-1" strike="noStrike">
                <a:solidFill>
                  <a:srgbClr val="000000"/>
                </a:solidFill>
                <a:latin typeface="Times New Roman"/>
              </a:rPr>
              <a:t>samostatný bankovní účet/podúčet (dále projektový účet)</a:t>
            </a:r>
            <a:r>
              <a:rPr b="0" lang="cs-CZ" sz="800" spc="-1" strike="noStrike">
                <a:solidFill>
                  <a:srgbClr val="000000"/>
                </a:solidFill>
                <a:latin typeface="Times New Roman"/>
              </a:rPr>
              <a:t>, který po celou dobu slouží výhradně pro platební operace související s projektem. </a:t>
            </a:r>
            <a:r>
              <a:rPr b="1" lang="cs-CZ" sz="800" spc="-1" strike="noStrike">
                <a:solidFill>
                  <a:srgbClr val="000000"/>
                </a:solidFill>
                <a:latin typeface="Times New Roman"/>
              </a:rPr>
              <a:t>K tomuto kroku musí také zavázat své projektové partnery s finančním příspěv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realizátorem (tj. příjemcem) je příspěvková nebo rozpočtová organizace a poskytovatel podpory není zároveň jejím zřizovatelem, budou prostředky poskytnuty prostřednictvím zřizovatele.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vedením projektového účtu jsou způsobilé, kromě počátečního vkladu na projektový účet vloženého příjemcem při jeho založení. Tento výdaj není součástí rozpočtu projektu a nezapočítává se mezi jeho příjmy. Součástí rozpočtu nejsou také výdaje spojené s vedením projektového účtu v mezidobí mezi založením projektového účtu a zahájením projektu podle podmínek právního a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 však možné, aby si příjemce nárokoval jako způsobilé výdaje i bankovní poplatky k projektovému účtu za období po ukončení realizace projektu, a to do data předložení závěrečné monitorovací zprávy se závěrečnou žádostí o platb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Tento účet může být založen u jakékoli banky oprávněné působit v České republice a musí být veden výhradně v měně CZ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tomuto účtu mohou mít pouze pracovníci pověření příjemcem podpory (např. hlavní manažer projektu, finanční manaž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 účely finančního výkaznictví projektu je důležité, aby si příjemce zajistil </a:t>
            </a:r>
            <a:r>
              <a:rPr b="1" lang="cs-CZ" sz="800" spc="-1" strike="noStrike">
                <a:solidFill>
                  <a:srgbClr val="000000"/>
                </a:solidFill>
                <a:latin typeface="Times New Roman"/>
              </a:rPr>
              <a:t>zasílání měsíčních výpisů z projektového účtu vždy k poslednímu dni každého měsíce nebo ke dni, ke kterému bude vykazovat vyúčtování projektu</a:t>
            </a:r>
            <a:r>
              <a:rPr b="0" lang="cs-CZ" sz="800" spc="-1" strike="noStrike">
                <a:solidFill>
                  <a:srgbClr val="000000"/>
                </a:solidFill>
                <a:latin typeface="Times New Roman"/>
              </a:rPr>
              <a:t> (předkládat monitorovací zprá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 nesmí příjemce zrušit dříve, než dojde k finančnímu vypořád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říjemce nesmí využívat finanční prostředky podpory, které obdrží od poskytovatele podpory formou zálohových plateb nebo průběžných plateb a které jsou určeny na realizaci projektu jiným způsobem, než jak je stanoveno v právním aktu o poskytnutí podpory.</a:t>
            </a:r>
            <a:r>
              <a:rPr b="0" lang="cs-CZ" sz="800" spc="-1" strike="noStrike">
                <a:solidFill>
                  <a:srgbClr val="000000"/>
                </a:solidFill>
                <a:latin typeface="Times New Roman"/>
              </a:rPr>
              <a:t> </a:t>
            </a:r>
            <a:r>
              <a:rPr b="1" lang="cs-CZ" sz="800" spc="-1" strike="noStrike">
                <a:solidFill>
                  <a:srgbClr val="000000"/>
                </a:solidFill>
                <a:latin typeface="Times New Roman"/>
              </a:rPr>
              <a:t>To znamená, že s nimi nesmí provádět žádné operace, které nesouvisejí přímo s realizací projektu a neslouží úhradám způsobilých výdaj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akékoli porušení tohoto zákazu je klasifikováno jako porušení rozpočtové kázně podle zákona č. 218/2000 Sb., o rozpočtových pravidlech a o změně některých souvisejících zákonů (rozpočtová pravidla) ve znění pozdějších předpisů, v platném znění, nebo zákona č. 250/2000 Sb., o rozpočtových pravidlech územních rozpočtů, a může vést k odebrání finančních prostředk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 bude převádět prostředky z projektového účtu např. na provozní účet organizace, musí být tento krok řádně zdůvodněný a podložený prokazatelnou potřebou. Možnost tohoto řešení musí příjemce ověřit konzultací s poskytovatelem podpor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že příjemce k úhradě některých výdajů, které souvisejí s realizací projektu (např. mzdy, zákonné odvody, režijní náklady), používá provozní účet organizace, může finanční prostředky z projektového účtu převést na provozní účet organizace, ale teprve poté, co jsou tyto náklady prokazatelně z tohoto provozního účtu uhrazeny. </a:t>
            </a:r>
            <a:r>
              <a:rPr b="0" lang="cs-CZ" sz="800" spc="-1" strike="noStrike">
                <a:solidFill>
                  <a:srgbClr val="000000"/>
                </a:solidFill>
                <a:latin typeface="Times New Roman"/>
              </a:rPr>
              <a:t>Tuto operaci je možné provést v rámci jednoho dne, tzn. z výpisů z účtů příjemce/partnera bude zřejmé, že platba způsobilých výdajů z jiného účtu příjemce/partnera a refundace této platby z projektového účtu proběhla nejdříve ke stejnému datu (příjemce/partner pak k monitorovací zprávě předkládá výpisy z obou účtů, nejen ze samostatného účtu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pětná refundace ze samostatného účtu projektu OP VK může být provedena jednou platební operací za více účetních položek, musí však být vystaven interní účetní doklad, z kterého bude zřejmé, z jakých částek se celková převáděná suma skládá.</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jde-li k použití finančních prostředků určených k realizaci projektu z důvodu chyby na </a:t>
            </a:r>
            <a:r>
              <a:rPr b="1" lang="cs-CZ" sz="800" spc="-1" strike="noStrike">
                <a:solidFill>
                  <a:srgbClr val="000000"/>
                </a:solidFill>
                <a:latin typeface="Times New Roman"/>
              </a:rPr>
              <a:t>straně příjemce (např. odeslání určité platby, která nesouvisí s projektem, omylem</a:t>
            </a:r>
            <a:r>
              <a:rPr b="0" lang="cs-CZ" sz="800" spc="-1" strike="noStrike">
                <a:solidFill>
                  <a:srgbClr val="000000"/>
                </a:solidFill>
                <a:latin typeface="Times New Roman"/>
              </a:rPr>
              <a:t> z projektového účtu místo z provozního účtu nebo použití prostředků na výdaje, které byly v dobré víře uhrazeny z projektového účtu jako způsobilé, ale po kontrole poskytovatelem podpory zhodnoceny jako nezpůsobilé), je příjemce povinen okamžitě po zjištění této chyby, případně po upozornění poskytovatelem podpory, vrátit danou částku na projektový účet a informovat o tomto postupu poskytovatele podpory v následující monitorovací zpráv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etýká se individuálních projektů národn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Banka oprávněná působit v ČR – banky s licencí ČNB a pobočky zahraničních bank ze zemí EHP založené v ČR na principu jednotné licence (vydané v domovském státě). Jednotná licence bank a dalších finančních institucí je založena na směrnici 2000/12/ES, o přístupu k činnosti úvěrových institucí a jejím výkonu, a na ustanovení zákona č. 21/1992 Sb., o bankách, ve znění pozdějších předpis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účtu – právo nakládat s finančními prostředky na bankovním účtu a provádět veškeré operace týkající se tohoto úč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3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D7176C0-EC4F-4C41-AC84-7E43A31AEF9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6760" y="743040"/>
            <a:ext cx="4924440" cy="3693960"/>
          </a:xfrm>
          <a:prstGeom prst="rect">
            <a:avLst/>
          </a:prstGeom>
          <a:ln w="0">
            <a:noFill/>
          </a:ln>
        </p:spPr>
      </p:sp>
      <p:sp>
        <p:nvSpPr>
          <p:cNvPr id="23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íjmy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rojekty generující příjm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jektem vytvářejícím příjmy se rozumí jakýkoliv projekt zahrnující investici, za jejíž používání se účtují poplatky hrazené přímo uživateli, nebo jakýkoliv projekt zahrnující prodej nebo pronájem budov nebo jakékoli jiné poskytování služeb za úpla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a příjmy projektu se považují např.:</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dej materiálu, prací nebo služeb vzešlých z projektu (např. prodej publikací vzešlých z projektu, prodej předmětů zpracovaných v praktické dílně provozované v rámci projektu) dalším osobám (nikoli zástupcům cílové skupi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Úroky připsané na projektovém účtu (vč. úroků vzniklých na jiných účtech příjemce dotace při předčasných převodech prostředků dotace) a úroky připsané na bankovních – projektových účtech partnerů, mají-li Partnerskou smlouvou dánu povinnost je zřídit a je-li jim poskytována záloha na financování projektových výdajů, se vykazují zvlášť mimo ostatní příjmy v monitorovací zprávě a tyto kladné úroky se zohlední při zasílání finančních prostředků na základě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Dosažené příjmy projektu musejí být průběžně vykazovány v monitorovacích zprávách a podílejí se na krytí způsobilých nákladů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o znamená, že veškeré příjmy projektu (včetně úroků na výše zmíněných účtech) musejí být příjemcem a partnery evidovány a odečítány od výše poskytnuté podpory při předložení průběžné monitorovací zprávy a žádosti o platbu, případně při předložení závěrečné zprávy a závěrečné žádosti o platb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budoucí příjmy známy při předkládání projektu, příjemce sníží velikost způsobilých výdajů o tyto příjmy již při podání žádosti. Pokud tyto příjmy nejsou známy, zohlední tuto skutečnost nejpozději v okamžiku podání poslední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i výpočtu generovaných příjmů bere poskytovatel podpory v úvahu období, kategorii projektu, očekávanou běžnou ziskovost dané kategorie investice a aspekty rovnosti v souvislosti s relativní prosperitou stá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íspěvky soukromého financování v rámci realizace projektu nejsou považovány za příjmy projektu, ale jsou jedním ze zdrojů financování projektu (např. v případě poskytnutí veřejné podpory podle blokových výjimek či podpory malého rozsahu podle pravidla de minimis, kdy poskytnutá podpora nedosahuje 100% způsobilých nákladů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projektu nevzniká ani v době realizace ani v době udržitelnosti, pokud je podpora na projekt poskytnuta v režimu veřejné podpory nebo podpory malého rozsahu (de minimi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
        <p:nvSpPr>
          <p:cNvPr id="23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A1AA90C-FB6F-4606-AC92-9E3BFCC7330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96760" y="743040"/>
            <a:ext cx="4924440" cy="3693960"/>
          </a:xfrm>
          <a:prstGeom prst="rect">
            <a:avLst/>
          </a:prstGeom>
          <a:ln w="0">
            <a:noFill/>
          </a:ln>
        </p:spPr>
      </p:sp>
      <p:sp>
        <p:nvSpPr>
          <p:cNvPr id="23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Úhrada výdajů projektu poskytovatelem podpory příjemc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Úhrady způsobilých výdajů projektu budou probíhat formou zálohových plateb, které budou poskytovány příjemci na základě předkládaných žádostí o platbu a prostřednictvím kterých budou proplaceny účetní doklady odrážející skutečné způsobilé výdaje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platbu předkládá příjemce na standardním formuláři, přičemž musí doložit, že uváděné výdaje odpovídají podmínkám projektu obsaženým v právním aktu. Veškeré platební nároky musejí být podloženy kopiemi účetních dokladů nebo kopiemi jiných dokladů, které dokládají uskutečněn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latby příjemci je možné poukázat pouze na samostatný účet projektu, popřípadě na účet zřizovatele, specifikovaný v právním aktu o poskytnutí podpory (pokud účet nebyl změněn v rámci podstatných změn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loh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skytovatel podpory bude příjemci poskytovat finanční prostředky následujícím způsobem:</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První zálohová platba</a:t>
            </a:r>
            <a:r>
              <a:rPr b="0" lang="cs-CZ" sz="700" spc="-1" strike="noStrike">
                <a:solidFill>
                  <a:srgbClr val="000000"/>
                </a:solidFill>
                <a:latin typeface="Times New Roman"/>
              </a:rPr>
              <a:t> (obvykle do výše 20–25 % způsobilých výdajů projektu – přesnou výši této zálohy stanoví poskytovatel podpory) bude poukázána příjemci</a:t>
            </a:r>
            <a:r>
              <a:rPr b="0" i="1" lang="cs-CZ" sz="700" spc="-1" strike="noStrike">
                <a:solidFill>
                  <a:srgbClr val="000000"/>
                </a:solidFill>
                <a:latin typeface="Times New Roman"/>
              </a:rPr>
              <a:t> </a:t>
            </a:r>
            <a:r>
              <a:rPr b="0" lang="cs-CZ" sz="700" spc="-1" strike="noStrike">
                <a:solidFill>
                  <a:srgbClr val="000000"/>
                </a:solidFill>
                <a:latin typeface="Times New Roman"/>
              </a:rPr>
              <a:t>do 30 pracovních dnů (nestanoví-li poskytovatel v právním aktu o poskytnutí dotace jinak) od vydání Rozhodnutí/Opatření Vrchního ředitele a doručení podepsaného Prohlášení příjemce dotace nebo uzavření Smlouvy o realizaci GP – bez nutnosti podat žádost o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alší průběžné platby</a:t>
            </a:r>
            <a:r>
              <a:rPr b="0" lang="cs-CZ" sz="700" spc="-1" strike="noStrike">
                <a:solidFill>
                  <a:srgbClr val="000000"/>
                </a:solidFill>
                <a:latin typeface="Times New Roman"/>
              </a:rPr>
              <a:t> v návaznosti na žádosti o platbu předkládané příjemcem v intervalech nebo podle podmínek, které jsou stanoveny v právním aktu (např. každé 3 měsíce, po vyčerpání určitého procenta obdržené zálohy apod.). Na základě předložené žádosti o platbu je příjemci vyplacena další zálohová platba, a to </a:t>
            </a:r>
            <a:r>
              <a:rPr b="1" lang="cs-CZ" sz="700" spc="-1" strike="noStrike">
                <a:solidFill>
                  <a:srgbClr val="000000"/>
                </a:solidFill>
                <a:latin typeface="Times New Roman"/>
              </a:rPr>
              <a:t>ve výši prokazovaných způsobilých výdajů</a:t>
            </a:r>
            <a:r>
              <a:rPr b="0" lang="cs-CZ" sz="700" spc="-1" strike="noStrike">
                <a:solidFill>
                  <a:srgbClr val="000000"/>
                </a:solidFill>
                <a:latin typeface="Times New Roman"/>
              </a:rPr>
              <a:t>, přičemž přesnou výši této platby stanoví na základě kontroly vzniklých výdajů projektu poskytovatel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Kumulovaná výše</a:t>
            </a:r>
            <a:r>
              <a:rPr b="0" lang="cs-CZ" sz="700" spc="-1" strike="noStrike">
                <a:solidFill>
                  <a:srgbClr val="000000"/>
                </a:solidFill>
                <a:latin typeface="Times New Roman"/>
              </a:rPr>
              <a:t> uvedených plateb nesmí přesáhnout </a:t>
            </a:r>
            <a:r>
              <a:rPr b="1" lang="cs-CZ" sz="700" spc="-1" strike="noStrike">
                <a:solidFill>
                  <a:srgbClr val="000000"/>
                </a:solidFill>
                <a:latin typeface="Times New Roman"/>
              </a:rPr>
              <a:t>90 % schválené částky podpory u GP/IP;</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věrečná platba</a:t>
            </a:r>
            <a:r>
              <a:rPr b="0" lang="cs-CZ" sz="700" spc="-1" strike="noStrike">
                <a:solidFill>
                  <a:srgbClr val="000000"/>
                </a:solidFill>
                <a:latin typeface="Times New Roman"/>
              </a:rPr>
              <a:t> (vypočítaná podle schválených </a:t>
            </a:r>
            <a:r>
              <a:rPr b="1" lang="cs-CZ" sz="700" spc="-1" strike="noStrike">
                <a:solidFill>
                  <a:srgbClr val="000000"/>
                </a:solidFill>
                <a:latin typeface="Times New Roman"/>
              </a:rPr>
              <a:t>skutečných</a:t>
            </a:r>
            <a:r>
              <a:rPr b="0" lang="cs-CZ" sz="700" spc="-1" strike="noStrike">
                <a:solidFill>
                  <a:srgbClr val="000000"/>
                </a:solidFill>
                <a:latin typeface="Times New Roman"/>
              </a:rPr>
              <a:t>, tedy skutečně vynaložených a doložených) způsobilých výdajů projektu – až do výše zbývajících 10 % schváleného rozpočtu projektu) do 30 pracovních dnů od data schválení závěrečné zprávy poskytovatelem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oučástí závěrečné zprávy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závěrečnou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lkové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ráva auditora (u projektů s podporou hrazenou z veřejných prostředků rovnající se 3 mil. Kč včetně DPH nebo vyšší a u projektů, u kterých byla povolena výjimka z povinnosti založit samostatný účet pro projekt, stanovil-li tuto povinnost vyhlašovatel výzv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estliže jsou způsobilé výdaje na konci projektu nižší než odhadované celkové způsobilé výdaje specifikované v právním aktu o financování projektu, budou proplaceny pouze skutečně vynaložené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estliže podpora vyplacená v rámci zálohování převýší částku, za niž byl projekt podle závěrečného vyúčtování realizován, musí být na základě závěrečného vyúčtování vrácena na účet poskytovatele ve lhůtě 30 pracovních dnů od odsouhlasení poskytovatelem podpory, nestanoví-li poskytovatel podpory jina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5.14</a:t>
            </a:r>
            <a:r>
              <a:rPr b="1" lang="cs-CZ" sz="700" spc="-1" strike="noStrike">
                <a:solidFill>
                  <a:srgbClr val="000000"/>
                </a:solidFill>
                <a:latin typeface="Times New Roman"/>
              </a:rPr>
              <a:t>	</a:t>
            </a:r>
            <a:r>
              <a:rPr b="1" lang="cs-CZ" sz="700" spc="-1" strike="noStrike">
                <a:solidFill>
                  <a:srgbClr val="000000"/>
                </a:solidFill>
                <a:latin typeface="Times New Roman"/>
              </a:rPr>
              <a:t>Finanční vypořádání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Finanční vypořádání podpory poskytnuté z příslušné kapitoly státního rozpočtu příjemci na projekt spolufinancovaný ze státního rozpočtu (ESF a veřejné financování) se provádí k 31. prosinci roku, v němž byl projekt ukončen. Nevyužité finanční prostředky je příjemce povinen vrátit poskytovateli ve lhůtě stanovené v části 5.12 této příručky. Ukončením projektu se rozumí ukončení jeho financování z prostředků podpory (zahrnuje proplacení závěrečné žádosti o platbu). Toto finanční vypořádání se týká všech příjemců, resp. provádí se u všech typů projekt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e dotace vypracovává podklady pro finanční vypořádání na tiskopisech stanovených vyhláškou č. 52/2008 Sb., kterou se stanoví zásady a termíny finančního vypořádání vztahů se státním rozpočtem, státními finančními aktivy nebo Národním fondem, připojí komentář a současně převede na účet poskytovatele případnou vratku finanční podpory nejpozději do 15. února roku následujícího po ukončení projektu. Současně informuje o této vratce poskytovatele dotace. Zasílaná informace obsahuje registrační číslo a název projektu, identifikaci příjemce dotace, výši částky a její rozčlenění na investiční/neinvestiční prostředky nebo prostředky určené na mzdy resp. ostatní osobní nákla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ostatních forem poskytnutí podpory se příjemce při finančním vypořádání projektu řídí pravidly stanovenými v právním a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e je příjemcem OSS, má nastaven odlišný režim financ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4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5DCB790-E0FC-4194-AB57-C373D2F3324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6760" y="743040"/>
            <a:ext cx="4924440" cy="3693960"/>
          </a:xfrm>
          <a:prstGeom prst="rect">
            <a:avLst/>
          </a:prstGeom>
          <a:ln w="0">
            <a:noFill/>
          </a:ln>
        </p:spPr>
      </p:sp>
      <p:sp>
        <p:nvSpPr>
          <p:cNvPr id="242"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5.10</a:t>
            </a:r>
            <a:r>
              <a:rPr b="1" lang="cs-CZ" sz="1200" spc="-1" strike="noStrike">
                <a:solidFill>
                  <a:srgbClr val="000000"/>
                </a:solidFill>
                <a:latin typeface="Times New Roman"/>
              </a:rPr>
              <a:t>	</a:t>
            </a:r>
            <a:r>
              <a:rPr b="1" lang="cs-CZ" sz="1200" spc="-1" strike="noStrike">
                <a:solidFill>
                  <a:srgbClr val="000000"/>
                </a:solidFill>
                <a:latin typeface="Times New Roman"/>
              </a:rPr>
              <a:t>Daň z přidané hodno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becná pravidla pro způsobilost výdajů neuznávají daně a cla jako způsobilý výdaj, z toho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becného pravidla existuje výjimka pro DPH, která v určitých případech umožňuje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mezi způsobilé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oučasně platí, že finanční podpora, poskytovaná na projekt z ESF, státního rozpočtu ČR, 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tu obcí apod. není předmětem daně a nezahrnuje se do obratu pro registraci k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působilost DPH jako uznatelného výdaje se vždy posuzuje vzhledem k aktivitám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PH není způsobilým výdajem, pokud příjemce plnění má nárok na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árok na odpočet DPH je vymezen zákonem č. 235/2004 Sb., o dani z přidané hodno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znění pozdějších předpisů (dále jen zákon o DPH). Přičemž se způsobilost DPH vztahuje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tu část plnění, která je sama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dotace, pokud prokazatelně poskytuje svoje služby v rámci projektu bez úpla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má nárok na přijatá zdanitelná plnění (nakoupené služby a zboží) na odpočet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je potom způsobilým výdajem projektu, pokud se vztahuje k věcným plnění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rá jsou v rámci OP VK považována za způsobilá.</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příjemce, kteří jsou plátci DPH, je způsobilým výdajem ta část DPH, na kterou není 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ného přijatého plnění nárok na odpočet v souladu se zákonem o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osoby neregistrované k DPH je daň z přidané hodnoty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eboť tyto osoby si nemohou nárokovat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61422EC-3D00-4B70-BFFB-C9B93230595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96760" y="743040"/>
            <a:ext cx="4924440" cy="3693960"/>
          </a:xfrm>
          <a:prstGeom prst="rect">
            <a:avLst/>
          </a:prstGeom>
          <a:ln w="0">
            <a:noFill/>
          </a:ln>
        </p:spPr>
      </p:sp>
      <p:sp>
        <p:nvSpPr>
          <p:cNvPr id="24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5.6 </a:t>
            </a:r>
            <a:r>
              <a:rPr b="1" i="1" lang="cs-CZ" sz="300" spc="-1" strike="noStrike">
                <a:solidFill>
                  <a:srgbClr val="000000"/>
                </a:solidFill>
                <a:latin typeface="Times New Roman"/>
              </a:rPr>
              <a:t>	</a:t>
            </a:r>
            <a:r>
              <a:rPr b="1" i="1" lang="cs-CZ" sz="300" spc="-1" strike="noStrike">
                <a:solidFill>
                  <a:srgbClr val="000000"/>
                </a:solidFill>
                <a:latin typeface="Times New Roman"/>
              </a:rPr>
              <a:t>Účetnictví a doklad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vést pro projekt účetnictví ve smyslu zákona č. 563/1991 Sb., o účetnictv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 znění pozdějších předpisů, nebo daňovou</a:t>
            </a:r>
            <a:r>
              <a:rPr b="1" lang="cs-CZ" sz="300" spc="-1" strike="noStrike">
                <a:solidFill>
                  <a:srgbClr val="000000"/>
                </a:solidFill>
                <a:latin typeface="Times New Roman"/>
              </a:rPr>
              <a:t> </a:t>
            </a:r>
            <a:r>
              <a:rPr b="0" lang="cs-CZ" sz="300" spc="-1" strike="noStrike">
                <a:solidFill>
                  <a:srgbClr val="000000"/>
                </a:solidFill>
                <a:latin typeface="Times New Roman"/>
              </a:rPr>
              <a:t>evidenci podle zákona č. 586/1992 Sb.,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 dani z příjmu, ve znění pozdějších předpisů, rozšířenou o dodatečné požadavky, které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udou uvedeny v právním aktu o poskytnutí podpory. Je nutné, aby transakce souvisejíc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 projektem byly odděleně identifikovatelné od ostatních účetních transakcí s projekte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esouvisejících. Příjemce je tedy povinen vést analytickou evidenci s vazbou ke konkrétním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u. To znamená, že projekt musí být účtován odděleně od ostatních aktivit organizac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příklad na zvláštním účetním středis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Touto povinností zaváže příjemce dotace i případné partnery s finanční účas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na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ictví projektu musí být vedeno v elektronické podobě, pouze v odůvodněných případe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je možné vést účetnictví v písemné form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doklady musejí být vystaveny v souladu se zákonem o účetnictví a musejí obsah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šechny požadované náležitosti. Účetní doklady musejí obsahovat specifikaci pořizovaného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boží, služeb nebo prací i specifikaci toho, kdo zboží nebo služby nakoupil (pokud se nejed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o zjednodušený daňový dokl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běr legislativy pro účetnictví a dokladování v OP VK </a:t>
            </a:r>
            <a:r>
              <a:rPr b="0" lang="cs-CZ" sz="300" spc="-1" strike="noStrike">
                <a:solidFill>
                  <a:srgbClr val="000000"/>
                </a:solidFill>
                <a:latin typeface="Times New Roman"/>
              </a:rPr>
              <a:t>(pro specifické subjekty příjemce mohou být aplikovány ještě další relevantní záko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499/2004 Sb., o archivnictví a spisové služb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5/2004 Sb., kterou se provádějí některá ustanovení zákona o archivnictví a spisové služb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6/2004 Sb., o podrobnostech výkonu spisové služb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20/2001 Sb., o finanční kontrole ve veřejné správ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166/1993 Sb., o Nejvyšším kontrolním úřadu,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9/2000 Sb., o majetku ČR a jejím vystupování v právních vztazí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63/1991 Sb., o účetnictv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9/1992 Sb., o pojistném na sociální zabezpečení a příspěvku na státní politiku zaměstnanost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2/1991 Sb., o organizaci a provádění sociálního zabezpeče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35/2004 Sb., o dani z přidané hodnot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6/1992 Sb., o daních z příjm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37/1992 Sb., o správě daní a poplatk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1992 Sb., o banká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92/1992 Sb., o pojistném na všeobecné zdravotní pojiště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13/1991 Sb., obchodní zákoník,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zákona 563/1991 Sb., o účetnictví, § 33a, odst. 1, za prokazatelný účetní zázna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e formě technické nebo písemné se považuje takový:</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přímo porovnáním se skutečností, kterou tento záznam prokazu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obsahem jiných průkazných účetních záznam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přenesený způsobem splňujícím požadavky § 34;</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týkající se výhradně skutečností uvnitř jedné účetní jednotky, k němuž 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připojen podpisový záznam oprávněné a odpovědné osoby. </a:t>
            </a:r>
            <a:endParaRPr b="0" lang="en-US" sz="300" spc="-1" strike="noStrike">
              <a:solidFill>
                <a:srgbClr val="000000"/>
              </a:solidFill>
              <a:latin typeface="Times New Roman"/>
            </a:endParaRPr>
          </a:p>
        </p:txBody>
      </p:sp>
      <p:sp>
        <p:nvSpPr>
          <p:cNvPr id="24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FBD3B49-6F09-40C1-B731-9875C821117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6760" y="743040"/>
            <a:ext cx="4924440" cy="3693960"/>
          </a:xfrm>
          <a:prstGeom prst="rect">
            <a:avLst/>
          </a:prstGeom>
          <a:ln w="0">
            <a:noFill/>
          </a:ln>
        </p:spPr>
      </p:sp>
      <p:sp>
        <p:nvSpPr>
          <p:cNvPr id="24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6.1 </a:t>
            </a:r>
            <a:r>
              <a:rPr b="1" lang="cs-CZ" sz="500" spc="-1" strike="noStrike">
                <a:solidFill>
                  <a:srgbClr val="000000"/>
                </a:solidFill>
                <a:latin typeface="Times New Roman"/>
              </a:rPr>
              <a:t>	</a:t>
            </a:r>
            <a:r>
              <a:rPr b="1" lang="cs-CZ" sz="500" spc="-1" strike="noStrike">
                <a:solidFill>
                  <a:srgbClr val="000000"/>
                </a:solidFill>
                <a:latin typeface="Times New Roman"/>
              </a:rPr>
              <a:t>Druhy účetních dokladů a jejich náležitosti</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musí splňovat náležitosti § 33 zákona č. 563/1991 Sb., o účetnictv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určený k přenášení musí obsahovat podpisový záznam. Podpisovým záznam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e rozumí účetní záznam, jehož obsahem je vlastnoruční podpis nebo obdobný prokazatelný účet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áznam nahrazující vlastnoruční podpis v technické formě. Na obě formy podpisového záznamu s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itom pohlíží stejně a obě se mohou použít na místě, kde se vyžaduje vlastnoruční podpis.</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Jednotlivé účetní doklady v rámci celého projektu je nutno číslovat tak, aby byly jednoznačn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identifikovatelné ve všech základních skupinách dokladů dané účetní jednotky, to znamená, ž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je nutno vytvořit samostatnou číslovanou řadu na projek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Každý originál relevantního účetního dokladu je příjemce povinen označit identifikac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r>
              <a:rPr b="1" lang="cs-CZ" sz="500" spc="-1" strike="noStrike">
                <a:solidFill>
                  <a:srgbClr val="000000"/>
                </a:solidFill>
                <a:latin typeface="Times New Roman"/>
              </a:rPr>
              <a:t>projektu (zkráceným názvem, číslem registračním, a případně číslem jednacím),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pokud tento údaj doklad neobsahuje již v původním popis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becně formulované doklady typu „občerstvení“, „kancelářské potřeby“, faktury s po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uji za administrativní činnosti“ atd. nejsou vyhovující, musejí být rozepsány podrobněj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alespoň podle skupin účtovaných položek. Pokud nejsou rozepsány, je potřebné požáda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 zboží o doplnění účetního dokladu o detailnější popis nakupovaného zboží nebo služeb.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i jeho partneři musejí při podávání žádostí o platbu předložit soupisky všech účetní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visejících s projektem seřazené podle kapitol rozpočtu. Za účetní doklady se považují např.:</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y vydané, faktury přijaté, příjmové pokladní doklady, výdajové pokladní doklady, interní doklad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ankovní výpisy z projektového účtu, výpisy z dalších účtů použitých k úhradě výdajů projektu apod.</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opie všech účetních dokladů uvedených na soupisce musejí být její přílohou, pokud není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K monitorovací zprávě také může být požadováno kromě soupisky účetních dokladů přiloži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stupní sestavu/sestavy z účetnictví příjemce a partnerů s finanční účastí, opatřenou pod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dpovědné osoby a razítkem organiza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ictví musí rovněž obsahovat podrobnosti o úrocích, které vzniknou na účtu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odůvodnitelných případech je možné použít i vnitřní přeúčtování plateb projektu, které byl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uskutečněny z jiného než projektového účtu. Převody prostředků z účtu projektu na jiný úče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jemce musejí být podloženy vnitřními účetními doklady, kterými se provád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př. u výplat mezd, souhrnných plateb za elektřinu, vodné, nájmy aj.).</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může být proveden jednou platební operací za ví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ch položek, musí však být vystaven interní účetní doklad, ze kterého bude zřejm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jakých částek se celková převáděná suma skládá.</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na jiné účty příjemce dotace nesmí být provede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dtím, než má příjemce k dispozici účetní doklady prokazující potřebu převodu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rostředků. Převod prostředků z projektového účtu na jiné účty příjemce dotace mus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proveden až zpětně (tj. dodatečně: až po vyplacení finančních prostředků z jinéh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tu příjemce dotace). Tento krok může být proveden v rámci jednoho dne, tj. prostředk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projektového účtu mohou být převedeny na jiný účet příjemce, ze kterého byla provedena úhrad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ejdříve v tentýž den (na výpise z účtů musí být stejné datu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evyčerpané a předčasně převedené prostředky je třeba bezodkladně vrátit zpět na projektov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roky vzniklé na jiných účtech příjemce z předčasně převedených prostředků dotace je nutné zahrnou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 vyúčtování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kladem prokazujícím potřebu převodu finančních prostředků z projektového účtu na jin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být i výpis z jiného účtu příjemce, ze kterého je patrné, že daná částka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př. za mzdové náklady nebo za fakturu byla uhraze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Možnost a podmínky převedení finančních prostředků z projektového účtu na jiný účet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 předtím, než proběhne samotná úhrada z jiného účtu příjemce, upravuje poskytovatel podpo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začátku a na konci realizace projektu, případně i v jeho průběhu, je možné použít i vnitřn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hrnu plateb projektu, které byly uskutečněny z jiného než projektového účtu příjemce v případě,</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dy na projektovém účtu je nedostatek finančních prostředků. V tomto případě je potřeba přiložit sezna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šech těchto plateb a kopie bankovních výpisů, které obsahují uskutečnění těchto plat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případě mylné platby z projektového účtu příjemce bez zbytečného odkladu převede neb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loží příslušnou částku zpět na projektový účet. Tuto skutečnost popíše v nejbližší monitorovac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právě s žádostí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1</a:t>
            </a:r>
            <a:r>
              <a:rPr b="1" i="1" lang="cs-CZ" sz="500" spc="-1" strike="noStrike">
                <a:solidFill>
                  <a:srgbClr val="000000"/>
                </a:solidFill>
                <a:latin typeface="Times New Roman"/>
              </a:rPr>
              <a:t>	</a:t>
            </a:r>
            <a:r>
              <a:rPr b="1" i="1" lang="cs-CZ" sz="500" spc="-1" strike="noStrike">
                <a:solidFill>
                  <a:srgbClr val="000000"/>
                </a:solidFill>
                <a:latin typeface="Times New Roman"/>
              </a:rPr>
              <a:t>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šechny faktury v rámci projektu musejí být vystaveny na příjemce dota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partnery mohou být faktury vystavovány pouze v případě, že je mezi příjemcem 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artnerem projektu uzavřena smlouva o finančním partnerství v rámci daného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Faktury musejí být označeny identifikací projektu (zkráceným názvem projektu, čísl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registračním, a případně číslem jednac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riginály dokladů a soupisky účetních dokladů za celý projekt musejí být k dispozici u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artnera nejen v průběhu implementace projektu, ale rovněž po dobu archivace platných pro OP VK, tj. do roku 2025.</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2</a:t>
            </a:r>
            <a:r>
              <a:rPr b="1" i="1" lang="cs-CZ" sz="500" spc="-1" strike="noStrike">
                <a:solidFill>
                  <a:srgbClr val="000000"/>
                </a:solidFill>
                <a:latin typeface="Times New Roman"/>
              </a:rPr>
              <a:t>	</a:t>
            </a:r>
            <a:r>
              <a:rPr b="1" i="1" lang="cs-CZ" sz="500" spc="-1" strike="noStrike">
                <a:solidFill>
                  <a:srgbClr val="000000"/>
                </a:solidFill>
                <a:latin typeface="Times New Roman"/>
              </a:rPr>
              <a:t>Zálohové 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álohové faktury dodavatelům zboží nebo služeb v rámci projektu je možno hradit pouze v případ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že tyto výdaje naplňují pravidla způsobilosti, jsou vydány v souladu s platnou obchodní smlouvo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 dodavatelem zboží nebo služeb) a běžnou obchodní praxí a budou nejpozději do konce projektu vyúčtován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yúčtování záloh mezi dodavatelem a příjemcem bude promítnuto nejpozději v závěrečné žádosti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eplatek je příjemce povinen vrátit a nedoplatek je způsobilý výdaj. V opačném případě je nelze z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hradit a uhrazené zálohy nebudou schváleny jako způsobilé výdaje projekt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jimkou jsou zálohové platby týkající se záloh na vodu, paliva a energie. Příjemcům se doporučuje v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padech vyjednat s dodavatelem odečet a vyúčtování k datu ukončení projektu. Pokud bude vy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m služby poskytnuto až po ukončení realizace projektu (datum uvedené v rozhodnutí o poskytnut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smlouvě) v době do podání závěrečné žádosti o platbu, pak do závěrečné žádosti o platbu mohou bý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ahrnuty skutečně vyúčtované výdaje. V případě, že dodavatel neposkytne vyúčtování k datu podání závěreč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žádosti o platbu, mohou být do závěrečné žádosti o platbu zahrnuty částky odpovídající kvalifikovanému odhad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 základě skutečných výdajů uhrazených v minulém odpovídajícím zúčtovacím období, maximálně však do výš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kutečně uhrazených zálohových plateb a tento kvalifikovaný odhad musí být doložen výpočtem a kopiem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relevantních dokladů, na jejichž základě byl vypočítá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3</a:t>
            </a:r>
            <a:r>
              <a:rPr b="1" i="1" lang="cs-CZ" sz="500" spc="-1" strike="noStrike">
                <a:solidFill>
                  <a:srgbClr val="000000"/>
                </a:solidFill>
                <a:latin typeface="Times New Roman"/>
              </a:rPr>
              <a:t>	</a:t>
            </a:r>
            <a:r>
              <a:rPr b="1" i="1" lang="cs-CZ" sz="500" spc="-1" strike="noStrike">
                <a:solidFill>
                  <a:srgbClr val="000000"/>
                </a:solidFill>
                <a:latin typeface="Times New Roman"/>
              </a:rPr>
              <a:t>Zahrnování odpisů do způsobilých výdaj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který uplatňuje daňové odpisy jako způsobilý výdaj, je povinen doložit pořizovací cen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dpisovaného majetku prostřednictvím </a:t>
            </a:r>
            <a:r>
              <a:rPr b="1" lang="cs-CZ" sz="500" spc="-1" strike="noStrike">
                <a:solidFill>
                  <a:srgbClr val="000000"/>
                </a:solidFill>
                <a:latin typeface="Times New Roman"/>
              </a:rPr>
              <a:t>inventární karty majetku</a:t>
            </a:r>
            <a:r>
              <a:rPr b="0" lang="cs-CZ" sz="500" spc="-1" strike="noStrike">
                <a:solidFill>
                  <a:srgbClr val="000000"/>
                </a:solidFill>
                <a:latin typeface="Times New Roman"/>
              </a:rPr>
              <a:t>. Inventární karta majetku zpravidla obsahu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informace nejen o pořizovací ceně majetku a jejich jednotlivých složkách, ale též o počátku odpisován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bě odpisování majetku dle přiřazené odpisové skupiny a o sazbách pro účely výpočtu odpisů apod.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ále příjemce dokládá daňový odpisový plán.</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7</a:t>
            </a:r>
            <a:r>
              <a:rPr b="1" lang="cs-CZ" sz="500" spc="-1" strike="noStrike">
                <a:solidFill>
                  <a:srgbClr val="000000"/>
                </a:solidFill>
                <a:latin typeface="Times New Roman"/>
              </a:rPr>
              <a:t>	</a:t>
            </a:r>
            <a:r>
              <a:rPr b="1" lang="cs-CZ" sz="500" spc="-1" strike="noStrike">
                <a:solidFill>
                  <a:srgbClr val="000000"/>
                </a:solidFill>
                <a:latin typeface="Times New Roman"/>
              </a:rPr>
              <a:t>Poskytování záloh partnerů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partnerovi projektu poskytnout zálohu na realizaci aktivit, které partner provád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rámci projektu v rozsahu a za podmínek uvedených ve Smlouvě o partnerstv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8</a:t>
            </a:r>
            <a:r>
              <a:rPr b="1" lang="cs-CZ" sz="500" spc="-1" strike="noStrike">
                <a:solidFill>
                  <a:srgbClr val="000000"/>
                </a:solidFill>
                <a:latin typeface="Times New Roman"/>
              </a:rPr>
              <a:t>	</a:t>
            </a:r>
            <a:r>
              <a:rPr b="1" lang="cs-CZ" sz="500" spc="-1" strike="noStrike">
                <a:solidFill>
                  <a:srgbClr val="000000"/>
                </a:solidFill>
                <a:latin typeface="Times New Roman"/>
              </a:rPr>
              <a:t>Poklad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rámci projektu nemusí být vedena samostatná pokladna na drobné výdaje, není-li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Výdajové pokladní doklady související s realizací projektu musejí být evidován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soupisce účetních dokladů a doloženy kopiemi v přílohách těchto soupise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ud je samostatná pokladna projektu vedena, musí být vnitřním předpisem stanoven její pokladní limi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okud poskytovatel nestanoví jina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latby v hotovosti v jednom pracovním dni jednomu subjektu nesmějí překročit ekvivalent 15 000 EUR.</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bcházení tohoto zákazu dělením těchto plateb není na základě § 4 odst. 1 zákona č. 254/2004 Sb. přípust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9</a:t>
            </a:r>
            <a:r>
              <a:rPr b="1" lang="cs-CZ" sz="500" spc="-1" strike="noStrike">
                <a:solidFill>
                  <a:srgbClr val="000000"/>
                </a:solidFill>
                <a:latin typeface="Times New Roman"/>
              </a:rPr>
              <a:t>	</a:t>
            </a:r>
            <a:r>
              <a:rPr b="1" lang="cs-CZ" sz="500" spc="-1" strike="noStrike">
                <a:solidFill>
                  <a:srgbClr val="000000"/>
                </a:solidFill>
                <a:latin typeface="Times New Roman"/>
              </a:rPr>
              <a:t>Evidence a prokazování uskutečněného výda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daj musí skutečně vzniknout, být zaznamenán na účtech příjemce nebo jeho partnerů,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identifikovatelný a kontrolovatelný a musí být doložitelný originály účetních dokladů ve smysl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 11 zákona o účetnictví č. 563/1991 Sb., ve znění pozdějších předpisů, resp. originály jiný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ekvivalentní průkazní hodnot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ro tyto účely si příjemce může nechat vyrobit razítko se zkráceným názvem projektu a číslem registrač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 </a:t>
            </a:r>
            <a:r>
              <a:rPr b="0" lang="cs-CZ" sz="500" spc="-1" strike="noStrike">
                <a:solidFill>
                  <a:srgbClr val="000000"/>
                </a:solidFill>
                <a:latin typeface="Times New Roman"/>
              </a:rPr>
              <a:t>jde o uznatelný výdaj v rámci „kancelářských potř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ladní limit stanoví příjemce interním předpisem, případně je součástí např. organizačního řád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tanovení pokladního limitu se řídí hospodářskou potřebou hotovosti s přihlédnutím k bezpečnosti její úschov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p:txBody>
      </p:sp>
      <p:sp>
        <p:nvSpPr>
          <p:cNvPr id="24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68BCDA5-37C9-4EE3-804C-E317267FE64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96760" y="743040"/>
            <a:ext cx="4924440" cy="3693960"/>
          </a:xfrm>
          <a:prstGeom prst="rect">
            <a:avLst/>
          </a:prstGeom>
          <a:ln w="0">
            <a:noFill/>
          </a:ln>
        </p:spPr>
      </p:sp>
      <p:sp>
        <p:nvSpPr>
          <p:cNvPr id="25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e uvedené dokumenty (s výjimkou v případech zadání zakázky podle bodu 7.5 –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dy zadavatel předkládá pouze relevantní doklady), musí být jako doklad o proved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běrového řízení předloženy poskytovateli podpory, a to nejpozději společně s první žádost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 platbu po ukončení výběru obsahující prokazované způsobilé výdaje vztahující se 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ýběrovému řízení. Poskytovateli se předkládají se žádostí o platbu kopie uvedených dokumen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riginály uchovává příjemce a předkládá je na vyžádání kontrolním subjekt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902362A-5318-42BB-AF31-DF394C5F5BA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DEDE0BC-6F3F-47AB-986A-A35C6E6D09B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9"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76080" y="4686120"/>
            <a:ext cx="5763960" cy="4438440"/>
          </a:xfrm>
          <a:prstGeom prst="rect">
            <a:avLst/>
          </a:prstGeom>
          <a:noFill/>
          <a:ln w="0">
            <a:noFill/>
          </a:ln>
        </p:spPr>
        <p:txBody>
          <a:bodyPr lIns="0" rIns="0" tIns="358200" bIns="0" anchor="ctr" anchorCtr="1">
            <a:noAutofit/>
          </a:bodyPr>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Způsobilé výdaj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5.3.1</a:t>
            </a:r>
            <a:r>
              <a:rPr b="1" lang="cs-CZ" sz="600" spc="-1" strike="noStrike">
                <a:solidFill>
                  <a:srgbClr val="000000"/>
                </a:solidFill>
                <a:latin typeface="Times New Roman"/>
              </a:rPr>
              <a:t>	</a:t>
            </a:r>
            <a:r>
              <a:rPr b="1" lang="cs-CZ" sz="600" spc="-1" strike="noStrike">
                <a:solidFill>
                  <a:srgbClr val="000000"/>
                </a:solidFill>
                <a:latin typeface="Times New Roman"/>
              </a:rPr>
              <a:t>Definice způsobilých výdaj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působilé výdaje jsou výdaje, které byly uskutečněné v souladu s podmínkami stanovenými v právním ak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skytnutí podpory, a které jsou v souladu s příslušnými předpisy EU a ČR. T</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yto výdaje lze hradit z prostředků OP VK.</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způsobilých výdajů jsou podložena zejména následujícími základními legislativními předpisy:</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becné nařízení Rady č. 1083/2006, čl. 1, 56 a 78;</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0/2006 čl. 7 a čl. 13</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1/2006 čl. 11</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uznatelných výdajů pro programy spolufinancované ze strukturálních fondů a z Fondu soudržn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Evropské unie na programové období let 2007-2013“, která byla přijata Usnesením vlády č. 61, ze dne 24.ledna 2007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Metodická příručka způsobilých výdajů pro programy spolufinancované ze strukturálních fondů a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Fondu soudržnosti na programové období 2007-2013, MMR</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18/2000 Sb., o rozpočtových pravidlech a o změně některých souvisejících zákonů (rozpočtová pravidl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50/2000 Sb., o rozpočtových pravidlech územních rozpočt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320/2001 Sb., o finanční kontrole ve veřejné správě a o změně některých zákon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alší zákony – zákon č. 563/1991 Sb., o účetnictví, zákon č. 586/1992 Sb., o dani z příjmu, zákon č. 235/2004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dani z přidané hodnoty, zákon č. 582/1991 Sb., o organizaci a provádění sociálního zabezpečení, zákon č. 589/1992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jistném na sociální zabezpečení a příspěvku na státní politiku zaměstnanosti apo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Z prostředků OP VK mohou být financovány pouze tzv. </a:t>
            </a:r>
            <a:r>
              <a:rPr b="1" lang="cs-CZ" sz="600" spc="-1" strike="noStrike">
                <a:solidFill>
                  <a:srgbClr val="000000"/>
                </a:solidFill>
                <a:latin typeface="Times New Roman"/>
              </a:rPr>
              <a:t>způsobilé výdaje</a:t>
            </a:r>
            <a:r>
              <a:rPr b="0" lang="cs-CZ" sz="600" spc="-1" strike="noStrike">
                <a:solidFill>
                  <a:srgbClr val="000000"/>
                </a:solidFill>
                <a:latin typeface="Times New Roman"/>
              </a:rPr>
              <a:t>, které musejí splňovat následující kritéri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Charakter výdaje</a:t>
            </a:r>
            <a:r>
              <a:rPr b="0" lang="cs-CZ" sz="600" spc="-1" strike="noStrike">
                <a:solidFill>
                  <a:srgbClr val="000000"/>
                </a:solidFill>
                <a:latin typeface="Times New Roman"/>
              </a:rPr>
              <a:t> – výdaje musejí být </a:t>
            </a:r>
            <a:r>
              <a:rPr b="1" lang="cs-CZ" sz="600" spc="-1" strike="noStrike">
                <a:solidFill>
                  <a:srgbClr val="000000"/>
                </a:solidFill>
                <a:latin typeface="Times New Roman"/>
              </a:rPr>
              <a:t>přiměřené</a:t>
            </a:r>
            <a:r>
              <a:rPr b="0" lang="cs-CZ" sz="600" spc="-1" strike="noStrike">
                <a:solidFill>
                  <a:srgbClr val="000000"/>
                </a:solidFill>
                <a:latin typeface="Times New Roman"/>
              </a:rPr>
              <a:t> (musejí odpovídat cenám v místě, oboru a čase obvyklým) a musejí být vynaloženy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 souladu s principy </a:t>
            </a:r>
            <a:r>
              <a:rPr b="1" lang="cs-CZ" sz="600" spc="-1" strike="noStrike">
                <a:solidFill>
                  <a:srgbClr val="000000"/>
                </a:solidFill>
                <a:latin typeface="Times New Roman"/>
              </a:rPr>
              <a:t>hospodárnosti</a:t>
            </a:r>
            <a:r>
              <a:rPr b="0" lang="cs-CZ" sz="600" spc="-1" strike="noStrike">
                <a:solidFill>
                  <a:srgbClr val="000000"/>
                </a:solidFill>
                <a:latin typeface="Times New Roman"/>
              </a:rPr>
              <a:t> (minimalizace výdajů při respektování cílů projektu), </a:t>
            </a:r>
            <a:r>
              <a:rPr b="1" lang="cs-CZ" sz="600" spc="-1" strike="noStrike">
                <a:solidFill>
                  <a:srgbClr val="000000"/>
                </a:solidFill>
                <a:latin typeface="Times New Roman"/>
              </a:rPr>
              <a:t>účelnosti</a:t>
            </a:r>
            <a:r>
              <a:rPr b="0" lang="cs-CZ" sz="600" spc="-1" strike="noStrike">
                <a:solidFill>
                  <a:srgbClr val="000000"/>
                </a:solidFill>
                <a:latin typeface="Times New Roman"/>
              </a:rPr>
              <a:t> (přímá vazba na projekt a nezbytnost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o realizaci projektu) a </a:t>
            </a:r>
            <a:r>
              <a:rPr b="1" lang="cs-CZ" sz="600" spc="-1" strike="noStrike">
                <a:solidFill>
                  <a:srgbClr val="000000"/>
                </a:solidFill>
                <a:latin typeface="Times New Roman"/>
              </a:rPr>
              <a:t>efektivnosti</a:t>
            </a:r>
            <a:r>
              <a:rPr b="0" lang="cs-CZ" sz="600" spc="-1" strike="noStrike">
                <a:solidFill>
                  <a:srgbClr val="000000"/>
                </a:solidFill>
                <a:latin typeface="Times New Roman"/>
              </a:rPr>
              <a:t> (maximalizace poměru mezi výstupy a vstupy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1" lang="cs-CZ" sz="600" spc="-1" strike="noStrike">
                <a:solidFill>
                  <a:srgbClr val="000000"/>
                </a:solidFill>
                <a:latin typeface="Times New Roman"/>
              </a:rPr>
              <a:t>Účel výdaje</a:t>
            </a:r>
            <a:r>
              <a:rPr b="0" lang="cs-CZ" sz="600" spc="-1" strike="noStrike">
                <a:solidFill>
                  <a:srgbClr val="000000"/>
                </a:solidFill>
                <a:latin typeface="Times New Roman"/>
              </a:rPr>
              <a:t> – výdaje musejí být uskutečněny na typy činností, které odpovídají požadavkům stanoveným OP VK, v prováděcím dokumen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P VK, resp. požadavkům konkrétní výzvy k předkládání žádostí, a musejí být prokazatelně vynaloženy na aktivity v souladu s obsaho</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ou stránkou a cíli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Prokazatelnost výdaje</a:t>
            </a:r>
            <a:r>
              <a:rPr b="0" lang="cs-CZ" sz="600" spc="-1" strike="noStrike">
                <a:solidFill>
                  <a:srgbClr val="000000"/>
                </a:solidFill>
                <a:latin typeface="Times New Roman"/>
              </a:rPr>
              <a:t> – výdaje musejí být identifikovatelné a prokazatelné a musejí být doložitelné potvrzenými účetními doklady, tzn. musejí</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být definitivní, odpovídajícím způsobem a v souladu s požadavky české legislativy zachycené v účetnictví nebo daňové evidenci příjemce dotace 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jeho případných partnerů. Výdaje musejí být zaplaceny a zaplacení musí být doloženo výpisem z projektového účtu nebo výdajovým pokladním 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kladem (s výjimkou odpisů, nepřímých výdajů a režijních nákladů. Režijní náklady budou vyúčtovány na základě skutečných vyúčtování od dodavat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lů. Do způsobilých výdajů se budou režijní náklady zahrnovat na základě vyúčtování od dodavatelů, nebo na základě záloh);</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Datum uskutečnění výdaje</a:t>
            </a:r>
            <a:r>
              <a:rPr b="0" lang="cs-CZ" sz="600" spc="-1" strike="noStrike">
                <a:solidFill>
                  <a:srgbClr val="000000"/>
                </a:solidFill>
                <a:latin typeface="Times New Roman"/>
              </a:rPr>
              <a:t> – výdaje musejí vzniknout a být uhrazeny v průběhu realizace projektu. Nebude-li v Rozhodnutí o poskytnutí dotace/Opatření Vrchního ředitele/ve Smlouvě o realizaci GP uvedeno jinak, jsou výdaje způsobilé od data zahájení realizace projektu stanoveného ve právním aktu o poskytnutí podpory, nejdříve však od data podpisu Smlouvy o realizaci grantového projektu nebo vydáním Rozhodnutí o poskytnutí dotace/Opatření Vrchního ředitel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ouvisející s projektem, vzniklé před vydáním Rozhodnutí o poskytnutí dotace/Opatření Vrchního ředitele nebo před uzavřením Smlouvy o realizaci GP nebo před okamžikem účinnosti dvoustranné smlouvy, jsou způsobilé pouze v případě, že je tak stanoveno v daném právním dokumentu a současně za předpokladu, že splňují další podmínky způsobil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prokazatelně související s realizací projektu, uskutečněné až po ukončení realizace projektu – např. mzdy nebo výdaje na místní kancelář, audit a další výdaje projektu, které budou uhrazeny až po ukončení realizace projektu, jsou způsobilé, pokud budou prokázány jako skutečně vynaložené způsobilé výdaje v závěrečné zprávě a v závěrečném vyúčtování projektu. Výjimkou jsou pouze odpisy, pokud spadají mezi způsobilé výdaje, u nichž nemusí být splněno kritérium data uskutečnění výdaj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pojené s pořizováním zařízení a vybavení, příp. spotřebního materiálu, které jsou realizovány v období krátce před ukončením projektu, musejí být prokazatelně využitelné pro práci s cílovou skupinou nebo musí prokazatelně sloužit pro dokončení realizace projektu nebo jeho závěrečného vypořádání. Pokud zařízení, vybavení nebo spotřební materiál pro realizaci projektu nebudou zakoupeny s dostatečným časovým předstihem před ukončením projektu či nebudou prokazatelně nutné pro ukončení projektu (bude se jednat o neopodstatněný výdaj), nebude poskytovatelem podpory tento výdaj uznán jako způsobilý, i když je součástí schváleného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održování všech těchto kritérií na straně příjemce dotace z OP VK je vždy předmětem kontroly projektu (v rámci pravidelného monitorování nebo kontrol na místě).</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V případě, že poskytovatel podpory dojde na základě těchto kontrol projektu k závěru, že prokázaný výdaj nesplňuje některé z kritérií, neuzná tento výdaj jako způsobilý, a to i v případě, že tento výdaj je uveden ve schváleném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4021BBF-09BD-4814-B779-AA574E0623B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2"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00" spc="-1" strike="noStrike">
                <a:solidFill>
                  <a:srgbClr val="000000"/>
                </a:solidFill>
                <a:latin typeface="Times New Roman"/>
              </a:rPr>
              <a:t>Nezpůsobilé výdaje</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ové výdaje, které nelze hradit z veřejných prostředků OP VK.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Tyto výdaje, v případě, že vzniknou, hradí příjemce dotace z vlastních prostředků.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é výdaje, které nejsou vynaloženy v souladu s cíli projektu a současně</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jsou pro jejich dosažení nezbytné.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ále se jedná o výdaje, které nejsou přiměřené a nejsou vynaloženy v souladu s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incipem hospodárnosti a efektivnosti nebo v souladu s evropskou nebo českou legislativou.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 případě, že poskytovatel podpory vyhodnotí výdaj projektu jako nehospodárný a neefektivní, a to i v případě, že tento výdaj je součástí schváleného rozpočtu projektu, bude tento výdaj považován za nezpůsobilý a nebude příjemci po</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pory v rámci žádosti o platbu proplacen (jedná se zejména o případy neopodstatněných nákupů zařízení nebo služeb před ukončením projektu nebo nákup služeb za ceny, které sice byly uvedeny ve schváleném rozpočtu projektu, příjemce k</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nim však nedoložil požadované dokumenty týkající se zadání zakázky).</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říspěvek z OP VK</a:t>
            </a:r>
            <a:r>
              <a:rPr b="1" lang="cs-CZ" sz="400" spc="-1" strike="noStrike">
                <a:solidFill>
                  <a:srgbClr val="000000"/>
                </a:solidFill>
                <a:latin typeface="Times New Roman"/>
              </a:rPr>
              <a:t> nelze</a:t>
            </a:r>
            <a:r>
              <a:rPr b="0" lang="cs-CZ" sz="400" spc="-1" strike="noStrike">
                <a:solidFill>
                  <a:srgbClr val="000000"/>
                </a:solidFill>
                <a:latin typeface="Times New Roman"/>
              </a:rPr>
              <a:t> poskytnout na tyto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rekvalifikací pro uchazeče a zájemce o zaměstnání realizovaných ve spolupráci s úřady prá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účastník v rámci projektu tuto zkoušku skládá/usiluje o získání certifikátu na druhý nebo další pokus;</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jejichž složení je nedílnou součástí příslušných vzdělávacích programů počátečního vzdělá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skládání zkoušky (pokus o získání certifikátu) nenavazuje na vzdělávací aktivitu, které se zájemce o zkoušku/certifikát účastnil v rámci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aň z přidané hodnoty (DPH) nebo její část, pokud existuje zákonný nárok na její odpočet (pokud je příjemce plátcem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úroky z úvěrů a půjček, pokud se nejedná o schválenou formu podpory z fondu ESF;</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ankční poplatky, pokuty a penále, případně další sankční výdaje (vyplývající ze smluv nebo dalších příčin), stornovací poplat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rávní a místní poplatky, které nemají přímou vazbu na projekt a nejsou výslovně stanoveny Řídícím orgánem (výpis z katastru nemovitostí, výpis z obchodního rejstřík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na audit v případě projektů s rozpočtem nižším než 3 mil. Kč včetně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upy nábytku nebo vybavení, vozidel, infrastruktury, nemovitostí a pozemků;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mzdové náklady zaměstnanců, kteří se na realizaci projektu nepodíle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u zaměstnanců, kteří se na realizaci projektu podílejí, alikvotní část osobních nákladů, která neodpovídá pracovnímu vytížení zaměstnance na daném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vzniklé mimo časový rámec způsobilosti výdajů (výjimku tvoří výdaje, které byly uskutečněny po ukončení projektu, ale věcně s obdobím, v němž se projekt realizoval, souvisejí – např. závěrečný audit, telefonní účty – za období, kdy se projekt realizoval, doručené a zaplacené po jeho ukončení, bankovní poplatky za vedení samostatného účtu projektu, mzdové náklady za poslední měsíc realizace projektu). Příslušné účetní doklady musejí být předloženy nejpozději se závěrečnou žádostí o platb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edení běžného provozního účtu organizace a bankovní poplatky související s tímto účtem (pokud nevyplývají z právního a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iné přímé daně (silniční daň, daň z nemovitostí, daň darovací, daň dědická, cla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které jsou součástí likvidace společnosti, nedobytné pohledávky a ji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dstup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latby příspěvků do soukromých penzijních fond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eněžitá pomoc v mateřstv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statní sociální výdaje na zaměstnance, ke kterým nejsou zaměstnavatelé povinni dle zvláštních právních předpisů (příspěvky na penzijní připojištění, životní pojištění, dary k životním jubileím, příspěvky na rekreaci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dobytné pohledáv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jemné, kdy je příjemce vlastníkem nemovitosti nebo ji užívá zdarma;</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ebetní úroky (úrok z dlužné částky), výdaje směnečné a jiné čistě finanční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přípravou projektu a řízením projektu (platby konzultantům, kteří pomáhají s vyplňováním žádostí o finanční podporu z OP VK, zpracováním monitorovacích zpráv a žádostí o platby) v případě, že se jedná o externí dodavatel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administrací veřejných zakázek malého rozsahu, jejichž zadání se neřídí zákonem č. 137/2006 Sb., o veřejných zakázkách, ale postupy stanovenými Příručkou pro příjem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převyšující nabídkovou cenu (tzv. vícenáklady) uvedenou v nabídce, na základě jejíhož předložení byl dodavatel vysoutěžen;</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smlouvy o splátkovém prodeji;</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část pořizovací ceny přesahující cenu zjištěnou znaleckým posudkem nebo přesahující cenu v místě a čase obvyklo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žijní náklady</a:t>
            </a:r>
            <a:r>
              <a:rPr b="1" i="1" lang="cs-CZ" sz="400" spc="-1" strike="noStrike">
                <a:solidFill>
                  <a:srgbClr val="000000"/>
                </a:solidFill>
                <a:latin typeface="Times New Roman"/>
              </a:rPr>
              <a:t> </a:t>
            </a:r>
            <a:r>
              <a:rPr b="0" lang="cs-CZ" sz="400" spc="-1" strike="noStrike">
                <a:solidFill>
                  <a:srgbClr val="000000"/>
                </a:solidFill>
                <a:latin typeface="Times New Roman"/>
              </a:rPr>
              <a:t>vztahující se k všeobecnému provozu organizace bez vazby na projekt;</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odpovídající svým vymezením kategorii mimořádných nákladů (např. oprava nákladů minulých účetních období, vyúčtování nároku zaměstnanců na odstupné při reorganizaci, odškodnění při pracovních úrazech, výdaje, kterými nájemce podle smlouvy uvádí po skončení nájmu najatou věc do předešlého stav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mlouvy s dodavateli (eventuálně dodávky na základě vystavené objednávky), kter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nepřinášejí navýšení přidané hodnoty projekt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sou uzavřeny s konzultanty nebo zprostředkovateli, u nichž je platba definována jako procentní sazba z celkových nákladů projektu, pokud tato platba není potvrzena příjemcem s odkazem na skutečnou hodnotu poskytnuté práce či služb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jsou více než dvojúrovňové (např. smlouvy o zprostředko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zervy na možné budoucí ztráty a dluh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kurzové ztrát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finančního leasingu;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operativního leasingu související s nájmem vybavení a zařízení, která nebudou výhradně využívána pro potřeby cílové skupiny (např. vozidel pro potřeby realizačního týmu) a leasingový vztah s volným/otevřeným koncem leasingové smlouvy umožňujícím odkup vybavení a zařízení za zůstatkovou cen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tipendia nebo platby cílové skupině podobného charakter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ostředky na tvorbu FKSP za pracovníky, kteří jsou v rámci projektu hrazeni podle metodiky nepřímých nákladů, výdaje na běžné provozní náklady organizace, které nesouvisejí s realizací projektu – tj. zajištění běžného chodu organizace – každodenní řízení, monitorování a kontroly příjemce (nesouvisející přímo s projektem – prováděly by se i bez jeho realiza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za činnosti, které již v rámci jiných českých nebo zahraničních dotačních programů či Iniciativ Společenství financovaných z ESF či jiných programů financovaných Evropskou unií podporu dostáva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platí pro oblast podpory 3.1</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výzva nestanoví jinak.</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nábytek nebo vybavení nejsou financovány v rámci křížového financování a nejedná se o položky uvedené v části „</a:t>
            </a:r>
            <a:r>
              <a:rPr b="0" lang="cs-CZ" sz="400" spc="-1" strike="noStrike" u="sng">
                <a:solidFill>
                  <a:srgbClr val="ccccff"/>
                </a:solidFill>
                <a:uFillTx/>
                <a:latin typeface="Times New Roman"/>
                <a:hlinkClick r:id="rId1"/>
              </a:rPr>
              <a:t>nábytkem</a:t>
            </a:r>
            <a:r>
              <a:rPr b="0" lang="cs-CZ" sz="400" spc="-1" strike="noStrike">
                <a:solidFill>
                  <a:srgbClr val="000000"/>
                </a:solidFill>
                <a:latin typeface="Times New Roman"/>
              </a:rPr>
              <a:t> nejsou“.</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D344A47-1FCD-42D2-A745-69291A559A7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5"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u="sng">
                <a:solidFill>
                  <a:srgbClr val="000000"/>
                </a:solidFill>
                <a:uFillTx/>
                <a:latin typeface="Times New Roman"/>
              </a:rPr>
              <a:t>5.3.2.1</a:t>
            </a:r>
            <a:r>
              <a:rPr b="1" i="1" lang="cs-CZ" sz="1200" spc="-1" strike="noStrike" u="sng">
                <a:solidFill>
                  <a:srgbClr val="000000"/>
                </a:solidFill>
                <a:uFillTx/>
                <a:latin typeface="Times New Roman"/>
              </a:rPr>
              <a:t>	</a:t>
            </a:r>
            <a:r>
              <a:rPr b="1" i="1" lang="cs-CZ" sz="1200" spc="-1" strike="noStrike" u="sng">
                <a:solidFill>
                  <a:srgbClr val="000000"/>
                </a:solidFill>
                <a:uFillTx/>
                <a:latin typeface="Times New Roman"/>
              </a:rPr>
              <a:t>Kapitola rozpočtu 1 – Osobní výdaje související s realizac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d zahájením realizace projektu je nutné, aby příjemce a jeho partneři stanovili nebo jmenoval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tým projektu a aby s pracovníky byl včas uzavřen smluvní vztah, který bude definovat jejic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pojení v rámci projektu (pracovní smlouva, dodatek k pracovní smlouvě, dohoda o provedení prá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ohoda o pracovní činnosti, případně licenční smlouva). Včasné uzavření těchto smluvních vztahů 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třebné v souvislosti se zajištěním hladkého začátku realizace projektu, s čerpáním finanční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rostředků z rozpočtu projektu a v neposlední řadě také pro zajištění včasného přihláš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ků k zákonným odvod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této kapitole rozpočtu jsou způsobilými výdaji rozuměny pouze osobní výdaje pracovní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ří jsou přímo zapojeni do realizace projektu a podílejí se na ní v rámci organizace příjem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partnera projektu. Jsou tedy tzv. „zaměstnanci“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43040"/>
            <a:ext cx="4924440" cy="3693960"/>
          </a:xfrm>
          <a:prstGeom prst="rect">
            <a:avLst/>
          </a:prstGeom>
          <a:ln w="0">
            <a:noFill/>
          </a:ln>
        </p:spPr>
      </p:sp>
      <p:sp>
        <p:nvSpPr>
          <p:cNvPr id="18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acovní smlouva, dohoda o pracovní činnosti a dohoda o provedení práce, 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smlouvy a dohody o pracích konaných mimo pracovní poměr musejí být uzavřeny v souladu 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íkem práce a obsahovat všechny náležitosti pracovní smlouvy podle tohoto záko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ále povinně musejí obsahov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dentifikaci projektu, do kterého je pracovník zapoj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pis pracovní činnosti relevantní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sah činnosti, tzn. úvazek či počet hodin za časovou jednotku (měsíc, rok apo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i odmě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em stanovené náležit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vinnost odevzdávat pracovní výkaz (měsíč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F222C95-C4CD-4D78-9486-2032ABD0B28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43040"/>
            <a:ext cx="4924440" cy="3693960"/>
          </a:xfrm>
          <a:prstGeom prst="rect">
            <a:avLst/>
          </a:prstGeom>
          <a:ln w="0">
            <a:noFill/>
          </a:ln>
        </p:spPr>
      </p:sp>
      <p:sp>
        <p:nvSpPr>
          <p:cNvPr id="19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u="sng">
                <a:solidFill>
                  <a:srgbClr val="000000"/>
                </a:solidFill>
                <a:uFillTx/>
                <a:latin typeface="Times New Roman"/>
              </a:rPr>
              <a:t>Způsobilé osobní výdaje</a:t>
            </a:r>
            <a:r>
              <a:rPr b="0" lang="cs-CZ" sz="1200" spc="-1" strike="noStrike">
                <a:solidFill>
                  <a:srgbClr val="000000"/>
                </a:solidFill>
                <a:latin typeface="Times New Roman"/>
              </a:rPr>
              <a:t> tedy zahrnuj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mzdové výdaje pracovníků, kteří mají v rámci projektu uzavřen pracovněprávní vzta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jsou zaměstnáni výhradně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slušnou část mezd nebo platů zaměstnanců, kteří se na realizaci projektu podílejí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částí svého úvazku, a to ve výši odpovídající jejich úvazku na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e na odměnu zaměstnanců, kteří jsou v rámci projektu zaměstn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dohodu o pracovní činnosti nebo dohodu o provedení prá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né odvody na sociální a zdravotní pojištění hrazené zaměstnavatel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ná pojištění a zákonné odvody a náhra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5F0067F-4F7F-484A-A1A8-9E670ECC485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43040"/>
            <a:ext cx="4924440" cy="3693960"/>
          </a:xfrm>
          <a:prstGeom prst="rect">
            <a:avLst/>
          </a:prstGeom>
          <a:ln w="0">
            <a:noFill/>
          </a:ln>
        </p:spPr>
      </p:sp>
      <p:sp>
        <p:nvSpPr>
          <p:cNvPr id="19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Osobní výdaje musejí odpovídat nominálním mzdám, resp. platům a zákonným odvo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 sociální a zdravotní pojištění hrazeným zaměstnavatelem a případně dalším nákla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ným zákonem nebo jiným právním předpisem (základní mzda nebo plat, příplat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 doplatky ke mzdě nebo platu, prémie a odměny, náhrady mezd a platů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apř. za dovolenou, za práci ve státem uznaný svátek, odměny za pracovní pohotovost, jiné složky mzdy nebo platu, odvody zaměstnavatele na sociální a zdravotní pojištění, náhrada mzdy za pracovní neschopnost v souladu s platnou legislativou (snížená o případný nárok na refundaci ze strany státu) a další poplatky spojené se zaměstnancem hrazené zaměstnavatelem povinně ze zákona). Jedná se tedy o hrubou mzdu včetně všech zákonných odvodů hrazených zaměstnavatelem a dále povinné výdaje vyplývající z právních předpisů, např. zákonné pojištění odpovědnosti zaměstnavatele za škodu při pracovním úrazu nebo nemoci z povolání, FKSP,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vody do Fondu kulturních a sociálních potřeb podle vyhlášky MF č. 114/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klady na odvody do Fondu kulturních a sociálních potřeb (FKSP) </a:t>
            </a:r>
            <a:r>
              <a:rPr b="0" lang="cs-CZ" sz="800" spc="-1" strike="noStrike">
                <a:solidFill>
                  <a:srgbClr val="000000"/>
                </a:solidFill>
                <a:latin typeface="Times New Roman"/>
              </a:rPr>
              <a:t>jsou uznatelné jen u těch příjemců / partnerů, kteří jsou organizační složkou státu, státní příspěvkovou organizací a nebo příspěvkovou organizací zřízenou územními samosprávnými celky, kterým ukládá vyhláška MF č. 114/2002 Sb. o Fondu kulturních a sociálních potřeb (FKSP) odvádět do FKSP základní příděl ve výši 2% z ročního objemu nákladů zúčtovaných na platy a náhrady platů, popřípadě na mzdy a náhrady mzdy a odměny za pracovní pohotovost a dále na odměny a ostatní plnění za práci vykonávanou v rámci odborného výcviku na produktivních činnostech žákům učilišť.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na odvody do FKSP nemohou uplatnit příjemci, kterým vyhláška MF č. 114/2002 Sb. o Fondu kulturních a sociálních potřeb (FKSP) tuto povinnost neukládá.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je v rámci projektu využita metodika nepřímých nákladů, pak lze náklady na plnění fondu FKSP uplatnit jen vzhledem k pracovníkům, jejichž mzdy/platy/odměny jsou hrazeny v rámci přímých náklad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še mzdových výdajů nesmí přesahovat výši v  místě realizace projektu, oboru a čase obvyklou. Doporučující výše mzdových nákladů jsou uvedeny v Metodickém dopise č. 4 uveřejněném na stránkách </a:t>
            </a:r>
            <a:r>
              <a:rPr b="0" lang="cs-CZ" sz="800" spc="-1" strike="noStrike" u="sng">
                <a:solidFill>
                  <a:srgbClr val="ccccff"/>
                </a:solidFill>
                <a:uFillTx/>
                <a:latin typeface="Times New Roman"/>
                <a:hlinkClick r:id="rId1"/>
              </a:rPr>
              <a:t>www.msmt.cz</a:t>
            </a:r>
            <a:r>
              <a:rPr b="1" lang="cs-CZ" sz="800" spc="-1" strike="noStrike">
                <a:solidFill>
                  <a:srgbClr val="000000"/>
                </a:solidFill>
                <a:latin typeface="Times New Roman"/>
              </a:rPr>
              <a:t> .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 v případě těchto výdajů platí, že se musí jednat o skutečně vynaložené výdaje, příjemce dotace a případní partneři proto musejí dokládat vynaložení těchto výdajů odpovídajícími doklady (smlouva upravující pracovněprávní vztah, měsíční pracovní výkaz, výplatní listina/výplatní páska, mzdový list, výpis z účtu projektu nebo výdajový dokla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zaměstnanec příjemce nebo partnera podílí na aktivitách projektu pouze částí svého pracovního úvazku, </a:t>
            </a:r>
            <a:r>
              <a:rPr b="1" lang="cs-CZ" sz="800" spc="-1" strike="noStrike">
                <a:solidFill>
                  <a:srgbClr val="000000"/>
                </a:solidFill>
                <a:latin typeface="Times New Roman"/>
              </a:rPr>
              <a:t>musí být tento úvazek specifikován v jeho pracovní smlouvě</a:t>
            </a:r>
            <a:r>
              <a:rPr b="0" lang="cs-CZ" sz="800" spc="-1" strike="noStrike">
                <a:solidFill>
                  <a:srgbClr val="000000"/>
                </a:solidFill>
                <a:latin typeface="Times New Roman"/>
              </a:rPr>
              <a:t> (případně v jiném typu smlouvy) a způsobilým výdajem může být v tomto případě pouze odpovídající část jeho mzdových náklad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ci příjemce a partnera projektu v případě kontinuálních pracovních činností prokazují své zapojení v projektu </a:t>
            </a:r>
            <a:r>
              <a:rPr b="1" lang="cs-CZ" sz="800" spc="-1" strike="noStrike">
                <a:solidFill>
                  <a:srgbClr val="000000"/>
                </a:solidFill>
                <a:latin typeface="Times New Roman"/>
              </a:rPr>
              <a:t>pracovním výkazem</a:t>
            </a:r>
            <a:r>
              <a:rPr b="0" lang="cs-CZ" sz="800" spc="-1" strike="noStrike">
                <a:solidFill>
                  <a:srgbClr val="000000"/>
                </a:solidFill>
                <a:latin typeface="Times New Roman"/>
              </a:rPr>
              <a:t>. Nejvhodnější formou pro vykazování práce odvedené při realizaci projektových aktivit je </a:t>
            </a:r>
            <a:r>
              <a:rPr b="1" lang="cs-CZ" sz="800" spc="-1" strike="noStrike">
                <a:solidFill>
                  <a:srgbClr val="000000"/>
                </a:solidFill>
                <a:latin typeface="Times New Roman"/>
              </a:rPr>
              <a:t>měsíční souhrn – pracovní výkaz</a:t>
            </a:r>
            <a:r>
              <a:rPr b="0" lang="cs-CZ"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výkazy nevykazují pracovníci, jimž je odměna hrazena v rámci autorského honoráře. </a:t>
            </a:r>
            <a:endParaRPr b="0" lang="en-US" sz="800" spc="-1" strike="noStrike">
              <a:solidFill>
                <a:srgbClr val="000000"/>
              </a:solidFill>
              <a:latin typeface="Times New Roman"/>
            </a:endParaRPr>
          </a:p>
        </p:txBody>
      </p:sp>
      <p:sp>
        <p:nvSpPr>
          <p:cNvPr id="19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27C0B7B-8C4B-488D-98A6-8BA720A9BBE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0CB5D-40C7-483D-BAB6-603AA58E1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29D85-8AF5-4698-AEE3-D74B7D30A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02C58-083A-40A6-B91E-5B48F814E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5678E-AA3C-4E19-8630-9F82F0A63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1D735-CD22-4B29-B7B1-9276F1257A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E1ACC-F387-45CB-8D69-49E6E88BD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BBE15-8934-4434-AB6A-DAB7632E0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C9A45-1855-499C-B66C-3A26AE0D7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8DB73-7645-4C1C-B37A-83548442B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40B05-10FF-4612-864F-63EDB1C8F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02070-CFFB-4B30-BD12-87F04F11B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A675B-B115-49A2-BBCC-C86F341B3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C0BB7-555B-4567-A96E-B8A3D8CCC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C6570-15E6-4023-8772-7B46B68F0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53CA0-2B1D-4184-9C14-C082A63B1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ACF49-707C-4039-A327-4A46D94F4C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D31B7-5233-4EC1-B03B-A9A83AEF2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D038F-07E7-499B-9B81-398C3478D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CBFC0-EA4F-4A89-9821-73BA262BA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1E8C7-665D-4CF9-9D20-269D9A885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34709-4FAC-47D8-B9A2-2619AC7F6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0F8F9-62C5-4D5E-94EF-19151DB9D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ECEA5-ACA6-46D4-BB39-86D9785E0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A24AC-3DE0-4547-A7A8-47A8494D4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2F66EA6-713E-492E-898E-F985647E0A83}"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25440" y="2565360"/>
            <a:ext cx="1447920" cy="4124520"/>
          </a:xfrm>
          <a:prstGeom prst="rect">
            <a:avLst/>
          </a:prstGeom>
          <a:ln w="0">
            <a:noFill/>
          </a:ln>
        </p:spPr>
      </p:pic>
      <p:sp>
        <p:nvSpPr>
          <p:cNvPr id="4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524B6FD-87CE-4401-8DFB-33F1D65B52C1}"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ena.barborakova@msmt.cz"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0" y="2065320"/>
            <a:ext cx="8143920" cy="39290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finančního řízení</a:t>
            </a:r>
            <a:br>
              <a:rPr sz="4400"/>
            </a:br>
            <a:br>
              <a:rPr sz="4400"/>
            </a:br>
            <a:br>
              <a:rPr sz="2000"/>
            </a:br>
            <a:r>
              <a:rPr b="1" lang="cs-CZ" sz="3200" spc="-1" strike="noStrike">
                <a:solidFill>
                  <a:srgbClr val="f3912c"/>
                </a:solidFill>
                <a:latin typeface="Arial"/>
              </a:rPr>
              <a:t>Ing. Helena Viktorie Barbořáková</a:t>
            </a:r>
            <a:br>
              <a:rPr sz="3200"/>
            </a:br>
            <a:br>
              <a:rPr sz="3200"/>
            </a:br>
            <a:r>
              <a:rPr b="1" lang="cs-CZ" sz="1600" spc="-1" strike="noStrike">
                <a:solidFill>
                  <a:srgbClr val="f3912c"/>
                </a:solidFill>
                <a:latin typeface="Arial"/>
              </a:rPr>
              <a:t>Prezentace pro příjemce IPo, kteří se řídí Příručkou pro příjemce fin. podpory z      OP VK, verze 3, učinná od 3. 10. 2009.</a:t>
            </a:r>
            <a:endParaRPr b="0" lang="en-US" sz="1600" spc="-1" strike="noStrike">
              <a:solidFill>
                <a:srgbClr val="000000"/>
              </a:solidFill>
              <a:latin typeface="Arial"/>
            </a:endParaRPr>
          </a:p>
        </p:txBody>
      </p:sp>
      <p:sp>
        <p:nvSpPr>
          <p:cNvPr id="92"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1" name="PlaceHolder 2"/>
          <p:cNvSpPr>
            <a:spLocks noGrp="1"/>
          </p:cNvSpPr>
          <p:nvPr>
            <p:ph/>
          </p:nvPr>
        </p:nvSpPr>
        <p:spPr>
          <a:xfrm>
            <a:off x="1976400" y="1707840"/>
            <a:ext cx="7778880" cy="50958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Čerpání osobních nákladů</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Jednotkové mzdy, které jsou stanovené ve schváleném rozpočtu projektu v závislosti na pracovní pozici a typu pracovního poměru hodinovou sazbou nebo měsíční sazbou, jsou </a:t>
            </a:r>
            <a:r>
              <a:rPr b="1" lang="cs-CZ" sz="2200" spc="-1" strike="noStrike">
                <a:solidFill>
                  <a:srgbClr val="000000"/>
                </a:solidFill>
                <a:latin typeface="Arial"/>
              </a:rPr>
              <a:t>průměrovými ukazateli </a:t>
            </a:r>
            <a:r>
              <a:rPr b="0" lang="cs-CZ" sz="2200" spc="-1" strike="noStrike">
                <a:solidFill>
                  <a:srgbClr val="000000"/>
                </a:solidFill>
                <a:latin typeface="Arial"/>
              </a:rPr>
              <a:t>a jsou po celou dobu realizace projektu závazné. Pro možnost využívání motivačních prvků v odměňování zaměstnanců lze tyto prostředky určené na jednotlivé pracovní pozice čerpat během doby realizace projektu nerovnoměrn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9360" y="421920"/>
            <a:ext cx="8541000" cy="571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3" name="PlaceHolder 2"/>
          <p:cNvSpPr>
            <a:spLocks noGrp="1"/>
          </p:cNvSpPr>
          <p:nvPr>
            <p:ph/>
          </p:nvPr>
        </p:nvSpPr>
        <p:spPr>
          <a:xfrm>
            <a:off x="1611360" y="1351080"/>
            <a:ext cx="8469360" cy="59292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í výkaz musí minimálně obsahovat</a:t>
            </a:r>
            <a:endParaRPr b="0" lang="en-US" sz="3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dentifikaci projektu</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zev subjektu (příjemce/partner)</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noznačnou identifikaci pracovníka a zastávané funk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é vymezení (měsíc a rok, ve kterém byla činnost prováděn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údaje o úvazku v projektu, případně o zapojení do dalších projektů v téže organizaci</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ý rozsah práce dle smlouvy a popis činností, které jsou vykonávány v rámci projektu v jednotlivých dnech konkrétního měsí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opis činností musí být podrobně zpracován vzhledem ke konkrétním prováděným činnostem, nestačí obecné formulace typu „administrativní práce“ nebo „vedení projektu“</a:t>
            </a:r>
            <a:endParaRPr b="0" lang="en-US" sz="2200" spc="-1" strike="noStrike">
              <a:solidFill>
                <a:srgbClr val="000000"/>
              </a:solidFill>
              <a:latin typeface="Arial"/>
            </a:endParaRPr>
          </a:p>
          <a:p>
            <a:pPr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5" name="PlaceHolder 2"/>
          <p:cNvSpPr>
            <a:spLocks noGrp="1"/>
          </p:cNvSpPr>
          <p:nvPr>
            <p:ph/>
          </p:nvPr>
        </p:nvSpPr>
        <p:spPr>
          <a:xfrm>
            <a:off x="1754280" y="1422360"/>
            <a:ext cx="7929360" cy="55720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 </a:t>
            </a:r>
            <a:r>
              <a:rPr b="1" lang="cs-CZ" sz="3200" spc="-1" strike="noStrike">
                <a:solidFill>
                  <a:srgbClr val="000000"/>
                </a:solidFill>
                <a:latin typeface="Arial"/>
              </a:rPr>
              <a:t>Dokladování</a:t>
            </a:r>
            <a:endParaRPr b="0" lang="en-US" sz="3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smlouvami (nebo odpovídajícími typy smluv) v monitorovací zprávě projektu, ve které budou odpovídající osobní výdaje daného pracovníka poprvé uplatňován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latní listinou nebo výplatní páskou zapojených pracovníků, případně mzdovými list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isem z projektového účtu/z provozního účtu organizace, ve kterém jsou identifikované převody výplat jednotlivým pracovníkům a převody zákonných odvodů a daní</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výkazy za jednotlivé pracovník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rozpisem mzdových nákladů pracovníků projektu</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mi doklady, které jsou v souladu s platnou legislativou (výdajové pokladní doklady u mzdy vyplácené v hotovosti apod.)</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9360" y="279360"/>
            <a:ext cx="8541000" cy="22147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 </a:t>
            </a:r>
            <a:br>
              <a:rPr sz="4400"/>
            </a:br>
            <a:r>
              <a:rPr b="1" lang="cs-CZ" sz="4400" spc="-1" strike="noStrike">
                <a:solidFill>
                  <a:srgbClr val="f3912c"/>
                </a:solidFill>
                <a:latin typeface="Arial"/>
              </a:rPr>
              <a:t>Cestovní náhrady související s realizací projektu</a:t>
            </a:r>
            <a:endParaRPr b="0" lang="en-US" sz="4400" spc="-1" strike="noStrike">
              <a:solidFill>
                <a:srgbClr val="000000"/>
              </a:solidFill>
              <a:latin typeface="Arial"/>
            </a:endParaRPr>
          </a:p>
        </p:txBody>
      </p:sp>
      <p:sp>
        <p:nvSpPr>
          <p:cNvPr id="117" name="PlaceHolder 2"/>
          <p:cNvSpPr>
            <a:spLocks noGrp="1"/>
          </p:cNvSpPr>
          <p:nvPr>
            <p:ph/>
          </p:nvPr>
        </p:nvSpPr>
        <p:spPr>
          <a:xfrm>
            <a:off x="1825200" y="2994120"/>
            <a:ext cx="7929720" cy="42148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Jedná se o výdaje na pracovní cesty zaměstnanců příjemce nebo partnera projektu – osoby zapojené do realizace proje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Legislativa</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1800" spc="-1" strike="noStrike">
                <a:solidFill>
                  <a:srgbClr val="000000"/>
                </a:solidFill>
                <a:latin typeface="Arial"/>
              </a:rPr>
              <a:t> </a:t>
            </a:r>
            <a:r>
              <a:rPr b="0" lang="cs-CZ" sz="2200" spc="-1" strike="noStrike">
                <a:solidFill>
                  <a:srgbClr val="000000"/>
                </a:solidFill>
                <a:latin typeface="Arial"/>
              </a:rPr>
              <a:t>zákoník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yhláška MPSV</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nterními předpisy organizace, vnitřní směrni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 případě zahraničních pracovních cest vyhláška MF</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19" name="PlaceHolder 2"/>
          <p:cNvSpPr>
            <a:spLocks noGrp="1"/>
          </p:cNvSpPr>
          <p:nvPr>
            <p:ph/>
          </p:nvPr>
        </p:nvSpPr>
        <p:spPr>
          <a:xfrm>
            <a:off x="1611000" y="1351080"/>
            <a:ext cx="807228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čel pracovní cesty musí vždy souviset s projektem</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Cestovné</a:t>
            </a:r>
            <a:endParaRPr b="0" lang="en-US" sz="32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Náhrada prokázaných jízdních výdajů</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leta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místní veřejné dopravy </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oukromého vozi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lužebního vozidla</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Ubytování/noclež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Strav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utné vedlejší výdaje</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br>
              <a:rPr sz="2000"/>
            </a:br>
            <a:br>
              <a:rPr sz="2000"/>
            </a:br>
            <a:r>
              <a:rPr b="1" lang="cs-CZ" sz="4400" spc="-1" strike="noStrike">
                <a:solidFill>
                  <a:srgbClr val="f3912c"/>
                </a:solidFill>
                <a:latin typeface="Arial"/>
              </a:rPr>
              <a:t> </a:t>
            </a:r>
            <a:r>
              <a:rPr b="1" lang="cs-CZ" sz="4400" spc="-1" strike="noStrike">
                <a:solidFill>
                  <a:srgbClr val="f3912c"/>
                </a:solidFill>
                <a:latin typeface="Arial"/>
              </a:rPr>
              <a:t>Kapitola rozpočtu 2 </a:t>
            </a:r>
            <a:endParaRPr b="0" lang="en-US" sz="4400" spc="-1" strike="noStrike">
              <a:solidFill>
                <a:srgbClr val="000000"/>
              </a:solidFill>
              <a:latin typeface="Arial"/>
            </a:endParaRPr>
          </a:p>
        </p:txBody>
      </p:sp>
      <p:sp>
        <p:nvSpPr>
          <p:cNvPr id="121" name="PlaceHolder 2"/>
          <p:cNvSpPr>
            <a:spLocks noGrp="1"/>
          </p:cNvSpPr>
          <p:nvPr>
            <p:ph/>
          </p:nvPr>
        </p:nvSpPr>
        <p:spPr>
          <a:xfrm>
            <a:off x="1682280" y="1279080"/>
            <a:ext cx="7929720" cy="56437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 pro služební cesty zahranič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Zahraniční pracovní cesty mohou být propláceny jen v odůvodněných případech a pouze v případě, že jsou obsaženy ve schválené verzi projektové žádosti a zahrnuty v rozpočtu, který je součástí právního a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Navyšovat položky rozpočtu související se zahraniční služební cestou není možné (výjimka – hospodářský vývoj)</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11360" y="350640"/>
            <a:ext cx="7929360" cy="5000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r>
              <a:rPr b="1" lang="cs-CZ" sz="4400" spc="-1" strike="noStrike">
                <a:solidFill>
                  <a:srgbClr val="f3912c"/>
                </a:solidFill>
                <a:latin typeface="Arial"/>
              </a:rPr>
              <a:t> </a:t>
            </a: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3" name="PlaceHolder 2"/>
          <p:cNvSpPr>
            <a:spLocks noGrp="1"/>
          </p:cNvSpPr>
          <p:nvPr>
            <p:ph/>
          </p:nvPr>
        </p:nvSpPr>
        <p:spPr>
          <a:xfrm>
            <a:off x="1611360" y="1350720"/>
            <a:ext cx="7929360" cy="54291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Cestovní náhrady pro zahraniční experty</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  náklady na ubytování, stravné a cestovné v ČR</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pro cizince v ČR se stanovuje podle sazeb EU publikovaných v poslední aktualizaci na stránce:</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u="sng">
                <a:solidFill>
                  <a:srgbClr val="ccccff"/>
                </a:solidFill>
                <a:uFillTx/>
                <a:latin typeface="Arial"/>
                <a:hlinkClick r:id="rId1"/>
              </a:rPr>
              <a:t>http://ec.europa.eu/europeaid/work/procedures/implementation/per_diems/index_en.htm</a:t>
            </a:r>
            <a:endParaRPr b="0" lang="en-US" sz="2200" spc="-1" strike="noStrike">
              <a:solidFill>
                <a:srgbClr val="000000"/>
              </a:solidFill>
              <a:latin typeface="Arial"/>
            </a:endParaRPr>
          </a:p>
          <a:p>
            <a:pPr lvl="1" marL="457200">
              <a:lnSpc>
                <a:spcPct val="93000"/>
              </a:lnSpc>
              <a:spcAft>
                <a:spcPts val="1137"/>
              </a:spcAft>
              <a:buClr>
                <a:srgbClr val="f3912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působilým výdajem je také výdaj za dopravu experta do ČR a zpět – za splnění všech podmínek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11360" y="42192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5" name="PlaceHolder 2"/>
          <p:cNvSpPr>
            <a:spLocks noGrp="1"/>
          </p:cNvSpPr>
          <p:nvPr>
            <p:ph/>
          </p:nvPr>
        </p:nvSpPr>
        <p:spPr>
          <a:xfrm>
            <a:off x="1976400" y="1350720"/>
            <a:ext cx="7850160" cy="5452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cestovní příkaz (musí obsahovat účel cesty související s projektem)</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vyúčtování pracov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doklady o úhradách výdajů (výpis z účtu, výdajové doklady, jízdenky za vlak/ autobus/ atd.)</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 </a:t>
            </a:r>
            <a:r>
              <a:rPr b="0" lang="cs-CZ" sz="2100" spc="-1" strike="noStrike">
                <a:solidFill>
                  <a:srgbClr val="000000"/>
                </a:solidFill>
                <a:latin typeface="Arial"/>
              </a:rPr>
              <a:t>stručná zpráva ze služeb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rozpis cestovních náhrad</a:t>
            </a:r>
            <a:endParaRPr b="0" lang="en-US" sz="2100" spc="-1" strike="noStrike">
              <a:solidFill>
                <a:srgbClr val="000000"/>
              </a:solidFill>
              <a:latin typeface="Arial"/>
            </a:endParaRPr>
          </a:p>
          <a:p>
            <a:pPr lvl="3" marL="1371600" indent="0">
              <a:lnSpc>
                <a:spcPct val="100000"/>
              </a:lnSpc>
              <a:buNone/>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1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a:t>
            </a:r>
            <a:endParaRPr b="0" lang="en-US" sz="24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jízdenky, palubenky </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opie technického průkazu vozidla</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nihu jízd a stvrzenky za nákup PHM (nebo je cena určena dle příslušné vyhlášky MPSV) u služebního vozidl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7" name="PlaceHolder 2"/>
          <p:cNvSpPr>
            <a:spLocks noGrp="1"/>
          </p:cNvSpPr>
          <p:nvPr>
            <p:ph/>
          </p:nvPr>
        </p:nvSpPr>
        <p:spPr>
          <a:xfrm>
            <a:off x="1968480" y="1351080"/>
            <a:ext cx="77868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Ubyt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objednávka  (dopis nebo mail)</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faktura či jiný daňový doklad (uvádět, zda součástí ceny je stravování např. snídaně)</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zaplacení (výpis z účtu, stvrzenka)</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tom, že ubytování souviselo s akcí vztahující se k projektu</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travné</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není nutné dokladovat, je závislé na době trvání pracovní cesty dle zákona 262/2006 Sb., Zákoník práce</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Nutné vedlejší výdaj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úhradě – parkovné, úschova zavazadla, vstupné atd.</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39360" y="493560"/>
            <a:ext cx="8541000" cy="21434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br>
              <a:rPr sz="4400"/>
            </a:br>
            <a:r>
              <a:rPr b="1" lang="cs-CZ" sz="4400" spc="-1" strike="noStrike">
                <a:solidFill>
                  <a:srgbClr val="f3912c"/>
                </a:solidFill>
                <a:latin typeface="Arial"/>
              </a:rPr>
              <a:t>Zařízení související s realizací projektu </a:t>
            </a:r>
            <a:br>
              <a:rPr sz="2000"/>
            </a:br>
            <a:endParaRPr b="0" lang="en-US" sz="4400" spc="-1" strike="noStrike">
              <a:solidFill>
                <a:srgbClr val="000000"/>
              </a:solidFill>
              <a:latin typeface="Arial"/>
            </a:endParaRPr>
          </a:p>
        </p:txBody>
      </p:sp>
      <p:sp>
        <p:nvSpPr>
          <p:cNvPr id="129" name="PlaceHolder 2"/>
          <p:cNvSpPr>
            <a:spLocks noGrp="1"/>
          </p:cNvSpPr>
          <p:nvPr>
            <p:ph/>
          </p:nvPr>
        </p:nvSpPr>
        <p:spPr>
          <a:xfrm>
            <a:off x="1976400" y="2779560"/>
            <a:ext cx="7493040" cy="421488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ehmotný majetek do 60 000 Kč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louhodobý ne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robný hmotný majetek do 40 000 Kč za kus</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použitý drobný 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ájem zařízení, operativní leasing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ýdaje na opravy a údržbu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řížové financování (Investiční část, Neinvestiční část)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Rozpočet</a:t>
            </a:r>
            <a:r>
              <a:rPr b="1" lang="cs-CZ" sz="4400" spc="-1" strike="noStrike">
                <a:solidFill>
                  <a:srgbClr val="000000"/>
                </a:solidFill>
                <a:latin typeface="Arial"/>
              </a:rPr>
              <a:t> </a:t>
            </a:r>
            <a:r>
              <a:rPr b="1" lang="cs-CZ" sz="4400" spc="-1" strike="noStrike">
                <a:solidFill>
                  <a:srgbClr val="f3912c"/>
                </a:solidFill>
                <a:latin typeface="Arial"/>
              </a:rPr>
              <a:t>projektu</a:t>
            </a:r>
            <a:endParaRPr b="0" lang="en-US" sz="4400" spc="-1" strike="noStrike">
              <a:solidFill>
                <a:srgbClr val="000000"/>
              </a:solidFill>
              <a:latin typeface="Arial"/>
            </a:endParaRPr>
          </a:p>
        </p:txBody>
      </p:sp>
      <p:pic>
        <p:nvPicPr>
          <p:cNvPr id="95" name="Zástupný symbol pro obsah 7" descr=""/>
          <p:cNvPicPr/>
          <p:nvPr/>
        </p:nvPicPr>
        <p:blipFill>
          <a:blip r:embed="rId1"/>
          <a:stretch/>
        </p:blipFill>
        <p:spPr>
          <a:xfrm>
            <a:off x="1639800" y="1463760"/>
            <a:ext cx="8253360" cy="529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53920" y="422280"/>
            <a:ext cx="832644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endParaRPr b="0" lang="en-US" sz="4400" spc="-1" strike="noStrike">
              <a:solidFill>
                <a:srgbClr val="000000"/>
              </a:solidFill>
              <a:latin typeface="Arial"/>
            </a:endParaRPr>
          </a:p>
        </p:txBody>
      </p:sp>
      <p:sp>
        <p:nvSpPr>
          <p:cNvPr id="131" name="PlaceHolder 2"/>
          <p:cNvSpPr>
            <a:spLocks noGrp="1"/>
          </p:cNvSpPr>
          <p:nvPr>
            <p:ph/>
          </p:nvPr>
        </p:nvSpPr>
        <p:spPr>
          <a:xfrm>
            <a:off x="1896840" y="1279440"/>
            <a:ext cx="7786440" cy="5786640"/>
          </a:xfrm>
          <a:prstGeom prst="rect">
            <a:avLst/>
          </a:prstGeom>
          <a:noFill/>
          <a:ln w="0">
            <a:noFill/>
          </a:ln>
        </p:spPr>
        <p:txBody>
          <a:bodyPr lIns="0" rIns="0" tIns="0" bIns="0" anchor="t">
            <a:norm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VPD</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výpis z účtu organiza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o pronájmu/ operativním leasingu s vymezením předmětu a účelu nájmu, výše, doby pronájmu, splatností a způsobem platby.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aragon a VPD se dokládá při nákupu drobných položek (do 10.000 Kč bez DPH)</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1360" y="350640"/>
            <a:ext cx="8469360" cy="1928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2000" spc="-1" strike="noStrike">
                <a:solidFill>
                  <a:srgbClr val="000000"/>
                </a:solidFill>
                <a:latin typeface="Arial"/>
              </a:rPr>
              <a:t> </a:t>
            </a:r>
            <a:r>
              <a:rPr b="1" lang="cs-CZ" sz="4400" spc="-1" strike="noStrike">
                <a:solidFill>
                  <a:srgbClr val="f3912c"/>
                </a:solidFill>
                <a:latin typeface="Arial"/>
              </a:rPr>
              <a:t>rozpočtu 4</a:t>
            </a:r>
            <a:br>
              <a:rPr sz="4400"/>
            </a:br>
            <a:r>
              <a:rPr b="1" lang="cs-CZ" sz="4400" spc="-1" strike="noStrike">
                <a:solidFill>
                  <a:srgbClr val="f3912c"/>
                </a:solidFill>
                <a:latin typeface="Arial"/>
              </a:rPr>
              <a:t>Místní kancelář</a:t>
            </a:r>
            <a:br>
              <a:rPr sz="2000"/>
            </a:br>
            <a:endParaRPr b="0" lang="en-US" sz="4400" spc="-1" strike="noStrike">
              <a:solidFill>
                <a:srgbClr val="000000"/>
              </a:solidFill>
              <a:latin typeface="Arial"/>
            </a:endParaRPr>
          </a:p>
        </p:txBody>
      </p:sp>
      <p:sp>
        <p:nvSpPr>
          <p:cNvPr id="133" name="PlaceHolder 2"/>
          <p:cNvSpPr>
            <a:spLocks noGrp="1"/>
          </p:cNvSpPr>
          <p:nvPr>
            <p:ph/>
          </p:nvPr>
        </p:nvSpPr>
        <p:spPr>
          <a:xfrm>
            <a:off x="1682640" y="2207880"/>
            <a:ext cx="8143920" cy="5000760"/>
          </a:xfrm>
          <a:prstGeom prst="rect">
            <a:avLst/>
          </a:prstGeom>
          <a:noFill/>
          <a:ln w="0">
            <a:noFill/>
          </a:ln>
        </p:spPr>
        <p:txBody>
          <a:bodyPr lIns="0" rIns="0" tIns="0" bIns="0" anchor="t">
            <a:normAutofit fontScale="94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Náklady na provoz kanceláře, která slouží k řízení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Výdaje na místní kancelář</a:t>
            </a:r>
            <a:endParaRPr b="0" lang="en-US" sz="24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ní zboží a provozní materiál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telefon, poštovné, fax</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a vody, paliv a energie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jemné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e stanovení výše výdajů je nutné použít odpovídající metodiku výpočtu, která musí být zachována po celou dobu realizace projektu včetně závěrečného vyúčtován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že se organizace podílí na více projektech v rámci OP VK, uplatní ve všech stejnou metodiku výpoč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etodickým dopisem č. 5 Režijní náklady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39360" y="2793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5" name="PlaceHolder 2"/>
          <p:cNvSpPr>
            <a:spLocks noGrp="1"/>
          </p:cNvSpPr>
          <p:nvPr>
            <p:ph/>
          </p:nvPr>
        </p:nvSpPr>
        <p:spPr>
          <a:xfrm>
            <a:off x="1825200" y="1279440"/>
            <a:ext cx="75726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ní zboží a provozní materiál</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je-li vyžadována dle Příručky pro příjem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1360" y="35064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7" name="PlaceHolder 2"/>
          <p:cNvSpPr>
            <a:spLocks noGrp="1"/>
          </p:cNvSpPr>
          <p:nvPr>
            <p:ph/>
          </p:nvPr>
        </p:nvSpPr>
        <p:spPr>
          <a:xfrm>
            <a:off x="1825200" y="1136520"/>
            <a:ext cx="7572600" cy="6143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Telefon, počítač, internet, fax</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a vody, paliv a energie</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39360" y="351000"/>
            <a:ext cx="8541000" cy="2357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2000" spc="-1" strike="noStrike">
                <a:solidFill>
                  <a:srgbClr val="000000"/>
                </a:solidFill>
                <a:latin typeface="Arial"/>
              </a:rPr>
              <a:t>	</a:t>
            </a:r>
            <a:r>
              <a:rPr b="1" lang="cs-CZ" sz="4400" spc="-1" strike="noStrike">
                <a:solidFill>
                  <a:srgbClr val="f3912c"/>
                </a:solidFill>
                <a:latin typeface="Arial"/>
              </a:rPr>
              <a:t>Kapitola rozpočtu 5</a:t>
            </a:r>
            <a:br>
              <a:rPr sz="4400"/>
            </a:br>
            <a:r>
              <a:rPr b="1" lang="cs-CZ" sz="4400" spc="-1" strike="noStrike">
                <a:solidFill>
                  <a:srgbClr val="f3912c"/>
                </a:solidFill>
                <a:latin typeface="Arial"/>
              </a:rPr>
              <a:t>Nákup služeb souvisejících s realizací projektu</a:t>
            </a:r>
            <a:br>
              <a:rPr sz="2000"/>
            </a:br>
            <a:endParaRPr b="0" lang="en-US" sz="4400" spc="-1" strike="noStrike">
              <a:solidFill>
                <a:srgbClr val="000000"/>
              </a:solidFill>
              <a:latin typeface="Arial"/>
            </a:endParaRPr>
          </a:p>
        </p:txBody>
      </p:sp>
      <p:sp>
        <p:nvSpPr>
          <p:cNvPr id="139" name="PlaceHolder 2"/>
          <p:cNvSpPr>
            <a:spLocks noGrp="1"/>
          </p:cNvSpPr>
          <p:nvPr>
            <p:ph/>
          </p:nvPr>
        </p:nvSpPr>
        <p:spPr>
          <a:xfrm>
            <a:off x="2182320" y="2637000"/>
            <a:ext cx="7358040" cy="4643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ublikace/školicí materiály/manuál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odborné služby/Studie a výzkum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výdaje na konference/kurz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odpora účastníků</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iné výdaje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Dodavatelem služeb v rámci projektu nemůže být osoba, která má uzavřen pracovně právní vztah s příjemcem/partnerem, a výdaje na něj jsou hrazeny v rámci kapitoly rozpočtu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5</a:t>
            </a:r>
            <a:endParaRPr b="0" lang="en-US" sz="4400" spc="-1" strike="noStrike">
              <a:solidFill>
                <a:srgbClr val="000000"/>
              </a:solidFill>
              <a:latin typeface="Arial"/>
            </a:endParaRPr>
          </a:p>
        </p:txBody>
      </p:sp>
      <p:sp>
        <p:nvSpPr>
          <p:cNvPr id="141" name="PlaceHolder 2"/>
          <p:cNvSpPr>
            <a:spLocks noGrp="1"/>
          </p:cNvSpPr>
          <p:nvPr>
            <p:ph/>
          </p:nvPr>
        </p:nvSpPr>
        <p:spPr>
          <a:xfrm>
            <a:off x="1825560" y="1136160"/>
            <a:ext cx="778680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 pozvánka, prezenční listina</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68080" y="350640"/>
            <a:ext cx="8612280" cy="2214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br>
              <a:rPr sz="4400"/>
            </a:br>
            <a:r>
              <a:rPr b="1" lang="cs-CZ" sz="4400" spc="-1" strike="noStrike">
                <a:solidFill>
                  <a:srgbClr val="f3912c"/>
                </a:solidFill>
                <a:latin typeface="Arial"/>
              </a:rPr>
              <a:t>Stavební úpravy související s realizací projektu</a:t>
            </a:r>
            <a:br>
              <a:rPr sz="2000"/>
            </a:br>
            <a:endParaRPr b="0" lang="en-US" sz="4400" spc="-1" strike="noStrike">
              <a:solidFill>
                <a:srgbClr val="000000"/>
              </a:solidFill>
              <a:latin typeface="Arial"/>
            </a:endParaRPr>
          </a:p>
        </p:txBody>
      </p:sp>
      <p:sp>
        <p:nvSpPr>
          <p:cNvPr id="143" name="PlaceHolder 2"/>
          <p:cNvSpPr>
            <a:spLocks noGrp="1"/>
          </p:cNvSpPr>
          <p:nvPr>
            <p:ph/>
          </p:nvPr>
        </p:nvSpPr>
        <p:spPr>
          <a:xfrm>
            <a:off x="1897200" y="2636640"/>
            <a:ext cx="7643520" cy="4429080"/>
          </a:xfrm>
          <a:prstGeom prst="rect">
            <a:avLst/>
          </a:prstGeom>
          <a:noFill/>
          <a:ln w="0">
            <a:noFill/>
          </a:ln>
        </p:spPr>
        <p:txBody>
          <a:bodyPr lIns="0" rIns="0" tIns="0" bIns="0" anchor="t">
            <a:normAutofit fontScale="94000"/>
          </a:bodyPr>
          <a:p>
            <a:pPr lvl="2" marL="85932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robné stavební úpravy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tavební úpravy v rámci křížového financování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utná vždy vazba na realizaci klíčových aktivit (vazba na cílové skupi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r>
              <a:rPr b="0" lang="cs-CZ" sz="2200" spc="-1" strike="noStrike">
                <a:solidFill>
                  <a:srgbClr val="000000"/>
                </a:solidFill>
                <a:latin typeface="Arial"/>
              </a:rPr>
              <a:t>Stavební úpravy nad 40 000 Kč lze provádět pouze na majetku příjemce, případně partnerů projektu, nikoli na majetku, který má příjemce/partneři v pronájm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škol a školských zařízení je možné stavební úpravy nad 40 000 Kč realizovat na majetku zřizovatele.</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endParaRPr b="0" lang="en-US" sz="4400" spc="-1" strike="noStrike">
              <a:solidFill>
                <a:srgbClr val="000000"/>
              </a:solidFill>
              <a:latin typeface="Arial"/>
            </a:endParaRPr>
          </a:p>
        </p:txBody>
      </p:sp>
      <p:sp>
        <p:nvSpPr>
          <p:cNvPr id="145" name="PlaceHolder 2"/>
          <p:cNvSpPr>
            <a:spLocks noGrp="1"/>
          </p:cNvSpPr>
          <p:nvPr>
            <p:ph/>
          </p:nvPr>
        </p:nvSpPr>
        <p:spPr>
          <a:xfrm>
            <a:off x="1976400" y="1494000"/>
            <a:ext cx="749304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dací list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edávací protokol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klad o zaplace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bjednávk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smlouvy s dodavateli</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otodokumentace </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39360" y="351000"/>
            <a:ext cx="8541000" cy="14284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br>
              <a:rPr sz="4400"/>
            </a:br>
            <a:r>
              <a:rPr b="1" lang="cs-CZ" sz="4400" spc="-1" strike="noStrike">
                <a:solidFill>
                  <a:srgbClr val="f3912c"/>
                </a:solidFill>
                <a:latin typeface="Arial"/>
              </a:rPr>
              <a:t>Přímá podpora</a:t>
            </a:r>
            <a:br>
              <a:rPr sz="2000"/>
            </a:br>
            <a:endParaRPr b="0" lang="en-US" sz="4400" spc="-1" strike="noStrike">
              <a:solidFill>
                <a:srgbClr val="000000"/>
              </a:solidFill>
              <a:latin typeface="Arial"/>
            </a:endParaRPr>
          </a:p>
        </p:txBody>
      </p:sp>
      <p:sp>
        <p:nvSpPr>
          <p:cNvPr id="147" name="PlaceHolder 2"/>
          <p:cNvSpPr>
            <a:spLocks noGrp="1"/>
          </p:cNvSpPr>
          <p:nvPr>
            <p:ph/>
          </p:nvPr>
        </p:nvSpPr>
        <p:spPr>
          <a:xfrm>
            <a:off x="1754280" y="1993680"/>
            <a:ext cx="7858080" cy="478620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zdové příspěvk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cestovné, ubytování a stravné</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jízdní výdaje</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ubytování</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stravné</a:t>
            </a:r>
            <a:endParaRPr b="0" lang="en-US" sz="2400" spc="-1" strike="noStrike">
              <a:solidFill>
                <a:srgbClr val="000000"/>
              </a:solidFill>
              <a:latin typeface="Arial"/>
            </a:endParaRPr>
          </a:p>
          <a:p>
            <a:pPr lvl="3" marL="1371600" indent="0">
              <a:lnSpc>
                <a:spcPct val="93000"/>
              </a:lnSpc>
              <a:spcAft>
                <a:spcPts val="575"/>
              </a:spcAft>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provodné aktivit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endParaRPr b="0" lang="en-US" sz="4400" spc="-1" strike="noStrike">
              <a:solidFill>
                <a:srgbClr val="000000"/>
              </a:solidFill>
              <a:latin typeface="Arial"/>
            </a:endParaRPr>
          </a:p>
        </p:txBody>
      </p:sp>
      <p:sp>
        <p:nvSpPr>
          <p:cNvPr id="149" name="PlaceHolder 2"/>
          <p:cNvSpPr>
            <a:spLocks noGrp="1"/>
          </p:cNvSpPr>
          <p:nvPr>
            <p:ph/>
          </p:nvPr>
        </p:nvSpPr>
        <p:spPr>
          <a:xfrm>
            <a:off x="1753920" y="1350720"/>
            <a:ext cx="771516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Mzdové příspěvky</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o vzdělání s uvedeným jménem a hodinovou sazbou</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úhrad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 ubytování a stravné</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pis cestovních náhra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kopie dokladů (cestovní příkaz, jízdenky, doklad o ubytování, doklad o zaplacení,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dajové doklady musí být s podpisy podpořených osob.</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Limity rozpočtu</a:t>
            </a:r>
            <a:endParaRPr b="0" lang="en-US" sz="4400" spc="-1" strike="noStrike">
              <a:solidFill>
                <a:srgbClr val="000000"/>
              </a:solidFill>
              <a:latin typeface="Arial"/>
            </a:endParaRPr>
          </a:p>
        </p:txBody>
      </p:sp>
      <p:pic>
        <p:nvPicPr>
          <p:cNvPr id="97" name="Zástupný symbol pro obsah 7" descr=""/>
          <p:cNvPicPr/>
          <p:nvPr/>
        </p:nvPicPr>
        <p:blipFill>
          <a:blip r:embed="rId1"/>
          <a:stretch/>
        </p:blipFill>
        <p:spPr>
          <a:xfrm>
            <a:off x="1500120" y="1359000"/>
            <a:ext cx="8143920" cy="5468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39360" y="279000"/>
            <a:ext cx="8541000" cy="2143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 </a:t>
            </a:r>
            <a:br>
              <a:rPr sz="4400"/>
            </a:br>
            <a:r>
              <a:rPr b="1" lang="cs-CZ" sz="4400" spc="-1" strike="noStrike">
                <a:solidFill>
                  <a:srgbClr val="f3912c"/>
                </a:solidFill>
                <a:latin typeface="Arial"/>
              </a:rPr>
              <a:t>Náklady vyplývající přímo ze Smlouvy/Opatření/ Rozhodnutí</a:t>
            </a:r>
            <a:br>
              <a:rPr sz="2000"/>
            </a:br>
            <a:endParaRPr b="0" lang="en-US" sz="4400" spc="-1" strike="noStrike">
              <a:solidFill>
                <a:srgbClr val="000000"/>
              </a:solidFill>
              <a:latin typeface="Arial"/>
            </a:endParaRPr>
          </a:p>
        </p:txBody>
      </p:sp>
      <p:sp>
        <p:nvSpPr>
          <p:cNvPr id="151" name="PlaceHolder 2"/>
          <p:cNvSpPr>
            <a:spLocks noGrp="1"/>
          </p:cNvSpPr>
          <p:nvPr>
            <p:ph/>
          </p:nvPr>
        </p:nvSpPr>
        <p:spPr>
          <a:xfrm>
            <a:off x="1682280" y="2636640"/>
            <a:ext cx="8001000" cy="442908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Audit projektu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ublicita</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statní -   Bankovní poplatk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a:t>
            </a:r>
            <a:endParaRPr b="0" lang="en-US" sz="4400" spc="-1" strike="noStrike">
              <a:solidFill>
                <a:srgbClr val="000000"/>
              </a:solidFill>
              <a:latin typeface="Arial"/>
            </a:endParaRPr>
          </a:p>
        </p:txBody>
      </p:sp>
      <p:sp>
        <p:nvSpPr>
          <p:cNvPr id="153" name="PlaceHolder 2"/>
          <p:cNvSpPr>
            <a:spLocks noGrp="1"/>
          </p:cNvSpPr>
          <p:nvPr>
            <p:ph/>
          </p:nvPr>
        </p:nvSpPr>
        <p:spPr>
          <a:xfrm>
            <a:off x="1825560" y="1350720"/>
            <a:ext cx="807264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Audit projektu</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auditorská zpráva, doklad o zaplacení, Smlouva o provedení závěrečného audi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Publicit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doklad o zaplacení, objednávka, vzorky (leták, brožurka, …), fotodokumentace, příp.smlouva s dodavatel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Ostatní</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rávní poplatky, notářské poplatky, právní poradenství, znalecké posudky, poplatky za vedení projektového účtu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zaplacení/ VPD, informace k jakému účelu byly vynalože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Samostatný účet projektu</a:t>
            </a:r>
            <a:endParaRPr b="0" lang="en-US" sz="4400" spc="-1" strike="noStrike">
              <a:solidFill>
                <a:srgbClr val="000000"/>
              </a:solidFill>
              <a:latin typeface="Arial"/>
            </a:endParaRPr>
          </a:p>
        </p:txBody>
      </p:sp>
      <p:sp>
        <p:nvSpPr>
          <p:cNvPr id="155" name="PlaceHolder 2"/>
          <p:cNvSpPr>
            <a:spLocks noGrp="1"/>
          </p:cNvSpPr>
          <p:nvPr>
            <p:ph/>
          </p:nvPr>
        </p:nvSpPr>
        <p:spPr>
          <a:xfrm>
            <a:off x="1864800" y="1350720"/>
            <a:ext cx="789012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 </a:t>
            </a:r>
            <a:r>
              <a:rPr b="0" lang="cs-CZ" sz="2400" spc="-1" strike="noStrike">
                <a:solidFill>
                  <a:srgbClr val="000000"/>
                </a:solidFill>
                <a:latin typeface="Arial"/>
              </a:rPr>
              <a:t>způsobilost výdajů</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ávo disponovat - pověření zaměstnanci příjemc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ěsíčních výpisů z projektového účtu nebo ke dni vyúčtov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účet projektu nesmí příjemce zrušit dříve, než dojde k finančnímu vypořád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ostředky  lze využít pouze na výdaje související s realizac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evod finančních prostředků mezi provozním účtem organizace a projektovým bankovní účtem  lze pouze refundací</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říjmy projektu</a:t>
            </a:r>
            <a:endParaRPr b="0" lang="en-US" sz="4400" spc="-1" strike="noStrike">
              <a:solidFill>
                <a:srgbClr val="000000"/>
              </a:solidFill>
              <a:latin typeface="Arial"/>
            </a:endParaRPr>
          </a:p>
        </p:txBody>
      </p:sp>
      <p:sp>
        <p:nvSpPr>
          <p:cNvPr id="157" name="PlaceHolder 2"/>
          <p:cNvSpPr>
            <a:spLocks noGrp="1"/>
          </p:cNvSpPr>
          <p:nvPr>
            <p:ph/>
          </p:nvPr>
        </p:nvSpPr>
        <p:spPr>
          <a:xfrm>
            <a:off x="1682640" y="1351080"/>
            <a:ext cx="8072640" cy="592920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 prodeje materiálu vzešlých z projektu dalším osobám</a:t>
            </a:r>
            <a:endParaRPr b="0" lang="en-US" sz="24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roky připsané na projektovém účtu</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vinnost průběžného vykaz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užití na krytí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39360" y="351000"/>
            <a:ext cx="8541000" cy="2000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hrada výdajů projektu poskytovatelem podpory příjemci</a:t>
            </a:r>
            <a:br>
              <a:rPr sz="2000"/>
            </a:br>
            <a:endParaRPr b="0" lang="en-US" sz="4400" spc="-1" strike="noStrike">
              <a:solidFill>
                <a:srgbClr val="000000"/>
              </a:solidFill>
              <a:latin typeface="Arial"/>
            </a:endParaRPr>
          </a:p>
        </p:txBody>
      </p:sp>
      <p:sp>
        <p:nvSpPr>
          <p:cNvPr id="159" name="PlaceHolder 2"/>
          <p:cNvSpPr>
            <a:spLocks noGrp="1"/>
          </p:cNvSpPr>
          <p:nvPr>
            <p:ph/>
          </p:nvPr>
        </p:nvSpPr>
        <p:spPr>
          <a:xfrm>
            <a:off x="1754280" y="2351160"/>
            <a:ext cx="7858080" cy="4857840"/>
          </a:xfrm>
          <a:prstGeom prst="rect">
            <a:avLst/>
          </a:prstGeom>
          <a:noFill/>
          <a:ln w="0">
            <a:noFill/>
          </a:ln>
        </p:spPr>
        <p:txBody>
          <a:bodyPr lIns="0" rIns="0" tIns="0" bIns="0" anchor="t">
            <a:normAutofit/>
          </a:bodyPr>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200" spc="-1" strike="noStrike">
                <a:solidFill>
                  <a:srgbClr val="000000"/>
                </a:solidFill>
                <a:latin typeface="Arial"/>
              </a:rPr>
              <a:t> </a:t>
            </a:r>
            <a:r>
              <a:rPr b="0" lang="cs-CZ" sz="2400" spc="-1" strike="noStrike">
                <a:solidFill>
                  <a:srgbClr val="000000"/>
                </a:solidFill>
                <a:latin typeface="Arial"/>
              </a:rPr>
              <a:t>První zálohová platb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Další průběžné platby  - ve výši prokazovaných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Arial"/>
              </a:rPr>
              <a:t>Kumulovaná výše uvedených plateb nesmí přesáhnout 90 % schválené částky podpory u IP</a:t>
            </a:r>
            <a:endParaRPr b="0" lang="en-US" sz="20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Závěrečná platb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Součástí závěrečné zprávy je</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žádost o závěrečnou platb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celkové vyúčtování projekt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zpráva audito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39360" y="421920"/>
            <a:ext cx="854100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aň z přidané hodnoty</a:t>
            </a:r>
            <a:br>
              <a:rPr sz="2000"/>
            </a:br>
            <a:endParaRPr b="0" lang="en-US" sz="4400" spc="-1" strike="noStrike">
              <a:solidFill>
                <a:srgbClr val="000000"/>
              </a:solidFill>
              <a:latin typeface="Arial"/>
            </a:endParaRPr>
          </a:p>
        </p:txBody>
      </p:sp>
      <p:sp>
        <p:nvSpPr>
          <p:cNvPr id="161" name="PlaceHolder 2"/>
          <p:cNvSpPr>
            <a:spLocks noGrp="1"/>
          </p:cNvSpPr>
          <p:nvPr>
            <p:ph/>
          </p:nvPr>
        </p:nvSpPr>
        <p:spPr>
          <a:xfrm>
            <a:off x="1611000" y="1350720"/>
            <a:ext cx="807228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zniká nárok na odpočet  DPH – nezpůsobilý výdaj</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nevzniká nárok a odpočet  - ne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Ne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ždy 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68080" y="279360"/>
            <a:ext cx="861228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četnictví a dokladování</a:t>
            </a:r>
            <a:br>
              <a:rPr sz="2000"/>
            </a:br>
            <a:endParaRPr b="0" lang="en-US" sz="4400" spc="-1" strike="noStrike">
              <a:solidFill>
                <a:srgbClr val="000000"/>
              </a:solidFill>
              <a:latin typeface="Arial"/>
            </a:endParaRPr>
          </a:p>
        </p:txBody>
      </p:sp>
      <p:sp>
        <p:nvSpPr>
          <p:cNvPr id="163" name="PlaceHolder 2"/>
          <p:cNvSpPr>
            <a:spLocks noGrp="1"/>
          </p:cNvSpPr>
          <p:nvPr>
            <p:ph/>
          </p:nvPr>
        </p:nvSpPr>
        <p:spPr>
          <a:xfrm>
            <a:off x="1753920" y="1351080"/>
            <a:ext cx="7786440" cy="5310000"/>
          </a:xfrm>
          <a:prstGeom prst="rect">
            <a:avLst/>
          </a:prstGeom>
          <a:noFill/>
          <a:ln w="0">
            <a:noFill/>
          </a:ln>
        </p:spPr>
        <p:txBody>
          <a:bodyPr lIns="0" rIns="0" tIns="0" bIns="0" anchor="t">
            <a:normAutofit fontScale="97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osti příjemce/finančního partnera</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pro projekt (analytická evidence)</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v elektronické podobě, pouze v odůvodněných případech je možné vést účetnictví v písemné formě.</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í doklady musejí být vystaveny v souladu se zákonem o účetnictví a musejí obsahovat všechny požadované náležitosti. </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é označování účetních dokladů</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zkrácený název</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registrační číslo</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příp. číslo jednací</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11360" y="279360"/>
            <a:ext cx="8469360" cy="15717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ruhy účetních dokladů </a:t>
            </a:r>
            <a:br>
              <a:rPr sz="4400"/>
            </a:br>
            <a:r>
              <a:rPr b="1" lang="cs-CZ" sz="4400" spc="-1" strike="noStrike">
                <a:solidFill>
                  <a:srgbClr val="f3912c"/>
                </a:solidFill>
                <a:latin typeface="Arial"/>
              </a:rPr>
              <a:t>a jejich náležitosti</a:t>
            </a:r>
            <a:br>
              <a:rPr sz="2000"/>
            </a:br>
            <a:endParaRPr b="0" lang="en-US" sz="4400" spc="-1" strike="noStrike">
              <a:solidFill>
                <a:srgbClr val="000000"/>
              </a:solidFill>
              <a:latin typeface="Arial"/>
            </a:endParaRPr>
          </a:p>
        </p:txBody>
      </p:sp>
      <p:sp>
        <p:nvSpPr>
          <p:cNvPr id="165" name="PlaceHolder 2"/>
          <p:cNvSpPr>
            <a:spLocks noGrp="1"/>
          </p:cNvSpPr>
          <p:nvPr>
            <p:ph/>
          </p:nvPr>
        </p:nvSpPr>
        <p:spPr>
          <a:xfrm>
            <a:off x="1682280" y="1922040"/>
            <a:ext cx="8001000" cy="5000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a účetní doklady se považují</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 přijaté faktury vydané (zálohové 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íjm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ýdaj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interní doklad</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bankovní výpisy z projektového úč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ýpisy z dalších účtů použitých k úhradě výdajů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Výběrová řízení</a:t>
            </a:r>
            <a:endParaRPr b="0" lang="en-US" sz="4400" spc="-1" strike="noStrike">
              <a:solidFill>
                <a:srgbClr val="000000"/>
              </a:solidFill>
              <a:latin typeface="Arial"/>
            </a:endParaRPr>
          </a:p>
        </p:txBody>
      </p:sp>
      <p:sp>
        <p:nvSpPr>
          <p:cNvPr id="167" name="PlaceHolder 2"/>
          <p:cNvSpPr>
            <a:spLocks noGrp="1"/>
          </p:cNvSpPr>
          <p:nvPr>
            <p:ph/>
          </p:nvPr>
        </p:nvSpPr>
        <p:spPr>
          <a:xfrm>
            <a:off x="1976400" y="1422000"/>
            <a:ext cx="7564320" cy="538164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zahájení výběrového říz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uveřejnění výzvy k podávání nabídek a doklad o uveřejnění výsledku výzvy k podávání nabídek, je-li uveřejně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nabídk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ápis (protokol) o posouzení a hodnoc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uzavřená s vybraným dodavatelem</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výsledku výběrového řízení</a:t>
            </a:r>
            <a:endParaRPr b="0" lang="en-US" sz="2200" spc="-1" strike="noStrike">
              <a:solidFill>
                <a:srgbClr val="000000"/>
              </a:solidFill>
              <a:latin typeface="Arial"/>
            </a:endParaRPr>
          </a:p>
          <a:p>
            <a:pPr lvl="1" marL="457200" indent="0">
              <a:lnSpc>
                <a:spcPct val="93000"/>
              </a:lnSpc>
              <a:spcAft>
                <a:spcPts val="11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69"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1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Ing. Helena Viktorie Barbořák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Koordinátor finančních manažer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a:t>
            </a:r>
            <a:r>
              <a:rPr b="0" lang="cs-CZ" sz="2400" spc="-1" strike="noStrike" u="sng">
                <a:solidFill>
                  <a:srgbClr val="ccccff"/>
                </a:solidFill>
                <a:uFillTx/>
                <a:latin typeface="Arial"/>
                <a:hlinkClick r:id="rId1"/>
              </a:rPr>
              <a:t>helena.barborak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působilé výdaje</a:t>
            </a:r>
            <a:r>
              <a:rPr b="1" lang="cs-CZ" sz="4400" spc="-1" strike="noStrike">
                <a:solidFill>
                  <a:srgbClr val="000000"/>
                </a:solidFill>
                <a:latin typeface="Arial"/>
              </a:rPr>
              <a:t> </a:t>
            </a:r>
            <a:endParaRPr b="0" lang="en-US" sz="4400" spc="-1" strike="noStrike">
              <a:solidFill>
                <a:srgbClr val="000000"/>
              </a:solidFill>
              <a:latin typeface="Arial"/>
            </a:endParaRPr>
          </a:p>
        </p:txBody>
      </p:sp>
      <p:pic>
        <p:nvPicPr>
          <p:cNvPr id="99" name="Zástupný symbol pro obsah 7" descr=""/>
          <p:cNvPicPr/>
          <p:nvPr/>
        </p:nvPicPr>
        <p:blipFill>
          <a:blip r:embed="rId1"/>
          <a:stretch/>
        </p:blipFill>
        <p:spPr>
          <a:xfrm>
            <a:off x="1566720" y="1487520"/>
            <a:ext cx="7937640" cy="462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způsobilé výdaje </a:t>
            </a:r>
            <a:r>
              <a:rPr b="1" lang="cs-CZ" sz="2400" spc="-1" strike="noStrike">
                <a:solidFill>
                  <a:srgbClr val="f3912c"/>
                </a:solidFill>
                <a:latin typeface="Arial"/>
              </a:rPr>
              <a:t>příklady</a:t>
            </a:r>
            <a:endParaRPr b="0" lang="en-US" sz="2400" spc="-1" strike="noStrike">
              <a:solidFill>
                <a:srgbClr val="000000"/>
              </a:solidFill>
              <a:latin typeface="Arial"/>
            </a:endParaRPr>
          </a:p>
        </p:txBody>
      </p:sp>
      <p:sp>
        <p:nvSpPr>
          <p:cNvPr id="101" name="Zástupný symbol pro obsah 7"/>
          <p:cNvSpPr/>
          <p:nvPr/>
        </p:nvSpPr>
        <p:spPr>
          <a:xfrm>
            <a:off x="1825560" y="1351080"/>
            <a:ext cx="766944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správní a místní poplatky, které nemají přímou vazbu na projekt a nejsou výslovně stanoveny Řídícím orgánem (výpis z katastru nemovitostí, výpis z obchodního rejstříku apod.)</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mzdové náklady zaměstnanců, kteří se na realizaci projektu nepodílejí</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u zaměstnanců, kteří se na realizaci projektu podílejí, alikvotní část osobních nákladů, která neodpovídá pracovnímu vytížení zaměstnance na daném projektu</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24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9360" y="350640"/>
            <a:ext cx="8541000" cy="25002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br>
              <a:rPr sz="4400"/>
            </a:br>
            <a:r>
              <a:rPr b="1" lang="cs-CZ" sz="4400" spc="-1" strike="noStrike">
                <a:solidFill>
                  <a:srgbClr val="f3912c"/>
                </a:solidFill>
                <a:latin typeface="Arial"/>
              </a:rPr>
              <a:t> </a:t>
            </a:r>
            <a:r>
              <a:rPr b="1" lang="cs-CZ" sz="4400" spc="-1" strike="noStrike">
                <a:solidFill>
                  <a:srgbClr val="f3912c"/>
                </a:solidFill>
                <a:latin typeface="Arial"/>
              </a:rPr>
              <a:t>Osobní výdaje související s realizací projektu</a:t>
            </a:r>
            <a:br>
              <a:rPr sz="4400"/>
            </a:br>
            <a:r>
              <a:rPr b="1" lang="cs-CZ" sz="4400" spc="-1" strike="noStrike">
                <a:solidFill>
                  <a:srgbClr val="f3912c"/>
                </a:solidFill>
                <a:latin typeface="Arial"/>
              </a:rPr>
              <a:t> </a:t>
            </a:r>
            <a:endParaRPr b="0" lang="en-US" sz="4400" spc="-1" strike="noStrike">
              <a:solidFill>
                <a:srgbClr val="000000"/>
              </a:solidFill>
              <a:latin typeface="Arial"/>
            </a:endParaRPr>
          </a:p>
        </p:txBody>
      </p:sp>
      <p:sp>
        <p:nvSpPr>
          <p:cNvPr id="103" name="Zástupný symbol pro obsah 7"/>
          <p:cNvSpPr/>
          <p:nvPr/>
        </p:nvSpPr>
        <p:spPr>
          <a:xfrm>
            <a:off x="1825560" y="2922480"/>
            <a:ext cx="7669440" cy="4071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racovněprávní vztah</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pracovní smlouva</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acovní činnosti </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ovedení práce</a:t>
            </a:r>
            <a:endParaRPr b="0" lang="en-US" sz="2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Autorské honoráře</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řídí zákonem č. 121/2000 Sb., o právu autorském</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za autorské dílo nelze považovat lektorování</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není povinnost odevzdávat výkaz práce</a:t>
            </a: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5" name="PlaceHolder 2"/>
          <p:cNvSpPr>
            <a:spLocks noGrp="1"/>
          </p:cNvSpPr>
          <p:nvPr>
            <p:ph/>
          </p:nvPr>
        </p:nvSpPr>
        <p:spPr>
          <a:xfrm>
            <a:off x="1825560" y="1351080"/>
            <a:ext cx="7500960" cy="56433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ě právní vztahy musí povinně obsahovat</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šechny náležitosti pracovní smlouvy podle zákoníku práce</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identifikaci projektu, do kterého je pracovník zapojen;</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pis pracovní činnosti relevantní pro projekt</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sah činnosti, tzn. úvazek či počet hodin za časovou jednotku (měsíc, rok apo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ši odměn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zákonem stanovené náležitosti</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vinnost odevzdávat pracovní výkaz (měsíč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lňovat pravidla povinné public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9360" y="35100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7" name="PlaceHolder 2"/>
          <p:cNvSpPr>
            <a:spLocks noGrp="1"/>
          </p:cNvSpPr>
          <p:nvPr>
            <p:ph/>
          </p:nvPr>
        </p:nvSpPr>
        <p:spPr>
          <a:xfrm>
            <a:off x="1976400" y="1494000"/>
            <a:ext cx="756432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působilé osobní výdaje</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smlouva výhradně pro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ást úvazku na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ovedení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acovní činnosti</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autorské honorá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zákonné odvody na sociální a zdravotní pojištění hrazené zaměstnavatelem,</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 </a:t>
            </a:r>
            <a:r>
              <a:rPr b="0" lang="cs-CZ" sz="2200" spc="-1" strike="noStrike">
                <a:solidFill>
                  <a:srgbClr val="000000"/>
                </a:solidFill>
                <a:latin typeface="Arial"/>
              </a:rPr>
              <a:t>další zákonná pojištění a zákonné odvody a náhrady (např. FKSP)</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9360" y="42228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9" name="PlaceHolder 2"/>
          <p:cNvSpPr>
            <a:spLocks noGrp="1"/>
          </p:cNvSpPr>
          <p:nvPr>
            <p:ph/>
          </p:nvPr>
        </p:nvSpPr>
        <p:spPr>
          <a:xfrm>
            <a:off x="1897200" y="1636200"/>
            <a:ext cx="7572240" cy="4286520"/>
          </a:xfrm>
          <a:prstGeom prst="rect">
            <a:avLst/>
          </a:prstGeom>
          <a:noFill/>
          <a:ln w="0">
            <a:noFill/>
          </a:ln>
        </p:spPr>
        <p:txBody>
          <a:bodyPr lIns="0" rIns="0" tIns="0" bIns="0" anchor="t">
            <a:normAutofit fontScale="80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alší podmínky OP VK</a:t>
            </a:r>
            <a:endParaRPr b="0" lang="en-US" sz="3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sobní výdaje musí odpovídat nominálním mzdám </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úvazky zaměstnance v rámci organizace se nesmějí překrývat a není možné, aby byl placen za stejnou práci vícekrát</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en pracovník nemůže být v rámci projektu a současně v rámci vykonávání dalších činností pro příjemce a jeho partnery zaměstnán na více než 1,5 úvazku celk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gh</cp:lastModifiedBy>
  <dcterms:modified xsi:type="dcterms:W3CDTF">2009-12-10T12:25:08Z</dcterms:modified>
  <cp:revision>157</cp:revision>
  <dc:subject/>
  <dc:title>Nadpis</dc:title>
</cp:coreProperties>
</file>