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commentAuthors.xml><?xml version="1.0" encoding="utf-8"?>
<p:cmAuthorLst xmlns:p="http://schemas.openxmlformats.org/presentationml/2006/main">
  <p:cmAuthor id="0" name="Ilona Sochůrková" initials="I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9.xml><?xml version="1.0" encoding="utf-8"?>
<p:cmLst xmlns:p="http://schemas.openxmlformats.org/presentationml/2006/main">
  <p:cm authorId="0" dt="2009-12-03T17:18:45.097000000" idx="1">
    <p:pos x="5673" y="2872"/>
    <p:text>zrušit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1.12.2009</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B64B-6C82-475D-BE58-2B5DDF331027}"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0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8F28832A-E8D7-4381-B657-EE064950B4C9}"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438E70C1-9993-444A-9222-71C32BBFAE75}"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2"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685800" y="4341960"/>
            <a:ext cx="37847520" cy="414000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 rámci projektů OP VK mohou existovat dva typy partnerství, a to partnerství s FP a partnerství bez FP. Způsobilé výdaje vznikající partnerům s FP jsou součástí způsobilých výdajů projektu.</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artneři se společně s příjemcem podílejí na realizaci projektu a to v těch aktivitách, ve kterých je k tomu zavazuje PS.</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Obsah PS je přitom velice důležitý, protože konečnou odpovědnost poskytovateli podpory nese příjemce. </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 PS je nutné vymezit podmínky partnerství (například vymezení aktivit na kterých se bude partner podílet, zda se bude rovněž podílet na zajištění udržitelnosti projektu, stanovení povinnosti odděleného vedení účetnictví k projektu, zřízení samostatného bankovního účtu/podúčtu projektu, či zabezpečení dostupnosti dokladů)</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Smluvní vztah mezi příjemcem a jeho partnery není založen na poskytování služeb a nesmí být v rozporu s právní předpisy ČR!</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D4434587-F8C8-4E1F-8262-C747A876F67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body"/>
          </p:nvPr>
        </p:nvSpPr>
        <p:spPr>
          <a:xfrm>
            <a:off x="685440" y="4341960"/>
            <a:ext cx="24250680" cy="150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finančního partnerství je příjemcem podpory vždy žadatel, který předkládal projektovou žádost a uzavíral právní akt s poskytovate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ento příjemce podpory je zodpovědný za rozdělení finančních prostředků mezi partnery s FP, na základě uzavřené 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vyúčtování a dokladování má partner má vůči poskytovateli podpory stejné povinnosti jako příjemce, pro partnera je závazná PS, příjemce musí veškeré povinnosti partnera v této smlouvě uprav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př.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 případě kontroly na místě je povinností příjemce zajistit ke kontrole originály účetních dokladů partnerů, takže v PS by poskytnutí těchto dokladů mělo být uprave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Příjemce musí zavázat své partnery v PS k zřízení samostatného projektového bankovního účtu/podúčtu, který po celou dobu projektu slouží pouze pro platby s projektem související. Zde platí výjimka z PpP pro Rozhodnutí nebo právní akty, které poskytují dotaci, že v případě, že platby partnerovi neprobíhají zálohově, ale probíhají zpětně, nemusí mít partner zřízen samostatný BÚ.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2FB2F572-27AD-4502-81B2-3EE0D7940A4E}"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8"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685440" y="4341600"/>
            <a:ext cx="15882840" cy="19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partnera s FP předkládá partner příjemci žádost o proplacení svých způsobilých výdaj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Úhrady mezi příjemcem a partnerem mohou probíhat buď formou zálohové platby, kdy příjemce poskytne odpovídající část zálohy partnerovi na základě uzavřené 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bo by měl být v PS upravený datum, kdy bude partner příjemci vyúčtovávat způsobilé výdaje za dané MO, tento datum by měl být stanoven  na termín před předkládáním řádných MZ tak, aby příjemce mohl způsobilé výdaje partnera do MZ zahrn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partner vyčerpá poskytnutou zálohu a vznikají mu další způsobilé výdaje, příjemce mu tyto další výdaje může proplatit ihned nebo počkat a proplatit tyto výdaje až po schválení poskytovatelem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D1D9BF29-B3C2-483B-B615-B48B63A1CC65}"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1"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body"/>
          </p:nvPr>
        </p:nvSpPr>
        <p:spPr>
          <a:xfrm>
            <a:off x="685440" y="4341960"/>
            <a:ext cx="18678600" cy="194760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majetek lze zapůjčovat jak finančním tak nefinančním partnerům</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Tento majetek pořízený a hrazený příjemcem, který je v užívání u partnera, musí být inventarizován a označen stejně jako majetek užívaný příjemcem podpory</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Příjemce se s partnerem musí v PS dohodnout na termínu, kdy dojde k rozdělení zařízení a spotřebního materiálu nakoupeného z poskytnuté podpory (po udržitelnosti)</a:t>
            </a:r>
            <a:endParaRPr b="0" lang="en-US" sz="6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a:t>
            </a:r>
            <a:r>
              <a:rPr b="0" lang="cs-CZ" sz="600" spc="-1" strike="noStrike">
                <a:solidFill>
                  <a:srgbClr val="000000"/>
                </a:solidFill>
                <a:latin typeface="Calibri"/>
              </a:rPr>
              <a:t>Zařízení a spotř. Materiál nakoupený z projektu nelze po realizaci převádět partnerům sídlícím mimo cílový region v případě, že v rámci udržitelnosti tento partner nezaváže podporovat cílovou skupinu daného cílového regionu.</a:t>
            </a:r>
            <a:endParaRPr b="0" lang="en-US" sz="6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a:t>
            </a:r>
            <a:r>
              <a:rPr b="0" lang="cs-CZ" sz="600" spc="-1" strike="noStrike">
                <a:solidFill>
                  <a:srgbClr val="000000"/>
                </a:solidFill>
                <a:latin typeface="Calibri"/>
              </a:rPr>
              <a:t>Kopie převodních listin či darovacích smluv</a:t>
            </a:r>
            <a:r>
              <a:rPr b="0" lang="cs-CZ" sz="200" spc="-1" strike="noStrike">
                <a:solidFill>
                  <a:srgbClr val="000000"/>
                </a:solidFill>
                <a:latin typeface="Calibri"/>
              </a:rPr>
              <a:t> </a:t>
            </a:r>
            <a:r>
              <a:rPr b="0" lang="cs-CZ" sz="600" spc="-1" strike="noStrike">
                <a:solidFill>
                  <a:srgbClr val="000000"/>
                </a:solidFill>
                <a:latin typeface="Calibri"/>
              </a:rPr>
              <a:t>předkládá příjemce</a:t>
            </a:r>
            <a:r>
              <a:rPr b="0" lang="cs-CZ" sz="200" spc="-1" strike="noStrike">
                <a:solidFill>
                  <a:srgbClr val="000000"/>
                </a:solidFill>
                <a:latin typeface="Calibri"/>
              </a:rPr>
              <a:t> </a:t>
            </a:r>
            <a:r>
              <a:rPr b="0" lang="cs-CZ" sz="600" spc="-1" strike="noStrike">
                <a:solidFill>
                  <a:srgbClr val="000000"/>
                </a:solidFill>
                <a:latin typeface="Calibri"/>
              </a:rPr>
              <a:t>se závěrečnou MZ</a:t>
            </a:r>
            <a:endParaRPr b="0" lang="en-US" sz="600" spc="-1" strike="noStrike">
              <a:solidFill>
                <a:srgbClr val="000000"/>
              </a:solidFill>
              <a:latin typeface="Calibri"/>
            </a:endParaRPr>
          </a:p>
          <a:p>
            <a:pPr lvl="1" marL="415800" indent="0">
              <a:lnSpc>
                <a:spcPct val="80000"/>
              </a:lnSpc>
              <a:spcAft>
                <a:spcPts val="10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600" spc="-1" strike="noStrike">
                <a:solidFill>
                  <a:srgbClr val="000000"/>
                </a:solidFill>
                <a:latin typeface="Calibri"/>
              </a:rPr>
              <a:t>b) Partner s finančním příspěvkem </a:t>
            </a:r>
            <a:endParaRPr b="0" lang="en-US" sz="6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nakupované zařízení a spotřební materiál je ihned v jeho vlastnictví</a:t>
            </a:r>
            <a:endParaRPr b="0" lang="en-US" sz="600" spc="-1" strike="noStrike">
              <a:solidFill>
                <a:srgbClr val="000000"/>
              </a:solidFill>
              <a:latin typeface="Calibri"/>
            </a:endParaRPr>
          </a:p>
          <a:p>
            <a:pPr lvl="1" marL="415800" indent="0">
              <a:lnSpc>
                <a:spcPct val="80000"/>
              </a:lnSpc>
              <a:spcAft>
                <a:spcPts val="10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
        <p:nvSpPr>
          <p:cNvPr id="14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AA4D9C87-B0B1-4446-B4F5-91C25FA27D9D}"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E8665BF5-E2DE-4841-A829-B0B34A6B1E4B}"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7"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body"/>
          </p:nvPr>
        </p:nvSpPr>
        <p:spPr>
          <a:xfrm>
            <a:off x="685440" y="4341960"/>
            <a:ext cx="9271080" cy="1938240"/>
          </a:xfrm>
          <a:prstGeom prst="rect">
            <a:avLst/>
          </a:prstGeom>
          <a:noFill/>
          <a:ln w="0">
            <a:noFill/>
          </a:ln>
        </p:spPr>
        <p:txBody>
          <a:bodyPr anchor="ctr" anchorCtr="1">
            <a:noAutofit/>
          </a:bodyPr>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 případě nezískání souhlasu partnera </a:t>
            </a:r>
            <a:endParaRPr b="0" lang="en-US" sz="1200" spc="-1" strike="noStrike">
              <a:solidFill>
                <a:srgbClr val="000000"/>
              </a:solidFill>
              <a:latin typeface="Calibri"/>
            </a:endParaRPr>
          </a:p>
          <a:p>
            <a:pPr>
              <a:lnSpc>
                <a:spcPct val="100000"/>
              </a:lnSpc>
              <a:spcAft>
                <a:spcPts val="13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odůvodňuje příjemce v žádosti </a:t>
            </a:r>
            <a:endParaRPr b="0" lang="en-US" sz="1200" spc="-1" strike="noStrike">
              <a:solidFill>
                <a:srgbClr val="000000"/>
              </a:solidFill>
              <a:latin typeface="Calibri"/>
            </a:endParaRPr>
          </a:p>
          <a:p>
            <a:pPr>
              <a:spcAft>
                <a:spcPts val="13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formální záležitost (nepřítomnost statutárního zástupce)</a:t>
            </a:r>
            <a:endParaRPr b="0" lang="en-US" sz="1200" spc="-1" strike="noStrike">
              <a:solidFill>
                <a:srgbClr val="000000"/>
              </a:solidFill>
              <a:latin typeface="Calibri"/>
            </a:endParaRPr>
          </a:p>
          <a:p>
            <a:pPr>
              <a:spcAft>
                <a:spcPts val="13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b) partner se změnou nesouhla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dstoupení partnera v případě zapojení 2 a více partnerů do projektu, poskytovatel určí, zda je možné pokračovat v realizaci bez partnera či nikoliv.</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B2E79B89-4E00-4FC0-B28D-2961F2D1F971}"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0"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685800" y="4341600"/>
            <a:ext cx="5711760" cy="4400280"/>
          </a:xfrm>
          <a:prstGeom prst="rect">
            <a:avLst/>
          </a:prstGeom>
          <a:noFill/>
          <a:ln w="0">
            <a:noFill/>
          </a:ln>
        </p:spPr>
        <p:txBody>
          <a:bodyPr anchor="ctr">
            <a:noAutofit/>
          </a:bodyPr>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3912c"/>
                </a:solidFill>
                <a:latin typeface="Calibri"/>
              </a:rPr>
              <a:t>Zapojení nového partnera </a:t>
            </a:r>
            <a:endParaRPr b="0" lang="en-US" sz="14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Ve výjimečných a dostatečně odůvodněných případech!</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transformace subjektu partnera a vznik nové organizace,</a:t>
            </a:r>
            <a:endParaRPr b="0" lang="en-US" sz="1200" spc="-1" strike="noStrike">
              <a:solidFill>
                <a:srgbClr val="000000"/>
              </a:solidFill>
              <a:latin typeface="Calibri"/>
            </a:endParaRPr>
          </a:p>
          <a:p>
            <a:pPr indent="0">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ýměna stávajícího partnera za nového při zachování všech povinností a závazků  </a:t>
            </a:r>
            <a:endParaRPr b="0" lang="en-US" sz="1200" spc="-1" strike="noStrike">
              <a:solidFill>
                <a:srgbClr val="000000"/>
              </a:solidFill>
              <a:latin typeface="Calibri"/>
            </a:endParaRPr>
          </a:p>
          <a:p>
            <a:pPr indent="0">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 </a:t>
            </a:r>
            <a:r>
              <a:rPr b="1" lang="cs-CZ" sz="1200" spc="-1" strike="noStrike">
                <a:solidFill>
                  <a:srgbClr val="000000"/>
                </a:solidFill>
                <a:latin typeface="Calibri"/>
              </a:rPr>
              <a:t>Podstatnou změnou je </a:t>
            </a:r>
            <a:r>
              <a:rPr b="1" lang="cs-CZ" sz="1400" spc="-1" strike="noStrike">
                <a:solidFill>
                  <a:srgbClr val="f3912c"/>
                </a:solidFill>
                <a:latin typeface="Calibri"/>
              </a:rPr>
              <a:t>Změna PS</a:t>
            </a:r>
            <a:r>
              <a:rPr b="0" lang="cs-CZ" sz="1400" spc="-1" strike="noStrike">
                <a:solidFill>
                  <a:srgbClr val="f3912c"/>
                </a:solidFill>
                <a:latin typeface="Calibri"/>
              </a:rPr>
              <a:t>, která má </a:t>
            </a:r>
            <a:r>
              <a:rPr b="0" lang="cs-CZ" sz="1200" spc="-1" strike="noStrike">
                <a:solidFill>
                  <a:srgbClr val="000000"/>
                </a:solidFill>
                <a:latin typeface="Calibri"/>
              </a:rPr>
              <a:t>charakter podstatné změny.</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íjemce musí poslat Žádost o PZ a návrh nové smlouvy. </a:t>
            </a:r>
            <a:r>
              <a:rPr b="0" lang="cs-CZ" sz="1200" spc="-1" strike="noStrike">
                <a:solidFill>
                  <a:srgbClr val="000000"/>
                </a:solidFill>
                <a:latin typeface="Wingdings"/>
                <a:ea typeface="Wingdings"/>
              </a:rPr>
              <a:t></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o případném schválení musíme vydat dodatek k rozhodnutí</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se jedná o změnu PS, která má char. nepodstatné změny -  dokládají s MZ</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5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4800"/>
                <a:tab algn="l" pos="2454120"/>
                <a:tab algn="l" pos="2863800"/>
                <a:tab algn="l" pos="3273480"/>
                <a:tab algn="l" pos="3683160"/>
                <a:tab algn="l" pos="4092480"/>
                <a:tab algn="l" pos="4502160"/>
                <a:tab algn="l" pos="4910040"/>
                <a:tab algn="l" pos="5319720"/>
                <a:tab algn="l" pos="5729400"/>
                <a:tab algn="l" pos="6138720"/>
                <a:tab algn="l" pos="6548400"/>
                <a:tab algn="l" pos="6958080"/>
                <a:tab algn="l" pos="7367760"/>
                <a:tab algn="l" pos="7777080"/>
                <a:tab algn="l" pos="8186760"/>
                <a:tab algn="l" pos="8229600"/>
                <a:tab algn="l" pos="9144000"/>
                <a:tab algn="l" pos="10058400"/>
              </a:tabLst>
            </a:pPr>
            <a:fld id="{509E95CD-38E9-4705-8451-60C29D9C73F9}"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DE934825-C94B-4AB8-8271-B50B69E2FCED}"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8"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body"/>
          </p:nvPr>
        </p:nvSpPr>
        <p:spPr>
          <a:xfrm>
            <a:off x="685440" y="4341600"/>
            <a:ext cx="24180840" cy="128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úprav nebo změn v projektu je nutné rozlišovat jaké změny mají charakter nepodstatných a jaké podstatných změ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změny nemají vliv na plnění podmínek uvedených v Rozhodnutí nebo v právním aktu, kterým se poskytuje dotace, nemají vliv na monitorovací indikátory a cíle projektu </a:t>
            </a:r>
            <a:r>
              <a:rPr b="0" lang="cs-CZ" sz="1200" spc="-1" strike="noStrike">
                <a:solidFill>
                  <a:srgbClr val="000000"/>
                </a:solidFill>
                <a:latin typeface="Wingdings"/>
                <a:ea typeface="Wingdings"/>
              </a:rPr>
              <a:t></a:t>
            </a:r>
            <a:r>
              <a:rPr b="0" lang="cs-CZ" sz="1200" spc="-1" strike="noStrike">
                <a:solidFill>
                  <a:srgbClr val="000000"/>
                </a:solidFill>
                <a:latin typeface="Calibri"/>
              </a:rPr>
              <a:t> jedná se o nepodstatné změny, které nepodléhají předchozímu schválení z naší str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yto změny musí být ale dostatečně popsány a zdůvodněny v nejbližší předkládané monitorovací zprávě.</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byste chtěli provést ve schváleném projektu změny, které by ovlivňovaly naplnění cílů projektu nebo by měnily jeho charakter, musíte návrh těchto změn poslat k posouzení odboru CERA. V případě jejich schválení se musí vydat dodatek k právnímu aktu o poskytnutí podpory. Před odesláním návrhu podstatné změny v projektu musí být tento návrh odsouhlasen všemi parnery.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ED08A781-5816-4C26-9AF0-B305FCAC61AD}"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body"/>
          </p:nvPr>
        </p:nvSpPr>
        <p:spPr>
          <a:xfrm>
            <a:off x="685440" y="4341600"/>
            <a:ext cx="27519480" cy="250668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Nehledě na to, jestli provádíte změny podstatné nebo nepodstatné, pokud se tyto změny týkají změn v rozpočtu, dejte si pozor, aby nedošlo k </a:t>
            </a:r>
            <a:r>
              <a:rPr b="1" lang="cs-CZ" sz="2200" spc="-1" strike="noStrike">
                <a:solidFill>
                  <a:srgbClr val="000000"/>
                </a:solidFill>
                <a:latin typeface="Calibri"/>
              </a:rPr>
              <a:t>navýšení celkové schválené částky uznatelných výdajů projektu</a:t>
            </a:r>
            <a:r>
              <a:rPr b="0" lang="cs-CZ" sz="2200" spc="-1" strike="noStrike">
                <a:solidFill>
                  <a:srgbClr val="000000"/>
                </a:solidFill>
                <a:latin typeface="Calibri"/>
              </a:rPr>
              <a:t>,</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a aby jste prováděnou změnou </a:t>
            </a:r>
            <a:r>
              <a:rPr b="1" lang="cs-CZ" sz="2200" spc="-1" strike="noStrike">
                <a:solidFill>
                  <a:srgbClr val="000000"/>
                </a:solidFill>
                <a:latin typeface="Calibri"/>
              </a:rPr>
              <a:t>nenavýšili kapitoly nebo položky rozpočtu, které byly kráceny VK.</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Dále v rámci provádění změn v rozpočtu </a:t>
            </a:r>
            <a:r>
              <a:rPr b="1" lang="cs-CZ" sz="2200" spc="-1" strike="noStrike">
                <a:solidFill>
                  <a:srgbClr val="000000"/>
                </a:solidFill>
                <a:latin typeface="Calibri"/>
              </a:rPr>
              <a:t>nesmí dojít k překročení procentních limitů</a:t>
            </a:r>
            <a:r>
              <a:rPr b="0" lang="cs-CZ" sz="2200" spc="-1" strike="noStrike">
                <a:solidFill>
                  <a:srgbClr val="000000"/>
                </a:solidFill>
                <a:latin typeface="Calibri"/>
              </a:rPr>
              <a:t>, které jsou závazné pro některé kapitoly rozpočtu a </a:t>
            </a:r>
            <a:r>
              <a:rPr b="1" lang="cs-CZ" sz="2200" spc="-1" strike="noStrike">
                <a:solidFill>
                  <a:srgbClr val="000000"/>
                </a:solidFill>
                <a:latin typeface="Calibri"/>
              </a:rPr>
              <a:t>není možné, aby změny způsobily začátek nové KA nebo zrušení či ukončení stávající KA. </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šechny změny v rozpočtu nehledě na to, zda se jedná o změny podstatné nebo nepodstatné musí být řádně  zdůvodněny a musí být </a:t>
            </a:r>
            <a:r>
              <a:rPr b="1" lang="cs-CZ" sz="2200" spc="-1" strike="noStrike">
                <a:solidFill>
                  <a:srgbClr val="000000"/>
                </a:solidFill>
                <a:latin typeface="Calibri"/>
              </a:rPr>
              <a:t>doloženy přepracovaným rozpočtem. </a:t>
            </a:r>
            <a:endParaRPr b="0" lang="en-US" sz="2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BD592743-AF26-4DEE-A897-D9F5BF650F89}"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4"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body"/>
          </p:nvPr>
        </p:nvSpPr>
        <p:spPr>
          <a:xfrm>
            <a:off x="685800" y="4341960"/>
            <a:ext cx="21239280" cy="26193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se jedná o nepodstatné změny rozpočtu, oznamují se a zdůvodňují se v bezprostředně nejbližší M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odstatnou změnou je </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Přesun finančních prostředků mezi položkami uvnitř jednotlivých kapitol.</a:t>
            </a:r>
            <a:r>
              <a:rPr b="0" lang="cs-CZ" sz="1200" spc="-1" strike="noStrike">
                <a:solidFill>
                  <a:srgbClr val="000000"/>
                </a:solidFill>
                <a:latin typeface="Calibri"/>
              </a:rPr>
              <a:t> Tyto změny mohou být prováděny bez omezení s výjimkou kapitoly Osobní náklady a Křížové financová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 lze provádět nepodstatné změny pouze pokud jsou zapříčiněny změnou schváleného pracovněprávního vztahu, rozdělením úvazků nebo sloučením úvazků, vytvořením nové pracovní pozice nebo navýšením úvazku stávající pozice za schválenou jednotkovou cen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 se nedají provádět nepodstatné změny, pokud je příjemce organizace s limity mzdové regulace. Všechny změny v této kapitole jsou u organizací se závaznými mzdovými limity považovány za změny podstat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nepodstatných změn není možné navyšovat finanční prostředky schválené v kapitole Křížové financová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Za nepodstatnou změnou je  považován i </a:t>
            </a:r>
            <a:r>
              <a:rPr b="1" lang="cs-CZ" sz="1200" spc="-1" strike="noStrike">
                <a:solidFill>
                  <a:srgbClr val="000000"/>
                </a:solidFill>
                <a:latin typeface="Calibri"/>
              </a:rPr>
              <a:t>přesun finančních prostředků mezi kapitolami, ale tento přesun nesmí převýšit 15 % objemu celkových způsobilých výdajů kapitoly, ze které jsou finanční prostředky převáděny</a:t>
            </a:r>
            <a:r>
              <a:rPr b="0" lang="cs-CZ" sz="1200" spc="-1" strike="noStrike">
                <a:solidFill>
                  <a:srgbClr val="000000"/>
                </a:solidFill>
                <a:latin typeface="Calibri"/>
              </a:rPr>
              <a:t>. Kapitola Osobní náklady nesmí být navýšena o více jak 15 % schváleného objemu výdajů této kapito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sun prostředků mezi kapitolami se posuzuje podle schváleného rozpočtu, případně pokud byl již rozpočet upraven podstatnou změnou, tak podle tohoto nového schváleného rozpočtu. Čili podle rozpočtu uvedeném v Rozhodnutí nebo právním aktu o přidělení dotace či podle rozpočtu, který je uveden v dodatku k tomuto právnímu a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Dále je možné v rámci nepodstatné změny </a:t>
            </a:r>
            <a:r>
              <a:rPr b="1" lang="cs-CZ" sz="1200" spc="-1" strike="noStrike">
                <a:solidFill>
                  <a:srgbClr val="000000"/>
                </a:solidFill>
                <a:latin typeface="Calibri"/>
              </a:rPr>
              <a:t>zrušit stávající nebo vytvořit novou položku rozpočtu</a:t>
            </a:r>
            <a:r>
              <a:rPr b="0" lang="cs-CZ" sz="1200" spc="-1" strike="noStrike">
                <a:solidFill>
                  <a:srgbClr val="000000"/>
                </a:solidFill>
                <a:latin typeface="Calibri"/>
              </a:rPr>
              <a:t>. V tomto případě je nutné pohlídat, aby tato změna nezpůsobila zrušení stávající nebo začátek nové klíčové aktivity!</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23450B0C-5E13-45CC-AA0B-3FFE5B00D2C8}"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7"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body"/>
          </p:nvPr>
        </p:nvSpPr>
        <p:spPr>
          <a:xfrm>
            <a:off x="685800" y="4341960"/>
            <a:ext cx="5494320" cy="4070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romě nepodstatných změn týkajících se rozpočtu je možné provádět </a:t>
            </a:r>
            <a:r>
              <a:rPr b="1" lang="cs-CZ" sz="1200" spc="-1" strike="noStrike">
                <a:solidFill>
                  <a:srgbClr val="000000"/>
                </a:solidFill>
                <a:latin typeface="Calibri"/>
              </a:rPr>
              <a:t>změny v době realizace jednotlivých KA</a:t>
            </a:r>
            <a:r>
              <a:rPr b="0" lang="cs-CZ" sz="1200" spc="-1" strike="noStrike">
                <a:solidFill>
                  <a:srgbClr val="000000"/>
                </a:solidFill>
                <a:latin typeface="Calibri"/>
              </a:rPr>
              <a:t>. Tyto změny musí být opět zdůvodněny v MZ a doloženy novým přepracovaným harmonogramem. Zde není možné v rámci změny v harmonogramu změnit celkovou dobu realizace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odstatné změny týkající se změny kontaktních údajů příjemce, změny jeho sídla nebo změny hlavní kontaktní osoby nebo manažera projektu je nutné oznámit neprodleně a následně pak i s M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nepodstatnou změnu je považována i změna auditora (pokud je provedení auditu v projektu povin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názvu subjek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ve statutu plátce D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statutárního zástupce, tady je ale nutné, aby příjemce odeslal do 5 PD oznámení o změně s podklady, které tuto změnu prokazuj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nepodstatnou změnou je i změna smlouvy mezi partnerem a příjemcem, která se mění z důvodu, že došlo k nepodstatným změnám u partnera. Kopii nové partnerské smlouvy je třeba doložit v monitorovací zprávě, kde bude opět tato změna popsána a zdůvodně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A72EDBAF-3AB9-4254-9D4C-4844DAD5D9CC}"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0"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1"/>
          <p:cNvSpPr>
            <a:spLocks noGrp="1"/>
          </p:cNvSpPr>
          <p:nvPr>
            <p:ph type="body"/>
          </p:nvPr>
        </p:nvSpPr>
        <p:spPr>
          <a:xfrm>
            <a:off x="685440" y="4341600"/>
            <a:ext cx="5483160" cy="4113000"/>
          </a:xfrm>
          <a:prstGeom prst="rect">
            <a:avLst/>
          </a:prstGeom>
          <a:noFill/>
          <a:ln w="0">
            <a:noFill/>
          </a:ln>
        </p:spPr>
        <p:txBody>
          <a:bodyPr anchor="ctr" anchorCtr="1">
            <a:noAutofit/>
          </a:bodyPr>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Z je tedy změna která mění obsah nebo charakter schváleného projektu a zakládá povinnost upravit nebo doplnit právní akt o poskytnutí dotace.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Tato změna tedy nesmí být provedena před jejím schválením a vydáním dodatku k právnímu aktu.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Žádost o PZ naleznete na </a:t>
            </a:r>
            <a:r>
              <a:rPr b="1" lang="cs-CZ" sz="1000" spc="-1" strike="noStrike">
                <a:solidFill>
                  <a:srgbClr val="000000"/>
                </a:solidFill>
                <a:latin typeface="Calibri"/>
              </a:rPr>
              <a:t>webových stránkách</a:t>
            </a:r>
            <a:r>
              <a:rPr b="0" lang="cs-CZ" sz="1000" spc="-1" strike="noStrike">
                <a:solidFill>
                  <a:srgbClr val="000000"/>
                </a:solidFill>
                <a:latin typeface="Calibri"/>
              </a:rPr>
              <a:t> ministerstva pod odkazem SF/pro žadatele a příjemce/MZ a její přílohy</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V této žádosti popíšete navrhovanou změnu, zdůvodníte ji a případně přiložíte další související dokumenty (změněný rozpočet/harm.)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řed odesláním žádosti ji musíte nechat potvrdit </a:t>
            </a:r>
            <a:r>
              <a:rPr b="1" lang="cs-CZ" sz="1000" spc="-1" strike="noStrike">
                <a:solidFill>
                  <a:srgbClr val="000000"/>
                </a:solidFill>
                <a:latin typeface="Calibri"/>
              </a:rPr>
              <a:t>souhlasem všech partnerů </a:t>
            </a:r>
            <a:r>
              <a:rPr b="0" lang="cs-CZ" sz="1000" spc="-1" strike="noStrike">
                <a:solidFill>
                  <a:srgbClr val="000000"/>
                </a:solidFill>
                <a:latin typeface="Calibri"/>
              </a:rPr>
              <a:t>projektu. Pokud žádost nebude obsahovat písemný souhlas partnerů, musíte zdůvodnit proč jste jej nezískali.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okud to bude z formálních/organizačních důvodů </a:t>
            </a:r>
            <a:r>
              <a:rPr b="0" lang="cs-CZ" sz="1000" spc="-1" strike="noStrike">
                <a:solidFill>
                  <a:srgbClr val="000000"/>
                </a:solidFill>
                <a:latin typeface="Wingdings"/>
                <a:ea typeface="Wingdings"/>
              </a:rPr>
              <a:t></a:t>
            </a:r>
            <a:r>
              <a:rPr b="0" lang="cs-CZ" sz="1000" spc="-1" strike="noStrike">
                <a:solidFill>
                  <a:srgbClr val="000000"/>
                </a:solidFill>
                <a:latin typeface="Calibri"/>
              </a:rPr>
              <a:t> statutár nepřítomen, lze dodat zpětně),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ale pokud nesouhlas partnera, tak se to bude brát v potaz při schvalování…</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Tato podepsaná žádost se posílá příslušnému PM O CERA a na její posouzení mají pracovníci ministerstva 30 PD. Po rozhodnutí o schválení či neschválení navrhované změny má příslušný PM O CERA 5 PD na vyrozumění příjemce. V případě schválení PZ se vydá dodatek prvního aktu, který nabývá účinnosti dnem podpisu oběma stranami.</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Odsouhlasení změn nelze provést se zpětnou platností, výjimkou je odsouhlasení změny začátku realizace projektu nebo těch změn, jejichž příčinu nemohl příjemce ovlivnit.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ozor na to, že žádost o podstatnou změnu projektu můžete předložit nejpozději 60 KD před ukončením projektu, v posledních dvou měsících projektu tedy nelze u žádat o podstatné změny!</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FAC83052-7B2B-432A-A0F9-B67ED27DED32}"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3"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body"/>
          </p:nvPr>
        </p:nvSpPr>
        <p:spPr>
          <a:xfrm>
            <a:off x="685440" y="4341600"/>
            <a:ext cx="19740600" cy="1950840"/>
          </a:xfrm>
          <a:prstGeom prst="rect">
            <a:avLst/>
          </a:prstGeom>
          <a:noFill/>
          <a:ln w="0">
            <a:noFill/>
          </a:ln>
        </p:spPr>
        <p:txBody>
          <a:bodyPr anchor="ctr" anchorCtr="1">
            <a:noAutofit/>
          </a:bodyPr>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týkající se rozpočtu jsou všechny změny, které nenaleznete v PpP jako změny nepodstatné. Tedy žádost o podstatnou změnu musíte podat, pokud předsouváte finanční prostředky mezi kapitolami v takové výši, která přesahuje 15 % celkového objemu způsobilých výdajů kapitoly, ze které prostředky přesouváte.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PZ je považováno i navýšení finančních prostředků kapitoly Osobních nákladů o více než 15 % celkového objemu této kapitoly v rámci platného rozpočtu.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PZ je dále považováno jakékoliv navýšení položek kapitoly Křížové financování.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je jakákoliv změna v rozpočtu v kapitole Osobních nákladů, které způsobí přesun limitních hodnot u organizací se stanovenými limity mzdové regulace.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odně zdůraznit, že když mají v rozhodnutí limity mzdové regulace, tak pozor na změny v kapitole osobní náklady, jakékoliv přesuny i v rámci kapitoly jsou podstatné!!!!</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0ABF9A81-B073-4CED-8595-F9A487291A7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85800" y="4341960"/>
            <a:ext cx="22860000" cy="23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alší změny charakteru PZ, jsou změny týkají se například MI, i když v žádném případě nelze zrušit povinné 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je změna začátku nebo ukončení realizace projektu, v případě prodloužení doby realizace projektu není možné navýšit schválené finanční prostřed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arakter PZ mají změny v partnerské smlouvě, které mají charakter podstatných změn, dále je PZ odstoupení partnera v průběhu realizace projektu nebo zapojení nové partnera do projektu, ale to jde pouze ve výjimečných a dostatečně zdůvodněných případech. Například může dojít k výměně partnera za jiného partnera při zachování všech povinností a závazk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výjimečných případech může dojít i ke změně projektového účtu, záměr změnit účet opět podléhá souhlasu ze strany poskytovatele. Navíc je příjemce povinen realizaci změny do 5 PD oznámit spolu s doložením kopie smlouvy o zřízení nového bankovního účtu nebo formulář FI a doložení převodu všech finančních prostředků projektu na nový úč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D7DD8F69-8D31-4EDB-8D1A-AA7150CEC067}"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9"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body"/>
          </p:nvPr>
        </p:nvSpPr>
        <p:spPr>
          <a:xfrm>
            <a:off x="685800" y="4341960"/>
            <a:ext cx="25045920" cy="17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rtnerství v rámci projektů OP VK je založeno na opodstatněnosti a nezastupitelnosti. Partnerství musí zabezpečovat takové aktivity, bez nichž by nebylo dosaženo cílů a MI projektu. Výběr projektů k realizaci je založen na posouzení projektu jako celku včetně opodstatněnosti partnera, tudíž veškeré změny týkající se odstoupení stávajícího nebo přistoupení nového partnera jsou změny podstat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rtnerství nesmí být založeno na poskytování administrativních nebo jiných běžných služeb. Partner tedy nesmí být dodavatelem služeb souvisejících činnostmi projektu ani nesmí být poskytovatelem jiných dodávek pro projek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s partnerem společně realizují min. 51 % aktivit projektu, přičemž příjemce by měl realizovat vždy převažující část aktivit projek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jekty, které jsou v rámci partnerství realizovány musí mít neziskový charakter, čili příjemce ani partneři nemohou projekt realizovat za účelem dosažení zisk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1CCB0-EC6F-4140-A5F1-04CBD3B7D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73BAB-286E-4095-BB94-9AD1C8121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81AD0-74BA-43AE-AE93-BCF35BBE5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BFF4A-A3B2-439E-AB74-2D48DD292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D698D-B626-45CA-B343-7F31D627B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CC4F3-BF3D-4AAC-9857-83A0D4EEF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8CEA2-085D-40E1-9869-3AC3C3D8A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D039B-80C3-4DFF-BAE2-58C15E88B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9408A-A914-4C21-B2CD-8305BA55D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B0E5C-F2F9-467C-87AB-59EE8D545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13E33-42BF-47BF-AE6A-E12AA60A1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1C1B9-DB28-4217-8755-5FE19F006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EE14-447A-42DD-806F-00AF78006BDA}"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comments" Target="../comments/comment9.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757520" y="2909520"/>
            <a:ext cx="7386480" cy="239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Pravidla projektového řízení </a:t>
            </a:r>
            <a:br>
              <a:rPr sz="4000"/>
            </a:br>
            <a:br>
              <a:rPr sz="2000"/>
            </a:br>
            <a:r>
              <a:rPr b="1" lang="cs-CZ" sz="2900" spc="-1" strike="noStrike">
                <a:solidFill>
                  <a:srgbClr val="f3912c"/>
                </a:solidFill>
                <a:latin typeface="Calibri"/>
              </a:rPr>
              <a:t>Ing. Ilona Sochůrková</a:t>
            </a:r>
            <a:br>
              <a:rPr sz="2900"/>
            </a:br>
            <a:endParaRPr b="0" lang="en-US" sz="2900" spc="-1" strike="noStrike">
              <a:solidFill>
                <a:srgbClr val="000000"/>
              </a:solidFill>
              <a:latin typeface="Calibri"/>
            </a:endParaRPr>
          </a:p>
        </p:txBody>
      </p:sp>
      <p:pic>
        <p:nvPicPr>
          <p:cNvPr id="49" name="Picture 5" descr=""/>
          <p:cNvPicPr/>
          <p:nvPr/>
        </p:nvPicPr>
        <p:blipFill>
          <a:blip r:embed="rId1"/>
          <a:stretch/>
        </p:blipFill>
        <p:spPr>
          <a:xfrm>
            <a:off x="0" y="2077920"/>
            <a:ext cx="1730520" cy="4780080"/>
          </a:xfrm>
          <a:prstGeom prst="rect">
            <a:avLst/>
          </a:prstGeom>
          <a:ln w="0">
            <a:noFill/>
          </a:ln>
        </p:spPr>
      </p:pic>
      <p:sp>
        <p:nvSpPr>
          <p:cNvPr id="50"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3912c"/>
                </a:solidFill>
                <a:latin typeface="Calibri"/>
              </a:rPr>
              <a:t>Prezentace pro příjemce IPo, kteří se řídí Příručkou pro příjemce fin.podpory z OP VK, verze 3, učinná od 3.10.2009.</a:t>
            </a:r>
            <a:br>
              <a:rPr sz="14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ká smlouva</a:t>
            </a:r>
            <a:endParaRPr b="0" lang="en-US" sz="3600" spc="-1" strike="noStrike">
              <a:solidFill>
                <a:srgbClr val="000000"/>
              </a:solidFill>
              <a:latin typeface="Calibri"/>
            </a:endParaRPr>
          </a:p>
        </p:txBody>
      </p:sp>
      <p:sp>
        <p:nvSpPr>
          <p:cNvPr id="81" name="Zástupný symbol pro obsah 7"/>
          <p:cNvSpPr/>
          <p:nvPr/>
        </p:nvSpPr>
        <p:spPr>
          <a:xfrm>
            <a:off x="1720800" y="1355760"/>
            <a:ext cx="6804000" cy="4924440"/>
          </a:xfrm>
          <a:prstGeom prst="rect">
            <a:avLst/>
          </a:prstGeom>
          <a:noFill/>
          <a:ln w="0">
            <a:noFill/>
          </a:ln>
        </p:spPr>
        <p:style>
          <a:lnRef idx="0"/>
          <a:fillRef idx="0"/>
          <a:effectRef idx="0"/>
          <a:fontRef idx="minor"/>
        </p:style>
        <p:txBody>
          <a:bodyPr lIns="0" rIns="0" tIns="0" bIns="0" anchor="t">
            <a:noAutofit/>
          </a:bodyPr>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a) Partner s finančním příspěvkem</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b) Partner bez finančního příspěvku</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společná realizace aktivit projektu</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odpovědnost poskytovateli je na příjemci!</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povaha právních vztahů není založena na poskytování služeb</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nesmí být v rozporu s právními předpisy ČR</a:t>
            </a: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82" name="Picture 5" descr=""/>
          <p:cNvPicPr/>
          <p:nvPr/>
        </p:nvPicPr>
        <p:blipFill>
          <a:blip r:embed="rId1"/>
          <a:stretch/>
        </p:blipFill>
        <p:spPr>
          <a:xfrm>
            <a:off x="0" y="2077920"/>
            <a:ext cx="1730520" cy="4780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90840" y="254160"/>
            <a:ext cx="7192800" cy="77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700" spc="-1" strike="noStrike">
                <a:solidFill>
                  <a:srgbClr val="f3912c"/>
                </a:solidFill>
                <a:latin typeface="Calibri"/>
              </a:rPr>
              <a:t>Partnerská smlouva</a:t>
            </a:r>
            <a:endParaRPr b="0" lang="en-US" sz="3700" spc="-1" strike="noStrike">
              <a:solidFill>
                <a:srgbClr val="000000"/>
              </a:solidFill>
              <a:latin typeface="Calibri"/>
            </a:endParaRPr>
          </a:p>
        </p:txBody>
      </p:sp>
      <p:sp>
        <p:nvSpPr>
          <p:cNvPr id="84" name="Zástupný symbol pro obsah 7"/>
          <p:cNvSpPr/>
          <p:nvPr/>
        </p:nvSpPr>
        <p:spPr>
          <a:xfrm>
            <a:off x="1785960" y="1355760"/>
            <a:ext cx="6956280" cy="505440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artner s finančním příspěvkem</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samostatný projektový bankovní účet/podúče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výjimka při proplácení výdajů partnerovi ex-p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říjemce podpory = žadatel</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žádost o proplacení výdajů předkládá partner příjemci</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má při dokladování a vyúčtování vůči poskytovateli podpory stejné povinnosti jako příjemce</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má vůči poskytovateli podpory povinnosti vyplývající z partnerské smlouv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5" name="Picture 5" descr=""/>
          <p:cNvPicPr/>
          <p:nvPr/>
        </p:nvPicPr>
        <p:blipFill>
          <a:blip r:embed="rId1"/>
          <a:stretch/>
        </p:blipFill>
        <p:spPr>
          <a:xfrm>
            <a:off x="0" y="2077920"/>
            <a:ext cx="1730520" cy="4780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90840" y="317520"/>
            <a:ext cx="7192800" cy="1231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700" spc="-1" strike="noStrike">
                <a:solidFill>
                  <a:srgbClr val="f3912c"/>
                </a:solidFill>
                <a:latin typeface="Calibri"/>
              </a:rPr>
              <a:t>Partnerská smlouva - </a:t>
            </a:r>
            <a:br>
              <a:rPr sz="3700"/>
            </a:br>
            <a:r>
              <a:rPr b="1" lang="cs-CZ" sz="3700" spc="-1" strike="noStrike">
                <a:solidFill>
                  <a:srgbClr val="f3912c"/>
                </a:solidFill>
                <a:latin typeface="Calibri"/>
              </a:rPr>
              <a:t>Partner s finančním příspěvkem</a:t>
            </a:r>
            <a:endParaRPr b="0" lang="en-US" sz="3700" spc="-1" strike="noStrike">
              <a:solidFill>
                <a:srgbClr val="000000"/>
              </a:solidFill>
              <a:latin typeface="Calibri"/>
            </a:endParaRPr>
          </a:p>
        </p:txBody>
      </p:sp>
      <p:sp>
        <p:nvSpPr>
          <p:cNvPr id="87" name="Zástupný symbol pro obsah 7"/>
          <p:cNvSpPr/>
          <p:nvPr/>
        </p:nvSpPr>
        <p:spPr>
          <a:xfrm>
            <a:off x="1785960" y="1808280"/>
            <a:ext cx="6956280" cy="39542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Úhrady mezi příjemcem a partnerem:</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říjemce poskytne partnerovi část zálohové platby,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artner vyúčtovává způsobilé výdaje za dané MO, příjemce zahrnuje do MZ</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artner</a:t>
            </a:r>
            <a:r>
              <a:rPr b="1" lang="cs-CZ" sz="2200" spc="-1" strike="noStrike">
                <a:solidFill>
                  <a:srgbClr val="000000"/>
                </a:solidFill>
                <a:latin typeface="Calibri"/>
              </a:rPr>
              <a:t> </a:t>
            </a:r>
            <a:r>
              <a:rPr b="0" lang="cs-CZ" sz="2200" spc="-1" strike="noStrike">
                <a:solidFill>
                  <a:srgbClr val="000000"/>
                </a:solidFill>
                <a:latin typeface="Calibri"/>
              </a:rPr>
              <a:t>vyúčtovává způsobilé výdaje, ale jejich proplacení nastává až po schválení poskytovatelem podpory</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vinnost partnera vrátit nedočerpané finanční prostředky</a:t>
            </a:r>
            <a:endParaRPr b="0" lang="en-US" sz="2200" spc="-1" strike="noStrike">
              <a:solidFill>
                <a:srgbClr val="000000"/>
              </a:solidFill>
              <a:latin typeface="Arial"/>
            </a:endParaRPr>
          </a:p>
        </p:txBody>
      </p:sp>
      <p:pic>
        <p:nvPicPr>
          <p:cNvPr id="88" name="Picture 5" descr=""/>
          <p:cNvPicPr/>
          <p:nvPr/>
        </p:nvPicPr>
        <p:blipFill>
          <a:blip r:embed="rId1"/>
          <a:stretch/>
        </p:blipFill>
        <p:spPr>
          <a:xfrm>
            <a:off x="0" y="2077920"/>
            <a:ext cx="1730520" cy="4780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20800" y="317520"/>
            <a:ext cx="702144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ká smlouva</a:t>
            </a:r>
            <a:endParaRPr b="0" lang="en-US" sz="3600" spc="-1" strike="noStrike">
              <a:solidFill>
                <a:srgbClr val="000000"/>
              </a:solidFill>
              <a:latin typeface="Calibri"/>
            </a:endParaRPr>
          </a:p>
        </p:txBody>
      </p:sp>
      <p:sp>
        <p:nvSpPr>
          <p:cNvPr id="90" name="Zástupný symbol pro obsah 7"/>
          <p:cNvSpPr/>
          <p:nvPr/>
        </p:nvSpPr>
        <p:spPr>
          <a:xfrm>
            <a:off x="1655640" y="1290600"/>
            <a:ext cx="6956640" cy="4665600"/>
          </a:xfrm>
          <a:prstGeom prst="rect">
            <a:avLst/>
          </a:prstGeom>
          <a:noFill/>
          <a:ln w="0">
            <a:noFill/>
          </a:ln>
        </p:spPr>
        <p:style>
          <a:lnRef idx="0"/>
          <a:fillRef idx="0"/>
          <a:effectRef idx="0"/>
          <a:fontRef idx="minor"/>
        </p:style>
        <p:txBody>
          <a:bodyPr lIns="0" rIns="0" tIns="0" bIns="0" anchor="t">
            <a:noAutofit/>
          </a:bodyPr>
          <a:p>
            <a:pPr lvl="1" marL="414360">
              <a:lnSpc>
                <a:spcPct val="100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Zapůjčování majetku v průběhu realizace projektu</a:t>
            </a:r>
            <a:endParaRPr b="0" lang="en-US" sz="2900" spc="-1" strike="noStrike">
              <a:solidFill>
                <a:srgbClr val="000000"/>
              </a:solidFill>
              <a:latin typeface="Arial"/>
            </a:endParaRPr>
          </a:p>
          <a:p>
            <a:pPr lvl="1" marL="414360">
              <a:lnSpc>
                <a:spcPct val="100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Zařízení a vybavení hrazené příjemcem, užívané partnerem  musí byt inventarizováno a označeno stejně jako zařízení užívané příjemcem.</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ýpůjčky zařízení a vybavení mimo partnerský vztah nejsou možné.</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1" name="Picture 5" descr=""/>
          <p:cNvPicPr/>
          <p:nvPr/>
        </p:nvPicPr>
        <p:blipFill>
          <a:blip r:embed="rId1"/>
          <a:stretch/>
        </p:blipFill>
        <p:spPr>
          <a:xfrm>
            <a:off x="0" y="2077920"/>
            <a:ext cx="1730520" cy="4780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792080" y="1355400"/>
            <a:ext cx="6537240" cy="4816440"/>
          </a:xfrm>
          <a:prstGeom prst="rect">
            <a:avLst/>
          </a:prstGeom>
          <a:noFill/>
          <a:ln w="0">
            <a:noFill/>
          </a:ln>
        </p:spPr>
        <p:txBody>
          <a:bodyPr anchor="t">
            <a:normAutofit/>
          </a:bodyPr>
          <a:p>
            <a:pPr lvl="1" marL="82872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Vypořádání po skončení projektu</a:t>
            </a:r>
            <a:endParaRPr b="0" lang="en-US" sz="29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a) Partner bez finančního příspěvku</a:t>
            </a:r>
            <a:endParaRPr b="0" lang="en-US" sz="2200" spc="-1" strike="noStrike">
              <a:solidFill>
                <a:srgbClr val="000000"/>
              </a:solidFill>
              <a:latin typeface="Calibri"/>
            </a:endParaRPr>
          </a:p>
          <a:p>
            <a:pPr lvl="1" marL="8287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rozdělení zařízení a spotřebního materiálu</a:t>
            </a:r>
            <a:endParaRPr b="0" lang="en-US" sz="2200" spc="-1" strike="noStrike">
              <a:solidFill>
                <a:srgbClr val="000000"/>
              </a:solidFill>
              <a:latin typeface="Calibri"/>
            </a:endParaRPr>
          </a:p>
          <a:p>
            <a:pPr lvl="1" marL="828720" indent="-4143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toto zařízení a spotřební materiál nelze převádět partnerům mimo cílový region, pokud se nejedená o podporu cílové skupiny</a:t>
            </a:r>
            <a:endParaRPr b="0" lang="en-US" sz="2200" spc="-1" strike="noStrike">
              <a:solidFill>
                <a:srgbClr val="000000"/>
              </a:solidFill>
              <a:latin typeface="Calibri"/>
            </a:endParaRPr>
          </a:p>
          <a:p>
            <a:pPr lvl="1" marL="828720" indent="-4143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kopie převodních listin,</a:t>
            </a:r>
            <a:r>
              <a:rPr b="0" lang="cs-CZ" sz="900" spc="-1" strike="noStrike">
                <a:solidFill>
                  <a:srgbClr val="000000"/>
                </a:solidFill>
                <a:latin typeface="Calibri"/>
              </a:rPr>
              <a:t> </a:t>
            </a:r>
            <a:r>
              <a:rPr b="0" lang="cs-CZ" sz="2200" spc="-1" strike="noStrike">
                <a:solidFill>
                  <a:srgbClr val="000000"/>
                </a:solidFill>
                <a:latin typeface="Calibri"/>
              </a:rPr>
              <a:t>darovacích smluv</a:t>
            </a:r>
            <a:r>
              <a:rPr b="0" lang="cs-CZ" sz="900" spc="-1" strike="noStrike">
                <a:solidFill>
                  <a:srgbClr val="000000"/>
                </a:solidFill>
                <a:latin typeface="Calibri"/>
              </a:rPr>
              <a:t> </a:t>
            </a:r>
            <a:r>
              <a:rPr b="0" lang="cs-CZ" sz="2200" spc="-1" strike="noStrike">
                <a:solidFill>
                  <a:srgbClr val="000000"/>
                </a:solidFill>
                <a:latin typeface="Calibri"/>
              </a:rPr>
              <a:t>předkládá příjemce</a:t>
            </a:r>
            <a:r>
              <a:rPr b="0" lang="cs-CZ" sz="900" spc="-1" strike="noStrike">
                <a:solidFill>
                  <a:srgbClr val="000000"/>
                </a:solidFill>
                <a:latin typeface="Calibri"/>
              </a:rPr>
              <a:t> </a:t>
            </a:r>
            <a:r>
              <a:rPr b="0" lang="cs-CZ" sz="2200" spc="-1" strike="noStrike">
                <a:solidFill>
                  <a:srgbClr val="000000"/>
                </a:solidFill>
                <a:latin typeface="Calibri"/>
              </a:rPr>
              <a:t>se závěrečnou MZ</a:t>
            </a:r>
            <a:endParaRPr b="0" lang="en-US" sz="2200" spc="-1" strike="noStrike">
              <a:solidFill>
                <a:srgbClr val="000000"/>
              </a:solidFill>
              <a:latin typeface="Calibri"/>
            </a:endParaRPr>
          </a:p>
          <a:p>
            <a:pPr lvl="1" marL="8287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b) Partner s finančním příspěvkem </a:t>
            </a:r>
            <a:endParaRPr b="0" lang="en-US" sz="22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ařízení a spotřební materiál ve vlastnictví</a:t>
            </a:r>
            <a:endParaRPr b="0" lang="en-US" sz="2200" spc="-1" strike="noStrike">
              <a:solidFill>
                <a:srgbClr val="000000"/>
              </a:solidFill>
              <a:latin typeface="Calibri"/>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3" name="Nadpis 5"/>
          <p:cNvSpPr/>
          <p:nvPr/>
        </p:nvSpPr>
        <p:spPr>
          <a:xfrm>
            <a:off x="1720800" y="317520"/>
            <a:ext cx="7021440" cy="64944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Partnerská smlouva</a:t>
            </a:r>
            <a:endParaRPr b="0" lang="en-US" sz="4000" spc="-1" strike="noStrike">
              <a:solidFill>
                <a:srgbClr val="000000"/>
              </a:solidFill>
              <a:latin typeface="Arial"/>
            </a:endParaRPr>
          </a:p>
        </p:txBody>
      </p:sp>
      <p:pic>
        <p:nvPicPr>
          <p:cNvPr id="94" name="Picture 5" descr=""/>
          <p:cNvPicPr/>
          <p:nvPr/>
        </p:nvPicPr>
        <p:blipFill>
          <a:blip r:embed="rId1"/>
          <a:stretch/>
        </p:blipFill>
        <p:spPr>
          <a:xfrm>
            <a:off x="0" y="2077920"/>
            <a:ext cx="1730520" cy="478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96" name="Zástupný symbol pro obsah 7"/>
          <p:cNvSpPr/>
          <p:nvPr/>
        </p:nvSpPr>
        <p:spPr>
          <a:xfrm>
            <a:off x="1720800" y="1160640"/>
            <a:ext cx="7193160" cy="53798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r>
              <a:rPr b="0" lang="cs-CZ" sz="2200" spc="-1" strike="noStrike">
                <a:solidFill>
                  <a:srgbClr val="000000"/>
                </a:solidFill>
                <a:latin typeface="Calibri"/>
              </a:rPr>
              <a:t>- </a:t>
            </a:r>
            <a:r>
              <a:rPr b="1" lang="cs-CZ" sz="2200" spc="-1" strike="noStrike">
                <a:solidFill>
                  <a:srgbClr val="000000"/>
                </a:solidFill>
                <a:latin typeface="Calibri"/>
              </a:rPr>
              <a:t>souhlas partnerů </a:t>
            </a:r>
            <a:r>
              <a:rPr b="0" lang="cs-CZ" sz="2200" spc="-1" strike="noStrike">
                <a:solidFill>
                  <a:srgbClr val="000000"/>
                </a:solidFill>
                <a:latin typeface="Calibri"/>
              </a:rPr>
              <a:t>ještě před podáním žádosti o podstatnou změnu </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v případě neposkytnutí souhlasu je nutné zdůvodnění</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Odstoupení partnera</a:t>
            </a:r>
            <a:endParaRPr b="0" lang="en-US" sz="29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200" spc="-1" strike="noStrike">
                <a:solidFill>
                  <a:srgbClr val="000000"/>
                </a:solidFill>
                <a:latin typeface="Calibri"/>
              </a:rPr>
              <a:t>a) Zapojen pouze 1 partner:</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1. ukončení projektu v jiném režimu</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2. partner naplnil svoji úlohu v projektu (pokračování bez jeho účasti)</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3. příjemce se zaváže převzít zbývající závazky partnera</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200" spc="-1" strike="noStrike">
                <a:solidFill>
                  <a:srgbClr val="000000"/>
                </a:solidFill>
                <a:latin typeface="Calibri"/>
              </a:rPr>
              <a:t>b) Zapojeni min. 2 partneři: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souzení žádosti o podstatnou změnu v projektu</a:t>
            </a:r>
            <a:endParaRPr b="0" lang="en-US" sz="2200" spc="-1" strike="noStrike">
              <a:solidFill>
                <a:srgbClr val="000000"/>
              </a:solidFill>
              <a:latin typeface="Arial"/>
            </a:endParaRPr>
          </a:p>
          <a:p>
            <a:pPr>
              <a:lnSpc>
                <a:spcPct val="100000"/>
              </a:lnSpc>
              <a:spcAft>
                <a:spcPts val="1287"/>
              </a:spcAf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97" name="Picture 5" descr=""/>
          <p:cNvPicPr/>
          <p:nvPr/>
        </p:nvPicPr>
        <p:blipFill>
          <a:blip r:embed="rId1"/>
          <a:stretch/>
        </p:blipFill>
        <p:spPr>
          <a:xfrm>
            <a:off x="0" y="2077920"/>
            <a:ext cx="1730520" cy="478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99" name="Zástupný symbol pro obsah 7"/>
          <p:cNvSpPr/>
          <p:nvPr/>
        </p:nvSpPr>
        <p:spPr>
          <a:xfrm>
            <a:off x="1720800" y="1160640"/>
            <a:ext cx="7193160" cy="53798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Zapojení nového partnera </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Ve výjimečných a dostatečně odůvodněných případech!</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transformace subjektu partnera a vznik nové organizace,</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výměna stávajícího partnera za nového při zachování všech povinností a závazků  </a:t>
            </a:r>
            <a:endParaRPr b="0" lang="en-US" sz="2200" spc="-1" strike="noStrike">
              <a:solidFill>
                <a:srgbClr val="000000"/>
              </a:solidFill>
              <a:latin typeface="Arial"/>
            </a:endParaRPr>
          </a:p>
          <a:p>
            <a:pPr>
              <a:lnSpc>
                <a:spcPct val="100000"/>
              </a:lnSpc>
              <a:spcAft>
                <a:spcPts val="5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900" spc="-1" strike="noStrike">
                <a:solidFill>
                  <a:srgbClr val="f3912c"/>
                </a:solidFill>
                <a:latin typeface="Calibri"/>
              </a:rPr>
              <a:t>Změna smlouvy s partnerem </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Calibri"/>
              </a:rPr>
              <a:t>- </a:t>
            </a:r>
            <a:r>
              <a:rPr b="0" lang="cs-CZ" sz="2200" spc="-1" strike="noStrike">
                <a:solidFill>
                  <a:srgbClr val="000000"/>
                </a:solidFill>
                <a:latin typeface="Calibri"/>
              </a:rPr>
              <a:t>změna partnerské smlouvy charakteru podstatné změny </a:t>
            </a:r>
            <a:r>
              <a:rPr b="0" lang="cs-CZ" sz="2200" spc="-1" strike="noStrike">
                <a:solidFill>
                  <a:srgbClr val="000000"/>
                </a:solidFill>
                <a:latin typeface="Wingdings"/>
                <a:ea typeface="Wingdings"/>
              </a:rPr>
              <a:t></a:t>
            </a:r>
            <a:r>
              <a:rPr b="0" lang="cs-CZ" sz="2200" spc="-1" strike="noStrike">
                <a:solidFill>
                  <a:srgbClr val="000000"/>
                </a:solidFill>
                <a:latin typeface="Calibri"/>
              </a:rPr>
              <a:t>žádost o podstatnou změnu + návrh nové smlouvy</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100" name="Picture 5" descr=""/>
          <p:cNvPicPr/>
          <p:nvPr/>
        </p:nvPicPr>
        <p:blipFill>
          <a:blip r:embed="rId1"/>
          <a:stretch/>
        </p:blipFill>
        <p:spPr>
          <a:xfrm>
            <a:off x="0" y="2077920"/>
            <a:ext cx="1730520" cy="4780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20800" y="771120"/>
            <a:ext cx="5486400" cy="200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Děkuji za pozornost</a:t>
            </a:r>
            <a:br>
              <a:rPr sz="2000"/>
            </a:br>
            <a:endParaRPr b="0" lang="en-US" sz="4000" spc="-1" strike="noStrike">
              <a:solidFill>
                <a:srgbClr val="000000"/>
              </a:solidFill>
              <a:latin typeface="Calibri"/>
            </a:endParaRPr>
          </a:p>
        </p:txBody>
      </p:sp>
      <p:sp>
        <p:nvSpPr>
          <p:cNvPr id="102" name="PlaceHolder 2"/>
          <p:cNvSpPr>
            <a:spLocks noGrp="1"/>
          </p:cNvSpPr>
          <p:nvPr>
            <p:ph/>
          </p:nvPr>
        </p:nvSpPr>
        <p:spPr>
          <a:xfrm>
            <a:off x="1792080" y="3363480"/>
            <a:ext cx="6862680" cy="28083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Kontakt:</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Ing. Ilona Sochůrková</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pověřena vedením oddělení</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Odbor CERA</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Ministerstvo školství, mládeže a tělovýchovy ČR</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email: ilona.sochurkova@msmt.cz</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p:txBody>
      </p:sp>
      <p:pic>
        <p:nvPicPr>
          <p:cNvPr id="103" name="Picture 5" descr=""/>
          <p:cNvPicPr/>
          <p:nvPr/>
        </p:nvPicPr>
        <p:blipFill>
          <a:blip r:embed="rId1"/>
          <a:stretch/>
        </p:blipFill>
        <p:spPr>
          <a:xfrm>
            <a:off x="0" y="2077920"/>
            <a:ext cx="1730520" cy="478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9084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Změny v projektu</a:t>
            </a:r>
            <a:endParaRPr b="0" lang="en-US" sz="3600" spc="-1" strike="noStrike">
              <a:solidFill>
                <a:srgbClr val="000000"/>
              </a:solidFill>
              <a:latin typeface="Calibri"/>
            </a:endParaRPr>
          </a:p>
        </p:txBody>
      </p:sp>
      <p:sp>
        <p:nvSpPr>
          <p:cNvPr id="52" name="Zástupný symbol pro obsah 7"/>
          <p:cNvSpPr/>
          <p:nvPr/>
        </p:nvSpPr>
        <p:spPr>
          <a:xfrm>
            <a:off x="1720800" y="1938240"/>
            <a:ext cx="6956640" cy="447192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Nepodstatné změn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ovlivní dosažení cílů a monitorovacích indikátorů</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oznamují se v monitorovací zprávě</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odstatné změny </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ění charakter nebo obsah schváleného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doplňují právní ak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dléhají schvále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3" name="Picture 5" descr="C:\Documents and Settings\stojdlovam\Local Settings\Temporary Internet Files\Content.IE5\N001I13E\MCj03843920000[1].wmf"/>
          <p:cNvPicPr/>
          <p:nvPr/>
        </p:nvPicPr>
        <p:blipFill>
          <a:blip r:embed="rId1"/>
          <a:stretch/>
        </p:blipFill>
        <p:spPr>
          <a:xfrm>
            <a:off x="7423200" y="966960"/>
            <a:ext cx="1573200" cy="1693800"/>
          </a:xfrm>
          <a:prstGeom prst="rect">
            <a:avLst/>
          </a:prstGeom>
          <a:ln w="0">
            <a:noFill/>
          </a:ln>
        </p:spPr>
      </p:pic>
      <p:pic>
        <p:nvPicPr>
          <p:cNvPr id="54" name="Picture 5" descr=""/>
          <p:cNvPicPr/>
          <p:nvPr/>
        </p:nvPicPr>
        <p:blipFill>
          <a:blip r:embed="rId2"/>
          <a:stretch/>
        </p:blipFill>
        <p:spPr>
          <a:xfrm>
            <a:off x="0" y="2077920"/>
            <a:ext cx="1730520" cy="4780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Změny v rozpočtu</a:t>
            </a:r>
            <a:endParaRPr b="0" lang="en-US" sz="3600" spc="-1" strike="noStrike">
              <a:solidFill>
                <a:srgbClr val="000000"/>
              </a:solidFill>
              <a:latin typeface="Calibri"/>
            </a:endParaRPr>
          </a:p>
        </p:txBody>
      </p:sp>
      <p:sp>
        <p:nvSpPr>
          <p:cNvPr id="56" name="Zástupný symbol pro obsah 7"/>
          <p:cNvSpPr/>
          <p:nvPr/>
        </p:nvSpPr>
        <p:spPr>
          <a:xfrm>
            <a:off x="1720800" y="1355760"/>
            <a:ext cx="6804000" cy="4924440"/>
          </a:xfrm>
          <a:prstGeom prst="rect">
            <a:avLst/>
          </a:prstGeom>
          <a:noFill/>
          <a:ln w="0">
            <a:noFill/>
          </a:ln>
        </p:spPr>
        <p:style>
          <a:lnRef idx="0"/>
          <a:fillRef idx="0"/>
          <a:effectRef idx="0"/>
          <a:fontRef idx="minor"/>
        </p:style>
        <p:txBody>
          <a:bodyPr lIns="0" rIns="0" tIns="0" bIns="0" anchor="t">
            <a:noAutofit/>
          </a:bodyPr>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ozor:</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navýšit celkový rozpočet!</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navýšit kapitoly nebo položky krácené VK!</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způsobit překročení závazných limitů!</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způsobit začátek nové nebo zrušení stávající klíčové aktivity!</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usí být zdůvodněny  a doloženy novým rozpočtem!</a:t>
            </a: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7" name="Picture 5" descr=""/>
          <p:cNvPicPr/>
          <p:nvPr/>
        </p:nvPicPr>
        <p:blipFill>
          <a:blip r:embed="rId1"/>
          <a:stretch/>
        </p:blipFill>
        <p:spPr>
          <a:xfrm>
            <a:off x="0" y="2077920"/>
            <a:ext cx="1730520" cy="4780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0800" y="317520"/>
            <a:ext cx="702144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Nepodstatné změny</a:t>
            </a:r>
            <a:endParaRPr b="0" lang="en-US" sz="3600" spc="-1" strike="noStrike">
              <a:solidFill>
                <a:srgbClr val="000000"/>
              </a:solidFill>
              <a:latin typeface="Calibri"/>
            </a:endParaRPr>
          </a:p>
        </p:txBody>
      </p:sp>
      <p:sp>
        <p:nvSpPr>
          <p:cNvPr id="59" name="Zástupný symbol pro obsah 7"/>
          <p:cNvSpPr/>
          <p:nvPr/>
        </p:nvSpPr>
        <p:spPr>
          <a:xfrm>
            <a:off x="1720800" y="1160640"/>
            <a:ext cx="6956640" cy="486072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rozpočtu</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1) Přesun prostředků mezi položkami kapitol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zor na kap. Osobní náklady a Křížové financování!</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2) Přesun prostředků mezi kapitolami do výše 15 % objemu způsobilých výdajů kapitoly, ze které jsou prostředky převáděn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zor na kap. Osobní náklad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3) Vytvoření nové nebo zrušení stávající položky.</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0" name="Picture 5" descr=""/>
          <p:cNvPicPr/>
          <p:nvPr/>
        </p:nvPicPr>
        <p:blipFill>
          <a:blip r:embed="rId1"/>
          <a:stretch/>
        </p:blipFill>
        <p:spPr>
          <a:xfrm>
            <a:off x="0" y="2077920"/>
            <a:ext cx="1730520" cy="478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90840" y="253800"/>
            <a:ext cx="719280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300" spc="-1" strike="noStrike">
                <a:solidFill>
                  <a:srgbClr val="f3912c"/>
                </a:solidFill>
                <a:latin typeface="Calibri"/>
              </a:rPr>
              <a:t>Nepodstatné změny</a:t>
            </a:r>
            <a:endParaRPr b="0" lang="en-US" sz="3300" spc="-1" strike="noStrike">
              <a:solidFill>
                <a:srgbClr val="000000"/>
              </a:solidFill>
              <a:latin typeface="Calibri"/>
            </a:endParaRPr>
          </a:p>
        </p:txBody>
      </p:sp>
      <p:sp>
        <p:nvSpPr>
          <p:cNvPr id="62" name="Zástupný symbol pro obsah 7"/>
          <p:cNvSpPr/>
          <p:nvPr/>
        </p:nvSpPr>
        <p:spPr>
          <a:xfrm>
            <a:off x="1785960" y="1355760"/>
            <a:ext cx="6956280" cy="440676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900" spc="-1" strike="noStrike">
                <a:solidFill>
                  <a:srgbClr val="f3912c"/>
                </a:solidFill>
                <a:latin typeface="Calibri"/>
              </a:rPr>
              <a:t>Např. </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Změna harmonogramu realizace </a:t>
            </a:r>
            <a:r>
              <a:rPr b="0" lang="cs-CZ" sz="2200" spc="-1" strike="noStrike">
                <a:solidFill>
                  <a:srgbClr val="000000"/>
                </a:solidFill>
                <a:latin typeface="Calibri"/>
              </a:rPr>
              <a:t>(posun K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kontaktních údajů,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kontaktní osoby, manažera projektu,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auditora,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názvu subjektu, ve statutu plátce DPH,</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statutárního zástupce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artnerské smlouvy charakteru nepodst. Změn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Dřívější ukončení projektu při ukončení všech plánovaných aktivit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V případě pochybností </a:t>
            </a:r>
            <a:r>
              <a:rPr b="1" lang="cs-CZ" sz="2200" spc="-1" strike="noStrike">
                <a:solidFill>
                  <a:srgbClr val="000000"/>
                </a:solidFill>
                <a:latin typeface="Wingdings"/>
                <a:ea typeface="Wingdings"/>
              </a:rPr>
              <a:t></a:t>
            </a:r>
            <a:r>
              <a:rPr b="1" lang="cs-CZ" sz="2200" spc="-1" strike="noStrike">
                <a:solidFill>
                  <a:srgbClr val="000000"/>
                </a:solidFill>
                <a:latin typeface="Calibri"/>
              </a:rPr>
              <a:t> vždy podstatná změna!</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3" name="Picture 5" descr=""/>
          <p:cNvPicPr/>
          <p:nvPr/>
        </p:nvPicPr>
        <p:blipFill>
          <a:blip r:embed="rId1"/>
          <a:stretch/>
        </p:blipFill>
        <p:spPr>
          <a:xfrm>
            <a:off x="0" y="2077920"/>
            <a:ext cx="1730520" cy="4780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65" name="Zástupný symbol pro obsah 7"/>
          <p:cNvSpPr/>
          <p:nvPr/>
        </p:nvSpPr>
        <p:spPr>
          <a:xfrm>
            <a:off x="1720800" y="1160640"/>
            <a:ext cx="6956640" cy="473040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Zástupný symbol pro obsah 7"/>
          <p:cNvSpPr/>
          <p:nvPr/>
        </p:nvSpPr>
        <p:spPr>
          <a:xfrm>
            <a:off x="1720800" y="1160640"/>
            <a:ext cx="7193160" cy="499104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endParaRPr b="0" lang="en-US" sz="29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sp>
        <p:nvSpPr>
          <p:cNvPr id="67" name="Zástupný symbol pro obsah 7"/>
          <p:cNvSpPr/>
          <p:nvPr/>
        </p:nvSpPr>
        <p:spPr>
          <a:xfrm>
            <a:off x="1851120" y="1095480"/>
            <a:ext cx="7192800" cy="486072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r>
              <a:rPr b="1" lang="cs-CZ" sz="2900" spc="-1" strike="noStrike">
                <a:solidFill>
                  <a:srgbClr val="f3912c"/>
                </a:solidFill>
                <a:latin typeface="Calibri"/>
              </a:rPr>
              <a:t>Žádost o podstatnou změnu</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www.msmt.cz/strukturalni-fondy/monitorovaci zprava-a-jeji-prilohy-platna-od-1-6-2009</a:t>
            </a:r>
            <a:endParaRPr b="0" lang="en-US" sz="2200" spc="-1" strike="noStrike">
              <a:solidFill>
                <a:srgbClr val="000000"/>
              </a:solidFill>
              <a:latin typeface="Arial"/>
            </a:endParaRPr>
          </a:p>
          <a:p>
            <a:pPr>
              <a:lnSpc>
                <a:spcPct val="93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zasílá se v písemné podobě příslušné/mu PM</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usí obsahovat popis změny, zdůvodnění, souhlas partnerů, další dokument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suzuje příslušný pracovník MŠM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Lhůt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30 pracovních dnů na posouze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5 pracovních dnů na vyrozumě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max. 60 kalendářních dnů před koncem projektu! </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68" name="Picture 5" descr=""/>
          <p:cNvPicPr/>
          <p:nvPr/>
        </p:nvPicPr>
        <p:blipFill>
          <a:blip r:embed="rId1"/>
          <a:stretch/>
        </p:blipFill>
        <p:spPr>
          <a:xfrm>
            <a:off x="0" y="2077920"/>
            <a:ext cx="1730520" cy="478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70" name="Zástupný symbol pro obsah 7"/>
          <p:cNvSpPr/>
          <p:nvPr/>
        </p:nvSpPr>
        <p:spPr>
          <a:xfrm>
            <a:off x="1720800" y="1095480"/>
            <a:ext cx="7193160" cy="499104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rozpočtu</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1) Přesun prostředků mezi kapitolami přesahující        15 % objemu způsobilých výdajů kapitoly, ze které  jsou prostředky převáděn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2) Navýšení prostředků kapitoly Osobní náklady o více než 15 %.</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3) Navýšení položek Křížového financování.</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4) Jakékoliv změny v kapitole Osobní náklady u organizací s limity mzdové regulace.</a:t>
            </a:r>
            <a:endParaRPr b="0" lang="en-US" sz="2200" spc="-1" strike="noStrike">
              <a:solidFill>
                <a:srgbClr val="000000"/>
              </a:solidFill>
              <a:latin typeface="Arial"/>
            </a:endParaRPr>
          </a:p>
          <a:p>
            <a:pPr marL="414360" indent="-414360">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4360" indent="-414360">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marL="414360" indent="-414360">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71" name="Picture 5" descr=""/>
          <p:cNvPicPr/>
          <p:nvPr/>
        </p:nvPicPr>
        <p:blipFill>
          <a:blip r:embed="rId1"/>
          <a:stretch/>
        </p:blipFill>
        <p:spPr>
          <a:xfrm>
            <a:off x="0" y="2077920"/>
            <a:ext cx="1730520" cy="4780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73" name="Zástupný symbol pro obsah 7"/>
          <p:cNvSpPr/>
          <p:nvPr/>
        </p:nvSpPr>
        <p:spPr>
          <a:xfrm>
            <a:off x="1655640" y="966960"/>
            <a:ext cx="7193160" cy="511956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Zástupný symbol pro obsah 7"/>
          <p:cNvSpPr/>
          <p:nvPr/>
        </p:nvSpPr>
        <p:spPr>
          <a:xfrm>
            <a:off x="1655640" y="836640"/>
            <a:ext cx="7193160" cy="524988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Např.</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a:t>
            </a:r>
            <a:r>
              <a:rPr b="1" lang="cs-CZ" sz="2200" spc="-1" strike="noStrike">
                <a:solidFill>
                  <a:srgbClr val="000000"/>
                </a:solidFill>
                <a:latin typeface="Calibri"/>
              </a:rPr>
              <a:t> monitorovacích indikátorů</a:t>
            </a: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zrušení povinných MI není možné!)</a:t>
            </a:r>
            <a:r>
              <a:rPr b="1" lang="cs-CZ" sz="2200" spc="-1" strike="noStrike">
                <a:solidFill>
                  <a:srgbClr val="000000"/>
                </a:solidFill>
                <a:latin typeface="Calibri"/>
              </a:rPr>
              <a: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a:t>
            </a:r>
            <a:r>
              <a:rPr b="1" lang="cs-CZ" sz="2200" spc="-1" strike="noStrike">
                <a:solidFill>
                  <a:srgbClr val="000000"/>
                </a:solidFill>
                <a:latin typeface="Calibri"/>
              </a:rPr>
              <a:t>data začátku/ukončení realizace projektu</a:t>
            </a:r>
            <a:r>
              <a:rPr b="0" lang="cs-CZ" sz="2200" spc="-1" strike="noStrike">
                <a:solidFill>
                  <a:srgbClr val="000000"/>
                </a:solidFill>
                <a:latin typeface="Calibri"/>
              </a:rPr>
              <a: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artnerské smlouvy charakteru  podst. změn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a:t>
            </a:r>
            <a:r>
              <a:rPr b="1" lang="cs-CZ" sz="2200" spc="-1" strike="noStrike">
                <a:solidFill>
                  <a:srgbClr val="000000"/>
                </a:solidFill>
                <a:latin typeface="Calibri"/>
              </a:rPr>
              <a:t> Odstoupení partner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apojení nového partner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říjemce (transformace sub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rávní formy příjemce,</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rojektového účtu (oznámení do 5 prac. dnů!)</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V případě pochybností </a:t>
            </a:r>
            <a:r>
              <a:rPr b="1" lang="cs-CZ" sz="2200" spc="-1" strike="noStrike">
                <a:solidFill>
                  <a:srgbClr val="000000"/>
                </a:solidFill>
                <a:latin typeface="Wingdings"/>
                <a:ea typeface="Wingdings"/>
              </a:rPr>
              <a:t></a:t>
            </a:r>
            <a:r>
              <a:rPr b="1" lang="cs-CZ" sz="2200" spc="-1" strike="noStrike">
                <a:solidFill>
                  <a:srgbClr val="000000"/>
                </a:solidFill>
                <a:latin typeface="Calibri"/>
              </a:rPr>
              <a:t> vždy podstatná změna!</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75" name="Picture 5" descr=""/>
          <p:cNvPicPr/>
          <p:nvPr/>
        </p:nvPicPr>
        <p:blipFill>
          <a:blip r:embed="rId1"/>
          <a:stretch/>
        </p:blipFill>
        <p:spPr>
          <a:xfrm>
            <a:off x="0" y="2077920"/>
            <a:ext cx="1730520" cy="478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20800" y="38232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tví</a:t>
            </a:r>
            <a:endParaRPr b="0" lang="en-US" sz="3600" spc="-1" strike="noStrike">
              <a:solidFill>
                <a:srgbClr val="000000"/>
              </a:solidFill>
              <a:latin typeface="Calibri"/>
            </a:endParaRPr>
          </a:p>
        </p:txBody>
      </p:sp>
      <p:sp>
        <p:nvSpPr>
          <p:cNvPr id="77" name="Zástupný symbol pro obsah 7"/>
          <p:cNvSpPr/>
          <p:nvPr/>
        </p:nvSpPr>
        <p:spPr>
          <a:xfrm>
            <a:off x="1728720" y="1587600"/>
            <a:ext cx="6956640" cy="440676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Hlavní princip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nezastupiteln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opodstatněn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nesmí být </a:t>
            </a:r>
            <a:r>
              <a:rPr b="1" lang="cs-CZ" sz="2200" spc="-1" strike="noStrike">
                <a:solidFill>
                  <a:srgbClr val="000000"/>
                </a:solidFill>
                <a:latin typeface="Calibri"/>
              </a:rPr>
              <a:t>dodavatelem</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říjemce + partner realizují min. 51 % aktivit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rPr>
              <a:t>  </a:t>
            </a:r>
            <a:r>
              <a:rPr b="0" lang="cs-CZ" sz="2200" spc="-1" strike="noStrike">
                <a:solidFill>
                  <a:srgbClr val="000000"/>
                </a:solidFill>
                <a:latin typeface="Calibri"/>
              </a:rPr>
              <a:t>- příjemce realizuje převažující část aktivi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realizované projekty mají neziskový charakter</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Calibri"/>
              </a:rPr>
              <a:t>.</a:t>
            </a: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78" name="Picture 5" descr="C:\Documents and Settings\stojdlovam\Local Settings\Temporary Internet Files\Content.IE5\6447J1LD\MCj04380810000[1].wmf"/>
          <p:cNvPicPr/>
          <p:nvPr/>
        </p:nvPicPr>
        <p:blipFill>
          <a:blip r:embed="rId1"/>
          <a:stretch/>
        </p:blipFill>
        <p:spPr>
          <a:xfrm>
            <a:off x="6451560" y="1031760"/>
            <a:ext cx="1695600" cy="1255680"/>
          </a:xfrm>
          <a:prstGeom prst="rect">
            <a:avLst/>
          </a:prstGeom>
          <a:ln w="0">
            <a:noFill/>
          </a:ln>
        </p:spPr>
      </p:pic>
      <p:pic>
        <p:nvPicPr>
          <p:cNvPr id="79" name="Picture 5" descr=""/>
          <p:cNvPicPr/>
          <p:nvPr/>
        </p:nvPicPr>
        <p:blipFill>
          <a:blip r:embed="rId2"/>
          <a:stretch/>
        </p:blipFill>
        <p:spPr>
          <a:xfrm>
            <a:off x="0" y="2077920"/>
            <a:ext cx="1730520" cy="478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4:01:09Z</dcterms:created>
  <dc:creator>Ilona Sochůrková</dc:creator>
  <dc:description/>
  <dc:language>en-US</dc:language>
  <cp:lastModifiedBy>ugh</cp:lastModifiedBy>
  <dcterms:modified xsi:type="dcterms:W3CDTF">2009-12-09T17:16:56Z</dcterms:modified>
  <cp:revision>4</cp:revision>
  <dc:subject/>
  <dc:title>Pravidla projektového řízení   Ing. Ilona Sochůrková</dc:title>
</cp:coreProperties>
</file>