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65840" cy="9867960"/>
          </a:xfrm>
          <a:custGeom>
            <a:avLst/>
            <a:gdLst>
              <a:gd name="textAreaLeft" fmla="*/ 360 w 6765840"/>
              <a:gd name="textAreaRight" fmla="*/ 6765480 w 676584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503">
                <a:moveTo>
                  <a:pt x="4" y="0"/>
                </a:moveTo>
                <a:arcTo wR="4" hR="4" stAng="16200000" swAng="-5400000"/>
                <a:lnTo>
                  <a:pt x="0" y="31499"/>
                </a:lnTo>
                <a:arcTo wR="4" hR="4" stAng="10800000" swAng="-5400000"/>
                <a:lnTo>
                  <a:pt x="21596" y="3150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765840" cy="9867960"/>
          </a:xfrm>
          <a:custGeom>
            <a:avLst/>
            <a:gdLst>
              <a:gd name="textAreaLeft" fmla="*/ 360 w 6765840"/>
              <a:gd name="textAreaRight" fmla="*/ 6765480 w 676584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503">
                <a:moveTo>
                  <a:pt x="4" y="0"/>
                </a:moveTo>
                <a:arcTo wR="4" hR="4" stAng="16200000" swAng="-5400000"/>
                <a:lnTo>
                  <a:pt x="0" y="31499"/>
                </a:lnTo>
                <a:arcTo wR="4" hR="4" stAng="10800000" swAng="-5400000"/>
                <a:lnTo>
                  <a:pt x="21596" y="3150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915480" y="749160"/>
            <a:ext cx="492948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0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3220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4"/>
          </p:nvPr>
        </p:nvSpPr>
        <p:spPr>
          <a:xfrm>
            <a:off x="-360" y="9373680"/>
            <a:ext cx="2932200" cy="4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3828600" y="9373680"/>
            <a:ext cx="2932200" cy="4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A607BC-F7EF-4796-AC60-A398A1DD126A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dt" idx="6"/>
          </p:nvPr>
        </p:nvSpPr>
        <p:spPr>
          <a:xfrm>
            <a:off x="383184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83160" rIns="83160" tIns="41760" bIns="4176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11.12.2009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C8B786-2932-4BCE-BBE7-0276CF8839C9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B05DF4-5AEF-4BBD-8856-1A08459C26E3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CA243A-3694-4518-B2C8-CD501E76FCE9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57F2D2-5EE4-41E4-B972-C5F744F70EF4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7B5C05-5D85-4192-8DF3-7D756795B6EF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A42311-782F-4106-9F22-69E44C464FF4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B5DFFB-9E8C-4843-BD86-C6DB05C2E188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7A898C-F7EF-4F37-AA47-EBA9E3F22C15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4D64CD-F707-4118-BEA0-22E9A7CD5B7D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CA41-9B51-46AD-9546-CC494B067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4155-66C0-45DE-AAEB-58D26EBA0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0794-295B-4459-8355-910E7F445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1AFE-4F21-4275-B84F-5F1A0FB4A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11DC-37D2-46C7-A0D8-EFB55ABAB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2A72-D437-4378-B96B-627DEE0FC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7FF3-11A1-48B7-A5E5-6646C77A3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5D36-C83A-488A-B0EA-F39F54871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00AE-4073-46D8-AF7D-A6E38D016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939E-BBE7-42D8-A816-33D4A14A0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E947-349E-4913-8EC1-9E0A771C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3AF4-5BD5-4104-B15B-E8FCC41F3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50C72C0-2556-4637-B807-4FDBDBE21C9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simona.dvorackova@msmt.cz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611000" y="1208160"/>
            <a:ext cx="8358120" cy="59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Calibri"/>
              </a:rPr>
              <a:t>Pravidla publicity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876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Proč se zabývat publicitou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řízení Evropské komise (ES) č. 1828/2006: „…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říjemce finanční podpory je povinen jasně informovat subjekty účastnící se projektu i širokou veřejnost , že projekt získal finanční prostředky v rámci operačního programu spolufinancovaného Evropským sociálním fondem (ESF)“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Šance využít tuto povinnost ke zviditelnění svého projektu a zároveň inspirovat ostatní potenciální žadatele o podpor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skytnutí určité záruky kvality účastníkům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bránění problémům při kontrolách a audite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82640" y="279000"/>
            <a:ext cx="7886880" cy="9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876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Z čeho se publicita skládá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682640" y="1351080"/>
            <a:ext cx="7886880" cy="60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formování a propagace projektu směrem k široké a odborné veřejnosti, EU, médiím, účastníkům projektu na všech materiálech a dokumentech souvisejících s projektem (výjimkou jsou účetní doklad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avidelné předkládání monitorovacích zpráv o průběhu realizace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ouhlas se začleněním na veřejně přístupný seznam příjemc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i propagaci projektů používáme loga (značky): Evropského sociálního fondu, Evropské unie, Ministerstva školství, mládeže a tělovýchovy a Operačního programu Vzdělávání pro konkurenceschopno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Loga mají přesně vymezená pravidla použití a řazení (v rámci tzv. logolinku). Za logo OP VK může příjemce v logolinku přidat své logo a příp. logo partnera (!pozor! nikoliv logo projektu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 logolinkem používáme i slogan: Investice do rozvoje vzdělává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pic>
        <p:nvPicPr>
          <p:cNvPr id="59" name="Obrázek 5" descr="Logolink_horizontal_zaklad_RGB.jpg"/>
          <p:cNvPicPr/>
          <p:nvPr/>
        </p:nvPicPr>
        <p:blipFill>
          <a:blip r:embed="rId2"/>
          <a:stretch/>
        </p:blipFill>
        <p:spPr>
          <a:xfrm>
            <a:off x="3254400" y="6066000"/>
            <a:ext cx="4929120" cy="12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876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Jak prvky publicity použí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682640" y="1279080"/>
            <a:ext cx="7886880" cy="56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utno dodržet nejmenší povolené velikosti log, předepsané barvy, ochranné zóny a další náležitosti dané v Manuálu vizuální identity OP V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materiálech menšího rozměru lze loga uvést i bez textů (!pozor! logo EU vždy s texte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!pozor! vlajku ČR používá na svých materiálech pouze řídící org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lé propagační předměty (post-it, vizitka, flash disk, tužky,…): zkrácený logolink, možno i bez slogan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motné zařízení a vybavení (vč. publikací, učebnic,…) pořízené z prostředků ESF: samolepky s logy (lze vynechat logo MŠMT), avšak nutno uvést slogan (povinné sdělen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pic>
        <p:nvPicPr>
          <p:cNvPr id="63" name="Obrázek 4" descr="Logolink_horiz_zkraceny_bezTextu_RGB.jpg"/>
          <p:cNvPicPr/>
          <p:nvPr/>
        </p:nvPicPr>
        <p:blipFill>
          <a:blip r:embed="rId2"/>
          <a:stretch/>
        </p:blipFill>
        <p:spPr>
          <a:xfrm>
            <a:off x="7469280" y="5065560"/>
            <a:ext cx="2286000" cy="801720"/>
          </a:xfrm>
          <a:prstGeom prst="rect">
            <a:avLst/>
          </a:prstGeom>
          <a:ln w="0">
            <a:noFill/>
          </a:ln>
        </p:spPr>
      </p:pic>
      <p:pic>
        <p:nvPicPr>
          <p:cNvPr id="64" name="Obrázek 5" descr="Logolink_horiz_zkraceny_RGB.jpg"/>
          <p:cNvPicPr/>
          <p:nvPr/>
        </p:nvPicPr>
        <p:blipFill>
          <a:blip r:embed="rId3"/>
          <a:stretch/>
        </p:blipFill>
        <p:spPr>
          <a:xfrm>
            <a:off x="4754520" y="4637160"/>
            <a:ext cx="2214720" cy="955440"/>
          </a:xfrm>
          <a:prstGeom prst="rect">
            <a:avLst/>
          </a:prstGeom>
          <a:ln w="0">
            <a:noFill/>
          </a:ln>
        </p:spPr>
      </p:pic>
      <p:pic>
        <p:nvPicPr>
          <p:cNvPr id="65" name="Obrázek 6" descr="Logolink_horiz_zkraceny_text_RGB.jpg"/>
          <p:cNvPicPr/>
          <p:nvPr/>
        </p:nvPicPr>
        <p:blipFill>
          <a:blip r:embed="rId4"/>
          <a:stretch/>
        </p:blipFill>
        <p:spPr>
          <a:xfrm>
            <a:off x="2039760" y="4208400"/>
            <a:ext cx="2643480" cy="93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82640" y="136080"/>
            <a:ext cx="788688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876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Jak prvky publicity použí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682640" y="1279440"/>
            <a:ext cx="7886880" cy="614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ždy v souladu s pravidly danými v Manuálu vizuální identity OP V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iditelně umístěné a kvalitně provede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případě použití logolinku bez slovního odkazu na ESF je nutno používat i povinné sdělení: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ento program/projekt/produkt je spolufinancován  Evropským sociálním fondem a státním rozpočtem České republiky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Výjimkou jsou rozměrově menší materiály a předměty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čb originálech nutno použít předepsané inverzní varianty lo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pic>
        <p:nvPicPr>
          <p:cNvPr id="69" name="Obrázek 6" descr="logolink_bez_vlajkyCR_bar..jpg"/>
          <p:cNvPicPr/>
          <p:nvPr/>
        </p:nvPicPr>
        <p:blipFill>
          <a:blip r:embed="rId2"/>
          <a:stretch/>
        </p:blipFill>
        <p:spPr>
          <a:xfrm>
            <a:off x="3397320" y="3494160"/>
            <a:ext cx="3714840" cy="1062000"/>
          </a:xfrm>
          <a:prstGeom prst="rect">
            <a:avLst/>
          </a:prstGeom>
          <a:ln w="0">
            <a:noFill/>
          </a:ln>
        </p:spPr>
      </p:pic>
      <p:pic>
        <p:nvPicPr>
          <p:cNvPr id="70" name="Obrázek 7" descr="logolink_bez_vlajkyCR_cb.jpg"/>
          <p:cNvPicPr/>
          <p:nvPr/>
        </p:nvPicPr>
        <p:blipFill>
          <a:blip r:embed="rId3"/>
          <a:stretch/>
        </p:blipFill>
        <p:spPr>
          <a:xfrm>
            <a:off x="1897200" y="5351400"/>
            <a:ext cx="3643200" cy="1041480"/>
          </a:xfrm>
          <a:prstGeom prst="rect">
            <a:avLst/>
          </a:prstGeom>
          <a:ln w="0">
            <a:noFill/>
          </a:ln>
        </p:spPr>
      </p:pic>
      <p:pic>
        <p:nvPicPr>
          <p:cNvPr id="71" name="Obrázek 6" descr="Logolink_horizontal_zaklad_cb.jpg"/>
          <p:cNvPicPr/>
          <p:nvPr/>
        </p:nvPicPr>
        <p:blipFill>
          <a:blip r:embed="rId4"/>
          <a:stretch/>
        </p:blipFill>
        <p:spPr>
          <a:xfrm>
            <a:off x="5254560" y="6208560"/>
            <a:ext cx="43894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876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Kde prvky publicity použí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pagační a informační materiály: letáky, plakáty, brožury, newslettry, školicí materiály, certifikáty, prezenční listiny (logolink a povinná sdělení stačí uvést pouze na titulní stránce), příp. vizitky a obál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pagační předměty: tužky, bloky, …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ediální výstupy: inzeráty, tiskové zprávy, články, PPT prezentace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ternet: webové stránky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motné zařízení pořízené z prostředků ES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jektová dokumentace: pracovní smlouvy/dohody (pokud to forma dokumentu umožňuje), výroční a závěrečné zprávy, korespondence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ístnosti/prostory, v nichž se konají informační akce k OP VK: umístit vlajky EU a ČR, loga EU, ESF, MŠMT, OP V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876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Dokumenty, odkaz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682280" y="1422000"/>
            <a:ext cx="8001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říručka pro příjemce finanční podpory z OP V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ktuální 3. verze platná od 21. 10. 2009: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http://www.msmt.cz/strukturalni-fondy/prirucka-pro-prijemce-op-vk-verze-3-platna-od-21-10-2009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příp. 2. verze platná od 15. 4. 2009: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http://www.msmt.cz/strukturalni-fondy/prirucka-pro-prijemce-verze-2-platna-od-15-4-200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anuál vizuální identity OP V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http://www.msmt.cz/uploads/soubory/ESF/Publicita/Manual_vizual_identity_OPVK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Web MŠMT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sekce Strukturální fondy – OP VK – Pro žadatele a příjemce – Publicita: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http://www.msmt.cz/strukturalni-fondy/publicita-a-publik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Loga a logolinky ke stažení v různých formáte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anuál vizuální identity ESF v ČR 2007-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anuál vizuální identity MŠM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radenstv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rámci individuálních konzultací s projektovými manaž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876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Náhled webových stránek MŠMT</a:t>
            </a:r>
            <a:br>
              <a:rPr sz="3600"/>
            </a:b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 sekce Publici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pic>
        <p:nvPicPr>
          <p:cNvPr id="81" name="Obrázek 7" descr=""/>
          <p:cNvPicPr/>
          <p:nvPr/>
        </p:nvPicPr>
        <p:blipFill>
          <a:blip r:embed="rId2"/>
          <a:srcRect l="9588" t="2379" r="10909" b="5554"/>
          <a:stretch/>
        </p:blipFill>
        <p:spPr>
          <a:xfrm>
            <a:off x="1897200" y="1422360"/>
            <a:ext cx="7715160" cy="5857920"/>
          </a:xfrm>
          <a:prstGeom prst="rect">
            <a:avLst/>
          </a:prstGeom>
          <a:ln w="0">
            <a:noFill/>
          </a:ln>
        </p:spPr>
      </p:pic>
      <p:sp>
        <p:nvSpPr>
          <p:cNvPr id="82" name="Šipka doleva 8"/>
          <p:cNvSpPr/>
          <p:nvPr/>
        </p:nvSpPr>
        <p:spPr>
          <a:xfrm>
            <a:off x="4897440" y="3494160"/>
            <a:ext cx="1571760" cy="642960"/>
          </a:xfrm>
          <a:prstGeom prst="leftArrow">
            <a:avLst>
              <a:gd name="adj1" fmla="val 92667"/>
              <a:gd name="adj2" fmla="val 50000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Šipka doleva 9"/>
          <p:cNvSpPr/>
          <p:nvPr/>
        </p:nvSpPr>
        <p:spPr>
          <a:xfrm>
            <a:off x="2968560" y="5423040"/>
            <a:ext cx="571680" cy="142560"/>
          </a:xfrm>
          <a:prstGeom prst="leftArrow">
            <a:avLst>
              <a:gd name="adj1" fmla="val 50000"/>
              <a:gd name="adj2" fmla="val 50126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968480" y="1767960"/>
            <a:ext cx="760104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Děkuji za pozorno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gr. Simona Dvořáčk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munikační úředn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 řízení OP V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nisterstvo školství, mládeže a tělovýchovy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simona.dvorackova@msmt.c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2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gh</cp:lastModifiedBy>
  <dcterms:modified xsi:type="dcterms:W3CDTF">2009-12-10T12:01:02Z</dcterms:modified>
  <cp:revision>92</cp:revision>
  <dc:subject/>
  <dc:title>Snímek 1</dc:title>
</cp:coreProperties>
</file>