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1189-2B7F-4010-B48B-A62C7686A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4640"/>
                <a:tab algn="l" pos="814320"/>
                <a:tab algn="l" pos="1224000"/>
                <a:tab algn="l" pos="1633680"/>
                <a:tab algn="l" pos="2039760"/>
                <a:tab algn="l" pos="2451240"/>
                <a:tab algn="l" pos="2862360"/>
                <a:tab algn="l" pos="3270240"/>
                <a:tab algn="l" pos="3679920"/>
                <a:tab algn="l" pos="4087800"/>
                <a:tab algn="l" pos="4498920"/>
                <a:tab algn="l" pos="4905360"/>
                <a:tab algn="l" pos="5318280"/>
                <a:tab algn="l" pos="5727600"/>
                <a:tab algn="l" pos="6134040"/>
                <a:tab algn="l" pos="6546960"/>
                <a:tab algn="l" pos="6953400"/>
                <a:tab algn="l" pos="7364520"/>
                <a:tab algn="l" pos="7772400"/>
                <a:tab algn="l" pos="8182080"/>
                <a:tab algn="l" pos="8229600"/>
                <a:tab algn="l" pos="9144000"/>
                <a:tab algn="l" pos="10058400"/>
              </a:tabLst>
            </a:pPr>
            <a:fld id="{858F44DF-83B3-4704-A0E8-8027BB47B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003320" y="69372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695-0E4D-47A7-A90C-149AAA2C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C53-F64F-4627-9F59-5EA5BDB3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6C6-BC10-41F5-977A-B9AEED2C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D78-84D5-4AF2-873B-205A5583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AD8-B590-4092-82BD-6DF195B0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517-B1E9-45F1-88C4-BECC2976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A8C-7F17-4D14-8732-2133AD3E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13A-FEE5-45A8-9885-C0F46AFA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D84-7B7B-49CD-BBE5-2CA56F6B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813-7E60-41B6-A251-D4861D52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356-266B-499D-B8CB-D80CD1DF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99B-2B57-4F7C-8C4A-DA11368C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A1C7-BF84-4DFF-97F6-C56F880278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ona.sochur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7520" y="292860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14320" y="114300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partner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statné a ne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99800" y="1714320"/>
            <a:ext cx="700092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ojektový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Marie Kaufner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etr Kraselovsk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Finanční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rahomíra Drh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Tomáš Drážn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Tým oblasti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99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0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4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7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08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ovéPole 23"/>
            <p:cNvSpPr/>
            <p:nvPr/>
          </p:nvSpPr>
          <p:spPr>
            <a:xfrm>
              <a:off x="5543280" y="401148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(F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25"/>
            <p:cNvSpPr/>
            <p:nvPr/>
          </p:nvSpPr>
          <p:spPr>
            <a:xfrm>
              <a:off x="5543280" y="33638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4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7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57240" y="1928880"/>
            <a:ext cx="671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 –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.1 - 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1. 7. – 30. 10. 200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858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Výzva číslo 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Alokace výzvy: 600 000 000 K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97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985 902 498,81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formálních náležitost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Statistiky – OP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14680" y="2286000"/>
            <a:ext cx="70005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yní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vyčerpána ve výš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73 432 575,33 Kč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sledky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85600" y="178596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0. 5. – 10. 7. 200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20. 8. 200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hlášené aloka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Oblast podpory 1.1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500 000 000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žadované prostředky        4 070 698 875 Kč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čet předložených žádostí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25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Aktuální stav - věcné hodnoc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zva číslo 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lona.sochurk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53:39Z</dcterms:created>
  <dc:creator>Ilona Sochůrková</dc:creator>
  <dc:description/>
  <dc:language>en-US</dc:language>
  <cp:lastModifiedBy>ugh</cp:lastModifiedBy>
  <dcterms:modified xsi:type="dcterms:W3CDTF">2009-12-11T08:28:32Z</dcterms:modified>
  <cp:revision>2</cp:revision>
  <dc:subject/>
  <dc:title>Zahájení semináře   Ing. Ilona Sochůrková</dc:title>
</cp:coreProperties>
</file>