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commentAuthors.xml><?xml version="1.0" encoding="utf-8"?>
<p:cmAuthorLst xmlns:p="http://schemas.openxmlformats.org/presentationml/2006/main">
  <p:cmAuthor id="0" name="Ilona Sochůrková" initials="I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9.xml><?xml version="1.0" encoding="utf-8"?>
<p:cmLst xmlns:p="http://schemas.openxmlformats.org/presentationml/2006/main">
  <p:cm authorId="0" dt="2009-12-03T17:18:45.097000000" idx="1">
    <p:pos x="5673" y="2872"/>
    <p:text>zrušit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1.12.2009</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9F34-3E48-419B-8904-CB443EDD3907}"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E6835ABB-573C-473B-BBC0-324D3972984E}"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51D6FD9E-8E7F-417A-B281-5901604557EE}"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1960"/>
            <a:ext cx="37847520" cy="41400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ři se společně s příjemcem podílejí na realizaci projektu a to v těch aktivitách, ve kterých je k tomu zavazuje PS.</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Obsah PS je přitom velice důležitý, protože konečnou odpovědnost poskytovateli podpory nese příjemce.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Smluvní vztah mezi příjemcem a jeho partnery není založen na poskytování služeb a nesmí být v rozporu s právní předpisy ČR!</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3A3BED9D-9DE1-4DE0-A75D-1AA5E9AB9E0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body"/>
          </p:nvPr>
        </p:nvSpPr>
        <p:spPr>
          <a:xfrm>
            <a:off x="685440" y="4341960"/>
            <a:ext cx="24250680" cy="150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ento příjemce podpory je zodpovědný za rozdělení finančních prostředků mezi partnery s FP, na základě uzavřené 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p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9B2597B8-C4FF-4A6E-BA6B-293B5AB1753F}"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440" y="4341600"/>
            <a:ext cx="15882840" cy="19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partnera s FP předkládá partner příjemci žádost o proplacení svých způsobilých výdaj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A59E08B9-EEE1-47EB-93A1-7C1101EC747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body"/>
          </p:nvPr>
        </p:nvSpPr>
        <p:spPr>
          <a:xfrm>
            <a:off x="685440" y="4341960"/>
            <a:ext cx="18678600" cy="19476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majetek lze zapůjčovat jak finančním tak nefinančním partnerům</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Příjemce se s partnerem musí v PS dohodnout na termínu, kdy dojde k rozdělení zařízení a spotřebního materiálu nakoupeného z poskytnuté podpory (po udržitelnosti)</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Kopie převodních listin či darovacích smluv</a:t>
            </a:r>
            <a:r>
              <a:rPr b="0" lang="cs-CZ" sz="200" spc="-1" strike="noStrike">
                <a:solidFill>
                  <a:srgbClr val="000000"/>
                </a:solidFill>
                <a:latin typeface="Calibri"/>
              </a:rPr>
              <a:t> </a:t>
            </a:r>
            <a:r>
              <a:rPr b="0" lang="cs-CZ" sz="600" spc="-1" strike="noStrike">
                <a:solidFill>
                  <a:srgbClr val="000000"/>
                </a:solidFill>
                <a:latin typeface="Calibri"/>
              </a:rPr>
              <a:t>předkládá příjemce</a:t>
            </a:r>
            <a:r>
              <a:rPr b="0" lang="cs-CZ" sz="200" spc="-1" strike="noStrike">
                <a:solidFill>
                  <a:srgbClr val="000000"/>
                </a:solidFill>
                <a:latin typeface="Calibri"/>
              </a:rPr>
              <a:t> </a:t>
            </a:r>
            <a:r>
              <a:rPr b="0" lang="cs-CZ" sz="600" spc="-1" strike="noStrike">
                <a:solidFill>
                  <a:srgbClr val="000000"/>
                </a:solidFill>
                <a:latin typeface="Calibri"/>
              </a:rPr>
              <a:t>se závěrečnou MZ</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600" spc="-1" strike="noStrike">
                <a:solidFill>
                  <a:srgbClr val="000000"/>
                </a:solidFill>
                <a:latin typeface="Calibri"/>
              </a:rPr>
              <a:t>b) Partner s finančním příspěvkem </a:t>
            </a: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nakupované zařízení a spotřební materiál je ihned v jeho vlastnictví</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14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82E3DB59-4B2F-49A4-9CC1-02FE1C262AA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3AC7299D-C926-4A61-B29E-CC8B4845733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685440" y="4341960"/>
            <a:ext cx="9271080" cy="1938240"/>
          </a:xfrm>
          <a:prstGeom prst="rect">
            <a:avLst/>
          </a:prstGeom>
          <a:noFill/>
          <a:ln w="0">
            <a:noFill/>
          </a:ln>
        </p:spPr>
        <p:txBody>
          <a:bodyPr anchor="ctr" anchorCtr="1">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nezískání souhlasu partnera </a:t>
            </a:r>
            <a:endParaRPr b="0" lang="en-US" sz="1200" spc="-1" strike="noStrike">
              <a:solidFill>
                <a:srgbClr val="000000"/>
              </a:solidFill>
              <a:latin typeface="Calibri"/>
            </a:endParaRPr>
          </a:p>
          <a:p>
            <a:pPr>
              <a:lnSpc>
                <a:spcPct val="100000"/>
              </a:lnSpc>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odůvodňuje příjemce v žádosti </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formální záležitost (nepřítomnost statutárního zástupce)</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b) partner se změnou nesouhla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D0C07DFC-F765-4826-9731-47EC3A154307}"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1600"/>
            <a:ext cx="5711760" cy="4400280"/>
          </a:xfrm>
          <a:prstGeom prst="rect">
            <a:avLst/>
          </a:prstGeom>
          <a:noFill/>
          <a:ln w="0">
            <a:noFill/>
          </a:ln>
        </p:spPr>
        <p:txBody>
          <a:bodyPr anchor="ctr">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3912c"/>
                </a:solidFill>
                <a:latin typeface="Calibri"/>
              </a:rPr>
              <a:t>Zapojení nového partnera </a:t>
            </a:r>
            <a:endParaRPr b="0" lang="en-US" sz="14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Ve výjimečných a dostatečně odůvodněných případech!</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transformace subjektu partnera a vznik nové organizace,</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ýměna stávajícího partnera za nového při zachování všech povinností a závazků  </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 </a:t>
            </a:r>
            <a:r>
              <a:rPr b="1" lang="cs-CZ" sz="1200" spc="-1" strike="noStrike">
                <a:solidFill>
                  <a:srgbClr val="000000"/>
                </a:solidFill>
                <a:latin typeface="Calibri"/>
              </a:rPr>
              <a:t>Podstatnou změnou je </a:t>
            </a:r>
            <a:r>
              <a:rPr b="1" lang="cs-CZ" sz="1400" spc="-1" strike="noStrike">
                <a:solidFill>
                  <a:srgbClr val="f3912c"/>
                </a:solidFill>
                <a:latin typeface="Calibri"/>
              </a:rPr>
              <a:t>Změna PS</a:t>
            </a:r>
            <a:r>
              <a:rPr b="0" lang="cs-CZ" sz="1400" spc="-1" strike="noStrike">
                <a:solidFill>
                  <a:srgbClr val="f3912c"/>
                </a:solidFill>
                <a:latin typeface="Calibri"/>
              </a:rPr>
              <a:t>, která má </a:t>
            </a:r>
            <a:r>
              <a:rPr b="0" lang="cs-CZ" sz="1200" spc="-1" strike="noStrike">
                <a:solidFill>
                  <a:srgbClr val="000000"/>
                </a:solidFill>
                <a:latin typeface="Calibri"/>
              </a:rPr>
              <a:t>charakter podstatné změny.</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o případném schválení musíme vydat dodatek k rozhodnutí</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se jedná o změnu PS, která má char. nepodstatné změny -  dokládají s MZ</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4800"/>
                <a:tab algn="l" pos="2454120"/>
                <a:tab algn="l" pos="2863800"/>
                <a:tab algn="l" pos="3273480"/>
                <a:tab algn="l" pos="3683160"/>
                <a:tab algn="l" pos="4092480"/>
                <a:tab algn="l" pos="4502160"/>
                <a:tab algn="l" pos="4910040"/>
                <a:tab algn="l" pos="5319720"/>
                <a:tab algn="l" pos="5729400"/>
                <a:tab algn="l" pos="6138720"/>
                <a:tab algn="l" pos="6548400"/>
                <a:tab algn="l" pos="6958080"/>
                <a:tab algn="l" pos="7367760"/>
                <a:tab algn="l" pos="7777080"/>
                <a:tab algn="l" pos="8186760"/>
                <a:tab algn="l" pos="8229600"/>
                <a:tab algn="l" pos="9144000"/>
                <a:tab algn="l" pos="10058400"/>
              </a:tabLst>
            </a:pPr>
            <a:fld id="{0DA15001-E0DD-4BFE-B293-963CF4863533}"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851A5163-FB2C-47D9-BFB5-003936FEF6C2}"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body"/>
          </p:nvPr>
        </p:nvSpPr>
        <p:spPr>
          <a:xfrm>
            <a:off x="685440" y="4341600"/>
            <a:ext cx="24180840" cy="12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úprav nebo změn v projektu je nutné rozlišovat jaké změny mají charakter nepodstatných a jaké podstatných změ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Calibri"/>
              </a:rPr>
              <a:t> jedná se o nepodstatné změny, které nepodléhají předchozímu schválení z naší str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yto změny musí být ale dostatečně popsány a zdůvodněny v nejbližší předkládané monitorovací zpráv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nery.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A51E98B0-A17F-4C00-BFE2-7CC9F3B2F517}"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685440" y="4341600"/>
            <a:ext cx="27519480" cy="250668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Nehledě na to, jestli provádíte změny podstatné nebo nepodstatné, pokud se tyto změny týkají změn v rozpočtu, dejte si pozor, aby nedošlo k </a:t>
            </a:r>
            <a:r>
              <a:rPr b="1" lang="cs-CZ" sz="2200" spc="-1" strike="noStrike">
                <a:solidFill>
                  <a:srgbClr val="000000"/>
                </a:solidFill>
                <a:latin typeface="Calibri"/>
              </a:rPr>
              <a:t>navýšení celkové schválené částky uznatelných výdajů projektu</a:t>
            </a:r>
            <a:r>
              <a:rPr b="0" lang="cs-CZ" sz="2200" spc="-1" strike="noStrike">
                <a:solidFill>
                  <a:srgbClr val="000000"/>
                </a:solidFill>
                <a:latin typeface="Calibri"/>
              </a:rPr>
              <a:t>,</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 aby jste prováděnou změnou </a:t>
            </a:r>
            <a:r>
              <a:rPr b="1" lang="cs-CZ" sz="2200" spc="-1" strike="noStrike">
                <a:solidFill>
                  <a:srgbClr val="000000"/>
                </a:solidFill>
                <a:latin typeface="Calibri"/>
              </a:rPr>
              <a:t>nenavýšili kapitoly nebo položky rozpočtu, které byly kráceny VK.</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Dále v rámci provádění změn v rozpočtu </a:t>
            </a:r>
            <a:r>
              <a:rPr b="1" lang="cs-CZ" sz="2200" spc="-1" strike="noStrike">
                <a:solidFill>
                  <a:srgbClr val="000000"/>
                </a:solidFill>
                <a:latin typeface="Calibri"/>
              </a:rPr>
              <a:t>nesmí dojít k překročení procentních limitů</a:t>
            </a:r>
            <a:r>
              <a:rPr b="0" lang="cs-CZ" sz="2200" spc="-1" strike="noStrike">
                <a:solidFill>
                  <a:srgbClr val="000000"/>
                </a:solidFill>
                <a:latin typeface="Calibri"/>
              </a:rPr>
              <a:t>, které jsou závazné pro některé kapitoly rozpočtu a </a:t>
            </a:r>
            <a:r>
              <a:rPr b="1" lang="cs-CZ" sz="2200" spc="-1" strike="noStrike">
                <a:solidFill>
                  <a:srgbClr val="000000"/>
                </a:solidFill>
                <a:latin typeface="Calibri"/>
              </a:rPr>
              <a:t>není možné, aby změny způsobily začátek nové KA nebo zrušení či ukončení stávající KA.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šechny změny v rozpočtu nehledě na to, zda se jedná o změny podstatné nebo nepodstatné musí být řádně  zdůvodněny a musí být </a:t>
            </a:r>
            <a:r>
              <a:rPr b="1" lang="cs-CZ" sz="2200" spc="-1" strike="noStrike">
                <a:solidFill>
                  <a:srgbClr val="000000"/>
                </a:solidFill>
                <a:latin typeface="Calibri"/>
              </a:rPr>
              <a:t>doloženy přepracovaným rozpočtem. </a:t>
            </a:r>
            <a:endParaRPr b="0" lang="en-US" sz="2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1B17E600-61EA-4641-B209-5F002459A49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685800" y="4341960"/>
            <a:ext cx="21239280" cy="26193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se jedná o nepodstatné změny rozpočtu, oznamují se a zdůvodňují se v bezprostředně nejbližší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ou změnou je </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Přesun finančních prostředků mezi položkami uvnitř jednotlivých kapitol.</a:t>
            </a:r>
            <a:r>
              <a:rPr b="0" lang="cs-CZ" sz="1200" spc="-1" strike="noStrike">
                <a:solidFill>
                  <a:srgbClr val="000000"/>
                </a:solidFill>
                <a:latin typeface="Calibri"/>
              </a:rPr>
              <a:t> Tyto změny mohou být prováděny bez omezení s výjimkou kapitoly Osobní náklady a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nepodstatných změn není možné navyšovat finanční prostředky schválené v kapitole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Za nepodstatnou změnou je  považován i </a:t>
            </a:r>
            <a:r>
              <a:rPr b="1" lang="cs-CZ" sz="1200" spc="-1" strike="noStrike">
                <a:solidFill>
                  <a:srgbClr val="000000"/>
                </a:solidFill>
                <a:latin typeface="Calibri"/>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Calibri"/>
              </a:rPr>
              <a:t>. Kapitola Osobní náklady nesmí být navýšena o více jak 15 % schváleného objemu výdajů této kapito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Dále je možné v rámci nepodstatné změny </a:t>
            </a:r>
            <a:r>
              <a:rPr b="1" lang="cs-CZ" sz="1200" spc="-1" strike="noStrike">
                <a:solidFill>
                  <a:srgbClr val="000000"/>
                </a:solidFill>
                <a:latin typeface="Calibri"/>
              </a:rPr>
              <a:t>zrušit stávající nebo vytvořit novou položku rozpočtu</a:t>
            </a:r>
            <a:r>
              <a:rPr b="0" lang="cs-CZ" sz="1200" spc="-1" strike="noStrike">
                <a:solidFill>
                  <a:srgbClr val="000000"/>
                </a:solidFill>
                <a:latin typeface="Calibri"/>
              </a:rPr>
              <a:t>. V tomto případě je nutné pohlídat, aby tato změna nezpůsobila zrušení stávající nebo začátek nové klíčové aktivit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05A940B5-1E42-445B-964A-DD110C9BF33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685800" y="4341960"/>
            <a:ext cx="5494320" cy="4070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romě nepodstatných změn týkajících se rozpočtu je možné provádět </a:t>
            </a:r>
            <a:r>
              <a:rPr b="1" lang="cs-CZ" sz="1200" spc="-1" strike="noStrike">
                <a:solidFill>
                  <a:srgbClr val="000000"/>
                </a:solidFill>
                <a:latin typeface="Calibri"/>
              </a:rPr>
              <a:t>změny v době realizace jednotlivých KA</a:t>
            </a:r>
            <a:r>
              <a:rPr b="0" lang="cs-CZ" sz="1200" spc="-1" strike="noStrike">
                <a:solidFill>
                  <a:srgbClr val="000000"/>
                </a:solidFill>
                <a:latin typeface="Calibri"/>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nepodstatnou změnu je považována i změna auditora (pokud je provedení auditu v projektu povin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názvu sub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ve statutu plátce D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statutárního zástupce, tady je ale nutné, aby příjemce odeslal do 5 PD oznámení o změně s podklady, které tuto změnu prokazuj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2DE34546-6980-4605-9B8B-C809359F7BEE}"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685440" y="4341600"/>
            <a:ext cx="5483160" cy="4113000"/>
          </a:xfrm>
          <a:prstGeom prst="rect">
            <a:avLst/>
          </a:prstGeom>
          <a:noFill/>
          <a:ln w="0">
            <a:noFill/>
          </a:ln>
        </p:spPr>
        <p:txBody>
          <a:bodyPr anchor="ctr" anchorCtr="1">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Z je tedy změna která mění obsah nebo charakter schváleného projektu a zakládá povinnost upravit nebo doplnit právní akt o poskytnutí dotace.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změna tedy nesmí být provedena před jejím schválením a vydáním dodatku k právnímu aktu.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Žádost o PZ naleznete na </a:t>
            </a:r>
            <a:r>
              <a:rPr b="1" lang="cs-CZ" sz="1000" spc="-1" strike="noStrike">
                <a:solidFill>
                  <a:srgbClr val="000000"/>
                </a:solidFill>
                <a:latin typeface="Calibri"/>
              </a:rPr>
              <a:t>webových stránkách</a:t>
            </a:r>
            <a:r>
              <a:rPr b="0" lang="cs-CZ" sz="1000" spc="-1" strike="noStrike">
                <a:solidFill>
                  <a:srgbClr val="000000"/>
                </a:solidFill>
                <a:latin typeface="Calibri"/>
              </a:rPr>
              <a:t> ministerstva pod odkazem SF/pro žadatele a příjemce/MZ a její příloh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V této žádosti popíšete navrhovanou změnu, zdůvodníte ji a případně přiložíte další související dokumenty (změněný rozpočet/harm.)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řed odesláním žádosti ji musíte nechat potvrdit </a:t>
            </a:r>
            <a:r>
              <a:rPr b="1" lang="cs-CZ" sz="1000" spc="-1" strike="noStrike">
                <a:solidFill>
                  <a:srgbClr val="000000"/>
                </a:solidFill>
                <a:latin typeface="Calibri"/>
              </a:rPr>
              <a:t>souhlasem všech partnerů </a:t>
            </a:r>
            <a:r>
              <a:rPr b="0" lang="cs-CZ" sz="1000" spc="-1" strike="noStrike">
                <a:solidFill>
                  <a:srgbClr val="000000"/>
                </a:solidFill>
                <a:latin typeface="Calibri"/>
              </a:rPr>
              <a:t>projektu. Pokud žádost nebude obsahovat písemný souhlas partnerů, musíte zdůvodnit proč jste jej nezískali.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Calibri"/>
              </a:rPr>
              <a:t> statutár nepřítomen, lze dodat zpětně),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le pokud nesouhlas partnera, tak se to bude brát v potaz při schvalování…</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48FA794F-F524-4BD8-A9E8-A51E3E34D87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3"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685440" y="4341600"/>
            <a:ext cx="19740600" cy="1950840"/>
          </a:xfrm>
          <a:prstGeom prst="rect">
            <a:avLst/>
          </a:prstGeom>
          <a:noFill/>
          <a:ln w="0">
            <a:noFill/>
          </a:ln>
        </p:spPr>
        <p:txBody>
          <a:bodyPr anchor="ctr" anchorCtr="1">
            <a:noAutofit/>
          </a:bodyPr>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dále považováno jakékoliv navýšení položek kapitoly Křížové financování.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D5D17FA7-ACE7-41FE-AD77-E7676449A5EE}"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1960"/>
            <a:ext cx="22860000" cy="23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alší změny charakteru PZ, jsou změny týkají se například MI, i když v žádném případě nelze zrušit povinné 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29AB48DD-9E12-4738-91EA-16A64F8EEF2E}"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body"/>
          </p:nvPr>
        </p:nvSpPr>
        <p:spPr>
          <a:xfrm>
            <a:off x="685800" y="4341960"/>
            <a:ext cx="2504592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s partnerem společně realizují min. 51 % aktivit projektu, přičemž příjemce by měl realizovat vždy převažující část aktivit pro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2153E-FC4B-4E5F-BCA2-D584E8E14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5570C-D35B-4A92-AFD4-D6CE01485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0ACFD-CB43-4606-8EC7-ABD750272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79561-2006-4CA1-8A89-FF7E343F1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3B8A0-4F0B-4B60-A2F3-3E975D458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8852D-2251-48D1-9E40-851FF2DD0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04ABB-2B41-406A-9E61-CF49B9BE7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533B7-8C0B-4480-BCB5-F231DAD74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65F7D-4396-470E-B68B-95224DC2D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0ED5B-7DDE-4C47-BB22-DA5D32ECF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AF2E1-41DF-41DA-B7DB-7BFAF6A24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15E96-06C8-482B-8545-B8102A409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6821-6219-4F3D-8337-D1126F2D3DF5}"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comments" Target="../comments/comment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57520" y="2909520"/>
            <a:ext cx="7386480" cy="239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ravidla projektového řízení </a:t>
            </a:r>
            <a:br>
              <a:rPr sz="4000"/>
            </a:br>
            <a:br>
              <a:rPr sz="2000"/>
            </a:br>
            <a:r>
              <a:rPr b="1" lang="cs-CZ" sz="2900" spc="-1" strike="noStrike">
                <a:solidFill>
                  <a:srgbClr val="f3912c"/>
                </a:solidFill>
                <a:latin typeface="Calibri"/>
              </a:rPr>
              <a:t>Ing. Ilona Sochůrková</a:t>
            </a:r>
            <a:br>
              <a:rPr sz="2900"/>
            </a:br>
            <a:endParaRPr b="0" lang="en-US" sz="2900" spc="-1" strike="noStrike">
              <a:solidFill>
                <a:srgbClr val="000000"/>
              </a:solidFill>
              <a:latin typeface="Calibri"/>
            </a:endParaRPr>
          </a:p>
        </p:txBody>
      </p:sp>
      <p:pic>
        <p:nvPicPr>
          <p:cNvPr id="49" name="Picture 5" descr=""/>
          <p:cNvPicPr/>
          <p:nvPr/>
        </p:nvPicPr>
        <p:blipFill>
          <a:blip r:embed="rId1"/>
          <a:stretch/>
        </p:blipFill>
        <p:spPr>
          <a:xfrm>
            <a:off x="0" y="2077920"/>
            <a:ext cx="1730520" cy="4780080"/>
          </a:xfrm>
          <a:prstGeom prst="rect">
            <a:avLst/>
          </a:prstGeom>
          <a:ln w="0">
            <a:noFill/>
          </a:ln>
        </p:spPr>
      </p:pic>
      <p:sp>
        <p:nvSpPr>
          <p:cNvPr id="5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3912c"/>
                </a:solidFill>
                <a:latin typeface="Calibri"/>
              </a:rPr>
              <a:t>Prezentace pro příjemce IPo, kteří se řídí Příručkou pro příjemce fin.podpory z OP VK, verze 3, učinná od 3.10.2009.</a:t>
            </a:r>
            <a:br>
              <a:rPr sz="14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81"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a) Partner s finančním příspěvkem</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b) Partner bez finančního příspěvku</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společná realizace aktivit projektu</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odpovědnost poskytovateli je na příjemci!</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povaha právních vztahů není založena na poskytování služeb</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nesmí být v rozporu s právními předpisy ČR</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2" name="Picture 5" descr=""/>
          <p:cNvPicPr/>
          <p:nvPr/>
        </p:nvPicPr>
        <p:blipFill>
          <a:blip r:embed="rId1"/>
          <a:stretch/>
        </p:blipFill>
        <p:spPr>
          <a:xfrm>
            <a:off x="0" y="2077920"/>
            <a:ext cx="1730520" cy="4780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90840" y="254160"/>
            <a:ext cx="7192800" cy="77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a:t>
            </a:r>
            <a:endParaRPr b="0" lang="en-US" sz="3700" spc="-1" strike="noStrike">
              <a:solidFill>
                <a:srgbClr val="000000"/>
              </a:solidFill>
              <a:latin typeface="Calibri"/>
            </a:endParaRPr>
          </a:p>
        </p:txBody>
      </p:sp>
      <p:sp>
        <p:nvSpPr>
          <p:cNvPr id="84" name="Zástupný symbol pro obsah 7"/>
          <p:cNvSpPr/>
          <p:nvPr/>
        </p:nvSpPr>
        <p:spPr>
          <a:xfrm>
            <a:off x="1785960" y="1355760"/>
            <a:ext cx="6956280" cy="5054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artner s finančním příspěvkem</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samostatný projektový bankovní účet/podúče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ýjimka při proplácení výdajů partnerovi ex-p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dpory = žadatel</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žádost o proplacení výdajů předkládá partner příjemci</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při dokladování a vyúčtování vůči poskytovateli podpory stejné povinnosti jako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vůči poskytovateli podpory povinnosti vyplývající z partnerské smlouv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5" name="Picture 5" descr=""/>
          <p:cNvPicPr/>
          <p:nvPr/>
        </p:nvPicPr>
        <p:blipFill>
          <a:blip r:embed="rId1"/>
          <a:stretch/>
        </p:blipFill>
        <p:spPr>
          <a:xfrm>
            <a:off x="0" y="2077920"/>
            <a:ext cx="1730520" cy="4780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0840" y="317520"/>
            <a:ext cx="7192800" cy="12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 - </a:t>
            </a:r>
            <a:br>
              <a:rPr sz="3700"/>
            </a:br>
            <a:r>
              <a:rPr b="1" lang="cs-CZ" sz="3700" spc="-1" strike="noStrike">
                <a:solidFill>
                  <a:srgbClr val="f3912c"/>
                </a:solidFill>
                <a:latin typeface="Calibri"/>
              </a:rPr>
              <a:t>Partner s finančním příspěvkem</a:t>
            </a:r>
            <a:endParaRPr b="0" lang="en-US" sz="3700" spc="-1" strike="noStrike">
              <a:solidFill>
                <a:srgbClr val="000000"/>
              </a:solidFill>
              <a:latin typeface="Calibri"/>
            </a:endParaRPr>
          </a:p>
        </p:txBody>
      </p:sp>
      <p:sp>
        <p:nvSpPr>
          <p:cNvPr id="87" name="Zástupný symbol pro obsah 7"/>
          <p:cNvSpPr/>
          <p:nvPr/>
        </p:nvSpPr>
        <p:spPr>
          <a:xfrm>
            <a:off x="1785960" y="1808280"/>
            <a:ext cx="6956280" cy="39542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Úhrady mezi příjemcem a partnerem:</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skytne partnerovi část zálohové platby,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artner vyúčtovává způsobilé výdaje za dané MO, příjemce zahrnuje do MZ</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r</a:t>
            </a:r>
            <a:r>
              <a:rPr b="1" lang="cs-CZ" sz="2200" spc="-1" strike="noStrike">
                <a:solidFill>
                  <a:srgbClr val="000000"/>
                </a:solidFill>
                <a:latin typeface="Calibri"/>
              </a:rPr>
              <a:t> </a:t>
            </a:r>
            <a:r>
              <a:rPr b="0" lang="cs-CZ" sz="2200" spc="-1" strike="noStrike">
                <a:solidFill>
                  <a:srgbClr val="000000"/>
                </a:solidFill>
                <a:latin typeface="Calibri"/>
              </a:rPr>
              <a:t>vyúčtovává způsobilé výdaje, ale jejich proplacení nastává až po schválení poskytovatelem podpory</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vinnost partnera vrátit nedočerpané finanční prostředky</a:t>
            </a:r>
            <a:endParaRPr b="0" lang="en-US" sz="2200" spc="-1" strike="noStrike">
              <a:solidFill>
                <a:srgbClr val="000000"/>
              </a:solidFill>
              <a:latin typeface="Arial"/>
            </a:endParaRPr>
          </a:p>
        </p:txBody>
      </p:sp>
      <p:pic>
        <p:nvPicPr>
          <p:cNvPr id="88" name="Picture 5" descr=""/>
          <p:cNvPicPr/>
          <p:nvPr/>
        </p:nvPicPr>
        <p:blipFill>
          <a:blip r:embed="rId1"/>
          <a:stretch/>
        </p:blipFill>
        <p:spPr>
          <a:xfrm>
            <a:off x="0" y="2077920"/>
            <a:ext cx="1730520" cy="4780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90" name="Zástupný symbol pro obsah 7"/>
          <p:cNvSpPr/>
          <p:nvPr/>
        </p:nvSpPr>
        <p:spPr>
          <a:xfrm>
            <a:off x="1655640" y="1290600"/>
            <a:ext cx="6956640" cy="4665600"/>
          </a:xfrm>
          <a:prstGeom prst="rect">
            <a:avLst/>
          </a:prstGeom>
          <a:noFill/>
          <a:ln w="0">
            <a:noFill/>
          </a:ln>
        </p:spPr>
        <p:style>
          <a:lnRef idx="0"/>
          <a:fillRef idx="0"/>
          <a:effectRef idx="0"/>
          <a:fontRef idx="minor"/>
        </p:style>
        <p:txBody>
          <a:bodyPr lIns="0" rIns="0" tIns="0" bIns="0" anchor="t">
            <a:noAutofit/>
          </a:bodyPr>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ůjčování majetku v průběhu realizace projektu</a:t>
            </a:r>
            <a:endParaRPr b="0" lang="en-US" sz="2900" spc="-1" strike="noStrike">
              <a:solidFill>
                <a:srgbClr val="000000"/>
              </a:solidFill>
              <a:latin typeface="Arial"/>
            </a:endParaRPr>
          </a:p>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ařízení a vybavení hrazené příjemcem, užívané partnerem  musí byt inventarizováno a označeno stejně jako zařízení užívané příjemcem.</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ýpůjčky zařízení a vybavení mimo partnerský vztah nejsou možné.</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1" name="Picture 5" descr=""/>
          <p:cNvPicPr/>
          <p:nvPr/>
        </p:nvPicPr>
        <p:blipFill>
          <a:blip r:embed="rId1"/>
          <a:stretch/>
        </p:blipFill>
        <p:spPr>
          <a:xfrm>
            <a:off x="0" y="2077920"/>
            <a:ext cx="1730520" cy="478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080" y="1355400"/>
            <a:ext cx="6537240" cy="4816440"/>
          </a:xfrm>
          <a:prstGeom prst="rect">
            <a:avLst/>
          </a:prstGeom>
          <a:noFill/>
          <a:ln w="0">
            <a:noFill/>
          </a:ln>
        </p:spPr>
        <p:txBody>
          <a:bodyPr anchor="t">
            <a:normAutofit/>
          </a:bodyPr>
          <a:p>
            <a:pPr lvl="1" marL="8287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Vypořádání po skončení projektu</a:t>
            </a:r>
            <a:endParaRPr b="0" lang="en-US" sz="29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a) Partner bez finančního příspěvku</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rozdělení zařízení a spotřebního materiálu</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toto zařízení a spotřební materiál nelze převádět partnerům mimo cílový region, pokud se nejedená o podporu cílové skupiny</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kopie převodních listin,</a:t>
            </a:r>
            <a:r>
              <a:rPr b="0" lang="cs-CZ" sz="900" spc="-1" strike="noStrike">
                <a:solidFill>
                  <a:srgbClr val="000000"/>
                </a:solidFill>
                <a:latin typeface="Calibri"/>
              </a:rPr>
              <a:t> </a:t>
            </a:r>
            <a:r>
              <a:rPr b="0" lang="cs-CZ" sz="2200" spc="-1" strike="noStrike">
                <a:solidFill>
                  <a:srgbClr val="000000"/>
                </a:solidFill>
                <a:latin typeface="Calibri"/>
              </a:rPr>
              <a:t>darovacích smluv</a:t>
            </a:r>
            <a:r>
              <a:rPr b="0" lang="cs-CZ" sz="900" spc="-1" strike="noStrike">
                <a:solidFill>
                  <a:srgbClr val="000000"/>
                </a:solidFill>
                <a:latin typeface="Calibri"/>
              </a:rPr>
              <a:t> </a:t>
            </a:r>
            <a:r>
              <a:rPr b="0" lang="cs-CZ" sz="2200" spc="-1" strike="noStrike">
                <a:solidFill>
                  <a:srgbClr val="000000"/>
                </a:solidFill>
                <a:latin typeface="Calibri"/>
              </a:rPr>
              <a:t>předkládá příjemce</a:t>
            </a:r>
            <a:r>
              <a:rPr b="0" lang="cs-CZ" sz="900" spc="-1" strike="noStrike">
                <a:solidFill>
                  <a:srgbClr val="000000"/>
                </a:solidFill>
                <a:latin typeface="Calibri"/>
              </a:rPr>
              <a:t> </a:t>
            </a:r>
            <a:r>
              <a:rPr b="0" lang="cs-CZ" sz="2200" spc="-1" strike="noStrike">
                <a:solidFill>
                  <a:srgbClr val="000000"/>
                </a:solidFill>
                <a:latin typeface="Calibri"/>
              </a:rPr>
              <a:t>se závěrečnou MZ</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b) Partner s finančním příspěvkem </a:t>
            </a: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řízení a spotřební materiál ve vlastnictví</a:t>
            </a:r>
            <a:endParaRPr b="0" lang="en-US" sz="2200" spc="-1" strike="noStrike">
              <a:solidFill>
                <a:srgbClr val="000000"/>
              </a:solidFill>
              <a:latin typeface="Calibri"/>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3" name="Nadpis 5"/>
          <p:cNvSpPr/>
          <p:nvPr/>
        </p:nvSpPr>
        <p:spPr>
          <a:xfrm>
            <a:off x="1720800" y="317520"/>
            <a:ext cx="7021440" cy="6494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artnerská smlouva</a:t>
            </a:r>
            <a:endParaRPr b="0" lang="en-US" sz="4000" spc="-1" strike="noStrike">
              <a:solidFill>
                <a:srgbClr val="000000"/>
              </a:solidFill>
              <a:latin typeface="Arial"/>
            </a:endParaRPr>
          </a:p>
        </p:txBody>
      </p:sp>
      <p:pic>
        <p:nvPicPr>
          <p:cNvPr id="94"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6"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0" lang="cs-CZ" sz="2200" spc="-1" strike="noStrike">
                <a:solidFill>
                  <a:srgbClr val="000000"/>
                </a:solidFill>
                <a:latin typeface="Calibri"/>
              </a:rPr>
              <a:t>- </a:t>
            </a:r>
            <a:r>
              <a:rPr b="1" lang="cs-CZ" sz="2200" spc="-1" strike="noStrike">
                <a:solidFill>
                  <a:srgbClr val="000000"/>
                </a:solidFill>
                <a:latin typeface="Calibri"/>
              </a:rPr>
              <a:t>souhlas partnerů </a:t>
            </a:r>
            <a:r>
              <a:rPr b="0" lang="cs-CZ" sz="2200" spc="-1" strike="noStrike">
                <a:solidFill>
                  <a:srgbClr val="000000"/>
                </a:solidFill>
                <a:latin typeface="Calibri"/>
              </a:rPr>
              <a:t>ještě před podáním žádosti o podstatnou změnu </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 případě neposkytnutí souhlasu je nutné zdůvodnění</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Odstoupení partnera</a:t>
            </a:r>
            <a:endParaRPr b="0" lang="en-US" sz="29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a) Zapojen pouze 1 partner:</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1. ukončení projektu v jiném režimu</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2. partner naplnil svoji úlohu v projektu (pokračování bez jeho účasti)</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3. příjemce se zaváže převzít zbývající závazky partnera</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b) Zapojeni min. 2 partneři: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ouzení žádosti o podstatnou změnu v projektu</a:t>
            </a:r>
            <a:endParaRPr b="0" lang="en-US" sz="2200" spc="-1" strike="noStrike">
              <a:solidFill>
                <a:srgbClr val="000000"/>
              </a:solidFill>
              <a:latin typeface="Arial"/>
            </a:endParaRPr>
          </a:p>
          <a:p>
            <a:pPr>
              <a:lnSpc>
                <a:spcPct val="100000"/>
              </a:lnSpc>
              <a:spcAft>
                <a:spcPts val="1287"/>
              </a:spcAf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97" name="Picture 5" descr=""/>
          <p:cNvPicPr/>
          <p:nvPr/>
        </p:nvPicPr>
        <p:blipFill>
          <a:blip r:embed="rId1"/>
          <a:stretch/>
        </p:blipFill>
        <p:spPr>
          <a:xfrm>
            <a:off x="0" y="2077920"/>
            <a:ext cx="1730520" cy="478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9"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ojení nového partnera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Ve výjimečných a dostatečně odůvodněných případech!</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transformace subjektu partnera a vznik nové organizace,</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výměna stávajícího partnera za nového při zachování všech povinností a závazků  </a:t>
            </a:r>
            <a:endParaRPr b="0" lang="en-US" sz="2200" spc="-1" strike="noStrike">
              <a:solidFill>
                <a:srgbClr val="000000"/>
              </a:solidFill>
              <a:latin typeface="Arial"/>
            </a:endParaRPr>
          </a:p>
          <a:p>
            <a:pPr>
              <a:lnSpc>
                <a:spcPct val="100000"/>
              </a:lnSpc>
              <a:spcAft>
                <a:spcPts val="5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900" spc="-1" strike="noStrike">
                <a:solidFill>
                  <a:srgbClr val="f3912c"/>
                </a:solidFill>
                <a:latin typeface="Calibri"/>
              </a:rPr>
              <a:t>Změna smlouvy s partnerem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Calibri"/>
              </a:rPr>
              <a:t>- </a:t>
            </a:r>
            <a:r>
              <a:rPr b="0" lang="cs-CZ" sz="2200" spc="-1" strike="noStrike">
                <a:solidFill>
                  <a:srgbClr val="000000"/>
                </a:solidFill>
                <a:latin typeface="Calibri"/>
              </a:rPr>
              <a:t>změna partnerské smlouvy charakteru podstatné změny </a:t>
            </a:r>
            <a:r>
              <a:rPr b="0" lang="cs-CZ" sz="2200" spc="-1" strike="noStrike">
                <a:solidFill>
                  <a:srgbClr val="000000"/>
                </a:solidFill>
                <a:latin typeface="Wingdings"/>
                <a:ea typeface="Wingdings"/>
              </a:rPr>
              <a:t></a:t>
            </a:r>
            <a:r>
              <a:rPr b="0" lang="cs-CZ" sz="2200" spc="-1" strike="noStrike">
                <a:solidFill>
                  <a:srgbClr val="000000"/>
                </a:solidFill>
                <a:latin typeface="Calibri"/>
              </a:rPr>
              <a:t>žádost o podstatnou změnu + návrh nové smlouvy</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100" name="Picture 5" descr=""/>
          <p:cNvPicPr/>
          <p:nvPr/>
        </p:nvPicPr>
        <p:blipFill>
          <a:blip r:embed="rId1"/>
          <a:stretch/>
        </p:blipFill>
        <p:spPr>
          <a:xfrm>
            <a:off x="0" y="2077920"/>
            <a:ext cx="1730520" cy="4780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20800" y="771120"/>
            <a:ext cx="5486400" cy="20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Děkuji za pozornost</a:t>
            </a:r>
            <a:br>
              <a:rPr sz="2000"/>
            </a:br>
            <a:endParaRPr b="0" lang="en-US" sz="4000" spc="-1" strike="noStrike">
              <a:solidFill>
                <a:srgbClr val="000000"/>
              </a:solidFill>
              <a:latin typeface="Calibri"/>
            </a:endParaRPr>
          </a:p>
        </p:txBody>
      </p:sp>
      <p:sp>
        <p:nvSpPr>
          <p:cNvPr id="102" name="PlaceHolder 2"/>
          <p:cNvSpPr>
            <a:spLocks noGrp="1"/>
          </p:cNvSpPr>
          <p:nvPr>
            <p:ph/>
          </p:nvPr>
        </p:nvSpPr>
        <p:spPr>
          <a:xfrm>
            <a:off x="1792080" y="3363480"/>
            <a:ext cx="6862680" cy="2808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Kontakt:</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Ing. Ilona Sochůrková</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pověřena vedením oddělení</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Odbor CERA</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Ministerstvo školství, mládeže a tělovýchovy ČR</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email: ilona.sochurkova@msmt.cz</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p:txBody>
      </p:sp>
      <p:pic>
        <p:nvPicPr>
          <p:cNvPr id="103"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084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projektu</a:t>
            </a:r>
            <a:endParaRPr b="0" lang="en-US" sz="3600" spc="-1" strike="noStrike">
              <a:solidFill>
                <a:srgbClr val="000000"/>
              </a:solidFill>
              <a:latin typeface="Calibri"/>
            </a:endParaRPr>
          </a:p>
        </p:txBody>
      </p:sp>
      <p:sp>
        <p:nvSpPr>
          <p:cNvPr id="52" name="Zástupný symbol pro obsah 7"/>
          <p:cNvSpPr/>
          <p:nvPr/>
        </p:nvSpPr>
        <p:spPr>
          <a:xfrm>
            <a:off x="1720800" y="1938240"/>
            <a:ext cx="6956640" cy="44719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epodstatné změn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ovlivní dosažení cílů a monitorovacích indikátor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oznamují se v monitorovací zprávě</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dstatné změny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ění charakter nebo obsah schváleného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doplňují právní ak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dléhají schvál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3" name="Picture 5" descr="C:\Documents and Settings\stojdlovam\Local Settings\Temporary Internet Files\Content.IE5\N001I13E\MCj03843920000[1].wmf"/>
          <p:cNvPicPr/>
          <p:nvPr/>
        </p:nvPicPr>
        <p:blipFill>
          <a:blip r:embed="rId1"/>
          <a:stretch/>
        </p:blipFill>
        <p:spPr>
          <a:xfrm>
            <a:off x="7423200" y="966960"/>
            <a:ext cx="1573200" cy="1693800"/>
          </a:xfrm>
          <a:prstGeom prst="rect">
            <a:avLst/>
          </a:prstGeom>
          <a:ln w="0">
            <a:noFill/>
          </a:ln>
        </p:spPr>
      </p:pic>
      <p:pic>
        <p:nvPicPr>
          <p:cNvPr id="54" name="Picture 5" descr=""/>
          <p:cNvPicPr/>
          <p:nvPr/>
        </p:nvPicPr>
        <p:blipFill>
          <a:blip r:embed="rId2"/>
          <a:stretch/>
        </p:blipFill>
        <p:spPr>
          <a:xfrm>
            <a:off x="0" y="2077920"/>
            <a:ext cx="1730520" cy="4780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rozpočtu</a:t>
            </a:r>
            <a:endParaRPr b="0" lang="en-US" sz="3600" spc="-1" strike="noStrike">
              <a:solidFill>
                <a:srgbClr val="000000"/>
              </a:solidFill>
              <a:latin typeface="Calibri"/>
            </a:endParaRPr>
          </a:p>
        </p:txBody>
      </p:sp>
      <p:sp>
        <p:nvSpPr>
          <p:cNvPr id="56"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zor:</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celkový rozpočet!</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kapitoly nebo položky krácené VK!</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překročení závazných limitů!</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začátek nové nebo zrušení stávající klíčové aktivity!</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být zdůvodněny  a doloženy novým rozpočtem!</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7" name="Picture 5" descr=""/>
          <p:cNvPicPr/>
          <p:nvPr/>
        </p:nvPicPr>
        <p:blipFill>
          <a:blip r:embed="rId1"/>
          <a:stretch/>
        </p:blipFill>
        <p:spPr>
          <a:xfrm>
            <a:off x="0" y="2077920"/>
            <a:ext cx="1730520" cy="4780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Nepodstatné změny</a:t>
            </a:r>
            <a:endParaRPr b="0" lang="en-US" sz="3600" spc="-1" strike="noStrike">
              <a:solidFill>
                <a:srgbClr val="000000"/>
              </a:solidFill>
              <a:latin typeface="Calibri"/>
            </a:endParaRPr>
          </a:p>
        </p:txBody>
      </p:sp>
      <p:sp>
        <p:nvSpPr>
          <p:cNvPr id="59" name="Zástupný symbol pro obsah 7"/>
          <p:cNvSpPr/>
          <p:nvPr/>
        </p:nvSpPr>
        <p:spPr>
          <a:xfrm>
            <a:off x="1720800" y="1160640"/>
            <a:ext cx="6956640" cy="486072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položkami kapitol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 a Křížové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Přesun prostředků mezi kapitolami do výše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Vytvoření nové nebo zrušení stávající položky.</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0" name="Picture 5" descr=""/>
          <p:cNvPicPr/>
          <p:nvPr/>
        </p:nvPicPr>
        <p:blipFill>
          <a:blip r:embed="rId1"/>
          <a:stretch/>
        </p:blipFill>
        <p:spPr>
          <a:xfrm>
            <a:off x="0" y="2077920"/>
            <a:ext cx="1730520" cy="478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90840" y="253800"/>
            <a:ext cx="71928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300" spc="-1" strike="noStrike">
                <a:solidFill>
                  <a:srgbClr val="f3912c"/>
                </a:solidFill>
                <a:latin typeface="Calibri"/>
              </a:rPr>
              <a:t>Nepodstatné změny</a:t>
            </a:r>
            <a:endParaRPr b="0" lang="en-US" sz="3300" spc="-1" strike="noStrike">
              <a:solidFill>
                <a:srgbClr val="000000"/>
              </a:solidFill>
              <a:latin typeface="Calibri"/>
            </a:endParaRPr>
          </a:p>
        </p:txBody>
      </p:sp>
      <p:sp>
        <p:nvSpPr>
          <p:cNvPr id="62" name="Zástupný symbol pro obsah 7"/>
          <p:cNvSpPr/>
          <p:nvPr/>
        </p:nvSpPr>
        <p:spPr>
          <a:xfrm>
            <a:off x="1785960" y="1355760"/>
            <a:ext cx="695628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900" spc="-1" strike="noStrike">
                <a:solidFill>
                  <a:srgbClr val="f3912c"/>
                </a:solidFill>
                <a:latin typeface="Calibri"/>
              </a:rPr>
              <a:t>Např.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Změna harmonogramu realizace </a:t>
            </a:r>
            <a:r>
              <a:rPr b="0" lang="cs-CZ" sz="2200" spc="-1" strike="noStrike">
                <a:solidFill>
                  <a:srgbClr val="000000"/>
                </a:solidFill>
                <a:latin typeface="Calibri"/>
              </a:rPr>
              <a:t>(posun K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ch údajů,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 osoby, manažera projektu,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uditora,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názvu subjektu, ve statutu plátce DPH,</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statutárního zástupce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ne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Dřívější ukončení projektu při ukončení všech plánovaných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3" name="Picture 5" descr=""/>
          <p:cNvPicPr/>
          <p:nvPr/>
        </p:nvPicPr>
        <p:blipFill>
          <a:blip r:embed="rId1"/>
          <a:stretch/>
        </p:blipFill>
        <p:spPr>
          <a:xfrm>
            <a:off x="0" y="2077920"/>
            <a:ext cx="1730520" cy="4780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65" name="Zástupný symbol pro obsah 7"/>
          <p:cNvSpPr/>
          <p:nvPr/>
        </p:nvSpPr>
        <p:spPr>
          <a:xfrm>
            <a:off x="1720800" y="1160640"/>
            <a:ext cx="6956640" cy="4730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Zástupný symbol pro obsah 7"/>
          <p:cNvSpPr/>
          <p:nvPr/>
        </p:nvSpPr>
        <p:spPr>
          <a:xfrm>
            <a:off x="1720800" y="1160640"/>
            <a:ext cx="7193160" cy="499104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endParaRPr b="0" lang="en-US" sz="29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sp>
        <p:nvSpPr>
          <p:cNvPr id="67" name="Zástupný symbol pro obsah 7"/>
          <p:cNvSpPr/>
          <p:nvPr/>
        </p:nvSpPr>
        <p:spPr>
          <a:xfrm>
            <a:off x="1851120" y="1095480"/>
            <a:ext cx="7192800" cy="48607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1" lang="cs-CZ" sz="2900" spc="-1" strike="noStrike">
                <a:solidFill>
                  <a:srgbClr val="f3912c"/>
                </a:solidFill>
                <a:latin typeface="Calibri"/>
              </a:rPr>
              <a:t>Žádost o podstatnou změnu</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www.msmt.cz/strukturalni-fondy/monitorovaci zprava-a-jeji-prilohy-platna-od-1-6-2009</a:t>
            </a:r>
            <a:endParaRPr b="0" lang="en-US" sz="2200" spc="-1" strike="noStrike">
              <a:solidFill>
                <a:srgbClr val="000000"/>
              </a:solidFill>
              <a:latin typeface="Arial"/>
            </a:endParaRPr>
          </a:p>
          <a:p>
            <a:pPr>
              <a:lnSpc>
                <a:spcPct val="93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zasílá se v písemné podobě příslušné/mu P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obsahovat popis změny, zdůvodnění, souhlas partnerů, další dokument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uzuje příslušný pracovník MŠM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Lhůt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30 pracovních dnů na posouz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5 pracovních dnů na vyrozumě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max. 60 kalendářních dnů před koncem projektu! </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68" name="Picture 5" descr=""/>
          <p:cNvPicPr/>
          <p:nvPr/>
        </p:nvPicPr>
        <p:blipFill>
          <a:blip r:embed="rId1"/>
          <a:stretch/>
        </p:blipFill>
        <p:spPr>
          <a:xfrm>
            <a:off x="0" y="2077920"/>
            <a:ext cx="1730520" cy="478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0" name="Zástupný symbol pro obsah 7"/>
          <p:cNvSpPr/>
          <p:nvPr/>
        </p:nvSpPr>
        <p:spPr>
          <a:xfrm>
            <a:off x="1720800" y="1095480"/>
            <a:ext cx="7193160" cy="499104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kapitolami přesahující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Navýšení prostředků kapitoly Osobní náklady o více než 15 %.</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Navýšení položek Křížového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4) Jakékoliv změny v kapitole Osobní náklady u organizací s limity mzdové regulace.</a:t>
            </a:r>
            <a:endParaRPr b="0" lang="en-US" sz="2200" spc="-1" strike="noStrike">
              <a:solidFill>
                <a:srgbClr val="000000"/>
              </a:solidFill>
              <a:latin typeface="Arial"/>
            </a:endParaRPr>
          </a:p>
          <a:p>
            <a:pPr marL="414360" indent="-414360">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1" name="Picture 5" descr=""/>
          <p:cNvPicPr/>
          <p:nvPr/>
        </p:nvPicPr>
        <p:blipFill>
          <a:blip r:embed="rId1"/>
          <a:stretch/>
        </p:blipFill>
        <p:spPr>
          <a:xfrm>
            <a:off x="0" y="2077920"/>
            <a:ext cx="1730520" cy="478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3" name="Zástupný symbol pro obsah 7"/>
          <p:cNvSpPr/>
          <p:nvPr/>
        </p:nvSpPr>
        <p:spPr>
          <a:xfrm>
            <a:off x="1655640" y="966960"/>
            <a:ext cx="7193160" cy="511956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Zástupný symbol pro obsah 7"/>
          <p:cNvSpPr/>
          <p:nvPr/>
        </p:nvSpPr>
        <p:spPr>
          <a:xfrm>
            <a:off x="1655640" y="836640"/>
            <a:ext cx="7193160" cy="524988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apř.</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a:t>
            </a:r>
            <a:r>
              <a:rPr b="1" lang="cs-CZ" sz="2200" spc="-1" strike="noStrike">
                <a:solidFill>
                  <a:srgbClr val="000000"/>
                </a:solidFill>
                <a:latin typeface="Calibri"/>
              </a:rPr>
              <a:t> monitorovacích indikátorů</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rušení povinných MI není možné!)</a:t>
            </a:r>
            <a:r>
              <a:rPr b="1"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t>
            </a:r>
            <a:r>
              <a:rPr b="1" lang="cs-CZ" sz="2200" spc="-1" strike="noStrike">
                <a:solidFill>
                  <a:srgbClr val="000000"/>
                </a:solidFill>
                <a:latin typeface="Calibri"/>
              </a:rPr>
              <a:t>data začátku/ukončení realizace projektu</a:t>
            </a:r>
            <a:r>
              <a:rPr b="0"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t>
            </a:r>
            <a:r>
              <a:rPr b="1" lang="cs-CZ" sz="2200" spc="-1" strike="noStrike">
                <a:solidFill>
                  <a:srgbClr val="000000"/>
                </a:solidFill>
                <a:latin typeface="Calibri"/>
              </a:rPr>
              <a:t> Odstoupení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pojení nového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říjemce (transformace sub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ávní formy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ojektového účtu (oznámení do 5 prac. dn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5" name="Picture 5" descr=""/>
          <p:cNvPicPr/>
          <p:nvPr/>
        </p:nvPicPr>
        <p:blipFill>
          <a:blip r:embed="rId1"/>
          <a:stretch/>
        </p:blipFill>
        <p:spPr>
          <a:xfrm>
            <a:off x="0" y="2077920"/>
            <a:ext cx="1730520" cy="478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20800" y="38232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tví</a:t>
            </a:r>
            <a:endParaRPr b="0" lang="en-US" sz="3600" spc="-1" strike="noStrike">
              <a:solidFill>
                <a:srgbClr val="000000"/>
              </a:solidFill>
              <a:latin typeface="Calibri"/>
            </a:endParaRPr>
          </a:p>
        </p:txBody>
      </p:sp>
      <p:sp>
        <p:nvSpPr>
          <p:cNvPr id="77" name="Zástupný symbol pro obsah 7"/>
          <p:cNvSpPr/>
          <p:nvPr/>
        </p:nvSpPr>
        <p:spPr>
          <a:xfrm>
            <a:off x="1728720" y="1587600"/>
            <a:ext cx="695664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Hlavní princip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nezastupitel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opodstatně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nesmí být </a:t>
            </a:r>
            <a:r>
              <a:rPr b="1" lang="cs-CZ" sz="2200" spc="-1" strike="noStrike">
                <a:solidFill>
                  <a:srgbClr val="000000"/>
                </a:solidFill>
                <a:latin typeface="Calibri"/>
              </a:rPr>
              <a:t>dodavatele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říjemce + partner realizují min. 51 %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rPr>
              <a:t>  </a:t>
            </a:r>
            <a:r>
              <a:rPr b="0" lang="cs-CZ" sz="2200" spc="-1" strike="noStrike">
                <a:solidFill>
                  <a:srgbClr val="000000"/>
                </a:solidFill>
                <a:latin typeface="Calibri"/>
              </a:rPr>
              <a:t>- příjemce realizuje převažující část aktivi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realizované projekty mají neziskový charakter</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Calibri"/>
              </a:rPr>
              <a:t>.</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78" name="Picture 5" descr="C:\Documents and Settings\stojdlovam\Local Settings\Temporary Internet Files\Content.IE5\6447J1LD\MCj04380810000[1].wmf"/>
          <p:cNvPicPr/>
          <p:nvPr/>
        </p:nvPicPr>
        <p:blipFill>
          <a:blip r:embed="rId1"/>
          <a:stretch/>
        </p:blipFill>
        <p:spPr>
          <a:xfrm>
            <a:off x="6451560" y="1031760"/>
            <a:ext cx="1695600" cy="1255680"/>
          </a:xfrm>
          <a:prstGeom prst="rect">
            <a:avLst/>
          </a:prstGeom>
          <a:ln w="0">
            <a:noFill/>
          </a:ln>
        </p:spPr>
      </p:pic>
      <p:pic>
        <p:nvPicPr>
          <p:cNvPr id="79" name="Picture 5" descr=""/>
          <p:cNvPicPr/>
          <p:nvPr/>
        </p:nvPicPr>
        <p:blipFill>
          <a:blip r:embed="rId2"/>
          <a:stretch/>
        </p:blipFill>
        <p:spPr>
          <a:xfrm>
            <a:off x="0" y="2077920"/>
            <a:ext cx="1730520" cy="478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4:01:09Z</dcterms:created>
  <dc:creator>Ilona Sochůrková</dc:creator>
  <dc:description/>
  <dc:language>en-US</dc:language>
  <cp:lastModifiedBy>ugh</cp:lastModifiedBy>
  <dcterms:modified xsi:type="dcterms:W3CDTF">2009-12-09T17:16:56Z</dcterms:modified>
  <cp:revision>4</cp:revision>
  <dc:subject/>
  <dc:title>Pravidla projektového řízení   Ing. Ilona Sochůrková</dc:title>
</cp:coreProperties>
</file>