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5F9CF-9ABA-4185-9446-EFD1718427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4640"/>
                <a:tab algn="l" pos="814320"/>
                <a:tab algn="l" pos="1224000"/>
                <a:tab algn="l" pos="1633680"/>
                <a:tab algn="l" pos="2039760"/>
                <a:tab algn="l" pos="2451240"/>
                <a:tab algn="l" pos="2862360"/>
                <a:tab algn="l" pos="3270240"/>
                <a:tab algn="l" pos="3679920"/>
                <a:tab algn="l" pos="4087800"/>
                <a:tab algn="l" pos="4498920"/>
                <a:tab algn="l" pos="4905360"/>
                <a:tab algn="l" pos="5318280"/>
                <a:tab algn="l" pos="5727600"/>
                <a:tab algn="l" pos="6134040"/>
                <a:tab algn="l" pos="6546960"/>
                <a:tab algn="l" pos="6953400"/>
                <a:tab algn="l" pos="7364520"/>
                <a:tab algn="l" pos="7772400"/>
                <a:tab algn="l" pos="8182080"/>
                <a:tab algn="l" pos="8229600"/>
                <a:tab algn="l" pos="9144000"/>
                <a:tab algn="l" pos="10058400"/>
              </a:tabLst>
            </a:pPr>
            <a:fld id="{1C0417C6-5095-4110-9D73-263290711F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"/>
          <p:cNvSpPr/>
          <p:nvPr/>
        </p:nvSpPr>
        <p:spPr>
          <a:xfrm>
            <a:off x="1003320" y="693720"/>
            <a:ext cx="4848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90FE-4FA3-4A4B-AB5A-51EF9151A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F17E-8C09-43B4-911C-B230B8DB6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DA31-BD6D-430B-A6CF-3B90C2D57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2E4A-8884-412D-8B4D-E3373FF9D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0D1B-FF90-4143-9730-22436DE9F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65C9-5D37-49C8-B236-4F3D675CB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5833-A4C3-42AF-BD9C-1D5E5813C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E888-AAC0-410C-B944-F65AE860A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FE7C-5DEE-4381-B2C8-B3D6A0265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1182-0606-4FAD-BCD5-D4C107AB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B60E-732E-4861-86D0-13C34FA8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B8A7-AFF3-4C5F-B0B4-D48741C3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DAFCD-6156-48DB-AC21-255974299E6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ástupný symbol pro číslo snímku 5"/>
          <p:cNvSpPr/>
          <p:nvPr/>
        </p:nvSpPr>
        <p:spPr>
          <a:xfrm>
            <a:off x="7358040" y="6278400"/>
            <a:ext cx="1500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ástupný symbol pro číslo snímku 5"/>
          <p:cNvSpPr/>
          <p:nvPr/>
        </p:nvSpPr>
        <p:spPr>
          <a:xfrm>
            <a:off x="4286160" y="6286680"/>
            <a:ext cx="150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ilona.sochurkova@msmt.cz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57520" y="2928600"/>
            <a:ext cx="7386480" cy="239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Zahájení semináře</a:t>
            </a:r>
            <a:br>
              <a:rPr sz="4000"/>
            </a:br>
            <a:br>
              <a:rPr sz="4000"/>
            </a:br>
            <a:br>
              <a:rPr sz="2000"/>
            </a:br>
            <a:r>
              <a:rPr b="1" lang="cs-CZ" sz="2900" spc="-1" strike="noStrike">
                <a:solidFill>
                  <a:srgbClr val="000000"/>
                </a:solidFill>
                <a:latin typeface="Calibri"/>
              </a:rPr>
              <a:t>Ing. Ilona Sochůrková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714320" y="1143000"/>
            <a:ext cx="7143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ahájení seminář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avidla realizace projek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avidla projektového partnerstv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ásady užívání prvků pub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avidla finančního řízení projek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statné a nepodstatné změ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avidla monitor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taz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85600" y="214200"/>
            <a:ext cx="70009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ogram seminář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999800" y="1714320"/>
            <a:ext cx="7000920" cy="35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Projektový manažeři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Marie Kaufnerová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Petr Kraselovský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Finanční manažeři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Drahomíra Drhová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Tomáš Drážný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85600" y="285480"/>
            <a:ext cx="700092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Tým oblasti 1.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66840" y="314280"/>
            <a:ext cx="741672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omunikace s odborem CE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85480" y="1642680"/>
            <a:ext cx="822636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Skupina 19"/>
          <p:cNvGrpSpPr/>
          <p:nvPr/>
        </p:nvGrpSpPr>
        <p:grpSpPr>
          <a:xfrm>
            <a:off x="1857240" y="1143000"/>
            <a:ext cx="1764000" cy="1897200"/>
            <a:chOff x="1857240" y="1143000"/>
            <a:chExt cx="1764000" cy="1897200"/>
          </a:xfrm>
        </p:grpSpPr>
        <p:grpSp>
          <p:nvGrpSpPr>
            <p:cNvPr id="99" name="Skupina 14"/>
            <p:cNvGrpSpPr/>
            <p:nvPr/>
          </p:nvGrpSpPr>
          <p:grpSpPr>
            <a:xfrm>
              <a:off x="1857240" y="1143000"/>
              <a:ext cx="1764000" cy="1897200"/>
              <a:chOff x="1857240" y="1143000"/>
              <a:chExt cx="1764000" cy="1897200"/>
            </a:xfrm>
          </p:grpSpPr>
          <p:sp>
            <p:nvSpPr>
              <p:cNvPr id="100" name="Zaoblený obdélník 9"/>
              <p:cNvSpPr/>
              <p:nvPr/>
            </p:nvSpPr>
            <p:spPr>
              <a:xfrm>
                <a:off x="1857240" y="1614240"/>
                <a:ext cx="1361520" cy="1425960"/>
              </a:xfrm>
              <a:custGeom>
                <a:avLst/>
                <a:gdLst>
                  <a:gd name="textAreaLeft" fmla="*/ 66240 w 1361520"/>
                  <a:gd name="textAreaRight" fmla="*/ 1295280 w 1361520"/>
                  <a:gd name="textAreaTop" fmla="*/ 66240 h 1425960"/>
                  <a:gd name="textAreaBottom" fmla="*/ 1359720 h 1425960"/>
                </a:gdLst>
                <a:ahLst/>
                <a:rect l="textAreaLeft" t="textAreaTop" r="textAreaRight" b="textAreaBottom"/>
                <a:pathLst>
                  <a:path w="21600" h="22622">
                    <a:moveTo>
                      <a:pt x="3600" y="0"/>
                    </a:moveTo>
                    <a:arcTo wR="3600" hR="3600" stAng="16200000" swAng="-5400000"/>
                    <a:lnTo>
                      <a:pt x="0" y="19022"/>
                    </a:lnTo>
                    <a:arcTo wR="3600" hR="3600" stAng="10800000" swAng="-5400000"/>
                    <a:lnTo>
                      <a:pt x="18000" y="2262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ovéPole 13"/>
              <p:cNvSpPr/>
              <p:nvPr/>
            </p:nvSpPr>
            <p:spPr>
              <a:xfrm>
                <a:off x="1935000" y="1143000"/>
                <a:ext cx="1686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800" spc="-1" strike="noStrike">
                    <a:solidFill>
                      <a:srgbClr val="984807"/>
                    </a:solidFill>
                    <a:latin typeface="Calibri"/>
                  </a:rPr>
                  <a:t>Příjemc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" name="TextovéPole 17"/>
            <p:cNvSpPr/>
            <p:nvPr/>
          </p:nvSpPr>
          <p:spPr>
            <a:xfrm>
              <a:off x="1863360" y="1938240"/>
              <a:ext cx="135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984807"/>
                  </a:solidFill>
                  <a:latin typeface="Calibri"/>
                </a:rPr>
                <a:t>Hlavní K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Skupina 16"/>
          <p:cNvGrpSpPr/>
          <p:nvPr/>
        </p:nvGrpSpPr>
        <p:grpSpPr>
          <a:xfrm>
            <a:off x="1785960" y="4857840"/>
            <a:ext cx="928800" cy="714240"/>
            <a:chOff x="1785960" y="4857840"/>
            <a:chExt cx="928800" cy="714240"/>
          </a:xfrm>
        </p:grpSpPr>
        <p:sp>
          <p:nvSpPr>
            <p:cNvPr id="104" name="Zaoblený obdélník 10"/>
            <p:cNvSpPr/>
            <p:nvPr/>
          </p:nvSpPr>
          <p:spPr>
            <a:xfrm>
              <a:off x="1785960" y="4857840"/>
              <a:ext cx="851400" cy="714240"/>
            </a:xfrm>
            <a:prstGeom prst="roundRect">
              <a:avLst>
                <a:gd name="adj" fmla="val 16667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ovéPole 15"/>
            <p:cNvSpPr/>
            <p:nvPr/>
          </p:nvSpPr>
          <p:spPr>
            <a:xfrm>
              <a:off x="1785960" y="5075280"/>
              <a:ext cx="9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984807"/>
                  </a:solidFill>
                  <a:latin typeface="Calibri"/>
                </a:rPr>
                <a:t>Partn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Skupina 26"/>
          <p:cNvGrpSpPr/>
          <p:nvPr/>
        </p:nvGrpSpPr>
        <p:grpSpPr>
          <a:xfrm>
            <a:off x="5478480" y="2500200"/>
            <a:ext cx="2165400" cy="2224080"/>
            <a:chOff x="5478480" y="2500200"/>
            <a:chExt cx="2165400" cy="2224080"/>
          </a:xfrm>
        </p:grpSpPr>
        <p:grpSp>
          <p:nvGrpSpPr>
            <p:cNvPr id="107" name="Skupina 12"/>
            <p:cNvGrpSpPr/>
            <p:nvPr/>
          </p:nvGrpSpPr>
          <p:grpSpPr>
            <a:xfrm>
              <a:off x="5478480" y="2500200"/>
              <a:ext cx="2165400" cy="2224080"/>
              <a:chOff x="5478480" y="2500200"/>
              <a:chExt cx="2165400" cy="2224080"/>
            </a:xfrm>
          </p:grpSpPr>
          <p:sp>
            <p:nvSpPr>
              <p:cNvPr id="108" name="Zaoblený obdélník 4"/>
              <p:cNvSpPr/>
              <p:nvPr/>
            </p:nvSpPr>
            <p:spPr>
              <a:xfrm>
                <a:off x="5478480" y="2910240"/>
                <a:ext cx="2165400" cy="1814040"/>
              </a:xfrm>
              <a:prstGeom prst="roundRect">
                <a:avLst>
                  <a:gd name="adj" fmla="val 16667"/>
                </a:avLst>
              </a:prstGeom>
              <a:solidFill>
                <a:srgbClr val="ffc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TextovéPole 11"/>
              <p:cNvSpPr/>
              <p:nvPr/>
            </p:nvSpPr>
            <p:spPr>
              <a:xfrm>
                <a:off x="5572080" y="250020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800" spc="-1" strike="noStrike">
                    <a:solidFill>
                      <a:srgbClr val="984807"/>
                    </a:solidFill>
                    <a:latin typeface="Calibri"/>
                  </a:rPr>
                  <a:t>Odbor CERA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TextovéPole 23"/>
            <p:cNvSpPr/>
            <p:nvPr/>
          </p:nvSpPr>
          <p:spPr>
            <a:xfrm>
              <a:off x="5543280" y="4011480"/>
              <a:ext cx="74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984807"/>
                  </a:solidFill>
                  <a:latin typeface="Calibri"/>
                </a:rPr>
                <a:t>(F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ovéPole 25"/>
            <p:cNvSpPr/>
            <p:nvPr/>
          </p:nvSpPr>
          <p:spPr>
            <a:xfrm>
              <a:off x="5543280" y="336384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984807"/>
                  </a:solidFill>
                  <a:latin typeface="Calibri"/>
                </a:rPr>
                <a:t>P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Obousměrná vodorovná šipka 31"/>
          <p:cNvSpPr/>
          <p:nvPr/>
        </p:nvSpPr>
        <p:spPr>
          <a:xfrm rot="12331800">
            <a:off x="3191760" y="2739960"/>
            <a:ext cx="2320920" cy="441360"/>
          </a:xfrm>
          <a:prstGeom prst="leftRightArrow">
            <a:avLst>
              <a:gd name="adj1" fmla="val 50000"/>
              <a:gd name="adj2" fmla="val 50005"/>
            </a:avLst>
          </a:prstGeom>
          <a:solidFill>
            <a:srgbClr val="95373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Skupina 16"/>
          <p:cNvGrpSpPr/>
          <p:nvPr/>
        </p:nvGrpSpPr>
        <p:grpSpPr>
          <a:xfrm>
            <a:off x="2928960" y="4857840"/>
            <a:ext cx="1071720" cy="714240"/>
            <a:chOff x="2928960" y="4857840"/>
            <a:chExt cx="1071720" cy="714240"/>
          </a:xfrm>
        </p:grpSpPr>
        <p:sp>
          <p:nvSpPr>
            <p:cNvPr id="114" name="Zaoblený obdélník 10"/>
            <p:cNvSpPr/>
            <p:nvPr/>
          </p:nvSpPr>
          <p:spPr>
            <a:xfrm>
              <a:off x="2928960" y="4857840"/>
              <a:ext cx="982440" cy="714240"/>
            </a:xfrm>
            <a:prstGeom prst="roundRect">
              <a:avLst>
                <a:gd name="adj" fmla="val 16667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ovéPole 34"/>
            <p:cNvSpPr/>
            <p:nvPr/>
          </p:nvSpPr>
          <p:spPr>
            <a:xfrm>
              <a:off x="2928960" y="5075280"/>
              <a:ext cx="107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984807"/>
                  </a:solidFill>
                  <a:latin typeface="Calibri"/>
                </a:rPr>
                <a:t>Partn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Skupina 16"/>
          <p:cNvGrpSpPr/>
          <p:nvPr/>
        </p:nvGrpSpPr>
        <p:grpSpPr>
          <a:xfrm>
            <a:off x="4214880" y="4857840"/>
            <a:ext cx="1071360" cy="714240"/>
            <a:chOff x="4214880" y="4857840"/>
            <a:chExt cx="1071360" cy="714240"/>
          </a:xfrm>
        </p:grpSpPr>
        <p:sp>
          <p:nvSpPr>
            <p:cNvPr id="117" name="Zaoblený obdélník 10"/>
            <p:cNvSpPr/>
            <p:nvPr/>
          </p:nvSpPr>
          <p:spPr>
            <a:xfrm>
              <a:off x="4214880" y="4857840"/>
              <a:ext cx="982080" cy="714240"/>
            </a:xfrm>
            <a:prstGeom prst="roundRect">
              <a:avLst>
                <a:gd name="adj" fmla="val 16667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ovéPole 43"/>
            <p:cNvSpPr/>
            <p:nvPr/>
          </p:nvSpPr>
          <p:spPr>
            <a:xfrm>
              <a:off x="4214880" y="5075280"/>
              <a:ext cx="107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984807"/>
                  </a:solidFill>
                  <a:latin typeface="Calibri"/>
                </a:rPr>
                <a:t>Partn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Obousměrná vodorovná šipka 45"/>
          <p:cNvSpPr/>
          <p:nvPr/>
        </p:nvSpPr>
        <p:spPr>
          <a:xfrm rot="2740800">
            <a:off x="2778840" y="3839040"/>
            <a:ext cx="2371680" cy="179280"/>
          </a:xfrm>
          <a:prstGeom prst="leftRightArrow">
            <a:avLst>
              <a:gd name="adj1" fmla="val 50000"/>
              <a:gd name="adj2" fmla="val 50037"/>
            </a:avLst>
          </a:prstGeom>
          <a:solidFill>
            <a:srgbClr val="e6b9b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bousměrná vodorovná šipka 46"/>
          <p:cNvSpPr/>
          <p:nvPr/>
        </p:nvSpPr>
        <p:spPr>
          <a:xfrm rot="16575000">
            <a:off x="1325880" y="3875760"/>
            <a:ext cx="1633680" cy="177840"/>
          </a:xfrm>
          <a:prstGeom prst="leftRightArrow">
            <a:avLst>
              <a:gd name="adj1" fmla="val 50000"/>
              <a:gd name="adj2" fmla="val 50014"/>
            </a:avLst>
          </a:prstGeom>
          <a:solidFill>
            <a:srgbClr val="e6b9b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bousměrná vodorovná šipka 47"/>
          <p:cNvSpPr/>
          <p:nvPr/>
        </p:nvSpPr>
        <p:spPr>
          <a:xfrm rot="4450800">
            <a:off x="2264400" y="3906000"/>
            <a:ext cx="1685880" cy="188640"/>
          </a:xfrm>
          <a:prstGeom prst="leftRightArrow">
            <a:avLst>
              <a:gd name="adj1" fmla="val 50000"/>
              <a:gd name="adj2" fmla="val 50064"/>
            </a:avLst>
          </a:prstGeom>
          <a:solidFill>
            <a:srgbClr val="e6b9b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857240" y="1928880"/>
            <a:ext cx="671544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Číslo a název prioritní osy: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 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1 – Zvyšování kvality ve vzdělává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Číslo a název oblasti podpory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1.1 -  Zvyšování kvality ve vzdělává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Trvání výzvy: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 21. 7. – 30. 10. 200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        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85960" y="213840"/>
            <a:ext cx="68580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Výzva číslo 08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856880" y="1356840"/>
            <a:ext cx="700092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Alokace výzvy: 600 000 000 Kč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Celkem předloženo IPo: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97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1 985 902 498,81 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 Kč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Vyřazeno IP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624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Hodnocení formálních náležitostí: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624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Hodnocení přijatelnosti: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28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624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Věcné hodnocení: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Celkový počet projednávaných IPo výběrovou komisí: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5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85600" y="285480"/>
            <a:ext cx="700092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Statistiky – OP 1.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C:\Documents and Settings\zlamalovap\Local Settings\Temporary Internet Files\Content.IE5\4DX55A1K\MCj03036070000[1].wmf"/>
          <p:cNvPicPr/>
          <p:nvPr/>
        </p:nvPicPr>
        <p:blipFill>
          <a:blip r:embed="rId1"/>
          <a:stretch/>
        </p:blipFill>
        <p:spPr>
          <a:xfrm>
            <a:off x="7643880" y="100008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1714680" y="2286000"/>
            <a:ext cx="700056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Schváleno ministryní k financování IPo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40 (alokace vyčerpána ve výš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573 432 575,33 Kč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Zásobník IPo: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85600" y="285480"/>
            <a:ext cx="700092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Výsledky</a:t>
            </a: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785600" y="1785960"/>
            <a:ext cx="7000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Trvání výzvy: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 20. 5. – 10. 7. 2009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(20. 8. 2009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Vyhlášené alokac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624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Oblast podpory 1.1 </a:t>
            </a: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500 000 000 Kč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624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Požadované prostředky        4 070 698 875 Kč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624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Počet předložených žádostí</a:t>
            </a: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        252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624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Aktuální stav - věcné hodnocení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85600" y="285480"/>
            <a:ext cx="700092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Výzva číslo 1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20800" y="771120"/>
            <a:ext cx="5486400" cy="200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Děkuji za pozornost</a:t>
            </a:r>
            <a:br>
              <a:rPr sz="2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92080" y="3363480"/>
            <a:ext cx="68626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Kontak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Ing. Ilona Sochůrkov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Odbor C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inisterstvo školství, mládeže a tělovýchovy Č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email: </a:t>
            </a:r>
            <a:r>
              <a:rPr b="0" lang="cs-CZ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ilona.sochurkova@msmt.c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06:53:39Z</dcterms:created>
  <dc:creator>Ilona Sochůrková</dc:creator>
  <dc:description/>
  <dc:language>en-US</dc:language>
  <cp:lastModifiedBy>ugh</cp:lastModifiedBy>
  <dcterms:modified xsi:type="dcterms:W3CDTF">2009-12-11T08:28:32Z</dcterms:modified>
  <cp:revision>2</cp:revision>
  <dc:subject/>
  <dc:title>Zahájení semináře   Ing. Ilona Sochůrková</dc:title>
</cp:coreProperties>
</file>