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1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398FA-FEF2-4323-B347-327FC2D3C84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E625C-094B-4574-A839-0D994879F5D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8FB87-796F-4309-9FD9-D217308C2FB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81F6B-63B2-43D0-897C-63EA183183A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A5279-A89C-49A1-AE94-4CEF7E0E357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82E5C-7228-40FA-9833-597DEEF2866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E768D-C9B3-4AB8-B75B-AF994B5D520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F527D-72F2-491C-B7CB-AF946D60359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8FDC9-7B3B-4B1A-A739-3C3B332E417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28D53-7A9A-4B1A-AC3E-D5C3899D724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841E3-A518-4BF4-A5C4-DC7E6542ADA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3F547-5248-40A8-A489-54AC62DD335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09C20-BEB2-46DD-979E-D535A39C2DF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966-030E-44E1-AC5A-5B8EEA44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E78-359B-4E60-9A95-FC930989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B6D-9026-4FC0-8143-C68749AF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163-FA4B-4375-9EED-AEA91A0B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901-2BBB-4863-A5F6-88F8C5D3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7FF-EEF7-4079-946D-05F41D18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FC8-32C4-403B-9541-C375AC78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34F-1630-4984-A946-1F7C655E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B8A-4C6F-479D-86FB-3C0CB45C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0A5-C3E2-47BE-87FC-A056C555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5D7-5B3A-4FA4-BBD2-5B24B1E1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05B-E4C5-4DEB-8653-89D3511D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8F84A5-76F6-441D-869E-E481A35423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440" y="493200"/>
            <a:ext cx="7318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ocesy a  pravidla </a:t>
            </a: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realizace projektu</a:t>
            </a:r>
            <a:br>
              <a:rPr sz="4400"/>
            </a:br>
            <a:br>
              <a:rPr sz="4400"/>
            </a:br>
            <a:r>
              <a:rPr b="1" lang="cs-CZ" sz="2800" spc="-1" strike="noStrike">
                <a:solidFill>
                  <a:srgbClr val="f3912c"/>
                </a:solidFill>
                <a:latin typeface="Arial"/>
              </a:rPr>
              <a:t>Ing. Marie Kaufnerová</a:t>
            </a:r>
            <a:br>
              <a:rPr sz="2800"/>
            </a:br>
            <a:br>
              <a:rPr sz="2800"/>
            </a:br>
            <a:r>
              <a:rPr b="1" lang="cs-CZ" sz="1600" spc="-1" strike="noStrike">
                <a:solidFill>
                  <a:srgbClr val="f3912c"/>
                </a:solidFill>
                <a:latin typeface="Arial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datum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72D78-4D01-4724-978E-6A2A4C7C1E3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obsah 7"/>
          <p:cNvSpPr/>
          <p:nvPr/>
        </p:nvSpPr>
        <p:spPr>
          <a:xfrm>
            <a:off x="1897200" y="2136600"/>
            <a:ext cx="778644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 krajním případě odstoupit od právního aktu  OKAMŽITĚ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bezdůvodně, dlouhodobě a opakovaně neplní některou z povinností uvedených v právním aktu (např. dodávání MZ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v úpadku nebo v likvid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změní právní formu, aniž by to doložil poskytovatel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trola zjistí finanční podvody či jiná nekalá jednání příjem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tární orgán či zaměstnanec příjemce se dopustí trestného činu, jehož skutková podstata souvisí s realizací projektu, a je za to pravomocně odsou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jekt nesplňuje podmínky, za nichž byla finanční podpora přidělena, a příjemce nenavrhne jeho uspokojivou modifik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oupení PÍSEMNĚ, účinné dnem doručení příjemci, ruší se právní ak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6DC06-0A84-40A2-8EC1-11EBA1D0EFE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69EB3-6D6C-4B31-854E-543E719612A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5"/>
          <p:cNvSpPr/>
          <p:nvPr/>
        </p:nvSpPr>
        <p:spPr>
          <a:xfrm>
            <a:off x="2182680" y="2637000"/>
            <a:ext cx="47149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lší možnost – zrušení DOHO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sí být písemné s uvedením důvodů, které vedly k ukončení účinnosti právního aktu včetně vzájemného vypořádání práv a závaz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Nadpis 5"/>
          <p:cNvSpPr/>
          <p:nvPr/>
        </p:nvSpPr>
        <p:spPr>
          <a:xfrm>
            <a:off x="1754280" y="636480"/>
            <a:ext cx="7740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28040-C2C0-4977-BF9A-EF6AE88A080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C:\Documents and Settings\kaufnerovam\Local Settings\Temporary Internet Files\Content.IE5\1ZMAVU8U\MCj04398210000[1].png"/>
          <p:cNvPicPr/>
          <p:nvPr/>
        </p:nvPicPr>
        <p:blipFill>
          <a:blip r:embed="rId2"/>
          <a:stretch/>
        </p:blipFill>
        <p:spPr>
          <a:xfrm>
            <a:off x="4479840" y="491004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50C4A-DAEE-4E67-88E8-54F14F8FB33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5"/>
          <p:cNvSpPr/>
          <p:nvPr/>
        </p:nvSpPr>
        <p:spPr>
          <a:xfrm>
            <a:off x="2397240" y="1851120"/>
            <a:ext cx="62150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y proti postupu ŘO – možno podat do 15 pracovních dní od okamžiku doručení písemného vyrozum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Zasla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6 CERA – Implementace projektů strukturálních fon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nebudete spokojeni s řešením vaší námitky  odborem 46, můžete se poté obrátit 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1 – Odbor řízení OP VK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, který provede proše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     </a:t>
            </a: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a či její prošetření, by mělo být provedeno během 15 pracovních dní, u složitých případů do 20 pracovních 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Námitky a jejich řeš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3EF2B-88D7-459E-9D18-87A3265B6C9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kaufnerovam\Local Settings\Temporary Internet Files\Content.IE5\0C5TUC9H\MCj04398240000[1].png"/>
          <p:cNvPicPr/>
          <p:nvPr/>
        </p:nvPicPr>
        <p:blipFill>
          <a:blip r:embed="rId2"/>
          <a:stretch/>
        </p:blipFill>
        <p:spPr>
          <a:xfrm>
            <a:off x="8136000" y="42800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660DB-3A08-4640-B179-1D8E0AF5257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bdélník 5"/>
          <p:cNvSpPr/>
          <p:nvPr/>
        </p:nvSpPr>
        <p:spPr>
          <a:xfrm>
            <a:off x="1539720" y="1851120"/>
            <a:ext cx="77155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800" spc="-1" strike="noStrike">
                <a:solidFill>
                  <a:srgbClr val="262626"/>
                </a:solidFill>
                <a:latin typeface="Arial"/>
                <a:ea typeface="Lucida Sans Unicode"/>
              </a:rPr>
              <a:t>Příjemce je povinen všechny nově vytvořené produkty předat do vlastnictví poskytovatele, který je oprávněn je volně a bezplatně  šířit v časově, územně a množstevně neomezeném rozsa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je držitelem takových práv duševního vlastnictví vzniklých na základě zakázky jiná osoba než příjemce dotace, je příjemce dotace povinen ve smlouvě uzavřené s dodavatelem zajistit pro poskytovatele neomezenou bezplatnou licenci k využití těchto práv včetně možnosti  zcela nebo z části poskytnout třetí osobě opráv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utorská prá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89190-F7D1-4504-8F87-D105D4BAAF8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yvarovat se diskreditace cílové skupiny a tím i projektu samotné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vhodné si zajistit souhlas cílové skupiny s informováním  o aktivitách projektu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30176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CA38C-4619-4FF8-9BF0-E3F547D6536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6469200" y="670860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vinnost příjemce vést evidenci cílové skupiny účastnící se akcí projektu (například prezenční listiny, seznamy, přihlášk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nezletilých osob zvážit zda není potřeba souhlas zákonného zástupce s účastí v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sp>
        <p:nvSpPr>
          <p:cNvPr id="136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51311-B3E1-4B65-99C5-5EE656010F4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8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při zajišťování a evidenci osobních údajů postupovat v souladu se zákonem č.101/2000 Sb., o ochraně osobních údajů (zajistit souhlas evidovaných osob či jejich zákonných zástupců s jejich využitím a způsobem využit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 Individuální projekty kde se poskytnutí fin. pomoci řídí zákonem č. 218/2000 Sb. o rozpočtových pravidlech (poskytovatel dotace vydá písemné rozhodnutí formou právního aktu, který zavazuje příjemce k naplňování monitorovacích indikátorů a jejich dokladování) není povinnost oznamovat zpracování osobních údajů Úřadu pro ochranu osobních údajů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F7B4A-9738-467D-B73B-9064660FB37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96840" y="850680"/>
            <a:ext cx="604836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6400" y="2851200"/>
            <a:ext cx="7564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. Marie Kaufn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 – oblast podpory 1.1 Zvyšování kvality ve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 46 -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mail: marie.kaufner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8D16E-745D-4253-BEDE-CFA3FFA99AB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7"/>
          <p:cNvSpPr/>
          <p:nvPr/>
        </p:nvSpPr>
        <p:spPr>
          <a:xfrm>
            <a:off x="1897200" y="1208160"/>
            <a:ext cx="76690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akceptace Rozhodnu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dější datum uvedené v projektové žád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uvedené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způsobilé se považují pouze výdaje vzniklé během realizace tj. mezi těmito d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A2727-921B-4E20-A3DC-8FAA6926EF6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Nadpis 1"/>
          <p:cNvSpPr/>
          <p:nvPr/>
        </p:nvSpPr>
        <p:spPr>
          <a:xfrm>
            <a:off x="6397560" y="691668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Nadpis 5"/>
          <p:cNvSpPr/>
          <p:nvPr/>
        </p:nvSpPr>
        <p:spPr>
          <a:xfrm>
            <a:off x="1897200" y="422280"/>
            <a:ext cx="7929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tná změna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žná pouze v řádně odůvodněných a schválených případ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 data zahájení projektu do data ukonč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 datu ukončení pouze audit a mzdy pracovníků projektu za poslední měsíc realizace, vyúčtování zál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B3643-2AF9-4AB4-84CF-EADED198412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Zástupný symbol pro obsah 7"/>
          <p:cNvSpPr/>
          <p:nvPr/>
        </p:nvSpPr>
        <p:spPr>
          <a:xfrm>
            <a:off x="196848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edena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i poskytovatel podpory jsou oprávněni ukončit práci na projektu a jeho financování avšak pouze ze závažných důvod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FF4AB-B320-4FB4-971B-74B7AEA2E03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kaufnerovam\Local Settings\Temporary Internet Files\Content.IE5\RO1OPC4G\MCj04397990000[1].png"/>
          <p:cNvPicPr/>
          <p:nvPr/>
        </p:nvPicPr>
        <p:blipFill>
          <a:blip r:embed="rId2"/>
          <a:stretch/>
        </p:blipFill>
        <p:spPr>
          <a:xfrm>
            <a:off x="6413400" y="1339920"/>
            <a:ext cx="191304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obsah 7"/>
          <p:cNvSpPr/>
          <p:nvPr/>
        </p:nvSpPr>
        <p:spPr>
          <a:xfrm>
            <a:off x="1897200" y="1565280"/>
            <a:ext cx="766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ísemně k rukám poskytovatele formou návrhu na změnu právního aktu s novým datem ukonč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nejvýše dvouměsíční lhůtou uzavř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akceptace změnového právního aktu (Rozhodnutí o změně Rozhodnutí) začíná běžet lhůta pro uzavř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kud byl projekt financován v režimu zálohování  - odděleně evidovat výdaje uskutečněné po dni odeslání návrhu na ukončení projektu. Vyúčtování těchto výdajů (pokud nebudou řádně zdůvodněny v komentáři přiloženém k vyúčtování) nemusí být poskytovatelem  podpory akceptová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8510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5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894DC-BCD0-4AB6-8196-5EF09A0D8C8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7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porušení podmínek právního aktu (nedodržení podmínek pro předčasné ukončení projek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vrátit neoprávněně vyplacené prostředky v plné výši a ve lhůtě stanovené poskytovat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8112240" y="2922480"/>
            <a:ext cx="1447560" cy="133056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1BB0E-6CF2-42BE-A2E7-BFCA410D351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3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je  při podezření na porušení rozpočtové kázně či porušení dalších povinností uvedených v právním aktu o poskytnutí podpory oprávně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vyzvat příjemce k okamžité nápravě zjištěných nedostatků a stanovit lhůty k nápra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preventivně pozastavit platby příjemci pod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20824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87E74-A39A-4DC0-A515-AB06DFF5EC9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obsah 7"/>
          <p:cNvSpPr/>
          <p:nvPr/>
        </p:nvSpPr>
        <p:spPr>
          <a:xfrm>
            <a:off x="1897200" y="1636560"/>
            <a:ext cx="76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ypovědět právní akt o poskytnutí podpory pokud nedojde k nápravě zjištěných nedostatků ve stanovené lhůtě a to  s dvouměsíční výpovědní lhůtou na ukonč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árok příjemce na proplacení odpovídající části způsobilých výdajů bude posuzován poskytovatelem individuál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rátit do 20 pracovních dní od ukončení projektu( přes zřizovatele - 20 prac. d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28D9A-8E74-4C5C-8CEF-65C464CB242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Řízení o odnětí podpory může být zahájeno pokud došlo k porušení pravidel zákona č. 218/2000 Sb. O rozpočtových pravidl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k vázání prostředků státního rozpoč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ke zjištění, že podpora byla poskytnuta na základě neúplných či nepravdivých úda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právní akt byl vydán v rozporu se zákonem či právem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nemůže být řádně či včas splněn účel do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77FB1-2ED0-438E-A325-51BBD23850D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Documents and Settings\kaufnerovam\Local Settings\Temporary Internet Files\Content.IE5\SUKH4R2G\MCj04398220000[1].png"/>
          <p:cNvPicPr/>
          <p:nvPr/>
        </p:nvPicPr>
        <p:blipFill>
          <a:blip r:embed="rId2"/>
          <a:stretch/>
        </p:blipFill>
        <p:spPr>
          <a:xfrm>
            <a:off x="7362720" y="117324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4:43:31Z</dcterms:modified>
  <cp:revision>102</cp:revision>
  <dc:subject/>
  <dc:title>Snímek 1</dc:title>
</cp:coreProperties>
</file>