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1.12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6CFE4-8967-4174-BCA3-977D5459074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98199-7291-457E-BD32-96EBF51AC38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09CE9-AB66-476B-B526-3214D7ABEAD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171A2-2416-4AC5-81EC-3424C2FD000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A0BBD-9B63-44E8-9A83-7A591236C5E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72E69-A6F9-41B2-B139-4EA2E59FF19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69CFD-E497-417D-B2AD-9B09C9FAA81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43F19-1BF2-4463-B499-75AAA8B8FBB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65293-3001-4798-BB99-BFE36405211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986BE-61FD-401B-964F-FE085E623FA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9BE1F-D4B0-43ED-A467-B995E955BA6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E36DB-62F8-42C0-86DA-114A7E02B66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E28CC-3CD9-401C-9555-806A2D953E8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A8D-7503-4AC8-9C7A-BEC67871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256-A09B-4799-88DC-EDD8CC20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DAA-FD09-4864-BFF9-09D37673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E72-ACC9-4049-9E7E-B364605F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F1C-FBC0-4C41-9C2C-6D724AD2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136-EA42-403B-9445-B29460D0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15A-28FD-44DE-8271-48326435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CCF-5023-4FDF-9A26-7BF02FED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D48A-0DD0-439F-AE06-501D4EE0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049-37A7-44F3-9E6F-452AA48E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2CC-B383-4370-8079-0941BA9C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ACE-EE77-4E14-AA78-1C0CFE72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69EA4F-5D4E-493A-B7A9-8CE2B3BAFA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440" y="493200"/>
            <a:ext cx="73184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ocesy a  pravidla </a:t>
            </a: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realizace projektu</a:t>
            </a:r>
            <a:br>
              <a:rPr sz="4400"/>
            </a:br>
            <a:br>
              <a:rPr sz="4400"/>
            </a:br>
            <a:r>
              <a:rPr b="1" lang="cs-CZ" sz="2800" spc="-1" strike="noStrike">
                <a:solidFill>
                  <a:srgbClr val="f3912c"/>
                </a:solidFill>
                <a:latin typeface="Arial"/>
              </a:rPr>
              <a:t>Ing. Marie Kaufnerová</a:t>
            </a:r>
            <a:br>
              <a:rPr sz="2800"/>
            </a:br>
            <a:br>
              <a:rPr sz="2800"/>
            </a:br>
            <a:r>
              <a:rPr b="1" lang="cs-CZ" sz="1600" spc="-1" strike="noStrike">
                <a:solidFill>
                  <a:srgbClr val="f3912c"/>
                </a:solidFill>
                <a:latin typeface="Arial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ástupný symbol pro datum 3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93372-45CC-4DBD-88DC-9672EDF450C4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ástupný symbol pro obsah 7"/>
          <p:cNvSpPr/>
          <p:nvPr/>
        </p:nvSpPr>
        <p:spPr>
          <a:xfrm>
            <a:off x="1897200" y="2136600"/>
            <a:ext cx="778644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dstoupení od právního a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 krajním případě odstoupit od právního aktu  OKAMŽITĚ pok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bezdůvodně, dlouhodobě a opakovaně neplní některou z povinností uvedených v právním aktu (např. dodávání MZ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v úpadku nebo v likvid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změní právní formu, aniž by to doložil poskytovatel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Kontrola zjistí finanční podvody či jiná nekalá jednání příjem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utární orgán či zaměstnanec příjemce se dopustí trestného činu, jehož skutková podstata souvisí s realizací projektu, a je za to pravomocně odsouze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jekt nesplňuje podmínky, za nichž byla finanční podpora přidělena, a příjemce nenavrhne jeho uspokojivou modifik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stoupení PÍSEMNĚ, účinné dnem doručení příjemci, ruší se právní ak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C:\Documents and Settings\gotzv\Local Settings\Temporary Internet Files\Content.IE5\ZXF16QS5\MCj03597570000[1].wmf"/>
          <p:cNvPicPr/>
          <p:nvPr/>
        </p:nvPicPr>
        <p:blipFill>
          <a:blip r:embed="rId1"/>
          <a:stretch/>
        </p:blipFill>
        <p:spPr>
          <a:xfrm>
            <a:off x="7969320" y="1353960"/>
            <a:ext cx="1274760" cy="1258920"/>
          </a:xfrm>
          <a:prstGeom prst="rect">
            <a:avLst/>
          </a:prstGeom>
          <a:ln w="0">
            <a:noFill/>
          </a:ln>
        </p:spPr>
      </p:pic>
      <p:sp>
        <p:nvSpPr>
          <p:cNvPr id="104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957DB-A7B2-4954-8485-C85C6006BF2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498FE-AF05-44ED-8C3C-D0063E47668F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5"/>
          <p:cNvSpPr/>
          <p:nvPr/>
        </p:nvSpPr>
        <p:spPr>
          <a:xfrm>
            <a:off x="2182680" y="2637000"/>
            <a:ext cx="4714920" cy="21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lší možnost – zrušení DOHOD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sí být písemné s uvedením důvodů, které vedly k ukončení účinnosti právního aktu včetně vzájemného vypořádání práv a závaz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Nadpis 5"/>
          <p:cNvSpPr/>
          <p:nvPr/>
        </p:nvSpPr>
        <p:spPr>
          <a:xfrm>
            <a:off x="1754280" y="636480"/>
            <a:ext cx="7740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2B292-290D-4A75-8A7E-A623772F863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C:\Documents and Settings\kaufnerovam\Local Settings\Temporary Internet Files\Content.IE5\1ZMAVU8U\MCj04398210000[1].png"/>
          <p:cNvPicPr/>
          <p:nvPr/>
        </p:nvPicPr>
        <p:blipFill>
          <a:blip r:embed="rId2"/>
          <a:stretch/>
        </p:blipFill>
        <p:spPr>
          <a:xfrm>
            <a:off x="4479840" y="4910040"/>
            <a:ext cx="24177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3BF5A-9686-4CB2-BF80-69DEC84DE4C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bdélník 5"/>
          <p:cNvSpPr/>
          <p:nvPr/>
        </p:nvSpPr>
        <p:spPr>
          <a:xfrm>
            <a:off x="2397240" y="1851120"/>
            <a:ext cx="621504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y proti postupu ŘO – možno podat do 15 pracovních dní od okamžiku doručení písemného vyrozum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Zaslat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6 CERA – Implementace projektů strukturálních fon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nebudete spokojeni s řešením vaší námitky  odborem 46, můžete se poté obrátit 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1 – Odbor řízení OP VK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, který provede prošetř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     </a:t>
            </a: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a či její prošetření, by mělo být provedeno během 15 pracovních dní, u složitých případů do 20 pracovních 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Námitky a jejich řeše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58D73-AD2C-438F-950B-E294B35A281D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C:\Documents and Settings\kaufnerovam\Local Settings\Temporary Internet Files\Content.IE5\0C5TUC9H\MCj04398240000[1].png"/>
          <p:cNvPicPr/>
          <p:nvPr/>
        </p:nvPicPr>
        <p:blipFill>
          <a:blip r:embed="rId2"/>
          <a:stretch/>
        </p:blipFill>
        <p:spPr>
          <a:xfrm>
            <a:off x="8136000" y="42800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6A3CB-06E8-435D-839D-1A257F32625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bdélník 5"/>
          <p:cNvSpPr/>
          <p:nvPr/>
        </p:nvSpPr>
        <p:spPr>
          <a:xfrm>
            <a:off x="1539720" y="1851120"/>
            <a:ext cx="771552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800" spc="-1" strike="noStrike">
                <a:solidFill>
                  <a:srgbClr val="262626"/>
                </a:solidFill>
                <a:latin typeface="Arial"/>
                <a:ea typeface="Lucida Sans Unicode"/>
              </a:rPr>
              <a:t>Příjemce je povinen všechny nově vytvořené produkty předat do vlastnictví poskytovatele, který je oprávněn je volně a bezplatně  šířit v časově, územně a množstevně neomezeném rozsah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je držitelem takových práv duševního vlastnictví vzniklých na základě zakázky jiná osoba než příjemce dotace, je příjemce dotace povinen ve smlouvě uzavřené s dodavatelem zajistit pro poskytovatele neomezenou bezplatnou licenci k využití těchto práv včetně možnosti  zcela nebo z části poskytnout třetí osobě oprávn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Autorská prá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2B9C8-39B7-4977-8955-738F8FFB64FA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2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stupy při oslovování cílových sku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K oslovení cílové skupiny využívat legální nástroje publicity projektu (letáčky, plakáty, prezentace na seminářích či konferencích, inzerce v tisku či v dalších sdělovacích prostředcích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yvarovat se diskreditace cílové skupiny a tím i projektu samotné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Je vhodné si zajistit souhlas cílové skupiny s informováním  o aktivitách projektu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C:\Documents and Settings\gotzv\Local Settings\Temporary Internet Files\Content.IE5\84NCG0JY\MCj02382830000[1].wmf"/>
          <p:cNvPicPr/>
          <p:nvPr/>
        </p:nvPicPr>
        <p:blipFill>
          <a:blip r:embed="rId1"/>
          <a:stretch/>
        </p:blipFill>
        <p:spPr>
          <a:xfrm>
            <a:off x="8612280" y="1301760"/>
            <a:ext cx="1143000" cy="1500120"/>
          </a:xfrm>
          <a:prstGeom prst="rect">
            <a:avLst/>
          </a:prstGeom>
          <a:ln w="0">
            <a:noFill/>
          </a:ln>
        </p:spPr>
      </p:pic>
      <p:sp>
        <p:nvSpPr>
          <p:cNvPr id="130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D9759-0A38-4B55-B476-4B4643017C2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2" name="Nadpis 1"/>
          <p:cNvSpPr/>
          <p:nvPr/>
        </p:nvSpPr>
        <p:spPr>
          <a:xfrm>
            <a:off x="6469200" y="670860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Evidence osob z cílové skup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vinnost příjemce vést evidenci cílové skupiny účastnící se akcí projektu (například prezenční listiny, seznamy, přihlášky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le evidence se provádí monitoring a kontrola výdajů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 nezletilých osob zvážit zda není potřeba souhlas zákonného zástupce s účastí v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C:\Documents and Settings\gotzv\Local Settings\Temporary Internet Files\Content.IE5\YAIUOI0Q\MCj04040350000[1].wmf"/>
          <p:cNvPicPr/>
          <p:nvPr/>
        </p:nvPicPr>
        <p:blipFill>
          <a:blip r:embed="rId1"/>
          <a:stretch/>
        </p:blipFill>
        <p:spPr>
          <a:xfrm>
            <a:off x="8326440" y="1779480"/>
            <a:ext cx="1198440" cy="1341720"/>
          </a:xfrm>
          <a:prstGeom prst="rect">
            <a:avLst/>
          </a:prstGeom>
          <a:ln w="0">
            <a:noFill/>
          </a:ln>
        </p:spPr>
      </p:pic>
      <p:sp>
        <p:nvSpPr>
          <p:cNvPr id="136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EA79C-66F6-4378-80DD-F154B42E944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8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chrana osobních údaj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při zajišťování a evidenci osobních údajů postupovat v souladu se zákonem č.101/2000 Sb., o ochraně osobních údajů (zajistit souhlas evidovaných osob či jejich zákonných zástupců s jejich využitím a způsobem využití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 Individuální projekty kde se poskytnutí fin. pomoci řídí zákonem č. 218/2000 Sb. o rozpočtových pravidlech (poskytovatel dotace vydá písemné rozhodnutí formou právního aktu, který zavazuje příjemce k naplňování monitorovacích indikátorů a jejich dokladování) není povinnost oznamovat zpracování osobních údajů Úřadu pro ochranu osobních údajů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C:\Documents and Settings\gotzv\Local Settings\Temporary Internet Files\Content.IE5\ZXF16QS5\MCBD05027_0000[1].wmf"/>
          <p:cNvPicPr/>
          <p:nvPr/>
        </p:nvPicPr>
        <p:blipFill>
          <a:blip r:embed="rId1"/>
          <a:stretch/>
        </p:blipFill>
        <p:spPr>
          <a:xfrm>
            <a:off x="7826400" y="1771560"/>
            <a:ext cx="1500120" cy="155592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84751-E1C0-4F40-86A2-6BE3F56D19B1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96840" y="850680"/>
            <a:ext cx="6048360" cy="22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76400" y="2851200"/>
            <a:ext cx="75643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. Marie Kaufne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ový manažer – oblast podpory 1.1 Zvyšování kvality ve vzdělá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 46 - 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mail: marie.kaufner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B8913-4B84-41DD-A796-AA0B8856965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C:\Documents and Settings\gotzv\Local Settings\Temporary Internet Files\Content.IE5\DBCR952T\MCj03359370000[1].wmf"/>
          <p:cNvPicPr/>
          <p:nvPr/>
        </p:nvPicPr>
        <p:blipFill>
          <a:blip r:embed="rId1"/>
          <a:stretch/>
        </p:blipFill>
        <p:spPr>
          <a:xfrm>
            <a:off x="7326360" y="1994040"/>
            <a:ext cx="1944720" cy="1662120"/>
          </a:xfrm>
          <a:prstGeom prst="rect">
            <a:avLst/>
          </a:prstGeom>
          <a:ln w="0">
            <a:noFill/>
          </a:ln>
        </p:spPr>
      </p:pic>
      <p:sp>
        <p:nvSpPr>
          <p:cNvPr id="55" name="Zástupný symbol pro obsah 7"/>
          <p:cNvSpPr/>
          <p:nvPr/>
        </p:nvSpPr>
        <p:spPr>
          <a:xfrm>
            <a:off x="1897200" y="1208160"/>
            <a:ext cx="766908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aháj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akceptace Rozhodnu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zdější datum uvedené v projektové žád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uvedené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 způsobilé se považují pouze výdaje vzniklé během realizace tj. mezi těmito da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B3EED-08EA-4D68-95E7-41F3E3954C3E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Nadpis 1"/>
          <p:cNvSpPr/>
          <p:nvPr/>
        </p:nvSpPr>
        <p:spPr>
          <a:xfrm>
            <a:off x="6397560" y="691668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Nadpis 5"/>
          <p:cNvSpPr/>
          <p:nvPr/>
        </p:nvSpPr>
        <p:spPr>
          <a:xfrm>
            <a:off x="1897200" y="422280"/>
            <a:ext cx="7929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měna data ukonč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dstatná změna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žná pouze v řádně odůvodněných a schválených případ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působilé výdaje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 data zahájení projektu do data ukonč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 datu ukončení pouze audit a mzdy pracovníků projektu za poslední měsíc realizace, vyúčtování zál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FDEE9-23E2-47BA-8F5A-6AAAA05B1D3F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Zástupný symbol pro obsah 7"/>
          <p:cNvSpPr/>
          <p:nvPr/>
        </p:nvSpPr>
        <p:spPr>
          <a:xfrm>
            <a:off x="196848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Délka trvání projekt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vedena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jdéle 36 měsíců od přijetí právního aktu s nejzazším datem ukončení 30.6. 20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i poskytovatel podpory jsou oprávněni ukončit práci na projektu a jeho financování avšak pouze ze závažných důvod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E16E3-C390-4417-8CA6-AE59DBB0EEBF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C:\Documents and Settings\kaufnerovam\Local Settings\Temporary Internet Files\Content.IE5\RO1OPC4G\MCj04397990000[1].png"/>
          <p:cNvPicPr/>
          <p:nvPr/>
        </p:nvPicPr>
        <p:blipFill>
          <a:blip r:embed="rId2"/>
          <a:stretch/>
        </p:blipFill>
        <p:spPr>
          <a:xfrm>
            <a:off x="6413400" y="1339920"/>
            <a:ext cx="1913040" cy="19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obsah 7"/>
          <p:cNvSpPr/>
          <p:nvPr/>
        </p:nvSpPr>
        <p:spPr>
          <a:xfrm>
            <a:off x="1897200" y="1565280"/>
            <a:ext cx="76690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říjemc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ísemně k rukám poskytovatele formou návrhu na změnu právního aktu s novým datem ukonč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 nejvýše dvouměsíční lhůtou uzavř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akceptace změnového právního aktu (Rozhodnutí o změně Rozhodnutí) začíná běžet lhůta pro uzavř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e prospěch projektu musí být vráceny do 20 pracovních dnů po ukončení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kud byl projekt financován v režimu zálohování  - odděleně evidovat výdaje uskutečněné po dni odeslání návrhu na ukončení projektu. Vyúčtování těchto výdajů (pokud nebudou řádně zdůvodněny v komentáři přiloženém k vyúčtování) nemusí být poskytovatelem  podpory akceptován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C:\Documents and Settings\gotzv\Local Settings\Temporary Internet Files\Content.IE5\LUHYZSFQ\MCj04326440000[1].png"/>
          <p:cNvPicPr/>
          <p:nvPr/>
        </p:nvPicPr>
        <p:blipFill>
          <a:blip r:embed="rId1"/>
          <a:stretch/>
        </p:blipFill>
        <p:spPr>
          <a:xfrm>
            <a:off x="7969320" y="851040"/>
            <a:ext cx="1571400" cy="1571400"/>
          </a:xfrm>
          <a:prstGeom prst="rect">
            <a:avLst/>
          </a:prstGeom>
          <a:ln w="0">
            <a:noFill/>
          </a:ln>
        </p:spPr>
      </p:pic>
      <p:sp>
        <p:nvSpPr>
          <p:cNvPr id="75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0024C-7019-4FFD-ACAD-86ADA980374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7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eoprávněné předčasné 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porušení podmínek právního aktu (nedodržení podmínek pro předčasné ukončení projekt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vrátit neoprávněně vyplacené prostředky v plné výši a ve lhůtě stanovené poskytovat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C:\Documents and Settings\gotzv\Local Settings\Temporary Internet Files\Content.IE5\7WLRSXM1\MCj04247840000[1].wmf"/>
          <p:cNvPicPr/>
          <p:nvPr/>
        </p:nvPicPr>
        <p:blipFill>
          <a:blip r:embed="rId1"/>
          <a:stretch/>
        </p:blipFill>
        <p:spPr>
          <a:xfrm>
            <a:off x="8112240" y="2922480"/>
            <a:ext cx="1447560" cy="1330560"/>
          </a:xfrm>
          <a:prstGeom prst="rect">
            <a:avLst/>
          </a:prstGeom>
          <a:ln w="0">
            <a:noFill/>
          </a:ln>
        </p:spPr>
      </p:pic>
      <p:sp>
        <p:nvSpPr>
          <p:cNvPr id="81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DB90E-B94E-4243-8D5B-5E50FDE81FB6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3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zastavení podpory z OP V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je  při podezření na porušení rozpočtové kázně či porušení dalších povinností uvedených v právním aktu o poskytnutí podpory oprávně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vyzvat příjemce k okamžité nápravě zjištěných nedostatků a stanovit lhůty k náprav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preventivně pozastavit platby příjemci podp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7" descr="C:\Documents and Settings\gotzv\Local Settings\Temporary Internet Files\Content.IE5\YAIUOI0Q\MCj04315090000[1].png"/>
          <p:cNvPicPr/>
          <p:nvPr/>
        </p:nvPicPr>
        <p:blipFill>
          <a:blip r:embed="rId1"/>
          <a:stretch/>
        </p:blipFill>
        <p:spPr>
          <a:xfrm>
            <a:off x="8112240" y="2208240"/>
            <a:ext cx="1400040" cy="14000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838C1-A926-4B20-A922-3FB4DC762DA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obsah 7"/>
          <p:cNvSpPr/>
          <p:nvPr/>
        </p:nvSpPr>
        <p:spPr>
          <a:xfrm>
            <a:off x="1897200" y="1636560"/>
            <a:ext cx="76690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oskytovatelem finančn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ypovědět právní akt o poskytnutí podpory pokud nedojde k nápravě zjištěných nedostatků ve stanovené lhůtě a to  s dvouměsíční výpovědní lhůtou na ukonč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árok příjemce na proplacení odpovídající části způsobilých výdajů bude posuzován poskytovatelem individuáln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rátit do 20 pracovních dní od ukončení projektu( přes zřizovatele - 20 prac. dní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AADCF-1939-4AD3-B1CF-71B6ECCF623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Řízení o odnět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Řízení o odnětí podpory může být zahájeno pokud došlo k porušení pravidel zákona č. 218/2000 Sb. O rozpočtových pravidl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k vázání prostředků státního rozpoč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ke zjištění, že podpora byla poskytnuta na základě neúplných či nepravdivých údaj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právní akt byl vydán v rozporu se zákonem či právem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nemůže být řádně či včas splněn účel dot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AEDDB-C5EC-4FBD-BBC6-11C46D0879A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C:\Documents and Settings\kaufnerovam\Local Settings\Temporary Internet Files\Content.IE5\SUKH4R2G\MCj04398220000[1].png"/>
          <p:cNvPicPr/>
          <p:nvPr/>
        </p:nvPicPr>
        <p:blipFill>
          <a:blip r:embed="rId2"/>
          <a:stretch/>
        </p:blipFill>
        <p:spPr>
          <a:xfrm>
            <a:off x="7362720" y="1173240"/>
            <a:ext cx="1392480" cy="139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4:43:31Z</dcterms:modified>
  <cp:revision>102</cp:revision>
  <dc:subject/>
  <dc:title>Snímek 1</dc:title>
</cp:coreProperties>
</file>