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7.png" ContentType="image/png"/>
  <Override PartName="/ppt/media/image11.wmf" ContentType="image/x-wmf"/>
  <Override PartName="/ppt/media/image8.wmf" ContentType="image/x-wmf"/>
  <Override PartName="/ppt/media/image9.png" ContentType="image/png"/>
  <Override PartName="/ppt/media/image13.wmf" ContentType="image/x-wmf"/>
  <Override PartName="/ppt/media/image1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10080625" cy="7559675"/>
  <p:notesSz cx="6764338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644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765840" cy="9867960"/>
          </a:xfrm>
          <a:custGeom>
            <a:avLst/>
            <a:gdLst>
              <a:gd name="textAreaLeft" fmla="*/ 360 w 6765840"/>
              <a:gd name="textAreaRight" fmla="*/ 6765480 w 6765840"/>
              <a:gd name="textAreaTop" fmla="*/ 360 h 9867960"/>
              <a:gd name="textAreaBottom" fmla="*/ 9867600 h 9867960"/>
            </a:gdLst>
            <a:ahLst/>
            <a:rect l="textAreaLeft" t="textAreaTop" r="textAreaRight" b="textAreaBottom"/>
            <a:pathLst>
              <a:path w="21600" h="31503">
                <a:moveTo>
                  <a:pt x="4" y="0"/>
                </a:moveTo>
                <a:arcTo wR="4" hR="4" stAng="16200000" swAng="-5400000"/>
                <a:lnTo>
                  <a:pt x="0" y="31499"/>
                </a:lnTo>
                <a:arcTo wR="4" hR="4" stAng="10800000" swAng="-5400000"/>
                <a:lnTo>
                  <a:pt x="21596" y="3150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6765840" cy="9867960"/>
          </a:xfrm>
          <a:custGeom>
            <a:avLst/>
            <a:gdLst>
              <a:gd name="textAreaLeft" fmla="*/ 360 w 6765840"/>
              <a:gd name="textAreaRight" fmla="*/ 6765480 w 6765840"/>
              <a:gd name="textAreaTop" fmla="*/ 360 h 9867960"/>
              <a:gd name="textAreaBottom" fmla="*/ 9867600 h 9867960"/>
            </a:gdLst>
            <a:ahLst/>
            <a:rect l="textAreaLeft" t="textAreaTop" r="textAreaRight" b="textAreaBottom"/>
            <a:pathLst>
              <a:path w="21600" h="31503">
                <a:moveTo>
                  <a:pt x="4" y="0"/>
                </a:moveTo>
                <a:arcTo wR="4" hR="4" stAng="16200000" swAng="-5400000"/>
                <a:lnTo>
                  <a:pt x="0" y="31499"/>
                </a:lnTo>
                <a:arcTo wR="4" hR="4" stAng="10800000" swAng="-5400000"/>
                <a:lnTo>
                  <a:pt x="21596" y="3150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ldImg"/>
          </p:nvPr>
        </p:nvSpPr>
        <p:spPr>
          <a:xfrm>
            <a:off x="915480" y="749160"/>
            <a:ext cx="4929480" cy="36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76080" y="4686120"/>
            <a:ext cx="54082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2932200" cy="48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dt" idx="4"/>
          </p:nvPr>
        </p:nvSpPr>
        <p:spPr>
          <a:xfrm>
            <a:off x="3828600" y="0"/>
            <a:ext cx="2932200" cy="48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11.12.2009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9373680"/>
            <a:ext cx="2932200" cy="4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28600" y="9373680"/>
            <a:ext cx="2932200" cy="4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C35417-E46F-4371-B876-206A1AD9CC92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4320"/>
                <a:tab algn="l" pos="1224000"/>
                <a:tab algn="l" pos="1633680"/>
                <a:tab algn="l" pos="2043000"/>
                <a:tab algn="l" pos="2451240"/>
                <a:tab algn="l" pos="2862360"/>
                <a:tab algn="l" pos="3271680"/>
                <a:tab algn="l" pos="3679920"/>
                <a:tab algn="l" pos="4091040"/>
                <a:tab algn="l" pos="4498920"/>
                <a:tab algn="l" pos="4906800"/>
                <a:tab algn="l" pos="5318280"/>
                <a:tab algn="l" pos="5727600"/>
                <a:tab algn="l" pos="6135840"/>
                <a:tab algn="l" pos="6546960"/>
                <a:tab algn="l" pos="6956280"/>
                <a:tab algn="l" pos="7365960"/>
                <a:tab algn="l" pos="7775640"/>
                <a:tab algn="l" pos="81835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98ED1D-2FBC-4F40-A9D4-9AE643CD028F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4320"/>
                <a:tab algn="l" pos="1224000"/>
                <a:tab algn="l" pos="1633680"/>
                <a:tab algn="l" pos="2043000"/>
                <a:tab algn="l" pos="2451240"/>
                <a:tab algn="l" pos="2862360"/>
                <a:tab algn="l" pos="3271680"/>
                <a:tab algn="l" pos="3679920"/>
                <a:tab algn="l" pos="4091040"/>
                <a:tab algn="l" pos="4498920"/>
                <a:tab algn="l" pos="4906800"/>
                <a:tab algn="l" pos="5318280"/>
                <a:tab algn="l" pos="5727600"/>
                <a:tab algn="l" pos="6135840"/>
                <a:tab algn="l" pos="6546960"/>
                <a:tab algn="l" pos="6956280"/>
                <a:tab algn="l" pos="7365960"/>
                <a:tab algn="l" pos="7775640"/>
                <a:tab algn="l" pos="81835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68B8C7-F6A8-43A7-B826-0AE1715D533C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4320"/>
                <a:tab algn="l" pos="1224000"/>
                <a:tab algn="l" pos="1633680"/>
                <a:tab algn="l" pos="2043000"/>
                <a:tab algn="l" pos="2451240"/>
                <a:tab algn="l" pos="2862360"/>
                <a:tab algn="l" pos="3271680"/>
                <a:tab algn="l" pos="3679920"/>
                <a:tab algn="l" pos="4091040"/>
                <a:tab algn="l" pos="4498920"/>
                <a:tab algn="l" pos="4906800"/>
                <a:tab algn="l" pos="5318280"/>
                <a:tab algn="l" pos="5727600"/>
                <a:tab algn="l" pos="6135840"/>
                <a:tab algn="l" pos="6546960"/>
                <a:tab algn="l" pos="6956280"/>
                <a:tab algn="l" pos="7365960"/>
                <a:tab algn="l" pos="7775640"/>
                <a:tab algn="l" pos="81835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7209CA-DDCF-4DF4-B3BF-99129EEA1CAE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4320"/>
                <a:tab algn="l" pos="1224000"/>
                <a:tab algn="l" pos="1633680"/>
                <a:tab algn="l" pos="2043000"/>
                <a:tab algn="l" pos="2451240"/>
                <a:tab algn="l" pos="2862360"/>
                <a:tab algn="l" pos="3271680"/>
                <a:tab algn="l" pos="3679920"/>
                <a:tab algn="l" pos="4091040"/>
                <a:tab algn="l" pos="4498920"/>
                <a:tab algn="l" pos="4906800"/>
                <a:tab algn="l" pos="5318280"/>
                <a:tab algn="l" pos="5727600"/>
                <a:tab algn="l" pos="6135840"/>
                <a:tab algn="l" pos="6546960"/>
                <a:tab algn="l" pos="6956280"/>
                <a:tab algn="l" pos="7365960"/>
                <a:tab algn="l" pos="7775640"/>
                <a:tab algn="l" pos="81835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764A01-013F-4CAE-BC4E-23E0ADBEF396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4320"/>
                <a:tab algn="l" pos="1224000"/>
                <a:tab algn="l" pos="1633680"/>
                <a:tab algn="l" pos="2043000"/>
                <a:tab algn="l" pos="2451240"/>
                <a:tab algn="l" pos="2862360"/>
                <a:tab algn="l" pos="3271680"/>
                <a:tab algn="l" pos="3679920"/>
                <a:tab algn="l" pos="4091040"/>
                <a:tab algn="l" pos="4498920"/>
                <a:tab algn="l" pos="4906800"/>
                <a:tab algn="l" pos="5318280"/>
                <a:tab algn="l" pos="5727600"/>
                <a:tab algn="l" pos="6135840"/>
                <a:tab algn="l" pos="6546960"/>
                <a:tab algn="l" pos="6956280"/>
                <a:tab algn="l" pos="7365960"/>
                <a:tab algn="l" pos="7775640"/>
                <a:tab algn="l" pos="81835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FF2C49-593D-4632-9C28-30FC9924F023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4320"/>
                <a:tab algn="l" pos="1224000"/>
                <a:tab algn="l" pos="1633680"/>
                <a:tab algn="l" pos="2043000"/>
                <a:tab algn="l" pos="2451240"/>
                <a:tab algn="l" pos="2862360"/>
                <a:tab algn="l" pos="3271680"/>
                <a:tab algn="l" pos="3679920"/>
                <a:tab algn="l" pos="4091040"/>
                <a:tab algn="l" pos="4498920"/>
                <a:tab algn="l" pos="4906800"/>
                <a:tab algn="l" pos="5318280"/>
                <a:tab algn="l" pos="5727600"/>
                <a:tab algn="l" pos="6135840"/>
                <a:tab algn="l" pos="6546960"/>
                <a:tab algn="l" pos="6956280"/>
                <a:tab algn="l" pos="7365960"/>
                <a:tab algn="l" pos="7775640"/>
                <a:tab algn="l" pos="81835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8B8B88-3E47-42AE-BEF1-2E5F10809085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4320"/>
                <a:tab algn="l" pos="1224000"/>
                <a:tab algn="l" pos="1633680"/>
                <a:tab algn="l" pos="2043000"/>
                <a:tab algn="l" pos="2451240"/>
                <a:tab algn="l" pos="2862360"/>
                <a:tab algn="l" pos="3271680"/>
                <a:tab algn="l" pos="3679920"/>
                <a:tab algn="l" pos="4091040"/>
                <a:tab algn="l" pos="4498920"/>
                <a:tab algn="l" pos="4906800"/>
                <a:tab algn="l" pos="5318280"/>
                <a:tab algn="l" pos="5727600"/>
                <a:tab algn="l" pos="6135840"/>
                <a:tab algn="l" pos="6546960"/>
                <a:tab algn="l" pos="6956280"/>
                <a:tab algn="l" pos="7365960"/>
                <a:tab algn="l" pos="7775640"/>
                <a:tab algn="l" pos="81835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64E5CE-FE91-423B-AB06-7C4419827306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4320"/>
                <a:tab algn="l" pos="1224000"/>
                <a:tab algn="l" pos="1633680"/>
                <a:tab algn="l" pos="2043000"/>
                <a:tab algn="l" pos="2451240"/>
                <a:tab algn="l" pos="2862360"/>
                <a:tab algn="l" pos="3271680"/>
                <a:tab algn="l" pos="3679920"/>
                <a:tab algn="l" pos="4091040"/>
                <a:tab algn="l" pos="4498920"/>
                <a:tab algn="l" pos="4906800"/>
                <a:tab algn="l" pos="5318280"/>
                <a:tab algn="l" pos="5727600"/>
                <a:tab algn="l" pos="6135840"/>
                <a:tab algn="l" pos="6546960"/>
                <a:tab algn="l" pos="6956280"/>
                <a:tab algn="l" pos="7365960"/>
                <a:tab algn="l" pos="7775640"/>
                <a:tab algn="l" pos="81835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53181A-65F9-446C-B91A-F6F3CB159962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4320"/>
                <a:tab algn="l" pos="1224000"/>
                <a:tab algn="l" pos="1633680"/>
                <a:tab algn="l" pos="2043000"/>
                <a:tab algn="l" pos="2451240"/>
                <a:tab algn="l" pos="2862360"/>
                <a:tab algn="l" pos="3271680"/>
                <a:tab algn="l" pos="3679920"/>
                <a:tab algn="l" pos="4091040"/>
                <a:tab algn="l" pos="4498920"/>
                <a:tab algn="l" pos="4906800"/>
                <a:tab algn="l" pos="5318280"/>
                <a:tab algn="l" pos="5727600"/>
                <a:tab algn="l" pos="6135840"/>
                <a:tab algn="l" pos="6546960"/>
                <a:tab algn="l" pos="6956280"/>
                <a:tab algn="l" pos="7365960"/>
                <a:tab algn="l" pos="7775640"/>
                <a:tab algn="l" pos="81835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3EB37B-55C3-4EDC-B111-7BC8458C2E3D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4320"/>
                <a:tab algn="l" pos="1224000"/>
                <a:tab algn="l" pos="1633680"/>
                <a:tab algn="l" pos="2043000"/>
                <a:tab algn="l" pos="2451240"/>
                <a:tab algn="l" pos="2862360"/>
                <a:tab algn="l" pos="3271680"/>
                <a:tab algn="l" pos="3679920"/>
                <a:tab algn="l" pos="4091040"/>
                <a:tab algn="l" pos="4498920"/>
                <a:tab algn="l" pos="4906800"/>
                <a:tab algn="l" pos="5318280"/>
                <a:tab algn="l" pos="5727600"/>
                <a:tab algn="l" pos="6135840"/>
                <a:tab algn="l" pos="6546960"/>
                <a:tab algn="l" pos="6956280"/>
                <a:tab algn="l" pos="7365960"/>
                <a:tab algn="l" pos="7775640"/>
                <a:tab algn="l" pos="81835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8E7D35-BF09-4CB8-A051-3AE70DFCE815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4320"/>
                <a:tab algn="l" pos="1224000"/>
                <a:tab algn="l" pos="1633680"/>
                <a:tab algn="l" pos="2043000"/>
                <a:tab algn="l" pos="2451240"/>
                <a:tab algn="l" pos="2862360"/>
                <a:tab algn="l" pos="3271680"/>
                <a:tab algn="l" pos="3679920"/>
                <a:tab algn="l" pos="4091040"/>
                <a:tab algn="l" pos="4498920"/>
                <a:tab algn="l" pos="4906800"/>
                <a:tab algn="l" pos="5318280"/>
                <a:tab algn="l" pos="5727600"/>
                <a:tab algn="l" pos="6135840"/>
                <a:tab algn="l" pos="6546960"/>
                <a:tab algn="l" pos="6956280"/>
                <a:tab algn="l" pos="7365960"/>
                <a:tab algn="l" pos="7775640"/>
                <a:tab algn="l" pos="81835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11D76E-4797-4E49-B472-262DFAF6EE9F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4320"/>
                <a:tab algn="l" pos="1224000"/>
                <a:tab algn="l" pos="1633680"/>
                <a:tab algn="l" pos="2043000"/>
                <a:tab algn="l" pos="2451240"/>
                <a:tab algn="l" pos="2862360"/>
                <a:tab algn="l" pos="3271680"/>
                <a:tab algn="l" pos="3679920"/>
                <a:tab algn="l" pos="4091040"/>
                <a:tab algn="l" pos="4498920"/>
                <a:tab algn="l" pos="4906800"/>
                <a:tab algn="l" pos="5318280"/>
                <a:tab algn="l" pos="5727600"/>
                <a:tab algn="l" pos="6135840"/>
                <a:tab algn="l" pos="6546960"/>
                <a:tab algn="l" pos="6956280"/>
                <a:tab algn="l" pos="7365960"/>
                <a:tab algn="l" pos="7775640"/>
                <a:tab algn="l" pos="81835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ACAD58-2C42-4042-89AB-2CDF12A35BC0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6150B-5749-46A9-832C-CD8DD92C6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148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A5F75-B89B-4542-8A43-9EDB88C68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4E060-B7EB-4AC0-B4A3-9FD209C81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DECDD-0FAF-47FD-967C-D9C06AF1D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76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7049B-D6AF-402D-854D-60BBE91C5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20CD1-60BD-49AC-8333-E5A083487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C1E74-C679-4784-BBE4-753658816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974BD-E962-4E0B-9A0A-794B30F70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76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3B53C-1798-4E48-BBC9-74B813A8D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35D30-F313-4D01-A532-2CDFCE489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2AC3B-A79C-4F5E-9D25-04ED057DA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19279-B306-434F-9C09-EC9052023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4040" indent="-212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5680" indent="-214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5680" indent="-214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5680" indent="-214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A361D3D-E2C3-48D1-8C9B-D5F8C47215C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36440" y="493200"/>
            <a:ext cx="7318440" cy="53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1" lang="cs-CZ" sz="4400" spc="-1" strike="noStrike">
                <a:solidFill>
                  <a:srgbClr val="f3912c"/>
                </a:solidFill>
                <a:latin typeface="Arial"/>
              </a:rPr>
              <a:t>Procesy a  pravidla </a:t>
            </a:r>
            <a:br>
              <a:rPr sz="4400"/>
            </a:br>
            <a:r>
              <a:rPr b="1" lang="cs-CZ" sz="4400" spc="-1" strike="noStrike">
                <a:solidFill>
                  <a:srgbClr val="f3912c"/>
                </a:solidFill>
                <a:latin typeface="Arial"/>
              </a:rPr>
              <a:t>realizace projektu</a:t>
            </a:r>
            <a:br>
              <a:rPr sz="4400"/>
            </a:br>
            <a:br>
              <a:rPr sz="4400"/>
            </a:br>
            <a:r>
              <a:rPr b="1" lang="cs-CZ" sz="2800" spc="-1" strike="noStrike">
                <a:solidFill>
                  <a:srgbClr val="f3912c"/>
                </a:solidFill>
                <a:latin typeface="Arial"/>
              </a:rPr>
              <a:t>Ing. Marie Kaufnerová</a:t>
            </a:r>
            <a:br>
              <a:rPr sz="2800"/>
            </a:br>
            <a:br>
              <a:rPr sz="2800"/>
            </a:br>
            <a:r>
              <a:rPr b="1" lang="cs-CZ" sz="1600" spc="-1" strike="noStrike">
                <a:solidFill>
                  <a:srgbClr val="f3912c"/>
                </a:solidFill>
                <a:latin typeface="Arial"/>
              </a:rPr>
              <a:t>Prezentace pro příjemce IPo, kteří se řídí Příručkou pro příjemce fin.podpory z OP VK, verze 3, učinná od 3.10.2009.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Zástupný symbol pro datum 3"/>
          <p:cNvSpPr/>
          <p:nvPr/>
        </p:nvSpPr>
        <p:spPr>
          <a:xfrm>
            <a:off x="50328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EB6641-834D-4CC4-AF48-0FCDC8A54096}" type="datetime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28.07.20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Picture 5" descr=""/>
          <p:cNvPicPr/>
          <p:nvPr/>
        </p:nvPicPr>
        <p:blipFill>
          <a:blip r:embed="rId1"/>
          <a:stretch/>
        </p:blipFill>
        <p:spPr>
          <a:xfrm>
            <a:off x="0" y="2779560"/>
            <a:ext cx="1730520" cy="478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825560" y="208080"/>
            <a:ext cx="7740720" cy="13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3912c"/>
                </a:solidFill>
                <a:latin typeface="Arial"/>
              </a:rPr>
              <a:t>Ukončení projektu v jiném režim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Zástupný symbol pro obsah 7"/>
          <p:cNvSpPr/>
          <p:nvPr/>
        </p:nvSpPr>
        <p:spPr>
          <a:xfrm>
            <a:off x="1897200" y="2136600"/>
            <a:ext cx="7786440" cy="461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Arial"/>
              </a:rPr>
              <a:t>Odstoupení od právního akt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Poskytovatel podpory může v krajním případě odstoupit od právního aktu  OKAMŽITĚ poku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  <a:ea typeface="Lucida Sans Unicode"/>
              </a:rPr>
              <a:t>Příjemce bezdůvodně, dlouhodobě a opakovaně neplní některou z povinností uvedených v právním aktu (např. dodávání MZ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  <a:ea typeface="Lucida Sans Unicode"/>
              </a:rPr>
              <a:t>Příjemce je v úpadku nebo v likvidaci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  <a:ea typeface="Lucida Sans Unicode"/>
              </a:rPr>
              <a:t>Příjemce změní právní formu, aniž by to doložil poskytovateli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  <a:ea typeface="Lucida Sans Unicode"/>
              </a:rPr>
              <a:t>Kontrola zjistí finanční podvody či jiná nekalá jednání příjemce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  <a:ea typeface="Lucida Sans Unicode"/>
              </a:rPr>
              <a:t>Statutární orgán či zaměstnanec příjemce se dopustí trestného činu, jehož skutková podstata souvisí s realizací projektu, a je za to pravomocně odsouzen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  <a:ea typeface="Lucida Sans Unicode"/>
              </a:rPr>
              <a:t>Projekt nesplňuje podmínky, za nichž byla finanční podpora přidělena, a příjemce nenavrhne jeho uspokojivou modifikaci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  <a:ea typeface="Lucida Sans Unicode"/>
              </a:rPr>
              <a:t>Odstoupení PÍSEMNĚ, účinné dnem doručení příjemci, ruší se právní ak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Picture 4" descr="C:\Documents and Settings\gotzv\Local Settings\Temporary Internet Files\Content.IE5\ZXF16QS5\MCj03597570000[1].wmf"/>
          <p:cNvPicPr/>
          <p:nvPr/>
        </p:nvPicPr>
        <p:blipFill>
          <a:blip r:embed="rId1"/>
          <a:stretch/>
        </p:blipFill>
        <p:spPr>
          <a:xfrm>
            <a:off x="7969320" y="1353960"/>
            <a:ext cx="1274760" cy="1258920"/>
          </a:xfrm>
          <a:prstGeom prst="rect">
            <a:avLst/>
          </a:prstGeom>
          <a:ln w="0">
            <a:noFill/>
          </a:ln>
        </p:spPr>
      </p:pic>
      <p:sp>
        <p:nvSpPr>
          <p:cNvPr id="104" name="Zástupný symbol pro datum 5"/>
          <p:cNvSpPr/>
          <p:nvPr/>
        </p:nvSpPr>
        <p:spPr>
          <a:xfrm>
            <a:off x="50328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227564-C1CE-407E-8511-185FDD9506BC}" type="datetime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28.07.20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Picture 5" descr=""/>
          <p:cNvPicPr/>
          <p:nvPr/>
        </p:nvPicPr>
        <p:blipFill>
          <a:blip r:embed="rId2"/>
          <a:stretch/>
        </p:blipFill>
        <p:spPr>
          <a:xfrm>
            <a:off x="0" y="2779560"/>
            <a:ext cx="1730520" cy="4780080"/>
          </a:xfrm>
          <a:prstGeom prst="rect">
            <a:avLst/>
          </a:prstGeom>
          <a:ln w="0">
            <a:noFill/>
          </a:ln>
        </p:spPr>
      </p:pic>
      <p:sp>
        <p:nvSpPr>
          <p:cNvPr id="106" name="Nadpis 1"/>
          <p:cNvSpPr/>
          <p:nvPr/>
        </p:nvSpPr>
        <p:spPr>
          <a:xfrm>
            <a:off x="6540480" y="6780240"/>
            <a:ext cx="33559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Zástupný symbol pro datum 4"/>
          <p:cNvSpPr/>
          <p:nvPr/>
        </p:nvSpPr>
        <p:spPr>
          <a:xfrm>
            <a:off x="50328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AAB181-4839-4982-8A95-DBBD6EEA3976}" type="datetime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28.07.20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Obdélník 5"/>
          <p:cNvSpPr/>
          <p:nvPr/>
        </p:nvSpPr>
        <p:spPr>
          <a:xfrm>
            <a:off x="2182680" y="2637000"/>
            <a:ext cx="4714920" cy="218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Další možnost – zrušení DOHODO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Musí být písemné s uvedením důvodů, které vedly k ukončení účinnosti právního aktu včetně vzájemného vypořádání práv a závazků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Nadpis 5"/>
          <p:cNvSpPr/>
          <p:nvPr/>
        </p:nvSpPr>
        <p:spPr>
          <a:xfrm>
            <a:off x="1754280" y="636480"/>
            <a:ext cx="7740720" cy="13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3912c"/>
                </a:solidFill>
                <a:latin typeface="Arial"/>
              </a:rPr>
              <a:t>Ukončení projektu v jiném režimu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Zástupný symbol pro datum 5"/>
          <p:cNvSpPr/>
          <p:nvPr/>
        </p:nvSpPr>
        <p:spPr>
          <a:xfrm>
            <a:off x="655560" y="7039080"/>
            <a:ext cx="234324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629332-97D6-4D8F-A6C1-C1E6A3DAE466}" type="datetime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28.07.20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Picture 5" descr=""/>
          <p:cNvPicPr/>
          <p:nvPr/>
        </p:nvPicPr>
        <p:blipFill>
          <a:blip r:embed="rId1"/>
          <a:stretch/>
        </p:blipFill>
        <p:spPr>
          <a:xfrm>
            <a:off x="0" y="2779560"/>
            <a:ext cx="1730520" cy="4780080"/>
          </a:xfrm>
          <a:prstGeom prst="rect">
            <a:avLst/>
          </a:prstGeom>
          <a:ln w="0">
            <a:noFill/>
          </a:ln>
        </p:spPr>
      </p:pic>
      <p:sp>
        <p:nvSpPr>
          <p:cNvPr id="112" name="Nadpis 1"/>
          <p:cNvSpPr/>
          <p:nvPr/>
        </p:nvSpPr>
        <p:spPr>
          <a:xfrm>
            <a:off x="6540480" y="6780240"/>
            <a:ext cx="33559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2" descr="C:\Documents and Settings\kaufnerovam\Local Settings\Temporary Internet Files\Content.IE5\1ZMAVU8U\MCj04398210000[1].png"/>
          <p:cNvPicPr/>
          <p:nvPr/>
        </p:nvPicPr>
        <p:blipFill>
          <a:blip r:embed="rId2"/>
          <a:stretch/>
        </p:blipFill>
        <p:spPr>
          <a:xfrm>
            <a:off x="4479840" y="4910040"/>
            <a:ext cx="2417760" cy="24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Zástupný symbol pro datum 4"/>
          <p:cNvSpPr/>
          <p:nvPr/>
        </p:nvSpPr>
        <p:spPr>
          <a:xfrm>
            <a:off x="50328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8E0B61-8B09-4E10-BF21-59679C2AC4AF}" type="datetime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28.07.20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Obdélník 5"/>
          <p:cNvSpPr/>
          <p:nvPr/>
        </p:nvSpPr>
        <p:spPr>
          <a:xfrm>
            <a:off x="2397240" y="1851120"/>
            <a:ext cx="6215040" cy="45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cs-CZ" sz="2000" spc="-1" strike="noStrike">
                <a:solidFill>
                  <a:srgbClr val="262626"/>
                </a:solidFill>
                <a:latin typeface="Arial"/>
                <a:ea typeface="Lucida Sans Unicode"/>
              </a:rPr>
              <a:t>Námitky proti postupu ŘO – možno podat do 15 pracovních dní od okamžiku doručení písemného vyrozuměn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cs-CZ" sz="2000" spc="-1" strike="noStrike">
                <a:solidFill>
                  <a:srgbClr val="262626"/>
                </a:solidFill>
                <a:latin typeface="Arial"/>
                <a:ea typeface="Lucida Sans Unicode"/>
              </a:rPr>
              <a:t>Zaslat 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cs-CZ" sz="2000" spc="-1" strike="noStrike">
                <a:solidFill>
                  <a:srgbClr val="262626"/>
                </a:solidFill>
                <a:latin typeface="Arial"/>
                <a:ea typeface="Lucida Sans Unicode"/>
              </a:rPr>
              <a:t> </a:t>
            </a:r>
            <a:r>
              <a:rPr b="0" lang="cs-CZ" sz="2000" spc="-1" strike="noStrike">
                <a:solidFill>
                  <a:srgbClr val="262626"/>
                </a:solidFill>
                <a:latin typeface="Arial"/>
                <a:ea typeface="Lucida Sans Unicode"/>
              </a:rPr>
              <a:t>na odbor </a:t>
            </a:r>
            <a:r>
              <a:rPr b="1" i="1" lang="cs-CZ" sz="2000" spc="-1" strike="noStrike">
                <a:solidFill>
                  <a:srgbClr val="262626"/>
                </a:solidFill>
                <a:latin typeface="Arial"/>
                <a:ea typeface="Lucida Sans Unicode"/>
              </a:rPr>
              <a:t>46 CERA – Implementace projektů strukturálních fondů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cs-CZ" sz="2000" spc="-1" strike="noStrike">
                <a:solidFill>
                  <a:srgbClr val="262626"/>
                </a:solidFill>
                <a:latin typeface="Arial"/>
                <a:ea typeface="Lucida Sans Unicode"/>
              </a:rPr>
              <a:t> </a:t>
            </a:r>
            <a:r>
              <a:rPr b="0" lang="cs-CZ" sz="2000" spc="-1" strike="noStrike">
                <a:solidFill>
                  <a:srgbClr val="262626"/>
                </a:solidFill>
                <a:latin typeface="Arial"/>
                <a:ea typeface="Lucida Sans Unicode"/>
              </a:rPr>
              <a:t>pokud nebudete spokojeni s řešením vaší námitky  odborem 46, můžete se poté obrátit na odbor </a:t>
            </a:r>
            <a:r>
              <a:rPr b="1" i="1" lang="cs-CZ" sz="2000" spc="-1" strike="noStrike">
                <a:solidFill>
                  <a:srgbClr val="262626"/>
                </a:solidFill>
                <a:latin typeface="Arial"/>
                <a:ea typeface="Lucida Sans Unicode"/>
              </a:rPr>
              <a:t>41 – Odbor řízení OP VK</a:t>
            </a:r>
            <a:r>
              <a:rPr b="0" lang="cs-CZ" sz="2000" spc="-1" strike="noStrike">
                <a:solidFill>
                  <a:srgbClr val="262626"/>
                </a:solidFill>
                <a:latin typeface="Arial"/>
                <a:ea typeface="Lucida Sans Unicode"/>
              </a:rPr>
              <a:t>, který provede prošetřen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cs-CZ" sz="1800" spc="-1" strike="noStrike">
                <a:solidFill>
                  <a:srgbClr val="262626"/>
                </a:solidFill>
                <a:latin typeface="Arial"/>
                <a:ea typeface="Lucida Sans Unicode"/>
              </a:rPr>
              <a:t>     </a:t>
            </a:r>
            <a:r>
              <a:rPr b="0" lang="cs-CZ" sz="1800" spc="-1" strike="noStrike">
                <a:solidFill>
                  <a:srgbClr val="262626"/>
                </a:solidFill>
                <a:latin typeface="Arial"/>
                <a:ea typeface="Lucida Sans Unicode"/>
              </a:rPr>
              <a:t>Námitka či její prošetření, by mělo být provedeno během 15 pracovních dní, u složitých případů do 20 pracovních dn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Nadpis 5"/>
          <p:cNvSpPr/>
          <p:nvPr/>
        </p:nvSpPr>
        <p:spPr>
          <a:xfrm>
            <a:off x="1754280" y="636480"/>
            <a:ext cx="774072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3912c"/>
                </a:solidFill>
                <a:latin typeface="Arial"/>
              </a:rPr>
              <a:t>Námitky a jejich řešení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Zástupný symbol pro datum 5"/>
          <p:cNvSpPr/>
          <p:nvPr/>
        </p:nvSpPr>
        <p:spPr>
          <a:xfrm>
            <a:off x="655560" y="7039080"/>
            <a:ext cx="234324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E2575F-6110-4F33-93CA-E2C680CEA0F9}" type="datetime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28.07.20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Picture 5" descr=""/>
          <p:cNvPicPr/>
          <p:nvPr/>
        </p:nvPicPr>
        <p:blipFill>
          <a:blip r:embed="rId1"/>
          <a:stretch/>
        </p:blipFill>
        <p:spPr>
          <a:xfrm>
            <a:off x="0" y="2779560"/>
            <a:ext cx="1730520" cy="4780080"/>
          </a:xfrm>
          <a:prstGeom prst="rect">
            <a:avLst/>
          </a:prstGeom>
          <a:ln w="0">
            <a:noFill/>
          </a:ln>
        </p:spPr>
      </p:pic>
      <p:sp>
        <p:nvSpPr>
          <p:cNvPr id="119" name="Nadpis 1"/>
          <p:cNvSpPr/>
          <p:nvPr/>
        </p:nvSpPr>
        <p:spPr>
          <a:xfrm>
            <a:off x="6540480" y="6780240"/>
            <a:ext cx="33559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Picture 2" descr="C:\Documents and Settings\kaufnerovam\Local Settings\Temporary Internet Files\Content.IE5\0C5TUC9H\MCj04398240000[1].png"/>
          <p:cNvPicPr/>
          <p:nvPr/>
        </p:nvPicPr>
        <p:blipFill>
          <a:blip r:embed="rId2"/>
          <a:stretch/>
        </p:blipFill>
        <p:spPr>
          <a:xfrm>
            <a:off x="8136000" y="4280040"/>
            <a:ext cx="194472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Zástupný symbol pro datum 4"/>
          <p:cNvSpPr/>
          <p:nvPr/>
        </p:nvSpPr>
        <p:spPr>
          <a:xfrm>
            <a:off x="50328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5322DD-89B4-4496-8BED-5F91266FCD75}" type="datetime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28.07.20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Obdélník 5"/>
          <p:cNvSpPr/>
          <p:nvPr/>
        </p:nvSpPr>
        <p:spPr>
          <a:xfrm>
            <a:off x="1539720" y="1851120"/>
            <a:ext cx="7715520" cy="439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cs-CZ" sz="2800" spc="-1" strike="noStrike">
                <a:solidFill>
                  <a:srgbClr val="262626"/>
                </a:solidFill>
                <a:latin typeface="Arial"/>
                <a:ea typeface="Lucida Sans Unicode"/>
              </a:rPr>
              <a:t>Příjemce je povinen všechny nově vytvořené produkty předat do vlastnictví poskytovatele, který je oprávněn je volně a bezplatně  šířit v časově, územně a množstevně neomezeném rozsahu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cs-CZ" sz="2000" spc="-1" strike="noStrike">
                <a:solidFill>
                  <a:srgbClr val="262626"/>
                </a:solidFill>
                <a:latin typeface="Arial"/>
                <a:ea typeface="Lucida Sans Unicode"/>
              </a:rPr>
              <a:t>Pokud je držitelem takových práv duševního vlastnictví vzniklých na základě zakázky jiná osoba než příjemce dotace, je příjemce dotace povinen ve smlouvě uzavřené s dodavatelem zajistit pro poskytovatele neomezenou bezplatnou licenci k využití těchto práv včetně možnosti  zcela nebo z části poskytnout třetí osobě oprávněn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Nadpis 5"/>
          <p:cNvSpPr/>
          <p:nvPr/>
        </p:nvSpPr>
        <p:spPr>
          <a:xfrm>
            <a:off x="1754280" y="636480"/>
            <a:ext cx="774072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3912c"/>
                </a:solidFill>
                <a:latin typeface="Arial"/>
              </a:rPr>
              <a:t>Autorská práv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Zástupný symbol pro datum 5"/>
          <p:cNvSpPr/>
          <p:nvPr/>
        </p:nvSpPr>
        <p:spPr>
          <a:xfrm>
            <a:off x="655560" y="7039080"/>
            <a:ext cx="234324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AD9628-5062-4EFA-83E8-C51BFF4A0F60}" type="datetime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28.07.20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5" descr=""/>
          <p:cNvPicPr/>
          <p:nvPr/>
        </p:nvPicPr>
        <p:blipFill>
          <a:blip r:embed="rId1"/>
          <a:stretch/>
        </p:blipFill>
        <p:spPr>
          <a:xfrm>
            <a:off x="0" y="2779560"/>
            <a:ext cx="1730520" cy="4780080"/>
          </a:xfrm>
          <a:prstGeom prst="rect">
            <a:avLst/>
          </a:prstGeom>
          <a:ln w="0">
            <a:noFill/>
          </a:ln>
        </p:spPr>
      </p:pic>
      <p:sp>
        <p:nvSpPr>
          <p:cNvPr id="126" name="Nadpis 1"/>
          <p:cNvSpPr/>
          <p:nvPr/>
        </p:nvSpPr>
        <p:spPr>
          <a:xfrm>
            <a:off x="6540480" y="6780240"/>
            <a:ext cx="33559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825560" y="208080"/>
            <a:ext cx="7740720" cy="13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3912c"/>
                </a:solidFill>
                <a:latin typeface="Arial"/>
              </a:rPr>
              <a:t>Vztahy a povinnosti příjemce vůči cílovým skupiná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Zástupný symbol pro obsah 7"/>
          <p:cNvSpPr/>
          <p:nvPr/>
        </p:nvSpPr>
        <p:spPr>
          <a:xfrm>
            <a:off x="1897200" y="2136600"/>
            <a:ext cx="7669080" cy="461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Arial"/>
              </a:rPr>
              <a:t>Postupy při oslovování cílových skup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K oslovení cílové skupiny využívat legální nástroje publicity projektu (letáčky, plakáty, prezentace na seminářích či konferencích, inzerce v tisku či v dalších sdělovacích prostředcích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Vyvarovat se diskreditace cílové skupiny a tím i projektu samotnéh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Je vhodné si zajistit souhlas cílové skupiny s informováním  o aktivitách projektu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Picture 4" descr="C:\Documents and Settings\gotzv\Local Settings\Temporary Internet Files\Content.IE5\84NCG0JY\MCj02382830000[1].wmf"/>
          <p:cNvPicPr/>
          <p:nvPr/>
        </p:nvPicPr>
        <p:blipFill>
          <a:blip r:embed="rId1"/>
          <a:stretch/>
        </p:blipFill>
        <p:spPr>
          <a:xfrm>
            <a:off x="8612280" y="1301760"/>
            <a:ext cx="1143000" cy="1500120"/>
          </a:xfrm>
          <a:prstGeom prst="rect">
            <a:avLst/>
          </a:prstGeom>
          <a:ln w="0">
            <a:noFill/>
          </a:ln>
        </p:spPr>
      </p:pic>
      <p:sp>
        <p:nvSpPr>
          <p:cNvPr id="130" name="Zástupný symbol pro datum 5"/>
          <p:cNvSpPr/>
          <p:nvPr/>
        </p:nvSpPr>
        <p:spPr>
          <a:xfrm>
            <a:off x="50328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BAA21E-BA26-4A7A-9D6E-DEA64E74C1CB}" type="datetime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28.07.20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Picture 5" descr=""/>
          <p:cNvPicPr/>
          <p:nvPr/>
        </p:nvPicPr>
        <p:blipFill>
          <a:blip r:embed="rId2"/>
          <a:stretch/>
        </p:blipFill>
        <p:spPr>
          <a:xfrm>
            <a:off x="0" y="2779560"/>
            <a:ext cx="1730520" cy="4780080"/>
          </a:xfrm>
          <a:prstGeom prst="rect">
            <a:avLst/>
          </a:prstGeom>
          <a:ln w="0">
            <a:noFill/>
          </a:ln>
        </p:spPr>
      </p:pic>
      <p:sp>
        <p:nvSpPr>
          <p:cNvPr id="132" name="Nadpis 1"/>
          <p:cNvSpPr/>
          <p:nvPr/>
        </p:nvSpPr>
        <p:spPr>
          <a:xfrm>
            <a:off x="6469200" y="6708600"/>
            <a:ext cx="33559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825560" y="208080"/>
            <a:ext cx="7740720" cy="13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3912c"/>
                </a:solidFill>
                <a:latin typeface="Arial"/>
              </a:rPr>
              <a:t>Vztahy a povinnosti příjemce vůči cílovým skupiná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Zástupný symbol pro obsah 7"/>
          <p:cNvSpPr/>
          <p:nvPr/>
        </p:nvSpPr>
        <p:spPr>
          <a:xfrm>
            <a:off x="1897200" y="2136600"/>
            <a:ext cx="7669080" cy="461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Arial"/>
              </a:rPr>
              <a:t>Evidence osob z cílové skupin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Povinnost příjemce vést evidenci cílové skupiny účastnící se akcí projektu (například prezenční listiny, seznamy, přihlášky)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Dle evidence se provádí monitoring a kontrola výdajů projektu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U nezletilých osob zvážit zda není potřeba souhlas zákonného zástupce s účastí v projektu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Picture 3" descr="C:\Documents and Settings\gotzv\Local Settings\Temporary Internet Files\Content.IE5\YAIUOI0Q\MCj04040350000[1].wmf"/>
          <p:cNvPicPr/>
          <p:nvPr/>
        </p:nvPicPr>
        <p:blipFill>
          <a:blip r:embed="rId1"/>
          <a:stretch/>
        </p:blipFill>
        <p:spPr>
          <a:xfrm>
            <a:off x="8326440" y="1779480"/>
            <a:ext cx="1198440" cy="1341720"/>
          </a:xfrm>
          <a:prstGeom prst="rect">
            <a:avLst/>
          </a:prstGeom>
          <a:ln w="0">
            <a:noFill/>
          </a:ln>
        </p:spPr>
      </p:pic>
      <p:sp>
        <p:nvSpPr>
          <p:cNvPr id="136" name="Zástupný symbol pro datum 5"/>
          <p:cNvSpPr/>
          <p:nvPr/>
        </p:nvSpPr>
        <p:spPr>
          <a:xfrm>
            <a:off x="50328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8EA759-3FC3-4215-AEFF-1A8A1307E6E7}" type="datetime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28.07.20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Picture 5" descr=""/>
          <p:cNvPicPr/>
          <p:nvPr/>
        </p:nvPicPr>
        <p:blipFill>
          <a:blip r:embed="rId2"/>
          <a:stretch/>
        </p:blipFill>
        <p:spPr>
          <a:xfrm>
            <a:off x="0" y="2779560"/>
            <a:ext cx="1730520" cy="4780080"/>
          </a:xfrm>
          <a:prstGeom prst="rect">
            <a:avLst/>
          </a:prstGeom>
          <a:ln w="0">
            <a:noFill/>
          </a:ln>
        </p:spPr>
      </p:pic>
      <p:sp>
        <p:nvSpPr>
          <p:cNvPr id="138" name="Nadpis 1"/>
          <p:cNvSpPr/>
          <p:nvPr/>
        </p:nvSpPr>
        <p:spPr>
          <a:xfrm>
            <a:off x="6540480" y="6780240"/>
            <a:ext cx="33559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825560" y="208080"/>
            <a:ext cx="7740720" cy="13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3912c"/>
                </a:solidFill>
                <a:latin typeface="Arial"/>
              </a:rPr>
              <a:t>Vztahy a povinnosti příjemce vůči cílovým skupiná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Zástupný symbol pro obsah 7"/>
          <p:cNvSpPr/>
          <p:nvPr/>
        </p:nvSpPr>
        <p:spPr>
          <a:xfrm>
            <a:off x="1897200" y="2136600"/>
            <a:ext cx="7669080" cy="461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Arial"/>
              </a:rPr>
              <a:t>Ochrana osobních údajů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Příjemce je povinen při zajišťování a evidenci osobních údajů postupovat v souladu se zákonem č.101/2000 Sb., o ochraně osobních údajů (zajistit souhlas evidovaných osob či jejich zákonných zástupců s jejich využitím a způsobem využití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Pro Individuální projekty kde se poskytnutí fin. pomoci řídí zákonem č. 218/2000 Sb. o rozpočtových pravidlech (poskytovatel dotace vydá písemné rozhodnutí formou právního aktu, který zavazuje příjemce k naplňování monitorovacích indikátorů a jejich dokladování) není povinnost oznamovat zpracování osobních údajů Úřadu pro ochranu osobních údajů 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Picture 2" descr="C:\Documents and Settings\gotzv\Local Settings\Temporary Internet Files\Content.IE5\ZXF16QS5\MCBD05027_0000[1].wmf"/>
          <p:cNvPicPr/>
          <p:nvPr/>
        </p:nvPicPr>
        <p:blipFill>
          <a:blip r:embed="rId1"/>
          <a:stretch/>
        </p:blipFill>
        <p:spPr>
          <a:xfrm>
            <a:off x="7826400" y="1771560"/>
            <a:ext cx="1500120" cy="1555920"/>
          </a:xfrm>
          <a:prstGeom prst="rect">
            <a:avLst/>
          </a:prstGeom>
          <a:ln w="0">
            <a:noFill/>
          </a:ln>
        </p:spPr>
      </p:pic>
      <p:sp>
        <p:nvSpPr>
          <p:cNvPr id="142" name="Zástupný symbol pro datum 5"/>
          <p:cNvSpPr/>
          <p:nvPr/>
        </p:nvSpPr>
        <p:spPr>
          <a:xfrm>
            <a:off x="50328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77DD50-8EC8-4903-BDAE-4F0683C9CB07}" type="datetime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28.07.20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Picture 5" descr=""/>
          <p:cNvPicPr/>
          <p:nvPr/>
        </p:nvPicPr>
        <p:blipFill>
          <a:blip r:embed="rId2"/>
          <a:stretch/>
        </p:blipFill>
        <p:spPr>
          <a:xfrm>
            <a:off x="0" y="2779560"/>
            <a:ext cx="1730520" cy="4780080"/>
          </a:xfrm>
          <a:prstGeom prst="rect">
            <a:avLst/>
          </a:prstGeom>
          <a:ln w="0">
            <a:noFill/>
          </a:ln>
        </p:spPr>
      </p:pic>
      <p:sp>
        <p:nvSpPr>
          <p:cNvPr id="144" name="Nadpis 1"/>
          <p:cNvSpPr/>
          <p:nvPr/>
        </p:nvSpPr>
        <p:spPr>
          <a:xfrm>
            <a:off x="6540480" y="6780240"/>
            <a:ext cx="33559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896840" y="850680"/>
            <a:ext cx="6048360" cy="221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3912c"/>
                </a:solidFill>
                <a:latin typeface="Arial"/>
              </a:rPr>
              <a:t>Děkuji za pozornost</a:t>
            </a:r>
            <a:br>
              <a:rPr sz="20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976400" y="2851200"/>
            <a:ext cx="7564320" cy="39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Kontak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ng. Marie Kaufnerov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ojektový manažer – oblast podpory 1.1 Zvyšování kvality ve vzdělávání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dbor  46 - CE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nisterstvo školství, mládeže a tělovýchovy Č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email: marie.kaufnerova@msmt.c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Zástupný symbol pro datum 4"/>
          <p:cNvSpPr/>
          <p:nvPr/>
        </p:nvSpPr>
        <p:spPr>
          <a:xfrm>
            <a:off x="50328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B295E1-8E96-443B-86C0-4F2169AA161E}" type="datetime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28.07.20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Picture 5" descr=""/>
          <p:cNvPicPr/>
          <p:nvPr/>
        </p:nvPicPr>
        <p:blipFill>
          <a:blip r:embed="rId1"/>
          <a:stretch/>
        </p:blipFill>
        <p:spPr>
          <a:xfrm>
            <a:off x="0" y="2779560"/>
            <a:ext cx="1730520" cy="4780080"/>
          </a:xfrm>
          <a:prstGeom prst="rect">
            <a:avLst/>
          </a:prstGeom>
          <a:ln w="0">
            <a:noFill/>
          </a:ln>
        </p:spPr>
      </p:pic>
      <p:sp>
        <p:nvSpPr>
          <p:cNvPr id="149" name="Nadpis 1"/>
          <p:cNvSpPr/>
          <p:nvPr/>
        </p:nvSpPr>
        <p:spPr>
          <a:xfrm>
            <a:off x="6540480" y="6780240"/>
            <a:ext cx="33559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Zástupný symbol pro text 8"/>
          <p:cNvSpPr/>
          <p:nvPr/>
        </p:nvSpPr>
        <p:spPr>
          <a:xfrm>
            <a:off x="1968480" y="6708600"/>
            <a:ext cx="34923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cs-CZ" sz="1600" spc="-1" strike="noStrike">
                <a:solidFill>
                  <a:srgbClr val="7f7f7f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2" descr="C:\Documents and Settings\gotzv\Local Settings\Temporary Internet Files\Content.IE5\DBCR952T\MCj03359370000[1].wmf"/>
          <p:cNvPicPr/>
          <p:nvPr/>
        </p:nvPicPr>
        <p:blipFill>
          <a:blip r:embed="rId1"/>
          <a:stretch/>
        </p:blipFill>
        <p:spPr>
          <a:xfrm>
            <a:off x="7326360" y="1994040"/>
            <a:ext cx="1944720" cy="1662120"/>
          </a:xfrm>
          <a:prstGeom prst="rect">
            <a:avLst/>
          </a:prstGeom>
          <a:ln w="0">
            <a:noFill/>
          </a:ln>
        </p:spPr>
      </p:pic>
      <p:sp>
        <p:nvSpPr>
          <p:cNvPr id="55" name="Zástupný symbol pro obsah 7"/>
          <p:cNvSpPr/>
          <p:nvPr/>
        </p:nvSpPr>
        <p:spPr>
          <a:xfrm>
            <a:off x="1897200" y="1208160"/>
            <a:ext cx="7669080" cy="554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Arial"/>
              </a:rPr>
              <a:t>Zahájení projekt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Datum akceptace Rozhodnutí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neb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Pozdější datum uvedené v projektové žádost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Arial"/>
              </a:rPr>
              <a:t>Ukončení projekt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Datum uvedené v právním akt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Za způsobilé se považují pouze výdaje vzniklé během realizace tj. mezi těmito da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Nadpis 5"/>
          <p:cNvSpPr/>
          <p:nvPr/>
        </p:nvSpPr>
        <p:spPr>
          <a:xfrm>
            <a:off x="1825560" y="279360"/>
            <a:ext cx="79297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3912c"/>
                </a:solidFill>
                <a:latin typeface="Arial"/>
              </a:rPr>
              <a:t>Doba realizace projektu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Zástupný symbol pro datum 5"/>
          <p:cNvSpPr/>
          <p:nvPr/>
        </p:nvSpPr>
        <p:spPr>
          <a:xfrm>
            <a:off x="50328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6F8576-5D19-4CB6-A086-19FAE2933038}" type="datetime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28.07.20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Picture 5" descr=""/>
          <p:cNvPicPr/>
          <p:nvPr/>
        </p:nvPicPr>
        <p:blipFill>
          <a:blip r:embed="rId2"/>
          <a:stretch/>
        </p:blipFill>
        <p:spPr>
          <a:xfrm>
            <a:off x="0" y="2779560"/>
            <a:ext cx="1730520" cy="4780080"/>
          </a:xfrm>
          <a:prstGeom prst="rect">
            <a:avLst/>
          </a:prstGeom>
          <a:ln w="0">
            <a:noFill/>
          </a:ln>
        </p:spPr>
      </p:pic>
      <p:sp>
        <p:nvSpPr>
          <p:cNvPr id="59" name="Nadpis 1"/>
          <p:cNvSpPr/>
          <p:nvPr/>
        </p:nvSpPr>
        <p:spPr>
          <a:xfrm>
            <a:off x="6397560" y="6916680"/>
            <a:ext cx="33559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Nadpis 5"/>
          <p:cNvSpPr/>
          <p:nvPr/>
        </p:nvSpPr>
        <p:spPr>
          <a:xfrm>
            <a:off x="1897200" y="422280"/>
            <a:ext cx="792936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3912c"/>
                </a:solidFill>
                <a:latin typeface="Arial"/>
              </a:rPr>
              <a:t>Doba realizace projektu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Zástupný symbol pro obsah 7"/>
          <p:cNvSpPr/>
          <p:nvPr/>
        </p:nvSpPr>
        <p:spPr>
          <a:xfrm>
            <a:off x="1897200" y="2136600"/>
            <a:ext cx="7669080" cy="461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Arial"/>
              </a:rPr>
              <a:t>Změna data ukončen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Podstatná změna projektu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Možná pouze v řádně odůvodněných a schválených případe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Arial"/>
              </a:rPr>
              <a:t>Způsobilé výdaje projekt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Od data zahájení projektu do data ukončení projekt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Po datu ukončení pouze audit a mzdy pracovníků projektu za poslední měsíc realizace, vyúčtování zálo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Zástupný symbol pro datum 5"/>
          <p:cNvSpPr/>
          <p:nvPr/>
        </p:nvSpPr>
        <p:spPr>
          <a:xfrm>
            <a:off x="50328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C69505-9B77-4E94-80FD-642376D7F113}" type="datetime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28.07.20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5" descr=""/>
          <p:cNvPicPr/>
          <p:nvPr/>
        </p:nvPicPr>
        <p:blipFill>
          <a:blip r:embed="rId1"/>
          <a:stretch/>
        </p:blipFill>
        <p:spPr>
          <a:xfrm>
            <a:off x="0" y="2779560"/>
            <a:ext cx="1730520" cy="4780080"/>
          </a:xfrm>
          <a:prstGeom prst="rect">
            <a:avLst/>
          </a:prstGeom>
          <a:ln w="0">
            <a:noFill/>
          </a:ln>
        </p:spPr>
      </p:pic>
      <p:sp>
        <p:nvSpPr>
          <p:cNvPr id="64" name="Nadpis 1"/>
          <p:cNvSpPr/>
          <p:nvPr/>
        </p:nvSpPr>
        <p:spPr>
          <a:xfrm>
            <a:off x="6540480" y="6780240"/>
            <a:ext cx="33559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Zástupný symbol pro text 8"/>
          <p:cNvSpPr/>
          <p:nvPr/>
        </p:nvSpPr>
        <p:spPr>
          <a:xfrm>
            <a:off x="1968480" y="6708600"/>
            <a:ext cx="34923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Zástupný symbol pro obsah 7"/>
          <p:cNvSpPr/>
          <p:nvPr/>
        </p:nvSpPr>
        <p:spPr>
          <a:xfrm>
            <a:off x="1968480" y="2136600"/>
            <a:ext cx="7669080" cy="461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Arial"/>
              </a:rPr>
              <a:t>Délka trvání projektů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Uvedena v právním akt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Nejdéle 36 měsíců od přijetí právního aktu s nejzazším datem ukončení 30.6. 2015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Arial"/>
              </a:rPr>
              <a:t>Ukončení projektu v jiném režim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Příjemce i poskytovatel podpory jsou oprávněni ukončit práci na projektu a jeho financování avšak pouze ze závažných důvodů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Nadpis 5"/>
          <p:cNvSpPr/>
          <p:nvPr/>
        </p:nvSpPr>
        <p:spPr>
          <a:xfrm>
            <a:off x="1825560" y="279360"/>
            <a:ext cx="79297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3912c"/>
                </a:solidFill>
                <a:latin typeface="Arial"/>
              </a:rPr>
              <a:t>Doba realizace projektu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Zástupný symbol pro datum 6"/>
          <p:cNvSpPr/>
          <p:nvPr/>
        </p:nvSpPr>
        <p:spPr>
          <a:xfrm>
            <a:off x="50328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8B1DFE-FFEA-4241-AE22-DBAC330DFF77}" type="datetime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28.07.20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" name="Picture 5" descr=""/>
          <p:cNvPicPr/>
          <p:nvPr/>
        </p:nvPicPr>
        <p:blipFill>
          <a:blip r:embed="rId1"/>
          <a:stretch/>
        </p:blipFill>
        <p:spPr>
          <a:xfrm>
            <a:off x="0" y="2779560"/>
            <a:ext cx="1730520" cy="4780080"/>
          </a:xfrm>
          <a:prstGeom prst="rect">
            <a:avLst/>
          </a:prstGeom>
          <a:ln w="0">
            <a:noFill/>
          </a:ln>
        </p:spPr>
      </p:pic>
      <p:sp>
        <p:nvSpPr>
          <p:cNvPr id="70" name="Nadpis 1"/>
          <p:cNvSpPr/>
          <p:nvPr/>
        </p:nvSpPr>
        <p:spPr>
          <a:xfrm>
            <a:off x="6540480" y="6780240"/>
            <a:ext cx="33559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Picture 2" descr="C:\Documents and Settings\kaufnerovam\Local Settings\Temporary Internet Files\Content.IE5\RO1OPC4G\MCj04397990000[1].png"/>
          <p:cNvPicPr/>
          <p:nvPr/>
        </p:nvPicPr>
        <p:blipFill>
          <a:blip r:embed="rId2"/>
          <a:stretch/>
        </p:blipFill>
        <p:spPr>
          <a:xfrm>
            <a:off x="6413400" y="1339920"/>
            <a:ext cx="1913040" cy="191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825560" y="208080"/>
            <a:ext cx="7740720" cy="13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3912c"/>
                </a:solidFill>
                <a:latin typeface="Arial"/>
              </a:rPr>
              <a:t>Ukončení projektu v jiném režim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Zástupný symbol pro obsah 7"/>
          <p:cNvSpPr/>
          <p:nvPr/>
        </p:nvSpPr>
        <p:spPr>
          <a:xfrm>
            <a:off x="1897200" y="1565280"/>
            <a:ext cx="7669080" cy="53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Arial"/>
              </a:rPr>
              <a:t>Ukončení projektu příjemc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Písemně k rukám poskytovatele formou návrhu na změnu právního aktu s novým datem ukončení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S nejvýše dvouměsíční lhůtou uzavření projekt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V případě akceptace změnového právního aktu (Rozhodnutí o změně Rozhodnutí) začíná běžet lhůta pro uzavření aktivit projektu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Nevyužité prostředky ve prospěch projektu musí být vráceny do 20 pracovních dnů po ukončení projektu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  <a:ea typeface="Lucida Sans Unicode"/>
              </a:rPr>
              <a:t>Pokud byl projekt financován v režimu zálohování  - odděleně evidovat výdaje uskutečněné po dni odeslání návrhu na ukončení projektu. Vyúčtování těchto výdajů (pokud nebudou řádně zdůvodněny v komentáři přiloženém k vyúčtování) nemusí být poskytovatelem  podpory akceptováno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4" name="Picture 2" descr="C:\Documents and Settings\gotzv\Local Settings\Temporary Internet Files\Content.IE5\LUHYZSFQ\MCj04326440000[1].png"/>
          <p:cNvPicPr/>
          <p:nvPr/>
        </p:nvPicPr>
        <p:blipFill>
          <a:blip r:embed="rId1"/>
          <a:stretch/>
        </p:blipFill>
        <p:spPr>
          <a:xfrm>
            <a:off x="7969320" y="851040"/>
            <a:ext cx="1571400" cy="1571400"/>
          </a:xfrm>
          <a:prstGeom prst="rect">
            <a:avLst/>
          </a:prstGeom>
          <a:ln w="0">
            <a:noFill/>
          </a:ln>
        </p:spPr>
      </p:pic>
      <p:sp>
        <p:nvSpPr>
          <p:cNvPr id="75" name="Zástupný symbol pro datum 6"/>
          <p:cNvSpPr/>
          <p:nvPr/>
        </p:nvSpPr>
        <p:spPr>
          <a:xfrm>
            <a:off x="50328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15FA14-13AF-47B0-A064-E782169C9EB7}" type="datetime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28.07.20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6" name="Picture 5" descr=""/>
          <p:cNvPicPr/>
          <p:nvPr/>
        </p:nvPicPr>
        <p:blipFill>
          <a:blip r:embed="rId2"/>
          <a:stretch/>
        </p:blipFill>
        <p:spPr>
          <a:xfrm>
            <a:off x="0" y="2779560"/>
            <a:ext cx="1730520" cy="4780080"/>
          </a:xfrm>
          <a:prstGeom prst="rect">
            <a:avLst/>
          </a:prstGeom>
          <a:ln w="0">
            <a:noFill/>
          </a:ln>
        </p:spPr>
      </p:pic>
      <p:sp>
        <p:nvSpPr>
          <p:cNvPr id="77" name="Nadpis 1"/>
          <p:cNvSpPr/>
          <p:nvPr/>
        </p:nvSpPr>
        <p:spPr>
          <a:xfrm>
            <a:off x="6540480" y="6780240"/>
            <a:ext cx="33559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825560" y="208080"/>
            <a:ext cx="7740720" cy="13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3912c"/>
                </a:solidFill>
                <a:latin typeface="Arial"/>
              </a:rPr>
              <a:t>Ukončení projektu v jiném režim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Zástupný symbol pro obsah 7"/>
          <p:cNvSpPr/>
          <p:nvPr/>
        </p:nvSpPr>
        <p:spPr>
          <a:xfrm>
            <a:off x="1897200" y="2136600"/>
            <a:ext cx="7669080" cy="461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Arial"/>
              </a:rPr>
              <a:t>Neoprávněné předčasné ukončení projekt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V případě porušení podmínek právního aktu (nedodržení podmínek pro předčasné ukončení projekt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Příjemce je povinen vrátit neoprávněně vyplacené prostředky v plné výši a ve lhůtě stanovené poskytovatel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" name="Picture 7" descr="C:\Documents and Settings\gotzv\Local Settings\Temporary Internet Files\Content.IE5\7WLRSXM1\MCj04247840000[1].wmf"/>
          <p:cNvPicPr/>
          <p:nvPr/>
        </p:nvPicPr>
        <p:blipFill>
          <a:blip r:embed="rId1"/>
          <a:stretch/>
        </p:blipFill>
        <p:spPr>
          <a:xfrm>
            <a:off x="8112240" y="2922480"/>
            <a:ext cx="1447560" cy="1330560"/>
          </a:xfrm>
          <a:prstGeom prst="rect">
            <a:avLst/>
          </a:prstGeom>
          <a:ln w="0">
            <a:noFill/>
          </a:ln>
        </p:spPr>
      </p:pic>
      <p:sp>
        <p:nvSpPr>
          <p:cNvPr id="81" name="Zástupný symbol pro datum 5"/>
          <p:cNvSpPr/>
          <p:nvPr/>
        </p:nvSpPr>
        <p:spPr>
          <a:xfrm>
            <a:off x="50328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DE1BB0-FE05-43D4-BFF1-CEFFDC40B35D}" type="datetime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28.07.20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Picture 5" descr=""/>
          <p:cNvPicPr/>
          <p:nvPr/>
        </p:nvPicPr>
        <p:blipFill>
          <a:blip r:embed="rId2"/>
          <a:stretch/>
        </p:blipFill>
        <p:spPr>
          <a:xfrm>
            <a:off x="0" y="2779560"/>
            <a:ext cx="1730520" cy="4780080"/>
          </a:xfrm>
          <a:prstGeom prst="rect">
            <a:avLst/>
          </a:prstGeom>
          <a:ln w="0">
            <a:noFill/>
          </a:ln>
        </p:spPr>
      </p:pic>
      <p:sp>
        <p:nvSpPr>
          <p:cNvPr id="83" name="Nadpis 1"/>
          <p:cNvSpPr/>
          <p:nvPr/>
        </p:nvSpPr>
        <p:spPr>
          <a:xfrm>
            <a:off x="6540480" y="6780240"/>
            <a:ext cx="33559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825560" y="208080"/>
            <a:ext cx="7740720" cy="13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3912c"/>
                </a:solidFill>
                <a:latin typeface="Arial"/>
              </a:rPr>
              <a:t>Ukončení projektu v jiném režim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Zástupný symbol pro obsah 7"/>
          <p:cNvSpPr/>
          <p:nvPr/>
        </p:nvSpPr>
        <p:spPr>
          <a:xfrm>
            <a:off x="1897200" y="2136600"/>
            <a:ext cx="7669080" cy="461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Arial"/>
              </a:rPr>
              <a:t>Pozastavení podpory z OP V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Poskytovatel podpory je  při podezření na porušení rozpočtové kázně či porušení dalších povinností uvedených v právním aktu o poskytnutí podpory oprávně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- vyzvat příjemce k okamžité nápravě zjištěných nedostatků a stanovit lhůty k náprav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- preventivně pozastavit platby příjemci podp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Picture 7" descr="C:\Documents and Settings\gotzv\Local Settings\Temporary Internet Files\Content.IE5\YAIUOI0Q\MCj04315090000[1].png"/>
          <p:cNvPicPr/>
          <p:nvPr/>
        </p:nvPicPr>
        <p:blipFill>
          <a:blip r:embed="rId1"/>
          <a:stretch/>
        </p:blipFill>
        <p:spPr>
          <a:xfrm>
            <a:off x="8112240" y="2208240"/>
            <a:ext cx="1400040" cy="1400040"/>
          </a:xfrm>
          <a:prstGeom prst="rect">
            <a:avLst/>
          </a:prstGeom>
          <a:ln w="0">
            <a:noFill/>
          </a:ln>
        </p:spPr>
      </p:pic>
      <p:sp>
        <p:nvSpPr>
          <p:cNvPr id="87" name="Zástupný symbol pro datum 5"/>
          <p:cNvSpPr/>
          <p:nvPr/>
        </p:nvSpPr>
        <p:spPr>
          <a:xfrm>
            <a:off x="50328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44A3B7-56C9-4639-A0DA-9E07F1A0AF3C}" type="datetime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28.07.20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Picture 5" descr=""/>
          <p:cNvPicPr/>
          <p:nvPr/>
        </p:nvPicPr>
        <p:blipFill>
          <a:blip r:embed="rId2"/>
          <a:stretch/>
        </p:blipFill>
        <p:spPr>
          <a:xfrm>
            <a:off x="0" y="2779560"/>
            <a:ext cx="1730520" cy="4780080"/>
          </a:xfrm>
          <a:prstGeom prst="rect">
            <a:avLst/>
          </a:prstGeom>
          <a:ln w="0">
            <a:noFill/>
          </a:ln>
        </p:spPr>
      </p:pic>
      <p:sp>
        <p:nvSpPr>
          <p:cNvPr id="89" name="Nadpis 1"/>
          <p:cNvSpPr/>
          <p:nvPr/>
        </p:nvSpPr>
        <p:spPr>
          <a:xfrm>
            <a:off x="6540480" y="6780240"/>
            <a:ext cx="33559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825560" y="208080"/>
            <a:ext cx="7740720" cy="13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3912c"/>
                </a:solidFill>
                <a:latin typeface="Arial"/>
              </a:rPr>
              <a:t>Ukončení projektu v jiném režim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Zástupný symbol pro obsah 7"/>
          <p:cNvSpPr/>
          <p:nvPr/>
        </p:nvSpPr>
        <p:spPr>
          <a:xfrm>
            <a:off x="1897200" y="1636560"/>
            <a:ext cx="7669080" cy="51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Arial"/>
              </a:rPr>
              <a:t>Ukončení projektu poskytovatelem finanční podp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Poskytovatel podpory může vypovědět právní akt o poskytnutí podpory pokud nedojde k nápravě zjištěných nedostatků ve stanovené lhůtě a to  s dvouměsíční výpovědní lhůtou na ukončení aktivit projektu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Nárok příjemce na proplacení odpovídající části způsobilých výdajů bude posuzován poskytovatelem individuálně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Nevyužité prostředky vrátit do 20 pracovních dní od ukončení projektu( přes zřizovatele - 20 prac. dní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Zástupný symbol pro datum 6"/>
          <p:cNvSpPr/>
          <p:nvPr/>
        </p:nvSpPr>
        <p:spPr>
          <a:xfrm>
            <a:off x="50328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FD6A54-E212-447D-806A-3400A10F4E95}" type="datetime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28.07.20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" name="Picture 5" descr=""/>
          <p:cNvPicPr/>
          <p:nvPr/>
        </p:nvPicPr>
        <p:blipFill>
          <a:blip r:embed="rId1"/>
          <a:stretch/>
        </p:blipFill>
        <p:spPr>
          <a:xfrm>
            <a:off x="0" y="2779560"/>
            <a:ext cx="1730520" cy="4780080"/>
          </a:xfrm>
          <a:prstGeom prst="rect">
            <a:avLst/>
          </a:prstGeom>
          <a:ln w="0">
            <a:noFill/>
          </a:ln>
        </p:spPr>
      </p:pic>
      <p:sp>
        <p:nvSpPr>
          <p:cNvPr id="94" name="Nadpis 1"/>
          <p:cNvSpPr/>
          <p:nvPr/>
        </p:nvSpPr>
        <p:spPr>
          <a:xfrm>
            <a:off x="6540480" y="6780240"/>
            <a:ext cx="33559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825560" y="208080"/>
            <a:ext cx="7740720" cy="13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3912c"/>
                </a:solidFill>
                <a:latin typeface="Arial"/>
              </a:rPr>
              <a:t>Ukončení projektu v jiném režim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Zástupný symbol pro obsah 7"/>
          <p:cNvSpPr/>
          <p:nvPr/>
        </p:nvSpPr>
        <p:spPr>
          <a:xfrm>
            <a:off x="1897200" y="2136600"/>
            <a:ext cx="7669080" cy="461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Arial"/>
              </a:rPr>
              <a:t>Řízení o odnětí podp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Řízení o odnětí podpory může být zahájeno pokud došlo k porušení pravidel zákona č. 218/2000 Sb. O rozpočtových pravidle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* k vázání prostředků státního rozpočt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*ke zjištění, že podpora byla poskytnuta na základě neúplných či nepravdivých údajů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* právní akt byl vydán v rozporu se zákonem či právem 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*nemůže být řádně či včas splněn účel dota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Zástupný symbol pro datum 5"/>
          <p:cNvSpPr/>
          <p:nvPr/>
        </p:nvSpPr>
        <p:spPr>
          <a:xfrm>
            <a:off x="50328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DC5336-451A-4BE6-B02E-AE845FAF6730}" type="datetime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28.07.20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Picture 5" descr=""/>
          <p:cNvPicPr/>
          <p:nvPr/>
        </p:nvPicPr>
        <p:blipFill>
          <a:blip r:embed="rId1"/>
          <a:stretch/>
        </p:blipFill>
        <p:spPr>
          <a:xfrm>
            <a:off x="0" y="2779560"/>
            <a:ext cx="1730520" cy="4780080"/>
          </a:xfrm>
          <a:prstGeom prst="rect">
            <a:avLst/>
          </a:prstGeom>
          <a:ln w="0">
            <a:noFill/>
          </a:ln>
        </p:spPr>
      </p:pic>
      <p:sp>
        <p:nvSpPr>
          <p:cNvPr id="99" name="Nadpis 1"/>
          <p:cNvSpPr/>
          <p:nvPr/>
        </p:nvSpPr>
        <p:spPr>
          <a:xfrm>
            <a:off x="6540480" y="6780240"/>
            <a:ext cx="33559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Picture 2" descr="C:\Documents and Settings\kaufnerovam\Local Settings\Temporary Internet Files\Content.IE5\SUKH4R2G\MCj04398220000[1].png"/>
          <p:cNvPicPr/>
          <p:nvPr/>
        </p:nvPicPr>
        <p:blipFill>
          <a:blip r:embed="rId2"/>
          <a:stretch/>
        </p:blipFill>
        <p:spPr>
          <a:xfrm>
            <a:off x="7362720" y="1173240"/>
            <a:ext cx="1392480" cy="13921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gh</cp:lastModifiedBy>
  <dcterms:modified xsi:type="dcterms:W3CDTF">2009-12-09T14:43:31Z</dcterms:modified>
  <cp:revision>102</cp:revision>
  <dc:subject/>
  <dc:title>Snímek 1</dc:title>
</cp:coreProperties>
</file>