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75B28-B39D-4F1D-BC4F-3E8B2F9B112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1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409C3-90E1-41B0-A079-A34ECA42740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55B2B-2418-4924-947A-BCAA4FD7879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35015-8F35-4901-B51D-0223D1633B4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B3414-58AD-41A0-97B9-8565BE9222E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3DAB7-929D-4ABF-8D3D-3BF722CEAD0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6A8DE-1D95-4DA2-A085-C2B173F626C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DCA81-E4AF-4E5E-A192-1B93CC6221D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5A95B-B31D-4ADB-99C3-E34018F7A94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1AB0F-B51A-4202-A452-3C3D69EBE4B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A93-5CCB-483E-8010-A7B705FB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E166-C7EA-4E36-92D9-FF01CBA6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431-FF88-4747-979B-551D9A81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5ED-DD9E-4D81-8486-59CBA5E1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B4E-EDFC-4EE5-9C36-EBD0E9C8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4E9-C0CB-40AE-A489-27A83E6F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6B3-CD4B-4BE5-B362-71C5E59C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1DC-CE75-45CF-8955-265E507B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BDE-88AB-46BA-95B9-8F21C083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03F-A46B-4D1C-A103-0CE182BA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312-18EB-4A94-A2D8-8B4183CF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C37-7567-49ED-9F9B-FF7D9819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0604DD-D0F8-4E37-83A7-2377AFF322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imona.dvorac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81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roč se zabývat publicit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řízení Evropské komise (ES) č. 1828/2006: „…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jemce finanční podpory je povinen jasně informovat subjekty účastnící se projektu i širokou veřejnost , že projekt získal finanční prostředky v rámci operačního programu spolufinancovaného Evropským sociálním fondem (ESF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ance využít tuto povinnost ke zviditelnění svého projektu a zároveň inspirovat ostatní potenciální žadatele o pod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kytnutí určité záruky kvality účastníkům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ránění problémům při kontrolách a audi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2790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82640" y="1351080"/>
            <a:ext cx="788688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ormování a propagace projektu směrem k široké a odborné veřejnosti, EU, médiím, účastníkům projektu na všech materiálech a dokumentech souvisejících s projektem (výjimkou jsou účetní dokl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idelné předkládání monitorovacích zpráv o průběhu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hlas se začleněním na veřejně přístupný seznam příje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ropagaci projektů používáme loga (značky): Evropského sociálního fondu, Evropské unie, Ministerstva školství, mládeže a tělovýchovy a Operačního programu Vzdělávání pro konkurenceschop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oga mají přesně vymezená pravidla použití a řazení (v rámci tzv. logolinku). Za logo OP VK může příjemce v logolinku přidat své logo a příp. logo partnera (!pozor! nikoliv logo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logolinkem používáme i slogan: Investice do rozvoj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5" descr="Logolink_horizontal_zaklad_RGB.jpg"/>
          <p:cNvPicPr/>
          <p:nvPr/>
        </p:nvPicPr>
        <p:blipFill>
          <a:blip r:embed="rId2"/>
          <a:stretch/>
        </p:blipFill>
        <p:spPr>
          <a:xfrm>
            <a:off x="3254400" y="6066000"/>
            <a:ext cx="49291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279080"/>
            <a:ext cx="7886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 dodržet nejmenší povolené velikosti log, předepsané barvy, ochranné zóny a další náležitosti dané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eriálech menšího rozměru lze loga uvést i bez textů (!pozor! logo EU vždy s tex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!pozor! vlajku ČR používá na svých materiálech pouze řídící org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é propagační předměty (post-it, vizitka, flash disk, tužky,…): zkrácený logolink, možno i bez slog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a vybavení (vč. publikací, učebnic,…) pořízené z prostředků ESF: samolepky s logy (lze vynechat logo MŠMT), avšak nutno uvést slogan (povinné sdě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4" descr="Logolink_horiz_zkraceny_bezTextu_RGB.jpg"/>
          <p:cNvPicPr/>
          <p:nvPr/>
        </p:nvPicPr>
        <p:blipFill>
          <a:blip r:embed="rId2"/>
          <a:stretch/>
        </p:blipFill>
        <p:spPr>
          <a:xfrm>
            <a:off x="7469280" y="5065560"/>
            <a:ext cx="228600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5" descr="Logolink_horiz_zkraceny_RGB.jpg"/>
          <p:cNvPicPr/>
          <p:nvPr/>
        </p:nvPicPr>
        <p:blipFill>
          <a:blip r:embed="rId3"/>
          <a:stretch/>
        </p:blipFill>
        <p:spPr>
          <a:xfrm>
            <a:off x="4754520" y="4637160"/>
            <a:ext cx="2214720" cy="95544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6" descr="Logolink_horiz_zkraceny_text_RGB.jpg"/>
          <p:cNvPicPr/>
          <p:nvPr/>
        </p:nvPicPr>
        <p:blipFill>
          <a:blip r:embed="rId4"/>
          <a:stretch/>
        </p:blipFill>
        <p:spPr>
          <a:xfrm>
            <a:off x="2039760" y="4208400"/>
            <a:ext cx="26434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36080"/>
            <a:ext cx="78868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279440"/>
            <a:ext cx="788688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ždy v souladu s pravidly danými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ě umístěné a kvalitně proved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použití logolinku bez slovního odkazu na ESF je nutno používat i povinné sděle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o program/projekt/produkt je spolufinancován  Evropským sociálním fondem a státním rozpočtem České republiky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ýjimkou jsou rozměrově menší materiály a předmět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čb originálech nutno použít předepsané inverzní varianty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6" descr="logolink_bez_vlajkyCR_bar..jpg"/>
          <p:cNvPicPr/>
          <p:nvPr/>
        </p:nvPicPr>
        <p:blipFill>
          <a:blip r:embed="rId2"/>
          <a:stretch/>
        </p:blipFill>
        <p:spPr>
          <a:xfrm>
            <a:off x="3397320" y="3494160"/>
            <a:ext cx="3714840" cy="1062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7" descr="logolink_bez_vlajkyCR_cb.jpg"/>
          <p:cNvPicPr/>
          <p:nvPr/>
        </p:nvPicPr>
        <p:blipFill>
          <a:blip r:embed="rId3"/>
          <a:stretch/>
        </p:blipFill>
        <p:spPr>
          <a:xfrm>
            <a:off x="1897200" y="5351400"/>
            <a:ext cx="3643200" cy="1041480"/>
          </a:xfrm>
          <a:prstGeom prst="rect">
            <a:avLst/>
          </a:prstGeom>
          <a:ln w="0">
            <a:noFill/>
          </a:ln>
        </p:spPr>
      </p:pic>
      <p:pic>
        <p:nvPicPr>
          <p:cNvPr id="71" name="Obrázek 6" descr="Logolink_horizontal_zaklad_cb.jpg"/>
          <p:cNvPicPr/>
          <p:nvPr/>
        </p:nvPicPr>
        <p:blipFill>
          <a:blip r:embed="rId4"/>
          <a:stretch/>
        </p:blipFill>
        <p:spPr>
          <a:xfrm>
            <a:off x="5254560" y="6208560"/>
            <a:ext cx="43894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a informační materiály: letáky, plakáty, brožury, newslettry, školicí materiály, certifikáty, prezenční listiny (logolink a povinná sdělení stačí uvést pouze na titulní stránce), příp. vizitky a ob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předměty: tužky, bloky,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ální výstupy: inzeráty, tiskové zprávy, články, PPT prezentac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net: webové stránk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pořízené z prostředků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ová dokumentace: pracovní smlouvy/dohody (pokud to forma dokumentu umožňuje), výroční a závěrečné zprávy, korespondenc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nosti/prostory, v nichž se konají informační akce k OP VK: umístit vlajky EU a ČR, loga EU, ESF, MŠMT,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280" y="142200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ručka pro příjemce finanční podpory z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í 3. verze platná od 21. 10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op-vk-verze-3-platna-od-21-10-2009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říp. 2. verze platná od 15. 4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verze-2-platna-od-15-4-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uál vizuální identity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uploads/soubory/ESF/Publicita/Manual_vizual_identity_OPVK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eb MŠM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ekce Strukturální fondy – OP VK – Pro žadatele a příjemce – Publicita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ublicita-a-publik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aden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individuálních konzultací s projektovými manaž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Náhled webových stránek MŠMT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 sekce Public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7" descr=""/>
          <p:cNvPicPr/>
          <p:nvPr/>
        </p:nvPicPr>
        <p:blipFill>
          <a:blip r:embed="rId2"/>
          <a:srcRect l="9588" t="2379" r="10909" b="5554"/>
          <a:stretch/>
        </p:blipFill>
        <p:spPr>
          <a:xfrm>
            <a:off x="1897200" y="1422360"/>
            <a:ext cx="7715160" cy="5857920"/>
          </a:xfrm>
          <a:prstGeom prst="rect">
            <a:avLst/>
          </a:prstGeom>
          <a:ln w="0">
            <a:noFill/>
          </a:ln>
        </p:spPr>
      </p:pic>
      <p:sp>
        <p:nvSpPr>
          <p:cNvPr id="82" name="Šipka doleva 8"/>
          <p:cNvSpPr/>
          <p:nvPr/>
        </p:nvSpPr>
        <p:spPr>
          <a:xfrm>
            <a:off x="4897440" y="3494160"/>
            <a:ext cx="1571760" cy="642960"/>
          </a:xfrm>
          <a:prstGeom prst="leftArrow">
            <a:avLst>
              <a:gd name="adj1" fmla="val 92667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Šipka doleva 9"/>
          <p:cNvSpPr/>
          <p:nvPr/>
        </p:nvSpPr>
        <p:spPr>
          <a:xfrm>
            <a:off x="2968560" y="5423040"/>
            <a:ext cx="571680" cy="1425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68480" y="1767960"/>
            <a:ext cx="76010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Simona Dvořá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ační úřed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řízení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mona.dvorack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10T12:01:02Z</dcterms:modified>
  <cp:revision>92</cp:revision>
  <dc:subject/>
  <dc:title>Snímek 1</dc:title>
</cp:coreProperties>
</file>