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EDF6-8742-47BC-9D99-D44347E59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4640"/>
                <a:tab algn="l" pos="814320"/>
                <a:tab algn="l" pos="1224000"/>
                <a:tab algn="l" pos="1633680"/>
                <a:tab algn="l" pos="2039760"/>
                <a:tab algn="l" pos="2451240"/>
                <a:tab algn="l" pos="2862360"/>
                <a:tab algn="l" pos="3270240"/>
                <a:tab algn="l" pos="3679920"/>
                <a:tab algn="l" pos="4087800"/>
                <a:tab algn="l" pos="4498920"/>
                <a:tab algn="l" pos="4905360"/>
                <a:tab algn="l" pos="5318280"/>
                <a:tab algn="l" pos="5727600"/>
                <a:tab algn="l" pos="6134040"/>
                <a:tab algn="l" pos="6546960"/>
                <a:tab algn="l" pos="6953400"/>
                <a:tab algn="l" pos="7364520"/>
                <a:tab algn="l" pos="7772400"/>
                <a:tab algn="l" pos="8182080"/>
                <a:tab algn="l" pos="8229600"/>
                <a:tab algn="l" pos="9144000"/>
                <a:tab algn="l" pos="10058400"/>
              </a:tabLst>
            </a:pPr>
            <a:fld id="{4F08F4E8-A754-4809-82A2-279FF7437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003320" y="693720"/>
            <a:ext cx="4848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5C8-70BF-4A09-8951-BFEF7B24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1762-0870-4399-900C-CC7F5B90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80A6-547A-44AF-8D35-F0E44C43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1224-BD3B-41F2-B31E-83516781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0AC9-4387-473D-817D-AA986F1F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8D5-424C-4A34-A4D6-24638ED4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DD93-A20F-4C64-B50C-77EA38DB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352-A94A-4D39-B941-6C3EA6EE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C0D-EEBA-4B38-9805-01698162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C608-33D0-48E9-9CC8-8C25C6D7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F2D0-19B2-49CF-882A-AEDB3B47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1632-0843-447B-BD12-74A0E38F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A20E-8AD2-404D-9223-F0247EBDD9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ilona.sochur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7520" y="2928600"/>
            <a:ext cx="7386480" cy="23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Zahájení semináře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ng. Ilona Sochůrková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14320" y="1143000"/>
            <a:ext cx="7143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hájení seminář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realizac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projektového partners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y užívání prvků pub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finančního řízení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statné a nepodstatné změ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monitor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ta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5600" y="21420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gram seminář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999800" y="1714320"/>
            <a:ext cx="700092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rojektový manažeři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Marie Kaufnerová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etr Kraselovský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Finanční manažeři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Drahomíra Drhová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Tomáš Drážný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Tým oblasti 1.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6840" y="314280"/>
            <a:ext cx="74167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unikace s odborem C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22636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Skupina 19"/>
          <p:cNvGrpSpPr/>
          <p:nvPr/>
        </p:nvGrpSpPr>
        <p:grpSpPr>
          <a:xfrm>
            <a:off x="1857240" y="1143000"/>
            <a:ext cx="1764000" cy="1897200"/>
            <a:chOff x="1857240" y="1143000"/>
            <a:chExt cx="1764000" cy="1897200"/>
          </a:xfrm>
        </p:grpSpPr>
        <p:grpSp>
          <p:nvGrpSpPr>
            <p:cNvPr id="99" name="Skupina 14"/>
            <p:cNvGrpSpPr/>
            <p:nvPr/>
          </p:nvGrpSpPr>
          <p:grpSpPr>
            <a:xfrm>
              <a:off x="1857240" y="1143000"/>
              <a:ext cx="1764000" cy="1897200"/>
              <a:chOff x="1857240" y="1143000"/>
              <a:chExt cx="1764000" cy="1897200"/>
            </a:xfrm>
          </p:grpSpPr>
          <p:sp>
            <p:nvSpPr>
              <p:cNvPr id="100" name="Zaoblený obdélník 9"/>
              <p:cNvSpPr/>
              <p:nvPr/>
            </p:nvSpPr>
            <p:spPr>
              <a:xfrm>
                <a:off x="1857240" y="1614240"/>
                <a:ext cx="1361520" cy="1425960"/>
              </a:xfrm>
              <a:custGeom>
                <a:avLst/>
                <a:gdLst>
                  <a:gd name="textAreaLeft" fmla="*/ 66240 w 1361520"/>
                  <a:gd name="textAreaRight" fmla="*/ 1295280 w 1361520"/>
                  <a:gd name="textAreaTop" fmla="*/ 66240 h 1425960"/>
                  <a:gd name="textAreaBottom" fmla="*/ 1359720 h 1425960"/>
                </a:gdLst>
                <a:ahLst/>
                <a:rect l="textAreaLeft" t="textAreaTop" r="textAreaRight" b="textAreaBottom"/>
                <a:pathLst>
                  <a:path w="21600" h="22622">
                    <a:moveTo>
                      <a:pt x="3600" y="0"/>
                    </a:moveTo>
                    <a:arcTo wR="3600" hR="3600" stAng="16200000" swAng="-5400000"/>
                    <a:lnTo>
                      <a:pt x="0" y="19022"/>
                    </a:lnTo>
                    <a:arcTo wR="3600" hR="3600" stAng="10800000" swAng="-5400000"/>
                    <a:lnTo>
                      <a:pt x="18000" y="226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ovéPole 13"/>
              <p:cNvSpPr/>
              <p:nvPr/>
            </p:nvSpPr>
            <p:spPr>
              <a:xfrm>
                <a:off x="1935000" y="1143000"/>
                <a:ext cx="168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Příjem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TextovéPole 17"/>
            <p:cNvSpPr/>
            <p:nvPr/>
          </p:nvSpPr>
          <p:spPr>
            <a:xfrm>
              <a:off x="1863360" y="193824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Hlavní 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Skupina 16"/>
          <p:cNvGrpSpPr/>
          <p:nvPr/>
        </p:nvGrpSpPr>
        <p:grpSpPr>
          <a:xfrm>
            <a:off x="1785960" y="4857840"/>
            <a:ext cx="928800" cy="714240"/>
            <a:chOff x="1785960" y="4857840"/>
            <a:chExt cx="928800" cy="714240"/>
          </a:xfrm>
        </p:grpSpPr>
        <p:sp>
          <p:nvSpPr>
            <p:cNvPr id="104" name="Zaoblený obdélník 10"/>
            <p:cNvSpPr/>
            <p:nvPr/>
          </p:nvSpPr>
          <p:spPr>
            <a:xfrm>
              <a:off x="1785960" y="4857840"/>
              <a:ext cx="85140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ovéPole 15"/>
            <p:cNvSpPr/>
            <p:nvPr/>
          </p:nvSpPr>
          <p:spPr>
            <a:xfrm>
              <a:off x="1785960" y="507528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Skupina 26"/>
          <p:cNvGrpSpPr/>
          <p:nvPr/>
        </p:nvGrpSpPr>
        <p:grpSpPr>
          <a:xfrm>
            <a:off x="5478480" y="2500200"/>
            <a:ext cx="2165400" cy="2224080"/>
            <a:chOff x="5478480" y="2500200"/>
            <a:chExt cx="2165400" cy="2224080"/>
          </a:xfrm>
        </p:grpSpPr>
        <p:grpSp>
          <p:nvGrpSpPr>
            <p:cNvPr id="107" name="Skupina 12"/>
            <p:cNvGrpSpPr/>
            <p:nvPr/>
          </p:nvGrpSpPr>
          <p:grpSpPr>
            <a:xfrm>
              <a:off x="5478480" y="2500200"/>
              <a:ext cx="2165400" cy="2224080"/>
              <a:chOff x="5478480" y="2500200"/>
              <a:chExt cx="2165400" cy="2224080"/>
            </a:xfrm>
          </p:grpSpPr>
          <p:sp>
            <p:nvSpPr>
              <p:cNvPr id="108" name="Zaoblený obdélník 4"/>
              <p:cNvSpPr/>
              <p:nvPr/>
            </p:nvSpPr>
            <p:spPr>
              <a:xfrm>
                <a:off x="5478480" y="2910240"/>
                <a:ext cx="2165400" cy="1814040"/>
              </a:xfrm>
              <a:prstGeom prst="roundRect">
                <a:avLst>
                  <a:gd name="adj" fmla="val 16667"/>
                </a:avLst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ovéPole 11"/>
              <p:cNvSpPr/>
              <p:nvPr/>
            </p:nvSpPr>
            <p:spPr>
              <a:xfrm>
                <a:off x="5572080" y="250020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Odbor CER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ovéPole 23"/>
            <p:cNvSpPr/>
            <p:nvPr/>
          </p:nvSpPr>
          <p:spPr>
            <a:xfrm>
              <a:off x="5543280" y="401148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(F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ovéPole 25"/>
            <p:cNvSpPr/>
            <p:nvPr/>
          </p:nvSpPr>
          <p:spPr>
            <a:xfrm>
              <a:off x="5543280" y="33638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bousměrná vodorovná šipka 31"/>
          <p:cNvSpPr/>
          <p:nvPr/>
        </p:nvSpPr>
        <p:spPr>
          <a:xfrm rot="12331800">
            <a:off x="3191760" y="2739960"/>
            <a:ext cx="2320920" cy="44136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95373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Skupina 16"/>
          <p:cNvGrpSpPr/>
          <p:nvPr/>
        </p:nvGrpSpPr>
        <p:grpSpPr>
          <a:xfrm>
            <a:off x="2928960" y="4857840"/>
            <a:ext cx="1071720" cy="714240"/>
            <a:chOff x="2928960" y="4857840"/>
            <a:chExt cx="1071720" cy="714240"/>
          </a:xfrm>
        </p:grpSpPr>
        <p:sp>
          <p:nvSpPr>
            <p:cNvPr id="114" name="Zaoblený obdélník 10"/>
            <p:cNvSpPr/>
            <p:nvPr/>
          </p:nvSpPr>
          <p:spPr>
            <a:xfrm>
              <a:off x="2928960" y="4857840"/>
              <a:ext cx="98244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ovéPole 34"/>
            <p:cNvSpPr/>
            <p:nvPr/>
          </p:nvSpPr>
          <p:spPr>
            <a:xfrm>
              <a:off x="2928960" y="5075280"/>
              <a:ext cx="107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Skupina 16"/>
          <p:cNvGrpSpPr/>
          <p:nvPr/>
        </p:nvGrpSpPr>
        <p:grpSpPr>
          <a:xfrm>
            <a:off x="4214880" y="4857840"/>
            <a:ext cx="1071360" cy="714240"/>
            <a:chOff x="4214880" y="4857840"/>
            <a:chExt cx="1071360" cy="714240"/>
          </a:xfrm>
        </p:grpSpPr>
        <p:sp>
          <p:nvSpPr>
            <p:cNvPr id="117" name="Zaoblený obdélník 10"/>
            <p:cNvSpPr/>
            <p:nvPr/>
          </p:nvSpPr>
          <p:spPr>
            <a:xfrm>
              <a:off x="4214880" y="4857840"/>
              <a:ext cx="98208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ovéPole 43"/>
            <p:cNvSpPr/>
            <p:nvPr/>
          </p:nvSpPr>
          <p:spPr>
            <a:xfrm>
              <a:off x="4214880" y="5075280"/>
              <a:ext cx="10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Obousměrná vodorovná šipka 45"/>
          <p:cNvSpPr/>
          <p:nvPr/>
        </p:nvSpPr>
        <p:spPr>
          <a:xfrm rot="2740800">
            <a:off x="2778840" y="3839040"/>
            <a:ext cx="2371680" cy="179280"/>
          </a:xfrm>
          <a:prstGeom prst="leftRightArrow">
            <a:avLst>
              <a:gd name="adj1" fmla="val 50000"/>
              <a:gd name="adj2" fmla="val 50037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ousměrná vodorovná šipka 46"/>
          <p:cNvSpPr/>
          <p:nvPr/>
        </p:nvSpPr>
        <p:spPr>
          <a:xfrm rot="16575000">
            <a:off x="1325880" y="3875760"/>
            <a:ext cx="1633680" cy="177840"/>
          </a:xfrm>
          <a:prstGeom prst="leftRightArrow">
            <a:avLst>
              <a:gd name="adj1" fmla="val 50000"/>
              <a:gd name="adj2" fmla="val 5001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ousměrná vodorovná šipka 47"/>
          <p:cNvSpPr/>
          <p:nvPr/>
        </p:nvSpPr>
        <p:spPr>
          <a:xfrm rot="4450800">
            <a:off x="2264400" y="3906000"/>
            <a:ext cx="1685880" cy="188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57240" y="1928880"/>
            <a:ext cx="67154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Číslo a název prioritní os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 – Zvyšování kvality ve vzdělá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Číslo a název oblasti podpory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.1 -  Zvyšování kvality ve vzdělá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21. 7. – 30. 10. 200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5960" y="213840"/>
            <a:ext cx="6858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Výzva číslo 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856880" y="1356840"/>
            <a:ext cx="7000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Alokace výzvy: 600 000 000 K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Celkem předloženo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97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 985 902 498,81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Kč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yřazeno 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Hodnocení formálních náležitostí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Hodnocení přijatelnosti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Věcné hodnocení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Celkový počet projednávaných IPo výběrovou komisí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Statistiky – OP 1.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Documents and Settings\zlamalovap\Local Settings\Temporary Internet Files\Content.IE5\4DX55A1K\MCj03036070000[1].wmf"/>
          <p:cNvPicPr/>
          <p:nvPr/>
        </p:nvPicPr>
        <p:blipFill>
          <a:blip r:embed="rId1"/>
          <a:stretch/>
        </p:blipFill>
        <p:spPr>
          <a:xfrm>
            <a:off x="7643880" y="10000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714680" y="2286000"/>
            <a:ext cx="70005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chváleno ministryní k financování IPo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40 (alokace vyčerpána ve výš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573 432 575,33 Kč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Zásobník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Výsledky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785600" y="1785960"/>
            <a:ext cx="7000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20. 5. – 10. 7. 2009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20. 8. 2009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yhlášené aloka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Oblast podpory 1.1 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500 000 000 K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Požadované prostředky        4 070 698 875 Kč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Počet předložených žádostí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        25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Aktuální stav - věcné hodnoce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Výzva číslo 1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080" y="3363480"/>
            <a:ext cx="68626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g. Ilona Sochůrk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ail: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lona.sochurkova@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6:53:39Z</dcterms:created>
  <dc:creator>Ilona Sochůrková</dc:creator>
  <dc:description/>
  <dc:language>en-US</dc:language>
  <cp:lastModifiedBy>ugh</cp:lastModifiedBy>
  <dcterms:modified xsi:type="dcterms:W3CDTF">2009-12-11T08:28:32Z</dcterms:modified>
  <cp:revision>2</cp:revision>
  <dc:subject/>
  <dc:title>Zahájení semináře   Ing. Ilona Sochůrková</dc:title>
</cp:coreProperties>
</file>