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11.12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2CB73-DF30-41DA-B7B9-B01EE619C7D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0C29E-D3E3-4F2B-B80B-161C67AD774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38EF9-D228-432F-93AE-0CF98A4BD72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F589F-9AD0-4EC3-8912-E5B4B4A95A7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BDF29-6372-4864-A983-386D8D454D1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400AA-79A6-41FD-BB7D-CC9E8D3538F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BAF43-41FB-495C-9DE4-28E1F6E98A8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4D9AB-3893-4C7D-8619-7E17ABEFA8A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7F46A-8CD4-454F-AEC9-AD8BDF02BF2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D8546-C356-49B0-8914-5F9CF021C3D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8C60C-41C6-4124-9BDB-B60C8C71074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97F5C-12D0-4A62-A1B6-2C6A26F4EEA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57E97-D24F-44D2-8DB9-584501C53FB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7C09-D76D-4E46-B6B3-E314E1AF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8D2B-853E-4081-94A9-733BB738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730C-5FED-4B3A-B338-8FBCDD18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AA2C-3417-4054-9372-C7E7F22F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141-AE9E-4B31-B3AE-EF79FE1E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C27-1DA9-4C43-97A1-A9A5F625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DC39-6303-4152-8CDB-41D6B1F6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3FE1-AACB-4505-A001-037D50EF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6556-B36C-4790-92A9-2AB9A0D7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B617-FC47-458D-9C2D-BB006040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40FF-0B25-4857-BBDB-18080BE7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503D-2511-4B41-A27A-07C026AB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538A0A-3243-4876-AC65-B2B5D7C2B4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440" y="493200"/>
            <a:ext cx="73184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ocesy a  pravidla </a:t>
            </a:r>
            <a:br>
              <a:rPr sz="4400"/>
            </a:b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realizace projektu</a:t>
            </a:r>
            <a:br>
              <a:rPr sz="4400"/>
            </a:br>
            <a:br>
              <a:rPr sz="4400"/>
            </a:br>
            <a:r>
              <a:rPr b="1" lang="cs-CZ" sz="2800" spc="-1" strike="noStrike">
                <a:solidFill>
                  <a:srgbClr val="f3912c"/>
                </a:solidFill>
                <a:latin typeface="Arial"/>
              </a:rPr>
              <a:t>Ing. Marie Kaufnerová</a:t>
            </a:r>
            <a:br>
              <a:rPr sz="2800"/>
            </a:br>
            <a:br>
              <a:rPr sz="2800"/>
            </a:br>
            <a:r>
              <a:rPr b="1" lang="cs-CZ" sz="1600" spc="-1" strike="noStrike">
                <a:solidFill>
                  <a:srgbClr val="f3912c"/>
                </a:solidFill>
                <a:latin typeface="Arial"/>
              </a:rPr>
              <a:t>Prezentace pro příjemce IPo, kteří se řídí Příručkou pro příjemce fin.podpory z OP VK, verze 3, učinná od 3.10.2009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ástupný symbol pro datum 3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0D679-23CC-4FD2-9046-B21FB4FE8B13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ástupný symbol pro obsah 7"/>
          <p:cNvSpPr/>
          <p:nvPr/>
        </p:nvSpPr>
        <p:spPr>
          <a:xfrm>
            <a:off x="1897200" y="2136600"/>
            <a:ext cx="778644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dstoupení od právního a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může v krajním případě odstoupit od právního aktu  OKAMŽITĚ pok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bezdůvodně, dlouhodobě a opakovaně neplní některou z povinností uvedených v právním aktu (např. dodávání MZ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v úpadku nebo v likvidac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změní právní formu, aniž by to doložil poskytovatel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Kontrola zjistí finanční podvody či jiná nekalá jednání příjemc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tutární orgán či zaměstnanec příjemce se dopustí trestného činu, jehož skutková podstata souvisí s realizací projektu, a je za to pravomocně odsouze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jekt nesplňuje podmínky, za nichž byla finanční podpora přidělena, a příjemce nenavrhne jeho uspokojivou modifikac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stoupení PÍSEMNĚ, účinné dnem doručení příjemci, ruší se právní ak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C:\Documents and Settings\gotzv\Local Settings\Temporary Internet Files\Content.IE5\ZXF16QS5\MCj03597570000[1].wmf"/>
          <p:cNvPicPr/>
          <p:nvPr/>
        </p:nvPicPr>
        <p:blipFill>
          <a:blip r:embed="rId1"/>
          <a:stretch/>
        </p:blipFill>
        <p:spPr>
          <a:xfrm>
            <a:off x="7969320" y="1353960"/>
            <a:ext cx="1274760" cy="1258920"/>
          </a:xfrm>
          <a:prstGeom prst="rect">
            <a:avLst/>
          </a:prstGeom>
          <a:ln w="0">
            <a:noFill/>
          </a:ln>
        </p:spPr>
      </p:pic>
      <p:sp>
        <p:nvSpPr>
          <p:cNvPr id="104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5D451-B3FF-4DB1-993B-9587C6697DF3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6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55A24-4F46-42A2-BE2F-5372F961E6F1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bdélník 5"/>
          <p:cNvSpPr/>
          <p:nvPr/>
        </p:nvSpPr>
        <p:spPr>
          <a:xfrm>
            <a:off x="2182680" y="2637000"/>
            <a:ext cx="4714920" cy="21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lší možnost – zrušení DOHOD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sí být písemné s uvedením důvodů, které vedly k ukončení účinnosti právního aktu včetně vzájemného vypořádání práv a závazk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Nadpis 5"/>
          <p:cNvSpPr/>
          <p:nvPr/>
        </p:nvSpPr>
        <p:spPr>
          <a:xfrm>
            <a:off x="1754280" y="636480"/>
            <a:ext cx="7740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38460-5B80-4E44-A534-E50463E6A4EE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2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C:\Documents and Settings\kaufnerovam\Local Settings\Temporary Internet Files\Content.IE5\1ZMAVU8U\MCj04398210000[1].png"/>
          <p:cNvPicPr/>
          <p:nvPr/>
        </p:nvPicPr>
        <p:blipFill>
          <a:blip r:embed="rId2"/>
          <a:stretch/>
        </p:blipFill>
        <p:spPr>
          <a:xfrm>
            <a:off x="4479840" y="4910040"/>
            <a:ext cx="24177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41443-8FF4-47E3-83C6-45CDB883331A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bdélník 5"/>
          <p:cNvSpPr/>
          <p:nvPr/>
        </p:nvSpPr>
        <p:spPr>
          <a:xfrm>
            <a:off x="2397240" y="1851120"/>
            <a:ext cx="621504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Námitky proti postupu ŘO – možno podat do 15 pracovních dní od okamžiku doručení písemného vyrozumě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Zaslat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 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na odbor </a:t>
            </a:r>
            <a:r>
              <a:rPr b="1" i="1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46 CERA – Implementace projektů strukturálních fon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 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pokud nebudete spokojeni s řešením vaší námitky  odborem 46, můžete se poté obrátit na odbor </a:t>
            </a:r>
            <a:r>
              <a:rPr b="1" i="1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41 – Odbor řízení OP VK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, který provede prošetř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800" spc="-1" strike="noStrike">
                <a:solidFill>
                  <a:srgbClr val="262626"/>
                </a:solidFill>
                <a:latin typeface="Arial"/>
                <a:ea typeface="Lucida Sans Unicode"/>
              </a:rPr>
              <a:t>     </a:t>
            </a:r>
            <a:r>
              <a:rPr b="0" lang="cs-CZ" sz="1800" spc="-1" strike="noStrike">
                <a:solidFill>
                  <a:srgbClr val="262626"/>
                </a:solidFill>
                <a:latin typeface="Arial"/>
                <a:ea typeface="Lucida Sans Unicode"/>
              </a:rPr>
              <a:t>Námitka či její prošetření, by mělo být provedeno během 15 pracovních dní, u složitých případů do 20 pracovních 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Nadpis 5"/>
          <p:cNvSpPr/>
          <p:nvPr/>
        </p:nvSpPr>
        <p:spPr>
          <a:xfrm>
            <a:off x="1754280" y="636480"/>
            <a:ext cx="7740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Námitky a jejich řešen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FFEE3-1055-42B6-9719-BD4AF99B91D9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C:\Documents and Settings\kaufnerovam\Local Settings\Temporary Internet Files\Content.IE5\0C5TUC9H\MCj04398240000[1].png"/>
          <p:cNvPicPr/>
          <p:nvPr/>
        </p:nvPicPr>
        <p:blipFill>
          <a:blip r:embed="rId2"/>
          <a:stretch/>
        </p:blipFill>
        <p:spPr>
          <a:xfrm>
            <a:off x="8136000" y="42800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2D8B6-F433-4E79-9C52-AC35C3CD8694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bdélník 5"/>
          <p:cNvSpPr/>
          <p:nvPr/>
        </p:nvSpPr>
        <p:spPr>
          <a:xfrm>
            <a:off x="1539720" y="1851120"/>
            <a:ext cx="771552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800" spc="-1" strike="noStrike">
                <a:solidFill>
                  <a:srgbClr val="262626"/>
                </a:solidFill>
                <a:latin typeface="Arial"/>
                <a:ea typeface="Lucida Sans Unicode"/>
              </a:rPr>
              <a:t>Příjemce je povinen všechny nově vytvořené produkty předat do vlastnictví poskytovatele, který je oprávněn je volně a bezplatně  šířit v časově, územně a množstevně neomezeném rozsah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Pokud je držitelem takových práv duševního vlastnictví vzniklých na základě zakázky jiná osoba než příjemce dotace, je příjemce dotace povinen ve smlouvě uzavřené s dodavatelem zajistit pro poskytovatele neomezenou bezplatnou licenci k využití těchto práv včetně možnosti  zcela nebo z části poskytnout třetí osobě oprávně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Nadpis 5"/>
          <p:cNvSpPr/>
          <p:nvPr/>
        </p:nvSpPr>
        <p:spPr>
          <a:xfrm>
            <a:off x="1754280" y="636480"/>
            <a:ext cx="7740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Autorská prá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30355-0596-4EC6-AF4C-51FC5E99A8E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26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stupy při oslovování cílových sku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K oslovení cílové skupiny využívat legální nástroje publicity projektu (letáčky, plakáty, prezentace na seminářích či konferencích, inzerce v tisku či v dalších sdělovacích prostředcích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yvarovat se diskreditace cílové skupiny a tím i projektu samotné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Je vhodné si zajistit souhlas cílové skupiny s informováním  o aktivitách projektu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C:\Documents and Settings\gotzv\Local Settings\Temporary Internet Files\Content.IE5\84NCG0JY\MCj02382830000[1].wmf"/>
          <p:cNvPicPr/>
          <p:nvPr/>
        </p:nvPicPr>
        <p:blipFill>
          <a:blip r:embed="rId1"/>
          <a:stretch/>
        </p:blipFill>
        <p:spPr>
          <a:xfrm>
            <a:off x="8612280" y="1301760"/>
            <a:ext cx="1143000" cy="1500120"/>
          </a:xfrm>
          <a:prstGeom prst="rect">
            <a:avLst/>
          </a:prstGeom>
          <a:ln w="0">
            <a:noFill/>
          </a:ln>
        </p:spPr>
      </p:pic>
      <p:sp>
        <p:nvSpPr>
          <p:cNvPr id="130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BAAEB-DD3A-486C-BAB1-E1BD98E0636B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32" name="Nadpis 1"/>
          <p:cNvSpPr/>
          <p:nvPr/>
        </p:nvSpPr>
        <p:spPr>
          <a:xfrm>
            <a:off x="6469200" y="670860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Evidence osob z cílové skupi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vinnost příjemce vést evidenci cílové skupiny účastnící se akcí projektu (například prezenční listiny, seznamy, přihlášky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le evidence se provádí monitoring a kontrola výdajů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U nezletilých osob zvážit zda není potřeba souhlas zákonného zástupce s účastí v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3" descr="C:\Documents and Settings\gotzv\Local Settings\Temporary Internet Files\Content.IE5\YAIUOI0Q\MCj04040350000[1].wmf"/>
          <p:cNvPicPr/>
          <p:nvPr/>
        </p:nvPicPr>
        <p:blipFill>
          <a:blip r:embed="rId1"/>
          <a:stretch/>
        </p:blipFill>
        <p:spPr>
          <a:xfrm>
            <a:off x="8326440" y="1779480"/>
            <a:ext cx="1198440" cy="1341720"/>
          </a:xfrm>
          <a:prstGeom prst="rect">
            <a:avLst/>
          </a:prstGeom>
          <a:ln w="0">
            <a:noFill/>
          </a:ln>
        </p:spPr>
      </p:pic>
      <p:sp>
        <p:nvSpPr>
          <p:cNvPr id="136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5E683-DD6A-42E0-B72F-95DDB14AD35A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38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chrana osobních údaj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povinen při zajišťování a evidenci osobních údajů postupovat v souladu se zákonem č.101/2000 Sb., o ochraně osobních údajů (zajistit souhlas evidovaných osob či jejich zákonných zástupců s jejich využitím a způsobem využití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 Individuální projekty kde se poskytnutí fin. pomoci řídí zákonem č. 218/2000 Sb. o rozpočtových pravidlech (poskytovatel dotace vydá písemné rozhodnutí formou právního aktu, který zavazuje příjemce k naplňování monitorovacích indikátorů a jejich dokladování) není povinnost oznamovat zpracování osobních údajů Úřadu pro ochranu osobních údajů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C:\Documents and Settings\gotzv\Local Settings\Temporary Internet Files\Content.IE5\ZXF16QS5\MCBD05027_0000[1].wmf"/>
          <p:cNvPicPr/>
          <p:nvPr/>
        </p:nvPicPr>
        <p:blipFill>
          <a:blip r:embed="rId1"/>
          <a:stretch/>
        </p:blipFill>
        <p:spPr>
          <a:xfrm>
            <a:off x="7826400" y="1771560"/>
            <a:ext cx="1500120" cy="1555920"/>
          </a:xfrm>
          <a:prstGeom prst="rect">
            <a:avLst/>
          </a:prstGeom>
          <a:ln w="0">
            <a:noFill/>
          </a:ln>
        </p:spPr>
      </p:pic>
      <p:sp>
        <p:nvSpPr>
          <p:cNvPr id="142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8B8EF-8BD0-4B71-A81B-7AF1D22DBCAB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4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96840" y="850680"/>
            <a:ext cx="6048360" cy="22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76400" y="2851200"/>
            <a:ext cx="75643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. Marie Kaufne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ový manažer – oblast podpory 1.1 Zvyšování kvality ve vzdělává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 46 - C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mail: marie.kaufnerova@msm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B4770-6E11-42CF-9754-C7ED482E3137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4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ástupný symbol pro text 8"/>
          <p:cNvSpPr/>
          <p:nvPr/>
        </p:nvSpPr>
        <p:spPr>
          <a:xfrm>
            <a:off x="1968480" y="6708600"/>
            <a:ext cx="349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C:\Documents and Settings\gotzv\Local Settings\Temporary Internet Files\Content.IE5\DBCR952T\MCj03359370000[1].wmf"/>
          <p:cNvPicPr/>
          <p:nvPr/>
        </p:nvPicPr>
        <p:blipFill>
          <a:blip r:embed="rId1"/>
          <a:stretch/>
        </p:blipFill>
        <p:spPr>
          <a:xfrm>
            <a:off x="7326360" y="1994040"/>
            <a:ext cx="1944720" cy="1662120"/>
          </a:xfrm>
          <a:prstGeom prst="rect">
            <a:avLst/>
          </a:prstGeom>
          <a:ln w="0">
            <a:noFill/>
          </a:ln>
        </p:spPr>
      </p:pic>
      <p:sp>
        <p:nvSpPr>
          <p:cNvPr id="55" name="Zástupný symbol pro obsah 7"/>
          <p:cNvSpPr/>
          <p:nvPr/>
        </p:nvSpPr>
        <p:spPr>
          <a:xfrm>
            <a:off x="1897200" y="1208160"/>
            <a:ext cx="766908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aháj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tum akceptace Rozhodnu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zdější datum uvedené v projektové žád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tum uvedené v právním a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Za způsobilé se považují pouze výdaje vzniklé během realizace tj. mezi těmito da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Nadpis 5"/>
          <p:cNvSpPr/>
          <p:nvPr/>
        </p:nvSpPr>
        <p:spPr>
          <a:xfrm>
            <a:off x="1825560" y="27936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90FA0-D343-4750-BEEE-4123A440D5D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9" name="Nadpis 1"/>
          <p:cNvSpPr/>
          <p:nvPr/>
        </p:nvSpPr>
        <p:spPr>
          <a:xfrm>
            <a:off x="6397560" y="691668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Nadpis 5"/>
          <p:cNvSpPr/>
          <p:nvPr/>
        </p:nvSpPr>
        <p:spPr>
          <a:xfrm>
            <a:off x="1897200" y="422280"/>
            <a:ext cx="7929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měna data ukonč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dstatná změna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Možná pouze v řádně odůvodněných a schválených případ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působilé výdaje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 data zahájení projektu do data ukončení proje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 datu ukončení pouze audit a mzdy pracovníků projektu za poslední měsíc realizace, vyúčtování zál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448B3-1B21-42D5-BB1E-FF612AC13FA7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ástupný symbol pro text 8"/>
          <p:cNvSpPr/>
          <p:nvPr/>
        </p:nvSpPr>
        <p:spPr>
          <a:xfrm>
            <a:off x="1968480" y="6708600"/>
            <a:ext cx="349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Zástupný symbol pro obsah 7"/>
          <p:cNvSpPr/>
          <p:nvPr/>
        </p:nvSpPr>
        <p:spPr>
          <a:xfrm>
            <a:off x="196848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Délka trvání projekt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Uvedena v právním a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jdéle 36 měsíců od přijetí právního aktu s nejzazším datem ukončení 30.6. 20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i poskytovatel podpory jsou oprávněni ukončit práci na projektu a jeho financování avšak pouze ze závažných důvod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Nadpis 5"/>
          <p:cNvSpPr/>
          <p:nvPr/>
        </p:nvSpPr>
        <p:spPr>
          <a:xfrm>
            <a:off x="1825560" y="27936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BEB38-9355-44BB-AB6A-6B4340E0DB89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0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C:\Documents and Settings\kaufnerovam\Local Settings\Temporary Internet Files\Content.IE5\RO1OPC4G\MCj04397990000[1].png"/>
          <p:cNvPicPr/>
          <p:nvPr/>
        </p:nvPicPr>
        <p:blipFill>
          <a:blip r:embed="rId2"/>
          <a:stretch/>
        </p:blipFill>
        <p:spPr>
          <a:xfrm>
            <a:off x="6413400" y="1339920"/>
            <a:ext cx="1913040" cy="19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obsah 7"/>
          <p:cNvSpPr/>
          <p:nvPr/>
        </p:nvSpPr>
        <p:spPr>
          <a:xfrm>
            <a:off x="1897200" y="1565280"/>
            <a:ext cx="766908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říjemc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ísemně k rukám poskytovatele formou návrhu na změnu právního aktu s novým datem ukonč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 nejvýše dvouměsíční lhůtou uzavření proje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případě akceptace změnového právního aktu (Rozhodnutí o změně Rozhodnutí) začíná běžet lhůta pro uzavření aktivit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využité prostředky ve prospěch projektu musí být vráceny do 20 pracovních dnů po ukončení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kud byl projekt financován v režimu zálohování  - odděleně evidovat výdaje uskutečněné po dni odeslání návrhu na ukončení projektu. Vyúčtování těchto výdajů (pokud nebudou řádně zdůvodněny v komentáři přiloženém k vyúčtování) nemusí být poskytovatelem  podpory akceptován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C:\Documents and Settings\gotzv\Local Settings\Temporary Internet Files\Content.IE5\LUHYZSFQ\MCj04326440000[1].png"/>
          <p:cNvPicPr/>
          <p:nvPr/>
        </p:nvPicPr>
        <p:blipFill>
          <a:blip r:embed="rId1"/>
          <a:stretch/>
        </p:blipFill>
        <p:spPr>
          <a:xfrm>
            <a:off x="7969320" y="851040"/>
            <a:ext cx="1571400" cy="1571400"/>
          </a:xfrm>
          <a:prstGeom prst="rect">
            <a:avLst/>
          </a:prstGeom>
          <a:ln w="0">
            <a:noFill/>
          </a:ln>
        </p:spPr>
      </p:pic>
      <p:sp>
        <p:nvSpPr>
          <p:cNvPr id="75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791C1-1578-4463-B365-9C31474CBA95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7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Neoprávněné předčasné ukonč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případě porušení podmínek právního aktu (nedodržení podmínek pro předčasné ukončení projekt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povinen vrátit neoprávněně vyplacené prostředky v plné výši a ve lhůtě stanovené poskytovate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C:\Documents and Settings\gotzv\Local Settings\Temporary Internet Files\Content.IE5\7WLRSXM1\MCj04247840000[1].wmf"/>
          <p:cNvPicPr/>
          <p:nvPr/>
        </p:nvPicPr>
        <p:blipFill>
          <a:blip r:embed="rId1"/>
          <a:stretch/>
        </p:blipFill>
        <p:spPr>
          <a:xfrm>
            <a:off x="8112240" y="2922480"/>
            <a:ext cx="1447560" cy="1330560"/>
          </a:xfrm>
          <a:prstGeom prst="rect">
            <a:avLst/>
          </a:prstGeom>
          <a:ln w="0">
            <a:noFill/>
          </a:ln>
        </p:spPr>
      </p:pic>
      <p:sp>
        <p:nvSpPr>
          <p:cNvPr id="81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27BFF-FD1E-4D95-9F07-A4189D791930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3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zastavení podpory z OP V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je  při podezření na porušení rozpočtové kázně či porušení dalších povinností uvedených v právním aktu o poskytnutí podpory oprávně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vyzvat příjemce k okamžité nápravě zjištěných nedostatků a stanovit lhůty k náprav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preventivně pozastavit platby příjemci podp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7" descr="C:\Documents and Settings\gotzv\Local Settings\Temporary Internet Files\Content.IE5\YAIUOI0Q\MCj04315090000[1].png"/>
          <p:cNvPicPr/>
          <p:nvPr/>
        </p:nvPicPr>
        <p:blipFill>
          <a:blip r:embed="rId1"/>
          <a:stretch/>
        </p:blipFill>
        <p:spPr>
          <a:xfrm>
            <a:off x="8112240" y="2208240"/>
            <a:ext cx="1400040" cy="1400040"/>
          </a:xfrm>
          <a:prstGeom prst="rect">
            <a:avLst/>
          </a:prstGeom>
          <a:ln w="0">
            <a:noFill/>
          </a:ln>
        </p:spPr>
      </p:pic>
      <p:sp>
        <p:nvSpPr>
          <p:cNvPr id="8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EFBD8-0EF0-42B5-B5FF-8CA5DCEE389D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obsah 7"/>
          <p:cNvSpPr/>
          <p:nvPr/>
        </p:nvSpPr>
        <p:spPr>
          <a:xfrm>
            <a:off x="1897200" y="1636560"/>
            <a:ext cx="766908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oskytovatelem finanční podp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může vypovědět právní akt o poskytnutí podpory pokud nedojde k nápravě zjištěných nedostatků ve stanovené lhůtě a to  s dvouměsíční výpovědní lhůtou na ukončení aktivit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árok příjemce na proplacení odpovídající části způsobilých výdajů bude posuzován poskytovatelem individuálně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využité prostředky vrátit do 20 pracovních dní od ukončení projektu( přes zřizovatele - 20 prac. dní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32900-5BEC-4AB8-A21A-80F9DA4B52AB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Řízení o odnětí podp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Řízení o odnětí podpory může být zahájeno pokud došlo k porušení pravidel zákona č. 218/2000 Sb. O rozpočtových pravidl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 k vázání prostředků státního rozpoč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ke zjištění, že podpora byla poskytnuta na základě neúplných či nepravdivých údaj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 právní akt byl vydán v rozporu se zákonem či právem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nemůže být řádně či včas splněn účel dot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65F2C-20DD-478D-BDEA-D527BC9F402B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1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C:\Documents and Settings\kaufnerovam\Local Settings\Temporary Internet Files\Content.IE5\SUKH4R2G\MCj04398220000[1].png"/>
          <p:cNvPicPr/>
          <p:nvPr/>
        </p:nvPicPr>
        <p:blipFill>
          <a:blip r:embed="rId2"/>
          <a:stretch/>
        </p:blipFill>
        <p:spPr>
          <a:xfrm>
            <a:off x="7362720" y="1173240"/>
            <a:ext cx="1392480" cy="139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4:43:31Z</dcterms:modified>
  <cp:revision>102</cp:revision>
  <dc:subject/>
  <dc:title>Snímek 1</dc:title>
</cp:coreProperties>
</file>