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40246-B2D3-47EF-BEAF-8C5426A0BA5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1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9CD2E-923F-4595-BB9A-2C8BB831D26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46A4C-C63D-4792-B1C6-B8240A9C92A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AB1EF-ECBC-42B6-90EB-524C3D8F6DF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AA8FE-DD8A-47EF-9B71-FD7546D6137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3B5D0-610A-4C48-AD1F-475020F9D8F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713C2-5C39-4CCD-9E74-432167EEF12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55EAB-681E-4D04-B028-0244CFA2EC5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AB239-D4BA-48C9-A13A-6966F2252F6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A8911-3D89-48AE-B7F0-44F45919E56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0189-FE3B-42E2-AE26-3CE1C90A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484-0090-40DB-93F3-851AE5F0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047-9A33-47C4-BBF3-323B28A7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C702-84C9-4538-B5B7-6ADB3E75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9B6-A08E-4634-910B-7F815892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ED3-4598-4AE2-9AE5-AEE22A26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A7C-6680-4AF0-A293-42AB75B6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4E5-2257-4AA2-AECC-786D4235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6C24-75A3-4B70-ACFB-FCD02DB5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3AC-282D-463B-9F8E-2DC99B6C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E50-5B94-4D02-924A-2285ED09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C7A-8092-4B8B-B655-4C88CB20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75921C-56C8-46C5-9CBB-8851C8E514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imona.dvorac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81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avidla publicity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roč se zabývat publicit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řízení Evropské komise (ES) č. 1828/2006: „…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íjemce finanční podpory je povinen jasně informovat subjekty účastnící se projektu i širokou veřejnost , že projekt získal finanční prostředky v rámci operačního programu spolufinancovaného Evropským sociálním fondem (ESF)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ance využít tuto povinnost ke zviditelnění svého projektu a zároveň inspirovat ostatní potenciální žadatele o podp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kytnutí určité záruky kvality účastníkům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ránění problémům při kontrolách a audi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2790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Z čeho se publicita skládá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82640" y="1351080"/>
            <a:ext cx="7886880" cy="60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ormování a propagace projektu směrem k široké a odborné veřejnosti, EU, médiím, účastníkům projektu na všech materiálech a dokumentech souvisejících s projektem (výjimkou jsou účetní dokl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idelné předkládání monitorovacích zpráv o průběhu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hlas se začleněním na veřejně přístupný seznam příjem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ropagaci projektů používáme loga (značky): Evropského sociálního fondu, Evropské unie, Ministerstva školství, mládeže a tělovýchovy a Operačního programu Vzdělávání pro konkurenceschop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oga mají přesně vymezená pravidla použití a řazení (v rámci tzv. logolinku). Za logo OP VK může příjemce v logolinku přidat své logo a příp. logo partnera (!pozor! nikoliv logo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logolinkem používáme i slogan: Investice do rozvoje vzdělá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5" descr="Logolink_horizontal_zaklad_RGB.jpg"/>
          <p:cNvPicPr/>
          <p:nvPr/>
        </p:nvPicPr>
        <p:blipFill>
          <a:blip r:embed="rId2"/>
          <a:stretch/>
        </p:blipFill>
        <p:spPr>
          <a:xfrm>
            <a:off x="3254400" y="6066000"/>
            <a:ext cx="492912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279080"/>
            <a:ext cx="78868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 dodržet nejmenší povolené velikosti log, předepsané barvy, ochranné zóny a další náležitosti dané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eriálech menšího rozměru lze loga uvést i bez textů (!pozor! logo EU vždy s tex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!pozor! vlajku ČR používá na svých materiálech pouze řídící org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é propagační předměty (post-it, vizitka, flash disk, tužky,…): zkrácený logolink, možno i bez sloga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a vybavení (vč. publikací, učebnic,…) pořízené z prostředků ESF: samolepky s logy (lze vynechat logo MŠMT), avšak nutno uvést slogan (povinné sdě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4" descr="Logolink_horiz_zkraceny_bezTextu_RGB.jpg"/>
          <p:cNvPicPr/>
          <p:nvPr/>
        </p:nvPicPr>
        <p:blipFill>
          <a:blip r:embed="rId2"/>
          <a:stretch/>
        </p:blipFill>
        <p:spPr>
          <a:xfrm>
            <a:off x="7469280" y="5065560"/>
            <a:ext cx="2286000" cy="80172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5" descr="Logolink_horiz_zkraceny_RGB.jpg"/>
          <p:cNvPicPr/>
          <p:nvPr/>
        </p:nvPicPr>
        <p:blipFill>
          <a:blip r:embed="rId3"/>
          <a:stretch/>
        </p:blipFill>
        <p:spPr>
          <a:xfrm>
            <a:off x="4754520" y="4637160"/>
            <a:ext cx="2214720" cy="95544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6" descr="Logolink_horiz_zkraceny_text_RGB.jpg"/>
          <p:cNvPicPr/>
          <p:nvPr/>
        </p:nvPicPr>
        <p:blipFill>
          <a:blip r:embed="rId4"/>
          <a:stretch/>
        </p:blipFill>
        <p:spPr>
          <a:xfrm>
            <a:off x="2039760" y="4208400"/>
            <a:ext cx="264348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36080"/>
            <a:ext cx="78868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279440"/>
            <a:ext cx="788688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ždy v souladu s pravidly danými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ě umístěné a kvalitně proved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použití logolinku bez slovního odkazu na ESF je nutno používat i povinné sdělení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nto program/projekt/produkt je spolufinancován  Evropským sociálním fondem a státním rozpočtem České republiky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ýjimkou jsou rozměrově menší materiály a předmět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čb originálech nutno použít předepsané inverzní varianty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6" descr="logolink_bez_vlajkyCR_bar..jpg"/>
          <p:cNvPicPr/>
          <p:nvPr/>
        </p:nvPicPr>
        <p:blipFill>
          <a:blip r:embed="rId2"/>
          <a:stretch/>
        </p:blipFill>
        <p:spPr>
          <a:xfrm>
            <a:off x="3397320" y="3494160"/>
            <a:ext cx="3714840" cy="1062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7" descr="logolink_bez_vlajkyCR_cb.jpg"/>
          <p:cNvPicPr/>
          <p:nvPr/>
        </p:nvPicPr>
        <p:blipFill>
          <a:blip r:embed="rId3"/>
          <a:stretch/>
        </p:blipFill>
        <p:spPr>
          <a:xfrm>
            <a:off x="1897200" y="5351400"/>
            <a:ext cx="3643200" cy="1041480"/>
          </a:xfrm>
          <a:prstGeom prst="rect">
            <a:avLst/>
          </a:prstGeom>
          <a:ln w="0">
            <a:noFill/>
          </a:ln>
        </p:spPr>
      </p:pic>
      <p:pic>
        <p:nvPicPr>
          <p:cNvPr id="71" name="Obrázek 6" descr="Logolink_horizontal_zaklad_cb.jpg"/>
          <p:cNvPicPr/>
          <p:nvPr/>
        </p:nvPicPr>
        <p:blipFill>
          <a:blip r:embed="rId4"/>
          <a:stretch/>
        </p:blipFill>
        <p:spPr>
          <a:xfrm>
            <a:off x="5254560" y="6208560"/>
            <a:ext cx="43894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de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a informační materiály: letáky, plakáty, brožury, newslettry, školicí materiály, certifikáty, prezenční listiny (logolink a povinná sdělení stačí uvést pouze na titulní stránce), příp. vizitky a ob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předměty: tužky, bloky,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ální výstupy: inzeráty, tiskové zprávy, články, PPT prezentac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net: webové stránk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pořízené z prostředků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ová dokumentace: pracovní smlouvy/dohody (pokud to forma dokumentu umožňuje), výroční a závěrečné zprávy, korespondenc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nosti/prostory, v nichž se konají informační akce k OP VK: umístit vlajky EU a ČR, loga EU, ESF, MŠMT,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Dokumenty, odk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280" y="142200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ručka pro příjemce finanční podpory z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í 3. verze platná od 21. 10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op-vk-verze-3-platna-od-21-10-2009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říp. 2. verze platná od 15. 4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verze-2-platna-od-15-4-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uál vizuální identity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uploads/soubory/ESF/Publicita/Manual_vizual_identity_OPVK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eb MŠM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ekce Strukturální fondy – OP VK – Pro žadatele a příjemce – Publicita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ublicita-a-publik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oga a logolinky ke stažení v různých formá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ESF v ČR 2007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aden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ámci individuálních konzultací s projektovými manaž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Náhled webových stránek MŠMT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 sekce Public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7" descr=""/>
          <p:cNvPicPr/>
          <p:nvPr/>
        </p:nvPicPr>
        <p:blipFill>
          <a:blip r:embed="rId2"/>
          <a:srcRect l="9588" t="2379" r="10909" b="5554"/>
          <a:stretch/>
        </p:blipFill>
        <p:spPr>
          <a:xfrm>
            <a:off x="1897200" y="1422360"/>
            <a:ext cx="7715160" cy="5857920"/>
          </a:xfrm>
          <a:prstGeom prst="rect">
            <a:avLst/>
          </a:prstGeom>
          <a:ln w="0">
            <a:noFill/>
          </a:ln>
        </p:spPr>
      </p:pic>
      <p:sp>
        <p:nvSpPr>
          <p:cNvPr id="82" name="Šipka doleva 8"/>
          <p:cNvSpPr/>
          <p:nvPr/>
        </p:nvSpPr>
        <p:spPr>
          <a:xfrm>
            <a:off x="4897440" y="3494160"/>
            <a:ext cx="1571760" cy="642960"/>
          </a:xfrm>
          <a:prstGeom prst="leftArrow">
            <a:avLst>
              <a:gd name="adj1" fmla="val 92667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Šipka doleva 9"/>
          <p:cNvSpPr/>
          <p:nvPr/>
        </p:nvSpPr>
        <p:spPr>
          <a:xfrm>
            <a:off x="2968560" y="5423040"/>
            <a:ext cx="571680" cy="142560"/>
          </a:xfrm>
          <a:prstGeom prst="leftArrow">
            <a:avLst>
              <a:gd name="adj1" fmla="val 50000"/>
              <a:gd name="adj2" fmla="val 501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68480" y="1767960"/>
            <a:ext cx="76010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Simona Dvořáč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kační úřed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řízení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imona.dvorack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10T12:01:02Z</dcterms:modified>
  <cp:revision>92</cp:revision>
  <dc:subject/>
  <dc:title>Snímek 1</dc:title>
</cp:coreProperties>
</file>