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commentAuthors.xml><?xml version="1.0" encoding="utf-8"?>
<p:cmAuthorLst xmlns:p="http://schemas.openxmlformats.org/presentationml/2006/main">
  <p:cmAuthor id="0" name="Ilona Sochůrková" initials="I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9.xml><?xml version="1.0" encoding="utf-8"?>
<p:cmLst xmlns:p="http://schemas.openxmlformats.org/presentationml/2006/main">
  <p:cm authorId="0" dt="2009-12-03T17:18:45.097000000" idx="1">
    <p:pos x="5673" y="2872"/>
    <p:text>zrušit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1.12.2009</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D061-2527-457B-9F5E-2CCD8788558F}"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0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2DA982A9-ADC3-42CD-966C-4CD328F38315}"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A623AD8C-788E-4911-BBDA-D6D99E802C4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2"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685800" y="4341960"/>
            <a:ext cx="37847520" cy="41400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rámci projektů OP VK mohou existovat dva typy partnerství, a to partnerství s FP a partnerství bez FP. Způsobilé výdaje vznikající partnerům s FP jsou součástí způsobilých výdajů projektu.</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ři se společně s příjemcem podílejí na realizaci projektu a to v těch aktivitách, ve kterých je k tomu zavazuje PS.</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Obsah PS je přitom velice důležitý, protože konečnou odpovědnost poskytovateli podpory nese příjemce.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Smluvní vztah mezi příjemcem a jeho partnery není založen na poskytování služeb a nesmí být v rozporu s právní předpisy ČR!</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23FFD1CE-C6E9-476D-970F-CB17305203B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body"/>
          </p:nvPr>
        </p:nvSpPr>
        <p:spPr>
          <a:xfrm>
            <a:off x="685440" y="4341960"/>
            <a:ext cx="24250680" cy="150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finančního partnerství je příjemcem podpory vždy žadatel, který předkládal projektovou žádost a uzavíral právní akt s poskytovate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ento příjemce podpory je zodpovědný za rozdělení finančních prostředků mezi partnery s FP, na základě uzavřené 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př.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96E88E82-1B87-46DA-8A6A-9DA583D5B0B0}"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685440" y="4341600"/>
            <a:ext cx="15882840" cy="19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partnera s FP předkládá partner příjemci žádost o proplacení svých způsobilých výdaj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bo by měl být v PS upravený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15412829-D4EF-41C2-A783-8732288820BB}"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body"/>
          </p:nvPr>
        </p:nvSpPr>
        <p:spPr>
          <a:xfrm>
            <a:off x="685440" y="4341960"/>
            <a:ext cx="18678600" cy="19476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majetek lze zapůjčovat jak finančním tak nefinančním partnerům</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Tento majetek pořízený a hrazený příjemcem, který je v užívání u partnera, musí být inventarizován a označen stejně jako majetek užívaný příjemcem podpory</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Příjemce se s partnerem musí v PS dohodnout na termínu, kdy dojde k rozdělení zařízení a spotřebního materiálu nakoupeného z poskytnuté podpory (po udržitelnosti)</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Zařízení a spotř. Materiál nakoupený z projektu nelze po realizaci převádět partnerům sídlícím mimo cílový region v případě, že v rámci udržitelnosti tento partner nezaváže podporovat cílovou skupinu daného cílového regionu.</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Kopie převodních listin či darovacích smluv</a:t>
            </a:r>
            <a:r>
              <a:rPr b="0" lang="cs-CZ" sz="200" spc="-1" strike="noStrike">
                <a:solidFill>
                  <a:srgbClr val="000000"/>
                </a:solidFill>
                <a:latin typeface="Calibri"/>
              </a:rPr>
              <a:t> </a:t>
            </a:r>
            <a:r>
              <a:rPr b="0" lang="cs-CZ" sz="600" spc="-1" strike="noStrike">
                <a:solidFill>
                  <a:srgbClr val="000000"/>
                </a:solidFill>
                <a:latin typeface="Calibri"/>
              </a:rPr>
              <a:t>předkládá příjemce</a:t>
            </a:r>
            <a:r>
              <a:rPr b="0" lang="cs-CZ" sz="200" spc="-1" strike="noStrike">
                <a:solidFill>
                  <a:srgbClr val="000000"/>
                </a:solidFill>
                <a:latin typeface="Calibri"/>
              </a:rPr>
              <a:t> </a:t>
            </a:r>
            <a:r>
              <a:rPr b="0" lang="cs-CZ" sz="600" spc="-1" strike="noStrike">
                <a:solidFill>
                  <a:srgbClr val="000000"/>
                </a:solidFill>
                <a:latin typeface="Calibri"/>
              </a:rPr>
              <a:t>se závěrečnou MZ</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600" spc="-1" strike="noStrike">
                <a:solidFill>
                  <a:srgbClr val="000000"/>
                </a:solidFill>
                <a:latin typeface="Calibri"/>
              </a:rPr>
              <a:t>b) Partner s finančním příspěvkem </a:t>
            </a: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nakupované zařízení a spotřební materiál je ihned v jeho vlastnictví</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14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EC37007E-EECB-4D17-909A-66E5019D2C48}"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9F7A34BE-F4AD-49E8-A612-27760AB3EC2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body"/>
          </p:nvPr>
        </p:nvSpPr>
        <p:spPr>
          <a:xfrm>
            <a:off x="685440" y="4341960"/>
            <a:ext cx="9271080" cy="1938240"/>
          </a:xfrm>
          <a:prstGeom prst="rect">
            <a:avLst/>
          </a:prstGeom>
          <a:noFill/>
          <a:ln w="0">
            <a:noFill/>
          </a:ln>
        </p:spPr>
        <p:txBody>
          <a:bodyPr anchor="ctr" anchorCtr="1">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nezískání souhlasu partnera </a:t>
            </a:r>
            <a:endParaRPr b="0" lang="en-US" sz="1200" spc="-1" strike="noStrike">
              <a:solidFill>
                <a:srgbClr val="000000"/>
              </a:solidFill>
              <a:latin typeface="Calibri"/>
            </a:endParaRPr>
          </a:p>
          <a:p>
            <a:pPr>
              <a:lnSpc>
                <a:spcPct val="100000"/>
              </a:lnSpc>
              <a:spcAft>
                <a:spcPts val="13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odůvodňuje příjemce v žádosti </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formální záležitost (nepřítomnost statutárního zástupce)</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b) partner se změnou nesouhla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dstoupení partnera v případě zapojení 2 a více partnerů do projektu, poskytovatel určí, zda je možné pokračovat v realizaci bez partnera či nikoliv.</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4886CA61-D0D0-413E-8C41-B2A1FD5A29DB}"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685800" y="4341600"/>
            <a:ext cx="5711760" cy="4400280"/>
          </a:xfrm>
          <a:prstGeom prst="rect">
            <a:avLst/>
          </a:prstGeom>
          <a:noFill/>
          <a:ln w="0">
            <a:noFill/>
          </a:ln>
        </p:spPr>
        <p:txBody>
          <a:bodyPr anchor="ctr">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3912c"/>
                </a:solidFill>
                <a:latin typeface="Calibri"/>
              </a:rPr>
              <a:t>Zapojení nového partnera </a:t>
            </a:r>
            <a:endParaRPr b="0" lang="en-US" sz="14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Ve výjimečných a dostatečně odůvodněných případech!</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transformace subjektu partnera a vznik nové organizace,</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ýměna stávajícího partnera za nového při zachování všech povinností a závazků  </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 </a:t>
            </a:r>
            <a:r>
              <a:rPr b="1" lang="cs-CZ" sz="1200" spc="-1" strike="noStrike">
                <a:solidFill>
                  <a:srgbClr val="000000"/>
                </a:solidFill>
                <a:latin typeface="Calibri"/>
              </a:rPr>
              <a:t>Podstatnou změnou je </a:t>
            </a:r>
            <a:r>
              <a:rPr b="1" lang="cs-CZ" sz="1400" spc="-1" strike="noStrike">
                <a:solidFill>
                  <a:srgbClr val="f3912c"/>
                </a:solidFill>
                <a:latin typeface="Calibri"/>
              </a:rPr>
              <a:t>Změna PS</a:t>
            </a:r>
            <a:r>
              <a:rPr b="0" lang="cs-CZ" sz="1400" spc="-1" strike="noStrike">
                <a:solidFill>
                  <a:srgbClr val="f3912c"/>
                </a:solidFill>
                <a:latin typeface="Calibri"/>
              </a:rPr>
              <a:t>, která má </a:t>
            </a:r>
            <a:r>
              <a:rPr b="0" lang="cs-CZ" sz="1200" spc="-1" strike="noStrike">
                <a:solidFill>
                  <a:srgbClr val="000000"/>
                </a:solidFill>
                <a:latin typeface="Calibri"/>
              </a:rPr>
              <a:t>charakter podstatné změny.</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íjemce musí poslat Žádost o PZ a návrh nové smlouvy. </a:t>
            </a:r>
            <a:r>
              <a:rPr b="0" lang="cs-CZ" sz="1200" spc="-1" strike="noStrike">
                <a:solidFill>
                  <a:srgbClr val="000000"/>
                </a:solidFill>
                <a:latin typeface="Wingdings"/>
                <a:ea typeface="Wingdings"/>
              </a:rPr>
              <a:t></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o případném schválení musíme vydat dodatek k rozhodnutí</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se jedná o změnu PS, která má char. nepodstatné změny -  dokládají s MZ</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5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4800"/>
                <a:tab algn="l" pos="2454120"/>
                <a:tab algn="l" pos="2863800"/>
                <a:tab algn="l" pos="3273480"/>
                <a:tab algn="l" pos="3683160"/>
                <a:tab algn="l" pos="4092480"/>
                <a:tab algn="l" pos="4502160"/>
                <a:tab algn="l" pos="4910040"/>
                <a:tab algn="l" pos="5319720"/>
                <a:tab algn="l" pos="5729400"/>
                <a:tab algn="l" pos="6138720"/>
                <a:tab algn="l" pos="6548400"/>
                <a:tab algn="l" pos="6958080"/>
                <a:tab algn="l" pos="7367760"/>
                <a:tab algn="l" pos="7777080"/>
                <a:tab algn="l" pos="8186760"/>
                <a:tab algn="l" pos="8229600"/>
                <a:tab algn="l" pos="9144000"/>
                <a:tab algn="l" pos="10058400"/>
              </a:tabLst>
            </a:pPr>
            <a:fld id="{E0E39899-CBF3-48AC-9285-1B7C9CBCC869}"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0B8A8375-BD7F-4A4C-9C0E-13DD0A318051}"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body"/>
          </p:nvPr>
        </p:nvSpPr>
        <p:spPr>
          <a:xfrm>
            <a:off x="685440" y="4341600"/>
            <a:ext cx="24180840" cy="128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úprav nebo změn v projektu je nutné rozlišovat jaké změny mají charakter nepodstatných a jaké podstatných změ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změny nemají vliv na plnění podmínek uvedených v Rozhodnutí nebo v právním aktu, kterým se poskytuje dotace, nemají vliv na monitorovací indikátory a cíle projektu </a:t>
            </a:r>
            <a:r>
              <a:rPr b="0" lang="cs-CZ" sz="1200" spc="-1" strike="noStrike">
                <a:solidFill>
                  <a:srgbClr val="000000"/>
                </a:solidFill>
                <a:latin typeface="Wingdings"/>
                <a:ea typeface="Wingdings"/>
              </a:rPr>
              <a:t></a:t>
            </a:r>
            <a:r>
              <a:rPr b="0" lang="cs-CZ" sz="1200" spc="-1" strike="noStrike">
                <a:solidFill>
                  <a:srgbClr val="000000"/>
                </a:solidFill>
                <a:latin typeface="Calibri"/>
              </a:rPr>
              <a:t> jedná se o nepodstatné změny, které nepodléhají předchozímu schválení z naší str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yto změny musí být ale dostatečně popsány a zdůvodněny v nejbližší předkládané monitorovací zprávě.</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byste chtěli provést ve schváleném projektu změny, které by ovlivňovaly naplnění cílů projektu nebo by měnily jeho charakter, musíte návrh těchto změn poslat k posouzení odboru CERA. V případě jejich schválení se musí vydat dodatek k právnímu aktu o poskytnutí podpory. Před odesláním návrhu podstatné změny v projektu musí být tento návrh odsouhlasen všemi parnery.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7E499A01-1286-423F-86EF-493F6208CEE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body"/>
          </p:nvPr>
        </p:nvSpPr>
        <p:spPr>
          <a:xfrm>
            <a:off x="685440" y="4341600"/>
            <a:ext cx="27519480" cy="250668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Nehledě na to, jestli provádíte změny podstatné nebo nepodstatné, pokud se tyto změny týkají změn v rozpočtu, dejte si pozor, aby nedošlo k </a:t>
            </a:r>
            <a:r>
              <a:rPr b="1" lang="cs-CZ" sz="2200" spc="-1" strike="noStrike">
                <a:solidFill>
                  <a:srgbClr val="000000"/>
                </a:solidFill>
                <a:latin typeface="Calibri"/>
              </a:rPr>
              <a:t>navýšení celkové schválené částky uznatelných výdajů projektu</a:t>
            </a:r>
            <a:r>
              <a:rPr b="0" lang="cs-CZ" sz="2200" spc="-1" strike="noStrike">
                <a:solidFill>
                  <a:srgbClr val="000000"/>
                </a:solidFill>
                <a:latin typeface="Calibri"/>
              </a:rPr>
              <a:t>,</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 aby jste prováděnou změnou </a:t>
            </a:r>
            <a:r>
              <a:rPr b="1" lang="cs-CZ" sz="2200" spc="-1" strike="noStrike">
                <a:solidFill>
                  <a:srgbClr val="000000"/>
                </a:solidFill>
                <a:latin typeface="Calibri"/>
              </a:rPr>
              <a:t>nenavýšili kapitoly nebo položky rozpočtu, které byly kráceny VK.</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Dále v rámci provádění změn v rozpočtu </a:t>
            </a:r>
            <a:r>
              <a:rPr b="1" lang="cs-CZ" sz="2200" spc="-1" strike="noStrike">
                <a:solidFill>
                  <a:srgbClr val="000000"/>
                </a:solidFill>
                <a:latin typeface="Calibri"/>
              </a:rPr>
              <a:t>nesmí dojít k překročení procentních limitů</a:t>
            </a:r>
            <a:r>
              <a:rPr b="0" lang="cs-CZ" sz="2200" spc="-1" strike="noStrike">
                <a:solidFill>
                  <a:srgbClr val="000000"/>
                </a:solidFill>
                <a:latin typeface="Calibri"/>
              </a:rPr>
              <a:t>, které jsou závazné pro některé kapitoly rozpočtu a </a:t>
            </a:r>
            <a:r>
              <a:rPr b="1" lang="cs-CZ" sz="2200" spc="-1" strike="noStrike">
                <a:solidFill>
                  <a:srgbClr val="000000"/>
                </a:solidFill>
                <a:latin typeface="Calibri"/>
              </a:rPr>
              <a:t>není možné, aby změny způsobily začátek nové KA nebo zrušení či ukončení stávající KA.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šechny změny v rozpočtu nehledě na to, zda se jedná o změny podstatné nebo nepodstatné musí být řádně  zdůvodněny a musí být </a:t>
            </a:r>
            <a:r>
              <a:rPr b="1" lang="cs-CZ" sz="2200" spc="-1" strike="noStrike">
                <a:solidFill>
                  <a:srgbClr val="000000"/>
                </a:solidFill>
                <a:latin typeface="Calibri"/>
              </a:rPr>
              <a:t>doloženy přepracovaným rozpočtem. </a:t>
            </a:r>
            <a:endParaRPr b="0" lang="en-US" sz="2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4A39DD65-77C6-4CCC-96D2-7FD3301D8B9B}"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4"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body"/>
          </p:nvPr>
        </p:nvSpPr>
        <p:spPr>
          <a:xfrm>
            <a:off x="685800" y="4341960"/>
            <a:ext cx="21239280" cy="26193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se jedná o nepodstatné změny rozpočtu, oznamují se a zdůvodňují se v bezprostředně nejbližší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ou změnou je </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Přesun finančních prostředků mezi položkami uvnitř jednotlivých kapitol.</a:t>
            </a:r>
            <a:r>
              <a:rPr b="0" lang="cs-CZ" sz="1200" spc="-1" strike="noStrike">
                <a:solidFill>
                  <a:srgbClr val="000000"/>
                </a:solidFill>
                <a:latin typeface="Calibri"/>
              </a:rPr>
              <a:t> Tyto změny mohou být prováděny bez omezení s výjimkou kapitoly Osobní náklady a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lze provádět nepodstatné změny pouze pokud jsou zapříčiněny změnou schváleného pracovněprávního vztahu, rozdělením úvazků nebo sloučením úvazků, vytvořením nové pracovní pozice nebo navýšením úvazku stávající pozice za schválenou jednotkovou cen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se nedají provádět nepodstatné změny, pokud je příjemce organizace s limity mzdové regulace. Všechny změny v této kapitole jsou u organizací se závaznými mzdovými limity považovány za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nepodstatných změn není možné navyšovat finanční prostředky schválené v kapitole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Za nepodstatnou změnou je  považován i </a:t>
            </a:r>
            <a:r>
              <a:rPr b="1" lang="cs-CZ" sz="1200" spc="-1" strike="noStrike">
                <a:solidFill>
                  <a:srgbClr val="000000"/>
                </a:solidFill>
                <a:latin typeface="Calibri"/>
              </a:rPr>
              <a:t>přesun finančních prostředků mezi kapitolami, ale tento přesun nesmí převýšit 15 % objemu celkových způsobilých výdajů kapitoly, ze které jsou finanční prostředky převáděny</a:t>
            </a:r>
            <a:r>
              <a:rPr b="0" lang="cs-CZ" sz="1200" spc="-1" strike="noStrike">
                <a:solidFill>
                  <a:srgbClr val="000000"/>
                </a:solidFill>
                <a:latin typeface="Calibri"/>
              </a:rPr>
              <a:t>. Kapitola Osobní náklady nesmí být navýšena o více jak 15 % schváleného objemu výdajů této kapito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sun prostředků mezi kapitolami se posuzuje podle schváleného rozpočtu, případně pokud byl již rozpočet upraven podstatnou změnou, tak podle tohoto nového schváleného rozpočtu. Čili podle rozpočtu uvedeném v Rozhodnutí nebo právním aktu o přidělení dotace či podle rozpočtu, který je uveden v dodatku k tomuto právnímu a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Dále je možné v rámci nepodstatné změny </a:t>
            </a:r>
            <a:r>
              <a:rPr b="1" lang="cs-CZ" sz="1200" spc="-1" strike="noStrike">
                <a:solidFill>
                  <a:srgbClr val="000000"/>
                </a:solidFill>
                <a:latin typeface="Calibri"/>
              </a:rPr>
              <a:t>zrušit stávající nebo vytvořit novou položku rozpočtu</a:t>
            </a:r>
            <a:r>
              <a:rPr b="0" lang="cs-CZ" sz="1200" spc="-1" strike="noStrike">
                <a:solidFill>
                  <a:srgbClr val="000000"/>
                </a:solidFill>
                <a:latin typeface="Calibri"/>
              </a:rPr>
              <a:t>. V tomto případě je nutné pohlídat, aby tato změna nezpůsobila zrušení stávající nebo začátek nové klíčové aktivit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82117B38-C8F5-4331-9D5B-D9A3E42B476D}"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body"/>
          </p:nvPr>
        </p:nvSpPr>
        <p:spPr>
          <a:xfrm>
            <a:off x="685800" y="4341960"/>
            <a:ext cx="5494320" cy="4070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romě nepodstatných změn týkajících se rozpočtu je možné provádět </a:t>
            </a:r>
            <a:r>
              <a:rPr b="1" lang="cs-CZ" sz="1200" spc="-1" strike="noStrike">
                <a:solidFill>
                  <a:srgbClr val="000000"/>
                </a:solidFill>
                <a:latin typeface="Calibri"/>
              </a:rPr>
              <a:t>změny v době realizace jednotlivých KA</a:t>
            </a:r>
            <a:r>
              <a:rPr b="0" lang="cs-CZ" sz="1200" spc="-1" strike="noStrike">
                <a:solidFill>
                  <a:srgbClr val="000000"/>
                </a:solidFill>
                <a:latin typeface="Calibri"/>
              </a:rPr>
              <a:t>. Tyto změny musí být opět zdůvodněny v MZ a doloženy novým přepracovaným harmonogramem. Zde není možné v rámci změny v harmonogramu změnit celkovou dobu realizace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é změny týkající se změny kontaktních údajů příjemce, změny jeho sídla nebo změny hlavní kontaktní osoby nebo manažera projektu je nutné oznámit neprodleně a následně pak i s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nepodstatnou změnu je považována i změna auditora (pokud je provedení auditu v projektu povin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názvu sub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ve statutu plátce D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statutárního zástupce, tady je ale nutné, aby příjemce odeslal do 5 PD oznámení o změně s podklady, které tuto změnu prokazuj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nepodstatnou změnou je i změna smlouvy mezi partnerem a příjemcem, která se mění z důvodu, že došlo k nepodstatným změnám u partnera. Kopii nové partnerské smlouvy je třeba doložit v monitorovací zprávě, kde bude opět tato změna popsána a zdůvodně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7AC86961-0BBF-4DC8-A43D-E0AE5CA03402}"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685440" y="4341600"/>
            <a:ext cx="5483160" cy="4113000"/>
          </a:xfrm>
          <a:prstGeom prst="rect">
            <a:avLst/>
          </a:prstGeom>
          <a:noFill/>
          <a:ln w="0">
            <a:noFill/>
          </a:ln>
        </p:spPr>
        <p:txBody>
          <a:bodyPr anchor="ctr" anchorCtr="1">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Z je tedy změna která mění obsah nebo charakter schváleného projektu a zakládá povinnost upravit nebo doplnit právní akt o poskytnutí dotace.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změna tedy nesmí být provedena před jejím schválením a vydáním dodatku k právnímu aktu.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Žádost o PZ naleznete na </a:t>
            </a:r>
            <a:r>
              <a:rPr b="1" lang="cs-CZ" sz="1000" spc="-1" strike="noStrike">
                <a:solidFill>
                  <a:srgbClr val="000000"/>
                </a:solidFill>
                <a:latin typeface="Calibri"/>
              </a:rPr>
              <a:t>webových stránkách</a:t>
            </a:r>
            <a:r>
              <a:rPr b="0" lang="cs-CZ" sz="1000" spc="-1" strike="noStrike">
                <a:solidFill>
                  <a:srgbClr val="000000"/>
                </a:solidFill>
                <a:latin typeface="Calibri"/>
              </a:rPr>
              <a:t> ministerstva pod odkazem SF/pro žadatele a příjemce/MZ a její příloh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V této žádosti popíšete navrhovanou změnu, zdůvodníte ji a případně přiložíte další související dokumenty (změněný rozpočet/harm.)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řed odesláním žádosti ji musíte nechat potvrdit </a:t>
            </a:r>
            <a:r>
              <a:rPr b="1" lang="cs-CZ" sz="1000" spc="-1" strike="noStrike">
                <a:solidFill>
                  <a:srgbClr val="000000"/>
                </a:solidFill>
                <a:latin typeface="Calibri"/>
              </a:rPr>
              <a:t>souhlasem všech partnerů </a:t>
            </a:r>
            <a:r>
              <a:rPr b="0" lang="cs-CZ" sz="1000" spc="-1" strike="noStrike">
                <a:solidFill>
                  <a:srgbClr val="000000"/>
                </a:solidFill>
                <a:latin typeface="Calibri"/>
              </a:rPr>
              <a:t>projektu. Pokud žádost nebude obsahovat písemný souhlas partnerů, musíte zdůvodnit proč jste jej nezískali.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kud to bude z formálních/organizačních důvodů </a:t>
            </a:r>
            <a:r>
              <a:rPr b="0" lang="cs-CZ" sz="1000" spc="-1" strike="noStrike">
                <a:solidFill>
                  <a:srgbClr val="000000"/>
                </a:solidFill>
                <a:latin typeface="Wingdings"/>
                <a:ea typeface="Wingdings"/>
              </a:rPr>
              <a:t></a:t>
            </a:r>
            <a:r>
              <a:rPr b="0" lang="cs-CZ" sz="1000" spc="-1" strike="noStrike">
                <a:solidFill>
                  <a:srgbClr val="000000"/>
                </a:solidFill>
                <a:latin typeface="Calibri"/>
              </a:rPr>
              <a:t> statutár nepřítomen, lze dodat zpětně),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ale pokud nesouhlas partnera, tak se to bude brát v potaz při schvalování…</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Odsouhlasení změn nelze provést se zpětnou platností, výjimkou je odsouhlasení změny začátku realizace projektu nebo těch změn, jejichž příčinu nemohl příjemce ovlivnit.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zor na to, že žádost o podstatnou změnu projektu můžete předložit nejpozději 60 KD před ukončením projektu, v posledních dvou měsících projektu tedy nelze u žádat o podstatné změn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C4F5D732-BA85-4B0B-A739-0AA13F8D6B24}"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3"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body"/>
          </p:nvPr>
        </p:nvSpPr>
        <p:spPr>
          <a:xfrm>
            <a:off x="685440" y="4341600"/>
            <a:ext cx="19740600" cy="1950840"/>
          </a:xfrm>
          <a:prstGeom prst="rect">
            <a:avLst/>
          </a:prstGeom>
          <a:noFill/>
          <a:ln w="0">
            <a:noFill/>
          </a:ln>
        </p:spPr>
        <p:txBody>
          <a:bodyPr anchor="ctr" anchorCtr="1">
            <a:noAutofit/>
          </a:bodyPr>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týkající se rozpočtu jsou všechny změny, které nenaleznete v PpP jako změny nepodstatné. Tedy žádost o podstatnou změnu 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považováno i navýšení finančních prostředků kapitoly Osobních nákladů o více než 15 % celkového objemu této kapitoly v rámci platného rozpočtu.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dále považováno jakékoliv navýšení položek kapitoly Křížové financování.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jakákoliv změna v rozpočtu v kapitole Osobních nákladů, které způsobí přesun limitních hodnot u organizací se stanovenými limity mzdové regulac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odně zdůraznit, že když mají v rozhodnutí limity mzdové regulace, tak pozor na změny v kapitole osobní náklady, jakékoliv přesuny i v rámci kapitoly jsou podstatné!!!!</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DCB9F524-FBF5-446E-BD02-00AC01294DDD}"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4341960"/>
            <a:ext cx="22860000" cy="23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alší změny charakteru PZ, jsou změny týkají se například MI, i když v žádném případě nelze zrušit povinné 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změna začátku nebo ukončení realizace projektu, v případě prodloužení doby realizace projektu není možné navýšit schválené finanční prostřed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arakter PZ mají změny v partnerské smlouvě, které mají charakter podstatných změn, dále je PZ odstoupení partnera v průběhu realizace projektu nebo zapojení nové partnera do projektu, ale to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výjimečných případech může dojít i ke změně projektového účtu, záměr změnit účet opět podléhá souhlasu ze strany poskytovatele. Navíc je příjemce povinen realizaci změny do 5 PD oznámit spolu s doložením kopie smlouvy o zřízení nového bankovního účtu nebo formulář FI a doložení převodu všech finančních prostředků projektu na nový úč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2603174D-5C56-421A-A53B-F40BF11160C8}"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9"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body"/>
          </p:nvPr>
        </p:nvSpPr>
        <p:spPr>
          <a:xfrm>
            <a:off x="685800" y="4341960"/>
            <a:ext cx="25045920" cy="17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v rámci projektů OP VK je založeno na opodstatněnosti a nezastupitelnosti. Partnerství musí zabezpečovat takové aktivity, bez nichž by nebylo dosaženo cílů a MI projektu. Výběr projektů k realizaci je založen na posouzení projektu jako celku včetně opodstatněnosti partnera, tudíž veškeré změny týkající se odstoupení stávajícího nebo přistoupení nového partnera jsou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nesmí být založeno na poskytování administrativních nebo jiných běžných služeb. Partner tedy nesmí být dodavatelem služeb souvisejících činnostmi projektu ani nesmí být poskytovatelem jiných dodávek pro projek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s partnerem společně realizují min. 51 % aktivit projektu, přičemž příjemce by měl realizovat vždy převažující část aktivit pro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21EB5-BA86-4258-A3B0-7B97DC498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8B855-D3D7-4FCE-B9D5-7FB0CA54E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9F574-17FC-4ED0-B22A-A81361677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4709F-81DC-4AA2-A4B9-5C28975CF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660F2-AF5A-4F7B-9EB4-0BC6AE14D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8BC6E-7276-4346-8A5E-9C5026069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30787-2517-4EEE-B1E6-38C507C2B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07DC6-1D0D-48A9-AFB1-0E13AE97C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1993B-F360-42AB-90F7-906B4DF3F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AD821-1182-43E5-94D7-EE364638D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08182-1231-4914-98D6-1383B25F8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CE635-B6FA-43A9-997D-95C309372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9D20-D0C8-4697-9E12-EE4B2735267E}"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comments" Target="../comments/comment9.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57520" y="2909520"/>
            <a:ext cx="7386480" cy="239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ravidla projektového řízení </a:t>
            </a:r>
            <a:br>
              <a:rPr sz="4000"/>
            </a:br>
            <a:br>
              <a:rPr sz="2000"/>
            </a:br>
            <a:r>
              <a:rPr b="1" lang="cs-CZ" sz="2900" spc="-1" strike="noStrike">
                <a:solidFill>
                  <a:srgbClr val="f3912c"/>
                </a:solidFill>
                <a:latin typeface="Calibri"/>
              </a:rPr>
              <a:t>Ing. Ilona Sochůrková</a:t>
            </a:r>
            <a:br>
              <a:rPr sz="2900"/>
            </a:br>
            <a:endParaRPr b="0" lang="en-US" sz="2900" spc="-1" strike="noStrike">
              <a:solidFill>
                <a:srgbClr val="000000"/>
              </a:solidFill>
              <a:latin typeface="Calibri"/>
            </a:endParaRPr>
          </a:p>
        </p:txBody>
      </p:sp>
      <p:pic>
        <p:nvPicPr>
          <p:cNvPr id="49" name="Picture 5" descr=""/>
          <p:cNvPicPr/>
          <p:nvPr/>
        </p:nvPicPr>
        <p:blipFill>
          <a:blip r:embed="rId1"/>
          <a:stretch/>
        </p:blipFill>
        <p:spPr>
          <a:xfrm>
            <a:off x="0" y="2077920"/>
            <a:ext cx="1730520" cy="4780080"/>
          </a:xfrm>
          <a:prstGeom prst="rect">
            <a:avLst/>
          </a:prstGeom>
          <a:ln w="0">
            <a:noFill/>
          </a:ln>
        </p:spPr>
      </p:pic>
      <p:sp>
        <p:nvSpPr>
          <p:cNvPr id="50"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3912c"/>
                </a:solidFill>
                <a:latin typeface="Calibri"/>
              </a:rPr>
              <a:t>Prezentace pro příjemce IPo, kteří se řídí Příručkou pro příjemce fin.podpory z OP VK, verze 3, učinná od 3.10.2009.</a:t>
            </a:r>
            <a:br>
              <a:rPr sz="14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81"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a) Partner s finančním příspěvkem</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b) Partner bez finančního příspěvku</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společná realizace aktivit projektu</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odpovědnost poskytovateli je na příjemci!</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povaha právních vztahů není založena na poskytování služeb</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nesmí být v rozporu s právními předpisy ČR</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82" name="Picture 5" descr=""/>
          <p:cNvPicPr/>
          <p:nvPr/>
        </p:nvPicPr>
        <p:blipFill>
          <a:blip r:embed="rId1"/>
          <a:stretch/>
        </p:blipFill>
        <p:spPr>
          <a:xfrm>
            <a:off x="0" y="2077920"/>
            <a:ext cx="1730520" cy="4780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90840" y="254160"/>
            <a:ext cx="7192800" cy="77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a:t>
            </a:r>
            <a:endParaRPr b="0" lang="en-US" sz="3700" spc="-1" strike="noStrike">
              <a:solidFill>
                <a:srgbClr val="000000"/>
              </a:solidFill>
              <a:latin typeface="Calibri"/>
            </a:endParaRPr>
          </a:p>
        </p:txBody>
      </p:sp>
      <p:sp>
        <p:nvSpPr>
          <p:cNvPr id="84" name="Zástupný symbol pro obsah 7"/>
          <p:cNvSpPr/>
          <p:nvPr/>
        </p:nvSpPr>
        <p:spPr>
          <a:xfrm>
            <a:off x="1785960" y="1355760"/>
            <a:ext cx="6956280" cy="5054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artner s finančním příspěvkem</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samostatný projektový bankovní účet/podúče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ýjimka při proplácení výdajů partnerovi ex-p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dpory = žadatel</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žádost o proplacení výdajů předkládá partner příjemci</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při dokladování a vyúčtování vůči poskytovateli podpory stejné povinnosti jako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vůči poskytovateli podpory povinnosti vyplývající z partnerské smlouv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5" name="Picture 5" descr=""/>
          <p:cNvPicPr/>
          <p:nvPr/>
        </p:nvPicPr>
        <p:blipFill>
          <a:blip r:embed="rId1"/>
          <a:stretch/>
        </p:blipFill>
        <p:spPr>
          <a:xfrm>
            <a:off x="0" y="2077920"/>
            <a:ext cx="1730520" cy="4780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90840" y="317520"/>
            <a:ext cx="7192800" cy="123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 - </a:t>
            </a:r>
            <a:br>
              <a:rPr sz="3700"/>
            </a:br>
            <a:r>
              <a:rPr b="1" lang="cs-CZ" sz="3700" spc="-1" strike="noStrike">
                <a:solidFill>
                  <a:srgbClr val="f3912c"/>
                </a:solidFill>
                <a:latin typeface="Calibri"/>
              </a:rPr>
              <a:t>Partner s finančním příspěvkem</a:t>
            </a:r>
            <a:endParaRPr b="0" lang="en-US" sz="3700" spc="-1" strike="noStrike">
              <a:solidFill>
                <a:srgbClr val="000000"/>
              </a:solidFill>
              <a:latin typeface="Calibri"/>
            </a:endParaRPr>
          </a:p>
        </p:txBody>
      </p:sp>
      <p:sp>
        <p:nvSpPr>
          <p:cNvPr id="87" name="Zástupný symbol pro obsah 7"/>
          <p:cNvSpPr/>
          <p:nvPr/>
        </p:nvSpPr>
        <p:spPr>
          <a:xfrm>
            <a:off x="1785960" y="1808280"/>
            <a:ext cx="6956280" cy="39542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Úhrady mezi příjemcem a partnerem:</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skytne partnerovi část zálohové platby,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artner vyúčtovává způsobilé výdaje za dané MO, příjemce zahrnuje do MZ</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r</a:t>
            </a:r>
            <a:r>
              <a:rPr b="1" lang="cs-CZ" sz="2200" spc="-1" strike="noStrike">
                <a:solidFill>
                  <a:srgbClr val="000000"/>
                </a:solidFill>
                <a:latin typeface="Calibri"/>
              </a:rPr>
              <a:t> </a:t>
            </a:r>
            <a:r>
              <a:rPr b="0" lang="cs-CZ" sz="2200" spc="-1" strike="noStrike">
                <a:solidFill>
                  <a:srgbClr val="000000"/>
                </a:solidFill>
                <a:latin typeface="Calibri"/>
              </a:rPr>
              <a:t>vyúčtovává způsobilé výdaje, ale jejich proplacení nastává až po schválení poskytovatelem podpory</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vinnost partnera vrátit nedočerpané finanční prostředky</a:t>
            </a:r>
            <a:endParaRPr b="0" lang="en-US" sz="2200" spc="-1" strike="noStrike">
              <a:solidFill>
                <a:srgbClr val="000000"/>
              </a:solidFill>
              <a:latin typeface="Arial"/>
            </a:endParaRPr>
          </a:p>
        </p:txBody>
      </p:sp>
      <p:pic>
        <p:nvPicPr>
          <p:cNvPr id="88" name="Picture 5" descr=""/>
          <p:cNvPicPr/>
          <p:nvPr/>
        </p:nvPicPr>
        <p:blipFill>
          <a:blip r:embed="rId1"/>
          <a:stretch/>
        </p:blipFill>
        <p:spPr>
          <a:xfrm>
            <a:off x="0" y="2077920"/>
            <a:ext cx="1730520" cy="4780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90" name="Zástupný symbol pro obsah 7"/>
          <p:cNvSpPr/>
          <p:nvPr/>
        </p:nvSpPr>
        <p:spPr>
          <a:xfrm>
            <a:off x="1655640" y="1290600"/>
            <a:ext cx="6956640" cy="4665600"/>
          </a:xfrm>
          <a:prstGeom prst="rect">
            <a:avLst/>
          </a:prstGeom>
          <a:noFill/>
          <a:ln w="0">
            <a:noFill/>
          </a:ln>
        </p:spPr>
        <p:style>
          <a:lnRef idx="0"/>
          <a:fillRef idx="0"/>
          <a:effectRef idx="0"/>
          <a:fontRef idx="minor"/>
        </p:style>
        <p:txBody>
          <a:bodyPr lIns="0" rIns="0" tIns="0" bIns="0" anchor="t">
            <a:noAutofit/>
          </a:bodyPr>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ůjčování majetku v průběhu realizace projektu</a:t>
            </a:r>
            <a:endParaRPr b="0" lang="en-US" sz="2900" spc="-1" strike="noStrike">
              <a:solidFill>
                <a:srgbClr val="000000"/>
              </a:solidFill>
              <a:latin typeface="Arial"/>
            </a:endParaRPr>
          </a:p>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ařízení a vybavení hrazené příjemcem, užívané partnerem  musí byt inventarizováno a označeno stejně jako zařízení užívané příjemcem.</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ýpůjčky zařízení a vybavení mimo partnerský vztah nejsou možné.</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1" name="Picture 5" descr=""/>
          <p:cNvPicPr/>
          <p:nvPr/>
        </p:nvPicPr>
        <p:blipFill>
          <a:blip r:embed="rId1"/>
          <a:stretch/>
        </p:blipFill>
        <p:spPr>
          <a:xfrm>
            <a:off x="0" y="2077920"/>
            <a:ext cx="1730520" cy="4780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792080" y="1355400"/>
            <a:ext cx="6537240" cy="4816440"/>
          </a:xfrm>
          <a:prstGeom prst="rect">
            <a:avLst/>
          </a:prstGeom>
          <a:noFill/>
          <a:ln w="0">
            <a:noFill/>
          </a:ln>
        </p:spPr>
        <p:txBody>
          <a:bodyPr anchor="t">
            <a:normAutofit/>
          </a:bodyPr>
          <a:p>
            <a:pPr lvl="1" marL="82872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Vypořádání po skončení projektu</a:t>
            </a:r>
            <a:endParaRPr b="0" lang="en-US" sz="29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a) Partner bez finančního příspěvku</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rozdělení zařízení a spotřebního materiálu</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toto zařízení a spotřební materiál nelze převádět partnerům mimo cílový region, pokud se nejedená o podporu cílové skupiny</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kopie převodních listin,</a:t>
            </a:r>
            <a:r>
              <a:rPr b="0" lang="cs-CZ" sz="900" spc="-1" strike="noStrike">
                <a:solidFill>
                  <a:srgbClr val="000000"/>
                </a:solidFill>
                <a:latin typeface="Calibri"/>
              </a:rPr>
              <a:t> </a:t>
            </a:r>
            <a:r>
              <a:rPr b="0" lang="cs-CZ" sz="2200" spc="-1" strike="noStrike">
                <a:solidFill>
                  <a:srgbClr val="000000"/>
                </a:solidFill>
                <a:latin typeface="Calibri"/>
              </a:rPr>
              <a:t>darovacích smluv</a:t>
            </a:r>
            <a:r>
              <a:rPr b="0" lang="cs-CZ" sz="900" spc="-1" strike="noStrike">
                <a:solidFill>
                  <a:srgbClr val="000000"/>
                </a:solidFill>
                <a:latin typeface="Calibri"/>
              </a:rPr>
              <a:t> </a:t>
            </a:r>
            <a:r>
              <a:rPr b="0" lang="cs-CZ" sz="2200" spc="-1" strike="noStrike">
                <a:solidFill>
                  <a:srgbClr val="000000"/>
                </a:solidFill>
                <a:latin typeface="Calibri"/>
              </a:rPr>
              <a:t>předkládá příjemce</a:t>
            </a:r>
            <a:r>
              <a:rPr b="0" lang="cs-CZ" sz="900" spc="-1" strike="noStrike">
                <a:solidFill>
                  <a:srgbClr val="000000"/>
                </a:solidFill>
                <a:latin typeface="Calibri"/>
              </a:rPr>
              <a:t> </a:t>
            </a:r>
            <a:r>
              <a:rPr b="0" lang="cs-CZ" sz="2200" spc="-1" strike="noStrike">
                <a:solidFill>
                  <a:srgbClr val="000000"/>
                </a:solidFill>
                <a:latin typeface="Calibri"/>
              </a:rPr>
              <a:t>se závěrečnou MZ</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b) Partner s finančním příspěvkem </a:t>
            </a: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řízení a spotřební materiál ve vlastnictví</a:t>
            </a:r>
            <a:endParaRPr b="0" lang="en-US" sz="2200" spc="-1" strike="noStrike">
              <a:solidFill>
                <a:srgbClr val="000000"/>
              </a:solidFill>
              <a:latin typeface="Calibri"/>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3" name="Nadpis 5"/>
          <p:cNvSpPr/>
          <p:nvPr/>
        </p:nvSpPr>
        <p:spPr>
          <a:xfrm>
            <a:off x="1720800" y="317520"/>
            <a:ext cx="7021440" cy="64944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artnerská smlouva</a:t>
            </a:r>
            <a:endParaRPr b="0" lang="en-US" sz="4000" spc="-1" strike="noStrike">
              <a:solidFill>
                <a:srgbClr val="000000"/>
              </a:solidFill>
              <a:latin typeface="Arial"/>
            </a:endParaRPr>
          </a:p>
        </p:txBody>
      </p:sp>
      <p:pic>
        <p:nvPicPr>
          <p:cNvPr id="94"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6"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0" lang="cs-CZ" sz="2200" spc="-1" strike="noStrike">
                <a:solidFill>
                  <a:srgbClr val="000000"/>
                </a:solidFill>
                <a:latin typeface="Calibri"/>
              </a:rPr>
              <a:t>- </a:t>
            </a:r>
            <a:r>
              <a:rPr b="1" lang="cs-CZ" sz="2200" spc="-1" strike="noStrike">
                <a:solidFill>
                  <a:srgbClr val="000000"/>
                </a:solidFill>
                <a:latin typeface="Calibri"/>
              </a:rPr>
              <a:t>souhlas partnerů </a:t>
            </a:r>
            <a:r>
              <a:rPr b="0" lang="cs-CZ" sz="2200" spc="-1" strike="noStrike">
                <a:solidFill>
                  <a:srgbClr val="000000"/>
                </a:solidFill>
                <a:latin typeface="Calibri"/>
              </a:rPr>
              <a:t>ještě před podáním žádosti o podstatnou změnu </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 případě neposkytnutí souhlasu je nutné zdůvodnění</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Odstoupení partnera</a:t>
            </a:r>
            <a:endParaRPr b="0" lang="en-US" sz="29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a) Zapojen pouze 1 partner:</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1. ukončení projektu v jiném režimu</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2. partner naplnil svoji úlohu v projektu (pokračování bez jeho účasti)</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3. příjemce se zaváže převzít zbývající závazky partnera</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b) Zapojeni min. 2 partneři: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ouzení žádosti o podstatnou změnu v projektu</a:t>
            </a:r>
            <a:endParaRPr b="0" lang="en-US" sz="2200" spc="-1" strike="noStrike">
              <a:solidFill>
                <a:srgbClr val="000000"/>
              </a:solidFill>
              <a:latin typeface="Arial"/>
            </a:endParaRPr>
          </a:p>
          <a:p>
            <a:pPr>
              <a:lnSpc>
                <a:spcPct val="100000"/>
              </a:lnSpc>
              <a:spcAft>
                <a:spcPts val="1287"/>
              </a:spcAf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97" name="Picture 5" descr=""/>
          <p:cNvPicPr/>
          <p:nvPr/>
        </p:nvPicPr>
        <p:blipFill>
          <a:blip r:embed="rId1"/>
          <a:stretch/>
        </p:blipFill>
        <p:spPr>
          <a:xfrm>
            <a:off x="0" y="2077920"/>
            <a:ext cx="1730520" cy="478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9"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ojení nového partnera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Ve výjimečných a dostatečně odůvodněných případech!</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transformace subjektu partnera a vznik nové organizace,</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výměna stávajícího partnera za nového při zachování všech povinností a závazků  </a:t>
            </a:r>
            <a:endParaRPr b="0" lang="en-US" sz="2200" spc="-1" strike="noStrike">
              <a:solidFill>
                <a:srgbClr val="000000"/>
              </a:solidFill>
              <a:latin typeface="Arial"/>
            </a:endParaRPr>
          </a:p>
          <a:p>
            <a:pPr>
              <a:lnSpc>
                <a:spcPct val="100000"/>
              </a:lnSpc>
              <a:spcAft>
                <a:spcPts val="5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900" spc="-1" strike="noStrike">
                <a:solidFill>
                  <a:srgbClr val="f3912c"/>
                </a:solidFill>
                <a:latin typeface="Calibri"/>
              </a:rPr>
              <a:t>Změna smlouvy s partnerem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Calibri"/>
              </a:rPr>
              <a:t>- </a:t>
            </a:r>
            <a:r>
              <a:rPr b="0" lang="cs-CZ" sz="2200" spc="-1" strike="noStrike">
                <a:solidFill>
                  <a:srgbClr val="000000"/>
                </a:solidFill>
                <a:latin typeface="Calibri"/>
              </a:rPr>
              <a:t>změna partnerské smlouvy charakteru podstatné změny </a:t>
            </a:r>
            <a:r>
              <a:rPr b="0" lang="cs-CZ" sz="2200" spc="-1" strike="noStrike">
                <a:solidFill>
                  <a:srgbClr val="000000"/>
                </a:solidFill>
                <a:latin typeface="Wingdings"/>
                <a:ea typeface="Wingdings"/>
              </a:rPr>
              <a:t></a:t>
            </a:r>
            <a:r>
              <a:rPr b="0" lang="cs-CZ" sz="2200" spc="-1" strike="noStrike">
                <a:solidFill>
                  <a:srgbClr val="000000"/>
                </a:solidFill>
                <a:latin typeface="Calibri"/>
              </a:rPr>
              <a:t>žádost o podstatnou změnu + návrh nové smlouvy</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100" name="Picture 5" descr=""/>
          <p:cNvPicPr/>
          <p:nvPr/>
        </p:nvPicPr>
        <p:blipFill>
          <a:blip r:embed="rId1"/>
          <a:stretch/>
        </p:blipFill>
        <p:spPr>
          <a:xfrm>
            <a:off x="0" y="2077920"/>
            <a:ext cx="1730520" cy="4780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20800" y="771120"/>
            <a:ext cx="5486400" cy="20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Děkuji za pozornost</a:t>
            </a:r>
            <a:br>
              <a:rPr sz="2000"/>
            </a:br>
            <a:endParaRPr b="0" lang="en-US" sz="4000" spc="-1" strike="noStrike">
              <a:solidFill>
                <a:srgbClr val="000000"/>
              </a:solidFill>
              <a:latin typeface="Calibri"/>
            </a:endParaRPr>
          </a:p>
        </p:txBody>
      </p:sp>
      <p:sp>
        <p:nvSpPr>
          <p:cNvPr id="102" name="PlaceHolder 2"/>
          <p:cNvSpPr>
            <a:spLocks noGrp="1"/>
          </p:cNvSpPr>
          <p:nvPr>
            <p:ph/>
          </p:nvPr>
        </p:nvSpPr>
        <p:spPr>
          <a:xfrm>
            <a:off x="1792080" y="3363480"/>
            <a:ext cx="6862680" cy="28083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Kontakt:</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Ing. Ilona Sochůrková</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pověřena vedením oddělení</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Odbor CERA</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Ministerstvo školství, mládeže a tělovýchovy ČR</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email: ilona.sochurkova@msmt.cz</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p:txBody>
      </p:sp>
      <p:pic>
        <p:nvPicPr>
          <p:cNvPr id="103"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9084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projektu</a:t>
            </a:r>
            <a:endParaRPr b="0" lang="en-US" sz="3600" spc="-1" strike="noStrike">
              <a:solidFill>
                <a:srgbClr val="000000"/>
              </a:solidFill>
              <a:latin typeface="Calibri"/>
            </a:endParaRPr>
          </a:p>
        </p:txBody>
      </p:sp>
      <p:sp>
        <p:nvSpPr>
          <p:cNvPr id="52" name="Zástupný symbol pro obsah 7"/>
          <p:cNvSpPr/>
          <p:nvPr/>
        </p:nvSpPr>
        <p:spPr>
          <a:xfrm>
            <a:off x="1720800" y="1938240"/>
            <a:ext cx="6956640" cy="44719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epodstatné změn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ovlivní dosažení cílů a monitorovacích indikátor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oznamují se v monitorovací zprávě</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dstatné změny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ění charakter nebo obsah schváleného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doplňují právní ak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dléhají schvál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3" name="Picture 5" descr="C:\Documents and Settings\stojdlovam\Local Settings\Temporary Internet Files\Content.IE5\N001I13E\MCj03843920000[1].wmf"/>
          <p:cNvPicPr/>
          <p:nvPr/>
        </p:nvPicPr>
        <p:blipFill>
          <a:blip r:embed="rId1"/>
          <a:stretch/>
        </p:blipFill>
        <p:spPr>
          <a:xfrm>
            <a:off x="7423200" y="966960"/>
            <a:ext cx="1573200" cy="1693800"/>
          </a:xfrm>
          <a:prstGeom prst="rect">
            <a:avLst/>
          </a:prstGeom>
          <a:ln w="0">
            <a:noFill/>
          </a:ln>
        </p:spPr>
      </p:pic>
      <p:pic>
        <p:nvPicPr>
          <p:cNvPr id="54" name="Picture 5" descr=""/>
          <p:cNvPicPr/>
          <p:nvPr/>
        </p:nvPicPr>
        <p:blipFill>
          <a:blip r:embed="rId2"/>
          <a:stretch/>
        </p:blipFill>
        <p:spPr>
          <a:xfrm>
            <a:off x="0" y="2077920"/>
            <a:ext cx="1730520" cy="4780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rozpočtu</a:t>
            </a:r>
            <a:endParaRPr b="0" lang="en-US" sz="3600" spc="-1" strike="noStrike">
              <a:solidFill>
                <a:srgbClr val="000000"/>
              </a:solidFill>
              <a:latin typeface="Calibri"/>
            </a:endParaRPr>
          </a:p>
        </p:txBody>
      </p:sp>
      <p:sp>
        <p:nvSpPr>
          <p:cNvPr id="56"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zor:</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celkový rozpočet!</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kapitoly nebo položky krácené VK!</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překročení závazných limitů!</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začátek nové nebo zrušení stávající klíčové aktivity!</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být zdůvodněny  a doloženy novým rozpočtem!</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7" name="Picture 5" descr=""/>
          <p:cNvPicPr/>
          <p:nvPr/>
        </p:nvPicPr>
        <p:blipFill>
          <a:blip r:embed="rId1"/>
          <a:stretch/>
        </p:blipFill>
        <p:spPr>
          <a:xfrm>
            <a:off x="0" y="2077920"/>
            <a:ext cx="1730520" cy="4780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Nepodstatné změny</a:t>
            </a:r>
            <a:endParaRPr b="0" lang="en-US" sz="3600" spc="-1" strike="noStrike">
              <a:solidFill>
                <a:srgbClr val="000000"/>
              </a:solidFill>
              <a:latin typeface="Calibri"/>
            </a:endParaRPr>
          </a:p>
        </p:txBody>
      </p:sp>
      <p:sp>
        <p:nvSpPr>
          <p:cNvPr id="59" name="Zástupný symbol pro obsah 7"/>
          <p:cNvSpPr/>
          <p:nvPr/>
        </p:nvSpPr>
        <p:spPr>
          <a:xfrm>
            <a:off x="1720800" y="1160640"/>
            <a:ext cx="6956640" cy="486072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položkami kapitol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 a Křížové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Přesun prostředků mezi kapitolami do výše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Vytvoření nové nebo zrušení stávající položky.</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0" name="Picture 5" descr=""/>
          <p:cNvPicPr/>
          <p:nvPr/>
        </p:nvPicPr>
        <p:blipFill>
          <a:blip r:embed="rId1"/>
          <a:stretch/>
        </p:blipFill>
        <p:spPr>
          <a:xfrm>
            <a:off x="0" y="2077920"/>
            <a:ext cx="1730520" cy="478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90840" y="253800"/>
            <a:ext cx="719280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300" spc="-1" strike="noStrike">
                <a:solidFill>
                  <a:srgbClr val="f3912c"/>
                </a:solidFill>
                <a:latin typeface="Calibri"/>
              </a:rPr>
              <a:t>Nepodstatné změny</a:t>
            </a:r>
            <a:endParaRPr b="0" lang="en-US" sz="3300" spc="-1" strike="noStrike">
              <a:solidFill>
                <a:srgbClr val="000000"/>
              </a:solidFill>
              <a:latin typeface="Calibri"/>
            </a:endParaRPr>
          </a:p>
        </p:txBody>
      </p:sp>
      <p:sp>
        <p:nvSpPr>
          <p:cNvPr id="62" name="Zástupný symbol pro obsah 7"/>
          <p:cNvSpPr/>
          <p:nvPr/>
        </p:nvSpPr>
        <p:spPr>
          <a:xfrm>
            <a:off x="1785960" y="1355760"/>
            <a:ext cx="695628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900" spc="-1" strike="noStrike">
                <a:solidFill>
                  <a:srgbClr val="f3912c"/>
                </a:solidFill>
                <a:latin typeface="Calibri"/>
              </a:rPr>
              <a:t>Např.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Změna harmonogramu realizace </a:t>
            </a:r>
            <a:r>
              <a:rPr b="0" lang="cs-CZ" sz="2200" spc="-1" strike="noStrike">
                <a:solidFill>
                  <a:srgbClr val="000000"/>
                </a:solidFill>
                <a:latin typeface="Calibri"/>
              </a:rPr>
              <a:t>(posun K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ch údajů,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 osoby, manažera projektu,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uditora,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názvu subjektu, ve statutu plátce DPH,</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statutárního zástupce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ne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Dřívější ukončení projektu při ukončení všech plánovaných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3" name="Picture 5" descr=""/>
          <p:cNvPicPr/>
          <p:nvPr/>
        </p:nvPicPr>
        <p:blipFill>
          <a:blip r:embed="rId1"/>
          <a:stretch/>
        </p:blipFill>
        <p:spPr>
          <a:xfrm>
            <a:off x="0" y="2077920"/>
            <a:ext cx="1730520" cy="4780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65" name="Zástupný symbol pro obsah 7"/>
          <p:cNvSpPr/>
          <p:nvPr/>
        </p:nvSpPr>
        <p:spPr>
          <a:xfrm>
            <a:off x="1720800" y="1160640"/>
            <a:ext cx="6956640" cy="4730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Zástupný symbol pro obsah 7"/>
          <p:cNvSpPr/>
          <p:nvPr/>
        </p:nvSpPr>
        <p:spPr>
          <a:xfrm>
            <a:off x="1720800" y="1160640"/>
            <a:ext cx="7193160" cy="499104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endParaRPr b="0" lang="en-US" sz="29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sp>
        <p:nvSpPr>
          <p:cNvPr id="67" name="Zástupný symbol pro obsah 7"/>
          <p:cNvSpPr/>
          <p:nvPr/>
        </p:nvSpPr>
        <p:spPr>
          <a:xfrm>
            <a:off x="1851120" y="1095480"/>
            <a:ext cx="7192800" cy="48607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1" lang="cs-CZ" sz="2900" spc="-1" strike="noStrike">
                <a:solidFill>
                  <a:srgbClr val="f3912c"/>
                </a:solidFill>
                <a:latin typeface="Calibri"/>
              </a:rPr>
              <a:t>Žádost o podstatnou změnu</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www.msmt.cz/strukturalni-fondy/monitorovaci zprava-a-jeji-prilohy-platna-od-1-6-2009</a:t>
            </a:r>
            <a:endParaRPr b="0" lang="en-US" sz="2200" spc="-1" strike="noStrike">
              <a:solidFill>
                <a:srgbClr val="000000"/>
              </a:solidFill>
              <a:latin typeface="Arial"/>
            </a:endParaRPr>
          </a:p>
          <a:p>
            <a:pPr>
              <a:lnSpc>
                <a:spcPct val="93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zasílá se v písemné podobě příslušné/mu P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obsahovat popis změny, zdůvodnění, souhlas partnerů, další dokument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uzuje příslušný pracovník MŠM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Lhůt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30 pracovních dnů na posouz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5 pracovních dnů na vyrozumě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max. 60 kalendářních dnů před koncem projektu! </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68" name="Picture 5" descr=""/>
          <p:cNvPicPr/>
          <p:nvPr/>
        </p:nvPicPr>
        <p:blipFill>
          <a:blip r:embed="rId1"/>
          <a:stretch/>
        </p:blipFill>
        <p:spPr>
          <a:xfrm>
            <a:off x="0" y="2077920"/>
            <a:ext cx="1730520" cy="478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0" name="Zástupný symbol pro obsah 7"/>
          <p:cNvSpPr/>
          <p:nvPr/>
        </p:nvSpPr>
        <p:spPr>
          <a:xfrm>
            <a:off x="1720800" y="1095480"/>
            <a:ext cx="7193160" cy="499104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kapitolami přesahující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Navýšení prostředků kapitoly Osobní náklady o více než 15 %.</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Navýšení položek Křížového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4) Jakékoliv změny v kapitole Osobní náklady u organizací s limity mzdové regulace.</a:t>
            </a:r>
            <a:endParaRPr b="0" lang="en-US" sz="2200" spc="-1" strike="noStrike">
              <a:solidFill>
                <a:srgbClr val="000000"/>
              </a:solidFill>
              <a:latin typeface="Arial"/>
            </a:endParaRPr>
          </a:p>
          <a:p>
            <a:pPr marL="414360" indent="-414360">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1" name="Picture 5" descr=""/>
          <p:cNvPicPr/>
          <p:nvPr/>
        </p:nvPicPr>
        <p:blipFill>
          <a:blip r:embed="rId1"/>
          <a:stretch/>
        </p:blipFill>
        <p:spPr>
          <a:xfrm>
            <a:off x="0" y="2077920"/>
            <a:ext cx="1730520" cy="4780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3" name="Zástupný symbol pro obsah 7"/>
          <p:cNvSpPr/>
          <p:nvPr/>
        </p:nvSpPr>
        <p:spPr>
          <a:xfrm>
            <a:off x="1655640" y="966960"/>
            <a:ext cx="7193160" cy="511956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Zástupný symbol pro obsah 7"/>
          <p:cNvSpPr/>
          <p:nvPr/>
        </p:nvSpPr>
        <p:spPr>
          <a:xfrm>
            <a:off x="1655640" y="836640"/>
            <a:ext cx="7193160" cy="524988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apř.</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a:t>
            </a:r>
            <a:r>
              <a:rPr b="1" lang="cs-CZ" sz="2200" spc="-1" strike="noStrike">
                <a:solidFill>
                  <a:srgbClr val="000000"/>
                </a:solidFill>
                <a:latin typeface="Calibri"/>
              </a:rPr>
              <a:t> monitorovacích indikátorů</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rušení povinných MI není možné!)</a:t>
            </a:r>
            <a:r>
              <a:rPr b="1"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t>
            </a:r>
            <a:r>
              <a:rPr b="1" lang="cs-CZ" sz="2200" spc="-1" strike="noStrike">
                <a:solidFill>
                  <a:srgbClr val="000000"/>
                </a:solidFill>
                <a:latin typeface="Calibri"/>
              </a:rPr>
              <a:t>data začátku/ukončení realizace projektu</a:t>
            </a:r>
            <a:r>
              <a:rPr b="0"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t>
            </a:r>
            <a:r>
              <a:rPr b="1" lang="cs-CZ" sz="2200" spc="-1" strike="noStrike">
                <a:solidFill>
                  <a:srgbClr val="000000"/>
                </a:solidFill>
                <a:latin typeface="Calibri"/>
              </a:rPr>
              <a:t> Odstoupení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pojení nového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říjemce (transformace sub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ávní formy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ojektového účtu (oznámení do 5 prac. dn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5" name="Picture 5" descr=""/>
          <p:cNvPicPr/>
          <p:nvPr/>
        </p:nvPicPr>
        <p:blipFill>
          <a:blip r:embed="rId1"/>
          <a:stretch/>
        </p:blipFill>
        <p:spPr>
          <a:xfrm>
            <a:off x="0" y="2077920"/>
            <a:ext cx="1730520" cy="478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20800" y="38232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tví</a:t>
            </a:r>
            <a:endParaRPr b="0" lang="en-US" sz="3600" spc="-1" strike="noStrike">
              <a:solidFill>
                <a:srgbClr val="000000"/>
              </a:solidFill>
              <a:latin typeface="Calibri"/>
            </a:endParaRPr>
          </a:p>
        </p:txBody>
      </p:sp>
      <p:sp>
        <p:nvSpPr>
          <p:cNvPr id="77" name="Zástupný symbol pro obsah 7"/>
          <p:cNvSpPr/>
          <p:nvPr/>
        </p:nvSpPr>
        <p:spPr>
          <a:xfrm>
            <a:off x="1728720" y="1587600"/>
            <a:ext cx="695664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Hlavní princip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nezastupitel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opodstatně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nesmí být </a:t>
            </a:r>
            <a:r>
              <a:rPr b="1" lang="cs-CZ" sz="2200" spc="-1" strike="noStrike">
                <a:solidFill>
                  <a:srgbClr val="000000"/>
                </a:solidFill>
                <a:latin typeface="Calibri"/>
              </a:rPr>
              <a:t>dodavatele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říjemce + partner realizují min. 51 %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rPr>
              <a:t>  </a:t>
            </a:r>
            <a:r>
              <a:rPr b="0" lang="cs-CZ" sz="2200" spc="-1" strike="noStrike">
                <a:solidFill>
                  <a:srgbClr val="000000"/>
                </a:solidFill>
                <a:latin typeface="Calibri"/>
              </a:rPr>
              <a:t>- příjemce realizuje převažující část aktivi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realizované projekty mají neziskový charakter</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Calibri"/>
              </a:rPr>
              <a:t>.</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78" name="Picture 5" descr="C:\Documents and Settings\stojdlovam\Local Settings\Temporary Internet Files\Content.IE5\6447J1LD\MCj04380810000[1].wmf"/>
          <p:cNvPicPr/>
          <p:nvPr/>
        </p:nvPicPr>
        <p:blipFill>
          <a:blip r:embed="rId1"/>
          <a:stretch/>
        </p:blipFill>
        <p:spPr>
          <a:xfrm>
            <a:off x="6451560" y="1031760"/>
            <a:ext cx="1695600" cy="1255680"/>
          </a:xfrm>
          <a:prstGeom prst="rect">
            <a:avLst/>
          </a:prstGeom>
          <a:ln w="0">
            <a:noFill/>
          </a:ln>
        </p:spPr>
      </p:pic>
      <p:pic>
        <p:nvPicPr>
          <p:cNvPr id="79" name="Picture 5" descr=""/>
          <p:cNvPicPr/>
          <p:nvPr/>
        </p:nvPicPr>
        <p:blipFill>
          <a:blip r:embed="rId2"/>
          <a:stretch/>
        </p:blipFill>
        <p:spPr>
          <a:xfrm>
            <a:off x="0" y="2077920"/>
            <a:ext cx="1730520" cy="478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4:01:09Z</dcterms:created>
  <dc:creator>Ilona Sochůrková</dc:creator>
  <dc:description/>
  <dc:language>en-US</dc:language>
  <cp:lastModifiedBy>ugh</cp:lastModifiedBy>
  <dcterms:modified xsi:type="dcterms:W3CDTF">2009-12-09T17:16:56Z</dcterms:modified>
  <cp:revision>4</cp:revision>
  <dc:subject/>
  <dc:title>Pravidla projektového řízení   Ing. Ilona Sochůrková</dc:title>
</cp:coreProperties>
</file>