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11.12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FFDD-347E-47A2-94AB-7C4308FFB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4E018D04-9127-49F1-B587-00BC3FF4E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DF04F223-90A3-49E1-BCDE-8CC8B164A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E0FA7EFF-C5B9-4A02-9F8F-414243364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1CB26758-B8D0-401F-8596-718DD684F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AB66ABE2-12B8-436E-9905-57FCF9FA0D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2D092AFA-0822-4AC3-A930-61B497364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C3FEC838-210A-4B44-9C8F-23B7D97B6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6CC00E4D-F0ED-4B21-8920-F6DB7E687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ání projektu – též včasná identifikace rizik a zabránění nesrovnalostem  - ale 6 měsíců je dlouhá do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2F8B16B9-4267-4DFA-9A09-054DD5740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24BFACC2-56CC-4D67-A9F0-CE15131E0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9AA767B4-DC77-4054-9193-DBE09F5AA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vím zda to oranžové stále platí!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poskytnutí informací – hrozba kontroly na míst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E6C4176C-2D97-4AD4-90D7-F86470BA9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0224824D-E49D-4441-B6D0-8817F6EFC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619C-1506-49AE-B4F3-7149FC14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0293-7535-4879-A659-983CA34C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CCDD-AE15-4BA2-81E7-8CADCC545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500E-7DB6-4CD6-BCC9-3CDC00AD0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6DAF-6E96-4337-ABD5-4645D185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8327-EB65-4D83-A440-F62EB61F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917D-F33D-41F2-BCCB-2DD96208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F5BF-62CA-4EBB-A23D-E6ADBD80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0071-20E8-4E54-B498-C8A19299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71A8-AB81-4B3F-B6B5-3A48CFC9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D9C6-DB70-4D04-9EB5-A3CF6BC9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92D2-126F-4219-B88B-6AC422EB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7236-5ED9-4B00-8B81-0C2883C32BB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marie.kaufner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pro-zadatel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7160" y="642960"/>
            <a:ext cx="6957720" cy="466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avidla monitorování</a:t>
            </a:r>
            <a:br>
              <a:rPr sz="4800"/>
            </a:br>
            <a:br>
              <a:rPr sz="3600"/>
            </a:br>
            <a:br>
              <a:rPr sz="3600"/>
            </a:br>
            <a:r>
              <a:rPr b="1" lang="cs-CZ" sz="2500" spc="-1" strike="noStrike">
                <a:solidFill>
                  <a:srgbClr val="f3912c"/>
                </a:solidFill>
                <a:latin typeface="Calibri"/>
              </a:rPr>
              <a:t>Ing. Marie Kaufnerová</a:t>
            </a:r>
            <a:br>
              <a:rPr sz="2500"/>
            </a:br>
            <a:br>
              <a:rPr sz="2500"/>
            </a:br>
            <a:r>
              <a:rPr b="1" lang="cs-CZ" sz="1600" spc="-1" strike="noStrike">
                <a:solidFill>
                  <a:srgbClr val="f3912c"/>
                </a:solidFill>
                <a:latin typeface="Calibri"/>
              </a:rPr>
              <a:t>Prezentace pro příjemce IPo, kteří se řídí Příručkou pro příjemce fin.podpory z OP VK, verze 3, učinná od 3.10.2009.</a:t>
            </a:r>
            <a:br>
              <a:rPr sz="1600"/>
            </a:br>
            <a:br>
              <a:rPr sz="3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0" name="Nadpis 1"/>
          <p:cNvSpPr/>
          <p:nvPr/>
        </p:nvSpPr>
        <p:spPr>
          <a:xfrm>
            <a:off x="5788080" y="62150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100" spc="-1" strike="noStrike">
                <a:solidFill>
                  <a:srgbClr val="f5f4ed"/>
                </a:solidFill>
                <a:latin typeface="Calibri"/>
              </a:rPr>
              <a:t>Praha 11. 12.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Nadpis 1"/>
          <p:cNvSpPr/>
          <p:nvPr/>
        </p:nvSpPr>
        <p:spPr>
          <a:xfrm>
            <a:off x="5788080" y="585792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100" spc="-1" strike="noStrike">
                <a:solidFill>
                  <a:srgbClr val="f5f4ed"/>
                </a:solidFill>
                <a:latin typeface="Calibri"/>
              </a:rPr>
              <a:t>Praha 11. 12.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Zástupný symbol pro obsah 7" descr=""/>
          <p:cNvPicPr/>
          <p:nvPr/>
        </p:nvPicPr>
        <p:blipFill>
          <a:blip r:embed="rId1"/>
          <a:stretch/>
        </p:blipFill>
        <p:spPr>
          <a:xfrm>
            <a:off x="1420920" y="506520"/>
            <a:ext cx="7375320" cy="4522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4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Zástupný symbol pro obsah 7"/>
          <p:cNvSpPr/>
          <p:nvPr/>
        </p:nvSpPr>
        <p:spPr>
          <a:xfrm>
            <a:off x="1720800" y="577800"/>
            <a:ext cx="6956640" cy="60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Monitorovací zpráva o udržitelnost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Žadatel specifikuje aktivity, které povedou k udržitelnosti projektu a které jsou následně posuzovány hodnotiteli a výběrovou komisí. K udržení těchto výstupů je zavázán Rozhodnut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Příjemce dokládá udržitelnost projektu monitorovací zprávou jednou za rok nejpozději do 2 měsíců od uplynutí  ročního monitorovacího obdob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Nesplnění povinnosti udržitelnosti je porušením rozpočtové kázně, za kterou může být udělena sankce až do výše poskytnuté dot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:\Documents and Settings\gotzv\Local Settings\Temporary Internet Files\Content.IE5\DBCR952T\MCj02155480000[1].wmf"/>
          <p:cNvPicPr/>
          <p:nvPr/>
        </p:nvPicPr>
        <p:blipFill>
          <a:blip r:embed="rId1"/>
          <a:stretch/>
        </p:blipFill>
        <p:spPr>
          <a:xfrm>
            <a:off x="7429680" y="4929120"/>
            <a:ext cx="1550880" cy="1568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8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ontroly, audit, san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ástupný symbol pro obsah 7"/>
          <p:cNvSpPr/>
          <p:nvPr/>
        </p:nvSpPr>
        <p:spPr>
          <a:xfrm>
            <a:off x="1655640" y="1095480"/>
            <a:ext cx="695664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Formy k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Administrativní kontroly projektu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formou pravidelných monitorovacích zpráv; probíhá na pracovišti poskytovate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Kontroly na místě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formou veřejnoprávní kontroly podle zák. č. 320/2001 Sb. o finanční kontrole ve veřejné správě   a zákona č.  552/1991 Sb. O státní kontrole, v souladu s nařízením rady EK č. 1083/2006 o obecných ustanoveních o Evropském fondu pro regionální rozvoj, Evropském sociálním fondu a Fondu soudrž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2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ontroly, audit, san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obsah 7"/>
          <p:cNvSpPr/>
          <p:nvPr/>
        </p:nvSpPr>
        <p:spPr>
          <a:xfrm>
            <a:off x="1655640" y="1744560"/>
            <a:ext cx="6956640" cy="37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Nesrovnalosti při realizac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Jakékoliv porušení smluvních podmínek stanovených v právním aktu či stanovených v příručce pro příjemce dotace nebo v nařízeních EK týkajících se čerpání finančních prostředk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skytovatel dotace může uložit sankce, které jsou uvedeny v právním a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3" descr="C:\Documents and Settings\gotzv\Local Settings\Temporary Internet Files\Content.IE5\LUHYZSFQ\MCj04241980000[1].wmf"/>
          <p:cNvPicPr/>
          <p:nvPr/>
        </p:nvPicPr>
        <p:blipFill>
          <a:blip r:embed="rId1"/>
          <a:stretch/>
        </p:blipFill>
        <p:spPr>
          <a:xfrm>
            <a:off x="6354720" y="4919760"/>
            <a:ext cx="1919160" cy="1231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7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ontroly, audit, san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ástupný symbol pro obsah 7"/>
          <p:cNvSpPr/>
          <p:nvPr/>
        </p:nvSpPr>
        <p:spPr>
          <a:xfrm>
            <a:off x="1655640" y="1744560"/>
            <a:ext cx="6956640" cy="42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Sank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f0"/>
                </a:solidFill>
                <a:latin typeface="Calibri"/>
              </a:rPr>
              <a:t>5%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e všech proplacených prostředků v případě neplnění jakéhokoliv monitorovacího indikátoru výsledku nebo výstupu o 10% - 2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f0"/>
                </a:solidFill>
                <a:latin typeface="Calibri"/>
              </a:rPr>
              <a:t>25%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e všech proplacených prostředků v případě neplnění jakéhokoliv indikátoru výsledku nebo výstupu o 25% - 5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f0"/>
                </a:solidFill>
                <a:latin typeface="Calibri"/>
              </a:rPr>
              <a:t>100%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 Odstoupení od právního aktu v případě neplnění jakéhokoliv indikátoru výsledku nebo výstupu o více jak 5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1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obsah 7"/>
          <p:cNvSpPr/>
          <p:nvPr/>
        </p:nvSpPr>
        <p:spPr>
          <a:xfrm>
            <a:off x="1655640" y="382680"/>
            <a:ext cx="695664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Audi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U všech projektů s podporou nad 3 miliony Kč audit autorizovanou firmou (zápis v seznamu auditorů vedeným Komorou auditorů ČR dle zákona č. 93/2009 Sb. O auditorech v platném zně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Audit hodnotí stav projektu v auditovaném období; může být započat již v době realizace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Audit se týká jak projektového účetnictví příjemce, tak projektového účetnictví partnerů s finančním příspěvkem (ověřuje správnost a úplnost zaúčtování, způsobilost výdajů, zhodnotí postup zakázek, ověření souladu s platným rozpočtem projektu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Výdaje na nekvalitní audit s chybami nemusí poskytovatel uznat za způsobilý výdaj a může si vyžádat nový</a:t>
            </a: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C:\Documents and Settings\gotzv\Local Settings\Temporary Internet Files\Content.IE5\LUHYZSFQ\MCBD19977_0000[1].wmf"/>
          <p:cNvPicPr/>
          <p:nvPr/>
        </p:nvPicPr>
        <p:blipFill>
          <a:blip r:embed="rId1"/>
          <a:stretch/>
        </p:blipFill>
        <p:spPr>
          <a:xfrm>
            <a:off x="6643800" y="415800"/>
            <a:ext cx="1428480" cy="892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5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Archiv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obsah 7"/>
          <p:cNvSpPr/>
          <p:nvPr/>
        </p:nvSpPr>
        <p:spPr>
          <a:xfrm>
            <a:off x="1655640" y="1031760"/>
            <a:ext cx="6956640" cy="47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Archivace v listinné i el. podobě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 archivaci je příjemce i partneři zavázáni v právním aktu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in. do roku 2025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lady na archivaci po ukončení realizace projektu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nejsou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způsobilé výdaje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rchivace se řídí zákonem č. 563/199 Sb. o účetnictví, č. 235/2004 Sb. o DPH, č. 589/1992 Sb. o pojistném na soc. zabezpečení a příspěvku na SPZ, č. 592/1992 Sb. o pojistném a všeobecné zdravotní pojištění, č. 499/2004 Sb. O archivnictví a spisové službě a vyhláškami k tomuto zákonu č. 645/2004 Sb. a č. 646/2004 Sb. O podrobnostech výkonu spisové služ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9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440" y="577800"/>
            <a:ext cx="5486400" cy="41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a41d"/>
                </a:solidFill>
                <a:latin typeface="Calibri"/>
              </a:rPr>
              <a:t>ARCHIV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čet dokumentů a výstupů projektu, které podléhají archivaci  -  kapitola 12.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dmínk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ajistit trvalost zápisů písemných či elektronických po celou dobu archivace tj. do roku 202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Scany mizejících tisků, zálohovaní dat na vhodná média aj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2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20800" y="771120"/>
            <a:ext cx="5486400" cy="20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080" y="2716200"/>
            <a:ext cx="68626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ng. Marie Kaufnerov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jektový manaž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bor C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mail: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arie.kaufnerova@msmt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elefon: 234 814 23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6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obsah 7"/>
          <p:cNvSpPr/>
          <p:nvPr/>
        </p:nvSpPr>
        <p:spPr>
          <a:xfrm>
            <a:off x="1655640" y="1095480"/>
            <a:ext cx="695664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Monitorování projekt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ledování průběhu realizace a efektivní využití finančních prostředků projektu v souladu s cíli OP V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dklad pro kontroly a aud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běr dat o aktivitách a dosažených hodnotách 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louží též k včasné identifikaci rizik a zabránění nesrovnalo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gotzv\Local Settings\Temporary Internet Files\Content.IE5\DBCR952T\MCj02953490000[1].wmf"/>
          <p:cNvPicPr/>
          <p:nvPr/>
        </p:nvPicPr>
        <p:blipFill>
          <a:blip r:embed="rId1"/>
          <a:stretch/>
        </p:blipFill>
        <p:spPr>
          <a:xfrm>
            <a:off x="6580080" y="4595760"/>
            <a:ext cx="1576440" cy="1414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5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655280" y="1873080"/>
            <a:ext cx="719316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becně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Formuláře MZ včetně povinných příloh na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smt.cz/strukturalni-fondy/pro-zadate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depsaná statutárním zástupcem či pověřenou osobou – 1 ks originá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slat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 poštou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adresu Karmelitská 7, 118 12 Praha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ebo donést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osobně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na odbor CERA – Křižíkova 34, Corso IIa, Praha – Karlín, 3. pat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Údaje na obálce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adre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méno přiděleného projektového manažer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registrační číslo projekt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známení: „Neotvírat – Monitorovací zpráva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bdélník 4"/>
          <p:cNvSpPr/>
          <p:nvPr/>
        </p:nvSpPr>
        <p:spPr>
          <a:xfrm>
            <a:off x="1655640" y="317520"/>
            <a:ext cx="7193160" cy="15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Monitorovací zpráv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ůběžná monitorovací zprá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ávěrečná monitorovací zprá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onitorovací zpráva o udržiteln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9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ástupný symbol pro obsah 7"/>
          <p:cNvSpPr/>
          <p:nvPr/>
        </p:nvSpPr>
        <p:spPr>
          <a:xfrm>
            <a:off x="1655640" y="1031760"/>
            <a:ext cx="70218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Průběžná monitorovací zpráv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 30 kalendářních dnů od ukončení monitorovacího období (monitorovací období poprvé 3 měsíce; </a:t>
            </a: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pak 6 měsíců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bdobí možno stanovovat podle přesných termínů nebo kalendářních měsíc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Části MZ: věcná (podává se vžd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finanční (jen se žádostí o platb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Documents and Settings\gotzv\Local Settings\Temporary Internet Files\Content.IE5\84NCG0JY\MCj03013840000[1].wmf"/>
          <p:cNvPicPr/>
          <p:nvPr/>
        </p:nvPicPr>
        <p:blipFill>
          <a:blip r:embed="rId1"/>
          <a:stretch/>
        </p:blipFill>
        <p:spPr>
          <a:xfrm>
            <a:off x="7164360" y="3882960"/>
            <a:ext cx="1425600" cy="115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63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bdélník 4"/>
          <p:cNvSpPr/>
          <p:nvPr/>
        </p:nvSpPr>
        <p:spPr>
          <a:xfrm>
            <a:off x="2109960" y="706320"/>
            <a:ext cx="673884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Žádost o platb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ouhrn všech způsobilých výdajů za uplynulé monitorovací období (soupiska účetních dokla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ůže zahrnovat i výdaje vzniklé v předchozím období, k nimž neměl příjemce v uvedenou dobu potřebnou dokumenta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Výše prostředků vyúčtovaných v žádostech o platbu se může maximálně rovnat výši poskytnuté záloh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0d0d"/>
                </a:solidFill>
                <a:latin typeface="Calibri"/>
              </a:rPr>
              <a:t>Příjemce nemusí překládat účetní doklady do maximální hodnoty       10 000,- Kč (včetně DPH) za jeden účetní doklad – musí je mít ale          vždy k dispozici pro případnou kontrolu na místě. </a:t>
            </a:r>
            <a:r>
              <a:rPr b="1" lang="cs-CZ" sz="18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66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gotzv\Local Settings\Temporary Internet Files\Content.IE5\6M4G49P7\MCj02504620000[1].wmf"/>
          <p:cNvPicPr/>
          <p:nvPr/>
        </p:nvPicPr>
        <p:blipFill>
          <a:blip r:embed="rId1"/>
          <a:stretch/>
        </p:blipFill>
        <p:spPr>
          <a:xfrm>
            <a:off x="6191280" y="4854600"/>
            <a:ext cx="1922400" cy="1646280"/>
          </a:xfrm>
          <a:prstGeom prst="rect">
            <a:avLst/>
          </a:prstGeom>
          <a:ln w="0">
            <a:noFill/>
          </a:ln>
        </p:spPr>
      </p:pic>
      <p:sp>
        <p:nvSpPr>
          <p:cNvPr id="68" name="Obdélník 6"/>
          <p:cNvSpPr/>
          <p:nvPr/>
        </p:nvSpPr>
        <p:spPr>
          <a:xfrm>
            <a:off x="1590840" y="189000"/>
            <a:ext cx="732312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9900"/>
                </a:solidFill>
                <a:latin typeface="Calibri"/>
              </a:rPr>
              <a:t>Monitorovací indikátory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 každé MZ musí být průběžně sledováno plnění MI tak jak jsou uvedeny ve smlouvě ale také podle pohlav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dodržení celkových MI je sankcionovatelné (nedodržení sledovaných indikátorů dle pohlaví není – nejedná se o porušení rozpočtové kázně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 MZ se sledují KUMULATIVNÍ HODNOTY od počátku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usí být vedena průkazná evidence : záznamy o žácích, docházka, vydané certifikáty ap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utno dodržovat předpisy upravující ochranu osobních údaj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!!! Vydána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etodi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onitorovacích indikátor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0" name="Podnadpis 2"/>
          <p:cNvSpPr/>
          <p:nvPr/>
        </p:nvSpPr>
        <p:spPr>
          <a:xfrm>
            <a:off x="264312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Zástupný symbol pro obsah 7"/>
          <p:cNvSpPr/>
          <p:nvPr/>
        </p:nvSpPr>
        <p:spPr>
          <a:xfrm>
            <a:off x="1720800" y="447840"/>
            <a:ext cx="695664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Námitky vůči krácení částky v žádosti o platb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Důvody krácení jsou vždy sděleny  písemně či elektronic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Příjemce může vznést námitku do 30 kalendářních dnů od doruč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Do 10 pracovních dnů od přijetí námitky je postup krácení částky ověř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O výsledku je příjemce informován do 5 pracovních dn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28720">
              <a:lnSpc>
                <a:spcPct val="100000"/>
              </a:lnSpc>
              <a:spcAft>
                <a:spcPts val="7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440" y="4530240"/>
            <a:ext cx="5486400" cy="14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oskytovatel může požadovat doplnění chybějících či neúplných informací – obecně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do 15 pracovních dní či si může vyžádat informace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 kratší lhů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4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Zástupný symbol pro obsah 7" descr=""/>
          <p:cNvPicPr/>
          <p:nvPr/>
        </p:nvPicPr>
        <p:blipFill>
          <a:blip r:embed="rId1"/>
          <a:stretch/>
        </p:blipFill>
        <p:spPr>
          <a:xfrm>
            <a:off x="1292400" y="438120"/>
            <a:ext cx="7242120" cy="4719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Documents and Settings\gotzv\Local Settings\Temporary Internet Files\Content.IE5\ZXF16QS5\MCj02899550000[1].wmf"/>
          <p:cNvPicPr/>
          <p:nvPr/>
        </p:nvPicPr>
        <p:blipFill>
          <a:blip r:embed="rId2"/>
          <a:stretch/>
        </p:blipFill>
        <p:spPr>
          <a:xfrm>
            <a:off x="5572080" y="4500720"/>
            <a:ext cx="2073240" cy="1363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8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ástupný symbol pro obsah 7"/>
          <p:cNvSpPr/>
          <p:nvPr/>
        </p:nvSpPr>
        <p:spPr>
          <a:xfrm>
            <a:off x="1851120" y="1225440"/>
            <a:ext cx="7021440" cy="42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Závěrečná monitorovací zpráv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 2 měsíců po ukončení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U projektů nad 3 mil. Kč se přikládá k žádosti o závěrečnou platbu závěrečný audit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íjemce přikládá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souhrnnou informaci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 realizaci projektu včetně publicity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1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1:18:55Z</dcterms:created>
  <dc:creator>ugh</dc:creator>
  <dc:description/>
  <dc:language>en-US</dc:language>
  <cp:lastModifiedBy>ugh</cp:lastModifiedBy>
  <dcterms:modified xsi:type="dcterms:W3CDTF">2009-12-09T17:28:35Z</dcterms:modified>
  <cp:revision>14</cp:revision>
  <dc:subject/>
  <dc:title>Snímek 1</dc:title>
</cp:coreProperties>
</file>