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11.wmf" ContentType="image/x-wmf"/>
  <Override PartName="/ppt/media/image8.wmf" ContentType="image/x-wmf"/>
  <Override PartName="/ppt/media/image9.png" ContentType="image/png"/>
  <Override PartName="/ppt/media/image13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0080625" cy="7559675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915480" y="749160"/>
            <a:ext cx="492948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0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3220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220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11.12.200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2860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D4BED5-3F9B-4BB8-A618-F2A964A1F8DD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1967F6-883B-4C1B-A640-3C2E313A9299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A6D697-3C3C-488A-A9C3-1E8F7D96F22F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AC5C54-EE39-44BC-BCCC-2DBDBBE193A0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EB5CF8-1BFF-4708-A916-422DB4F3EF5A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3755CE-9174-4DCF-9EB2-BC28C172ADB9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211718-FE0A-413C-9DE4-F6AF257236A4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0B645D-FB90-4DE2-A1BC-B83CFA23B40C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8CE8DD-AAD9-4AC8-A384-7D960886CEB6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569ADB-A168-4349-A0FA-D5B03815B587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567225-B340-4272-93CB-0BE3CAFF4679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0CA6AD-9EE9-4285-8E5E-1A68791E667D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EAE91A-7C4B-4051-A7EE-8FA3EF33DC4E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E6E8-679E-43D7-98D0-8F2BCB5AF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4CA7-CC26-426A-AB3E-CEE7714D9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409F-5BA8-49CC-93E7-0E51210FA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6C12-E9F7-4155-90F0-9045DF7F4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DF2D-A7C6-4CC1-A1DE-542DC68F5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A391-8C0D-4C22-9BA3-E2EEB2954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648E-BB60-4025-8B98-5218FAB3A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D26B-18B5-42BF-9B70-49557C9D4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80CC-D14D-4405-9361-94E401CB0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D613-5889-4678-BC4A-96B5FAE1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2C14-00BE-4951-B3C0-3FB7D9E7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50DD-1EB4-48E6-9937-3A2B4BB3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1D8E4C9-CA49-4568-A616-BE415BCF53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440" y="493200"/>
            <a:ext cx="731844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Procesy a  pravidla </a:t>
            </a:r>
            <a:br>
              <a:rPr sz="4400"/>
            </a:b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realizace projektu</a:t>
            </a:r>
            <a:br>
              <a:rPr sz="4400"/>
            </a:br>
            <a:br>
              <a:rPr sz="4400"/>
            </a:br>
            <a:r>
              <a:rPr b="1" lang="cs-CZ" sz="2800" spc="-1" strike="noStrike">
                <a:solidFill>
                  <a:srgbClr val="f3912c"/>
                </a:solidFill>
                <a:latin typeface="Arial"/>
              </a:rPr>
              <a:t>Ing. Marie Kaufnerová</a:t>
            </a:r>
            <a:br>
              <a:rPr sz="2800"/>
            </a:br>
            <a:br>
              <a:rPr sz="2800"/>
            </a:br>
            <a:r>
              <a:rPr b="1" lang="cs-CZ" sz="1600" spc="-1" strike="noStrike">
                <a:solidFill>
                  <a:srgbClr val="f3912c"/>
                </a:solidFill>
                <a:latin typeface="Arial"/>
              </a:rPr>
              <a:t>Prezentace pro příjemce IPo, kteří se řídí Příručkou pro příjemce fin.podpory z OP VK, verze 3, učinná od 3.10.2009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Zástupný symbol pro datum 3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A962A5-3E6E-4BD7-890A-5FAB828160A2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25560" y="208080"/>
            <a:ext cx="774072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Zástupný symbol pro obsah 7"/>
          <p:cNvSpPr/>
          <p:nvPr/>
        </p:nvSpPr>
        <p:spPr>
          <a:xfrm>
            <a:off x="1897200" y="2136600"/>
            <a:ext cx="778644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Odstoupení od právního ak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skytovatel podpory může v krajním případě odstoupit od právního aktu  OKAMŽITĚ poku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Lucida Sans Unicode"/>
              </a:rPr>
              <a:t>Příjemce bezdůvodně, dlouhodobě a opakovaně neplní některou z povinností uvedených v právním aktu (např. dodávání MZ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Lucida Sans Unicode"/>
              </a:rPr>
              <a:t>Příjemce je v úpadku nebo v likvidaci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Lucida Sans Unicode"/>
              </a:rPr>
              <a:t>Příjemce změní právní formu, aniž by to doložil poskytovateli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Lucida Sans Unicode"/>
              </a:rPr>
              <a:t>Kontrola zjistí finanční podvody či jiná nekalá jednání příjemc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Lucida Sans Unicode"/>
              </a:rPr>
              <a:t>Statutární orgán či zaměstnanec příjemce se dopustí trestného činu, jehož skutková podstata souvisí s realizací projektu, a je za to pravomocně odsouzen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ojekt nesplňuje podmínky, za nichž byla finanční podpora přidělena, a příjemce nenavrhne jeho uspokojivou modifikaci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Lucida Sans Unicode"/>
              </a:rPr>
              <a:t>Odstoupení PÍSEMNĚ, účinné dnem doručení příjemci, ruší se právní ak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4" descr="C:\Documents and Settings\gotzv\Local Settings\Temporary Internet Files\Content.IE5\ZXF16QS5\MCj03597570000[1].wmf"/>
          <p:cNvPicPr/>
          <p:nvPr/>
        </p:nvPicPr>
        <p:blipFill>
          <a:blip r:embed="rId1"/>
          <a:stretch/>
        </p:blipFill>
        <p:spPr>
          <a:xfrm>
            <a:off x="7969320" y="1353960"/>
            <a:ext cx="1274760" cy="1258920"/>
          </a:xfrm>
          <a:prstGeom prst="rect">
            <a:avLst/>
          </a:prstGeom>
          <a:ln w="0">
            <a:noFill/>
          </a:ln>
        </p:spPr>
      </p:pic>
      <p:sp>
        <p:nvSpPr>
          <p:cNvPr id="104" name="Zástupný symbol pro datum 5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44D384-2175-4240-8574-80192406E42C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06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Zástupný symbol pro datum 4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6D5C1F-A526-46E3-8D9F-EEBC4D27EADC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Obdélník 5"/>
          <p:cNvSpPr/>
          <p:nvPr/>
        </p:nvSpPr>
        <p:spPr>
          <a:xfrm>
            <a:off x="2182680" y="2637000"/>
            <a:ext cx="4714920" cy="21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alší možnost – zrušení DOHOD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Musí být písemné s uvedením důvodů, které vedly k ukončení účinnosti právního aktu včetně vzájemného vypořádání práv a závazk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Nadpis 5"/>
          <p:cNvSpPr/>
          <p:nvPr/>
        </p:nvSpPr>
        <p:spPr>
          <a:xfrm>
            <a:off x="1754280" y="636480"/>
            <a:ext cx="7740720" cy="13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Zástupný symbol pro datum 5"/>
          <p:cNvSpPr/>
          <p:nvPr/>
        </p:nvSpPr>
        <p:spPr>
          <a:xfrm>
            <a:off x="655560" y="7039080"/>
            <a:ext cx="23432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820311-9354-4F25-821F-25914C9FE827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12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2" descr="C:\Documents and Settings\kaufnerovam\Local Settings\Temporary Internet Files\Content.IE5\1ZMAVU8U\MCj04398210000[1].png"/>
          <p:cNvPicPr/>
          <p:nvPr/>
        </p:nvPicPr>
        <p:blipFill>
          <a:blip r:embed="rId2"/>
          <a:stretch/>
        </p:blipFill>
        <p:spPr>
          <a:xfrm>
            <a:off x="4479840" y="4910040"/>
            <a:ext cx="241776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Zástupný symbol pro datum 4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56C750-E756-4C8B-96C9-D1270AB2B95E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Obdélník 5"/>
          <p:cNvSpPr/>
          <p:nvPr/>
        </p:nvSpPr>
        <p:spPr>
          <a:xfrm>
            <a:off x="2397240" y="1851120"/>
            <a:ext cx="6215040" cy="45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000" spc="-1" strike="noStrike">
                <a:solidFill>
                  <a:srgbClr val="262626"/>
                </a:solidFill>
                <a:latin typeface="Arial"/>
                <a:ea typeface="Lucida Sans Unicode"/>
              </a:rPr>
              <a:t>Námitky proti postupu ŘO – možno podat do 15 pracovních dní od okamžiku doručení písemného vyrozuměn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000" spc="-1" strike="noStrike">
                <a:solidFill>
                  <a:srgbClr val="262626"/>
                </a:solidFill>
                <a:latin typeface="Arial"/>
                <a:ea typeface="Lucida Sans Unicode"/>
              </a:rPr>
              <a:t>Zaslat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000" spc="-1" strike="noStrike">
                <a:solidFill>
                  <a:srgbClr val="262626"/>
                </a:solidFill>
                <a:latin typeface="Arial"/>
                <a:ea typeface="Lucida Sans Unicode"/>
              </a:rPr>
              <a:t> </a:t>
            </a:r>
            <a:r>
              <a:rPr b="0" lang="cs-CZ" sz="2000" spc="-1" strike="noStrike">
                <a:solidFill>
                  <a:srgbClr val="262626"/>
                </a:solidFill>
                <a:latin typeface="Arial"/>
                <a:ea typeface="Lucida Sans Unicode"/>
              </a:rPr>
              <a:t>na odbor </a:t>
            </a:r>
            <a:r>
              <a:rPr b="1" i="1" lang="cs-CZ" sz="2000" spc="-1" strike="noStrike">
                <a:solidFill>
                  <a:srgbClr val="262626"/>
                </a:solidFill>
                <a:latin typeface="Arial"/>
                <a:ea typeface="Lucida Sans Unicode"/>
              </a:rPr>
              <a:t>46 CERA – Implementace projektů strukturálních fond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000" spc="-1" strike="noStrike">
                <a:solidFill>
                  <a:srgbClr val="262626"/>
                </a:solidFill>
                <a:latin typeface="Arial"/>
                <a:ea typeface="Lucida Sans Unicode"/>
              </a:rPr>
              <a:t> </a:t>
            </a:r>
            <a:r>
              <a:rPr b="0" lang="cs-CZ" sz="2000" spc="-1" strike="noStrike">
                <a:solidFill>
                  <a:srgbClr val="262626"/>
                </a:solidFill>
                <a:latin typeface="Arial"/>
                <a:ea typeface="Lucida Sans Unicode"/>
              </a:rPr>
              <a:t>pokud nebudete spokojeni s řešením vaší námitky  odborem 46, můžete se poté obrátit na odbor </a:t>
            </a:r>
            <a:r>
              <a:rPr b="1" i="1" lang="cs-CZ" sz="2000" spc="-1" strike="noStrike">
                <a:solidFill>
                  <a:srgbClr val="262626"/>
                </a:solidFill>
                <a:latin typeface="Arial"/>
                <a:ea typeface="Lucida Sans Unicode"/>
              </a:rPr>
              <a:t>41 – Odbor řízení OP VK</a:t>
            </a:r>
            <a:r>
              <a:rPr b="0" lang="cs-CZ" sz="2000" spc="-1" strike="noStrike">
                <a:solidFill>
                  <a:srgbClr val="262626"/>
                </a:solidFill>
                <a:latin typeface="Arial"/>
                <a:ea typeface="Lucida Sans Unicode"/>
              </a:rPr>
              <a:t>, který provede prošetřen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1800" spc="-1" strike="noStrike">
                <a:solidFill>
                  <a:srgbClr val="262626"/>
                </a:solidFill>
                <a:latin typeface="Arial"/>
                <a:ea typeface="Lucida Sans Unicode"/>
              </a:rPr>
              <a:t>     </a:t>
            </a:r>
            <a:r>
              <a:rPr b="0" lang="cs-CZ" sz="1800" spc="-1" strike="noStrike">
                <a:solidFill>
                  <a:srgbClr val="262626"/>
                </a:solidFill>
                <a:latin typeface="Arial"/>
                <a:ea typeface="Lucida Sans Unicode"/>
              </a:rPr>
              <a:t>Námitka či její prošetření, by mělo být provedeno během 15 pracovních dní, u složitých případů do 20 pracovních d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Nadpis 5"/>
          <p:cNvSpPr/>
          <p:nvPr/>
        </p:nvSpPr>
        <p:spPr>
          <a:xfrm>
            <a:off x="1754280" y="636480"/>
            <a:ext cx="77407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Námitky a jejich řešení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Zástupný symbol pro datum 5"/>
          <p:cNvSpPr/>
          <p:nvPr/>
        </p:nvSpPr>
        <p:spPr>
          <a:xfrm>
            <a:off x="655560" y="7039080"/>
            <a:ext cx="23432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4AEFE6-D9E1-4517-8A48-504767A92410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19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2" descr="C:\Documents and Settings\kaufnerovam\Local Settings\Temporary Internet Files\Content.IE5\0C5TUC9H\MCj04398240000[1].png"/>
          <p:cNvPicPr/>
          <p:nvPr/>
        </p:nvPicPr>
        <p:blipFill>
          <a:blip r:embed="rId2"/>
          <a:stretch/>
        </p:blipFill>
        <p:spPr>
          <a:xfrm>
            <a:off x="8136000" y="428004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Zástupný symbol pro datum 4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7BDFD8-982A-4D5D-A766-263E298AD2CD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bdélník 5"/>
          <p:cNvSpPr/>
          <p:nvPr/>
        </p:nvSpPr>
        <p:spPr>
          <a:xfrm>
            <a:off x="1539720" y="1851120"/>
            <a:ext cx="7715520" cy="43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800" spc="-1" strike="noStrike">
                <a:solidFill>
                  <a:srgbClr val="262626"/>
                </a:solidFill>
                <a:latin typeface="Arial"/>
                <a:ea typeface="Lucida Sans Unicode"/>
              </a:rPr>
              <a:t>Příjemce je povinen všechny nově vytvořené produkty předat do vlastnictví poskytovatele, který je oprávněn je volně a bezplatně  šířit v časově, územně a množstevně neomezeném rozsah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000" spc="-1" strike="noStrike">
                <a:solidFill>
                  <a:srgbClr val="262626"/>
                </a:solidFill>
                <a:latin typeface="Arial"/>
                <a:ea typeface="Lucida Sans Unicode"/>
              </a:rPr>
              <a:t>Pokud je držitelem takových práv duševního vlastnictví vzniklých na základě zakázky jiná osoba než příjemce dotace, je příjemce dotace povinen ve smlouvě uzavřené s dodavatelem zajistit pro poskytovatele neomezenou bezplatnou licenci k využití těchto práv včetně možnosti  zcela nebo z části poskytnout třetí osobě oprávněn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Nadpis 5"/>
          <p:cNvSpPr/>
          <p:nvPr/>
        </p:nvSpPr>
        <p:spPr>
          <a:xfrm>
            <a:off x="1754280" y="636480"/>
            <a:ext cx="77407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Autorská práv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Zástupný symbol pro datum 5"/>
          <p:cNvSpPr/>
          <p:nvPr/>
        </p:nvSpPr>
        <p:spPr>
          <a:xfrm>
            <a:off x="655560" y="7039080"/>
            <a:ext cx="23432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03CF36-0E70-4345-8F44-EB8BC9F8F557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26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825560" y="208080"/>
            <a:ext cx="774072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Vztahy a povinnosti příjemce vůči cílovým skupiná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Zástupný symbol pro obsah 7"/>
          <p:cNvSpPr/>
          <p:nvPr/>
        </p:nvSpPr>
        <p:spPr>
          <a:xfrm>
            <a:off x="1897200" y="2136600"/>
            <a:ext cx="766908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Postupy při oslovování cílových skup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K oslovení cílové skupiny využívat legální nástroje publicity projektu (letáčky, plakáty, prezentace na seminářích či konferencích, inzerce v tisku či v dalších sdělovacích prostředcích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Vyvarovat se diskreditace cílové skupiny a tím i projektu samotnéh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Je vhodné si zajistit souhlas cílové skupiny s informováním  o aktivitách projektu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4" descr="C:\Documents and Settings\gotzv\Local Settings\Temporary Internet Files\Content.IE5\84NCG0JY\MCj02382830000[1].wmf"/>
          <p:cNvPicPr/>
          <p:nvPr/>
        </p:nvPicPr>
        <p:blipFill>
          <a:blip r:embed="rId1"/>
          <a:stretch/>
        </p:blipFill>
        <p:spPr>
          <a:xfrm>
            <a:off x="8612280" y="1301760"/>
            <a:ext cx="1143000" cy="1500120"/>
          </a:xfrm>
          <a:prstGeom prst="rect">
            <a:avLst/>
          </a:prstGeom>
          <a:ln w="0">
            <a:noFill/>
          </a:ln>
        </p:spPr>
      </p:pic>
      <p:sp>
        <p:nvSpPr>
          <p:cNvPr id="130" name="Zástupný symbol pro datum 5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3BB15A-02EF-4EBE-A72D-8AACFAF21CEE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2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32" name="Nadpis 1"/>
          <p:cNvSpPr/>
          <p:nvPr/>
        </p:nvSpPr>
        <p:spPr>
          <a:xfrm>
            <a:off x="6469200" y="670860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825560" y="208080"/>
            <a:ext cx="774072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Vztahy a povinnosti příjemce vůči cílovým skupiná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Zástupný symbol pro obsah 7"/>
          <p:cNvSpPr/>
          <p:nvPr/>
        </p:nvSpPr>
        <p:spPr>
          <a:xfrm>
            <a:off x="1897200" y="2136600"/>
            <a:ext cx="766908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Evidence osob z cílové skupi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vinnost příjemce vést evidenci cílové skupiny účastnící se akcí projektu (například prezenční listiny, seznamy, přihlášky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Dle evidence se provádí monitoring a kontrola výdajů projekt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U nezletilých osob zvážit zda není potřeba souhlas zákonného zástupce s účastí v projekt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3" descr="C:\Documents and Settings\gotzv\Local Settings\Temporary Internet Files\Content.IE5\YAIUOI0Q\MCj04040350000[1].wmf"/>
          <p:cNvPicPr/>
          <p:nvPr/>
        </p:nvPicPr>
        <p:blipFill>
          <a:blip r:embed="rId1"/>
          <a:stretch/>
        </p:blipFill>
        <p:spPr>
          <a:xfrm>
            <a:off x="8326440" y="1779480"/>
            <a:ext cx="1198440" cy="1341720"/>
          </a:xfrm>
          <a:prstGeom prst="rect">
            <a:avLst/>
          </a:prstGeom>
          <a:ln w="0">
            <a:noFill/>
          </a:ln>
        </p:spPr>
      </p:pic>
      <p:sp>
        <p:nvSpPr>
          <p:cNvPr id="136" name="Zástupný symbol pro datum 5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2F233B-5DFC-4195-92F0-C8900C50C079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2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38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25560" y="208080"/>
            <a:ext cx="774072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Vztahy a povinnosti příjemce vůči cílovým skupiná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ástupný symbol pro obsah 7"/>
          <p:cNvSpPr/>
          <p:nvPr/>
        </p:nvSpPr>
        <p:spPr>
          <a:xfrm>
            <a:off x="1897200" y="2136600"/>
            <a:ext cx="766908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Ochrana osobních údaj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říjemce je povinen při zajišťování a evidenci osobních údajů postupovat v souladu se zákonem č.101/2000 Sb., o ochraně osobních údajů (zajistit souhlas evidovaných osob či jejich zákonných zástupců s jejich využitím a způsobem využití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o Individuální projekty kde se poskytnutí fin. pomoci řídí zákonem č. 218/2000 Sb. o rozpočtových pravidlech (poskytovatel dotace vydá písemné rozhodnutí formou právního aktu, který zavazuje příjemce k naplňování monitorovacích indikátorů a jejich dokladování) není povinnost oznamovat zpracování osobních údajů Úřadu pro ochranu osobních údajů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C:\Documents and Settings\gotzv\Local Settings\Temporary Internet Files\Content.IE5\ZXF16QS5\MCBD05027_0000[1].wmf"/>
          <p:cNvPicPr/>
          <p:nvPr/>
        </p:nvPicPr>
        <p:blipFill>
          <a:blip r:embed="rId1"/>
          <a:stretch/>
        </p:blipFill>
        <p:spPr>
          <a:xfrm>
            <a:off x="7826400" y="1771560"/>
            <a:ext cx="1500120" cy="1555920"/>
          </a:xfrm>
          <a:prstGeom prst="rect">
            <a:avLst/>
          </a:prstGeom>
          <a:ln w="0">
            <a:noFill/>
          </a:ln>
        </p:spPr>
      </p:pic>
      <p:sp>
        <p:nvSpPr>
          <p:cNvPr id="142" name="Zástupný symbol pro datum 5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69C818-A90B-4A38-BC9F-FA59687A6080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2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44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896840" y="850680"/>
            <a:ext cx="6048360" cy="22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Děkuji za pozornost</a:t>
            </a:r>
            <a:br>
              <a:rPr sz="2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976400" y="2851200"/>
            <a:ext cx="7564320" cy="39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g. Marie Kaufner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tový manažer – oblast podpory 1.1 Zvyšování kvality ve vzdělává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  46 - C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nisterstvo školství, mládeže a tělovýchovy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mail: marie.kaufnerova@msmt.c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Zástupný symbol pro datum 4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8BBD26-E657-4631-95B1-0B3C4A6E93B3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49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Zástupný symbol pro text 8"/>
          <p:cNvSpPr/>
          <p:nvPr/>
        </p:nvSpPr>
        <p:spPr>
          <a:xfrm>
            <a:off x="1968480" y="6708600"/>
            <a:ext cx="3492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cs-CZ" sz="1600" spc="-1" strike="noStrike">
                <a:solidFill>
                  <a:srgbClr val="7f7f7f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C:\Documents and Settings\gotzv\Local Settings\Temporary Internet Files\Content.IE5\DBCR952T\MCj03359370000[1].wmf"/>
          <p:cNvPicPr/>
          <p:nvPr/>
        </p:nvPicPr>
        <p:blipFill>
          <a:blip r:embed="rId1"/>
          <a:stretch/>
        </p:blipFill>
        <p:spPr>
          <a:xfrm>
            <a:off x="7326360" y="1994040"/>
            <a:ext cx="1944720" cy="1662120"/>
          </a:xfrm>
          <a:prstGeom prst="rect">
            <a:avLst/>
          </a:prstGeom>
          <a:ln w="0">
            <a:noFill/>
          </a:ln>
        </p:spPr>
      </p:pic>
      <p:sp>
        <p:nvSpPr>
          <p:cNvPr id="55" name="Zástupný symbol pro obsah 7"/>
          <p:cNvSpPr/>
          <p:nvPr/>
        </p:nvSpPr>
        <p:spPr>
          <a:xfrm>
            <a:off x="1897200" y="1208160"/>
            <a:ext cx="7669080" cy="55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Zahájení projek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Datum akceptace Rozhodnut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neb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zdější datum uvedené v projektové žádos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Ukončení projek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Datum uvedené v právním akt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Za způsobilé se považují pouze výdaje vzniklé během realizace tj. mezi těmito da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Nadpis 5"/>
          <p:cNvSpPr/>
          <p:nvPr/>
        </p:nvSpPr>
        <p:spPr>
          <a:xfrm>
            <a:off x="1825560" y="279360"/>
            <a:ext cx="79297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Doba realizace projekt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Zástupný symbol pro datum 5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A85C4A-2E50-418B-AEA8-53299A9BEE21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59" name="Nadpis 1"/>
          <p:cNvSpPr/>
          <p:nvPr/>
        </p:nvSpPr>
        <p:spPr>
          <a:xfrm>
            <a:off x="6397560" y="691668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Nadpis 5"/>
          <p:cNvSpPr/>
          <p:nvPr/>
        </p:nvSpPr>
        <p:spPr>
          <a:xfrm>
            <a:off x="1897200" y="422280"/>
            <a:ext cx="79293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Doba realizace projekt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Zástupný symbol pro obsah 7"/>
          <p:cNvSpPr/>
          <p:nvPr/>
        </p:nvSpPr>
        <p:spPr>
          <a:xfrm>
            <a:off x="1897200" y="2136600"/>
            <a:ext cx="766908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Změna data ukonče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dstatná změna projektu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Možná pouze v řádně odůvodněných a schválených případe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Způsobilé výdaje projek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Od data zahájení projektu do data ukončení projekt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 datu ukončení pouze audit a mzdy pracovníků projektu za poslední měsíc realizace, vyúčtování zálo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Zástupný symbol pro datum 5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866CFB-7FED-42A3-B497-FB0BCCB33C5B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64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Zástupný symbol pro text 8"/>
          <p:cNvSpPr/>
          <p:nvPr/>
        </p:nvSpPr>
        <p:spPr>
          <a:xfrm>
            <a:off x="1968480" y="6708600"/>
            <a:ext cx="3492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Zástupný symbol pro obsah 7"/>
          <p:cNvSpPr/>
          <p:nvPr/>
        </p:nvSpPr>
        <p:spPr>
          <a:xfrm>
            <a:off x="1968480" y="2136600"/>
            <a:ext cx="766908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Délka trvání projekt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Uvedena v právním akt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Nejdéle 36 měsíců od přijetí právního aktu s nejzazším datem ukončení 30.6. 201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říjemce i poskytovatel podpory jsou oprávněni ukončit práci na projektu a jeho financování avšak pouze ze závažných důvodů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Nadpis 5"/>
          <p:cNvSpPr/>
          <p:nvPr/>
        </p:nvSpPr>
        <p:spPr>
          <a:xfrm>
            <a:off x="1825560" y="279360"/>
            <a:ext cx="79297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Doba realizace projekt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Zástupný symbol pro datum 6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B40AEC-2871-44C7-87E7-817B2842CBF8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70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2" descr="C:\Documents and Settings\kaufnerovam\Local Settings\Temporary Internet Files\Content.IE5\RO1OPC4G\MCj04397990000[1].png"/>
          <p:cNvPicPr/>
          <p:nvPr/>
        </p:nvPicPr>
        <p:blipFill>
          <a:blip r:embed="rId2"/>
          <a:stretch/>
        </p:blipFill>
        <p:spPr>
          <a:xfrm>
            <a:off x="6413400" y="1339920"/>
            <a:ext cx="1913040" cy="19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25560" y="208080"/>
            <a:ext cx="774072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pro obsah 7"/>
          <p:cNvSpPr/>
          <p:nvPr/>
        </p:nvSpPr>
        <p:spPr>
          <a:xfrm>
            <a:off x="1897200" y="1565280"/>
            <a:ext cx="766908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Ukončení projektu příjemc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ísemně k rukám poskytovatele formou návrhu na změnu právního aktu s novým datem ukonče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S nejvýše dvouměsíční lhůtou uzavření projekt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V případě akceptace změnového právního aktu (Rozhodnutí o změně Rozhodnutí) začíná běžet lhůta pro uzavření aktivit projekt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Nevyužité prostředky ve prospěch projektu musí být vráceny do 20 pracovních dnů po ukončení projekt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kud byl projekt financován v režimu zálohování  - odděleně evidovat výdaje uskutečněné po dni odeslání návrhu na ukončení projektu. Vyúčtování těchto výdajů (pokud nebudou řádně zdůvodněny v komentáři přiloženém k vyúčtování) nemusí být poskytovatelem  podpory akceptováno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2" descr="C:\Documents and Settings\gotzv\Local Settings\Temporary Internet Files\Content.IE5\LUHYZSFQ\MCj04326440000[1].png"/>
          <p:cNvPicPr/>
          <p:nvPr/>
        </p:nvPicPr>
        <p:blipFill>
          <a:blip r:embed="rId1"/>
          <a:stretch/>
        </p:blipFill>
        <p:spPr>
          <a:xfrm>
            <a:off x="7969320" y="851040"/>
            <a:ext cx="1571400" cy="1571400"/>
          </a:xfrm>
          <a:prstGeom prst="rect">
            <a:avLst/>
          </a:prstGeom>
          <a:ln w="0">
            <a:noFill/>
          </a:ln>
        </p:spPr>
      </p:pic>
      <p:sp>
        <p:nvSpPr>
          <p:cNvPr id="75" name="Zástupný symbol pro datum 6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756F09-CC60-4C4F-9BC6-B97F6990A3DC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2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77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25560" y="208080"/>
            <a:ext cx="774072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Zástupný symbol pro obsah 7"/>
          <p:cNvSpPr/>
          <p:nvPr/>
        </p:nvSpPr>
        <p:spPr>
          <a:xfrm>
            <a:off x="1897200" y="2136600"/>
            <a:ext cx="766908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Neoprávněné předčasné ukončení projek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V případě porušení podmínek právního aktu (nedodržení podmínek pro předčasné ukončení projekt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říjemce je povinen vrátit neoprávněně vyplacené prostředky v plné výši a ve lhůtě stanovené poskytovatel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7" descr="C:\Documents and Settings\gotzv\Local Settings\Temporary Internet Files\Content.IE5\7WLRSXM1\MCj04247840000[1].wmf"/>
          <p:cNvPicPr/>
          <p:nvPr/>
        </p:nvPicPr>
        <p:blipFill>
          <a:blip r:embed="rId1"/>
          <a:stretch/>
        </p:blipFill>
        <p:spPr>
          <a:xfrm>
            <a:off x="8112240" y="2922480"/>
            <a:ext cx="1447560" cy="1330560"/>
          </a:xfrm>
          <a:prstGeom prst="rect">
            <a:avLst/>
          </a:prstGeom>
          <a:ln w="0">
            <a:noFill/>
          </a:ln>
        </p:spPr>
      </p:pic>
      <p:sp>
        <p:nvSpPr>
          <p:cNvPr id="81" name="Zástupný symbol pro datum 5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E3AA7D-7915-47E0-907B-9275D1B47750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5" descr=""/>
          <p:cNvPicPr/>
          <p:nvPr/>
        </p:nvPicPr>
        <p:blipFill>
          <a:blip r:embed="rId2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83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25560" y="208080"/>
            <a:ext cx="774072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obsah 7"/>
          <p:cNvSpPr/>
          <p:nvPr/>
        </p:nvSpPr>
        <p:spPr>
          <a:xfrm>
            <a:off x="1897200" y="2136600"/>
            <a:ext cx="766908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Pozastavení podpory z OP V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skytovatel podpory je  při podezření na porušení rozpočtové kázně či porušení dalších povinností uvedených v právním aktu o poskytnutí podpory oprávně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- vyzvat příjemce k okamžité nápravě zjištěných nedostatků a stanovit lhůty k náprav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- preventivně pozastavit platby příjemci podp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7" descr="C:\Documents and Settings\gotzv\Local Settings\Temporary Internet Files\Content.IE5\YAIUOI0Q\MCj04315090000[1].png"/>
          <p:cNvPicPr/>
          <p:nvPr/>
        </p:nvPicPr>
        <p:blipFill>
          <a:blip r:embed="rId1"/>
          <a:stretch/>
        </p:blipFill>
        <p:spPr>
          <a:xfrm>
            <a:off x="8112240" y="2208240"/>
            <a:ext cx="1400040" cy="1400040"/>
          </a:xfrm>
          <a:prstGeom prst="rect">
            <a:avLst/>
          </a:prstGeom>
          <a:ln w="0">
            <a:noFill/>
          </a:ln>
        </p:spPr>
      </p:pic>
      <p:sp>
        <p:nvSpPr>
          <p:cNvPr id="87" name="Zástupný symbol pro datum 5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083B3A-0EEE-4E8E-852A-359A5BFBC893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89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25560" y="208080"/>
            <a:ext cx="774072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pro obsah 7"/>
          <p:cNvSpPr/>
          <p:nvPr/>
        </p:nvSpPr>
        <p:spPr>
          <a:xfrm>
            <a:off x="1897200" y="1636560"/>
            <a:ext cx="766908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Ukončení projektu poskytovatelem finanční podp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skytovatel podpory může vypovědět právní akt o poskytnutí podpory pokud nedojde k nápravě zjištěných nedostatků ve stanovené lhůtě a to  s dvouměsíční výpovědní lhůtou na ukončení aktivit projekt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Nárok příjemce na proplacení odpovídající části způsobilých výdajů bude posuzován poskytovatelem individuálně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Nevyužité prostředky vrátit do 20 pracovních dní od ukončení projektu( přes zřizovatele - 20 prac. dní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Zástupný symbol pro datum 6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BBC75A-C34A-4EFD-A9E3-9635FA8788FB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94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25560" y="208080"/>
            <a:ext cx="774072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pro obsah 7"/>
          <p:cNvSpPr/>
          <p:nvPr/>
        </p:nvSpPr>
        <p:spPr>
          <a:xfrm>
            <a:off x="1897200" y="2136600"/>
            <a:ext cx="766908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Řízení o odnětí podp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Řízení o odnětí podpory může být zahájeno pokud došlo k porušení pravidel zákona č. 218/2000 Sb. O rozpočtových pravidle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* k vázání prostředků státního rozpočt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*ke zjištění, že podpora byla poskytnuta na základě neúplných či nepravdivých údaj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* právní akt byl vydán v rozporu se zákonem či právem 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*nemůže být řádně či včas splněn účel dot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Zástupný symbol pro datum 5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676857-0FCC-4D70-8179-136CDBA10E64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99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2" descr="C:\Documents and Settings\kaufnerovam\Local Settings\Temporary Internet Files\Content.IE5\SUKH4R2G\MCj04398220000[1].png"/>
          <p:cNvPicPr/>
          <p:nvPr/>
        </p:nvPicPr>
        <p:blipFill>
          <a:blip r:embed="rId2"/>
          <a:stretch/>
        </p:blipFill>
        <p:spPr>
          <a:xfrm>
            <a:off x="7362720" y="1173240"/>
            <a:ext cx="1392480" cy="1392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gh</cp:lastModifiedBy>
  <dcterms:modified xsi:type="dcterms:W3CDTF">2009-12-09T14:43:31Z</dcterms:modified>
  <cp:revision>102</cp:revision>
  <dc:subject/>
  <dc:title>Snímek 1</dc:title>
</cp:coreProperties>
</file>