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1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683A-5DE3-4309-89E2-A005CF13D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5B4DC763-0A4B-4B3D-9090-C0856DF8A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F2440E19-A3EF-4F16-A401-69EDFF319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9BDCDF5D-DFA1-4663-B6A8-801362E17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ADF5A856-96CC-4359-93F7-C027F1FD5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D5392FDB-44DD-4AC6-B7BA-4B3DB8251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397FD42A-F837-43AB-9D31-0AC3DB472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C7E2FC07-CC63-44D1-AA74-C55C52BEA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186AC55A-A4A6-4D1E-86B6-245FB17AF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ání projektu – též včasná identifikace rizik a zabránění nesrovnalostem  - ale 6 měsíců je dlouhá do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75AFABF0-0B36-4528-A238-4CCBBA973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ABE31DAB-5E17-4135-B351-47C573DDF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F3D551D2-02AD-450A-B701-A13029CD8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vím zda to oranžové stále platí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skytnutí informací – hrozba kontroly na míst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9358A5D6-C902-459A-B166-8CBF9DC0D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FB5091AA-78EC-4639-A038-F628A5226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7E1-6CDD-4DCD-BD07-B519237F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B6E-8891-4985-9B5E-2CEAD7EB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B6D-AA0E-4B25-ACFF-544C4A69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395-7836-43F6-9EA4-0B0AA9DB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6E2-51B2-4B80-B801-18028D89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55F-36FC-47B3-A890-9CA0CC21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7B5-4140-410D-B33A-BD576787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7BE-1D96-4BB9-811D-64BA8427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D2D-5173-4488-B4D1-6BB26DE0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070-5E87-434A-A3B0-927845AE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24B-FFF8-4009-8160-EB857A0A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7DD-CD24-40DC-BB9D-A745A8FA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90A7-3D0D-4E05-8B9E-F71F1F75DC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rie.kaufner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o-zadatel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7160" y="642960"/>
            <a:ext cx="6957720" cy="466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avidla monitorování</a:t>
            </a:r>
            <a:br>
              <a:rPr sz="4800"/>
            </a:br>
            <a:br>
              <a:rPr sz="3600"/>
            </a:br>
            <a:br>
              <a:rPr sz="3600"/>
            </a:br>
            <a:r>
              <a:rPr b="1" lang="cs-CZ" sz="2500" spc="-1" strike="noStrike">
                <a:solidFill>
                  <a:srgbClr val="f3912c"/>
                </a:solidFill>
                <a:latin typeface="Calibri"/>
              </a:rPr>
              <a:t>Ing. Marie Kaufnerová</a:t>
            </a:r>
            <a:br>
              <a:rPr sz="2500"/>
            </a:br>
            <a:br>
              <a:rPr sz="2500"/>
            </a:b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br>
              <a:rPr sz="3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Nadpis 1"/>
          <p:cNvSpPr/>
          <p:nvPr/>
        </p:nvSpPr>
        <p:spPr>
          <a:xfrm>
            <a:off x="5788080" y="62150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Nadpis 1"/>
          <p:cNvSpPr/>
          <p:nvPr/>
        </p:nvSpPr>
        <p:spPr>
          <a:xfrm>
            <a:off x="5788080" y="585792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Zástupný symbol pro obsah 7" descr=""/>
          <p:cNvPicPr/>
          <p:nvPr/>
        </p:nvPicPr>
        <p:blipFill>
          <a:blip r:embed="rId1"/>
          <a:stretch/>
        </p:blipFill>
        <p:spPr>
          <a:xfrm>
            <a:off x="1420920" y="506520"/>
            <a:ext cx="7375320" cy="452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obsah 7"/>
          <p:cNvSpPr/>
          <p:nvPr/>
        </p:nvSpPr>
        <p:spPr>
          <a:xfrm>
            <a:off x="1720800" y="577800"/>
            <a:ext cx="695664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a o udržitelnos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Žadatel specifikuje aktivity, které povedou k udržitelnosti projektu a které jsou následně posuzovány hodnotiteli a výběrovou komisí. K udržení těchto výstupů je zavázán Rozhodnut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Příjemce dokládá udržitelnost projektu monitorovací zprávou jednou za rok nejpozději do 2 měsíců od uplynutí  ročního monitorovacího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Nesplnění povinnosti udržitelnosti je porušením rozpočtové kázně, za kterou může být udělena sankce až do výše poskytnuté dot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429680" y="4929120"/>
            <a:ext cx="1550880" cy="156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obsah 7"/>
          <p:cNvSpPr/>
          <p:nvPr/>
        </p:nvSpPr>
        <p:spPr>
          <a:xfrm>
            <a:off x="1655640" y="1095480"/>
            <a:ext cx="69566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Formy k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dministrativní kontroly projek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pravidelných monitorovacích zpráv; probíhá na pracovišti poskytovate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roly na místě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veřejnoprávní kontroly podle zák. č. 320/2001 Sb. o finanční kontrole ve veřejné správě   a zákona č.  552/1991 Sb. O státní kontrole, v souladu s nařízením rady EK č. 1083/2006 o obecných ustanoveních o Evropském fondu pro regionální rozvoj, Evropském sociálním fondu a Fondu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obsah 7"/>
          <p:cNvSpPr/>
          <p:nvPr/>
        </p:nvSpPr>
        <p:spPr>
          <a:xfrm>
            <a:off x="1655640" y="1744560"/>
            <a:ext cx="69566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esrovnalosti při realizac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akékoliv porušení smluvních podmínek stanovených v právním aktu či stanovených v příručce pro příjemce dotace nebo v nařízeních EK týkajících se čerpání finančních prostřed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ovatel dotace může uložit sankce, které jsou uvedeny v právním a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C:\Documents and Settings\gotzv\Local Settings\Temporary Internet Files\Content.IE5\LUHYZSFQ\MCj04241980000[1].wmf"/>
          <p:cNvPicPr/>
          <p:nvPr/>
        </p:nvPicPr>
        <p:blipFill>
          <a:blip r:embed="rId1"/>
          <a:stretch/>
        </p:blipFill>
        <p:spPr>
          <a:xfrm>
            <a:off x="6354720" y="4919760"/>
            <a:ext cx="1919160" cy="123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7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obsah 7"/>
          <p:cNvSpPr/>
          <p:nvPr/>
        </p:nvSpPr>
        <p:spPr>
          <a:xfrm>
            <a:off x="1655640" y="1744560"/>
            <a:ext cx="695664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Sank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monitorovacího indikátoru výsledku nebo výstupu o 10% - 2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2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indikátoru výsledku nebo výstupu o 25% -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100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Odstoupení od právního aktu v případě neplnění jakéhokoliv indikátoru výsledku nebo výstupu o více jak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obsah 7"/>
          <p:cNvSpPr/>
          <p:nvPr/>
        </p:nvSpPr>
        <p:spPr>
          <a:xfrm>
            <a:off x="1655640" y="382680"/>
            <a:ext cx="69566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ud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U všech projektů s podporou nad 3 miliony Kč audit autorizovanou firmou (zápis v seznamu auditorů vedeným Komorou auditorů ČR dle zákona č. 93/2009 Sb. O auditorech v platném zně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hodnotí stav projektu v auditovaném období; může být započat již v době realizac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se týká jak projektového účetnictví příjemce, tak projektového účetnictví partnerů s finančním příspěvkem (ověřuje správnost a úplnost zaúčtování, způsobilost výdajů, zhodnotí postup zakázek, ověření souladu s platným rozpočtem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Výdaje na nekvalitní audit s chybami nemusí poskytovatel uznat za způsobilý výdaj a může si vyžádat nový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643800" y="415800"/>
            <a:ext cx="1428480" cy="892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obsah 7"/>
          <p:cNvSpPr/>
          <p:nvPr/>
        </p:nvSpPr>
        <p:spPr>
          <a:xfrm>
            <a:off x="1655640" y="1031760"/>
            <a:ext cx="69566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rchivace v listinné i el. podob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 archivaci je příjemce i partneři zavázáni v právním a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in. do roku 2025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rchivaci po ukončení realizace proje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jsou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způsobilé výdaj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rchivace se řídí zákonem č. 563/199 Sb. o účetnictví, č. 235/2004 Sb. o DPH, č. 589/1992 Sb. o pojistném na soc. zabezpečení a příspěvku na SPZ, č. 592/1992 Sb. o pojistném a všeobecné zdravotní pojištění, č. 499/2004 Sb. O archivnictví a spisové službě a vyhláškami k tomuto zákonu č. 645/2004 Sb. a č. 646/2004 Sb. O podrobnostech výkonu spisové služ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440" y="577800"/>
            <a:ext cx="54864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a41d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čet dokumentů a výstupů projektu, které podléhají archivaci  -  kapitola 12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mínk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jistit trvalost zápisů písemných či elektronických po celou dobu archivace tj. do roku 20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Scany mizejících tisků, zálohovaní dat na vhodná média aj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080" y="2716200"/>
            <a:ext cx="68626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Marie Kaufner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jektový manaž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e.kaufner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lefon: 234 814 2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obsah 7"/>
          <p:cNvSpPr/>
          <p:nvPr/>
        </p:nvSpPr>
        <p:spPr>
          <a:xfrm>
            <a:off x="1655640" y="1095480"/>
            <a:ext cx="6956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ání projekt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edování průběhu realizace a efektivní využití finančních prostředků projektu v souladu s cíli OP V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klad pro kontroly a 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běr dat o aktivitách a dosažených hodnotách 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ouží též k včasné identifikaci rizik a zabránění nesrovnalo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6580080" y="4595760"/>
            <a:ext cx="1576440" cy="141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55280" y="1873080"/>
            <a:ext cx="71931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becně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Formuláře MZ včetně povinných příloh na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epsaná statutárním zástupcem či pověřenou osobou – 1 ks origin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slat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pošto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adresu Karmelitská 7, 118 12 Praha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bo donést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osobně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na odbor CERA – Křižíkova 34, Corso IIa, Praha – Karlín, 3. pa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Údaje na obálce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dre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méno přiděleného projektového manažer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egistrační číslo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známení: „Neotvírat – Monitorovací zpráva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délník 4"/>
          <p:cNvSpPr/>
          <p:nvPr/>
        </p:nvSpPr>
        <p:spPr>
          <a:xfrm>
            <a:off x="1655640" y="317520"/>
            <a:ext cx="7193160" cy="15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ůběž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věreč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nitorovací zpráva o udržitel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obsah 7"/>
          <p:cNvSpPr/>
          <p:nvPr/>
        </p:nvSpPr>
        <p:spPr>
          <a:xfrm>
            <a:off x="1655640" y="1031760"/>
            <a:ext cx="7021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Průběž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30 kalendářních dnů od ukončení monitorovacího období (monitorovací období poprvé 3 měsíce; 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pak 6 měsíců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dobí možno stanovovat podle přesných termínů nebo kalendářních měsí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Části MZ: věcná (podává se vž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inanční (jen se žádostí o platb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164360" y="3882960"/>
            <a:ext cx="142560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3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bdélník 4"/>
          <p:cNvSpPr/>
          <p:nvPr/>
        </p:nvSpPr>
        <p:spPr>
          <a:xfrm>
            <a:off x="2109960" y="706320"/>
            <a:ext cx="673884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Žádost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ouhrn všech způsobilých výdajů za uplynulé monitorovací období (soupiska účetních dokla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ůže zahrnovat i výdaje vzniklé v předchozím období, k nimž neměl příjemce v uvedenou dobu potřebn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Výše prostředků vyúčtovaných v žádostech o platbu se může maximálně rovnat výši poskytnuté záloh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Příjemce nemusí překládat účetní doklady do maximální hodnoty       10 000,- Kč (včetně DPH) za jeden účetní doklad – musí je mít ale          vždy k dispozici pro případnou kontrolu na místě. </a:t>
            </a:r>
            <a:r>
              <a:rPr b="1" lang="cs-CZ" sz="1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191280" y="4854600"/>
            <a:ext cx="1922400" cy="1646280"/>
          </a:xfrm>
          <a:prstGeom prst="rect">
            <a:avLst/>
          </a:prstGeom>
          <a:ln w="0">
            <a:noFill/>
          </a:ln>
        </p:spPr>
      </p:pic>
      <p:sp>
        <p:nvSpPr>
          <p:cNvPr id="68" name="Obdélník 6"/>
          <p:cNvSpPr/>
          <p:nvPr/>
        </p:nvSpPr>
        <p:spPr>
          <a:xfrm>
            <a:off x="1590840" y="189000"/>
            <a:ext cx="73231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9900"/>
                </a:solidFill>
                <a:latin typeface="Calibri"/>
              </a:rPr>
              <a:t>Monitorovací indikátor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každé MZ musí být průběžně sledováno plnění MI tak jak jsou uvedeny ve smlouvě ale také podle pohla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dodržení celkových MI je sankcionovatelné (nedodržení sledovaných indikátorů dle pohlaví není – nejedná se o porušení rozpočtové kázně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MZ se sledují KUMULATIVNÍ HODNOTY od počátk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být vedena průkazná evidence : záznamy o žácích, docházka, vydané certifikáty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utno dodržovat předpisy upravující ochranu osobních úda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! Vydána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etod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onitorovacích indikátor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Podnadpis 2"/>
          <p:cNvSpPr/>
          <p:nvPr/>
        </p:nvSpPr>
        <p:spPr>
          <a:xfrm>
            <a:off x="264312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obsah 7"/>
          <p:cNvSpPr/>
          <p:nvPr/>
        </p:nvSpPr>
        <p:spPr>
          <a:xfrm>
            <a:off x="1720800" y="447840"/>
            <a:ext cx="69566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ámitky vůči krácení částky v žádosti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ůvody krácení jsou vždy sděleny  písemně či elektroni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Příjemce může vznést námitku do 30 kalendářních dnů od doru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o 10 pracovních dnů od přijetí námitky je postup krácení částky ověř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O výsledku je příjemce informován do 5 pracovních dn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8720">
              <a:lnSpc>
                <a:spcPct val="100000"/>
              </a:lnSpc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53024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skytovatel může požadovat doplnění chybějících či neúplných informací – obecně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 15 pracovních dní či si může vyžádat informace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 kratší lhů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Zástupný symbol pro obsah 7" descr=""/>
          <p:cNvPicPr/>
          <p:nvPr/>
        </p:nvPicPr>
        <p:blipFill>
          <a:blip r:embed="rId1"/>
          <a:stretch/>
        </p:blipFill>
        <p:spPr>
          <a:xfrm>
            <a:off x="1292400" y="438120"/>
            <a:ext cx="7242120" cy="471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gotzv\Local Settings\Temporary Internet Files\Content.IE5\ZXF16QS5\MCj02899550000[1].wmf"/>
          <p:cNvPicPr/>
          <p:nvPr/>
        </p:nvPicPr>
        <p:blipFill>
          <a:blip r:embed="rId2"/>
          <a:stretch/>
        </p:blipFill>
        <p:spPr>
          <a:xfrm>
            <a:off x="5572080" y="4500720"/>
            <a:ext cx="2073240" cy="136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obsah 7"/>
          <p:cNvSpPr/>
          <p:nvPr/>
        </p:nvSpPr>
        <p:spPr>
          <a:xfrm>
            <a:off x="1851120" y="1225440"/>
            <a:ext cx="7021440" cy="42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Závěreč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2 měsíců po ukončen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projektů nad 3 mil. Kč se přikládá k žádosti o závěrečnou platbu závěrečný audit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jemce přikládá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ouhrnnou informaci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 realizaci projektu včetně publicity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1:18:55Z</dcterms:created>
  <dc:creator>ugh</dc:creator>
  <dc:description/>
  <dc:language>en-US</dc:language>
  <cp:lastModifiedBy>ugh</cp:lastModifiedBy>
  <dcterms:modified xsi:type="dcterms:W3CDTF">2009-12-09T17:28:35Z</dcterms:modified>
  <cp:revision>14</cp:revision>
  <dc:subject/>
  <dc:title>Snímek 1</dc:title>
</cp:coreProperties>
</file>