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1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E1F38-D8C3-4237-B470-98CAD660084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71DFD-1F58-4837-BDC2-F835C664930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F4D2C-F97C-439D-B7F6-3BF108204AA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07CEB-595F-4DCC-B56E-8DEC115A0ED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EBBC5-9814-47D7-B365-5F1E378B62E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1C9E0-6048-4C2C-8EB1-418387068A5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9F163-4CFF-4A66-9E2F-35BCAD5E36A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B39D0-7F7A-4BFC-ADBB-38FC56EF90F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A468A-E88F-44F9-AFEB-59332618B59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F4CD4-A3D0-457B-8EFE-61643AC842E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371EE-B843-403B-B2E0-FFE10C5D167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CBD7E-3CFA-4843-B86F-093617B605E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88C91-A3EA-4722-AFA5-48E3C7F6C96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70C-7BA4-47B3-A9F5-630EE37C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6FC-0C73-4B0C-8ABE-6753B1C8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07E-FA17-4204-AE0F-C6DFA7D2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92E-1987-45B4-9D01-E552B2DD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7C5-98C0-4404-A814-AB4BDD17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EAB-01BC-4ECC-BE12-D697E885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F28-F688-47B4-A0C8-67E7AB10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53C-F262-4B8B-BCE4-2ADFE4AA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27A-B495-4934-A532-121EF5A0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9F3-E55A-4183-9285-2D46E6AA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7AC-4773-4807-99E3-5C1DDC1F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306-588A-4DA7-87BA-8566173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47775E-8B8D-4E3B-9325-0E003E2C46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440" y="493200"/>
            <a:ext cx="7318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ocesy a  pravidla </a:t>
            </a: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realizace projektu</a:t>
            </a:r>
            <a:br>
              <a:rPr sz="4400"/>
            </a:br>
            <a:br>
              <a:rPr sz="4400"/>
            </a:br>
            <a:r>
              <a:rPr b="1" lang="cs-CZ" sz="2800" spc="-1" strike="noStrike">
                <a:solidFill>
                  <a:srgbClr val="f3912c"/>
                </a:solidFill>
                <a:latin typeface="Arial"/>
              </a:rPr>
              <a:t>Ing. Marie Kaufnerová</a:t>
            </a:r>
            <a:br>
              <a:rPr sz="2800"/>
            </a:br>
            <a:br>
              <a:rPr sz="2800"/>
            </a:br>
            <a:r>
              <a:rPr b="1" lang="cs-CZ" sz="1600" spc="-1" strike="noStrike">
                <a:solidFill>
                  <a:srgbClr val="f3912c"/>
                </a:solidFill>
                <a:latin typeface="Arial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datum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465D5-AE60-445E-AACC-8F797B13589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obsah 7"/>
          <p:cNvSpPr/>
          <p:nvPr/>
        </p:nvSpPr>
        <p:spPr>
          <a:xfrm>
            <a:off x="1897200" y="2136600"/>
            <a:ext cx="778644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 krajním případě odstoupit od právního aktu  OKAMŽITĚ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bezdůvodně, dlouhodobě a opakovaně neplní některou z povinností uvedených v právním aktu (např. dodávání MZ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v úpadku nebo v likvid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změní právní formu, aniž by to doložil poskytovatel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trola zjistí finanční podvody či jiná nekalá jednání příjem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tární orgán či zaměstnanec příjemce se dopustí trestného činu, jehož skutková podstata souvisí s realizací projektu, a je za to pravomocně odsou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jekt nesplňuje podmínky, za nichž byla finanční podpora přidělena, a příjemce nenavrhne jeho uspokojivou modifik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oupení PÍSEMNĚ, účinné dnem doručení příjemci, ruší se právní ak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72016-D584-4642-B206-F69F9AEBE35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5297C-D41E-4B57-B789-D58C24D2801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5"/>
          <p:cNvSpPr/>
          <p:nvPr/>
        </p:nvSpPr>
        <p:spPr>
          <a:xfrm>
            <a:off x="2182680" y="2637000"/>
            <a:ext cx="47149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lší možnost – zrušení DOHO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sí být písemné s uvedením důvodů, které vedly k ukončení účinnosti právního aktu včetně vzájemného vypořádání práv a závaz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Nadpis 5"/>
          <p:cNvSpPr/>
          <p:nvPr/>
        </p:nvSpPr>
        <p:spPr>
          <a:xfrm>
            <a:off x="1754280" y="636480"/>
            <a:ext cx="7740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6E3C7-0C66-4515-B525-D2B7F949E11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C:\Documents and Settings\kaufnerovam\Local Settings\Temporary Internet Files\Content.IE5\1ZMAVU8U\MCj04398210000[1].png"/>
          <p:cNvPicPr/>
          <p:nvPr/>
        </p:nvPicPr>
        <p:blipFill>
          <a:blip r:embed="rId2"/>
          <a:stretch/>
        </p:blipFill>
        <p:spPr>
          <a:xfrm>
            <a:off x="4479840" y="491004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D4E00-33CE-4E4D-A940-D1941A08540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5"/>
          <p:cNvSpPr/>
          <p:nvPr/>
        </p:nvSpPr>
        <p:spPr>
          <a:xfrm>
            <a:off x="2397240" y="1851120"/>
            <a:ext cx="62150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y proti postupu ŘO – možno podat do 15 pracovních dní od okamžiku doručení písemného vyrozum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Zasla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6 CERA – Implementace projektů strukturálních fon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nebudete spokojeni s řešením vaší námitky  odborem 46, můžete se poté obrátit 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1 – Odbor řízení OP VK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, který provede proše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     </a:t>
            </a: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a či její prošetření, by mělo být provedeno během 15 pracovních dní, u složitých případů do 20 pracovních 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Námitky a jejich řeš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176CD-1B92-478A-B8F9-770582D8205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kaufnerovam\Local Settings\Temporary Internet Files\Content.IE5\0C5TUC9H\MCj04398240000[1].png"/>
          <p:cNvPicPr/>
          <p:nvPr/>
        </p:nvPicPr>
        <p:blipFill>
          <a:blip r:embed="rId2"/>
          <a:stretch/>
        </p:blipFill>
        <p:spPr>
          <a:xfrm>
            <a:off x="8136000" y="42800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C4DF7-0276-42FB-9684-46F21910C0F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bdélník 5"/>
          <p:cNvSpPr/>
          <p:nvPr/>
        </p:nvSpPr>
        <p:spPr>
          <a:xfrm>
            <a:off x="1539720" y="1851120"/>
            <a:ext cx="77155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800" spc="-1" strike="noStrike">
                <a:solidFill>
                  <a:srgbClr val="262626"/>
                </a:solidFill>
                <a:latin typeface="Arial"/>
                <a:ea typeface="Lucida Sans Unicode"/>
              </a:rPr>
              <a:t>Příjemce je povinen všechny nově vytvořené produkty předat do vlastnictví poskytovatele, který je oprávněn je volně a bezplatně  šířit v časově, územně a množstevně neomezeném rozsa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je držitelem takových práv duševního vlastnictví vzniklých na základě zakázky jiná osoba než příjemce dotace, je příjemce dotace povinen ve smlouvě uzavřené s dodavatelem zajistit pro poskytovatele neomezenou bezplatnou licenci k využití těchto práv včetně možnosti  zcela nebo z části poskytnout třetí osobě opráv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utorská prá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C19F4-796A-437F-8B78-A17A15B4638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yvarovat se diskreditace cílové skupiny a tím i projektu samotné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vhodné si zajistit souhlas cílové skupiny s informováním  o aktivitách projektu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30176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AE354-8260-47DC-91DA-0B94C2F4E43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6469200" y="670860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vinnost příjemce vést evidenci cílové skupiny účastnící se akcí projektu (například prezenční listiny, seznamy, přihlášk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nezletilých osob zvážit zda není potřeba souhlas zákonného zástupce s účastí v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sp>
        <p:nvSpPr>
          <p:cNvPr id="136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BCA2A-F16F-4728-BAF8-3709046A215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8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při zajišťování a evidenci osobních údajů postupovat v souladu se zákonem č.101/2000 Sb., o ochraně osobních údajů (zajistit souhlas evidovaných osob či jejich zákonných zástupců s jejich využitím a způsobem využit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 Individuální projekty kde se poskytnutí fin. pomoci řídí zákonem č. 218/2000 Sb. o rozpočtových pravidlech (poskytovatel dotace vydá písemné rozhodnutí formou právního aktu, který zavazuje příjemce k naplňování monitorovacích indikátorů a jejich dokladování) není povinnost oznamovat zpracování osobních údajů Úřadu pro ochranu osobních údajů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6F606-ADF4-4BC2-AD3F-43FF9363C02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96840" y="850680"/>
            <a:ext cx="604836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6400" y="2851200"/>
            <a:ext cx="7564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. Marie Kaufn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 – oblast podpory 1.1 Zvyšování kvality ve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 46 -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mail: marie.kaufner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5C8E7-AC4C-4A21-93B2-03076CADBE7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7"/>
          <p:cNvSpPr/>
          <p:nvPr/>
        </p:nvSpPr>
        <p:spPr>
          <a:xfrm>
            <a:off x="1897200" y="1208160"/>
            <a:ext cx="76690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akceptace Rozhodnu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dější datum uvedené v projektové žád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uvedené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způsobilé se považují pouze výdaje vzniklé během realizace tj. mezi těmito d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0949B-D3F5-44F5-B65B-F6A397D2929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Nadpis 1"/>
          <p:cNvSpPr/>
          <p:nvPr/>
        </p:nvSpPr>
        <p:spPr>
          <a:xfrm>
            <a:off x="6397560" y="691668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Nadpis 5"/>
          <p:cNvSpPr/>
          <p:nvPr/>
        </p:nvSpPr>
        <p:spPr>
          <a:xfrm>
            <a:off x="1897200" y="422280"/>
            <a:ext cx="7929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tná změna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žná pouze v řádně odůvodněných a schválených případ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 data zahájení projektu do data ukonč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 datu ukončení pouze audit a mzdy pracovníků projektu za poslední měsíc realizace, vyúčtování zál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CF411-DA71-4072-AAC0-695B0416CA4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Zástupný symbol pro obsah 7"/>
          <p:cNvSpPr/>
          <p:nvPr/>
        </p:nvSpPr>
        <p:spPr>
          <a:xfrm>
            <a:off x="196848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edena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i poskytovatel podpory jsou oprávněni ukončit práci na projektu a jeho financování avšak pouze ze závažných důvod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73317-469C-4D18-9F6A-EF60C2D40A9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kaufnerovam\Local Settings\Temporary Internet Files\Content.IE5\RO1OPC4G\MCj04397990000[1].png"/>
          <p:cNvPicPr/>
          <p:nvPr/>
        </p:nvPicPr>
        <p:blipFill>
          <a:blip r:embed="rId2"/>
          <a:stretch/>
        </p:blipFill>
        <p:spPr>
          <a:xfrm>
            <a:off x="6413400" y="1339920"/>
            <a:ext cx="191304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obsah 7"/>
          <p:cNvSpPr/>
          <p:nvPr/>
        </p:nvSpPr>
        <p:spPr>
          <a:xfrm>
            <a:off x="1897200" y="1565280"/>
            <a:ext cx="766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ísemně k rukám poskytovatele formou návrhu na změnu právního aktu s novým datem ukonč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nejvýše dvouměsíční lhůtou uzavř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akceptace změnového právního aktu (Rozhodnutí o změně Rozhodnutí) začíná běžet lhůta pro uzavř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kud byl projekt financován v režimu zálohování  - odděleně evidovat výdaje uskutečněné po dni odeslání návrhu na ukončení projektu. Vyúčtování těchto výdajů (pokud nebudou řádně zdůvodněny v komentáři přiloženém k vyúčtování) nemusí být poskytovatelem  podpory akceptová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8510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5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6F7B9-D78A-41D3-9190-A0692654722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7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porušení podmínek právního aktu (nedodržení podmínek pro předčasné ukončení projek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vrátit neoprávněně vyplacené prostředky v plné výši a ve lhůtě stanovené poskytovat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8112240" y="2922480"/>
            <a:ext cx="1447560" cy="133056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A32A4-7FC9-47C2-B92D-EBB1C77CD78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3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je  při podezření na porušení rozpočtové kázně či porušení dalších povinností uvedených v právním aktu o poskytnutí podpory oprávně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vyzvat příjemce k okamžité nápravě zjištěných nedostatků a stanovit lhůty k nápra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preventivně pozastavit platby příjemci pod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20824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ADB5A-4A8A-4479-AE2E-78094344AC7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obsah 7"/>
          <p:cNvSpPr/>
          <p:nvPr/>
        </p:nvSpPr>
        <p:spPr>
          <a:xfrm>
            <a:off x="1897200" y="1636560"/>
            <a:ext cx="76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ypovědět právní akt o poskytnutí podpory pokud nedojde k nápravě zjištěných nedostatků ve stanovené lhůtě a to  s dvouměsíční výpovědní lhůtou na ukonč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árok příjemce na proplacení odpovídající části způsobilých výdajů bude posuzován poskytovatelem individuál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rátit do 20 pracovních dní od ukončení projektu( přes zřizovatele - 20 prac. d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D85AD-DFD9-45CA-B4A0-8075FCD80B2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Řízení o odnětí podpory může být zahájeno pokud došlo k porušení pravidel zákona č. 218/2000 Sb. O rozpočtových pravidl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k vázání prostředků státního rozpoč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ke zjištění, že podpora byla poskytnuta na základě neúplných či nepravdivých úda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právní akt byl vydán v rozporu se zákonem či právem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nemůže být řádně či včas splněn účel do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5EAE7-3AC0-4767-AB51-2F357512389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Documents and Settings\kaufnerovam\Local Settings\Temporary Internet Files\Content.IE5\SUKH4R2G\MCj04398220000[1].png"/>
          <p:cNvPicPr/>
          <p:nvPr/>
        </p:nvPicPr>
        <p:blipFill>
          <a:blip r:embed="rId2"/>
          <a:stretch/>
        </p:blipFill>
        <p:spPr>
          <a:xfrm>
            <a:off x="7362720" y="117324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4:43:31Z</dcterms:modified>
  <cp:revision>102</cp:revision>
  <dc:subject/>
  <dc:title>Snímek 1</dc:title>
</cp:coreProperties>
</file>