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847E4-1039-498B-A662-382D913ECDA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B3545-476E-4535-8C44-AB3648A236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29C2E-3E00-4407-A408-8E88818F63A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D1C8C-E4D7-4013-BA3D-1FAD7C1EF7C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CCA54-DC11-4332-86E9-D002C25B247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75C09-4084-4082-BF54-F07D660A7BF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B0D1C-3F52-4CFD-B326-E72734BF5A5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BA269-9974-40AF-9703-76E0269B7BE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C40A2-6C1B-4262-8B24-4E7690D7653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9AB49-41CE-4A42-91EE-2A7E79B8725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40AFE-3858-4027-ACDA-3CBCC21421F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2796E-9D64-4242-AF80-3FCF4C76B8F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4DA96-4399-4962-8708-9D2E7354872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74868-B923-4827-9339-A94451983BD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395A2-D9B0-454B-9A3A-AD692A9CEC3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BAE-6070-4BA1-AD3D-C6D3483B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7AF-2AA6-469D-9BD9-2EC4412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374-B10B-4084-B4BE-E97E8E2C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00B-2A0B-4A8B-9A54-D9A6BB68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59F-37B1-4FFA-B8B8-5A88920B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B02-CD2B-4790-B6F1-CB8976F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E31-9098-4A73-88D7-08A5D94B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B4D-873F-46E5-A31F-C5CFA65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120-B719-4449-A933-6F2E8EA7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91D-781A-4E54-91C6-CAAC8E3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295-E294-4DDC-822B-6BB595E3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1CB-4526-4E18-B635-69C48EF7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9EE786-60F5-400B-A65E-261C1CE307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Formy k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dministrativní kontroly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pravidelných monitorovacích zprá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y na míst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veřejnoprávní kontroly podle zák. č. 320/2001 Sb. a zákona 552/1991 Sb., v souladu s nařízením rady EK č. 108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Sa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% ze všech proplacených prostředků v případě neplnění jakéhokoliv indikátoru výsledku nebo výstupu o 10 % -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 % ze všech proplacených prostředků v případě neplnění jakéhokoliv indikátoru výsledku nebo výstupu o 25 % -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oupení od právního aktu v případě neplnění jakéhokoliv indikátoru výsledku nebo výstupu o více jak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všech projektů s podporou nad 3 miliony Kč audit autorizovanou firmou (člen komory audi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k auditora se přikládá k závěrečné žádosti o plat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dit se týká jak projektového účetnictví příjemce, tak projektového účetnictví partnerů s finančním příspěv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969240" y="5423040"/>
            <a:ext cx="2307960" cy="14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rchivace v listinné i el. pod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archivaci je příjemce zavázán v právním a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n. do roku 20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jemce je povinen zavázat k archivaci také partnery projektu (případně převzít materiály, týkající se realizace projektu, do své úsch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archivaci po ukončení realizace pro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é výdaj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82640" y="493560"/>
            <a:ext cx="78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áclav Gö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vaclav.gotz@msmt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edování využití finančních prostředk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klad pro kontroly a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eč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a o udržite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7540560" y="4137120"/>
            <a:ext cx="1736640" cy="15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252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30 kalendářních dnů od ukončení monitorovacího období (6 měsí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epsané statutárním zástup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alepené obálce s adresou poskytovatele, jménem příslušného PM a registračním číslem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897680" y="4280040"/>
            <a:ext cx="157176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Žádost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rn všech způsobilých výdajů za uplynulé monitorovac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ahrnovat i výdaje vzniklé v předchozím období, k nimž neměl příjemce v uvedenou dobu potřebné do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826320" y="4759200"/>
            <a:ext cx="2117520" cy="18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313704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ámitky vůči krácení částky v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 krácení jsou vždy sděleny                    písemně či elektron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může vznést námitku do 30 kalendářních dnů od dor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0 pracovních dnů od přijetí námitky je postup krácení částky ověř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výsledku je příjemce informován do 5 pracovních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imořádná 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oprávněn předložit mimořádnou monitorovací zprávu spolu s žádostí o proplacení uznatelných nákladů v kratším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ná monitorovací období je opět šestiměsíční a počítá se od podání mimořádné průběžné monitorovací zprá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gotzv\Local Settings\Temporary Internet Files\Content.IE5\ZXF16QS5\MCj02899550000[1].wmf"/>
          <p:cNvPicPr/>
          <p:nvPr/>
        </p:nvPicPr>
        <p:blipFill>
          <a:blip r:embed="rId1"/>
          <a:stretch/>
        </p:blipFill>
        <p:spPr>
          <a:xfrm>
            <a:off x="6826320" y="535140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ávěreč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 měsíc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rojektů nad 3 mil. Kč se přikládá k žádosti o závěrečnou platbu aud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řikládá souhrnnou informaci o realizaci projektu včetně publicity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spěvek z ESF bude zachován, pokud projekt v následujících 5 letech po ukončení neprojde podstatnou změnou, kt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í povahu projektu nebo výsled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e realizátorům nepatřičnou výho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ke změně vlastnictví či zastavení produktivní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itelnost je specifikována v právním aktu dle žádosti příjem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jetek pořízený v křížovém financování musí být nadále využíván v souladu s podpo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dokládá udržitelnost projektu monitorovací zprávou jednou za rok nejpozději do 2 měsíců od uplynutí prvního ročního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397640" y="5137200"/>
            <a:ext cx="171000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31:39Z</dcterms:modified>
  <cp:revision>104</cp:revision>
  <dc:subject/>
  <dc:title>Snímek 1</dc:title>
</cp:coreProperties>
</file>