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0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A79A-04B1-4CF8-A96C-6BB2BADF0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2720"/>
                <a:tab algn="l" pos="2465280"/>
                <a:tab algn="l" pos="2878200"/>
                <a:tab algn="l" pos="3289320"/>
                <a:tab algn="l" pos="3700440"/>
                <a:tab algn="l" pos="4111560"/>
                <a:tab algn="l" pos="4524480"/>
                <a:tab algn="l" pos="4933800"/>
                <a:tab algn="l" pos="5348160"/>
                <a:tab algn="l" pos="5759280"/>
                <a:tab algn="l" pos="6168960"/>
                <a:tab algn="l" pos="6583320"/>
                <a:tab algn="l" pos="6993000"/>
                <a:tab algn="l" pos="7405560"/>
                <a:tab algn="l" pos="7816680"/>
                <a:tab algn="l" pos="8228160"/>
                <a:tab algn="l" pos="8229600"/>
                <a:tab algn="l" pos="9144000"/>
                <a:tab algn="l" pos="10058400"/>
              </a:tabLst>
            </a:pPr>
            <a:fld id="{2975E144-6A30-4CC1-9955-1E1CFCF62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004760" y="695160"/>
            <a:ext cx="484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7AA-E205-4B57-B4E2-D8FCC251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D6D-0281-4FF1-90D0-BB380E2D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1C3-FC42-4010-98CF-2B5E1BDD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F06-41E3-4FA7-9D9B-FFEE187E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C49-2B21-473D-9D53-914F902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985-FE64-4A78-96A0-48AB1C5D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8DC-B3CF-459A-AF43-30F1AAA4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A78-98A8-4532-AFAC-26E7E45F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BAA-67B3-46CB-BF80-B633869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EA0-92AA-47FC-B3F8-3D5EEAA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310-301E-4A87-BF76-91BD0065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797-AC62-4210-9C9C-06501B3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0DED-B394-4A2B-8474-4BEFE0EA69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Petra Zláma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etra.zlamal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7520" y="290952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320" y="1428840"/>
            <a:ext cx="7143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14680" y="1357200"/>
            <a:ext cx="7286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Jane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Petra Kalin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Jana Liter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Dana Mihul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Ivana Vost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+ 7 PM/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dělení 461 (PO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101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2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6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9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10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ovéPole 23"/>
            <p:cNvSpPr/>
            <p:nvPr/>
          </p:nvSpPr>
          <p:spPr>
            <a:xfrm>
              <a:off x="5543280" y="3643200"/>
              <a:ext cx="13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= vlast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25"/>
            <p:cNvSpPr/>
            <p:nvPr/>
          </p:nvSpPr>
          <p:spPr>
            <a:xfrm>
              <a:off x="5543280" y="3363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FM/ F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6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9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71800" y="1785600"/>
            <a:ext cx="6500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 2 - Terciární vzdělávání, výzkum a vý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4 -  Partnerství a sí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á alokace výzv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25 0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2. 2. – 3. 4. 2009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858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zva číslo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 270 983 440,44 K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56880" y="200016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em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navýšena o 17 051 405,36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rojektů k realizaci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3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sledk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etra Zlámalo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ra.zlamalova@msmt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01:55Z</dcterms:created>
  <dc:creator>Zlámalová Petra </dc:creator>
  <dc:description/>
  <dc:language>en-US</dc:language>
  <cp:lastModifiedBy>ugh</cp:lastModifiedBy>
  <dcterms:modified xsi:type="dcterms:W3CDTF">2009-12-09T07:33:06Z</dcterms:modified>
  <cp:revision>5</cp:revision>
  <dc:subject/>
  <dc:title>Zahájení semináře   Ing. Petra Zlámalová</dc:title>
</cp:coreProperties>
</file>