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BA4F6-03BA-4750-9A0C-C1910F56BAB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F5254-7ADC-4D98-813F-00816D45019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94C19-56F0-4A5A-8C68-AEC36864FCA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DC7C1-E60F-4C50-88E7-B1D75F40DE0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BBA42-65CF-4307-A620-CF70397B5B1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9321E-3FD1-4D89-A41D-0A94FE3A424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FFD1C-9306-440C-99D0-9D8202B52CF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4A4AF-B890-4466-9172-54DF23D6186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F4BC2-8B8D-48B6-ADE2-A2B5BA8926E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A6EF0-975F-41F7-A62C-6B7AF95E0CB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C92-0C32-4A30-AAC7-4244A977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0EF-8B96-4DFC-9899-5C65A78B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46C-B569-4802-96E9-783D9B02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558-6026-4D3E-98C0-E585E2A8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156-51B1-4FD6-AF14-1A2D82EA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3C9-300B-43B8-97B4-44562D97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C51-6A0B-48E5-9164-0287DB8C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1AB-55D7-42DB-A1E7-AE329845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A91-139B-41FE-9571-2DF289F0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60E-650E-42D6-8978-27F9186C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0FA-0BD3-4D7A-AAA3-EB88B2F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43E-1EF0-4365-8714-96DD93D6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39C041-96D0-40EE-8E7B-FD3E9F73B4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500280" cy="10000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20780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 (osobně, e-mailem; např. o grafických návrzích připravovaných informačních materiá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3:57:31Z</dcterms:modified>
  <cp:revision>94</cp:revision>
  <dc:subject/>
  <dc:title>Snímek 1</dc:title>
</cp:coreProperties>
</file>