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C7BD6-D21B-49B4-8744-D36B06300A9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3FEBE-15E6-41C1-BBEA-C2928172DC0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4A840-EE91-48F0-8D29-FE10B6938F4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D8FE6-1A42-4819-81FC-3EFA7501B8B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5AF1C-2A73-4A52-8BA1-CFFECAAAE34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070CA-0A82-4269-971C-2FCEA2769B2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E5748-E26C-4A7E-A1BE-CD1FE0055D7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C630A-4A8E-4DB2-82ED-9CA0AC9AC48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F9A98-6405-4673-90F8-6DAA3E7D32F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DA57E-FEAA-45D4-8DD5-370A4C9BE2D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ED856-BE70-43B2-AB16-3B1E9ABF0DE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C2264-9CD8-4AFF-97A3-0B8B56880DF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7B1CE-8D89-4807-874B-486A028A18E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A456B-3FB9-4A24-A495-B4A1583E6EE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7D07F-75C7-454F-B8BE-73609BA6382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0FA-64F7-4DFC-9475-80DDDC0F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C89-8031-4822-B738-DD358D7C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BBD-64E7-4DB7-8316-7E76C51B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D35-3306-4AE8-8DAD-9C7DA8A0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D93-C799-41A4-817B-72C497D1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26B-4437-4AE1-B57A-F6D7A09F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3FD-B5C0-4BF8-BFE1-6EA7963E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532-D108-41C9-9AC9-FE762BFB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FC0-A8F5-4585-AC7F-261423EB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89F-D4AB-4337-893C-0A15133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0F7-4E11-4310-A3D4-D0FB594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C77-A51E-479F-BA57-C46FD03E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52D6CF-2773-48CD-9BBF-BACB75E9C4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realizace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52280" y="3075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 krajním případě odstoupit od právního aktu pok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bezdůvodně, dlouhodobě a opakovaně neplní některou z povinností uvedených v právním a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je v úpadku nebo v likvid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změní právní formu aniž by to doložil poskyt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zjistí finanční podvody či se příjemce dopustí trestného činu, jehož skutková podstata souvisí s realizací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nesplňuje podmínky, za nichž byla finanční podpora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arovat se diskreditace cílové skupiny či projektu samotn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hodné si zajistit souhlas cílové skupiny s účastí na aktivitách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99404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postupovat v souladu se zákonem č.101/2000 Sb., o ochraně osobních údaj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Individuální projekty dále platí zákon č. 218/2000 Sb. o rozpočtových pravidl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dotace vydá písemné rozhodnutí formou právního aktu, který zavazuje příjemce k naplňování monitorovacích indikátorů a jejich doklad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řehled MI pro OP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20 Počet osob poskytujících služby nebo podporujících poskytování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soby, které v rámci projektu vzdělávají cílovou skupin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00 Počet podpořených oso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 cílové skupiny 07.41.01 – muži a 07.41.01 – že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2.70 Počet zapojených partne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artner = ten kdo uzavře s žadatelem smlouvu o partnerstv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ost příjemce vést evidenci cílové skupiny (například presenční listin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nezletilých osob je vhodné zajistit souhlas zákonného zástupce s účastí v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akceptace Rozhod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dější datum uvedené v projektové žád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uvedené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statná změna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á pouze v řádně odůvodněných a schválených případ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data zahájení projektu do data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datu ukončení pouze výdaje bezprostředně související s realizací projektu např. audit projektu, mzdy pracovníků projektu, kteří uzavírají projekt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edena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příjemce nerealizuje projekt v souladu se smluvními podmínk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i poskytovatel podpory jsou oprávněni ukončit práci na projektu a jeho financ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ísemně k rukám poskytovatele formou návrhu na změnu právního aktu s novým datem ukon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nejvýše dvouměsíční lhůtou uzavř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akceptace (rozhodnutí o změně Rozhodnutí) začíná běžet lhůta pro uzavř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142236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porušení podmínek právního aktu (nedodržení podmínek pro předčasné ukončení projek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vrátit neoprávněně vyplacené prostředky v plné výši a ve lhůtě stanovené poskytovat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7969320" y="1636560"/>
            <a:ext cx="1447560" cy="133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kontrolovat podezření na porušení rozpočtové kázně či rozpočtových pravi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vyzvat příjemce k okamžité nápravě zjištěných nedostatků a stanovit lhůty k náprav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je oprávněn preventivně pozastavit platby příjemci podp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06532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ypovědět právní akt o poskytnutí podpory s dvouměsíční výpovědní lhůtou na ukonč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příjemce na proplacení způsobilých výdajů bude posuzován poskytovatelem individuá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o odnětí podpory může být zahájeno pokud doš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vázání prostředků státního rozpoč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zjištění, že poskytnuté údaje jsou neúplné či nepravdiv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ní akt byl vydán v rozporu se zákonem či právem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ůže být řádně či včas splněn účel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46:59Z</dcterms:modified>
  <cp:revision>102</cp:revision>
  <dc:subject/>
  <dc:title>Snímek 1</dc:title>
</cp:coreProperties>
</file>