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DBCB8-70AB-4EDE-8D57-40CE135B78C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0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57777-F89E-4766-B45A-E63A9826374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59F64-CF47-4B7F-B0D3-2B64A19ACCC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14460-087E-4370-B732-4FD62037BB1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D9B3C-7CF0-403F-9B09-93F7BCF3541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5FC39-F0BC-46EE-B7BF-3F0BCF90E10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1C282-05BE-4FC6-9E14-79C86BB5B79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89D75-4A5C-4BC1-873A-60013CC39C5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C3E94-3B3E-487F-A157-E34FC9290F1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6F648-942C-49C5-AB1E-CAE5B782934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C6513-799F-4C90-A54F-51FC658F52E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18EB7-5EAD-496B-9C89-F121F55EB53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925B2-58E5-4103-A513-0601C83FBA6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B472D-F46B-4675-BD76-EB2ECBEA700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17233-230B-44D6-8659-08C0D2AD0D8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8F6-195E-49C0-99CC-8182CCB3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CB4-603F-4FD8-AFF5-079C8185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0213-04CE-4B21-962F-42158916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C0B3-5031-4AA6-AC04-C1043AAB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D5A-9AED-495B-B47F-E4043FFE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B27-55DA-444D-839D-4ADDCF12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BD9-47A8-4398-9659-6D813574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046-9DC5-4E4B-8C28-DA00F30B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25A-2133-47C6-BA2F-9CAB4B5D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CE6-A989-487A-9959-53D48CAA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C59-DC8D-4D69-8BE9-FDBB0B89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47C1-59F1-4305-A2A2-7DB328A6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9F3801-48A4-43B1-97A2-B0210F520D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780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realizace projekt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, verze 2, ze dne 15.4.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z Evropského sociálního fondu a státního rozpočtu České republik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52280" y="3075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dstoupení od právního a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může v krajním případě odstoupit od právního aktu pok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bezdůvodně, dlouhodobě a opakovaně neplní některou z povinností uvedených v právním a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je v úpadku nebo v likvida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změní právní formu aniž by to doložil poskytovate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rola zjistí finanční podvody či se příjemce dopustí trestného činu, jehož skutková podstata souvisí s realizací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jekt nesplňuje podmínky, za nichž byla finanční podpora přidě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Documents and Settings\gotzv\Local Settings\Temporary Internet Files\Content.IE5\ZXF16QS5\MCj03597570000[1].wmf"/>
          <p:cNvPicPr/>
          <p:nvPr/>
        </p:nvPicPr>
        <p:blipFill>
          <a:blip r:embed="rId1"/>
          <a:stretch/>
        </p:blipFill>
        <p:spPr>
          <a:xfrm>
            <a:off x="7969320" y="1353960"/>
            <a:ext cx="1274760" cy="125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stupy při oslovování cílových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varovat se diskreditace cílové skupiny či projektu samotné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vhodné si zajistit souhlas cílové skupiny s účastí na aktivitách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:\Documents and Settings\gotzv\Local Settings\Temporary Internet Files\Content.IE5\84NCG0JY\MCj02382830000[1].wmf"/>
          <p:cNvPicPr/>
          <p:nvPr/>
        </p:nvPicPr>
        <p:blipFill>
          <a:blip r:embed="rId1"/>
          <a:stretch/>
        </p:blipFill>
        <p:spPr>
          <a:xfrm>
            <a:off x="8612280" y="1994040"/>
            <a:ext cx="1143000" cy="15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chrana osobních úda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povinen postupovat v souladu se zákonem č.101/2000 Sb., o ochraně osobních údaj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Individuální projekty dále platí zákon č. 218/2000 Sb. o rozpočtových pravidl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dotace vydá písemné rozhodnutí formou právního aktu, který zavazuje příjemce k naplňování monitorovacích indikátorů a jejich doklad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gotzv\Local Settings\Temporary Internet Files\Content.IE5\ZXF16QS5\MCBD05027_0000[1].wmf"/>
          <p:cNvPicPr/>
          <p:nvPr/>
        </p:nvPicPr>
        <p:blipFill>
          <a:blip r:embed="rId1"/>
          <a:stretch/>
        </p:blipFill>
        <p:spPr>
          <a:xfrm>
            <a:off x="7826400" y="177156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řehled MI pro OP 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1.20 Počet osob poskytujících služby nebo podporujících poskytování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soby, které v rámci projektu vzdělávají cílovou skupin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1.00 Počet podpořených oso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z cílové skupiny 07.41.01 – muži a 07.41.01 – žen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2.70 Počet zapojených partne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artner = ten kdo uzavře s žadatelem smlouvu o partnerství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Evidence osob z cílové skup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innost příjemce vést evidenci cílové skupiny (například presenční listin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le evidence se provádí monitoring a kontrola výdajů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nezletilých osob je vhodné zajistit souhlas zákonného zástupce s účastí v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Documents and Settings\gotzv\Local Settings\Temporary Internet Files\Content.IE5\YAIUOI0Q\MCj04040350000[1].wmf"/>
          <p:cNvPicPr/>
          <p:nvPr/>
        </p:nvPicPr>
        <p:blipFill>
          <a:blip r:embed="rId1"/>
          <a:stretch/>
        </p:blipFill>
        <p:spPr>
          <a:xfrm>
            <a:off x="8326440" y="1779480"/>
            <a:ext cx="1198440" cy="134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aháj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um akceptace Rozhod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dější datum uvedené v projektové žád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um uvedené v právním a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gotzv\Local Settings\Temporary Internet Files\Content.IE5\DBCR952T\MCj03359370000[1].wmf"/>
          <p:cNvPicPr/>
          <p:nvPr/>
        </p:nvPicPr>
        <p:blipFill>
          <a:blip r:embed="rId1"/>
          <a:stretch/>
        </p:blipFill>
        <p:spPr>
          <a:xfrm>
            <a:off x="7326360" y="1994040"/>
            <a:ext cx="1944720" cy="166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měna data ukon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statná změna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á pouze v řádně odůvodněných a schválených případ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působilé výdaj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 data zahájení projektu do data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datu ukončení pouze výdaje bezprostředně související s realizací projektu např. audit projektu, mzdy pracovníků projektu, kteří uzavírají projekt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Délka tr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edena v právním a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déle 36 měsíců od přijetí právního aktu s nejzazším datem ukončení 30.6. 20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příjemce nerealizuje projekt v souladu se smluvními podmínk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i poskytovatel podpory jsou oprávněni ukončit práci na projektu a jeho financ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říjemc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ísemně k rukám poskytovatele formou návrhu na změnu právního aktu s novým datem ukonč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nejvýše dvouměsíční lhůtou uzavř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řípadě akceptace (rozhodnutí o změně Rozhodnutí) začíná běžet lhůta pro uzavření aktiv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yužité prostředky ve prospěch projektu musí být vráceny do 20 pracovních dnů po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gotzv\Local Settings\Temporary Internet Files\Content.IE5\LUHYZSFQ\MCj04326440000[1].png"/>
          <p:cNvPicPr/>
          <p:nvPr/>
        </p:nvPicPr>
        <p:blipFill>
          <a:blip r:embed="rId1"/>
          <a:stretch/>
        </p:blipFill>
        <p:spPr>
          <a:xfrm>
            <a:off x="7969320" y="142236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11000" y="1779120"/>
            <a:ext cx="7886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eoprávněné předčasné ukonč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řípadě porušení podmínek právního aktu (nedodržení podmínek pro předčasné ukončení projekt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povinen vrátit neoprávněně vyplacené prostředky v plné výši a ve lhůtě stanovené poskytovate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C:\Documents and Settings\gotzv\Local Settings\Temporary Internet Files\Content.IE5\7WLRSXM1\MCj04247840000[1].wmf"/>
          <p:cNvPicPr/>
          <p:nvPr/>
        </p:nvPicPr>
        <p:blipFill>
          <a:blip r:embed="rId1"/>
          <a:stretch/>
        </p:blipFill>
        <p:spPr>
          <a:xfrm>
            <a:off x="7969320" y="1636560"/>
            <a:ext cx="1447560" cy="133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zastavení podpory z OP V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je oprávněn kontrolovat podezření na porušení rozpočtové kázně či rozpočtových pravi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je oprávněn vyzvat příjemce k okamžité nápravě zjištěných nedostatků a stanovit lhůty k náprav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je oprávněn preventivně pozastavit platby příjemci podp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gotzv\Local Settings\Temporary Internet Files\Content.IE5\YAIUOI0Q\MCj04315090000[1].png"/>
          <p:cNvPicPr/>
          <p:nvPr/>
        </p:nvPicPr>
        <p:blipFill>
          <a:blip r:embed="rId1"/>
          <a:stretch/>
        </p:blipFill>
        <p:spPr>
          <a:xfrm>
            <a:off x="8112240" y="2065320"/>
            <a:ext cx="1400040" cy="140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oskytovatelem finanční pod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může vypovědět právní akt o poskytnutí podpory s dvouměsíční výpovědní lhůtou na ukončení aktiv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ok příjemce na proplacení způsobilých výdajů bude posuzován poskytovatelem individuá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Řízení o odnětí pod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o odnětí podpory může být zahájeno pokud doš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vázání prostředků státního rozpoč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 zjištění, že poskytnuté údaje jsou neúplné či nepravdiv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ní akt byl vydán v rozporu se zákonem či právem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může být řádně či včas splněn účel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2:46:59Z</dcterms:modified>
  <cp:revision>102</cp:revision>
  <dc:subject/>
  <dc:title>Snímek 1</dc:title>
</cp:coreProperties>
</file>