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dt" idx="7"/>
          </p:nvPr>
        </p:nvSpPr>
        <p:spPr>
          <a:xfrm>
            <a:off x="3828600" y="0"/>
            <a:ext cx="2932200" cy="488880"/>
          </a:xfrm>
          <a:prstGeom prst="rect">
            <a:avLst/>
          </a:prstGeom>
          <a:noFill/>
          <a:ln w="0">
            <a:noFill/>
          </a:ln>
        </p:spPr>
        <p:txBody>
          <a:bodyPr lIns="0" rIns="0" tIns="0" bIns="0" anchor="t">
            <a:noAutofit/>
          </a:bodyPr>
          <a:lstStyle>
            <a:lvl1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r>
              <a:rPr b="0" lang="cs-CZ" sz="1300" spc="-1" strike="noStrike">
                <a:solidFill>
                  <a:srgbClr val="000000"/>
                </a:solidFill>
                <a:latin typeface="Times New Roman"/>
              </a:rPr>
              <a:t>10.12.2009</a:t>
            </a:r>
            <a:endParaRPr b="0" lang="en-US" sz="1300" spc="-1" strike="noStrike">
              <a:solidFill>
                <a:srgbClr val="000000"/>
              </a:solidFill>
              <a:latin typeface="Times New Roman"/>
            </a:endParaRPr>
          </a:p>
        </p:txBody>
      </p:sp>
      <p:sp>
        <p:nvSpPr>
          <p:cNvPr id="90" name="PlaceHolder 5"/>
          <p:cNvSpPr>
            <a:spLocks noGrp="1"/>
          </p:cNvSpPr>
          <p:nvPr>
            <p:ph type="ftr" idx="8"/>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E0CA63-0E4D-4DB0-AB67-21F26B53D24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E7D198-5E4F-4750-9861-07AC5291544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E54A1D0-6290-4CF4-9336-89F0AA7C664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13A11BB-9F66-43BF-A1BF-28B79B59BBC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2045358-E4E6-48D6-9836-E44B1E57FEC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8E319AF-70A3-440D-876C-2BBCA4CA1E1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80C3B2A-142E-499F-9B38-30B7BD1C08F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034FFD9-F056-428D-A673-DE78876CAE1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B91B1B-54E4-4ECB-9AE4-303939BCC5C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983158-F18C-4E19-8761-0436CE51CA4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00D845F-6D97-44EB-AA33-9BF3D31C85E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C7A4655-C004-4173-82D6-39CE3969A6E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89BE83-9828-4C25-8793-76D1CD9A35B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B11BD6-1DAE-4212-83D8-1D122389A94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0CD9D56-8761-46F8-A84E-6DE69C41227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829DC4-7B9C-465F-8F4B-CB23A2CDD28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36D805-1ECD-4C37-8ABE-6B9B6119949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E26F22-F450-4822-AA51-F1A7C85F28C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0B40AF-CA69-4FC4-84CC-0D813A02ACD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69DEB53-A60A-45E1-832F-373ACC1ED61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D198E6-646F-49A8-8FD6-E35B247BD1B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06BA28-DCAF-41AA-AB60-F2CB914784C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270DD40-459B-406F-960B-1BA813CF20D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A7F7EE-A885-4F99-A4B6-F9CEE03547E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6AFB8C5-A24E-4A5F-AF0C-C17AE243A24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A1D572-493D-46E8-BC77-FF0BA629CE8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C10010D-356D-4AF5-AC29-33611241665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5F74E-08A4-4D61-906A-7D5AB9F59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2DDE-97BD-4C15-B680-5953BF4E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26492-D7B8-4E99-AE24-32937278E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14BC7-3B77-4EBB-AE26-C60F65BA5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CCBB3-DFFF-449E-8D60-9E714A842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A0611-D3B3-46C3-BD41-CB8EE32B9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8F768-3D94-4208-A44F-D25D73E6C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8CBF7-B5D0-4E72-9761-D56815AA9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CDCEB-4254-414D-A730-D09062A8E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2CC5B-3E9D-42BB-9EB3-ACCFAFF8D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3F5F-9D18-4EB2-84BC-9A54B3A3F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F200-12CF-4B89-8BA2-0A549FEA4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B9AF9-9048-4357-AB8D-90B003466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FB78-6338-46A9-BD94-B89D978FA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C4C6C-1569-4768-9E31-BFEE10B50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485B0-FA49-458D-B135-CF7DE149C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A7DA8-64C2-4E94-8CA9-1E3AD16EA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24E4A-0A4B-4C32-833A-F0A7558A0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1217-9E19-4496-88B1-1B5E33451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61B8-7606-4167-8BB4-484938850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199C5-080F-47B5-8B80-1BDD6E480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94256-822D-4FC9-807D-43A0558DA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71A36-FAFE-481F-8CC7-4F0DB2642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91D7-7D16-44B8-879A-630B7400F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634CDF7-FACD-4F43-B58B-9721FBB75DF3}"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137040"/>
            <a:ext cx="1447920" cy="412416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9995560-64B0-4480-9D42-508CEE203959}"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192240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400" spc="-1" strike="noStrike">
                <a:solidFill>
                  <a:srgbClr val="f3912c"/>
                </a:solidFill>
                <a:latin typeface="Arial"/>
              </a:rPr>
              <a:t>Prezentace pro příjemce IPo,kteří se řídí Příručkou pro příjemce, verze 2, ze dne 15.4.2009</a:t>
            </a:r>
            <a:r>
              <a:rPr b="1" lang="cs-CZ" sz="3200" spc="-1" strike="noStrike">
                <a:solidFill>
                  <a:srgbClr val="f3912c"/>
                </a:solidFill>
                <a:latin typeface="Arial"/>
              </a:rPr>
              <a:t>.</a:t>
            </a:r>
            <a:endParaRPr b="0" lang="en-US" sz="32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max. 1200 Kč,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 max. 300 Kč)</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 (stravné max. 300 Kč, ubytování  v ČR max. 1200 Kč)</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 max. 1200 Kč</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 max. 300 Kč</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zva 07, 09 – nelze vytvářet příjm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způsobilý výdaj</a:t>
            </a:r>
            <a:endParaRPr b="0" lang="en-US" sz="2400" spc="-1" strike="noStrike">
              <a:solidFill>
                <a:srgbClr val="000000"/>
              </a:solidFill>
              <a:latin typeface="Arial"/>
            </a:endParaRPr>
          </a:p>
          <a:p>
            <a:pPr lvl="2" marL="91440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4T14:24:02Z</dcterms:modified>
  <cp:revision>168</cp:revision>
  <dc:subject/>
  <dc:title>Nadpis</dc:title>
</cp:coreProperties>
</file>