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10.12.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04370-8ED2-4C02-BC65-B10926CF47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07880"/>
                <a:tab algn="l" pos="819000"/>
                <a:tab algn="l" pos="1231920"/>
                <a:tab algn="l" pos="1643040"/>
                <a:tab algn="l" pos="2052720"/>
                <a:tab algn="l" pos="2465280"/>
                <a:tab algn="l" pos="2878200"/>
                <a:tab algn="l" pos="3289320"/>
                <a:tab algn="l" pos="3700440"/>
                <a:tab algn="l" pos="4111560"/>
                <a:tab algn="l" pos="4524480"/>
                <a:tab algn="l" pos="4933800"/>
                <a:tab algn="l" pos="5348160"/>
                <a:tab algn="l" pos="5759280"/>
                <a:tab algn="l" pos="6168960"/>
                <a:tab algn="l" pos="6583320"/>
                <a:tab algn="l" pos="6993000"/>
                <a:tab algn="l" pos="7405560"/>
                <a:tab algn="l" pos="7816680"/>
                <a:tab algn="l" pos="8228160"/>
                <a:tab algn="l" pos="8229600"/>
                <a:tab algn="l" pos="9144000"/>
                <a:tab algn="l" pos="10058400"/>
              </a:tabLst>
            </a:pPr>
            <a:fld id="{5533BB52-CF20-4A7A-9128-FE5E9E65E7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"/>
          <p:cNvSpPr/>
          <p:nvPr/>
        </p:nvSpPr>
        <p:spPr>
          <a:xfrm>
            <a:off x="1004760" y="695160"/>
            <a:ext cx="484668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AD4C3-4397-4342-8C45-976AADF7C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26C42-929D-4B7D-B4A4-D0C5FC3F6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1D56B-158C-4BAF-AC2C-1BDEE8E98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0A2FC-9AC9-4C1C-87E4-EBACB7D99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2161E-4294-40DB-B333-E41D15F10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A29DD-069B-44AA-BAFA-05B37CA58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9E01E-83A0-447C-9C9E-FFF40C424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D9DDC-DC44-4864-86CB-753177739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FEE19-2D79-4C53-94CB-533FECAC9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0A33B-D043-48DC-988A-36E511D7D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FCB80-FF4A-4E9B-81B8-4C895DDE5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D43F3-D618-4F1E-9F63-EBECD9665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83D2C-BF55-4504-8372-75FA2B2F1AC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ástupný symbol pro číslo snímku 5"/>
          <p:cNvSpPr/>
          <p:nvPr/>
        </p:nvSpPr>
        <p:spPr>
          <a:xfrm>
            <a:off x="7358040" y="6278400"/>
            <a:ext cx="1500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ástupný symbol pro číslo snímku 5"/>
          <p:cNvSpPr/>
          <p:nvPr/>
        </p:nvSpPr>
        <p:spPr>
          <a:xfrm>
            <a:off x="4286160" y="6286680"/>
            <a:ext cx="1500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ástupný symbol pro text 8"/>
          <p:cNvSpPr/>
          <p:nvPr/>
        </p:nvSpPr>
        <p:spPr>
          <a:xfrm>
            <a:off x="1714680" y="6286680"/>
            <a:ext cx="349236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4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7f7f7f"/>
                </a:solidFill>
                <a:latin typeface="Calibri"/>
              </a:rPr>
              <a:t>Ing. Petra Zlámalov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mailto:petra.zlamalova@msmt.cz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757520" y="2909520"/>
            <a:ext cx="7386480" cy="2398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Calibri"/>
              </a:rPr>
              <a:t>Zahájení semináře</a:t>
            </a:r>
            <a:br>
              <a:rPr sz="4000"/>
            </a:br>
            <a:br>
              <a:rPr sz="4000"/>
            </a:br>
            <a:br>
              <a:rPr sz="2000"/>
            </a:br>
            <a:r>
              <a:rPr b="1" lang="cs-CZ" sz="2900" spc="-1" strike="noStrike">
                <a:solidFill>
                  <a:srgbClr val="000000"/>
                </a:solidFill>
                <a:latin typeface="Calibri"/>
              </a:rPr>
              <a:t>Ing. Petra Zlámalová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5" descr=""/>
          <p:cNvPicPr/>
          <p:nvPr/>
        </p:nvPicPr>
        <p:blipFill>
          <a:blip r:embed="rId1"/>
          <a:stretch/>
        </p:blipFill>
        <p:spPr>
          <a:xfrm>
            <a:off x="0" y="2077920"/>
            <a:ext cx="1730520" cy="478008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1714320" y="1428840"/>
            <a:ext cx="71434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Zahájení seminář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avidla realizace projekt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avidla monitorován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avidla projektového řízen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Zásady užívání prvků pub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avidla finančního řízení projekt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Dotaz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85600" y="214200"/>
            <a:ext cx="700092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rogram seminář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5" descr=""/>
          <p:cNvPicPr/>
          <p:nvPr/>
        </p:nvPicPr>
        <p:blipFill>
          <a:blip r:embed="rId1"/>
          <a:stretch/>
        </p:blipFill>
        <p:spPr>
          <a:xfrm>
            <a:off x="0" y="2077920"/>
            <a:ext cx="1730520" cy="47800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1714680" y="1357200"/>
            <a:ext cx="7286400" cy="45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Ing. Petra Zlámalová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Ing. Václav Göt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Ing. Lenka Janečková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Ing. Petra Kalinová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Ing. Jana Literová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Helena Matasová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Ing. Dana Mihulková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Mgr. Martina Špaková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Ing. Ivana Vostrá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+ 7 PM/F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85600" y="285480"/>
            <a:ext cx="7000920" cy="92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Oddělení 461 (PO 2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5" descr=""/>
          <p:cNvPicPr/>
          <p:nvPr/>
        </p:nvPicPr>
        <p:blipFill>
          <a:blip r:embed="rId1"/>
          <a:stretch/>
        </p:blipFill>
        <p:spPr>
          <a:xfrm>
            <a:off x="0" y="2077920"/>
            <a:ext cx="1730520" cy="47800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66840" y="314280"/>
            <a:ext cx="7416720" cy="106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Komunikace s odborem CER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85480" y="1642680"/>
            <a:ext cx="8226360" cy="39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0" name="Skupina 19"/>
          <p:cNvGrpSpPr/>
          <p:nvPr/>
        </p:nvGrpSpPr>
        <p:grpSpPr>
          <a:xfrm>
            <a:off x="1857240" y="1143000"/>
            <a:ext cx="1764000" cy="1897200"/>
            <a:chOff x="1857240" y="1143000"/>
            <a:chExt cx="1764000" cy="1897200"/>
          </a:xfrm>
        </p:grpSpPr>
        <p:grpSp>
          <p:nvGrpSpPr>
            <p:cNvPr id="101" name="Skupina 14"/>
            <p:cNvGrpSpPr/>
            <p:nvPr/>
          </p:nvGrpSpPr>
          <p:grpSpPr>
            <a:xfrm>
              <a:off x="1857240" y="1143000"/>
              <a:ext cx="1764000" cy="1897200"/>
              <a:chOff x="1857240" y="1143000"/>
              <a:chExt cx="1764000" cy="1897200"/>
            </a:xfrm>
          </p:grpSpPr>
          <p:sp>
            <p:nvSpPr>
              <p:cNvPr id="102" name="Zaoblený obdélník 9"/>
              <p:cNvSpPr/>
              <p:nvPr/>
            </p:nvSpPr>
            <p:spPr>
              <a:xfrm>
                <a:off x="1857240" y="1614240"/>
                <a:ext cx="1361520" cy="1425960"/>
              </a:xfrm>
              <a:custGeom>
                <a:avLst/>
                <a:gdLst>
                  <a:gd name="textAreaLeft" fmla="*/ 66240 w 1361520"/>
                  <a:gd name="textAreaRight" fmla="*/ 1295280 w 1361520"/>
                  <a:gd name="textAreaTop" fmla="*/ 66240 h 1425960"/>
                  <a:gd name="textAreaBottom" fmla="*/ 1359720 h 1425960"/>
                </a:gdLst>
                <a:ahLst/>
                <a:rect l="textAreaLeft" t="textAreaTop" r="textAreaRight" b="textAreaBottom"/>
                <a:pathLst>
                  <a:path w="21600" h="22622">
                    <a:moveTo>
                      <a:pt x="3600" y="0"/>
                    </a:moveTo>
                    <a:arcTo wR="3600" hR="3600" stAng="16200000" swAng="-5400000"/>
                    <a:lnTo>
                      <a:pt x="0" y="19022"/>
                    </a:lnTo>
                    <a:arcTo wR="3600" hR="3600" stAng="10800000" swAng="-5400000"/>
                    <a:lnTo>
                      <a:pt x="18000" y="2262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92d05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TextovéPole 13"/>
              <p:cNvSpPr/>
              <p:nvPr/>
            </p:nvSpPr>
            <p:spPr>
              <a:xfrm>
                <a:off x="1935000" y="1143000"/>
                <a:ext cx="1686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1800" spc="-1" strike="noStrike">
                    <a:solidFill>
                      <a:srgbClr val="984807"/>
                    </a:solidFill>
                    <a:latin typeface="Calibri"/>
                  </a:rPr>
                  <a:t>Příjemc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4" name="TextovéPole 17"/>
            <p:cNvSpPr/>
            <p:nvPr/>
          </p:nvSpPr>
          <p:spPr>
            <a:xfrm>
              <a:off x="1863360" y="1938240"/>
              <a:ext cx="1354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800" spc="-1" strike="noStrike">
                  <a:solidFill>
                    <a:srgbClr val="984807"/>
                  </a:solidFill>
                  <a:latin typeface="Calibri"/>
                </a:rPr>
                <a:t>Hlavní K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Skupina 16"/>
          <p:cNvGrpSpPr/>
          <p:nvPr/>
        </p:nvGrpSpPr>
        <p:grpSpPr>
          <a:xfrm>
            <a:off x="1785960" y="4857840"/>
            <a:ext cx="928800" cy="714240"/>
            <a:chOff x="1785960" y="4857840"/>
            <a:chExt cx="928800" cy="714240"/>
          </a:xfrm>
        </p:grpSpPr>
        <p:sp>
          <p:nvSpPr>
            <p:cNvPr id="106" name="Zaoblený obdélník 10"/>
            <p:cNvSpPr/>
            <p:nvPr/>
          </p:nvSpPr>
          <p:spPr>
            <a:xfrm>
              <a:off x="1785960" y="4857840"/>
              <a:ext cx="851400" cy="714240"/>
            </a:xfrm>
            <a:prstGeom prst="roundRect">
              <a:avLst>
                <a:gd name="adj" fmla="val 16667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TextovéPole 15"/>
            <p:cNvSpPr/>
            <p:nvPr/>
          </p:nvSpPr>
          <p:spPr>
            <a:xfrm>
              <a:off x="1785960" y="5075280"/>
              <a:ext cx="9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800" spc="-1" strike="noStrike">
                  <a:solidFill>
                    <a:srgbClr val="984807"/>
                  </a:solidFill>
                  <a:latin typeface="Calibri"/>
                </a:rPr>
                <a:t>Partn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Skupina 26"/>
          <p:cNvGrpSpPr/>
          <p:nvPr/>
        </p:nvGrpSpPr>
        <p:grpSpPr>
          <a:xfrm>
            <a:off x="5478480" y="2500200"/>
            <a:ext cx="2165400" cy="2224080"/>
            <a:chOff x="5478480" y="2500200"/>
            <a:chExt cx="2165400" cy="2224080"/>
          </a:xfrm>
        </p:grpSpPr>
        <p:grpSp>
          <p:nvGrpSpPr>
            <p:cNvPr id="109" name="Skupina 12"/>
            <p:cNvGrpSpPr/>
            <p:nvPr/>
          </p:nvGrpSpPr>
          <p:grpSpPr>
            <a:xfrm>
              <a:off x="5478480" y="2500200"/>
              <a:ext cx="2165400" cy="2224080"/>
              <a:chOff x="5478480" y="2500200"/>
              <a:chExt cx="2165400" cy="2224080"/>
            </a:xfrm>
          </p:grpSpPr>
          <p:sp>
            <p:nvSpPr>
              <p:cNvPr id="110" name="Zaoblený obdélník 4"/>
              <p:cNvSpPr/>
              <p:nvPr/>
            </p:nvSpPr>
            <p:spPr>
              <a:xfrm>
                <a:off x="5478480" y="2910240"/>
                <a:ext cx="2165400" cy="1814040"/>
              </a:xfrm>
              <a:prstGeom prst="roundRect">
                <a:avLst>
                  <a:gd name="adj" fmla="val 16667"/>
                </a:avLst>
              </a:prstGeom>
              <a:solidFill>
                <a:srgbClr val="ffc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TextovéPole 11"/>
              <p:cNvSpPr/>
              <p:nvPr/>
            </p:nvSpPr>
            <p:spPr>
              <a:xfrm>
                <a:off x="5572080" y="250020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1800" spc="-1" strike="noStrike">
                    <a:solidFill>
                      <a:srgbClr val="984807"/>
                    </a:solidFill>
                    <a:latin typeface="Calibri"/>
                  </a:rPr>
                  <a:t>Odbor CERA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2" name="TextovéPole 23"/>
            <p:cNvSpPr/>
            <p:nvPr/>
          </p:nvSpPr>
          <p:spPr>
            <a:xfrm>
              <a:off x="5543280" y="3643200"/>
              <a:ext cx="138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800" spc="-1" strike="noStrike">
                  <a:solidFill>
                    <a:srgbClr val="984807"/>
                  </a:solidFill>
                  <a:latin typeface="Calibri"/>
                </a:rPr>
                <a:t>= vlastní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TextovéPole 25"/>
            <p:cNvSpPr/>
            <p:nvPr/>
          </p:nvSpPr>
          <p:spPr>
            <a:xfrm>
              <a:off x="5543280" y="336384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800" spc="-1" strike="noStrike">
                  <a:solidFill>
                    <a:srgbClr val="984807"/>
                  </a:solidFill>
                  <a:latin typeface="Calibri"/>
                </a:rPr>
                <a:t>PFM/ FP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Obousměrná vodorovná šipka 31"/>
          <p:cNvSpPr/>
          <p:nvPr/>
        </p:nvSpPr>
        <p:spPr>
          <a:xfrm rot="12331800">
            <a:off x="3191760" y="2739960"/>
            <a:ext cx="2320920" cy="441360"/>
          </a:xfrm>
          <a:prstGeom prst="leftRightArrow">
            <a:avLst>
              <a:gd name="adj1" fmla="val 50000"/>
              <a:gd name="adj2" fmla="val 50005"/>
            </a:avLst>
          </a:prstGeom>
          <a:solidFill>
            <a:srgbClr val="95373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Skupina 16"/>
          <p:cNvGrpSpPr/>
          <p:nvPr/>
        </p:nvGrpSpPr>
        <p:grpSpPr>
          <a:xfrm>
            <a:off x="2928960" y="4857840"/>
            <a:ext cx="1071720" cy="714240"/>
            <a:chOff x="2928960" y="4857840"/>
            <a:chExt cx="1071720" cy="714240"/>
          </a:xfrm>
        </p:grpSpPr>
        <p:sp>
          <p:nvSpPr>
            <p:cNvPr id="116" name="Zaoblený obdélník 10"/>
            <p:cNvSpPr/>
            <p:nvPr/>
          </p:nvSpPr>
          <p:spPr>
            <a:xfrm>
              <a:off x="2928960" y="4857840"/>
              <a:ext cx="982440" cy="714240"/>
            </a:xfrm>
            <a:prstGeom prst="roundRect">
              <a:avLst>
                <a:gd name="adj" fmla="val 16667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TextovéPole 34"/>
            <p:cNvSpPr/>
            <p:nvPr/>
          </p:nvSpPr>
          <p:spPr>
            <a:xfrm>
              <a:off x="2928960" y="5075280"/>
              <a:ext cx="107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800" spc="-1" strike="noStrike">
                  <a:solidFill>
                    <a:srgbClr val="984807"/>
                  </a:solidFill>
                  <a:latin typeface="Calibri"/>
                </a:rPr>
                <a:t>Partn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Skupina 16"/>
          <p:cNvGrpSpPr/>
          <p:nvPr/>
        </p:nvGrpSpPr>
        <p:grpSpPr>
          <a:xfrm>
            <a:off x="4214880" y="4857840"/>
            <a:ext cx="1071360" cy="714240"/>
            <a:chOff x="4214880" y="4857840"/>
            <a:chExt cx="1071360" cy="714240"/>
          </a:xfrm>
        </p:grpSpPr>
        <p:sp>
          <p:nvSpPr>
            <p:cNvPr id="119" name="Zaoblený obdélník 10"/>
            <p:cNvSpPr/>
            <p:nvPr/>
          </p:nvSpPr>
          <p:spPr>
            <a:xfrm>
              <a:off x="4214880" y="4857840"/>
              <a:ext cx="982080" cy="714240"/>
            </a:xfrm>
            <a:prstGeom prst="roundRect">
              <a:avLst>
                <a:gd name="adj" fmla="val 16667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TextovéPole 43"/>
            <p:cNvSpPr/>
            <p:nvPr/>
          </p:nvSpPr>
          <p:spPr>
            <a:xfrm>
              <a:off x="4214880" y="5075280"/>
              <a:ext cx="1071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800" spc="-1" strike="noStrike">
                  <a:solidFill>
                    <a:srgbClr val="984807"/>
                  </a:solidFill>
                  <a:latin typeface="Calibri"/>
                </a:rPr>
                <a:t>Partn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Obousměrná vodorovná šipka 45"/>
          <p:cNvSpPr/>
          <p:nvPr/>
        </p:nvSpPr>
        <p:spPr>
          <a:xfrm rot="2740800">
            <a:off x="2778840" y="3839040"/>
            <a:ext cx="2371680" cy="179280"/>
          </a:xfrm>
          <a:prstGeom prst="leftRightArrow">
            <a:avLst>
              <a:gd name="adj1" fmla="val 50000"/>
              <a:gd name="adj2" fmla="val 50037"/>
            </a:avLst>
          </a:prstGeom>
          <a:solidFill>
            <a:srgbClr val="e6b9b8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Obousměrná vodorovná šipka 46"/>
          <p:cNvSpPr/>
          <p:nvPr/>
        </p:nvSpPr>
        <p:spPr>
          <a:xfrm rot="16575000">
            <a:off x="1325880" y="3875760"/>
            <a:ext cx="1633680" cy="177840"/>
          </a:xfrm>
          <a:prstGeom prst="leftRightArrow">
            <a:avLst>
              <a:gd name="adj1" fmla="val 50000"/>
              <a:gd name="adj2" fmla="val 50014"/>
            </a:avLst>
          </a:prstGeom>
          <a:solidFill>
            <a:srgbClr val="e6b9b8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Obousměrná vodorovná šipka 47"/>
          <p:cNvSpPr/>
          <p:nvPr/>
        </p:nvSpPr>
        <p:spPr>
          <a:xfrm rot="4450800">
            <a:off x="2264400" y="3906000"/>
            <a:ext cx="1685880" cy="188640"/>
          </a:xfrm>
          <a:prstGeom prst="leftRightArrow">
            <a:avLst>
              <a:gd name="adj1" fmla="val 50000"/>
              <a:gd name="adj2" fmla="val 50064"/>
            </a:avLst>
          </a:prstGeom>
          <a:solidFill>
            <a:srgbClr val="e6b9b8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5" descr=""/>
          <p:cNvPicPr/>
          <p:nvPr/>
        </p:nvPicPr>
        <p:blipFill>
          <a:blip r:embed="rId1"/>
          <a:stretch/>
        </p:blipFill>
        <p:spPr>
          <a:xfrm>
            <a:off x="0" y="2077920"/>
            <a:ext cx="1730520" cy="4780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4000"/>
                            </p:stCondLst>
                            <p:childTnLst>
                              <p:par>
                                <p:cTn id="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6000"/>
                            </p:stCondLst>
                            <p:childTnLst>
                              <p:par>
                                <p:cTn id="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2071800" y="1785600"/>
            <a:ext cx="6500880" cy="41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Číslo a název prioritní osy: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  2 - Terciární vzdělávání, výzkum a vývoj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Číslo a název oblasti podpory: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2.4 -  Partnerství a sít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Celková alokace výzvy: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625 000 000Kč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Trvání výzvy: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 2. 2. – 3. 4. 2009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              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785960" y="285840"/>
            <a:ext cx="6858000" cy="107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Výzva číslo 1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Picture 5" descr=""/>
          <p:cNvPicPr/>
          <p:nvPr/>
        </p:nvPicPr>
        <p:blipFill>
          <a:blip r:embed="rId1"/>
          <a:stretch/>
        </p:blipFill>
        <p:spPr>
          <a:xfrm>
            <a:off x="0" y="2077920"/>
            <a:ext cx="1730520" cy="47800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1856880" y="1356840"/>
            <a:ext cx="700092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Celkem předloženo IPo: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120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(2 270 983 440,44 Kč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Vyřazeno IPo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19280" indent="-3589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Hodnocení přijatelnosti: 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719280" indent="-3589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Věcné hodnocení: 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4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Celkový počet projednávaných IPo výběrovou komisí: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6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85600" y="285480"/>
            <a:ext cx="7000920" cy="92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Statistik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Picture 2" descr="C:\Documents and Settings\zlamalovap\Local Settings\Temporary Internet Files\Content.IE5\4DX55A1K\MCj03036070000[1].wmf"/>
          <p:cNvPicPr/>
          <p:nvPr/>
        </p:nvPicPr>
        <p:blipFill>
          <a:blip r:embed="rId1"/>
          <a:stretch/>
        </p:blipFill>
        <p:spPr>
          <a:xfrm>
            <a:off x="7643880" y="1000080"/>
            <a:ext cx="1297080" cy="12970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"/>
          <p:cNvPicPr/>
          <p:nvPr/>
        </p:nvPicPr>
        <p:blipFill>
          <a:blip r:embed="rId2"/>
          <a:stretch/>
        </p:blipFill>
        <p:spPr>
          <a:xfrm>
            <a:off x="0" y="2077920"/>
            <a:ext cx="1730520" cy="47800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1856880" y="2000160"/>
            <a:ext cx="7000920" cy="29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Calibri"/>
              </a:rPr>
              <a:t>Schváleno ministrem k financování IPo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40 (alokace navýšena o 17 051 405,36 Kč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Calibri"/>
              </a:rPr>
              <a:t>Projektů k realizaci:</a:t>
            </a: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 39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Calibri"/>
              </a:rPr>
              <a:t>Zásobník IPo: </a:t>
            </a: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785600" y="285480"/>
            <a:ext cx="7000920" cy="92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Výsledky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Picture 5" descr=""/>
          <p:cNvPicPr/>
          <p:nvPr/>
        </p:nvPicPr>
        <p:blipFill>
          <a:blip r:embed="rId1"/>
          <a:stretch/>
        </p:blipFill>
        <p:spPr>
          <a:xfrm>
            <a:off x="0" y="2077920"/>
            <a:ext cx="1730520" cy="47800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720800" y="771120"/>
            <a:ext cx="5486400" cy="200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Calibri"/>
              </a:rPr>
              <a:t>Děkuji za pozornost</a:t>
            </a:r>
            <a:br>
              <a:rPr sz="2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792080" y="3363480"/>
            <a:ext cx="686268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alibri"/>
              </a:rPr>
              <a:t>Kontak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Petra Zlámalová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Odbor CER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Ministerstvo školství, mládeže a tělovýchovy Č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e-mail: </a:t>
            </a:r>
            <a:r>
              <a:rPr b="0" lang="cs-CZ" sz="2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petra.zlamalova@msmt.cz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Picture 5" descr=""/>
          <p:cNvPicPr/>
          <p:nvPr/>
        </p:nvPicPr>
        <p:blipFill>
          <a:blip r:embed="rId2"/>
          <a:stretch/>
        </p:blipFill>
        <p:spPr>
          <a:xfrm>
            <a:off x="0" y="2077920"/>
            <a:ext cx="1730520" cy="47800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8T17:01:55Z</dcterms:created>
  <dc:creator>Zlámalová Petra </dc:creator>
  <dc:description/>
  <dc:language>en-US</dc:language>
  <cp:lastModifiedBy>ugh</cp:lastModifiedBy>
  <dcterms:modified xsi:type="dcterms:W3CDTF">2009-12-09T07:33:06Z</dcterms:modified>
  <cp:revision>5</cp:revision>
  <dc:subject/>
  <dc:title>Zahájení semináře   Ing. Petra Zlámalová</dc:title>
</cp:coreProperties>
</file>