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903EE-3EDC-4D6E-92F3-FF1C521A8D1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0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6337C-0A70-45CE-9193-D0E889439C4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3BB1F-3920-45DD-BB48-A3E785003DF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7481D-00CA-4AEE-BD98-CA2B3DD2643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5417C-EAA4-4F92-AAA7-FF1F8E444C3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A9E40-BC5B-4A36-9096-D170D61A222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B6F58-A7F7-4B03-B5CB-14C2A9E1B49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7FB0E-B6B1-48D1-B69E-955B9035459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77FB1-9139-41F9-B33A-CC919F1DD4C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C3AB9-D936-4620-BAF1-090A1B3ED4B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CF0-6477-417F-BF79-27C5B084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81F-F43E-475F-BC46-7B203977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D77-B689-41CF-96D3-6751DFBD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9EE3-39D6-4384-A4EE-93040B48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CF7-E999-4CAB-A4C5-FFCA5C3C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333-BEED-46D7-BC00-80D22CF5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DAB-ED2F-4827-A12E-89737455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87D-14D1-46EC-9F24-78331C19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645-1D97-4436-A98C-F12A07C8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F44-0DF3-405C-8867-66EE86E2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5D8-EE3C-49D8-94ED-E7FA5B7C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5FC-06FA-4AC9-8AF3-42FB445F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DB5665-5503-41C5-A4FB-16383175D1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500280" cy="10000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20780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 (osobně, e-mailem; např. o grafických návrzích připravovaných informačních materiá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3:57:31Z</dcterms:modified>
  <cp:revision>94</cp:revision>
  <dc:subject/>
  <dc:title>Snímek 1</dc:title>
</cp:coreProperties>
</file>