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0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5CA24-A076-40CD-8907-D9864B9A43E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C758-4A71-466A-BE7D-22FDBDBB7D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B299C-E767-4FC5-842E-2BAD65AF38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4283F-5A39-453C-B53B-298028DD36F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FAE9E-579E-4023-8692-315404CF49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D26C9-FAF8-4835-BA52-D0A077A0A1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F235-1E89-4E2F-936E-B85FC2374DF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90C83-F368-4E25-BEB0-BDEBE06B9BC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B16F1-F17C-40D2-954E-20C2FF21281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C3350-EE6F-46EB-A0F5-49991E529D8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D6308-B41B-45F9-A409-4CC65046F5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6178-F308-4345-AF59-EB0736A2C3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44CC-6AD7-4126-A1A4-F666134BB8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77E78-F075-4763-AE72-BF1F60FB2AE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E2E7B-AEDA-4DBB-83BB-02BD6B95FF0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734-6B7F-4998-85CA-D3A8B9E6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38F-B376-45F4-B3BD-E7268C96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B59-9071-4AE0-887A-0B151284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A07-1D25-4D56-8D8D-7738611C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3DE-D73B-46B0-A03E-EED3A6C7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9FA-71E8-44A7-AEAB-345AA526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753-EAD6-41C6-8E4B-8A98492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1F-42B7-4AB9-99C7-1DF8326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8A7-67C9-4A2C-9CCC-6EAF0A02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A9B-CEAA-4BA2-8995-2C1D030E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743-724A-48D6-BAF6-251F868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D02-9955-4AC5-90EB-23A5281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BCDA96-44C9-46F0-BBE1-2D4171B51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7800"/>
            <a:ext cx="8358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, verze 2, ze dne 15.4.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z Evropského sociálního fondu a státního rozpočtu České republik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Formy k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dministrativní kontroly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pravidelných monitorovacích zprá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y na míst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ormou veřejnoprávní kontroly podle zák. č. 320/2001 Sb. a zákona 552/1991 Sb., v souladu s nařízením rady EK č. 108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Sa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 % ze všech proplacených prostředků v případě neplnění jakéhokoliv indikátoru výsledku nebo výstupu o 10 % -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5 % ze všech proplacených prostředků v případě neplnění jakéhokoliv indikátoru výsledku nebo výstupu o 25 % -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stoupení od právního aktu v případě neplnění jakéhokoliv indikátoru výsledku nebo výstupu o více jak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Kontroly, sa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všech projektů s podporou nad 3 miliony Kč audit autorizovanou firmou (člen komory audi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k auditora se přikládá k závěrečné žádosti o plat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dit se týká jak projektového účetnictví příjemce, tak projektového účetnictví partnerů s finančním příspěv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969240" y="5423040"/>
            <a:ext cx="2307960" cy="14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Archivace v listinné i el. podo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archivaci je příjemce zavázán v právním a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n. do roku 202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jemce je povinen zavázat k archivaci také partnery projektu (případně převzít materiály, týkající se realizace projektu, do své úschov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archivaci po ukončení realizace projektu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s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é výdaj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82640" y="493560"/>
            <a:ext cx="78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áclav Gö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vaclav.gotz@msmt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285120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edování využití finančních prostředků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klad pro kontroly a 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běž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ečná monitorovací zprá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a o udržite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7540560" y="4137120"/>
            <a:ext cx="1736640" cy="155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252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30 kalendářních dnů od ukončení monitorovacího období (6 měsíc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epsané statutárním zástup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alepené obálce s adresou poskytovatele, jménem příslušného PM a registračním číslem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897680" y="4280040"/>
            <a:ext cx="1571760" cy="1271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Žádost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hrn všech způsobilých výdajů za uplynulé monitorovací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ahrnovat i výdaje vzniklé v předchozím období, k nimž neměl příjemce v uvedenou dobu potřebné dokl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826320" y="4759200"/>
            <a:ext cx="2117520" cy="18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313704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ámitky vůči krácení částky v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 krácení jsou vždy sděleny                    písemně či elektron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může vznést námitku do 30 kalendářních dnů od doruč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10 pracovních dnů od přijetí námitky je postup krácení částky ověř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 výsledku je příjemce informován do 5 pracovních d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299412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1000" y="1779120"/>
            <a:ext cx="7886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imořádná průběž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je oprávněn předložit mimořádnou monitorovací zprávu spolu s žádostí o proplacení uznatelných nákladů v kratším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sledná monitorovací období je opět šestiměsíční a počítá se od podání mimořádné průběžné monitorovací zprá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gotzv\Local Settings\Temporary Internet Files\Content.IE5\ZXF16QS5\MCj02899550000[1].wmf"/>
          <p:cNvPicPr/>
          <p:nvPr/>
        </p:nvPicPr>
        <p:blipFill>
          <a:blip r:embed="rId1"/>
          <a:stretch/>
        </p:blipFill>
        <p:spPr>
          <a:xfrm>
            <a:off x="6826320" y="5351400"/>
            <a:ext cx="2286000" cy="15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0" y="292248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ávěrečná monitorovací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2 měsíců po ukonče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rojektů nad 3 mil. Kč se přikládá k žádosti o závěrečnou platbu audi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řikládá souhrnnou informaci o realizaci projektu včetně publicity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14479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spěvek z ESF bude zachován, pokud projekt v následujících 5 letech po ukončení neprojde podstatnou změnou, kte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í povahu projektu nebo výsled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kytne realizátorům nepatřičnou výhod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ke změně vlastnictví či zastavení produktivní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306540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avidla monitor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Monitorovací zpráva o udrži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držitelnost je specifikována v právním aktu dle žádosti příjem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jetek pořízený v křížovém financování musí být nadále využíván v souladu s podpo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dokládá udržitelnost projektu monitorovací zprávou jednou za rok nejpozději do 2 měsíců od uplynutí prvního ročního obdob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397640" y="5137200"/>
            <a:ext cx="1710000" cy="172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0" y="2779560"/>
            <a:ext cx="1447920" cy="412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2:31:39Z</dcterms:modified>
  <cp:revision>104</cp:revision>
  <dc:subject/>
  <dc:title>Snímek 1</dc:title>
</cp:coreProperties>
</file>