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0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BEF02-9EAE-423F-9B19-111C8921A07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FA03A-9CD0-420F-A1D6-CE17220A982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91040-BDFB-470E-BF23-09504FD419A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EFD7E-3300-4B2C-8104-52352F4FD0E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B2A2A-9BC6-4C3A-A0E5-46A28F575E7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C65A9-E98C-4F46-8857-07E96EBF4FE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323B8-7302-4A88-B8F5-4F9AE253E39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ED8B9-56D9-41F6-B7F7-C648E85D697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8F511-1A07-4150-9432-FAA6874280D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DBFF3-7FEF-4EEB-BAED-DB4AAC6CF78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3572B-87E7-42E6-985A-C9EB7C23112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C0255-CE2C-40CA-9097-B3E60432243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9E006-52E8-45FD-B350-E51357F98FC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912C6-D066-42A2-A8C1-A7A258D93FC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6649B-3BC4-4B27-B1CA-AB8DB9B45CE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057-240D-4000-AE5E-DFCE6EF7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D57-D01F-40CA-843C-964316EA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CAD-15E3-4C0B-9F77-E3247B65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C82-A1C1-48CC-9B44-FEDD7E64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4E4-2B9B-4FD5-9AEB-D8F32A75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831-B91F-4535-994D-AA2FD9E6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BE0-ACB3-49CC-B8E1-65FF0982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61F-DF10-4FC8-80BC-72AE193A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309-E990-48BE-A785-9C65086A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E83-1F3B-48E1-B0B6-6D5BA029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A02-3C64-4120-9C48-A202FE81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AD5-5AA1-4E0D-A8A5-7BBB9BBD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8582D6-4326-4DFE-9D62-EB8EBE2B59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Formy k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dministrativní kontroly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pravidelných monitorovacích zprá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y na místě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veřejnoprávní kontroly podle zák. č. 320/2001 Sb. a zákona 552/1991 Sb., v souladu s nařízením rady EK č. 1083/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Sa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% ze všech proplacených prostředků v případě neplnění jakéhokoliv indikátoru výsledku nebo výstupu o 10 % -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5 % ze všech proplacených prostředků v případě neplnění jakéhokoliv indikátoru výsledku nebo výstupu o 25 % -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stoupení od právního aktu v případě neplnění jakéhokoliv indikátoru výsledku nebo výstupu o více jak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všech projektů s podporou nad 3 miliony Kč audit autorizovanou firmou (člen komory audi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k auditora se přikládá k závěrečné žádosti o plat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dit se týká jak projektového účetnictví příjemce, tak projektového účetnictví partnerů s finančním příspěv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969240" y="5423040"/>
            <a:ext cx="2307960" cy="14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rchivace v listinné i el. podo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archivaci je příjemce zavázán v právním a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n. do roku 202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jemce je povinen zavázat k archivaci také partnery projektu (případně převzít materiály, týkající se realizace projektu, do své úschov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archivaci po ukončení realizace proje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s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é výdaj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chivace se řídí zákonem č. 563/199 Sb., č. 235/2004 Sb., č.589/1992 Sb., č. 592/1992 Sb., č499/2004 Sb. a vyhláškami č. 645/2004 Sb., a č. 646/2004 Sb. Archivace je uvedena v příručce, která je součástí Rozhodnu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82640" y="493560"/>
            <a:ext cx="78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áclav Gö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vaclav.gotz@msmt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edování využití finančních prostředk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klad pro kontroly a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běž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eč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a o udržite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7540560" y="4137120"/>
            <a:ext cx="1736640" cy="155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252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30 kalendářních dnů od ukončení monitorovacího období (6 měsíc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epsané statutárním zástup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zalepené obálce s adresou poskytovatele, jménem příslušného PM a registračním číslem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897680" y="4280040"/>
            <a:ext cx="1571760" cy="12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Žádost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hrn všech způsobilých výdajů za uplynulé monitorovací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ahrnovat i výdaje vzniklé v předchozím období, k nimž neměl příjemce v uvedenou dobu potřebné dokl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826320" y="4759200"/>
            <a:ext cx="2117520" cy="18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0" y="313704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ámitky vůči krácení částky v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 krácení jsou vždy sděleny                    písemně či elektron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může vznést námitku do 30 kalendářních dnů od doru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10 pracovních dnů od přijetí námitky je postup krácení částky ověř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 výsledku je příjemce informován do 5 pracovních d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imořádná 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oprávněn předložit mimořádnou monitorovací zprávu spolu s žádostí o proplacení uznatelných nákladů v kratším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sledná monitorovací období je opět šestiměsíční a počítá se od podání mimořádné průběžné monitorovací zprá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gotzv\Local Settings\Temporary Internet Files\Content.IE5\ZXF16QS5\MCj02899550000[1].wmf"/>
          <p:cNvPicPr/>
          <p:nvPr/>
        </p:nvPicPr>
        <p:blipFill>
          <a:blip r:embed="rId1"/>
          <a:stretch/>
        </p:blipFill>
        <p:spPr>
          <a:xfrm>
            <a:off x="6826320" y="5351400"/>
            <a:ext cx="2286000" cy="15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ávěreč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2 měsíc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rojektů nad 3 mil. Kč se přikládá k žádosti o závěrečnou platbu aud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řikládá souhrnnou informaci o realizaci projektu včetně publicity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spěvek z ESF bude zachován, pokud projekt v následujících 5 letech po ukončení neprojde podstatnou změnou, kt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í povahu projektu nebo výsled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ne realizátorům nepatřičnou výhod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de ke změně vlastnictví či zastavení produktivní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itelnost je specifikována v právním aktu dle žádosti příjem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jetek pořízený v křížovém financování musí být nadále využíván v souladu s podpor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dokládá udržitelnost projektu monitorovací zprávou jednou za rok nejpozději do 2 měsíců od uplynutí prvního ročního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397640" y="5137200"/>
            <a:ext cx="171000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31:39Z</dcterms:modified>
  <cp:revision>104</cp:revision>
  <dc:subject/>
  <dc:title>Snímek 1</dc:title>
</cp:coreProperties>
</file>