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915480" y="749160"/>
            <a:ext cx="4929480" cy="36957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4"/>
          <p:cNvSpPr>
            <a:spLocks noGrp="1"/>
          </p:cNvSpPr>
          <p:nvPr>
            <p:ph type="ftr" idx="4"/>
          </p:nvPr>
        </p:nvSpPr>
        <p:spPr>
          <a:xfrm>
            <a:off x="-360" y="9373680"/>
            <a:ext cx="2932200" cy="4892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5"/>
          <p:cNvSpPr>
            <a:spLocks noGrp="1"/>
          </p:cNvSpPr>
          <p:nvPr>
            <p:ph type="sldNum" idx="5"/>
          </p:nvPr>
        </p:nvSpPr>
        <p:spPr>
          <a:xfrm>
            <a:off x="3828600" y="9373680"/>
            <a:ext cx="2932200" cy="489240"/>
          </a:xfrm>
          <a:prstGeom prst="rect">
            <a:avLst/>
          </a:prstGeom>
          <a:noFill/>
          <a:ln w="0">
            <a:noFill/>
          </a:ln>
        </p:spPr>
        <p:txBody>
          <a:bodyPr lIns="0" rIns="0" tIns="0" bIns="0" anchor="b">
            <a:noAutofit/>
          </a:bodyPr>
          <a:lstStyle>
            <a:lvl1pPr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defRPr b="0" lang="cs-CZ" sz="1300" spc="-1" strike="noStrike">
                <a:solidFill>
                  <a:srgbClr val="000000"/>
                </a:solidFill>
                <a:latin typeface="Times New Roman"/>
              </a:defRPr>
            </a:lvl1pPr>
          </a:lstStyle>
          <a:p>
            <a:pPr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pPr>
            <a:fld id="{C03DD830-F110-4E93-B9C9-2506B6EDA953}"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49" name="PlaceHolder 6"/>
          <p:cNvSpPr>
            <a:spLocks noGrp="1"/>
          </p:cNvSpPr>
          <p:nvPr>
            <p:ph type="dt" idx="6"/>
          </p:nvPr>
        </p:nvSpPr>
        <p:spPr>
          <a:xfrm>
            <a:off x="3831840" y="-360"/>
            <a:ext cx="2932200" cy="493560"/>
          </a:xfrm>
          <a:prstGeom prst="rect">
            <a:avLst/>
          </a:prstGeom>
          <a:noFill/>
          <a:ln w="0">
            <a:noFill/>
          </a:ln>
        </p:spPr>
        <p:txBody>
          <a:bodyPr lIns="91080" rIns="91080" tIns="45360" bIns="4536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200" spc="-1" strike="noStrike">
                <a:solidFill>
                  <a:srgbClr val="000000"/>
                </a:solidFill>
                <a:latin typeface="Arial"/>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rPr>
              <a:t>10.12.2009</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5840" y="749160"/>
            <a:ext cx="4929480" cy="3695760"/>
          </a:xfrm>
          <a:prstGeom prst="rect">
            <a:avLst/>
          </a:prstGeom>
          <a:ln w="0">
            <a:noFill/>
          </a:ln>
        </p:spPr>
      </p:sp>
      <p:sp>
        <p:nvSpPr>
          <p:cNvPr id="123"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ak postupovat, aby průběh realizace projektu byl bez komplikací…</a:t>
            </a:r>
            <a:endParaRPr b="0" lang="en-US" sz="1200" spc="-1" strike="noStrike">
              <a:solidFill>
                <a:srgbClr val="000000"/>
              </a:solidFill>
              <a:latin typeface="Times New Roman"/>
            </a:endParaRPr>
          </a:p>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Úloha hlavního manažera projektu…</a:t>
            </a:r>
            <a:endParaRPr b="0" lang="en-US" sz="1200" spc="-1" strike="noStrike">
              <a:solidFill>
                <a:srgbClr val="000000"/>
              </a:solidFill>
              <a:latin typeface="Times New Roman"/>
            </a:endParaRPr>
          </a:p>
          <a:p>
            <a:pPr marL="227160" indent="-22716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d vzniku projektového záměru uplynula určitá doba…</a:t>
            </a:r>
            <a:endParaRPr b="0" lang="en-US" sz="1200" spc="-1" strike="noStrike">
              <a:solidFill>
                <a:srgbClr val="000000"/>
              </a:solidFill>
              <a:latin typeface="Times New Roman"/>
            </a:endParaRPr>
          </a:p>
          <a:p>
            <a:pPr marL="22716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984091FA-5C49-45A3-A7E5-32F6ABC4D60F}"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150BE8AB-4A26-4FAF-9186-B84778B70D7D}"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0"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PlaceHolder 1"/>
          <p:cNvSpPr>
            <a:spLocks noGrp="1"/>
          </p:cNvSpPr>
          <p:nvPr>
            <p:ph type="body"/>
          </p:nvPr>
        </p:nvSpPr>
        <p:spPr>
          <a:xfrm>
            <a:off x="676080" y="4686480"/>
            <a:ext cx="37339560" cy="4466880"/>
          </a:xfrm>
          <a:prstGeom prst="rect">
            <a:avLst/>
          </a:prstGeom>
          <a:noFill/>
          <a:ln w="0">
            <a:noFill/>
          </a:ln>
        </p:spPr>
        <p:txBody>
          <a:bodyPr lIns="0" rIns="0" tIns="0" bIns="0" anchor="ctr">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 rámci projektů OP VK mohou existovat dva typy partnerství, a to partnerství s FP a partnerství bez FP. Způsobilé výdaje vznikající partnerům s FP jsou součástí způsobilých výdajů projektu.</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artneři se společně s příjemcem podílejí na realizaci projektu a to v těch aktivitách, ve kterých je k tomu zavazuje PS.</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Obsah PS je přitom velice důležitý, protože konečnou odpovědnost poskytovateli podpory nese příjemce. </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 PS je nutné vymezit podmínky partnerství (například vymezení aktivit na kterých se bude partner podílet, zda se bude rovněž podílet na zajištění udržitelnosti projektu, stanovení povinnosti odděleného vedení účetnictví k projektu, zřízení samostatného bankovního účtu/podúčtu projektu, či zabezpečení dostupnosti dokladů)</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Smluvní vztah mezi příjemcem a jeho partnery není založen na poskytování služeb a nesmí být v rozporu s právní předpisy ČR!</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 </a:t>
            </a:r>
            <a:endParaRPr b="0" lang="en-US" sz="2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442100F9-47BF-458B-BA5E-2BFDFF62FB28}"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3"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PlaceHolder 1"/>
          <p:cNvSpPr>
            <a:spLocks noGrp="1"/>
          </p:cNvSpPr>
          <p:nvPr>
            <p:ph type="body"/>
          </p:nvPr>
        </p:nvSpPr>
        <p:spPr>
          <a:xfrm>
            <a:off x="676440" y="4686120"/>
            <a:ext cx="23924880" cy="1625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finančního partnerství je příjemcem podpory vždy žadatel, který předkládal projektovou žádost a uzavíral právní akt s poskytovatele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Tento příjemce podpory je zodpovědný za rozdělení finančních prostředků mezi partnery s FP, na základě uzavřené 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i vyúčtování a dokladování má partner má vůči poskytovateli podpory stejné povinnosti jako příjemce, pro partnera je závazná PS, příjemce musí veškeré povinnosti partnera v této smlouvě upravi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apř.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 případě kontroly na místě je povinností příjemce zajistit ke kontrole originály účetních dokladů partnerů, takže v PS by poskytnutí těchto dokladů mělo být upraven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Příjemce musí zavázat své partnery v PS k zřízení samostatného projektového bankovního účtu/podúčtu, který po celou dobu projektu slouží pouze pro platby s projektem související. Zde platí výjimka z PpP pro Rozhodnutí nebo právní akty, které poskytují dotaci, že v případě, že platby partnerovi neprobíhají zálohově, ale probíhají zpětně, nemusí mít partner zřízen samostatný BÚ.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91549687-A0C2-44D7-8E75-2815E40610F5}"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6"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PlaceHolder 1"/>
          <p:cNvSpPr>
            <a:spLocks noGrp="1"/>
          </p:cNvSpPr>
          <p:nvPr>
            <p:ph type="body"/>
          </p:nvPr>
        </p:nvSpPr>
        <p:spPr>
          <a:xfrm>
            <a:off x="676440" y="4686120"/>
            <a:ext cx="15670080" cy="2104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partnera s FP předkládá partner příjemci žádost o proplacení svých způsobilých výdajů.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Úhrady mezi příjemcem a partnerem mohou probíhat buď formou zálohové platby, kdy příjemce poskytne odpovídající část zálohy partnerovi na základě uzavřené P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by měl být v PS upravený datum, kdy bude partner příjemci vyúčtovávat způsobilé výdaje za dané MO, tento datum by měl být stanoven  na termín před předkládáním řádných MZ tak, aby příjemce mohl způsobilé výdaje partnera do MZ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partner vyčerpá poskytnutou zálohu a vznikají mu další způsobilé výdaje, příjemce mu tyto další výdaje může proplatit ihned nebo počkat a proplatit tyto výdaje až po schválení poskytovatelem podpor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C8A9FCDA-F035-4A03-9FFD-650159F2628A}"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59"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0" name="PlaceHolder 1"/>
          <p:cNvSpPr>
            <a:spLocks noGrp="1"/>
          </p:cNvSpPr>
          <p:nvPr>
            <p:ph type="body"/>
          </p:nvPr>
        </p:nvSpPr>
        <p:spPr>
          <a:xfrm>
            <a:off x="676440" y="4686480"/>
            <a:ext cx="18427680" cy="2101680"/>
          </a:xfrm>
          <a:prstGeom prst="rect">
            <a:avLst/>
          </a:prstGeom>
          <a:noFill/>
          <a:ln w="0">
            <a:noFill/>
          </a:ln>
        </p:spPr>
        <p:txBody>
          <a:bodyPr lIns="0" rIns="0" tIns="0" bIns="0" anchor="ctr">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majetek lze zapůjčovat jak finančním tak nefinančním partnerům</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Tento majetek pořízený a hrazený příjemcem, který je v užívání u partnera, musí být inventarizován a označen stejně jako majetek užívaný příjemcem podpory</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5840" y="749160"/>
            <a:ext cx="4929480" cy="3695760"/>
          </a:xfrm>
          <a:prstGeom prst="rect">
            <a:avLst/>
          </a:prstGeom>
          <a:ln w="0">
            <a:noFill/>
          </a:ln>
        </p:spPr>
      </p:sp>
      <p:sp>
        <p:nvSpPr>
          <p:cNvPr id="162"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Příjemce se s partnerem musí v PS dohodnout na termínu, kdy dojde k rozdělení zařízení a spotřebního materiálu nakoupeného z poskytnuté podpory (po udržitelnosti)</a:t>
            </a:r>
            <a:endParaRPr b="0" lang="en-US" sz="1700" spc="-1" strike="noStrike">
              <a:solidFill>
                <a:srgbClr val="000000"/>
              </a:solidFill>
              <a:latin typeface="Times New Roman"/>
            </a:endParaRPr>
          </a:p>
          <a:p>
            <a:pPr lvl="1" marL="415800">
              <a:lnSpc>
                <a:spcPct val="80000"/>
              </a:lnSpc>
              <a:spcBef>
                <a:spcPts val="638"/>
              </a:spcBef>
              <a:spcAft>
                <a:spcPts val="1037"/>
              </a:spcAft>
              <a:buClr>
                <a:srgbClr val="000000"/>
              </a:buClr>
              <a:buSzPct val="7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a:t>
            </a:r>
            <a:r>
              <a:rPr b="0" lang="cs-CZ" sz="1700" spc="-1" strike="noStrike">
                <a:solidFill>
                  <a:srgbClr val="000000"/>
                </a:solidFill>
                <a:latin typeface="Times New Roman"/>
              </a:rPr>
              <a:t>Zařízení a spotř. Materiál nakoupený z projektu nelze po realizaci převádět partnerům sídlícím mimo cílový region v případě, že v rámci udržitelnosti tento partner nezaváže podporovat cílovou skupinu daného cílového regionu.</a:t>
            </a:r>
            <a:endParaRPr b="0" lang="en-US" sz="1700" spc="-1" strike="noStrike">
              <a:solidFill>
                <a:srgbClr val="000000"/>
              </a:solidFill>
              <a:latin typeface="Times New Roman"/>
            </a:endParaRPr>
          </a:p>
          <a:p>
            <a:pPr lvl="1" marL="415800">
              <a:lnSpc>
                <a:spcPct val="80000"/>
              </a:lnSpc>
              <a:spcBef>
                <a:spcPts val="638"/>
              </a:spcBef>
              <a:spcAft>
                <a:spcPts val="1037"/>
              </a:spcAft>
              <a:buClr>
                <a:srgbClr val="000000"/>
              </a:buClr>
              <a:buSzPct val="7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a:t>
            </a:r>
            <a:r>
              <a:rPr b="0" lang="cs-CZ" sz="1700" spc="-1" strike="noStrike">
                <a:solidFill>
                  <a:srgbClr val="000000"/>
                </a:solidFill>
                <a:latin typeface="Times New Roman"/>
              </a:rPr>
              <a:t>Kopie převodních listin či darovacích smluv</a:t>
            </a:r>
            <a:r>
              <a:rPr b="0" lang="cs-CZ" sz="700" spc="-1" strike="noStrike">
                <a:solidFill>
                  <a:srgbClr val="000000"/>
                </a:solidFill>
                <a:latin typeface="Times New Roman"/>
              </a:rPr>
              <a:t> </a:t>
            </a:r>
            <a:r>
              <a:rPr b="0" lang="cs-CZ" sz="1700" spc="-1" strike="noStrike">
                <a:solidFill>
                  <a:srgbClr val="000000"/>
                </a:solidFill>
                <a:latin typeface="Times New Roman"/>
              </a:rPr>
              <a:t>předkládá příjemce</a:t>
            </a:r>
            <a:r>
              <a:rPr b="0" lang="cs-CZ" sz="700" spc="-1" strike="noStrike">
                <a:solidFill>
                  <a:srgbClr val="000000"/>
                </a:solidFill>
                <a:latin typeface="Times New Roman"/>
              </a:rPr>
              <a:t> </a:t>
            </a:r>
            <a:r>
              <a:rPr b="0" lang="cs-CZ" sz="1700" spc="-1" strike="noStrike">
                <a:solidFill>
                  <a:srgbClr val="000000"/>
                </a:solidFill>
                <a:latin typeface="Times New Roman"/>
              </a:rPr>
              <a:t>se závěrečnou MZ</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700" spc="-1" strike="noStrike">
                <a:solidFill>
                  <a:srgbClr val="000000"/>
                </a:solidFill>
                <a:latin typeface="Times New Roman"/>
              </a:rPr>
              <a:t>b) Partner s finančním příspěvkem </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700" spc="-1" strike="noStrike">
                <a:solidFill>
                  <a:srgbClr val="000000"/>
                </a:solidFill>
                <a:latin typeface="Times New Roman"/>
              </a:rPr>
              <a:t>- nakupované zařízení a spotřební materiál je ihned v jeho vlastnictví</a:t>
            </a:r>
            <a:endParaRPr b="0" lang="en-US" sz="1700" spc="-1" strike="noStrike">
              <a:solidFill>
                <a:srgbClr val="000000"/>
              </a:solidFill>
              <a:latin typeface="Times New Roman"/>
            </a:endParaRPr>
          </a:p>
          <a:p>
            <a:pPr lvl="1" marL="415800" indent="0">
              <a:lnSpc>
                <a:spcPct val="80000"/>
              </a:lnSpc>
              <a:spcBef>
                <a:spcPts val="638"/>
              </a:spcBef>
              <a:spcAft>
                <a:spcPts val="103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Times New Roman"/>
            </a:endParaRPr>
          </a:p>
          <a:p>
            <a:pPr indent="0">
              <a:lnSpc>
                <a:spcPct val="80000"/>
              </a:lnSpc>
              <a:spcBef>
                <a:spcPts val="33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Times New Roman"/>
            </a:endParaRPr>
          </a:p>
          <a:p>
            <a:pPr indent="0">
              <a:lnSpc>
                <a:spcPct val="80000"/>
              </a:lnSpc>
              <a:spcBef>
                <a:spcPts val="33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Times New Roman"/>
            </a:endParaRPr>
          </a:p>
        </p:txBody>
      </p:sp>
      <p:sp>
        <p:nvSpPr>
          <p:cNvPr id="16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40860B2E-8098-46C7-8F69-4C2586E7C24F}"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8C3FBEB8-108F-49E5-ADBD-F0423A57A9DB}"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65"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PlaceHolder 1"/>
          <p:cNvSpPr>
            <a:spLocks noGrp="1"/>
          </p:cNvSpPr>
          <p:nvPr>
            <p:ph type="body"/>
          </p:nvPr>
        </p:nvSpPr>
        <p:spPr>
          <a:xfrm>
            <a:off x="676440" y="4686120"/>
            <a:ext cx="9146880" cy="2090520"/>
          </a:xfrm>
          <a:prstGeom prst="rect">
            <a:avLst/>
          </a:prstGeom>
          <a:noFill/>
          <a:ln w="0">
            <a:noFill/>
          </a:ln>
        </p:spPr>
        <p:txBody>
          <a:bodyPr lIns="0" rIns="0" tIns="0" bIns="0" anchor="ctr">
            <a:noAutofit/>
          </a:bodyPr>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 případě nezískání souhlasu partnera </a:t>
            </a:r>
            <a:endParaRPr b="0" lang="en-US" sz="1200" spc="-1" strike="noStrike">
              <a:solidFill>
                <a:srgbClr val="000000"/>
              </a:solidFill>
              <a:latin typeface="Times New Roman"/>
            </a:endParaRPr>
          </a:p>
          <a:p>
            <a:pPr>
              <a:lnSpc>
                <a:spcPct val="100000"/>
              </a:lnSpc>
              <a:spcBef>
                <a:spcPts val="451"/>
              </a:spcBef>
              <a:spcAft>
                <a:spcPts val="1301"/>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odůvodňuje příjemce v žádosti </a:t>
            </a:r>
            <a:endParaRPr b="0" lang="en-US" sz="1200" spc="-1" strike="noStrike">
              <a:solidFill>
                <a:srgbClr val="000000"/>
              </a:solidFill>
              <a:latin typeface="Times New Roman"/>
            </a:endParaRPr>
          </a:p>
          <a:p>
            <a:pPr>
              <a:spcBef>
                <a:spcPts val="451"/>
              </a:spcBef>
              <a:spcAft>
                <a:spcPts val="1301"/>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 formální záležitost (nepřítomnost statutárního zástupce)</a:t>
            </a:r>
            <a:endParaRPr b="0" lang="en-US" sz="1200" spc="-1" strike="noStrike">
              <a:solidFill>
                <a:srgbClr val="000000"/>
              </a:solidFill>
              <a:latin typeface="Times New Roman"/>
            </a:endParaRPr>
          </a:p>
          <a:p>
            <a:pPr>
              <a:spcBef>
                <a:spcPts val="451"/>
              </a:spcBef>
              <a:spcAft>
                <a:spcPts val="1301"/>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b) partner se změnou nesouhlas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dstoupení partnera v případě zapojení 2 a více partnerů do projektu, poskytovatel určí, zda je možné pokračovat v realizaci bez partnera či nikoli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EC009D51-B164-4BA4-BA80-7212E83672CE}"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68"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PlaceHolder 1"/>
          <p:cNvSpPr>
            <a:spLocks noGrp="1"/>
          </p:cNvSpPr>
          <p:nvPr>
            <p:ph type="body"/>
          </p:nvPr>
        </p:nvSpPr>
        <p:spPr>
          <a:xfrm>
            <a:off x="676440" y="4686120"/>
            <a:ext cx="5635440" cy="4748040"/>
          </a:xfrm>
          <a:prstGeom prst="rect">
            <a:avLst/>
          </a:prstGeom>
          <a:noFill/>
          <a:ln w="0">
            <a:noFill/>
          </a:ln>
        </p:spPr>
        <p:txBody>
          <a:bodyPr lIns="0" rIns="0" tIns="0" bIns="0" anchor="ctr">
            <a:noAutofit/>
          </a:bodyPr>
          <a:p>
            <a:pPr indent="0">
              <a:spcBef>
                <a:spcPts val="524"/>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f3912c"/>
                </a:solidFill>
                <a:latin typeface="Times New Roman"/>
              </a:rPr>
              <a:t>Zapojení nového partnera </a:t>
            </a:r>
            <a:endParaRPr b="0" lang="en-US" sz="14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e výjimečných a dostatečně odůvodněných případech!</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transformace subjektu partnera a vznik nové organizace,</a:t>
            </a:r>
            <a:endParaRPr b="0" lang="en-US" sz="1200" spc="-1" strike="noStrike">
              <a:solidFill>
                <a:srgbClr val="000000"/>
              </a:solidFill>
              <a:latin typeface="Times New Roman"/>
            </a:endParaRPr>
          </a:p>
          <a:p>
            <a:pPr indent="0">
              <a:spcBef>
                <a:spcPts val="451"/>
              </a:spcBef>
              <a:spcAft>
                <a:spcPts val="5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výměna stávajícího partnera za nového při zachování všech povinností a závazků  </a:t>
            </a:r>
            <a:endParaRPr b="0" lang="en-US" sz="1200" spc="-1" strike="noStrike">
              <a:solidFill>
                <a:srgbClr val="000000"/>
              </a:solidFill>
              <a:latin typeface="Times New Roman"/>
            </a:endParaRPr>
          </a:p>
          <a:p>
            <a:pPr indent="0">
              <a:spcBef>
                <a:spcPts val="300"/>
              </a:spcBef>
              <a:spcAft>
                <a:spcPts val="55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r>
              <a:rPr b="1" lang="cs-CZ" sz="1200" spc="-1" strike="noStrike">
                <a:solidFill>
                  <a:srgbClr val="000000"/>
                </a:solidFill>
                <a:latin typeface="Times New Roman"/>
              </a:rPr>
              <a:t>Podstatnou změnou je </a:t>
            </a:r>
            <a:r>
              <a:rPr b="1" lang="cs-CZ" sz="1400" spc="-1" strike="noStrike">
                <a:solidFill>
                  <a:srgbClr val="f3912c"/>
                </a:solidFill>
                <a:latin typeface="Times New Roman"/>
              </a:rPr>
              <a:t>Změna PS</a:t>
            </a:r>
            <a:r>
              <a:rPr b="0" lang="cs-CZ" sz="1400" spc="-1" strike="noStrike">
                <a:solidFill>
                  <a:srgbClr val="f3912c"/>
                </a:solidFill>
                <a:latin typeface="Times New Roman"/>
              </a:rPr>
              <a:t>, která má </a:t>
            </a:r>
            <a:r>
              <a:rPr b="0" lang="cs-CZ" sz="1200" spc="-1" strike="noStrike">
                <a:solidFill>
                  <a:srgbClr val="000000"/>
                </a:solidFill>
                <a:latin typeface="Times New Roman"/>
              </a:rPr>
              <a:t>charakter podstatné změny.</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 musí poslat Žádost o PZ a návrh nové smlouvy. </a:t>
            </a:r>
            <a:r>
              <a:rPr b="0" lang="cs-CZ" sz="1200" spc="-1" strike="noStrike">
                <a:solidFill>
                  <a:srgbClr val="000000"/>
                </a:solidFill>
                <a:latin typeface="Wingdings"/>
                <a:ea typeface="Wingdings"/>
              </a:rPr>
              <a:t></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 případném schválení musíme vydat dodatek k rozhodnutí</a:t>
            </a: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spcAft>
                <a:spcPts val="13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se jedná o změnu PS, která má char. nepodstatné změny -  dokládají s MZ</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9160"/>
            <a:ext cx="4929480" cy="3695760"/>
          </a:xfrm>
          <a:prstGeom prst="rect">
            <a:avLst/>
          </a:prstGeom>
          <a:ln w="0">
            <a:noFill/>
          </a:ln>
        </p:spPr>
      </p:sp>
      <p:sp>
        <p:nvSpPr>
          <p:cNvPr id="171" name="PlaceHolder 2"/>
          <p:cNvSpPr>
            <a:spLocks noGrp="1"/>
          </p:cNvSpPr>
          <p:nvPr>
            <p:ph type="body"/>
          </p:nvPr>
        </p:nvSpPr>
        <p:spPr>
          <a:xfrm>
            <a:off x="676080" y="4686120"/>
            <a:ext cx="540828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3000"/>
                <a:tab algn="l" pos="2452680"/>
                <a:tab algn="l" pos="2862360"/>
                <a:tab algn="l" pos="3271680"/>
                <a:tab algn="l" pos="3681360"/>
                <a:tab algn="l" pos="4091040"/>
                <a:tab algn="l" pos="4498920"/>
                <a:tab algn="l" pos="4906800"/>
                <a:tab algn="l" pos="5316480"/>
                <a:tab algn="l" pos="5726160"/>
                <a:tab algn="l" pos="6135840"/>
                <a:tab algn="l" pos="6545160"/>
                <a:tab algn="l" pos="6956280"/>
                <a:tab algn="l" pos="7365960"/>
                <a:tab algn="l" pos="7775640"/>
                <a:tab algn="l" pos="8183520"/>
                <a:tab algn="l" pos="8535960"/>
                <a:tab algn="l" pos="8985240"/>
                <a:tab algn="l" pos="9434520"/>
                <a:tab algn="l" pos="9883800"/>
                <a:tab algn="l" pos="10333080"/>
                <a:tab algn="l" pos="10782360"/>
              </a:tabLst>
            </a:pPr>
            <a:fld id="{DC4DBF18-510E-4676-B4CB-9AB8426BAFA9}"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39B55CAE-9439-4D7D-B503-099646413E2D}"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6"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body"/>
          </p:nvPr>
        </p:nvSpPr>
        <p:spPr>
          <a:xfrm>
            <a:off x="676080" y="4686120"/>
            <a:ext cx="23856840" cy="1385640"/>
          </a:xfrm>
          <a:prstGeom prst="rect">
            <a:avLst/>
          </a:prstGeom>
          <a:noFill/>
          <a:ln w="0">
            <a:noFill/>
          </a:ln>
        </p:spPr>
        <p:txBody>
          <a:bodyPr lIns="0" rIns="0" tIns="0" bIns="0" anchor="ctr" anchorCtr="1">
            <a:noAutofit/>
          </a:bodyPr>
          <a:p>
            <a:pPr marL="227160" indent="-227160">
              <a:spcAft>
                <a:spcPts val="1199"/>
              </a:spcAft>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úprav nebo změn v projektu je nutné rozlišovat,  jaké změny mají charakter nepodstatných a jaké podstatných změn</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že změny nemají vliv na plnění podmínek uvedených v Rozhodnutí nebo v právním aktu, kterým se poskytuje dotace, nemají vliv na monitorovací indikátory a cíle projektu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jedná se o nepodstatné změny, které nepodléhají předchozímu schválení z naší strany. Přesto doporučujeme konzultovat s příslušným PM/FM, abyste získali jistotu i aby byl manažer na MŠMT informován o tomto Vašem záměru. </a:t>
            </a:r>
            <a:endParaRPr b="0" lang="en-US" sz="1200" spc="-1" strike="noStrike">
              <a:solidFill>
                <a:srgbClr val="000000"/>
              </a:solidFill>
              <a:latin typeface="Times New Roman"/>
            </a:endParaRPr>
          </a:p>
          <a:p>
            <a:pPr marL="227160" indent="0">
              <a:spcAft>
                <a:spcPts val="119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aždopádně tyto změny musí být dostatečně popsány a zdůvodněny v nejbližší předkládané monitorovací zprávě. Pokud Vám tato změna při kontrole MZ nebude uznána veškeré výdaje vzniklé v souvislosti s touto změnou, které budou realizovány budou prohlášeny za nezpůsobilé.</a:t>
            </a:r>
            <a:endParaRPr b="0" lang="en-US" sz="1200" spc="-1" strike="noStrike">
              <a:solidFill>
                <a:srgbClr val="000000"/>
              </a:solidFill>
              <a:latin typeface="Times New Roman"/>
            </a:endParaRPr>
          </a:p>
          <a:p>
            <a:pPr marL="227160" indent="0">
              <a:spcAft>
                <a:spcPts val="1199"/>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startAt="3"/>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kud byste chtěli provést ve schváleném projektu změny, které by ovlivňovaly naplnění cílů projektu nebo by měnily jeho charakter, musíte návrh těchto změn poslat k posouzení odboru CERA. V případě jejich schválení se musí vydat dodatek k právnímu aktu o poskytnutí podpory. Před odesláním návrhu podstatné změny v projektu musí být tento návrh odsouhlasen všemi partnery.  Formulář najdete na stránkách MŠMT pod odkazem strukturální fonndy, Monitorovací zpráva a její přílohy (odkaz je v této prezentaci na obrázku č. 5).</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227160">
              <a:spcAft>
                <a:spcPts val="1199"/>
              </a:spcAft>
              <a:buClr>
                <a:srgbClr val="000000"/>
              </a:buClr>
              <a:buFont typeface="Times New Roman"/>
              <a:buAutoNum type="arabicPeriod" startAt="3"/>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 této žádosti o podstatné změny se vyjadřují příslušní pracovníci ministerstva, tedy nejen odbor CERA, proto doporučujeme řádné zdůvodnění.</a:t>
            </a: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7160" indent="0">
              <a:spcAft>
                <a:spcPts val="1199"/>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0BA7E7AB-0C9F-4A5A-AC41-F7F516851CCA}"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29"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PlaceHolder 1"/>
          <p:cNvSpPr>
            <a:spLocks noGrp="1"/>
          </p:cNvSpPr>
          <p:nvPr>
            <p:ph type="body"/>
          </p:nvPr>
        </p:nvSpPr>
        <p:spPr>
          <a:xfrm>
            <a:off x="676080" y="4686120"/>
            <a:ext cx="27149400" cy="2703240"/>
          </a:xfrm>
          <a:prstGeom prst="rect">
            <a:avLst/>
          </a:prstGeom>
          <a:noFill/>
          <a:ln w="0">
            <a:noFill/>
          </a:ln>
        </p:spPr>
        <p:txBody>
          <a:bodyPr lIns="0" rIns="0" tIns="0" bIns="0" anchor="ctr" anchorCtr="1">
            <a:noAutofit/>
          </a:bodyPr>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okud budete provádět změny v rozpočtu, pak je bez ohledu na to, zda to budou změny podstatné nebo nepodstatné,  důležité dbát na to, aby</a:t>
            </a: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a:spcBef>
                <a:spcPts val="825"/>
              </a:spcBef>
              <a:spcAft>
                <a:spcPts val="1037"/>
              </a:spcAft>
              <a:buClr>
                <a:srgbClr val="000000"/>
              </a:buClr>
              <a:buSzPct val="75000"/>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nedošlo k </a:t>
            </a:r>
            <a:r>
              <a:rPr b="1" lang="cs-CZ" sz="2200" spc="-1" strike="noStrike">
                <a:solidFill>
                  <a:srgbClr val="000000"/>
                </a:solidFill>
                <a:latin typeface="Times New Roman"/>
              </a:rPr>
              <a:t>navýšení celkové schválené částky uznatelných výdajů projektu</a:t>
            </a:r>
            <a:r>
              <a:rPr b="0" lang="cs-CZ" sz="2200" spc="-1" strike="noStrike">
                <a:solidFill>
                  <a:srgbClr val="000000"/>
                </a:solidFill>
                <a:latin typeface="Times New Roman"/>
              </a:rPr>
              <a:t> – schválený rozpočet nelze v žádném případě překročit</a:t>
            </a:r>
            <a:endParaRPr b="0" lang="en-US" sz="2200" spc="-1" strike="noStrike">
              <a:solidFill>
                <a:srgbClr val="000000"/>
              </a:solidFill>
              <a:latin typeface="Times New Roman"/>
            </a:endParaRPr>
          </a:p>
          <a:p>
            <a:pPr lvl="1" marL="415800">
              <a:spcBef>
                <a:spcPts val="825"/>
              </a:spcBef>
              <a:spcAft>
                <a:spcPts val="1037"/>
              </a:spcAft>
              <a:buClr>
                <a:srgbClr val="000000"/>
              </a:buClr>
              <a:buSzPct val="75000"/>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prováděnou změnou nesmíte navýšit </a:t>
            </a:r>
            <a:r>
              <a:rPr b="1" lang="cs-CZ" sz="2200" spc="-1" strike="noStrike">
                <a:solidFill>
                  <a:srgbClr val="000000"/>
                </a:solidFill>
                <a:latin typeface="Times New Roman"/>
              </a:rPr>
              <a:t>kapitoly nebo položky rozpočtu, které byly kráceny VK – jsou jmenovány a uvedeny ve vyrozumění a jsou již zakotveny ve schváleném a Vámi akceptovaném rozpočtu</a:t>
            </a:r>
            <a:endParaRPr b="0" lang="en-US" sz="2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Times New Roman"/>
              </a:rPr>
              <a:t>nedošlo k překročení procentních limitů</a:t>
            </a:r>
            <a:r>
              <a:rPr b="0" lang="cs-CZ" sz="2200" spc="-1" strike="noStrike">
                <a:solidFill>
                  <a:srgbClr val="000000"/>
                </a:solidFill>
                <a:latin typeface="Times New Roman"/>
              </a:rPr>
              <a:t>, které jsou závazné pro některé kapitoly rozpočtu (např. PpP str. 31 </a:t>
            </a:r>
            <a:r>
              <a:rPr b="0" lang="cs-CZ" sz="1200" spc="-1" strike="noStrike">
                <a:solidFill>
                  <a:srgbClr val="000000"/>
                </a:solidFill>
                <a:latin typeface="Times New Roman"/>
              </a:rPr>
              <a:t>Pokud jsou v následující části stanoveny pro jednotlivé kapitoly (podkapitoly či polož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mezující limity, musí být tyto limity dodrženy </a:t>
            </a:r>
            <a:r>
              <a:rPr b="1" lang="cs-CZ" sz="1200" spc="-1" strike="noStrike">
                <a:solidFill>
                  <a:srgbClr val="000000"/>
                </a:solidFill>
                <a:latin typeface="Times New Roman"/>
              </a:rPr>
              <a:t>jak při sestavování rozpočtu, tak př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závěrečném vyúčtování projektu. Z toho plyne, že když některé položky schválené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 nebudou do konce realizace projektu dočerpány, sníží se tak celkový rozpoče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jektu a tudíž i způsobilá výše položek, které jsou omezeny příslušnými limity. Limi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 musí být dodrženy také vždy při provádění podstatných či nepodstatných změ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i přečerpání stanovených limitů, nebo když kontrolou poskytovatel označí výdaj jak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způsobilý a tento výdaj nebude proplacen, což bude mít za následek snížení celkové sum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způsobilých výdajů při závěrečném vyúčtování projektu a tedy nedodržení stanovených limi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je částka, o kterou jsou tyto limity přečerpány, považována za nezpůsobilý výdaj, a nemůže bý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oučástí proplacené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 případě, že při realizaci projektu nedojde k vyčerpání schválené částky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má příjemce na tuto nevyčerpanou částku nárok a nemůže ji vůči poskytovatel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pory uplatňovat ve vyúčtován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tr. 47</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íl výdajů na pořízení zařízení a vybavení, včetně křížového financování v té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kapitole, na celkových způsobilých výdajích smí činit nejvýše 25 %. Tento limit musí bý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dodržen i při závěrečném vyúčtován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tr. 48</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díl výdajů celé kapitoly Místní kancelář na celkových způsobilých výdajích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smí činit nejvýše 8 % a tento limit musí být zachován i při závěrečném vyúčtování</a:t>
            </a:r>
            <a:endParaRPr b="0" lang="en-US" sz="1200" spc="-1" strike="noStrike">
              <a:solidFill>
                <a:srgbClr val="000000"/>
              </a:solidFill>
              <a:latin typeface="Times New Roman"/>
            </a:endParaRPr>
          </a:p>
          <a:p>
            <a:pPr indent="0">
              <a:spcBef>
                <a:spcPts val="8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ojektu.</a:t>
            </a:r>
            <a:r>
              <a:rPr b="0" lang="cs-CZ" sz="2200" spc="-1" strike="noStrike">
                <a:solidFill>
                  <a:srgbClr val="000000"/>
                </a:solidFill>
                <a:latin typeface="Times New Roman"/>
              </a:rPr>
              <a:t> a </a:t>
            </a:r>
            <a:r>
              <a:rPr b="1" lang="cs-CZ" sz="2200" spc="-1" strike="noStrike">
                <a:solidFill>
                  <a:srgbClr val="000000"/>
                </a:solidFill>
                <a:latin typeface="Times New Roman"/>
              </a:rPr>
              <a:t>není možné, aby změny způsobily začátek nové KA nebo zrušení či ukončení stávající KA. </a:t>
            </a:r>
            <a:endParaRPr b="0" lang="en-US" sz="2200" spc="-1" strike="noStrike">
              <a:solidFill>
                <a:srgbClr val="000000"/>
              </a:solidFill>
              <a:latin typeface="Times New Roman"/>
            </a:endParaRPr>
          </a:p>
          <a:p>
            <a:pPr indent="0">
              <a:spcBef>
                <a:spcPts val="8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Times New Roman"/>
              </a:rPr>
              <a:t>Str. 60</a:t>
            </a:r>
            <a:endParaRPr b="0" lang="en-US" sz="2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v žádném případě. Změny rozpočtu mohou být prováděny jen s využitím cen a mez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místě, čase a odvětví obvyk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i provádění změn rozpočtu (podstatných i nepodstatných) musejí být dodrže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ásledující podmín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celkový rozpočet projektu nemůže být po jeho schválení navýš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3 – Zařízení a vybavení související s realizací projektu nesmí překroč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25 % celkových způsobilých 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4 – Místní kancelář – nesmí překročit 8 % celkových způsobi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1" lang="cs-CZ" sz="1200" spc="-1" strike="noStrike">
                <a:solidFill>
                  <a:srgbClr val="000000"/>
                </a:solidFill>
                <a:latin typeface="Times New Roman"/>
              </a:rPr>
              <a:t>rozpočet Kapitoly 5 – Nákup služeb souvisejících s realizací projektu – nesmí překroč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49 % celkových způsobilých výdajů projektu, pokud není povolena výjimk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et </a:t>
            </a:r>
            <a:r>
              <a:rPr b="1" lang="cs-CZ" sz="1200" spc="-1" strike="noStrike">
                <a:solidFill>
                  <a:srgbClr val="000000"/>
                </a:solidFill>
                <a:latin typeface="Times New Roman"/>
              </a:rPr>
              <a:t>Kapitoly 7 – Přímá podpora – nesmí překročit 20 % celkových způsobilý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ů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 rámci změn rozpočtu </a:t>
            </a:r>
            <a:r>
              <a:rPr b="1" lang="cs-CZ" sz="1200" spc="-1" strike="noStrike">
                <a:solidFill>
                  <a:srgbClr val="000000"/>
                </a:solidFill>
                <a:latin typeface="Times New Roman"/>
              </a:rPr>
              <a:t>nesmějí být navyšovány finanční prostředky v kapitolách neb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oložkách rozpočtu, které byly při schvalování projektu sníženy na základě</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doporučení výběrové komise (musí být respektováno Vyrozumění o schválení žád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o finanční podporu z OP V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ytvoření nové nebo zrušení stávající položky v rozpočtu v případě, že znamená </a:t>
            </a:r>
            <a:r>
              <a:rPr b="1" lang="cs-CZ" sz="1200" spc="-1" strike="noStrike">
                <a:solidFill>
                  <a:srgbClr val="000000"/>
                </a:solidFill>
                <a:latin typeface="Times New Roman"/>
              </a:rPr>
              <a:t>začát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ové klíčové aktivity nebo ukončení či zrušení stávající klíčové aktivity není mož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oložku rozpočtu je považován řádek rozpočtu, který není kapitolou.</a:t>
            </a:r>
            <a:endParaRPr b="0" lang="en-US" sz="1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imes New Roman"/>
            </a:endParaRPr>
          </a:p>
          <a:p>
            <a:pPr lvl="1" marL="415800" indent="0">
              <a:spcBef>
                <a:spcPts val="825"/>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Times New Roman"/>
              </a:rPr>
              <a:t>Všechny změny v rozpočtu, nehledě na to, zda se jedná o změny podstatné nebo nepodstatné, musí být řádně  zdůvodněny a musí být </a:t>
            </a:r>
            <a:r>
              <a:rPr b="1" lang="cs-CZ" sz="2200" spc="-1" strike="noStrike">
                <a:solidFill>
                  <a:srgbClr val="000000"/>
                </a:solidFill>
                <a:latin typeface="Times New Roman"/>
              </a:rPr>
              <a:t>doloženy přepracovaným rozpočtem.  Jsou posuzovány nejen PM z věcného hlediska ve vztahu k projektu, ale především FM z hlediska správného čerpání finančních prostředků.</a:t>
            </a:r>
            <a:endParaRPr b="0" lang="en-US" sz="2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45230355-0BC9-47ED-BEA6-78CA2D9E9395}"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2"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 name="PlaceHolder 1"/>
          <p:cNvSpPr>
            <a:spLocks noGrp="1"/>
          </p:cNvSpPr>
          <p:nvPr>
            <p:ph type="body"/>
          </p:nvPr>
        </p:nvSpPr>
        <p:spPr>
          <a:xfrm>
            <a:off x="676440" y="4686120"/>
            <a:ext cx="20954880" cy="2825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kud se jedná o nepodstatné změny rozpočtu, oznamují se a zdůvodňují se v bezprostředně nejbližší MZ.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podstatnou změnou je </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řesun finančních prostředků mezi položkami uvnitř jednotlivých kapitol.</a:t>
            </a:r>
            <a:r>
              <a:rPr b="0" lang="cs-CZ" sz="1200" spc="-1" strike="noStrike">
                <a:solidFill>
                  <a:srgbClr val="000000"/>
                </a:solidFill>
                <a:latin typeface="Times New Roman"/>
              </a:rPr>
              <a:t> Tyto změny mohou být prováděny bez omezení s výjimkou kapitoly Osobní náklady a Křížové financová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kap. Osobní náklady lze provádět nepodstatné změny pouze pokud jsou zapříčiněny změnou schváleného pracovněprávního vztahu, rozdělením úvazků nebo sloučením úvazků, vytvořením nové pracovní pozice nebo navýšením úvazku stávající pozice za schválenou jednotkovou cen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kap. Osobní náklady se nedají provádět nepodstatné změny, pokud je příjemce organizace s limity mzdové regulace. Všechny změny v této kapitole jsou u organizací se závaznými mzdovými limity považovány za změny podstat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Wingdings"/>
                <a:ea typeface="Wingdings"/>
              </a:rPr>
              <a:t></a:t>
            </a:r>
            <a:r>
              <a:rPr b="0" lang="cs-CZ" sz="1200" spc="-1" strike="noStrike">
                <a:solidFill>
                  <a:srgbClr val="000000"/>
                </a:solidFill>
                <a:latin typeface="Times New Roman"/>
              </a:rPr>
              <a:t> </a:t>
            </a:r>
            <a:r>
              <a:rPr b="0" lang="cs-CZ" sz="1200" spc="-1" strike="noStrike">
                <a:solidFill>
                  <a:srgbClr val="000000"/>
                </a:solidFill>
                <a:latin typeface="Times New Roman"/>
              </a:rPr>
              <a:t>v rámci nepodstatných změn není možné navyšovat finanční prostředky schválené v kapitole Křížové financová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2) Za nepodstatnou změnou je  považován i </a:t>
            </a:r>
            <a:r>
              <a:rPr b="1" lang="cs-CZ" sz="1200" spc="-1" strike="noStrike">
                <a:solidFill>
                  <a:srgbClr val="000000"/>
                </a:solidFill>
                <a:latin typeface="Times New Roman"/>
              </a:rPr>
              <a:t>přesun finančních prostředků mezi kapitolami, ale tento přesun nesmí převýšit 15 % objemu celkových způsobilých výdajů kapitoly, ze které jsou finanční prostředky převáděny</a:t>
            </a:r>
            <a:r>
              <a:rPr b="0" lang="cs-CZ" sz="1200" spc="-1" strike="noStrike">
                <a:solidFill>
                  <a:srgbClr val="000000"/>
                </a:solidFill>
                <a:latin typeface="Times New Roman"/>
              </a:rPr>
              <a:t>. Kapitola Osobní náklady nesmí být navýšena o více jak 15 % schváleného objemu výdajů této kapito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sun prostředků mezi kapitolami se posuzuje podle schváleného rozpočtu, případně pokud byl již rozpočet upraven podstatnou změnou, tak podle tohoto nového schváleného rozpočtu. Čili podle rozpočtu uvedeném v Rozhodnutí nebo právním aktu o přidělení dotace či podle rozpočtu, který je uveden v dodatku k tomuto právnímu a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3) Dále je možné v rámci nepodstatné změny </a:t>
            </a:r>
            <a:r>
              <a:rPr b="1" lang="cs-CZ" sz="1200" spc="-1" strike="noStrike">
                <a:solidFill>
                  <a:srgbClr val="000000"/>
                </a:solidFill>
                <a:latin typeface="Times New Roman"/>
              </a:rPr>
              <a:t>zrušit stávající nebo vytvořit novou položku rozpočtu</a:t>
            </a:r>
            <a:r>
              <a:rPr b="0" lang="cs-CZ" sz="1200" spc="-1" strike="noStrike">
                <a:solidFill>
                  <a:srgbClr val="000000"/>
                </a:solidFill>
                <a:latin typeface="Times New Roman"/>
              </a:rPr>
              <a:t>. V tomto případě je nutné pohlídat, aby tato změna nezpůsobila zrušení stávající nebo začátek nové klíčové aktiv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545440DC-FE41-45B1-9F43-974A2306AE01}"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5"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PlaceHolder 1"/>
          <p:cNvSpPr>
            <a:spLocks noGrp="1"/>
          </p:cNvSpPr>
          <p:nvPr>
            <p:ph type="body"/>
          </p:nvPr>
        </p:nvSpPr>
        <p:spPr>
          <a:xfrm>
            <a:off x="676080" y="4686120"/>
            <a:ext cx="5421240" cy="4390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romě nepodstatných změn týkajících se rozpočtu je možné provádět </a:t>
            </a:r>
            <a:r>
              <a:rPr b="1" lang="cs-CZ" sz="1200" spc="-1" strike="noStrike">
                <a:solidFill>
                  <a:srgbClr val="000000"/>
                </a:solidFill>
                <a:latin typeface="Times New Roman"/>
              </a:rPr>
              <a:t>změny v době realizace jednotlivých KA</a:t>
            </a:r>
            <a:r>
              <a:rPr b="0" lang="cs-CZ" sz="1200" spc="-1" strike="noStrike">
                <a:solidFill>
                  <a:srgbClr val="000000"/>
                </a:solidFill>
                <a:latin typeface="Times New Roman"/>
              </a:rPr>
              <a:t>. Tyto změny musí být opět zdůvodněny v MZ a doloženy novým přepracovaným harmonogramem. Zde není možné v rámci změny v harmonogramu změnit celkovou dobu realizace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podstatné změny týkající se změny kontaktních údajů příjemce, změny jeho sídla nebo změny hlavní kontaktní osoby nebo manažera projektu je nutné oznámit neprodleně a následně pak i s MZ.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nepodstatnou změnu je považována i změna auditora (pokud je provedení auditu v projektu povin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názvu sub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ve statutu 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měna statutárního zástupce, tady je ale nutné, aby příjemce odeslal do 5 PD oznámení o změně s podklady, které tuto změnu prokazuj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 nepodstatnou změnou je i změna smlouvy mezi partnerem a příjemcem, která se mění z důvodu, že došlo k nepodstatným změnám u partnera. Kopii nové partnerské smlouvy je třeba doložit v monitorovací zprávě, kde bude opět tato změna popsána a zdůvodněn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musí nejpozději 6 měsíců před ukončením projektu podle právního aktu vybr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hodného auditora (musí se jednat o auditora nebo o auditorskou firmu, kteří jsou zaps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Komoře auditorů ČR) a uzavřít s ním smlouvu o provedení závěrečného audi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9CB5E186-1F88-4D90-B2DE-BDA7C39E92B1}"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38"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PlaceHolder 1"/>
          <p:cNvSpPr>
            <a:spLocks noGrp="1"/>
          </p:cNvSpPr>
          <p:nvPr>
            <p:ph type="body"/>
          </p:nvPr>
        </p:nvSpPr>
        <p:spPr>
          <a:xfrm>
            <a:off x="676440" y="4686120"/>
            <a:ext cx="5410080" cy="4438440"/>
          </a:xfrm>
          <a:prstGeom prst="rect">
            <a:avLst/>
          </a:prstGeom>
          <a:noFill/>
          <a:ln w="0">
            <a:noFill/>
          </a:ln>
        </p:spPr>
        <p:txBody>
          <a:bodyPr lIns="0" rIns="0" tIns="0" bIns="0" anchor="ctr" anchorCtr="1">
            <a:noAutofit/>
          </a:bodyPr>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Z je tedy změna která mění obsah nebo charakter schváleného projektu a zakládá povinnost upravit nebo doplnit právní akt o poskytnutí dotace.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ato změna tedy nesmí být provedena před jejím schválením a vydáním dodatku k právnímu aktu.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Žádost o PZ naleznete na </a:t>
            </a:r>
            <a:r>
              <a:rPr b="1" lang="cs-CZ" sz="1000" spc="-1" strike="noStrike">
                <a:solidFill>
                  <a:srgbClr val="000000"/>
                </a:solidFill>
                <a:latin typeface="Times New Roman"/>
              </a:rPr>
              <a:t>webových stránkách</a:t>
            </a:r>
            <a:r>
              <a:rPr b="0" lang="cs-CZ" sz="1000" spc="-1" strike="noStrike">
                <a:solidFill>
                  <a:srgbClr val="000000"/>
                </a:solidFill>
                <a:latin typeface="Times New Roman"/>
              </a:rPr>
              <a:t> ministerstva pod odkazem SF/pro žadatele a příjemce/MZ a její přílohy</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 této žádosti popíšete navrhovanou změnu, zdůvodníte ji a případně přiložíte další související dokumenty (změněný rozpočet/harm.)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ed odesláním žádosti ji musíte nechat potvrdit </a:t>
            </a:r>
            <a:r>
              <a:rPr b="1" lang="cs-CZ" sz="1000" spc="-1" strike="noStrike">
                <a:solidFill>
                  <a:srgbClr val="000000"/>
                </a:solidFill>
                <a:latin typeface="Times New Roman"/>
              </a:rPr>
              <a:t>souhlasem všech partnerů </a:t>
            </a:r>
            <a:r>
              <a:rPr b="0" lang="cs-CZ" sz="1000" spc="-1" strike="noStrike">
                <a:solidFill>
                  <a:srgbClr val="000000"/>
                </a:solidFill>
                <a:latin typeface="Times New Roman"/>
              </a:rPr>
              <a:t>projektu. Pokud žádost nebude obsahovat písemný souhlas partnerů, musíte zdůvodnit proč jste jej nezískali.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to bude z formálních/organizačních důvodů </a:t>
            </a:r>
            <a:r>
              <a:rPr b="0" lang="cs-CZ" sz="1000" spc="-1" strike="noStrike">
                <a:solidFill>
                  <a:srgbClr val="000000"/>
                </a:solidFill>
                <a:latin typeface="Wingdings"/>
                <a:ea typeface="Wingdings"/>
              </a:rPr>
              <a:t></a:t>
            </a:r>
            <a:r>
              <a:rPr b="0" lang="cs-CZ" sz="1000" spc="-1" strike="noStrike">
                <a:solidFill>
                  <a:srgbClr val="000000"/>
                </a:solidFill>
                <a:latin typeface="Times New Roman"/>
              </a:rPr>
              <a:t> statutár nepřítomen, lze dodat zpětně),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le pokud nesouhlas partnera, tak se to bude brát v potaz při schvalování…</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ato podepsaná žádost se posílá příslušnému PM O CERA a na její posouzení mají pracovníci ministerstva 30 PD. Po rozhodnutí o schválení či neschválení navrhované změny má příslušný PM O CERA 5 PD na vyrozumění příjemce. V případě schválení PZ se vydá dodatek prvního aktu, který nabývá účinnosti dnem podpisu oběma stranami.</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Odsouhlasení změn nelze provést se zpětnou platností, výjimkou je odsouhlasení změny začátku realizace projektu nebo těch změn, jejichž příčinu nemohl příjemce ovlivnit.  </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zor na to, že žádost o podstatnou změnu projektu můžete předložit nejpozději 60 KD před ukončením projektu, v posledních dvou měsících projektu tedy nelze u žádat o podstatné změny!</a:t>
            </a: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lvl="1" marL="415800" indent="0">
              <a:lnSpc>
                <a:spcPct val="80000"/>
              </a:lnSpc>
              <a:spcBef>
                <a:spcPts val="374"/>
              </a:spcBef>
              <a:spcAft>
                <a:spcPts val="103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45CA26A9-F5A4-4594-8142-B6685E4CF3A8}"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1"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PlaceHolder 1"/>
          <p:cNvSpPr>
            <a:spLocks noGrp="1"/>
          </p:cNvSpPr>
          <p:nvPr>
            <p:ph type="body"/>
          </p:nvPr>
        </p:nvSpPr>
        <p:spPr>
          <a:xfrm>
            <a:off x="676440" y="4686120"/>
            <a:ext cx="19475280" cy="2104920"/>
          </a:xfrm>
          <a:prstGeom prst="rect">
            <a:avLst/>
          </a:prstGeom>
          <a:noFill/>
          <a:ln w="0">
            <a:noFill/>
          </a:ln>
        </p:spPr>
        <p:txBody>
          <a:bodyPr lIns="0" rIns="0" tIns="0" bIns="0" anchor="ctr" anchorCtr="1">
            <a:noAutofit/>
          </a:bodyPr>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týkající se rozpočtu jsou všechny změny, které nenaleznete v PpP jako změny nepodstatné. Tedy žádost o podstatnou změnu musíte podat, pokud předsouváte finanční prostředky mezi kapitolami v takové výši, která přesahuje 15 % celkového objemu způsobilých výdajů kapitoly, ze které prostředky přesouváte.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Z je považováno i navýšení finančních prostředků kapitoly Osobních nákladů o více než 15 % celkového objemu této kapitoly v rámci platného rozpočtu.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 PZ je dále považováno jakékoliv navýšení položek kapitoly Křížové financování.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je jakákoliv změna v rozpočtu v kapitole Osobních nákladů, které způsobí přesun limitních hodnot u organizací se stanovenými limity mzdové regulace.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0484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Hodně zdůraznit, že když mají v rozhodnutí limity mzdové regulace, tak pozor na změny v kapitole osobní náklady, jakékoliv přesuny i v rámci kapitoly jsou podstatné!!!!</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2BCCE02A-5228-45C1-86BC-AC0D39F04C54}"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4"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PlaceHolder 1"/>
          <p:cNvSpPr>
            <a:spLocks noGrp="1"/>
          </p:cNvSpPr>
          <p:nvPr>
            <p:ph type="body"/>
          </p:nvPr>
        </p:nvSpPr>
        <p:spPr>
          <a:xfrm>
            <a:off x="676440" y="4686120"/>
            <a:ext cx="22553280" cy="2585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lší změny charakteru PZ, jsou změny týkají se například MI, i když v žádném případě nelze zrušit povinné M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Z je změna začátku nebo ukončení realizace projektu, v případě prodloužení doby realizace projektu není možné navýšit schválené finanční prostředk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Charakter PZ mají změny v partnerské smlouvě, které mají charakter podstatných změn, dále je PZ odstoupení partnera v průběhu realizace projektu nebo zapojení nové partnera do projektu, ale to jde pouze ve výjimečných a dostatečně zdůvodněných případech. Například může dojít k výměně partnera za jiného partnera při zachování všech povinností a závaz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výjimečných případech může dojít i ke změně projektového účtu, záměr změnit účet opět podléhá souhlasu ze strany poskytovatele. Navíc je příjemce povinen realizaci změny do 5 PD oznámit spolu s doložením kopie smlouvy o zřízení nového bankovního účtu nebo formulář FI a doložení převodu všech finančních prostředků projektu na nový úče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3828960" y="9374040"/>
            <a:ext cx="2932200" cy="48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04640"/>
                <a:tab algn="l" pos="814320"/>
                <a:tab algn="l" pos="1224000"/>
                <a:tab algn="l" pos="1633680"/>
                <a:tab algn="l" pos="2041560"/>
                <a:tab algn="l" pos="2451240"/>
                <a:tab algn="l" pos="2862360"/>
                <a:tab algn="l" pos="3271680"/>
                <a:tab algn="l" pos="3679920"/>
                <a:tab algn="l" pos="4089240"/>
                <a:tab algn="l" pos="4498920"/>
                <a:tab algn="l" pos="4906800"/>
                <a:tab algn="l" pos="5315040"/>
                <a:tab algn="l" pos="5726160"/>
                <a:tab algn="l" pos="6135840"/>
                <a:tab algn="l" pos="6545160"/>
                <a:tab algn="l" pos="6956280"/>
                <a:tab algn="l" pos="7364520"/>
                <a:tab algn="l" pos="7773840"/>
                <a:tab algn="l" pos="8182080"/>
                <a:tab algn="l" pos="8535960"/>
                <a:tab algn="l" pos="8985240"/>
                <a:tab algn="l" pos="9434520"/>
                <a:tab algn="l" pos="9883800"/>
                <a:tab algn="l" pos="10333080"/>
                <a:tab algn="l" pos="10782360"/>
              </a:tabLst>
            </a:pPr>
            <a:fld id="{BEEEDBB6-7366-4596-B972-9E08A7BB5019}" type="slidenum">
              <a:rPr b="0" lang="cs-CZ"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47" name="Text Box 1"/>
          <p:cNvSpPr/>
          <p:nvPr/>
        </p:nvSpPr>
        <p:spPr>
          <a:xfrm>
            <a:off x="990720" y="7509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PlaceHolder 1"/>
          <p:cNvSpPr>
            <a:spLocks noGrp="1"/>
          </p:cNvSpPr>
          <p:nvPr>
            <p:ph type="body"/>
          </p:nvPr>
        </p:nvSpPr>
        <p:spPr>
          <a:xfrm>
            <a:off x="676080" y="4686120"/>
            <a:ext cx="24709320" cy="1865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rství v rámci projektů OP VK je založeno na opodstatněnosti a nezastupitelnosti. Partnerství musí zabezpečovat takové aktivity, bez nichž by nebylo dosaženo cílů a MI projektu. Výběr projektů k realizaci je založen na posouzení projektu jako celku včetně opodstatněnosti partnera, tudíž veškeré změny týkající se odstoupení stávajícího nebo přistoupení nového partnera jsou změny podstatné.</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rství nesmí být založeno na poskytování administrativních nebo jiných běžných služeb. Partner tedy nesmí být dodavatelem služeb souvisejících činnostmi projektu ani nesmí být poskytovatelem jiných dodávek pro projek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s partnerem společně realizují min. 51 % aktivit projektu, přičemž příjemce by měl realizovat vždy převažující část aktivit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jekty, které jsou v rámci partnerství realizovány musí mít neziskový charakter, čili příjemce ani partneři nemohou projekt realizovat za účelem dosažení zisk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81041-E54D-4287-A6EA-FDAE48B1B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37DD8-22FB-442E-8BC0-2A7FB9AB7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D1AD7-1B10-4F18-8422-0C2B4C775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A33E7-88C4-4FF5-8648-97D1ED903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49624-F0FD-43A6-8274-94E747DDC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0E74B-E474-4A87-8B79-6751BEE83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8EAC6-95A0-49EA-BDCA-1EE18EBB1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32E5E-27D2-4715-BB0E-645D89ABA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D20C6-9F68-432B-8BBC-8BB8864C6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24AD9-5368-4C05-A137-E8B780743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CDF5D-EB37-45B5-ACFD-6488C1E56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1340A-5286-4033-8B58-0DE034B12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B8F71FF-BB2E-483D-B357-A5CAE91AB046}" type="slidenum">
              <a:rPr b="0" lang="cs-CZ"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936800" y="3208320"/>
            <a:ext cx="8143920" cy="26431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projektového řízení IPo pro oblast podpory 2.4</a:t>
            </a:r>
            <a:br>
              <a:rPr sz="4400"/>
            </a:br>
            <a:br>
              <a:rPr sz="4400"/>
            </a:br>
            <a:br>
              <a:rPr sz="2000"/>
            </a:br>
            <a:r>
              <a:rPr b="1" lang="cs-CZ" sz="3200" spc="-1" strike="noStrike">
                <a:solidFill>
                  <a:srgbClr val="f3912c"/>
                </a:solidFill>
                <a:latin typeface="Arial"/>
              </a:rPr>
              <a:t>Helena Matasová</a:t>
            </a:r>
            <a:br>
              <a:rPr sz="3200"/>
            </a:br>
            <a:br>
              <a:rPr sz="1800"/>
            </a:br>
            <a:r>
              <a:rPr b="1" lang="cs-CZ" sz="1800" spc="-1" strike="noStrike">
                <a:solidFill>
                  <a:srgbClr val="f3912c"/>
                </a:solidFill>
                <a:latin typeface="Arial"/>
              </a:rPr>
              <a:t>Prezentace pro příjemce IPo, kteří se řídí Příručkou pro příjemce, verze 2, ze dne 15.4.2009.</a:t>
            </a:r>
            <a:endParaRPr b="0" lang="en-US" sz="1800" spc="-1" strike="noStrike">
              <a:solidFill>
                <a:srgbClr val="000000"/>
              </a:solidFill>
              <a:latin typeface="Arial"/>
            </a:endParaRPr>
          </a:p>
        </p:txBody>
      </p:sp>
      <p:sp>
        <p:nvSpPr>
          <p:cNvPr id="51"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52"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1" name="PlaceHolder 1"/>
          <p:cNvSpPr>
            <a:spLocks noGrp="1"/>
          </p:cNvSpPr>
          <p:nvPr>
            <p:ph type="title"/>
          </p:nvPr>
        </p:nvSpPr>
        <p:spPr>
          <a:xfrm>
            <a:off x="1896840" y="351000"/>
            <a:ext cx="7740360" cy="1071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000000"/>
              </a:solidFill>
              <a:latin typeface="Arial"/>
            </a:endParaRPr>
          </a:p>
        </p:txBody>
      </p:sp>
      <p:sp>
        <p:nvSpPr>
          <p:cNvPr id="92" name="Zástupný symbol pro obsah 7"/>
          <p:cNvSpPr/>
          <p:nvPr/>
        </p:nvSpPr>
        <p:spPr>
          <a:xfrm>
            <a:off x="1897200" y="1494000"/>
            <a:ext cx="7500960" cy="542916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a) Partner s finančním příspěvkem</a:t>
            </a: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b) Partner bez finančního příspěvku</a:t>
            </a: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společná realizace aktivit projektu;</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odpovědnost poskytovateli je na příjemci;</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 </a:t>
            </a:r>
            <a:r>
              <a:rPr b="1" lang="cs-CZ" sz="2400" spc="-1" strike="noStrike">
                <a:solidFill>
                  <a:srgbClr val="000000"/>
                </a:solidFill>
                <a:latin typeface="Arial"/>
                <a:ea typeface="Lucida Sans Unicode"/>
              </a:rPr>
              <a:t>povaha právních vztahů není založena              na poskytování služeb;</a:t>
            </a:r>
            <a:endParaRPr b="0" lang="en-US" sz="2400" spc="-1" strike="noStrike">
              <a:solidFill>
                <a:srgbClr val="ffffff"/>
              </a:solidFill>
              <a:latin typeface="Arial"/>
            </a:endParaRPr>
          </a:p>
          <a:p>
            <a:pPr lvl="1" marL="914400" indent="-457200">
              <a:lnSpc>
                <a:spcPct val="93000"/>
              </a:lnSpc>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nesmí být v rozporu s právními předpisy ČR.</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93" name="Picture 5" descr=""/>
          <p:cNvPicPr/>
          <p:nvPr/>
        </p:nvPicPr>
        <p:blipFill>
          <a:blip r:embed="rId1"/>
          <a:stretch/>
        </p:blipFill>
        <p:spPr>
          <a:xfrm>
            <a:off x="0" y="3065400"/>
            <a:ext cx="1627200" cy="4494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Zástupný symbol pro text 8"/>
          <p:cNvSpPr/>
          <p:nvPr/>
        </p:nvSpPr>
        <p:spPr>
          <a:xfrm>
            <a:off x="1897200" y="678024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5" name="PlaceHolder 1"/>
          <p:cNvSpPr>
            <a:spLocks noGrp="1"/>
          </p:cNvSpPr>
          <p:nvPr>
            <p:ph type="title"/>
          </p:nvPr>
        </p:nvSpPr>
        <p:spPr>
          <a:xfrm>
            <a:off x="1754280" y="279000"/>
            <a:ext cx="792936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Partnerská smlouva</a:t>
            </a:r>
            <a:endParaRPr b="0" lang="en-US" sz="4100" spc="-1" strike="noStrike">
              <a:solidFill>
                <a:srgbClr val="000000"/>
              </a:solidFill>
              <a:latin typeface="Arial"/>
            </a:endParaRPr>
          </a:p>
        </p:txBody>
      </p:sp>
      <p:sp>
        <p:nvSpPr>
          <p:cNvPr id="96" name="Zástupný symbol pro obsah 7"/>
          <p:cNvSpPr/>
          <p:nvPr/>
        </p:nvSpPr>
        <p:spPr>
          <a:xfrm>
            <a:off x="1968480" y="1494000"/>
            <a:ext cx="7669080" cy="55720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artner s finančním příspěvkem</a:t>
            </a:r>
            <a:endParaRPr b="0" lang="en-US" sz="3200" spc="-1" strike="noStrike">
              <a:solidFill>
                <a:srgbClr val="ffffff"/>
              </a:solidFill>
              <a:latin typeface="Arial"/>
            </a:endParaRPr>
          </a:p>
          <a:p>
            <a:pPr lvl="1" marL="428760" indent="-216000">
              <a:lnSpc>
                <a:spcPct val="93000"/>
              </a:lnSpc>
              <a:spcAft>
                <a:spcPts val="601"/>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samostatný projektový bankovní účet/podúčet;</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Výjimka z PpP platná od 1.6.2009 (netýká se </a:t>
            </a:r>
            <a:r>
              <a:rPr b="0" lang="cs-CZ" sz="2400" spc="-1" strike="noStrike">
                <a:solidFill>
                  <a:srgbClr val="000000"/>
                </a:solidFill>
                <a:latin typeface="Arial"/>
              </a:rPr>
              <a:t>	</a:t>
            </a:r>
            <a:r>
              <a:rPr b="0" lang="cs-CZ" sz="2400" spc="-1" strike="noStrike">
                <a:solidFill>
                  <a:srgbClr val="000000"/>
                </a:solidFill>
                <a:latin typeface="Arial"/>
              </a:rPr>
              <a:t>poskytnutých záloh partnerov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říjemce podpory = žadatel;</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žádost o proplacení výdajů předkládá partner příjemc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artner má při dokladování a vyúčtování vůči poskytovateli podpory stejné povinnosti jako příjemce;</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artner má vůči poskytovateli podpory povinnosti </a:t>
            </a:r>
            <a:r>
              <a:rPr b="0" lang="cs-CZ" sz="2400" spc="-1" strike="noStrike">
                <a:solidFill>
                  <a:srgbClr val="000000"/>
                </a:solidFill>
                <a:latin typeface="Arial"/>
              </a:rPr>
              <a:t>	</a:t>
            </a:r>
            <a:r>
              <a:rPr b="0" lang="cs-CZ" sz="2400" spc="-1" strike="noStrike">
                <a:solidFill>
                  <a:srgbClr val="000000"/>
                </a:solidFill>
                <a:latin typeface="Arial"/>
              </a:rPr>
              <a:t>vyplývající z partnerské smlouv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97" name="Picture 5" descr=""/>
          <p:cNvPicPr/>
          <p:nvPr/>
        </p:nvPicPr>
        <p:blipFill>
          <a:blip r:embed="rId1"/>
          <a:stretch/>
        </p:blipFill>
        <p:spPr>
          <a:xfrm>
            <a:off x="0" y="3065400"/>
            <a:ext cx="1627200" cy="4494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99" name="PlaceHolder 1"/>
          <p:cNvSpPr>
            <a:spLocks noGrp="1"/>
          </p:cNvSpPr>
          <p:nvPr>
            <p:ph type="title"/>
          </p:nvPr>
        </p:nvSpPr>
        <p:spPr>
          <a:xfrm>
            <a:off x="1754280" y="351000"/>
            <a:ext cx="792936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Partnerská smlouva</a:t>
            </a:r>
            <a:endParaRPr b="0" lang="en-US" sz="4100" spc="-1" strike="noStrike">
              <a:solidFill>
                <a:srgbClr val="000000"/>
              </a:solidFill>
              <a:latin typeface="Arial"/>
            </a:endParaRPr>
          </a:p>
        </p:txBody>
      </p:sp>
      <p:sp>
        <p:nvSpPr>
          <p:cNvPr id="100" name="Zástupný symbol pro obsah 7"/>
          <p:cNvSpPr/>
          <p:nvPr/>
        </p:nvSpPr>
        <p:spPr>
          <a:xfrm>
            <a:off x="1968480" y="1779480"/>
            <a:ext cx="7669080" cy="457200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Úhrady mezi příjemcem a partnerem</a:t>
            </a:r>
            <a:endParaRPr b="0" lang="en-US" sz="3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variant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říjemce poskytne partnerovi část zálohové platby;</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artner vyúčtovává způsobilé výdaje za dané MO a </a:t>
            </a:r>
            <a:r>
              <a:rPr b="0" lang="cs-CZ" sz="2400" spc="-1" strike="noStrike">
                <a:solidFill>
                  <a:srgbClr val="000000"/>
                </a:solidFill>
                <a:latin typeface="Arial"/>
              </a:rPr>
              <a:t>	</a:t>
            </a:r>
            <a:r>
              <a:rPr b="0" lang="cs-CZ" sz="2400" spc="-1" strike="noStrike">
                <a:solidFill>
                  <a:srgbClr val="000000"/>
                </a:solidFill>
                <a:latin typeface="Arial"/>
              </a:rPr>
              <a:t>příjemce je zahrnuje do MZ;</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artner</a:t>
            </a:r>
            <a:r>
              <a:rPr b="1" lang="cs-CZ" sz="2400" spc="-1" strike="noStrike">
                <a:solidFill>
                  <a:srgbClr val="000000"/>
                </a:solidFill>
                <a:latin typeface="Arial"/>
              </a:rPr>
              <a:t> </a:t>
            </a:r>
            <a:r>
              <a:rPr b="0" lang="cs-CZ" sz="2400" spc="-1" strike="noStrike">
                <a:solidFill>
                  <a:srgbClr val="000000"/>
                </a:solidFill>
                <a:latin typeface="Arial"/>
              </a:rPr>
              <a:t>vyúčtovává způsobilé výdaje, ale jejich </a:t>
            </a:r>
            <a:r>
              <a:rPr b="0" lang="cs-CZ" sz="2400" spc="-1" strike="noStrike">
                <a:solidFill>
                  <a:srgbClr val="000000"/>
                </a:solidFill>
                <a:latin typeface="Arial"/>
              </a:rPr>
              <a:t>	</a:t>
            </a:r>
            <a:r>
              <a:rPr b="0" lang="cs-CZ" sz="2400" spc="-1" strike="noStrike">
                <a:solidFill>
                  <a:srgbClr val="000000"/>
                </a:solidFill>
                <a:latin typeface="Arial"/>
              </a:rPr>
              <a:t>proplacení nastává až po schválení poskytovatelem </a:t>
            </a:r>
            <a:r>
              <a:rPr b="0" lang="cs-CZ" sz="2400" spc="-1" strike="noStrike">
                <a:solidFill>
                  <a:srgbClr val="000000"/>
                </a:solidFill>
                <a:latin typeface="Arial"/>
              </a:rPr>
              <a:t>	</a:t>
            </a:r>
            <a:r>
              <a:rPr b="0" lang="cs-CZ" sz="2400" spc="-1" strike="noStrike">
                <a:solidFill>
                  <a:srgbClr val="000000"/>
                </a:solidFill>
                <a:latin typeface="Arial"/>
              </a:rPr>
              <a:t>podpory.</a:t>
            </a:r>
            <a:endParaRPr b="0" lang="en-US" sz="2400" spc="-1" strike="noStrike">
              <a:solidFill>
                <a:srgbClr val="ffffff"/>
              </a:solidFill>
              <a:latin typeface="Arial"/>
            </a:endParaRPr>
          </a:p>
        </p:txBody>
      </p:sp>
      <p:pic>
        <p:nvPicPr>
          <p:cNvPr id="101" name="Picture 5" descr=""/>
          <p:cNvPicPr/>
          <p:nvPr/>
        </p:nvPicPr>
        <p:blipFill>
          <a:blip r:embed="rId1"/>
          <a:stretch/>
        </p:blipFill>
        <p:spPr>
          <a:xfrm>
            <a:off x="0" y="3065400"/>
            <a:ext cx="1627200" cy="4494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03" name="PlaceHolder 1"/>
          <p:cNvSpPr>
            <a:spLocks noGrp="1"/>
          </p:cNvSpPr>
          <p:nvPr>
            <p:ph type="title"/>
          </p:nvPr>
        </p:nvSpPr>
        <p:spPr>
          <a:xfrm>
            <a:off x="1896840" y="351000"/>
            <a:ext cx="774036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000000"/>
              </a:solidFill>
              <a:latin typeface="Arial"/>
            </a:endParaRPr>
          </a:p>
        </p:txBody>
      </p:sp>
      <p:sp>
        <p:nvSpPr>
          <p:cNvPr id="104" name="Zástupný symbol pro obsah 7"/>
          <p:cNvSpPr/>
          <p:nvPr/>
        </p:nvSpPr>
        <p:spPr>
          <a:xfrm>
            <a:off x="1825560" y="1422360"/>
            <a:ext cx="7669440" cy="5143680"/>
          </a:xfrm>
          <a:prstGeom prst="rect">
            <a:avLst/>
          </a:prstGeom>
          <a:noFill/>
          <a:ln w="0">
            <a:noFill/>
          </a:ln>
        </p:spPr>
        <p:style>
          <a:lnRef idx="0"/>
          <a:fillRef idx="0"/>
          <a:effectRef idx="0"/>
          <a:fontRef idx="minor"/>
        </p:style>
        <p:txBody>
          <a:bodyPr lIns="0" rIns="0" tIns="0" bIns="0" anchor="t">
            <a:noAutofit/>
          </a:bodyPr>
          <a:p>
            <a:pPr lvl="1" marL="457200" algn="ctr">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ea typeface="Lucida Sans Unicode"/>
              </a:rPr>
              <a:t>Zapůjčování majetku v průběhu realizace projektu</a:t>
            </a:r>
            <a:endParaRPr b="0" lang="en-US" sz="32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ffffff"/>
              </a:solidFill>
              <a:latin typeface="Arial"/>
            </a:endParaRPr>
          </a:p>
          <a:p>
            <a:pPr lvl="2" marL="644400" indent="-214200">
              <a:lnSpc>
                <a:spcPct val="93000"/>
              </a:lnSpc>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zařízení a vybavení hrazené příjemcem, užívané partnerem  musí byt inventarizováno a označeno stejně jako zařízení užívané příjemcem;</a:t>
            </a:r>
            <a:endParaRPr b="0" lang="en-US" sz="2400" spc="-1" strike="noStrike">
              <a:solidFill>
                <a:srgbClr val="ffffff"/>
              </a:solidFill>
              <a:latin typeface="Arial"/>
            </a:endParaRPr>
          </a:p>
          <a:p>
            <a:pPr>
              <a:lnSpc>
                <a:spcPct val="93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lvl="2" marL="644400" indent="-214200">
              <a:lnSpc>
                <a:spcPct val="93000"/>
              </a:lnSpc>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výpůjčky zařízení a vybavení mimo partnerský vztah nejsou možné.</a:t>
            </a:r>
            <a:endParaRPr b="0" lang="en-US" sz="2400" spc="-1" strike="noStrike">
              <a:solidFill>
                <a:srgbClr val="ffffff"/>
              </a:solidFill>
              <a:latin typeface="Arial"/>
            </a:endParaRPr>
          </a:p>
          <a:p>
            <a:pPr>
              <a:lnSpc>
                <a:spcPct val="93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0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pic>
        <p:nvPicPr>
          <p:cNvPr id="106" name="Picture 5" descr=""/>
          <p:cNvPicPr/>
          <p:nvPr/>
        </p:nvPicPr>
        <p:blipFill>
          <a:blip r:embed="rId1"/>
          <a:stretch/>
        </p:blipFill>
        <p:spPr>
          <a:xfrm>
            <a:off x="0" y="3065400"/>
            <a:ext cx="1627200" cy="4494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976040" y="1279440"/>
            <a:ext cx="7350120" cy="5143680"/>
          </a:xfrm>
          <a:prstGeom prst="rect">
            <a:avLst/>
          </a:prstGeom>
          <a:noFill/>
          <a:ln w="0">
            <a:noFill/>
          </a:ln>
        </p:spPr>
        <p:txBody>
          <a:bodyPr lIns="0" rIns="0" tIns="0" bIns="0" anchor="t">
            <a:normAutofit/>
          </a:bodyPr>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rPr>
              <a:t>Vypořádání po skončení projektu</a:t>
            </a:r>
            <a:endParaRPr b="0" lang="en-US" sz="32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rPr>
              <a:t>a) Partner bez finančního příspěvku</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rozdělení zařízení a spotřebního materiálu;</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toto zařízení a spotřební materiál nelze převádět    partnerům mimo cílový region, pokud se nejedená o podporu cílové skupiny;</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kopie převodních listin,</a:t>
            </a:r>
            <a:r>
              <a:rPr b="0" lang="cs-CZ" sz="1000" spc="-1" strike="noStrike">
                <a:solidFill>
                  <a:srgbClr val="000000"/>
                </a:solidFill>
                <a:latin typeface="Arial"/>
              </a:rPr>
              <a:t> </a:t>
            </a:r>
            <a:r>
              <a:rPr b="0" lang="cs-CZ" sz="2400" spc="-1" strike="noStrike">
                <a:solidFill>
                  <a:srgbClr val="000000"/>
                </a:solidFill>
                <a:latin typeface="Arial"/>
              </a:rPr>
              <a:t>darovacích smluv</a:t>
            </a:r>
            <a:r>
              <a:rPr b="0" lang="cs-CZ" sz="1000" spc="-1" strike="noStrike">
                <a:solidFill>
                  <a:srgbClr val="000000"/>
                </a:solidFill>
                <a:latin typeface="Arial"/>
              </a:rPr>
              <a:t> </a:t>
            </a:r>
            <a:r>
              <a:rPr b="0" lang="cs-CZ" sz="2400" spc="-1" strike="noStrike">
                <a:solidFill>
                  <a:srgbClr val="000000"/>
                </a:solidFill>
                <a:latin typeface="Arial"/>
              </a:rPr>
              <a:t>předkládá příjemce</a:t>
            </a:r>
            <a:r>
              <a:rPr b="0" lang="cs-CZ" sz="1000" spc="-1" strike="noStrike">
                <a:solidFill>
                  <a:srgbClr val="000000"/>
                </a:solidFill>
                <a:latin typeface="Arial"/>
              </a:rPr>
              <a:t> </a:t>
            </a:r>
            <a:r>
              <a:rPr b="0" lang="cs-CZ" sz="2400" spc="-1" strike="noStrike">
                <a:solidFill>
                  <a:srgbClr val="000000"/>
                </a:solidFill>
                <a:latin typeface="Arial"/>
              </a:rPr>
              <a:t>se závěrečnou MZ.</a:t>
            </a:r>
            <a:endParaRPr b="0" lang="en-US" sz="24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00" spc="-1" strike="noStrike">
              <a:solidFill>
                <a:srgbClr val="000000"/>
              </a:solidFill>
              <a:latin typeface="Arial"/>
            </a:endParaRPr>
          </a:p>
          <a:p>
            <a:pPr lvl="1" marL="914400" indent="0">
              <a:lnSpc>
                <a:spcPct val="93000"/>
              </a:lnSpc>
              <a:spcAft>
                <a:spcPts val="1137"/>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rPr>
              <a:t>b) Partner s finančním příspěvkem </a:t>
            </a:r>
            <a:endParaRPr b="0" lang="en-US" sz="2400" spc="-1" strike="noStrike">
              <a:solidFill>
                <a:srgbClr val="000000"/>
              </a:solidFill>
              <a:latin typeface="Arial"/>
            </a:endParaRPr>
          </a:p>
          <a:p>
            <a:pPr lvl="1" marL="914400" indent="-457200">
              <a:lnSpc>
                <a:spcPct val="93000"/>
              </a:lnSpc>
              <a:spcAft>
                <a:spcPts val="1137"/>
              </a:spcAft>
              <a:buClr>
                <a:srgbClr val="000000"/>
              </a:buClr>
              <a:buSzPct val="7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zařízení a spotřební materiál je v jeho vlastnictví.</a:t>
            </a:r>
            <a:endParaRPr b="0" lang="en-US" sz="2400" spc="-1" strike="noStrike">
              <a:solidFill>
                <a:srgbClr val="000000"/>
              </a:solidFill>
              <a:latin typeface="Arial"/>
            </a:endParaRPr>
          </a:p>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
        <p:nvSpPr>
          <p:cNvPr id="108" name="Nadpis 5"/>
          <p:cNvSpPr/>
          <p:nvPr/>
        </p:nvSpPr>
        <p:spPr>
          <a:xfrm>
            <a:off x="1897200" y="351000"/>
            <a:ext cx="7740360" cy="71424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ká smlouva</a:t>
            </a:r>
            <a:endParaRPr b="0" lang="en-US" sz="4400" spc="-1" strike="noStrike">
              <a:solidFill>
                <a:srgbClr val="ffffff"/>
              </a:solidFill>
              <a:latin typeface="Arial"/>
            </a:endParaRPr>
          </a:p>
        </p:txBody>
      </p:sp>
      <p:sp>
        <p:nvSpPr>
          <p:cNvPr id="109" name="Obdélník 4"/>
          <p:cNvSpPr/>
          <p:nvPr/>
        </p:nvSpPr>
        <p:spPr>
          <a:xfrm>
            <a:off x="1979640" y="6423120"/>
            <a:ext cx="162864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pic>
        <p:nvPicPr>
          <p:cNvPr id="110"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Zástupný symbol pro text 8"/>
          <p:cNvSpPr/>
          <p:nvPr/>
        </p:nvSpPr>
        <p:spPr>
          <a:xfrm>
            <a:off x="1968480" y="678024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12" name="PlaceHolder 1"/>
          <p:cNvSpPr>
            <a:spLocks noGrp="1"/>
          </p:cNvSpPr>
          <p:nvPr>
            <p:ph type="title"/>
          </p:nvPr>
        </p:nvSpPr>
        <p:spPr>
          <a:xfrm>
            <a:off x="1753920" y="351000"/>
            <a:ext cx="8001000" cy="1071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br>
              <a:rPr sz="4400"/>
            </a:br>
            <a:r>
              <a:rPr b="1" lang="cs-CZ" sz="3600" spc="-1" strike="noStrike">
                <a:solidFill>
                  <a:srgbClr val="f3912c"/>
                </a:solidFill>
                <a:latin typeface="Arial"/>
              </a:rPr>
              <a:t>a partnerství</a:t>
            </a:r>
            <a:endParaRPr b="0" lang="en-US" sz="3600" spc="-1" strike="noStrike">
              <a:solidFill>
                <a:srgbClr val="000000"/>
              </a:solidFill>
              <a:latin typeface="Arial"/>
            </a:endParaRPr>
          </a:p>
        </p:txBody>
      </p:sp>
      <p:sp>
        <p:nvSpPr>
          <p:cNvPr id="113" name="Zástupný symbol pro obsah 7"/>
          <p:cNvSpPr/>
          <p:nvPr/>
        </p:nvSpPr>
        <p:spPr>
          <a:xfrm>
            <a:off x="1897200" y="1494000"/>
            <a:ext cx="792936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ea typeface="Lucida Sans Unicode"/>
              </a:rPr>
              <a:t>souhlas partnerů na Žádosti o podstatnou změnu; </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v případě neposkytnutí souhlasu je nutné zdůvodnění.</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Odstoupení partnera při realizaci</a:t>
            </a:r>
            <a:endParaRPr b="0" lang="en-US" sz="3200" spc="-1" strike="noStrike">
              <a:solidFill>
                <a:srgbClr val="ffffff"/>
              </a:solidFill>
              <a:latin typeface="Arial"/>
            </a:endParaRPr>
          </a:p>
          <a:p>
            <a:pPr>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a) Zapojen pouze 1 partner:</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ukončení projektu v jiném režimu;</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artner naplnil svoji úlohu v projektu (pokračování bez jeho účasti);</a:t>
            </a:r>
            <a:endParaRPr b="0" lang="en-US" sz="2400" spc="-1" strike="noStrike">
              <a:solidFill>
                <a:srgbClr val="ffffff"/>
              </a:solidFill>
              <a:latin typeface="Arial"/>
            </a:endParaRPr>
          </a:p>
          <a:p>
            <a:pPr lvl="1" marL="428760" indent="-216000">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íjemce se zaváže převzít zbývající závazky partnera.</a:t>
            </a:r>
            <a:endParaRPr b="0" lang="en-US" sz="2400" spc="-1" strike="noStrike">
              <a:solidFill>
                <a:srgbClr val="ffffff"/>
              </a:solidFill>
              <a:latin typeface="Arial"/>
            </a:endParaRPr>
          </a:p>
          <a:p>
            <a:pPr>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b) Zapojeni min. 2 partneři: </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souzení žádosti o podstatnou změnu v projektu.</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114" name="Picture 5" descr=""/>
          <p:cNvPicPr/>
          <p:nvPr/>
        </p:nvPicPr>
        <p:blipFill>
          <a:blip r:embed="rId1"/>
          <a:stretch/>
        </p:blipFill>
        <p:spPr>
          <a:xfrm>
            <a:off x="0" y="3065400"/>
            <a:ext cx="1627200" cy="4494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116" name="PlaceHolder 1"/>
          <p:cNvSpPr>
            <a:spLocks noGrp="1"/>
          </p:cNvSpPr>
          <p:nvPr>
            <p:ph type="title"/>
          </p:nvPr>
        </p:nvSpPr>
        <p:spPr>
          <a:xfrm>
            <a:off x="1896840" y="350640"/>
            <a:ext cx="7740360" cy="12855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                   </a:t>
            </a:r>
            <a:r>
              <a:rPr b="1" lang="cs-CZ" sz="3600" spc="-1" strike="noStrike">
                <a:solidFill>
                  <a:srgbClr val="f3912c"/>
                </a:solidFill>
                <a:latin typeface="Arial"/>
              </a:rPr>
              <a:t>a partnerství</a:t>
            </a:r>
            <a:endParaRPr b="0" lang="en-US" sz="3600" spc="-1" strike="noStrike">
              <a:solidFill>
                <a:srgbClr val="000000"/>
              </a:solidFill>
              <a:latin typeface="Arial"/>
            </a:endParaRPr>
          </a:p>
        </p:txBody>
      </p:sp>
      <p:sp>
        <p:nvSpPr>
          <p:cNvPr id="117" name="Zástupný symbol pro obsah 7"/>
          <p:cNvSpPr/>
          <p:nvPr/>
        </p:nvSpPr>
        <p:spPr>
          <a:xfrm>
            <a:off x="1897200" y="1636560"/>
            <a:ext cx="7929360" cy="4929480"/>
          </a:xfrm>
          <a:prstGeom prst="rect">
            <a:avLst/>
          </a:prstGeom>
          <a:noFill/>
          <a:ln w="0">
            <a:noFill/>
          </a:ln>
        </p:spPr>
        <p:style>
          <a:lnRef idx="0"/>
          <a:fillRef idx="0"/>
          <a:effectRef idx="0"/>
          <a:fontRef idx="minor"/>
        </p:style>
        <p:txBody>
          <a:bodyPr lIns="0" rIns="0" tIns="0" bIns="0" anchor="t">
            <a:noAutofit/>
          </a:bodyPr>
          <a:p>
            <a:pPr>
              <a:lnSpc>
                <a:spcPct val="93000"/>
              </a:lnSpc>
              <a:spcAft>
                <a:spcPts val="11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Zapojení nového partnera </a:t>
            </a:r>
            <a:endParaRPr b="0" lang="en-US" sz="3200" spc="-1" strike="noStrike">
              <a:solidFill>
                <a:srgbClr val="ffffff"/>
              </a:solidFill>
              <a:latin typeface="Arial"/>
            </a:endParaRPr>
          </a:p>
          <a:p>
            <a:pPr>
              <a:lnSpc>
                <a:spcPct val="93000"/>
              </a:lnSpc>
              <a:spcAft>
                <a:spcPts val="11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Ve výjimečných a dostatečně odůvodněných případech!</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transformace subjektu partnera a vznik nové </a:t>
            </a:r>
            <a:r>
              <a:rPr b="0" lang="cs-CZ" sz="2400" spc="-1" strike="noStrike">
                <a:solidFill>
                  <a:srgbClr val="000000"/>
                </a:solidFill>
                <a:latin typeface="Arial"/>
              </a:rPr>
              <a:t>	</a:t>
            </a:r>
            <a:r>
              <a:rPr b="0" lang="cs-CZ" sz="2400" spc="-1" strike="noStrike">
                <a:solidFill>
                  <a:srgbClr val="000000"/>
                </a:solidFill>
                <a:latin typeface="Arial"/>
              </a:rPr>
              <a:t>organizace;</a:t>
            </a:r>
            <a:endParaRPr b="0" lang="en-US" sz="2400" spc="-1" strike="noStrike">
              <a:solidFill>
                <a:srgbClr val="ffffff"/>
              </a:solidFill>
              <a:latin typeface="Arial"/>
            </a:endParaRPr>
          </a:p>
          <a:p>
            <a:pPr>
              <a:lnSpc>
                <a:spcPct val="93000"/>
              </a:lnSpc>
              <a:spcAft>
                <a:spcPts val="601"/>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výměna stávajícího partnera za nového při zachování všech povinností a závazků.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3200" spc="-1" strike="noStrike">
                <a:solidFill>
                  <a:srgbClr val="f3912c"/>
                </a:solidFill>
                <a:latin typeface="Arial"/>
              </a:rPr>
              <a:t>Změna smlouvy s partnerem </a:t>
            </a:r>
            <a:endParaRPr b="0" lang="en-US" sz="32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změna partnerské smlouvy charakteru podstatné změny </a:t>
            </a:r>
            <a:r>
              <a:rPr b="0" lang="cs-CZ" sz="2400" spc="-1" strike="noStrike">
                <a:solidFill>
                  <a:srgbClr val="000000"/>
                </a:solidFill>
                <a:latin typeface="Wingdings"/>
                <a:ea typeface="Wingdings"/>
              </a:rPr>
              <a:t></a:t>
            </a:r>
            <a:r>
              <a:rPr b="0" lang="cs-CZ" sz="2400" spc="-1" strike="noStrike">
                <a:solidFill>
                  <a:srgbClr val="000000"/>
                </a:solidFill>
                <a:latin typeface="Arial"/>
                <a:ea typeface="Lucida Sans Unicode"/>
              </a:rPr>
              <a:t>žádost o podstatnou změnu + návrh nové smlouv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118" name="Picture 5" descr=""/>
          <p:cNvPicPr/>
          <p:nvPr/>
        </p:nvPicPr>
        <p:blipFill>
          <a:blip r:embed="rId1"/>
          <a:stretch/>
        </p:blipFill>
        <p:spPr>
          <a:xfrm>
            <a:off x="0" y="3065400"/>
            <a:ext cx="1627200" cy="4494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20"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8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Helena Matas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rojektová manažerka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helena.matas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pic>
        <p:nvPicPr>
          <p:cNvPr id="121" name="Picture 5" descr=""/>
          <p:cNvPicPr/>
          <p:nvPr/>
        </p:nvPicPr>
        <p:blipFill>
          <a:blip r:embed="rId1"/>
          <a:stretch/>
        </p:blipFill>
        <p:spPr>
          <a:xfrm>
            <a:off x="0" y="3065400"/>
            <a:ext cx="1627200" cy="449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54" name="PlaceHolder 1"/>
          <p:cNvSpPr>
            <a:spLocks noGrp="1"/>
          </p:cNvSpPr>
          <p:nvPr>
            <p:ph type="title"/>
          </p:nvPr>
        </p:nvSpPr>
        <p:spPr>
          <a:xfrm>
            <a:off x="1754280" y="350640"/>
            <a:ext cx="7740720" cy="11430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měny v projektu</a:t>
            </a:r>
            <a:endParaRPr b="0" lang="en-US" sz="4400" spc="-1" strike="noStrike">
              <a:solidFill>
                <a:srgbClr val="000000"/>
              </a:solidFill>
              <a:latin typeface="Arial"/>
            </a:endParaRPr>
          </a:p>
        </p:txBody>
      </p:sp>
      <p:sp>
        <p:nvSpPr>
          <p:cNvPr id="55" name="Zástupný symbol pro obsah 7"/>
          <p:cNvSpPr/>
          <p:nvPr/>
        </p:nvSpPr>
        <p:spPr>
          <a:xfrm>
            <a:off x="1897200" y="2136600"/>
            <a:ext cx="7669080" cy="49294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epodstatné změn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neovlivní dosažení cílů a monitorovacích indikátorů;</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oznamují se v monitorovací zprávě.</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odstatné změny </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mění charakter nebo obsah schváleného projektu;</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doplňují právní ak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odléhají schválení.</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56" name="Picture 5" descr="C:\Documents and Settings\stojdlovam\Local Settings\Temporary Internet Files\Content.IE5\N001I13E\MCj03843920000[1].wmf"/>
          <p:cNvPicPr/>
          <p:nvPr/>
        </p:nvPicPr>
        <p:blipFill>
          <a:blip r:embed="rId1"/>
          <a:stretch/>
        </p:blipFill>
        <p:spPr>
          <a:xfrm>
            <a:off x="6897600" y="4994280"/>
            <a:ext cx="1733760" cy="1868400"/>
          </a:xfrm>
          <a:prstGeom prst="rect">
            <a:avLst/>
          </a:prstGeom>
          <a:ln w="0">
            <a:noFill/>
          </a:ln>
        </p:spPr>
      </p:pic>
      <p:pic>
        <p:nvPicPr>
          <p:cNvPr id="57" name="Picture 5" descr=""/>
          <p:cNvPicPr/>
          <p:nvPr/>
        </p:nvPicPr>
        <p:blipFill>
          <a:blip r:embed="rId2"/>
          <a:stretch/>
        </p:blipFill>
        <p:spPr>
          <a:xfrm>
            <a:off x="0" y="3065400"/>
            <a:ext cx="1627200" cy="4494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59" name="PlaceHolder 1"/>
          <p:cNvSpPr>
            <a:spLocks noGrp="1"/>
          </p:cNvSpPr>
          <p:nvPr>
            <p:ph type="title"/>
          </p:nvPr>
        </p:nvSpPr>
        <p:spPr>
          <a:xfrm>
            <a:off x="1896840" y="350640"/>
            <a:ext cx="774036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měny v rozpočtu</a:t>
            </a:r>
            <a:endParaRPr b="0" lang="en-US" sz="4400" spc="-1" strike="noStrike">
              <a:solidFill>
                <a:srgbClr val="000000"/>
              </a:solidFill>
              <a:latin typeface="Arial"/>
            </a:endParaRPr>
          </a:p>
        </p:txBody>
      </p:sp>
      <p:sp>
        <p:nvSpPr>
          <p:cNvPr id="60" name="Zástupný symbol pro obsah 7"/>
          <p:cNvSpPr/>
          <p:nvPr/>
        </p:nvSpPr>
        <p:spPr>
          <a:xfrm>
            <a:off x="1897200" y="1494000"/>
            <a:ext cx="7500960" cy="542916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Největší pozor je třeba si dát na to, že nesmí:</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it celkový rozpočet;</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it kapitoly nebo položky krácené VK;</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způsobit překročení závazných limitů ve sledovaných kapitolách;</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způsobit začátek nové nebo zrušení stávající klíčové aktivity.</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3200" spc="-1" strike="noStrike">
                <a:solidFill>
                  <a:srgbClr val="f3912c"/>
                </a:solidFill>
                <a:latin typeface="Arial"/>
                <a:ea typeface="Lucida Sans Unicode"/>
              </a:rPr>
              <a:t>Na druhé straně musí:</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být zdůvodněny  a doloženy novým rozpočtem.</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61" name="Picture 5" descr=""/>
          <p:cNvPicPr/>
          <p:nvPr/>
        </p:nvPicPr>
        <p:blipFill>
          <a:blip r:embed="rId1"/>
          <a:stretch/>
        </p:blipFill>
        <p:spPr>
          <a:xfrm>
            <a:off x="0" y="3065400"/>
            <a:ext cx="1627200" cy="4494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63" name="PlaceHolder 1"/>
          <p:cNvSpPr>
            <a:spLocks noGrp="1"/>
          </p:cNvSpPr>
          <p:nvPr>
            <p:ph type="title"/>
          </p:nvPr>
        </p:nvSpPr>
        <p:spPr>
          <a:xfrm>
            <a:off x="1896840" y="351000"/>
            <a:ext cx="7740360" cy="1714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podstatné změny              v rozpočtu projektu</a:t>
            </a:r>
            <a:endParaRPr b="0" lang="en-US" sz="4400" spc="-1" strike="noStrike">
              <a:solidFill>
                <a:srgbClr val="000000"/>
              </a:solidFill>
              <a:latin typeface="Arial"/>
            </a:endParaRPr>
          </a:p>
        </p:txBody>
      </p:sp>
      <p:sp>
        <p:nvSpPr>
          <p:cNvPr id="64" name="Zástupný symbol pro obsah 7"/>
          <p:cNvSpPr/>
          <p:nvPr/>
        </p:nvSpPr>
        <p:spPr>
          <a:xfrm>
            <a:off x="1897200" y="2351160"/>
            <a:ext cx="7669080" cy="42861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esun prostředků mezi položkami v kapitole;</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Pozor na kap. Osobní náklady a Křížové financování.</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přesun prostředků mezi kapitolami do výše 15 % objemu způsobilých výdajů kapitoly, ze které jsou prostředky převáděny;</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Pozor na kap. Osobní náklady.</a:t>
            </a: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00" spc="-1" strike="noStrike">
              <a:solidFill>
                <a:srgbClr val="ffffff"/>
              </a:solidFill>
              <a:latin typeface="Arial"/>
            </a:endParaRPr>
          </a:p>
          <a:p>
            <a:pPr lvl="1" marL="457200">
              <a:lnSpc>
                <a:spcPct val="93000"/>
              </a:lnSpc>
              <a:spcAft>
                <a:spcPts val="1137"/>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ea typeface="Lucida Sans Unicode"/>
              </a:rPr>
              <a:t> </a:t>
            </a:r>
            <a:r>
              <a:rPr b="0" lang="cs-CZ" sz="2400" spc="-1" strike="noStrike">
                <a:solidFill>
                  <a:srgbClr val="000000"/>
                </a:solidFill>
                <a:latin typeface="Arial"/>
                <a:ea typeface="Lucida Sans Unicode"/>
              </a:rPr>
              <a:t>vytvoření nové nebo zrušení stávající položky.</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65" name="Picture 5" descr=""/>
          <p:cNvPicPr/>
          <p:nvPr/>
        </p:nvPicPr>
        <p:blipFill>
          <a:blip r:embed="rId1"/>
          <a:stretch/>
        </p:blipFill>
        <p:spPr>
          <a:xfrm>
            <a:off x="0" y="3065400"/>
            <a:ext cx="1627200" cy="4494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67" name="PlaceHolder 1"/>
          <p:cNvSpPr>
            <a:spLocks noGrp="1"/>
          </p:cNvSpPr>
          <p:nvPr>
            <p:ph type="title"/>
          </p:nvPr>
        </p:nvSpPr>
        <p:spPr>
          <a:xfrm>
            <a:off x="1754280" y="279000"/>
            <a:ext cx="7929360" cy="14288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100" spc="-1" strike="noStrike">
                <a:solidFill>
                  <a:srgbClr val="f3912c"/>
                </a:solidFill>
                <a:latin typeface="Arial"/>
              </a:rPr>
              <a:t>Nepodstatné změny ve věcné části realizace projektu</a:t>
            </a:r>
            <a:endParaRPr b="0" lang="en-US" sz="4100" spc="-1" strike="noStrike">
              <a:solidFill>
                <a:srgbClr val="000000"/>
              </a:solidFill>
              <a:latin typeface="Arial"/>
            </a:endParaRPr>
          </a:p>
        </p:txBody>
      </p:sp>
      <p:sp>
        <p:nvSpPr>
          <p:cNvPr id="68" name="Zástupný symbol pro obsah 7"/>
          <p:cNvSpPr/>
          <p:nvPr/>
        </p:nvSpPr>
        <p:spPr>
          <a:xfrm>
            <a:off x="1968480" y="1922400"/>
            <a:ext cx="7669080" cy="442908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Změna:</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ea typeface="Lucida Sans Unicode"/>
              </a:rPr>
              <a:t>harmonogramu realizace </a:t>
            </a:r>
            <a:r>
              <a:rPr b="0" lang="cs-CZ" sz="2400" spc="-1" strike="noStrike">
                <a:solidFill>
                  <a:srgbClr val="000000"/>
                </a:solidFill>
                <a:latin typeface="Arial"/>
                <a:ea typeface="Lucida Sans Unicode"/>
              </a:rPr>
              <a:t>(posun KA);</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kontaktních údajů;</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kontaktní osoby, manažera projektu;</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auditora; </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názvu subjektu, statutu plátce DPH;</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změna statutárního zástupce;</a:t>
            </a:r>
            <a:endParaRPr b="0" lang="en-US" sz="2400" spc="-1" strike="noStrike">
              <a:solidFill>
                <a:srgbClr val="ffffff"/>
              </a:solidFill>
              <a:latin typeface="Arial"/>
            </a:endParaRPr>
          </a:p>
          <a:p>
            <a:pPr lvl="1" marL="428760" indent="-216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ea typeface="Lucida Sans Unicode"/>
              </a:rPr>
              <a:t>partnerské smlouvy charakteru nepodstatné změny.</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V případě pochybností </a:t>
            </a:r>
            <a:r>
              <a:rPr b="1" lang="cs-CZ" sz="2400" spc="-1" strike="noStrike">
                <a:solidFill>
                  <a:srgbClr val="000000"/>
                </a:solidFill>
                <a:latin typeface="Wingdings"/>
                <a:ea typeface="Wingdings"/>
              </a:rPr>
              <a:t></a:t>
            </a:r>
            <a:r>
              <a:rPr b="1" lang="cs-CZ" sz="2400" spc="-1" strike="noStrike">
                <a:solidFill>
                  <a:srgbClr val="000000"/>
                </a:solidFill>
                <a:latin typeface="Arial"/>
              </a:rPr>
              <a:t> vždy podstatná změna.</a:t>
            </a:r>
            <a:endParaRPr b="0" lang="en-US" sz="2400" spc="-1" strike="noStrike">
              <a:solidFill>
                <a:srgbClr val="ffffff"/>
              </a:solidFill>
              <a:latin typeface="Arial"/>
            </a:endParaRPr>
          </a:p>
        </p:txBody>
      </p:sp>
      <p:pic>
        <p:nvPicPr>
          <p:cNvPr id="69" name="Picture 5" descr=""/>
          <p:cNvPicPr/>
          <p:nvPr/>
        </p:nvPicPr>
        <p:blipFill>
          <a:blip r:embed="rId1"/>
          <a:stretch/>
        </p:blipFill>
        <p:spPr>
          <a:xfrm>
            <a:off x="0" y="3065400"/>
            <a:ext cx="1627200" cy="4494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71" name="PlaceHolder 1"/>
          <p:cNvSpPr>
            <a:spLocks noGrp="1"/>
          </p:cNvSpPr>
          <p:nvPr>
            <p:ph type="title"/>
          </p:nvPr>
        </p:nvSpPr>
        <p:spPr>
          <a:xfrm>
            <a:off x="1896840" y="351000"/>
            <a:ext cx="774036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endParaRPr b="0" lang="en-US" sz="4400" spc="-1" strike="noStrike">
              <a:solidFill>
                <a:srgbClr val="000000"/>
              </a:solidFill>
              <a:latin typeface="Arial"/>
            </a:endParaRPr>
          </a:p>
        </p:txBody>
      </p:sp>
      <p:sp>
        <p:nvSpPr>
          <p:cNvPr id="72" name="Zástupný symbol pro obsah 7"/>
          <p:cNvSpPr/>
          <p:nvPr/>
        </p:nvSpPr>
        <p:spPr>
          <a:xfrm>
            <a:off x="1897200" y="1279440"/>
            <a:ext cx="7669080" cy="521496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Zástupný symbol pro obsah 7"/>
          <p:cNvSpPr/>
          <p:nvPr/>
        </p:nvSpPr>
        <p:spPr>
          <a:xfrm>
            <a:off x="1897200" y="1279440"/>
            <a:ext cx="7929360" cy="528660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 </a:t>
            </a:r>
            <a:endParaRPr b="0" lang="en-US" sz="3200" spc="-1" strike="noStrike">
              <a:solidFill>
                <a:srgbClr val="ffffff"/>
              </a:solidFill>
              <a:latin typeface="Arial"/>
            </a:endParaRPr>
          </a:p>
          <a:p>
            <a:pPr>
              <a:lnSpc>
                <a:spcPct val="93000"/>
              </a:lnSpc>
              <a:spcAft>
                <a:spcPts val="1426"/>
              </a:spcAft>
              <a:buClr>
                <a:srgbClr val="000000"/>
              </a:buClr>
              <a:buSzPct val="45000"/>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sp>
        <p:nvSpPr>
          <p:cNvPr id="74" name="Zástupný symbol pro obsah 7"/>
          <p:cNvSpPr/>
          <p:nvPr/>
        </p:nvSpPr>
        <p:spPr>
          <a:xfrm>
            <a:off x="1897200" y="1494000"/>
            <a:ext cx="7929360" cy="5072040"/>
          </a:xfrm>
          <a:prstGeom prst="rect">
            <a:avLst/>
          </a:prstGeom>
          <a:noFill/>
          <a:ln w="0">
            <a:noFill/>
          </a:ln>
        </p:spPr>
        <p:style>
          <a:lnRef idx="0"/>
          <a:fillRef idx="0"/>
          <a:effectRef idx="0"/>
          <a:fontRef idx="minor"/>
        </p:style>
        <p:txBody>
          <a:bodyPr lIns="0" rIns="0" tIns="0" bIns="0" anchor="t">
            <a:noAutofit/>
          </a:bodyPr>
          <a:p>
            <a:pPr marL="457200" indent="-457200">
              <a:lnSpc>
                <a:spcPct val="93000"/>
              </a:lnSpc>
              <a:spcAft>
                <a:spcPts val="60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rPr>
              <a:t>Žádost o podstatnou změnu </a:t>
            </a:r>
            <a:endParaRPr b="0" lang="en-US" sz="32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zasílá se v písemné podobě příslušnému PM;</a:t>
            </a:r>
            <a:endParaRPr b="0" lang="en-US" sz="2400" spc="-1" strike="noStrike">
              <a:solidFill>
                <a:srgbClr val="ffffff"/>
              </a:solidFill>
              <a:latin typeface="Arial"/>
            </a:endParaRPr>
          </a:p>
          <a:p>
            <a:pPr marL="457200" indent="-457200">
              <a:lnSpc>
                <a:spcPct val="93000"/>
              </a:lnSpc>
              <a:spcAft>
                <a:spcPts val="1426"/>
              </a:spcAft>
              <a:buClr>
                <a:srgbClr val="000000"/>
              </a:buClr>
              <a:buSzPct val="45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Musí obsahovat popis změny, zdůvodnění, souhlas partnerů, další dokumenty.</a:t>
            </a:r>
            <a:endParaRPr b="0" lang="en-US" sz="24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cs-CZ" sz="2400" spc="-1" strike="noStrike">
                <a:solidFill>
                  <a:srgbClr val="000000"/>
                </a:solidFill>
                <a:latin typeface="Arial"/>
                <a:ea typeface="Lucida Sans Unicode"/>
              </a:rPr>
              <a:t>žádost posuzují  příslušní pracovníci MŠMT.</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400" spc="-1" strike="noStrike">
                <a:solidFill>
                  <a:srgbClr val="000000"/>
                </a:solidFill>
                <a:latin typeface="Arial"/>
              </a:rPr>
              <a:t>www.msmt.cz/strukturalni-fondy/monitorovaci zprava-a-jeji-prilohy-platna-od-1-6-2009</a:t>
            </a:r>
            <a:endParaRPr b="0" lang="en-US" sz="2400" spc="-1" strike="noStrike">
              <a:solidFill>
                <a:srgbClr val="ffffff"/>
              </a:solidFill>
              <a:latin typeface="Arial"/>
            </a:endParaRPr>
          </a:p>
          <a:p>
            <a:pPr marL="457200" indent="-457200">
              <a:lnSpc>
                <a:spcPct val="93000"/>
              </a:lnSpc>
              <a:spcAft>
                <a:spcPts val="601"/>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200" spc="-1" strike="noStrike">
                <a:solidFill>
                  <a:srgbClr val="f3912c"/>
                </a:solidFill>
                <a:latin typeface="Arial"/>
              </a:rPr>
              <a:t>Lhůty: </a:t>
            </a:r>
            <a:r>
              <a:rPr b="0" lang="cs-CZ" sz="2400" spc="-1" strike="noStrike">
                <a:solidFill>
                  <a:srgbClr val="000000"/>
                </a:solidFill>
                <a:latin typeface="Arial"/>
              </a:rPr>
              <a:t>	</a:t>
            </a:r>
            <a:r>
              <a:rPr b="0" lang="cs-CZ" sz="2400" spc="-1" strike="noStrike">
                <a:solidFill>
                  <a:srgbClr val="000000"/>
                </a:solidFill>
                <a:latin typeface="Arial"/>
              </a:rPr>
              <a:t>30 pracovních dnů na posouzení</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5 pracovních dnů na vyrozumění</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400" spc="-1" strike="noStrike">
                <a:solidFill>
                  <a:srgbClr val="000000"/>
                </a:solidFill>
                <a:latin typeface="Arial"/>
              </a:rPr>
              <a:t> </a:t>
            </a:r>
            <a:r>
              <a:rPr b="1" lang="cs-CZ" sz="2400" spc="-1" strike="noStrike">
                <a:solidFill>
                  <a:srgbClr val="000000"/>
                </a:solidFill>
                <a:latin typeface="Arial"/>
              </a:rPr>
              <a:t>! Poslední max. 60 kalendář. dnů před ukončením.</a:t>
            </a:r>
            <a:endParaRPr b="0" lang="en-US" sz="2400" spc="-1" strike="noStrike">
              <a:solidFill>
                <a:srgbClr val="ffffff"/>
              </a:solidFill>
              <a:latin typeface="Arial"/>
            </a:endParaRPr>
          </a:p>
          <a:p>
            <a:pPr marL="457200" indent="-45720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75" name="Picture 5" descr=""/>
          <p:cNvPicPr/>
          <p:nvPr/>
        </p:nvPicPr>
        <p:blipFill>
          <a:blip r:embed="rId1"/>
          <a:stretch/>
        </p:blipFill>
        <p:spPr>
          <a:xfrm>
            <a:off x="0" y="3065400"/>
            <a:ext cx="1627200" cy="4494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77" name="PlaceHolder 1"/>
          <p:cNvSpPr>
            <a:spLocks noGrp="1"/>
          </p:cNvSpPr>
          <p:nvPr>
            <p:ph type="title"/>
          </p:nvPr>
        </p:nvSpPr>
        <p:spPr>
          <a:xfrm>
            <a:off x="1896840" y="350640"/>
            <a:ext cx="7740360" cy="15714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a:t>
            </a:r>
            <a:br>
              <a:rPr sz="4400"/>
            </a:br>
            <a:r>
              <a:rPr b="1" lang="cs-CZ" sz="4400" spc="-1" strike="noStrike">
                <a:solidFill>
                  <a:srgbClr val="f3912c"/>
                </a:solidFill>
                <a:latin typeface="Arial"/>
              </a:rPr>
              <a:t> v rozpočtu</a:t>
            </a:r>
            <a:endParaRPr b="0" lang="en-US" sz="4400" spc="-1" strike="noStrike">
              <a:solidFill>
                <a:srgbClr val="000000"/>
              </a:solidFill>
              <a:latin typeface="Arial"/>
            </a:endParaRPr>
          </a:p>
        </p:txBody>
      </p:sp>
      <p:sp>
        <p:nvSpPr>
          <p:cNvPr id="78" name="Zástupný symbol pro obsah 7"/>
          <p:cNvSpPr/>
          <p:nvPr/>
        </p:nvSpPr>
        <p:spPr>
          <a:xfrm>
            <a:off x="1897200" y="2422440"/>
            <a:ext cx="7929360" cy="3571920"/>
          </a:xfrm>
          <a:prstGeom prst="rect">
            <a:avLst/>
          </a:prstGeom>
          <a:noFill/>
          <a:ln w="0">
            <a:noFill/>
          </a:ln>
        </p:spPr>
        <p:style>
          <a:lnRef idx="0"/>
          <a:fillRef idx="0"/>
          <a:effectRef idx="0"/>
          <a:fontRef idx="minor"/>
        </p:style>
        <p:txBody>
          <a:bodyPr lIns="0" rIns="0" tIns="0" bIns="0" anchor="t">
            <a:noAutofit/>
          </a:bodyPr>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přesun prostředků mezi kapitolami přesahující        15 % objemu způsobilých výdajů kapitoly, ze které  jsou prostředky převáděny;</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ení prostředků kapitoly Osobní náklady          o více než 15 %;</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lvl="1" marL="914400" indent="-457200">
              <a:lnSpc>
                <a:spcPct val="93000"/>
              </a:lnSpc>
              <a:spcBef>
                <a:spcPts val="601"/>
              </a:spcBef>
              <a:spcAft>
                <a:spcPts val="1137"/>
              </a:spcAft>
              <a:buClr>
                <a:srgbClr val="000000"/>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ea typeface="Lucida Sans Unicode"/>
              </a:rPr>
              <a:t>navýšení položek Křížového financování;</a:t>
            </a:r>
            <a:endParaRPr b="0" lang="en-US" sz="2400" spc="-1" strike="noStrike">
              <a:solidFill>
                <a:srgbClr val="ffffff"/>
              </a:solidFill>
              <a:latin typeface="Arial"/>
            </a:endParaRPr>
          </a:p>
          <a:p>
            <a:pPr lvl="1" marL="914400" indent="-457200">
              <a:lnSpc>
                <a:spcPct val="93000"/>
              </a:lnSpc>
              <a:spcAft>
                <a:spcPts val="1137"/>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 spc="-1" strike="noStrike">
              <a:solidFill>
                <a:srgbClr val="ffffff"/>
              </a:solidFill>
              <a:latin typeface="Arial"/>
            </a:endParaRPr>
          </a:p>
        </p:txBody>
      </p:sp>
      <p:pic>
        <p:nvPicPr>
          <p:cNvPr id="79" name="Picture 5" descr=""/>
          <p:cNvPicPr/>
          <p:nvPr/>
        </p:nvPicPr>
        <p:blipFill>
          <a:blip r:embed="rId1"/>
          <a:stretch/>
        </p:blipFill>
        <p:spPr>
          <a:xfrm>
            <a:off x="0" y="3065400"/>
            <a:ext cx="1627200" cy="4494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81" name="PlaceHolder 1"/>
          <p:cNvSpPr>
            <a:spLocks noGrp="1"/>
          </p:cNvSpPr>
          <p:nvPr>
            <p:ph type="title"/>
          </p:nvPr>
        </p:nvSpPr>
        <p:spPr>
          <a:xfrm>
            <a:off x="1896840" y="350640"/>
            <a:ext cx="7740360" cy="1214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odstatné změny ve věcné části realizace projektu</a:t>
            </a:r>
            <a:endParaRPr b="0" lang="en-US" sz="4400" spc="-1" strike="noStrike">
              <a:solidFill>
                <a:srgbClr val="000000"/>
              </a:solidFill>
              <a:latin typeface="Arial"/>
            </a:endParaRPr>
          </a:p>
        </p:txBody>
      </p:sp>
      <p:sp>
        <p:nvSpPr>
          <p:cNvPr id="82" name="Zástupný symbol pro obsah 7"/>
          <p:cNvSpPr/>
          <p:nvPr/>
        </p:nvSpPr>
        <p:spPr>
          <a:xfrm>
            <a:off x="1825560" y="1065240"/>
            <a:ext cx="7929720" cy="56433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p:txBody>
      </p:sp>
      <p:sp>
        <p:nvSpPr>
          <p:cNvPr id="83" name="Zástupný symbol pro obsah 7"/>
          <p:cNvSpPr/>
          <p:nvPr/>
        </p:nvSpPr>
        <p:spPr>
          <a:xfrm>
            <a:off x="1682640" y="1636560"/>
            <a:ext cx="7929720" cy="5000760"/>
          </a:xfrm>
          <a:prstGeom prst="rect">
            <a:avLst/>
          </a:prstGeom>
          <a:noFill/>
          <a:ln w="0">
            <a:noFill/>
          </a:ln>
        </p:spPr>
        <p:style>
          <a:lnRef idx="0"/>
          <a:fillRef idx="0"/>
          <a:effectRef idx="0"/>
          <a:fontRef idx="minor"/>
        </p:style>
        <p:txBody>
          <a:bodyPr lIns="0" rIns="0" tIns="0" bIns="0" anchor="t">
            <a:noAutofit/>
          </a:bodyPr>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měna:</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monitorovacích indikátorů </a:t>
            </a:r>
            <a:r>
              <a:rPr b="0" lang="cs-CZ" sz="2400" spc="-1" strike="noStrike">
                <a:solidFill>
                  <a:srgbClr val="000000"/>
                </a:solidFill>
                <a:latin typeface="Arial"/>
              </a:rPr>
              <a:t>- zrušení povinných MI není možné;</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 </a:t>
            </a:r>
            <a:r>
              <a:rPr b="1" lang="cs-CZ" sz="2400" spc="-1" strike="noStrike">
                <a:solidFill>
                  <a:srgbClr val="000000"/>
                </a:solidFill>
                <a:latin typeface="Arial"/>
              </a:rPr>
              <a:t>data začátku/ukončení realizace projektu</a:t>
            </a:r>
            <a:r>
              <a:rPr b="0" lang="cs-CZ" sz="2400" spc="-1" strike="noStrike">
                <a:solidFill>
                  <a:srgbClr val="000000"/>
                </a:solidFill>
                <a:latin typeface="Arial"/>
              </a:rPr>
              <a:t>;</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artnerské smlouvy charakteru  podstatné změny;</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odstoupení partnera, </a:t>
            </a:r>
            <a:r>
              <a:rPr b="0" lang="cs-CZ" sz="2400" spc="-1" strike="noStrike">
                <a:solidFill>
                  <a:srgbClr val="000000"/>
                </a:solidFill>
                <a:latin typeface="Arial"/>
              </a:rPr>
              <a:t>zapojení nového partnera;</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říjemce (transformace subjektu);</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rávní formy příjemce;</a:t>
            </a:r>
            <a:endParaRPr b="0" lang="en-US" sz="2400" spc="-1" strike="noStrike">
              <a:solidFill>
                <a:srgbClr val="ffffff"/>
              </a:solidFill>
              <a:latin typeface="Arial"/>
            </a:endParaRPr>
          </a:p>
          <a:p>
            <a:pPr>
              <a:lnSpc>
                <a:spcPct val="93000"/>
              </a:lnSpc>
              <a:spcAft>
                <a:spcPts val="1199"/>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rojektového účtu - oznámit do 5 pracovních dnů!</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V případě pochybností </a:t>
            </a:r>
            <a:r>
              <a:rPr b="1" lang="cs-CZ" sz="2400" spc="-1" strike="noStrike">
                <a:solidFill>
                  <a:srgbClr val="000000"/>
                </a:solidFill>
                <a:latin typeface="Wingdings"/>
                <a:ea typeface="Wingdings"/>
              </a:rPr>
              <a:t></a:t>
            </a:r>
            <a:r>
              <a:rPr b="1" lang="cs-CZ" sz="2400" spc="-1" strike="noStrike">
                <a:solidFill>
                  <a:srgbClr val="000000"/>
                </a:solidFill>
                <a:latin typeface="Arial"/>
              </a:rPr>
              <a:t> vždy podstatná změna</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p:txBody>
      </p:sp>
      <p:pic>
        <p:nvPicPr>
          <p:cNvPr id="84" name="Picture 5" descr=""/>
          <p:cNvPicPr/>
          <p:nvPr/>
        </p:nvPicPr>
        <p:blipFill>
          <a:blip r:embed="rId1"/>
          <a:stretch/>
        </p:blipFill>
        <p:spPr>
          <a:xfrm>
            <a:off x="0" y="3065400"/>
            <a:ext cx="1627200" cy="4494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600" spc="-1" strike="noStrike">
                <a:solidFill>
                  <a:srgbClr val="7f7f7f"/>
                </a:solidFill>
                <a:latin typeface="Calibri"/>
              </a:rPr>
              <a:t>Helena Matasová</a:t>
            </a:r>
            <a:endParaRPr b="0" lang="en-US" sz="1600" spc="-1" strike="noStrike">
              <a:solidFill>
                <a:srgbClr val="ffffff"/>
              </a:solidFill>
              <a:latin typeface="Arial"/>
            </a:endParaRPr>
          </a:p>
        </p:txBody>
      </p:sp>
      <p:sp>
        <p:nvSpPr>
          <p:cNvPr id="86" name="PlaceHolder 1"/>
          <p:cNvSpPr>
            <a:spLocks noGrp="1"/>
          </p:cNvSpPr>
          <p:nvPr>
            <p:ph type="title"/>
          </p:nvPr>
        </p:nvSpPr>
        <p:spPr>
          <a:xfrm>
            <a:off x="1896840" y="422280"/>
            <a:ext cx="7740360" cy="7048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artnerství</a:t>
            </a:r>
            <a:endParaRPr b="0" lang="en-US" sz="4400" spc="-1" strike="noStrike">
              <a:solidFill>
                <a:srgbClr val="000000"/>
              </a:solidFill>
              <a:latin typeface="Arial"/>
            </a:endParaRPr>
          </a:p>
        </p:txBody>
      </p:sp>
      <p:sp>
        <p:nvSpPr>
          <p:cNvPr id="87" name="Zástupný symbol pro obsah 7"/>
          <p:cNvSpPr/>
          <p:nvPr/>
        </p:nvSpPr>
        <p:spPr>
          <a:xfrm>
            <a:off x="1905120" y="1749600"/>
            <a:ext cx="7669080" cy="445896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Hlavní principy:</a:t>
            </a:r>
            <a:endParaRPr b="0" lang="en-US" sz="32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nezastupitelnos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opodstatněnos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1" lang="cs-CZ" sz="2400" spc="-1" strike="noStrike">
                <a:solidFill>
                  <a:srgbClr val="000000"/>
                </a:solidFill>
                <a:latin typeface="Arial"/>
              </a:rPr>
              <a:t>partner nesmí být dodavatelem;</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příjemce + partner realizují min. 51 % aktivit projektu;</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příjemce realizuje převažující část aktivit;</a:t>
            </a:r>
            <a:endParaRPr b="0" lang="en-US" sz="2400" spc="-1" strike="noStrike">
              <a:solidFill>
                <a:srgbClr val="ffffff"/>
              </a:solidFill>
              <a:latin typeface="Arial"/>
            </a:endParaRPr>
          </a:p>
          <a:p>
            <a:pPr>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realizované projekty mají neziskový charakter.</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Arial"/>
              </a:rPr>
              <a:t>.</a:t>
            </a: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88" name="Picture 5" descr="C:\Documents and Settings\stojdlovam\Local Settings\Temporary Internet Files\Content.IE5\6447J1LD\MCj04380810000[1].wmf"/>
          <p:cNvPicPr/>
          <p:nvPr/>
        </p:nvPicPr>
        <p:blipFill>
          <a:blip r:embed="rId1"/>
          <a:stretch/>
        </p:blipFill>
        <p:spPr>
          <a:xfrm>
            <a:off x="6754680" y="1779480"/>
            <a:ext cx="1870200" cy="1384560"/>
          </a:xfrm>
          <a:prstGeom prst="rect">
            <a:avLst/>
          </a:prstGeom>
          <a:ln w="0">
            <a:noFill/>
          </a:ln>
        </p:spPr>
      </p:pic>
      <p:pic>
        <p:nvPicPr>
          <p:cNvPr id="89" name="Picture 5" descr=""/>
          <p:cNvPicPr/>
          <p:nvPr/>
        </p:nvPicPr>
        <p:blipFill>
          <a:blip r:embed="rId2"/>
          <a:stretch/>
        </p:blipFill>
        <p:spPr>
          <a:xfrm>
            <a:off x="0" y="3065400"/>
            <a:ext cx="1627200" cy="4494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ockovat</cp:lastModifiedBy>
  <dcterms:modified xsi:type="dcterms:W3CDTF">2009-12-10T07:51:19Z</dcterms:modified>
  <cp:revision>113</cp:revision>
  <dc:subject/>
  <dc:title>Snímek 1</dc:title>
</cp:coreProperties>
</file>