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787E4-EB89-4D3F-8C0E-04F5FCCC292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0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8C80B-CB7D-4567-94A0-B391C8397A8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60E66-F965-4E57-8A5A-29F8ACE3EF9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F8E81-05DF-4E38-ABF1-63A19C4472E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81716-FC98-47FF-92FA-8FF7324E6BD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EDB1B-681C-47BD-A125-18510344318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196FA-4C87-42AF-B3FC-E54AF95A052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3EB0F-B8EC-4B46-940A-DF70B511F53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51686-1ED4-4750-9374-2D2B2975026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5EF9F-44D1-47B4-A4F7-7DFDBF9F52A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D2C68-6B02-41D1-A579-42C68E4F25B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DCB55-CAB8-451D-9C4C-0BD8853A8DE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44AA9-3742-4F92-B700-A2A08DDEA19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5D2A7-79F9-4CDF-87A8-BE7004981CB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6DCE6-379E-40F4-BCD8-4C57E689544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524-74D8-44B5-9415-79AD81BC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590-5DBE-48F5-BEF5-7EEBE9B8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1F1-D9B1-4E52-9281-A7A01BDA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262-3036-4587-BB7A-2F55615A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828-4523-47B3-B67D-178DCB55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D7D-3631-425C-8BD9-806FA14D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6F3-74B1-42DC-B98B-0E25DEA0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F51-68E9-4D40-A4EB-F5B3C588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82F-665F-445E-B7AD-13FDBBE8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8DC-696F-4F4D-BBE9-DDD5912F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FC9-5B57-453B-930E-1FFDDDDD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4A1-A69D-47C6-B67A-13414EDA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A44C0D-9645-4A40-9F39-711BAC359B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780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realizace projekt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, verze 2, ze dne 15.4.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z Evropského sociálního fondu a státního rozpočtu České republik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52280" y="3075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dstoupení od právního a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může v krajním případě odstoupit od právního aktu pok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bezdůvodně, dlouhodobě a opakovaně neplní některou z povinností uvedených v právním a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je v úpadku nebo v likvida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změní právní formu aniž by to doložil poskytovate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rola zjistí finanční podvody či se příjemce dopustí trestného činu, jehož skutková podstata souvisí s realizací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jekt nesplňuje podmínky, za nichž byla finanční podpora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Documents and Settings\gotzv\Local Settings\Temporary Internet Files\Content.IE5\ZXF16QS5\MCj03597570000[1].wmf"/>
          <p:cNvPicPr/>
          <p:nvPr/>
        </p:nvPicPr>
        <p:blipFill>
          <a:blip r:embed="rId1"/>
          <a:stretch/>
        </p:blipFill>
        <p:spPr>
          <a:xfrm>
            <a:off x="7969320" y="1353960"/>
            <a:ext cx="1274760" cy="125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stupy při oslovování cílov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varovat se diskreditace cílové skupiny či projektu samotné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vhodné si zajistit souhlas cílové skupiny s účastí na aktivitách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:\Documents and Settings\gotzv\Local Settings\Temporary Internet Files\Content.IE5\84NCG0JY\MCj02382830000[1].wmf"/>
          <p:cNvPicPr/>
          <p:nvPr/>
        </p:nvPicPr>
        <p:blipFill>
          <a:blip r:embed="rId1"/>
          <a:stretch/>
        </p:blipFill>
        <p:spPr>
          <a:xfrm>
            <a:off x="8612280" y="1994040"/>
            <a:ext cx="1143000" cy="15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chrana osobních úda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povinen postupovat v souladu se zákonem č.101/2000 Sb., o ochraně osobních údaj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Individuální projekty dále platí zákon č. 218/2000 Sb. o rozpočtových pravidl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dotace vydá písemné rozhodnutí formou právního aktu, který zavazuje příjemce k naplňování monitorovacích indikátorů a jejich doklad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gotzv\Local Settings\Temporary Internet Files\Content.IE5\ZXF16QS5\MCBD05027_0000[1].wmf"/>
          <p:cNvPicPr/>
          <p:nvPr/>
        </p:nvPicPr>
        <p:blipFill>
          <a:blip r:embed="rId1"/>
          <a:stretch/>
        </p:blipFill>
        <p:spPr>
          <a:xfrm>
            <a:off x="7826400" y="177156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řehled MI pro OP 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1.20 Počet osob poskytujících služby nebo podporujících poskytování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soby, které v rámci projektu vzdělávají cílovou skupin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1.00 Počet podpořených oso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z cílové skupiny 07.41.01 – muži a 07.41.01 – žen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2.70 Počet zapojených partne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artner = ten kdo uzavře s žadatelem smlouvu o partnerství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Evidence osob z cílové skup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innost příjemce vést evidenci cílové skupiny (například presenční listin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le evidence se provádí monitoring a kontrola výdajů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nezletilých osob je vhodné zajistit souhlas zákonného zástupce s účastí v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Documents and Settings\gotzv\Local Settings\Temporary Internet Files\Content.IE5\YAIUOI0Q\MCj04040350000[1].wmf"/>
          <p:cNvPicPr/>
          <p:nvPr/>
        </p:nvPicPr>
        <p:blipFill>
          <a:blip r:embed="rId1"/>
          <a:stretch/>
        </p:blipFill>
        <p:spPr>
          <a:xfrm>
            <a:off x="8326440" y="1779480"/>
            <a:ext cx="1198440" cy="134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aháj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um akceptace Rozhod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dější datum uvedené v projektové žád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um uvedené v právním a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gotzv\Local Settings\Temporary Internet Files\Content.IE5\DBCR952T\MCj03359370000[1].wmf"/>
          <p:cNvPicPr/>
          <p:nvPr/>
        </p:nvPicPr>
        <p:blipFill>
          <a:blip r:embed="rId1"/>
          <a:stretch/>
        </p:blipFill>
        <p:spPr>
          <a:xfrm>
            <a:off x="7326360" y="1994040"/>
            <a:ext cx="1944720" cy="166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měna data ukon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statná změna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á pouze v řádně odůvodněných a schválených případ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působilé výdaj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 data zahájení projektu do data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datu ukončení pouze výdaje bezprostředně související s realizací projektu např. audit projektu, mzdy pracovníků projektu, kteří uzavírají projekt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Délka tr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edena v právním a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déle 36 měsíců od přijetí právního aktu s nejzazším datem ukončení 30.6. 20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příjemce nerealizuje projekt v souladu se smluvními podmínk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i poskytovatel podpory jsou oprávněni ukončit práci na projektu a jeho financ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říjemc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ísemně k rukám poskytovatele formou návrhu na změnu právního aktu s novým datem ukonč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nejvýše dvouměsíční lhůtou uzavř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řípadě akceptace (rozhodnutí o změně Rozhodnutí) začíná běžet lhůta pro uzavření aktiv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yužité prostředky ve prospěch projektu musí být vráceny do 20 pracovních dnů po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gotzv\Local Settings\Temporary Internet Files\Content.IE5\LUHYZSFQ\MCj04326440000[1].png"/>
          <p:cNvPicPr/>
          <p:nvPr/>
        </p:nvPicPr>
        <p:blipFill>
          <a:blip r:embed="rId1"/>
          <a:stretch/>
        </p:blipFill>
        <p:spPr>
          <a:xfrm>
            <a:off x="7969320" y="142236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1000" y="1779120"/>
            <a:ext cx="7886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eoprávněné předčasné ukonč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řípadě porušení podmínek právního aktu (nedodržení podmínek pro předčasné ukončení projekt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povinen vrátit neoprávněně vyplacené prostředky v plné výši a ve lhůtě stanovené poskytovate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C:\Documents and Settings\gotzv\Local Settings\Temporary Internet Files\Content.IE5\7WLRSXM1\MCj04247840000[1].wmf"/>
          <p:cNvPicPr/>
          <p:nvPr/>
        </p:nvPicPr>
        <p:blipFill>
          <a:blip r:embed="rId1"/>
          <a:stretch/>
        </p:blipFill>
        <p:spPr>
          <a:xfrm>
            <a:off x="7969320" y="1636560"/>
            <a:ext cx="1447560" cy="133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zastavení podpory z OP V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je oprávněn kontrolovat podezření na porušení rozpočtové kázně či rozpočtových pravi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je oprávněn vyzvat příjemce k okamžité nápravě zjištěných nedostatků a stanovit lhůty k náprav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je oprávněn preventivně pozastavit platby příjemci podp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gotzv\Local Settings\Temporary Internet Files\Content.IE5\YAIUOI0Q\MCj04315090000[1].png"/>
          <p:cNvPicPr/>
          <p:nvPr/>
        </p:nvPicPr>
        <p:blipFill>
          <a:blip r:embed="rId1"/>
          <a:stretch/>
        </p:blipFill>
        <p:spPr>
          <a:xfrm>
            <a:off x="8112240" y="2065320"/>
            <a:ext cx="1400040" cy="140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oskytovatelem finanční pod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může vypovědět právní akt o poskytnutí podpory s dvouměsíční výpovědní lhůtou na ukončení aktiv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ok příjemce na proplacení způsobilých výdajů bude posuzován poskytovatelem individuá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Řízení o odnětí pod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o odnětí podpory může být zahájeno pokud doš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vázání prostředků státního rozpoč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 zjištění, že poskytnuté údaje jsou neúplné či nepravdiv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ní akt byl vydán v rozporu se zákonem či právem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může být řádně či včas splněn účel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2:46:59Z</dcterms:modified>
  <cp:revision>102</cp:revision>
  <dc:subject/>
  <dc:title>Snímek 1</dc:title>
</cp:coreProperties>
</file>