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10.1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F5C3-F308-40AC-AFA6-D9EC91AD1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2720"/>
                <a:tab algn="l" pos="2465280"/>
                <a:tab algn="l" pos="2878200"/>
                <a:tab algn="l" pos="3289320"/>
                <a:tab algn="l" pos="3700440"/>
                <a:tab algn="l" pos="4111560"/>
                <a:tab algn="l" pos="4524480"/>
                <a:tab algn="l" pos="4933800"/>
                <a:tab algn="l" pos="5348160"/>
                <a:tab algn="l" pos="5759280"/>
                <a:tab algn="l" pos="6168960"/>
                <a:tab algn="l" pos="6583320"/>
                <a:tab algn="l" pos="6993000"/>
                <a:tab algn="l" pos="7405560"/>
                <a:tab algn="l" pos="7816680"/>
                <a:tab algn="l" pos="8228160"/>
                <a:tab algn="l" pos="8229600"/>
                <a:tab algn="l" pos="9144000"/>
                <a:tab algn="l" pos="10058400"/>
              </a:tabLst>
            </a:pPr>
            <a:fld id="{677CA3FB-826B-4A0F-80B0-4C10CEA53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1004760" y="695160"/>
            <a:ext cx="4846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A72-4473-46B3-9297-C880C63F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455-9DF1-4DC2-BFC6-8EDCD1DF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724-65F2-47A1-901B-E15B6AEF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A81-4341-4026-8EB8-5860C4DD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460-9723-4B66-B26B-F985FB51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CB26-F6D0-4A26-AA80-32DDF6ED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602-DBA4-41D0-B6EA-77560BB1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8BA-63CB-4CD3-A389-7242D3CA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EDA-BB59-4931-8516-8BA6A547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B0EF-919C-447A-81A0-78E60CD3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768-0E74-43CD-950B-E1259FE2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3F0-CB3A-4E35-A1EF-F1E4231E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7C84-15D9-43E5-9076-15BC559EE0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Petra Zlámal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petra.zlamal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7520" y="2909520"/>
            <a:ext cx="7386480" cy="23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Zahájení semináře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ng. Petra Zlámalová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714320" y="1428840"/>
            <a:ext cx="7143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hájení seminář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monit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projektového říz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užívání prvků pub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finančního řízení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ta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560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gram seminář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714680" y="1357200"/>
            <a:ext cx="7286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ng. Petra Zláma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Lenka Janeč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Petra Kalin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Jana Liter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Dana Mihul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Ivana Vostr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+ 7 PM/F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ddělení 461 (PO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6840" y="314280"/>
            <a:ext cx="7416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unikace s odborem C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22636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Skupina 19"/>
          <p:cNvGrpSpPr/>
          <p:nvPr/>
        </p:nvGrpSpPr>
        <p:grpSpPr>
          <a:xfrm>
            <a:off x="1857240" y="1143000"/>
            <a:ext cx="1764000" cy="1897200"/>
            <a:chOff x="1857240" y="1143000"/>
            <a:chExt cx="1764000" cy="1897200"/>
          </a:xfrm>
        </p:grpSpPr>
        <p:grpSp>
          <p:nvGrpSpPr>
            <p:cNvPr id="101" name="Skupina 14"/>
            <p:cNvGrpSpPr/>
            <p:nvPr/>
          </p:nvGrpSpPr>
          <p:grpSpPr>
            <a:xfrm>
              <a:off x="1857240" y="1143000"/>
              <a:ext cx="1764000" cy="1897200"/>
              <a:chOff x="1857240" y="1143000"/>
              <a:chExt cx="1764000" cy="1897200"/>
            </a:xfrm>
          </p:grpSpPr>
          <p:sp>
            <p:nvSpPr>
              <p:cNvPr id="102" name="Zaoblený obdélník 9"/>
              <p:cNvSpPr/>
              <p:nvPr/>
            </p:nvSpPr>
            <p:spPr>
              <a:xfrm>
                <a:off x="1857240" y="1614240"/>
                <a:ext cx="1361520" cy="1425960"/>
              </a:xfrm>
              <a:custGeom>
                <a:avLst/>
                <a:gdLst>
                  <a:gd name="textAreaLeft" fmla="*/ 66240 w 1361520"/>
                  <a:gd name="textAreaRight" fmla="*/ 1295280 w 1361520"/>
                  <a:gd name="textAreaTop" fmla="*/ 66240 h 1425960"/>
                  <a:gd name="textAreaBottom" fmla="*/ 1359720 h 1425960"/>
                </a:gdLst>
                <a:ahLst/>
                <a:rect l="textAreaLeft" t="textAreaTop" r="textAreaRight" b="textAreaBottom"/>
                <a:pathLst>
                  <a:path w="21600" h="22622">
                    <a:moveTo>
                      <a:pt x="3600" y="0"/>
                    </a:moveTo>
                    <a:arcTo wR="3600" hR="3600" stAng="16200000" swAng="-5400000"/>
                    <a:lnTo>
                      <a:pt x="0" y="19022"/>
                    </a:lnTo>
                    <a:arcTo wR="3600" hR="3600" stAng="10800000" swAng="-5400000"/>
                    <a:lnTo>
                      <a:pt x="18000" y="226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ovéPole 13"/>
              <p:cNvSpPr/>
              <p:nvPr/>
            </p:nvSpPr>
            <p:spPr>
              <a:xfrm>
                <a:off x="1935000" y="1143000"/>
                <a:ext cx="168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Příjem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ovéPole 17"/>
            <p:cNvSpPr/>
            <p:nvPr/>
          </p:nvSpPr>
          <p:spPr>
            <a:xfrm>
              <a:off x="1863360" y="19382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Hlavní 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Skupina 16"/>
          <p:cNvGrpSpPr/>
          <p:nvPr/>
        </p:nvGrpSpPr>
        <p:grpSpPr>
          <a:xfrm>
            <a:off x="1785960" y="4857840"/>
            <a:ext cx="928800" cy="714240"/>
            <a:chOff x="1785960" y="4857840"/>
            <a:chExt cx="928800" cy="714240"/>
          </a:xfrm>
        </p:grpSpPr>
        <p:sp>
          <p:nvSpPr>
            <p:cNvPr id="106" name="Zaoblený obdélník 10"/>
            <p:cNvSpPr/>
            <p:nvPr/>
          </p:nvSpPr>
          <p:spPr>
            <a:xfrm>
              <a:off x="1785960" y="4857840"/>
              <a:ext cx="85140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ovéPole 15"/>
            <p:cNvSpPr/>
            <p:nvPr/>
          </p:nvSpPr>
          <p:spPr>
            <a:xfrm>
              <a:off x="1785960" y="507528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Skupina 26"/>
          <p:cNvGrpSpPr/>
          <p:nvPr/>
        </p:nvGrpSpPr>
        <p:grpSpPr>
          <a:xfrm>
            <a:off x="5478480" y="2500200"/>
            <a:ext cx="2165400" cy="2224080"/>
            <a:chOff x="5478480" y="2500200"/>
            <a:chExt cx="2165400" cy="2224080"/>
          </a:xfrm>
        </p:grpSpPr>
        <p:grpSp>
          <p:nvGrpSpPr>
            <p:cNvPr id="109" name="Skupina 12"/>
            <p:cNvGrpSpPr/>
            <p:nvPr/>
          </p:nvGrpSpPr>
          <p:grpSpPr>
            <a:xfrm>
              <a:off x="5478480" y="2500200"/>
              <a:ext cx="2165400" cy="2224080"/>
              <a:chOff x="5478480" y="2500200"/>
              <a:chExt cx="2165400" cy="2224080"/>
            </a:xfrm>
          </p:grpSpPr>
          <p:sp>
            <p:nvSpPr>
              <p:cNvPr id="110" name="Zaoblený obdélník 4"/>
              <p:cNvSpPr/>
              <p:nvPr/>
            </p:nvSpPr>
            <p:spPr>
              <a:xfrm>
                <a:off x="5478480" y="2910240"/>
                <a:ext cx="2165400" cy="181404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ovéPole 11"/>
              <p:cNvSpPr/>
              <p:nvPr/>
            </p:nvSpPr>
            <p:spPr>
              <a:xfrm>
                <a:off x="5572080" y="250020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Odbor CER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ovéPole 23"/>
            <p:cNvSpPr/>
            <p:nvPr/>
          </p:nvSpPr>
          <p:spPr>
            <a:xfrm>
              <a:off x="5543280" y="3643200"/>
              <a:ext cx="13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= vlastní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ovéPole 25"/>
            <p:cNvSpPr/>
            <p:nvPr/>
          </p:nvSpPr>
          <p:spPr>
            <a:xfrm>
              <a:off x="5543280" y="336384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FM/ F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Obousměrná vodorovná šipka 31"/>
          <p:cNvSpPr/>
          <p:nvPr/>
        </p:nvSpPr>
        <p:spPr>
          <a:xfrm rot="12331800">
            <a:off x="3191760" y="2739960"/>
            <a:ext cx="2320920" cy="44136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95373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Skupina 16"/>
          <p:cNvGrpSpPr/>
          <p:nvPr/>
        </p:nvGrpSpPr>
        <p:grpSpPr>
          <a:xfrm>
            <a:off x="2928960" y="4857840"/>
            <a:ext cx="1071720" cy="714240"/>
            <a:chOff x="2928960" y="4857840"/>
            <a:chExt cx="1071720" cy="714240"/>
          </a:xfrm>
        </p:grpSpPr>
        <p:sp>
          <p:nvSpPr>
            <p:cNvPr id="116" name="Zaoblený obdélník 10"/>
            <p:cNvSpPr/>
            <p:nvPr/>
          </p:nvSpPr>
          <p:spPr>
            <a:xfrm>
              <a:off x="2928960" y="4857840"/>
              <a:ext cx="98244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ovéPole 34"/>
            <p:cNvSpPr/>
            <p:nvPr/>
          </p:nvSpPr>
          <p:spPr>
            <a:xfrm>
              <a:off x="2928960" y="5075280"/>
              <a:ext cx="10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Skupina 16"/>
          <p:cNvGrpSpPr/>
          <p:nvPr/>
        </p:nvGrpSpPr>
        <p:grpSpPr>
          <a:xfrm>
            <a:off x="4214880" y="4857840"/>
            <a:ext cx="1071360" cy="714240"/>
            <a:chOff x="4214880" y="4857840"/>
            <a:chExt cx="1071360" cy="714240"/>
          </a:xfrm>
        </p:grpSpPr>
        <p:sp>
          <p:nvSpPr>
            <p:cNvPr id="119" name="Zaoblený obdélník 10"/>
            <p:cNvSpPr/>
            <p:nvPr/>
          </p:nvSpPr>
          <p:spPr>
            <a:xfrm>
              <a:off x="4214880" y="4857840"/>
              <a:ext cx="98208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ovéPole 43"/>
            <p:cNvSpPr/>
            <p:nvPr/>
          </p:nvSpPr>
          <p:spPr>
            <a:xfrm>
              <a:off x="4214880" y="507528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Obousměrná vodorovná šipka 45"/>
          <p:cNvSpPr/>
          <p:nvPr/>
        </p:nvSpPr>
        <p:spPr>
          <a:xfrm rot="2740800">
            <a:off x="2778840" y="3839040"/>
            <a:ext cx="2371680" cy="17928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ousměrná vodorovná šipka 46"/>
          <p:cNvSpPr/>
          <p:nvPr/>
        </p:nvSpPr>
        <p:spPr>
          <a:xfrm rot="16575000">
            <a:off x="1325880" y="3875760"/>
            <a:ext cx="1633680" cy="177840"/>
          </a:xfrm>
          <a:prstGeom prst="leftRightArrow">
            <a:avLst>
              <a:gd name="adj1" fmla="val 50000"/>
              <a:gd name="adj2" fmla="val 5001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bousměrná vodorovná šipka 47"/>
          <p:cNvSpPr/>
          <p:nvPr/>
        </p:nvSpPr>
        <p:spPr>
          <a:xfrm rot="4450800">
            <a:off x="2264400" y="3906000"/>
            <a:ext cx="1685880" cy="188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71800" y="1785600"/>
            <a:ext cx="65008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slo a název prioritní osy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 2 - Terciární vzdělávání, výzkum a vývo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slo a název oblasti podpory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4 -  Partnerství a sí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ová alokace výzvy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25 000 000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2. 2. – 3. 4. 2009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  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5960" y="285840"/>
            <a:ext cx="6858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zva číslo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856880" y="1356840"/>
            <a:ext cx="7000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em předloženo IPo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2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2 270 983 440,44 K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yřazeno IP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Hodnocení přijatelnosti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ěcné hodnocení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ový počet projednávaných IPo výběrovou komisí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Documents and Settings\zlamalovap\Local Settings\Temporary Internet Files\Content.IE5\4DX55A1K\MCj03036070000[1].wmf"/>
          <p:cNvPicPr/>
          <p:nvPr/>
        </p:nvPicPr>
        <p:blipFill>
          <a:blip r:embed="rId1"/>
          <a:stretch/>
        </p:blipFill>
        <p:spPr>
          <a:xfrm>
            <a:off x="7643880" y="10000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856880" y="2000160"/>
            <a:ext cx="70009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chváleno ministrem k financování IPo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40 (alokace navýšena o 17 051 405,36 Kč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Projektů k realizaci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39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Zásobník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sledk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080" y="3363480"/>
            <a:ext cx="68626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etra Zlámalov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cs-CZ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etra.zlamalova@msmt.c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7:01:55Z</dcterms:created>
  <dc:creator>Zlámalová Petra </dc:creator>
  <dc:description/>
  <dc:language>en-US</dc:language>
  <cp:lastModifiedBy>ugh</cp:lastModifiedBy>
  <dcterms:modified xsi:type="dcterms:W3CDTF">2009-12-09T07:33:06Z</dcterms:modified>
  <cp:revision>5</cp:revision>
  <dc:subject/>
  <dc:title>Zahájení semináře   Ing. Petra Zlámalová</dc:title>
</cp:coreProperties>
</file>