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0080625" cy="7559675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65840" cy="9867960"/>
          </a:xfrm>
          <a:custGeom>
            <a:avLst/>
            <a:gdLst>
              <a:gd name="textAreaLeft" fmla="*/ 360 w 6765840"/>
              <a:gd name="textAreaRight" fmla="*/ 6765480 w 676584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503">
                <a:moveTo>
                  <a:pt x="4" y="0"/>
                </a:moveTo>
                <a:arcTo wR="4" hR="4" stAng="16200000" swAng="-5400000"/>
                <a:lnTo>
                  <a:pt x="0" y="31499"/>
                </a:lnTo>
                <a:arcTo wR="4" hR="4" stAng="10800000" swAng="-5400000"/>
                <a:lnTo>
                  <a:pt x="21596" y="3150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765840" cy="9867960"/>
          </a:xfrm>
          <a:custGeom>
            <a:avLst/>
            <a:gdLst>
              <a:gd name="textAreaLeft" fmla="*/ 360 w 6765840"/>
              <a:gd name="textAreaRight" fmla="*/ 6765480 w 676584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503">
                <a:moveTo>
                  <a:pt x="4" y="0"/>
                </a:moveTo>
                <a:arcTo wR="4" hR="4" stAng="16200000" swAng="-5400000"/>
                <a:lnTo>
                  <a:pt x="0" y="31499"/>
                </a:lnTo>
                <a:arcTo wR="4" hR="4" stAng="10800000" swAng="-5400000"/>
                <a:lnTo>
                  <a:pt x="21596" y="3150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915480" y="749160"/>
            <a:ext cx="492948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0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3220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4"/>
          </p:nvPr>
        </p:nvSpPr>
        <p:spPr>
          <a:xfrm>
            <a:off x="-360" y="9373680"/>
            <a:ext cx="2932200" cy="4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3828600" y="9373680"/>
            <a:ext cx="2932200" cy="4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B56905-6D1D-4EC4-9312-1DAF496FC9AD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dt" idx="6"/>
          </p:nvPr>
        </p:nvSpPr>
        <p:spPr>
          <a:xfrm>
            <a:off x="383184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83160" rIns="83160" tIns="41760" bIns="4176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10.12.2009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246692-13B4-4257-8C03-6AC9AD0F5E7E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D992D7-4860-49A6-B391-D2382944C9F9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1F2A3C-1EC4-4EDB-A975-D9166B54765A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FBF01F-4EDA-4384-9457-AE584813345C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04908C-74BE-4296-B764-49BD39F8969D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2DB7E7-64AD-4A1B-B1F2-1A171F33646F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9CA74B-8887-4DE4-A949-DAFD4D467E91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6A5C28-153F-477B-A3F7-3D60B1FA5FB7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E63795-AF3C-4972-90B1-DE9B3A201E57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BAD406-2B4D-4ADB-B45F-A167B5764315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1C6DD3-B4D8-432F-9DB5-15DB9E6DDB82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C0358C-E82B-4C66-BBA6-7ED3807E6975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1A12E4-B889-4ED2-BEA5-0C840ED05EDE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E36D84-880B-41EF-901E-34141A90A8CE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537E-19CA-41EC-BB67-D51CDE49A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CBEC-89CD-42E9-A851-F0BDC38A7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8D56-E694-42B6-864E-999C37B60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CDA0-5A79-477E-AECE-908419936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B0C8-3789-45A3-B795-E96CF0325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4BB9-767C-459C-92EE-79F204995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BE5A-9717-42CA-B52A-5186B6031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B7D8-9783-4E54-A773-DE988E04D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BB05-5620-4E9E-801C-524EC61D9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1952-63A9-490C-9A67-B20F6B603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5C8B-6E64-4091-BCC6-C7993D14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4487-AF2E-4164-BFC3-4982CB3EB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46D5B05-FD57-441B-B4C9-C76150BA1DD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611000" y="1207800"/>
            <a:ext cx="8358120" cy="55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Pravidla realizace projektu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Ing. Václav Göt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400" spc="-1" strike="noStrike">
                <a:solidFill>
                  <a:srgbClr val="f3912c"/>
                </a:solidFill>
                <a:latin typeface="Calibri"/>
              </a:rPr>
              <a:t>Prezentace pro příjemce IPo, kteří se řídí Příručkou pro příjemce, verze 2, ze dne 15.4.200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Tato prezentace je spolufinancována z Evropského sociálního fondu a státního rozpočtu České republik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0" y="2922480"/>
            <a:ext cx="1447920" cy="4124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2"/>
          <a:stretch/>
        </p:blipFill>
        <p:spPr>
          <a:xfrm>
            <a:off x="152280" y="3075120"/>
            <a:ext cx="14479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Ukončení projektu v jiném reži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Odstoupení od právního a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skytovatel podpory může v krajním případě odstoupit od právního aktu poku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jemce bezdůvodně, dlouhodobě a opakovaně neplní některou z povinností uvedených v právním akt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jemce je v úpadku nebo v likvidac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jemce změní právní formu aniž by to doložil poskytovatel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ntrola zjistí finanční podvody či se příjemce dopustí trestného činu, jehož skutková podstata souvisí s realizací projekt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jekt nesplňuje podmínky, za nichž byla finanční podpora přiděle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C:\Documents and Settings\gotzv\Local Settings\Temporary Internet Files\Content.IE5\ZXF16QS5\MCj03597570000[1].wmf"/>
          <p:cNvPicPr/>
          <p:nvPr/>
        </p:nvPicPr>
        <p:blipFill>
          <a:blip r:embed="rId1"/>
          <a:stretch/>
        </p:blipFill>
        <p:spPr>
          <a:xfrm>
            <a:off x="7969320" y="1353960"/>
            <a:ext cx="1274760" cy="1258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0" y="2708280"/>
            <a:ext cx="14479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Vztahy a povinnosti příjemce vůči cílovým skupiná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Postupy při oslovování cílových skup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 oslovení cílové skupiny využívat legální nástroje publicity projektu (letáčky, plakáty, prezentace na seminářích či konferencích, inzerce v tisku či v dalších sdělovacích prostředcí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varovat se diskreditace cílové skupiny či projektu samotnéh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 vhodné si zajistit souhlas cílové skupiny s účastí na aktivitách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C:\Documents and Settings\gotzv\Local Settings\Temporary Internet Files\Content.IE5\84NCG0JY\MCj02382830000[1].wmf"/>
          <p:cNvPicPr/>
          <p:nvPr/>
        </p:nvPicPr>
        <p:blipFill>
          <a:blip r:embed="rId1"/>
          <a:stretch/>
        </p:blipFill>
        <p:spPr>
          <a:xfrm>
            <a:off x="8612280" y="1994040"/>
            <a:ext cx="1143000" cy="1500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2"/>
          <a:stretch/>
        </p:blipFill>
        <p:spPr>
          <a:xfrm>
            <a:off x="0" y="2994120"/>
            <a:ext cx="14479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Vztahy a povinnosti příjemce vůči cílovým skupiná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Ochrana osobních úda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jemce je povinen postupovat v souladu se zákonem č.101/2000 Sb., o ochraně osobních údaj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 Individuální projekty dále platí zákon č. 218/2000 Sb. o rozpočtových pravidle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skytovatel dotace vydá písemné rozhodnutí formou právního aktu, který zavazuje příjemce k naplňování monitorovacích indikátorů a jejich dokladová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C:\Documents and Settings\gotzv\Local Settings\Temporary Internet Files\Content.IE5\ZXF16QS5\MCBD05027_0000[1].wmf"/>
          <p:cNvPicPr/>
          <p:nvPr/>
        </p:nvPicPr>
        <p:blipFill>
          <a:blip r:embed="rId1"/>
          <a:stretch/>
        </p:blipFill>
        <p:spPr>
          <a:xfrm>
            <a:off x="7826400" y="1771560"/>
            <a:ext cx="1500120" cy="1555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/>
          <p:cNvPicPr/>
          <p:nvPr/>
        </p:nvPicPr>
        <p:blipFill>
          <a:blip r:embed="rId2"/>
          <a:stretch/>
        </p:blipFill>
        <p:spPr>
          <a:xfrm>
            <a:off x="0" y="2779560"/>
            <a:ext cx="1447920" cy="41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Vztahy a povinnosti příjemce vůči cílovým skupiná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Přehled MI pro OP 2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07.41.20 Počet osob poskytujících služby nebo podporujících poskytování služeb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osoby, které v rámci projektu vzdělávají cílovou skupinu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07.41.00 Počet podpořených osob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z cílové skupiny 07.41.01 – muži a 07.41.01 – žen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07.42.70 Počet zapojených partnerů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partner = ten kdo uzavře s žadatelem smlouvu o partnerství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447920" cy="41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Vztahy a povinnosti příjemce vůči cílovým skupiná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Evidence osob z cílové skupi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vinnost příjemce vést evidenci cílové skupiny (například presenční listiny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le evidence se provádí monitoring a kontrola výdajů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 nezletilých osob je vhodné zajistit souhlas zákonného zástupce s účastí v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C:\Documents and Settings\gotzv\Local Settings\Temporary Internet Files\Content.IE5\YAIUOI0Q\MCj04040350000[1].wmf"/>
          <p:cNvPicPr/>
          <p:nvPr/>
        </p:nvPicPr>
        <p:blipFill>
          <a:blip r:embed="rId1"/>
          <a:stretch/>
        </p:blipFill>
        <p:spPr>
          <a:xfrm>
            <a:off x="8326440" y="1779480"/>
            <a:ext cx="1198440" cy="1341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2"/>
          <a:stretch/>
        </p:blipFill>
        <p:spPr>
          <a:xfrm>
            <a:off x="0" y="2851200"/>
            <a:ext cx="14479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Doba realizace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Zahájení pro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atum akceptace Rozhodnu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b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zdější datum uvedené v projektové žádos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Ukončení pro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atum uvedené v právním a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C:\Documents and Settings\gotzv\Local Settings\Temporary Internet Files\Content.IE5\DBCR952T\MCj03359370000[1].wmf"/>
          <p:cNvPicPr/>
          <p:nvPr/>
        </p:nvPicPr>
        <p:blipFill>
          <a:blip r:embed="rId1"/>
          <a:stretch/>
        </p:blipFill>
        <p:spPr>
          <a:xfrm>
            <a:off x="7326360" y="1994040"/>
            <a:ext cx="1944720" cy="1662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"/>
          <p:cNvPicPr/>
          <p:nvPr/>
        </p:nvPicPr>
        <p:blipFill>
          <a:blip r:embed="rId2"/>
          <a:stretch/>
        </p:blipFill>
        <p:spPr>
          <a:xfrm>
            <a:off x="0" y="3065400"/>
            <a:ext cx="1447920" cy="41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Doba realizace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Změna data ukonč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statná změna projekt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žná pouze v řádně odůvodněných a schválených případe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Způsobilé výdaje pro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 data zahájení projektu do data ukončení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 datu ukončení pouze výdaje bezprostředně související s realizací projektu např. audit projektu, mzdy pracovníků projektu, kteří uzavírají projekt ap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0" y="2922480"/>
            <a:ext cx="1447920" cy="41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Doba realizace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Délka trvání projekt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vedena v právním a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jdéle 36 měsíců od přijetí právního aktu s nejzazším datem ukončení 30.6. 201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Ukončení projektu v jiném reži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kud příjemce nerealizuje projekt v souladu se smluvními podmínkam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jemce i poskytovatel podpory jsou oprávněni ukončit práci na projektu a jeho financová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0" y="3065400"/>
            <a:ext cx="1447920" cy="41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Ukončení projektu v jiném reži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Ukončení projektu příjemc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ísemně k rukám poskytovatele formou návrhu na změnu právního aktu s novým datem ukonče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 nejvýše dvouměsíční lhůtou uzavření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případě akceptace (rozhodnutí o změně Rozhodnutí) začíná běžet lhůta pro uzavření aktivit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využité prostředky ve prospěch projektu musí být vráceny do 20 pracovních dnů po ukončení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C:\Documents and Settings\gotzv\Local Settings\Temporary Internet Files\Content.IE5\LUHYZSFQ\MCj04326440000[1].png"/>
          <p:cNvPicPr/>
          <p:nvPr/>
        </p:nvPicPr>
        <p:blipFill>
          <a:blip r:embed="rId1"/>
          <a:stretch/>
        </p:blipFill>
        <p:spPr>
          <a:xfrm>
            <a:off x="7969320" y="1422360"/>
            <a:ext cx="1571400" cy="1571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"/>
          <p:cNvPicPr/>
          <p:nvPr/>
        </p:nvPicPr>
        <p:blipFill>
          <a:blip r:embed="rId2"/>
          <a:stretch/>
        </p:blipFill>
        <p:spPr>
          <a:xfrm>
            <a:off x="0" y="2994120"/>
            <a:ext cx="14479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Ukončení projektu v jiném reži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611000" y="1779120"/>
            <a:ext cx="788652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Neoprávněné předčasné ukončení pro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případě porušení podmínek právního aktu (nedodržení podmínek pro předčasné ukončení projektu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jemce je povinen vrátit neoprávněně vyplacené prostředky v plné výši a ve lhůtě stanovené poskytovatel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C:\Documents and Settings\gotzv\Local Settings\Temporary Internet Files\Content.IE5\7WLRSXM1\MCj04247840000[1].wmf"/>
          <p:cNvPicPr/>
          <p:nvPr/>
        </p:nvPicPr>
        <p:blipFill>
          <a:blip r:embed="rId1"/>
          <a:stretch/>
        </p:blipFill>
        <p:spPr>
          <a:xfrm>
            <a:off x="7969320" y="1636560"/>
            <a:ext cx="1447560" cy="1330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2"/>
          <a:stretch/>
        </p:blipFill>
        <p:spPr>
          <a:xfrm>
            <a:off x="0" y="2922480"/>
            <a:ext cx="1447920" cy="41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Ukončení projektu v jiném reži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Pozastavení podpory z OP V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skytovatel podpory je oprávněn kontrolovat podezření na porušení rozpočtové kázně či rozpočtových pravid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skytovatel podpory je oprávněn vyzvat příjemce k okamžité nápravě zjištěných nedostatků a stanovit lhůty k nápravě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skytovatel je oprávněn preventivně pozastavit platby příjemci podp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C:\Documents and Settings\gotzv\Local Settings\Temporary Internet Files\Content.IE5\YAIUOI0Q\MCj04315090000[1].png"/>
          <p:cNvPicPr/>
          <p:nvPr/>
        </p:nvPicPr>
        <p:blipFill>
          <a:blip r:embed="rId1"/>
          <a:stretch/>
        </p:blipFill>
        <p:spPr>
          <a:xfrm>
            <a:off x="8112240" y="2065320"/>
            <a:ext cx="1400040" cy="1400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"/>
          <p:cNvPicPr/>
          <p:nvPr/>
        </p:nvPicPr>
        <p:blipFill>
          <a:blip r:embed="rId2"/>
          <a:stretch/>
        </p:blipFill>
        <p:spPr>
          <a:xfrm>
            <a:off x="0" y="2779560"/>
            <a:ext cx="1447920" cy="41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Ukončení projektu v jiném reži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Ukončení projektu poskytovatelem finanční podp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skytovatel podpory může vypovědět právní akt o poskytnutí podpory s dvouměsíční výpovědní lhůtou na ukončení aktivit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árok příjemce na proplacení způsobilých výdajů bude posuzován poskytovatelem individuálně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0" y="2922480"/>
            <a:ext cx="1447920" cy="41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Ukončení projektu v jiném reži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Řízení o odnětí podp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ízení o odnětí podpory může být zahájeno pokud doš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 vázání prostředků státního rozpoč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e zjištění, že poskytnuté údaje jsou neúplné či nepravdiv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ávní akt byl vydán v rozporu se zákonem či právem 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může být řádně či včas splněn účel dot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0" y="2708280"/>
            <a:ext cx="14479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gh</cp:lastModifiedBy>
  <dcterms:modified xsi:type="dcterms:W3CDTF">2009-12-09T12:46:59Z</dcterms:modified>
  <cp:revision>102</cp:revision>
  <dc:subject/>
  <dc:title>Snímek 1</dc:title>
</cp:coreProperties>
</file>