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0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79D9-9AB5-4375-9D63-C70F9ABCB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2720"/>
                <a:tab algn="l" pos="2465280"/>
                <a:tab algn="l" pos="2878200"/>
                <a:tab algn="l" pos="3289320"/>
                <a:tab algn="l" pos="3700440"/>
                <a:tab algn="l" pos="4111560"/>
                <a:tab algn="l" pos="4524480"/>
                <a:tab algn="l" pos="4933800"/>
                <a:tab algn="l" pos="5348160"/>
                <a:tab algn="l" pos="5759280"/>
                <a:tab algn="l" pos="6168960"/>
                <a:tab algn="l" pos="6583320"/>
                <a:tab algn="l" pos="6993000"/>
                <a:tab algn="l" pos="7405560"/>
                <a:tab algn="l" pos="7816680"/>
                <a:tab algn="l" pos="8228160"/>
                <a:tab algn="l" pos="8229600"/>
                <a:tab algn="l" pos="9144000"/>
                <a:tab algn="l" pos="10058400"/>
              </a:tabLst>
            </a:pPr>
            <a:fld id="{01585FAC-D06F-43F1-973B-F90F28345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004760" y="695160"/>
            <a:ext cx="4846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576-891A-4662-A21D-E8D0CE11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0C5-516B-472C-AE90-7D14E3E7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6EE-51B3-4ABC-98FD-E25680CB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364-202E-46FA-BC68-D24ABA19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303-05B2-45C9-BE67-11E10E0D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DE2-5806-436F-8216-BD854FAD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369-E7C8-49F0-B709-70FB5679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22C-FE4C-4961-BC52-87724F2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0ED-BA7E-42E4-902A-8630368F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3BF-2101-45CE-9DAC-97B7882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A9B-8961-4B7C-848B-71545429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AF8-ABDE-49CA-8AA6-3C65243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935-8775-4BD7-8172-7BAB12FA1E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Petra Zláma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etra.zlamal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7520" y="290952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14320" y="1428840"/>
            <a:ext cx="7143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14680" y="1357200"/>
            <a:ext cx="7286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ng. Petra Zlám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áclav Gö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Lenka Jane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Petra Kalin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Jana Liter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Dana Mihul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Ivana Vost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+ 7 PM/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dělení 461 (PO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101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2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6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9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10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ovéPole 23"/>
            <p:cNvSpPr/>
            <p:nvPr/>
          </p:nvSpPr>
          <p:spPr>
            <a:xfrm>
              <a:off x="5543280" y="3643200"/>
              <a:ext cx="13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= vlast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ovéPole 25"/>
            <p:cNvSpPr/>
            <p:nvPr/>
          </p:nvSpPr>
          <p:spPr>
            <a:xfrm>
              <a:off x="5543280" y="3363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FM/ F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6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9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71800" y="1785600"/>
            <a:ext cx="65008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 2 - Terciární vzdělávání, výzkum a vý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4 -  Partnerství a sí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á alokace výzvy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25 000 000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2. 2. – 3. 4. 2009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5960" y="285840"/>
            <a:ext cx="6858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zva číslo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2 270 983 440,44 K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56880" y="2000160"/>
            <a:ext cx="70009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em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navýšena o 17 051 405,36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rojektů k realizaci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3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sledk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etra Zlámalo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etra.zlamalova@msmt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01:55Z</dcterms:created>
  <dc:creator>Zlámalová Petra </dc:creator>
  <dc:description/>
  <dc:language>en-US</dc:language>
  <cp:lastModifiedBy>ugh</cp:lastModifiedBy>
  <dcterms:modified xsi:type="dcterms:W3CDTF">2009-12-09T07:33:06Z</dcterms:modified>
  <cp:revision>5</cp:revision>
  <dc:subject/>
  <dc:title>Zahájení semináře   Ing. Petra Zlámalová</dc:title>
</cp:coreProperties>
</file>