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0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BEC7-2587-46CD-8A53-596407568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2720"/>
                <a:tab algn="l" pos="2465280"/>
                <a:tab algn="l" pos="2878200"/>
                <a:tab algn="l" pos="3289320"/>
                <a:tab algn="l" pos="3700440"/>
                <a:tab algn="l" pos="4111560"/>
                <a:tab algn="l" pos="4524480"/>
                <a:tab algn="l" pos="4933800"/>
                <a:tab algn="l" pos="5348160"/>
                <a:tab algn="l" pos="5759280"/>
                <a:tab algn="l" pos="6168960"/>
                <a:tab algn="l" pos="6583320"/>
                <a:tab algn="l" pos="6993000"/>
                <a:tab algn="l" pos="7405560"/>
                <a:tab algn="l" pos="7816680"/>
                <a:tab algn="l" pos="8228160"/>
                <a:tab algn="l" pos="8229600"/>
                <a:tab algn="l" pos="9144000"/>
                <a:tab algn="l" pos="10058400"/>
              </a:tabLst>
            </a:pPr>
            <a:fld id="{B888DE97-ABAF-4EC5-9D4F-981AAE850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004760" y="695160"/>
            <a:ext cx="4846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683-36F9-44E7-A086-A570B9A9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169-4D90-452C-86B2-D1CCB08C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75A-9C11-443D-B706-C8237FAA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328-2745-47AC-9596-C9A2FC6B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81F-6421-4EEE-B821-C84668BB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EF9-DF9D-4022-8BB3-E31CC804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11A-930E-4ABC-AF8E-404FC7C2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383-A5F4-479B-97F3-047DC910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1CF-E22D-4AD0-B4C7-DFB1CB47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B01-235F-4A52-A2F1-9008A5DE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A25-C271-4A39-85BD-6CD415A5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265-4B62-423F-B0A2-F120FED3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608C-9361-4D95-9244-65BBF6611D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Petra Zláma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etra.zlamal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7520" y="290952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14320" y="1428840"/>
            <a:ext cx="7143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ří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14680" y="1357200"/>
            <a:ext cx="7286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Lenka Jane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Petra Kalin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Jana Liter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Dana Mihul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Ivana Vostr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+ 7 PM/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dělení 461 (PO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101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2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6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9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10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ovéPole 23"/>
            <p:cNvSpPr/>
            <p:nvPr/>
          </p:nvSpPr>
          <p:spPr>
            <a:xfrm>
              <a:off x="5543280" y="3643200"/>
              <a:ext cx="13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= vlastní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ovéPole 25"/>
            <p:cNvSpPr/>
            <p:nvPr/>
          </p:nvSpPr>
          <p:spPr>
            <a:xfrm>
              <a:off x="5543280" y="33638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FM/ F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6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9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71800" y="1785600"/>
            <a:ext cx="65008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 2 - Terciární vzdělávání, výzkum a vývo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4 -  Partnerství a sí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á alokace výzv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25 000 000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2. 2. – 3. 4. 2009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6858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zva číslo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2 270 983 440,44 K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56880" y="2000160"/>
            <a:ext cx="70009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em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navýšena o 17 051 405,36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Projektů k realizaci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3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sledk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etra Zlámalov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etra.zlamalova@msmt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01:55Z</dcterms:created>
  <dc:creator>Zlámalová Petra </dc:creator>
  <dc:description/>
  <dc:language>en-US</dc:language>
  <cp:lastModifiedBy>ugh</cp:lastModifiedBy>
  <dcterms:modified xsi:type="dcterms:W3CDTF">2009-12-09T07:33:06Z</dcterms:modified>
  <cp:revision>5</cp:revision>
  <dc:subject/>
  <dc:title>Zahájení semináře   Ing. Petra Zlámalová</dc:title>
</cp:coreProperties>
</file>