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10.12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9C785-F4CB-4638-B15B-E36896EC82A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42648-AC02-4913-B11E-7CAF0CAE912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A6449-36EE-4930-844F-FD1CBC78413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CDACC-2833-45DD-97F1-6D5D0E0E6E0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9B10A-B5B0-4636-AA51-C3CCC61B7AD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8DAAC-94EA-4000-B3F2-DA063370D50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9F909-8E99-45FC-9537-B67DA58E5EA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6A266-3D6F-422E-966B-08C8D018444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90BEF-4309-4D50-A29A-37622151D0F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47BCD-93AD-4CDC-82D9-3BA2C60787F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D4C75-453E-4CD1-86D5-FE07B1A2A2A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C7C75-40A1-45F6-AB90-02C5E2CB568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AFB09-D9B3-4351-8868-75BA3DB3412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2EA83-1056-4DE8-8CE6-C3AFBD113C8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65BA3-6770-4509-A67C-76D8E520DAE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B91C-22E6-4413-84AA-0DC9C002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D305-2489-43D8-92C9-B578DB7E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2C06-35A3-4181-87F2-D86E89A6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ED14-D474-4416-8C64-505DD5FF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4915-68EA-447E-A2E9-E4A1A2A5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BB42-0348-4AE7-83E0-EDF9313B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1245-BD87-4087-B543-15BFA97B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4E47-43EF-4437-9EC7-790D759A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26B-D5EB-4023-BD82-9231E0D3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9D02-3EE5-4ABB-A119-449F82A3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9790-2EB6-4BEB-A3FB-0ADAF37A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FCE-B68E-4A4A-86F5-F0D8E4EB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B0A1CA-84F6-475A-91B0-736B2484CB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7800"/>
            <a:ext cx="8358120" cy="55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Ing. Václav Gö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f3912c"/>
                </a:solidFill>
                <a:latin typeface="Calibri"/>
              </a:rPr>
              <a:t>Prezentace pro příjemce IPo, kteří se řídí Příručkou pro příjemce, verze 2, ze dne 15.4.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z Evropského sociálního fondu a státního rozpočtu České republik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Kontroly, san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Formy k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dministrativní kontroly projek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formou pravidelných monitorovacích zprá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roly na místě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formou veřejnoprávní kontroly podle zák. č. 320/2001 Sb. a zákona 552/1991 Sb., v souladu s nařízením rady EK č. 1083/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Kontroly, san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Sa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 % ze všech proplacených prostředků v případě neplnění jakéhokoliv indikátoru výsledku nebo výstupu o 10 % - 25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5 % ze všech proplacených prostředků v případě neplnění jakéhokoliv indikátoru výsledku nebo výstupu o 25 % - 50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stoupení od právního aktu v případě neplnění jakéhokoliv indikátoru výsledku nebo výstupu o více jak 50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285120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Kontroly, san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všech projektů s podporou nad 3 miliony Kč audit autorizovanou firmou (člen komory auditor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k auditora se přikládá k závěrečné žádosti o plat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udit se týká jak projektového účetnictví příjemce, tak projektového účetnictví partnerů s finančním příspěvk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Documents and Settings\gotzv\Local Settings\Temporary Internet Files\Content.IE5\LUHYZSFQ\MCBD19977_0000[1].wmf"/>
          <p:cNvPicPr/>
          <p:nvPr/>
        </p:nvPicPr>
        <p:blipFill>
          <a:blip r:embed="rId1"/>
          <a:stretch/>
        </p:blipFill>
        <p:spPr>
          <a:xfrm>
            <a:off x="6969240" y="5423040"/>
            <a:ext cx="2307960" cy="1441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Archiv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Archivace v listinné i el. podob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archivaci je příjemce zavázán v právním aktu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in. do roku 202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říjemce je povinen zavázat k archivaci také partnery projektu (případně převzít materiály, týkající se realizace projektu, do své úschov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klady na archivaci po ukončení realizace projektu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js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působilé výdaj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rchivace se řídí zákonem č. 563/199 Sb., č. 235/2004 Sb., č.589/1992 Sb., č. 592/1992 Sb., č499/2004 Sb. a vyhláškami č. 645/2004 Sb., a č. 646/2004 Sb. Archivace je uvedena v příručce, která je součástí Rozhodnu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682640" y="493560"/>
            <a:ext cx="7886880" cy="642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Václav Gö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ový manaž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C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-mail: vaclav.gotz@msmt.c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285120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á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edování využití finančních prostředků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klad pro kontroly a 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běžná monitorovací zprá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ěrečná monitorovací zprá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itorovací zpráva o udržitel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gotzv\Local Settings\Temporary Internet Files\Content.IE5\DBCR952T\MCj02953490000[1].wmf"/>
          <p:cNvPicPr/>
          <p:nvPr/>
        </p:nvPicPr>
        <p:blipFill>
          <a:blip r:embed="rId1"/>
          <a:stretch/>
        </p:blipFill>
        <p:spPr>
          <a:xfrm>
            <a:off x="7540560" y="4137120"/>
            <a:ext cx="1736640" cy="155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18252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růběžná monitorovací z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30 kalendářních dnů od ukončení monitorovacího období (6 měsíc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epsané statutárním zástupc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zalepené obálce s adresou poskytovatele, jménem příslušného PM a registračním číslem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gotzv\Local Settings\Temporary Internet Files\Content.IE5\84NCG0JY\MCj03013840000[1].wmf"/>
          <p:cNvPicPr/>
          <p:nvPr/>
        </p:nvPicPr>
        <p:blipFill>
          <a:blip r:embed="rId1"/>
          <a:stretch/>
        </p:blipFill>
        <p:spPr>
          <a:xfrm>
            <a:off x="7897680" y="4280040"/>
            <a:ext cx="1571760" cy="1271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Žádost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hrn všech způsobilých výdajů za uplynulé monitorovací obdob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zahrnovat i výdaje vzniklé v předchozím období, k nimž neměl příjemce v uvedenou dobu potřebné dokla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gotzv\Local Settings\Temporary Internet Files\Content.IE5\6M4G49P7\MCj02504620000[1].wmf"/>
          <p:cNvPicPr/>
          <p:nvPr/>
        </p:nvPicPr>
        <p:blipFill>
          <a:blip r:embed="rId1"/>
          <a:stretch/>
        </p:blipFill>
        <p:spPr>
          <a:xfrm>
            <a:off x="6826320" y="4759200"/>
            <a:ext cx="2117520" cy="181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0" y="313704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Námitky vůči krácení částky v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ůvody krácení jsou vždy sděleny                    písemně či elektronic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může vznést námitku do 30 kalendářních dnů od doruč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10 pracovních dnů od přijetí námitky je postup krácení částky ověř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 výsledku je příjemce informován do 5 pracovních dn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11000" y="1779120"/>
            <a:ext cx="7886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imořádná průběžná monitorovací z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je oprávněn předložit mimořádnou monitorovací zprávu spolu s žádostí o proplacení uznatelných nákladů v kratším obdob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sledná monitorovací období je opět šestiměsíční a počítá se od podání mimořádné průběžné monitorovací zprá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gotzv\Local Settings\Temporary Internet Files\Content.IE5\ZXF16QS5\MCj02899550000[1].wmf"/>
          <p:cNvPicPr/>
          <p:nvPr/>
        </p:nvPicPr>
        <p:blipFill>
          <a:blip r:embed="rId1"/>
          <a:stretch/>
        </p:blipFill>
        <p:spPr>
          <a:xfrm>
            <a:off x="6826320" y="5351400"/>
            <a:ext cx="2286000" cy="150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ávěrečná monitorovací z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2 měsíců po ukonč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projektů nad 3 mil. Kč se přikládá k žádosti o závěrečnou platbu audit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přikládá souhrnnou informaci o realizaci projektu včetně publicity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ací zpráva o udrži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spěvek z ESF bude zachován, pokud projekt v následujících 5 letech po ukončení neprojde podstatnou změnou, kter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livní povahu projektu nebo výsledk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ne realizátorům nepatřičnou výhod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jde ke změně vlastnictví či zastavení produktivní čin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ací zpráva o udrži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držitelnost je specifikována v právním aktu dle žádosti příjem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jetek pořízený v křížovém financování musí být nadále využíván v souladu s podpor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dokládá udržitelnost projektu monitorovací zprávou jednou za rok nejpozději do 2 měsíců od uplynutí prvního ročního obdob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Documents and Settings\gotzv\Local Settings\Temporary Internet Files\Content.IE5\DBCR952T\MCj02155480000[1].wmf"/>
          <p:cNvPicPr/>
          <p:nvPr/>
        </p:nvPicPr>
        <p:blipFill>
          <a:blip r:embed="rId1"/>
          <a:stretch/>
        </p:blipFill>
        <p:spPr>
          <a:xfrm>
            <a:off x="7397640" y="5137200"/>
            <a:ext cx="1710000" cy="1728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2:31:39Z</dcterms:modified>
  <cp:revision>104</cp:revision>
  <dc:subject/>
  <dc:title>Snímek 1</dc:title>
</cp:coreProperties>
</file>