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A0CF-5297-498F-9116-E7F48077A7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0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30527-2D32-475B-8204-77413E9B8D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4C470-230D-495A-8DB7-A99975D2AE6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DA3D-D4D8-4E4C-9DB7-1325DAC14B0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7F955-35A1-48B7-AB55-4BB4E0244B7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B5514-A346-4271-8946-E8C78FAD725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BFC18-619E-420D-BAC5-6F5D9B7E808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B4852-874F-447E-90C3-C09309EFF98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7D2D9-518A-4B6D-ADEF-2F61639A1F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B9D94-0BC8-49CD-9407-3E572B4C58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FFE-0129-454E-8799-65A0DE3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EDA-A07F-4C2E-862B-29D489F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A96-AED5-45FD-8D1D-90858E27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0BA-BEC3-49D5-B1F6-11DD75F7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127-96D1-4B11-A578-78C0344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757-B3CE-4063-9EF1-2C0843B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3B2-8ED8-4395-9CEB-0A7D604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C1A-B1C4-4BD0-8325-4386867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075-7560-461B-B5B1-8DA4817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ECE-6F54-4EA3-8C97-757E2E1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E2D-DDDC-46A8-91C2-15BE4D0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D44-1442-4689-BA89-972B78A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E948FF-30BD-4FC4-9A3A-B8CCE7B1A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500280" cy="10000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20780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2800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 (osobně, e-mailem; např. o grafických návrzích připravovaných informa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3:57:31Z</dcterms:modified>
  <cp:revision>94</cp:revision>
  <dc:subject/>
  <dc:title>Snímek 1</dc:title>
</cp:coreProperties>
</file>