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35.xml" ContentType="application/vnd.openxmlformats-officedocument.presentationml.notesSlid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12.xml.rels" ContentType="application/vnd.openxmlformats-package.relationships+xml"/>
  <Override PartName="/ppt/notesSlides/_rels/notesSlide38.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37.xml.rels" ContentType="application/vnd.openxmlformats-package.relationships+xml"/>
  <Override PartName="/ppt/notesSlides/_rels/notesSlide24.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10080625" cy="7559675"/>
  <p:notesSz cx="6764338"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64400" cy="98676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 name="AutoShape 1"/>
          <p:cNvSpPr/>
          <p:nvPr/>
        </p:nvSpPr>
        <p:spPr>
          <a:xfrm>
            <a:off x="0" y="0"/>
            <a:ext cx="6765840" cy="9867960"/>
          </a:xfrm>
          <a:custGeom>
            <a:avLst/>
            <a:gdLst>
              <a:gd name="textAreaLeft" fmla="*/ 360 w 6765840"/>
              <a:gd name="textAreaRight" fmla="*/ 6765480 w 6765840"/>
              <a:gd name="textAreaTop" fmla="*/ 360 h 9867960"/>
              <a:gd name="textAreaBottom" fmla="*/ 9867600 h 9867960"/>
            </a:gdLst>
            <a:ahLst/>
            <a:rect l="textAreaLeft" t="textAreaTop" r="textAreaRight" b="textAreaBottom"/>
            <a:pathLst>
              <a:path w="21600" h="31503">
                <a:moveTo>
                  <a:pt x="4" y="0"/>
                </a:moveTo>
                <a:arcTo wR="4" hR="4" stAng="16200000" swAng="-5400000"/>
                <a:lnTo>
                  <a:pt x="0" y="31499"/>
                </a:lnTo>
                <a:arcTo wR="4" hR="4" stAng="10800000" swAng="-5400000"/>
                <a:lnTo>
                  <a:pt x="21596" y="3150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5" name="AutoShape 2"/>
          <p:cNvSpPr/>
          <p:nvPr/>
        </p:nvSpPr>
        <p:spPr>
          <a:xfrm>
            <a:off x="0" y="0"/>
            <a:ext cx="6765840" cy="9867960"/>
          </a:xfrm>
          <a:custGeom>
            <a:avLst/>
            <a:gdLst>
              <a:gd name="textAreaLeft" fmla="*/ 360 w 6765840"/>
              <a:gd name="textAreaRight" fmla="*/ 6765480 w 6765840"/>
              <a:gd name="textAreaTop" fmla="*/ 360 h 9867960"/>
              <a:gd name="textAreaBottom" fmla="*/ 9867600 h 9867960"/>
            </a:gdLst>
            <a:ahLst/>
            <a:rect l="textAreaLeft" t="textAreaTop" r="textAreaRight" b="textAreaBottom"/>
            <a:pathLst>
              <a:path w="21600" h="31503">
                <a:moveTo>
                  <a:pt x="4" y="0"/>
                </a:moveTo>
                <a:arcTo wR="4" hR="4" stAng="16200000" swAng="-5400000"/>
                <a:lnTo>
                  <a:pt x="0" y="31499"/>
                </a:lnTo>
                <a:arcTo wR="4" hR="4" stAng="10800000" swAng="-5400000"/>
                <a:lnTo>
                  <a:pt x="21596" y="3150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6" name="PlaceHolder 1"/>
          <p:cNvSpPr>
            <a:spLocks noGrp="1"/>
          </p:cNvSpPr>
          <p:nvPr>
            <p:ph type="sldImg"/>
          </p:nvPr>
        </p:nvSpPr>
        <p:spPr>
          <a:xfrm>
            <a:off x="896400" y="742680"/>
            <a:ext cx="4924440" cy="369396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7"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3"/>
          <p:cNvSpPr>
            <a:spLocks noGrp="1"/>
          </p:cNvSpPr>
          <p:nvPr>
            <p:ph type="hdr"/>
          </p:nvPr>
        </p:nvSpPr>
        <p:spPr>
          <a:xfrm>
            <a:off x="-360" y="0"/>
            <a:ext cx="2932200" cy="488880"/>
          </a:xfrm>
          <a:prstGeom prst="rect">
            <a:avLst/>
          </a:prstGeom>
          <a:noFill/>
          <a:ln w="0">
            <a:noFill/>
          </a:ln>
        </p:spPr>
        <p:txBody>
          <a:bodyPr lIns="0" rIns="0" tIns="0" bIns="0" anchor="t">
            <a:noAutofit/>
          </a:bodyPr>
          <a:p>
            <a:pPr indent="0">
              <a:buNone/>
            </a:pPr>
            <a:endParaRPr b="0" lang="en-US" sz="2400" spc="-1" strike="noStrike">
              <a:solidFill>
                <a:srgbClr val="000000"/>
              </a:solidFill>
              <a:latin typeface="Times New Roman"/>
            </a:endParaRPr>
          </a:p>
        </p:txBody>
      </p:sp>
      <p:sp>
        <p:nvSpPr>
          <p:cNvPr id="89" name="PlaceHolder 4"/>
          <p:cNvSpPr>
            <a:spLocks noGrp="1"/>
          </p:cNvSpPr>
          <p:nvPr>
            <p:ph type="dt" idx="7"/>
          </p:nvPr>
        </p:nvSpPr>
        <p:spPr>
          <a:xfrm>
            <a:off x="3828600" y="0"/>
            <a:ext cx="2932200" cy="488880"/>
          </a:xfrm>
          <a:prstGeom prst="rect">
            <a:avLst/>
          </a:prstGeom>
          <a:noFill/>
          <a:ln w="0">
            <a:noFill/>
          </a:ln>
        </p:spPr>
        <p:txBody>
          <a:bodyPr lIns="0" rIns="0" tIns="0" bIns="0" anchor="t">
            <a:noAutofit/>
          </a:bodyPr>
          <a:lstStyle>
            <a:lvl1pPr marL="216000" indent="0" algn="r">
              <a:lnSpc>
                <a:spcPct val="95000"/>
              </a:lnSpc>
              <a:buNone/>
              <a:tabLst>
                <a:tab algn="l" pos="0"/>
                <a:tab algn="l" pos="406440"/>
                <a:tab algn="l" pos="816120"/>
                <a:tab algn="l" pos="1225440"/>
                <a:tab algn="l" pos="1635120"/>
                <a:tab algn="l" pos="2044800"/>
                <a:tab algn="l" pos="2454120"/>
                <a:tab algn="l" pos="2863800"/>
                <a:tab algn="l" pos="3273480"/>
                <a:tab algn="l" pos="3683160"/>
                <a:tab algn="l" pos="4091040"/>
                <a:tab algn="l" pos="4500720"/>
                <a:tab algn="l" pos="4910040"/>
                <a:tab algn="l" pos="5319720"/>
                <a:tab algn="l" pos="5729400"/>
                <a:tab algn="l" pos="6138720"/>
                <a:tab algn="l" pos="6548400"/>
                <a:tab algn="l" pos="6958080"/>
                <a:tab algn="l" pos="7367760"/>
                <a:tab algn="l" pos="7775640"/>
                <a:tab algn="l" pos="8185320"/>
                <a:tab algn="l" pos="8535960"/>
                <a:tab algn="l" pos="8985240"/>
                <a:tab algn="l" pos="9434520"/>
                <a:tab algn="l" pos="9883800"/>
                <a:tab algn="l" pos="10333080"/>
                <a:tab algn="l" pos="10782360"/>
              </a:tabLst>
              <a:defRPr b="0" lang="cs-CZ" sz="1300" spc="-1" strike="noStrike">
                <a:solidFill>
                  <a:srgbClr val="000000"/>
                </a:solidFill>
                <a:latin typeface="Times New Roman"/>
              </a:defRPr>
            </a:lvl1pPr>
          </a:lstStyle>
          <a:p>
            <a:pPr marL="216000" indent="0" algn="r">
              <a:lnSpc>
                <a:spcPct val="95000"/>
              </a:lnSpc>
              <a:buNone/>
              <a:tabLst>
                <a:tab algn="l" pos="0"/>
                <a:tab algn="l" pos="406440"/>
                <a:tab algn="l" pos="816120"/>
                <a:tab algn="l" pos="1225440"/>
                <a:tab algn="l" pos="1635120"/>
                <a:tab algn="l" pos="2044800"/>
                <a:tab algn="l" pos="2454120"/>
                <a:tab algn="l" pos="2863800"/>
                <a:tab algn="l" pos="3273480"/>
                <a:tab algn="l" pos="3683160"/>
                <a:tab algn="l" pos="4091040"/>
                <a:tab algn="l" pos="4500720"/>
                <a:tab algn="l" pos="4910040"/>
                <a:tab algn="l" pos="5319720"/>
                <a:tab algn="l" pos="5729400"/>
                <a:tab algn="l" pos="6138720"/>
                <a:tab algn="l" pos="6548400"/>
                <a:tab algn="l" pos="6958080"/>
                <a:tab algn="l" pos="7367760"/>
                <a:tab algn="l" pos="7775640"/>
                <a:tab algn="l" pos="8185320"/>
                <a:tab algn="l" pos="8535960"/>
                <a:tab algn="l" pos="8985240"/>
                <a:tab algn="l" pos="9434520"/>
                <a:tab algn="l" pos="9883800"/>
                <a:tab algn="l" pos="10333080"/>
                <a:tab algn="l" pos="10782360"/>
              </a:tabLst>
            </a:pPr>
            <a:r>
              <a:rPr b="0" lang="cs-CZ" sz="1300" spc="-1" strike="noStrike">
                <a:solidFill>
                  <a:srgbClr val="000000"/>
                </a:solidFill>
                <a:latin typeface="Times New Roman"/>
              </a:rPr>
              <a:t>10.12.2009</a:t>
            </a:r>
            <a:endParaRPr b="0" lang="en-US" sz="1300" spc="-1" strike="noStrike">
              <a:solidFill>
                <a:srgbClr val="000000"/>
              </a:solidFill>
              <a:latin typeface="Times New Roman"/>
            </a:endParaRPr>
          </a:p>
        </p:txBody>
      </p:sp>
      <p:sp>
        <p:nvSpPr>
          <p:cNvPr id="90" name="PlaceHolder 5"/>
          <p:cNvSpPr>
            <a:spLocks noGrp="1"/>
          </p:cNvSpPr>
          <p:nvPr>
            <p:ph type="ftr" idx="8"/>
          </p:nvPr>
        </p:nvSpPr>
        <p:spPr>
          <a:xfrm>
            <a:off x="-360" y="9373680"/>
            <a:ext cx="2932200" cy="489240"/>
          </a:xfrm>
          <a:prstGeom prst="rect">
            <a:avLst/>
          </a:prstGeom>
          <a:noFill/>
          <a:ln w="0">
            <a:noFill/>
          </a:ln>
        </p:spPr>
        <p:txBody>
          <a:bodyPr lIns="0" rIns="0" tIns="0" bIns="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hyperlink" Target="http://www.msmt.cz/" TargetMode="External"/><Relationship Id="rId2" Type="http://schemas.openxmlformats.org/officeDocument/2006/relationships/slide" Target="../slides/slide21.xml"/><Relationship Id="rId3"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file:////n&#225;bytkem"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hyperlink" Target="http://www.msmt.cz/" TargetMode="External"/><Relationship Id="rId2" Type="http://schemas.openxmlformats.org/officeDocument/2006/relationships/slide" Target="../slides/slide9.xml"/><Relationship Id="rId3"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896760" y="743040"/>
            <a:ext cx="4924440" cy="3693960"/>
          </a:xfrm>
          <a:prstGeom prst="rect">
            <a:avLst/>
          </a:prstGeom>
          <a:ln w="0">
            <a:noFill/>
          </a:ln>
        </p:spPr>
      </p:sp>
      <p:sp>
        <p:nvSpPr>
          <p:cNvPr id="171" name="PlaceHolder 2"/>
          <p:cNvSpPr>
            <a:spLocks noGrp="1"/>
          </p:cNvSpPr>
          <p:nvPr>
            <p:ph type="body"/>
          </p:nvPr>
        </p:nvSpPr>
        <p:spPr>
          <a:xfrm>
            <a:off x="676080" y="4686120"/>
            <a:ext cx="5337000" cy="44370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72"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31931A5-4EEF-464F-B478-2D9BBC115690}"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896760" y="743040"/>
            <a:ext cx="4924440" cy="3693960"/>
          </a:xfrm>
          <a:prstGeom prst="rect">
            <a:avLst/>
          </a:prstGeom>
          <a:ln w="0">
            <a:noFill/>
          </a:ln>
        </p:spPr>
      </p:sp>
      <p:sp>
        <p:nvSpPr>
          <p:cNvPr id="197" name="PlaceHolder 2"/>
          <p:cNvSpPr>
            <a:spLocks noGrp="1"/>
          </p:cNvSpPr>
          <p:nvPr>
            <p:ph type="body"/>
          </p:nvPr>
        </p:nvSpPr>
        <p:spPr>
          <a:xfrm>
            <a:off x="676080" y="4686120"/>
            <a:ext cx="5337000" cy="44370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98"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5F259F0-4D91-4721-9903-5DB306BEC9E0}"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896760" y="743040"/>
            <a:ext cx="4924440" cy="3693960"/>
          </a:xfrm>
          <a:prstGeom prst="rect">
            <a:avLst/>
          </a:prstGeom>
          <a:ln w="0">
            <a:noFill/>
          </a:ln>
        </p:spPr>
      </p:sp>
      <p:sp>
        <p:nvSpPr>
          <p:cNvPr id="200"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Pracovní výkaz musí minimálně obsahovat:</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identifikaci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název subjektu (příjemce/partner);</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jednoznačnou identifikaci pracovníka a zastávané funkce (odkaz na položku rozpočtu,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ze které jsou osobní náklady hrazen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časové vymezení (měsíc a rok, ve kterém byla činnost prováděna);</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údaje o úvazku v projektu, případně o zapojení do dalších projektů v téže organizaci;</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časový rozsah práce dle smlouvy a popis činností, které jsou vykonávány v rámci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rojektu v jednotlivých dnech konkrétního měsíc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opis činností musí být podrobně zpracován vzhledem ke konkrétním prováděný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činnostem, nestačí obecné formulace typu „administrativní práce“ nebo „vedení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kaz musí dále obsahovat informace o čerpání dovolené, pracovní neschopnosti, případně</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další relevantní údaje, vztahující se k vykonávané činnosti.</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kaz musí být podepsán odpovědnou osobou (nadřízeným příslušného pracovníka,</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koordinátorem projektu, ředitelem, statutárním zástupcem apod.).</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racovní úvazky zaměstnance v rámci organizace se nesmějí překrývat a není možné,</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aby byl placen za stejnou práci vícekrát, tj. současně vykazoval stejnou práci v rámci</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projektu OP VK a v rámci jiného projektu nebo úkolu.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Jeden pracovník nemůže být v rámci projektu a současně v rámci vykonávání dalších</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činností pro příjemce a jeho partnery zaměstnán na více než 1,5 úvazku celke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pracovní poměr v rámci pracovní smlouvy a práce podle dohod vykonávaná mimo pracovní poměr).</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Jednotkové mzdy, které jsou stanovené ve schváleném rozpočtu projektu v závislosti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na pracovní pozici a typu pracovního poměru hodinovou sazbou nebo měsíční sazbou,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jsou průměrovými ukazateli a jsou po celou dobu realizace projektu závazné.</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 </a:t>
            </a:r>
            <a:r>
              <a:rPr b="1" lang="cs-CZ" sz="800" spc="-1" strike="noStrike">
                <a:solidFill>
                  <a:srgbClr val="000000"/>
                </a:solidFill>
                <a:latin typeface="Times New Roman"/>
              </a:rPr>
              <a:t>Pro možnost využívání motivačních prvků v odměňování zaměstnanců lze tyto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prostředky určené na jednotlivé pracovní pozice čerpat během doby realizac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 </a:t>
            </a:r>
            <a:r>
              <a:rPr b="1" lang="cs-CZ" sz="800" spc="-1" strike="noStrike">
                <a:solidFill>
                  <a:srgbClr val="000000"/>
                </a:solidFill>
                <a:latin typeface="Times New Roman"/>
              </a:rPr>
              <a:t>projektu nerovnoměrně.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v projektu je plánováno více pracovních pozic, než mají příjemce a jeho partneři</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zaměstnanců, není možné rozdělit částky z přebývajících položek mezi současné pracovník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projektu na základě stávajících smluv. Buď je nutné přijmout/zaměstnat nové pracovník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kteří budou tyto pozice zastávat, nebo u stávajících pracovníků navýšit pracovní úvazky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s omezením při dodržení pravidla o vykonávání max. 1,5 pracovního úvazku pro zaměstnanc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říjemce a jeho partnery viz výše), tzn. není možné tímto způsobem navyšovat</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jednotkové mzdy pracovníků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p:txBody>
      </p:sp>
      <p:sp>
        <p:nvSpPr>
          <p:cNvPr id="201"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8DCEC27-E7A3-4150-A59C-E73EFD380497}"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896760" y="743040"/>
            <a:ext cx="4924440" cy="3693960"/>
          </a:xfrm>
          <a:prstGeom prst="rect">
            <a:avLst/>
          </a:prstGeom>
          <a:ln w="0">
            <a:noFill/>
          </a:ln>
        </p:spPr>
      </p:sp>
      <p:sp>
        <p:nvSpPr>
          <p:cNvPr id="203"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ři vyúčtování způsobilých výdajů projektu při předkládání monitorovacích zpráv a žádostí o platbu</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dokládá příjemce a případní partneři osobní náklady např. následujícími dokumenty, případně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jejich kopiemi (s jednoznačnou identifikací pracovníka a zastávané funkce - specifikace bude</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provedena poskytovatelem podpory):</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racovními smlouvami (nebo odpovídajícími typy smluv) v monitorovací zprávě projektu,</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ve které budou odpovídající osobní výdaje daného pracovníka poprvé uplatňovány;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výplatní listinou nebo výplatní páskou zapojených pracovníků, případně mzdovými listy;</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výpisem z projektového účtu/z provozního účtu organizace, ve kterém jsou identifikované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řevody výplat jednotlivým pracovníkům a převody zákonných odvodů a daní</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racovními výkazy za jednotlivé pracovníky;</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rozpisem mzdových nákladů pracovníků projektu;</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řípadně dalšími doklady, které jsou v souladu s platnou legislativou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výdajové pokladní doklady u mzdy vyplácené v hotovosti apod.).</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Nominální (hrubá) mzda – zahrnuje všechny pracovní příjmy (základní mzda nebo plat,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říplatky a doplatky ke mzdě nebo platu, prémie a odměny, náhrady mezd a platů, odměny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za pracovní pohotovost a jiné složky mzdy nebo platu, výdaje spojené s dovolenou a zákonnými překážkami v práci),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které byly v daném období zaměstnancům zúčtovány k výplatě, a představuje podíl připadající na</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jednoho  zaměstnance na měsíc. Jedná se o hrubou mzdu, tj. před snížením o pojistné na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všeobecné zdravotní pojištění a sociální zabezpečení, o zálohové splátky daně z příjmu fyzických osob a další zákonné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nebo se zaměstnancem dohodnuté srážky.</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Plat – podle zákona č. 262/2006 Sb., zákoník práce.</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Zákonné odvody na sociální a zdravotní pojištění hrazené zaměstnavatelem za své zaměstnance.</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Jméno, příjmení nebo osobní číslo.</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100" spc="-1" strike="noStrike">
              <a:solidFill>
                <a:srgbClr val="000000"/>
              </a:solidFill>
              <a:latin typeface="Times New Roman"/>
            </a:endParaRPr>
          </a:p>
        </p:txBody>
      </p:sp>
      <p:sp>
        <p:nvSpPr>
          <p:cNvPr id="204"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0E2A558-87F9-41BE-8C38-4E7624DC433A}"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896760" y="743040"/>
            <a:ext cx="4924440" cy="3693960"/>
          </a:xfrm>
          <a:prstGeom prst="rect">
            <a:avLst/>
          </a:prstGeom>
          <a:ln w="0">
            <a:noFill/>
          </a:ln>
        </p:spPr>
      </p:sp>
      <p:sp>
        <p:nvSpPr>
          <p:cNvPr id="206"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1200" spc="-1" strike="noStrike">
                <a:solidFill>
                  <a:srgbClr val="000000"/>
                </a:solidFill>
                <a:latin typeface="Times New Roman"/>
              </a:rPr>
              <a:t>Kapitola rozpočtu 2 – Cestovní náhrady související s realizací projektu</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případě</a:t>
            </a:r>
            <a:r>
              <a:rPr b="1" lang="cs-CZ" sz="1200" spc="-1" strike="noStrike">
                <a:solidFill>
                  <a:srgbClr val="000000"/>
                </a:solidFill>
                <a:latin typeface="Times New Roman"/>
              </a:rPr>
              <a:t>, </a:t>
            </a:r>
            <a:r>
              <a:rPr b="0" lang="cs-CZ" sz="1200" spc="-1" strike="noStrike">
                <a:solidFill>
                  <a:srgbClr val="000000"/>
                </a:solidFill>
                <a:latin typeface="Times New Roman"/>
              </a:rPr>
              <a:t>že ve schváleném rozpočtu projektu jsou definovány způsobilé výdaje v této kapitole, je potřeba, aby se příjemce a jeho partneři řídili při vykazování těchto výdajů podmínkami, které byly zohledněny již při přípravě projektové žádosti.</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ždy se musí jednat o výdaje na pracovní cesty zaměstnanců příjemce nebo partnera projektu, a to pouze osob zapojených do realizace projektu (na základě uzavřeného pracovněprávního vztahu). Cestovní výdaje osob, které se na realizaci projektu nepodílejí, není možné v rámci projektového rozpočtu hradit – cestovné zástupců cílové skupiny spadá do Přímé podpory – Kapitola rozpočtu 7, případně do Kapitoly 5.</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ýpočet cestovních náhrad pracovníkům projektu se řídí:</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ákonem č. 262/2006, zákoník práce, v platném znění, Hlava II, Díl 1.;</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latnou vyhláškou MPSV, kterou MPSV vydává v pravidelném termínu 1. ledna na základě §189 zákona č. 262/2006, zákoníku práce;</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interními předpisy organizace, které přesně stanovují stravné pro pracovníky organizace na pracovní cestě, popř. popřípadě vnitřní směrnice organizace, která určuje míru krácení stravného za bezplatně poskytnutá jídla;</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případě zahraničních pracovních cest vyhláškou MF, vydávanou vždy k 1. lednu kalendářního roku, která stanovuje výši základních sazeb zahraničního stravného v celých měnových jednotkách příslušné cizí měny;</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specifickými pravidly OP VK.</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7"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6641AB7-A658-4AA6-BA6C-5593CCC51E15}"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896760" y="743040"/>
            <a:ext cx="4924440" cy="3693960"/>
          </a:xfrm>
          <a:prstGeom prst="rect">
            <a:avLst/>
          </a:prstGeom>
          <a:ln w="0">
            <a:noFill/>
          </a:ln>
        </p:spPr>
      </p:sp>
      <p:sp>
        <p:nvSpPr>
          <p:cNvPr id="209"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Specifická pravidla OP VK:</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Účel pracovní cesty musí vždy souviset s projektem.</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ýdaje spojené s cestovními náhradami musejí odpovídat cenám obvyklým v místě a čase realizace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Cestovné</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lvl="1" marL="743040" indent="0">
              <a:lnSpc>
                <a:spcPct val="80000"/>
              </a:lnSpc>
              <a:spcBef>
                <a:spcPts val="113"/>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300" spc="-1" strike="noStrike">
                <a:solidFill>
                  <a:srgbClr val="000000"/>
                </a:solidFill>
                <a:latin typeface="Times New Roman"/>
              </a:rPr>
              <a:t>Náhrada prokázaných jízdních výdajů </a:t>
            </a:r>
            <a:r>
              <a:rPr b="0" lang="cs-CZ" sz="300" spc="-1" strike="noStrike">
                <a:solidFill>
                  <a:srgbClr val="000000"/>
                </a:solidFill>
                <a:latin typeface="Times New Roman"/>
              </a:rPr>
              <a:t>–</a:t>
            </a:r>
            <a:r>
              <a:rPr b="1" lang="cs-CZ" sz="300" spc="-1" strike="noStrike">
                <a:solidFill>
                  <a:srgbClr val="000000"/>
                </a:solidFill>
                <a:latin typeface="Times New Roman"/>
              </a:rPr>
              <a:t> </a:t>
            </a:r>
            <a:r>
              <a:rPr b="0" lang="cs-CZ" sz="300" spc="-1" strike="noStrike">
                <a:solidFill>
                  <a:srgbClr val="000000"/>
                </a:solidFill>
                <a:latin typeface="Times New Roman"/>
              </a:rPr>
              <a:t>Výdaje, které jsou spojené s dopravou na služební cestě (výdaje za jízdenky veřejné dopravy ve 2. třídě, místenky, lehátka nebo lůžka, letenky, jízdenky místní veřejné dopravy, výdaje související s použitím soukromého vozidla) jsou v rámci schváleného rozpočtu způsobilé.</a:t>
            </a:r>
            <a:endParaRPr b="0" lang="en-US" sz="300" spc="-1" strike="noStrike">
              <a:solidFill>
                <a:srgbClr val="000000"/>
              </a:solidFill>
              <a:latin typeface="Times New Roman"/>
            </a:endParaRPr>
          </a:p>
          <a:p>
            <a:pPr lvl="1" marL="743040" indent="0">
              <a:lnSpc>
                <a:spcPct val="80000"/>
              </a:lnSpc>
              <a:spcBef>
                <a:spcPts val="113"/>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300" spc="-1" strike="noStrike">
                <a:solidFill>
                  <a:srgbClr val="000000"/>
                </a:solidFill>
                <a:latin typeface="Times New Roman"/>
              </a:rPr>
              <a:t>Použití letadla </a:t>
            </a:r>
            <a:r>
              <a:rPr b="0" lang="cs-CZ" sz="300" spc="-1" strike="noStrike">
                <a:solidFill>
                  <a:srgbClr val="000000"/>
                </a:solidFill>
                <a:latin typeface="Times New Roman"/>
              </a:rPr>
              <a:t>–</a:t>
            </a:r>
            <a:r>
              <a:rPr b="1" lang="cs-CZ" sz="300" spc="-1" strike="noStrike">
                <a:solidFill>
                  <a:srgbClr val="000000"/>
                </a:solidFill>
                <a:latin typeface="Times New Roman"/>
              </a:rPr>
              <a:t> </a:t>
            </a:r>
            <a:r>
              <a:rPr b="0" lang="cs-CZ" sz="300" spc="-1" strike="noStrike">
                <a:solidFill>
                  <a:srgbClr val="000000"/>
                </a:solidFill>
                <a:latin typeface="Times New Roman"/>
              </a:rPr>
              <a:t>Při použití letadla je způsobilým výdajem letenka v ekonomické třídě a přímo související poplatky (např. letištní) při letu na vzdálenost větší než 500 km. Pokud jde o kratší vzdálenost, je třeba k zakoupení letenky souhlas poskytovatele podpory. Pokud poskytovatel souhlas nedá, lze z projektu uhradit jen výdaj odpovídající ceně jízdenky v 2. třídě vlaku vyšší kvality (SuperCity, EuroCity, InterCity, Express apod.).</a:t>
            </a:r>
            <a:endParaRPr b="0" lang="en-US" sz="300" spc="-1" strike="noStrike">
              <a:solidFill>
                <a:srgbClr val="000000"/>
              </a:solidFill>
              <a:latin typeface="Times New Roman"/>
            </a:endParaRPr>
          </a:p>
          <a:p>
            <a:pPr lvl="1" marL="743040" indent="0">
              <a:lnSpc>
                <a:spcPct val="80000"/>
              </a:lnSpc>
              <a:spcBef>
                <a:spcPts val="113"/>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300" spc="-1" strike="noStrike">
                <a:solidFill>
                  <a:srgbClr val="000000"/>
                </a:solidFill>
                <a:latin typeface="Times New Roman"/>
              </a:rPr>
              <a:t>Použití místní veřejné dopravy </a:t>
            </a:r>
            <a:r>
              <a:rPr b="0" lang="cs-CZ" sz="300" spc="-1" strike="noStrike">
                <a:solidFill>
                  <a:srgbClr val="000000"/>
                </a:solidFill>
                <a:latin typeface="Times New Roman"/>
              </a:rPr>
              <a:t>–</a:t>
            </a:r>
            <a:r>
              <a:rPr b="1" lang="cs-CZ" sz="300" spc="-1" strike="noStrike">
                <a:solidFill>
                  <a:srgbClr val="000000"/>
                </a:solidFill>
                <a:latin typeface="Times New Roman"/>
              </a:rPr>
              <a:t> </a:t>
            </a:r>
            <a:r>
              <a:rPr b="0" lang="cs-CZ" sz="300" spc="-1" strike="noStrike">
                <a:solidFill>
                  <a:srgbClr val="000000"/>
                </a:solidFill>
                <a:latin typeface="Times New Roman"/>
              </a:rPr>
              <a:t>V rámci cestovného je možné hradit výdaje na místní veřejnou dopravu. Při zakoupení časových kuponů musí být doloženo, že nákup kuponu je v rámci realizace projektu levnější než proplácení jednotlivých jízdenek.</a:t>
            </a:r>
            <a:endParaRPr b="0" lang="en-US" sz="300" spc="-1" strike="noStrike">
              <a:solidFill>
                <a:srgbClr val="000000"/>
              </a:solidFill>
              <a:latin typeface="Times New Roman"/>
            </a:endParaRPr>
          </a:p>
          <a:p>
            <a:pPr lvl="1" marL="743040" indent="0">
              <a:lnSpc>
                <a:spcPct val="80000"/>
              </a:lnSpc>
              <a:spcBef>
                <a:spcPts val="113"/>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300" spc="-1" strike="noStrike">
                <a:solidFill>
                  <a:srgbClr val="000000"/>
                </a:solidFill>
                <a:latin typeface="Times New Roman"/>
              </a:rPr>
              <a:t>Použití soukromého vozidla – </a:t>
            </a:r>
            <a:r>
              <a:rPr b="0" lang="cs-CZ" sz="300" spc="-1" strike="noStrike">
                <a:solidFill>
                  <a:srgbClr val="000000"/>
                </a:solidFill>
                <a:latin typeface="Times New Roman"/>
              </a:rPr>
              <a:t>Způsobilé jsou:</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základní náhrada vyjadřující odhad míry opotřebení vozidla, jejíž výše vychází z vyhlášky ministerstva práce a sociálních věcí;</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náhrada za spotřebované pohonné hmoty; výše se vypočítá z ceny pohonných hmot a spotřeby vozidla podle § 158, odst. 4, zákona č. 262/2006 Sb. Neprokáže-li pracovník cenu pohonné hmoty, vypočte se výše náhrady z průměrné ceny pohonné hmoty, která je stanovena vyhláškou ministerstva práce a sociálních věcí. Pro údaj o spotřebě vozidla se použije údaj z technického průkazu.</a:t>
            </a:r>
            <a:endParaRPr b="0" lang="en-US" sz="300" spc="-1" strike="noStrike">
              <a:solidFill>
                <a:srgbClr val="000000"/>
              </a:solidFill>
              <a:latin typeface="Times New Roman"/>
            </a:endParaRPr>
          </a:p>
          <a:p>
            <a:pPr lvl="1" marL="743040" indent="0">
              <a:lnSpc>
                <a:spcPct val="80000"/>
              </a:lnSpc>
              <a:spcBef>
                <a:spcPts val="113"/>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300" spc="-1" strike="noStrike">
                <a:solidFill>
                  <a:srgbClr val="000000"/>
                </a:solidFill>
                <a:latin typeface="Times New Roman"/>
              </a:rPr>
              <a:t>Použití služebního vozidla – </a:t>
            </a:r>
            <a:r>
              <a:rPr b="0" lang="cs-CZ" sz="300" spc="-1" strike="noStrike">
                <a:solidFill>
                  <a:srgbClr val="000000"/>
                </a:solidFill>
                <a:latin typeface="Times New Roman"/>
              </a:rPr>
              <a:t>V případě používání služebního vozidla je způsobilým výdajem cena pohonných hmot spotřebovaných na cestách podle ujeté vzdálenosti. Hodnota se vypočte obdobně jako při použití soukromého vozidla buď podle průměrné ceny pohonných hmot na dané období stanovené Vyhláškou MPSV nebo je doložena účetním dokladem dokladujícím nákup pohonných hmot. Ujetá vzdálenost bude doložena výpisem z knihy jíz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Ubytování/nocležné</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ro způsobilé výdaje za ubytování během služebních cest platí, že musejí odpovídat cenám v místě obvyklým. V případě výdajů za tuzemské ubytování je nutné dodržovat cenový limit pro ubytování v ČR – maximálně 1200 Kč za osobu a noc a zároveň se řídit dle interních předpisů dané organizace, pokud stanovují nižší cenový limi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Stravné </a:t>
            </a:r>
            <a:r>
              <a:rPr b="0" lang="cs-CZ" sz="300" spc="-1" strike="noStrike">
                <a:solidFill>
                  <a:srgbClr val="000000"/>
                </a:solidFill>
                <a:latin typeface="Times New Roman"/>
              </a:rPr>
              <a:t>– Přísluší zaměstnanci v závislosti na době trvání pracovní cesty. Výši stravného na základě zákona č. 262/2006 Sb., zákoník práce, ve znění pozdějších předpisů, a podle odpovídajících vyhlášek ministerstva práce a sociálních věcí určuje zaměstnavatel zaměstnanci před vysláním na pracovní cestu. Zákoník práce (popřípadě vnitřní směrnice organizace) také určuje míru krácení stravného za bezplatně poskytnutá jídla. Stravné lze hradit maximálně do výše 300 Kč na osobu za celý den.</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Nutné vedlejší výdaje</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Kromě výše uvedených jsou způsobilým výdajem také další úhrady související s předmětem pracovní cesty, např. parkovné, poplatky spojené s pracovní cestou, konferenční poplatky, poplatky za použití telefonu, dálniční poplatek, vstupenky na veletrh, poplatky za úschovu zavazadel apod. Tyto poplatky lze hradit pouze na základě prokázaných úhrad.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Specifická pravidla OP VK pro služební cesty zahranič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působilé jsou výdaje spojené s pracovními cestami zaměstnanců příjemce a zaměstnanců partnerů při zahraničních cestách, přičemž zaměstnancem se rozumí také osoba, která má s příjemcem, popř. partnerem uzavřenu dohodu o provedení práce či o pracovní činnosti, pokud je v této dohodě stanoveno, že tato osoba bude vykonávat služební cest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ahraniční pracovní cesty mohou být propláceny jen v odůvodněných případech a pouze v případě, že jsou obsaženy ve schválené verzi projektové žádosti a zahrnuty v rozpočtu, který je součástí právního a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Mimo EU je možné považovat za způsobilé pouze cesty expertů a odborných pracovníků podílejících se na realizaci věcných aktivit projektu a s aktivní účastí na pořádané akci a s přímým vztahem k aktivitám projektu, které v rámci projektu realizuj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Navyšovat položky rozpočtu související se zahraniční služební cestou není možné.</a:t>
            </a:r>
            <a:r>
              <a:rPr b="0" lang="cs-CZ" sz="300" spc="-1" strike="noStrike">
                <a:solidFill>
                  <a:srgbClr val="000000"/>
                </a:solidFill>
                <a:latin typeface="Times New Roman"/>
              </a:rPr>
              <a:t> Veškeré výdaje musejí být naplánovány při přípravě rozpočtu v projektové žádosti a musejí být řádně zdůvodněny. Výjimku tvoří případy, kdy příjemce jednoznačně poskytovateli prokáže, že se hodnota plánovaných výdajů změnila v důsledku neočekávaného hospodářského vývoje (zejm. zvýšení cen).</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ři vyúčtování zahraničních pracovních cest se postupuje podle Vyhlášky Ministerstva financí o základních sazbách stravného v cizí měně platné pro daný rok.</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Ubytování v hotelu v zahraničí může být zajištěno maximálně v kategorii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působilým nákladem je i kapesné, které může zaměstnavatel poskytnout zaměstnancům při zahraniční pracovní cestě v cizí měně do výše 40 % stravného (toto kapesné může poskytovat pouze za předpokladu, že to odpovídá interním předpisům dané organizace, které mohou stanovovat kapesné nižš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Cestovní náhrady pro zahraniční expert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 případě proplácení cestovních náhrad zaměstnancům zahraničních subjektů je nutné vycházet z platných sazeb EU. Tyto náhrady, tzv. „per diems“, kryjí náklady na ubytování, stravné a cestovné v ČR.</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a:t>
            </a:r>
            <a:r>
              <a:rPr b="0" lang="cs-CZ" sz="300" spc="-1" strike="noStrike">
                <a:solidFill>
                  <a:srgbClr val="000000"/>
                </a:solidFill>
                <a:latin typeface="Times New Roman"/>
              </a:rPr>
              <a:t>Per diems“ pro cizince v ČR se stanovuje podle sazeb EU publikovaných v poslední aktualizaci na stránce: http://europa.eu.int/comm/europeaid/perdiem/index_en.htm.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Tento postup se uplatní v případě např. expertů přizvaných na konference, vzdělávací kurzy, krátkodobě hostujícím zahraničním specialistům apod. Nejedná se o vyplácení cestovních náhrad např. dlouhodobě hostujícím učitelům cizích jazyků a expertům podílejícím se na realizaci projektu, tzn., že nejsou hrazeny zahraničním expertům, kteří s příjemcem uzavřeli pracovní smlouvu (či jinou obdobnou smlouvu) dle českých právních předpis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a:t>
            </a:r>
            <a:r>
              <a:rPr b="0" lang="cs-CZ" sz="300" spc="-1" strike="noStrike">
                <a:solidFill>
                  <a:srgbClr val="000000"/>
                </a:solidFill>
                <a:latin typeface="Times New Roman"/>
              </a:rPr>
              <a:t>Per diems“ mohou být expertovi hrazeny v plné výši. Pouze s jeho souhlasem mohou být „per diems“ stanoveny nižší, mohou být také proplaceny jen jako doplatek po zaplacení ubytování přímo příjemcem, příp. po poskytnutí stravování v rámci aktivity, na kterou byl expert pozván. V rámci tohoto způsobu stravování (tj. není-li proplaceno expertovi přímo) nejsou propláceny výdaje za alkohol a cigaret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r>
              <a:rPr b="0" lang="cs-CZ" sz="300" spc="-1" strike="noStrike">
                <a:solidFill>
                  <a:srgbClr val="000000"/>
                </a:solidFill>
                <a:latin typeface="Times New Roman"/>
              </a:rPr>
              <a:t>Dále je způsobilým výdajem výdaj za dopravu experta do ČR a zpě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Pro vyúčtování výdajů</a:t>
            </a:r>
            <a:r>
              <a:rPr b="0" lang="cs-CZ" sz="300" spc="-1" strike="noStrike">
                <a:solidFill>
                  <a:srgbClr val="000000"/>
                </a:solidFill>
                <a:latin typeface="Times New Roman"/>
              </a:rPr>
              <a:t> tuzemských i zahraničních pracovních cest </a:t>
            </a:r>
            <a:r>
              <a:rPr b="1" lang="cs-CZ" sz="300" spc="-1" strike="noStrike">
                <a:solidFill>
                  <a:srgbClr val="000000"/>
                </a:solidFill>
                <a:latin typeface="Times New Roman"/>
              </a:rPr>
              <a:t>v rámci monitorovací zprávy</a:t>
            </a:r>
            <a:r>
              <a:rPr b="0" lang="cs-CZ" sz="300" spc="-1" strike="noStrike">
                <a:solidFill>
                  <a:srgbClr val="000000"/>
                </a:solidFill>
                <a:latin typeface="Times New Roman"/>
              </a:rPr>
              <a:t> je nutné doloži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Rozpis cestovních náhrad (standardizovaný formulář).</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Kopii dokladu o úhradách cestovních náhrad pracovníkovi projektu (např. výpis z účtu, pokladní výdajové doklady, daňové doklady – účty, faktury, apo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oskytovatel dotace (ŘO nebo ZS) může specifikovat jiný rozsah dokladů, který bude předkládán s monitorovací zprávou.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K výše uvedeným dokladům musí příjemce archivovat a na vyzvání poskytovatele nebo při kontrole na místě předložit ještě následující doklady: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yplněný standardní formulář „Cestovní příkaz“, (v případě, že pracovník vyjíždí na pracovní cesty vícekrát do měsíce, je možné použít formulář „Měsíční cestovní příkaz“), který obsahuje tyto údaje:</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Vyplněný cestovní příkaz, kde je patrné</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příjmení, jméno pracovníka,</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souhlas s vysláním na služební cestu s podpisem pracovníka,</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počátek cesty, místo jednání, účel cesty, konec cesty,</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určený dopravní prostředek. V případě vlastního vozidla: SPZ, druh, prům. spotřeba dle technického průkazu, druh pohonných hmot.</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Vyplněné vyúčtování pracovní cesty, kde je patrné:</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datum, hodina a místo odjezdu a příjezdu,</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v případě použití veřejného dopravního prostředku cena jízdného / případně místní přepravy,</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v případě použití soukromého vozidla vzdálenost v km,</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stravné za dobu pracovní cesty,</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nocležné,</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nutné vedlejší výdaje,</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celková částka cestovních náhrad,</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datum a podpis zodpovědného právníka, který převzal zprávu o výsledku pracovní cesty,</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číslo účetního dokladu o úhradě cestovních výdajů (číslo výdajového pokladního dokladu, nebo výpisu z účtu),</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datum a podpis pracovníka projektu, pokladníka a nadřízeného pracovníka organizace při úhradě cestovních náhra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originály účetních dokladů souvisejících s výdaji pracovní cest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oklady o úhradách výdajů (výpis z účtu, výdajové doklady, daňové doklady – účty, faktury, jízdenky apo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kopie velkého technického průkazu vozidla při použití soukromého vozidla,</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stručná zpráva z každé pracovní cesty, která bude prokazova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kdo, kdy a kam cestu uskutečnil,</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souvislost cesty s realizací projektu,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stručně popsaný výsledek cesty (závěry jednání, uskutečnění aktivity – např. školení, apo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alší doklady dle zákona č. 262/2006 Sb., zákoník práce, ve znění pozdějších předpis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yhláška MPSV, kterou se pro účely poskytování cestovních náhrad stanoví výše sazeb stravného, výše sazeb základních náhrad za používání silničních motorových vozidel a výše průměrných cen pohonných hmo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 případě zakoupení časové dálniční známky nutno doložit, že vozidlo bylo používáno po celou dobu jen pro účely projektu a dálniční známka byla pro jeho provoz nutná, v případě, že vozidlo bylo využíváno jen z části, provést a doložit výpočet pro uhrazení oprávněné části.</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 spc="-1" strike="noStrike">
              <a:solidFill>
                <a:srgbClr val="000000"/>
              </a:solidFill>
              <a:latin typeface="Times New Roman"/>
            </a:endParaRPr>
          </a:p>
        </p:txBody>
      </p:sp>
      <p:sp>
        <p:nvSpPr>
          <p:cNvPr id="210"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2D363EF-6249-4EC5-87AD-C88B75493442}"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896760" y="743040"/>
            <a:ext cx="4924440" cy="3693960"/>
          </a:xfrm>
          <a:prstGeom prst="rect">
            <a:avLst/>
          </a:prstGeom>
          <a:ln w="0">
            <a:noFill/>
          </a:ln>
        </p:spPr>
      </p:sp>
      <p:sp>
        <p:nvSpPr>
          <p:cNvPr id="212" name="PlaceHolder 2"/>
          <p:cNvSpPr>
            <a:spLocks noGrp="1"/>
          </p:cNvSpPr>
          <p:nvPr>
            <p:ph type="body"/>
          </p:nvPr>
        </p:nvSpPr>
        <p:spPr>
          <a:xfrm>
            <a:off x="676080" y="4686120"/>
            <a:ext cx="5692680" cy="4437000"/>
          </a:xfrm>
          <a:prstGeom prst="rect">
            <a:avLst/>
          </a:prstGeom>
          <a:noFill/>
          <a:ln w="0">
            <a:noFill/>
          </a:ln>
        </p:spPr>
        <p:txBody>
          <a:bodyPr lIns="0" rIns="0" tIns="358200" bIns="0" anchor="t">
            <a:noAutofit/>
          </a:bodyPr>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300" spc="-1" strike="noStrike">
                <a:solidFill>
                  <a:srgbClr val="000000"/>
                </a:solidFill>
                <a:latin typeface="Times New Roman"/>
              </a:rPr>
              <a:t>Kapitola rozpočtu 3 – Zařízení související s realizací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působilé výdaje pro nákup zařízení nezbytného pro realizaci projektu jsou součástí schváleného rozpočtu. Při čerpání finančních prostředků v rámci této kapitoly je potřeba, aby příjemce zvážil rozsah a charakter položek v souladu s požadavky na realizaci případných zadávacích řízení.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ro účely projektu je možné pořídit zařízení, které je způsobilé k financování z ESF nebo zařízení a vybavení způsobilé v rámci křížového financování. Odepisovatelný hmotný majetek podle zákona č. 586/1992 Sb., o daních z příjmů, v platném znění, lze financovat prostřednictvím odpisů, nájmu nebo v rámci křížového financování (za splnění podmínek, které vymezují možnosti užívání křížového financování). Hodnota pořízeného majetku se vyjadřuje v pořizovací ceně, která se řídí zákonem 563/1991 Sb., o účetnictv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ořizovaný majetek musí být využíván pro projekt, pokud je využíván pro projekt pouze částečně, je způsobilá k financování pouze poměrná část nákladů.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Příjemce/partner nesmí zapůjčovat </a:t>
            </a:r>
            <a:r>
              <a:rPr b="0" lang="cs-CZ" sz="300" spc="-1" strike="noStrike">
                <a:solidFill>
                  <a:srgbClr val="000000"/>
                </a:solidFill>
                <a:latin typeface="Times New Roman"/>
              </a:rPr>
              <a:t>vybavení, zařízení nebo učební pomůcky pořízené z projektu dalším subjektům v případě, že se nejedná o partnery uvedené ve schváleném projektu. V případě finančního partnerství se majetek pořízený partnerem z finančních prostředků projektu stává jeho vlastnictvím ihned po jeho pořízení.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 případě nefinančního partnerství je majetek příjemcem podpory po dobu realizace a udržitelnosti zapůjčen partnerovi na základě smlouvy o výpůjčce (může být přímo součástí Smlouvy o partnerství). Po skončení udržitelnosti projektu může být majetek bezúplatně převeden do vlastnictví nefinančního partnera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r>
              <a:rPr b="1" lang="cs-CZ" sz="300" spc="-1" strike="noStrike">
                <a:solidFill>
                  <a:srgbClr val="000000"/>
                </a:solidFill>
                <a:latin typeface="Times New Roman"/>
              </a:rPr>
              <a:t>Do kapitoly rozpočtu 3 -  Zařízení související s realizací projektu patří následující položk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Nehmotný majetek do 60 000 Kč</a:t>
            </a:r>
            <a:r>
              <a:rPr b="0" lang="cs-CZ" sz="300" spc="-1" strike="noStrike">
                <a:solidFill>
                  <a:srgbClr val="000000"/>
                </a:solidFill>
                <a:latin typeface="Times New Roman"/>
              </a:rPr>
              <a:t> – (Software, Ostatní) – zahrnuje nákup drobného nehmotného majetku do 60 000 Kč za kus (pořizovací cena). Může se jednat o nákup softwaru, know-how, licence, studijního programu, případně dalších položek drobného nehmotného majetk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Dlouhodobý nehmotný majetek</a:t>
            </a:r>
            <a:r>
              <a:rPr b="0" lang="cs-CZ" sz="300" spc="-1" strike="noStrike">
                <a:solidFill>
                  <a:srgbClr val="000000"/>
                </a:solidFill>
                <a:latin typeface="Times New Roman"/>
              </a:rPr>
              <a:t> (Software, Ostatní) – zahrnuje celkovou úhradu za nákup dlouhodobého nehmotného majetku nad 60 000 Kč za kus (pořizovací cena), např. licence, know-how, studijní programy, software a další. Jedná se o investiční majetek, který však nebude zahrnut do křížového financování.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Drobný hmotný majetek</a:t>
            </a:r>
            <a:r>
              <a:rPr b="0" lang="cs-CZ" sz="300" spc="-1" strike="noStrike">
                <a:solidFill>
                  <a:srgbClr val="000000"/>
                </a:solidFill>
                <a:latin typeface="Times New Roman"/>
              </a:rPr>
              <a:t> </a:t>
            </a:r>
            <a:r>
              <a:rPr b="1" lang="cs-CZ" sz="300" spc="-1" strike="noStrike">
                <a:solidFill>
                  <a:srgbClr val="000000"/>
                </a:solidFill>
                <a:latin typeface="Times New Roman"/>
              </a:rPr>
              <a:t>do 40 000 Kč</a:t>
            </a:r>
            <a:r>
              <a:rPr b="0" lang="cs-CZ" sz="300" spc="-1" strike="noStrike">
                <a:solidFill>
                  <a:srgbClr val="000000"/>
                </a:solidFill>
                <a:latin typeface="Times New Roman"/>
              </a:rPr>
              <a:t> za kus (pořizovací cena) – tato položka zahrnuje zejména nákup výukového a spotřebního materiálu (tzn. pomůcky pro výuku, které budou spotřebovány v době realizace projektu cílovou skupinou – např. chemikálie), dále nákup PC sestav (počítač, monitor, klávesnice, myš) nebo notebooků, tiskáren, multifunkčních zařízení, mobilů, dataprojektorů, vybavení k výuce (učebnice a materiál pro výuku, tedy materiál používaný při výuce), zařízení a přístroje pro výuku a další vybavení a zařízení, která jsou pro realizaci projektu nezbytná a spojená výhradně s realizací projektu, a další. Do této položky nelze zahrnout nábytek bez ohledu na výši pořizovací ceny (patří vždy do položky Křížové financová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Použitý drobný hmotný majetek</a:t>
            </a:r>
            <a:r>
              <a:rPr b="0" lang="cs-CZ" sz="300" spc="-1" strike="noStrike">
                <a:solidFill>
                  <a:srgbClr val="000000"/>
                </a:solidFill>
                <a:latin typeface="Times New Roman"/>
              </a:rPr>
              <a:t> – tato položka zahrnuje nákup použitého drobného hmotného majetku, zařízení, které je uvedeno výše. Pro nákup použitého majetku je nutné dodržet následující podmínk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a) prodejce použitého drobného hmotného majetku musí vystavit prohlášení, ve kterém potvrdí, že tento majetek nebyl v průběhu uplynulých sedmi let získán prostřednictvím veřejných prostředků, na vyžádání musí být předložen nabývací titul prodávajícího a způsob úhrad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b) kupní cena použitého drobného hmotného majetku nesmí přesáhnout jeho tržní cenu v čase a místě pořízení obvyklou a musí být nižší než výdaje na pořízení nového drobného hmotného majetku, které umožňuje stejné využit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c) výdaje na nákup jedné položky použitého drobného hmotného majetku a zařízení nesmějí přesáhnout částku 40 000 Kč za kus (v pořizovací ceně).</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ři nedodržení těchto podmínek poskytovatel podpory neuzná způsobilost těchto výdajů a výdaje následně nebudou příjemci podpory proplacen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Nájem zařízení, operativní leasing – </a:t>
            </a:r>
            <a:r>
              <a:rPr b="0" lang="cs-CZ" sz="300" spc="-1" strike="noStrike">
                <a:solidFill>
                  <a:srgbClr val="000000"/>
                </a:solidFill>
                <a:latin typeface="Times New Roman"/>
              </a:rPr>
              <a:t>nájem zařízení, vybavení, případně nehmotného majetku a budov, případně splátky operativního leasingu (např. zajištění strojního zařízení pro školy) jsou způsobilým výdajem pouze za dodržení následujících podmínek:</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a)</a:t>
            </a:r>
            <a:r>
              <a:rPr b="0" lang="cs-CZ" sz="300" spc="-1" strike="noStrike">
                <a:solidFill>
                  <a:srgbClr val="000000"/>
                </a:solidFill>
                <a:latin typeface="Times New Roman"/>
              </a:rPr>
              <a:t>	</a:t>
            </a:r>
            <a:r>
              <a:rPr b="0" lang="cs-CZ" sz="300" spc="-1" strike="noStrike">
                <a:solidFill>
                  <a:srgbClr val="000000"/>
                </a:solidFill>
                <a:latin typeface="Times New Roman"/>
              </a:rPr>
              <a:t>budova nebo předmět nájmu musejí být využívány pro projekt, pokud jsou využívány pouze částečně, způsobilá bude pouze poměrná část nákladů vypočtených podle stanovené metodiky. Metodika výpočtu musí být zachována po celou dobu realizace projektu (tedy do závěrečného vyúčtová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b)</a:t>
            </a:r>
            <a:r>
              <a:rPr b="0" lang="cs-CZ" sz="300" spc="-1" strike="noStrike">
                <a:solidFill>
                  <a:srgbClr val="000000"/>
                </a:solidFill>
                <a:latin typeface="Times New Roman"/>
              </a:rPr>
              <a:t>	</a:t>
            </a:r>
            <a:r>
              <a:rPr b="0" lang="cs-CZ" sz="300" spc="-1" strike="noStrike">
                <a:solidFill>
                  <a:srgbClr val="000000"/>
                </a:solidFill>
                <a:latin typeface="Times New Roman"/>
              </a:rPr>
              <a:t>je zřejmá skutečná roční výše nájemného nebo splátek;</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c)</a:t>
            </a:r>
            <a:r>
              <a:rPr b="0" lang="cs-CZ" sz="300" spc="-1" strike="noStrike">
                <a:solidFill>
                  <a:srgbClr val="000000"/>
                </a:solidFill>
                <a:latin typeface="Times New Roman"/>
              </a:rPr>
              <a:t>	</a:t>
            </a:r>
            <a:r>
              <a:rPr b="0" lang="cs-CZ" sz="300" spc="-1" strike="noStrike">
                <a:solidFill>
                  <a:srgbClr val="000000"/>
                </a:solidFill>
                <a:latin typeface="Times New Roman"/>
              </a:rPr>
              <a:t>je zřejmá doba, po kterou je předmět nájmu nebo operativního leasingu využíván k realizaci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a:t>
            </a:r>
            <a:r>
              <a:rPr b="0" lang="cs-CZ" sz="300" spc="-1" strike="noStrike">
                <a:solidFill>
                  <a:srgbClr val="000000"/>
                </a:solidFill>
                <a:latin typeface="Times New Roman"/>
              </a:rPr>
              <a:t>	</a:t>
            </a:r>
            <a:r>
              <a:rPr b="0" lang="cs-CZ" sz="300" spc="-1" strike="noStrike">
                <a:solidFill>
                  <a:srgbClr val="000000"/>
                </a:solidFill>
                <a:latin typeface="Times New Roman"/>
              </a:rPr>
              <a:t> podpora je používána na výdaje nájm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e)</a:t>
            </a:r>
            <a:r>
              <a:rPr b="0" lang="cs-CZ" sz="300" spc="-1" strike="noStrike">
                <a:solidFill>
                  <a:srgbClr val="000000"/>
                </a:solidFill>
                <a:latin typeface="Times New Roman"/>
              </a:rPr>
              <a:t>	</a:t>
            </a:r>
            <a:r>
              <a:rPr b="0" lang="cs-CZ" sz="300" spc="-1" strike="noStrike">
                <a:solidFill>
                  <a:srgbClr val="000000"/>
                </a:solidFill>
                <a:latin typeface="Times New Roman"/>
              </a:rPr>
              <a:t>smlouva o nájmu nebo operativním leasingu je uzavřena přímo s příjemcem podpory, případně s partnerem, bude-li předmět nájmu nebo operativního leasingu využívat partner a bude-li tato možnost ošetřena v partnerské smlouvě nebo jejím dodatk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f)</a:t>
            </a:r>
            <a:r>
              <a:rPr b="0" lang="cs-CZ" sz="300" spc="-1" strike="noStrike">
                <a:solidFill>
                  <a:srgbClr val="000000"/>
                </a:solidFill>
                <a:latin typeface="Times New Roman"/>
              </a:rPr>
              <a:t>	</a:t>
            </a:r>
            <a:r>
              <a:rPr b="0" lang="cs-CZ" sz="300" spc="-1" strike="noStrike">
                <a:solidFill>
                  <a:srgbClr val="000000"/>
                </a:solidFill>
                <a:latin typeface="Times New Roman"/>
              </a:rPr>
              <a:t>smlouva operativního leasingu je uzavřena s pevným/uzavřeným koncem (tzn. není umožněn volný nebo otevřený konec leasingového vztahu), který neumožňuje odkup zařízení a budov za zůstatkovou cenu (způsobilé jsou pouze splátky, které se vztahují k období realizace projektu a současně k období, po které byl předmět leasingu pro daný projekt využíván);</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g) na vyžádání musí příjemce prokázat hospodárnost využití nájmu nebo operativního leasingu ve srovnání s jinými alternativami;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h) část nákladů, o kterou výdaje na operativní leasing přesahují výdaje, které by představoval běžný pronájem, je neuznatelná.</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Motorové vozidlo lze v rámci operativního leasingu nebo nájmu (vždy je nutno vybrat finančně výhodnější variantu) </a:t>
            </a:r>
            <a:r>
              <a:rPr b="0" lang="cs-CZ" sz="300" spc="-1" strike="noStrike">
                <a:solidFill>
                  <a:srgbClr val="000000"/>
                </a:solidFill>
                <a:latin typeface="Times New Roman"/>
              </a:rPr>
              <a:t>zajistit pouze pro projekty podporované v Oblasti podpory 1.2 – Rovné příležitosti dětí a žáků, včetně dětí a žáků se speciálními vzdělávacími potřebami, a to pouze v případě, že vozidlo bude v rámci projektu využíváno pro realizaci aktivit pro cílové skupiny se speciálními vzdělávacími potřebami (např. přeprava handicapovaných žáků do školy nebo na místa, kde se aktivity realizují, apo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ýdaje spojené s pořízením či nájmem vozidla, které by sloužilo např. k přepravě realizačního týmu či k jiným účelům, jsou ve všech případech nezpůsobilé.</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Daňové odpisy – odpisy neboli amortizace vlastního dlouhodobého hmotného nebo nehmotného majetku </a:t>
            </a:r>
            <a:r>
              <a:rPr b="0" lang="cs-CZ" sz="300" spc="-1" strike="noStrike">
                <a:solidFill>
                  <a:srgbClr val="000000"/>
                </a:solidFill>
                <a:latin typeface="Times New Roman"/>
              </a:rPr>
              <a:t>(pořízeného před začátkem realizace projektu nebo i v průběhu realizace) jsou způsobilými výdaji projektu, jestliže jsou splněny následující podmínky:</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k nákupu dotčeného majetku nebyly využity veřejné prostředky (tj. současný či některý z předcházejících vlastníků zařízení neobdržel prostředky z veřejných zdrojů (v rámci jiného projektu) na nákup daného majetku)</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jsou uplatňovány v alikvotní výši s ohledem na míru využití daného majetku v rámci realizace projektu;</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jsou uplatňovány pouze po dobu realizace projektu;</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je možné je doložit účetním dokladem dokládajícím pořizovací cenu majetku;</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majetek je odpisován dle odpisového plánu příjemce;</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výše ročních odpisů je stanovena jednou z metod daňového odpisu pro účely daně z příjmu pro jednotlivé druhy majetku a jsou způsobilé pouze po dobu, kdy je majetek využíván pro účely projektu;</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odpisy se zaokrouhlují na celé koruny nahoru;</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příjemce si vybere formu odpisování (v souladu se zákonem č. 586/1992 Sb., o daních z příjmů ve znění pozdějších předpisů), kterou bude používat po celou dobu realizace projektu, tuto nastavenou formu již nebude moci měnit (tuto formu nastaví ve chvíli, kdy započne odpisova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Odepisování motorových vozidel není způsobilým výdajem.</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Postup při vykazování způsobilých výdajů souvisejících s pořízením hmotného majetku v pořizovací ceně nad 4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Příjemce, který uplatňuje daňové odpisy</a:t>
            </a:r>
            <a:r>
              <a:rPr b="0" lang="cs-CZ" sz="300" spc="-1" strike="noStrike">
                <a:solidFill>
                  <a:srgbClr val="000000"/>
                </a:solidFill>
                <a:latin typeface="Times New Roman"/>
              </a:rPr>
              <a:t>, vykáže způsobilé výdaje ve výši daňových odpisů daného majetku za poslední zdaňovací období. Přitom zohlední jak dobu trvání projektu, tak dobu využívání majetku, a to takto:</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v prvním roce si zahrne do způsobilých výdajů pouze poměrnou výši odpisů. Podíl na odpisech je dán počtem měsíců, v nichž je daný majetek používán v rámci projektu (např. v případě, že projekt začíná 1. března, vybavení je zakoupeno 28. července téhož roku, daňové odpisy budou vykázány podle zákona a do způsobilých výdajů bude zahrnuto po ukončení zdaňovacího období 6/12 takto vykázaných odpis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v případě, že je daný majetek využíván i v posledním roce trvání projektu a projekt končí před koncem zdaňovacího období, stanoví se výše způsobilých výdajů v závěrečné žádosti o platbu jako odpovídající část předpokládaných daňových odpisů. Podíl na odpisech je dán počtem započatých měsíců, po které projekt trvá, k počtu měsíců ve zdaňovacím období (např. v případě, že projekt končí v říjnu daného roku, je způsobilým výdajem v tomto roce 10/12 předpokládaných daňových odpisů vykázaných na konci roku, pokud byl majetek využíván nejpozději od 1. 1. daného rok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říklad 1:</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říjemce zakoupil pro účely projektu vybavení v pořizovací ceně 5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rojekt byl zahájen k 1. 1. 2008 a trvá do 30. 6. 2010. Zařízení bylo zakoupeno ke dni 15. 3. 2008 a příjemce předpokládá jeho využití po celou zbývající dobu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ořízený majetek spadá podle zákona č. 586/1992 Sb., o daních z příjmů, ve znění pozdějších předpisů, do odpisové skupiny 1 s dobou odpisování 3 let. Příjemce uplatňuje daňové odpisy v jednotlivých letech takto:</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za zdaňovací období 2008 odpisy ve výši 1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za zdaňovací období 2009 odpisy ve výši 2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za zdaňovací období 2010 odpisy ve výši 2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Na základě stanovených odpisů uplatní výši způsobilých výdajů takto:</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v žádosti o platbu po skončení zdaňovacího období 2008 způsobilé výdaje ve výši 8333 (10/12*1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v žádosti o platbu po skončení zdaňovacího období 2009 způsobilé výdaje ve výši 20 000 (12/12*2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v závěrečné žádosti o platbu předložené v roce 2010 způsobilé výdaje ve výši 10 000 Kč (6/12*2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u="sng">
                <a:solidFill>
                  <a:srgbClr val="000000"/>
                </a:solidFill>
                <a:uFillTx/>
                <a:latin typeface="Times New Roman"/>
              </a:rPr>
              <a:t>Odpisové sazby pro jednotlivé odpisové skupiny stanovuje § 31 zákona č. 586/1992 Sb., o daních z příjmů, ve znění pozdějších předpis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ýdaje na opravy a údržbu – </a:t>
            </a:r>
            <a:r>
              <a:rPr b="0" lang="cs-CZ" sz="300" spc="-1" strike="noStrike">
                <a:solidFill>
                  <a:srgbClr val="000000"/>
                </a:solidFill>
                <a:latin typeface="Times New Roman"/>
              </a:rPr>
              <a:t>v této položce jsou za způsobilé považovány pouze ty výdaje, které se vážou k položkám (majetku), jež byly pořízeny ze způsobilých výdajů daného projektu (pořízené z dotace, odepisované v rámci projektu) a jsou využívány pro účely projektu. Výdaje na opravu a údržbu majetku používaného v projektu, který nevstupuje žádným způsobem do způsobilých výdajů, nelze zahrnout do způsobilých výdaj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Křížové financování (Investiční část, Neinvestiční část) – </a:t>
            </a:r>
            <a:r>
              <a:rPr b="0" lang="cs-CZ" sz="300" spc="-1" strike="noStrike">
                <a:solidFill>
                  <a:srgbClr val="000000"/>
                </a:solidFill>
                <a:latin typeface="Times New Roman"/>
              </a:rPr>
              <a:t>další vybavení a nábytek, který není možné zahrnout do výše uvedených položek, může příjemce pořizovat v rámci tzv. křížového financování, ale to opět pouze za předpokladu, že „křížové financování“ je schváleno v žádosti o dotaci a potvrzeno v právním aktu s poskytovatelem dotace.</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Křížové financování</a:t>
            </a:r>
            <a:r>
              <a:rPr b="0" lang="cs-CZ" sz="300" spc="-1" strike="noStrike">
                <a:solidFill>
                  <a:srgbClr val="000000"/>
                </a:solidFill>
                <a:latin typeface="Times New Roman"/>
              </a:rPr>
              <a:t> umožňuje v projektech financovaných z ESF realizovat některé výdaje, které jsou způsobilé pouze v rámci pravidel financování z Evropského fondu pro regionální rozvoj. Použitím křížového financování je možné hradit pouze výdaje nezbytné pro dosažení cílů projektu, tj. tyto výdaje musejí mít přímou vazbu na realizaci projektových aktivi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ýdaj v položce křížového financování může uplatnit pouze </a:t>
            </a:r>
            <a:r>
              <a:rPr b="1" lang="cs-CZ" sz="300" spc="-1" strike="noStrike">
                <a:solidFill>
                  <a:srgbClr val="000000"/>
                </a:solidFill>
                <a:latin typeface="Times New Roman"/>
              </a:rPr>
              <a:t>příjemce/partner, který majetek daňově neodepisuje</a:t>
            </a:r>
            <a:r>
              <a:rPr b="0" lang="cs-CZ" sz="300" spc="-1" strike="noStrike">
                <a:solidFill>
                  <a:srgbClr val="000000"/>
                </a:solidFill>
                <a:latin typeface="Times New Roman"/>
              </a:rPr>
              <a:t>, a to tak, že do výdajů v režimu křížového financování zahrne nejvýše celkovou pořizovací cenu majetku (nebo v případě, že by tím došlo k překročení limitu stanoveného výzvou, její odpovídající část, zbývající část může být financována i z jiných zdrojů v rámci nezpůsobilých výdajů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Příjemce/partner, který daný majetek daňově odepisuje</a:t>
            </a:r>
            <a:r>
              <a:rPr b="0" lang="cs-CZ" sz="300" spc="-1" strike="noStrike">
                <a:solidFill>
                  <a:srgbClr val="000000"/>
                </a:solidFill>
                <a:latin typeface="Times New Roman"/>
              </a:rPr>
              <a:t>, nemá možnost využít křížového financování pro pořízení vybavení nad 40 tis Kč a uplatňuje v jednotlivých letech daňové odpisy (viz. Bod F – Daňové odpisy). </a:t>
            </a:r>
            <a:r>
              <a:rPr b="1" lang="cs-CZ" sz="300" spc="-1" strike="noStrike">
                <a:solidFill>
                  <a:srgbClr val="000000"/>
                </a:solidFill>
                <a:latin typeface="Times New Roman"/>
              </a:rPr>
              <a:t>V případě pořízení nábytku v hodnotě do 40 tis. Kč, který nelze odepisovat, bude využita položka rozpočtu 3.8.2 Křížové financování – neinvestiční čás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ři uplatnění křížového financování musejí být splněny následující základní podmínk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Maximální procentní podíly křížového financování na celkových způsobilých výdajích projektu jsou pro jednotlivé projekty stanoveny v příslušné výzvě k předkládání projekt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yhlašovatel může v textu výzvy vymezit, za jakým účelem bude v jednotlivých prioritních osách křížové financování využito, případně může limity ve výjimečných a odůvodněných případech navýšit či sníži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U jednotlivého projektu nesmí být překročen schválený maximální procentuální podíl křížového financování na objemu celkových způsobilých výdajů, a to ani při závěrečném vyúčtování projektu, tj. musí být zachován stanovený podíl i na objemu celkových skutečně vynaložených a prokázaných způsobilých výdajů v rámci projektu.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ybavení a nábytek financovaný z prostředků OP VK by měl být pořízen prioritně pro potřebu cílové skupiny. V případě, kdy je křížové financování využito k pořízení vybavení nebo nábytku pro potřeby realizačního/projektového týmu, je nutné takový požadavek zvlášť zdůvodnit; také je potřeba vyčíslit výši prostředků připadající na jeden přepočtený pracovní úvazek členů projektového týmu. Při čemž limit na jeden přepočtený pracovní úvazek činí 15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ymezení pojmů souvisejících s křížovým financováním:</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Nábytkem se v rámci křížového financování bez ohledu na velikost a účel použití rozumí zejména:</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stoly, lavice, pracovní desk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židle, křesla, pohovky, postele včetně matrac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skříně, police, závěsné skříňky včetně kuchyňských, truhlice;</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estavěné skříně s pořizovací cenou do 40 tis. Kč (vestavěné skříně s vyšší pořizovací cenou jsou technickým zhodnocením nemovitosti);</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ěšáky a zrcadla volně stojící i závěsné;</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nábytkové stěny a podobné sestav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Nábytkem nejso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textilní a jiné doplňky, které nejsou pevnou součástí nábytku a bez nichž je nábytek plně funkční (např. sedáky, lůžkoviny, ubrusy at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odlahové krytiny včetně koberců bez ohledu na jejich velikos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clony a závěsy včetně zařízení sloužícího k jejich uchyce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ybavením</a:t>
            </a:r>
            <a:r>
              <a:rPr b="0" lang="cs-CZ" sz="300" spc="-1" strike="noStrike">
                <a:solidFill>
                  <a:srgbClr val="000000"/>
                </a:solidFill>
                <a:latin typeface="Times New Roman"/>
              </a:rPr>
              <a:t> se pro účely křížového financování rozumí hmotný majetek v pořizovací ceně ve smyslu § 29 zákona č. 586/1992 Sb., o daních z příjmů, ve znění pozdějších předpisů, vyšší než 40 000 Kč a doba použitelnosti delší než 1 rok.</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Jednotlivé rozpočtové položky křížového financování jsou rozděleny na Investiční část a Neinvestiční čás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Investiční čás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Křížové financování zajišťované z této položky má charakter investice a mohou z něj být realizovány následující výdaje:</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ýdaje na nábytek v pořizovací ceně od 40 000 Kč.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ybave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 účetního hlediska jde o výdaje na nákup vybavení hmotné povahy s dobou použitelnosti nad 1 rok a pořizovací cenou nad 40 000 Kč za kus. Pro způsobilost výdajů je nutné respektovat ještě následující podmínk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musí se jednat o speciální vybavení, které není možné pořídit v nezbytné kvalitě za cenu nižší než 4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ybavení musí být používáno k realizaci aktivit, na kterých se podílí cílová skupina (např. školení, výuka, praxe, práce, výcvik atd.); nebo je respektováno výše uvedené finanční omezení pro projektový tým (15 000 tis. Kč pro jeden přepočtený úvazek).</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 případě pořízení použitého vybavení </a:t>
            </a:r>
            <a:r>
              <a:rPr b="0" lang="cs-CZ" sz="300" spc="-1" strike="noStrike">
                <a:solidFill>
                  <a:srgbClr val="000000"/>
                </a:solidFill>
                <a:latin typeface="Times New Roman"/>
              </a:rPr>
              <a:t>je nutné dodržet následující podmínk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a) prodejce vybavení musí vystavit prohlášení, ve kterém potvrdí, že tento majetek nebyl v průběhu uplynulých sedmi let získán prostřednictvím veřejných prostředků, na vyžádání musí být předložen nabývací titul prodávajícího a způsob úhrad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b) kupní cena tohoto vybavení nesmí přesáhnout jeho tržní cenu v čase a místě pořízení obvyklou a musí být nižší než výdaje na pořízení vybavení, které umožňuje stejné využit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 případě pořízení interaktivní tabule bude veškeré další současně pořízené zařízení sloužící k zajištění funkčnosti interaktivní tabule považováno za součást souboru movitých věcí se samostatným technicko-ekonomickým určením. Pokud takto zjištěná cena překročí 40 tis., spadá majetek do křížového financování (v případě, že příjemce majetek daňově neodepisuje). To znamená, že pokud takto zjištěná cena překročí 40 tis. Kč, není možno tento soubor movitých věcí zahrnout do položky rozpočtu č. 3 Zařízení, ale je nutno jej zahrnout do křížového financování (v případě, že příjemce/partner majetek daňově neodepisuje).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okud se jedná o nákup samostatné tabule (předpokládá se, že ostatními náležitostmi pro funkčnost tabule je příjemce již vybaven) a pořizovací cena nepřesáhne 40 tis. Kč, nespadá do křížového financování.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Neinvestiční čás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Křížové financování zajišťované z této položky nemá charakter investice a je možné z něj realizovat výdaje spojené s pořízením:</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nábytku v pořizovací ceně do 4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estavěných skříní s pořizovací cenou do 40 000 Kč (vestavěné skříně s vyšší pořizovací cenou jsou technickým zhodnocením nemovitosti).</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ýdaje nespadající do křížového financová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ýdaje patřící do oblasti pomoci ESF, a to včetně odpis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ýdaje na nákup pozemk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ýdaje na nákup budov, domů a bytových či nebytových prostor;</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ýdaje na nákup vozidel;</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ýdaje na nákup zařízení a vybavení s dobou použitelnosti nad 1 rok a pořizovací cenou nad 40 000 Kč, pokud je možné je pořídit v nezbytné kvalitě za cenu nižší než 40 000 Kč nebo není používáno k realizaci aktivit, na kterých se podílí cílová skupina (např. kopírovací zaříze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Podíl výdajů na pořízení zařízení a vybavení, včetně křížového financování v této kapitole, na celkových způsobilých výdajích smí činit nejvýše 25 %. Tento limit musí být dodržen i při závěrečném vyúčtování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U majetku financovaného v režimu křížového financování může být jeho zbývající část financována i z jiných zdrojů v rámci nezpůsobilých výdajů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říjemce musí před zahájením čerpání z této kapitoly posoudit, jaká je předpokládaná cena pořizovaných dodávek obdobného charakteru a zda zakládá povinnost realizovat zadávací řízení podle pravidel OP VK uvedených v této příručce či podle zákona č. 137/2006 Sb., o veřejných zakázkách.</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PH je součástí pořizovací ceny u neplátců DPH, u plátců je způsobilá pouze ta část, u níž není nárok na odpočet na vstup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PH je součástí pořizovací ceny u neplátců DPH, u plátců je způsobilá pouze ta část, u níž není nárok na odpočet na vstup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PH je součástí pořizovací ceny u neplátců DPH, u plátců je způsobilá pouze ta část, u níž není nárok na odpočet na vstup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ro účely rozpočtu projektu se spotřebním materiálem např. u škol a NNO, rozumí také majetek s dobou životnosti do 1 roku a pořizovací cenou do 3000 Kč, který je určen pro cílovou skupinu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PH je součástí pořizovací ceny u neplátců DPH, u plátců je způsobilá pouze ta část, u níž není nárok na odpočet na vstup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Operativní leasing – forma nájmu, po jehož ukončení se pronajatá věc vrací pronajímateli, vlastnické právo na nájemce nepřecház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aňové odpisy se řídí zákonem 586/1992 Sb., o daních z příjmů, ve znění pozdějších předpis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Opravou se odstraňují účinky částečného fyzického opotřebení nebo poškození za účelem uvedení do předchozího nebo provozuschopného stavu. Uvedením do provozuschopného stavu se rozumí provedení opravy i s použitím jiných než původních materiálů, dílů, součástí nebo technologií, pokud tím nedojde k technickému zhodnoce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Údržbou se rozumí soustavná činnost, kterou se zpomaluje fyzické opotřebení a předchází poruchám a odstraňují se drobnější závad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Částečné a plné úvazky pracovníků se sečtou (např. 0,5 částečný + 0,75 částečný + 3 plné = 4,25 přepočtených) a limit se uplatňuje k takto přepočteným úvazkům, tj. v tomto případě 4,25 * 15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 případě, že pořizovací cena nepřesáhne 40 000 Kč a položky jsou nakupovány pro potřeby cílové skupiny, je možné tyto položky uhradit po splnění dalších podmínek způsobilosti mimo křížové financování,  a to v rámci položky rozpočtu drobného hmotného majetk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ro neplátce DPH se pořizovací cenou rozumí cena včetně DPH a pro plátce cena bez DPH, případně je v ceně zahrnuta ta část DPH, u níž není nárok na odpočet na vstup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 spc="-1" strike="noStrike">
              <a:solidFill>
                <a:srgbClr val="000000"/>
              </a:solidFill>
              <a:latin typeface="Times New Roman"/>
            </a:endParaRPr>
          </a:p>
        </p:txBody>
      </p:sp>
      <p:sp>
        <p:nvSpPr>
          <p:cNvPr id="213"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4D1E789-1213-4E27-9B09-60959DB8060A}"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8"/>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D5D1D04-ED62-4DD1-B38D-2E9B8FBF506E}"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
        <p:nvSpPr>
          <p:cNvPr id="174" name="Text Box 1"/>
          <p:cNvSpPr/>
          <p:nvPr/>
        </p:nvSpPr>
        <p:spPr>
          <a:xfrm>
            <a:off x="990720" y="7491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5" name="PlaceHolder 1"/>
          <p:cNvSpPr>
            <a:spLocks noGrp="1"/>
          </p:cNvSpPr>
          <p:nvPr>
            <p:ph type="body"/>
          </p:nvPr>
        </p:nvSpPr>
        <p:spPr>
          <a:xfrm>
            <a:off x="676080" y="4686120"/>
            <a:ext cx="5692680" cy="4438440"/>
          </a:xfrm>
          <a:prstGeom prst="rect">
            <a:avLst/>
          </a:prstGeom>
          <a:noFill/>
          <a:ln w="0">
            <a:noFill/>
          </a:ln>
        </p:spPr>
        <p:txBody>
          <a:bodyPr lIns="0" rIns="0" tIns="35820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Rozpočet projek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průběhu realizace projektu je nutné vždy vycházet z rozpočtu, který byl schválen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oskytovatelem podpory a je součástí právního aktu mezi poskytovatelem podpory 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příjemcem. Tento rozpočet je nedílnou součástí právního aktu o poskytnutí podpor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íjemce i jeho partneři musejí mít tento schválený rozpočet k dispozici a jsou povinni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rámci realizace projektu stále sledovat, zda jsou jednotlivé výdaje v souladu s tímto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rozpočtem. Při čerpání rozpočtu je nutné sledovat nejen to, zda konkrétní výdaj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odpovídají kapitolám rozpočtu, ale zda jsou také v souladu s charakterem a výší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jednotlivých položek.</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 tohoto důvodu je požadováno, aby již při zahájení realizace projektu příjemce a jeho</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artneři zpracovali plán čerpání projektového rozpočtu, který jim bude slouži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jako pomůcka pro správné a včasné čerpání jednotlivých položek rozpočtu, napomůže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časné indikaci případné potřeby dílčí změny v rámci rozpoč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a napomůže také při plánování např. výběrových řízení.</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896760" y="743040"/>
            <a:ext cx="4924440" cy="3693960"/>
          </a:xfrm>
          <a:prstGeom prst="rect">
            <a:avLst/>
          </a:prstGeom>
          <a:ln w="0">
            <a:noFill/>
          </a:ln>
        </p:spPr>
      </p:sp>
      <p:sp>
        <p:nvSpPr>
          <p:cNvPr id="215"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800" spc="-1" strike="noStrike">
                <a:solidFill>
                  <a:srgbClr val="000000"/>
                </a:solidFill>
                <a:latin typeface="Times New Roman"/>
              </a:rPr>
              <a:t>Kapitola rozpočtu 4 – Místní kancelář</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této kapitole rozpočtu je možno čerpat finanční prostředky na zabezpečení provozu kancelář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která slouží k řízení projektu. Za způsobilé výdaje jsou považovány výdaje za materiál a služb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které souvisejí s řízením projektu a jsou pro zabezpečení realizace projektu nezbytné.</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Do této kapitoly se nezahrnuje pronájem místností určených pro práci s cílovou skupino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např. školicí prostory a související náklad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daje na místní kancelář mohou buď souviset výhradně s projektem a nesmějí mít vztah k</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jiným aktivitám, nebo mohou s projektem souviset částečně a mít vztah i k jiným aktivitá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příjemce – v takovém případě je možné do způsobilých výdajů započítat pouze podíl připadající na</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aktivity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Mezi výdaje na místní kancelář patří:</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spotřební zboží a provozní materiál</a:t>
            </a:r>
            <a:r>
              <a:rPr b="0" lang="cs-CZ" sz="800" spc="-1" strike="noStrike">
                <a:solidFill>
                  <a:srgbClr val="000000"/>
                </a:solidFill>
                <a:latin typeface="Times New Roman"/>
              </a:rPr>
              <a:t> – papír do tiskáren, šanony, kancelářské potřeby, tonery, CD apod.;</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telefon, poštovné, fax</a:t>
            </a:r>
            <a:r>
              <a:rPr b="0" lang="cs-CZ" sz="800" spc="-1" strike="noStrike">
                <a:solidFill>
                  <a:srgbClr val="000000"/>
                </a:solidFill>
                <a:latin typeface="Times New Roman"/>
              </a:rPr>
              <a:t> – včetně internetu – u poplatku za telefon a fax musí být možné provedení položkové kontroly za konkrétní telefon a fax;</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spotřeba vody, paliv a energie</a:t>
            </a:r>
            <a:r>
              <a:rPr b="0" lang="cs-CZ" sz="800" spc="-1" strike="noStrike">
                <a:solidFill>
                  <a:srgbClr val="000000"/>
                </a:solidFill>
                <a:latin typeface="Times New Roman"/>
              </a:rPr>
              <a:t> – nákup energie, vody, paliv (kromě pohonných hmot);</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nájemné</a:t>
            </a:r>
            <a:r>
              <a:rPr b="0" lang="cs-CZ" sz="800" spc="-1" strike="noStrike">
                <a:solidFill>
                  <a:srgbClr val="000000"/>
                </a:solidFill>
                <a:latin typeface="Times New Roman"/>
              </a:rPr>
              <a:t> – nájem kanceláře a úklid a údržba kanceláře, která je využívána k řízení projektu (alternativně např. podíl z odpisů budov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Z výpočtu částky by měla být zřejmá skutečná roční výše nájemného, dále doba, po kterou byla kancelář/část budovy pro projekt využívána. Výsledné způsobilé výdaje na poplatky za nákup vody, paliv a energie, internet, úklid a údržbu by měly být stanoveny obdobně.</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daje za místní kancelář jsou způsobilé za podmínky, že jejich základem jsou skutečné a nezbytné výdaje, které jsou určeny v poměru k dané činnosti za pomoci nestranné a oprávněné metody (např. rozpočet spotřebované elektrické energie na jednotlivé spotřebiče, rozpočet spotřebovaného tepla podle vytápěné plochy kanceláří, dílen apod.). Tyto výdaje musejí být prokazatelně doložen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Ke stanovení výše výdajů je nutné použít odpovídající metodiku výpočtu, která musí být zachována po celou dobu realizace projektu včetně závěrečného vyúčtování.</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se organizace podílí na více projektech v rámci OP VK, uplatní ve všech stejnou metodiku výpočtu.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říjemce se při uplatňování výdajů v rámci této kapitoly řídí Metodickým dopisem č. 5 Režijní náklady OP VK uveřejněným na </a:t>
            </a:r>
            <a:r>
              <a:rPr b="0" lang="cs-CZ" sz="800" spc="-1" strike="noStrike" u="sng">
                <a:solidFill>
                  <a:srgbClr val="ccccff"/>
                </a:solidFill>
                <a:uFillTx/>
                <a:latin typeface="Times New Roman"/>
                <a:hlinkClick r:id="rId1"/>
              </a:rPr>
              <a:t>www.msmt.cz</a:t>
            </a:r>
            <a:r>
              <a:rPr b="0" lang="cs-CZ" sz="800" spc="-1" strike="noStrike">
                <a:solidFill>
                  <a:srgbClr val="000000"/>
                </a:solidFill>
                <a:latin typeface="Times New Roman"/>
              </a:rPr>
              <a:t>. Příjemce musí před zahájením čerpání z této kapitoly posoudit, jaká je předpokládaná cena pořizovaných dodávek či služeb obdobného charakteru a zda zakládá povinnost realizovat zadávací řízení podle pravidel OP VK uvedených v této Příručce či podle zákona č. 137/2006 Sb., o veřejných zakázkách.</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Podíl výdajů celé kapitoly Místní kancelář na celkových způsobilých výdajích projektu smí činit nejvýše 8 % a tento limit musí být zachován i při závěrečném vyúčtování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p:txBody>
      </p:sp>
      <p:sp>
        <p:nvSpPr>
          <p:cNvPr id="216"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01C8BB0-05C6-4E7A-A307-595A065FD0E5}"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896760" y="743040"/>
            <a:ext cx="4924440" cy="3693960"/>
          </a:xfrm>
          <a:prstGeom prst="rect">
            <a:avLst/>
          </a:prstGeom>
          <a:ln w="0">
            <a:noFill/>
          </a:ln>
        </p:spPr>
      </p:sp>
      <p:sp>
        <p:nvSpPr>
          <p:cNvPr id="218"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800" spc="-1" strike="noStrike">
                <a:solidFill>
                  <a:srgbClr val="000000"/>
                </a:solidFill>
                <a:latin typeface="Times New Roman"/>
              </a:rPr>
              <a:t>Kapitola rozpočtu 5 – Nákup služeb souvisejících s realizací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ři čerpání finančních prostředků v rámci této kapitoly musejí mít příjemce a jeho případní partneři na paměti, že pro pořizování služeb souvisejících s realizací projektu platí obdobná pravidla jako v případě pořizování zařízení a vybavení. Příjemce musí před zahájením čerpání z této kapitoly posoudit, jaká je předpokládaná cena pořizovaných služeb obdobného charakteru a zda zakládá povinnost realizovat zadávací řízení podle pravidel OP VK uvedených v této Příručce či podle zákona č. 137/2006 Sb., o veřejných zakázkách.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daje spojené s nákupem služeb jsou způsobilé pouze za dodržení následujících podmínek:</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Dodávky veškerých služeb musejí být v souladu s cíli projektu a musejí přispívat k jejich naplňování.</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Dodávky služeb musejí bezprostředně souviset s realizací projektu (časově i místně).</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běr dodavatelů pro dodávky zboží, služeb a drobných stavebních prací musí být proveden v souladu s Postupy pro zadávání zakázek při pořizování zboží, služeb či stavebních prací z prostředků finanční podpory OP VK, uvedených v části 7 této příručky.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Dodavatelem služeb v rámci projektu nemůže být osoba, která má uzavřen pracovně právní vztah s příjemcem/partnerem, a výdaje na něj jsou hrazeny v rámci kapitoly rozpočtu 1 – Osobní výdaje související s realizací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Náklady jsou v rámci kapitoly dále členěny do položek:</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Publikace/školicí materiály/manuály</a:t>
            </a:r>
            <a:r>
              <a:rPr b="0" lang="cs-CZ" sz="800" spc="-1" strike="noStrike">
                <a:solidFill>
                  <a:srgbClr val="000000"/>
                </a:solidFill>
                <a:latin typeface="Times New Roman"/>
              </a:rPr>
              <a:t> – jedná se o nákup </a:t>
            </a:r>
            <a:r>
              <a:rPr b="1" lang="cs-CZ" sz="800" spc="-1" strike="noStrike">
                <a:solidFill>
                  <a:srgbClr val="000000"/>
                </a:solidFill>
                <a:latin typeface="Times New Roman"/>
              </a:rPr>
              <a:t>na zakázku vyvíjených nebo vytvářených </a:t>
            </a:r>
            <a:r>
              <a:rPr b="0" lang="cs-CZ" sz="800" spc="-1" strike="noStrike">
                <a:solidFill>
                  <a:srgbClr val="000000"/>
                </a:solidFill>
                <a:latin typeface="Times New Roman"/>
              </a:rPr>
              <a:t>publikací, školicích materiálů (učebnice, publikace, knihy, manuály, příručky) nebo multimediálních pomůcek. Již vydané, v obchodní síti běžně dostupné publikace a učebnice a další studijní materiály, které nejsou přímo vytvářeny pro projekt se zahrnují do kapitoly 3 do položky 3.3 Drobný hmotný majetek.</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Odborné služby/Studie a výzkum</a:t>
            </a:r>
            <a:r>
              <a:rPr b="0" lang="cs-CZ" sz="800" spc="-1" strike="noStrike">
                <a:solidFill>
                  <a:srgbClr val="000000"/>
                </a:solidFill>
                <a:latin typeface="Times New Roman"/>
              </a:rPr>
              <a:t> – zahrnuje výdaje na zpracování studií, analýz, sběr dat a zajištění dílčích výzkumných úkolů nezbytných pro realizaci projektu.</a:t>
            </a:r>
            <a:r>
              <a:rPr b="1" lang="cs-CZ" sz="800" spc="-1" strike="noStrike">
                <a:solidFill>
                  <a:srgbClr val="000000"/>
                </a:solidFill>
                <a:latin typeface="Times New Roman"/>
              </a:rPr>
              <a:t>	</a:t>
            </a:r>
            <a:r>
              <a:rPr b="0" lang="cs-CZ" sz="800" spc="-1" strike="noStrike">
                <a:solidFill>
                  <a:srgbClr val="000000"/>
                </a:solidFill>
                <a:latin typeface="Times New Roman"/>
              </a:rPr>
              <a:t>V této položce se také vykazuje zajištění účetnictví/mzdového účetnictví externím </a:t>
            </a:r>
            <a:r>
              <a:rPr b="0" lang="cs-CZ" sz="800" spc="-1" strike="noStrike">
                <a:solidFill>
                  <a:srgbClr val="000000"/>
                </a:solidFill>
                <a:latin typeface="Times New Roman"/>
              </a:rPr>
              <a:t>	</a:t>
            </a:r>
            <a:r>
              <a:rPr b="0" lang="cs-CZ" sz="800" spc="-1" strike="noStrike">
                <a:solidFill>
                  <a:srgbClr val="000000"/>
                </a:solidFill>
                <a:latin typeface="Times New Roman"/>
              </a:rPr>
              <a:t>dodavatele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Výdaje na konference/kurzy</a:t>
            </a:r>
            <a:r>
              <a:rPr b="0" lang="cs-CZ" sz="800" spc="-1" strike="noStrike">
                <a:solidFill>
                  <a:srgbClr val="000000"/>
                </a:solidFill>
                <a:latin typeface="Times New Roman"/>
              </a:rPr>
              <a:t> – zahrnuje výdaje na zajištění realizace konferencí nebo kurzů pořádaných v rámci projektu – školení nebo konference, do kterých budou zapojeni zástupci cílové skupiny, hostující účastníci nebo širší veřejnost. Tyto náklady pokrývají zpravidla zajištění pronájmu prostor, případně konferenční techniky apod. Náklady související s účastí pracovníků projektu na zahraničních školeních nebo konferencích jsou zahrnuty do Kapitoly 2 – Cestovní náhrad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Podpora účastníků (stravné, ubytování)</a:t>
            </a:r>
            <a:r>
              <a:rPr b="0" lang="cs-CZ" sz="800" spc="-1" strike="noStrike">
                <a:solidFill>
                  <a:srgbClr val="000000"/>
                </a:solidFill>
                <a:latin typeface="Times New Roman"/>
              </a:rPr>
              <a:t> – v této položce jsou zahrnuty výdaje spojené se zajištěním občerstvení a ubytování účastníků konferencí nebo kurzů, které jsou rozpočtované v předchozí položce. Ubytování účastníků je možné hradit jen cílové skupině nebo členům realizačního týmu. Stravné je možné poskytnout i dalším účastníkům akce, pokud bude zdůvodněna souvislost s realizací projektu. Stravné realizačního týmu je zahrnuto v rozpočtu v kapitole 2  - Cestovní náhrad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Cenový limit</a:t>
            </a:r>
            <a:r>
              <a:rPr b="0" lang="cs-CZ" sz="800" spc="-1" strike="noStrike">
                <a:solidFill>
                  <a:srgbClr val="000000"/>
                </a:solidFill>
                <a:latin typeface="Times New Roman"/>
              </a:rPr>
              <a:t> </a:t>
            </a:r>
            <a:r>
              <a:rPr b="1" lang="cs-CZ" sz="800" spc="-1" strike="noStrike">
                <a:solidFill>
                  <a:srgbClr val="000000"/>
                </a:solidFill>
                <a:latin typeface="Times New Roman"/>
              </a:rPr>
              <a:t>pro stravné</a:t>
            </a:r>
            <a:r>
              <a:rPr b="0" lang="cs-CZ" sz="800" spc="-1" strike="noStrike">
                <a:solidFill>
                  <a:srgbClr val="000000"/>
                </a:solidFill>
                <a:latin typeface="Times New Roman"/>
              </a:rPr>
              <a:t>, tedy občerstvení účastníků, je stanoven na 300 Kč na den a osobu v případě celodenní akce a zároveň je limitován případnými interními předpisy dané organizace. V případě, že se nebude jednat o celodenní akci (akce, která se odehraje v rámci jednoho dne a trvá minimálně 8 běžných hodin), musí být limitní částka v odpovídajícím poměru zkrácena. Do těchto výdajů patří i občerstvení těch osob, které nejsou cílovou skupinou ani realizačním týmem, ale jsou např. účastníky konferenc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Cenový limit pro ubytování v ČR</a:t>
            </a:r>
            <a:r>
              <a:rPr b="0" lang="cs-CZ" sz="800" spc="-1" strike="noStrike">
                <a:solidFill>
                  <a:srgbClr val="000000"/>
                </a:solidFill>
                <a:latin typeface="Times New Roman"/>
              </a:rPr>
              <a:t> – max. 1200 Kč za osobu a noc (případně nižší dle interních předpisů dané organizac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Jiné výdaje</a:t>
            </a:r>
            <a:r>
              <a:rPr b="0" lang="cs-CZ" sz="800" spc="-1" strike="noStrike">
                <a:solidFill>
                  <a:srgbClr val="000000"/>
                </a:solidFill>
                <a:latin typeface="Times New Roman"/>
              </a:rPr>
              <a:t> – výdaje na právní poradenství, znalecké posudky, na administraci veřejných zakázek podle zákona č. 137/2006 Sb., o veřejných zakázkách, zajišťovanou externím dodavatelem (nevztahuje se na administraci zakázek malého rozsahu) a další výše nespecifikované služby, pokud přímo souvisejí s činnostmi projektu a pokud jsou nezbytné pro jeho realizaci.</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Celkové výdaje v rámci této kapitoly rozpočtu nesmějí převýšit 49 % celkových způsobilých výdajů projektu, pokud poskytovatel podpory nestanoví na základě výjimky jinak </a:t>
            </a:r>
            <a:r>
              <a:rPr b="0" lang="cs-CZ" sz="800" spc="-1" strike="noStrike">
                <a:solidFill>
                  <a:srgbClr val="000000"/>
                </a:solidFill>
                <a:latin typeface="Times New Roman"/>
              </a:rPr>
              <a:t>(tato výjimka by musela být zakotvena již ve výzvě k předkládání projektů a po schválení projektu v právním aktu uzavřeném s poskytovatelem podpory). Limit 49 % pro tuto kapitolu se vztahuje i na způsobilé výdaje při závěrečném vyúčtování.</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p:txBody>
      </p:sp>
      <p:sp>
        <p:nvSpPr>
          <p:cNvPr id="219"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A9389E5-A449-4D69-87C5-398344BEA76D}"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896760" y="743040"/>
            <a:ext cx="4924440" cy="3693960"/>
          </a:xfrm>
          <a:prstGeom prst="rect">
            <a:avLst/>
          </a:prstGeom>
          <a:ln w="0">
            <a:noFill/>
          </a:ln>
        </p:spPr>
      </p:sp>
      <p:sp>
        <p:nvSpPr>
          <p:cNvPr id="221" name="PlaceHolder 2"/>
          <p:cNvSpPr>
            <a:spLocks noGrp="1"/>
          </p:cNvSpPr>
          <p:nvPr>
            <p:ph type="body"/>
          </p:nvPr>
        </p:nvSpPr>
        <p:spPr>
          <a:xfrm>
            <a:off x="676080" y="4686120"/>
            <a:ext cx="5337000" cy="44370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cs-CZ" sz="800" spc="-1" strike="noStrike">
              <a:solidFill>
                <a:srgbClr val="000000"/>
              </a:solidFill>
              <a:latin typeface="Times New Roman"/>
            </a:endParaRPr>
          </a:p>
        </p:txBody>
      </p:sp>
      <p:sp>
        <p:nvSpPr>
          <p:cNvPr id="222"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A15E8BE-B48B-40A1-BA8C-2AAEE6A040F4}"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896760" y="743040"/>
            <a:ext cx="4924440" cy="3693960"/>
          </a:xfrm>
          <a:prstGeom prst="rect">
            <a:avLst/>
          </a:prstGeom>
          <a:ln w="0">
            <a:noFill/>
          </a:ln>
        </p:spPr>
      </p:sp>
      <p:sp>
        <p:nvSpPr>
          <p:cNvPr id="224"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800" spc="-1" strike="noStrike">
                <a:solidFill>
                  <a:srgbClr val="000000"/>
                </a:solidFill>
                <a:latin typeface="Times New Roman"/>
              </a:rPr>
              <a:t>Kapitola rozpočtu 6 – Stavební úpravy související s realizací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Součástí projektu mohou být drobné stavební úpravy, které bezprostředně souvisejí s realizovaným projekte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oložky rozpočtu v této kapitol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Drobné stavební úpravy</a:t>
            </a:r>
            <a:r>
              <a:rPr b="0" lang="cs-CZ" sz="800" spc="-1" strike="noStrike">
                <a:solidFill>
                  <a:srgbClr val="000000"/>
                </a:solidFill>
                <a:latin typeface="Times New Roman"/>
              </a:rPr>
              <a:t> – Podmínkou způsobilosti těchto výdajů je, že nesmějí přesáhnout částku za všechny dokončené stavební úpravy v jednom zdaňovacím období v úhrnu 40 000 Kč (pořizovací cena) na každou jednotlivou účetní položku majetku. Stavební úprava musí být provedena v souvislosti s úpravou pracovního místa pro osoby se zdravotním postižením nebo úpravou přístupu pro osoby se zdravotním postižením nebo úpravou výukových, tréninkových nebo pracovních prostor používaných na realizaci aktivit s cílovou skupino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Stavební úpravy v rámci křížového financování</a:t>
            </a:r>
            <a:r>
              <a:rPr b="0" lang="cs-CZ" sz="800" spc="-1" strike="noStrike">
                <a:solidFill>
                  <a:srgbClr val="000000"/>
                </a:solidFill>
                <a:latin typeface="Times New Roman"/>
              </a:rPr>
              <a:t> – stavební úpravy, pokud převýšily u jednotlivého majetku v úhrnu ve zdaňovacím období částku 40 000 Kč (pořizovací cena) spadají do této položk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Jedná se o</a:t>
            </a:r>
            <a:r>
              <a:rPr b="1" lang="cs-CZ" sz="800" spc="-1" strike="noStrike">
                <a:solidFill>
                  <a:srgbClr val="000000"/>
                </a:solidFill>
                <a:latin typeface="Times New Roman"/>
              </a:rPr>
              <a:t> </a:t>
            </a:r>
            <a:r>
              <a:rPr b="0" lang="cs-CZ" sz="800" spc="-1" strike="noStrike">
                <a:solidFill>
                  <a:srgbClr val="000000"/>
                </a:solidFill>
                <a:latin typeface="Times New Roman"/>
              </a:rPr>
              <a:t>stavební úpravy, které jsou rekonstrukcí nebo modernizací, pokud převýšily u jednotlivého majetku v úhrnu ve zdaňovacím období částku 40 000 Kč, a jsou prováděny za účelem usnadnění přístupu a pohybu osobám zdravotně postiženým, nebo úpravy výukových, vzdělávacích či pracovních prostor používaných na realizaci aktivit s cílovou skupino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Stavební úpravy nad 40 000 Kč lze provádět pouze na majetku příjemce, případně partnerů projektu, nikoli na majetku, který má příjemce/partneři v pronájm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V případě škol a školských zařízení je možné stavební úpravy nad 40 000 Kč realizovat na majetku zřizovatel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Za stavební úpravy v rámci křížového financování nelze považovat:</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daje za stavební úpravy, které jsou rekonstrukcí nebo modernizací, pokud nepřevýšily u jednotlivého majetku v úhrnu ve zdaňovacím období částku 40 000 Kč;</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daje za stavební úpravy, které jsou rekonstrukcí nebo modernizací, pokud převýšily u jednotlivého majetku v úhrnu ve zdaňovacím období částku 40 000 Kč, a jejichž účelem </a:t>
            </a:r>
            <a:r>
              <a:rPr b="1" lang="cs-CZ" sz="800" spc="-1" strike="noStrike">
                <a:solidFill>
                  <a:srgbClr val="000000"/>
                </a:solidFill>
                <a:latin typeface="Times New Roman"/>
              </a:rPr>
              <a:t>není</a:t>
            </a:r>
            <a:r>
              <a:rPr b="0" lang="cs-CZ" sz="800" spc="-1" strike="noStrike">
                <a:solidFill>
                  <a:srgbClr val="000000"/>
                </a:solidFill>
                <a:latin typeface="Times New Roman"/>
              </a:rPr>
              <a:t> usnadnění přístupu a pohybu osobám zdravotně postiženým, nebo úpravy výukových, tréninkových a pracovních prostor používaných na realizaci aktivit s cílovou skupinou, ale např. pouze úprava prostor kanceláře projektu apod.</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projektů, jejichž součástí budou stavební úpravy, rekonstrukce či modernizace, je nezbytné, aby tyto záměry byly v souladu s platnou územně plánovací dokumentací kraje a příslušných obcí, jak to stanoví např. § 43 odst. 5 zákona č. 183/2006 Sb., o územním plánování a stavebním řádu (stavební zákon), ve znění pozdějších předpisů, pokud se na tyto projekty vztahují.</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pro realizaci projektu je třeba vydat rozhodnutí o umístění stavby (příp. územní souhlas nebo obdobný doklad dle stavebního zákona), žadatel musí tyto doklady doložit již k žádosti.</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pro realizaci projektu je třeba stavební povolení nebo ohlášení stavby, pak je nutno doložit pravomocné stavební povolení nebo ohlášení stavby nebo obdobný doklad dle stavebního zákona, na jehož základě lze projekt realizovat nejpozději s žádostí o platbu, ve které jsou poprvé zahrnuty výdaje související se stavbo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pro realizaci stavebních úprav není třeba stavební povolení nebo ohlášení stavby ani obdobný doklad dle stavebního zákona, pak žadatel doloží čestné prohlášení žadatele, že na daný projekt není dle zákona č. 183/2006 Sb., o územním plánování a stavebním řádu (stavební zákon), ve znění pozdějších předpisů, zapotřebí stavební povolení, ohlášení ani obdobný doklad dle stavebního zákona.</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příjemce/partner majetek odepisuje, a proto nevyužívá křížové financování, zařadí odpisy výše uvedených stavebních úprav (pokud převýšily u jednotlivého majetku v úhrnu ve zdaňovacím období částku 40 000 Kč), do podkapitoly 6.3 Stavební úpravy -  odpisy.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DPH je součástí pořizovací ceny u neplátců DPH, u plátců je to pouze ta část, u níž není nárok na odpočet na vstup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Účetní položka majetku – stanovena prováděcími vyhláškami  k zákonu o účetnictví (vyhlášky č. 500/2002 Sb., č. 504/2002 Sb., č. 505/2002 Sb.)</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Rekonstrukcí se rozumí zásahy do majetku, které mají za následek změnu jeho účelu nebo technických parametrů. Za změnu technických parametrů se nepovažuje pouhá záměna použitého materiál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Modernizací se rozumí rozšíření vybavenosti nebo použitelnosti majetk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p:txBody>
      </p:sp>
      <p:sp>
        <p:nvSpPr>
          <p:cNvPr id="225"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62E1FAC-0E7A-4F61-B1CF-71E0BB138A52}"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896760" y="743040"/>
            <a:ext cx="4924440" cy="3693960"/>
          </a:xfrm>
          <a:prstGeom prst="rect">
            <a:avLst/>
          </a:prstGeom>
          <a:ln w="0">
            <a:noFill/>
          </a:ln>
        </p:spPr>
      </p:sp>
      <p:sp>
        <p:nvSpPr>
          <p:cNvPr id="227"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700" spc="-1" strike="noStrike">
                <a:solidFill>
                  <a:srgbClr val="000000"/>
                </a:solidFill>
                <a:latin typeface="Times New Roman"/>
              </a:rPr>
              <a:t>Kapitola rozpočtu 7 – Přímá podpora</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Tato kapitola zahrnuje výdaje týkající se přímo cílové skupiny projektu, jedná se ted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o výdaje spojené se zapojením cílové skupiny do projektových aktivit.</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Mzdové příspěvky</a:t>
            </a:r>
            <a:r>
              <a:rPr b="0" lang="cs-CZ" sz="700" spc="-1" strike="noStrike">
                <a:solidFill>
                  <a:srgbClr val="000000"/>
                </a:solidFill>
                <a:latin typeface="Times New Roman"/>
              </a:rPr>
              <a:t> – jsou poskytovány zaměstnavateli jako náhrada části mzdových nákladů</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ve výši hrubé mzdy včetně zákonných odvodů) na jejich pracovníka po dobu jeho účasti na</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dalším vzdělávání. Mzdové náhrady se v rámci programu OP VK mohou týkat pouze pedagogických,</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akademických a dalších pracovníků ve školství a mohou být poskytovány maximálně do výše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70 % skutečně vyplacených mzdových nákladů</a:t>
            </a:r>
            <a:r>
              <a:rPr b="0" lang="cs-CZ" sz="700" spc="-1" strike="noStrike">
                <a:solidFill>
                  <a:srgbClr val="000000"/>
                </a:solidFill>
                <a:latin typeface="Times New Roman"/>
              </a:rPr>
              <a:t> (tj. hrubé mzdy včetně zákonných odvodů),</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1" lang="cs-CZ" sz="700" spc="-1" strike="noStrike">
                <a:solidFill>
                  <a:srgbClr val="000000"/>
                </a:solidFill>
                <a:latin typeface="Times New Roman"/>
              </a:rPr>
              <a:t>nejvýše však do výše číselně odpovídající dvojnásobku minimální mzdy platné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v době konání školení. </a:t>
            </a:r>
            <a:r>
              <a:rPr b="0" lang="cs-CZ" sz="700" spc="-1" strike="noStrike">
                <a:solidFill>
                  <a:srgbClr val="000000"/>
                </a:solidFill>
                <a:latin typeface="Times New Roman"/>
              </a:rPr>
              <a:t>Tato náhrada se vyplácí zaměstnavateli pouze za dobu (v hodinách),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kdy se školené osoby skutečně účastnily školení. Cesta na školení a zpět se do této doby nezapočítává.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Zbývajících 30 % není uznatelným nákladem a hradí je zaměstnavatel, který účastníka na školení vyslal.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Mzdové příspěvky se poskytují pouze na pracovníka účastnícího se projektových aktivi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nikoli na pracovníka, který v průběhu nepřítomnosti tohoto pracovníka vykonává</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jeho práci jako náhradník/zástupce).</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Cestovné, ubytování a stravné</a:t>
            </a:r>
            <a:r>
              <a:rPr b="0" lang="cs-CZ" sz="700" spc="-1" strike="noStrike">
                <a:solidFill>
                  <a:srgbClr val="000000"/>
                </a:solidFill>
                <a:latin typeface="Times New Roman"/>
              </a:rPr>
              <a:t> – v programu OP VK je možné použít přímou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odporu na pokrytí nákladů spojených s realizací praxí, stáží, exkurzí a vícedenních</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vzdělávacích pobytů, kdy je jednorázově hrazeno ubytování, cestovné a stravné.</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Tyto výdaje budou uznány jako způsobilé pouze v případě, pokud vzniknou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říjemci při realizaci projektu. Výdaje spojené se zahraničními praxemi a stážemi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mimo země EU a ESVO jsou způsobilé jen ve výjimečných případech, vyžaduje-li</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to podstata projekt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U účastníků kurzů, kteří jsou na školení vysíláni na základě cestovního příkazu zaměstnavatelem,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se kterým má příjemce dotace uzavřenou smlouvu o vzdělávání, je možné prokazovat a propláce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jízdné, ubytování a stravné podle zákoníku práce. Zaměstnavatel je povinen příjemci podpor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předložit rozpis cestovních náhrad za své zaměstnance a doložit jej kopiemi příslušných dokladů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cestovní příkaz, jízdenky, doklady o ubytování apod.).</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V případě cestovného dětí, žáků a studentů se cestovné vyúčtovává na základě doložených jízdních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výdajů a stravné podle podmínek uvedených dále. Hradí se pouze ta část výdajů, která přímo souvisí</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s realizací projektu, tedy ta část, která by např. vznikla studentům/žákům v rámci odborné praxe při</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dojíždění do jiného místa, než kde sídlí jejich škola.</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V případě žáků/studentů se za adekvátní ubytování v souvislosti s realizací projektu pokládá ubytování</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v rodinách, v internátech, hostelech, turistických ubytovnách nebo na VŠ kolejích (jiných, než kde je</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žák/student běžně ubytován).</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římou podporu lze poskytnout jen na úhradu skutečně vynaložených nákladů na účastníky projekt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 </a:t>
            </a:r>
            <a:r>
              <a:rPr b="0" lang="cs-CZ" sz="700" spc="-1" strike="noStrike">
                <a:solidFill>
                  <a:srgbClr val="000000"/>
                </a:solidFill>
                <a:latin typeface="Times New Roman"/>
              </a:rPr>
              <a:t>zástupce cílových skupin.</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Jako přímou podporu účastníkům projektů je možné hradit jejich:</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jízdní výdaje </a:t>
            </a:r>
            <a:r>
              <a:rPr b="0" lang="cs-CZ" sz="700" spc="-1" strike="noStrike">
                <a:solidFill>
                  <a:srgbClr val="000000"/>
                </a:solidFill>
                <a:latin typeface="Times New Roman"/>
              </a:rPr>
              <a:t>(např. na základě předložených cestovních dokladů pro hromadnou dopravu ve</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2. třídě, nebo na základě vyúčtování předloženého dopravcem). V případě použití vozidla jsou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způsobilé výdaje omezeny částkou odpovídající jízdence 2. třídy hromadné dopravy násobené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očtem osob, které se v autě přepravovaly. Výjimku tvoří použití vozidla v případě, že bude doloženo,</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že hromadnou dopravu nebylo možno použít, např. při přepravě handicapovaných osob nebo když</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jízdní řády hromadné dopravy nenabízejí vhodný použitelný spoj.</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ubytování </a:t>
            </a:r>
            <a:r>
              <a:rPr b="0" lang="cs-CZ" sz="700" spc="-1" strike="noStrike">
                <a:solidFill>
                  <a:srgbClr val="000000"/>
                </a:solidFill>
                <a:latin typeface="Times New Roman"/>
              </a:rPr>
              <a:t>–</a:t>
            </a:r>
            <a:r>
              <a:rPr b="1" lang="cs-CZ" sz="700" spc="-1" strike="noStrike">
                <a:solidFill>
                  <a:srgbClr val="000000"/>
                </a:solidFill>
                <a:latin typeface="Times New Roman"/>
              </a:rPr>
              <a:t> </a:t>
            </a:r>
            <a:r>
              <a:rPr b="0" lang="cs-CZ" sz="700" spc="-1" strike="noStrike">
                <a:solidFill>
                  <a:srgbClr val="000000"/>
                </a:solidFill>
                <a:latin typeface="Times New Roman"/>
              </a:rPr>
              <a:t>zástupcům cílových skupin</a:t>
            </a:r>
            <a:r>
              <a:rPr b="1" lang="cs-CZ" sz="700" spc="-1" strike="noStrike">
                <a:solidFill>
                  <a:srgbClr val="000000"/>
                </a:solidFill>
                <a:latin typeface="Times New Roman"/>
              </a:rPr>
              <a:t> </a:t>
            </a:r>
            <a:r>
              <a:rPr b="0" lang="cs-CZ" sz="700" spc="-1" strike="noStrike">
                <a:solidFill>
                  <a:srgbClr val="000000"/>
                </a:solidFill>
                <a:latin typeface="Times New Roman"/>
              </a:rPr>
              <a:t>je možné hradit výdaje v úrovni cen v místě obvyklých,</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v ČR nejvýše však 1200 Kč za osobu a noc, případně cenu nižší dle interních předpisů dané organizace.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ři ubytování v zahraničí se u dospělých osob pokládá za adekvátní ubytování v hotelu nejvýše kategorie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u žáků a studentů se za vhodné pokládá ubytování v rodinách, hostelech, internátech,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turistických ubytovnách nebo VŠ kolejích;</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stravné</a:t>
            </a:r>
            <a:r>
              <a:rPr b="0" lang="cs-CZ" sz="700" spc="-1" strike="noStrike">
                <a:solidFill>
                  <a:srgbClr val="000000"/>
                </a:solidFill>
                <a:latin typeface="Times New Roman"/>
              </a:rPr>
              <a:t> – lze hradit nejvýše do úrovně 300 Kč na osobu za celodenní stravování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okud interní předpisy příjemce nestanoví nižší limit). Lze hradit též stravování v soulad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se zákoníkem práce č. 262/2006 Sb. Pouze v odůvodněných případech (pouze pokud není možné</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zabezpečit stravování jiným způsobem) můžou být poskytnuty stravenky v odpovídající výši.</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ři vyúčtování zahraničních pracovních cest se postupuje podle vyhlášky ministerstva financí</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o základních sazbách stravného v cizí měně platné pro daný rok.</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ři proplácení přímé podpory cílovým skupinám je třeba dokládat jednotlivé částky adekvátními</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výdajovými doklady s podpisy podpořených osob.</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Doprovodné aktivity</a:t>
            </a:r>
            <a:r>
              <a:rPr b="0" lang="cs-CZ" sz="700" spc="-1" strike="noStrike">
                <a:solidFill>
                  <a:srgbClr val="000000"/>
                </a:solidFill>
                <a:latin typeface="Times New Roman"/>
              </a:rPr>
              <a:t> – z této položky je možné hradit výdaje spojené se zajištěním asistenta/</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asistentských služeb poskytovaných přímo zástupcům cílových skupin, např. žákům se speciálními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otřebami, handicapovaným apod., dále pak i pro úhradu nutných nákladů (ve výši místně obvyklé)</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spojených s péčí o děti nebo jiné závislé osoby tak, aby se tato osoba mohla zapojit do aktivit projektu.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Tyto služby budou poskytovány na základě smlouvy uzavřené mezi příjemcem a poskytovatelem asistentské služb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Výdaje na přímou podporu jednotlivců mohou být poskytovány nejvýše do úrovně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20 % celkových způsobilých výdajů projektu. Limit 20 % platí i pro způsobilé výdaje</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 </a:t>
            </a:r>
            <a:r>
              <a:rPr b="1" lang="cs-CZ" sz="700" spc="-1" strike="noStrike">
                <a:solidFill>
                  <a:srgbClr val="000000"/>
                </a:solidFill>
                <a:latin typeface="Times New Roman"/>
              </a:rPr>
              <a:t>při závěrečném vyúčtování projekt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700" spc="-1" strike="noStrike">
              <a:solidFill>
                <a:srgbClr val="000000"/>
              </a:solidFill>
              <a:latin typeface="Times New Roman"/>
            </a:endParaRPr>
          </a:p>
        </p:txBody>
      </p:sp>
      <p:sp>
        <p:nvSpPr>
          <p:cNvPr id="228"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A3FED52-CFCE-4F77-A663-119D0FB3297B}"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 Box 1"/>
          <p:cNvSpPr/>
          <p:nvPr/>
        </p:nvSpPr>
        <p:spPr>
          <a:xfrm>
            <a:off x="990720" y="7491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7" name="PlaceHolder 1"/>
          <p:cNvSpPr>
            <a:spLocks noGrp="1"/>
          </p:cNvSpPr>
          <p:nvPr>
            <p:ph type="body"/>
          </p:nvPr>
        </p:nvSpPr>
        <p:spPr>
          <a:xfrm>
            <a:off x="676440" y="4686480"/>
            <a:ext cx="5410080" cy="4722480"/>
          </a:xfrm>
          <a:prstGeom prst="rect">
            <a:avLst/>
          </a:prstGeom>
          <a:noFill/>
          <a:ln w="0">
            <a:noFill/>
          </a:ln>
        </p:spPr>
        <p:txBody>
          <a:bodyPr lIns="0" rIns="0" tIns="358200" bIns="0" anchor="ctr">
            <a:noAutofit/>
          </a:bodyPr>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Rozpočet projektu, tedy výdaje, které jsou schváleny pro projekt a jsou uvedeny</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r>
              <a:rPr b="0" lang="cs-CZ" sz="1000" spc="-1" strike="noStrike">
                <a:solidFill>
                  <a:srgbClr val="000000"/>
                </a:solidFill>
                <a:latin typeface="Times New Roman"/>
              </a:rPr>
              <a:t>v právním aktu, vycházejí z rozpočtu, který příjemce předložil v projektové žádosti,</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r>
              <a:rPr b="0" lang="cs-CZ" sz="1000" spc="-1" strike="noStrike">
                <a:solidFill>
                  <a:srgbClr val="000000"/>
                </a:solidFill>
                <a:latin typeface="Times New Roman"/>
              </a:rPr>
              <a:t>a z případných dalších úprav rozpočtu, které navrhla a schválila Výběrová komise,</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r>
              <a:rPr b="0" lang="cs-CZ" sz="1000" spc="-1" strike="noStrike">
                <a:solidFill>
                  <a:srgbClr val="000000"/>
                </a:solidFill>
                <a:latin typeface="Times New Roman"/>
              </a:rPr>
              <a:t>či které požadoval poskytovatel podpory na základě hodnocení projektu před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vydáním nebo podpisem právního aktu. Tento rozpočet je kvalifikovaným odhadem</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r>
              <a:rPr b="0" lang="cs-CZ" sz="1000" spc="-1" strike="noStrike">
                <a:solidFill>
                  <a:srgbClr val="000000"/>
                </a:solidFill>
                <a:latin typeface="Times New Roman"/>
              </a:rPr>
              <a:t>výdajů projektu a je pravděpodobné, že v průběhu realizace projektu dojde</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r>
              <a:rPr b="0" lang="cs-CZ" sz="1000" spc="-1" strike="noStrike">
                <a:solidFill>
                  <a:srgbClr val="000000"/>
                </a:solidFill>
                <a:latin typeface="Times New Roman"/>
              </a:rPr>
              <a:t>k určitým odchylkám. Proto musí příjemce počítat s tím, že skutečná výše</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r>
              <a:rPr b="0" lang="cs-CZ" sz="1000" spc="-1" strike="noStrike">
                <a:solidFill>
                  <a:srgbClr val="000000"/>
                </a:solidFill>
                <a:latin typeface="Times New Roman"/>
              </a:rPr>
              <a:t>prostředků na úhradu způsobilých výdajů projektu bude vypočítána až při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schvalování žádosti o závěrečnou platbu (schválená výše celkových způsobilých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výdajů však nesmí být vyšší než maximální výše podpory uvedená v právním aktu).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Celkový schválený rozpočet projektu je závazný a nelze jej překročit.</a:t>
            </a:r>
            <a:r>
              <a:rPr b="0" lang="cs-CZ"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okud jsou v následující části stanoveny pro jednotlivé kapitoly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odkapitoly či položky) omezující limity, musí být tyto limity dodrženy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jak při sestavování rozpočtu, tak při závěrečném vyúčtování projektu.</a:t>
            </a:r>
            <a:r>
              <a:rPr b="0" lang="cs-CZ"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Z toho plyne, že když některé položky schváleného rozpočtu nebudou do konce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realizace projektu dočerpány, sníží se tak celkový rozpočet projektu a tudíž i způsobilá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výše položek, které jsou omezeny příslušnými limity. Limity rozpočtu musí být dodrženy t</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aké vždy při provádění podstatných či nepodstatných změn rozpočt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Při přečerpání stanovených limitů, nebo když kontrolou poskytovatel označí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výdaj jako nezpůsobilý a tento výdaj nebude proplacen, což bude mít za následek</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k snížení celkové sumy způsobilých výdajů při závěrečném vyúčtování projektu a</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 </a:t>
            </a:r>
            <a:r>
              <a:rPr b="1" lang="cs-CZ" sz="1000" spc="-1" strike="noStrike">
                <a:solidFill>
                  <a:srgbClr val="000000"/>
                </a:solidFill>
                <a:latin typeface="Times New Roman"/>
              </a:rPr>
              <a:t>tedy nedodržení stanovených limitů, je částka, o kterou jsou tyto limity přečerpány,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považována za nezpůsobilý výdaj, a nemůže být součástí proplacené podpory.</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V případě, že při realizaci projektu nedojde k vyčerpání schválené částky podpory,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nemá příjemce na tuto nevyčerpanou částku nárok a nemůže ji vůči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poskytovateli podpory uplatňovat ve vyúčtování projekt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896760" y="743040"/>
            <a:ext cx="4924440" cy="3693960"/>
          </a:xfrm>
          <a:prstGeom prst="rect">
            <a:avLst/>
          </a:prstGeom>
          <a:ln w="0">
            <a:noFill/>
          </a:ln>
        </p:spPr>
      </p:sp>
      <p:sp>
        <p:nvSpPr>
          <p:cNvPr id="230"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1100" spc="-1" strike="noStrike">
                <a:solidFill>
                  <a:srgbClr val="000000"/>
                </a:solidFill>
                <a:latin typeface="Times New Roman"/>
              </a:rPr>
              <a:t>Kapitola rozpočtu 8 – Náklady vyplývající přímo ze Smlouvy/Opatření/ Rozhodnutí</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Z této kapitoly rozpočtu jsou hrazeny veškeré výdaje projektu, které souvisejí s povinnostmi </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říjemce stanovenými právním aktem uzavřeným s poskytovatelem podpory, které by však </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říjemci nevznikly, pokud by projekt realizoval bez finanční podpory OP VK. Tyto náklady jsou </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způsobilé v případě, že splňují podmínky dané programem OP VK.</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100" spc="-1" strike="noStrike">
                <a:solidFill>
                  <a:srgbClr val="000000"/>
                </a:solidFill>
                <a:latin typeface="Times New Roman"/>
              </a:rPr>
              <a:t>Audit projektu</a:t>
            </a:r>
            <a:r>
              <a:rPr b="0" lang="cs-CZ" sz="1100" spc="-1" strike="noStrike">
                <a:solidFill>
                  <a:srgbClr val="000000"/>
                </a:solidFill>
                <a:latin typeface="Times New Roman"/>
              </a:rPr>
              <a:t> – v případě, že schválená podpora je rovna 3 000 000 Kč nebo vyšší, je příjemce</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povinen zadat vybrané auditorské firmě (fyzické či právnické osobě) zpracování závěrečného auditu.</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říjemce musí nejpozději 6 měsíců před ukončením projektu podle právního aktu vybrat vhodného </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auditora (musí se jednat o auditora nebo o auditorskou firmu, kteří jsou zapsáni v Komoře auditorů ČR)</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a uzavřít s ním smlouvu o provedení závěrečného auditu.</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Finanční dokumentace projektu je poměrně rozsáhlá a cenové relace se u jednotlivých auditorů mohou lišit, proto je vhodné obeznámit auditora s předpokládaným rozsahem dokladů a s podmínkami programu, pro který je projekt auditován. V případě, že částka odhadovaná při přípravě projektové žádosti se liší od aktuálního cenového návrhu auditora, je vhodné co nejdříve provést změnu rozpočtu, která částku v této položce vyrovná a umožní uhradit náklady spojené s povinným auditem.</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100" spc="-1" strike="noStrike">
                <a:solidFill>
                  <a:srgbClr val="000000"/>
                </a:solidFill>
                <a:latin typeface="Times New Roman"/>
              </a:rPr>
              <a:t>Publicita </a:t>
            </a:r>
            <a:r>
              <a:rPr b="0" lang="cs-CZ" sz="1100" spc="-1" strike="noStrike">
                <a:solidFill>
                  <a:srgbClr val="000000"/>
                </a:solidFill>
                <a:latin typeface="Times New Roman"/>
              </a:rPr>
              <a:t>– v této položce je možno čerpat finanční prostředky na veškeré aktivity spojené se zajištěním povinné publicity projektu a OP VK. Tyto aktivity příjemce již předem definoval v projektové žádosti a je k jejich zajištění zavázán i právním aktem uzavřeným mezi jím a poskytovatelem podpory.</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100" spc="-1" strike="noStrike">
                <a:solidFill>
                  <a:srgbClr val="000000"/>
                </a:solidFill>
                <a:latin typeface="Times New Roman"/>
              </a:rPr>
              <a:t>Ostatní</a:t>
            </a:r>
            <a:r>
              <a:rPr b="0" lang="cs-CZ" sz="1100" spc="-1" strike="noStrike">
                <a:solidFill>
                  <a:srgbClr val="000000"/>
                </a:solidFill>
                <a:latin typeface="Times New Roman"/>
              </a:rPr>
              <a:t> – tato položka zahrnuje nezbytné další výdaje spojené s realizací projektu. Jedná se o správní poplatky, notářské poplatky, které jsou pro realizaci projektu nezbytné. Dále sem např. spadají také poplatky za zřízení a vedení zvláštního samostatného účtu projektu. V souvislosti se samostatným účtem projektu do způsobilých výdajů patří výdaje za vedení účtu nebo účtů a za finanční transakce na tomto účtu (včetně případných poplatků za zřízení platební karty k projektovému účtu). </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Výdaje za zřízení projektového účtu a za vedení tohoto účtu v období mezi zřízením účtu a zahájením projektu podle právního aktu nejsou způsobilé.</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Do vyúčtování lze zahrnout výdaje za vedení projektového účtu, které vznikly v době po ukončení projektu podle právního aktu do předložení závěrečné monitorovací zprávy a závěrečné žádosti o platbu.</a:t>
            </a:r>
            <a:endParaRPr b="0" lang="en-US" sz="1100" spc="-1" strike="noStrike">
              <a:solidFill>
                <a:srgbClr val="000000"/>
              </a:solidFill>
              <a:latin typeface="Times New Roman"/>
            </a:endParaRPr>
          </a:p>
        </p:txBody>
      </p:sp>
      <p:sp>
        <p:nvSpPr>
          <p:cNvPr id="231"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DAC7B86-02FE-48E4-9270-E321C4D08487}"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896760" y="743040"/>
            <a:ext cx="4924440" cy="3693960"/>
          </a:xfrm>
          <a:prstGeom prst="rect">
            <a:avLst/>
          </a:prstGeom>
          <a:ln w="0">
            <a:noFill/>
          </a:ln>
        </p:spPr>
      </p:sp>
      <p:sp>
        <p:nvSpPr>
          <p:cNvPr id="233"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Samostatný účet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řed poskytnutím podpory, resp. ještě v procesu před uzavřením právního aktu o poskytnutí podpory je příjemce povinen zřídit </a:t>
            </a:r>
            <a:r>
              <a:rPr b="1" lang="cs-CZ" sz="800" spc="-1" strike="noStrike">
                <a:solidFill>
                  <a:srgbClr val="000000"/>
                </a:solidFill>
                <a:latin typeface="Times New Roman"/>
              </a:rPr>
              <a:t>samostatný bankovní účet/podúčet (dále projektový účet)</a:t>
            </a:r>
            <a:r>
              <a:rPr b="0" lang="cs-CZ" sz="800" spc="-1" strike="noStrike">
                <a:solidFill>
                  <a:srgbClr val="000000"/>
                </a:solidFill>
                <a:latin typeface="Times New Roman"/>
              </a:rPr>
              <a:t>, který po celou dobu slouží výhradně pro platební operace související s projektem. </a:t>
            </a:r>
            <a:r>
              <a:rPr b="1" lang="cs-CZ" sz="800" spc="-1" strike="noStrike">
                <a:solidFill>
                  <a:srgbClr val="000000"/>
                </a:solidFill>
                <a:latin typeface="Times New Roman"/>
              </a:rPr>
              <a:t>K tomuto kroku musí také zavázat své projektové partnery s finančním příspěvke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projektů, jejichž realizátorem (tj. příjemcem) je příspěvková nebo rozpočtová organizace a poskytovatel podpory není zároveň jejím zřizovatelem, budou prostředky poskytnuty prostřednictvím zřizovatele.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daje spojené s vedením projektového účtu jsou způsobilé, kromě počátečního vkladu na projektový účet vloženého příjemcem při jeho založení. Tento výdaj není součástí rozpočtu projektu a nezapočítává se mezi jeho příjmy. Součástí rozpočtu nejsou také výdaje spojené s vedením projektového účtu v mezidobí mezi založením projektového účtu a zahájením projektu podle podmínek právního a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Je však možné, aby si příjemce nárokoval jako způsobilé výdaje i bankovní poplatky k projektovému účtu za období po ukončení realizace projektu, a to do data předložení závěrečné monitorovací zprávy se závěrečnou žádostí o platb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Tento účet může být založen u jakékoli banky oprávněné působit v České republice a musí být veden výhradně v měně CZK.</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Dispoziční právo k tomuto účtu mohou mít pouze pracovníci pověření příjemcem podpory (např. hlavní manažer projektu, finanční manažer).</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ro účely finančního výkaznictví projektu je důležité, aby si příjemce zajistil </a:t>
            </a:r>
            <a:r>
              <a:rPr b="1" lang="cs-CZ" sz="800" spc="-1" strike="noStrike">
                <a:solidFill>
                  <a:srgbClr val="000000"/>
                </a:solidFill>
                <a:latin typeface="Times New Roman"/>
              </a:rPr>
              <a:t>zasílání měsíčních výpisů z projektového účtu vždy k poslednímu dni každého měsíce nebo ke dni, ke kterému bude vykazovat vyúčtování projektu</a:t>
            </a:r>
            <a:r>
              <a:rPr b="0" lang="cs-CZ" sz="800" spc="-1" strike="noStrike">
                <a:solidFill>
                  <a:srgbClr val="000000"/>
                </a:solidFill>
                <a:latin typeface="Times New Roman"/>
              </a:rPr>
              <a:t> (předkládat monitorovací zpráv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Samostatný účet projektu nesmí příjemce zrušit dříve, než dojde k finančnímu vypořádání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Příjemce nesmí využívat finanční prostředky podpory, které obdrží od poskytovatele podpory formou zálohových plateb nebo průběžných plateb a které jsou určeny na realizaci projektu jiným způsobem, než jak je stanoveno v právním aktu o poskytnutí podpory.</a:t>
            </a:r>
            <a:r>
              <a:rPr b="0" lang="cs-CZ" sz="800" spc="-1" strike="noStrike">
                <a:solidFill>
                  <a:srgbClr val="000000"/>
                </a:solidFill>
                <a:latin typeface="Times New Roman"/>
              </a:rPr>
              <a:t> </a:t>
            </a:r>
            <a:r>
              <a:rPr b="1" lang="cs-CZ" sz="800" spc="-1" strike="noStrike">
                <a:solidFill>
                  <a:srgbClr val="000000"/>
                </a:solidFill>
                <a:latin typeface="Times New Roman"/>
              </a:rPr>
              <a:t>To znamená, že s nimi nesmí provádět žádné operace, které nesouvisejí přímo s realizací projektu a neslouží úhradám způsobilých výdajů.</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Jakékoli porušení tohoto zákazu je klasifikováno jako porušení rozpočtové kázně podle zákona č. 218/2000 Sb., o rozpočtových pravidlech a o změně některých souvisejících zákonů (rozpočtová pravidla) ve znění pozdějších předpisů, v platném znění, nebo zákona č. 250/2000 Sb., o rozpočtových pravidlech územních rozpočtů, a může vést k odebrání finančních prostředků.</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příjemce bude převádět prostředky z projektového účtu např. na provozní účet organizace, musí být tento krok řádně zdůvodněný a podložený prokazatelnou potřebou. Možnost tohoto řešení musí příjemce ověřit konzultací s poskytovatelem podpor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V případě, že příjemce k úhradě některých výdajů, které souvisejí s realizací projektu (např. mzdy, zákonné odvody, režijní náklady), používá provozní účet organizace, může finanční prostředky z projektového účtu převést na provozní účet organizace, ale teprve poté, co jsou tyto náklady prokazatelně z tohoto provozního účtu uhrazeny. </a:t>
            </a:r>
            <a:r>
              <a:rPr b="0" lang="cs-CZ" sz="800" spc="-1" strike="noStrike">
                <a:solidFill>
                  <a:srgbClr val="000000"/>
                </a:solidFill>
                <a:latin typeface="Times New Roman"/>
              </a:rPr>
              <a:t>Tuto operaci je možné provést v rámci jednoho dne, tzn. z výpisů z účtů příjemce/partnera bude zřejmé, že platba způsobilých výdajů z jiného účtu příjemce/partnera a refundace této platby z projektového účtu proběhla nejdříve ke stejnému datu (příjemce/partner pak k monitorovací zprávě předkládá výpisy z obou účtů, nejen ze samostatného účtu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Zpětná refundace ze samostatného účtu projektu OP VK může být provedena jednou platební operací za více účetních položek, musí však být vystaven interní účetní doklad, z kterého bude zřejmé, z jakých částek se celková převáděná suma skládá.</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Dojde-li k použití finančních prostředků určených k realizaci projektu z důvodu chyby na </a:t>
            </a:r>
            <a:r>
              <a:rPr b="1" lang="cs-CZ" sz="800" spc="-1" strike="noStrike">
                <a:solidFill>
                  <a:srgbClr val="000000"/>
                </a:solidFill>
                <a:latin typeface="Times New Roman"/>
              </a:rPr>
              <a:t>straně příjemce (např. odeslání určité platby, která nesouvisí s projektem, omylem</a:t>
            </a:r>
            <a:r>
              <a:rPr b="0" lang="cs-CZ" sz="800" spc="-1" strike="noStrike">
                <a:solidFill>
                  <a:srgbClr val="000000"/>
                </a:solidFill>
                <a:latin typeface="Times New Roman"/>
              </a:rPr>
              <a:t> z projektového účtu místo z provozního účtu nebo použití prostředků na výdaje, které byly v dobré víře uhrazeny z projektového účtu jako způsobilé, ale po kontrole poskytovatelem podpory zhodnoceny jako nezpůsobilé), je příjemce povinen okamžitě po zjištění této chyby, případně po upozornění poskytovatelem podpory, vrátit danou částku na projektový účet a informovat o tomto postupu poskytovatele podpory v následující monitorovací zprávě.</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Netýká se individuálních projektů národních.</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Banka oprávněná působit v ČR – banky s licencí ČNB a pobočky zahraničních bank ze zemí EHP založené v ČR na principu jednotné licence (vydané v domovském státě). Jednotná licence bank a dalších finančních institucí je založena na směrnici 2000/12/ES, o přístupu k činnosti úvěrových institucí a jejím výkonu, a na ustanovení zákona č. 21/1992 Sb., o bankách, ve znění pozdějších předpisů.</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Dispoziční právo k účtu – právo nakládat s finančními prostředky na bankovním účtu a provádět veškeré operace týkající se tohoto úč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p:txBody>
      </p:sp>
      <p:sp>
        <p:nvSpPr>
          <p:cNvPr id="234"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23430E4-238A-4AA9-BE66-E24C9F2F0686}"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896760" y="743040"/>
            <a:ext cx="4924440" cy="3693960"/>
          </a:xfrm>
          <a:prstGeom prst="rect">
            <a:avLst/>
          </a:prstGeom>
          <a:ln w="0">
            <a:noFill/>
          </a:ln>
        </p:spPr>
      </p:sp>
      <p:sp>
        <p:nvSpPr>
          <p:cNvPr id="236"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Příjmy projekt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Projekty generující příjmy</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rojektem vytvářejícím příjmy se rozumí jakýkoliv projekt zahrnující investici, za jejíž používání se účtují poplatky hrazené přímo uživateli, nebo jakýkoliv projekt zahrnující prodej nebo pronájem budov nebo jakékoli jiné poskytování služeb za úplat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Za příjmy projektu se považují např.:</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rodej materiálu, prací nebo služeb vzešlých z projektu (např. prodej publikací vzešlých z projektu, prodej předmětů zpracovaných v praktické dílně provozované v rámci projektu) dalším osobám (nikoli zástupcům cílové skupiny).</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Úroky připsané na projektovém účtu (vč. úroků vzniklých na jiných účtech příjemce dotace při předčasných převodech prostředků dotace) a úroky připsané na bankovních – projektových účtech partnerů, mají-li Partnerskou smlouvou dánu povinnost je zřídit a je-li jim poskytována záloha na financování projektových výdajů, se vykazují zvlášť mimo ostatní příjmy v monitorovací zprávě a tyto kladné úroky se zohlední při zasílání finančních prostředků na základě žádosti o platb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Dosažené příjmy projektu musejí být průběžně vykazovány v monitorovacích zprávách a podílejí se na krytí způsobilých nákladů projekt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To znamená, že veškeré příjmy projektu (včetně úroků na výše zmíněných účtech) musejí být příjemcem a partnery evidovány a odečítány od výše poskytnuté podpory při předložení průběžné monitorovací zprávy a žádosti o platbu, případně při předložení závěrečné zprávy a závěrečné žádosti o platbu.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okud jsou budoucí příjmy známy při předkládání projektu, příjemce sníží velikost způsobilých výdajů o tyto příjmy již při podání žádosti. Pokud tyto příjmy nejsou známy, zohlední tuto skutečnost nejpozději v okamžiku podání poslední žádosti o platb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ři výpočtu generovaných příjmů bere poskytovatel podpory v úvahu období, kategorii projektu, očekávanou běžnou ziskovost dané kategorie investice a aspekty rovnosti v souvislosti s relativní prosperitou stát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říspěvky soukromého financování v rámci realizace projektu nejsou považovány za příjmy projektu, ale jsou jedním ze zdrojů financování projektu (např. v případě poskytnutí veřejné podpory podle blokových výjimek či podpory malého rozsahu podle pravidla de minimis, kdy poskytnutá podpora nedosahuje 100% způsobilých nákladů projektu).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ovinnost odečítání příjmů se vztahuje na příjmy generované v období realizace projektu, nikoliv na příjmy generované v období udržitelnosti projektu. Příjmy z projektu vzniklé v době udržitelnosti by měly přispívat k udržitelnosti projektu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ovinnost odečítání příjmů projektu nevzniká ani v době realizace ani v době udržitelnosti, pokud je podpora na projekt poskytnuta v režimu veřejné podpory nebo podpory malého rozsahu (de minimis).</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Times New Roman"/>
            </a:endParaRPr>
          </a:p>
        </p:txBody>
      </p:sp>
      <p:sp>
        <p:nvSpPr>
          <p:cNvPr id="237"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7CC426F-79C1-4975-B424-0616B298544C}"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896760" y="743040"/>
            <a:ext cx="4924440" cy="3693960"/>
          </a:xfrm>
          <a:prstGeom prst="rect">
            <a:avLst/>
          </a:prstGeom>
          <a:ln w="0">
            <a:noFill/>
          </a:ln>
        </p:spPr>
      </p:sp>
      <p:sp>
        <p:nvSpPr>
          <p:cNvPr id="239"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Úhrada výdajů projektu poskytovatelem podpory příjemci</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Úhrady způsobilých výdajů projektu budou probíhat formou zálohových plateb, které budou poskytovány příjemci na základě předkládaných žádostí o platbu a prostřednictvím kterých budou proplaceny účetní doklady odrážející skutečné způsobilé výdaje projekt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Žádost o platbu předkládá příjemce na standardním formuláři, přičemž musí doložit, že uváděné výdaje odpovídají podmínkám projektu obsaženým v právním aktu. Veškeré platební nároky musejí být podloženy kopiemi účetních dokladů nebo kopiemi jiných dokladů, které dokládají uskutečněné výdaje.</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latby příjemci je možné poukázat pouze na samostatný účet projektu, popřípadě na účet zřizovatele, specifikovaný v právním aktu o poskytnutí podpory (pokud účet nebyl změněn v rámci podstatných změn projektu).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Zálohování</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oskytovatel podpory bude příjemci poskytovat finanční prostředky následujícím způsobem:</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První zálohová platba</a:t>
            </a:r>
            <a:r>
              <a:rPr b="0" lang="cs-CZ" sz="700" spc="-1" strike="noStrike">
                <a:solidFill>
                  <a:srgbClr val="000000"/>
                </a:solidFill>
                <a:latin typeface="Times New Roman"/>
              </a:rPr>
              <a:t> (obvykle do výše 20–25 % způsobilých výdajů projektu – přesnou výši této zálohy stanoví poskytovatel podpory) bude poukázána příjemci</a:t>
            </a:r>
            <a:r>
              <a:rPr b="0" i="1" lang="cs-CZ" sz="700" spc="-1" strike="noStrike">
                <a:solidFill>
                  <a:srgbClr val="000000"/>
                </a:solidFill>
                <a:latin typeface="Times New Roman"/>
              </a:rPr>
              <a:t> </a:t>
            </a:r>
            <a:r>
              <a:rPr b="0" lang="cs-CZ" sz="700" spc="-1" strike="noStrike">
                <a:solidFill>
                  <a:srgbClr val="000000"/>
                </a:solidFill>
                <a:latin typeface="Times New Roman"/>
              </a:rPr>
              <a:t>do 30 pracovních dnů (nestanoví-li poskytovatel v právním aktu o poskytnutí dotace jinak) od vydání Rozhodnutí/Opatření Vrchního ředitele a doručení podepsaného Prohlášení příjemce dotace nebo uzavření Smlouvy o realizaci GP – bez nutnosti podat žádost o platb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Další průběžné platby</a:t>
            </a:r>
            <a:r>
              <a:rPr b="0" lang="cs-CZ" sz="700" spc="-1" strike="noStrike">
                <a:solidFill>
                  <a:srgbClr val="000000"/>
                </a:solidFill>
                <a:latin typeface="Times New Roman"/>
              </a:rPr>
              <a:t> v návaznosti na žádosti o platbu předkládané příjemcem v intervalech nebo podle podmínek, které jsou stanoveny v právním aktu (např. každé 3 měsíce, po vyčerpání určitého procenta obdržené zálohy apod.). Na základě předložené žádosti o platbu je příjemci vyplacena další zálohová platba, a to </a:t>
            </a:r>
            <a:r>
              <a:rPr b="1" lang="cs-CZ" sz="700" spc="-1" strike="noStrike">
                <a:solidFill>
                  <a:srgbClr val="000000"/>
                </a:solidFill>
                <a:latin typeface="Times New Roman"/>
              </a:rPr>
              <a:t>ve výši prokazovaných způsobilých výdajů</a:t>
            </a:r>
            <a:r>
              <a:rPr b="0" lang="cs-CZ" sz="700" spc="-1" strike="noStrike">
                <a:solidFill>
                  <a:srgbClr val="000000"/>
                </a:solidFill>
                <a:latin typeface="Times New Roman"/>
              </a:rPr>
              <a:t>, přičemž přesnou výši této platby stanoví na základě kontroly vzniklých výdajů projektu poskytovatel podpor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Kumulovaná výše</a:t>
            </a:r>
            <a:r>
              <a:rPr b="0" lang="cs-CZ" sz="700" spc="-1" strike="noStrike">
                <a:solidFill>
                  <a:srgbClr val="000000"/>
                </a:solidFill>
                <a:latin typeface="Times New Roman"/>
              </a:rPr>
              <a:t> uvedených plateb nesmí přesáhnout </a:t>
            </a:r>
            <a:r>
              <a:rPr b="1" lang="cs-CZ" sz="700" spc="-1" strike="noStrike">
                <a:solidFill>
                  <a:srgbClr val="000000"/>
                </a:solidFill>
                <a:latin typeface="Times New Roman"/>
              </a:rPr>
              <a:t>90 % schválené částky podpory u GP/IP;</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Závěrečná platba</a:t>
            </a:r>
            <a:r>
              <a:rPr b="0" lang="cs-CZ" sz="700" spc="-1" strike="noStrike">
                <a:solidFill>
                  <a:srgbClr val="000000"/>
                </a:solidFill>
                <a:latin typeface="Times New Roman"/>
              </a:rPr>
              <a:t> (vypočítaná podle schválených </a:t>
            </a:r>
            <a:r>
              <a:rPr b="1" lang="cs-CZ" sz="700" spc="-1" strike="noStrike">
                <a:solidFill>
                  <a:srgbClr val="000000"/>
                </a:solidFill>
                <a:latin typeface="Times New Roman"/>
              </a:rPr>
              <a:t>skutečných</a:t>
            </a:r>
            <a:r>
              <a:rPr b="0" lang="cs-CZ" sz="700" spc="-1" strike="noStrike">
                <a:solidFill>
                  <a:srgbClr val="000000"/>
                </a:solidFill>
                <a:latin typeface="Times New Roman"/>
              </a:rPr>
              <a:t>, tedy skutečně vynaložených a doložených) způsobilých výdajů projektu – až do výše zbývajících 10 % schváleného rozpočtu projektu) do 30 pracovních dnů od data schválení závěrečné zprávy poskytovatelem podpor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Součástí závěrečné zprávy je:</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žádost o závěrečnou platb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celkové vyúčtování projekt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zpráva auditora (u projektů s podporou hrazenou z veřejných prostředků rovnající se 3 mil. Kč včetně DPH nebo vyšší a u projektů, u kterých byla povolena výjimka z povinnosti založit samostatný účet pro projekt, stanovil-li tuto povinnost vyhlašovatel výzv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Jestliže jsou způsobilé výdaje na konci projektu nižší než odhadované celkové způsobilé výdaje specifikované v právním aktu o financování projektu, budou proplaceny pouze skutečně vynaložené způsobilé výdaje.</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Jestliže podpora vyplacená v rámci zálohování převýší částku, za niž byl projekt podle závěrečného vyúčtování realizován, musí být na základě závěrečného vyúčtování vrácena na účet poskytovatele ve lhůtě 30 pracovních dnů od odsouhlasení poskytovatelem podpory, nestanoví-li poskytovatel podpory jinak.</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5.14</a:t>
            </a:r>
            <a:r>
              <a:rPr b="1" lang="cs-CZ" sz="700" spc="-1" strike="noStrike">
                <a:solidFill>
                  <a:srgbClr val="000000"/>
                </a:solidFill>
                <a:latin typeface="Times New Roman"/>
              </a:rPr>
              <a:t>	</a:t>
            </a:r>
            <a:r>
              <a:rPr b="1" lang="cs-CZ" sz="700" spc="-1" strike="noStrike">
                <a:solidFill>
                  <a:srgbClr val="000000"/>
                </a:solidFill>
                <a:latin typeface="Times New Roman"/>
              </a:rPr>
              <a:t>Finanční vypořádání podpor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Finanční vypořádání podpory poskytnuté z příslušné kapitoly státního rozpočtu příjemci na projekt spolufinancovaný ze státního rozpočtu (ESF a veřejné financování) se provádí k 31. prosinci roku, v němž byl projekt ukončen. Nevyužité finanční prostředky je příjemce povinen vrátit poskytovateli ve lhůtě stanovené v části 5.12 této příručky. Ukončením projektu se rozumí ukončení jeho financování z prostředků podpory (zahrnuje proplacení závěrečné žádosti o platbu). Toto finanční vypořádání se týká všech příjemců, resp. provádí se u všech typů projektů.</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říjemce dotace vypracovává podklady pro finanční vypořádání na tiskopisech stanovených vyhláškou č. 52/2008 Sb., kterou se stanoví zásady a termíny finančního vypořádání vztahů se státním rozpočtem, státními finančními aktivy nebo Národním fondem, připojí komentář a současně převede na účet poskytovatele případnou vratku finanční podpory nejpozději do 15. února roku následujícího po ukončení projektu. Současně informuje o této vratce poskytovatele dotace. Zasílaná informace obsahuje registrační číslo a název projektu, identifikaci příjemce dotace, výši částky a její rozčlenění na investiční/neinvestiční prostředky nebo prostředky určené na mzdy resp. ostatní osobní náklad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U ostatních forem poskytnutí podpory se příjemce při finančním vypořádání projektu řídí pravidly stanovenými v právním akt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V případě, že je příjemcem OSS, má nastaven odlišný režim financování projekt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700" spc="-1" strike="noStrike">
              <a:solidFill>
                <a:srgbClr val="000000"/>
              </a:solidFill>
              <a:latin typeface="Times New Roman"/>
            </a:endParaRPr>
          </a:p>
        </p:txBody>
      </p:sp>
      <p:sp>
        <p:nvSpPr>
          <p:cNvPr id="240"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33D9B9F-FDBF-40E2-AD37-2C04376F6F23}"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896760" y="743040"/>
            <a:ext cx="4924440" cy="3693960"/>
          </a:xfrm>
          <a:prstGeom prst="rect">
            <a:avLst/>
          </a:prstGeom>
          <a:ln w="0">
            <a:noFill/>
          </a:ln>
        </p:spPr>
      </p:sp>
      <p:sp>
        <p:nvSpPr>
          <p:cNvPr id="242"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5.10</a:t>
            </a:r>
            <a:r>
              <a:rPr b="1" lang="cs-CZ" sz="1200" spc="-1" strike="noStrike">
                <a:solidFill>
                  <a:srgbClr val="000000"/>
                </a:solidFill>
                <a:latin typeface="Times New Roman"/>
              </a:rPr>
              <a:t>	</a:t>
            </a:r>
            <a:r>
              <a:rPr b="1" lang="cs-CZ" sz="1200" spc="-1" strike="noStrike">
                <a:solidFill>
                  <a:srgbClr val="000000"/>
                </a:solidFill>
                <a:latin typeface="Times New Roman"/>
              </a:rPr>
              <a:t>Daň z přidané hodnot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Obecná pravidla pro způsobilost výdajů neuznávají daně a cla jako způsobilý výdaj, z tohoto</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obecného pravidla existuje výjimka pro DPH, která v určitých případech umožňuje zahrnou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DPH mezi způsobilé výdaj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Současně platí, že finanční podpora, poskytovaná na projekt z ESF, státního rozpočtu ČR, z</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rozpočtu obcí apod. není předmětem daně a nezahrnuje se do obratu pro registraci k DP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působilost DPH jako uznatelného výdaje se vždy posuzuje vzhledem k aktivitám projektu.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DPH není způsobilým výdajem, pokud příjemce plnění má nárok na odpočet DPH na vstup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Nárok na odpočet DPH je vymezen zákonem č. 235/2004 Sb., o dani z přidané hodnoty,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e znění pozdějších předpisů (dále jen zákon o DPH). Přičemž se způsobilost DPH vztahuje pouz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na tu část plnění, která je sama způsobilým výdajem.</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íjemce dotace, pokud prokazatelně poskytuje svoje služby v rámci projektu bez úplaty,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nemá nárok na přijatá zdanitelná plnění (nakoupené služby a zboží) na odpočet DP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DPH je potom způsobilým výdajem projektu, pokud se vztahuje k věcným plněním,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která jsou v rámci OP VK považována za způsobilá.</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Plátce DP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ro příjemce, kteří jsou plátci DPH, je způsobilým výdajem ta část DPH, na kterou není u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daného přijatého plnění nárok na odpočet v souladu se zákonem o DP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Neplátce DP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ro osoby neregistrované k DPH je daň z přidané hodnoty způsobilým výdajem,</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neboť tyto osoby si nemohou nárokovat odpočet DPH na vstup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43"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534D6CB-66DD-41DF-B34B-C2A4BE03B854}"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896760" y="743040"/>
            <a:ext cx="4924440" cy="3693960"/>
          </a:xfrm>
          <a:prstGeom prst="rect">
            <a:avLst/>
          </a:prstGeom>
          <a:ln w="0">
            <a:noFill/>
          </a:ln>
        </p:spPr>
      </p:sp>
      <p:sp>
        <p:nvSpPr>
          <p:cNvPr id="245"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300" spc="-1" strike="noStrike">
                <a:solidFill>
                  <a:srgbClr val="000000"/>
                </a:solidFill>
                <a:latin typeface="Times New Roman"/>
              </a:rPr>
              <a:t>5.6 </a:t>
            </a:r>
            <a:r>
              <a:rPr b="1" i="1" lang="cs-CZ" sz="300" spc="-1" strike="noStrike">
                <a:solidFill>
                  <a:srgbClr val="000000"/>
                </a:solidFill>
                <a:latin typeface="Times New Roman"/>
              </a:rPr>
              <a:t>	</a:t>
            </a:r>
            <a:r>
              <a:rPr b="1" i="1" lang="cs-CZ" sz="300" spc="-1" strike="noStrike">
                <a:solidFill>
                  <a:srgbClr val="000000"/>
                </a:solidFill>
                <a:latin typeface="Times New Roman"/>
              </a:rPr>
              <a:t>Účetnictví a dokladová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říjemce musí vést pro projekt účetnictví ve smyslu zákona č. 563/1991 Sb., o účetnictví,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e znění pozdějších předpisů, nebo daňovou</a:t>
            </a:r>
            <a:r>
              <a:rPr b="1" lang="cs-CZ" sz="300" spc="-1" strike="noStrike">
                <a:solidFill>
                  <a:srgbClr val="000000"/>
                </a:solidFill>
                <a:latin typeface="Times New Roman"/>
              </a:rPr>
              <a:t> </a:t>
            </a:r>
            <a:r>
              <a:rPr b="0" lang="cs-CZ" sz="300" spc="-1" strike="noStrike">
                <a:solidFill>
                  <a:srgbClr val="000000"/>
                </a:solidFill>
                <a:latin typeface="Times New Roman"/>
              </a:rPr>
              <a:t>evidenci podle zákona č. 586/1992 Sb.,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o dani z příjmu, ve znění pozdějších předpisů, rozšířenou o dodatečné požadavky, které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budou uvedeny v právním aktu o poskytnutí podpory. Je nutné, aby transakce související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s projektem byly odděleně identifikovatelné od ostatních účetních transakcí s projektem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nesouvisejících. Příjemce je tedy povinen vést analytickou evidenci s vazbou ke konkrétnímu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rojektu. To znamená, že projekt musí být účtován odděleně od ostatních aktivit organizace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například na zvláštním účetním středisk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Touto povinností zaváže příjemce dotace i případné partnery s finanční účast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r>
              <a:rPr b="1" lang="cs-CZ" sz="300" spc="-1" strike="noStrike">
                <a:solidFill>
                  <a:srgbClr val="000000"/>
                </a:solidFill>
                <a:latin typeface="Times New Roman"/>
              </a:rPr>
              <a:t>na realizaci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Účetnictví projektu musí být vedeno v elektronické podobě, pouze v odůvodněných případech</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r>
              <a:rPr b="0" lang="cs-CZ" sz="300" spc="-1" strike="noStrike">
                <a:solidFill>
                  <a:srgbClr val="000000"/>
                </a:solidFill>
                <a:latin typeface="Times New Roman"/>
              </a:rPr>
              <a:t>je možné vést účetnictví v písemné formě.</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Účetní doklady musejí být vystaveny v souladu se zákonem o účetnictví a musejí obsahova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r>
              <a:rPr b="0" lang="cs-CZ" sz="300" spc="-1" strike="noStrike">
                <a:solidFill>
                  <a:srgbClr val="000000"/>
                </a:solidFill>
                <a:latin typeface="Times New Roman"/>
              </a:rPr>
              <a:t>všechny požadované náležitosti. Účetní doklady musejí obsahovat specifikaci pořizovaného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boží, služeb nebo prací i specifikaci toho, kdo zboží nebo služby nakoupil (pokud se nejedná</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r>
              <a:rPr b="0" lang="cs-CZ" sz="300" spc="-1" strike="noStrike">
                <a:solidFill>
                  <a:srgbClr val="000000"/>
                </a:solidFill>
                <a:latin typeface="Times New Roman"/>
              </a:rPr>
              <a:t>o zjednodušený daňový dokla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ýběr legislativy pro účetnictví a dokladování v OP VK </a:t>
            </a:r>
            <a:r>
              <a:rPr b="0" lang="cs-CZ" sz="300" spc="-1" strike="noStrike">
                <a:solidFill>
                  <a:srgbClr val="000000"/>
                </a:solidFill>
                <a:latin typeface="Times New Roman"/>
              </a:rPr>
              <a:t>(pro specifické subjekty příjemce mohou být aplikovány ještě další relevantní zákon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499/2004 Sb., o archivnictví a spisové službě,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yhláška č. 645/2004 Sb., kterou se provádějí některá ustanovení zákona o archivnictví a spisové službě;</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yhláška č. 646/2004 Sb., o podrobnostech výkonu spisové služby,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320/2001 Sb., o finanční kontrole ve veřejné správě,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166/1993 Sb., o Nejvyšším kontrolním úřadu,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219/2000 Sb., o majetku ČR a jejím vystupování v právních vztazích,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563/1991 Sb., o účetnictví,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589/1992 Sb., o pojistném na sociální zabezpečení a příspěvku na státní politiku zaměstnanosti,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582/1991 Sb., o organizaci a provádění sociálního zabezpečení,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235/2004 Sb., o dani z přidané hodnoty,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586/1992 Sb., o daních z příjmů,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337/1992 Sb., o správě daní a poplatků,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21/1992 Sb., o bankách,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592/1992 Sb., o pojistném na všeobecné zdravotní pojištění,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513/1991 Sb., obchodní zákoník,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Na základě zákona 563/1991 Sb., o účetnictví, § 33a, odst. 1, za prokazatelný účetní záznam</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r>
              <a:rPr b="0" lang="cs-CZ" sz="300" spc="-1" strike="noStrike">
                <a:solidFill>
                  <a:srgbClr val="000000"/>
                </a:solidFill>
                <a:latin typeface="Times New Roman"/>
              </a:rPr>
              <a:t>ve formě technické nebo písemné se považuje takový:</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jehož obsah je prokázán přímo porovnáním se skutečností, kterou tento záznam prokazuje;</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jehož obsah je prokázán obsahem jiných průkazných účetních záznam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účetní záznam přenesený způsobem splňujícím požadavky § 34;</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účetní záznam týkající se výhradně skutečností uvnitř jedné účetní jednotky, k němuž je</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r>
              <a:rPr b="0" lang="cs-CZ" sz="300" spc="-1" strike="noStrike">
                <a:solidFill>
                  <a:srgbClr val="000000"/>
                </a:solidFill>
                <a:latin typeface="Times New Roman"/>
              </a:rPr>
              <a:t>připojen podpisový záznam oprávněné a odpovědné osoby. </a:t>
            </a:r>
            <a:endParaRPr b="0" lang="en-US" sz="300" spc="-1" strike="noStrike">
              <a:solidFill>
                <a:srgbClr val="000000"/>
              </a:solidFill>
              <a:latin typeface="Times New Roman"/>
            </a:endParaRPr>
          </a:p>
        </p:txBody>
      </p:sp>
      <p:sp>
        <p:nvSpPr>
          <p:cNvPr id="246"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B0C8D16-06D4-4670-96EC-EF487CAC6859}"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896760" y="743040"/>
            <a:ext cx="4924440" cy="3693960"/>
          </a:xfrm>
          <a:prstGeom prst="rect">
            <a:avLst/>
          </a:prstGeom>
          <a:ln w="0">
            <a:noFill/>
          </a:ln>
        </p:spPr>
      </p:sp>
      <p:sp>
        <p:nvSpPr>
          <p:cNvPr id="248"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5.6.1 </a:t>
            </a:r>
            <a:r>
              <a:rPr b="1" lang="cs-CZ" sz="500" spc="-1" strike="noStrike">
                <a:solidFill>
                  <a:srgbClr val="000000"/>
                </a:solidFill>
                <a:latin typeface="Times New Roman"/>
              </a:rPr>
              <a:t>	</a:t>
            </a:r>
            <a:r>
              <a:rPr b="1" lang="cs-CZ" sz="500" spc="-1" strike="noStrike">
                <a:solidFill>
                  <a:srgbClr val="000000"/>
                </a:solidFill>
                <a:latin typeface="Times New Roman"/>
              </a:rPr>
              <a:t>Druhy účetních dokladů a jejich náležitosti</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Účetní záznam musí splňovat náležitosti § 33 zákona č. 563/1991 Sb., o účetnictví.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Účetní záznam určený k přenášení musí obsahovat podpisový záznam. Podpisovým zázname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se rozumí účetní záznam, jehož obsahem je vlastnoruční podpis nebo obdobný prokazatelný účetn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záznam nahrazující vlastnoruční podpis v technické formě. Na obě formy podpisového záznamu s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přitom pohlíží stejně a obě se mohou použít na místě, kde se vyžaduje vlastnoruční podpis.</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Jednotlivé účetní doklady v rámci celého projektu je nutno číslovat tak, aby byly jednoznačně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identifikovatelné ve všech základních skupinách dokladů dané účetní jednotky, to znamená, ž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je nutno vytvořit samostatnou číslovanou řadu na projekt.</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Každý originál relevantního účetního dokladu je příjemce povinen označit identifikac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 </a:t>
            </a:r>
            <a:r>
              <a:rPr b="1" lang="cs-CZ" sz="500" spc="-1" strike="noStrike">
                <a:solidFill>
                  <a:srgbClr val="000000"/>
                </a:solidFill>
                <a:latin typeface="Times New Roman"/>
              </a:rPr>
              <a:t>projektu (zkráceným názvem, číslem registračním, a případně číslem jednacím),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pokud tento údaj doklad neobsahuje již v původním popis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Obecně formulované doklady typu „občerstvení“, „kancelářské potřeby“, faktury s popise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fakturuji za administrativní činnosti“ atd. nejsou vyhovující, musejí být rozepsány podrobněji,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alespoň podle skupin účtovaných položek. Pokud nejsou rozepsány, je potřebné požádat</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dodavatele zboží o doplnění účetního dokladu o detailnější popis nakupovaného zboží nebo služeb.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říjemce i jeho partneři musejí při podávání žádostí o platbu předložit soupisky všech účetních dokladů</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souvisejících s projektem seřazené podle kapitol rozpočtu. Za účetní doklady se považují např.:</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faktury vydané, faktury přijaté, příjmové pokladní doklady, výdajové pokladní doklady, interní doklady,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bankovní výpisy z projektového účtu, výpisy z dalších účtů použitých k úhradě výdajů projektu apod.</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Kopie všech účetních dokladů uvedených na soupisce musejí být její přílohou, pokud není v právní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aktu stanoveno jinak.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K monitorovací zprávě také může být požadováno kromě soupisky účetních dokladů přiloži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ýstupní sestavu/sestavy z účetnictví příjemce a partnerů s finanční účastí, opatřenou podpise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odpovědné osoby a razítkem organizac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Účetnictví musí rovněž obsahovat podrobnosti o úrocích, které vzniknou na účtu projekt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 odůvodnitelných případech je možné použít i vnitřní přeúčtování plateb projektu, které byl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uskutečněny z jiného než projektového účtu. Převody prostředků z účtu projektu na jiný účet</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příjemce musejí být podloženy vnitřními účetními doklady, kterými se provádí přeúčtován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např. u výplat mezd, souhrnných plateb za elektřinu, vodné, nájmy aj.).</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řevod prostředků z projektového účtu může být proveden jednou platební operací za více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účetních položek, musí však být vystaven interní účetní doklad, ze kterého bude zřejmé,</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z jakých částek se celková převáděná suma skládá.</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řevod prostředků z projektového účtu na jiné účty příjemce dotace nesmí být proveden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ředtím, než má příjemce k dispozici účetní doklady prokazující potřebu převodu těchto</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prostředků. Převod prostředků z projektového účtu na jiné účty příjemce dotace musí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být proveden až zpětně (tj. dodatečně: až po vyplacení finančních prostředků z jiného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účtu příjemce dotace). Tento krok může být proveden v rámci jednoho dne, tj. prostředk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z projektového účtu mohou být převedeny na jiný účet příjemce, ze kterého byla provedena úhrada,</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nejdříve v tentýž den (na výpise z účtů musí být stejné datu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Nevyčerpané a předčasně převedené prostředky je třeba bezodkladně vrátit zpět na projektový úče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Úroky vzniklé na jiných účtech příjemce z předčasně převedených prostředků dotace je nutné zahrnout</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do vyúčtování projekt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Dokladem prokazujícím potřebu převodu finančních prostředků z projektového účtu na jiný úče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říjemce dotace může být i výpis z jiného účtu příjemce, ze kterého je patrné, že daná částka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např. za mzdové náklady nebo za fakturu byla uhrazena.</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Možnost a podmínky převedení finančních prostředků z projektového účtu na jiný účet příjemc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dotace předtím, než proběhne samotná úhrada z jiného účtu příjemce, upravuje poskytovatel podpor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Na začátku a na konci realizace projektu, případně i v jeho průběhu, je možné použít i vnitřní přeúčtován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souhrnu plateb projektu, které byly uskutečněny z jiného než projektového účtu příjemce v případě,</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kdy na projektovém účtu je nedostatek finančních prostředků. V tomto případě je potřeba přiložit sezna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všech těchto plateb a kopie bankovních výpisů, které obsahují uskutečnění těchto plateb.</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 případě mylné platby z projektového účtu příjemce bez zbytečného odkladu převede nebo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loží příslušnou částku zpět na projektový účet. Tuto skutečnost popíše v nejbližší monitorovací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zprávě s žádostí o platb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500" spc="-1" strike="noStrike">
                <a:solidFill>
                  <a:srgbClr val="000000"/>
                </a:solidFill>
                <a:latin typeface="Times New Roman"/>
              </a:rPr>
              <a:t>5.6.1.1</a:t>
            </a:r>
            <a:r>
              <a:rPr b="1" i="1" lang="cs-CZ" sz="500" spc="-1" strike="noStrike">
                <a:solidFill>
                  <a:srgbClr val="000000"/>
                </a:solidFill>
                <a:latin typeface="Times New Roman"/>
              </a:rPr>
              <a:t>	</a:t>
            </a:r>
            <a:r>
              <a:rPr b="1" i="1" lang="cs-CZ" sz="500" spc="-1" strike="noStrike">
                <a:solidFill>
                  <a:srgbClr val="000000"/>
                </a:solidFill>
                <a:latin typeface="Times New Roman"/>
              </a:rPr>
              <a:t>Faktur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šechny faktury v rámci projektu musejí být vystaveny na příjemce dotace.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Na partnery mohou být faktury vystavovány pouze v případě, že je mezi příjemcem a</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partnerem projektu uzavřena smlouva o finančním partnerství v rámci daného projekt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Faktury musejí být označeny identifikací projektu (zkráceným názvem projektu, čísle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registračním, a případně číslem jednací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Originály dokladů a soupisky účetních dokladů za celý projekt musejí být k dispozici u příjemc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artnera nejen v průběhu implementace projektu, ale rovněž po dobu archivace platných pro OP VK, tj. do roku 2025.</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500" spc="-1" strike="noStrike">
                <a:solidFill>
                  <a:srgbClr val="000000"/>
                </a:solidFill>
                <a:latin typeface="Times New Roman"/>
              </a:rPr>
              <a:t>5.6.1.2</a:t>
            </a:r>
            <a:r>
              <a:rPr b="1" i="1" lang="cs-CZ" sz="500" spc="-1" strike="noStrike">
                <a:solidFill>
                  <a:srgbClr val="000000"/>
                </a:solidFill>
                <a:latin typeface="Times New Roman"/>
              </a:rPr>
              <a:t>	</a:t>
            </a:r>
            <a:r>
              <a:rPr b="1" i="1" lang="cs-CZ" sz="500" spc="-1" strike="noStrike">
                <a:solidFill>
                  <a:srgbClr val="000000"/>
                </a:solidFill>
                <a:latin typeface="Times New Roman"/>
              </a:rPr>
              <a:t>Zálohové faktur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Zálohové faktury dodavatelům zboží nebo služeb v rámci projektu je možno hradit pouze v případě,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že tyto výdaje naplňují pravidla způsobilosti, jsou vydány v souladu s platnou obchodní smlouvou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s dodavatelem zboží nebo služeb) a běžnou obchodní praxí a budou nejpozději do konce projektu vyúčtovány.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yúčtování záloh mezi dodavatelem a příjemcem bude promítnuto nejpozději v závěrečné žádosti o platb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přeplatek je příjemce povinen vrátit a nedoplatek je způsobilý výdaj. V opačném případě je nelze z projekt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hradit a uhrazené zálohy nebudou schváleny jako způsobilé výdaje projektu.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ýjimkou jsou zálohové platby týkající se záloh na vodu, paliva a energie. Příjemcům se doporučuje v těchto</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případech vyjednat s dodavatelem odečet a vyúčtování k datu ukončení projektu. Pokud bude vyúčtován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dodavatelem služby poskytnuto až po ukončení realizace projektu (datum uvedené v rozhodnutí o poskytnut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dotace/smlouvě) v době do podání závěrečné žádosti o platbu, pak do závěrečné žádosti o platbu mohou být</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zahrnuty skutečně vyúčtované výdaje. V případě, že dodavatel neposkytne vyúčtování k datu podání závěrečné</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žádosti o platbu, mohou být do závěrečné žádosti o platbu zahrnuty částky odpovídající kvalifikovanému odhad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na základě skutečných výdajů uhrazených v minulém odpovídajícím zúčtovacím období, maximálně však do výš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skutečně uhrazených zálohových plateb a tento kvalifikovaný odhad musí být doložen výpočtem a kopiemi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relevantních dokladů, na jejichž základě byl vypočítán.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500" spc="-1" strike="noStrike">
                <a:solidFill>
                  <a:srgbClr val="000000"/>
                </a:solidFill>
                <a:latin typeface="Times New Roman"/>
              </a:rPr>
              <a:t>5.6.1.3</a:t>
            </a:r>
            <a:r>
              <a:rPr b="1" i="1" lang="cs-CZ" sz="500" spc="-1" strike="noStrike">
                <a:solidFill>
                  <a:srgbClr val="000000"/>
                </a:solidFill>
                <a:latin typeface="Times New Roman"/>
              </a:rPr>
              <a:t>	</a:t>
            </a:r>
            <a:r>
              <a:rPr b="1" i="1" lang="cs-CZ" sz="500" spc="-1" strike="noStrike">
                <a:solidFill>
                  <a:srgbClr val="000000"/>
                </a:solidFill>
                <a:latin typeface="Times New Roman"/>
              </a:rPr>
              <a:t>Zahrnování odpisů do způsobilých výdajů</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říjemce, který uplatňuje daňové odpisy jako způsobilý výdaj, je povinen doložit pořizovací cenu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odpisovaného majetku prostřednictvím </a:t>
            </a:r>
            <a:r>
              <a:rPr b="1" lang="cs-CZ" sz="500" spc="-1" strike="noStrike">
                <a:solidFill>
                  <a:srgbClr val="000000"/>
                </a:solidFill>
                <a:latin typeface="Times New Roman"/>
              </a:rPr>
              <a:t>inventární karty majetku</a:t>
            </a:r>
            <a:r>
              <a:rPr b="0" lang="cs-CZ" sz="500" spc="-1" strike="noStrike">
                <a:solidFill>
                  <a:srgbClr val="000000"/>
                </a:solidFill>
                <a:latin typeface="Times New Roman"/>
              </a:rPr>
              <a:t>. Inventární karta majetku zpravidla obsahuj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informace nejen o pořizovací ceně majetku a jejich jednotlivých složkách, ale též o počátku odpisování,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době odpisování majetku dle přiřazené odpisové skupiny a o sazbách pro účely výpočtu odpisů apod.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Dále příjemce dokládá daňový odpisový plán.</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5.7</a:t>
            </a:r>
            <a:r>
              <a:rPr b="1" lang="cs-CZ" sz="500" spc="-1" strike="noStrike">
                <a:solidFill>
                  <a:srgbClr val="000000"/>
                </a:solidFill>
                <a:latin typeface="Times New Roman"/>
              </a:rPr>
              <a:t>	</a:t>
            </a:r>
            <a:r>
              <a:rPr b="1" lang="cs-CZ" sz="500" spc="-1" strike="noStrike">
                <a:solidFill>
                  <a:srgbClr val="000000"/>
                </a:solidFill>
                <a:latin typeface="Times New Roman"/>
              </a:rPr>
              <a:t>Poskytování záloh partnerů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říjemce dotace může partnerovi projektu poskytnout zálohu na realizaci aktivit, které partner provád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v rámci projektu v rozsahu a za podmínek uvedených ve Smlouvě o partnerstv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5.8</a:t>
            </a:r>
            <a:r>
              <a:rPr b="1" lang="cs-CZ" sz="500" spc="-1" strike="noStrike">
                <a:solidFill>
                  <a:srgbClr val="000000"/>
                </a:solidFill>
                <a:latin typeface="Times New Roman"/>
              </a:rPr>
              <a:t>	</a:t>
            </a:r>
            <a:r>
              <a:rPr b="1" lang="cs-CZ" sz="500" spc="-1" strike="noStrike">
                <a:solidFill>
                  <a:srgbClr val="000000"/>
                </a:solidFill>
                <a:latin typeface="Times New Roman"/>
              </a:rPr>
              <a:t>Pokladna</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 rámci projektu nemusí být vedena samostatná pokladna na drobné výdaje, není-li v právní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aktu stanoveno jinak. Výdajové pokladní doklady související s realizací projektu musejí být evidován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v soupisce účetních dokladů a doloženy kopiemi v přílohách těchto soupisek.</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okud je samostatná pokladna projektu vedena, musí být vnitřním předpisem stanoven její pokladní limit,</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pokud poskytovatel nestanoví jinak.</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latby v hotovosti v jednom pracovním dni jednomu subjektu nesmějí překročit ekvivalent 15 000 EUR.</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Obcházení tohoto zákazu dělením těchto plateb není na základě § 4 odst. 1 zákona č. 254/2004 Sb. přípustné.</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5.9</a:t>
            </a:r>
            <a:r>
              <a:rPr b="1" lang="cs-CZ" sz="500" spc="-1" strike="noStrike">
                <a:solidFill>
                  <a:srgbClr val="000000"/>
                </a:solidFill>
                <a:latin typeface="Times New Roman"/>
              </a:rPr>
              <a:t>	</a:t>
            </a:r>
            <a:r>
              <a:rPr b="1" lang="cs-CZ" sz="500" spc="-1" strike="noStrike">
                <a:solidFill>
                  <a:srgbClr val="000000"/>
                </a:solidFill>
                <a:latin typeface="Times New Roman"/>
              </a:rPr>
              <a:t>Evidence a prokazování uskutečněného výdaj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ýdaj musí skutečně vzniknout, být zaznamenán na účtech příjemce nebo jeho partnerů,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být identifikovatelný a kontrolovatelný a musí být doložitelný originály účetních dokladů ve smysl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 11 zákona o účetnictví č. 563/1991 Sb., ve znění pozdějších předpisů, resp. originály jiných dokladů</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ekvivalentní průkazní hodnot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ro tyto účely si příjemce může nechat vyrobit razítko se zkráceným názvem projektu a číslem registrační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 </a:t>
            </a:r>
            <a:r>
              <a:rPr b="0" lang="cs-CZ" sz="500" spc="-1" strike="noStrike">
                <a:solidFill>
                  <a:srgbClr val="000000"/>
                </a:solidFill>
                <a:latin typeface="Times New Roman"/>
              </a:rPr>
              <a:t>jde o uznatelný výdaj v rámci „kancelářských potřeb“.</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okladní limit stanoví příjemce interním předpisem, případně je součástí např. organizačního řádu.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Stanovení pokladního limitu se řídí hospodářskou potřebou hotovosti s přihlédnutím k bezpečnosti její úschov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00" spc="-1" strike="noStrike">
              <a:solidFill>
                <a:srgbClr val="000000"/>
              </a:solidFill>
              <a:latin typeface="Times New Roman"/>
            </a:endParaRPr>
          </a:p>
        </p:txBody>
      </p:sp>
      <p:sp>
        <p:nvSpPr>
          <p:cNvPr id="249"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4D469A9-BD8F-4192-8589-B55141FE3D32}"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896760" y="743040"/>
            <a:ext cx="4924440" cy="3693960"/>
          </a:xfrm>
          <a:prstGeom prst="rect">
            <a:avLst/>
          </a:prstGeom>
          <a:ln w="0">
            <a:noFill/>
          </a:ln>
        </p:spPr>
      </p:sp>
      <p:sp>
        <p:nvSpPr>
          <p:cNvPr id="251"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ýše uvedené dokumenty (s výjimkou v případech zadání zakázky podle bodu 7.5 – 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kdy zadavatel předkládá pouze relevantní doklady), musí být jako doklad o provedení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ýběrového řízení předloženy poskytovateli podpory, a to nejpozději společně s první žádostí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o platbu po ukončení výběru obsahující prokazované způsobilé výdaje vztahující se k</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výběrovému řízení. Poskytovateli se předkládají se žádostí o platbu kopie uvedených dokumentů,</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originály uchovává příjemce a předkládá je na vyžádání kontrolním subjektům.</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52"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C1B472C-A347-444A-9FBA-D3B167A9A552}"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8"/>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9FAB378-1D18-47E0-97C5-7B3CFACC456E}"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
        <p:nvSpPr>
          <p:cNvPr id="179" name="Text Box 1"/>
          <p:cNvSpPr/>
          <p:nvPr/>
        </p:nvSpPr>
        <p:spPr>
          <a:xfrm>
            <a:off x="990720" y="7491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0" name="PlaceHolder 1"/>
          <p:cNvSpPr>
            <a:spLocks noGrp="1"/>
          </p:cNvSpPr>
          <p:nvPr>
            <p:ph type="body"/>
          </p:nvPr>
        </p:nvSpPr>
        <p:spPr>
          <a:xfrm>
            <a:off x="676080" y="4686120"/>
            <a:ext cx="5763960" cy="4438440"/>
          </a:xfrm>
          <a:prstGeom prst="rect">
            <a:avLst/>
          </a:prstGeom>
          <a:noFill/>
          <a:ln w="0">
            <a:noFill/>
          </a:ln>
        </p:spPr>
        <p:txBody>
          <a:bodyPr lIns="0" rIns="0" tIns="358200" bIns="0" anchor="ctr" anchorCtr="1">
            <a:noAutofit/>
          </a:bodyPr>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600" spc="-1" strike="noStrike">
                <a:solidFill>
                  <a:srgbClr val="000000"/>
                </a:solidFill>
                <a:latin typeface="Times New Roman"/>
              </a:rPr>
              <a:t>Způsobilé výdaje</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600" spc="-1" strike="noStrike">
                <a:solidFill>
                  <a:srgbClr val="000000"/>
                </a:solidFill>
                <a:latin typeface="Times New Roman"/>
              </a:rPr>
              <a:t>5.3.1</a:t>
            </a:r>
            <a:r>
              <a:rPr b="1" lang="cs-CZ" sz="600" spc="-1" strike="noStrike">
                <a:solidFill>
                  <a:srgbClr val="000000"/>
                </a:solidFill>
                <a:latin typeface="Times New Roman"/>
              </a:rPr>
              <a:t>	</a:t>
            </a:r>
            <a:r>
              <a:rPr b="1" lang="cs-CZ" sz="600" spc="-1" strike="noStrike">
                <a:solidFill>
                  <a:srgbClr val="000000"/>
                </a:solidFill>
                <a:latin typeface="Times New Roman"/>
              </a:rPr>
              <a:t>Definice způsobilých výdajů</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Způsobilé výdaje jsou výdaje, které byly uskutečněné v souladu s podmínkami stanovenými v právním aktu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o poskytnutí podpory, a které jsou v souladu s příslušnými předpisy EU a ČR. T</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yto výdaje lze hradit z prostředků OP VK.</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Pravidla způsobilých výdajů jsou podložena zejména následujícími základními legislativními předpisy:</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Obecné nařízení Rady č. 1083/2006, čl. 1, 56 a 78;</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Nařízení Evropského parlamentu a Rady č. 1080/2006 čl. 7 a čl. 13</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Nařízení Evropského parlamentu a Rady č. 1081/2006 čl. 11</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Pravidla uznatelných výdajů pro programy spolufinancované ze strukturálních fondů a z Fondu soudržnosti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Evropské unie na programové období let 2007-2013“, která byla přijata Usnesením vlády č. 61, ze dne 24.ledna 2007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Metodická příručka způsobilých výdajů pro programy spolufinancované ze strukturálních fondů a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Fondu soudržnosti na programové období 2007-2013, MMR</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Zákon č. 218/2000 Sb., o rozpočtových pravidlech a o změně některých souvisejících zákonů (rozpočtová pravidla);</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Zákon č. 250/2000 Sb., o rozpočtových pravidlech územních rozpočtů;</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Zákon č. 320/2001 Sb., o finanční kontrole ve veřejné správě a o změně některých zákonů;</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další zákony – zákon č. 563/1991 Sb., o účetnictví, zákon č. 586/1992 Sb., o dani z příjmu, zákon č. 235/2004 Sb.,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o dani z přidané hodnoty, zákon č. 582/1991 Sb., o organizaci a provádění sociálního zabezpečení, zákon č. 589/1992 Sb.,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o pojistném na sociální zabezpečení a příspěvku na státní politiku zaměstnanosti apod.</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 </a:t>
            </a:r>
            <a:r>
              <a:rPr b="0" lang="cs-CZ" sz="600" spc="-1" strike="noStrike">
                <a:solidFill>
                  <a:srgbClr val="000000"/>
                </a:solidFill>
                <a:latin typeface="Times New Roman"/>
              </a:rPr>
              <a:t>Z prostředků OP VK mohou být financovány pouze tzv. </a:t>
            </a:r>
            <a:r>
              <a:rPr b="1" lang="cs-CZ" sz="600" spc="-1" strike="noStrike">
                <a:solidFill>
                  <a:srgbClr val="000000"/>
                </a:solidFill>
                <a:latin typeface="Times New Roman"/>
              </a:rPr>
              <a:t>způsobilé výdaje</a:t>
            </a:r>
            <a:r>
              <a:rPr b="0" lang="cs-CZ" sz="600" spc="-1" strike="noStrike">
                <a:solidFill>
                  <a:srgbClr val="000000"/>
                </a:solidFill>
                <a:latin typeface="Times New Roman"/>
              </a:rPr>
              <a:t>, které musejí splňovat následující kritéria:</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600" spc="-1" strike="noStrike">
                <a:solidFill>
                  <a:srgbClr val="000000"/>
                </a:solidFill>
                <a:latin typeface="Times New Roman"/>
              </a:rPr>
              <a:t>Charakter výdaje</a:t>
            </a:r>
            <a:r>
              <a:rPr b="0" lang="cs-CZ" sz="600" spc="-1" strike="noStrike">
                <a:solidFill>
                  <a:srgbClr val="000000"/>
                </a:solidFill>
                <a:latin typeface="Times New Roman"/>
              </a:rPr>
              <a:t> – výdaje musejí být </a:t>
            </a:r>
            <a:r>
              <a:rPr b="1" lang="cs-CZ" sz="600" spc="-1" strike="noStrike">
                <a:solidFill>
                  <a:srgbClr val="000000"/>
                </a:solidFill>
                <a:latin typeface="Times New Roman"/>
              </a:rPr>
              <a:t>přiměřené</a:t>
            </a:r>
            <a:r>
              <a:rPr b="0" lang="cs-CZ" sz="600" spc="-1" strike="noStrike">
                <a:solidFill>
                  <a:srgbClr val="000000"/>
                </a:solidFill>
                <a:latin typeface="Times New Roman"/>
              </a:rPr>
              <a:t> (musejí odpovídat cenám v místě, oboru a čase obvyklým) a musejí být vynaloženy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v souladu s principy </a:t>
            </a:r>
            <a:r>
              <a:rPr b="1" lang="cs-CZ" sz="600" spc="-1" strike="noStrike">
                <a:solidFill>
                  <a:srgbClr val="000000"/>
                </a:solidFill>
                <a:latin typeface="Times New Roman"/>
              </a:rPr>
              <a:t>hospodárnosti</a:t>
            </a:r>
            <a:r>
              <a:rPr b="0" lang="cs-CZ" sz="600" spc="-1" strike="noStrike">
                <a:solidFill>
                  <a:srgbClr val="000000"/>
                </a:solidFill>
                <a:latin typeface="Times New Roman"/>
              </a:rPr>
              <a:t> (minimalizace výdajů při respektování cílů projektu), </a:t>
            </a:r>
            <a:r>
              <a:rPr b="1" lang="cs-CZ" sz="600" spc="-1" strike="noStrike">
                <a:solidFill>
                  <a:srgbClr val="000000"/>
                </a:solidFill>
                <a:latin typeface="Times New Roman"/>
              </a:rPr>
              <a:t>účelnosti</a:t>
            </a:r>
            <a:r>
              <a:rPr b="0" lang="cs-CZ" sz="600" spc="-1" strike="noStrike">
                <a:solidFill>
                  <a:srgbClr val="000000"/>
                </a:solidFill>
                <a:latin typeface="Times New Roman"/>
              </a:rPr>
              <a:t> (přímá vazba na projekt a nezbytnost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pro realizaci projektu) a </a:t>
            </a:r>
            <a:r>
              <a:rPr b="1" lang="cs-CZ" sz="600" spc="-1" strike="noStrike">
                <a:solidFill>
                  <a:srgbClr val="000000"/>
                </a:solidFill>
                <a:latin typeface="Times New Roman"/>
              </a:rPr>
              <a:t>efektivnosti</a:t>
            </a:r>
            <a:r>
              <a:rPr b="0" lang="cs-CZ" sz="600" spc="-1" strike="noStrike">
                <a:solidFill>
                  <a:srgbClr val="000000"/>
                </a:solidFill>
                <a:latin typeface="Times New Roman"/>
              </a:rPr>
              <a:t> (maximalizace poměru mezi výstupy a vstupy projektu);</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 </a:t>
            </a:r>
            <a:r>
              <a:rPr b="1" lang="cs-CZ" sz="600" spc="-1" strike="noStrike">
                <a:solidFill>
                  <a:srgbClr val="000000"/>
                </a:solidFill>
                <a:latin typeface="Times New Roman"/>
              </a:rPr>
              <a:t>Účel výdaje</a:t>
            </a:r>
            <a:r>
              <a:rPr b="0" lang="cs-CZ" sz="600" spc="-1" strike="noStrike">
                <a:solidFill>
                  <a:srgbClr val="000000"/>
                </a:solidFill>
                <a:latin typeface="Times New Roman"/>
              </a:rPr>
              <a:t> – výdaje musejí být uskutečněny na typy činností, které odpovídají požadavkům stanoveným OP VK, v prováděcím dokumentu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OP VK, resp. požadavkům konkrétní výzvy k předkládání žádostí, a musejí být prokazatelně vynaloženy na aktivity v souladu s obsaho</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vou stránkou a cíli projektu;</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600" spc="-1" strike="noStrike">
                <a:solidFill>
                  <a:srgbClr val="000000"/>
                </a:solidFill>
                <a:latin typeface="Times New Roman"/>
              </a:rPr>
              <a:t>Prokazatelnost výdaje</a:t>
            </a:r>
            <a:r>
              <a:rPr b="0" lang="cs-CZ" sz="600" spc="-1" strike="noStrike">
                <a:solidFill>
                  <a:srgbClr val="000000"/>
                </a:solidFill>
                <a:latin typeface="Times New Roman"/>
              </a:rPr>
              <a:t> – výdaje musejí být identifikovatelné a prokazatelné a musejí být doložitelné potvrzenými účetními doklady, tzn. musejí</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 </a:t>
            </a:r>
            <a:r>
              <a:rPr b="0" lang="cs-CZ" sz="600" spc="-1" strike="noStrike">
                <a:solidFill>
                  <a:srgbClr val="000000"/>
                </a:solidFill>
                <a:latin typeface="Times New Roman"/>
              </a:rPr>
              <a:t>být definitivní, odpovídajícím způsobem a v souladu s požadavky české legislativy zachycené v účetnictví nebo daňové evidenci příjemce dotace a</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 </a:t>
            </a:r>
            <a:r>
              <a:rPr b="0" lang="cs-CZ" sz="600" spc="-1" strike="noStrike">
                <a:solidFill>
                  <a:srgbClr val="000000"/>
                </a:solidFill>
                <a:latin typeface="Times New Roman"/>
              </a:rPr>
              <a:t>jeho případných partnerů. Výdaje musejí být zaplaceny a zaplacení musí být doloženo výpisem z projektového účtu nebo výdajovým pokladním d</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okladem (s výjimkou odpisů, nepřímých výdajů a režijních nákladů. Režijní náklady budou vyúčtovány na základě skutečných vyúčtování od dodavate</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lů. Do způsobilých výdajů se budou režijní náklady zahrnovat na základě vyúčtování od dodavatelů, nebo na základě záloh);</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600" spc="-1" strike="noStrike">
                <a:solidFill>
                  <a:srgbClr val="000000"/>
                </a:solidFill>
                <a:latin typeface="Times New Roman"/>
              </a:rPr>
              <a:t>Datum uskutečnění výdaje</a:t>
            </a:r>
            <a:r>
              <a:rPr b="0" lang="cs-CZ" sz="600" spc="-1" strike="noStrike">
                <a:solidFill>
                  <a:srgbClr val="000000"/>
                </a:solidFill>
                <a:latin typeface="Times New Roman"/>
              </a:rPr>
              <a:t> – výdaje musejí vzniknout a být uhrazeny v průběhu realizace projektu. Nebude-li v Rozhodnutí o poskytnutí dotace/Opatření Vrchního ředitele/ve Smlouvě o realizaci GP uvedeno jinak, jsou výdaje způsobilé od data zahájení realizace projektu stanoveného ve právním aktu o poskytnutí podpory, nejdříve však od data podpisu Smlouvy o realizaci grantového projektu nebo vydáním Rozhodnutí o poskytnutí dotace/Opatření Vrchního ředitele.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Výdaje související s projektem, vzniklé před vydáním Rozhodnutí o poskytnutí dotace/Opatření Vrchního ředitele nebo před uzavřením Smlouvy o realizaci GP nebo před okamžikem účinnosti dvoustranné smlouvy, jsou způsobilé pouze v případě, že je tak stanoveno v daném právním dokumentu a současně za předpokladu, že splňují další podmínky způsobilosti.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Výdaje prokazatelně související s realizací projektu, uskutečněné až po ukončení realizace projektu – např. mzdy nebo výdaje na místní kancelář, audit a další výdaje projektu, které budou uhrazeny až po ukončení realizace projektu, jsou způsobilé, pokud budou prokázány jako skutečně vynaložené způsobilé výdaje v závěrečné zprávě a v závěrečném vyúčtování projektu. Výjimkou jsou pouze odpisy, pokud spadají mezi způsobilé výdaje, u nichž nemusí být splněno kritérium data uskutečnění výdaje.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Výdaje spojené s pořizováním zařízení a vybavení, příp. spotřebního materiálu, které jsou realizovány v období krátce před ukončením projektu, musejí být prokazatelně využitelné pro práci s cílovou skupinou nebo musí prokazatelně sloužit pro dokončení realizace projektu nebo jeho závěrečného vypořádání. Pokud zařízení, vybavení nebo spotřební materiál pro realizaci projektu nebudou zakoupeny s dostatečným časovým předstihem před ukončením projektu či nebudou prokazatelně nutné pro ukončení projektu (bude se jednat o neopodstatněný výdaj), nebude poskytovatelem podpory tento výdaj uznán jako způsobilý, i když je součástí schváleného rozpočtu projektu.</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Dodržování všech těchto kritérií na straně příjemce dotace z OP VK je vždy předmětem kontroly projektu (v rámci pravidelného monitorování nebo kontrol na místě).</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600" spc="-1" strike="noStrike">
                <a:solidFill>
                  <a:srgbClr val="000000"/>
                </a:solidFill>
                <a:latin typeface="Times New Roman"/>
              </a:rPr>
              <a:t>V případě, že poskytovatel podpory dojde na základě těchto kontrol projektu k závěru, že prokázaný výdaj nesplňuje některé z kritérií, neuzná tento výdaj jako způsobilý, a to i v případě, že tento výdaj je uveden ve schváleném rozpočtu projektu.</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8"/>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9CD526D-E2A1-4730-9848-FC1EE2F63DC6}"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
        <p:nvSpPr>
          <p:cNvPr id="182" name="Text Box 1"/>
          <p:cNvSpPr/>
          <p:nvPr/>
        </p:nvSpPr>
        <p:spPr>
          <a:xfrm>
            <a:off x="990720" y="7491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3" name="PlaceHolder 1"/>
          <p:cNvSpPr>
            <a:spLocks noGrp="1"/>
          </p:cNvSpPr>
          <p:nvPr>
            <p:ph type="body"/>
          </p:nvPr>
        </p:nvSpPr>
        <p:spPr>
          <a:xfrm>
            <a:off x="676440" y="4686120"/>
            <a:ext cx="5410080" cy="4438440"/>
          </a:xfrm>
          <a:prstGeom prst="rect">
            <a:avLst/>
          </a:prstGeom>
          <a:noFill/>
          <a:ln w="0">
            <a:noFill/>
          </a:ln>
        </p:spPr>
        <p:txBody>
          <a:bodyPr lIns="0" rIns="0" tIns="358200" bIns="0" anchor="ctr" anchorCtr="1">
            <a:noAutofit/>
          </a:bodyPr>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00" spc="-1" strike="noStrike">
                <a:solidFill>
                  <a:srgbClr val="000000"/>
                </a:solidFill>
                <a:latin typeface="Times New Roman"/>
              </a:rPr>
              <a:t>Nezpůsobilé výdaje</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ezpůsobilé výdaje jsou takové výdaje, které nelze hradit z veřejných prostředků OP VK. </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Tyto výdaje, v případě, že vzniknou, hradí příjemce dotace z vlastních prostředků. </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ezpůsobilé výdaje jsou také výdaje, které nejsou vynaloženy v souladu s cíli projektu a současně</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ejsou pro jejich dosažení nezbytné. </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Dále se jedná o výdaje, které nejsou přiměřené a nejsou vynaloženy v souladu s </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principem hospodárnosti a efektivnosti nebo v souladu s evropskou nebo českou legislativou. </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 případě, že poskytovatel podpory vyhodnotí výdaj projektu jako nehospodárný a neefektivní, a to i v případě, že tento výdaj je součástí schváleného rozpočtu projektu, bude tento výdaj považován za nezpůsobilý a nebude příjemci po</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dpory v rámci žádosti o platbu proplacen (jedná se zejména o případy neopodstatněných nákupů zařízení nebo služeb před ukončením projektu nebo nákup služeb za ceny, které sice byly uvedeny ve schváleném rozpočtu projektu, příjemce k</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 </a:t>
            </a:r>
            <a:r>
              <a:rPr b="0" lang="cs-CZ" sz="400" spc="-1" strike="noStrike">
                <a:solidFill>
                  <a:srgbClr val="000000"/>
                </a:solidFill>
                <a:latin typeface="Times New Roman"/>
              </a:rPr>
              <a:t>nim však nedoložil požadované dokumenty týkající se zadání zakázky).</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Příspěvek z OP VK</a:t>
            </a:r>
            <a:r>
              <a:rPr b="1" lang="cs-CZ" sz="400" spc="-1" strike="noStrike">
                <a:solidFill>
                  <a:srgbClr val="000000"/>
                </a:solidFill>
                <a:latin typeface="Times New Roman"/>
              </a:rPr>
              <a:t> nelze</a:t>
            </a:r>
            <a:r>
              <a:rPr b="0" lang="cs-CZ" sz="400" spc="-1" strike="noStrike">
                <a:solidFill>
                  <a:srgbClr val="000000"/>
                </a:solidFill>
                <a:latin typeface="Times New Roman"/>
              </a:rPr>
              <a:t> poskytnout na tyto výdaje:</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spojené s financováním rekvalifikací pro uchazeče a zájemce o zaměstnání realizovaných ve spolupráci s úřady práce;</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spojené s financováním zkoušek a certifikátů v případě, že účastník v rámci projektu tuto zkoušku skládá/usiluje o získání certifikátu na druhý nebo další pokus;</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spojené s financováním zkoušek, jejichž složení je nedílnou součástí příslušných vzdělávacích programů počátečního vzdělávání;</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spojené s financováním zkoušek a certifikátů v případě, že skládání zkoušky (pokus o získání certifikátu) nenavazuje na vzdělávací aktivitu, které se zájemce o zkoušku/certifikát účastnil v rámci projektu</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daň z přidané hodnoty (DPH) nebo její část, pokud existuje zákonný nárok na její odpočet (pokud je příjemce plátcem DPH);</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úroky z úvěrů a půjček, pokud se nejedná o schválenou formu podpory z fondu ESF;</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sankční poplatky, pokuty a penále, případně další sankční výdaje (vyplývající ze smluv nebo dalších příčin), stornovací poplatky;</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správní a místní poplatky, které nemají přímou vazbu na projekt a nejsou výslovně stanoveny Řídícím orgánem (výpis z katastru nemovitostí, výpis z obchodního rejstříku apod.);</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áklady na audit v případě projektů s rozpočtem nižším než 3 mil. Kč včetně DPH;</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ákupy nábytku nebo vybavení, vozidel, infrastruktury, nemovitostí a pozemků; </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mzdové náklady zaměstnanců, kteří se na realizaci projektu nepodílejí;</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u zaměstnanců, kteří se na realizaci projektu podílejí, alikvotní část osobních nákladů, která neodpovídá pracovnímu vytížení zaměstnance na daném projektu;</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vzniklé mimo časový rámec způsobilosti výdajů (výjimku tvoří výdaje, které byly uskutečněny po ukončení projektu, ale věcně s obdobím, v němž se projekt realizoval, souvisejí – např. závěrečný audit, telefonní účty – za období, kdy se projekt realizoval, doručené a zaplacené po jeho ukončení, bankovní poplatky za vedení samostatného účtu projektu, mzdové náklady za poslední měsíc realizace projektu). Příslušné účetní doklady musejí být předloženy nejpozději se závěrečnou žádostí o platbu);</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edení běžného provozního účtu organizace a bankovní poplatky související s tímto účtem (pokud nevyplývají z právního aktu);</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jiné přímé daně (silniční daň, daň z nemovitostí, daň darovací, daň dědická, cla apod.);</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které jsou součástí likvidace společnosti, nedobytné pohledávky a jiné;</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na právní spory vzniklé v souvislosti s určitým projektem, např. výdaje na uhrazení soudního poplatku, na pořízení důkazů, na právní zastoupení v případě sporu, penále, pokuty, jiné sankční výdaje a právní výlohy související s právním sporem;</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odstupné;</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platby příspěvků do soukromých penzijních fondů;</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peněžitá pomoc v mateřství;</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ostatní sociální výdaje na zaměstnance, ke kterým nejsou zaměstnavatelé povinni dle zvláštních právních předpisů (příspěvky na penzijní připojištění, životní pojištění, dary k životním jubileím, příspěvky na rekreaci apod.);</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edobytné pohledávky;</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ájemné, kdy je příjemce vlastníkem nemovitosti nebo ji užívá zdarma;</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debetní úroky (úrok z dlužné částky), výdaje směnečné a jiné čistě finanční výdaje;</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spojené s přípravou projektu a řízením projektu (platby konzultantům, kteří pomáhají s vyplňováním žádostí o finanční podporu z OP VK, zpracováním monitorovacích zpráv a žádostí o platby) v případě, že se jedná o externí dodavatele;</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spojené s administrací veřejných zakázek malého rozsahu, jejichž zadání se neřídí zákonem č. 137/2006 Sb., o veřejných zakázkách, ale postupy stanovenými Příručkou pro příjemce.</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áklady převyšující nabídkovou cenu (tzv. vícenáklady) uvedenou v nabídce, na základě jejíhož předložení byl dodavatel vysoutěžen;</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 </a:t>
            </a:r>
            <a:r>
              <a:rPr b="0" lang="cs-CZ" sz="400" spc="-1" strike="noStrike">
                <a:solidFill>
                  <a:srgbClr val="000000"/>
                </a:solidFill>
                <a:latin typeface="Times New Roman"/>
              </a:rPr>
              <a:t>smlouvy o splátkovém prodeji;</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část pořizovací ceny přesahující cenu zjištěnou znaleckým posudkem nebo přesahující cenu v místě a čase obvyklou;</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režijní náklady</a:t>
            </a:r>
            <a:r>
              <a:rPr b="1" i="1" lang="cs-CZ" sz="400" spc="-1" strike="noStrike">
                <a:solidFill>
                  <a:srgbClr val="000000"/>
                </a:solidFill>
                <a:latin typeface="Times New Roman"/>
              </a:rPr>
              <a:t> </a:t>
            </a:r>
            <a:r>
              <a:rPr b="0" lang="cs-CZ" sz="400" spc="-1" strike="noStrike">
                <a:solidFill>
                  <a:srgbClr val="000000"/>
                </a:solidFill>
                <a:latin typeface="Times New Roman"/>
              </a:rPr>
              <a:t>vztahující se k všeobecnému provozu organizace bez vazby na projekt;</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odpovídající svým vymezením kategorii mimořádných nákladů (např. oprava nákladů minulých účetních období, vyúčtování nároku zaměstnanců na odstupné při reorganizaci, odškodnění při pracovních úrazech, výdaje, kterými nájemce podle smlouvy uvádí po skončení nájmu najatou věc do předešlého stavu apod.);</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smlouvy s dodavateli (eventuálně dodávky na základě vystavené objednávky), které:</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 nepřinášejí navýšení přidané hodnoty projektů;</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jsou uzavřeny s konzultanty nebo zprostředkovateli, u nichž je platba definována jako procentní sazba z celkových nákladů projektu, pokud tato platba není potvrzena příjemcem s odkazem na skutečnou hodnotu poskytnuté práce či služby;</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 jsou více než dvojúrovňové (např. smlouvy o zprostředkování).</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rezervy na možné budoucí ztráty a dluhy;</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kurzové ztráty;</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splátky finančního leasingu; </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splátky operativního leasingu související s nájmem vybavení a zařízení, která nebudou výhradně využívána pro potřeby cílové skupiny (např. vozidel pro potřeby realizačního týmu) a leasingový vztah s volným/otevřeným koncem leasingové smlouvy umožňujícím odkup vybavení a zařízení za zůstatkovou cenu;</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stipendia nebo platby cílové skupině podobného charakteru,</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prostředky na tvorbu FKSP za pracovníky, kteří jsou v rámci projektu hrazeni podle metodiky nepřímých nákladů, výdaje na běžné provozní náklady organizace, které nesouvisejí s realizací projektu – tj. zajištění běžného chodu organizace – každodenní řízení, monitorování a kontroly příjemce (nesouvisející přímo s projektem – prováděly by se i bez jeho realizace);</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za činnosti, které již v rámci jiných českých nebo zahraničních dotačních programů či Iniciativ Společenství financovaných z ESF či jiných programů financovaných Evropskou unií podporu dostávají.</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eplatí pro oblast podpory 3.1</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Pokud výzva nestanoví jinak.</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Pokud nábytek nebo vybavení nejsou financovány v rámci křížového financování a nejedná se o položky uvedené v části „</a:t>
            </a:r>
            <a:r>
              <a:rPr b="0" lang="cs-CZ" sz="400" spc="-1" strike="noStrike" u="sng">
                <a:solidFill>
                  <a:srgbClr val="ccccff"/>
                </a:solidFill>
                <a:uFillTx/>
                <a:latin typeface="Times New Roman"/>
                <a:hlinkClick r:id="rId1"/>
              </a:rPr>
              <a:t>nábytkem</a:t>
            </a:r>
            <a:r>
              <a:rPr b="0" lang="cs-CZ" sz="400" spc="-1" strike="noStrike">
                <a:solidFill>
                  <a:srgbClr val="000000"/>
                </a:solidFill>
                <a:latin typeface="Times New Roman"/>
              </a:rPr>
              <a:t> nejsou“.</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8"/>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776D601-B570-4B62-A7DB-9C0FD6E9A620}"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
        <p:nvSpPr>
          <p:cNvPr id="185" name="Text Box 1"/>
          <p:cNvSpPr/>
          <p:nvPr/>
        </p:nvSpPr>
        <p:spPr>
          <a:xfrm>
            <a:off x="990720" y="7491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6" name="PlaceHolder 1"/>
          <p:cNvSpPr>
            <a:spLocks noGrp="1"/>
          </p:cNvSpPr>
          <p:nvPr>
            <p:ph type="body"/>
          </p:nvPr>
        </p:nvSpPr>
        <p:spPr>
          <a:xfrm>
            <a:off x="676440" y="4686120"/>
            <a:ext cx="5410080" cy="4438440"/>
          </a:xfrm>
          <a:prstGeom prst="rect">
            <a:avLst/>
          </a:prstGeom>
          <a:noFill/>
          <a:ln w="0">
            <a:noFill/>
          </a:ln>
        </p:spPr>
        <p:txBody>
          <a:bodyPr lIns="0" rIns="0" tIns="35820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1200" spc="-1" strike="noStrike" u="sng">
                <a:solidFill>
                  <a:srgbClr val="000000"/>
                </a:solidFill>
                <a:uFillTx/>
                <a:latin typeface="Times New Roman"/>
              </a:rPr>
              <a:t>5.3.2.1</a:t>
            </a:r>
            <a:r>
              <a:rPr b="1" i="1" lang="cs-CZ" sz="1200" spc="-1" strike="noStrike" u="sng">
                <a:solidFill>
                  <a:srgbClr val="000000"/>
                </a:solidFill>
                <a:uFillTx/>
                <a:latin typeface="Times New Roman"/>
              </a:rPr>
              <a:t>	</a:t>
            </a:r>
            <a:r>
              <a:rPr b="1" i="1" lang="cs-CZ" sz="1200" spc="-1" strike="noStrike" u="sng">
                <a:solidFill>
                  <a:srgbClr val="000000"/>
                </a:solidFill>
                <a:uFillTx/>
                <a:latin typeface="Times New Roman"/>
              </a:rPr>
              <a:t>Kapitola rozpočtu 1 – Osobní výdaje související s realizací projek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ed zahájením realizace projektu je nutné, aby příjemce a jeho partneři stanovili nebo jmenovali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racovní tým projektu a aby s pracovníky byl včas uzavřen smluvní vztah, který bude definovat jejich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apojení v rámci projektu (pracovní smlouva, dodatek k pracovní smlouvě, dohoda o provedení práce,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dohoda o pracovní činnosti, případně licenční smlouva). Včasné uzavření těchto smluvních vztahů j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potřebné v souvislosti se zajištěním hladkého začátku realizace projektu, s čerpáním finančníc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prostředků z rozpočtu projektu a v neposlední řadě také pro zajištění včasného přihlášení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racovníků k zákonným odvodům.</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této kapitole rozpočtu jsou způsobilými výdaji rozuměny pouze osobní výdaje pracovníků,</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kteří jsou přímo zapojeni do realizace projektu a podílejí se na ní v rámci organizace příjemc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nebo partnera projektu. Jsou tedy tzv. „zaměstnanci“ projek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896760" y="743040"/>
            <a:ext cx="4924440" cy="3693960"/>
          </a:xfrm>
          <a:prstGeom prst="rect">
            <a:avLst/>
          </a:prstGeom>
          <a:ln w="0">
            <a:noFill/>
          </a:ln>
        </p:spPr>
      </p:sp>
      <p:sp>
        <p:nvSpPr>
          <p:cNvPr id="188"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Pracovní smlouva, dohoda o pracovní činnosti a dohoda o provedení práce, autorské honorář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racovní smlouvy a dohody o pracích konaných mimo pracovní poměr musejí být uzavřeny v souladu se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ákoníkem práce a obsahovat všechny náležitosti pracovní smlouvy podle tohoto zákona.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Dále povinně musejí obsahova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identifikaci projektu, do kterého je pracovník zapoj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opis pracovní činnosti relevantní pro projek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rozsah činnosti, tzn. úvazek či počet hodin za časovou jednotku (měsíc, rok apo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ýši odměn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ípadně další zákonem stanovené náležitosti;</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ovinnost odevzdávat pracovní výkaz (měsíční).</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89"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E46C21A-861E-4264-AA64-C6FAA23E7318}"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896760" y="743040"/>
            <a:ext cx="4924440" cy="3693960"/>
          </a:xfrm>
          <a:prstGeom prst="rect">
            <a:avLst/>
          </a:prstGeom>
          <a:ln w="0">
            <a:noFill/>
          </a:ln>
        </p:spPr>
      </p:sp>
      <p:sp>
        <p:nvSpPr>
          <p:cNvPr id="191"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u="sng">
                <a:solidFill>
                  <a:srgbClr val="000000"/>
                </a:solidFill>
                <a:uFillTx/>
                <a:latin typeface="Times New Roman"/>
              </a:rPr>
              <a:t>Způsobilé osobní výdaje</a:t>
            </a:r>
            <a:r>
              <a:rPr b="0" lang="cs-CZ" sz="1200" spc="-1" strike="noStrike">
                <a:solidFill>
                  <a:srgbClr val="000000"/>
                </a:solidFill>
                <a:latin typeface="Times New Roman"/>
              </a:rPr>
              <a:t> tedy zahrnují:</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mzdové výdaje pracovníků, kteří mají v rámci projektu uzavřen pracovněprávní vzta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a jsou zaměstnáni výhradně pro projek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íslušnou část mezd nebo platů zaměstnanců, kteří se na realizaci projektu podílejí pouz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částí svého úvazku, a to ve výši odpovídající jejich úvazku na projek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ýdaje na odměnu zaměstnanců, kteří jsou v rámci projektu zaměstnáni</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na dohodu o pracovní činnosti nebo dohodu o provedení prác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autorské honorář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ákonné odvody na sociální a zdravotní pojištění hrazené zaměstnavatelem,</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ípadně další zákonná pojištění a zákonné odvody a náhrad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92"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FB5BFFA-8E55-4CB0-9AFD-61A07F51B427}"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896760" y="743040"/>
            <a:ext cx="4924440" cy="3693960"/>
          </a:xfrm>
          <a:prstGeom prst="rect">
            <a:avLst/>
          </a:prstGeom>
          <a:ln w="0">
            <a:noFill/>
          </a:ln>
        </p:spPr>
      </p:sp>
      <p:sp>
        <p:nvSpPr>
          <p:cNvPr id="194"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Osobní výdaje musejí odpovídat nominálním mzdám, resp. platům a zákonným odvodů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na sociální a zdravotní pojištění hrazeným zaměstnavatelem a případně dalším nákladů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daným zákonem nebo jiným právním předpisem (základní mzda nebo plat, příplatk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a doplatky ke mzdě nebo platu, prémie a odměny, náhrady mezd a platů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např. za dovolenou, za práci ve státem uznaný svátek, odměny za pracovní pohotovost, jiné složky mzdy nebo platu, odvody zaměstnavatele na sociální a zdravotní pojištění, náhrada mzdy za pracovní neschopnost v souladu s platnou legislativou (snížená o případný nárok na refundaci ze strany státu) a další poplatky spojené se zaměstnancem hrazené zaměstnavatelem povinně ze zákona). Jedná se tedy o hrubou mzdu včetně všech zákonných odvodů hrazených zaměstnavatelem a dále povinné výdaje vyplývající z právních předpisů, např. zákonné pojištění odpovědnosti zaměstnavatele za škodu při pracovním úrazu nebo nemoci z povolání, FKSP, apod.</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Odvody do Fondu kulturních a sociálních potřeb podle vyhlášky MF č. 114/2002 Sb.:</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Náklady na odvody do Fondu kulturních a sociálních potřeb (FKSP) </a:t>
            </a:r>
            <a:r>
              <a:rPr b="0" lang="cs-CZ" sz="800" spc="-1" strike="noStrike">
                <a:solidFill>
                  <a:srgbClr val="000000"/>
                </a:solidFill>
                <a:latin typeface="Times New Roman"/>
              </a:rPr>
              <a:t>jsou uznatelné jen u těch příjemců / partnerů, kteří jsou organizační složkou státu, státní příspěvkovou organizací a nebo příspěvkovou organizací zřízenou územními samosprávnými celky, kterým ukládá vyhláška MF č. 114/2002 Sb. o Fondu kulturních a sociálních potřeb (FKSP) odvádět do FKSP základní příděl ve výši 2% z ročního objemu nákladů zúčtovaných na platy a náhrady platů, popřípadě na mzdy a náhrady mzdy a odměny za pracovní pohotovost a dále na odměny a ostatní plnění za práci vykonávanou v rámci odborného výcviku na produktivních činnostech žákům učilišť.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Náklady na odvody do FKSP nemohou uplatnit příjemci, kterým vyhláška MF č. 114/2002 Sb. o Fondu kulturních a sociálních potřeb (FKSP) tuto povinnost neukládá.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je v rámci projektu využita metodika nepřímých nákladů, pak lze náklady na plnění fondu FKSP uplatnit jen vzhledem k pracovníkům, jejichž mzdy/platy/odměny jsou hrazeny v rámci přímých nákladů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Výše mzdových výdajů nesmí přesahovat výši v  místě realizace projektu, oboru a čase obvyklou. Doporučující výše mzdových nákladů jsou uvedeny v Metodickém dopise č. 4 uveřejněném na stránkách </a:t>
            </a:r>
            <a:r>
              <a:rPr b="0" lang="cs-CZ" sz="800" spc="-1" strike="noStrike" u="sng">
                <a:solidFill>
                  <a:srgbClr val="ccccff"/>
                </a:solidFill>
                <a:uFillTx/>
                <a:latin typeface="Times New Roman"/>
                <a:hlinkClick r:id="rId1"/>
              </a:rPr>
              <a:t>www.msmt.cz</a:t>
            </a:r>
            <a:r>
              <a:rPr b="1" lang="cs-CZ" sz="800" spc="-1" strike="noStrike">
                <a:solidFill>
                  <a:srgbClr val="000000"/>
                </a:solidFill>
                <a:latin typeface="Times New Roman"/>
              </a:rPr>
              <a:t> .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I v případě těchto výdajů platí, že se musí jednat o skutečně vynaložené výdaje, příjemce dotace a případní partneři proto musejí dokládat vynaložení těchto výdajů odpovídajícími doklady (smlouva upravující pracovněprávní vztah, měsíční pracovní výkaz, výplatní listina/výplatní páska, mzdový list, výpis z účtu projektu nebo výdajový doklad).</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se zaměstnanec příjemce nebo partnera podílí na aktivitách projektu pouze částí svého pracovního úvazku, </a:t>
            </a:r>
            <a:r>
              <a:rPr b="1" lang="cs-CZ" sz="800" spc="-1" strike="noStrike">
                <a:solidFill>
                  <a:srgbClr val="000000"/>
                </a:solidFill>
                <a:latin typeface="Times New Roman"/>
              </a:rPr>
              <a:t>musí být tento úvazek specifikován v jeho pracovní smlouvě</a:t>
            </a:r>
            <a:r>
              <a:rPr b="0" lang="cs-CZ" sz="800" spc="-1" strike="noStrike">
                <a:solidFill>
                  <a:srgbClr val="000000"/>
                </a:solidFill>
                <a:latin typeface="Times New Roman"/>
              </a:rPr>
              <a:t> (případně v jiném typu smlouvy) a způsobilým výdajem může být v tomto případě pouze odpovídající část jeho mzdových nákladů.</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racovníci příjemce a partnera projektu v případě kontinuálních pracovních činností prokazují své zapojení v projektu </a:t>
            </a:r>
            <a:r>
              <a:rPr b="1" lang="cs-CZ" sz="800" spc="-1" strike="noStrike">
                <a:solidFill>
                  <a:srgbClr val="000000"/>
                </a:solidFill>
                <a:latin typeface="Times New Roman"/>
              </a:rPr>
              <a:t>pracovním výkazem</a:t>
            </a:r>
            <a:r>
              <a:rPr b="0" lang="cs-CZ" sz="800" spc="-1" strike="noStrike">
                <a:solidFill>
                  <a:srgbClr val="000000"/>
                </a:solidFill>
                <a:latin typeface="Times New Roman"/>
              </a:rPr>
              <a:t>. Nejvhodnější formou pro vykazování práce odvedené při realizaci projektových aktivit je </a:t>
            </a:r>
            <a:r>
              <a:rPr b="1" lang="cs-CZ" sz="800" spc="-1" strike="noStrike">
                <a:solidFill>
                  <a:srgbClr val="000000"/>
                </a:solidFill>
                <a:latin typeface="Times New Roman"/>
              </a:rPr>
              <a:t>měsíční souhrn – pracovní výkaz</a:t>
            </a:r>
            <a:r>
              <a:rPr b="0" lang="cs-CZ" sz="800" spc="-1" strike="noStrike">
                <a:solidFill>
                  <a:srgbClr val="000000"/>
                </a:solidFill>
                <a:latin typeface="Times New Roman"/>
              </a:rPr>
              <a:t>.</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racovní výkazy nevykazují pracovníci, jimž je odměna hrazena v rámci autorského honoráře. </a:t>
            </a:r>
            <a:endParaRPr b="0" lang="en-US" sz="800" spc="-1" strike="noStrike">
              <a:solidFill>
                <a:srgbClr val="000000"/>
              </a:solidFill>
              <a:latin typeface="Times New Roman"/>
            </a:endParaRPr>
          </a:p>
        </p:txBody>
      </p:sp>
      <p:sp>
        <p:nvSpPr>
          <p:cNvPr id="195"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D65D564-4917-4932-8F7D-39254ABEC477}"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C8B45D-4396-43E4-99AE-A702DC4737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D40775-6093-406D-AC9A-A21E6AE446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7361E8-3DB4-4F79-88A9-3F1EE65ABC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0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44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0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44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EA8F60-F614-45DA-ACB7-03569F5C01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969F4E-44F6-4DC6-AA86-A636F5461D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503280" y="1767960"/>
            <a:ext cx="9066240" cy="4984920"/>
          </a:xfrm>
          <a:prstGeom prst="rect">
            <a:avLst/>
          </a:prstGeom>
          <a:noFill/>
          <a:ln w="0">
            <a:noFill/>
          </a:ln>
        </p:spPr>
        <p:txBody>
          <a:bodyPr lIns="0" rIns="0" tIns="0" bIns="0" anchor="ctr">
            <a:noAutofit/>
          </a:bodyPr>
          <a:p>
            <a:pPr marL="104760"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E41AE5-8882-4845-B58C-B3479FFC65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0" name="PlaceHolder 2"/>
          <p:cNvSpPr>
            <a:spLocks noGrp="1"/>
          </p:cNvSpPr>
          <p:nvPr>
            <p:ph/>
          </p:nvPr>
        </p:nvSpPr>
        <p:spPr>
          <a:xfrm>
            <a:off x="503280" y="1767960"/>
            <a:ext cx="90662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D686A5-C2FF-42EA-859E-9076E07DC2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2"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3"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D33693-360E-47EB-8742-7E873B0F0C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085FA4-FADA-4D14-A61D-74FF1AFF76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marL="10476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40627F-C0A6-49A9-98BD-BF8980A87D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7"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8"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9"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ED7968-1A89-47AD-8E04-F0F31BE1C1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9066240" cy="4984920"/>
          </a:xfrm>
          <a:prstGeom prst="rect">
            <a:avLst/>
          </a:prstGeom>
          <a:noFill/>
          <a:ln w="0">
            <a:noFill/>
          </a:ln>
        </p:spPr>
        <p:txBody>
          <a:bodyPr lIns="0" rIns="0" tIns="0" bIns="0" anchor="ctr">
            <a:noAutofit/>
          </a:bodyPr>
          <a:p>
            <a:pPr marL="104760"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719191-390C-46A3-81E2-0811FA29BB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1"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2"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3" name="PlaceHolder 4"/>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9B691D-1A64-4F9C-B869-93123A8A84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5"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6"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7" name="PlaceHolder 4"/>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4D12B3-DD09-4093-A811-093405E5F8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9" name="PlaceHolder 2"/>
          <p:cNvSpPr>
            <a:spLocks noGrp="1"/>
          </p:cNvSpPr>
          <p:nvPr>
            <p:ph/>
          </p:nvPr>
        </p:nvSpPr>
        <p:spPr>
          <a:xfrm>
            <a:off x="503280" y="176796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0" name="PlaceHolder 3"/>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434CA1-6B03-40F0-ADA8-AF17478B72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4"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5"/>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AFE824-E1C0-4E73-8320-7CF97DBE94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7" name="PlaceHolder 2"/>
          <p:cNvSpPr>
            <a:spLocks noGrp="1"/>
          </p:cNvSpPr>
          <p:nvPr>
            <p:ph/>
          </p:nvPr>
        </p:nvSpPr>
        <p:spPr>
          <a:xfrm>
            <a:off x="50328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8" name="PlaceHolder 3"/>
          <p:cNvSpPr>
            <a:spLocks noGrp="1"/>
          </p:cNvSpPr>
          <p:nvPr>
            <p:ph/>
          </p:nvPr>
        </p:nvSpPr>
        <p:spPr>
          <a:xfrm>
            <a:off x="35690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9" name="PlaceHolder 4"/>
          <p:cNvSpPr>
            <a:spLocks noGrp="1"/>
          </p:cNvSpPr>
          <p:nvPr>
            <p:ph/>
          </p:nvPr>
        </p:nvSpPr>
        <p:spPr>
          <a:xfrm>
            <a:off x="66344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5"/>
          <p:cNvSpPr>
            <a:spLocks noGrp="1"/>
          </p:cNvSpPr>
          <p:nvPr>
            <p:ph/>
          </p:nvPr>
        </p:nvSpPr>
        <p:spPr>
          <a:xfrm>
            <a:off x="50328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6"/>
          <p:cNvSpPr>
            <a:spLocks noGrp="1"/>
          </p:cNvSpPr>
          <p:nvPr>
            <p:ph/>
          </p:nvPr>
        </p:nvSpPr>
        <p:spPr>
          <a:xfrm>
            <a:off x="35690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2" name="PlaceHolder 7"/>
          <p:cNvSpPr>
            <a:spLocks noGrp="1"/>
          </p:cNvSpPr>
          <p:nvPr>
            <p:ph/>
          </p:nvPr>
        </p:nvSpPr>
        <p:spPr>
          <a:xfrm>
            <a:off x="66344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9B3674-26B8-44EA-9A2C-43368D4636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90662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503C6A-1A70-4513-9C7A-DF6BD1A9D2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E7C3F5-7150-4795-8844-114D2142AC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D25E2E-5DA0-4AB3-9DE9-BE6C721473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marL="10476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F45986-E1DD-4E57-9E14-52595545C0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A4BC9-29CA-4A43-A048-C8DD5D7F1B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6D478-A4B9-4341-A172-C36BB77C3B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90D658-CFF5-4D1A-802E-759F99CDDE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9066240" cy="4984920"/>
          </a:xfrm>
          <a:prstGeom prst="rect">
            <a:avLst/>
          </a:prstGeom>
          <a:noFill/>
          <a:ln w="0">
            <a:noFill/>
          </a:ln>
        </p:spPr>
        <p:txBody>
          <a:bodyPr lIns="0" rIns="0" tIns="0" bIns="0" anchor="t">
            <a:normAutofit/>
          </a:bodyPr>
          <a:p>
            <a:pPr marL="428760" indent="-3240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0400" indent="-28584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2400" indent="-21456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4040" indent="-21276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marL="216000"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cs-CZ" sz="1400" spc="-1" strike="noStrike">
                <a:solidFill>
                  <a:srgbClr val="000000"/>
                </a:solidFill>
                <a:latin typeface="Times New Roman"/>
              </a:defRPr>
            </a:lvl1pPr>
          </a:lstStyle>
          <a:p>
            <a:pPr marL="216000"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BA43D18-7986-4EF3-B6A8-EADA3D3F8C9C}" type="slidenum">
              <a:rPr b="0" lang="cs-CZ"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
          <p:cNvPicPr/>
          <p:nvPr/>
        </p:nvPicPr>
        <p:blipFill>
          <a:blip r:embed="rId2"/>
          <a:stretch/>
        </p:blipFill>
        <p:spPr>
          <a:xfrm>
            <a:off x="0" y="3137040"/>
            <a:ext cx="1447920" cy="4124160"/>
          </a:xfrm>
          <a:prstGeom prst="rect">
            <a:avLst/>
          </a:prstGeom>
          <a:ln w="0">
            <a:noFill/>
          </a:ln>
        </p:spPr>
      </p:pic>
      <p:sp>
        <p:nvSpPr>
          <p:cNvPr id="4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503280" y="1767960"/>
            <a:ext cx="9066240" cy="4984920"/>
          </a:xfrm>
          <a:prstGeom prst="rect">
            <a:avLst/>
          </a:prstGeom>
          <a:noFill/>
          <a:ln w="0">
            <a:noFill/>
          </a:ln>
        </p:spPr>
        <p:txBody>
          <a:bodyPr lIns="0" rIns="0" tIns="0" bIns="0" anchor="t">
            <a:normAutofit/>
          </a:bodyPr>
          <a:p>
            <a:pPr marL="428760" indent="-3240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0400" indent="-28584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2400" indent="-21456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4040" indent="-21276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4"/>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7227360" y="6886440"/>
            <a:ext cx="2343240" cy="516240"/>
          </a:xfrm>
          <a:prstGeom prst="rect">
            <a:avLst/>
          </a:prstGeom>
          <a:noFill/>
          <a:ln w="0">
            <a:noFill/>
          </a:ln>
        </p:spPr>
        <p:txBody>
          <a:bodyPr lIns="0" rIns="0" tIns="0" bIns="0" anchor="t">
            <a:noAutofit/>
          </a:bodyPr>
          <a:lstStyle>
            <a:lvl1pPr marL="216000"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cs-CZ" sz="1400" spc="-1" strike="noStrike">
                <a:solidFill>
                  <a:srgbClr val="000000"/>
                </a:solidFill>
                <a:latin typeface="Times New Roman"/>
              </a:defRPr>
            </a:lvl1pPr>
          </a:lstStyle>
          <a:p>
            <a:pPr marL="216000"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39EAF1D-931A-4D9C-99A9-1BCD529896BE}" type="slidenum">
              <a:rPr b="0" lang="cs-CZ"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hyperlink" Target="http://ec.europa.eu/europeaid/work/procedures/implementation/per_diems/index_en.htm" TargetMode="External"/><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mailto:helena.barborakova@msmt.cz" TargetMode="External"/><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936800" y="1922400"/>
            <a:ext cx="8143920" cy="392904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Pravidla finančního řízení</a:t>
            </a:r>
            <a:br>
              <a:rPr sz="4400"/>
            </a:br>
            <a:br>
              <a:rPr sz="4400"/>
            </a:br>
            <a:br>
              <a:rPr sz="2000"/>
            </a:br>
            <a:r>
              <a:rPr b="1" lang="cs-CZ" sz="3200" spc="-1" strike="noStrike">
                <a:solidFill>
                  <a:srgbClr val="f3912c"/>
                </a:solidFill>
                <a:latin typeface="Arial"/>
              </a:rPr>
              <a:t>Ing. Helena Viktorie Barbořáková</a:t>
            </a:r>
            <a:br>
              <a:rPr sz="3200"/>
            </a:br>
            <a:br>
              <a:rPr sz="3200"/>
            </a:br>
            <a:r>
              <a:rPr b="1" lang="cs-CZ" sz="1400" spc="-1" strike="noStrike">
                <a:solidFill>
                  <a:srgbClr val="f3912c"/>
                </a:solidFill>
                <a:latin typeface="Arial"/>
              </a:rPr>
              <a:t>Prezentace pro příjemce IPo,kteří se řídí Příručkou pro příjemce, verze 2, ze dne 15.4.2009</a:t>
            </a:r>
            <a:r>
              <a:rPr b="1" lang="cs-CZ" sz="3200" spc="-1" strike="noStrike">
                <a:solidFill>
                  <a:srgbClr val="f3912c"/>
                </a:solidFill>
                <a:latin typeface="Arial"/>
              </a:rPr>
              <a:t>.</a:t>
            </a:r>
            <a:endParaRPr b="0" lang="en-US" sz="3200" spc="-1" strike="noStrike">
              <a:solidFill>
                <a:srgbClr val="000000"/>
              </a:solidFill>
              <a:latin typeface="Arial"/>
            </a:endParaRPr>
          </a:p>
        </p:txBody>
      </p:sp>
      <p:sp>
        <p:nvSpPr>
          <p:cNvPr id="92" name="PlaceHolder 2"/>
          <p:cNvSpPr>
            <a:spLocks noGrp="1"/>
          </p:cNvSpPr>
          <p:nvPr>
            <p:ph/>
          </p:nvPr>
        </p:nvSpPr>
        <p:spPr>
          <a:xfrm>
            <a:off x="1682640" y="6671880"/>
            <a:ext cx="8398080" cy="8874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Arial"/>
              </a:rPr>
              <a:t>Tato prezentace je spolufinancována z Evropského sociálního fondu a státního rozpočtu České republiky</a:t>
            </a:r>
            <a:r>
              <a:rPr b="0"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1</a:t>
            </a:r>
            <a:endParaRPr b="0" lang="en-US" sz="4400" spc="-1" strike="noStrike">
              <a:solidFill>
                <a:srgbClr val="000000"/>
              </a:solidFill>
              <a:latin typeface="Arial"/>
            </a:endParaRPr>
          </a:p>
        </p:txBody>
      </p:sp>
      <p:sp>
        <p:nvSpPr>
          <p:cNvPr id="111" name="PlaceHolder 2"/>
          <p:cNvSpPr>
            <a:spLocks noGrp="1"/>
          </p:cNvSpPr>
          <p:nvPr>
            <p:ph/>
          </p:nvPr>
        </p:nvSpPr>
        <p:spPr>
          <a:xfrm>
            <a:off x="1976400" y="1707840"/>
            <a:ext cx="7778880" cy="50958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Čerpání osobních nákladů</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Jednotkové mzdy, které jsou stanovené ve schváleném rozpočtu projektu v závislosti na pracovní pozici a typu pracovního poměru hodinovou sazbou nebo měsíční sazbou, jsou </a:t>
            </a:r>
            <a:r>
              <a:rPr b="1" lang="cs-CZ" sz="2200" spc="-1" strike="noStrike">
                <a:solidFill>
                  <a:srgbClr val="000000"/>
                </a:solidFill>
                <a:latin typeface="Arial"/>
              </a:rPr>
              <a:t>průměrovými ukazateli </a:t>
            </a:r>
            <a:r>
              <a:rPr b="0" lang="cs-CZ" sz="2200" spc="-1" strike="noStrike">
                <a:solidFill>
                  <a:srgbClr val="000000"/>
                </a:solidFill>
                <a:latin typeface="Arial"/>
              </a:rPr>
              <a:t>a jsou po celou dobu realizace projektu závazné. Pro možnost využívání motivačních prvků v odměňování zaměstnanců lze tyto prostředky určené na jednotlivé pracovní pozice čerpat během doby realizace projektu nerovnoměrně.</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539360" y="421920"/>
            <a:ext cx="8541000" cy="571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1</a:t>
            </a:r>
            <a:endParaRPr b="0" lang="en-US" sz="4400" spc="-1" strike="noStrike">
              <a:solidFill>
                <a:srgbClr val="000000"/>
              </a:solidFill>
              <a:latin typeface="Arial"/>
            </a:endParaRPr>
          </a:p>
        </p:txBody>
      </p:sp>
      <p:sp>
        <p:nvSpPr>
          <p:cNvPr id="113" name="PlaceHolder 2"/>
          <p:cNvSpPr>
            <a:spLocks noGrp="1"/>
          </p:cNvSpPr>
          <p:nvPr>
            <p:ph/>
          </p:nvPr>
        </p:nvSpPr>
        <p:spPr>
          <a:xfrm>
            <a:off x="1611360" y="1351080"/>
            <a:ext cx="8469360" cy="59292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Pracovní výkaz musí minimálně obsahovat</a:t>
            </a:r>
            <a:endParaRPr b="0" lang="en-US" sz="3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identifikaci projektu</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název subjektu (příjemce/partner)</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jednoznačnou identifikaci pracovníka a zastávané funkce </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časové vymezení (měsíc a rok, ve kterém byla činnost prováděna)</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údaje o úvazku v projektu, případně o zapojení do dalších projektů v téže organizaci</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časový rozsah práce dle smlouvy a popis činností, které jsou vykonávány v rámci projektu v jednotlivých dnech konkrétního měsíce</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opis činností musí být podrobně zpracován vzhledem ke konkrétním prováděným činnostem, nestačí obecné formulace typu „administrativní práce“ nebo „vedení projektu“</a:t>
            </a:r>
            <a:endParaRPr b="0" lang="en-US" sz="2200" spc="-1" strike="noStrike">
              <a:solidFill>
                <a:srgbClr val="000000"/>
              </a:solidFill>
              <a:latin typeface="Arial"/>
            </a:endParaRPr>
          </a:p>
          <a:p>
            <a:pPr indent="0">
              <a:lnSpc>
                <a:spcPct val="100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1</a:t>
            </a:r>
            <a:endParaRPr b="0" lang="en-US" sz="4400" spc="-1" strike="noStrike">
              <a:solidFill>
                <a:srgbClr val="000000"/>
              </a:solidFill>
              <a:latin typeface="Arial"/>
            </a:endParaRPr>
          </a:p>
        </p:txBody>
      </p:sp>
      <p:sp>
        <p:nvSpPr>
          <p:cNvPr id="115" name="PlaceHolder 2"/>
          <p:cNvSpPr>
            <a:spLocks noGrp="1"/>
          </p:cNvSpPr>
          <p:nvPr>
            <p:ph/>
          </p:nvPr>
        </p:nvSpPr>
        <p:spPr>
          <a:xfrm>
            <a:off x="1754280" y="1422360"/>
            <a:ext cx="7929360" cy="557208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 </a:t>
            </a:r>
            <a:r>
              <a:rPr b="1" lang="cs-CZ" sz="3200" spc="-1" strike="noStrike">
                <a:solidFill>
                  <a:srgbClr val="000000"/>
                </a:solidFill>
                <a:latin typeface="Arial"/>
              </a:rPr>
              <a:t>Dokladování</a:t>
            </a:r>
            <a:endParaRPr b="0" lang="en-US" sz="3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racovními smlouvami (nebo odpovídajícími typy smluv) v monitorovací zprávě projektu, ve které budou odpovídající osobní výdaje daného pracovníka poprvé uplatňovány</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výplatní listinou nebo výplatní páskou zapojených pracovníků, případně mzdovými listy</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výpisem z projektového účtu/z provozního účtu organizace, ve kterém jsou identifikované převody výplat jednotlivým pracovníkům a převody zákonných odvodů a daní</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racovními výkazy za jednotlivé pracovníky</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rozpisem mzdových nákladů pracovníků projektu</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řípadně dalšími doklady, které jsou v souladu s platnou legislativou (výdajové pokladní doklady u mzdy vyplácené v hotovosti apod.)</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539360" y="279360"/>
            <a:ext cx="8541000" cy="22147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2 </a:t>
            </a:r>
            <a:br>
              <a:rPr sz="4400"/>
            </a:br>
            <a:r>
              <a:rPr b="1" lang="cs-CZ" sz="4400" spc="-1" strike="noStrike">
                <a:solidFill>
                  <a:srgbClr val="f3912c"/>
                </a:solidFill>
                <a:latin typeface="Arial"/>
              </a:rPr>
              <a:t>Cestovní náhrady související s realizací projektu</a:t>
            </a:r>
            <a:endParaRPr b="0" lang="en-US" sz="4400" spc="-1" strike="noStrike">
              <a:solidFill>
                <a:srgbClr val="000000"/>
              </a:solidFill>
              <a:latin typeface="Arial"/>
            </a:endParaRPr>
          </a:p>
        </p:txBody>
      </p:sp>
      <p:sp>
        <p:nvSpPr>
          <p:cNvPr id="117" name="PlaceHolder 2"/>
          <p:cNvSpPr>
            <a:spLocks noGrp="1"/>
          </p:cNvSpPr>
          <p:nvPr>
            <p:ph/>
          </p:nvPr>
        </p:nvSpPr>
        <p:spPr>
          <a:xfrm>
            <a:off x="1825200" y="2994120"/>
            <a:ext cx="7929720" cy="421488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200" spc="-1" strike="noStrike">
                <a:solidFill>
                  <a:srgbClr val="000000"/>
                </a:solidFill>
                <a:latin typeface="Arial"/>
              </a:rPr>
              <a:t>Jedná se o výdaje na pracovní cesty zaměstnanců příjemce nebo partnera projektu – osoby zapojené do realizace projektu</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Legislativa</a:t>
            </a:r>
            <a:endParaRPr b="0" lang="en-US" sz="3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1800" spc="-1" strike="noStrike">
                <a:solidFill>
                  <a:srgbClr val="000000"/>
                </a:solidFill>
                <a:latin typeface="Arial"/>
              </a:rPr>
              <a:t> </a:t>
            </a:r>
            <a:r>
              <a:rPr b="0" lang="cs-CZ" sz="2200" spc="-1" strike="noStrike">
                <a:solidFill>
                  <a:srgbClr val="000000"/>
                </a:solidFill>
                <a:latin typeface="Arial"/>
              </a:rPr>
              <a:t>zákoník práce</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vyhláška MPSV</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interními předpisy organizace, vnitřní směrnice</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v případě zahraničních pracovních cest vyhláška MF</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539360" y="35064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2</a:t>
            </a:r>
            <a:endParaRPr b="0" lang="en-US" sz="4400" spc="-1" strike="noStrike">
              <a:solidFill>
                <a:srgbClr val="000000"/>
              </a:solidFill>
              <a:latin typeface="Arial"/>
            </a:endParaRPr>
          </a:p>
        </p:txBody>
      </p:sp>
      <p:sp>
        <p:nvSpPr>
          <p:cNvPr id="119" name="PlaceHolder 2"/>
          <p:cNvSpPr>
            <a:spLocks noGrp="1"/>
          </p:cNvSpPr>
          <p:nvPr>
            <p:ph/>
          </p:nvPr>
        </p:nvSpPr>
        <p:spPr>
          <a:xfrm>
            <a:off x="1611000" y="1351080"/>
            <a:ext cx="8072280" cy="585792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Specifická pravidla OP VK</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Účel pracovní cesty musí vždy souviset s projektem</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Cestovné</a:t>
            </a:r>
            <a:endParaRPr b="0" lang="en-US" sz="32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100" spc="-1" strike="noStrike">
                <a:solidFill>
                  <a:srgbClr val="000000"/>
                </a:solidFill>
                <a:latin typeface="Arial"/>
              </a:rPr>
              <a:t>Náhrada prokázaných jízdních výdajů</a:t>
            </a:r>
            <a:endParaRPr b="0" lang="en-US" sz="21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100" spc="-1" strike="noStrike">
                <a:solidFill>
                  <a:srgbClr val="000000"/>
                </a:solidFill>
                <a:latin typeface="Arial"/>
              </a:rPr>
              <a:t>Použití letadla</a:t>
            </a:r>
            <a:endParaRPr b="0" lang="en-US" sz="21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100" spc="-1" strike="noStrike">
                <a:solidFill>
                  <a:srgbClr val="000000"/>
                </a:solidFill>
                <a:latin typeface="Arial"/>
              </a:rPr>
              <a:t>Použití místní veřejné dopravy </a:t>
            </a:r>
            <a:endParaRPr b="0" lang="en-US" sz="21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100" spc="-1" strike="noStrike">
                <a:solidFill>
                  <a:srgbClr val="000000"/>
                </a:solidFill>
                <a:latin typeface="Arial"/>
              </a:rPr>
              <a:t>Použití soukromého vozidla</a:t>
            </a:r>
            <a:endParaRPr b="0" lang="en-US" sz="21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100" spc="-1" strike="noStrike">
                <a:solidFill>
                  <a:srgbClr val="000000"/>
                </a:solidFill>
                <a:latin typeface="Arial"/>
              </a:rPr>
              <a:t>Použití služebního vozidla</a:t>
            </a:r>
            <a:endParaRPr b="0" lang="en-US" sz="21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Ubytování/nocležné (max. 1200 Kč, ***)</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Stravné ( max. 300 Kč)</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Nutné vedlejší výdaje</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2000"/>
            </a:br>
            <a:br>
              <a:rPr sz="2000"/>
            </a:br>
            <a:br>
              <a:rPr sz="2000"/>
            </a:br>
            <a:br>
              <a:rPr sz="2000"/>
            </a:br>
            <a:r>
              <a:rPr b="1" lang="cs-CZ" sz="4400" spc="-1" strike="noStrike">
                <a:solidFill>
                  <a:srgbClr val="f3912c"/>
                </a:solidFill>
                <a:latin typeface="Arial"/>
              </a:rPr>
              <a:t> </a:t>
            </a:r>
            <a:r>
              <a:rPr b="1" lang="cs-CZ" sz="4400" spc="-1" strike="noStrike">
                <a:solidFill>
                  <a:srgbClr val="f3912c"/>
                </a:solidFill>
                <a:latin typeface="Arial"/>
              </a:rPr>
              <a:t>Kapitola rozpočtu 2 </a:t>
            </a:r>
            <a:endParaRPr b="0" lang="en-US" sz="4400" spc="-1" strike="noStrike">
              <a:solidFill>
                <a:srgbClr val="000000"/>
              </a:solidFill>
              <a:latin typeface="Arial"/>
            </a:endParaRPr>
          </a:p>
        </p:txBody>
      </p:sp>
      <p:sp>
        <p:nvSpPr>
          <p:cNvPr id="121" name="PlaceHolder 2"/>
          <p:cNvSpPr>
            <a:spLocks noGrp="1"/>
          </p:cNvSpPr>
          <p:nvPr>
            <p:ph/>
          </p:nvPr>
        </p:nvSpPr>
        <p:spPr>
          <a:xfrm>
            <a:off x="1682280" y="1279080"/>
            <a:ext cx="7929720" cy="564372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Specifická pravidla OP VK pro služební cesty zahranič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Zahraniční pracovní cesty mohou být propláceny jen v odůvodněných případech a pouze v případě, že jsou obsaženy ve schválené verzi projektové žádosti a zahrnuty v rozpočtu, který je součástí právního aktu.</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Mimo EU je možné považovat za způsobilé pouze cesty expertů a odborných pracovníků podílejících se na realizaci věcných aktivit projektu a s aktivní účastí na pořádané akci a s přímým vztahem k aktivitám projektu, které v rámci projektu realizují.</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200" spc="-1" strike="noStrike">
                <a:solidFill>
                  <a:srgbClr val="000000"/>
                </a:solidFill>
                <a:latin typeface="Arial"/>
              </a:rPr>
              <a:t>Navyšovat položky rozpočtu související se zahraniční služební cestou není možné (výjimka – hospodářský vývoj)</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611360" y="350640"/>
            <a:ext cx="7929360" cy="50004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4400"/>
            </a:br>
            <a:r>
              <a:rPr b="1" lang="cs-CZ" sz="4400" spc="-1" strike="noStrike">
                <a:solidFill>
                  <a:srgbClr val="f3912c"/>
                </a:solidFill>
                <a:latin typeface="Arial"/>
              </a:rPr>
              <a:t> </a:t>
            </a:r>
            <a:r>
              <a:rPr b="1" lang="cs-CZ" sz="4400" spc="-1" strike="noStrike">
                <a:solidFill>
                  <a:srgbClr val="f3912c"/>
                </a:solidFill>
                <a:latin typeface="Arial"/>
              </a:rPr>
              <a:t>Kapitola rozpočtu 2</a:t>
            </a:r>
            <a:endParaRPr b="0" lang="en-US" sz="4400" spc="-1" strike="noStrike">
              <a:solidFill>
                <a:srgbClr val="000000"/>
              </a:solidFill>
              <a:latin typeface="Arial"/>
            </a:endParaRPr>
          </a:p>
        </p:txBody>
      </p:sp>
      <p:sp>
        <p:nvSpPr>
          <p:cNvPr id="123" name="PlaceHolder 2"/>
          <p:cNvSpPr>
            <a:spLocks noGrp="1"/>
          </p:cNvSpPr>
          <p:nvPr>
            <p:ph/>
          </p:nvPr>
        </p:nvSpPr>
        <p:spPr>
          <a:xfrm>
            <a:off x="1611360" y="1350720"/>
            <a:ext cx="7929360" cy="542916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Cestovní náhrady pro zahraniční experty</a:t>
            </a:r>
            <a:endParaRPr b="0" lang="en-US" sz="3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a:t>
            </a:r>
            <a:r>
              <a:rPr b="0" lang="cs-CZ" sz="2200" spc="-1" strike="noStrike">
                <a:solidFill>
                  <a:srgbClr val="000000"/>
                </a:solidFill>
                <a:latin typeface="Arial"/>
              </a:rPr>
              <a:t>Per diems“ -  náklady na ubytování, stravné a cestovné v ČR</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a:t>
            </a:r>
            <a:r>
              <a:rPr b="0" lang="cs-CZ" sz="2200" spc="-1" strike="noStrike">
                <a:solidFill>
                  <a:srgbClr val="000000"/>
                </a:solidFill>
                <a:latin typeface="Arial"/>
              </a:rPr>
              <a:t>Per diems“ pro cizince v ČR se stanovuje podle sazeb EU publikovaných v poslední aktualizaci na stránce:</a:t>
            </a:r>
            <a:endParaRPr b="0" lang="en-US" sz="2200" spc="-1" strike="noStrike">
              <a:solidFill>
                <a:srgbClr val="000000"/>
              </a:solidFill>
              <a:latin typeface="Arial"/>
            </a:endParaRPr>
          </a:p>
          <a:p>
            <a:pPr lvl="1" marL="457200" indent="0">
              <a:lnSpc>
                <a:spcPct val="93000"/>
              </a:lnSpc>
              <a:spcAft>
                <a:spcPts val="1137"/>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u="sng">
                <a:solidFill>
                  <a:srgbClr val="ccccff"/>
                </a:solidFill>
                <a:uFillTx/>
                <a:latin typeface="Arial"/>
                <a:hlinkClick r:id="rId1"/>
              </a:rPr>
              <a:t>http://ec.europa.eu/europeaid/work/procedures/implementation/per_diems/index_en.htm</a:t>
            </a:r>
            <a:endParaRPr b="0" lang="en-US" sz="2200" spc="-1" strike="noStrike">
              <a:solidFill>
                <a:srgbClr val="000000"/>
              </a:solidFill>
              <a:latin typeface="Arial"/>
            </a:endParaRPr>
          </a:p>
          <a:p>
            <a:pPr lvl="1" marL="457200">
              <a:lnSpc>
                <a:spcPct val="93000"/>
              </a:lnSpc>
              <a:spcAft>
                <a:spcPts val="1137"/>
              </a:spcAft>
              <a:buClr>
                <a:srgbClr val="f3912c"/>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způsobilým výdajem je také výdaj za dopravu experta do ČR a zpět – za splnění všech podmínek OP VK</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611360" y="421920"/>
            <a:ext cx="846936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2</a:t>
            </a:r>
            <a:endParaRPr b="0" lang="en-US" sz="4400" spc="-1" strike="noStrike">
              <a:solidFill>
                <a:srgbClr val="000000"/>
              </a:solidFill>
              <a:latin typeface="Arial"/>
            </a:endParaRPr>
          </a:p>
        </p:txBody>
      </p:sp>
      <p:sp>
        <p:nvSpPr>
          <p:cNvPr id="125" name="PlaceHolder 2"/>
          <p:cNvSpPr>
            <a:spLocks noGrp="1"/>
          </p:cNvSpPr>
          <p:nvPr>
            <p:ph/>
          </p:nvPr>
        </p:nvSpPr>
        <p:spPr>
          <a:xfrm>
            <a:off x="1976400" y="1350720"/>
            <a:ext cx="7850160" cy="545292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cestovní příkaz (musí obsahovat účel cesty související s projektem)</a:t>
            </a:r>
            <a:endParaRPr b="0" lang="en-US" sz="21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vyúčtování pracovní cesty</a:t>
            </a:r>
            <a:endParaRPr b="0" lang="en-US" sz="21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doklady o úhradách výdajů (výpis z účtu, výdajové doklady, jízdenky za vlak/ autobus/ atd.)</a:t>
            </a:r>
            <a:endParaRPr b="0" lang="en-US" sz="21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 </a:t>
            </a:r>
            <a:r>
              <a:rPr b="0" lang="cs-CZ" sz="2100" spc="-1" strike="noStrike">
                <a:solidFill>
                  <a:srgbClr val="000000"/>
                </a:solidFill>
                <a:latin typeface="Arial"/>
              </a:rPr>
              <a:t>stručná zpráva ze služební cesty</a:t>
            </a:r>
            <a:endParaRPr b="0" lang="en-US" sz="21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rozpis cestovních náhrad</a:t>
            </a:r>
            <a:endParaRPr b="0" lang="en-US" sz="2100" spc="-1" strike="noStrike">
              <a:solidFill>
                <a:srgbClr val="000000"/>
              </a:solidFill>
              <a:latin typeface="Arial"/>
            </a:endParaRPr>
          </a:p>
          <a:p>
            <a:pPr lvl="3" marL="1371600" indent="0">
              <a:lnSpc>
                <a:spcPct val="100000"/>
              </a:lnSpc>
              <a:buNone/>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endParaRPr b="0" lang="en-US" sz="2100" spc="-1" strike="noStrike">
              <a:solidFill>
                <a:srgbClr val="000000"/>
              </a:solidFill>
              <a:latin typeface="Arial"/>
            </a:endParaRPr>
          </a:p>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Cestovné</a:t>
            </a:r>
            <a:endParaRPr b="0" lang="en-US" sz="24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jízdenky, palubenky </a:t>
            </a:r>
            <a:endParaRPr b="0" lang="en-US" sz="21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kopie technického průkazu vozidla</a:t>
            </a:r>
            <a:endParaRPr b="0" lang="en-US" sz="21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knihu jízd a stvrzenky za nákup PHM (nebo je cena určena dle příslušné vyhlášky MPSV) u služebního vozidla</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2</a:t>
            </a:r>
            <a:endParaRPr b="0" lang="en-US" sz="4400" spc="-1" strike="noStrike">
              <a:solidFill>
                <a:srgbClr val="000000"/>
              </a:solidFill>
              <a:latin typeface="Arial"/>
            </a:endParaRPr>
          </a:p>
        </p:txBody>
      </p:sp>
      <p:sp>
        <p:nvSpPr>
          <p:cNvPr id="127" name="PlaceHolder 2"/>
          <p:cNvSpPr>
            <a:spLocks noGrp="1"/>
          </p:cNvSpPr>
          <p:nvPr>
            <p:ph/>
          </p:nvPr>
        </p:nvSpPr>
        <p:spPr>
          <a:xfrm>
            <a:off x="1968480" y="1351080"/>
            <a:ext cx="7786800" cy="585792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Ubytování</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100" spc="-1" strike="noStrike">
                <a:solidFill>
                  <a:srgbClr val="000000"/>
                </a:solidFill>
                <a:latin typeface="Arial"/>
              </a:rPr>
              <a:t>objednávka  (dopis nebo mail)</a:t>
            </a:r>
            <a:endParaRPr b="0" lang="en-US" sz="21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100" spc="-1" strike="noStrike">
                <a:solidFill>
                  <a:srgbClr val="000000"/>
                </a:solidFill>
                <a:latin typeface="Arial"/>
              </a:rPr>
              <a:t>faktura či jiný daňový doklad (uvádět, zda součástí ceny je stravování např. snídaně)</a:t>
            </a:r>
            <a:endParaRPr b="0" lang="en-US" sz="21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100" spc="-1" strike="noStrike">
                <a:solidFill>
                  <a:srgbClr val="000000"/>
                </a:solidFill>
                <a:latin typeface="Arial"/>
              </a:rPr>
              <a:t>doklad o zaplacení (výpis z účtu, stvrzenka)</a:t>
            </a:r>
            <a:endParaRPr b="0" lang="en-US" sz="21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100" spc="-1" strike="noStrike">
                <a:solidFill>
                  <a:srgbClr val="000000"/>
                </a:solidFill>
                <a:latin typeface="Arial"/>
              </a:rPr>
              <a:t>doklad o tom, že ubytování souviselo s akcí vztahující se k projektu</a:t>
            </a:r>
            <a:endParaRPr b="0" lang="en-US" sz="21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Stravné</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100" spc="-1" strike="noStrike">
                <a:solidFill>
                  <a:srgbClr val="000000"/>
                </a:solidFill>
                <a:latin typeface="Arial"/>
              </a:rPr>
              <a:t>není nutné dokladovat, je závislé na době trvání pracovní cesty dle zákona 262/2006 Sb., Zákoník práce</a:t>
            </a:r>
            <a:endParaRPr b="0" lang="en-US" sz="21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Nutné vedlejší výdaje</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100" spc="-1" strike="noStrike">
                <a:solidFill>
                  <a:srgbClr val="000000"/>
                </a:solidFill>
                <a:latin typeface="Arial"/>
              </a:rPr>
              <a:t>doklad o úhradě – parkovné, úschova zavazadla, vstupné atd.</a:t>
            </a:r>
            <a:endParaRPr b="0" lang="en-US" sz="21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539360" y="493560"/>
            <a:ext cx="8541000" cy="214344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3 </a:t>
            </a:r>
            <a:br>
              <a:rPr sz="4400"/>
            </a:br>
            <a:r>
              <a:rPr b="1" lang="cs-CZ" sz="4400" spc="-1" strike="noStrike">
                <a:solidFill>
                  <a:srgbClr val="f3912c"/>
                </a:solidFill>
                <a:latin typeface="Arial"/>
              </a:rPr>
              <a:t>Zařízení související s realizací projektu </a:t>
            </a:r>
            <a:br>
              <a:rPr sz="2000"/>
            </a:br>
            <a:endParaRPr b="0" lang="en-US" sz="4400" spc="-1" strike="noStrike">
              <a:solidFill>
                <a:srgbClr val="000000"/>
              </a:solidFill>
              <a:latin typeface="Arial"/>
            </a:endParaRPr>
          </a:p>
        </p:txBody>
      </p:sp>
      <p:sp>
        <p:nvSpPr>
          <p:cNvPr id="129" name="PlaceHolder 2"/>
          <p:cNvSpPr>
            <a:spLocks noGrp="1"/>
          </p:cNvSpPr>
          <p:nvPr>
            <p:ph/>
          </p:nvPr>
        </p:nvSpPr>
        <p:spPr>
          <a:xfrm>
            <a:off x="1976400" y="2779560"/>
            <a:ext cx="7493040" cy="4214880"/>
          </a:xfrm>
          <a:prstGeom prst="rect">
            <a:avLst/>
          </a:prstGeom>
          <a:noFill/>
          <a:ln w="0">
            <a:noFill/>
          </a:ln>
        </p:spPr>
        <p:txBody>
          <a:bodyPr lIns="0" rIns="0" tIns="0" bIns="0" anchor="t">
            <a:normAutofit/>
          </a:bodyPr>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nehmotný majetek do 60 000 Kč </a:t>
            </a:r>
            <a:endParaRPr b="0" lang="en-US" sz="22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dlouhodobý nehmotný majetek </a:t>
            </a:r>
            <a:endParaRPr b="0" lang="en-US" sz="22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drobný hmotný majetek do 40 000 Kč za kus</a:t>
            </a:r>
            <a:endParaRPr b="0" lang="en-US" sz="22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použitý drobný hmotný majetek </a:t>
            </a:r>
            <a:endParaRPr b="0" lang="en-US" sz="22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nájem zařízení, operativní leasing </a:t>
            </a:r>
            <a:endParaRPr b="0" lang="en-US" sz="22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daňové odpisy</a:t>
            </a:r>
            <a:endParaRPr b="0" lang="en-US" sz="22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výdaje na opravy a údržbu </a:t>
            </a:r>
            <a:endParaRPr b="0" lang="en-US" sz="22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křížové financování (Investiční část, Neinvestiční část) </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Zástupný symbol pro text 8"/>
          <p:cNvSpPr/>
          <p:nvPr/>
        </p:nvSpPr>
        <p:spPr>
          <a:xfrm>
            <a:off x="1968480" y="6708600"/>
            <a:ext cx="3492360" cy="28584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4" name="PlaceHolder 1"/>
          <p:cNvSpPr>
            <a:spLocks noGrp="1"/>
          </p:cNvSpPr>
          <p:nvPr>
            <p:ph type="title"/>
          </p:nvPr>
        </p:nvSpPr>
        <p:spPr>
          <a:xfrm>
            <a:off x="1539360" y="350640"/>
            <a:ext cx="8541000" cy="7045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Rozpočet</a:t>
            </a:r>
            <a:r>
              <a:rPr b="1" lang="cs-CZ" sz="4400" spc="-1" strike="noStrike">
                <a:solidFill>
                  <a:srgbClr val="000000"/>
                </a:solidFill>
                <a:latin typeface="Arial"/>
              </a:rPr>
              <a:t> </a:t>
            </a:r>
            <a:r>
              <a:rPr b="1" lang="cs-CZ" sz="4400" spc="-1" strike="noStrike">
                <a:solidFill>
                  <a:srgbClr val="f3912c"/>
                </a:solidFill>
                <a:latin typeface="Arial"/>
              </a:rPr>
              <a:t>projektu</a:t>
            </a:r>
            <a:endParaRPr b="0" lang="en-US" sz="4400" spc="-1" strike="noStrike">
              <a:solidFill>
                <a:srgbClr val="000000"/>
              </a:solidFill>
              <a:latin typeface="Arial"/>
            </a:endParaRPr>
          </a:p>
        </p:txBody>
      </p:sp>
      <p:pic>
        <p:nvPicPr>
          <p:cNvPr id="95" name="Zástupný symbol pro obsah 7" descr=""/>
          <p:cNvPicPr/>
          <p:nvPr/>
        </p:nvPicPr>
        <p:blipFill>
          <a:blip r:embed="rId1"/>
          <a:stretch/>
        </p:blipFill>
        <p:spPr>
          <a:xfrm>
            <a:off x="1639800" y="1463760"/>
            <a:ext cx="8253360" cy="52909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753920" y="422280"/>
            <a:ext cx="8326440" cy="71424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3 </a:t>
            </a:r>
            <a:endParaRPr b="0" lang="en-US" sz="4400" spc="-1" strike="noStrike">
              <a:solidFill>
                <a:srgbClr val="000000"/>
              </a:solidFill>
              <a:latin typeface="Arial"/>
            </a:endParaRPr>
          </a:p>
        </p:txBody>
      </p:sp>
      <p:sp>
        <p:nvSpPr>
          <p:cNvPr id="131" name="PlaceHolder 2"/>
          <p:cNvSpPr>
            <a:spLocks noGrp="1"/>
          </p:cNvSpPr>
          <p:nvPr>
            <p:ph/>
          </p:nvPr>
        </p:nvSpPr>
        <p:spPr>
          <a:xfrm>
            <a:off x="1896840" y="1279440"/>
            <a:ext cx="7786440" cy="5786640"/>
          </a:xfrm>
          <a:prstGeom prst="rect">
            <a:avLst/>
          </a:prstGeom>
          <a:noFill/>
          <a:ln w="0">
            <a:noFill/>
          </a:ln>
        </p:spPr>
        <p:txBody>
          <a:bodyPr lIns="0" rIns="0" tIns="0" bIns="0" anchor="t">
            <a:normAutofit/>
          </a:bodyPr>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objednávka</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smlouva s dodavatelem</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faktura / paragon</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dací list/ kalkulace cen za jednotlivé položky</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klad o zaplacení – výpis projektového účtu/ VPD</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řípadně výpis z účtu organizace </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fotodokumentace</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smlouva o pronájmu/ operativním leasingu s vymezením předmětu a účelu nájmu, výše, doby pronájmu, splatností a způsobem platby. </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aňové odpisy</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aragon a VPD se dokládá při nákupu drobných položek (do 10.000 Kč bez DPH)</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řípadně další relevantní doklad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611360" y="350640"/>
            <a:ext cx="8469360" cy="19285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a:t>
            </a:r>
            <a:r>
              <a:rPr b="1" i="1" lang="cs-CZ" sz="2000" spc="-1" strike="noStrike">
                <a:solidFill>
                  <a:srgbClr val="000000"/>
                </a:solidFill>
                <a:latin typeface="Arial"/>
              </a:rPr>
              <a:t> </a:t>
            </a:r>
            <a:r>
              <a:rPr b="1" lang="cs-CZ" sz="4400" spc="-1" strike="noStrike">
                <a:solidFill>
                  <a:srgbClr val="f3912c"/>
                </a:solidFill>
                <a:latin typeface="Arial"/>
              </a:rPr>
              <a:t>rozpočtu 4</a:t>
            </a:r>
            <a:br>
              <a:rPr sz="4400"/>
            </a:br>
            <a:r>
              <a:rPr b="1" lang="cs-CZ" sz="4400" spc="-1" strike="noStrike">
                <a:solidFill>
                  <a:srgbClr val="f3912c"/>
                </a:solidFill>
                <a:latin typeface="Arial"/>
              </a:rPr>
              <a:t>Místní kancelář</a:t>
            </a:r>
            <a:br>
              <a:rPr sz="2000"/>
            </a:br>
            <a:endParaRPr b="0" lang="en-US" sz="4400" spc="-1" strike="noStrike">
              <a:solidFill>
                <a:srgbClr val="000000"/>
              </a:solidFill>
              <a:latin typeface="Arial"/>
            </a:endParaRPr>
          </a:p>
        </p:txBody>
      </p:sp>
      <p:sp>
        <p:nvSpPr>
          <p:cNvPr id="133" name="PlaceHolder 2"/>
          <p:cNvSpPr>
            <a:spLocks noGrp="1"/>
          </p:cNvSpPr>
          <p:nvPr>
            <p:ph/>
          </p:nvPr>
        </p:nvSpPr>
        <p:spPr>
          <a:xfrm>
            <a:off x="1682640" y="2207880"/>
            <a:ext cx="8143920" cy="5000760"/>
          </a:xfrm>
          <a:prstGeom prst="rect">
            <a:avLst/>
          </a:prstGeom>
          <a:noFill/>
          <a:ln w="0">
            <a:noFill/>
          </a:ln>
        </p:spPr>
        <p:txBody>
          <a:bodyPr lIns="0" rIns="0" tIns="0" bIns="0" anchor="t">
            <a:normAutofit fontScale="94000"/>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Náklady na provoz kanceláře, která slouží k řízení projektu</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Výdaje na místní kancelář</a:t>
            </a:r>
            <a:endParaRPr b="0" lang="en-US" sz="2400" spc="-1" strike="noStrike">
              <a:solidFill>
                <a:srgbClr val="000000"/>
              </a:solidFill>
              <a:latin typeface="Arial"/>
            </a:endParaRPr>
          </a:p>
          <a:p>
            <a:pPr lvl="2" marL="8593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spotřební zboží a provozní materiál </a:t>
            </a:r>
            <a:endParaRPr b="0" lang="en-US" sz="2200" spc="-1" strike="noStrike">
              <a:solidFill>
                <a:srgbClr val="000000"/>
              </a:solidFill>
              <a:latin typeface="Arial"/>
            </a:endParaRPr>
          </a:p>
          <a:p>
            <a:pPr lvl="2" marL="8593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telefon, poštovné, fax</a:t>
            </a:r>
            <a:endParaRPr b="0" lang="en-US" sz="2200" spc="-1" strike="noStrike">
              <a:solidFill>
                <a:srgbClr val="000000"/>
              </a:solidFill>
              <a:latin typeface="Arial"/>
            </a:endParaRPr>
          </a:p>
          <a:p>
            <a:pPr lvl="2" marL="8593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spotřeba vody, paliv a energie </a:t>
            </a:r>
            <a:endParaRPr b="0" lang="en-US" sz="2200" spc="-1" strike="noStrike">
              <a:solidFill>
                <a:srgbClr val="000000"/>
              </a:solidFill>
              <a:latin typeface="Arial"/>
            </a:endParaRPr>
          </a:p>
          <a:p>
            <a:pPr lvl="2" marL="8593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nájemné </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Ke stanovení výše výdajů je nutné použít odpovídající metodiku výpočtu, která musí být zachována po celou dobu realizace projektu včetně závěrečného vyúčtování</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V případě, že se organizace podílí na více projektech v rámci OP VK, uplatní ve všech stejnou metodiku výpočtu</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Metodickým dopisem č. 5 Režijní náklady OP VK</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400" spc="-1" strike="noStrike">
                <a:solidFill>
                  <a:srgbClr val="000000"/>
                </a:solidFill>
                <a:latin typeface="Arial"/>
              </a:rPr>
              <a:t>.</a:t>
            </a: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539360" y="279360"/>
            <a:ext cx="8541000" cy="6256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a:t>
            </a:r>
            <a:r>
              <a:rPr b="1" i="1" lang="cs-CZ" sz="4400" spc="-1" strike="noStrike">
                <a:solidFill>
                  <a:srgbClr val="000000"/>
                </a:solidFill>
                <a:latin typeface="Arial"/>
              </a:rPr>
              <a:t> </a:t>
            </a:r>
            <a:r>
              <a:rPr b="1" lang="cs-CZ" sz="4400" spc="-1" strike="noStrike">
                <a:solidFill>
                  <a:srgbClr val="f3912c"/>
                </a:solidFill>
                <a:latin typeface="Arial"/>
              </a:rPr>
              <a:t>rozpočtu 4</a:t>
            </a:r>
            <a:endParaRPr b="0" lang="en-US" sz="4400" spc="-1" strike="noStrike">
              <a:solidFill>
                <a:srgbClr val="000000"/>
              </a:solidFill>
              <a:latin typeface="Arial"/>
            </a:endParaRPr>
          </a:p>
        </p:txBody>
      </p:sp>
      <p:sp>
        <p:nvSpPr>
          <p:cNvPr id="135" name="PlaceHolder 2"/>
          <p:cNvSpPr>
            <a:spLocks noGrp="1"/>
          </p:cNvSpPr>
          <p:nvPr>
            <p:ph/>
          </p:nvPr>
        </p:nvSpPr>
        <p:spPr>
          <a:xfrm>
            <a:off x="1825200" y="1279440"/>
            <a:ext cx="7572600" cy="585792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Spotřební zboží a provozní materiál</a:t>
            </a:r>
            <a:endParaRPr b="0" lang="en-US" sz="24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objednávka (v případě telefonické objednávky je doporučeno vyhotovit zápis o telefonické objednávce)</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smlouva s dodavatelem  (je-li vyžadována dle Příručky pro příjemce)</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faktura / paragon</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dací list/ kalkulace cen za jednotlivé položky (pokud není rozpis položek a jednotlivých cen uveden na faktuře)</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klad o zaplacení – výpis projektového účtu/ případně výpis z účtu organizace / VPD</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611360" y="350640"/>
            <a:ext cx="846936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a:t>
            </a:r>
            <a:r>
              <a:rPr b="1" i="1" lang="cs-CZ" sz="4400" spc="-1" strike="noStrike">
                <a:solidFill>
                  <a:srgbClr val="000000"/>
                </a:solidFill>
                <a:latin typeface="Arial"/>
              </a:rPr>
              <a:t> </a:t>
            </a:r>
            <a:r>
              <a:rPr b="1" lang="cs-CZ" sz="4400" spc="-1" strike="noStrike">
                <a:solidFill>
                  <a:srgbClr val="f3912c"/>
                </a:solidFill>
                <a:latin typeface="Arial"/>
              </a:rPr>
              <a:t>rozpočtu 4</a:t>
            </a:r>
            <a:endParaRPr b="0" lang="en-US" sz="4400" spc="-1" strike="noStrike">
              <a:solidFill>
                <a:srgbClr val="000000"/>
              </a:solidFill>
              <a:latin typeface="Arial"/>
            </a:endParaRPr>
          </a:p>
        </p:txBody>
      </p:sp>
      <p:sp>
        <p:nvSpPr>
          <p:cNvPr id="137" name="PlaceHolder 2"/>
          <p:cNvSpPr>
            <a:spLocks noGrp="1"/>
          </p:cNvSpPr>
          <p:nvPr>
            <p:ph/>
          </p:nvPr>
        </p:nvSpPr>
        <p:spPr>
          <a:xfrm>
            <a:off x="1825200" y="1136520"/>
            <a:ext cx="7572600" cy="614376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Telefon, počítač, internet, fax</a:t>
            </a:r>
            <a:endParaRPr b="0" lang="en-US" sz="24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faktura </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kalkulace cen za jednotlivé položky (pokud není rozpis položek a jednotlivých cen uveden na faktuře)</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klad o zaplacení – výpis projektového účtu/ případně výpis z účtu organizace </a:t>
            </a:r>
            <a:endParaRPr b="0" lang="en-US" sz="2200" spc="-1" strike="noStrike">
              <a:solidFill>
                <a:srgbClr val="000000"/>
              </a:solidFill>
              <a:latin typeface="Arial"/>
            </a:endParaRPr>
          </a:p>
          <a:p>
            <a:pPr lvl="2" marL="914400" indent="0">
              <a:lnSpc>
                <a:spcPct val="93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Spotřeba vody, paliv a energie</a:t>
            </a:r>
            <a:endParaRPr b="0" lang="en-US" sz="24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faktura </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kalkulace cen za jednotlivé položky (pokud není rozpis položek a jednotlivých cen uveden na faktuře)</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klad o zaplacení – výpis projektového účtu/ případně výpis z účtu organizace </a:t>
            </a:r>
            <a:endParaRPr b="0" lang="en-US" sz="2200" spc="-1" strike="noStrike">
              <a:solidFill>
                <a:srgbClr val="000000"/>
              </a:solidFill>
              <a:latin typeface="Arial"/>
            </a:endParaRPr>
          </a:p>
          <a:p>
            <a:pPr lvl="2" marL="914400" indent="0">
              <a:lnSpc>
                <a:spcPct val="93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11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Případně další relevantní doklady</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539360" y="351000"/>
            <a:ext cx="8541000" cy="23572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2000" spc="-1" strike="noStrike">
                <a:solidFill>
                  <a:srgbClr val="000000"/>
                </a:solidFill>
                <a:latin typeface="Arial"/>
              </a:rPr>
              <a:t>	</a:t>
            </a:r>
            <a:r>
              <a:rPr b="1" lang="cs-CZ" sz="4400" spc="-1" strike="noStrike">
                <a:solidFill>
                  <a:srgbClr val="f3912c"/>
                </a:solidFill>
                <a:latin typeface="Arial"/>
              </a:rPr>
              <a:t>Kapitola rozpočtu 5</a:t>
            </a:r>
            <a:br>
              <a:rPr sz="4400"/>
            </a:br>
            <a:r>
              <a:rPr b="1" lang="cs-CZ" sz="4400" spc="-1" strike="noStrike">
                <a:solidFill>
                  <a:srgbClr val="f3912c"/>
                </a:solidFill>
                <a:latin typeface="Arial"/>
              </a:rPr>
              <a:t>Nákup služeb souvisejících s realizací projektu</a:t>
            </a:r>
            <a:br>
              <a:rPr sz="2000"/>
            </a:br>
            <a:endParaRPr b="0" lang="en-US" sz="4400" spc="-1" strike="noStrike">
              <a:solidFill>
                <a:srgbClr val="000000"/>
              </a:solidFill>
              <a:latin typeface="Arial"/>
            </a:endParaRPr>
          </a:p>
        </p:txBody>
      </p:sp>
      <p:sp>
        <p:nvSpPr>
          <p:cNvPr id="139" name="PlaceHolder 2"/>
          <p:cNvSpPr>
            <a:spLocks noGrp="1"/>
          </p:cNvSpPr>
          <p:nvPr>
            <p:ph/>
          </p:nvPr>
        </p:nvSpPr>
        <p:spPr>
          <a:xfrm>
            <a:off x="2182320" y="2637000"/>
            <a:ext cx="7358040" cy="464328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publikace/školicí materiály/manuály </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odborné služby/Studie a výzkum </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výdaje na konference/kurzy </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podpora účastníků (stravné max. 300 Kč, ubytování  v ČR max. 1200 Kč)</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jiné výdaje </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200" spc="-1" strike="noStrike">
                <a:solidFill>
                  <a:srgbClr val="000000"/>
                </a:solidFill>
                <a:latin typeface="Arial"/>
              </a:rPr>
              <a:t>Dodavatelem služeb v rámci projektu nemůže být osoba, která má uzavřen pracovně právní vztah s příjemcem/partnerem, a výdaje na něj jsou hrazeny v rámci kapitoly rozpočtu 1</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539360" y="35064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5</a:t>
            </a:r>
            <a:endParaRPr b="0" lang="en-US" sz="4400" spc="-1" strike="noStrike">
              <a:solidFill>
                <a:srgbClr val="000000"/>
              </a:solidFill>
              <a:latin typeface="Arial"/>
            </a:endParaRPr>
          </a:p>
        </p:txBody>
      </p:sp>
      <p:sp>
        <p:nvSpPr>
          <p:cNvPr id="141" name="PlaceHolder 2"/>
          <p:cNvSpPr>
            <a:spLocks noGrp="1"/>
          </p:cNvSpPr>
          <p:nvPr>
            <p:ph/>
          </p:nvPr>
        </p:nvSpPr>
        <p:spPr>
          <a:xfrm>
            <a:off x="1825560" y="1136160"/>
            <a:ext cx="7786800" cy="57150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objednávka (v případě telefonické objednávky je doporučeno vyhotovit zápis o telefonické objednávce)</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smlouva s dodavatelem  </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faktura / paragon</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dací list/ kalkulace cen za jednotlivé položky (pokud není rozpis položek a jednotlivých cen uveden na faktuře)</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klad o zaplacení – výpis projektového účtu/ případně výpis z účtu organizace / VPD</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fotodokumentace, pozvánka, prezenční listina</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řípadně další relevantní doklad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468080" y="350640"/>
            <a:ext cx="8612280" cy="221436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6</a:t>
            </a:r>
            <a:br>
              <a:rPr sz="4400"/>
            </a:br>
            <a:r>
              <a:rPr b="1" lang="cs-CZ" sz="4400" spc="-1" strike="noStrike">
                <a:solidFill>
                  <a:srgbClr val="f3912c"/>
                </a:solidFill>
                <a:latin typeface="Arial"/>
              </a:rPr>
              <a:t>Stavební úpravy související s realizací projektu</a:t>
            </a:r>
            <a:br>
              <a:rPr sz="2000"/>
            </a:br>
            <a:endParaRPr b="0" lang="en-US" sz="4400" spc="-1" strike="noStrike">
              <a:solidFill>
                <a:srgbClr val="000000"/>
              </a:solidFill>
              <a:latin typeface="Arial"/>
            </a:endParaRPr>
          </a:p>
        </p:txBody>
      </p:sp>
      <p:sp>
        <p:nvSpPr>
          <p:cNvPr id="143" name="PlaceHolder 2"/>
          <p:cNvSpPr>
            <a:spLocks noGrp="1"/>
          </p:cNvSpPr>
          <p:nvPr>
            <p:ph/>
          </p:nvPr>
        </p:nvSpPr>
        <p:spPr>
          <a:xfrm>
            <a:off x="1897200" y="2636640"/>
            <a:ext cx="7643520" cy="4429080"/>
          </a:xfrm>
          <a:prstGeom prst="rect">
            <a:avLst/>
          </a:prstGeom>
          <a:noFill/>
          <a:ln w="0">
            <a:noFill/>
          </a:ln>
        </p:spPr>
        <p:txBody>
          <a:bodyPr lIns="0" rIns="0" tIns="0" bIns="0" anchor="t">
            <a:normAutofit fontScale="94000"/>
          </a:bodyPr>
          <a:p>
            <a:pPr lvl="2" marL="859320" indent="0">
              <a:lnSpc>
                <a:spcPct val="93000"/>
              </a:lnSpc>
              <a:spcAft>
                <a:spcPts val="850"/>
              </a:spcAft>
              <a:buNone/>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200" spc="-1" strike="noStrike">
              <a:solidFill>
                <a:srgbClr val="000000"/>
              </a:solidFill>
              <a:latin typeface="Arial"/>
            </a:endParaRPr>
          </a:p>
          <a:p>
            <a:pPr lvl="2" marL="8593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robné stavební úpravy </a:t>
            </a:r>
            <a:endParaRPr b="0" lang="en-US" sz="2200" spc="-1" strike="noStrike">
              <a:solidFill>
                <a:srgbClr val="000000"/>
              </a:solidFill>
              <a:latin typeface="Arial"/>
            </a:endParaRPr>
          </a:p>
          <a:p>
            <a:pPr lvl="2" marL="8593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stavební úpravy v rámci křížového financování </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Nutná vždy vazba na realizaci klíčových aktivit (vazba na cílové skupiny)</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Arial"/>
              </a:rPr>
              <a:t> </a:t>
            </a:r>
            <a:r>
              <a:rPr b="0" lang="cs-CZ" sz="2200" spc="-1" strike="noStrike">
                <a:solidFill>
                  <a:srgbClr val="000000"/>
                </a:solidFill>
                <a:latin typeface="Arial"/>
              </a:rPr>
              <a:t>Stavební úpravy nad 40 000 Kč lze provádět pouze na majetku příjemce, případně partnerů projektu, nikoli na majetku, který má příjemce/partneři v pronájmu.</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V případě škol a školských zařízení je možné stavební úpravy nad 40 000 Kč realizovat na majetku zřizovatele.</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Arial"/>
              </a:rPr>
              <a:t> </a:t>
            </a: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539360" y="493560"/>
            <a:ext cx="8541000" cy="6256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6</a:t>
            </a:r>
            <a:endParaRPr b="0" lang="en-US" sz="4400" spc="-1" strike="noStrike">
              <a:solidFill>
                <a:srgbClr val="000000"/>
              </a:solidFill>
              <a:latin typeface="Arial"/>
            </a:endParaRPr>
          </a:p>
        </p:txBody>
      </p:sp>
      <p:sp>
        <p:nvSpPr>
          <p:cNvPr id="145" name="PlaceHolder 2"/>
          <p:cNvSpPr>
            <a:spLocks noGrp="1"/>
          </p:cNvSpPr>
          <p:nvPr>
            <p:ph/>
          </p:nvPr>
        </p:nvSpPr>
        <p:spPr>
          <a:xfrm>
            <a:off x="1976400" y="1494000"/>
            <a:ext cx="7493040" cy="53100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faktury</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dodací listy</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předávací protokoly</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doklad o zaplacení</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objednávky</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smlouvy s dodavateli</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fotodokumentace </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případně další relevantní doklad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539360" y="351000"/>
            <a:ext cx="8541000" cy="14284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7</a:t>
            </a:r>
            <a:br>
              <a:rPr sz="4400"/>
            </a:br>
            <a:r>
              <a:rPr b="1" lang="cs-CZ" sz="4400" spc="-1" strike="noStrike">
                <a:solidFill>
                  <a:srgbClr val="f3912c"/>
                </a:solidFill>
                <a:latin typeface="Arial"/>
              </a:rPr>
              <a:t>Přímá podpora</a:t>
            </a:r>
            <a:br>
              <a:rPr sz="2000"/>
            </a:br>
            <a:endParaRPr b="0" lang="en-US" sz="4400" spc="-1" strike="noStrike">
              <a:solidFill>
                <a:srgbClr val="000000"/>
              </a:solidFill>
              <a:latin typeface="Arial"/>
            </a:endParaRPr>
          </a:p>
        </p:txBody>
      </p:sp>
      <p:sp>
        <p:nvSpPr>
          <p:cNvPr id="147" name="PlaceHolder 2"/>
          <p:cNvSpPr>
            <a:spLocks noGrp="1"/>
          </p:cNvSpPr>
          <p:nvPr>
            <p:ph/>
          </p:nvPr>
        </p:nvSpPr>
        <p:spPr>
          <a:xfrm>
            <a:off x="1754280" y="1993680"/>
            <a:ext cx="7858080" cy="4786200"/>
          </a:xfrm>
          <a:prstGeom prst="rect">
            <a:avLst/>
          </a:prstGeom>
          <a:noFill/>
          <a:ln w="0">
            <a:noFill/>
          </a:ln>
        </p:spPr>
        <p:txBody>
          <a:bodyPr lIns="0" rIns="0" tIns="0" bIns="0" anchor="t">
            <a:normAutofit/>
          </a:bodyPr>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mzdové příspěvky </a:t>
            </a:r>
            <a:endParaRPr b="0" lang="en-US" sz="2400" spc="-1" strike="noStrike">
              <a:solidFill>
                <a:srgbClr val="000000"/>
              </a:solidFill>
              <a:latin typeface="Arial"/>
            </a:endParaRPr>
          </a:p>
          <a:p>
            <a:pPr lvl="2" marL="914400" indent="0">
              <a:lnSpc>
                <a:spcPct val="93000"/>
              </a:lnSpc>
              <a:spcAft>
                <a:spcPts val="850"/>
              </a:spcAft>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cestovné, ubytování a stravné</a:t>
            </a:r>
            <a:endParaRPr b="0" lang="en-US" sz="2400" spc="-1" strike="noStrike">
              <a:solidFill>
                <a:srgbClr val="000000"/>
              </a:solidFill>
              <a:latin typeface="Arial"/>
            </a:endParaRPr>
          </a:p>
          <a:p>
            <a:pPr lvl="3" marL="1371600">
              <a:lnSpc>
                <a:spcPct val="93000"/>
              </a:lnSpc>
              <a:spcAft>
                <a:spcPts val="575"/>
              </a:spcAft>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400" spc="-1" strike="noStrike">
                <a:solidFill>
                  <a:srgbClr val="000000"/>
                </a:solidFill>
                <a:latin typeface="Arial"/>
              </a:rPr>
              <a:t>jízdní výdaje</a:t>
            </a:r>
            <a:endParaRPr b="0" lang="en-US" sz="2400" spc="-1" strike="noStrike">
              <a:solidFill>
                <a:srgbClr val="000000"/>
              </a:solidFill>
              <a:latin typeface="Arial"/>
            </a:endParaRPr>
          </a:p>
          <a:p>
            <a:pPr lvl="3" marL="1371600">
              <a:lnSpc>
                <a:spcPct val="93000"/>
              </a:lnSpc>
              <a:spcAft>
                <a:spcPts val="575"/>
              </a:spcAft>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400" spc="-1" strike="noStrike">
                <a:solidFill>
                  <a:srgbClr val="000000"/>
                </a:solidFill>
                <a:latin typeface="Arial"/>
              </a:rPr>
              <a:t>ubytování max. 1200 Kč</a:t>
            </a:r>
            <a:endParaRPr b="0" lang="en-US" sz="2400" spc="-1" strike="noStrike">
              <a:solidFill>
                <a:srgbClr val="000000"/>
              </a:solidFill>
              <a:latin typeface="Arial"/>
            </a:endParaRPr>
          </a:p>
          <a:p>
            <a:pPr lvl="3" marL="1371600">
              <a:lnSpc>
                <a:spcPct val="93000"/>
              </a:lnSpc>
              <a:spcAft>
                <a:spcPts val="575"/>
              </a:spcAft>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400" spc="-1" strike="noStrike">
                <a:solidFill>
                  <a:srgbClr val="000000"/>
                </a:solidFill>
                <a:latin typeface="Arial"/>
              </a:rPr>
              <a:t>stravné max. 300 Kč</a:t>
            </a:r>
            <a:endParaRPr b="0" lang="en-US" sz="2400" spc="-1" strike="noStrike">
              <a:solidFill>
                <a:srgbClr val="000000"/>
              </a:solidFill>
              <a:latin typeface="Arial"/>
            </a:endParaRPr>
          </a:p>
          <a:p>
            <a:pPr lvl="3" marL="1371600" indent="0">
              <a:lnSpc>
                <a:spcPct val="93000"/>
              </a:lnSpc>
              <a:spcAft>
                <a:spcPts val="575"/>
              </a:spcAft>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doprovodné aktivity </a:t>
            </a:r>
            <a:endParaRPr b="0" lang="en-US" sz="2400" spc="-1" strike="noStrike">
              <a:solidFill>
                <a:srgbClr val="000000"/>
              </a:solidFill>
              <a:latin typeface="Arial"/>
            </a:endParaRPr>
          </a:p>
          <a:p>
            <a:pPr lvl="2" marL="914400" indent="0">
              <a:lnSpc>
                <a:spcPct val="93000"/>
              </a:lnSpc>
              <a:spcAft>
                <a:spcPts val="850"/>
              </a:spcAft>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0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7</a:t>
            </a:r>
            <a:endParaRPr b="0" lang="en-US" sz="4400" spc="-1" strike="noStrike">
              <a:solidFill>
                <a:srgbClr val="000000"/>
              </a:solidFill>
              <a:latin typeface="Arial"/>
            </a:endParaRPr>
          </a:p>
        </p:txBody>
      </p:sp>
      <p:sp>
        <p:nvSpPr>
          <p:cNvPr id="149" name="PlaceHolder 2"/>
          <p:cNvSpPr>
            <a:spLocks noGrp="1"/>
          </p:cNvSpPr>
          <p:nvPr>
            <p:ph/>
          </p:nvPr>
        </p:nvSpPr>
        <p:spPr>
          <a:xfrm>
            <a:off x="1753920" y="1350720"/>
            <a:ext cx="7715160" cy="578628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Mzdové příspěvky</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smlouva o vzdělání s uvedeným jménem a hodinovou sazbou</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doklad o úhradě</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Cestovné, ubytování a stravné</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rozpis cestovních náhrad</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kopie dokladů (cestovní příkaz, jízdenky, doklad o ubytování, doklad o zaplacení, …)</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výdajové doklady musí být s podpisy podpořených osob.</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případně další relevantní doklady</a:t>
            </a:r>
            <a:endParaRPr b="0" lang="en-US" sz="2200" spc="-1" strike="noStrike">
              <a:solidFill>
                <a:srgbClr val="000000"/>
              </a:solidFill>
              <a:latin typeface="Arial"/>
            </a:endParaRPr>
          </a:p>
          <a:p>
            <a:pPr lvl="1" marL="457200" indent="0">
              <a:lnSpc>
                <a:spcPct val="93000"/>
              </a:lnSpc>
              <a:spcAft>
                <a:spcPts val="1137"/>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539360" y="350640"/>
            <a:ext cx="8541000" cy="7045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Limity rozpočtu</a:t>
            </a:r>
            <a:endParaRPr b="0" lang="en-US" sz="4400" spc="-1" strike="noStrike">
              <a:solidFill>
                <a:srgbClr val="000000"/>
              </a:solidFill>
              <a:latin typeface="Arial"/>
            </a:endParaRPr>
          </a:p>
        </p:txBody>
      </p:sp>
      <p:pic>
        <p:nvPicPr>
          <p:cNvPr id="97" name="Zástupný symbol pro obsah 7" descr=""/>
          <p:cNvPicPr/>
          <p:nvPr/>
        </p:nvPicPr>
        <p:blipFill>
          <a:blip r:embed="rId1"/>
          <a:stretch/>
        </p:blipFill>
        <p:spPr>
          <a:xfrm>
            <a:off x="1500120" y="1359000"/>
            <a:ext cx="8143920" cy="546876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539360" y="279000"/>
            <a:ext cx="8541000" cy="21430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8 </a:t>
            </a:r>
            <a:br>
              <a:rPr sz="4400"/>
            </a:br>
            <a:r>
              <a:rPr b="1" lang="cs-CZ" sz="4400" spc="-1" strike="noStrike">
                <a:solidFill>
                  <a:srgbClr val="f3912c"/>
                </a:solidFill>
                <a:latin typeface="Arial"/>
              </a:rPr>
              <a:t>Náklady vyplývající přímo ze Smlouvy/Opatření/ Rozhodnutí</a:t>
            </a:r>
            <a:br>
              <a:rPr sz="2000"/>
            </a:br>
            <a:endParaRPr b="0" lang="en-US" sz="4400" spc="-1" strike="noStrike">
              <a:solidFill>
                <a:srgbClr val="000000"/>
              </a:solidFill>
              <a:latin typeface="Arial"/>
            </a:endParaRPr>
          </a:p>
        </p:txBody>
      </p:sp>
      <p:sp>
        <p:nvSpPr>
          <p:cNvPr id="151" name="PlaceHolder 2"/>
          <p:cNvSpPr>
            <a:spLocks noGrp="1"/>
          </p:cNvSpPr>
          <p:nvPr>
            <p:ph/>
          </p:nvPr>
        </p:nvSpPr>
        <p:spPr>
          <a:xfrm>
            <a:off x="1682280" y="2636640"/>
            <a:ext cx="8001000" cy="4429080"/>
          </a:xfrm>
          <a:prstGeom prst="rect">
            <a:avLst/>
          </a:prstGeom>
          <a:noFill/>
          <a:ln w="0">
            <a:noFill/>
          </a:ln>
        </p:spPr>
        <p:txBody>
          <a:bodyPr lIns="0" rIns="0" tIns="0" bIns="0" anchor="t">
            <a:normAutofit/>
          </a:bodyPr>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Audit projektu </a:t>
            </a:r>
            <a:endParaRPr b="0" lang="en-US" sz="2400" spc="-1" strike="noStrike">
              <a:solidFill>
                <a:srgbClr val="000000"/>
              </a:solidFill>
              <a:latin typeface="Arial"/>
            </a:endParaRPr>
          </a:p>
          <a:p>
            <a:pPr lvl="2" marL="914400" indent="0">
              <a:lnSpc>
                <a:spcPct val="93000"/>
              </a:lnSpc>
              <a:spcAft>
                <a:spcPts val="850"/>
              </a:spcAft>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1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Publicita</a:t>
            </a:r>
            <a:endParaRPr b="0" lang="en-US" sz="2400" spc="-1" strike="noStrike">
              <a:solidFill>
                <a:srgbClr val="000000"/>
              </a:solidFill>
              <a:latin typeface="Arial"/>
            </a:endParaRPr>
          </a:p>
          <a:p>
            <a:pPr lvl="2" marL="914400" indent="0">
              <a:lnSpc>
                <a:spcPct val="93000"/>
              </a:lnSpc>
              <a:spcAft>
                <a:spcPts val="850"/>
              </a:spcAft>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1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Ostatní -   Bankovní poplatky</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539360" y="35064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8</a:t>
            </a:r>
            <a:endParaRPr b="0" lang="en-US" sz="4400" spc="-1" strike="noStrike">
              <a:solidFill>
                <a:srgbClr val="000000"/>
              </a:solidFill>
              <a:latin typeface="Arial"/>
            </a:endParaRPr>
          </a:p>
        </p:txBody>
      </p:sp>
      <p:sp>
        <p:nvSpPr>
          <p:cNvPr id="153" name="PlaceHolder 2"/>
          <p:cNvSpPr>
            <a:spLocks noGrp="1"/>
          </p:cNvSpPr>
          <p:nvPr>
            <p:ph/>
          </p:nvPr>
        </p:nvSpPr>
        <p:spPr>
          <a:xfrm>
            <a:off x="1825560" y="1350720"/>
            <a:ext cx="8072640" cy="57150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Audit projektu</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faktura, auditorská zpráva, doklad o zaplacení, Smlouva o provedení závěrečného auditu</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Publicita</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faktura, doklad o zaplacení, objednávka, vzorky (leták, brožurka, …), fotodokumentace, příp.smlouva s dodavatelem</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Ostatní</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správní poplatky, notářské poplatky, právní poradenství, znalecké posudky, poplatky za vedení projektového účtu …</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doklad o zaplacení/ VPD, informace k jakému účelu byly vynaloženy</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000000"/>
                </a:solidFill>
                <a:latin typeface="Arial"/>
              </a:rPr>
              <a:t>Případně další relevantní doklad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539360" y="493560"/>
            <a:ext cx="8541000" cy="6256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Samostatný účet projektu</a:t>
            </a:r>
            <a:endParaRPr b="0" lang="en-US" sz="4400" spc="-1" strike="noStrike">
              <a:solidFill>
                <a:srgbClr val="000000"/>
              </a:solidFill>
              <a:latin typeface="Arial"/>
            </a:endParaRPr>
          </a:p>
        </p:txBody>
      </p:sp>
      <p:sp>
        <p:nvSpPr>
          <p:cNvPr id="155" name="PlaceHolder 2"/>
          <p:cNvSpPr>
            <a:spLocks noGrp="1"/>
          </p:cNvSpPr>
          <p:nvPr>
            <p:ph/>
          </p:nvPr>
        </p:nvSpPr>
        <p:spPr>
          <a:xfrm>
            <a:off x="1864800" y="1350720"/>
            <a:ext cx="7890120" cy="578628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000" spc="-1" strike="noStrike">
                <a:solidFill>
                  <a:srgbClr val="000000"/>
                </a:solidFill>
                <a:latin typeface="Arial"/>
              </a:rPr>
              <a:t> </a:t>
            </a:r>
            <a:r>
              <a:rPr b="0" lang="cs-CZ" sz="2400" spc="-1" strike="noStrike">
                <a:solidFill>
                  <a:srgbClr val="000000"/>
                </a:solidFill>
                <a:latin typeface="Arial"/>
              </a:rPr>
              <a:t>způsobilost výdajů</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právo disponovat - pověření zaměstnanci příjemce</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měsíčních výpisů z projektového účtu nebo ke dni vyúčtování projektu</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účet projektu nesmí příjemce zrušit dříve, než dojde k finančnímu vypořádání projektu</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prostředky  lze využít pouze na výdaje související s realizací projektu</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 </a:t>
            </a:r>
            <a:r>
              <a:rPr b="0" lang="cs-CZ" sz="2400" spc="-1" strike="noStrike">
                <a:solidFill>
                  <a:srgbClr val="000000"/>
                </a:solidFill>
                <a:latin typeface="Arial"/>
              </a:rPr>
              <a:t>převod finančních prostředků mezi provozním účtem organizace a projektovým bankovní účtem  lze pouze refundací</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Příjmy projektu</a:t>
            </a:r>
            <a:endParaRPr b="0" lang="en-US" sz="4400" spc="-1" strike="noStrike">
              <a:solidFill>
                <a:srgbClr val="000000"/>
              </a:solidFill>
              <a:latin typeface="Arial"/>
            </a:endParaRPr>
          </a:p>
        </p:txBody>
      </p:sp>
      <p:sp>
        <p:nvSpPr>
          <p:cNvPr id="157" name="PlaceHolder 2"/>
          <p:cNvSpPr>
            <a:spLocks noGrp="1"/>
          </p:cNvSpPr>
          <p:nvPr>
            <p:ph/>
          </p:nvPr>
        </p:nvSpPr>
        <p:spPr>
          <a:xfrm>
            <a:off x="1682640" y="1351080"/>
            <a:ext cx="8072640" cy="5929200"/>
          </a:xfrm>
          <a:prstGeom prst="rect">
            <a:avLst/>
          </a:prstGeom>
          <a:noFill/>
          <a:ln w="0">
            <a:noFill/>
          </a:ln>
        </p:spPr>
        <p:txBody>
          <a:bodyPr lIns="0" rIns="0" tIns="0" bIns="0" anchor="t">
            <a:normAutofit/>
          </a:bodyPr>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z prodeje materiálu vzešlých z projektu dalším osobám</a:t>
            </a:r>
            <a:endParaRPr b="0" lang="en-US" sz="24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úroky připsané na projektovém účtu</a:t>
            </a:r>
            <a:endParaRPr b="0" lang="en-US" sz="2400" spc="-1" strike="noStrike">
              <a:solidFill>
                <a:srgbClr val="000000"/>
              </a:solidFill>
              <a:latin typeface="Arial"/>
            </a:endParaRPr>
          </a:p>
          <a:p>
            <a:pPr lvl="2" marL="914400" indent="0">
              <a:lnSpc>
                <a:spcPct val="93000"/>
              </a:lnSpc>
              <a:spcAft>
                <a:spcPts val="850"/>
              </a:spcAft>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povinnost průběžného vykazování</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použití na krytí způsobilých výdajů</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Povinnost odečítání příjmů se vztahuje na příjmy generované v období realizace projektu, nikoliv na příjmy generované v období udržitelnosti projektu. Příjmy z projektu vzniklé v době udržitelnosti by měly přispívat k udržitelnosti projektu </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Výzva 07, 09 – nelze vytvářet příjmy!!!</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539360" y="351000"/>
            <a:ext cx="8541000" cy="200016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Úhrada výdajů projektu poskytovatelem podpory příjemci</a:t>
            </a:r>
            <a:br>
              <a:rPr sz="2000"/>
            </a:br>
            <a:endParaRPr b="0" lang="en-US" sz="4400" spc="-1" strike="noStrike">
              <a:solidFill>
                <a:srgbClr val="000000"/>
              </a:solidFill>
              <a:latin typeface="Arial"/>
            </a:endParaRPr>
          </a:p>
        </p:txBody>
      </p:sp>
      <p:sp>
        <p:nvSpPr>
          <p:cNvPr id="159" name="PlaceHolder 2"/>
          <p:cNvSpPr>
            <a:spLocks noGrp="1"/>
          </p:cNvSpPr>
          <p:nvPr>
            <p:ph/>
          </p:nvPr>
        </p:nvSpPr>
        <p:spPr>
          <a:xfrm>
            <a:off x="1754280" y="2351160"/>
            <a:ext cx="7858080" cy="4857840"/>
          </a:xfrm>
          <a:prstGeom prst="rect">
            <a:avLst/>
          </a:prstGeom>
          <a:noFill/>
          <a:ln w="0">
            <a:noFill/>
          </a:ln>
        </p:spPr>
        <p:txBody>
          <a:bodyPr lIns="0" rIns="0" tIns="0" bIns="0" anchor="t">
            <a:normAutofit/>
          </a:bodyPr>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2200" spc="-1" strike="noStrike">
                <a:solidFill>
                  <a:srgbClr val="000000"/>
                </a:solidFill>
                <a:latin typeface="Arial"/>
              </a:rPr>
              <a:t> </a:t>
            </a:r>
            <a:r>
              <a:rPr b="0" lang="cs-CZ" sz="2400" spc="-1" strike="noStrike">
                <a:solidFill>
                  <a:srgbClr val="000000"/>
                </a:solidFill>
                <a:latin typeface="Arial"/>
              </a:rPr>
              <a:t>První zálohová platba</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Další průběžné platby  - ve výši prokazovaných způsobilých výdajů</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000" spc="-1" strike="noStrike">
                <a:solidFill>
                  <a:srgbClr val="000000"/>
                </a:solidFill>
                <a:latin typeface="Arial"/>
              </a:rPr>
              <a:t>Kumulovaná výše uvedených plateb nesmí přesáhnout 90 % schválené částky podpory u IP</a:t>
            </a:r>
            <a:endParaRPr b="0" lang="en-US" sz="20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Závěrečná platba</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Součástí závěrečné zprávy je</a:t>
            </a:r>
            <a:endParaRPr b="0" lang="en-US" sz="24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400" spc="-1" strike="noStrike">
                <a:solidFill>
                  <a:srgbClr val="000000"/>
                </a:solidFill>
                <a:latin typeface="Arial"/>
              </a:rPr>
              <a:t>žádost o závěrečnou platbu</a:t>
            </a:r>
            <a:endParaRPr b="0" lang="en-US" sz="24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400" spc="-1" strike="noStrike">
                <a:solidFill>
                  <a:srgbClr val="000000"/>
                </a:solidFill>
                <a:latin typeface="Arial"/>
              </a:rPr>
              <a:t>celkové vyúčtování projektu</a:t>
            </a:r>
            <a:endParaRPr b="0" lang="en-US" sz="24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400" spc="-1" strike="noStrike">
                <a:solidFill>
                  <a:srgbClr val="000000"/>
                </a:solidFill>
                <a:latin typeface="Arial"/>
              </a:rPr>
              <a:t>zpráva auditora</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Arial"/>
              </a:rPr>
              <a:t> </a:t>
            </a: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539360" y="421920"/>
            <a:ext cx="8541000" cy="85716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Daň z přidané hodnoty</a:t>
            </a:r>
            <a:br>
              <a:rPr sz="2000"/>
            </a:br>
            <a:endParaRPr b="0" lang="en-US" sz="4400" spc="-1" strike="noStrike">
              <a:solidFill>
                <a:srgbClr val="000000"/>
              </a:solidFill>
              <a:latin typeface="Arial"/>
            </a:endParaRPr>
          </a:p>
        </p:txBody>
      </p:sp>
      <p:sp>
        <p:nvSpPr>
          <p:cNvPr id="161" name="PlaceHolder 2"/>
          <p:cNvSpPr>
            <a:spLocks noGrp="1"/>
          </p:cNvSpPr>
          <p:nvPr>
            <p:ph/>
          </p:nvPr>
        </p:nvSpPr>
        <p:spPr>
          <a:xfrm>
            <a:off x="1611000" y="1350720"/>
            <a:ext cx="8072280" cy="57150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Plátce DPH</a:t>
            </a:r>
            <a:endParaRPr b="0" lang="en-US" sz="3200" spc="-1" strike="noStrike">
              <a:solidFill>
                <a:srgbClr val="000000"/>
              </a:solidFill>
              <a:latin typeface="Arial"/>
            </a:endParaRPr>
          </a:p>
          <a:p>
            <a:pPr lvl="2" marL="914400">
              <a:lnSpc>
                <a:spcPct val="93000"/>
              </a:lnSpc>
              <a:spcAft>
                <a:spcPts val="850"/>
              </a:spcAft>
              <a:buClr>
                <a:srgbClr val="ff9900"/>
              </a:buClr>
              <a:buSzPct val="8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vzniká nárok na odpočet  DPH – nezpůsobilý výdaj</a:t>
            </a:r>
            <a:endParaRPr b="0" lang="en-US" sz="2400" spc="-1" strike="noStrike">
              <a:solidFill>
                <a:srgbClr val="000000"/>
              </a:solidFill>
              <a:latin typeface="Arial"/>
            </a:endParaRPr>
          </a:p>
          <a:p>
            <a:pPr lvl="2" marL="914400">
              <a:lnSpc>
                <a:spcPct val="93000"/>
              </a:lnSpc>
              <a:spcAft>
                <a:spcPts val="850"/>
              </a:spcAft>
              <a:buClr>
                <a:srgbClr val="ff9900"/>
              </a:buClr>
              <a:buSzPct val="8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nevzniká nárok a odpočet  - způsobilý výdaj</a:t>
            </a:r>
            <a:endParaRPr b="0" lang="en-US" sz="2400" spc="-1" strike="noStrike">
              <a:solidFill>
                <a:srgbClr val="000000"/>
              </a:solidFill>
              <a:latin typeface="Arial"/>
            </a:endParaRPr>
          </a:p>
          <a:p>
            <a:pPr lvl="2" marL="914400" indent="0">
              <a:lnSpc>
                <a:spcPct val="93000"/>
              </a:lnSpc>
              <a:spcAft>
                <a:spcPts val="850"/>
              </a:spcAft>
              <a:buNone/>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0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Neplátce DPH</a:t>
            </a:r>
            <a:endParaRPr b="0" lang="en-US" sz="3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vždy způsobilý výdaj</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Arial"/>
              </a:rPr>
              <a:t>.</a:t>
            </a: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468080" y="279360"/>
            <a:ext cx="8612280" cy="10000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Účetnictví a dokladování</a:t>
            </a:r>
            <a:br>
              <a:rPr sz="2000"/>
            </a:br>
            <a:endParaRPr b="0" lang="en-US" sz="4400" spc="-1" strike="noStrike">
              <a:solidFill>
                <a:srgbClr val="000000"/>
              </a:solidFill>
              <a:latin typeface="Arial"/>
            </a:endParaRPr>
          </a:p>
        </p:txBody>
      </p:sp>
      <p:sp>
        <p:nvSpPr>
          <p:cNvPr id="163" name="PlaceHolder 2"/>
          <p:cNvSpPr>
            <a:spLocks noGrp="1"/>
          </p:cNvSpPr>
          <p:nvPr>
            <p:ph/>
          </p:nvPr>
        </p:nvSpPr>
        <p:spPr>
          <a:xfrm>
            <a:off x="1753920" y="1351080"/>
            <a:ext cx="7786440" cy="5310000"/>
          </a:xfrm>
          <a:prstGeom prst="rect">
            <a:avLst/>
          </a:prstGeom>
          <a:noFill/>
          <a:ln w="0">
            <a:noFill/>
          </a:ln>
        </p:spPr>
        <p:txBody>
          <a:bodyPr lIns="0" rIns="0" tIns="0" bIns="0" anchor="t">
            <a:normAutofit fontScale="97000"/>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Povinnosti příjemce/finančního partnera</a:t>
            </a:r>
            <a:endParaRPr b="0" lang="en-US" sz="3200" spc="-1" strike="noStrike">
              <a:solidFill>
                <a:srgbClr val="000000"/>
              </a:solidFill>
              <a:latin typeface="Arial"/>
            </a:endParaRPr>
          </a:p>
          <a:p>
            <a:pPr lvl="2" marL="88668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000" spc="-1" strike="noStrike">
                <a:solidFill>
                  <a:srgbClr val="000000"/>
                </a:solidFill>
                <a:latin typeface="Arial"/>
              </a:rPr>
              <a:t>účetnictví pro projekt (analytická evidence)</a:t>
            </a:r>
            <a:endParaRPr b="0" lang="en-US" sz="2000" spc="-1" strike="noStrike">
              <a:solidFill>
                <a:srgbClr val="000000"/>
              </a:solidFill>
              <a:latin typeface="Arial"/>
            </a:endParaRPr>
          </a:p>
          <a:p>
            <a:pPr lvl="2" marL="88668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000" spc="-1" strike="noStrike">
                <a:solidFill>
                  <a:srgbClr val="000000"/>
                </a:solidFill>
                <a:latin typeface="Arial"/>
              </a:rPr>
              <a:t>účetnictví v elektronické podobě, pouze v odůvodněných případech je možné vést účetnictví v písemné formě.</a:t>
            </a:r>
            <a:endParaRPr b="0" lang="en-US" sz="2000" spc="-1" strike="noStrike">
              <a:solidFill>
                <a:srgbClr val="000000"/>
              </a:solidFill>
              <a:latin typeface="Arial"/>
            </a:endParaRPr>
          </a:p>
          <a:p>
            <a:pPr lvl="2" marL="88668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000" spc="-1" strike="noStrike">
                <a:solidFill>
                  <a:srgbClr val="000000"/>
                </a:solidFill>
                <a:latin typeface="Arial"/>
              </a:rPr>
              <a:t>účetní doklady musejí být vystaveny v souladu se zákonem o účetnictví a musejí obsahovat všechny požadované náležitosti. </a:t>
            </a:r>
            <a:endParaRPr b="0" lang="en-US" sz="20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Povinné označování účetních dokladů</a:t>
            </a:r>
            <a:endParaRPr b="0" lang="en-US" sz="3200" spc="-1" strike="noStrike">
              <a:solidFill>
                <a:srgbClr val="000000"/>
              </a:solidFill>
              <a:latin typeface="Arial"/>
            </a:endParaRPr>
          </a:p>
          <a:p>
            <a:pPr lvl="2" marL="88668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000" spc="-1" strike="noStrike">
                <a:solidFill>
                  <a:srgbClr val="000000"/>
                </a:solidFill>
                <a:latin typeface="Arial"/>
              </a:rPr>
              <a:t>zkrácený název</a:t>
            </a:r>
            <a:endParaRPr b="0" lang="en-US" sz="2000" spc="-1" strike="noStrike">
              <a:solidFill>
                <a:srgbClr val="000000"/>
              </a:solidFill>
              <a:latin typeface="Arial"/>
            </a:endParaRPr>
          </a:p>
          <a:p>
            <a:pPr lvl="2" marL="88668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000" spc="-1" strike="noStrike">
                <a:solidFill>
                  <a:srgbClr val="000000"/>
                </a:solidFill>
                <a:latin typeface="Arial"/>
              </a:rPr>
              <a:t>registrační číslo</a:t>
            </a:r>
            <a:endParaRPr b="0" lang="en-US" sz="2000" spc="-1" strike="noStrike">
              <a:solidFill>
                <a:srgbClr val="000000"/>
              </a:solidFill>
              <a:latin typeface="Arial"/>
            </a:endParaRPr>
          </a:p>
          <a:p>
            <a:pPr lvl="2" marL="88668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000" spc="-1" strike="noStrike">
                <a:solidFill>
                  <a:srgbClr val="000000"/>
                </a:solidFill>
                <a:latin typeface="Arial"/>
              </a:rPr>
              <a:t>příp. číslo jednací</a:t>
            </a:r>
            <a:endParaRPr b="0" lang="en-US" sz="20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611360" y="279360"/>
            <a:ext cx="8469360" cy="157176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Druhy účetních dokladů </a:t>
            </a:r>
            <a:br>
              <a:rPr sz="4400"/>
            </a:br>
            <a:r>
              <a:rPr b="1" lang="cs-CZ" sz="4400" spc="-1" strike="noStrike">
                <a:solidFill>
                  <a:srgbClr val="f3912c"/>
                </a:solidFill>
                <a:latin typeface="Arial"/>
              </a:rPr>
              <a:t>a jejich náležitosti</a:t>
            </a:r>
            <a:br>
              <a:rPr sz="2000"/>
            </a:br>
            <a:endParaRPr b="0" lang="en-US" sz="4400" spc="-1" strike="noStrike">
              <a:solidFill>
                <a:srgbClr val="000000"/>
              </a:solidFill>
              <a:latin typeface="Arial"/>
            </a:endParaRPr>
          </a:p>
        </p:txBody>
      </p:sp>
      <p:sp>
        <p:nvSpPr>
          <p:cNvPr id="165" name="PlaceHolder 2"/>
          <p:cNvSpPr>
            <a:spLocks noGrp="1"/>
          </p:cNvSpPr>
          <p:nvPr>
            <p:ph/>
          </p:nvPr>
        </p:nvSpPr>
        <p:spPr>
          <a:xfrm>
            <a:off x="1682280" y="1922040"/>
            <a:ext cx="8001000" cy="500076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Za účetní doklady se považují</a:t>
            </a:r>
            <a:endParaRPr b="0" lang="en-US" sz="3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faktury přijaté faktury vydané (zálohové faktury)</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 </a:t>
            </a:r>
            <a:r>
              <a:rPr b="0" lang="cs-CZ" sz="2400" spc="-1" strike="noStrike">
                <a:solidFill>
                  <a:srgbClr val="000000"/>
                </a:solidFill>
                <a:latin typeface="Arial"/>
              </a:rPr>
              <a:t>příjmové pokladní doklady</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 </a:t>
            </a:r>
            <a:r>
              <a:rPr b="0" lang="cs-CZ" sz="2400" spc="-1" strike="noStrike">
                <a:solidFill>
                  <a:srgbClr val="000000"/>
                </a:solidFill>
                <a:latin typeface="Arial"/>
              </a:rPr>
              <a:t>výdajové pokladní doklady</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interní doklad</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bankovní výpisy z projektového účtu</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výpisy z dalších účtů použitých k úhradě výdajů projektu</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Výběrová řízení</a:t>
            </a:r>
            <a:endParaRPr b="0" lang="en-US" sz="4400" spc="-1" strike="noStrike">
              <a:solidFill>
                <a:srgbClr val="000000"/>
              </a:solidFill>
              <a:latin typeface="Arial"/>
            </a:endParaRPr>
          </a:p>
        </p:txBody>
      </p:sp>
      <p:sp>
        <p:nvSpPr>
          <p:cNvPr id="167" name="PlaceHolder 2"/>
          <p:cNvSpPr>
            <a:spLocks noGrp="1"/>
          </p:cNvSpPr>
          <p:nvPr>
            <p:ph/>
          </p:nvPr>
        </p:nvSpPr>
        <p:spPr>
          <a:xfrm>
            <a:off x="1976400" y="1422000"/>
            <a:ext cx="7564320" cy="538164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text oznámení o zahájení výběrového řízení</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doklad o uveřejnění výzvy k podávání nabídek a doklad o uveřejnění výsledku výzvy k podávání nabídek, je-li uveřejnění</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nabídky</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zápis (protokol) o posouzení a hodnocení</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smlouva uzavřená s vybraným dodavatelem</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text oznámení o výsledku výběrového řízení</a:t>
            </a:r>
            <a:endParaRPr b="0" lang="en-US" sz="2200" spc="-1" strike="noStrike">
              <a:solidFill>
                <a:srgbClr val="000000"/>
              </a:solidFill>
              <a:latin typeface="Arial"/>
            </a:endParaRPr>
          </a:p>
          <a:p>
            <a:pPr lvl="1" marL="457200" indent="0">
              <a:lnSpc>
                <a:spcPct val="93000"/>
              </a:lnSpc>
              <a:spcAft>
                <a:spcPts val="1137"/>
              </a:spcAft>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896840" y="850680"/>
            <a:ext cx="6048360" cy="221436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Děkuji za pozornost</a:t>
            </a:r>
            <a:br>
              <a:rPr sz="2000"/>
            </a:br>
            <a:endParaRPr b="0" lang="en-US" sz="4400" spc="-1" strike="noStrike">
              <a:solidFill>
                <a:srgbClr val="000000"/>
              </a:solidFill>
              <a:latin typeface="Arial"/>
            </a:endParaRPr>
          </a:p>
        </p:txBody>
      </p:sp>
      <p:sp>
        <p:nvSpPr>
          <p:cNvPr id="169" name="PlaceHolder 2"/>
          <p:cNvSpPr>
            <a:spLocks noGrp="1"/>
          </p:cNvSpPr>
          <p:nvPr>
            <p:ph/>
          </p:nvPr>
        </p:nvSpPr>
        <p:spPr>
          <a:xfrm>
            <a:off x="1976400" y="3708000"/>
            <a:ext cx="7564320" cy="3095640"/>
          </a:xfrm>
          <a:prstGeom prst="rect">
            <a:avLst/>
          </a:prstGeom>
          <a:noFill/>
          <a:ln w="0">
            <a:noFill/>
          </a:ln>
        </p:spPr>
        <p:txBody>
          <a:bodyPr lIns="0" rIns="0" tIns="0" bIns="0" anchor="t">
            <a:normAutofit fontScale="61000"/>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000000"/>
                </a:solidFill>
                <a:latin typeface="Arial"/>
              </a:rPr>
              <a:t>Kontakt:</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Ing. Helena Viktorie Barbořáková</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Koordinátor finančních manažerů</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Odbor CERA</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Ministerstvo školství, mládeže a tělovýchovy ČR</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email: </a:t>
            </a:r>
            <a:r>
              <a:rPr b="0" lang="cs-CZ" sz="2400" spc="-1" strike="noStrike" u="sng">
                <a:solidFill>
                  <a:srgbClr val="ccccff"/>
                </a:solidFill>
                <a:uFillTx/>
                <a:latin typeface="Arial"/>
                <a:hlinkClick r:id="rId1"/>
              </a:rPr>
              <a:t>helena.barborakova@msmt.cz</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539360" y="350640"/>
            <a:ext cx="8541000" cy="7045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Způsobilé výdaje</a:t>
            </a:r>
            <a:r>
              <a:rPr b="1" lang="cs-CZ" sz="4400" spc="-1" strike="noStrike">
                <a:solidFill>
                  <a:srgbClr val="000000"/>
                </a:solidFill>
                <a:latin typeface="Arial"/>
              </a:rPr>
              <a:t> </a:t>
            </a:r>
            <a:endParaRPr b="0" lang="en-US" sz="4400" spc="-1" strike="noStrike">
              <a:solidFill>
                <a:srgbClr val="000000"/>
              </a:solidFill>
              <a:latin typeface="Arial"/>
            </a:endParaRPr>
          </a:p>
        </p:txBody>
      </p:sp>
      <p:pic>
        <p:nvPicPr>
          <p:cNvPr id="99" name="Zástupný symbol pro obsah 7" descr=""/>
          <p:cNvPicPr/>
          <p:nvPr/>
        </p:nvPicPr>
        <p:blipFill>
          <a:blip r:embed="rId1"/>
          <a:stretch/>
        </p:blipFill>
        <p:spPr>
          <a:xfrm>
            <a:off x="1566720" y="1487520"/>
            <a:ext cx="7937640" cy="46274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539360" y="350640"/>
            <a:ext cx="8541000" cy="7045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Nezpůsobilé výdaje </a:t>
            </a:r>
            <a:r>
              <a:rPr b="1" lang="cs-CZ" sz="2400" spc="-1" strike="noStrike">
                <a:solidFill>
                  <a:srgbClr val="f3912c"/>
                </a:solidFill>
                <a:latin typeface="Arial"/>
              </a:rPr>
              <a:t>příklady</a:t>
            </a:r>
            <a:endParaRPr b="0" lang="en-US" sz="2400" spc="-1" strike="noStrike">
              <a:solidFill>
                <a:srgbClr val="000000"/>
              </a:solidFill>
              <a:latin typeface="Arial"/>
            </a:endParaRPr>
          </a:p>
        </p:txBody>
      </p:sp>
      <p:sp>
        <p:nvSpPr>
          <p:cNvPr id="101" name="Zástupný symbol pro obsah 7"/>
          <p:cNvSpPr/>
          <p:nvPr/>
        </p:nvSpPr>
        <p:spPr>
          <a:xfrm>
            <a:off x="1825560" y="1351080"/>
            <a:ext cx="7669440" cy="5286240"/>
          </a:xfrm>
          <a:prstGeom prst="rect">
            <a:avLst/>
          </a:prstGeom>
          <a:noFill/>
          <a:ln w="0">
            <a:noFill/>
          </a:ln>
        </p:spPr>
        <p:style>
          <a:lnRef idx="0"/>
          <a:fillRef idx="0"/>
          <a:effectRef idx="0"/>
          <a:fontRef idx="minor"/>
        </p:style>
        <p:txBody>
          <a:bodyPr lIns="0" rIns="0" tIns="0" bIns="0" anchor="t">
            <a:noAutofit/>
          </a:bodyPr>
          <a:p>
            <a:pPr lvl="1" marL="428760" indent="-216000">
              <a:lnSpc>
                <a:spcPct val="93000"/>
              </a:lnSpc>
              <a:buClr>
                <a:srgbClr val="f3912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Times New Roman"/>
                <a:ea typeface="Lucida Sans Unicode"/>
              </a:rPr>
              <a:t>správní a místní poplatky, které nemají přímou vazbu na projekt a nejsou výslovně stanoveny Řídícím orgánem (výpis z katastru nemovitostí, výpis z obchodního rejstříku apod.)</a:t>
            </a:r>
            <a:endParaRPr b="0" lang="en-US" sz="2400" spc="-1" strike="noStrike">
              <a:solidFill>
                <a:srgbClr val="ffffff"/>
              </a:solidFill>
              <a:latin typeface="Arial"/>
            </a:endParaRPr>
          </a:p>
          <a:p>
            <a:pPr lvl="1" marL="428760" indent="-216000">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ffffff"/>
              </a:solidFill>
              <a:latin typeface="Arial"/>
            </a:endParaRPr>
          </a:p>
          <a:p>
            <a:pPr lvl="1" marL="428760" indent="-216000">
              <a:lnSpc>
                <a:spcPct val="93000"/>
              </a:lnSpc>
              <a:buClr>
                <a:srgbClr val="f3912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Times New Roman"/>
                <a:ea typeface="Lucida Sans Unicode"/>
              </a:rPr>
              <a:t>mzdové náklady zaměstnanců, kteří se na realizaci projektu nepodílejí</a:t>
            </a:r>
            <a:endParaRPr b="0" lang="en-US" sz="2400" spc="-1" strike="noStrike">
              <a:solidFill>
                <a:srgbClr val="ffffff"/>
              </a:solidFill>
              <a:latin typeface="Arial"/>
            </a:endParaRPr>
          </a:p>
          <a:p>
            <a:pPr lvl="1" marL="428760" indent="-216000">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ffffff"/>
              </a:solidFill>
              <a:latin typeface="Arial"/>
            </a:endParaRPr>
          </a:p>
          <a:p>
            <a:pPr lvl="1" marL="428760" indent="-216000">
              <a:lnSpc>
                <a:spcPct val="93000"/>
              </a:lnSpc>
              <a:buClr>
                <a:srgbClr val="f3912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Times New Roman"/>
                <a:ea typeface="Lucida Sans Unicode"/>
              </a:rPr>
              <a:t>u zaměstnanců, kteří se na realizaci projektu podílejí, alikvotní část osobních nákladů, která neodpovídá pracovnímu vytížení zaměstnance na daném projektu</a:t>
            </a:r>
            <a:endParaRPr b="0" lang="en-US" sz="2400" spc="-1" strike="noStrike">
              <a:solidFill>
                <a:srgbClr val="ffffff"/>
              </a:solidFill>
              <a:latin typeface="Arial"/>
            </a:endParaRPr>
          </a:p>
          <a:p>
            <a:pPr lvl="1" marL="428760" indent="-216000">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ffffff"/>
              </a:solidFill>
              <a:latin typeface="Arial"/>
            </a:endParaRPr>
          </a:p>
          <a:p>
            <a:pPr lvl="1" marL="428760" indent="-216000">
              <a:lnSpc>
                <a:spcPct val="93000"/>
              </a:lnSpc>
              <a:buClr>
                <a:srgbClr val="f3912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Times New Roman"/>
                <a:ea typeface="Lucida Sans Unicode"/>
              </a:rPr>
              <a:t>výdaje na právní spory vzniklé v souvislosti s určitým projektem, např. výdaje na uhrazení soudního poplatku, na pořízení důkazů, na právní zastoupení v případě sporu, penále, pokuty, jiné sankční výdaje a právní výlohy související s právním sporem</a:t>
            </a:r>
            <a:endParaRPr b="0" lang="en-US" sz="2400" spc="-1" strike="noStrike">
              <a:solidFill>
                <a:srgbClr val="ffffff"/>
              </a:solidFill>
              <a:latin typeface="Arial"/>
            </a:endParaRPr>
          </a:p>
          <a:p>
            <a:pPr lvl="1" marL="428760" indent="-216000">
              <a:lnSpc>
                <a:spcPct val="93000"/>
              </a:lnSpc>
              <a:spcAft>
                <a:spcPts val="113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lvl="1" marL="428760" indent="-216000">
              <a:lnSpc>
                <a:spcPct val="93000"/>
              </a:lnSpc>
              <a:spcAft>
                <a:spcPts val="113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lvl="1" marL="428760" indent="-216000">
              <a:lnSpc>
                <a:spcPct val="93000"/>
              </a:lnSpc>
              <a:spcAft>
                <a:spcPts val="113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lvl="1" marL="428760" indent="-216000">
              <a:lnSpc>
                <a:spcPct val="93000"/>
              </a:lnSpc>
              <a:spcAft>
                <a:spcPts val="113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lvl="1" marL="428760" indent="-216000">
              <a:lnSpc>
                <a:spcPct val="93000"/>
              </a:lnSpc>
              <a:spcAft>
                <a:spcPts val="113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539360" y="350640"/>
            <a:ext cx="8541000" cy="250020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1</a:t>
            </a:r>
            <a:br>
              <a:rPr sz="4400"/>
            </a:br>
            <a:r>
              <a:rPr b="1" lang="cs-CZ" sz="4400" spc="-1" strike="noStrike">
                <a:solidFill>
                  <a:srgbClr val="f3912c"/>
                </a:solidFill>
                <a:latin typeface="Arial"/>
              </a:rPr>
              <a:t> </a:t>
            </a:r>
            <a:r>
              <a:rPr b="1" lang="cs-CZ" sz="4400" spc="-1" strike="noStrike">
                <a:solidFill>
                  <a:srgbClr val="f3912c"/>
                </a:solidFill>
                <a:latin typeface="Arial"/>
              </a:rPr>
              <a:t>Osobní výdaje související s realizací projektu</a:t>
            </a:r>
            <a:br>
              <a:rPr sz="4400"/>
            </a:br>
            <a:r>
              <a:rPr b="1" lang="cs-CZ" sz="4400" spc="-1" strike="noStrike">
                <a:solidFill>
                  <a:srgbClr val="f3912c"/>
                </a:solidFill>
                <a:latin typeface="Arial"/>
              </a:rPr>
              <a:t> </a:t>
            </a:r>
            <a:endParaRPr b="0" lang="en-US" sz="4400" spc="-1" strike="noStrike">
              <a:solidFill>
                <a:srgbClr val="000000"/>
              </a:solidFill>
              <a:latin typeface="Arial"/>
            </a:endParaRPr>
          </a:p>
        </p:txBody>
      </p:sp>
      <p:sp>
        <p:nvSpPr>
          <p:cNvPr id="103" name="Zástupný symbol pro obsah 7"/>
          <p:cNvSpPr/>
          <p:nvPr/>
        </p:nvSpPr>
        <p:spPr>
          <a:xfrm>
            <a:off x="1825560" y="2922480"/>
            <a:ext cx="7669440" cy="407196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Pracovněprávní vztah</a:t>
            </a:r>
            <a:endParaRPr b="0" lang="en-US" sz="3200" spc="-1" strike="noStrike">
              <a:solidFill>
                <a:srgbClr val="ffffff"/>
              </a:solidFill>
              <a:latin typeface="Arial"/>
            </a:endParaRPr>
          </a:p>
          <a:p>
            <a:pPr lvl="4" marL="1076400" indent="-216000">
              <a:lnSpc>
                <a:spcPct val="150000"/>
              </a:lnSpc>
              <a:buClr>
                <a:srgbClr val="f3912c"/>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ea typeface="Lucida Sans Unicode"/>
              </a:rPr>
              <a:t>pracovní smlouva</a:t>
            </a:r>
            <a:endParaRPr b="0" lang="en-US" sz="2200" spc="-1" strike="noStrike">
              <a:solidFill>
                <a:srgbClr val="ffffff"/>
              </a:solidFill>
              <a:latin typeface="Arial"/>
            </a:endParaRPr>
          </a:p>
          <a:p>
            <a:pPr lvl="4" marL="1076400" indent="-216000">
              <a:lnSpc>
                <a:spcPct val="150000"/>
              </a:lnSpc>
              <a:buClr>
                <a:srgbClr val="f3912c"/>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ea typeface="Lucida Sans Unicode"/>
              </a:rPr>
              <a:t>dohoda o pracovní činnosti </a:t>
            </a:r>
            <a:endParaRPr b="0" lang="en-US" sz="2200" spc="-1" strike="noStrike">
              <a:solidFill>
                <a:srgbClr val="ffffff"/>
              </a:solidFill>
              <a:latin typeface="Arial"/>
            </a:endParaRPr>
          </a:p>
          <a:p>
            <a:pPr lvl="4" marL="1076400" indent="-216000">
              <a:lnSpc>
                <a:spcPct val="150000"/>
              </a:lnSpc>
              <a:buClr>
                <a:srgbClr val="f3912c"/>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ea typeface="Lucida Sans Unicode"/>
              </a:rPr>
              <a:t>dohoda o provedení práce</a:t>
            </a:r>
            <a:endParaRPr b="0" lang="en-US" sz="2200" spc="-1" strike="noStrike">
              <a:solidFill>
                <a:srgbClr val="ffffff"/>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Autorské honoráře</a:t>
            </a:r>
            <a:endParaRPr b="0" lang="en-US" sz="3200" spc="-1" strike="noStrike">
              <a:solidFill>
                <a:srgbClr val="ffffff"/>
              </a:solidFill>
              <a:latin typeface="Arial"/>
            </a:endParaRPr>
          </a:p>
          <a:p>
            <a:pPr lvl="4" marL="1076400" indent="-216000">
              <a:lnSpc>
                <a:spcPct val="150000"/>
              </a:lnSpc>
              <a:buClr>
                <a:srgbClr val="f3912c"/>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ea typeface="Lucida Sans Unicode"/>
              </a:rPr>
              <a:t>řídí zákonem č. 121/2000 Sb., o právu autorském</a:t>
            </a:r>
            <a:endParaRPr b="0" lang="en-US" sz="2200" spc="-1" strike="noStrike">
              <a:solidFill>
                <a:srgbClr val="ffffff"/>
              </a:solidFill>
              <a:latin typeface="Arial"/>
            </a:endParaRPr>
          </a:p>
          <a:p>
            <a:pPr lvl="4" marL="1076400" indent="-216000">
              <a:lnSpc>
                <a:spcPct val="150000"/>
              </a:lnSpc>
              <a:buClr>
                <a:srgbClr val="f3912c"/>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ea typeface="Lucida Sans Unicode"/>
              </a:rPr>
              <a:t>za autorské dílo nelze považovat lektorování</a:t>
            </a:r>
            <a:endParaRPr b="0" lang="en-US" sz="2200" spc="-1" strike="noStrike">
              <a:solidFill>
                <a:srgbClr val="ffffff"/>
              </a:solidFill>
              <a:latin typeface="Arial"/>
            </a:endParaRPr>
          </a:p>
          <a:p>
            <a:pPr lvl="4" marL="1076400" indent="-216000">
              <a:lnSpc>
                <a:spcPct val="150000"/>
              </a:lnSpc>
              <a:buClr>
                <a:srgbClr val="f3912c"/>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ea typeface="Lucida Sans Unicode"/>
              </a:rPr>
              <a:t>není povinnost odevzdávat výkaz práce</a:t>
            </a:r>
            <a:endParaRPr b="0" lang="en-US" sz="2200" spc="-1" strike="noStrike">
              <a:solidFill>
                <a:srgbClr val="ffffff"/>
              </a:solidFill>
              <a:latin typeface="Arial"/>
            </a:endParaRPr>
          </a:p>
          <a:p>
            <a:pPr lvl="4" marL="1076400" indent="-216000">
              <a:lnSpc>
                <a:spcPct val="150000"/>
              </a:lnSpc>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200" spc="-1" strike="noStrike">
              <a:solidFill>
                <a:srgbClr val="ffffff"/>
              </a:solidFill>
              <a:latin typeface="Arial"/>
            </a:endParaRPr>
          </a:p>
          <a:p>
            <a:pPr lvl="4" marL="1076400" indent="-216000">
              <a:lnSpc>
                <a:spcPct val="150000"/>
              </a:lnSpc>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400" spc="-1" strike="noStrike">
              <a:solidFill>
                <a:srgbClr val="ffffff"/>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ffffff"/>
              </a:solidFill>
              <a:latin typeface="Arial"/>
            </a:endParaRPr>
          </a:p>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1</a:t>
            </a:r>
            <a:endParaRPr b="0" lang="en-US" sz="4400" spc="-1" strike="noStrike">
              <a:solidFill>
                <a:srgbClr val="000000"/>
              </a:solidFill>
              <a:latin typeface="Arial"/>
            </a:endParaRPr>
          </a:p>
        </p:txBody>
      </p:sp>
      <p:sp>
        <p:nvSpPr>
          <p:cNvPr id="105" name="PlaceHolder 2"/>
          <p:cNvSpPr>
            <a:spLocks noGrp="1"/>
          </p:cNvSpPr>
          <p:nvPr>
            <p:ph/>
          </p:nvPr>
        </p:nvSpPr>
        <p:spPr>
          <a:xfrm>
            <a:off x="1825560" y="1351080"/>
            <a:ext cx="7500960" cy="564336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Pracovně právní vztahy musí povinně obsahovat</a:t>
            </a:r>
            <a:endParaRPr b="0" lang="en-US" sz="3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všechny náležitosti pracovní smlouvy podle zákoníku práce</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identifikaci projektu, do kterého je pracovník zapojen;</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popis pracovní činnosti relevantní pro projekt</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rozsah činnosti, tzn. úvazek či počet hodin za časovou jednotku (měsíc, rok apod.)</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výši odměny</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případně další zákonem stanovené náležitosti</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povinnost odevzdávat pracovní výkaz (měsíční)</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splňovat pravidla povinné publicit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539360" y="351000"/>
            <a:ext cx="8541000" cy="71424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1</a:t>
            </a:r>
            <a:endParaRPr b="0" lang="en-US" sz="4400" spc="-1" strike="noStrike">
              <a:solidFill>
                <a:srgbClr val="000000"/>
              </a:solidFill>
              <a:latin typeface="Arial"/>
            </a:endParaRPr>
          </a:p>
        </p:txBody>
      </p:sp>
      <p:sp>
        <p:nvSpPr>
          <p:cNvPr id="107" name="PlaceHolder 2"/>
          <p:cNvSpPr>
            <a:spLocks noGrp="1"/>
          </p:cNvSpPr>
          <p:nvPr>
            <p:ph/>
          </p:nvPr>
        </p:nvSpPr>
        <p:spPr>
          <a:xfrm>
            <a:off x="1976400" y="1494000"/>
            <a:ext cx="7564320" cy="53100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Způsobilé osobní výdaje</a:t>
            </a:r>
            <a:endParaRPr b="0" lang="en-US" sz="3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racovní smlouva výhradně pro projekt</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část úvazku na projekt</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hody o provedení práce</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hody o pracovní činnosti</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autorské honoráře</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zákonné odvody na sociální a zdravotní pojištění hrazené zaměstnavatelem,</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 </a:t>
            </a:r>
            <a:r>
              <a:rPr b="0" lang="cs-CZ" sz="2200" spc="-1" strike="noStrike">
                <a:solidFill>
                  <a:srgbClr val="000000"/>
                </a:solidFill>
                <a:latin typeface="Arial"/>
              </a:rPr>
              <a:t>další zákonná pojištění a zákonné odvody a náhrady (např. FKSP)</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539360" y="422280"/>
            <a:ext cx="8541000" cy="71424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1</a:t>
            </a:r>
            <a:endParaRPr b="0" lang="en-US" sz="4400" spc="-1" strike="noStrike">
              <a:solidFill>
                <a:srgbClr val="000000"/>
              </a:solidFill>
              <a:latin typeface="Arial"/>
            </a:endParaRPr>
          </a:p>
        </p:txBody>
      </p:sp>
      <p:sp>
        <p:nvSpPr>
          <p:cNvPr id="109" name="PlaceHolder 2"/>
          <p:cNvSpPr>
            <a:spLocks noGrp="1"/>
          </p:cNvSpPr>
          <p:nvPr>
            <p:ph/>
          </p:nvPr>
        </p:nvSpPr>
        <p:spPr>
          <a:xfrm>
            <a:off x="1897200" y="1636200"/>
            <a:ext cx="7572240" cy="4286520"/>
          </a:xfrm>
          <a:prstGeom prst="rect">
            <a:avLst/>
          </a:prstGeom>
          <a:noFill/>
          <a:ln w="0">
            <a:noFill/>
          </a:ln>
        </p:spPr>
        <p:txBody>
          <a:bodyPr lIns="0" rIns="0" tIns="0" bIns="0" anchor="t">
            <a:normAutofit fontScale="80000"/>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alší podmínky OP VK</a:t>
            </a:r>
            <a:endParaRPr b="0" lang="en-US" sz="3200" spc="-1" strike="noStrike">
              <a:solidFill>
                <a:srgbClr val="000000"/>
              </a:solidFill>
              <a:latin typeface="Arial"/>
            </a:endParaRPr>
          </a:p>
          <a:p>
            <a:pPr lvl="2" marL="7315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osobní výdaje musí odpovídat nominálním mzdám </a:t>
            </a:r>
            <a:endParaRPr b="0" lang="en-US" sz="2200" spc="-1" strike="noStrike">
              <a:solidFill>
                <a:srgbClr val="000000"/>
              </a:solidFill>
              <a:latin typeface="Arial"/>
            </a:endParaRPr>
          </a:p>
          <a:p>
            <a:pPr lvl="2" marL="7315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racovní úvazky zaměstnance v rámci organizace se nesmějí překrývat a není možné, aby byl placen za stejnou práci vícekrát</a:t>
            </a:r>
            <a:endParaRPr b="0" lang="en-US" sz="2200" spc="-1" strike="noStrike">
              <a:solidFill>
                <a:srgbClr val="000000"/>
              </a:solidFill>
              <a:latin typeface="Arial"/>
            </a:endParaRPr>
          </a:p>
          <a:p>
            <a:pPr lvl="2" marL="7315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jeden pracovník nemůže být v rámci projektu a současně v rámci vykonávání dalších činností pro příjemce a jeho partnery zaměstnán na více než 1,5 úvazku celkem</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Arial"/>
              </a:rPr>
              <a:t>  </a:t>
            </a: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gh</cp:lastModifiedBy>
  <dcterms:modified xsi:type="dcterms:W3CDTF">2009-12-14T14:24:02Z</dcterms:modified>
  <cp:revision>168</cp:revision>
  <dc:subject/>
  <dc:title>Nadpis</dc:title>
</cp:coreProperties>
</file>