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0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54F75-8C67-4DBA-9CAD-4ED6B6237C1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3037D-CB54-48B5-8C38-C92E2761DBC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0493D-1E53-4E03-A1F5-B0ACD3E9150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DC979-56D4-4AE4-A2BA-DD200045664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11DA1-9E18-47E1-A47D-1B33B6C369F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038DA-B56B-4EAE-B24E-4C9CBEA3667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969D1-686F-4025-9BC8-D5AC2B09BC4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7FBD3-EAB0-4E8C-9BB8-F9225A61ED0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2E124-2099-480F-A3E0-A95BC1AC639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FD82A-C53D-47F2-AA52-711A3A0DD87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E6325-2702-4AD0-A8D9-9B350A698A4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5E057-6356-4961-892E-B060721C315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E664E-9210-492C-B42D-BF4FC54F22B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2CD59-61AC-4FB6-9FC8-5C8D999552E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33A9E-77B9-4896-AAE0-D3A7055B906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CF0-0B1C-4414-A228-5B803B96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D2E-550C-4378-89A7-574EEC3D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A43-9718-4D5C-861D-2CA1FE38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A31-C794-453B-8AF7-D1823098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55A-8D79-4D75-9A51-0024396C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997-1C1E-494E-91CE-F0EA166D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45E-AE07-428F-A25C-BA9C1D7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053-6805-4921-BC77-064D2D15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151-5A6D-434C-B19E-B59831ED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DC0-C42D-41C7-802D-238F6ED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6C6-5BDC-48BF-AFAF-43F333CB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367-36A6-4AE8-8496-2F67A190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904FFF-7A27-4053-8EEC-42049FA624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Formy k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dministrativní kontroly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pravidelných monitorovacích zprá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y na místě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veřejnoprávní kontroly podle zák. č. 320/2001 Sb. a zákona 552/1991 Sb., v souladu s nařízením rady EK č. 1083/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Sa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% ze všech proplacených prostředků v případě neplnění jakéhokoliv indikátoru výsledku nebo výstupu o 10 % -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5 % ze všech proplacených prostředků v případě neplnění jakéhokoliv indikátoru výsledku nebo výstupu o 25 % -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stoupení od právního aktu v případě neplnění jakéhokoliv indikátoru výsledku nebo výstupu o více jak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všech projektů s podporou nad 3 miliony Kč audit autorizovanou firmou (člen komory audi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k auditora se přikládá k závěrečné žádosti o plat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dit se týká jak projektového účetnictví příjemce, tak projektového účetnictví partnerů s finančním příspěv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969240" y="5423040"/>
            <a:ext cx="2307960" cy="14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rchivace v listinné i el. podo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archivaci je příjemce zavázán v právním a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n. do roku 202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jemce je povinen zavázat k archivaci také partnery projektu (případně převzít materiály, týkající se realizace projektu, do své úschov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archivaci po ukončení realizace proje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s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é výdaj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chivace se řídí zákonem č. 563/199 Sb., č. 235/2004 Sb., č.589/1992 Sb., č. 592/1992 Sb., č499/2004 Sb. a vyhláškami č. 645/2004 Sb., a č. 646/2004 Sb. Archivace je uvedena v příručce, která je součástí Rozhodnu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82640" y="493560"/>
            <a:ext cx="78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áclav Gö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vaclav.gotz@msmt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edování využití finančních prostředk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klad pro kontroly a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běž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eč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a o udržite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7540560" y="4137120"/>
            <a:ext cx="1736640" cy="155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252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30 kalendářních dnů od ukončení monitorovacího období (6 měsíc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epsané statutárním zástup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alepené obálce s adresou poskytovatele, jménem příslušného PM a registračním číslem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897680" y="4280040"/>
            <a:ext cx="1571760" cy="12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Žádost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hrn všech způsobilých výdajů za uplynulé monitorovací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ahrnovat i výdaje vzniklé v předchozím období, k nimž neměl příjemce v uvedenou dobu potřebné dokl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826320" y="4759200"/>
            <a:ext cx="2117520" cy="18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0" y="313704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ámitky vůči krácení částky v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 krácení jsou vždy sděleny                    písemně či elektron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může vznést námitku do 30 kalendářních dnů od doru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10 pracovních dnů od přijetí námitky je postup krácení částky ověř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výsledku je příjemce informován do 5 pracovních d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imořádná 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oprávněn předložit mimořádnou monitorovací zprávu spolu s žádostí o proplacení uznatelných nákladů v kratším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sledná monitorovací období je opět šestiměsíční a počítá se od podání mimořádné průběžné monitorovací zprá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gotzv\Local Settings\Temporary Internet Files\Content.IE5\ZXF16QS5\MCj02899550000[1].wmf"/>
          <p:cNvPicPr/>
          <p:nvPr/>
        </p:nvPicPr>
        <p:blipFill>
          <a:blip r:embed="rId1"/>
          <a:stretch/>
        </p:blipFill>
        <p:spPr>
          <a:xfrm>
            <a:off x="6826320" y="5351400"/>
            <a:ext cx="2286000" cy="15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ávěreč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2 měsíc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rojektů nad 3 mil. Kč se přikládá k žádosti o závěrečnou platbu aud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řikládá souhrnnou informaci o realizaci projektu včetně publicity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spěvek z ESF bude zachován, pokud projekt v následujících 5 letech po ukončení neprojde podstatnou změnou, kt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í povahu projektu nebo výsled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ne realizátorům nepatřičnou výhod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ke změně vlastnictví či zastavení produktivní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itelnost je specifikována v právním aktu dle žádosti příjem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jetek pořízený v křížovém financování musí být nadále využíván v souladu s podpor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dokládá udržitelnost projektu monitorovací zprávou jednou za rok nejpozději do 2 měsíců od uplynutí prvního ročního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397640" y="5137200"/>
            <a:ext cx="171000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31:39Z</dcterms:modified>
  <cp:revision>104</cp:revision>
  <dc:subject/>
  <dc:title>Snímek 1</dc:title>
</cp:coreProperties>
</file>