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154-3D84-4C30-AB62-4A997412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752-DDCF-490D-A27F-FBDE70FE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79D6-597E-4FEC-9452-BF6717CF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CC57-CE80-44C5-9100-A5C34297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51A5-52BF-4FCD-B1C7-4C48658A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E779-8B60-4C82-BA6B-B3C57D42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BD3C-4A51-4E2E-932F-EBC2692B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29FE-C50D-417B-94CE-A97A7D98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A5F3-DB0F-4E92-B772-2D5ADC0B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EDAE-61E9-4329-BEFC-032592AA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AD52-6EEC-449E-96A0-158E13B6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9DE-C8CE-4F0C-8C06-8EF951B7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1548-1C35-47CA-B9F7-6D9F1BAD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2FC2-D7AE-41A9-A57B-3593608B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E33B-961E-4590-B281-DC776733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152D-114B-413B-B771-81E8CB43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A83E-C014-442B-8F65-00CC6B80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B09-4815-4E5F-8686-1A358EA8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D9B-BCF2-4AAB-80EC-ADD1D374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7811-6313-40DA-BC89-D5270DEC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CDE-F70D-4767-9A09-2F258434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9F2D-1858-4B58-98D6-DCE475A4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F7D-2559-4BC6-8993-85C66F7D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1A74-352C-44AF-A632-E16A4085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2B51-B0DC-44AD-B782-F7CC2A32240B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95F9-9F5E-418F-B86D-3D14BDFD68EA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hyperlink" Target="http://www.msmt.cz/" TargetMode="External"/><Relationship Id="rId3" Type="http://schemas.openxmlformats.org/officeDocument/2006/relationships/hyperlink" Target="http://www.msmt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5640" y="1844640"/>
            <a:ext cx="77929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Jak napsat správně žádost o finanční podporu v rámci grantového schématu pro Opatření 3.1 OP RLZ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4076640"/>
            <a:ext cx="77724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.čá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sterstvo školství, mládeže a tělovýchov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eu" descr=""/>
          <p:cNvPicPr/>
          <p:nvPr/>
        </p:nvPicPr>
        <p:blipFill>
          <a:blip r:embed="rId1"/>
          <a:stretch/>
        </p:blipFill>
        <p:spPr>
          <a:xfrm>
            <a:off x="2916360" y="333360"/>
            <a:ext cx="1038240" cy="733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9440" y="4039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esf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1000080" cy="733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160" y="1740600"/>
            <a:ext cx="130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1019160" cy="752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00" y="276768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r" descr=""/>
          <p:cNvPicPr/>
          <p:nvPr/>
        </p:nvPicPr>
        <p:blipFill>
          <a:blip r:embed="rId4"/>
          <a:stretch/>
        </p:blipFill>
        <p:spPr>
          <a:xfrm>
            <a:off x="6588000" y="260280"/>
            <a:ext cx="1038240" cy="733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800" y="3776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32400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hyby při hodnocení přijatelnosti 2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dostatky v hodnocení přijatelnosti nel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pravovat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splnění některého z kritérií znamená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vyřazení žádosti z dalšího proces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hodnoc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9CB-41C7-4FBF-944E-F3199D01EA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Příklady předložených projektů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klady některých  vybraných projektů podaných v 1.výzvě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kuse s účastníky škol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2C0-AC6B-4D4C-AA12-993B86CA96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Odkaz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</a:t>
            </a:r>
            <a:r>
              <a:rPr b="0" lang="cs-CZ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smt</a:t>
            </a:r>
            <a:r>
              <a:rPr b="0" lang="cs-CZ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.cz/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Evropský sociální fond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patření 3.1/grantové sché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ýzva k předkládání žádostí o finanční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poru z OP RLZ včetně přílo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F523-FE84-415E-B583-8F277C2342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Co je důležité při zpracování záměru projektu 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7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ýt v souladu s vybraným Programem podpory grantového schématu, zaměřit svůj záměr pouze na jeden z Programů podp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sný realizační zámě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íle projektu musí mít jasnou vazbu na kvantifikované předem stanovené výstupy a výsledky projektu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75A-8950-436D-BEEF-22AB72C103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Co je důležité při zpracování záměru projektu 2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sně identifikovat cílové skupiny, které musí být v souladu s jednotlivými Programy podp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ovat role jednotlivých partner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ázat finanční prostředky s klíčovými aktivitami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394F-A044-4E63-AB5E-FA12873314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Co je důležité při zpracování záměru projektu 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ést analýzu potřebnosti cílových skupin v souvislosti s aktivitami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žadované finanční prostředky musí být uznatelné a přiměřené ve vztahu k předpokládaným výstupům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kt nezpracovávat v příliš obecné rovině s nekonkrétními cí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AE6D-A4B9-4DEF-8666-EF107954D4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Informace k formálnímu zpracování žád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ýzva k předkládání žádostí o finanční podporu z OP RLZ v rámci grantového schématu pro Opatření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ílohy výzvy - informace k Benefi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- monitorovací indiká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ojektová přihláška v MSSF Benef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íručka pro žadatele o finanční podpor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 OP RL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862-BA6B-4CC5-ADED-0C67B3364B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Chyby formálního charakteru 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nefit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Žádost nemá unikátní kód (byla vytištěna před finálním uložení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jsou vyplněna dostatečně a správně všechna povinná p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ní v souladu rozpočet klíčových aktivi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celkovým rozpočtem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ně nastavené indikátory, špatný výběr cílových skupin nebo činností realizovaných projek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47D-DEEA-4B5C-BF5B-457A54BECC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Chyby formálního charakteru 2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dodržení předepsané formy předložené žádosti (žádost není pevně svázaná, není přelepená v levém horním rohu, přelepy nejsou orazítkovány a podepsány statutárním zástupc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Žádost neobsahuje všechny povinné přílohy v žádaném počtu včetně jejich seznam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čty listů uvedené v Seznamu příloh neodpovídají počtu listů skutečně doložený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Tahoma"/>
              </a:rPr>
              <a:t>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DCC-AA1D-4548-96FA-847C7FDA44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Chyby formálního charakteru 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ějí podpisy na příloh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ohy nejsou číslovány a řazeny podle seznamu přílo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ářské ověření (např. u dokladů o právní subjektivitě) je starší 3 měsíc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jsou dodány všechny požadované doklady o právní subjektivitě žadate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kud nejsou nedostatky formálního charakter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straněny do stanoveného termínu je žádo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vyřazena z procesu hodnoc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ahoma"/>
              </a:rPr>
              <a:t>          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493-8D8D-436C-8828-7A6F0C396A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hyby při hodnocení přijatelnosti 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dodržení limitu pro jednotlivé skupiny výdaj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ánování neuznatelných náklad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ktivity a cílové skupiny uvedené v projektu neodpovídají aktivitám a cílovým skupinám nastaveným v jednotlivých Programech podpor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apř. cílová skupina žáků 1. stupně, dospělí v Programech podpory A, B, D nebo zájmové aktivity nezaměřené na klíčové kompetence a nezaměřené na žáky a studenty se speciálními vzdělávacími potřebam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CD6C-F328-423B-83BA-AE7E301AE1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09:37:37Z</dcterms:created>
  <dc:creator>jamburovai</dc:creator>
  <dc:description/>
  <dc:language>en-US</dc:language>
  <cp:lastModifiedBy>prejzovaa</cp:lastModifiedBy>
  <dcterms:modified xsi:type="dcterms:W3CDTF">2005-12-19T13:37:08Z</dcterms:modified>
  <cp:revision>39</cp:revision>
  <dc:subject/>
  <dc:title>Snímek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2491994</vt:r8>
  </property>
  <property fmtid="{D5CDD505-2E9C-101B-9397-08002B2CF9AE}" pid="3" name="_AuthorEmail">
    <vt:lpwstr>Barbora.Hoskova@msmt.cz</vt:lpwstr>
  </property>
  <property fmtid="{D5CDD505-2E9C-101B-9397-08002B2CF9AE}" pid="4" name="_AuthorEmailDisplayName">
    <vt:lpwstr>Hošková Barbora</vt:lpwstr>
  </property>
  <property fmtid="{D5CDD505-2E9C-101B-9397-08002B2CF9AE}" pid="5" name="_EmailSubject">
    <vt:lpwstr>prezentace</vt:lpwstr>
  </property>
  <property fmtid="{D5CDD505-2E9C-101B-9397-08002B2CF9AE}" pid="6" name="_PreviousAdHocReviewCycleID">
    <vt:r8>-918767486</vt:r8>
  </property>
  <property fmtid="{D5CDD505-2E9C-101B-9397-08002B2CF9AE}" pid="7" name="_ReviewingToolsShownOnce">
    <vt:lpwstr/>
  </property>
</Properties>
</file>