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873-0096-4883-917E-F0322E0F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E86-F71B-480D-B227-512762D0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82A-F8C5-4608-82CF-135E8FC1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B09-DFC1-4CD5-AC63-18BFB56A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8E1-3946-490D-9C05-39C029E9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3111-2644-4F93-ADA2-E39C583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F27C-FDEE-438A-9FD6-6B560D9F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8F68-0191-4065-B342-63449083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21E-4596-4C76-A900-55FAFCB8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1BFB-672C-4F19-A1D7-42ECC121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D283-A5DA-4238-9585-0B4B5CF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8D6-1CCC-4EE2-A84B-63D172BC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6A68-F546-49D9-86C2-CE632870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09EB-7CD7-41AD-84DF-49619BF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CA90-4397-46D3-9DBA-DA39506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8C1-B219-42C1-876C-794DA163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FE84-54AD-4928-B9E5-819A2299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4AC-90EB-41A7-9965-72D04ACE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30E-CCD2-4C96-8184-485D3C14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2CF-25A9-42D4-A4FA-21664B6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3A9-D358-4953-801D-54038B5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C43-03A0-45D4-AAF7-8080A735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E4D-D7D7-434A-9D65-50D72D3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D25-EC60-44F6-B2CF-F417CE0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B337-D027-42E8-B0D0-71C83C0E288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5147-A2B6-42AB-BAB8-3F8896FB6384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ozpočet a finanční řízení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2135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314424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0" y="41713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517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280" y="6005520"/>
            <a:ext cx="6286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102060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77080" y="476280"/>
            <a:ext cx="104148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čet uznatelných a neuznatelných nákladů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veden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ručka pro žadatele o finanční podporu grantovým projektů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ručka pro příjemce finanční podpory projektů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ručky jsou umístěny n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v sekc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ropský sociální fond, Opatření 3.1, Grantové sché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933-2E11-48AE-9A6E-B8FF4E61E2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Úloha konečného uživate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ijímá zálohu na schválený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izuje projekt v intervalech stanovených Rozhodnutím o poskytnutí dotace předkládá KP vyúčtování zálohy/průběžné platby vč.kopií účetních dokladů spolu s monitorovací zpráv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ádá o další průběžnou platb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 skončení projektu předkládá závěrečné vyúčtování projektu a žádá o vyplacení zůstat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ovává účetní dokumentaci po dobu 10 let po 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ní další povinnosti vyplývající z Rozhodnutí o poskytnutí dota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amostatný účet, součinnost při kontrolách, publici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1E6-F21E-4B87-B761-B827BA2BDB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ádění plat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ádění a výše plateb budou stanoveny v Rozhodnutí o poskytnutí dot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lohová platba obvykle do výše 25 % z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ůběžná platba – žádost o průběžnou platbu vč.průběžné zprávy (věcné a finanční ukazatele), KU vyčerpal min.75% všech předcházejících plateb a může to doložit vyúčtování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věrečná platba ve výši max.10% z celkových uznatelných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1AB-6BD3-4938-BAB3-A59F4C71D1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anční limity pro jednotlivé projek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inimální částka pro jeden pro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500 000 K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aximální částka pro jeden pro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10 000 000 K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Doba realizace grantového projektu 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maximálně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dva roky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3F6-16AD-4073-A51A-2ECC2C015E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pravě rozpočtu projektu je třeba věnovat velkou pozor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 reálný rozpočet umožní financovat činnosti, které žadatel v projektu navrhu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 vyplňuje jen ty položky rozpočtu, které jsou pro předkládaný projekt relevant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nutné dodržovat stanovené minimální a maximální částky finanční podpory určené ve výzv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jedná se o kapitálové výdaje, projekt musí být zaměřen na vzdělávací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9D5-3DC3-459E-B451-1F7FA89EE9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nční limity jednotlivých položek rozpočtu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ledující limity jsou předmětem hodnoc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jatelnosti projek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klady na nákup nového a použitého zařízení a vybavení a na splátky nájemních nebo leasingových smluv by neměly přesáhnout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25%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 uznatelných nákladů projektu (kromě položek 3.5 – odpisy a 3.6 – opravy a údržba v Benefi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klady v subkapitole 5 Nákup služeb nesmí přesáhnout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49 %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 uznatelných nákladů projektu (nezapočítávají se položky 5.3. Náklady vyplývající přímo ze smlouvy a 5.5 Jiné náklad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DF1-6DD9-4CBC-AAC6-E8EABF85C9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nční limity jednotlivých položek rozpočtu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žijní náklady projektu nesmí překroči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7%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celkových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nákup jedné položky nového vybavení či zařízení hmotného majetku nesmí přesáhn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4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 PC se jednou položkou rozumí základní PC sestava, tj. počítač, monitor, klávesnice, myš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nákup jedné položky nehmotného majetku nesmí přesáhnou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přímou podporu jednotlivců (mimo mzdových prostředků) mohou být poskytovány nejvýše do výš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0 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lkových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132-7DC5-4180-82DB-10A87C7C88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Uznatelnost aktiv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 může nárokovat finanční prostředky pou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uznateln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znatelné aktivi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žáky 1.stupně základního škol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zdělávání pedagogických a ostatních odborných pracovníků mateřských škol, 1. stupně základních šk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rodiče žáků a student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veřejnost (kromě Programu podpory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Zájmové vzdělávání nezaměřené na klíčové kompetence a nezaměřené na žáky se speciálními vzdělávacími potřebami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např. pořádání karnevalů, výletů, besíde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695-B31A-4A10-B6D7-1FDC08EFCE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1628640"/>
            <a:ext cx="85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elkov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čet všech uznatelných a neuznateln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znateln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ze hradit z veřejných prostředků, musí být skuteč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nalože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uznateln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ze je hradit z veřejný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785-6994-48E3-BC6F-4046B3122A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916280"/>
            <a:ext cx="790236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rité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 výda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ynaloženy na činnosti v souladu s nařízením Komise č.1784/1999 o ESF (na typy činností uvedených v opatření, resp.ve výzvě) a ve znění nařízení Komise č. 448/200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č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být vynaložen na činnosti v souladu s obsahovou stránkou a cíl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vzniknout v době platnosti Rozhodnutí o poskytnutí dotace na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skutečně vzniknout, být zaznamenán na účtech příjemce finanční podpory nebo jeho partnerů, být identifikovatel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kontrolovatelný, musí být doložitelný originály účetních doklad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ákon č. 563/1991 Sb., o účetnic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dravé finanční říze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být nezbytný pro realizaci projektu, být obsažen ve smlou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EEB-C2EA-49AE-8C47-6A5C153D86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obní výdaje (pozor! – omezení u PO a krajů a obcí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stovní náhrady (jízdní výdaje, výdaje na ubytování, stravné a nutné vedlejší výdaje personálu žadate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řízení a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ístní kancel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ákup služ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bné stavební úpra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má podpora (max. 20% celkových uznatelných nákladů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veřejné sprá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201-30B6-468E-98AA-1CC9563CA1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25:37Z</dcterms:created>
  <dc:creator>drahotovaj</dc:creator>
  <dc:description/>
  <dc:language>en-US</dc:language>
  <cp:lastModifiedBy>prejzovaa</cp:lastModifiedBy>
  <dcterms:modified xsi:type="dcterms:W3CDTF">2005-12-19T13:40:21Z</dcterms:modified>
  <cp:revision>19</cp:revision>
  <dc:subject/>
  <dc:title>Rozvoj regionálního školství  s podporou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7422718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PreviousAdHocReviewCycleID">
    <vt:r8>-1535963127</vt:r8>
  </property>
  <property fmtid="{D5CDD505-2E9C-101B-9397-08002B2CF9AE}" pid="7" name="_ReviewingToolsShownOnce">
    <vt:lpwstr/>
  </property>
</Properties>
</file>