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120F-E7A1-4ADB-8898-487A9D0E1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1459-7CF1-4082-BF3E-1D3F8EC4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3BC3-1BBB-4B1B-A320-5491213D9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AA2A-3A23-4FB3-97F7-7A8EF5BC7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4B74-91CB-424B-ABF3-BD7BA4A6A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66BF-3238-4B92-97EB-DCF386D3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5F0E-B78E-49C5-B614-F6723F3F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897A-F613-42DD-8332-11186353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0ABD-4726-4561-A9F9-C4AD4107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61AA-1F38-4CA3-A368-884A82B8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FEC4-1E39-47A3-B182-98907562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D89F-5C3A-4C84-8DB3-6322BEA2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B583-6F05-4B76-AFF3-7B16466E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7FBD-BB90-42DC-883A-AAB33A2A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7830-5EBB-4BD8-A917-26B5A88C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6D41-B4F9-4A7F-AE00-5247776D8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8B7D-7477-40DB-B3F1-E5B6080B5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B3AD-B171-4FD8-B4C4-E3A0AC4B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9007-8B45-4F18-9DD5-D99C326F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CA1E-048D-4843-91B2-F92F8C50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B915-B639-4EAF-9AFD-E85E73C3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63E3-FF4A-4CA7-BCB8-12E589BA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4BEB-5018-4FF1-B140-D199B824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F2F0-88D9-4A8E-8F1C-48B394FD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4851-50DA-4BC6-9CDF-CFC1851B0BF0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7DB8-ABA4-4A0B-B153-A4D409A2ADFE}" type="slidenum">
              <a:rPr b="0" lang="cs-CZ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smt.cz/" TargetMode="External"/><Relationship Id="rId2" Type="http://schemas.openxmlformats.org/officeDocument/2006/relationships/hyperlink" Target="http://www.msmt.cz/" TargetMode="External"/><Relationship Id="rId3" Type="http://schemas.openxmlformats.org/officeDocument/2006/relationships/hyperlink" Target="http://www.msmt.cz/" TargetMode="External"/><Relationship Id="rId4" Type="http://schemas.openxmlformats.org/officeDocument/2006/relationships/hyperlink" Target="http://www.esfcr.cz/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5640" y="1844640"/>
            <a:ext cx="779292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Jak napsat správně žádost o finanční podporu v rámci grantového schématu pro Opatření 3.1 OP RLZ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4076640"/>
            <a:ext cx="77724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I.čá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sterstvo školství, mládeže a tělovýchov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eu" descr=""/>
          <p:cNvPicPr/>
          <p:nvPr/>
        </p:nvPicPr>
        <p:blipFill>
          <a:blip r:embed="rId1"/>
          <a:stretch/>
        </p:blipFill>
        <p:spPr>
          <a:xfrm>
            <a:off x="2916360" y="333360"/>
            <a:ext cx="1038240" cy="733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09440" y="40392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esf" descr=""/>
          <p:cNvPicPr/>
          <p:nvPr/>
        </p:nvPicPr>
        <p:blipFill>
          <a:blip r:embed="rId2"/>
          <a:stretch/>
        </p:blipFill>
        <p:spPr>
          <a:xfrm>
            <a:off x="1258920" y="333360"/>
            <a:ext cx="1000080" cy="7333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160" y="1740600"/>
            <a:ext cx="130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788000" y="260280"/>
            <a:ext cx="1019160" cy="752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600" y="2767680"/>
            <a:ext cx="99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cr" descr=""/>
          <p:cNvPicPr/>
          <p:nvPr/>
        </p:nvPicPr>
        <p:blipFill>
          <a:blip r:embed="rId4"/>
          <a:stretch/>
        </p:blipFill>
        <p:spPr>
          <a:xfrm>
            <a:off x="6588000" y="260280"/>
            <a:ext cx="1038240" cy="7333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800" y="3776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324000" y="24922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Chyby při hodnocení přijatelnosti 2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dostatky v hodnocení přijatelnosti nel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pravovat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splnění některého z kritérií znamená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vyřazení žádosti z dalšího procesu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hodnoce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F7AF-87FA-411B-A4EF-EA9B02203D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Příklady předložených projektů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říklady některých  vybraných projektů podaných v 1.výzvě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kuse s účastníky škole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8C10-AAC5-4798-8446-AC60BDD42C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Odkaz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</a:t>
            </a:r>
            <a:r>
              <a:rPr b="0" lang="cs-CZ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msmt</a:t>
            </a:r>
            <a:r>
              <a:rPr b="0" lang="cs-CZ" sz="28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.cz/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Evropský sociální fond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Opatření 3.1/grantové sché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www.esfcr.c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Výzva k předkládání žádostí o finanční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dporu z OP RLZ včetně přílo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6E98-8637-4255-B138-7755B15B31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Co je důležité při zpracování záměru projektu 1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37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ýt v souladu s vybraným Programem podpory grantového schématu, zaměřit svůj záměr pouze na jeden z Programů podp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sný realizační zámě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íle projektu musí mít jasnou vazbu na kvantifikované předem stanovené výstupy a výsledky projektu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A655-8C86-45CA-B4E8-61B82DF2E1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Co je důležité při zpracování záměru projektu 2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sně identifikovat cílové skupiny, které musí být v souladu s jednotlivými Programy podp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ovat role jednotlivých partnerů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proje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ázat finanční prostředky s klíčovými aktivitami proje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A495-9ACD-4121-99CF-7EBFE26190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2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Co je důležité při zpracování záměru projektu 3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ést analýzu potřebnosti cílových skupin v souvislosti s aktivitami proje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žadované finanční prostředky musí být uznatelné a přiměřené ve vztahu k předpokládaným výstupům proje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kt nezpracovávat v příliš obecné rovině s nekonkrétními cíl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AEC2-BE63-4137-AF9C-A154C7D112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Informace k formálnímu zpracování žádost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Výzva k předkládání žádostí o finanční podporu z OP RLZ v rámci grantového schématu pro Opatření 3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řílohy výzvy - informace k Benefi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- monitorovací indiká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rojektová přihláška v MSSF Benef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říručka pro žadatele o finanční podporu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z OP RL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6875-9EDD-47D4-B63B-0D8375D5D0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Chyby formálního charakteru 1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nefit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Žádost nemá unikátní kód (byla vytištěna před finálním uložení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jsou vyplněna dostatečně a správně všechna povinná po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ní v souladu rozpočet klíčových aktivi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 celkovým rozpočtem proje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ybně nastavené indikátory, špatný výběr cílových skupin nebo činností realizovaných projek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5972-63C0-4C36-A73E-913F86434F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Chyby formálního charakteru 2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0120" indent="-240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dodržení předepsané formy předložené žádosti (žádost není pevně svázaná, není přelepená v levém horním rohu, přelepy nejsou orazítkovány a podepsány statutárním zástupc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0120" indent="-240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Žádost neobsahuje všechny povinné přílohy v žádaném počtu včetně jejich seznam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0120" indent="-240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čty listů uvedené v Seznamu příloh neodpovídají počtu listů skutečně doložený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Tahoma"/>
              </a:rPr>
              <a:t>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7D26-47BA-47BF-B8C2-3941207236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Chyby formálního charakteru 3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ybějí podpisy na přílohá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řílohy nejsou číslovány a řazeny podle seznamu přílo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ářské ověření (např. u dokladů o právní subjektivitě) je starší 3 měsíc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jsou dodány všechny požadované doklady o právní subjektivitě žadate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okud nejsou nedostatky formálního charakter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dstraněny do stanoveného termínu je žádos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vyřazena z procesu hodnocen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cc"/>
                </a:solidFill>
                <a:latin typeface="Tahoma"/>
              </a:rPr>
              <a:t>          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D0AF-84C5-4D13-AC1E-3B3C4D8EEF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Chyby při hodnocení přijatelnosti 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dodržení limitu pro jednotlivé skupiny výdaj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ánování neuznatelných náklad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ktivity a cílové skupiny uvedené v projektu neodpovídají aktivitám a cílovým skupinám nastaveným v jednotlivých Programech podpory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např. cílová skupina žáků 1. stupně, dospělí v Programech podpory A, B, D nebo zájmové aktivity nezaměřené na klíčové kompetence a nezaměřené na žáky a studenty se speciálními vzdělávacími potřebam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C054-B1A2-4AB8-BA51-0DDE6CA51D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09:37:37Z</dcterms:created>
  <dc:creator>jamburovai</dc:creator>
  <dc:description/>
  <dc:language>en-US</dc:language>
  <cp:lastModifiedBy>prejzovaa</cp:lastModifiedBy>
  <dcterms:modified xsi:type="dcterms:W3CDTF">2005-12-19T13:37:08Z</dcterms:modified>
  <cp:revision>39</cp:revision>
  <dc:subject/>
  <dc:title>Snímek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52491994</vt:r8>
  </property>
  <property fmtid="{D5CDD505-2E9C-101B-9397-08002B2CF9AE}" pid="3" name="_AuthorEmail">
    <vt:lpwstr>Barbora.Hoskova@msmt.cz</vt:lpwstr>
  </property>
  <property fmtid="{D5CDD505-2E9C-101B-9397-08002B2CF9AE}" pid="4" name="_AuthorEmailDisplayName">
    <vt:lpwstr>Hošková Barbora</vt:lpwstr>
  </property>
  <property fmtid="{D5CDD505-2E9C-101B-9397-08002B2CF9AE}" pid="5" name="_EmailSubject">
    <vt:lpwstr>prezentace</vt:lpwstr>
  </property>
  <property fmtid="{D5CDD505-2E9C-101B-9397-08002B2CF9AE}" pid="6" name="_PreviousAdHocReviewCycleID">
    <vt:r8>-918767486</vt:r8>
  </property>
  <property fmtid="{D5CDD505-2E9C-101B-9397-08002B2CF9AE}" pid="7" name="_ReviewingToolsShownOnce">
    <vt:lpwstr/>
  </property>
</Properties>
</file>