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1B7-1A45-4416-A982-DAA3C317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799E-2D35-4B79-9EEB-4ACC18BC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C41-45A4-46CE-B1D7-CD1A0061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59E-ADB3-4A8A-A159-CD5EF94E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EC25-BC5A-48C7-BAFB-6AC1CEFF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E77D-6941-4216-A1EF-4AE369BE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B53A-5BD8-4517-84F3-93CC4D81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4757-3F6F-45D8-AC31-685816AB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9609-2EA1-4239-BD18-7DFC0333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64E9-2799-4790-B1D2-D8B91351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9F93-FF11-4D67-B839-BFF48C62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F4F-2A3D-4334-A12D-4BBB6A36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6038-3FA9-444F-9ED8-F6D7802C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9E0B-C88E-492C-9D68-AB029FD3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6D20-9BA4-438D-8B97-CBDC9161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A4EA-2270-4BFF-BBC3-41EF001B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8B0E-F1E8-4257-AFDB-361E7042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6DD-CB42-4742-BD3E-A3270F56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252-E6B5-4336-8EAC-6E3AB6C5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0F23-BECA-485A-A346-801A170A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B49-ECED-474C-9E84-0365917B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B631-A33B-4AF2-9ADE-CFE5CFEB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7D6-786C-4220-AC84-C036ECF4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13C-50EB-4FDB-B5B2-1D02B63A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41D5-847D-4B2B-8F4F-D128959B4B50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5FD9-4DF9-4378-AB80-483AE59BA629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strukturalni-fondy.cz/" TargetMode="External"/><Relationship Id="rId3" Type="http://schemas.openxmlformats.org/officeDocument/2006/relationships/hyperlink" Target="http://www.strukturalni-fondy.cz/" TargetMode="External"/><Relationship Id="rId4" Type="http://schemas.openxmlformats.org/officeDocument/2006/relationships/hyperlink" Target="http://www.strukturalni-fondy.cz/" TargetMode="External"/><Relationship Id="rId5" Type="http://schemas.openxmlformats.org/officeDocument/2006/relationships/hyperlink" Target="http://www.msmt.cz/" TargetMode="External"/><Relationship Id="rId6" Type="http://schemas.openxmlformats.org/officeDocument/2006/relationships/hyperlink" Target="http://www.msmt.cz/" TargetMode="External"/><Relationship Id="rId7" Type="http://schemas.openxmlformats.org/officeDocument/2006/relationships/hyperlink" Target="http://www.msmt.cz/" TargetMode="External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esfgranty@msmt.cz" TargetMode="External"/><Relationship Id="rId2" Type="http://schemas.openxmlformats.org/officeDocument/2006/relationships/hyperlink" Target="mailto:esfgranty@msmt.cz" TargetMode="External"/><Relationship Id="rId3" Type="http://schemas.openxmlformats.org/officeDocument/2006/relationships/hyperlink" Target="mailto:esfgranty@msmt.cz" TargetMode="External"/><Relationship Id="rId4" Type="http://schemas.openxmlformats.org/officeDocument/2006/relationships/hyperlink" Target="mailto:esfgranty@msmt.cz" TargetMode="External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6920" y="1699920"/>
            <a:ext cx="69138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Grantové schéma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pro Opatření 3.1 OP RLZ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čá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terstvo školství, mládeže a tělovýcho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0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21358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60" y="314424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0" y="417132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00" y="517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280" y="6005520"/>
            <a:ext cx="62863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1041480" cy="73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1000080" cy="733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476280"/>
            <a:ext cx="1020960" cy="755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041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26920" y="2133720"/>
            <a:ext cx="812808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ávnické osoby vykonávající činnost škol a školských zařízen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romě mateřských škol a základních škol, které mají zřízeny pouze ročníky prvního stupně vzdělání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rganizace zřízené MŠ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kraje, obce, dobrovolné svazky měst a obc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bčanská sdružení, obecně prospěšné společnosti, církevní právnické osoby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ociální partneři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nikatelské svazy, profesní asociace a společnosti, odborové svaz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zdělávací institu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yzické a právnické osob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Žadatel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D75-CC9A-4687-9C28-03FA891B90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artnerstv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57610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upina dvou a více subjektů, které si vybraly jeden druhého za účelem spolupráce při dosahování cílů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 obecné (podpůrné konzultace před a při přípravě projekt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 projektové (na smluvním základě se podílejí na přípravě a realizaci projekt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588000" y="2565360"/>
            <a:ext cx="219708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1D3-8F02-4C33-A399-7D30802CCA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rojektové partnerství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81280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ři jsou uvedeni v projektové žád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je fyzická nebo právnická osoba splňující stejná kritéria oprávněnosti jako žadat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žadatel je příjemce dota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žadatel i partner musí při realizaci projektu uskutečnit 51% všech aktivit (resp. 51%           z celkového rozpočt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7B0-64B4-4F01-AE67-92CC1826F1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907920"/>
            <a:ext cx="7540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artner versus Dodavate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681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cf0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f01"/>
                </a:solidFill>
                <a:uFillTx/>
                <a:latin typeface="Tahoma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lečná příprava a realizace projektu za předem sjednaných podmíne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je do podrobností vymezena v žádosti a ve smlouv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z jeho přispění nemůže být projekt realizován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nahraditeln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ho role má neziskový charakt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z přímého finančního plněn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vzájemně si s žadatelem neúčtují a neposkytují peníz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916280"/>
            <a:ext cx="4038480" cy="4681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Dodavat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v projektu je pouze podpůrn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ýběr se řídí zákonem č.40/2004 Sb., o veřejných zakázk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kytuje žadateli služb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4D6-9363-4087-AF27-CD48D534A7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Kraje a obce - výjimk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ákon 40/2000 Sb., o veřejných zakázkách, 218/2000 Sb., rozpočtová pravidla, 128/2000 Sb., o obcích, 129/2000 Sb.,        o krají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raj či obec mohou mít partnery                  s finančním plněním (školy, školská zařízení…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236000" y="4869000"/>
            <a:ext cx="502920" cy="504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rot="5400000">
            <a:off x="4167000" y="3762360"/>
            <a:ext cx="936360" cy="701640"/>
          </a:xfrm>
          <a:custGeom>
            <a:avLst/>
            <a:gdLst>
              <a:gd name="textAreaLeft" fmla="*/ 146160 w 936360"/>
              <a:gd name="textAreaRight" fmla="*/ 817560 w 936360"/>
              <a:gd name="textAreaTop" fmla="*/ 173160 h 701640"/>
              <a:gd name="textAreaBottom" fmla="*/ 528480 h 701640"/>
            </a:gdLst>
            <a:ahLst/>
            <a:rect l="textAreaLeft" t="textAreaTop" r="textAreaRight" b="textAreaBottom"/>
            <a:pathLst>
              <a:path w="21600" h="21600">
                <a:moveTo>
                  <a:pt x="3375" y="5338"/>
                </a:moveTo>
                <a:lnTo>
                  <a:pt x="16170" y="5338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62"/>
                </a:lnTo>
                <a:lnTo>
                  <a:pt x="3375" y="16262"/>
                </a:lnTo>
                <a:close/>
              </a:path>
              <a:path w="21600" h="21600">
                <a:moveTo>
                  <a:pt x="0" y="5338"/>
                </a:moveTo>
                <a:lnTo>
                  <a:pt x="675" y="5338"/>
                </a:lnTo>
                <a:lnTo>
                  <a:pt x="675" y="16262"/>
                </a:lnTo>
                <a:lnTo>
                  <a:pt x="0" y="16262"/>
                </a:lnTo>
                <a:close/>
              </a:path>
              <a:path w="21600" h="21600">
                <a:moveTo>
                  <a:pt x="1350" y="5338"/>
                </a:moveTo>
                <a:lnTo>
                  <a:pt x="2700" y="5338"/>
                </a:lnTo>
                <a:lnTo>
                  <a:pt x="2700" y="16262"/>
                </a:lnTo>
                <a:lnTo>
                  <a:pt x="1350" y="1626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F08-3796-4B51-BD10-E17F568086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Finanční limity pro jednotlivé projekt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inimální částka pro jeden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    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500 000 K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ximální částka pro jeden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10 000 000 K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Doba realiz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ximální doba realizace pro grantový projekt  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i="1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i="1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i="1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i="1" lang="cs-CZ" sz="24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dva 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7AD-2385-4D67-9841-07A6A7CB718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Způsob žádosti o příspěvek z ESF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Schválení grantového schématu pro Opatření 3.1 OP RL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Zveřejnění výzvy k předkládání projek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internetové stránky MŠMT (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smt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cz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centrální stránky ESF (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www.esfcr.cz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2 celoplošné dení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Žádost o finanční podporu z OP RL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Žádost se předkládá v MSSF Benefit (aktuální verz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nutno předložit do 8 týdnů od zveřejnění výz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ve 3 vyhotoveních + CD 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5EF-D3D6-435C-B924-6B419C17E7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Způsob žádosti o příspěvek z ESF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34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ílohy k Žádos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klad o právní subjektivit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hlášení o bezdlužnosti vůči veřejné správě a zdravotním pojišťovná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hlášení každého partnera o partnerství, návrh smlouvy o partnerstv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hlášení malých a středních podniků o jejich velik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hled ekonomické  a finanční situace žadatele, který je podnikatelským subjek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056-7C18-496C-9E56-A854FFB5FE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ces výběru grantových projektů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Hodnocení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ormální hodnocen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rovádí Konečný příjemce (K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osouzení formálních náležitostí představuje kontrol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ministrativního souladu, kontrolu formy žádostí a formálníc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áležitostí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ři zjištění formálních nedostatků bude žadatel vyzván k jejic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plnění do stanovené lhůty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okud do této lhůty nedostatky nedoplní, bude jeho žádost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yřazena z dalšího hodnocen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F82-F510-43FA-BA26-A372C2D992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ces výběru grantových projektů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hodnocení přijatelnost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rovádí Konečný příjemce (K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osouzení přijatelnosti představuje kontrolu přijatelnos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u s ohledem na základní podmínky programu, finanční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islativní předpoklady, principy strukturální politiky EU apo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ýše uvedené parametry jsou zveřejněny ve výzvě k předklád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ádostí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okud žadatel nesplní i jen jedno z daných kritérií, bude jeh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ádost vyloučena z dalšího hodnoc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02B-EA2F-46C4-A7C0-1F1751FBF1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perační program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ozvoj lidsk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2017440"/>
            <a:ext cx="8199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orita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ozvoj celoživotního uč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atření 3.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Zkvalitňování vzdělávání ve školách                                              a školských zařízeních a rozvoj podpůrný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ystémů ve vzdělá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ázev grantového schéma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Zkvalitňování vzdělávání ve školách a školských zařízení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ografický rozsah grantového schéma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Česká republika mimo hl.m. Prah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025-7CE0-4DA5-848B-17FA162C1A7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ces výběru grantových projektů 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8343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věcné hodnocení externími hodnotite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becná a specifická kritéria pro hodnocení Žádostí o finanční podporu z OP RL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důvodnění projekt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ová skupin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izace projekt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ýsledky a výstup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rizontální tém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ké požadavky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viz slide č. 21)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3D7-4A2D-4A3A-95CA-D9B9FBD1A2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ces výběru grantových projektů 4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415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pecifické požadavky: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- Přiměřenost požadovaných finančních prostředků ve vztahu                k předpokládaným výstupům projektu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0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- Odborná připravenost řešitelů a participujících subjektů ve vztahu      k cíli a obsahu projektu a k cílové skupině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x. počet bodů pro žádost –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100 bo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in. počet bodů pro postoupení do výběru výběrovou komisí –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65 bo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4292640"/>
            <a:ext cx="7848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D79-6E61-4721-8FC2-81CA257571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ces výběru grantových projektů 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ýběr projektů k financování výběrovou komis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ložení komise bylo schváleno ministryní školství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ádeže a tělovýchovy, je uveřejněno na www stránkác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ŠM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ozhodnutí výběrové komise o schválení projektu je konečné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lze je měnit ani se proti němu odvola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očet podpořených projektů bude limitován výší prostředků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rčených pro dané grantové sché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C87-0ACB-4225-8209-7A350133E2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47577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k výše uvedenému naleznete na internetových stránkách MŠ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smt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sekci Evropský sociální f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patření 3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Grantové sché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5867280" y="2637000"/>
            <a:ext cx="2749680" cy="28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796-E04E-4786-AE32-002D11F846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Užitečné odkaz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esfcr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strukturalni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-fondy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www.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msmt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ýzva k předkládání žádostí o finanční podporu z OP RLZ v rámci grantového schématu pro opatření 3.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onitorovací indiká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rojektová přihláška v MSSF Benefit (elektronický formulá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říručka pro žadatele o finanční podporu z OP RL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říručka pro příje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3CF-714D-4755-9794-A796B99AAE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79640" y="2017440"/>
            <a:ext cx="4608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ŠMT – odbor pro zajištění administrace ESF                  v regionálním školstv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el: 257 193 7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esfgranty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@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smt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468360" y="2492280"/>
            <a:ext cx="207180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A65-648B-4B2E-87DF-56E824CB1F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Opatření 3.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4032360" cy="399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Způsoby realiz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árodní projek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émové projek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ntové projek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1640" y="2133720"/>
            <a:ext cx="4032360" cy="39988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inanční prostřed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265 mil. Kč celk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238 mil. Kč pro 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D79-84A3-4C05-B627-286659AF34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Zaměření grantového schémat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70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Programy podpory (P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Pp A - Zlepšení podmínek pro vzdělávání žáků </a:t>
            </a:r>
            <a:br>
              <a:rPr sz="2000"/>
            </a:b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  se speciálními vzdělávacími potřeba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Pp B - Rozvoj dalšího vzdělávání učitelů a pracovníků </a:t>
            </a:r>
            <a:br>
              <a:rPr sz="2000"/>
            </a:b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  ve školstv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Pp C - Rozvoj vzdělávání na SŠ a VO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Pp D - Modernizace školních vzdělávacích programů – rozvoj   klíčových        kompetenc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9CD-FFF2-4460-98EB-CCD55F295E6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p A – Zlepšení podmínek pro vzdělávání žáků 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  se speciálními vzdělávacími potřebam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7040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Tvorba a realizace programů integrace znevýhodněných žáků </a:t>
            </a:r>
            <a:br>
              <a:rPr sz="1600"/>
            </a:b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do systému vzdělává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Tvorba a realizace programu zkvalitňování vzdělává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v zařízeních pro výkon ústavní výchovy a ochranné výchov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Organizování činností zaměřených na vzdělávací a výchovné potřeby v daném místě (programy multikulturní spolupráce, využití školy jako společenského centra, jazykové a další kurzy</a:t>
            </a:r>
            <a:r>
              <a:rPr b="0" i="1" lang="cs-CZ" sz="1600" spc="-1" strike="noStrike">
                <a:solidFill>
                  <a:srgbClr val="3333cc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Cílové skupiny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Žáci ve věku povinné školní docházky, žáci SŠ a VOŠ, zdravotně a sociálně znevýhodnění, žáci nebo studenti se zdravot.postižení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Migranti, azylanti, etnické minority, vč. romské komunity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děti a mládež pobývající v zařízeních pro výkon ústav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ýchovy a ochranné výchov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soby předčasně opouštějící vzdělávací systé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Učitelé a ředitelé škol a školských zařízení, výchovní poradci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radenští pracovníci ve školství, další odborní pracovníci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ve školství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F33-83C9-42DD-8E95-E79F84E374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p B -  Rozvoj dalšího vzdělávání učitelů             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  a pracovníků ve školství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2565000"/>
            <a:ext cx="863100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vorba a realizace programů dalšího vzdělávání učitelů a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alších pedagogických pracovníků, poradenských a dalších odborných pracovníků ve školstv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čitelé a ředitelé škol a školských zařízení, výchovní poradci, poradenští pracovníci ve školství, další pedagogičtí a odborní pracovníci ve školstv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192-1ACF-47BD-8307-4193A58D88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p C - Rozvoj vzdělávání na SŠ a VOŠ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2492280"/>
            <a:ext cx="8199360" cy="36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vorba a realizace programů zkvalitňování vzdělávací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říležitostí na SŠ a VOŠ (s důrazem na odbornou prax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vorba a realizace vzdělávacích programů pro záje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alší vzdělávání realizované na SŠ a VO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áci a studenti SŠ a VOŠ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ájemci o další vzdělávání realizované na SŠ a VOŠ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čitelé a ředitelé škol, další odborní pracovníci ve školstv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2FE-CFA4-4F81-9EFE-719B900CBAB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8664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vorba a realizace školních vzdělávacích programů včetně diferenciace a individualizace vzdělá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áci a studenti ZŠ, SŠ a VOŠ, včetně škol pro žáky 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álními vzdělávacími potřebam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čitelé, ředitelé škol, výchovní poradci, poradenští a  pracovní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 školství, další odborní pracovníci ve školstv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p D - Modernizace školních vzdělávacích</a:t>
            </a:r>
            <a:br>
              <a:rPr sz="2800"/>
            </a:b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  programů – rozvoj klíčových kompetencí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2BA-8DCC-4483-9106-920DE1CF4E9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Oprávněnost žadate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9214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Žadateli oprávněnými předkládat návrhy projektů v rámci OP RLZ mohou být jak fyzické, tak právnické osoby splňující následující podmínk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ít sídlo v České republice (v případě, že žadatel má sídlo v regionu Praha, musí prokázat, že projekt je zaměřen na cílový region v rámci OP RLZ, tedy celá ČR kromě Prah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ýt přímo zodpovědný za přípravu a řízení projektu, nesmí působit jako prostřední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AC8-8089-4198-9B0B-8D580B6838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3:25:37Z</dcterms:created>
  <dc:creator>drahotovaj</dc:creator>
  <dc:description/>
  <dc:language>en-US</dc:language>
  <cp:lastModifiedBy>prejzovaa</cp:lastModifiedBy>
  <dcterms:modified xsi:type="dcterms:W3CDTF">2005-12-19T13:33:28Z</dcterms:modified>
  <cp:revision>49</cp:revision>
  <dc:subject/>
  <dc:title>Rozvoj regionálního školství  s podporou E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35425208</vt:r8>
  </property>
  <property fmtid="{D5CDD505-2E9C-101B-9397-08002B2CF9AE}" pid="3" name="_AuthorEmail">
    <vt:lpwstr>Barbora.Hoskova@msmt.cz</vt:lpwstr>
  </property>
  <property fmtid="{D5CDD505-2E9C-101B-9397-08002B2CF9AE}" pid="4" name="_AuthorEmailDisplayName">
    <vt:lpwstr>Hošková Barbora</vt:lpwstr>
  </property>
  <property fmtid="{D5CDD505-2E9C-101B-9397-08002B2CF9AE}" pid="5" name="_EmailSubject">
    <vt:lpwstr>prezentace </vt:lpwstr>
  </property>
  <property fmtid="{D5CDD505-2E9C-101B-9397-08002B2CF9AE}" pid="6" name="_PreviousAdHocReviewCycleID">
    <vt:r8>555131110</vt:r8>
  </property>
  <property fmtid="{D5CDD505-2E9C-101B-9397-08002B2CF9AE}" pid="7" name="_ReviewingToolsShownOnce">
    <vt:lpwstr/>
  </property>
</Properties>
</file>