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wmf" ContentType="image/x-wmf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49515-2D31-4724-9DF6-19E2C212E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C2F08-5C3A-4C58-B9F6-7643A1CA7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8A941-FBC2-455F-9B6A-804452D03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9A53E-5787-4E1D-BA2D-1FE0AD415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C582D-2E28-4126-97F5-8B93378F9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A40C5-EEDD-4E09-86DC-191A1233C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29828-BA66-47F7-8D38-C011D0629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761B6-7481-42C6-8344-DD8C2D26C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AFB6F-F527-418B-B7E7-12DAE217C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DF4D1-3405-4561-9633-23444170F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1423E-267C-45BD-AAAB-28F8AA63B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C70F5-2946-444C-8515-17406DF58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C2103-6B66-4C39-9D9C-A41048D7D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FE636-DFC9-45EF-A98D-0CA2CDCC3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96A0F-FBFE-4ED1-8E6B-3EF11098A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59F81-BE8E-4556-A4BD-BB05C0537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D8FF0-6FCB-423B-9FC1-ED44C2E7C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13C34-52F2-41E0-A8DD-0BD7E25CF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920DD-6224-40B5-90D1-03A8F7E16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BBFAC-A29B-4A1B-B86C-C2A028BAA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EA5ED-7ADD-45A7-9AE6-93EF5E4C9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1A9DC-4C6C-436E-A7C3-BD707C6E2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C6499-5DC0-42BB-BF56-0279AB66F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409FC-65A2-4082-89A9-9A0D68675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9CA98-12D4-4108-9C80-5FE7570415C7}" type="slidenum">
              <a:rPr b="0" lang="cs-CZ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50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1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4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628FC-B527-4E98-A6AE-267161C4AEC7}" type="slidenum">
              <a:rPr b="0" lang="cs-CZ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wm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smt.cz/" TargetMode="External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ahoma"/>
              </a:rPr>
              <a:t>Rozpočet a finanční řízení projektu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V.čá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sterstvo školství, mládeže a tělovýchov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403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800" y="2135880"/>
            <a:ext cx="200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60" y="3144240"/>
            <a:ext cx="130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600" y="4171320"/>
            <a:ext cx="99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800" y="51793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57280" y="6005520"/>
            <a:ext cx="628632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2700360" y="549360"/>
            <a:ext cx="1041480" cy="7333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684360" y="549360"/>
            <a:ext cx="1000080" cy="7333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4932360" y="476280"/>
            <a:ext cx="1020600" cy="75564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4"/>
          <a:stretch/>
        </p:blipFill>
        <p:spPr>
          <a:xfrm>
            <a:off x="6877080" y="476280"/>
            <a:ext cx="1041480" cy="733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Uznatelné náklady 3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ýčet uznatelných a neuznatelných nákladů j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veden 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Příručka pro žadatele o finanční podporu grantovým projektů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OP RLZ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Příručka pro příjemce finanční podpory projektů OP RLZ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říručky jsou umístěny na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smt.cz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 v sekc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ropský sociální fond, Opatření 3.1, Grantové sché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F97B2-97A3-4A8D-88D1-66AAA2AB1C8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Úloha konečného uživatele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řijímá zálohu na schválený projek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izuje projekt v intervalech stanovených Rozhodnutím o poskytnutí dotace předkládá KP vyúčtování zálohy/průběžné platby vč.kopií účetních dokladů spolu s monitorovací zprávo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Žádá o další průběžnou platb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 skončení projektu předkládá závěrečné vyúčtování projektu a žádá o vyplacení zůstatk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chovává účetní dokumentaci po dobu 10 let po ukončení projekt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ní další povinnosti vyplývající z Rozhodnutí o poskytnutí dotace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samostatný účet, součinnost při kontrolách, publicita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3AF72-4219-4020-B6A2-31203CFF626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vádění plateb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ádění a výše plateb budou stanoveny v Rozhodnutí o poskytnutí dot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álohová platba obvykle do výše 25 % z uznatelných nákladů projekt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ůběžná platba – žádost o průběžnou platbu vč.průběžné zprávy (věcné a finanční ukazatele), KU vyčerpal min.75% všech předcházejících plateb a může to doložit vyúčtování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ávěrečná platba ve výši max.10% z celkových uznatelných nákladů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CA42C-B320-4EDF-B1C3-0B2A8282AB2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Finanční limity pro jednotlivé projekty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Minimální částka pro jeden projek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                                                </a:t>
            </a:r>
            <a:r>
              <a:rPr b="0" lang="cs-CZ" sz="2800" spc="-1" strike="noStrike">
                <a:solidFill>
                  <a:srgbClr val="3333cc"/>
                </a:solidFill>
                <a:latin typeface="Tahoma"/>
              </a:rPr>
              <a:t>500 000 Kč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Maximální částka pro jeden projek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                                           </a:t>
            </a:r>
            <a:r>
              <a:rPr b="0" lang="cs-CZ" sz="2800" spc="-1" strike="noStrike">
                <a:solidFill>
                  <a:srgbClr val="3333cc"/>
                </a:solidFill>
                <a:latin typeface="Tahoma"/>
              </a:rPr>
              <a:t>10 000 000 Kč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cc"/>
                </a:solidFill>
                <a:latin typeface="Tahoma"/>
              </a:rPr>
              <a:t>Doba realizace grantového projektu j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cc"/>
                </a:solidFill>
                <a:latin typeface="Tahoma"/>
              </a:rPr>
              <a:t>maximálně </a:t>
            </a:r>
            <a:r>
              <a:rPr b="1" lang="cs-CZ" sz="2800" spc="-1" strike="noStrike">
                <a:solidFill>
                  <a:srgbClr val="3333cc"/>
                </a:solidFill>
                <a:latin typeface="Tahoma"/>
              </a:rPr>
              <a:t>dva roky</a:t>
            </a:r>
            <a:r>
              <a:rPr b="0" lang="cs-CZ" sz="2800" spc="-1" strike="noStrike">
                <a:solidFill>
                  <a:srgbClr val="3333cc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023A1-A530-47A4-AB2C-6897BA763F7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Rozpočet projektu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řípravě rozpočtu projektu je třeba věnovat velkou pozorn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en reálný rozpočet umožní financovat činnosti, které žadatel v projektu navrhuj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Žadatel vyplňuje jen ty položky rozpočtu, které jsou pro předkládaný projekt relevantní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e nutné dodržovat stanovené minimální a maximální částky finanční podpory určené ve výzvě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jedná se o kapitálové výdaje, projekt musí být zaměřen na vzdělávací aktiv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1BEB6-67C9-4A2E-B5BD-BB117883922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inanční limity jednotlivých položek rozpočtu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Následující limity jsou předmětem hodnocení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přijatelnosti projektu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Náklady na nákup nového a použitého zařízení a vybavení a na splátky nájemních nebo leasingových smluv by neměly přesáhnout </a:t>
            </a:r>
            <a:r>
              <a:rPr b="0" lang="cs-CZ" sz="2400" spc="-1" strike="noStrike">
                <a:solidFill>
                  <a:srgbClr val="3333cc"/>
                </a:solidFill>
                <a:latin typeface="Tahoma"/>
              </a:rPr>
              <a:t>25%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z uznatelných nákladů projektu (kromě položek 3.5 – odpisy a 3.6 – opravy a údržba v Benefitu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Náklady v subkapitole 5 Nákup služeb nesmí přesáhnout </a:t>
            </a:r>
            <a:r>
              <a:rPr b="0" lang="cs-CZ" sz="2400" spc="-1" strike="noStrike">
                <a:solidFill>
                  <a:srgbClr val="3333cc"/>
                </a:solidFill>
                <a:latin typeface="Tahoma"/>
              </a:rPr>
              <a:t>49 %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z uznatelných nákladů projektu (nezapočítávají se položky 5.3. Náklady vyplývající přímo ze smlouvy a 5.5 Jiné náklad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03F2B-B04B-4DA4-9C02-770A2A6F9F6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inanční limity jednotlivých položek rozpočtu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žijní náklady projektu nesmí překročit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7%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 celkových uznatelných nákladů projekt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ýdaje na nákup jedné položky nového vybavení či zařízení hmotného majetku nesmí přesáhnou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40 000 Kč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u PC se jednou položkou rozumí základní PC sestava, tj. počítač, monitor, klávesnice, myš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ýdaje na nákup jedné položky nehmotného majetku nesmí přesáhnout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60 000 Kč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ýdaje na přímou podporu jednotlivců (mimo mzdových prostředků) mohou být poskytovány nejvýše do výše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20 %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elkových uznatelných nákladů projekt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C0B68-FEA7-41F3-A915-41B523E4160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333399"/>
                </a:solidFill>
                <a:latin typeface="Tahoma"/>
              </a:rPr>
              <a:t>Uznatelnost aktivit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Žadatel může nárokovat finanční prostředky pouz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 uznatelné aktiv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uznatelné aktivit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ktivity pro žáky 1.stupně základního školství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Vzdělávání pedagogických a ostatních odborných pracovníků mateřských škol, 1. stupně základních šk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ktivity pro rodiče žáků a studentů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ktivity pro veřejnost (kromě Programu podpory 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Zájmové vzdělávání nezaměřené na klíčové kompetence a nezaměřené na žáky se speciálními vzdělávacími potřebami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(např. pořádání karnevalů, výletů, besídek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C5A30-53C2-4150-99F0-FFF9BDBF520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Náklady projektu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"/>
          <p:cNvSpPr/>
          <p:nvPr/>
        </p:nvSpPr>
        <p:spPr>
          <a:xfrm>
            <a:off x="108000" y="1628640"/>
            <a:ext cx="85676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Celkové nákla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učet všech uznatelných a neuznatelných náklad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Uznatelné nákla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ze hradit z veřejných prostředků, musí být skutečně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ynaložen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Neuznatelné nákla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lze je hradit z veřejných prostředk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F851D-8AD2-4638-AA93-EDA1293EC1B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Uznatelné náklady 1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324000" y="1916280"/>
            <a:ext cx="7902360" cy="46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Kritéri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Typ výdaj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vynaloženy na činnosti v souladu s nařízením Komise č.1784/1999 o ESF (na typy činností uvedených v opatření, resp.ve výzvě) a ve znění nařízení Komise č. 448/2004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Úče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musí být vynaložen na činnosti v souladu s obsahovou stránkou a cíli projek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Datu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musí vzniknout v době platnosti Rozhodnutí o poskytnutí dotace na projek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Evide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musí skutečně vzniknout, být zaznamenán na účtech příjemce finanční podpory nebo jeho partnerů, být identifikovatelný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 kontrolovatelný, musí být doložitelný originály účetních dokladů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zákon č. 563/1991 Sb., o účetnictví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Zdravé finanční řízení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musí být nezbytný pro realizaci projektu, být obsažen ve smlouv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02A5A-EBAA-44C3-8E18-7A56483B679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Uznatelné náklady 2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obní výdaje (pozor! – omezení u PO a krajů a obcí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stovní náhrady (jízdní výdaje, výdaje na ubytování, stravné a nutné vedlejší výdaje personálu žadatel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ařízení a vybavení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ístní kancelář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ákup služe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bné stavební úprav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římá podpora (max. 20% celkových uznatelných nákladů projektu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P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ýdaje veřejné správ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7C44A-36F7-48A6-A013-2713EC851F6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1T13:25:37Z</dcterms:created>
  <dc:creator>drahotovaj</dc:creator>
  <dc:description/>
  <dc:language>en-US</dc:language>
  <cp:lastModifiedBy>prejzovaa</cp:lastModifiedBy>
  <dcterms:modified xsi:type="dcterms:W3CDTF">2005-12-19T13:40:21Z</dcterms:modified>
  <cp:revision>19</cp:revision>
  <dc:subject/>
  <dc:title>Rozvoj regionálního školství  s podporou EU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527422718</vt:r8>
  </property>
  <property fmtid="{D5CDD505-2E9C-101B-9397-08002B2CF9AE}" pid="3" name="_AuthorEmail">
    <vt:lpwstr>Barbora.Hoskova@msmt.cz</vt:lpwstr>
  </property>
  <property fmtid="{D5CDD505-2E9C-101B-9397-08002B2CF9AE}" pid="4" name="_AuthorEmailDisplayName">
    <vt:lpwstr>Hošková Barbora</vt:lpwstr>
  </property>
  <property fmtid="{D5CDD505-2E9C-101B-9397-08002B2CF9AE}" pid="5" name="_EmailSubject">
    <vt:lpwstr>prezentace</vt:lpwstr>
  </property>
  <property fmtid="{D5CDD505-2E9C-101B-9397-08002B2CF9AE}" pid="6" name="_PreviousAdHocReviewCycleID">
    <vt:r8>-1535963127</vt:r8>
  </property>
  <property fmtid="{D5CDD505-2E9C-101B-9397-08002B2CF9AE}" pid="7" name="_ReviewingToolsShownOnce">
    <vt:lpwstr/>
  </property>
</Properties>
</file>