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7E7-0960-472F-8CCF-B8706FD7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CD4-631A-4A95-B8F8-2D3A3661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C2E-C42D-4E5C-A766-6D1DC3B1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A73-D957-4E1F-A7A3-C7AE2F7F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B04-AEF7-4CE1-95FC-928D5335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56DC-6F3D-43BE-8BB6-267607E7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CAC5-CA8F-4317-8C4E-14BFAAF0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61D0-B8AD-427A-B801-D8DC0EC0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0FD3-FC23-43F2-825D-75B59A41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BEA9-3FED-48F8-A4B8-8CFF949C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788B-1D34-4450-B7E4-C417385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8FA-8B72-4092-A173-E9626A0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745A-A6EF-447D-BB32-BA6528E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766-274B-44E6-A12F-5E2FCEA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F933-640F-4181-AD7A-C33BAF1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5DE2-A730-47D7-86CC-A375BBE9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529-A498-4A95-BC06-9F31A700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1A5-9136-40A2-95EA-065900E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0FE-46A4-48F8-8354-321E1BC5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4B4-BCD8-4EEA-B781-1AC20E69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2B4-E35F-4844-BF71-C278A405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C24-6A03-4685-BD94-C840E65A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091-86B8-43D2-BA39-E4E80CD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90E-019E-4ADE-BB1B-FA5A69B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CD0-947F-4E87-9DA3-A4BE22A00E3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A769-E8B9-40E9-BEB8-10AD1B2F90DB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msmt.cz/" TargetMode="External"/><Relationship Id="rId7" Type="http://schemas.openxmlformats.org/officeDocument/2006/relationships/hyperlink" Target="http://www.msmt.cz/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esfgranty@msmt.cz" TargetMode="External"/><Relationship Id="rId2" Type="http://schemas.openxmlformats.org/officeDocument/2006/relationships/hyperlink" Target="mailto:esfgranty@msmt.cz" TargetMode="External"/><Relationship Id="rId3" Type="http://schemas.openxmlformats.org/officeDocument/2006/relationships/hyperlink" Target="mailto:esfgranty@msmt.cz" TargetMode="External"/><Relationship Id="rId4" Type="http://schemas.openxmlformats.org/officeDocument/2006/relationships/hyperlink" Target="mailto:esfgranty@msmt.cz" TargetMode="Externa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1699920"/>
            <a:ext cx="6913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rantové schéma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 Opatření 3.1 OP RLZ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2135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314424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" y="41713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517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280" y="6005520"/>
            <a:ext cx="6286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02096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041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920" y="2133720"/>
            <a:ext cx="81280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ávnické osoby vykonávající činnost škol a školských zaříze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romě mateřských škol a základních škol, které mají zřízeny pouze ročníky prvního stupně vzdělání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rganizace zřízené MŠ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kraje, obce, dobrovolné svazky měst a obc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bčanská sdružení, obecně prospěšné společnosti, církevní právnické osob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ciální partneři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nikatelské svazy, profesní asociace a společnosti, odborové svaz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zdělávací institu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yzické a právnické osob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Žadatel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B28-9AA4-423F-95E2-C6EE5BA015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rtnerstv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57610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pina dvou a více subjektů, které si vybraly jeden druhého za účelem spolupráce při dosahování cíl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 obecné (podpůrné konzultace před a při přípravě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 projektové (na smluvním základě se podílejí na přípravě a realizaci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19708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46B-745E-46FC-831C-7262DDF53C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jektové partnerstv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1280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ři jsou uvedeni v projektové žád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je fyzická nebo právnická osoba splňující stejná kritéria oprávněnosti jako žada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adatel je příjemce dot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adatel i partner musí při realizaci projektu uskutečnit 51% všech aktivit (resp. 51%           z celkového rozpočt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5C2-B617-44C4-9ACC-DD9208E1C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907920"/>
            <a:ext cx="7540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rtner versus Dodavate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68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cf0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f01"/>
                </a:solidFill>
                <a:uFillTx/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lečná příprava a realizace projektu za předem sjednaných podmíne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je do podrobností vymezena v žádosti a ve smlouv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z jeho přispění nemůže být projekt realizován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nahraditeln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 role má neziskový charak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z přímého finančního plněn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vzájemně si s žadatelem neúčtují a neposkytují peníz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916280"/>
            <a:ext cx="4038480" cy="46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Dodava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v projektu je pouze podpůr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běr se řídí zákonem č.40/2004 Sb., o veřejných zakázk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kytuje žadateli služb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61C-7B9D-4B7E-903C-AE9A99668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raje a obce - výjimk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on 40/2000 Sb., o veřejných zakázkách, 218/2000 Sb., rozpočtová pravidla, 128/2000 Sb., o obcích, 129/2000 Sb.,        o krají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aj či obec mohou mít partnery                  s finančním plněním (školy, školská zařízení…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36000" y="4869000"/>
            <a:ext cx="502920" cy="50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5400000">
            <a:off x="4167000" y="3762360"/>
            <a:ext cx="936360" cy="701640"/>
          </a:xfrm>
          <a:custGeom>
            <a:avLst/>
            <a:gdLst>
              <a:gd name="textAreaLeft" fmla="*/ 146160 w 936360"/>
              <a:gd name="textAreaRight" fmla="*/ 817560 w 936360"/>
              <a:gd name="textAreaTop" fmla="*/ 173160 h 701640"/>
              <a:gd name="textAreaBottom" fmla="*/ 528480 h 701640"/>
            </a:gdLst>
            <a:ahLst/>
            <a:rect l="textAreaLeft" t="textAreaTop" r="textAreaRight" b="textAreaBottom"/>
            <a:pathLst>
              <a:path w="21600" h="21600">
                <a:moveTo>
                  <a:pt x="3375" y="5338"/>
                </a:moveTo>
                <a:lnTo>
                  <a:pt x="16170" y="5338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62"/>
                </a:lnTo>
                <a:lnTo>
                  <a:pt x="3375" y="16262"/>
                </a:lnTo>
                <a:close/>
              </a:path>
              <a:path w="21600" h="21600">
                <a:moveTo>
                  <a:pt x="0" y="5338"/>
                </a:moveTo>
                <a:lnTo>
                  <a:pt x="675" y="5338"/>
                </a:lnTo>
                <a:lnTo>
                  <a:pt x="675" y="16262"/>
                </a:lnTo>
                <a:lnTo>
                  <a:pt x="0" y="16262"/>
                </a:lnTo>
                <a:close/>
              </a:path>
              <a:path w="21600" h="21600">
                <a:moveTo>
                  <a:pt x="1350" y="5338"/>
                </a:moveTo>
                <a:lnTo>
                  <a:pt x="2700" y="5338"/>
                </a:lnTo>
                <a:lnTo>
                  <a:pt x="2700" y="16262"/>
                </a:lnTo>
                <a:lnTo>
                  <a:pt x="1350" y="1626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860-839F-40B2-81A5-EC4D96E92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Finanční limity pro jednotlivé projek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imální částka pro jeden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50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imální částka pro jeden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10 00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Doba realiz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imální doba realizace pro grantový projekt  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dva 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B61-43F8-4D85-B55C-B299A4CF82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Způsob žádosti o příspěvek z ESF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Schválení grantového schématu pro Opatření 3.1 OP R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Zveřejnění výzvy k předkládání projek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internetové stránky MŠMT 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centrální stránky ESF 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esfcr.c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2 celoplošné dení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Žádost o finanční podporu z OP R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Žádost se předkládá v MSSF Benefit (aktuální verz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nutno předložit do 8 týdnů od zveřejnění výz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ve 3 vyhotoveních + CD 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7B8-497A-4FB2-8077-457840A7F5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Způsob žádosti o příspěvek z ES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ílohy k Žád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klad o právní subjektivit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o bezdlužnosti vůči veřejné správě a zdravotním pojišťovn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každého partnera o partnerství, návrh smlouvy o partner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malých a středních podniků o jejich velik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hled ekonomické  a finanční situace žadatele, který je podnikatelským subjek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67D-5FDA-4037-97B0-56B7084C84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odnocení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ormální hodnocen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ovádí Konečný příjemce (K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souzení formálních náležitostí představuje kontrol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ního souladu, kontrolu formy žádostí a formální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áležitostí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ři zjištění formálních nedostatků bude žadatel vyzván k jeji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plnění do stanovené lhůt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kud do této lhůty nedostatky nedoplní, bude jeho žádost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yřazena z dalšího hodnocen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478-5E8D-4A6B-8A5F-94043F1CC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hodnocení přijatelnos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ovádí Konečný příjemce (K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souzení přijatelnosti představuje kontrolu přijatelnos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u s ohledem na základní podmínky programu, finanční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islativní předpoklady, principy strukturální politiky EU apo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še uvedené parametry jsou zveřejněny ve výzvě k předklád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dostí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kud žadatel nesplní i jen jedno z daných kritérií, bude jeh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dost vyloučena z dalšího hodnoc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124-F029-4C40-AA0D-71751B7442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perační progra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ozvoj lidsk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2017440"/>
            <a:ext cx="8199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orita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ozvoj celoživotního uč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atření 3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Zkvalitňování vzdělávání ve školách                                              a školských zařízeních a rozvoj podpůrný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ystémů ve vzdělá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ázev grantového sché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Zkvalitňování vzdělávání ve školách a školských zařízení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grafický rozsah grantového sché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Česká republika mimo hl.m. Pra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005-8EA9-4FBF-8AC3-BD28514F96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343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ěcné hodnocení externími hodnotite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ecná a specifická kritéria pro hodnocení Žádostí o finanční podporu z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důvodnění projekt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ová skupi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zace projekt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sledky a výstup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izontální tém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ké požadavky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viz slide č. 21)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405-BD10-4345-8608-9F6849EE81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415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ecifické požadavky: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Přiměřenost požadovaných finančních prostředků ve vztahu                k předpokládaným výstupům projektu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Odborná připravenost řešitelů a participujících subjektů ve vztahu      k cíli a obsahu projektu a k cílové skupin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. počet bodů pro žádost –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100 bo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. počet bodů pro postoupení do výběru výběrovou komisí –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65 bo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4292640"/>
            <a:ext cx="78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C36-15E1-4920-84A9-7048DD6FF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ýběr projektů k financování výběrovou komi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ložení komise bylo schváleno ministryní školství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ádeže a tělovýchovy, je uveřejněno na www stránká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ŠM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ozhodnutí výběrové komise o schválení projektu je konečné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ze je měnit ani se proti němu odvola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čet podpořených projektů bude limitován výší prostředků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rčených pro dané grantové sché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DC5-2517-45D8-A0E5-84CE1826B0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47577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k výše uvedenému naleznete na internetových stránkách MŠ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sekci Evropský sociální f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patření 3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Grantové sché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867280" y="2637000"/>
            <a:ext cx="2749680" cy="28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C6D-EB7B-412C-8558-0EA3945090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Užitečné odkaz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trukturalni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-fondy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z OP RLZ v rámci grantového schématu pro opatření 3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onitorovací indiká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ojektová přihláška v MSSF Benefit (elektronický formulá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učka pro žadatele o finanční podporu z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učka pro příje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952-3FA4-478A-A497-BA3976549A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79640" y="2017440"/>
            <a:ext cx="4608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ŠMT – odbor pro zajištění administrace ESF                  v regionálním škol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el: 257 193 7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sfgranty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20718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169-32C9-4F08-90AB-D00EFD17E9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patření 3.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2360" cy="399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Způsoby realiz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rodní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émové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ntové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1640" y="2133720"/>
            <a:ext cx="4032360" cy="3998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nanční prostřed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265 mil. Kč celk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238 mil. Kč pro 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3AE-E293-4AB0-BDD5-E984A95B6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Zaměření grantového schémat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7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gramy podpory (P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A - Zlepšení podmínek pro vzdělávání žáků </a:t>
            </a:r>
            <a:br>
              <a:rPr sz="2000"/>
            </a:b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  se speciálními vzdělávacími potřeb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B - Rozvoj dalšího vzdělávání učitelů a pracovníků </a:t>
            </a:r>
            <a:br>
              <a:rPr sz="2000"/>
            </a:b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  ve škols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C - Rozvoj vzdělávání na SŠ a VO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D - Modernizace školních vzdělávacích programů – rozvoj   klíčových        kompetenc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B5F-32BB-4D06-BF70-5DFF3CA459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A – Zlepšení podmínek pro vzdělávání žáků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se speciálními vzdělávacími potřebam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704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Tvorba a realizace programů integrace znevýhodněných žáků </a:t>
            </a:r>
            <a:br>
              <a:rPr sz="1600"/>
            </a:b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do systému vzdělává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Tvorba a realizace programu zkvalitňování vzdělává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v zařízeních pro výkon ústavní výchovy a ochranné výchov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Organizování činností zaměřených na vzdělávací a výchovné potřeby v daném místě (programy multikulturní spolupráce, využití školy jako společenského centra, jazykové a další kurzy</a:t>
            </a:r>
            <a:r>
              <a:rPr b="0" i="1" lang="cs-CZ" sz="1600" spc="-1" strike="noStrike">
                <a:solidFill>
                  <a:srgbClr val="3333cc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Cílové skupin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Žáci ve věku povinné školní docházky, žáci SŠ a VOŠ, zdravotně a sociálně znevýhodnění, žáci nebo studenti se zdravot.postižení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igranti, azylanti, etnické minority, vč. romské komunity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ěti a mládež pobývající v zařízeních pro výkon ústav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chovy a ochranné výchov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soby předčasně opouštějící vzdělávací systé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čitelé a ředitelé škol a školských zařízení, výchovní poradci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radenští pracovníci ve školství, další odborní pracovníci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ve školství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8E3-1467-49A3-A796-A06E523311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B -  Rozvoj dalšího vzdělávání učitelů            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a pracovníků ve školství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863100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programů dalšího vzdělávání učitelů a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lších pedagogických pracovníků, poradenských a dalších odborných pracovníků ve škols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 a ředitelé škol a školských zařízení, výchovní poradci, poradenští pracovníci ve školství, další pedagogičtí a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71D-7249-45FC-A6BD-D085678383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C - Rozvoj vzdělávání na SŠ a VOŠ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819936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programů zkvalitňování vzdělávací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ležitostí na SŠ a VOŠ (s důrazem na odbornou prax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vzdělávacích programů pro záje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lší vzdělávání realizované na SŠ a VO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ci a studenti SŠ a VOŠ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ájemci o další vzdělávání realizované na SŠ a VOŠ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 a ředitelé škol, další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A5A-F478-426C-922D-677CF5D751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8664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školních vzdělávacích programů včetně diferenciace a individualizace vzdělá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ci a studenti ZŠ, SŠ a VOŠ, včetně škol pro žáky 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álními vzdělávacími potřeb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, ředitelé škol, výchovní poradci, poradenští a  pracovní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 školství, další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D - Modernizace školních vzdělávacích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programů – rozvoj klíčových kompetencí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587-92B6-407F-86B3-AE7AFE83F4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právněnost žadate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i oprávněnými předkládat návrhy projektů v rámci OP RLZ mohou být jak fyzické, tak právnické osoby splňující následující podmínk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ít sídlo v České republice (v případě, že žadatel má sídlo v regionu Praha, musí prokázat, že projekt je zaměřen na cílový region v rámci OP RLZ, tedy celá ČR kromě Prah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ýt přímo zodpovědný za přípravu a řízení projektu, nesmí působit jako prostřední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87C-2985-481F-8BC6-F11A60874A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25:37Z</dcterms:created>
  <dc:creator>drahotovaj</dc:creator>
  <dc:description/>
  <dc:language>en-US</dc:language>
  <cp:lastModifiedBy>prejzovaa</cp:lastModifiedBy>
  <dcterms:modified xsi:type="dcterms:W3CDTF">2005-12-19T13:33:28Z</dcterms:modified>
  <cp:revision>49</cp:revision>
  <dc:subject/>
  <dc:title>Rozvoj regionálního školství  s podporou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5425208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 </vt:lpwstr>
  </property>
  <property fmtid="{D5CDD505-2E9C-101B-9397-08002B2CF9AE}" pid="6" name="_PreviousAdHocReviewCycleID">
    <vt:r8>555131110</vt:r8>
  </property>
  <property fmtid="{D5CDD505-2E9C-101B-9397-08002B2CF9AE}" pid="7" name="_ReviewingToolsShownOnce">
    <vt:lpwstr/>
  </property>
</Properties>
</file>