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1DF-F74A-4F93-8C76-982DC763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EDE-45DC-4732-9B75-58F8362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878-8C74-4FE3-83A8-6F1AA19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C3D-CDF0-48AC-9092-D710F7FB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154-5E42-4C55-856A-BED80A60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046C-EF9D-4323-BB3B-DD6A7A5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C44-4B9F-4EE5-BEC5-82E1146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8DC-C63A-499F-9D58-F4FFFBE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130C-3862-468C-A687-CA82796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5DE-E78E-40FB-8DDE-D25CF1E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F20-D91C-4736-8193-855BEF6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06C-30A8-4DE5-BB95-D958300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8E47-F274-40E4-86A1-6E69964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C5B-70E5-41C3-913D-286CA79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732-AED1-42AA-AEA7-81F669D5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A68-B7FC-4178-B983-A9D1578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808F-9AF9-44CF-830E-BF31913B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DDE-05E1-4C2E-944C-3B5759B5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0EE-8264-4CBC-996B-74B49CB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525-608D-4C14-8B04-411C722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6A7-F5BC-4B4F-AA93-08438CC2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279-5688-4464-BB8F-E39924E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B8B-7FBA-4171-B5C2-DFE0C9E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F4C-446C-412E-A647-249EDD5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5DEA-8E55-43B4-A9D3-0B8249F880B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506-FAA8-4FC6-90E6-69E416B12163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elp_oprlz@tescosw.cz,tel.587333806" TargetMode="External"/><Relationship Id="rId2" Type="http://schemas.openxmlformats.org/officeDocument/2006/relationships/hyperlink" Target="mailto:help_oprlz@tescosw.cz,tel.587333806" TargetMode="External"/><Relationship Id="rId3" Type="http://schemas.openxmlformats.org/officeDocument/2006/relationships/hyperlink" Target="mailto:help_oprlz@tescosw.cz,tel.587333806" TargetMode="External"/><Relationship Id="rId4" Type="http://schemas.openxmlformats.org/officeDocument/2006/relationships/hyperlink" Target="mailto:help_oprlz@tescosw.cz,tel.587333806" TargetMode="External"/><Relationship Id="rId5" Type="http://schemas.openxmlformats.org/officeDocument/2006/relationships/hyperlink" Target="mailto:help_oprlz@tescosw.cz,tel.587333806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69199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jektová přihláška Benef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4364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znam povinných příloh projektové žádosti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Formuláře těchto příloh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romě dokladu o právní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ubjektivitě)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jsou součástí Benefi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Doklad o právní subjektivitě žadate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partnerství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má žadatel partne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velikosti podniku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malým nebo středním podnik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řehled ekonomické a finanční situace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podnikatelským subjekt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93F-D1FB-4E38-A8FA-E0929E7A81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ka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datek k programu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hodnotitele projektů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žadatele o finanční podporu grantovým projektům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v rámci OP RLZ pro Opatření 3.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trukturalni-fondy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msmt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6E8-E231-445B-8C43-968042307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SF Benefit  - předepsaný formá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ktronického formuláře pro předkládá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ační soubor programu je součástí Výzvy k předkládání žádostí o finanční podporu z OP RLZ v rámci grantového schématu pro Opatření 3.1 n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ECE-70EF-4571-AB6F-ED98FBEBD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je generován pro každou výzvu (nelze tedy použít Benefit jiný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instalaci Benefitu je přiložen v instalačním balíč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vyplnění a nápověda k jednotlivým polím žádosti jsou součástí nainstalovaného progr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2C9-3A8C-4548-9366-6D14F68B1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učástí Výzvy je příloha s doporučujícími informacemi k Benefi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př. systémové nebo hardwarové požadavky, náv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uložení elektronické žádosti do předepsanéh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átu, kontakt v případě technických potíží při práci 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gram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slouží i pro další komunikaci při vlastní realizac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např. žádosti o platby, reporting postup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3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D72-A563-47EA-9DEC-F83D72F14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ální uložení s identifikačním kód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mpletně vyplněnou elektronickou žádost žadatel  finálně uloží (exportní soubor bude mít příponu .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ém vygeneruje kontrolní znak (šestimístný identifikační klíč), který bude součástí uloženého souboru i tištěné verze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ádost již nelze dále upravovat (lišil by se kontrolní znak vygenerované žádosti a papírové žádos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 případných dalších úpravách při odemknutí žádosti se vygeneruje nový kód a je třeba znovu vytisknout i papírovou podobu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BFE-AE9F-4DFA-B78B-44B7C2F5E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uhy souborů pro odevzd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adatel musí odevzdat elektronickou žádost na CD -ROM ve formáte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xml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pro nahrání do systému MSSF Moni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pdf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e čtení, pro předání hodnotitelů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yny na uložení do těchto formátů jsou součástí přílohy Výzvy k předkládání žádostí o finanční podporu 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BFF-0A40-41A9-B068-77F482EEA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poručení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nujte dostatečnou pozornost i čas vyplňování projektové žádosti Bene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poručujeme co nejčastěji rozpracovanou žádost ukládat, protože při vyplňování mohou nastat nejrůznější kombinace počítačového vybavení a znalostí žadatelů s ovládáním této techni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řípadě technických potíží se obracejte na firmu Tesco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(hotline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lp_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oprlz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tescosw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cz,tel.587333806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, 224218369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kruh dotazů je vymezen na obsluhu a provoz aplikace Benef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461-3268-4102-9E0A-D2E6C6040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pis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zdůvodnění a vazby projektu, zaměření, cílové skupiny a činnosti projektu, partneři, udržitelnost, rizik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alizace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opis realizace projektu, složení realizačního týmu, harmonogram realizace, klíčové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áklad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áklady na celý projekt včetně nákladů na partnera, finanční plán na jednotlivé roky, náklady na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835-DEDC-474B-AF99-7EA5E7B871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sledky a výstup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kvantifikované indikátory vybrané žadatelem, přidaná   hodno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patření pro zajištění publicity projekt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DC7-AA14-4299-822E-E9D042C84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7:53:36Z</dcterms:created>
  <dc:creator>drahotovam</dc:creator>
  <dc:description/>
  <dc:language>en-US</dc:language>
  <cp:lastModifiedBy>prejzovaa</cp:lastModifiedBy>
  <dcterms:modified xsi:type="dcterms:W3CDTF">2005-12-19T13:39:34Z</dcterms:modified>
  <cp:revision>32</cp:revision>
  <dc:subject/>
  <dc:title>ŠKOLENÍ HODNOTITEL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40755290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ReviewingToolsShownOnce">
    <vt:lpwstr/>
  </property>
</Properties>
</file>