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DF8-D26E-428C-A484-4998AFDE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CBB-F972-48C2-96D2-6212A23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E60-925E-46B7-A036-074FB579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D47-AAB6-4CE7-BDC4-A37D236C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E31B-6E08-4014-8360-59045089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DE0-625A-4CE1-8BCA-50C19E8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D74F-E803-44AC-882F-50629D3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6BD2-B932-4F4E-9445-D156535D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A050-F554-4F25-9EFE-B8C1425E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2A9-F32D-4CC3-AD55-4A5E9B52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93C-21CC-4F57-A88A-8A50EEE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1F8-51CE-450E-835C-2BC1373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DF36-5BB1-4E57-BACF-E0AD33A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5A33-EA23-409F-A711-028E79B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7A5E-4BED-4BB4-8950-C19E5264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CFC3-F89C-42A6-B39C-F5766C1B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64FD-034F-4D22-8105-FDFA3B8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4FB-429B-4F85-A0FE-E5C921C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F48-B127-4589-B248-2B401661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387-6BD4-4901-A7CF-B68D4AC8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C72-A874-45D4-87E6-C73F0E4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3D3-6B45-412B-AC2B-41C3555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E09-C911-4B1C-86AA-268803B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ACF-DC6C-415F-A14C-19BED28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93B9-DE6A-4F98-ABFE-DFC0DE8FDD45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C96D-A1EF-41CA-904F-780432CEAA16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elp_oprlz@tescosw.cz,tel.587333806" TargetMode="External"/><Relationship Id="rId2" Type="http://schemas.openxmlformats.org/officeDocument/2006/relationships/hyperlink" Target="mailto:help_oprlz@tescosw.cz,tel.587333806" TargetMode="External"/><Relationship Id="rId3" Type="http://schemas.openxmlformats.org/officeDocument/2006/relationships/hyperlink" Target="mailto:help_oprlz@tescosw.cz,tel.587333806" TargetMode="External"/><Relationship Id="rId4" Type="http://schemas.openxmlformats.org/officeDocument/2006/relationships/hyperlink" Target="mailto:help_oprlz@tescosw.cz,tel.587333806" TargetMode="External"/><Relationship Id="rId5" Type="http://schemas.openxmlformats.org/officeDocument/2006/relationships/hyperlink" Target="mailto:help_oprlz@tescosw.cz,tel.587333806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69199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rojektová přihláška Benef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čá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tvo školství, mládeže a tělovýchov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1041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1020600" cy="7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43640" y="476280"/>
            <a:ext cx="1041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eznam povinných příloh projektové žádosti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Formuláře těchto příloh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romě dokladu o právní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ubjektivitě)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jsou součástí Benefi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Doklad o právní subjektivitě žadate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bezdlužnosti vůči veřejné správě a zdravotním pojišťovná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partnerství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má žadatel partne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hlášení o velikosti podniku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malým nebo středním podnik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řehled ekonomické a finanční situace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jestliže je žadatel podnikatelským subjekt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2F4-AE70-4EBD-BBA4-B2345ECC6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ka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datek k programu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hodnotitele projektů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ručka pro žadatele o finanční podporu grantovým projektům OP RL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zva k předkládání žádostí o finanční podporu v rámci OP RLZ pro Opatření 3.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sfcr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trukturalni-fondy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msmt.cz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BC9-13DB-4ED6-9492-A29D66123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SF Benefit  - předepsaný formá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ktronického formuláře pro předkládán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žád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ační soubor programu je součástí Výzvy k předkládání žádostí o finanční podporu z OP RLZ v rámci grantového schématu pro Opatření 3.1 n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smt.c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13A-AF61-4BBC-B20E-4B325B153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je generován pro každou výzvu (nelze tedy použít Benefit jiný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instalaci Benefitu je přiložen v instalačním balíč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vod na vyplnění a nápověda k jednotlivým polím žádosti jsou součástí nainstalovaného progr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910-4329-49B9-BE8B-D483A10C2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učástí Výzvy je příloha s doporučujícími informacemi k Benefi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př. systémové nebo hardwarové požadavky, náv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uložení elektronické žádosti do předepsanéh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átu, kontakt v případě technických potíží při práci 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gram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nefit slouží i pro další komunikaci při vlastní realizac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např. žádosti o platby, reporting postup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Základní informace 3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FD0-CDD2-43A5-8A21-91B2D7A55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ální uložení s identifikačním kód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mpletně vyplněnou elektronickou žádost žadatel  finálně uloží (exportní soubor bude mít příponu .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ém vygeneruje kontrolní znak (šestimístný identifikační klíč), který bude součástí uloženého souboru i tištěné verze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ádost již nelze dále upravovat (lišil by se kontrolní znak vygenerované žádosti a papírové žádos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 případných dalších úpravách při odemknutí žádosti se vygeneruje nový kód a je třeba znovu vytisknout i papírovou podobu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926-0AC0-4F0A-B893-662A8E202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ruhy souborů pro odevzdání žád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adatel musí odevzdat elektronickou žádost na CD -ROM ve formáte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xml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pro nahrání do systému MSSF Moni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600" spc="-1" strike="noStrike">
                <a:solidFill>
                  <a:srgbClr val="ff0000"/>
                </a:solidFill>
                <a:latin typeface="Tahoma"/>
              </a:rPr>
              <a:t>soubor .pdf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ke čtení, pro předání hodnotitelů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yny na uložení do těchto formátů jsou součástí přílohy Výzvy k předkládání žádostí o finanční podporu z OP RL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40E-2DDE-4BE2-9BA8-468AA6FD0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oporučení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nujte dostatečnou pozornost i čas vyplňování projektové žádosti Bene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poručujeme co nejčastěji rozpracovanou žádost ukládat, protože při vyplňování mohou nastat nejrůznější kombinace počítačového vybavení a znalostí žadatelů s ovládáním této techni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řípadě technických potíží se obracejte na firmu Tesco 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(hotline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elp_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oprlz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@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tescosw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cz,tel.587333806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, 224218369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kruh dotazů je vymezen na obsluhu a provoz aplikace Benef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157-5C7D-4012-A2F7-1F0BB7EB08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pis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zdůvodnění a vazby projektu, zaměření, cílové skupiny a činnosti projektu, partneři, udržitelnost, rizik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alizace projektu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opis realizace projektu, složení realizačního týmu, harmonogram realizace, klíčové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áklad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áklady na celý projekt včetně nákladů na partnera, finanční plán na jednotlivé roky, náklady na aktiv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F4E-1C38-4BD0-A561-52E50435E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333399"/>
                </a:solidFill>
                <a:latin typeface="Tahoma"/>
              </a:rPr>
              <a:t>Klíčové záložky Benefitu 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ýsledky a výstupy projekt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kvantifikované indikátory vybrané žadatelem, přidaná   hodno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patření pro zajištění publicity projekt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261-7E39-4677-B670-F5B7E068D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7:53:36Z</dcterms:created>
  <dc:creator>drahotovam</dc:creator>
  <dc:description/>
  <dc:language>en-US</dc:language>
  <cp:lastModifiedBy>prejzovaa</cp:lastModifiedBy>
  <dcterms:modified xsi:type="dcterms:W3CDTF">2005-12-19T13:39:34Z</dcterms:modified>
  <cp:revision>32</cp:revision>
  <dc:subject/>
  <dc:title>ŠKOLENÍ HODNOTITEL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40755290</vt:r8>
  </property>
  <property fmtid="{D5CDD505-2E9C-101B-9397-08002B2CF9AE}" pid="3" name="_AuthorEmail">
    <vt:lpwstr>Barbora.Hoskova@msmt.cz</vt:lpwstr>
  </property>
  <property fmtid="{D5CDD505-2E9C-101B-9397-08002B2CF9AE}" pid="4" name="_AuthorEmailDisplayName">
    <vt:lpwstr>Hošková Barbora</vt:lpwstr>
  </property>
  <property fmtid="{D5CDD505-2E9C-101B-9397-08002B2CF9AE}" pid="5" name="_EmailSubject">
    <vt:lpwstr>prezentace</vt:lpwstr>
  </property>
  <property fmtid="{D5CDD505-2E9C-101B-9397-08002B2CF9AE}" pid="6" name="_ReviewingToolsShownOnce">
    <vt:lpwstr/>
  </property>
</Properties>
</file>