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A12-A5EB-478B-9235-F1E75CF8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3D2-2616-4E26-B85B-00562728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BCA-0A55-4B69-98F1-1CC27713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2FC-D015-403C-880C-FED81409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A11A-44EE-4DE1-8B93-E162DB9F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1410-6CA6-4CFA-B2CA-DD5DCB43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17EB-B791-4318-B6C3-525BFA9E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C852-9D6E-4054-8CBF-7F66A998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4F03-1B01-4682-8CD9-88B5AD9C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C052-20CA-46AF-A96F-02419C22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C97F-16B0-4C89-BEFD-8E2FAA17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50D-64E5-4DE5-8F50-ECF246EB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6DFF-2F3E-4661-81F6-FD6EA984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BF76-211C-41A6-9B76-34C7F666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F8B6-0710-4FDF-8614-B653632D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D6BA-6645-4769-A358-99C60092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1A9B-4FB1-41BF-96D5-E87B2A1F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FED-166C-4F2D-8D18-68774943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6AA-3FB6-42D4-AD6D-9104A502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79D-C8E6-456A-82B4-6EF3C426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CE1-DBC2-4A9C-9FB7-601BE6AF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82F-81E9-4B28-92EB-D56318C5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1BB-F9C3-47B5-8BE2-02A75680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4C8-ACFB-46CF-B8A5-7144969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A642-9A4D-45AE-84D9-F2CAFF850207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4CAC-7FB6-44FD-BCB2-D293145A7A7E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1844640"/>
            <a:ext cx="77929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Jak napsat správně žádost o finanční podporu v rámci grantového schématu pro Opatření 3.1 OP RLZ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407664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eu" descr=""/>
          <p:cNvPicPr/>
          <p:nvPr/>
        </p:nvPicPr>
        <p:blipFill>
          <a:blip r:embed="rId1"/>
          <a:stretch/>
        </p:blipFill>
        <p:spPr>
          <a:xfrm>
            <a:off x="2916360" y="333360"/>
            <a:ext cx="1038240" cy="733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9440" y="4039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sf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1000080" cy="733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60" y="174060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1019160" cy="752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00" y="276768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r" descr=""/>
          <p:cNvPicPr/>
          <p:nvPr/>
        </p:nvPicPr>
        <p:blipFill>
          <a:blip r:embed="rId4"/>
          <a:stretch/>
        </p:blipFill>
        <p:spPr>
          <a:xfrm>
            <a:off x="6588000" y="260280"/>
            <a:ext cx="1038240" cy="733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00" y="3776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2400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yby při hodnocení přijatelnosti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dostatky v hodnocení přijatelnosti nel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ravova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splnění některého z kritérií znamená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vyřazení žádosti z dalšího proces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hodnoc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E39-E1C5-4154-BC22-F75319C96A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říklady předložených projekt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klady některých  vybraných projektů podaných v 1.výzvě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kuse s účastníky škol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5C1-598F-49EB-B22A-E84D6900B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Odkaz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smt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z/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Evropský sociální fond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patření 3.1/grantové sché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ýzva k předkládání žádostí o finančn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u z OP RLZ včetně příl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368-546C-476E-AA19-98CE91B5C7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o je důležité při zpracování záměru projektu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ýt v souladu s vybraným Programem podpory grantového schématu, zaměřit svůj záměr pouze na jeden z Programů podp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sný realizační zámě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íle projektu musí mít jasnou vazbu na kvantifikované předem stanovené výstupy a výsledky projektu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1A6-22E8-4C68-B9B7-9C7D4E0058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o je důležité při zpracování záměru projektu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sně identifikovat cílové skupiny, které musí být v souladu s jednotlivými Programy podp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ovat role jednotlivých partner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ázat finanční prostředky s klíčovými aktivitami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731-5032-4EAD-BC3F-816125672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o je důležité při zpracování záměru projektu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ést analýzu potřebnosti cílových skupin v souvislosti s aktivitami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žadované finanční prostředky musí být uznatelné a přiměřené ve vztahu k předpokládaným výstupů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nezpracovávat v příliš obecné rovině s nekonkrétními cí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D94-0AAC-49C8-8857-C8D78E0103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Informace k formálnímu zpracování žád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ýzva k předkládání žádostí o finanční podporu z OP RLZ v rámci grantového schématu pro Opatření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ílohy výzvy - informace k Benefi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monitorovací indiká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jektová přihláška v MSSF Bene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íručka pro žadatele o finanční podpor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 OP RL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49A-DB2A-49EA-A3E1-85CA7EF86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hyby formálního charakteru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nefi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ádost nemá unikátní kód (byla vytištěna před finálním uložení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jsou vyplněna dostatečně a správně všechna povinná p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ní v souladu rozpočet klíčových aktiv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celkovým rozpočt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ně nastavené indikátory, špatný výběr cílových skupin nebo činností realizovaných projek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A72-0833-4A9B-A28D-F2E51064A0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hyby formálního charakteru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dodržení předepsané formy předložené žádosti (žádost není pevně svázaná, není přelepená v levém horním rohu, přelepy nejsou orazítkovány a podepsány statutárním zástupc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ádost neobsahuje všechny povinné přílohy v žádaném počtu včetně jejich sezna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čty listů uvedené v Seznamu příloh neodpovídají počtu listů skutečně doložený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ahoma"/>
              </a:rPr>
              <a:t>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C6C-8FD7-455A-9E43-31C06B51B3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hyby formálního charakteru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ějí podpisy na příloh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ohy nejsou číslovány a řazeny podle seznamu příl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ářské ověření (např. u dokladů o právní subjektivitě) je starší 3 měsíc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jsou dodány všechny požadované doklady o právní subjektivitě žadat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kud nejsou nedostatky formálního charakter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straněny do stanoveného termínu je žádo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yřazena z procesu hodnoc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ahoma"/>
              </a:rPr>
              <a:t>         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F2C-7031-4391-A92E-3778248E35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yby při hodnocení přijatelnosti 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dodržení limitu pro jednotlivé skupiny výdaj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ánování neuznatelných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tivity a cílové skupiny uvedené v projektu neodpovídají aktivitám a cílovým skupinám nastaveným v jednotlivých Programech podpor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apř. cílová skupina žáků 1. stupně, dospělí v Programech podpory A, B, D nebo zájmové aktivity nezaměřené na klíčové kompetence a nezaměřené na žáky a studenty se speciálními vzdělávacími potřebam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E35-278A-46FE-9B56-63C36A0F1A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9:37:37Z</dcterms:created>
  <dc:creator>jamburovai</dc:creator>
  <dc:description/>
  <dc:language>en-US</dc:language>
  <cp:lastModifiedBy>prejzovaa</cp:lastModifiedBy>
  <dcterms:modified xsi:type="dcterms:W3CDTF">2005-12-19T13:37:08Z</dcterms:modified>
  <cp:revision>39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2491994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</vt:lpwstr>
  </property>
  <property fmtid="{D5CDD505-2E9C-101B-9397-08002B2CF9AE}" pid="6" name="_PreviousAdHocReviewCycleID">
    <vt:r8>-918767486</vt:r8>
  </property>
  <property fmtid="{D5CDD505-2E9C-101B-9397-08002B2CF9AE}" pid="7" name="_ReviewingToolsShownOnce">
    <vt:lpwstr/>
  </property>
</Properties>
</file>