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9AA0-6A1E-467B-9A6C-138301A45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B990-2EE0-4A90-81AC-5DEA8AF93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E806-1EBC-44EA-A355-85D08DAF6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5308-13D1-469F-9B4F-09498943E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46C30-8254-4834-9885-AD23F9DBC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AA6F4-2245-4F3B-BA5C-1A08BC275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CB3CB-CA9C-40F7-BED9-1F33E4FC5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650EA-DEF7-4311-9DF1-71B4C077F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ED432-76C8-47A0-8B79-21C4C895E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95E52-352C-4135-B872-ADCBB4409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B2520-1358-4067-A284-F8739300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B862-D78D-4E79-A023-A68DDE9CC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97322-B916-45B7-AA60-D5800EBE9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61A96-AD77-4B28-B977-AD8E8D5A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01E10-6317-4E72-B278-52971FB6F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F7394-A106-4582-B10C-94588843A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37A08-3EAB-405C-AC25-0D592470D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F59E-02AD-42C2-9C8B-AB270891D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C67C-B63D-4FF7-8D45-5697EEF1E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9A25-C669-4DD9-B5F6-0BD131B90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1021-E69F-4FC7-AAAC-DAEE92FAB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8896-9076-45D4-B385-0E169831F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29C8-DBB4-4132-B6D8-00C5FBFA2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0B9E-A548-410A-9FC8-AF37E3031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B0928-9ABA-4355-A256-C75B5FC5A90D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9D9B5-6133-44CE-B53C-9C5F3316E1FF}" type="slidenum">
              <a:rPr b="0" lang="cs-CZ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sfcr.cz/" TargetMode="External"/><Relationship Id="rId2" Type="http://schemas.openxmlformats.org/officeDocument/2006/relationships/hyperlink" Target="http://www.strukturalni-fondy.cz/" TargetMode="External"/><Relationship Id="rId3" Type="http://schemas.openxmlformats.org/officeDocument/2006/relationships/hyperlink" Target="http://www.msmt.cz/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smt.cz/" TargetMode="External"/><Relationship Id="rId2" Type="http://schemas.openxmlformats.org/officeDocument/2006/relationships/hyperlink" Target="http://www.esfcr.cz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help_oprlz@tescosw.cz,tel.587333806" TargetMode="External"/><Relationship Id="rId2" Type="http://schemas.openxmlformats.org/officeDocument/2006/relationships/hyperlink" Target="mailto:help_oprlz@tescosw.cz,tel.587333806" TargetMode="External"/><Relationship Id="rId3" Type="http://schemas.openxmlformats.org/officeDocument/2006/relationships/hyperlink" Target="mailto:help_oprlz@tescosw.cz,tel.587333806" TargetMode="External"/><Relationship Id="rId4" Type="http://schemas.openxmlformats.org/officeDocument/2006/relationships/hyperlink" Target="mailto:help_oprlz@tescosw.cz,tel.587333806" TargetMode="External"/><Relationship Id="rId5" Type="http://schemas.openxmlformats.org/officeDocument/2006/relationships/hyperlink" Target="mailto:help_oprlz@tescosw.cz,tel.587333806" TargetMode="External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6919920" cy="26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Projektová přihláška Benefi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II.čá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sterstvo školství, mládeže a tělovýchov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1000080" cy="7333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268360" y="476280"/>
            <a:ext cx="1041480" cy="7333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4572000" y="476280"/>
            <a:ext cx="1020600" cy="755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6443640" y="476280"/>
            <a:ext cx="10414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eznam povinných příloh projektové žádosti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ahoma"/>
              </a:rPr>
              <a:t>Formuláře těchto příloh 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(kromě dokladu o právní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subjektivitě)</a:t>
            </a:r>
            <a:r>
              <a:rPr b="0" lang="cs-CZ" sz="2600" spc="-1" strike="noStrike">
                <a:solidFill>
                  <a:srgbClr val="000000"/>
                </a:solidFill>
                <a:latin typeface="Tahoma"/>
              </a:rPr>
              <a:t> jsou součástí Benefitu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ahoma"/>
              </a:rPr>
              <a:t>Doklad o právní subjektivitě žadatel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ahoma"/>
              </a:rPr>
              <a:t>Prohlášení o bezdlužnosti vůči veřejné správě a zdravotním pojišťovná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ahoma"/>
              </a:rPr>
              <a:t>Prohlášení o partnerství 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(jestliže má žadatel partnery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ahoma"/>
              </a:rPr>
              <a:t>Prohlášení o velikosti podniku 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(jestliže je žadatel malým nebo středním podnikem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ahoma"/>
              </a:rPr>
              <a:t>Přehled ekonomické a finanční situace 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(jestliže je žadatel podnikatelským subjektem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F08B-6B90-4E30-A046-B028707DF2C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dkaz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Dodatek k programu OP RLZ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Příručka pro hodnotitele projektů OP RLZ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Příručka pro žadatele o finanční podporu grantovým projektům OP RLZ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Výzva k předkládání žádostí o finanční podporu v rámci OP RLZ pro Opatření 3.1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esfcr.cz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strukturalni-fondy.cz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www.msmt.cz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1CA4-DA1C-49E1-93D3-89970975AEC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Základní informace 1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SSF Benefit  - předepsaný formá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ktronického formuláře pro předkládání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žádost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ační soubor programu je součástí Výzvy k předkládání žádostí o finanční podporu z OP RLZ v rámci grantového schématu pro Opatření 3.1 na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smt.cz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 i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esfcr.c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F703-EBEA-434C-9C85-A3C3894B006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Základní informace 2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Benefit je generován pro každou výzvu (nelze tedy použít Benefit jiný!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Návod na instalaci Benefitu je přiložen v instalačním balíčk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Návod na vyplnění a nápověda k jednotlivým polím žádosti jsou součástí nainstalovaného program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F8F2-C118-49B0-98F4-35645CAAE57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Součástí Výzvy je příloha s doporučujícími informacemi k Benefitu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např. systémové nebo hardwarové požadavky, náv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na uložení elektronické žádosti do předepsanéh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formátu, kontakt v případě technických potíží při práci 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rogram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Benefit slouží i pro další komunikaci při vlastní realizaci projektu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(např. žádosti o platby, reporting postupu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Základní informace 3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4429-ECEC-4C3E-9944-A52EE8D9C50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Finální uložení s identifikačním kóde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Kompletně vyplněnou elektronickou žádost žadatel  finálně uloží (exportní soubor bude mít příponu .xm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ystém vygeneruje kontrolní znak (šestimístný identifikační klíč), který bude součástí uloženého souboru i tištěné verze žádos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Žádost již nelze dále upravovat (lišil by se kontrolní znak vygenerované žádosti a papírové žádost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o případných dalších úpravách při odemknutí žádosti se vygeneruje nový kód a je třeba znovu vytisknout i papírovou podobu žádos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D69F-4945-40D3-B598-ED6EF1E83C1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ruhy souborů pro odevzdání žádosti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Žadatel musí odevzdat elektronickou žádost na CD -ROM ve formátec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cs-CZ" sz="2600" spc="-1" strike="noStrike">
                <a:solidFill>
                  <a:srgbClr val="ff0000"/>
                </a:solidFill>
                <a:latin typeface="Tahoma"/>
              </a:rPr>
              <a:t>soubor .xml</a:t>
            </a:r>
            <a:r>
              <a:rPr b="0" lang="cs-CZ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(pro nahrání do systému MSSF Monit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cs-CZ" sz="2600" spc="-1" strike="noStrike">
                <a:solidFill>
                  <a:srgbClr val="ff0000"/>
                </a:solidFill>
                <a:latin typeface="Tahoma"/>
              </a:rPr>
              <a:t>soubor .pdf</a:t>
            </a:r>
            <a:r>
              <a:rPr b="0" lang="cs-CZ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(ke čtení, pro předání hodnotitelům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okyny na uložení do těchto formátů jsou součástí přílohy Výzvy k předkládání žádostí o finanční podporu z OP RL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B16D-F325-4286-90F1-CA50A05D043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Doporučení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Věnujte dostatečnou pozornost i čas vyplňování projektové žádosti Benef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Doporučujeme co nejčastěji rozpracovanou žádost ukládat, protože při vyplňování mohou nastat nejrůznější kombinace počítačového vybavení a znalostí žadatelů s ovládáním této techni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V případě technických potíží se obracejte na firmu Tesco </a:t>
            </a:r>
            <a:r>
              <a:rPr b="0" lang="cs-CZ" sz="2400" spc="-1" strike="noStrike">
                <a:solidFill>
                  <a:srgbClr val="ff0000"/>
                </a:solidFill>
                <a:latin typeface="Tahoma"/>
              </a:rPr>
              <a:t>(hotline </a:t>
            </a:r>
            <a:r>
              <a:rPr b="0" lang="cs-CZ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elp_</a:t>
            </a:r>
            <a:r>
              <a:rPr b="0" lang="cs-CZ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oprlz</a:t>
            </a:r>
            <a:r>
              <a:rPr b="0" lang="cs-CZ" sz="24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@</a:t>
            </a:r>
            <a:r>
              <a:rPr b="0" lang="cs-CZ" sz="24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tescosw</a:t>
            </a:r>
            <a:r>
              <a:rPr b="0" lang="cs-CZ" sz="24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.cz,tel.587333806</a:t>
            </a:r>
            <a:r>
              <a:rPr b="0" lang="cs-CZ" sz="2400" spc="-1" strike="noStrike">
                <a:solidFill>
                  <a:srgbClr val="ff0000"/>
                </a:solidFill>
                <a:latin typeface="Tahoma"/>
              </a:rPr>
              <a:t>, 224218369)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cs-CZ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okruh dotazů je vymezen na obsluhu a provoz aplikace Benef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375F-2260-4DBC-A2FA-ECAA7C52234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100" spc="-1" strike="noStrike">
                <a:solidFill>
                  <a:srgbClr val="333399"/>
                </a:solidFill>
                <a:latin typeface="Tahoma"/>
              </a:rPr>
              <a:t>Klíčové záložky Benefitu 1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Popis projektu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571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zdůvodnění a vazby projektu, zaměření, cílové skupiny a činnosti projektu, partneři, udržitelnost, rizika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Realizace projektu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571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popis realizace projektu, složení realizačního týmu, harmonogram realizace, klíčové aktivity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Náklady projektu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571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náklady na celý projekt včetně nákladů na partnera, finanční plán na jednotlivé roky, náklady na aktivity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5716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94FE-4E57-4E8B-AB91-6DD18EA177C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100" spc="-1" strike="noStrike">
                <a:solidFill>
                  <a:srgbClr val="333399"/>
                </a:solidFill>
                <a:latin typeface="Tahoma"/>
              </a:rPr>
              <a:t>Klíčové záložky Benefitu 2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Výsledky a výstupy projektu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kvantifikované indikátory vybrané žadatelem, přidaná   hodnota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Publicit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opatření pro zajištění publicity projektu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orizontální témat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rovné příležitosti, udržitelný rozvoj, informační společnost, místní iniciativy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2FB9-FC5E-49E3-93EB-B2095CEE631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7:53:36Z</dcterms:created>
  <dc:creator>drahotovam</dc:creator>
  <dc:description/>
  <dc:language>en-US</dc:language>
  <cp:lastModifiedBy>prejzovaa</cp:lastModifiedBy>
  <dcterms:modified xsi:type="dcterms:W3CDTF">2005-12-19T13:39:34Z</dcterms:modified>
  <cp:revision>32</cp:revision>
  <dc:subject/>
  <dc:title>ŠKOLENÍ HODNOTITELŮ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40755290</vt:r8>
  </property>
  <property fmtid="{D5CDD505-2E9C-101B-9397-08002B2CF9AE}" pid="3" name="_AuthorEmail">
    <vt:lpwstr>Barbora.Hoskova@msmt.cz</vt:lpwstr>
  </property>
  <property fmtid="{D5CDD505-2E9C-101B-9397-08002B2CF9AE}" pid="4" name="_AuthorEmailDisplayName">
    <vt:lpwstr>Hošková Barbora</vt:lpwstr>
  </property>
  <property fmtid="{D5CDD505-2E9C-101B-9397-08002B2CF9AE}" pid="5" name="_EmailSubject">
    <vt:lpwstr>prezentace</vt:lpwstr>
  </property>
  <property fmtid="{D5CDD505-2E9C-101B-9397-08002B2CF9AE}" pid="6" name="_ReviewingToolsShownOnce">
    <vt:lpwstr/>
  </property>
</Properties>
</file>