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F45-49EB-4EFB-999A-8C2D280B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51C-94B1-4F61-9CAF-75AC689A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D5F-8CC2-460F-8AE8-40898C49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19A-0F0F-4646-84F6-1E700B4B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4DD-4F21-4B16-B3A2-FC80DA0C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A0F-A661-49FB-A8D7-57819524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5FF2-CF85-4780-8669-F408BF1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2C5-4AEF-44FC-813B-6D550A24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B20B-972D-4E43-A27A-C172E6D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03B7-08FE-48FA-A1BD-FED89F60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C82-8C34-4D5D-A7E2-5FCAAF29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85F-5787-4C1B-8C80-D55DF517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F70-3C54-4C2A-9BD4-4570CA7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B26-6BC8-4D33-9A2F-36C93A9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FA8-662A-44D2-A070-8C7B509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B67-AD58-4070-9EE6-F0EAE82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B8D3-9B27-4FAC-AC19-69D629C4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8E3-2D0C-4A61-8820-FD964048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3ED-749F-4257-A85C-1924822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FAD-7DC1-43E7-B4C7-C857DC8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D29-2D7D-4129-AF2B-AB2A424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9F2-BF3C-42D0-8C31-E7E943B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A5C-DD43-483F-9928-5B3F8ADC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0E8-EE74-4685-984E-63FD76A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527E-9302-4C65-9ED5-07AC7E8D72D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396B-8F85-47B7-A1C1-EA82F6A559AF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msmt.cz/" TargetMode="External"/><Relationship Id="rId7" Type="http://schemas.openxmlformats.org/officeDocument/2006/relationships/hyperlink" Target="http://www.msmt.cz/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esfgranty@msmt.cz" TargetMode="External"/><Relationship Id="rId2" Type="http://schemas.openxmlformats.org/officeDocument/2006/relationships/hyperlink" Target="mailto:esfgranty@msmt.cz" TargetMode="External"/><Relationship Id="rId3" Type="http://schemas.openxmlformats.org/officeDocument/2006/relationships/hyperlink" Target="mailto:esfgranty@msmt.cz" TargetMode="External"/><Relationship Id="rId4" Type="http://schemas.openxmlformats.org/officeDocument/2006/relationships/hyperlink" Target="mailto:esfgranty@msmt.cz" TargetMode="Externa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1699920"/>
            <a:ext cx="6913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Grantové schéma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 Opatření 3.1 OP RLZ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21358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60" y="314424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0" y="417132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517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280" y="6005520"/>
            <a:ext cx="6286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102096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041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133720"/>
            <a:ext cx="81280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ávnické osoby vykonávající činnost škol a školských zaříze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romě mateřských škol a základních škol, které mají zřízeny pouze ročníky prvního stupně vzdělání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rganizace zřízené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kraje, obce, dobrovolné svazky měst a ob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bčanská sdružení, obecně prospěšné společnosti, církevní právnické osoby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ciální partneři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nikatelské svazy, profesní asociace a společnosti, odborové svaz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zdělávací institu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yzické a právnické osob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Žadatel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A5C-B39A-49BA-B5D6-D305D328C3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stv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57610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ina dvou a více subjektů, které si vybraly jeden druhého za účelem spolupráce při dosahování cílů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 obecné (podpůrné konzultace před a při přípravě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 projektové (na smluvním základě se podílejí na přípravě a realizaci projek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19708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868-C049-44B2-9932-79E8015AF8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jektové partnerstv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128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ři jsou uvedeni v projektové žád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je fyzická nebo právnická osoba splňující stejná kritéria oprávněnosti jako žad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je příjemce dota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adatel i partner musí při realizaci projektu uskutečnit 51% všech aktivit (resp. 51%           z celkového rozpočt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CF9-13F3-4A47-BDFB-C0327B46F5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7540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artner versus Dodavat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6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cf0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f01"/>
                </a:solidFill>
                <a:uFillTx/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lečná příprava a realizace projektu za předem sjednaných podmíne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je do podrobností vymezena v žádosti a ve smlouv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z jeho přispění nemůže být projekt realizován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nahraditel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ho role má neziskový charak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z přímého finančního plně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vzájemně si s žadatelem neúčtují a neposkytují peníz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916280"/>
            <a:ext cx="4038480" cy="46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Dodava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v projektu je pouze podpůr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běr se řídí zákonem č.40/2004 Sb., o veřejných zakázk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kytuje žadateli služb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E0F-60BF-44AF-BB8A-7EFF50AC7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raje a obce - výjimk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on 40/2000 Sb., o veřejných zakázkách, 218/2000 Sb., rozpočtová pravidla, 128/2000 Sb., o obcích, 129/2000 Sb.,        o krají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aj či obec mohou mít partnery                  s finančním plněním (školy, školská zařízení…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36000" y="4869000"/>
            <a:ext cx="502920" cy="50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5400000">
            <a:off x="4167000" y="3762360"/>
            <a:ext cx="936360" cy="701640"/>
          </a:xfrm>
          <a:custGeom>
            <a:avLst/>
            <a:gdLst>
              <a:gd name="textAreaLeft" fmla="*/ 146160 w 936360"/>
              <a:gd name="textAreaRight" fmla="*/ 817560 w 936360"/>
              <a:gd name="textAreaTop" fmla="*/ 173160 h 701640"/>
              <a:gd name="textAreaBottom" fmla="*/ 528480 h 701640"/>
            </a:gdLst>
            <a:ahLst/>
            <a:rect l="textAreaLeft" t="textAreaTop" r="textAreaRight" b="textAreaBottom"/>
            <a:pathLst>
              <a:path w="21600" h="21600">
                <a:moveTo>
                  <a:pt x="3375" y="5338"/>
                </a:moveTo>
                <a:lnTo>
                  <a:pt x="16170" y="5338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62"/>
                </a:lnTo>
                <a:lnTo>
                  <a:pt x="3375" y="16262"/>
                </a:lnTo>
                <a:close/>
              </a:path>
              <a:path w="21600" h="21600">
                <a:moveTo>
                  <a:pt x="0" y="5338"/>
                </a:moveTo>
                <a:lnTo>
                  <a:pt x="675" y="5338"/>
                </a:lnTo>
                <a:lnTo>
                  <a:pt x="675" y="16262"/>
                </a:lnTo>
                <a:lnTo>
                  <a:pt x="0" y="16262"/>
                </a:lnTo>
                <a:close/>
              </a:path>
              <a:path w="21600" h="21600">
                <a:moveTo>
                  <a:pt x="1350" y="5338"/>
                </a:moveTo>
                <a:lnTo>
                  <a:pt x="2700" y="5338"/>
                </a:lnTo>
                <a:lnTo>
                  <a:pt x="2700" y="16262"/>
                </a:lnTo>
                <a:lnTo>
                  <a:pt x="1350" y="1626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3EA-C5CF-4B5B-82B8-2BCF8A8658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limity pro jednotlivé projek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5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částka pro jeden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 000 000 K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Doba realiz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imální doba realizace pro grantový projekt 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i="1" lang="cs-CZ" sz="2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dva 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86A-50F3-43C7-9DC6-050FB58378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Schválení grantového schématu pro Opatření 3.1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Zveřejnění výzvy k předkládání projek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internetové stránky MŠMT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centrální stránky ESF 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2 celoplošné dení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Žádost o finanční podporu z OP R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Žádost se předkládá v MSSF Benefit (aktuální verz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nutno předložit do 8 týdnů od zveřejnění výz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ve 3 vyhotoveních + CD 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F9C-34FB-4F8A-B941-0B55CB7BA9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Způsob žádosti o příspěvek z ESF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ílohy k Žád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klad o právní subjektivit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každého partnera o partnerství, návrh smlouvy o partner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hlášení malých a středních podniků o jejich velik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hled ekonomické  a finanční situace žadatele, který je podnikatelským subjek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7A3-E7B2-4639-AAEF-44A92AE7B8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odnocení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ormální hodnocen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formálních náležitostí představuje kontrol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ního souladu, kontrolu formy žádostí a formální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ležit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ři zjištění formálních nedostatků bude žadatel vyzván k jeji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plnění do stanovené lhůt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do této lhůty nedostatky nedoplní, bude jeho žádost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řazena z dalšího hodnocen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EAB-6592-45B7-9722-E983A36D53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hodnocení přijatelno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rovádí Konečný příjemce (K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souzení přijatelnosti představuje kontrolu přijatelnos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u s ohledem na základní podmínky programu, finanční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islativní předpoklady, principy strukturální politiky EU ap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še uvedené parametry jsou zveřejněny ve výzvě k předklád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í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kud žadatel nesplní i jen jedno z daných kritérií, bude jeh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dost vyloučena z dalšího hodnoc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58C-BCAA-48DC-A55E-FFB159089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Operační progra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ozvoj lidsk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2017440"/>
            <a:ext cx="8199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orita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ozvoj celoživotního uč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                                             a školských zařízeních a rozvoj podpůrný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stémů v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ázev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Zkvalitňování vzdělávání ve školách a školských zařízen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grafický rozsah grantového schéma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Česká republika mimo hl.m. Pr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931-425D-4A55-AAEC-EB7CB70559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8343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ěcné hodnocení externími hodnotite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ecná a specifická kritéria pro hodnocení Žádostí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důvodnění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ová skupi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zace projekt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ýsledky a výstup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ké požadavky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viz slide č. 21)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D10-7545-476F-BFC9-13EC1D6180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4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415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ecifické požadavky: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Přiměřenost požadovaných finančních prostředků ve vztahu                k předpokládaným výstupům projektu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0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Odborná připravenost řešitelů a participujících subjektů ve vztahu      k cíli a obsahu projektu a k cílové skupin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 bo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x. počet bodů pro žádost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100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n. počet bodů pro postoupení do výběru výběrovou komisí – </a:t>
            </a: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65 bo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4292640"/>
            <a:ext cx="78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8B5-FBDE-4E0A-851E-3A83AF6CBF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oces výběru grantových projektů 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ýběr projektů k financování výběrovou komi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ložení komise bylo schváleno ministryní školství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ádeže a tělovýchovy, je uveřejněno na www stránká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ŠM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rozhodnutí výběrové komise o schválení projektu je konečné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ze je měnit ani se proti němu odvola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očet podpořených projektů bude limitován výší prostředků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rčených pro dané grantové sché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566-792B-4194-B4AC-4A9A6CAED6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47577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k výše uvedenému naleznete na internetových stránkách MŠ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sekci Evropský sociální f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patření 3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Grantové sché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749680" cy="28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309-7152-470F-B38E-B0422F271E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Užitečné odkaz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trukturalni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-fondy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www.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onitorovací indiká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ojektová přihláška v MSSF Benefit (elektronický formulá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žadatele o finanční podporu z OP RL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íručka pro pří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06E-5EF8-4CCE-8A87-C00DCD346A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79640" y="2017440"/>
            <a:ext cx="4608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ŠMT – odbor pro zajištění administrace ESF                  v regionálním školstv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el: 257 193 7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sfgranty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smt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20718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3B6-59AB-49B6-8C01-D72F741E2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atření 3.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399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Způsoby realiz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rodní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ém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ntové projek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1640" y="2133720"/>
            <a:ext cx="4032360" cy="399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nanční prostř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265 mil. Kč celk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238 mil. Kč pro 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E72-E721-47A8-8784-6740C786B5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Zaměření grantového schémat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7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gramy podpory (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A - Zlepšení podmínek pro vzdělávání žá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se speciálními vzdělávacími potřeb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B - Rozvoj dalšího vzdělávání učitelů a pracovníků </a:t>
            </a:r>
            <a:br>
              <a:rPr sz="2000"/>
            </a:b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 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C - Rozvoj vzdělávání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ahoma"/>
              </a:rPr>
              <a:t>Pp D - Modernizace školních vzdělávacích programů – rozvoj   klíčových        kompeten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D17-7F9F-42F8-AA99-1FD3EC3FA2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A – Zlepšení podmínek pro vzdělávání žáků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se speciálními vzdělávacími potřebam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704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ů integrace znevýhodněných žáků </a:t>
            </a:r>
            <a:br>
              <a:rPr sz="1600"/>
            </a:b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do systému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Tvorba a realizace programu zkvalitňování vzdělává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v zařízeních pro výkon ústavní výchovy a ochranné výchov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Verdana"/>
              </a:rPr>
              <a:t>Organizování činností zaměřených na vzdělávací a výchovné potřeby v daném místě (programy multikulturní spolupráce, využití školy jako společenského centra, jazykové a další kurzy</a:t>
            </a:r>
            <a:r>
              <a:rPr b="0" i="1" lang="cs-CZ" sz="1600" spc="-1" strike="noStrike">
                <a:solidFill>
                  <a:srgbClr val="3333cc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Cílové skupin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Žáci ve věku povinné školní docházky, žáci SŠ a VOŠ, zdravotně a sociálně znevýhodnění, žáci nebo studenti se zdravot.postižení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igranti, azylanti, etnické minority, vč. romské komunity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ěti a mládež pobývající v zařízeních pro výkon ústav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chovy a ochranné výchov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soby předčasně opouštějící vzdělávací systé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čitelé a ředitelé škol a školských zařízení, výchovní poradc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radenští pracovníci ve školství, další odborní pracovníci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ve školství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75C-0299-4C7C-B4CF-26FE4E8ACC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B -  Rozvoj dalšího vzdělávání učitelů            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a pracovníků ve školstv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2565000"/>
            <a:ext cx="863100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dalšího vzdělávání učitelů a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ch pedagogických pracovníků, poradenských a dalších odborných pracovníků ve škols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 a školských zařízení, výchovní poradci, poradenští pracovníci ve školství, další pedagogičtí a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AFB-3DEF-470E-B9FF-C710A5C0AA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C - Rozvoj vzdělávání na SŠ a VOŠ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819936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programů zkvalitňování vzdělávací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říležitostí na SŠ a VOŠ (s důrazem na odbornou prax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vzdělávacích programů pro záje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lší vzdělávání realizované na SŠ a VO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ájemci o další vzdělávání realizované na SŠ a VOŠ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 a ředitelé škol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779-B76C-4E13-AA39-C34F845593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8664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vorba a realizace školních vzdělávacích programů včetně diferenciace a individualizace vzdělá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áci a studenti ZŠ, SŠ a VOŠ, včetně škol pro žáky 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álními vzdělávacími potřeb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čitelé, ředitelé škol, výchovní poradci, poradenští a  pracovní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 školství, další odborní pracovníci ve školstv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p D - Modernizace školních vzdělávacích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  programů – rozvoj klíčových kompetencí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EB9-B3BA-41F8-81A5-F70D241277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právněnost žadate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Žadateli oprávněnými předkládat návrhy projektů v rámci OP RLZ mohou být jak fyzické, tak právnické osoby splňující následující podmínk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ít sídlo v České republice (v případě, že žadatel má sídlo v regionu Praha, musí prokázat, že projekt je zaměřen na cílový region v rámci OP RLZ, tedy celá ČR kromě Prah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ýt přímo zodpovědný za přípravu a řízení projektu, nesmí působit jako prostřední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B71-4650-4E31-AFD0-F92101818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25:37Z</dcterms:created>
  <dc:creator>drahotovaj</dc:creator>
  <dc:description/>
  <dc:language>en-US</dc:language>
  <cp:lastModifiedBy>prejzovaa</cp:lastModifiedBy>
  <dcterms:modified xsi:type="dcterms:W3CDTF">2005-12-19T13:33:28Z</dcterms:modified>
  <cp:revision>49</cp:revision>
  <dc:subject/>
  <dc:title>Rozvoj regionálního školství  s podporou E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5425208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 </vt:lpwstr>
  </property>
  <property fmtid="{D5CDD505-2E9C-101B-9397-08002B2CF9AE}" pid="6" name="_PreviousAdHocReviewCycleID">
    <vt:r8>555131110</vt:r8>
  </property>
  <property fmtid="{D5CDD505-2E9C-101B-9397-08002B2CF9AE}" pid="7" name="_ReviewingToolsShownOnce">
    <vt:lpwstr/>
  </property>
</Properties>
</file>