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975-4BB9-474B-A767-D91422ED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6DF-8A54-413E-BDBF-705F3F29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C35-F6C0-44C3-B887-4D457A89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49E-AF06-4285-82A8-2F497321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8AB-9D87-49A5-85F1-263D2B99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0809-BE0A-4D77-8A0D-399D456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163-AF3F-456C-9127-8AFB9403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5CF-FDC6-467C-8513-AF3296DA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446D-F4F2-466B-BF09-4E594A8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633A-563A-45B9-BD07-59D809B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3B3-C129-4A6D-9C34-08F3943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F37-A822-4A0B-A83C-B7C39922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7959-6245-4A80-856D-E73DFE4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EF5-6A62-44BE-9C03-7F99D1E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6E9C-921D-4FDB-A6AD-92421971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9C0-6441-446B-8085-97FA8015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E9AD-3A33-4B70-A214-66E9D797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33C-38FB-407B-8AB1-0549F3B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DD0-4EB1-4123-8564-9C4B6D5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AE2-01BC-49FA-8A24-2C87D31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1A8-16F5-4BCE-90B5-E65DB27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25E-0592-4421-B343-9CBE1404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B06-ABB1-4949-935B-349CFF6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190-9BB7-4184-ADA8-137AED0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A40-AFC6-4961-902D-D0C13D64670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F0E0-216B-4C47-B179-97BD2F7D5CBE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ozpočet a finanční řízení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7708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čet uznatelných a neuznatelných nákladů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vede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žadatele o finanční podporu grantovým projektů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příjemce finanční podpory projektů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ručky jsou umístěny n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v sekc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ropský sociální fond, Opatření 3.1, 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A7B-1B4A-4C05-AEC0-DB222F069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Úloha konečného uživate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ijímá zálohu na schválený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izuje projekt v intervalech stanovených Rozhodnutím o poskytnutí dotace předkládá KP vyúčtování zálohy/průběžné platby vč.kopií účetních dokladů spolu s monitorovací zpráv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ádá o další průběžnou plat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 skončení projektu předkládá závěrečné vyúčtování projektu a žádá o vyplacení zůsta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ovává účetní dokumentaci po dobu 10 let po 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ní další povinnosti vyplývající z Rozhodnutí o poskytnutí dot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amostatný účet, součinnost při kontrolách, publici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321-97E5-4CC0-9AE1-64D6419C36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ádění plat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ádění a výše plateb budou stanoveny v Rozhodnutí o poskytnutí dot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lohová platba obvykle do výše 25 % z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ůběžná platba – žádost o průběžnou platbu vč.průběžné zprávy (věcné a finanční ukazatele), KU vyčerpal min.75% všech předcházejících plateb a může to doložit vyúčtování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věrečná platba ve výši max.10% z celkových uznatelných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B6B-6B2F-45F9-A633-E223DDE29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anční limity pro jednotlivé projek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Doba realizace grantového projektu 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maximálně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dva roky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0A2-C910-4D52-94DE-231971DEB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pravě rozpočtu projektu je třeba věnovat velkou pozor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 reálný rozpočet umožní financovat činnosti, které žadatel v projektu navrhu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vyplňuje jen ty položky rozpočtu, které jsou pro předkládaný projekt relevant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nutné dodržovat stanovené minimální a maximální částky finanční podpory určené ve výzv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jedná se o kapitálové výdaje, projekt musí být zaměřen na vzdělávací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4EE-3997-4E8F-9FC2-9C73BFAFC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ledující limity jsou předmětem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jatelnosti projek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na nákup nového a použitého zařízení a vybavení a na splátky nájemních nebo leasingových smluv by neměly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25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kromě položek 3.5 – odpisy a 3.6 – opravy a údržba v Benefi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v subkapitole 5 Nákup služeb nesmí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49 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nezapočítávají se položky 5.3. Náklady vyplývající přímo ze smlouvy a 5.5 Jiné náklad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1C7-BFB3-430E-B327-D38AB1491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žijní náklady projektu nesmí překroči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7%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ového vybavení či zařízení hmotného majetku nesmí přesáhn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4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 PC se jednou položkou rozumí základní PC sestava, tj. počítač, monitor, klávesnice, myš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ehmotného majetku nesmí přesáhnou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přímou podporu jednotlivců (mimo mzdových prostředků) mohou být poskytovány nejvýše do výš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0 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D77-DF7F-4B5D-A875-979941D12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Uznatelnost aktiv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může nárokovat finanční prostředky pou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uznateln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znatelné aktiv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žáky 1.stupně základního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zdělávání pedagogických a ostatních odborných pracovníků mateřských škol, 1. stupně základních šk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rodiče žáků a student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veřejnost (kromě Programu podpory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ájmové vzdělávání nezaměřené na klíčové kompetence a nezaměřené na žáky se speciálními vzdělávacími potřebami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např. pořádání karnevalů, výletů, besíde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F20-1DAE-48B7-B261-4C9EC4BDA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162864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elkov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čet všech uznatelných a neuznateln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e hradit z veřejných prostředků, musí být skuteč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nalože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ze je hradit z veřejný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88F-FA18-4AB4-B670-19D388CB1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916280"/>
            <a:ext cx="790236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rité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 výda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ynaloženy na činnosti v souladu s nařízením Komise č.1784/1999 o ESF (na typy činností uvedených v opatření, resp.ve výzvě) a ve znění nařízení Komise č. 448/200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č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vynaložen na činnosti v souladu s obsahovou stránkou a cíl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vzniknout v době platnosti Rozhodnutí o poskytnutí dotace na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skutečně vzniknout, být zaznamenán na účtech příjemce finanční podpory nebo jeho partnerů, být identifikovatel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kontrolovatelný, musí být doložitelný originály účetních doklad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ákon č. 563/1991 Sb., o účetnic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dravé finanční říz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nezbytný pro realizaci projektu, být obsažen ve smlou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796-7D3E-41EB-ACD4-3A650E291C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obní výdaje (pozor! – omezení u PO a krajů a obcí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stovní náhrady (jízdní výdaje, výdaje na ubytování, stravné a nutné vedlejší výdaje personálu žadate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řízení a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stní kancel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kup služ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bné stavební úpra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má podpora (max. 20% celkových uznatelných nákladů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veřejné sprá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200-EBBB-45F6-8642-8CEBB94F1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40:21Z</dcterms:modified>
  <cp:revision>1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742271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1535963127</vt:r8>
  </property>
  <property fmtid="{D5CDD505-2E9C-101B-9397-08002B2CF9AE}" pid="7" name="_ReviewingToolsShownOnce">
    <vt:lpwstr/>
  </property>
</Properties>
</file>